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28898-23D3-48B5-9F3E-FD22DEC07B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90440" indent="-19044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rehens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bulary Challenge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B: The student is expected to: draw on experiences to bring meanings to words in context such as interpreting idioms, multiple-meaning words, and analogies (6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: use multiple reference aids, including a thesaurus, a synonym finder, a dictionary, and software, to clarify meanings and usage (4-8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. Im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. Specim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. Irreleva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 Malnourish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 forebo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 Monstros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. Relic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. Assass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F377-1CDC-40AB-A87F-DB1106935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505C-D613-4B25-B30B-CF9B59773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9C3B-AA2A-4D9A-ADA7-13AE3C22E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9BC0-32DC-4234-AE7F-D14273254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CAEB-C8CA-4C80-9B05-D5EDE2C9B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CEA3-6F70-432A-87D2-2700AAA12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4603-A33F-46BF-ACD4-A34C714B1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FBB8-98A8-4F44-8A3E-E6659CA2A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B00D-50F3-49D1-A642-214EE590B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826E-7DD1-4243-8C3D-F6B673676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C562-01A8-40ED-9255-B358FFAF5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9B61-BB49-4FB6-B5B9-D3751BD33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1DD21-B07B-4465-AF10-86248DB0CD91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PeVocab.ppt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80880" y="1371600"/>
            <a:ext cx="8382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lease fill in the blank with the correct word from “The Kiss of the Assassin.” Use the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Glossary of Terms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as a resource if neede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 needed expert advice on ancient Peruvian temples for my report, so I scheduled an interview with the __________ of the museum of Peruvian artifac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My final report on Peru was  ___________. It covered all aspects of the country including geography, culture and economic issu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PE-16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0" y="528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 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528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 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37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0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3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 order to prevent the crime in this story, Connie and Roman had to _________ a strategy quickl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4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 order to find out more about the behavior of the black beetle, scientists select a few beetles and study the characteristics of each   ________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5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feelings of the Peruvian people about their ancient relics were _________ to the villain in this stor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PE-16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85800" y="137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6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 knew that the stray cat at the archeological site was __________ because I could see the outline of his ribs through his fu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7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spry’s actions were the reason for Connie’s feelings of __________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PE-16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0" y="528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 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685800" y="137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8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pile of trash left behind by the tourists who came to see the archeological site was a ____________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9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y studying _________ of ancient cultures, we can learn about the pas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0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insect was the __________ in this stor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PE-16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0" y="528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 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1T19:07:46Z</dcterms:created>
  <dc:creator>Instructional Technology</dc:creator>
  <dc:description/>
  <dc:language>en-US</dc:language>
  <cp:lastModifiedBy>Vince Hardy</cp:lastModifiedBy>
  <dcterms:modified xsi:type="dcterms:W3CDTF">2007-05-03T15:06:30Z</dcterms:modified>
  <cp:revision>26</cp:revision>
  <dc:subject/>
  <dc:title>PowerPoint Presentation</dc:title>
</cp:coreProperties>
</file>