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08F4-09EE-4CE3-BBBE-8901FC75F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many words in the story that are unfamiliar to your students. Ask students to find each word that is new to them, define the word, find a synonym and antonym for each word, then use each word in a sentence outside the context of the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6C: The student is expected to: locate the meanings, pronunciations, and derivations of unfamiliar words using dictionaries, glossaries, and other source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E69E-27DA-4FD3-A6CB-47100C563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DEDE-B833-4597-A573-6A291B41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879F-F8C2-4C0E-A2A3-6620D2D7B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89CD-7C15-4810-9346-75F10AF2D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6B11-2619-41DE-84CD-8FA3A329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F860-9681-4F73-B674-7EB1BDCF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EF21-1456-49FE-BFB5-11CD6896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8C62-7EA0-437C-ABDF-D8A5F1B1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803B-D1BB-40F9-B421-DBEEB1C8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371E-6269-4490-9AA9-EBFD5665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F39C-402F-4CA9-8AAF-19CD6A2B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7E1B-F1DA-4EE8-A42A-7E37EF13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96FB-721F-4D39-A068-1B06904D58B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omprehensive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Very large in content, all inclusiv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Assassi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 murderer of a prominent pers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Specimen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An item representative of an entire set or whol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urator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One in charge of a selection, as at a museum or library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rreleva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Unrelated to the matter at han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Foreboding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have a premonition or feeling of a future misfortun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 (cont.)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232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onstrosity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Something that is unusually large or that gives a feeling of disgus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mpleme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put into effec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Relics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Something that has survived from an extinct culture or from a specific time perio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alnourished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ffected by improper or poor nutriti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Ljlab</cp:lastModifiedBy>
  <dcterms:modified xsi:type="dcterms:W3CDTF">2005-05-25T16:30:06Z</dcterms:modified>
  <cp:revision>20</cp:revision>
  <dc:subject/>
  <dc:title>PowerPoint Presentation</dc:title>
</cp:coreProperties>
</file>