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A5340-D97A-493B-9490-1A3300A80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197D3-1222-40A0-AB43-2CEE8F5A0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2AEBC-7B72-4FC3-A923-B50E1B631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46A98-3738-4F9A-A910-484C2F9E6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A954F-5938-41A4-AB2A-F95A38486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95755-6D5C-42E1-AC97-DDDE63ECC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3A515-D7C3-4AF1-8EB1-F5A988709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F83F9-11AD-4B43-A9D5-51E39B80D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34F0D-176F-44FB-AEAF-646B66A2B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32461-40E8-45AE-AD0A-6A2F42C48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F4A40-1571-446B-A40E-ED0AAB692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A39D7-9CD4-4759-9ACE-8E676A4D8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B26CC-6A60-419D-BF80-79B3AC9861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ead Poiso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752480"/>
            <a:ext cx="8153280" cy="19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brain damage, headaches, tiredness, digestive problems, muscle and joint pain, memory and concentration problems, fluid accumulation in lu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91120"/>
            <a:ext cx="8153280" cy="19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gestion or inhalat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f lead.  Lead was used in paint prior to 1978 and it can be found in the soil and drinking water (lead pipes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3T13:29:05Z</dcterms:created>
  <dc:creator>Texas A&amp;M Veterinary Medicine</dc:creator>
  <dc:description/>
  <dc:language>en-US</dc:language>
  <cp:lastModifiedBy>Texas A&amp;M Veterinary Medicine</cp:lastModifiedBy>
  <dcterms:modified xsi:type="dcterms:W3CDTF">2007-09-03T13:29:07Z</dcterms:modified>
  <cp:revision>1</cp:revision>
  <dc:subject/>
  <dc:title>Lead Poisoning</dc:title>
</cp:coreProperties>
</file>