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D020-03E6-4485-93EB-4316F6618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F2B4-9DEF-4FD0-A053-91208841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2A82-54A6-41C8-BE7A-F4F0B523B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BBAB-F642-4859-8215-60C905D45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0F0D-65CA-4368-9F5F-92CDB1B2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68DB-4D3E-486B-A570-BAF1AABA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F258-1324-4CF5-B432-839B9436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A0ED-2DA7-441C-82E2-68BB4F64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1989-0EF1-4DB6-A30A-E3A73EEC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D6E5-9EB2-435A-A1E5-8EE0B3AD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6A73-69D0-4989-A41B-98C66F34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9292-B611-4A6A-9EF7-4A382849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138D-AE0B-4922-8124-B55970574D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, contaminat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3T14:46:38Z</dcterms:modified>
  <cp:revision>52</cp:revision>
  <dc:subject/>
  <dc:title>Hazards</dc:title>
</cp:coreProperties>
</file>