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BA2A-51F3-49EB-A867-E3E3BE818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5219-D83B-4286-8DAD-39C9AD625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D026-22D8-4438-AF73-960A0011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CFFE-BDEC-4B5D-99F2-062F0555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3EB7-3B2A-4F30-9CCA-40FF21805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0458-A41E-4F35-BA3C-03A6D1F7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4B48-F2AE-45BC-8BCD-22009506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E326-50CC-43EE-8701-5D296E5E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AE07-0B96-4544-AEB5-425ADBC4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2D4E-F71E-45D2-AB52-A9A127A3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5279-344C-43E9-9767-AA146CCD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D8A8-D316-4724-A113-B63C0DC0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4C54-93C8-4F8D-83D9-53063126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9A92-AEE2-4CCF-B5DD-9FC2A52947D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vhardy</cp:lastModifiedBy>
  <dcterms:modified xsi:type="dcterms:W3CDTF">2002-12-19T22:49:20Z</dcterms:modified>
  <cp:revision>23</cp:revision>
  <dc:subject/>
  <dc:title>What Do I Say?</dc:title>
</cp:coreProperties>
</file>