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FA9F-61B7-41C3-AD1F-E969FAE5B84A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AB14-C02B-435D-B1BF-6821F6675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976F-51C0-4341-B76C-1FB30264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70F1-1D00-4354-8296-863319102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85B7-D718-45DC-9BFC-A52FC0E06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0DD9-778A-4380-9989-76595C13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C61C-9622-4361-87AC-FC07C3C2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2974-C494-462A-A5D0-58706264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E1E9-B88E-4C0C-BB2C-7B37E674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01A4-8CB4-4622-8473-B559B763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F61A-0EBF-4F0A-AA3E-399D2D30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35F2-A94C-4E9B-AE22-6F097151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8B2D-98CE-44A8-9211-7867C16D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05F1-E7BE-444F-BA1D-E21019BD366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Mailbox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Letters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itstudent</cp:lastModifiedBy>
  <dcterms:modified xsi:type="dcterms:W3CDTF">2002-08-06T19:35:34Z</dcterms:modified>
  <cp:revision>15</cp:revision>
  <dc:subject/>
  <dc:title>Writing a Business Letter</dc:title>
</cp:coreProperties>
</file>