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41.jpeg" ContentType="image/jpeg"/>
  <Override PartName="/ppt/media/image9.png" ContentType="image/png"/>
  <Override PartName="/ppt/media/image38.jpeg" ContentType="image/jpeg"/>
  <Override PartName="/ppt/media/image40.png" ContentType="image/png"/>
  <Override PartName="/ppt/media/image37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6.png" ContentType="image/png"/>
  <Override PartName="/ppt/media/image14.wmf" ContentType="image/x-wmf"/>
  <Override PartName="/ppt/media/image43.png" ContentType="image/png"/>
  <Override PartName="/ppt/media/image15.jpeg" ContentType="image/jpeg"/>
  <Override PartName="/ppt/media/image11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2CC2-58DF-4887-8423-A5CB417D8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146E-8392-49F9-BA56-F26318D40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6132-1152-40CC-A57C-CFEFBF13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51C6-8598-4344-AE98-55E10D4D3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927F-7CEF-477E-B1AC-8EE997C64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E267-674F-4266-884A-C926D3B7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60DD-C9DC-4487-B3E9-9A0F0DEE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B50F-52FF-404C-A385-C2C2573F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8ABF-E4CB-4061-8FEA-704258B8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67AB-861A-4056-86E0-331C23EE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4717-6C5F-4971-BB3A-7175C196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E7AD-9D61-4A7F-98A9-E541DD54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BF4E-8615-433F-8FF3-6442255E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099B-ABF6-43B7-9FC7-C26BF5C30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hyperlink" Target="http://www.webelements.com/webelements/elements/text/Cr/key.html" TargetMode="External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ia.doe.gov/kids/energyfacts/sources/non-renewable/nuclear.html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83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periodic table"/>
            <p:cNvPicPr/>
            <p:nvPr/>
          </p:nvPicPr>
          <p:blipFill>
            <a:blip r:embed="rId3"/>
            <a:srcRect l="2018" t="0" r="92795" b="24546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295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5"/>
          <a:srcRect l="4069" t="19236" r="4069" b="0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27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29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47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56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rcRect l="7010" t="8248" r="7010" b="6250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13680" y="2567160"/>
            <a:ext cx="276084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lick on the “     “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65600" y="2639880"/>
            <a:ext cx="257400" cy="257400"/>
          </a:xfrm>
          <a:custGeom>
            <a:avLst/>
            <a:gdLst>
              <a:gd name="textAreaLeft" fmla="*/ 16560 w 257400"/>
              <a:gd name="textAreaRight" fmla="*/ 240840 w 257400"/>
              <a:gd name="textAreaTop" fmla="*/ 16560 h 257400"/>
              <a:gd name="textAreaBottom" fmla="*/ 24084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396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4"/>
            <a:srcRect l="28529" t="36391" r="69298" b="44047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3"/>
            <a:srcRect l="30719" t="36576" r="66963" b="44154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rcRect l="32869" t="42888" r="44244" b="44022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14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26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3"/>
            <a:srcRect l="32845" t="58581" r="35284" b="38362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30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31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49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3"/>
            <a:srcRect l="32869" t="58407" r="35582" b="35129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68961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"/>
                <a:hlinkClick r:id="rId4"/>
              </a:rPr>
              <a:t>Click her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498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-0.26007 1.48148E-006 E">
                                      <p:cBhvr>
                                        <p:cTn id="227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48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8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3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3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84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25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0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" descr=""/>
            <p:cNvPicPr/>
            <p:nvPr/>
          </p:nvPicPr>
          <p:blipFill>
            <a:blip r:embed="rId3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4" name="" descr=""/>
          <p:cNvPicPr/>
          <p:nvPr/>
        </p:nvPicPr>
        <p:blipFill>
          <a:blip r:embed="rId4"/>
          <a:srcRect l="0" t="13419" r="0" b="25738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5"/>
          <a:srcRect l="0" t="0" r="7205" b="-2032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6"/>
          <a:srcRect l="7795" t="0" r="0" b="0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1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" descr=""/>
            <p:cNvPicPr/>
            <p:nvPr/>
          </p:nvPicPr>
          <p:blipFill>
            <a:blip r:embed="rId3"/>
            <a:srcRect l="67007" t="33191" r="30607" b="47414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7" name="" descr="photograph"/>
          <p:cNvPicPr/>
          <p:nvPr/>
        </p:nvPicPr>
        <p:blipFill>
          <a:blip r:embed="rId5"/>
          <a:srcRect l="16848" t="5242" r="25497" b="5242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8" name="" descr=""/>
          <p:cNvPicPr/>
          <p:nvPr/>
        </p:nvPicPr>
        <p:blipFill>
          <a:blip r:embed="rId6"/>
          <a:srcRect l="28917" t="0" r="24963" b="0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25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7" name="" descr=""/>
            <p:cNvPicPr/>
            <p:nvPr/>
          </p:nvPicPr>
          <p:blipFill>
            <a:blip r:embed="rId4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5" name="" descr=""/>
            <p:cNvPicPr/>
            <p:nvPr/>
          </p:nvPicPr>
          <p:blipFill>
            <a:blip r:embed="rId3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6" name="" descr=""/>
          <p:cNvPicPr/>
          <p:nvPr/>
        </p:nvPicPr>
        <p:blipFill>
          <a:blip r:embed="rId4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42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lead’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424400" y="2654280"/>
            <a:ext cx="4468320" cy="3876840"/>
            <a:chOff x="4424400" y="2654280"/>
            <a:chExt cx="4468320" cy="3876840"/>
          </a:xfrm>
        </p:grpSpPr>
        <p:pic>
          <p:nvPicPr>
            <p:cNvPr id="658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42440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620208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0" name="" descr=""/>
            <p:cNvPicPr/>
            <p:nvPr/>
          </p:nvPicPr>
          <p:blipFill>
            <a:blip r:embed="rId3"/>
            <a:stretch/>
          </p:blipFill>
          <p:spPr>
            <a:xfrm>
              <a:off x="663408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rcRect l="2765" t="34856" r="91924" b="55071"/>
          <a:stretch/>
        </p:blipFill>
        <p:spPr>
          <a:xfrm>
            <a:off x="304812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 flipV="1">
            <a:off x="4191120" y="2209680"/>
            <a:ext cx="380880" cy="209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27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9224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54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H="1">
            <a:off x="187920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81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11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39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7-05-05T00:29:11Z</dcterms:modified>
  <cp:revision>68</cp:revision>
  <dc:subject/>
  <dc:title>Slide 1</dc:title>
</cp:coreProperties>
</file>