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707DB-22B5-409E-AE17-777F68AA1D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9D1888-EF3E-4DA5-BF4D-492517A831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729B0-8D3C-4AE5-A60B-680F62101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84EFB7-165C-4AA9-8D38-CC691DB913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E39F73-DBEE-422C-89F0-38764D2DB1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A001B-3E38-4C7F-B586-DCA9E7363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CE06B-17B5-427A-A468-F129CB39F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017AA-12FE-4C9B-91A0-474C6B823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E070F-C0C6-458A-881E-656A3587C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BC44A-CFD6-44B4-B958-CA77BCFCB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377A5-D980-4E26-873B-68B03D9CE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B81F4-1E1A-485C-9512-BC5AE8D64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D3306-34B2-41D9-97E9-7F6BFD85D3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96DFF-0138-475F-B895-9FD02492C0E3}"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vhardy</cp:lastModifiedBy>
  <dcterms:modified xsi:type="dcterms:W3CDTF">2003-05-21T21:23:34Z</dcterms:modified>
  <cp:revision>25</cp:revision>
  <dc:subject/>
  <dc:title>Persuasive Writing</dc:title>
</cp:coreProperties>
</file>