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1A872-556A-4107-8052-B7873B6C00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H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ing and using writing processes for self-initiated and assigned writing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just a skeleton of a story map to assist in summary. These are the elements the students should use to complete the summary. Filling out a story map will help them in the organization of the summa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703E-25D8-4963-A184-A3FE7F04A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DA75-2680-4111-9592-648671AE1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0468-E1CB-43A8-AE77-E11E55FC2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0506-194C-422D-8A48-CEBC30E9E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2B05-85DD-49FC-B238-97A9D0260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D2A8-2790-44F4-AE72-894532DCF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D53B-5E61-4440-A068-81133CA53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251D-CC71-4F6E-87B4-E94B6CFE5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FE94-8319-4DC8-B1B9-53823442F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DE7D-8202-4589-B6D5-147CBD4A9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D370-8017-4E1C-B874-08D26115D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7C13-95EE-4832-A10A-805E3DB29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58253-A047-4260-9B7F-E0D9A536A4C1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o Sum It All Up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 summary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ames characters,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lls about their problems and goals, a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scribes how the characters try to solve their problems and reach their goal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ap It Ou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story map lists  important details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e included in the summary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ett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haracte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Details of the plo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Problem-solv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n example of a story map is shown on the next slid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2" name="j0299203" descr=""/>
          <p:cNvPicPr/>
          <p:nvPr/>
        </p:nvPicPr>
        <p:blipFill>
          <a:blip r:embed="rId2"/>
          <a:stretch/>
        </p:blipFill>
        <p:spPr>
          <a:xfrm>
            <a:off x="4932360" y="1828800"/>
            <a:ext cx="3059280" cy="35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Story Map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5341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tting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haracters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lot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blem Solving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338040" y="2133720"/>
            <a:ext cx="8534160" cy="3657600"/>
            <a:chOff x="338040" y="2133720"/>
            <a:chExt cx="8534160" cy="3657600"/>
          </a:xfrm>
        </p:grpSpPr>
        <p:sp>
          <p:nvSpPr>
            <p:cNvPr id="56" name=""/>
            <p:cNvSpPr/>
            <p:nvPr/>
          </p:nvSpPr>
          <p:spPr>
            <a:xfrm>
              <a:off x="33804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38040" y="57913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887220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38040" y="21337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38040" y="27432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38040" y="34290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38040" y="39625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624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53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6T15:13:49Z</dcterms:created>
  <dc:creator>Gina Balducci</dc:creator>
  <dc:description/>
  <dc:language>en-US</dc:language>
  <cp:lastModifiedBy>itstudent</cp:lastModifiedBy>
  <dcterms:modified xsi:type="dcterms:W3CDTF">2002-08-06T19:36:29Z</dcterms:modified>
  <cp:revision>23</cp:revision>
  <dc:subject/>
  <dc:title>To Sum It All Up…</dc:title>
</cp:coreProperties>
</file>