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9C5B-1BB2-45D0-A596-16ABA9FDE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B27A-AFE5-487B-B0DD-BB3AA52D4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FCA9-BBB8-4CB3-8EF6-EAA8B283C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7F28-90B9-4B3F-AB00-A358167A7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8BBA-AA5F-4AB2-8A1A-0798A9D21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316A-C90A-48E2-B9F6-3A370F160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9084-ACD2-4521-9B05-52474A8D2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654C-8F95-4379-A05F-1949C2585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2C13-9554-48F7-AFDE-ABA64FFA9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494D-929D-4E6E-AA5F-D6B6922E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A624-48FF-4A7F-873D-20067C7F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3964-66E4-47DD-9953-4B4F49DD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6B330-8F9A-4A6E-8267-B7A5094C707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DS (Acquired Immune Deficiency Syndrom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286000"/>
            <a:ext cx="7925040" cy="283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apid weight loss, dry cough, recurring fever, profound fatigue, swollen lymph glands, diarrhea, unusual blemishes on tongue and in mouth, pneumonia, memory loss, depression, red/purple blotches on or under the skin or inside the mouth/n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4120"/>
            <a:ext cx="792504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-to-blood and sexual contact with infected per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22860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vere illness followed by a blisterlike body rash, high fever, extreme lethargy, headache, backache, abdominal pain, vomiting, deli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44956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and fairly prolonged face-to-face contact is required, direct contact with infected bodily fluids or contaminated objects such as bedding or cl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up thick, cloudy, and sometimes bloody mucus from the lungs, rapid heart beat, swelling of lymph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2274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or sneezing of infected person, unpasteurized milk or milk products obtained from infected ca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llow Fe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dden onset of fever, jaundice, and hemorrh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374004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 of infected mosquit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eutzfeldt – Jakob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905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mentia, decreased muscular coordination, personality changes, impaired vision, insomnia, depression, or unusual sen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4267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bodily fluids or tissues that contain an abnormal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ingit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evere headache, stiff neck, dislike of bright lights, fever, vomiting, drowsiness, rash, less respons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bsorption/ Skin Contac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eisseria meningitid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n combination with a compromised immu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iomyelit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ever, malaise, headache, nausea and vomiting, excruciating muscle pain and stiffness in the neck and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Poliovirus. Usually spread through contaminated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st Nile Vir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9051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oss of coordination, tremors, depression, weak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35053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rough bite of infected mosqui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7524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rain damage, headaches, tiredness, digestive problems, muscle and joint pain, memory and concentration problems, fluid accumulation in l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4191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lead.  Lead was used in paint prior to 1978 and it can be found in the soil and drinking water (lead pipe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own Lu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ortness of breath, coughing, and wh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ng-term inhalation of cotton, flax, or hemp 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gas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atigue, fever, enlarged liver/spleen, swollen lymph glands, rash, loss of appetite, diarrhea, vom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/feces of Triatomine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y diarrhea, rapid dehydration, vomiting, leg cr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5360" y="3664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food/water, contaminated feces of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bol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9810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joint and muscle aches, sore throat, weakness, diarrhea, vomiting and stomach p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38862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contact with the blood and/or secretions of an infected person, contact with objects, such as needles, that have been contaminated with infected secr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. col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y diarrhea, abdominal cramps, 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374004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meat, contaminated human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ectious Hepatit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1337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aundice, fatigue, dark urine, abdominal pain, loss of appetite, 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35812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 or bodily fluid of an infected person, contact with needle previously used by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luen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286000"/>
            <a:ext cx="8153280" cy="173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ver, headache, tiredness, cough, sore throat, runny/stuffy nose, body aches, diarrhea, vom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43434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and sn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b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2286000"/>
            <a:ext cx="8153280" cy="2407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and general malaise.  May include insomnia, anxiety, confusion, slight or partial paralysis, excitation, hallucinations, agitation, hypersalivation, difficulty swallowing, and hydropho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50292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liva of infected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Texas A&amp;M Veterinary Medicine</cp:lastModifiedBy>
  <dcterms:modified xsi:type="dcterms:W3CDTF">2007-08-30T16:20:49Z</dcterms:modified>
  <cp:revision>45</cp:revision>
  <dc:subject/>
  <dc:title>Hazards</dc:title>
</cp:coreProperties>
</file>