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2C8CC-D389-48F2-96E5-AB39146C88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re may be many words in the story that are unfamiliar to your students. Ask students to find each word that is new to them, define the word, find a synonym and antonym for each word, then use each word in a sentence outside the context of the sto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6.6C: The student is expected to: locate the meanings, pronunciations, and derivations of unfamiliar words using dictionaries, glossaries, and other sources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40CC-ADF1-4153-AF35-CBE7B1176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2726-2A7A-40E4-AEDB-BFA119693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5C73-B545-4F97-97EB-2EE6641EA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B890-D482-4B4E-980D-ADDF59A3A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AD20-9A2B-4E2F-B7C7-EA6684011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964C-6EB9-487B-81B9-7418CD949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4AB2-69E7-40E7-873A-2CF4951D7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300D-A240-4055-BA75-86920BECB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5A89-F3AE-4690-A3DD-42DC0FD1B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F314-5C6A-4613-B514-786B0D82A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76ED-5ADF-4279-9E2D-1716F159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C5C6-8492-442C-B9A6-5429B9A18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BC65C-54A6-44F4-9251-52997E5F02A5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lossary of Term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Comprehensive</a:t>
            </a:r>
            <a:r>
              <a:rPr b="1" lang="en-US" sz="29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Very large in content, all inclusive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Assassi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A murderer of a prominent person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Specimen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An item representative of an entire set or whole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Curator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One in charge of a selection, as at a museum or library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Irrelevant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Unrelated to the matter at hand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Foreboding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to have a premonition or feeling of a future misfortune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6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301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lossary of Terms (cont.)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2320" y="12193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Monstrosity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Something that is unusually large or that gives a feeling of disgus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Implement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To put into effec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Relics</a:t>
            </a:r>
            <a:r>
              <a:rPr b="1" lang="en-US" sz="29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Something that has survived from an extinct culture or from a specific time period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Malnourished</a:t>
            </a:r>
            <a:r>
              <a:rPr b="1" lang="en-US" sz="29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Affected by improper or poor nutrition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6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1T19:07:46Z</dcterms:created>
  <dc:creator>Instructional Technology</dc:creator>
  <dc:description/>
  <dc:language>en-US</dc:language>
  <cp:lastModifiedBy>Ljlab</cp:lastModifiedBy>
  <dcterms:modified xsi:type="dcterms:W3CDTF">2005-05-25T16:30:06Z</dcterms:modified>
  <cp:revision>20</cp:revision>
  <dc:subject/>
  <dc:title>PowerPoint Presentation</dc:title>
</cp:coreProperties>
</file>