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ECF9-1DF0-494E-8ADE-BE43B54C5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D), Determining meanings of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 B,C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ing structural analysis to identify root words with prefixes and suff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, Locating words using dictionaries, glossarie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Use reference aides to clarify meaning an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rchaeologist is the type of scientist who conducts these types of  stud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haeology is the study of the lives of ancient people, as by excavation of ancient ci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suffix grammar language derivativ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omologists study insects. Entomology is a branch of zo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logists study the origin, history, characteristics, habits, etc. of plants and anima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oologists study animals and animal lif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eontologists study prehistoric life through the study of fossils. Paleontology is a branch of ge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logists study the earth’s crust, rocks and foss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eorologists study the atmosphere and its phenomena (weather and climate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ismologists study earthquak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hropologists study the characteristics and customs of mank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source: http://images.fws.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ictionary glossary suffix prefix derivatives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in Pre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way) abrupt, absent, absol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o) adjoin, advent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t) incapable, indecisive, intoler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tween, among) intercept, interdependent, interprovinc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in) intramural, intra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fore) prefabricate, pre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fter) postpone, postscript, postw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nder) submarine, subscrip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cross) transfer, transit, transl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ED6-3010-4F30-969B-1243956D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B95-77F1-4529-9545-B21E04DA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74C-C522-4C55-8A42-1B65B3AA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52C-486A-48BB-9427-1EDA39D6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05F-7A51-4145-8134-49F839F4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4FB-E470-4279-800D-BD9FFE7B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F1A-1E6E-43F4-964A-8DE35DDF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02C-C212-4574-AD8D-C98D9FFA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344-8294-415B-B09C-0664AD59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F87-AFA1-44BB-81E7-C894997D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38E-6B9E-4523-817C-7DED2E18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608-A6D5-480A-8427-F1F3B9B5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B95C-1904-41FD-AA46-ECF20777E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how prefixes and suffixes help convey the meaning of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meaning of different prefixes and suffi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t word stands on its own as a word; it has a meaning.  New words can be made from root words by adding beginnings (prefixes) and endings (suffix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words are helpful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a root word to help you with other spell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help you recognize what the word is and what it means based on the meaning of the root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root in this word help you understand the mean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ther factors of the word help you decide what it mea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ppe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ix = 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= App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x = 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644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letter, syllable, or word added to the end of a word to change its 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ffix –“ologist” means “one who studies” and the suffix –“ology” means “the study of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ect the word “archaeology.”  What does this word mean?  What does an “archaeologist”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1031_001"/>
          <p:cNvPicPr/>
          <p:nvPr/>
        </p:nvPicPr>
        <p:blipFill>
          <a:blip r:embed="rId2"/>
          <a:stretch/>
        </p:blipFill>
        <p:spPr>
          <a:xfrm>
            <a:off x="4524480" y="1981080"/>
            <a:ext cx="4390920" cy="32464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Dis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predict what each of the following people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eont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or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is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hrop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4803840" cy="3213000"/>
          </a:xfrm>
          <a:prstGeom prst="rect">
            <a:avLst/>
          </a:prstGeom>
          <a:ln w="88920">
            <a:solidFill>
              <a:srgbClr val="6633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group of letters which you can add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oot word to change the meaning of the word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ix Mea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rong or ba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pelled, mis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way, subter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fore in time, in front of or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ckaged, precon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hurt, u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1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dyer</cp:lastModifiedBy>
  <dcterms:modified xsi:type="dcterms:W3CDTF">2008-12-11T17:58:51Z</dcterms:modified>
  <cp:revision>33</cp:revision>
  <dc:subject/>
  <dc:title>Objectives – English 1</dc:title>
</cp:coreProperties>
</file>