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222E-547A-414A-B376-45807D942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7949-9E71-4F19-91A0-6866BDB1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DA9A-F485-4CD6-BB09-3EB779324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3E50-D4E7-4D1E-8A20-03254B68B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FC33-D46C-4133-82EA-61C97579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EA11-809B-4E88-8207-92E3E2EF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0C0D-B58B-44AA-9ABB-073EC618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7D80-82C1-443F-B25E-281A6BA1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EFFE-A578-4059-9038-9E39604C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DE9C-3658-42F5-971D-0988C811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2446-A74A-4199-B071-C42B4DB9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E9D5-3726-4EF5-9A9F-DC864C83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46B7-7359-435E-B521-21EF55E82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6:11Z</dcterms:created>
  <dc:creator>Texas A&amp;M Veterinary Medicine</dc:creator>
  <dc:description/>
  <dc:language>en-US</dc:language>
  <cp:lastModifiedBy>Texas A&amp;M Veterinary Medicine</cp:lastModifiedBy>
  <dcterms:modified xsi:type="dcterms:W3CDTF">2007-09-03T13:26:33Z</dcterms:modified>
  <cp:revision>1</cp:revision>
  <dc:subject/>
  <dc:title>Creutzfeldt – Jakob Disease</dc:title>
</cp:coreProperties>
</file>