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12A5E-2B8A-4D8E-808D-8228AAC6EE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14E5-22F8-4FBF-9488-91A028F5F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576B-9255-467A-BD20-CD50BEE55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82E8-AA77-434B-818E-01701D043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A008-CCD5-4455-9DCD-F33FCE52F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F219-98FE-4424-9607-353D8E99A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1C13-4E28-4A35-8F2F-5ED1A1002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7F95-7BEA-487C-9A8C-C191C4958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230A-25E2-4806-80FD-B82BEC560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3F52-2516-4A44-985A-1E7C59592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CBDC-33D8-49D2-AC95-27A006A64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D944-66A9-4DC0-AD1B-92C747F31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502B-8C93-4B1E-B842-B50F93565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ACD78-9309-42B1-BCF9-DA84B11B47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1519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ength Convers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ches per Centime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centimeter = 0.394 inch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eet per Me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meter = 3.28 feet = 1.09 yard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iles per kilome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mile = 1.6 kilomete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28:42Z</dcterms:created>
  <dc:creator>ITWorkstation</dc:creator>
  <dc:description/>
  <dc:language>en-US</dc:language>
  <cp:lastModifiedBy>Texas A&amp;M Veterinary Medicine</cp:lastModifiedBy>
  <dcterms:modified xsi:type="dcterms:W3CDTF">2004-10-28T19:23:48Z</dcterms:modified>
  <cp:revision>8</cp:revision>
  <dc:subject/>
  <dc:title>Length Conversions</dc:title>
</cp:coreProperties>
</file>