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E709-7F47-4029-A70C-7E3D4D4E5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119E-CF35-44F6-A935-B7BA33525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0375-0C3F-46B6-9EA2-77EB532AE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2505-5DEF-4B2C-AE7F-D07044437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B33C-931D-421B-A787-C49B37443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9CD9-4E6B-4E46-A7FF-30D3EB1DA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6584-008A-4CA2-9F17-C65383277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20ED-779D-4571-8B64-AE432322F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8D6F-CF82-438A-9FD1-AA93DF82F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1FC5-6EB1-4B81-A7DA-28FFEAC1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FBCC-1029-4BB7-A4C7-55B43F84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6311-17D8-421E-934E-E29608B94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F6349-790F-415B-B78D-4E15EB750EF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wn L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rtness of breath, coughing, and wh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ng-term inhalation of cotton, flax, or hemp 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1:07Z</dcterms:modified>
  <cp:revision>46</cp:revision>
  <dc:subject/>
  <dc:title>Hazards</dc:title>
</cp:coreProperties>
</file>