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AF39-821F-485B-A35F-B4DE35D2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D), Determining meanings of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C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, Locating words using dictionaries, glossarie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Use reference aides to clarify meaning an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rchaeologist is the type of scientist who conducts these types of  stud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aeology is the study of the lives of ancient people, as by excavation of ancient ci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suffix grammar language derivativ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omologists study insects. Entomology is a branch of zo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sts study the origin, history, characteristics, habits, etc. of plants and anim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ologists study animals and animal lif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eontologists study prehistoric life through the study of fossils. Paleontology is a branch of ge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logists study the earth’s crust, rocks and foss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orologists study the atmosphere and its phenomena (weather and climat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smologists study earthquak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hropologists study the characteristics and customs of mank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http://images.fw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ctionary glossary suffix prefix derivatives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Pre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way) abrupt, absent, absol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o) adjoin, adven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) incapable, indecisive, intoler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tween, among) intercept, interdependent, interprovin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in) intramural, intra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fore) prefabricate, pr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fter) postpone, postscript, postw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nder) submarine, subscri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cross) transfer, transit,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26B-8BF9-4F65-A9B2-97BE859A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ED7-8529-4E7F-900E-C71E585B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5C7-54D6-4C95-A75D-A8A2D6E1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036-5FCA-40CB-9FC9-4B5DD67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342-AA0A-4A8F-91D7-F263F2D6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617-879E-48F4-8086-1A0F9722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E7E-96FE-43BE-8B13-E4FE3FD3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A58-4592-444A-A2D2-2F955D4F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D38-29E4-4BDB-BBAB-675839FC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CFF-D7D7-47D0-BC84-7B099F4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9D9-76B5-494C-8D82-B1ED082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505-AD81-4994-84AD-E6ED7D6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A252-3562-42E4-A4AD-3D5BBDF2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how prefixes and suffixes help convey the meanin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aning of different prefixes and suffi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word stands on its own as a word; it has a meaning.  New words can be made from root words by adding beginnings (prefixes) and endings (suffix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words are helpful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 root word to help you with other spel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help you recognize what the word is and what it means based on the meaning of the roo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root in this word help you understand the mea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actors of the word help you decide what it m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= App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= 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etter, syllable, or word added to the end of a word to chang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ffix –“ologist” means “one who studies” and the suffix –“ology” means “the study o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ct the word “archaeology.”  What does this word mean?  What does an “archaeologist”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1031_001"/>
          <p:cNvPicPr/>
          <p:nvPr/>
        </p:nvPicPr>
        <p:blipFill>
          <a:blip r:embed="rId2"/>
          <a:stretch/>
        </p:blipFill>
        <p:spPr>
          <a:xfrm>
            <a:off x="4524480" y="1981080"/>
            <a:ext cx="4390920" cy="32464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redict what each of the following people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rop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803840" cy="3213000"/>
          </a:xfrm>
          <a:prstGeom prst="rect">
            <a:avLst/>
          </a:prstGeom>
          <a:ln w="889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letters which you can ad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oot word to change the meaning of the wor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 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ong or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pelled,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way, subter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fore in time, in front of or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ckaged, precon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hurt,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1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dyer</cp:lastModifiedBy>
  <dcterms:modified xsi:type="dcterms:W3CDTF">2008-12-11T17:58:51Z</dcterms:modified>
  <cp:revision>33</cp:revision>
  <dc:subject/>
  <dc:title>Objectives – English 1</dc:title>
</cp:coreProperties>
</file>