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BF10-D942-47F5-AF94-A81BC8A7E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8D47-6351-4B86-BEE9-AAA849EE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4673-7B2B-4DAF-BCFC-1857981AB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9836-A421-4CBC-9D87-65D8976AF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39BF-659F-423F-B3B0-F2583DAC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CB6E-5236-421E-9320-4D1CCD17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9E0E-1E78-4A7C-90A6-814EF7D4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D63B-76FF-4075-AD1F-129D4B9A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B8D8-BF44-48D2-8E1A-3913A853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A8F3-4549-4D37-A6DA-18D08DCF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5CEB-D7EF-43C4-A243-5F0EE1CE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C97D-FFFE-4C42-84CF-367F36AF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7259-44BB-4877-BFB0-12BF1E5539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5:34Z</dcterms:modified>
  <cp:revision>45</cp:revision>
  <dc:subject/>
  <dc:title>Hazards</dc:title>
</cp:coreProperties>
</file>