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B0FF6-57D6-4FC3-B8EE-699817774B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952560" y="0"/>
            <a:ext cx="5010120" cy="375912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0" y="3860640"/>
            <a:ext cx="6858000" cy="5283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E2FF6-615C-422C-8757-887924A4A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0DA74-E305-4E78-A242-715101DC9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76F11-D7E7-4898-B493-41A46AC6A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5AE57-B6FF-4358-91A3-A44AC7281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98146-6541-45AA-9502-59141C99A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E76C5-8039-4691-9FA1-43614DE99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19E87-C93C-4EC6-B550-792E2DAD7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D09F0-6EF9-48A4-AE7B-721836DE7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519AB-8A95-44A8-8230-89117DD93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C8561-E713-4196-92A0-CAC9F6C7F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EC471-BE36-4300-8AEC-6205FBF55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86C07-3537-4E76-A498-5B3EB1639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16EB5-C0B1-406C-8F20-439E2F2B5A1F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304920"/>
            <a:ext cx="77709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7240" y="1904760"/>
            <a:ext cx="7770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Climate is the average condition of the atmosphere (like temperature and precipitation) over a long period of time.  It is the average of weather conditions in a plac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or example, over the past 40 years, in February, New Jersey has had an average temperature of 32 º F and an average precipitation of 2.8 inches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5T19:49:56Z</dcterms:created>
  <dc:creator>ITMD</dc:creator>
  <dc:description/>
  <dc:language>en-US</dc:language>
  <cp:lastModifiedBy>ljlab</cp:lastModifiedBy>
  <dcterms:modified xsi:type="dcterms:W3CDTF">2003-09-11T17:22:49Z</dcterms:modified>
  <cp:revision>9</cp:revision>
  <dc:subject/>
  <dc:title>What’s the difference between weather and climate?</dc:title>
</cp:coreProperties>
</file>