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50CD-3DD0-4CBF-A0BB-5C9E510C5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00E2-797C-42B7-AE1B-640B94C7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1A0F-CAAD-471F-B700-F58316C0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AF08-7DE4-4B75-87EC-FA290DDE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F260-D2A2-4022-B672-A89A72A3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929F-CA9F-4E4E-8E88-C942E330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6001-2F6C-497B-81D3-CE08879B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640C-FBBB-4280-870A-B287076B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CF34-A607-43F0-BE25-E7C123AA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4701-6FC1-4E3F-A7C0-14769877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849E-1898-48E4-9723-86B595B0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AA49-C510-48CF-B96B-56AD357B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ADB4-E6A4-4470-9721-5C619B5EBD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00Z</dcterms:modified>
  <cp:revision>46</cp:revision>
  <dc:subject/>
  <dc:title>Hazards</dc:title>
</cp:coreProperties>
</file>