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4601-86B1-4503-A4D5-693931B35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7097-1412-420D-8B4B-C0F194308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5A8F-4787-48B7-8079-7D64ACCF8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4B60-5C55-4FC8-B234-864E7C507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04E8-CEB1-4940-919C-F0F9832B9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7CC3-1073-4882-8E6D-9158C33DE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B8B9-DC09-4AB0-82B3-9F266562A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D7CF-3D31-4A68-A6D2-583617CF1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8382-19E6-443D-BFD8-2B29E66E9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323D-614F-4374-968E-3AA853F60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51D8-CAF8-4D39-92F7-8D777F1FA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B140-CE6E-4878-9B7C-F140958B2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25DCB-1956-4616-A5FC-7FDC95B74AF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lar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81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curring chills, fever, anemia and sometimes jaundi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339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 through bite of infected mosquit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Texas A&amp;M Veterinary Medicine</cp:lastModifiedBy>
  <dcterms:modified xsi:type="dcterms:W3CDTF">2007-09-04T21:53:52Z</dcterms:modified>
  <cp:revision>51</cp:revision>
  <dc:subject/>
  <dc:title>Hazards</dc:title>
</cp:coreProperties>
</file>