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63BE-F1F0-4F0D-A394-F0782434A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5339-C73F-4D51-ABFC-7A027745A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9D4A-0C48-4D74-A823-9AACE4FF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06D7-454C-4DDB-BD91-EB7A445BC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7B87-159C-4E86-95A0-126FF2D0A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287B-4E6C-484A-B915-CEB0EEFA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04A0-BD09-4E97-AFDD-7BC50355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D477-2F0B-420B-A47A-557553FF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276A-2061-49D3-A387-57DF320B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AA37-113A-4660-AB05-20433F44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790D-2AE0-40CF-8D34-6B23AB61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F21C-F776-4A79-BBAF-41E76526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4094-60AA-4CF0-9FED-E07AF14C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48F1-11A0-40D3-AE0E-9115FF7D5C4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3-01-16T18:50:08Z</dcterms:modified>
  <cp:revision>28</cp:revision>
  <dc:subject/>
  <dc:title>Descriptive Writing</dc:title>
</cp:coreProperties>
</file>