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4410-5533-4A5E-ACD0-1482E19FD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ropologists often work with archaeologists in an effort to fully understand a society.  Physical artifacts that archaeologists find help anthropologists determine what was important to past civilizations and how a society’s daily routine would have been affected by its values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3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sources to locate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rcheology ge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F) Choose and appropriate form of individual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A) Generate ideas and plans for writing by using prewriting strate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0 (E) Present information in various forms using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 (A) Select, organize, or produce visuals to complement and extend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E) Construct graphs, tables, maps, and charts to evaluat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E) Construct visual aids using tools including computers to analyz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E) Construct visuals using tools to organize, examine, and evaluat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kissing bugs trypanosome poster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D) Describe mental images and text ev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Compare text events with personal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Determine characteristics of cultures through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A) Write to express, discover, record, develop, and reflect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C) Write to in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E) Use standard grammar, spelling, sentence structure, and punct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grammar writing essay descriptive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AAA-2181-4BEB-A37B-75821559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4D3-7C5D-43CC-94D1-7BD99664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35AB-6886-4A58-B2C7-A5743930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2D3-FCBE-4545-B5FC-EF1F1F4A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2DA-B84D-415E-AB41-DB27AB9A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7331-BF36-4134-83F2-46421E4A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DB35-0A97-4482-8503-FAF9B8A9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FB49-0731-473F-849F-B99066E1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CCE-43E2-4E60-82FA-75AE532B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0498-005C-4509-94EF-E5E1F870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763-D1F3-409A-BFDA-BEBD689B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7284-6046-4656-A83B-EB939636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02C7-520E-4CE7-93CE-D1974C45D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bs.org/wgbh/nova/laventa/tryit.html" TargetMode="External"/><Relationship Id="rId3" Type="http://schemas.openxmlformats.org/officeDocument/2006/relationships/hyperlink" Target="http://www.pbs.org/wgbh/nova/laventa/tryit.html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Appendices/DescWriting/DescWrit.ppt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84280" y="1447560"/>
            <a:ext cx="77724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Internet to gather information about archaeology and archaeologists as well as anthropology and anthropolog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a poster that identifies the danger of kissing bugs and provides information on how to  respond after being b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one-page essay that describes a place that lifts your spir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ing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aeologists primarily study physical artifacts of civilizations.  Anthropologists, on the other hand, study the cultures and activities of civiliz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“The Kiss of the Assassin,” Robert is an anthropologist working at an archaeological dig site.  Why would an anthropologist be working at an archaeological di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archaeologists and anthropologists work toge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An Archaeolog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a high-speed Internet connection and a computer that supports “Shockwave,” you can try reconstructing a broken artifact 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Laven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(http://www.pbs.org/wgbh/nova/laventa/tryit.ht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290840" y="2133720"/>
            <a:ext cx="4496040" cy="30049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3200" y="622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ead the W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2412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491080"/>
                <a:tab algn="l" pos="5883120"/>
                <a:tab algn="l" pos="6340320"/>
                <a:tab algn="l" pos="703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and his family knew the kiss or sting of the kissing bug was painful, but they did not understand how dangerous the bite of the bug could 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491080"/>
                <a:tab algn="l" pos="5883120"/>
                <a:tab algn="l" pos="6340320"/>
                <a:tab algn="l" pos="703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034800"/>
            <a:ext cx="5029200" cy="26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a poster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s the dang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s the workers about the consequences of being b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information on how to  respond after being b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7323" t="0" r="7942" b="9231"/>
          <a:stretch/>
        </p:blipFill>
        <p:spPr>
          <a:xfrm>
            <a:off x="5657760" y="2719440"/>
            <a:ext cx="3254400" cy="3776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5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6440" y="35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pecial 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493640"/>
            <a:ext cx="807696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describes the museum at Pachacamac as a place that “lifts the spirits of Peru.”  Why does this place “lift his spirits”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one-page essay that describes a place that lifts your spirits.  Explain why you think the place has this eff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paint a picture with words so that your readers can form a mental image of the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three reasons why the place is special to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principles of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descriptive wri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help build your ess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79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2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ollege of Veterinary Medicine</cp:lastModifiedBy>
  <dcterms:modified xsi:type="dcterms:W3CDTF">2008-01-02T17:52:26Z</dcterms:modified>
  <cp:revision>29</cp:revision>
  <dc:subject/>
  <dc:title>Objectives – English 1</dc:title>
</cp:coreProperties>
</file>