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B7C7-7E93-49E5-AB11-FDF9E335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E199-A767-4C3A-885E-F76999B5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192A-9060-425F-9053-9B7DA6BA4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E50F-CEF2-484D-AA91-4E17E0B4B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73A2-5B13-4012-9583-84F01A4C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A07D-2785-4121-AD14-327339F5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C72D-4EBE-4E81-A44B-023558B1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B804-1F6B-4FAF-9A52-66FDF381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7620-B417-47CB-9C58-B939E09D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CF0A-12C4-486D-A13F-4F163C76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3835-0839-47B2-B219-02757E50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DFCB-4252-4620-BC7C-2C12DB7A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E509-5B49-46FC-97D7-F8F939296D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1-21T19:04:07Z</dcterms:modified>
  <cp:revision>42</cp:revision>
  <dc:subject/>
  <dc:title>Hazards</dc:title>
</cp:coreProperties>
</file>