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339A-9393-4ED3-B47B-AC11A28F3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0CC2-90BA-4656-A0D9-9856B5EC0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5EB8-2D12-42A0-A091-2E9F24255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CF9A-6F39-4CB3-84CC-60A118CE8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E045-58D4-4F76-BBB2-8C8E6DD82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70B9-17A0-44C0-B517-E2F56354C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0613-1532-43DA-8C2E-5A90A9647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1C72-2B6A-49EA-8F80-22F9BB9AF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6967-759E-4CF6-A453-1F993DBAB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F426-3C89-4E9B-8C65-6A73CBC5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8369-E784-46AE-9B15-7A6CD5C2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B27F-EB1F-446A-828C-D1996870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71812-8F0C-442A-BAF3-FAF9F274B49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DS (Acquired Immune Deficiency Syndrom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286000"/>
            <a:ext cx="7925040" cy="283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apid weight loss, dry cough, recurring fever, profound fatigue, swollen lymph glands, diarrhea, unusual blemishes on tongue and in mouth, pneumonia, memory loss, depression, red/purple blotches on or under the skin or inside the mouth/n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5334120"/>
            <a:ext cx="792504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-to-blood and sexual contact with infected per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22860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evere illness followed by a blisterlike body rash, high fever, extreme lethargy, headache, backache, abdominal pain, vomiting, deli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44956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and fairly prolonged face-to-face contact is required, direct contact with infected bodily fluids or contaminated objects such as bedding or cl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ubercul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up thick, cloudy, and sometimes bloody mucus from the lungs, rapid heart beat, swelling of lymph g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2274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or sneezing of infected person, unpasteurized milk or milk products obtained from infected cat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ellow Fe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dden onset of fever, jaundice, and hemorrh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374004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 of infected mosquit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reutzfeldt – Jakob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1905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ementia, decreased muscular coordination, personality changes, impaired vision, insomnia, depression, or unusual sen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4267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bodily fluids or tissues that contain an abnormal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ingit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evere headache, stiff neck, dislike of bright lights, fever, vomiting, drowsiness, rash, less respons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bsorption/ Skin Contac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eisseria meningitid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in combination with a compromised immun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iomyelit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ever, malaise, headache, nausea and vomiting, excruciating muscle pain and stiffness in the neck and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Poliovirus. Usually spread through contaminated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st Nile Viru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9051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oss of coordination, tremors, depression, weakn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35053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rough bite of infected mosqui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7524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rain damage, headaches, tiredness, digestive problems, muscle and joint pain, memory and concentration problems, fluid accumulation in lu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4191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lead.  Lead was used in paint prior to 1978 and it can be found in the soil and drinking water (lead pipe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rown Lu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hortness of breath, coughing, and wh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37339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ng-term inhalation of cotton, flax, or hemp d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gas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atigue, fever, enlarged liver/spleen, swollen lymph glands, rash, loss of appetite, diarrhea, vom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/feces of Triatomine b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ole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y diarrhea, rapid dehydration, vomiting, leg cr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5360" y="3664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food/water, contaminated feces of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bol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9810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joint and muscle aches, sore throat, weakness, diarrhea, vomiting and stomach p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38862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contact with the blood and/or secretions of an infected person, contact with objects, such as needles, that have been contaminated with infected secre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. coli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y diarrhea, abdominal cramps, f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374004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meat, contaminated human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ectious Hepatiti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21337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jaundice, fatigue, dark urine, abdominal pain, loss of appetite, nau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35812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 or bodily fluid of an infected person, contact with needle previously used by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luenz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286000"/>
            <a:ext cx="8153280" cy="173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ever, headache, tiredness, cough, sore throat, runny/stuffy nose, body aches, diarrhea, vom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43434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and sn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b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2286000"/>
            <a:ext cx="8153280" cy="2407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and general malaise.  May include insomnia, anxiety, confusion, slight or partial paralysis, excitation, hallucinations, agitation, hypersalivation, difficulty swallowing, and hydrophob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50292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aliva of infected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Texas A&amp;M Veterinary Medicine</cp:lastModifiedBy>
  <dcterms:modified xsi:type="dcterms:W3CDTF">2007-08-30T16:20:49Z</dcterms:modified>
  <cp:revision>45</cp:revision>
  <dc:subject/>
  <dc:title>Hazards</dc:title>
</cp:coreProperties>
</file>