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8BD1-6FB7-4189-BD69-CD057E119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ropologists often work with archaeologists in an effort to fully understand a society.  Physical artifacts that archaeologists find help anthropologists determine what was important to past civilizations and how a society’s daily routine would have been affected by its value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sources to locate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rcheology ge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E) Construct graphs, tables, maps, and charts to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Construct visual aids using tools including computers to analyz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E) Construct visuals using tools to organize, examine, and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kissing bugs trypanosome post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Compare text events with personal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Determine characteristics of cultures through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grammar writing essay descriptive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1D4-A99B-4B7C-BD06-09218AD0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788-49C8-4D29-96B6-A99ED8E9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341-AAF8-4003-ADD4-DA3A64F1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F6A-4848-4615-A800-5B7F2BCE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39C-8738-4A1E-BCE3-A9F83D64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F7D-DD56-490F-8FB3-CB8C16E1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0B6-76E8-4E90-B7F9-46BD1FD1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F68-FDA6-49E6-869B-F8AC7E9D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23E-6066-44F2-AEE2-9EDD9F0F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780-C9AA-4405-BD31-A0364C69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67D-259A-46A3-A36F-8363FE94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A0A-6F68-421F-B881-24754624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E1F3-7BB8-4AF3-A2A0-2620E6E8B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nova/laventa/tryit.html" TargetMode="External"/><Relationship Id="rId3" Type="http://schemas.openxmlformats.org/officeDocument/2006/relationships/hyperlink" Target="http://www.pbs.org/wgbh/nova/laventa/tryit.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DescWriting/DescWri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44756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net to gather information about archaeology and archaeologists as well as anthropology and anthropolog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identifies the danger of kissing bugs and 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aeologists primarily study physical artifacts of civilizations.  Anthropologists, on the other hand, study the cultures and activities of civil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“The Kiss of the Assassin,” Robert is an anthropologist working at an archaeological dig site.  Why would an anthropologist be working at an archaeological di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archaeologists and anthropologists work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An Archaeolog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high-speed Internet connection and a computer that supports “Shockwave,” you can try reconstructing a broken artifact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Lave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(http://www.pbs.org/wgbh/nova/laventa/tryit.ht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90840" y="2133720"/>
            <a:ext cx="4496040" cy="30049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3200" y="622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241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his family knew the kiss or sting of the kissing bug was painful, but they did not understand how dangerous the bite of the bug could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034800"/>
            <a:ext cx="5029200" cy="26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dang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s the workers about the consequences of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7323" t="0" r="7942" b="9231"/>
          <a:stretch/>
        </p:blipFill>
        <p:spPr>
          <a:xfrm>
            <a:off x="5657760" y="2719440"/>
            <a:ext cx="3254400" cy="3776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pecial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493640"/>
            <a:ext cx="807696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escribes the museum at Pachacamac as a place that “lifts the spirits of Peru.”  Why does this place “lift his spirits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  Explain why you think the place has this eff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paint a picture with words so that your readers can form a mental image of th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hree reasons why the place is special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rinciples of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descriptive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elp build your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2:26Z</dcterms:modified>
  <cp:revision>29</cp:revision>
  <dc:subject/>
  <dc:title>Objectives – English 1</dc:title>
</cp:coreProperties>
</file>