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3BD7-FD46-425F-9D18-5DA5FB216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CFC0-F505-4A32-878D-AAED3EAA7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9D39-DD4D-44F4-B39F-4188D647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7DD6-2767-4EAB-8DB0-9640D7ED3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32CE-8598-4800-BE81-51932D1DF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9279-3C5B-4B8A-9681-D2D3E468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858D-F859-43F7-9C0B-04A99930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ADD0-BA2D-4618-9F40-16F0EAF5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B920-D963-45A3-940E-F47CFAEA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2113-E83E-4B78-889A-CF01F8D8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A681-22AC-40F7-8AAB-1915409D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5C01-9EAD-4C6D-9E98-7A50F050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7FD1-D481-49E9-B96B-6551CD0E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E069-BEAC-47D3-A868-F8E995558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1-16T18:37:15Z</dcterms:modified>
  <cp:revision>28</cp:revision>
  <dc:subject/>
  <dc:title>Sensory Details </dc:title>
</cp:coreProperties>
</file>