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62B1-1E68-4F39-89D4-52A14EDF9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51C2-CC2F-4CB1-9998-A7380FF1B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12D9-0643-4CD4-A1D4-F853722F8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1181-70FE-4F29-839C-D2750CD23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62FB-1813-4CB4-9039-ED5E0D9C4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2B00-9EA7-4972-8ACC-32F0630BB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8D00-5599-4768-AAD2-BD9B5170D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7FC7-954A-452E-B63D-E9986D01A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8254-F06E-4B43-9EF2-AD277343E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30BB-FDDF-42C0-A97C-E31FF5A9B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3141-C565-4A4B-9936-612C2E5E4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9F08-52EB-4E50-93FC-990308525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C838-6B71-4DA6-B41F-FDCD21B0A64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185F-66A0-4826-B17D-00D3FAECB79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19:48Z</dcterms:modified>
  <cp:revision>207</cp:revision>
  <dc:subject/>
  <dc:title>VTPP 423 - PHYSIOLOGY</dc:title>
</cp:coreProperties>
</file>