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E95EE-26D5-4DC1-B0A6-21C105E9F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36333-AB7F-4CD4-8AE2-C79220B701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48E68-4C8B-4324-BAFF-45327E6A4B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AD8C6-4914-4194-93D9-D877AF689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CBDBB-39E9-4280-9301-16465FFA18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12D7-DDE5-4579-BD08-73E6E203C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EFE5-9A50-43B6-B94E-C00000AA7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13E4-A51B-46AA-B469-1429881D7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4CF7-3AB9-4A36-BFB5-AB7691D4D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F950-386E-4603-BC63-8D8AC1541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85C6-8731-4CEB-BBEB-421A9BCA4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2DBD-6348-43D2-B670-BB40ACC5D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4140-A3DC-4694-B335-975E3AD8C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972F-ADEB-43CC-BE2A-743EB3BC9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D904-78B1-4CA9-8CCB-98E92607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2FCF-9484-4B15-8452-E5F8524F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3476-B3C4-41C8-94F7-7579B5FF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8A795-5489-44B4-ADDC-03F2EF1EFE4A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vhardy</cp:lastModifiedBy>
  <dcterms:modified xsi:type="dcterms:W3CDTF">2003-05-23T21:24:10Z</dcterms:modified>
  <cp:revision>31</cp:revision>
  <dc:subject/>
  <dc:title>Fractions to Decimals</dc:title>
</cp:coreProperties>
</file>