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F8CA-3B08-4445-9379-7AB548CC5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8EDA-EC74-4AAE-89C2-ADB8FDA8A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DE5C-8AF8-4F13-BEE0-25293E2B0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0AAD-B255-4E05-B4F3-D968BEC6B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212C-51F8-40C2-8926-388AD63B0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831D-FB60-4DDA-8E0C-9E0628507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DA9E-EA45-4B4F-979C-0CDF550CD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F3C9-9319-42E5-AC31-317AD2D16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68B4-8A26-4E5D-85F6-08009CD38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D69E-3B71-47FB-8AF5-F8CDF953C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0AF8-CA15-493D-A294-3EF7E558A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2DDF-48DC-4E3D-81F8-2A2C9726A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B44EF-4E38-48E3-816B-41A0220DD51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tatistic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, Mean, Median, and Mode are all words that we use to describe numerical dat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 is the lowest and the highest number in a data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n is the average of all the numbers in a data set, or all of the data added up and then divided by the number of data point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dian is the middlemost number in a data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E:  If there is an even number of data points, the average of the middle two give the media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e is the number that is repeated the most in a data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ample Data Se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re is a sample data se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, 4, 6, 2, 8, 5, 2, 4, 6, 9, 2, 1, 2, 2, 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Range:  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, 2, 2, 2, 2, 2, 4, 4, 5, 5, 6, 6, 8,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n:  59/15 = 3.933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Median 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1, 1, 2, 2, 2, 2, 2, 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4, 5, 5, 6, 6, 8, 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Mode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1, 1, 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2, 2, 2, 2, 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4, 4, 5, 5, 6, 6, 8, 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8T17:44:00Z</dcterms:created>
  <dc:creator>vtpp</dc:creator>
  <dc:description/>
  <dc:language>en-US</dc:language>
  <cp:lastModifiedBy>vhardy</cp:lastModifiedBy>
  <dcterms:modified xsi:type="dcterms:W3CDTF">2003-05-23T21:31:31Z</dcterms:modified>
  <cp:revision>6</cp:revision>
  <dc:subject/>
  <dc:title>Statistics</dc:title>
</cp:coreProperties>
</file>