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210C-DC6C-44AE-B0B2-1B34D9266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DBCD-854E-453A-ADFE-27E69E79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35B0-9804-451B-B2E0-6807B7004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C850-4D21-4FA6-82FD-4F9DB21BE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D69A-0463-4EFA-8319-8A13A37B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A0E5-544B-47FA-B59E-57A8E24B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DA4C-6279-4DEC-87AD-16A33B96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5657-1CEC-402A-9233-91DD2872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0D93-7ED4-415C-B885-0D7F1167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2A6F-EC60-41EA-BC99-1025507E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D19E-832C-424D-BC92-312B5A94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3565-BC89-40AB-96B9-8A158F8A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7A56-22C3-460C-994F-4B1C6B0664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00Z</dcterms:modified>
  <cp:revision>46</cp:revision>
  <dc:subject/>
  <dc:title>Hazards</dc:title>
</cp:coreProperties>
</file>