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EDA9-F46C-43A9-A614-A81333982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D3A4-3A8D-468F-9D56-245E22B58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ABF-F6C4-44CF-871C-F99D5865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171-DF0D-4C59-AFE5-9D019230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8E1-E162-4651-9906-2320C214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4EF-6A12-4344-B70C-5AC927F5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417-A586-4145-8049-95D6D5AC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519-397C-4ADC-82C1-FF2D7A85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4EB-9FB6-4853-8C76-D77FD111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696-A2A0-45C5-AA26-2BC91FFF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8FF-7458-4BED-AA25-D784FD76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7FB-7024-4CCD-AADC-EC0D37A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A1C-BF6F-4077-9CEE-044D8041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792-FB6F-4E26-841F-BB66B9F6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C137-FDDE-4537-A19A-C925B68FD27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8Z</dcterms:modified>
  <cp:revision>22</cp:revision>
  <dc:subject/>
  <dc:title>What’s the difference between weather and climate?</dc:title>
</cp:coreProperties>
</file>