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7E2C-44A9-45FB-9D26-324C37C30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ienvenido a la prueba de “localización absoluta.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te crees listo, procede a la diapositiva siguient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Qué ciudad se encuentra a 14º S.L., 72º W.L.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qui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hicla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Qué ciudad se encuentra a 17.5º S.L., 71º W.L.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qui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hicla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latitud por el centro de Perú 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º S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9º N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0º W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longitud por el centro de Perú 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º E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5º W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76º W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localización absoluta de Perú 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9º N.L. y 32º E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º S.L. y 75º W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0º N.L. y 77º W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latitud de Lima 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º S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9º N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0º W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longitud de Lima 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º E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5º W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76º W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localización absoluta de Lima 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9º N.L. y 32º E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º S.L. y 76º W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0º N.L. y 77º W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Qué ciudad se encuentra a 7º S.L., 80º W.L.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qui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hicla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Qué ciudad se encuentra a 4º S.L., 74º W.L.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qui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hicla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0DC9-C186-4D0E-AA4F-429B6F6B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078-A917-4F68-B033-83558C9B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9D19-FCF8-47E5-9368-415F9F1C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810F-32FB-4B9B-8745-6D49F910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8A5C-EE39-4224-8BB9-7564C5E1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4C83-3E89-419C-9AE4-8A93CAC3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D9DE-F7C5-4AD9-99DF-71EF5254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D0E5-ABB2-4B33-96DF-09F4277A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5AE1-A259-42D0-841A-591D08D9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33D5-AE04-459B-A28D-78312C7C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91E3-46C3-4C51-ABB1-F3C7E6A9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A1A-CC12-4B5E-BC1D-3DE4A6FB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9260-BFC0-460C-A0D2-6235B4EEB20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2900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2900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29000" y="58118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29000" y="62784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2900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2900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29000" y="5821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29000" y="62881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49520" y="57913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49520" y="5334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4952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49520" y="57913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49520" y="5334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4952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49520" y="57913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49520" y="5334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4952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40160" y="57913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40160" y="53341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4952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29000" y="57736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30440" y="5334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29000" y="62103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29000" y="57722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29000" y="53341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29000" y="62024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2900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9000" y="53434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29000" y="5783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29000" y="6230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2900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2900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29000" y="5821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29000" y="62690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 </cp:lastModifiedBy>
  <cp:lastPrinted>2002-05-17T17:38:54Z</cp:lastPrinted>
  <dcterms:modified xsi:type="dcterms:W3CDTF">2006-04-06T20:15:29Z</dcterms:modified>
  <cp:revision>651</cp:revision>
  <dc:subject/>
  <dc:title>Investigate the Mystery:</dc:title>
</cp:coreProperties>
</file>