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F0000-D452-41BD-94BD-85AF70780F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rehens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bulary Challenge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B: The student is expected to: draw on experiences to bring meanings to words in context such as interpreting idioms, multiple-meaning words, and analogies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: use multiple reference aids, including a thesaurus, a synonym finder, a dictionary, and software, to clarify meanings and usage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Im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Specim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Irrelev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Malnouri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forebo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Monstro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Rel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Assass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13CF-BB96-46FA-A0EC-68553089E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3A56-BE89-4FDE-8A09-A1326DDFE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3DD6-D41F-4E14-B468-E095B2B2E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47D4-0FC4-408D-ADD8-A7632C904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C615-BDC1-4A4B-9273-282C220E7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6FCC-B6DA-46E3-BF4E-4A5368F3C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EEDC-7C87-4FDC-8E1C-1551765AD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EB1A-CAE0-43D5-B881-F77A5A89D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98D7-2099-436B-B0B2-29CEF7357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C06C-34BA-4D2C-A71C-A68C7E99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35FC-C58A-496E-AAD7-A5BE6118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FEF2-61B9-4B48-817B-EA75F379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73D75-8CF8-4C52-AD7F-B71455FBFB8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PeVocab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880" y="13716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lease fill in the blank with the correct word from “The Kiss of the Assassin.” Use the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Glossary of Terms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s a resource if need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 needed expert advice on ancient Peruvian temples for my report, so I scheduled an interview with the __________ of the museum of Peruvian artifa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My final report on Peru was  ___________. It covered all aspects of the country including geography, culture and economic issu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order to prevent the crime in this story, Connie and Roman had to _________ a strategy quickl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order to find out more about the behavior of the black beetle, scientists select a few beetles and study the characteristics of each   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feelings of the Peruvian people about their ancient relics were _________ to the villain in this s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 knew that the stray cat at the archeological site was __________ because I could see the outline of his ribs through his fu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pry’s actions were the reason for Connie’s feelings of __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pile of trash left behind by the tourists who came to see the archeological site was a ____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y studying _________ of ancient cultures, we can learn about the pas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sect was the __________ in this s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19:07:46Z</dcterms:created>
  <dc:creator>Instructional Technology</dc:creator>
  <dc:description/>
  <dc:language>en-US</dc:language>
  <cp:lastModifiedBy>Vince Hardy</cp:lastModifiedBy>
  <dcterms:modified xsi:type="dcterms:W3CDTF">2007-05-03T15:06:30Z</dcterms:modified>
  <cp:revision>26</cp:revision>
  <dc:subject/>
  <dc:title>PowerPoint Presentation</dc:title>
</cp:coreProperties>
</file>