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043F-22D4-40C8-BDB6-5329A637B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4112-EFBC-404C-A337-B263DEAFC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F8BB-196D-41AD-9BFD-E07D00D82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3891-C37C-4B12-BDCA-69CA48B4B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97EE-ED0F-41F3-87B1-EDB4B5C04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72D-4AC1-4C6C-A7AA-5B8361D3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71B-1D3A-4F3C-91BE-C927F921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956-AB1F-4391-BE6C-B441C846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C46-22FE-46A4-B1D9-9F0819BC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05C-7922-4183-B239-C7C0A019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5AB-76F4-4C93-9005-BC5B455A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482-B5C4-4E3D-9F30-F6BD1487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72F-97EB-48C2-9F75-7494EA69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C03-9465-4B2E-BD9E-CCE7D45E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949-D579-4E1C-85F7-2AD76D87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8E1-00DE-49E3-B3F0-9AE4FA23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306-C8C3-483F-8A34-410F11E1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0B54-502B-4974-B518-13AFDCBB115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vhardy</cp:lastModifiedBy>
  <dcterms:modified xsi:type="dcterms:W3CDTF">2003-05-23T21:24:10Z</dcterms:modified>
  <cp:revision>31</cp:revision>
  <dc:subject/>
  <dc:title>Fractions to Decimals</dc:title>
</cp:coreProperties>
</file>