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71C8-75D5-4016-B4A3-117AECEF0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F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th skills to interpret social studies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osing and answering questions about geographic distributions and patter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relative location geography world 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bsolute location latitude longitude geography challenge qui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continent map geography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.23 (A) Use a problem-solving proces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map geography distance direction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ocean country map geography direction world geography map reading relative lo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w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e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capital Lima direction map geography relative location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ither with absolute or relative lo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the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B) Incorporate main and supporting ideas in verbal and written messa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C) Express ideas orally based on research and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.23 (A) Use a problem-solving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M) Use study strategies to learn importan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direction absolute location relative location geography world 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09A3-A148-45EA-BE8C-3A83A861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893C-0710-4EC3-BD1A-072F1F97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6F85-6D05-4C48-B459-2ACF3CD6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D54E-4940-4FC4-B684-B3A43314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7CA7-A1F7-4CFC-8260-6ABB4656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8E56-9B61-4A19-8B44-AE90A7FA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E36B-4F51-41FC-8D1E-38A61F93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85AC-450D-42BC-8996-18FA9F6D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EC21-E2C9-462B-874F-2E822C3F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01BC-DC8B-4414-999F-8E3CB541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2678-7B78-4D10-82CD-804A4690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5533-ACF8-46FC-86AE-9D6354C1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CA4C-EAB2-47C2-80BB-530C22959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PeSSQ.ppt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95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8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9"/>
              </a:rPr>
              <a:t>http://peer.tamu.edu/forms/Curricula_Survey.s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relative geographic location of Peru (longitude and latitude) to describe the location of Peru relative to other parts of the wor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ve 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is Peru in relation to other pla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6765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16765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66880" y="1160640"/>
            <a:ext cx="7512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st your understanding of latitude and longitude by taking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Absolute Location Challenge Qui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47640" y="4941360"/>
            <a:ext cx="7848720" cy="155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u is highlighted on the map abov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u 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 Located on what continent___________________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North of what continent_______________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 West of what continent_________________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00320" y="2479680"/>
            <a:ext cx="362160" cy="347760"/>
          </a:xfrm>
          <a:custGeom>
            <a:avLst/>
            <a:gdLst/>
            <a:ahLst/>
            <a:rect l="l" t="t" r="r" b="b"/>
            <a:pathLst>
              <a:path w="228" h="219">
                <a:moveTo>
                  <a:pt x="11" y="38"/>
                </a:moveTo>
                <a:cubicBezTo>
                  <a:pt x="30" y="43"/>
                  <a:pt x="30" y="52"/>
                  <a:pt x="47" y="58"/>
                </a:cubicBezTo>
                <a:cubicBezTo>
                  <a:pt x="51" y="38"/>
                  <a:pt x="51" y="29"/>
                  <a:pt x="71" y="22"/>
                </a:cubicBezTo>
                <a:cubicBezTo>
                  <a:pt x="74" y="18"/>
                  <a:pt x="83" y="0"/>
                  <a:pt x="91" y="2"/>
                </a:cubicBezTo>
                <a:cubicBezTo>
                  <a:pt x="99" y="4"/>
                  <a:pt x="100" y="22"/>
                  <a:pt x="103" y="26"/>
                </a:cubicBezTo>
                <a:cubicBezTo>
                  <a:pt x="111" y="36"/>
                  <a:pt x="139" y="42"/>
                  <a:pt x="139" y="42"/>
                </a:cubicBezTo>
                <a:cubicBezTo>
                  <a:pt x="138" y="46"/>
                  <a:pt x="138" y="51"/>
                  <a:pt x="135" y="54"/>
                </a:cubicBezTo>
                <a:cubicBezTo>
                  <a:pt x="132" y="57"/>
                  <a:pt x="125" y="55"/>
                  <a:pt x="123" y="58"/>
                </a:cubicBezTo>
                <a:cubicBezTo>
                  <a:pt x="118" y="65"/>
                  <a:pt x="118" y="74"/>
                  <a:pt x="115" y="82"/>
                </a:cubicBezTo>
                <a:cubicBezTo>
                  <a:pt x="114" y="86"/>
                  <a:pt x="111" y="94"/>
                  <a:pt x="111" y="94"/>
                </a:cubicBezTo>
                <a:cubicBezTo>
                  <a:pt x="115" y="115"/>
                  <a:pt x="112" y="134"/>
                  <a:pt x="135" y="118"/>
                </a:cubicBezTo>
                <a:cubicBezTo>
                  <a:pt x="155" y="125"/>
                  <a:pt x="143" y="135"/>
                  <a:pt x="163" y="142"/>
                </a:cubicBezTo>
                <a:cubicBezTo>
                  <a:pt x="175" y="106"/>
                  <a:pt x="189" y="146"/>
                  <a:pt x="207" y="158"/>
                </a:cubicBezTo>
                <a:cubicBezTo>
                  <a:pt x="228" y="190"/>
                  <a:pt x="184" y="184"/>
                  <a:pt x="163" y="198"/>
                </a:cubicBezTo>
                <a:cubicBezTo>
                  <a:pt x="156" y="218"/>
                  <a:pt x="151" y="219"/>
                  <a:pt x="131" y="214"/>
                </a:cubicBezTo>
                <a:cubicBezTo>
                  <a:pt x="100" y="194"/>
                  <a:pt x="116" y="200"/>
                  <a:pt x="83" y="194"/>
                </a:cubicBezTo>
                <a:cubicBezTo>
                  <a:pt x="63" y="163"/>
                  <a:pt x="54" y="87"/>
                  <a:pt x="15" y="74"/>
                </a:cubicBezTo>
                <a:cubicBezTo>
                  <a:pt x="4" y="58"/>
                  <a:pt x="0" y="55"/>
                  <a:pt x="11" y="38"/>
                </a:cubicBez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47640" y="5334120"/>
            <a:ext cx="7848720" cy="8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you were to travel using the shortest distance to Peru from your home, in which direction would you travel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00320" y="2479680"/>
            <a:ext cx="362160" cy="347760"/>
          </a:xfrm>
          <a:custGeom>
            <a:avLst/>
            <a:gdLst/>
            <a:ahLst/>
            <a:rect l="l" t="t" r="r" b="b"/>
            <a:pathLst>
              <a:path w="228" h="219">
                <a:moveTo>
                  <a:pt x="11" y="38"/>
                </a:moveTo>
                <a:cubicBezTo>
                  <a:pt x="30" y="43"/>
                  <a:pt x="30" y="52"/>
                  <a:pt x="47" y="58"/>
                </a:cubicBezTo>
                <a:cubicBezTo>
                  <a:pt x="51" y="38"/>
                  <a:pt x="51" y="29"/>
                  <a:pt x="71" y="22"/>
                </a:cubicBezTo>
                <a:cubicBezTo>
                  <a:pt x="74" y="18"/>
                  <a:pt x="83" y="0"/>
                  <a:pt x="91" y="2"/>
                </a:cubicBezTo>
                <a:cubicBezTo>
                  <a:pt x="99" y="4"/>
                  <a:pt x="100" y="22"/>
                  <a:pt x="103" y="26"/>
                </a:cubicBezTo>
                <a:cubicBezTo>
                  <a:pt x="111" y="36"/>
                  <a:pt x="139" y="42"/>
                  <a:pt x="139" y="42"/>
                </a:cubicBezTo>
                <a:cubicBezTo>
                  <a:pt x="138" y="46"/>
                  <a:pt x="138" y="51"/>
                  <a:pt x="135" y="54"/>
                </a:cubicBezTo>
                <a:cubicBezTo>
                  <a:pt x="132" y="57"/>
                  <a:pt x="125" y="55"/>
                  <a:pt x="123" y="58"/>
                </a:cubicBezTo>
                <a:cubicBezTo>
                  <a:pt x="118" y="65"/>
                  <a:pt x="118" y="74"/>
                  <a:pt x="115" y="82"/>
                </a:cubicBezTo>
                <a:cubicBezTo>
                  <a:pt x="114" y="86"/>
                  <a:pt x="111" y="94"/>
                  <a:pt x="111" y="94"/>
                </a:cubicBezTo>
                <a:cubicBezTo>
                  <a:pt x="115" y="115"/>
                  <a:pt x="112" y="134"/>
                  <a:pt x="135" y="118"/>
                </a:cubicBezTo>
                <a:cubicBezTo>
                  <a:pt x="155" y="125"/>
                  <a:pt x="143" y="135"/>
                  <a:pt x="163" y="142"/>
                </a:cubicBezTo>
                <a:cubicBezTo>
                  <a:pt x="175" y="106"/>
                  <a:pt x="189" y="146"/>
                  <a:pt x="207" y="158"/>
                </a:cubicBezTo>
                <a:cubicBezTo>
                  <a:pt x="228" y="190"/>
                  <a:pt x="184" y="184"/>
                  <a:pt x="163" y="198"/>
                </a:cubicBezTo>
                <a:cubicBezTo>
                  <a:pt x="156" y="218"/>
                  <a:pt x="151" y="219"/>
                  <a:pt x="131" y="214"/>
                </a:cubicBezTo>
                <a:cubicBezTo>
                  <a:pt x="100" y="194"/>
                  <a:pt x="116" y="200"/>
                  <a:pt x="83" y="194"/>
                </a:cubicBezTo>
                <a:cubicBezTo>
                  <a:pt x="63" y="163"/>
                  <a:pt x="54" y="87"/>
                  <a:pt x="15" y="74"/>
                </a:cubicBezTo>
                <a:cubicBezTo>
                  <a:pt x="4" y="58"/>
                  <a:pt x="0" y="55"/>
                  <a:pt x="11" y="38"/>
                </a:cubicBez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u is highlighted on the map be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562720" y="1828800"/>
            <a:ext cx="304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ocean is to the west of Per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large country is to the east of Per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the ocean located to the east of Per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2438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43800" y="22860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441972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3429000"/>
            <a:ext cx="198108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4000680" cy="520056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1952640" y="2155680"/>
            <a:ext cx="865080" cy="1278000"/>
          </a:xfrm>
          <a:custGeom>
            <a:avLst/>
            <a:gdLst/>
            <a:ahLst/>
            <a:rect l="l" t="t" r="r" b="b"/>
            <a:pathLst>
              <a:path w="545" h="805">
                <a:moveTo>
                  <a:pt x="167" y="120"/>
                </a:moveTo>
                <a:cubicBezTo>
                  <a:pt x="185" y="114"/>
                  <a:pt x="198" y="104"/>
                  <a:pt x="215" y="98"/>
                </a:cubicBezTo>
                <a:cubicBezTo>
                  <a:pt x="246" y="69"/>
                  <a:pt x="252" y="40"/>
                  <a:pt x="259" y="0"/>
                </a:cubicBezTo>
                <a:cubicBezTo>
                  <a:pt x="297" y="10"/>
                  <a:pt x="270" y="16"/>
                  <a:pt x="302" y="28"/>
                </a:cubicBezTo>
                <a:cubicBezTo>
                  <a:pt x="319" y="73"/>
                  <a:pt x="294" y="19"/>
                  <a:pt x="324" y="49"/>
                </a:cubicBezTo>
                <a:cubicBezTo>
                  <a:pt x="333" y="58"/>
                  <a:pt x="339" y="71"/>
                  <a:pt x="346" y="82"/>
                </a:cubicBezTo>
                <a:cubicBezTo>
                  <a:pt x="349" y="87"/>
                  <a:pt x="357" y="85"/>
                  <a:pt x="362" y="87"/>
                </a:cubicBezTo>
                <a:cubicBezTo>
                  <a:pt x="401" y="100"/>
                  <a:pt x="358" y="91"/>
                  <a:pt x="438" y="98"/>
                </a:cubicBezTo>
                <a:cubicBezTo>
                  <a:pt x="459" y="105"/>
                  <a:pt x="469" y="103"/>
                  <a:pt x="476" y="125"/>
                </a:cubicBezTo>
                <a:cubicBezTo>
                  <a:pt x="463" y="171"/>
                  <a:pt x="475" y="113"/>
                  <a:pt x="482" y="158"/>
                </a:cubicBezTo>
                <a:cubicBezTo>
                  <a:pt x="486" y="186"/>
                  <a:pt x="432" y="184"/>
                  <a:pt x="422" y="185"/>
                </a:cubicBezTo>
                <a:cubicBezTo>
                  <a:pt x="387" y="198"/>
                  <a:pt x="375" y="225"/>
                  <a:pt x="346" y="245"/>
                </a:cubicBezTo>
                <a:cubicBezTo>
                  <a:pt x="344" y="254"/>
                  <a:pt x="345" y="264"/>
                  <a:pt x="340" y="272"/>
                </a:cubicBezTo>
                <a:cubicBezTo>
                  <a:pt x="337" y="278"/>
                  <a:pt x="325" y="277"/>
                  <a:pt x="324" y="283"/>
                </a:cubicBezTo>
                <a:cubicBezTo>
                  <a:pt x="315" y="355"/>
                  <a:pt x="311" y="348"/>
                  <a:pt x="346" y="359"/>
                </a:cubicBezTo>
                <a:cubicBezTo>
                  <a:pt x="355" y="387"/>
                  <a:pt x="359" y="399"/>
                  <a:pt x="389" y="408"/>
                </a:cubicBezTo>
                <a:cubicBezTo>
                  <a:pt x="407" y="434"/>
                  <a:pt x="406" y="423"/>
                  <a:pt x="433" y="413"/>
                </a:cubicBezTo>
                <a:cubicBezTo>
                  <a:pt x="451" y="387"/>
                  <a:pt x="460" y="391"/>
                  <a:pt x="471" y="419"/>
                </a:cubicBezTo>
                <a:cubicBezTo>
                  <a:pt x="442" y="462"/>
                  <a:pt x="484" y="484"/>
                  <a:pt x="520" y="495"/>
                </a:cubicBezTo>
                <a:cubicBezTo>
                  <a:pt x="545" y="531"/>
                  <a:pt x="530" y="615"/>
                  <a:pt x="514" y="658"/>
                </a:cubicBezTo>
                <a:cubicBezTo>
                  <a:pt x="519" y="687"/>
                  <a:pt x="530" y="700"/>
                  <a:pt x="514" y="723"/>
                </a:cubicBezTo>
                <a:cubicBezTo>
                  <a:pt x="507" y="745"/>
                  <a:pt x="507" y="754"/>
                  <a:pt x="487" y="767"/>
                </a:cubicBezTo>
                <a:cubicBezTo>
                  <a:pt x="475" y="805"/>
                  <a:pt x="471" y="788"/>
                  <a:pt x="455" y="772"/>
                </a:cubicBezTo>
                <a:cubicBezTo>
                  <a:pt x="444" y="761"/>
                  <a:pt x="435" y="760"/>
                  <a:pt x="422" y="756"/>
                </a:cubicBezTo>
                <a:cubicBezTo>
                  <a:pt x="391" y="710"/>
                  <a:pt x="432" y="764"/>
                  <a:pt x="395" y="734"/>
                </a:cubicBezTo>
                <a:cubicBezTo>
                  <a:pt x="390" y="730"/>
                  <a:pt x="389" y="722"/>
                  <a:pt x="384" y="718"/>
                </a:cubicBezTo>
                <a:cubicBezTo>
                  <a:pt x="372" y="710"/>
                  <a:pt x="344" y="706"/>
                  <a:pt x="330" y="701"/>
                </a:cubicBezTo>
                <a:cubicBezTo>
                  <a:pt x="314" y="678"/>
                  <a:pt x="302" y="680"/>
                  <a:pt x="275" y="674"/>
                </a:cubicBezTo>
                <a:cubicBezTo>
                  <a:pt x="269" y="654"/>
                  <a:pt x="246" y="632"/>
                  <a:pt x="226" y="625"/>
                </a:cubicBezTo>
                <a:cubicBezTo>
                  <a:pt x="221" y="610"/>
                  <a:pt x="217" y="589"/>
                  <a:pt x="210" y="576"/>
                </a:cubicBezTo>
                <a:cubicBezTo>
                  <a:pt x="204" y="565"/>
                  <a:pt x="188" y="544"/>
                  <a:pt x="188" y="544"/>
                </a:cubicBezTo>
                <a:cubicBezTo>
                  <a:pt x="181" y="514"/>
                  <a:pt x="174" y="501"/>
                  <a:pt x="156" y="473"/>
                </a:cubicBezTo>
                <a:cubicBezTo>
                  <a:pt x="149" y="462"/>
                  <a:pt x="134" y="441"/>
                  <a:pt x="134" y="441"/>
                </a:cubicBezTo>
                <a:cubicBezTo>
                  <a:pt x="128" y="413"/>
                  <a:pt x="130" y="402"/>
                  <a:pt x="107" y="386"/>
                </a:cubicBezTo>
                <a:cubicBezTo>
                  <a:pt x="98" y="362"/>
                  <a:pt x="81" y="344"/>
                  <a:pt x="69" y="321"/>
                </a:cubicBezTo>
                <a:cubicBezTo>
                  <a:pt x="62" y="308"/>
                  <a:pt x="65" y="299"/>
                  <a:pt x="52" y="288"/>
                </a:cubicBezTo>
                <a:cubicBezTo>
                  <a:pt x="42" y="280"/>
                  <a:pt x="20" y="267"/>
                  <a:pt x="20" y="267"/>
                </a:cubicBezTo>
                <a:cubicBezTo>
                  <a:pt x="7" y="229"/>
                  <a:pt x="0" y="225"/>
                  <a:pt x="14" y="180"/>
                </a:cubicBezTo>
                <a:cubicBezTo>
                  <a:pt x="5" y="152"/>
                  <a:pt x="18" y="160"/>
                  <a:pt x="42" y="153"/>
                </a:cubicBezTo>
                <a:cubicBezTo>
                  <a:pt x="54" y="172"/>
                  <a:pt x="53" y="183"/>
                  <a:pt x="74" y="191"/>
                </a:cubicBezTo>
                <a:cubicBezTo>
                  <a:pt x="82" y="213"/>
                  <a:pt x="90" y="214"/>
                  <a:pt x="112" y="207"/>
                </a:cubicBezTo>
                <a:cubicBezTo>
                  <a:pt x="116" y="192"/>
                  <a:pt x="118" y="159"/>
                  <a:pt x="128" y="147"/>
                </a:cubicBezTo>
                <a:cubicBezTo>
                  <a:pt x="142" y="129"/>
                  <a:pt x="167" y="144"/>
                  <a:pt x="167" y="120"/>
                </a:cubicBezTo>
                <a:close/>
              </a:path>
            </a:pathLst>
          </a:cu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47760" y="2863800"/>
            <a:ext cx="95400" cy="87480"/>
          </a:xfrm>
          <a:custGeom>
            <a:avLst/>
            <a:gdLst/>
            <a:ahLst/>
            <a:rect l="l" t="t" r="r" b="b"/>
            <a:pathLst>
              <a:path w="60" h="55">
                <a:moveTo>
                  <a:pt x="0" y="0"/>
                </a:moveTo>
                <a:cubicBezTo>
                  <a:pt x="0" y="0"/>
                  <a:pt x="46" y="4"/>
                  <a:pt x="49" y="16"/>
                </a:cubicBezTo>
                <a:cubicBezTo>
                  <a:pt x="60" y="55"/>
                  <a:pt x="21" y="49"/>
                  <a:pt x="0" y="49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47640" y="5029200"/>
            <a:ext cx="7848720" cy="15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a is highlighted on the ma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 What city is the capital of Peru?  _______________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This city is located in what direction from Cusco? 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 The city of Iquitos is located in what direction from Lima? 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6440" y="36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talking with a friend. She asks, “Where is Peru?” How would you respo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were to travel from Texas to Peru, in what direction would you tra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f the following is closer to Peru?  ___Canada    ___the USA   ___Me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8:40:31Z</dcterms:created>
  <dc:creator>wklemm</dc:creator>
  <dc:description/>
  <dc:language>en-US</dc:language>
  <cp:lastModifiedBy>College of Veterinary Medicine</cp:lastModifiedBy>
  <dcterms:modified xsi:type="dcterms:W3CDTF">2008-06-09T17:29:13Z</dcterms:modified>
  <cp:revision>20</cp:revision>
  <dc:subject/>
  <dc:title>Objectives – Social Studies 2</dc:title>
</cp:coreProperties>
</file>