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3FBC6-2235-4948-801F-C60E7607FF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Number, Operation, and Quantitative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4 (A) Represent Proportions/Conversions using Tables and Symb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5CC64-9AC6-4A37-91BF-23082BB93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AC5B6-36FB-43A6-B849-4151F5034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8CC07-72D3-4868-BEED-925DAC229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0C32B-19A8-493D-AD68-E01B06018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13E84-6447-46D6-80F5-BD9FB094F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8C2DF-4226-4723-9A26-8E9115399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59BCA-0BDE-47F7-AF07-9B827D174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88C37-EF7C-4920-9280-D3F2DC204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E9907-F352-4CA9-ABFA-8AD27C46D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CAF88-9804-4017-9234-AEF859221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08D15-4297-44C8-9F3D-B7EA113D8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78EAD-A544-4847-B7BB-73B4829DD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4EA0E-7B71-4A52-ADDF-ACD01892FD2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75960"/>
            <a:ext cx="77709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Metric Multiplication Factor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685440"/>
            <a:ext cx="85345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Multiplication Factor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Prefix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Symbo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,000,000,00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9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iga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,000,00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6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ga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,00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il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0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ect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 = 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0.0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-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enti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0.00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-3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illi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0.00000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-6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icr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μ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0.00000000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-9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an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3T19:31:03Z</dcterms:created>
  <dc:creator>ITWorkstation</dc:creator>
  <dc:description/>
  <dc:language>en-US</dc:language>
  <cp:lastModifiedBy>ljlab</cp:lastModifiedBy>
  <dcterms:modified xsi:type="dcterms:W3CDTF">2003-09-11T17:19:02Z</dcterms:modified>
  <cp:revision>6</cp:revision>
  <dc:subject/>
  <dc:title>Metric Multiplication Factors</dc:title>
</cp:coreProperties>
</file>