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F5E-567E-4010-AC87-9A0CA6F97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6AC-4527-4ED7-B1F0-0504CA25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EB9-5761-41F6-B0D1-C204330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0D3-CD1B-4938-B52B-5CF1470F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EB4-7DEE-4EA8-8FEE-96C21A7D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942-5E66-47F9-BE4E-6F27F3F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F4A-5467-4D17-85CA-4E4267A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C1E-F62E-40B7-9125-70A5F334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040-0DCF-49F5-B86F-4056FBB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E47-B72D-4CD6-9426-078B4820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CEC-BB25-4ABA-8CF5-9F6A01B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0C9-5BBE-468C-8E83-5FCFFAE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510-BFE9-4C4D-A065-77A27E2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629-96AF-43F1-A1CD-02B7A227E6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Jeremiah McNichols</cp:lastModifiedBy>
  <dcterms:modified xsi:type="dcterms:W3CDTF">2005-06-21T20:11:07Z</dcterms:modified>
  <cp:revision>24</cp:revision>
  <dc:subject/>
  <dc:title>PowerPoint Presentation</dc:title>
</cp:coreProperties>
</file>