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80238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04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568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568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5B0E4CF-52EE-4975-8F6C-52CA7F1C9A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Conjectures from Patterns or Sets of Examples/Non-examp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–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1810-1CED-454E-BF70-A172D66B6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7756-11FE-455D-A89B-F711A2BD2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A69F-335B-4975-92DD-87BE19930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32B2-A174-4AA1-960F-B4190297C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7BB3-BFFB-49F7-9ED8-BAB4DA21D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D7AE-BD56-4D07-BA02-36CCEC39B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1BE3-87D6-4A84-B107-09F0F7043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4F44-81A6-4C96-9EE0-D58F957BC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8981-ADE3-4A5D-9C7F-60E30EE6C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38CA-AA91-4A47-8888-5D581E480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6E06-54F6-4567-AD9E-7E778BF13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6B10-08C0-48C4-97A7-2A27A2CEE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E3F71-6087-4952-909D-B9321BF67D05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limograph.doc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A climograph is a graph that displays average (mean) precipitation and temperature for an area.  It is used to compare the climate in different places. 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WeatherMan" descr=""/>
          <p:cNvPicPr/>
          <p:nvPr/>
        </p:nvPicPr>
        <p:blipFill>
          <a:blip r:embed="rId2"/>
          <a:stretch/>
        </p:blipFill>
        <p:spPr>
          <a:xfrm>
            <a:off x="4038480" y="3962520"/>
            <a:ext cx="2354400" cy="23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838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paring Your Own Climo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2438280"/>
            <a:ext cx="66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er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print a blank climograph and use it to make your own climograph.  Refer back to this appendix if you need directions to make your own climo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f you go to www.worldclimate.com, you can find average monthly precipitation for many places in a chart like this one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rick to reading charts and graphs is finding a patter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precipitation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there more precipitation in the summer months or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2438280"/>
            <a:ext cx="8229600" cy="1128600"/>
            <a:chOff x="380880" y="2438280"/>
            <a:chExt cx="8229600" cy="1128600"/>
          </a:xfrm>
        </p:grpSpPr>
        <p:sp>
          <p:nvSpPr>
            <p:cNvPr id="54" name=""/>
            <p:cNvSpPr/>
            <p:nvPr/>
          </p:nvSpPr>
          <p:spPr>
            <a:xfrm>
              <a:off x="7924680" y="320040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49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91160" y="320040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48280" y="320040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575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718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8284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495680" y="320040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08160" y="320040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1920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3348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427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570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90360" y="320040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880" y="320040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249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inch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24680" y="281916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24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1160" y="281916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3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48280" y="281916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575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9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6718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8284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8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95680" y="281916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9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08160" y="281916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1920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3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3348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0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427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570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360" y="281916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4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0880" y="281916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924680" y="243828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91160" y="243828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48280" y="243828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575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718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8284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95680" y="243828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08160" y="243828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1920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3348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27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570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90360" y="243828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ebebeb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ebeb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0880" y="243828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0880" y="24382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880" y="281916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0880" y="320040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5668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8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903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570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427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334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192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08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95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8284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718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575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482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1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24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6104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People construct climographs to compare climates in different places.  Climographs convert lots of numerical data to a simple display of bars and lines.  Because they are so simple, climographs make it easy to see patterns in climate and to compare the climates in different place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2590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xis (vertical)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ith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verag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ecipitation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evels in inches.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s exampl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ses intervals of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 inches between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971800" y="4876560"/>
            <a:ext cx="510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precipitation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0" name="Precip" descr=""/>
          <p:cNvPicPr/>
          <p:nvPr/>
        </p:nvPicPr>
        <p:blipFill>
          <a:blip r:embed="rId2"/>
          <a:stretch/>
        </p:blipFill>
        <p:spPr>
          <a:xfrm>
            <a:off x="3352680" y="1523880"/>
            <a:ext cx="485784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2960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66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For our example, the January average precipitation was 2.1 inches, so we drew a bar over  January reaching the 2.1 level on the y-axis of the graph.  Graph the precipitation data for the remaining months in the same way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90760" y="4876920"/>
            <a:ext cx="3809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Next, plot the average precipitation for January by drawing a bar over January </a:t>
            </a:r>
            <a:br>
              <a:rPr sz="1800"/>
            </a:b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aching up to the amount of precipitation listed for that month.</a:t>
            </a:r>
            <a:br>
              <a:rPr sz="1800"/>
            </a:b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4" name="Prec" descr=""/>
          <p:cNvPicPr/>
          <p:nvPr/>
        </p:nvPicPr>
        <p:blipFill>
          <a:blip r:embed="rId2"/>
          <a:stretch/>
        </p:blipFill>
        <p:spPr>
          <a:xfrm>
            <a:off x="3600360" y="171468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emperatu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6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ww.worldclimate.com can also give you a chart on average temperature for many places.  Here are the average monthly temperatures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member, the key to reading graphs is looking for a pattern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temperature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it hotter in the summer or in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7200" y="2514600"/>
            <a:ext cx="8229600" cy="1128600"/>
            <a:chOff x="457200" y="2514600"/>
            <a:chExt cx="8229600" cy="1128600"/>
          </a:xfrm>
        </p:grpSpPr>
        <p:sp>
          <p:nvSpPr>
            <p:cNvPr id="128" name=""/>
            <p:cNvSpPr/>
            <p:nvPr/>
          </p:nvSpPr>
          <p:spPr>
            <a:xfrm>
              <a:off x="8001000" y="327672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467480" y="327672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24600" y="327672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7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338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4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481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916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0" y="327672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84480" y="327672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9552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0980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1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190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333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66680" y="327672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9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327672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001000" y="289548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67480" y="289548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24600" y="289548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338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3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481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5916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0" y="289548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84480" y="289548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9552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5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0980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190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333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66680" y="289548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5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" y="289548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01000" y="251460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67480" y="251460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24600" y="251460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338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481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5916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72000" y="251460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84480" y="251460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9552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0980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190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333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66680" y="251460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" y="251460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25146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" y="289548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" y="36432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666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333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190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098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955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84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2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5916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481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338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246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67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001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6868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895480" y="4952520"/>
            <a:ext cx="5562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temperature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1447560"/>
            <a:ext cx="2286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axis (vertical) with the average temperature levels in degrees Fahrenheit.  This example uses intervals of 20 degrees between 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2" name="Temp" descr=""/>
          <p:cNvPicPr/>
          <p:nvPr/>
        </p:nvPicPr>
        <p:blipFill>
          <a:blip r:embed="rId2"/>
          <a:stretch/>
        </p:blipFill>
        <p:spPr>
          <a:xfrm>
            <a:off x="3276720" y="1752480"/>
            <a:ext cx="4857480" cy="27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152360"/>
            <a:ext cx="3353040" cy="54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Next, plot the average temperature for January by placing a dot over January at the average temperature for that month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or our example, the January average temper-ature was 59.9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F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, so we placed a dot over January at the 59.9 level on the y-axis of the graph.  Graphing the remaining temperature data in the same way for each month and for the year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148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inally, connect the dots!  Draw a line from the dot for January and continue through the dot for December. 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connect the dot for the yearly average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6" name="Temp" descr=""/>
          <p:cNvPicPr/>
          <p:nvPr/>
        </p:nvPicPr>
        <p:blipFill>
          <a:blip r:embed="rId2"/>
          <a:stretch/>
        </p:blipFill>
        <p:spPr>
          <a:xfrm>
            <a:off x="3828960" y="137160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137160"/>
            <a:ext cx="7772400" cy="71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br>
              <a:rPr sz="4400"/>
            </a:b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climograph includes both the average precipitation and the average temperature data.  When you combine the two previous graphs, your climograph should look like this one</a:t>
            </a:r>
            <a:br>
              <a:rPr sz="2400"/>
            </a:br>
            <a:br>
              <a:rPr sz="12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800"/>
            </a:br>
            <a:br>
              <a:rPr sz="20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2000"/>
            </a:br>
            <a:br>
              <a:rPr sz="20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sure to include a title for your graph and a key showing the symbols that represent the average precipitation and the average temperature.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8" name="Clim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4857840" cy="2695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5:38:51Z</dcterms:created>
  <dc:creator>Charles C. Farnsworth, Ph.D. - Instructional Design</dc:creator>
  <dc:description/>
  <dc:language>en-US</dc:language>
  <cp:lastModifiedBy>ljlab</cp:lastModifiedBy>
  <cp:lastPrinted>2002-05-15T14:22:53Z</cp:lastPrinted>
  <dcterms:modified xsi:type="dcterms:W3CDTF">2003-09-11T17:22:57Z</dcterms:modified>
  <cp:revision>69</cp:revision>
  <dc:subject/>
  <dc:title>Climograph</dc:title>
</cp:coreProperties>
</file>