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8C8-DA6D-4F3D-9373-FC252419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recipitación en el Per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is ciudades son marcados en el mapa que está a la derecha.  La precipitación media está a la derecha del nombre de cada ciuda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é diferencias ves el volumen de la precipitación de cada ciuda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Ves alguna secuenci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Te diste cuent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ndes se sitúan en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iudades al oeste de las montañas reciben menos precipitación que las ciudades al este de las montañas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limas disti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diferencia de precipitación crea distintos climas en Perú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oeste de las montañas, hay un clima seco parecido al desiert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este de las montañas, hay un clima húmeda parecido al clima tropic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98E-74DA-4B52-9B7C-EE575B4B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D53-0019-4BFF-BCA5-B8BA658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0CD-ED0D-4878-9AF1-3AF9D11C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1FB-738B-4B50-BB78-ACFE5099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814-2C88-4949-9E32-439455C5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B69-D87C-4840-BC48-E6181F4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C59-EABB-432C-A8EC-1894B58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0B9-3300-4393-9B05-4D1A40C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AAB-1B11-4F91-9263-C1953C7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6E6-2137-4713-9806-6C58067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E9F-E0B9-41A2-8B10-8445057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618-935C-415D-B3F0-BD73FC0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A50-EA45-4362-AC37-9558BE3B863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Appendices/Social%20Studies/PrecTem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48320" y="2057400"/>
            <a:ext cx="4214520" cy="3438360"/>
            <a:chOff x="4648320" y="2057400"/>
            <a:chExt cx="4214520" cy="3438360"/>
          </a:xfrm>
        </p:grpSpPr>
        <p:grpSp>
          <p:nvGrpSpPr>
            <p:cNvPr id="49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0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891040" y="30780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46640" y="35053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72080" y="29718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3840" y="42210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43680" y="49528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59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70760" y="42498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oler air hold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air moves down a mountain, the air becomes 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648320" y="2286000"/>
            <a:ext cx="4214520" cy="3438360"/>
            <a:chOff x="4648320" y="2286000"/>
            <a:chExt cx="4214520" cy="3438360"/>
          </a:xfrm>
        </p:grpSpPr>
        <p:grpSp>
          <p:nvGrpSpPr>
            <p:cNvPr id="74" name=""/>
            <p:cNvGrpSpPr/>
            <p:nvPr/>
          </p:nvGrpSpPr>
          <p:grpSpPr>
            <a:xfrm>
              <a:off x="4672080" y="2286000"/>
              <a:ext cx="3809880" cy="3438360"/>
              <a:chOff x="4672080" y="2286000"/>
              <a:chExt cx="3809880" cy="3438360"/>
            </a:xfrm>
          </p:grpSpPr>
          <p:pic>
            <p:nvPicPr>
              <p:cNvPr id="75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2860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672080" y="23623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891040" y="3306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6640" y="373392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2080" y="320040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444960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43680" y="518148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2080" y="39783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8320" y="4724280"/>
              <a:ext cx="838080" cy="914760"/>
              <a:chOff x="4648320" y="4724280"/>
              <a:chExt cx="838080" cy="914760"/>
            </a:xfrm>
          </p:grpSpPr>
          <p:sp>
            <p:nvSpPr>
              <p:cNvPr id="84" name=""/>
              <p:cNvSpPr/>
              <p:nvPr/>
            </p:nvSpPr>
            <p:spPr>
              <a:xfrm>
                <a:off x="5105520" y="49528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52880" y="51814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2880" y="47242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71960" y="53625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38720" y="50083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0083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3064800">
              <a:off x="5227200" y="42436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0760" y="447840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2200320"/>
            <a:ext cx="4214520" cy="3438360"/>
            <a:chOff x="4724280" y="2200320"/>
            <a:chExt cx="4214520" cy="3438360"/>
          </a:xfrm>
        </p:grpSpPr>
        <p:grpSp>
          <p:nvGrpSpPr>
            <p:cNvPr id="100" name=""/>
            <p:cNvGrpSpPr/>
            <p:nvPr/>
          </p:nvGrpSpPr>
          <p:grpSpPr>
            <a:xfrm>
              <a:off x="4748040" y="2200320"/>
              <a:ext cx="3809880" cy="3438360"/>
              <a:chOff x="4748040" y="2200320"/>
              <a:chExt cx="3809880" cy="343836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748040" y="220032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748040" y="227664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967000" y="32209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2600" y="364824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8040" y="311472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9800" y="436392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9640" y="50958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48040" y="389268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4638600"/>
              <a:ext cx="838080" cy="914760"/>
              <a:chOff x="4724280" y="4638600"/>
              <a:chExt cx="838080" cy="914760"/>
            </a:xfrm>
          </p:grpSpPr>
          <p:sp>
            <p:nvSpPr>
              <p:cNvPr id="110" name=""/>
              <p:cNvSpPr/>
              <p:nvPr/>
            </p:nvSpPr>
            <p:spPr>
              <a:xfrm>
                <a:off x="5181480" y="486720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8840" y="509580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8840" y="463860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7920" y="52768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4680" y="492264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4280" y="492264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3064800">
              <a:off x="5303160" y="415800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46720" y="439272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00600" y="3191040"/>
            <a:ext cx="4214520" cy="3438360"/>
            <a:chOff x="4800600" y="3191040"/>
            <a:chExt cx="4214520" cy="3438360"/>
          </a:xfrm>
        </p:grpSpPr>
        <p:grpSp>
          <p:nvGrpSpPr>
            <p:cNvPr id="122" name=""/>
            <p:cNvGrpSpPr/>
            <p:nvPr/>
          </p:nvGrpSpPr>
          <p:grpSpPr>
            <a:xfrm>
              <a:off x="4824360" y="3191040"/>
              <a:ext cx="3809880" cy="3438360"/>
              <a:chOff x="4824360" y="3191040"/>
              <a:chExt cx="3809880" cy="34383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824360" y="319104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4824360" y="326736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043320" y="42116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98920" y="4638960"/>
              <a:ext cx="14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4360" y="4105440"/>
              <a:ext cx="76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6120" y="5354640"/>
              <a:ext cx="70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960" y="60865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24360" y="48834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00600" y="5629320"/>
              <a:ext cx="838080" cy="914760"/>
              <a:chOff x="4800600" y="5629320"/>
              <a:chExt cx="838080" cy="914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257800" y="5857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5160" y="6086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05160" y="562932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24240" y="6267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91000" y="591336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00600" y="591336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064800">
              <a:off x="5379480" y="51487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23040" y="5383440"/>
              <a:ext cx="179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82520" y="76320"/>
            <a:ext cx="7223400" cy="363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, the air looses most of its’ moistu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20:04Z</dcterms:created>
  <dc:creator>Suzanne Junek</dc:creator>
  <dc:description/>
  <dc:language>en-US</dc:language>
  <cp:lastModifiedBy> </cp:lastModifiedBy>
  <dcterms:modified xsi:type="dcterms:W3CDTF">2006-04-06T06:19:34Z</dcterms:modified>
  <cp:revision>37</cp:revision>
  <dc:subject/>
  <dc:title>Social Studies Mystery</dc:title>
</cp:coreProperties>
</file>