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227C-136B-47D6-9F35-43CC2D66E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viaje por Per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geograf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erú puede ser dividido en tres regiones geográficas: la costa, la sierra y la selv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clima varía de desierto en la parte oeste a tropical en la parte este.  Las regiones montañosas (Andes) tiene un clima que varía de templado a muy frío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In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Francisco Pizar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Sp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Spanish and Quechu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Coffee and Sugarca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estern coastal plain (costa), high and rugged Andes in center (sierra), eastern lowland jungle of Amazon Basin (selva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ra verifi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erú fue inhabitado por un grupo antiguo llamado _________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1532, ¿quién era el español que llegó a conquistar a los Inca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1821, ¿Perú ganó su independencia de qué paí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Cuáles son los dos idiomas oficiales de Perú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mbra 2 productos agrícolas de Per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Cuáles son 3 regiones geográficas de Perú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ciudades en Per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hora viajamos por Perú para conocer a tres distintas ciudad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chu Picch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qui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ma es la capital de Perú.  En los tiempos antiguos, era un pueblo pesquero pero hoy es una ciudad concurrida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Plaza de Armas es la plaza principal.  La Casa del gobierno, la catedral y el Cabildo están situadas en la plaza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unado Lima fue fundado, la meta de los españoles fue convertir a los Inca al cristianism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oy, todavía hay muchas iglesias en el área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chu Picch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chu Picchu es un sitio arqueológico situado en las cuestas del este de las montañ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quí, los arqueólogos han descubierto una ciudad inca antigua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qui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calizado en los bancos de las cabeceras al río amazona, Iquitos está en la selva de Amazon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gunos de las principales atracciones son los puentes colgantes.  Son puentes estrechos encontrados en las partes más altas de árboles, 100 pies arriba del suelo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Tupac Ama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Iqui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L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Open to discuss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ra verifica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En qué ciudad se encuentra la excavación arqueológica más grand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Qué ciudad se conoce por sus puentes colgante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Qué es la capital de Perú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Si viajaras a Perú, que querías ver? ¿Por qué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esta presentació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prenderemos de la historia, el gobierno, la gente, la economía y la geografía de Perú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spués visitáramos una ciudades en Perú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erú es un país en Sudamér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un poco más pequeño que Alask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histo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erú fue habitado una vez por una gente guerrera antigua conocida como el Inc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truyeron grandes ciudades y templ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área que habitaba tenía mucho oro y plat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 darse cuenta del oro y la plata, España llegó a tomar las tierras de los In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1532, Francisco Pizarro llegó a Perú.  Con la ayuda de las armas españolas y los caballos, él y los otros españoles conquistaron las tierra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españoles quisieron conquistar a la gente y convertirlas a cristianismo.  Los españoles trataron a los Inca como si fueron esclavos, exigiéndoles producir productos para España.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gobier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spués de muchos años, los españoles se enojaron de Españ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1821, Perú ganó su independenci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r muchos años, hubo distintos tipos de gobierno y muchos gobernant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oy, Perú es una República Constituciona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ay más de 27 millones de personas en Per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90% de ellos son católic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idiomas oficiales de Perú son español y quechua (idioma de muchos de los indígena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econom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industrias principales de Perú son:  explotación minera de metales, petróleo, la pesca, textiles, ropa, la transformación de alimentos, cemento, la asamblea auto,  acero, y la construcción de barc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erú produce muchos productos agrícolas incluso café, algodón, caña de azúcar, arroz, trigo, papas, coca, aves de corral, carne de vaca, lácteos, lana y pescado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EFD-9B70-4E08-985B-47B9DD55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D3D-1065-4F81-B7AB-A16220CC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4BD-4C6E-4AF8-8A96-839AC396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B280-7829-4958-B384-6974BF75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999-22C6-420A-9B93-346C5AF3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E629-0A8F-4B27-9734-C22656BC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0877-DE3A-40A4-A353-89E86778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2DB8-4D12-49C1-B53F-45734476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72D9-3FFC-4DAA-B806-CDFFBC96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B18-0B3B-41EB-9B8F-B2A54DDA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EC5-B3AD-4AC8-BD21-31431B13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A06-5976-45F3-9C09-16214E3B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9A07-C1B4-441B-8C21-3E09216E16B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Tour of Peru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7155000" cy="3635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ography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38862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u can be divided into 3 geographic regions: Coast, Sierra, and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limate varies from dry desert in the west to tropical in the east.  The mountainous area (Andes mountains) has a temperate to frigid clim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u was inhabited by an ancient people known as the _________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n 1532, who was the Spaniard who came to conquer the Inca peopl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n 1821, Peru won its independence from what country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are the 2 official languages of Peru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ame 2 agricultural products Peru produce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are the 3 geographic regions in Peru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ities in Peru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xt, we will travel across Peru and look at three different cities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m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chu Picchu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quito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3132000" cy="40356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Lima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ma is the capital of Peru.  In ancient times, it was a fishermen's village but today it is a busy city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laza de Armas is the main square.  The Government House, the Cathedral and Cabildo (Town Hall) are all located in the Plaza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4114800" cy="328284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685800" y="50292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tToda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Lima was founded, the goal of the Spanish was to convert the native people (the Incas) to Christianity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day, there are still many churches in the are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4267080" cy="32004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chu Picchu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chu Picchu is an archaeological site located on the east slopes of the mountains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e, archaeologists have uncovered an ancient Inca city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10240" cy="33022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4724280" y="52578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ulturefocu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quit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cated on the banks of the headwaters to the Amazon River, Iquitos is in the Amazon Jungle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 of the main attractions are the hanging bridges.  These narrow bridges are found in the tops of trees, 100 feet above the ground.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2971800" cy="403848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is now the site of a large archaeological dig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is known for its hanging bridges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is the capital of Peru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f you were to travel to Peru, what would you want to see?  Why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 this presentation: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e will look at the history, government, people, economy and geography of Peru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n, we will visit a few cities across Peru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3880" y="5181120"/>
            <a:ext cx="6096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u is a country in South Americ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is slightly smaller than Alask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6858000" cy="44002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u was once inhabited by an ancient warlike people known as the In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built large cities and temples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area they inhabited had great deposits of gold and silver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2971800" cy="403380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in, hearing about this gold and silver, came to conquer the land from the Inca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n 1532, Francisco Pizarro landed in Peru.  With the help of Spanish guns and horses, he and his people conquered the la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panish wished to take over and convert the Inca to Christianity.  They treated the Inca as slaves, making them work to produce goods for Spai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29200" y="762120"/>
            <a:ext cx="3314880" cy="513216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overnmen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114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fter many years, the Spanish in Peru became unhappy with Spai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u won its independence from Spain in 1821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years, Peru went through many rulers and types of government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day, Peru is a constitutional republic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3932280" cy="2435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opl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re are over 27 million people living in Peru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0% of them are Roman Catholic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fficial languages of Peru are Spanish and Quechua (language of many of the Native Americans)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3886200" cy="275904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conomy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ain industries of Peru are: mining of metals, petroleum, fishing, textiles, clothing, food processing, cement, auto assembly, steel, and ship build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520" y="2154240"/>
            <a:ext cx="3962160" cy="356076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7315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u produces many agricultural products including coffee, cotton, sugarcane, rice, wheat, potatoes, coca, poultry, beef, dairy products, wool and f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3276720" cy="274320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876920" y="3276720"/>
            <a:ext cx="3276360" cy="274320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20:34:50Z</dcterms:created>
  <dc:creator>Unknown User</dc:creator>
  <dc:description/>
  <dc:language>en-US</dc:language>
  <cp:lastModifiedBy> </cp:lastModifiedBy>
  <dcterms:modified xsi:type="dcterms:W3CDTF">2006-04-06T20:02:12Z</dcterms:modified>
  <cp:revision>40</cp:revision>
  <dc:subject/>
  <dc:title>Tour of Peru</dc:title>
</cp:coreProperties>
</file>