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2428-C28B-4E3C-B8A5-B4C996338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may be many words in the story that are unfamiliar to your students. Ask students to find each word that is new to them, define the word, find a synonym and antonym for each word, then use each word in a sentence outside the context of the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6C: The student is expected to: locate the meanings, pronunciations, and derivations of unfamiliar words using dictionaries, glossaries, and other source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F734-40CA-4BEB-9842-B2C2AF741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F78B-BCCC-4D17-A626-6282C35A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467E-7D6F-439A-8685-05F67B3E6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3A06-1BFB-4C03-B4DE-A61A6C888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8FCB-1C98-41CD-BFAB-AEB3D95D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109A-2DC8-4E7D-9D14-22DB4541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CABE-7419-47E4-B909-9A23AA33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A6FA-95F6-42FB-8210-A556E0D4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FD94-2873-4C42-BAD3-53C8C018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9561-21CF-4116-BFD2-B75ECCED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21D0-2463-428A-9C60-F0E66EF0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E4BE-70BD-44C7-B629-A6099951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B4C7-140C-47B8-8346-4A364DDA751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omprehensive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Very large in content, all inclusiv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Assassi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 murderer of a prominent pers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Specimen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An item representative of an entire set or whol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urator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One in charge of a selection, as at a museum or library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rreleva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Unrelated to the matter at han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Foreboding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have a premonition or feeling of a future misfortun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 (cont.)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232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onstrosity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Something that is unusually large or that gives a feeling of disgus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mpleme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put into effec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Relics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Something that has survived from an extinct culture or from a specific time perio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alnourished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ffected by improper or poor nutriti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Ljlab</cp:lastModifiedBy>
  <dcterms:modified xsi:type="dcterms:W3CDTF">2005-05-25T16:30:06Z</dcterms:modified>
  <cp:revision>20</cp:revision>
  <dc:subject/>
  <dc:title>PowerPoint Presentation</dc:title>
</cp:coreProperties>
</file>