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1902-AA48-4DD1-917A-482F93CB2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8942-54C8-4F13-85F5-564AD7661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2C8C-2A1B-412C-A457-9D5B391B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A699-BA3E-4562-B955-A4BC2614F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B927-3A99-414C-A664-347FC8B4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198B-BF1C-4AF1-B0F4-A511B02A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92DA-3BB9-4C25-9D88-057392CF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7ECE-36C5-4345-8AFD-E088760D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49F7-922C-41DA-B2C5-3191C2C1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9062-9C17-40F3-94E3-85A4BBB7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B6A5-3A69-49C0-91A4-6E3365F8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0295-7255-4DB9-A950-85AC6E65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C4C5-0827-42D2-8269-DE41FCF9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E9EB-3C85-4FE7-931E-51BDC0DE77F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1-16T18:50:08Z</dcterms:modified>
  <cp:revision>28</cp:revision>
  <dc:subject/>
  <dc:title>Descriptive Writing</dc:title>
</cp:coreProperties>
</file>