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EAA80-D7C5-45FB-8A9E-EA6F279457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2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Ratios/Percents with Models, Fractions, Decima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B7D7-6CBB-40BC-99F5-BAB34FC46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C044-2549-4B3A-BB13-7D3B03CF8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0FE4-CD34-495B-A5CA-54510FACD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7C57-B333-4F2C-AE89-07781ED24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95D8-892A-4057-81D6-3E69C510E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BE7B-7230-4F03-8E9A-7F81AECFF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F016-06B3-419C-BF4B-7A9108A47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056D-40EC-46F6-B24D-27D39A280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F017-0185-45CE-91CA-8E1F55DB8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B722-A361-4F16-99F5-8FA26FDEF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4801-B379-455B-9865-5A0A1EF34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9334-A952-4B78-8EB0-55692A880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EA6BA-7AE3-44A3-A128-1F664EDEC7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0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emperature Convers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8241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ahrenheit to Celsius 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 = 5/9 x (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 - 3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elsius to Fahrenheit 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 = (9/5 x 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) + 3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705720" y="2327400"/>
            <a:ext cx="2114280" cy="3463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27:43Z</dcterms:created>
  <dc:creator>ITWorkstation</dc:creator>
  <dc:description/>
  <dc:language>en-US</dc:language>
  <cp:lastModifiedBy>Texas A&amp;M Veterinary Medicine</cp:lastModifiedBy>
  <dcterms:modified xsi:type="dcterms:W3CDTF">2005-04-12T18:38:05Z</dcterms:modified>
  <cp:revision>8</cp:revision>
  <dc:subject/>
  <dc:title>Temperature Conversion</dc:title>
</cp:coreProperties>
</file>