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5310B-1221-4D98-9D24-F6EDBFABD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907F9-A1EE-4DA2-B28E-E0B423F43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2FB11-4861-4B88-B120-E65075E86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E42ED-4B37-4A35-B944-6FF808FEA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3841E-A56C-4979-8AF1-93354CAB3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DADAC-A32B-4719-95DA-EFA72CB35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3EAB8-23B3-4262-9A75-C1D5793D9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0366F-DB1E-4A16-8562-E7DE9BA91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54916-D4AD-46CD-AF43-C19BC502D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BAC03-765C-41AA-99C7-9D38028E5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3E73A-154C-451F-974C-D94F6C96D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47DC5-D8C3-4DE9-BC6F-264DEAC14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1A305-B7E5-4BCA-8FC6-2426D53C00D7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Adjective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djectives modify nouns or pronoun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Using adjectives gives an accurate description of the object at hand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ich one?  What kind?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How many?  How much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5T21:31:57Z</dcterms:created>
  <dc:creator>ITMD</dc:creator>
  <dc:description/>
  <dc:language>en-US</dc:language>
  <cp:lastModifiedBy>vhardy</cp:lastModifiedBy>
  <dcterms:modified xsi:type="dcterms:W3CDTF">2002-12-19T23:01:26Z</dcterms:modified>
  <cp:revision>61</cp:revision>
  <dc:subject/>
  <dc:title>Locating Places</dc:title>
</cp:coreProperties>
</file>