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9446-D795-46A5-9B90-0E017D465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D8C7-3D28-4995-A39D-10EC1F582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4514-7371-4B4D-AF0F-5D7F0D0FC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660D-B036-47A1-8329-5F20A59E7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83BA-3FB8-4356-80C4-B6109F164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57EA-B0D6-4640-B311-22411A4EF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5C06-096B-42F8-A6A1-42F1A7016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1F4F-B963-4459-AA69-59DFC6545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AF4F-717E-4C54-84CB-46D32DE6B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1F6B-07B6-4524-9176-2D789C765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BFF0-7FC3-4769-9D55-7479256A5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7474-3ECE-4759-A504-402A51F99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52D7-063D-4276-A913-E16083288E3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Fixed%20Rectangle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939A-E1E4-408C-A942-788A1DD7AE0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JBox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DA4B-6E3F-4860-9870-106420B3BD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FE87-4FEF-4A28-AE02-CB67F41156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C937-207B-4E4B-B509-5B3D6A59DC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42E7-1548-44F9-8845-90CE125421D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0DF4-995B-41E0-9B0D-E516A0269B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C36A-C4C2-45C7-B09B-7EAD59E3E8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768B-D6B8-4B19-AD06-7E4BD7315C7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27Z</dcterms:modified>
  <cp:revision>238</cp:revision>
  <dc:subject/>
  <dc:title>VTPP 423 - PHYSIOLOGY</dc:title>
</cp:coreProperties>
</file>