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3C7E-0FA7-4A14-A178-D63F9DDB6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7F57-ED0D-456C-A51C-8F057B08A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8817-097A-471C-A7F4-4FDBD1F69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A7D0-3716-458F-B904-237DDE2AA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8EC1-B92F-4BB2-8083-2943CD273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500C-F971-4B58-9EFD-1C9AFDBCB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585E-72DE-4ED5-8223-24E8861FB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F568-4D1C-46FF-9017-73CCE3EFF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2AB1-7FCD-458F-B7E4-082820EDD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CB20-C41D-4F0C-BBE0-3BC6D3EFF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D59B-21AB-448C-AB65-DB1797B3D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4236-96DC-42B4-B904-2A1D21AAD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B2F4D-9133-486C-8A81-03D8FC20B6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reutzfeldt – Jakob Dise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0512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ementia, decreased muscular coordination, personality changes, impaired vision, insomnia, depression, or unusual sen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267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bodily fluids or tissues that contain an abnormal 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6:11Z</dcterms:created>
  <dc:creator>Texas A&amp;M Veterinary Medicine</dc:creator>
  <dc:description/>
  <dc:language>en-US</dc:language>
  <cp:lastModifiedBy>Texas A&amp;M Veterinary Medicine</cp:lastModifiedBy>
  <dcterms:modified xsi:type="dcterms:W3CDTF">2007-09-03T13:26:33Z</dcterms:modified>
  <cp:revision>1</cp:revision>
  <dc:subject/>
  <dc:title>Creutzfeldt – Jakob Disease</dc:title>
</cp:coreProperties>
</file>