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BC9A-7640-4AE6-A108-E1C64E8CA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86D-1726-4A8D-9DE8-3EC133D0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B3B-0AE3-4E22-8CAA-D94A12A9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B1F-7E5C-4828-96A3-F0D625EF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E78-FFA7-4FBF-8345-13A68130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3C5-1F7D-479D-B00E-EE98F581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76C-6E02-4709-9FEB-27EFC1F2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695-3FEC-4793-BA2C-5EEB2098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6D0-C6F6-4F5B-B28C-7C1990E6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256-2C88-4090-A737-EB37BB49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631-C461-42F7-9998-C5C1041A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D43-C78A-4C03-889D-AEA3A37A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B79-BCD7-42AF-88F0-81441E51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3514-15A9-4850-BB32-E2AD50342D3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2900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29000" y="5811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9000" y="62784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2900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9000" y="5821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9000" y="62881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4952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4952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952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4952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4952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952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40160" y="5791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40160" y="5334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9000" y="57736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3044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29000" y="62103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9000" y="57722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29000" y="5334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9000" y="62024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9000" y="53434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29000" y="5783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9000" y="6230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2900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29000" y="5821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29000" y="6269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Jeremiah McNichols</cp:lastModifiedBy>
  <cp:lastPrinted>2002-05-17T17:38:54Z</cp:lastPrinted>
  <dcterms:modified xsi:type="dcterms:W3CDTF">2005-06-30T16:22:27Z</dcterms:modified>
  <cp:revision>650</cp:revision>
  <dc:subject/>
  <dc:title>Investigate the Mystery:</dc:title>
</cp:coreProperties>
</file>