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2A68B7-4692-4C8B-AD10-BF43E23DD7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C5A129-DFC1-4C05-8280-62986A7750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2ACD45-FC5E-4AFD-AB52-5141E043FA8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FCEC39-DA61-4F7F-AD3D-E9230263996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E6EF47-1F94-4F81-8294-F8149494B46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3DC2B8-2B81-4EE3-8A87-A1A20E4B50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3851E6-7965-40C4-BC7A-4D3EB24172F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9B26AD-DC28-4DD8-A154-8DA268451AC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B516CE-8DD4-4894-9810-A4C7634114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F7A2C5-68B6-4EB6-8B03-9788537BE0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DE34F5-9777-4D30-9C77-C0DC0DDB012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663755-9BB5-4329-90E6-7BC37398A4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5C398-948F-416C-B749-20259F9A0116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erimeter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990720"/>
            <a:ext cx="807732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4696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The perimeter (P) of any closed figure is the distance around the figure.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To find the perimeter of a rectangle, add the measures of its four sides.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(</a:t>
            </a:r>
            <a:r>
              <a:rPr b="0" i="1" lang="en-US" sz="29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= length, </a:t>
            </a:r>
            <a:r>
              <a:rPr b="0" i="1" lang="en-US" sz="2900" spc="-1" strike="noStrike">
                <a:solidFill>
                  <a:srgbClr val="ebebeb"/>
                </a:solidFill>
                <a:latin typeface="Times New Roman"/>
              </a:rPr>
              <a:t>w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= width)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                           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P = </a:t>
            </a:r>
            <a:r>
              <a:rPr b="0" i="1" lang="en-US" sz="33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+ </a:t>
            </a:r>
            <a:r>
              <a:rPr b="0" i="1" lang="en-US" sz="3300" spc="-1" strike="noStrike">
                <a:solidFill>
                  <a:srgbClr val="ebebeb"/>
                </a:solidFill>
                <a:latin typeface="Times New Roman"/>
              </a:rPr>
              <a:t>w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+ </a:t>
            </a:r>
            <a:r>
              <a:rPr b="0" i="1" lang="en-US" sz="33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+ </a:t>
            </a:r>
            <a:r>
              <a:rPr b="0" i="1" lang="en-US" sz="3300" spc="-1" strike="noStrike">
                <a:solidFill>
                  <a:srgbClr val="ebebeb"/>
                </a:solidFill>
                <a:latin typeface="Times New Roman"/>
              </a:rPr>
              <a:t>w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P = 2</a:t>
            </a:r>
            <a:r>
              <a:rPr b="0" i="1" lang="en-US" sz="33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+ 2</a:t>
            </a:r>
            <a:r>
              <a:rPr b="0" i="1" lang="en-US" sz="3300" spc="-1" strike="noStrike">
                <a:solidFill>
                  <a:srgbClr val="ebebeb"/>
                </a:solidFill>
                <a:latin typeface="Times New Roman"/>
              </a:rPr>
              <a:t>w</a:t>
            </a:r>
            <a:r>
              <a:rPr b="0" lang="en-US" sz="3300" spc="-1" strike="noStrike">
                <a:solidFill>
                  <a:srgbClr val="ff9966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ff9966"/>
                </a:solidFill>
                <a:latin typeface="Times New Roman"/>
              </a:rPr>
              <a:t>              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w                                         w                                                                 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                  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l      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5486400" y="4343400"/>
            <a:ext cx="2720880" cy="1508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FE444F-90FB-43C4-BDE7-B4E23B1FA5A0}" type="slidenum">
              <a:t>1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9:29Z</dcterms:modified>
  <cp:revision>206</cp:revision>
  <dc:subject/>
  <dc:title>VTPP 423 - PHYSIOLOGY</dc:title>
</cp:coreProperties>
</file>