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791BA-B2F9-402D-899B-1157B1857F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E5006-25D6-48E6-A34A-D12FFB4EED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99E14-FC60-466E-9E16-88AF6B4C79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82D6C-6DCC-45AB-AAD4-C9FCE60CEC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22EE2-775A-4BE6-98DF-0367CD859F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0F2EF-EA91-4543-B74F-6A7E7DB7DA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0E2FF-D346-44E3-B5FF-5205639405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57730-CE97-45E1-B796-7C6F6D8E97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C699D-5C0F-46CC-8FD2-3B98EA841F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0CC9B-56F2-430D-8A7C-A7541A6837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A93FD-0338-45E9-8381-323DC28EE5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C1C9D-E054-4188-A1DC-19B803E32E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87CC1-0034-489A-8B14-E92190D2BB98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imeter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773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he perimeter (P) of any closed figure is the distance around the figure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o find the perimeter of a rectangle, add the measures of its four sides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length, 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width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         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ff9966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9966"/>
                </a:solidFill>
                <a:latin typeface="Times New Roman"/>
              </a:rPr>
              <a:t>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w                                         w 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486400" y="4343400"/>
            <a:ext cx="2720880" cy="150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40BEC-4311-4781-8837-E0418849AC07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29Z</dcterms:modified>
  <cp:revision>206</cp:revision>
  <dc:subject/>
  <dc:title>VTPP 423 - PHYSIOLOGY</dc:title>
</cp:coreProperties>
</file>