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1508-36A4-4771-9582-B1BD5F4ED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E586-FEEE-43E4-96C5-2976C5800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4370-9458-447D-8C51-90A6F1BDA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929E-EF3D-4BF1-9B80-91DEF8813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9E7D-62DA-4B00-A815-5AC162C54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6B27-39BE-40C1-9FC3-7C1ACC547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EF64-531D-493F-B13D-F5E99E3F0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0579-A31B-450B-87AC-CCF02AA90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5B48-4C9E-446C-9D81-363D69BF4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AA6F-57E8-42C1-9ECB-5C2013BB7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CC50-9A07-4B01-96A9-3CCA9212B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B08F-5A2B-4801-9562-ECB95BDEB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AE3-7224-4ECA-9A3F-E35489CC35F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Rectangle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234D-5F36-40A1-A23E-7FD878CEDB5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6:54Z</dcterms:modified>
  <cp:revision>205</cp:revision>
  <dc:subject/>
  <dc:title>VTPP 423 - PHYSIOLOGY</dc:title>
</cp:coreProperties>
</file>