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media/image5.png" ContentType="image/pn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8CA5F-E1B9-4F6C-91BC-0D9B0EE772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Un viaje por Per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La geografí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Perú puede ser dividido en tres regiones geográficas: la costa, la sierra y la selv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El clima varía de desierto en la parte oeste a tropical en la parte este.  Las regiones montañosas (Andes) tiene un clima que varía de templado a muy frío.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In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Francisco Pizar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Sp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Spanish and Quechu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Coffee and Sugarca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Western coastal plain (costa), high and rugged Andes in center (sierra), eastern lowland jungle of Amazon Basin (selva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Para verific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Perú fue inhabitado por un grupo antiguo llamado _________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En 1532, ¿quién era el español que llegó a conquistar a los Inca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En 1821, ¿Perú ganó su independencia de qué país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¿Cuáles son los dos idiomas oficiales de Perú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Nombra 2 productos agrícolas de Perú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¿Cuáles son 3 regiones geográficas de Perú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Las ciudades en Per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Ahora viajamos por Perú para conocer a tres distintas ciudade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Lim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Machu Picch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Iqui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Lim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Lima es la capital de Perú.  En los tiempos antiguos, era un pueblo pesquero pero hoy es una ciudad concurrida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La Plaza de Armas es la plaza principal.  La Casa del gobierno, la catedral y el Cabildo están situadas en la plaza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Cunado Lima fue fundado, la meta de los españoles fue convertir a los Inca al cristianismo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Hoy, todavía hay muchas iglesias en el área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Machu Picch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Machu Picchu es un sitio arqueológico situado en las cuestas del este de las montaña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Aquí, los arqueólogos han descubierto una ciudad inca antigua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Iqui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Localizado en los bancos de las cabeceras al río amazona, Iquitos está en la selva de Amazona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Algunos de las principales atracciones son los puentes colgantes.  Son puentes estrechos encontrados en las partes más altas de árboles, 100 pies arriba del suelo.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Tupac Amar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Iquit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Lim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Open to discuss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Para verifica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¿En qué ciudad se encuentra la excavación arqueológica más grande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¿Qué ciudad se conoce por sus puentes colgantes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¿Qué es la capital de Perú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¿Si viajaras a Perú, que querías ver? ¿Por qué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En esta presentació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Aprenderemos de la historia, el gobierno, la gente, la economía y la geografía de Perú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Después visitáramos una ciudades en Perú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Perú es un país en Sudaméric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Es un poco más pequeño que Alask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La histor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Perú fue habitado una vez por una gente guerrera antigua conocida como el Inca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Construyeron grandes ciudades y templo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El área que habitaba tenía mucho oro y plata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Al darse cuenta del oro y la plata, España llegó a tomar las tierras de los Inc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En 1532, Francisco Pizarro llegó a Perú.  Con la ayuda de las armas españolas y los caballos, él y los otros españoles conquistaron las tierras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Los españoles quisieron conquistar a la gente y convertirlas a cristianismo.  Los españoles trataron a los Inca como si fueron esclavos, exigiéndoles producir productos para España.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El gobier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Después de muchos años, los españoles se enojaron de España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En 1821, Perú ganó su independencia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Por muchos años, hubo distintos tipos de gobierno y muchos gobernante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Hoy, Perú es una República Constitucional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La gen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Hay más de 27 millones de personas en Perú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Un 90% de ellos son católico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Los idiomas oficiales de Perú son español y quechua (idioma de muchos de los indígenas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La economí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Las industrias principales de Perú son:  explotación minera de metales, petróleo, la pesca, textiles, ropa, la transformación de alimentos, cemento, la asamblea auto,  acero, y la construcción de barco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Perú produce muchos productos agrícolas incluso café, algodón, caña de azúcar, arroz, trigo, papas, coca, aves de corral, carne de vaca, lácteos, lana y pescados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052D-35E2-4821-84F5-BA77C8B33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1D41-BA57-40AA-A83B-E9BA14D8A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438D-EE4E-4400-B268-743F77D30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1474-7BA5-4342-B9BC-A8F23DA61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7922-F968-4915-A479-2F978CAB3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E353-6322-4253-8FA9-485D85292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62B1-ABAF-48BC-ACE7-F709AA4BB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3D94-5CEA-4684-B9F3-52D4AAC6A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67B8-62D6-4F2E-9703-6EA2D9A37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3962-95F5-4087-ACAB-355CF7FC8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C4D2-A84F-472F-8A7F-F4C3CE68F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C42A-8C23-4BA9-883F-D201153A1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9084F-2FE1-4370-A9B0-3419AA5F19AD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bebeb"/>
                </a:solidFill>
                <a:latin typeface="Times New Roman"/>
              </a:rPr>
              <a:t>Tour of Peru</a:t>
            </a: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1143000" y="685800"/>
            <a:ext cx="7155000" cy="363528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eography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62120" y="3886200"/>
            <a:ext cx="76960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eru can be divided into 3 geographic regions: Coast, Sierra, and Jungl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climate varies from dry desert in the west to tropical in the east.  The mountainous area (Andes mountains) has a temperate to frigid climat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4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Just Checking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ru was inhabited by an ancient people known as the _________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n 1532, who was the Spaniard who came to conquer the Inca people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n 1821, Peru won its independence from what country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at are the 2 official languages of Peru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Name 2 agricultural products Peru produce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at are the 3 geographic regions in Peru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4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ities in Peru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72428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ext, we will travel across Peru and look at three different cities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ima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achu Picchu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quito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3132000" cy="403560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8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4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Lima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952880" y="1599840"/>
            <a:ext cx="38102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ima is the capital of Peru.  In ancient times, it was a fishermen's village but today it is a busy city. 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Plaza de Armas is the main square.  The Government House, the Cathedral and Cabildo (Town Hall) are all located in the Plaza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609480" y="2057400"/>
            <a:ext cx="4114800" cy="3282840"/>
          </a:xfrm>
          <a:prstGeom prst="rect">
            <a:avLst/>
          </a:prstGeom>
          <a:ln w="76320">
            <a:solidFill>
              <a:srgbClr val="673811"/>
            </a:solidFill>
            <a:miter/>
          </a:ln>
        </p:spPr>
      </p:pic>
      <p:sp>
        <p:nvSpPr>
          <p:cNvPr id="93" name=""/>
          <p:cNvSpPr/>
          <p:nvPr/>
        </p:nvSpPr>
        <p:spPr>
          <a:xfrm>
            <a:off x="685800" y="5029200"/>
            <a:ext cx="23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rtToda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5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3809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en Lima was founded, the goal of the Spanish was to convert the native people (the Incas) to Christianity. 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day, there are still many churches in the area. 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419720" y="1600200"/>
            <a:ext cx="4267080" cy="320040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9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5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achu Picchu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achu Picchu is an archaeological site located on the east slopes of the mountains. 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re, archaeologists have uncovered an ancient Inca city. 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724280" y="2209680"/>
            <a:ext cx="3810240" cy="330228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101" name=""/>
          <p:cNvSpPr/>
          <p:nvPr/>
        </p:nvSpPr>
        <p:spPr>
          <a:xfrm>
            <a:off x="4724280" y="525780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ulturefocus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5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quito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ocated on the banks of the headwaters to the Amazon River, Iquitos is in the Amazon Jungle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ome of the main attractions are the hanging bridges.  These narrow bridges are found in the tops of trees, 100 feet above the ground.  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5181480" y="1828800"/>
            <a:ext cx="2971800" cy="4038480"/>
          </a:xfrm>
          <a:prstGeom prst="rect">
            <a:avLst/>
          </a:prstGeom>
          <a:ln w="76320">
            <a:solidFill>
              <a:srgbClr val="673811"/>
            </a:solidFill>
            <a:miter/>
          </a:ln>
        </p:spPr>
      </p:pic>
      <p:sp>
        <p:nvSpPr>
          <p:cNvPr id="10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5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Just Checking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at city is now the site of a large archaeological dig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at city is known for its hanging bridges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at city is the capital of Peru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f you were to travel to Peru, what would you want to see?  Why?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5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 this presentation: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e will look at the history, government, people, economy and geography of Peru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n, we will visit a few cities across Peru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523880" y="5181120"/>
            <a:ext cx="60962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eru is a country in South America. 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t is slightly smaller than Alaska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219320" y="533520"/>
            <a:ext cx="6858000" cy="440028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5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4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History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038120" y="1981080"/>
            <a:ext cx="441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eru was once inhabited by an ancient warlike people known as the Inca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y built large cities and temples. 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area they inhabited had great deposits of gold and silver. 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09480" y="1905120"/>
            <a:ext cx="2971800" cy="4033800"/>
          </a:xfrm>
          <a:prstGeom prst="rect">
            <a:avLst/>
          </a:prstGeom>
          <a:ln w="76320">
            <a:solidFill>
              <a:srgbClr val="673811"/>
            </a:solidFill>
            <a:miter/>
          </a:ln>
        </p:spPr>
      </p:pic>
      <p:sp>
        <p:nvSpPr>
          <p:cNvPr id="5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4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685440" y="685800"/>
            <a:ext cx="38098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pain, hearing about this gold and silver, came to conquer the land from the Inca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n 1532, Francisco Pizarro landed in Peru.  With the help of Spanish guns and horses, he and his people conquered the land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Spanish wished to take over and convert the Inca to Christianity.  They treated the Inca as slaves, making them work to produce goods for Spain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029200" y="762120"/>
            <a:ext cx="3314880" cy="513216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6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4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overnmen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41148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fter many years, the Spanish in Peru became unhappy with Spain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ru won its independence from Spain in 1821.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years, Peru went through many rulers and types of government.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day, Peru is a constitutional republic.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2743200" y="1371600"/>
            <a:ext cx="3932280" cy="24354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</p:pic>
      <p:sp>
        <p:nvSpPr>
          <p:cNvPr id="6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4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eopl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re are over 27 million people living in Peru. 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90% of them are Roman Catholic. 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official languages of Peru are Spanish and Quechua (language of many of the Native Americans)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800600" y="2438280"/>
            <a:ext cx="3886200" cy="2759040"/>
          </a:xfrm>
          <a:prstGeom prst="rect">
            <a:avLst/>
          </a:prstGeom>
          <a:ln w="76320">
            <a:solidFill>
              <a:srgbClr val="673811"/>
            </a:solidFill>
            <a:miter/>
          </a:ln>
        </p:spPr>
      </p:pic>
      <p:sp>
        <p:nvSpPr>
          <p:cNvPr id="7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4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Economy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main industries of Peru are: mining of metals, petroleum, fishing, textiles, clothing, food processing, cement, auto assembly, steel, and ship build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533520" y="2154240"/>
            <a:ext cx="3962160" cy="3560760"/>
          </a:xfrm>
          <a:prstGeom prst="rect">
            <a:avLst/>
          </a:prstGeom>
          <a:ln w="76320">
            <a:solidFill>
              <a:srgbClr val="673811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4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914400" y="838080"/>
            <a:ext cx="73152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eru produces many agricultural products including coffee, cotton, sugarcane, rice, wheat, potatoes, coca, poultry, beef, dairy products, wool and fish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838080" y="3276720"/>
            <a:ext cx="3276720" cy="2743200"/>
          </a:xfrm>
          <a:prstGeom prst="rect">
            <a:avLst/>
          </a:prstGeom>
          <a:ln w="76320">
            <a:solidFill>
              <a:srgbClr val="673811"/>
            </a:solidFill>
            <a:miter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4876920" y="3276720"/>
            <a:ext cx="3276360" cy="2743200"/>
          </a:xfrm>
          <a:prstGeom prst="rect">
            <a:avLst/>
          </a:prstGeom>
          <a:ln w="76320">
            <a:solidFill>
              <a:srgbClr val="673811"/>
            </a:solidFill>
            <a:miter/>
          </a:ln>
        </p:spPr>
      </p:pic>
      <p:sp>
        <p:nvSpPr>
          <p:cNvPr id="7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4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8T20:34:50Z</dcterms:created>
  <dc:creator>Unknown User</dc:creator>
  <dc:description/>
  <dc:language>en-US</dc:language>
  <cp:lastModifiedBy> </cp:lastModifiedBy>
  <dcterms:modified xsi:type="dcterms:W3CDTF">2006-04-06T20:02:12Z</dcterms:modified>
  <cp:revision>40</cp:revision>
  <dc:subject/>
  <dc:title>Tour of Peru</dc:title>
</cp:coreProperties>
</file>