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71FD-5E89-4609-A2DA-EC85477A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EB9-8610-4098-A272-0F79F05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241-4C37-4A84-BDE6-3057BD4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7A7-C2E2-4627-A79A-9C3F167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83D-5CBF-48F2-9F22-F49DEC8E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A7D-7A56-4EB4-ADD8-0880B5D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E11-42A7-4352-BB54-A46806E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359-0690-468D-95CE-ACA091F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0FC-5A57-4A34-9996-E723E4A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F64-5038-49E5-9163-2198C57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AF7-6EDE-4CDE-8A5C-6B9041D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C94-09A0-4192-86DD-7DC377D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AFD-DEBD-4294-89EA-999A026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A53E-38AE-4169-A57A-9BF11B7476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9000" y="5811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9000" y="62784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9000" y="62881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0160" y="5791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9000" y="5773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044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9000" y="6210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9000" y="5772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900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000" y="6202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9000" y="53434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29000" y="5783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9000" y="6230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9000" y="6269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Jeremiah McNichols</cp:lastModifiedBy>
  <cp:lastPrinted>2002-05-17T17:38:54Z</cp:lastPrinted>
  <dcterms:modified xsi:type="dcterms:W3CDTF">2005-06-30T16:22:27Z</dcterms:modified>
  <cp:revision>650</cp:revision>
  <dc:subject/>
  <dc:title>Investigate the Mystery:</dc:title>
</cp:coreProperties>
</file>