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98B0-E691-461E-B7CC-91717CA45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. less water vapor than warm 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. war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. east to w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n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B. coo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9C0C-284E-4C22-9C7D-587464186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5758-2560-4D65-8481-4AC97DAE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0F4C-BE4F-4E8A-A2F3-FBF055C4C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CD48-8575-41B7-8386-A75B4D06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F393-D95A-4A7E-9765-05C55C75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DB3F-CD0E-49BF-AC3B-F8BC87CA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EAED-6A33-410B-A945-A6BED672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F5D3-D5BD-4C64-81E2-D903767C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BECB-4C51-414E-8F13-28BFE456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829E-542A-4101-AEB0-3608C13A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072A-E953-41B0-9173-CF6D646C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8350-B917-4694-923A-64090FC2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6B3D-E0B2-4226-9D2B-41853F9D1BC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file:///../Appendices/Social%20Studies/PrecTemp.ppt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4648320" y="2057400"/>
            <a:ext cx="4214520" cy="3438360"/>
            <a:chOff x="4648320" y="2057400"/>
            <a:chExt cx="4214520" cy="3438360"/>
          </a:xfrm>
        </p:grpSpPr>
        <p:grpSp>
          <p:nvGrpSpPr>
            <p:cNvPr id="49" name=""/>
            <p:cNvGrpSpPr/>
            <p:nvPr/>
          </p:nvGrpSpPr>
          <p:grpSpPr>
            <a:xfrm>
              <a:off x="4672080" y="2057400"/>
              <a:ext cx="3809880" cy="3438360"/>
              <a:chOff x="4672080" y="2057400"/>
              <a:chExt cx="3809880" cy="3438360"/>
            </a:xfrm>
          </p:grpSpPr>
          <p:pic>
            <p:nvPicPr>
              <p:cNvPr id="50" name="" descr=""/>
              <p:cNvPicPr/>
              <p:nvPr/>
            </p:nvPicPr>
            <p:blipFill>
              <a:blip r:embed="rId2"/>
              <a:srcRect l="27577" t="-1965" r="0" b="0"/>
              <a:stretch/>
            </p:blipFill>
            <p:spPr>
              <a:xfrm>
                <a:off x="4672080" y="2057400"/>
                <a:ext cx="3809880" cy="34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4672080" y="2133720"/>
                <a:ext cx="0" cy="33526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5891040" y="3078000"/>
              <a:ext cx="182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urimaguas (81.5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146640" y="3505320"/>
              <a:ext cx="149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callpa (61.7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72080" y="2971800"/>
              <a:ext cx="761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ur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2.6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33840" y="4221000"/>
              <a:ext cx="703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m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.8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43680" y="4952880"/>
              <a:ext cx="99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equip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3.9 in.)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672080" y="374976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acific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ce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648320" y="4495680"/>
              <a:ext cx="838080" cy="914760"/>
              <a:chOff x="4648320" y="4495680"/>
              <a:chExt cx="838080" cy="914760"/>
            </a:xfrm>
          </p:grpSpPr>
          <p:sp>
            <p:nvSpPr>
              <p:cNvPr id="59" name=""/>
              <p:cNvSpPr/>
              <p:nvPr/>
            </p:nvSpPr>
            <p:spPr>
              <a:xfrm>
                <a:off x="5105520" y="472428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952880" y="49528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952880" y="4495680"/>
                <a:ext cx="27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971960" y="51339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238720" y="4779720"/>
                <a:ext cx="24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648320" y="4779720"/>
                <a:ext cx="33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 rot="3064800">
              <a:off x="5227200" y="401508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A     n     d     e     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070760" y="4249800"/>
              <a:ext cx="179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erto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Maldonado (89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in Peru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3429000"/>
            <a:ext cx="3276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differences do you see in the amount of precipitation at each city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you see any patterns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1676520"/>
            <a:ext cx="35812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x cities are labeled on the map to the right.  The average amount of 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Times New Roman"/>
                <a:hlinkClick r:id="rId3"/>
              </a:rPr>
              <a:t>precipitation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 is next to the name of each city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oler air holds _______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. less water vapor than warm ai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. more water vapor than warm ai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 air moves down a mountain, the air becomes _______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. warm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. coo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d you notice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ndes Mountains run through Peru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ities on the west side of the mountains get less precipitation than the cities on the east side of the mountain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648320" y="2286000"/>
            <a:ext cx="4214520" cy="3438360"/>
            <a:chOff x="4648320" y="2286000"/>
            <a:chExt cx="4214520" cy="3438360"/>
          </a:xfrm>
        </p:grpSpPr>
        <p:grpSp>
          <p:nvGrpSpPr>
            <p:cNvPr id="74" name=""/>
            <p:cNvGrpSpPr/>
            <p:nvPr/>
          </p:nvGrpSpPr>
          <p:grpSpPr>
            <a:xfrm>
              <a:off x="4672080" y="2286000"/>
              <a:ext cx="3809880" cy="3438360"/>
              <a:chOff x="4672080" y="2286000"/>
              <a:chExt cx="3809880" cy="3438360"/>
            </a:xfrm>
          </p:grpSpPr>
          <p:pic>
            <p:nvPicPr>
              <p:cNvPr id="75" name="" descr=""/>
              <p:cNvPicPr/>
              <p:nvPr/>
            </p:nvPicPr>
            <p:blipFill>
              <a:blip r:embed="rId2"/>
              <a:srcRect l="27577" t="-1965" r="0" b="0"/>
              <a:stretch/>
            </p:blipFill>
            <p:spPr>
              <a:xfrm>
                <a:off x="4672080" y="2286000"/>
                <a:ext cx="3809880" cy="34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4672080" y="2362320"/>
                <a:ext cx="0" cy="33526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5891040" y="3306600"/>
              <a:ext cx="182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urimaguas (81.5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6640" y="3733920"/>
              <a:ext cx="149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callpa (61.7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72080" y="3200400"/>
              <a:ext cx="761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ur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2.6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33840" y="4449600"/>
              <a:ext cx="703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m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.8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43680" y="5181480"/>
              <a:ext cx="99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equip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3.9 in.)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72080" y="397836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acific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ce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648320" y="4724280"/>
              <a:ext cx="838080" cy="914760"/>
              <a:chOff x="4648320" y="4724280"/>
              <a:chExt cx="838080" cy="914760"/>
            </a:xfrm>
          </p:grpSpPr>
          <p:sp>
            <p:nvSpPr>
              <p:cNvPr id="84" name=""/>
              <p:cNvSpPr/>
              <p:nvPr/>
            </p:nvSpPr>
            <p:spPr>
              <a:xfrm>
                <a:off x="5105520" y="495288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952880" y="51814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952880" y="4724280"/>
                <a:ext cx="27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971960" y="53625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238720" y="5008320"/>
                <a:ext cx="24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648320" y="5008320"/>
                <a:ext cx="33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 rot="3064800">
              <a:off x="5227200" y="424368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A     n     d     e     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70760" y="4478400"/>
              <a:ext cx="179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erto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Maldonado (89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fferent Climat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380988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fference in precipitation creates different climates across Peru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st of the mountains, Peru has a relatively dry, desert-like climat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t of the mountains, Peru has relatively moist, tropical climat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93600" y="762120"/>
            <a:ext cx="7155000" cy="363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weather is wet on the east side of the mountain, why is it not wet on the west side of the mounta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do you think causes this difference in precipit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724280" y="2200320"/>
            <a:ext cx="4214520" cy="3438360"/>
            <a:chOff x="4724280" y="2200320"/>
            <a:chExt cx="4214520" cy="3438360"/>
          </a:xfrm>
        </p:grpSpPr>
        <p:grpSp>
          <p:nvGrpSpPr>
            <p:cNvPr id="100" name=""/>
            <p:cNvGrpSpPr/>
            <p:nvPr/>
          </p:nvGrpSpPr>
          <p:grpSpPr>
            <a:xfrm>
              <a:off x="4748040" y="2200320"/>
              <a:ext cx="3809880" cy="3438360"/>
              <a:chOff x="4748040" y="2200320"/>
              <a:chExt cx="3809880" cy="3438360"/>
            </a:xfrm>
          </p:grpSpPr>
          <p:pic>
            <p:nvPicPr>
              <p:cNvPr id="101" name="" descr=""/>
              <p:cNvPicPr/>
              <p:nvPr/>
            </p:nvPicPr>
            <p:blipFill>
              <a:blip r:embed="rId2"/>
              <a:srcRect l="27577" t="-1965" r="0" b="0"/>
              <a:stretch/>
            </p:blipFill>
            <p:spPr>
              <a:xfrm>
                <a:off x="4748040" y="2200320"/>
                <a:ext cx="3809880" cy="34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>
                <a:off x="4748040" y="2276640"/>
                <a:ext cx="0" cy="33526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5967000" y="3220920"/>
              <a:ext cx="182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urimaguas (81.5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22600" y="3648240"/>
              <a:ext cx="149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callpa (61.7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48040" y="3114720"/>
              <a:ext cx="761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ur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2.6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509800" y="4363920"/>
              <a:ext cx="703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m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.8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19640" y="5095800"/>
              <a:ext cx="99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equip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3.9 in.)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48040" y="389268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acific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ce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4724280" y="4638600"/>
              <a:ext cx="838080" cy="914760"/>
              <a:chOff x="4724280" y="4638600"/>
              <a:chExt cx="838080" cy="914760"/>
            </a:xfrm>
          </p:grpSpPr>
          <p:sp>
            <p:nvSpPr>
              <p:cNvPr id="110" name=""/>
              <p:cNvSpPr/>
              <p:nvPr/>
            </p:nvSpPr>
            <p:spPr>
              <a:xfrm>
                <a:off x="5181480" y="486720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028840" y="509580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028840" y="4638600"/>
                <a:ext cx="27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047920" y="527688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314680" y="4922640"/>
                <a:ext cx="24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24280" y="4922640"/>
                <a:ext cx="33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rot="3064800">
              <a:off x="5303160" y="415800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A     n     d     e     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46720" y="4392720"/>
              <a:ext cx="179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erto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Maldonado (89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1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vailing Wind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fference in precipitation across the mountains has to do with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vailing wi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ver Peru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vailing wi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the direction from which wind normally blows in an area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revailing wind in Peru blows from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ast to the wes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800600" y="3191040"/>
            <a:ext cx="4214520" cy="3438360"/>
            <a:chOff x="4800600" y="3191040"/>
            <a:chExt cx="4214520" cy="3438360"/>
          </a:xfrm>
        </p:grpSpPr>
        <p:grpSp>
          <p:nvGrpSpPr>
            <p:cNvPr id="122" name=""/>
            <p:cNvGrpSpPr/>
            <p:nvPr/>
          </p:nvGrpSpPr>
          <p:grpSpPr>
            <a:xfrm>
              <a:off x="4824360" y="3191040"/>
              <a:ext cx="3809880" cy="3438360"/>
              <a:chOff x="4824360" y="3191040"/>
              <a:chExt cx="3809880" cy="3438360"/>
            </a:xfrm>
          </p:grpSpPr>
          <p:pic>
            <p:nvPicPr>
              <p:cNvPr id="123" name="" descr=""/>
              <p:cNvPicPr/>
              <p:nvPr/>
            </p:nvPicPr>
            <p:blipFill>
              <a:blip r:embed="rId2"/>
              <a:srcRect l="27577" t="-1965" r="0" b="0"/>
              <a:stretch/>
            </p:blipFill>
            <p:spPr>
              <a:xfrm>
                <a:off x="4824360" y="3191040"/>
                <a:ext cx="3809880" cy="34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4824360" y="3267360"/>
                <a:ext cx="0" cy="33526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043320" y="4211640"/>
              <a:ext cx="182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urimaguas (81.5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98920" y="4638960"/>
              <a:ext cx="149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callpa (61.7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4360" y="4105440"/>
              <a:ext cx="761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ur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2.6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86120" y="5354640"/>
              <a:ext cx="703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m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.8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95960" y="6086520"/>
              <a:ext cx="99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equip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3.9 in.)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24360" y="48834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acific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ce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4800600" y="5629320"/>
              <a:ext cx="838080" cy="914760"/>
              <a:chOff x="4800600" y="5629320"/>
              <a:chExt cx="838080" cy="914760"/>
            </a:xfrm>
          </p:grpSpPr>
          <p:sp>
            <p:nvSpPr>
              <p:cNvPr id="132" name=""/>
              <p:cNvSpPr/>
              <p:nvPr/>
            </p:nvSpPr>
            <p:spPr>
              <a:xfrm>
                <a:off x="5257800" y="585792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105160" y="608652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105160" y="5629320"/>
                <a:ext cx="27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124240" y="62676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391000" y="5913360"/>
                <a:ext cx="24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800600" y="5913360"/>
                <a:ext cx="33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 rot="3064800">
              <a:off x="5379480" y="514872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A     n     d     e     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223040" y="5383440"/>
              <a:ext cx="179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erto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Maldonado (89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082520" y="76320"/>
            <a:ext cx="7223400" cy="3635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1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nd over the mountai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44197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the wind moves from the east to west, the moist air must travel over the Andes Mountains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066680" y="784080"/>
            <a:ext cx="7440840" cy="3635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1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ouds over the mountai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396252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the moist air rises to go over the mountains, it gets cooler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oler air cannot hold as much moisture as the warm air, so clouds form and it begins to r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e, the air looses most of its’ moistu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66680" y="784080"/>
            <a:ext cx="7440840" cy="3635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1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ry air on the other s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39625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 air travels over the mountain and starts to make its way back down, the air gets warmer and is no longer moist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fore, the air on the west side of the mountain is dry and the air on the east side of the mountain is wet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990720" y="784080"/>
            <a:ext cx="7521480" cy="3635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Peru, the prevailing winds blow from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_______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. east to west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. west to ea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is the name of Peru’s large mountain range over which the winds blow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s air rises up a mountain, the air becomes _____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. warm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. coo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02:20:04Z</dcterms:created>
  <dc:creator>Suzanne Junek</dc:creator>
  <dc:description/>
  <dc:language>en-US</dc:language>
  <cp:lastModifiedBy>Texas A&amp;M Veterinary Medicine</cp:lastModifiedBy>
  <dcterms:modified xsi:type="dcterms:W3CDTF">2005-05-25T16:17:23Z</dcterms:modified>
  <cp:revision>36</cp:revision>
  <dc:subject/>
  <dc:title>Social Studies Mystery</dc:title>
</cp:coreProperties>
</file>