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0E78-9160-4C43-BD48-2BE35D80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1E43-9DC4-4281-95BD-1BC8D5BC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C34B-EAB0-48CB-9197-AF61429D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A419-044D-4EE5-9AD0-CC66B9D1E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FF69-A306-4282-A237-07091EFC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1907-DB04-45A3-A645-46232221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415D-86EE-48A9-BAE6-ED6999E6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8750-8782-4C45-9E60-CE82C187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F1F9-5CB0-4A28-901E-63E3EAD4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C445-F4B2-4B56-A05B-0BF7CCC1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C365-359B-4C61-A951-394A1CDC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1928-A676-41FD-8957-DADC29FA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AA99-E2F8-4D99-A042-9E852850D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6:11Z</dcterms:created>
  <dc:creator>Texas A&amp;M Veterinary Medicine</dc:creator>
  <dc:description/>
  <dc:language>en-US</dc:language>
  <cp:lastModifiedBy>Texas A&amp;M Veterinary Medicine</cp:lastModifiedBy>
  <dcterms:modified xsi:type="dcterms:W3CDTF">2007-09-03T13:26:33Z</dcterms:modified>
  <cp:revision>1</cp:revision>
  <dc:subject/>
  <dc:title>Creutzfeldt – Jakob Disease</dc:title>
</cp:coreProperties>
</file>