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7CA6-2733-487C-9C76-95FB5B1AF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n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Francisco Pizar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nish and Quechu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2 of the following: coffee, cotton, sugarcane, rice, wheat, potatoes, coca, poultry, beef, dairy products, wool and fis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ern coastal plain (costa), high and rugged Andes in center (sierra), eastern lowland jungle of Amazon Basin (selv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Tupac Ama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qu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Open to discus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Explain the significance of individuals or groups in societ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B) Describe the influence of individual and group achievement in a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B) Explain geographic factors responsible for patterns of pop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C) Explain ways human migration influences the character of pla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 Explain the geographic factors responsible for places of economic activ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Define and give example of the four levels of indust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 Identify examples of limited and unlimited government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B) Identify examples of governm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C) Identify historical origins of democratic forms of gover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Describe traits that define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D) Identify and explain examples of conflict and cooperation in societ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Analyze how culture traits sp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9 (A) Explain the relationship among religious ideas, philosophy, and cul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E) Identify the frame of reference that influenced people in an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Modify/change the word “warlike” on this slide.*** (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Check - Quechua was the language that the Inca spoke.*** (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839-87B9-4E74-82BE-EB92AC79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C41-62C3-463D-9C2D-DFCBB55A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4DE-9FAF-47AD-A4BC-C33D95E7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BE4-00E0-4413-819B-52F14125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EC0-78F9-4C3B-A13C-E47F5354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740-256D-4887-A6BF-3C4FF942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C47-6164-4A19-B779-DF81AF34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877-9AE2-4033-93A9-F0B7F376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976-9CD9-4266-A45F-2981F1FE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6A1-7CAA-437A-9A68-05D3991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B9E-53EE-4690-A804-44C9EBF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7E8-4744-4953-8728-D5B5A23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7AAF-3F48-494B-AF38-BEE9FDDC4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2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can be divided into 3 geographic regions: Coast, Sierra, and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imate varies from dry desert in the west to tropical in the east.  The mountainous area (Andes mountains) has a temperate to frigid cl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 was inhabited by an ancient people known as the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532, who was the Spaniard who came to conquer the Inca peo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821, Peru won its independence from what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2 official languages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2 agricultural products Peru produ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3 geographic regions in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es in 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we will travel across Peru and look at three different 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u Pic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qu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132000" cy="4035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a is the capital of Peru.  In ancient times, it was a fishermen's village but today it is a busy c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aza de Armas is the main square.  The Government House, the Cathedral and Cabildo (Town Hall) are all located in the Pla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4114800" cy="32828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85800" y="50292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tToda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ima was founded, the goal of the Spanish was to convert the native people (the Incas) to Christian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there are still many churches in the are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267080" cy="3200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u Picc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u Picchu is an archaeological site located on the east slopes of the mountai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archaeologists have uncovered an ancient Inca c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10240" cy="3302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72428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efocu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qu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on the banks of the headwaters to the Amazon River, Iquitos is in the Amazon Jung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main attractions are the hanging bridges.  These narrow bridges are found in the tops of trees, 100 feet above the groun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71800" cy="403848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ity is now the site of a large archaeological di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ity is known for its hanging brid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ity is the capital of Per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ere to travel to Peru, what would you want to see?  Why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22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approximate size and population  of Per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how Spain changed the Indian 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dominant religion of Peru and how that came to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major industries in Per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what Machu Picchu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5181120"/>
            <a:ext cx="6096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is a country in South Amer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slightly smaller than Alas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858000" cy="4400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was once inhabited by an ancien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ople known as the In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uilt large cities and temp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ea they inhabited had great deposits of gold and silv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276720" cy="40338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ain, hearing about this gold and silver, came to conquer the land from the In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1532, Francisco Pizarro landed in Peru.  With the help of Spanish guns and horses, he and his people conquered the l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panish wished to take over and convert the Inca to Christianity.  They treated the Inca as slaves, making them work to produce goods for Spa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314880" cy="51325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5120" y="647712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any years, the Spanish in Peru became unhappy with Sp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 won its independence from Spain in 1821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years, Peru went through many rulers and types of govern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, Peru is a constitutional republi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43200" y="1219320"/>
            <a:ext cx="3932280" cy="243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ver 27 million people living in Peru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of them are Roman Cathol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fficial languages of Peru are Spanish and Quechua (language of many of the Native America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86200" cy="27590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industries of Peru are: mining of metals, petroleum, fishing, textiles, clothing, food processing, cement, auto assembly, steel, and ship buil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2154240"/>
            <a:ext cx="3962160" cy="356076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produces many agricultural products including coffee, cotton, sugarcane, rice, wheat, potatoes, coca, poultry, beef, dairy products, wool and f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327672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327636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Ljlab</cp:lastModifiedBy>
  <dcterms:modified xsi:type="dcterms:W3CDTF">2008-06-11T21:41:09Z</dcterms:modified>
  <cp:revision>26</cp:revision>
  <dc:subject/>
  <dc:title>Slide 1</dc:title>
</cp:coreProperties>
</file>