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0B61-2422-43CE-B314-DC967B96D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8682-0814-4528-8DD0-DEA65B44B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FD0F-7E8B-4FCA-B62F-7839C4590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C9F1-3533-460B-8D02-C5A409E5D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0871-C43F-4E19-912B-E3DBCFE97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CFD4-8519-452C-A7CE-D68D963D0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17DC-B9D6-44A8-B1D4-DD8E7CF8A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9314-C008-4E14-85A8-D26F837D9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BFD0-3EFE-4A36-B2B3-9183B654B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8E59-BC3B-438A-8F90-8D7189D91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EF47-580D-4FAB-8BFA-1E423BAA7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4FA0-3BA1-4080-96B8-5AADA224E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B14FC-BC09-4550-A166-F86B2F610F1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. coli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y diarrhea, abdominal cramps, f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4004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meat, contaminated human feces, contaminated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Texas A&amp;M Veterinary Medicine</cp:lastModifiedBy>
  <dcterms:modified xsi:type="dcterms:W3CDTF">2007-09-03T14:46:38Z</dcterms:modified>
  <cp:revision>52</cp:revision>
  <dc:subject/>
  <dc:title>Hazards</dc:title>
</cp:coreProperties>
</file>