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EED6-391A-4226-A36D-88FF7BF59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AB48-B4DF-46D4-A16C-3AC3EB5F5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1726-D2D1-4EBE-9863-36C2394FD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260A-F703-46F5-8A6A-C6944B7B8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82C4-A42D-439E-AFA1-ACFF4F3C4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CF91-DA35-4465-B0CC-596A50FD5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343C-38FB-4472-A112-687628B54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56A9-8483-4EC1-AFBF-7ED5FD41D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00E5-06AF-4FF0-8147-8602F1F51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6978-F066-4EDA-B3DA-31506683F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F5DC-C368-4C1E-AF15-38C91F0B4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34EF-31A3-475C-BB51-316732AFB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EDDF-6EAF-4797-BEF4-BAC5ED219C3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6E09-2593-418D-8042-6E0A50013EF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19:48Z</dcterms:modified>
  <cp:revision>207</cp:revision>
  <dc:subject/>
  <dc:title>VTPP 423 - PHYSIOLOGY</dc:title>
</cp:coreProperties>
</file>