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08F0-2339-4AD8-9973-1626034E5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r>
              <a:rPr b="0" lang="en-US" sz="1000" spc="-1" strike="noStrike">
                <a:solidFill>
                  <a:srgbClr val="000000"/>
                </a:solidFill>
                <a:latin typeface="Arial"/>
                <a:ea typeface="Times New Roman"/>
              </a:rPr>
              <a:t>Planning and implementing investigative procedures. Analyzing and interpreting information. 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Predict social, economic, and environmental results from discover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H) Use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B) Organize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Take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E) Present information in various forms using techn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F) Evaluate personal research and raise new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G) Follow accepted formats for writing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B) Incorporate main and supporting ideas in verbal and written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D) Create written and visu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E) Use standard grammar, spelling, sentence structure, and punc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C) Revise drafts by elaborating, deleting, moving, and combin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28E02-6164-4AEA-A722-8063AEC81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7D5FE-E327-471D-A79B-343EE4F44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D79F2-1BCA-4FD7-BD04-E75532C12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0D1FA-A807-4BD6-95D5-EB9EDD6AF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A888A-96B6-45CF-AD0A-B353A2486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60B1-37EE-4EB7-8D23-1A30C202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B101-3902-43AA-A007-26DA0536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97FA-4C39-4BEE-9A4F-786523CA1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0782-3781-49D1-B755-FF669D3A3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579C-785C-451B-9332-30CAB834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25B0-0A9C-4C4C-BBF7-8A33A9D4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34510-687C-4106-8309-D44C079DF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B278-B248-41F3-A415-422FDE35A8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09120" y="1523520"/>
            <a:ext cx="8001000" cy="449604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 hypothesis about the cause of the sickness and the kinds of evidence that would support the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predictions from this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situation surrounding the sickness (symptoms, where people live, their lifestyle, their environment).</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and contrast the symptoms of the two sick peopl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lan for solving the problem.</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Times New Roman"/>
                <a:hlinkClick r:id="rId2"/>
              </a:rPr>
              <a:t>Click here </a:t>
            </a:r>
            <a:r>
              <a:rPr b="0" lang="en-US" sz="3200" spc="-1" strike="noStrike">
                <a:solidFill>
                  <a:srgbClr val="000000"/>
                </a:solidFill>
                <a:latin typeface="Times New Roman"/>
              </a:rPr>
              <a:t>for information on how to do Scientific Research.</a:t>
            </a:r>
            <a:endParaRPr b="0" lang="en-US" sz="3200" spc="-1" strike="noStrike">
              <a:solidFill>
                <a:srgbClr val="000000"/>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the illness. Are they digestive, respiratory, or skin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0" y="0"/>
            <a:ext cx="219240" cy="6856560"/>
          </a:xfrm>
          <a:prstGeom prst="rect">
            <a:avLst/>
          </a:prstGeom>
          <a:ln w="0">
            <a:noFill/>
          </a:ln>
        </p:spPr>
      </p:pic>
      <p:sp>
        <p:nvSpPr>
          <p:cNvPr id="64"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different problems: swollen eye, vomiting, diarrhea, gaunt app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7296120" y="5165640"/>
            <a:ext cx="1542960" cy="14637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0.0</a:t>
            </a:r>
            <a:endParaRPr b="0" lang="en-US" sz="1000" spc="-1" strike="noStrike">
              <a:solidFill>
                <a:srgbClr val="000000"/>
              </a:solidFill>
              <a:latin typeface="Arial"/>
            </a:endParaRPr>
          </a:p>
        </p:txBody>
      </p:sp>
      <p:sp>
        <p:nvSpPr>
          <p:cNvPr id="73" name=""/>
          <p:cNvSpPr/>
          <p:nvPr/>
        </p:nvSpPr>
        <p:spPr>
          <a:xfrm>
            <a:off x="1295280" y="1582560"/>
            <a:ext cx="7010640" cy="4437000"/>
          </a:xfrm>
          <a:prstGeom prst="rect">
            <a:avLst/>
          </a:prstGeom>
          <a:noFill/>
          <a:ln w="0">
            <a:noFill/>
          </a:ln>
        </p:spPr>
        <p:style>
          <a:lnRef idx="0"/>
          <a:fillRef idx="0"/>
          <a:effectRef idx="0"/>
          <a:fontRef idx="minor"/>
        </p:style>
        <p:txBody>
          <a:bodyPr lIns="90000" rIns="90000" tIns="46800" bIns="46800" anchor="t">
            <a:spAutoFit/>
          </a:bodyPr>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our </a:t>
            </a:r>
            <a:r>
              <a:rPr b="0" lang="en-US" sz="2800" spc="-1" strike="noStrike" u="sng">
                <a:solidFill>
                  <a:srgbClr val="0000cc"/>
                </a:solidFill>
                <a:uFillTx/>
                <a:latin typeface="Times New Roman"/>
                <a:hlinkClick r:id="rId3"/>
              </a:rPr>
              <a:t>science appendix</a:t>
            </a:r>
            <a:r>
              <a:rPr b="0" lang="en-US" sz="2800" spc="-1" strike="noStrike">
                <a:solidFill>
                  <a:srgbClr val="000000"/>
                </a:solidFill>
                <a:latin typeface="Times New Roman"/>
              </a:rPr>
              <a:t> for help her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Vince Hardy</cp:lastModifiedBy>
  <dcterms:modified xsi:type="dcterms:W3CDTF">2008-05-07T19:25:36Z</dcterms:modified>
  <cp:revision>24</cp:revision>
  <dc:subject/>
  <dc:title>Slide 1</dc:title>
</cp:coreProperties>
</file>