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99F7-4824-4650-834A-EA7BEC327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D92D-6C97-4ECD-9060-CA35FF6B3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193D-1C67-434D-B3FF-73A92593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F19C-3FA4-4964-BBE0-F265BAAB9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CEB6-FEEE-4982-9E87-897C679ED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5A83-BB84-4A18-90D9-234A497E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89B4-BDC9-458E-821A-1E0FE632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BBD3-826C-4DC4-9735-BD6A4F31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E4F6-E0F2-4771-A5F5-1982D13B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8D78-F586-4F33-AE86-4E9FD4DA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57BE-083B-4C80-AB11-2D4A610D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E1B5-0EC8-41A3-AA4A-A7589727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6D0E-D079-41ED-A249-62FC1C7A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CD33-1D2D-4BCF-B7C0-F943F97576C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itstudent</cp:lastModifiedBy>
  <dcterms:modified xsi:type="dcterms:W3CDTF">2002-08-06T19:36:29Z</dcterms:modified>
  <cp:revision>23</cp:revision>
  <dc:subject/>
  <dc:title>To Sum It All Up…</dc:title>
</cp:coreProperties>
</file>