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B2FA8-334B-4001-A731-DD34E975FC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es not contain the full text of the TEKS.  It is intended to be a guide to, not a substitute for, the TEK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E3AEA0-4B90-4849-BD66-A6A7CC91F1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361E7-189B-4FAC-84E6-95A44C5E5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2F952F-3168-4520-8025-58BAA3A04F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A0CEA9-6529-419A-B363-86A2AC45FD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445A0-3590-4AD8-9AE6-60A46B22C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CB676-9C3E-445D-86F9-7091D0BA2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1554D-48E2-49B6-BC67-DE80C81DB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C634A-CE0B-4EF5-8B7C-D6284C6E2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E4894-16BC-407B-9E0B-EDB0FC22B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06831-1A64-40F4-9127-7D3CCB819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FF758-AA71-4461-9C6F-515EF0FE7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66AF0-7416-49EB-AF48-E07ACEE994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E4FA6-C778-4D54-BA7D-6B5DE341B4D6}"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vhardy</cp:lastModifiedBy>
  <dcterms:modified xsi:type="dcterms:W3CDTF">2003-05-21T21:23:34Z</dcterms:modified>
  <cp:revision>25</cp:revision>
  <dc:subject/>
  <dc:title>Persuasive Writing</dc:title>
</cp:coreProperties>
</file>