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8D78-8D25-4D80-BFBF-A27CD5370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DF30F-320E-4BB2-A729-C0C37AF07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64E3-81C2-4F93-A5BD-87C915252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72F5-617F-4700-8FC2-7978DCE54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FDE70-3F56-48E5-AC2E-089A1C001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34D0-702A-4FAC-942A-FFF857DFB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24B9-144A-4E03-81AC-1841195C6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641D-14F8-49E3-A0F6-C560D4907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8910-8B5F-4E2F-B002-EFBF93D37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CE06-C5BB-42CB-99E4-B20B11EE9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DF273-4054-4BA8-8281-15F523D70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BA02-ED88-4D72-A3C1-D58899921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2B4A-8BE5-4596-9B05-B3F7768AE52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1DEF-777E-4C49-8751-72CACBBCBA0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D4FD-80EF-4EF5-A5F7-85B34CE3B8F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7-28T15:13:04Z</dcterms:modified>
  <cp:revision>207</cp:revision>
  <dc:subject/>
  <dc:title>VTPP 423 - PHYSIOLOGY</dc:title>
</cp:coreProperties>
</file>