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F457-DD14-4F0D-8F7B-B52197C9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offee and Sugarc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344-4A31-4119-858D-B21E6D32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8DC-BB1C-4689-91C2-422AC7D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322-9123-4F32-853A-B6AF7FF4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4A5-5407-45B6-8E05-401A69DE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6E0-493D-453E-A39E-E50E5D4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C5B-0982-498E-9BAC-969E41B1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481-B36E-4B36-9FE5-512E7998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9FD-C4C0-497C-B50E-6DD62FFC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130-E8BB-4FFA-8AB0-95A2322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788-F753-449E-944A-7C543F5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590-0F7A-46EE-9956-8067896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5CA-5B38-49AE-A43A-14CABAF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532A-5BEA-4B43-A482-B56D8B6698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Tour of Peru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 this presentation: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will look at the history, government, people, economy and geography of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n, we will visit a few cities across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was once inhabited by an ancient warlike people known as the In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97180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14880" cy="51321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932280" cy="243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0:34:50Z</dcterms:created>
  <dc:creator>Unknown User</dc:creator>
  <dc:description/>
  <dc:language>en-US</dc:language>
  <cp:lastModifiedBy>Texas A&amp;M Veterinary Medicine</cp:lastModifiedBy>
  <dcterms:modified xsi:type="dcterms:W3CDTF">2005-05-25T16:04:04Z</dcterms:modified>
  <cp:revision>39</cp:revision>
  <dc:subject/>
  <dc:title>Tour of Peru</dc:title>
</cp:coreProperties>
</file>