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BD90-8A4D-45FE-8A96-C9D10FB9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ueba desafío del investig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e el cuento “El beso del asesino” con mucho cuid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z la prueba para determinar qué bien leíste el cu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hacer la prueba y haber visto tu nota, repasar cada pregun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usca la parte del cuento que contiene la respuesta correcta de la pregunt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raya o marca los detalles importantes que encuentr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entomólogo estudi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difici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ájar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im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tefactos antigu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se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“insecto besante” fue llamado un “asesino” porque él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lo pica las personas importa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lo pica los polít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ne una picadura doloro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muera después de picarle a algui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n archaeolog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Mig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ncient artifa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Robe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both in Peru and in the United St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adobe hu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a bug b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g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inse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had a painful sting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berto es descrito com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ladr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peruano n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arqueó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maestro jub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ermano de Con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nie y Roman no podrían haber impedido el crimen sin la ayuda d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r. B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lco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El robo de qué cosa fue el foco del cuent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tefactos antig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mono r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bandido del cuento planea echarle la culpa 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acción del cuento ocurr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clusivamente (sólo) en una excavación arqueológica en Paloma,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clusivamente en un museo de los Estados Uni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la escuela a que asisten Connie y Rom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Perú y en los Estados Uni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un barco rumbo Per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familia de Miguel viven en un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tienda de campa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dormitorio gran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sa hecha de adob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rav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casa flota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inchazón arriba del ojo de la hermana de Miguel fue causado por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olpe de un softba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ordisco de un insec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edicam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enfermedad de la pi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puede describir mejor la reacción de Despry en relación al la llegada segura de los artefactos peruanos com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oj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urr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spcBef>
                <a:spcPts val="3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ris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1D0-9DA3-4468-9102-8D5D857B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B5E-7B75-4AB4-842A-459C8BD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3A2-90C3-4345-9EFD-76A6F02B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348-F25F-4A9A-A6F1-3AD1B5C3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263-F0AE-468E-9BB3-EFF4B5A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A1A-8B08-44BC-860C-F9634A82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AE5-FA19-459E-BA2C-8AD7750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FB4-EE58-4B3C-A860-AB10113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693-F23A-4D91-A2BC-AEA6627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C68-FEC0-41C6-A807-0C796D7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2EB-00CE-4F37-8438-5930354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58B-2FA2-4EC8-8043-83903D3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DD0-B830-4071-A0E0-FB27F0E9C7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The Kiss of the Assassin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2577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4483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5080" y="0"/>
            <a:ext cx="6838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9160" y="3022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080" y="36702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0080" y="4305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0080" y="4952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3811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chae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2514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268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268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268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26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203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711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26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826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26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933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492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610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156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592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4638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2680" y="3416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2680" y="4038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8268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2680" y="5321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2590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2680" y="32130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2680" y="3860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268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2680" y="5118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2680" y="3009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2680" y="429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2680" y="4927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301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559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0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3811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 </cp:lastModifiedBy>
  <dcterms:modified xsi:type="dcterms:W3CDTF">2006-04-06T17:51:59Z</dcterms:modified>
  <cp:revision>76</cp:revision>
  <dc:subject/>
  <dc:title>Investigator’s Challenge</dc:title>
</cp:coreProperties>
</file>