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46EB-DACE-4E33-8D31-BCF5219CB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F40E-C7E2-45E6-B7E0-102428E14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B17D-6937-4EF3-B551-F07C64DA7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8BD4-79A3-406F-807D-8027A26D3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F9CA-0C04-4784-B28C-8B9A87E5C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7948-8D83-481F-A612-1FD5B3046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0CF9-CB1E-445F-B7B9-582F8F885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BE57-1D54-465C-A7A5-E3AF3AABE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4322-54A1-47DA-98F1-D27F67525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C0D6-33E9-404C-B044-014D3D87F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E6A8-887E-44DC-8CE8-F966C9A8C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27B5-E027-4002-8B6D-ED234CFDC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24F1-FD2E-4D16-8D94-731A62CAF3A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2D27-CFBC-461A-BB25-CC80AC0725D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16E1-AFD6-4F59-95C4-92421E09073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7-28T15:13:04Z</dcterms:modified>
  <cp:revision>207</cp:revision>
  <dc:subject/>
  <dc:title>VTPP 423 - PHYSIOLOGY</dc:title>
</cp:coreProperties>
</file>