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85F2-5B4C-4851-AEC0-614E14801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n archaeolog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Migu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ancient artifa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Robe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both in Peru and in the United Sta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dobe hu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a bug b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g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inse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had a painful sting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86E-FFFF-43E0-91BE-E42694C0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F56-1911-44DF-92B5-08EE3047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FE2-0583-4E13-BFB9-3C1E030D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0F4-4EDA-466E-885D-EA17B14B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200-2911-49F5-840E-051C2771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91A-A800-49D0-8ACD-A6D4A199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AE8-46B3-4754-9B45-FCD0E3F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107-24B9-4BDF-B0E8-4DB5E35F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651-949C-4E07-9149-8B1538D0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2DD-8B4F-4FAD-ADDC-F453431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FFA-7117-4AA4-B766-16F7A57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5E0-3A67-4C9D-ADA3-9033C53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FE5D-076A-4C3F-92B4-6B4AE31621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The Kiss of the Assassin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Underline or highlight the important details you find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2577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2680" y="32130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2680" y="3860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82680" y="4483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2680" y="511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5080" y="0"/>
            <a:ext cx="6838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9160" y="3022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080" y="36702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0080" y="4305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0080" y="4952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3811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chae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2514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2680" y="30733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2680" y="36194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2680" y="4165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2680" y="4711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683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16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203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711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23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82680" y="2933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2680" y="3492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8268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2680" y="4610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933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3492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610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156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82680" y="24638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2680" y="3416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82680" y="4038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82680" y="4673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82680" y="53211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82680" y="2590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2680" y="32130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2680" y="3860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2680" y="4495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2680" y="511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2680" y="3009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2680" y="3657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2680" y="429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2680" y="4927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3019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936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559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207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5-05-17T17:22:13Z</dcterms:modified>
  <cp:revision>75</cp:revision>
  <dc:subject/>
  <dc:title>Investigator’s Challenge</dc:title>
</cp:coreProperties>
</file>