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5224-535D-42C8-B928-92EAEF268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BBA-2A63-475F-AE1D-7F6FF8D2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A10-CCE3-4E4C-B683-B72458E7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60C-ABCC-40B8-B130-B2E79E87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4C7-C7CA-48F1-B3D8-D9F2C461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92D-7EC0-4408-A935-626B9F87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72C-38BC-4437-A643-822F4C75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222-1A1B-45DA-8D9E-EDCC6E0A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893-0CC5-40B2-9E99-415CA337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3B4-983C-4F20-AB75-FFD43EF3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0A6-A977-4DA2-8A5D-5644508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1FE-97FA-478F-B800-3996FDB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66D-C69F-4A75-9344-241BB272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A58B-34FC-4583-BD01-574FD22B0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0Z</dcterms:modified>
  <cp:revision>18</cp:revision>
  <dc:subject/>
  <dc:title>What’s the difference between weather and climate?</dc:title>
</cp:coreProperties>
</file>