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A66B-7B29-420D-9B5D-56BB411EE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DB57-E7D3-46BB-8AB0-1F5C27FA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5B30-076D-4FDA-8538-241A1E362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FF0D-0278-40A7-82D4-F00C0DB0D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862D-3CCB-4336-91CD-4CF7DA59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7841-1E99-4105-A894-BBC0BF51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5F62-D4A0-4AC6-ACFF-BE29CE26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9BA5-88CB-4917-A197-94711050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8949-9CE6-4712-9A6F-621998F7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AE3F-20F7-40B4-BFF5-79D08567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DAD5-CB33-49EF-B37D-96F248BE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BD41-5886-4217-B52F-C0C59BAB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7989-17E9-46AF-B9F1-875D6662A4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07Z</dcterms:modified>
  <cp:revision>46</cp:revision>
  <dc:subject/>
  <dc:title>Hazards</dc:title>
</cp:coreProperties>
</file>