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D027C-9B4B-41A0-B347-2A9EDF3E118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lu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, C, D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Developing drafts by categorizing ideas and organizing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Revising selected drafts by adding, elaborating, deleting, combining, and rearranging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 Revising drafts for coherence, progression, and logical support of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Editing drafts for specific purpo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45C5-6CEC-40F9-9EB7-BD461AAC4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28D5-018B-45B9-8DEA-92436A728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06BC-4776-4795-921E-CC8FAD20B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82E5-FF6D-4A09-B515-FEE58FEE0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4EBB-71E8-410A-BFB5-12BE04901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6A41-3595-4DA0-A983-40F455464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8181-2148-4241-AFB6-567F5323F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3A05-54FA-4623-A0D0-7470BC311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3AE8-14AD-4E29-9F2D-031366CBA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2D4E-C449-4C1A-AAD7-A617EA038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494B-040E-4E31-AD1A-181DA77A3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0E1B-2C3C-4635-9146-C2E3F477C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6040A-9401-4C8F-B761-67D4978862B4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ng and Contras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ssay that compares and contrasts explains how two or more things are alike and how they are differ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061720" y="1766880"/>
            <a:ext cx="1440" cy="1440"/>
          </a:xfrm>
          <a:prstGeom prst="rect">
            <a:avLst/>
          </a:prstGeom>
          <a:solidFill>
            <a:srgbClr val="5b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296800" y="1174680"/>
            <a:ext cx="28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35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115640" y="1217520"/>
            <a:ext cx="1440" cy="18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14600" y="3809880"/>
            <a:ext cx="410364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w You Try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two things that you can compare and contrast.  For example, compare and contrast your preferences in music to those of your parent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ld a sheet of paper in half lengthwise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all the ways the music you like is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iffer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from the music your parents lik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 the other side, list all the ways that the music you like is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am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s the music your parents prefe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ossible Points to Compa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Music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ock and rol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ap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chno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lassica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instr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Electric guita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Violin or other symphonic instrument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428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tist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pecific bands or sing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intag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en was the music recorded.  For example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Golden Oldie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ntemporar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ting it on Pap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velop your lists into sentences, then into paragraph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laborate on the detail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hoose how you will organize your comparison and use that plan throughout your ess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ays to Organize a Compare/Contrast Essay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ne Approach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escribe all the similarities in one paragraph, and all the differences in another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describe the music you like in one paragraph and the music your parents like in the next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ore Organiz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other Way to G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oose a specific aspect of the subject to compare and contrast in each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in the first paragraph you might explain that you like rap and your parents prefer classical (contrast/difference), but you both like rock and roll (comparison/similarity). In the second paragraph, you might explain that you like contemporary artists while your parents prefer artists of the 70’s and 80’s (contrast/ difference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mple Ways to Compare Objects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p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st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xtu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91120" y="1905120"/>
            <a:ext cx="373680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1T15:04:10Z</dcterms:created>
  <dc:creator>Gina Balducci</dc:creator>
  <dc:description/>
  <dc:language>en-US</dc:language>
  <cp:lastModifiedBy>vhardy</cp:lastModifiedBy>
  <dcterms:modified xsi:type="dcterms:W3CDTF">2003-05-29T00:06:40Z</dcterms:modified>
  <cp:revision>32</cp:revision>
  <dc:subject/>
  <dc:title>Comparing Apples to Oranges</dc:title>
</cp:coreProperties>
</file>