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06F59-529E-49D7-AA50-536C89CF9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2143-3B66-4EF3-BEC6-2DC5DF092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F1CB-7A00-4623-ABD7-AF74690C5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16A1-9C70-4C82-A96D-AFF24FC0A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D645D-AEB7-4989-8907-4756194C0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4E2B-9D4B-48DA-AEBE-ABA833617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570F-A3D6-4048-AD6E-5F3259863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1190-E31E-4F94-8A64-0B92EDE20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BCE0-6602-4856-B27B-CC496277F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A67A-DDEA-4B90-B5B7-DF685EFF9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5FC4-B8DE-40AE-9350-93B6755A5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4EDA-E13D-467D-8732-CAA66E498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B427-D5BA-4673-AB79-0F925BCB001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0E0C-3C7C-4DA3-AB14-B2B3F2CA964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F6CB-7331-4E78-9AD2-6583B57DF73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4:23Z</dcterms:modified>
  <cp:revision>210</cp:revision>
  <dc:subject/>
  <dc:title>VTPP 423 - PHYSIOLOGY</dc:title>
</cp:coreProperties>
</file>