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4FBF-4524-47D9-9789-7D8910321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D8B9-459C-41FF-9BD1-8E2781CE3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E527-3C18-429F-BDFD-7704D7D0E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B7FD-67E2-4170-A0DD-AF82EF4AA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F601-A813-47E5-B444-036AF3492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8DC4-A4B3-49AC-BAE1-69A8417CA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77FE-BD4F-4DF4-B7AA-D7325517A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E3E1-216B-49CC-B2AB-6470E80F4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A98C-9507-4614-8591-D9AB165B2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9070-AC5D-4C7B-AD66-6654A9208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F670-D947-44F0-A8E8-98525A5A5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7372-D10C-4735-B4F7-56A07B15D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F8D98-6371-4F5B-A152-73FC94ACC40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DS (Acquired Immune Deficiency Syndrom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2286000"/>
            <a:ext cx="7925040" cy="283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apid weight loss, dry cough, recurring fever, profound fatigue, swollen lymph glands, diarrhea, unusual blemishes on tongue and in mouth, pneumonia, memory loss, depression, red/purple blotches on or under the skin or inside the mouth/n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5334120"/>
            <a:ext cx="792504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-to-blood and sexual contact with infected pers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Ljlab</cp:lastModifiedBy>
  <dcterms:modified xsi:type="dcterms:W3CDTF">2005-01-21T19:04:07Z</dcterms:modified>
  <cp:revision>42</cp:revision>
  <dc:subject/>
  <dc:title>Hazards</dc:title>
</cp:coreProperties>
</file>