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C4968C-7802-4BB9-AD4F-500AB7BC6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C15-DCA5-46EC-84E4-4EECD7B1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D67-C417-4550-A930-46C7A3B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0F4-0E9E-4E53-935C-85AFD898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B60-69CC-447B-BB03-FA61689A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A68-B351-4AE0-9DD4-0DF5565E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A7C-BDB4-4D53-B451-41AF51D7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ED9-F077-434C-A4DA-A41AF78D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D8E-A910-4771-81E4-72567869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EA1-4339-442A-AB5F-672A52E7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86A-6758-4923-B96B-B473CAF6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E61-4EA8-4739-8F5A-FE93137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4FF-9F30-41E5-AC1F-5E10D8A2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FC7F-2964-4EDB-99AC-6E5CBCDC1ED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vhardy</cp:lastModifiedBy>
  <cp:lastPrinted>2002-05-15T14:22:53Z</cp:lastPrinted>
  <dcterms:modified xsi:type="dcterms:W3CDTF">2003-04-22T14:40:03Z</dcterms:modified>
  <cp:revision>68</cp:revision>
  <dc:subject/>
  <dc:title>Climograph</dc:title>
</cp:coreProperties>
</file>