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BBBB-EA85-408A-AFD9-4AA73F48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D5C-9B33-455E-9A47-D1B014E6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ABA-9FC3-4EF8-AC0A-732B1C18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2D0-C117-4625-80A0-6AFF48E9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A70-F289-476E-BFCC-BF7A03E4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C6B-1589-458C-9E29-4A54C02A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48C-CC39-4947-8FD2-4746AD7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AB7-700F-40C3-A135-B6EFBC5A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784-7F2F-44BD-A2BE-EBD02CFA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2BD-51BE-4227-9566-3B80472C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DC9-68D6-4D06-80A0-DEEF422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2E8-4503-4AE8-A008-25658CCD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8D2-66E4-4B9B-9D38-1DEF753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191B-7D24-4DBB-8123-94342E17A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vhardy</cp:lastModifiedBy>
  <dcterms:modified xsi:type="dcterms:W3CDTF">2003-05-23T21:26:30Z</dcterms:modified>
  <cp:revision>5</cp:revision>
  <dc:subject/>
  <dc:title>Metric Multiplication Factors</dc:title>
</cp:coreProperties>
</file>