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F753-8B9A-4DFA-9AF5-3CB0D1D6E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ueba desafío del investig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e el cuento “El beso del asesino” con mucho cuid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Haz la prueba para determinar qué bien leíste el cuent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spués de hacer la prueba y haber visto tu nota, repasar cada pregunt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usca la parte del cuento que contiene la respuesta correcta de la pregunt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raya o marca los detalles importantes que encuentr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 entomólogo estudia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difici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ájar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nimal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rtefactos antigu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sect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“insecto besante” fue llamado un “asesino” porque él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olo pica las personas important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olo pica los polític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iene una picadura doloros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 muera después de picarle a alguie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an archaeologi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Migu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ancient artifac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Robe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both in Peru and in the United Sta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adobe hu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a bug bi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ang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insec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had a painful sting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oberto es descrito com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 ladr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 peruano nat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 arqueó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 maestro jubil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hermano de Conn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nie y Roman no podrían haber impedido el crimen sin la ayuda de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sp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r. Ba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lcol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igu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El robo de qué cosa fue el foco del cuent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ro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rtefactos antigu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r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 mono r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bandido del cuento planea echarle la culpa a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ob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o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igu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n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acción del cuento ocurre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xclusivamente (sólo) en una excavación arqueológica en Paloma, Per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xclusivamente en un museo de los Estados Unid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 la escuela a que asisten Connie y Roma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 Perú y en los Estados Unid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 un barco rumbo Per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familia de Miguel viven en una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a tienda de campamient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 dormitorio gran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a casa hecha de adob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a carava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a casa flotan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hinchazón arriba del ojo de la hermana de Miguel fue causado por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golpe de un softbal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mordisco de un insect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medicament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a enfermedad de la pie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 puede describir mejor la reacción de Despry en relación al la llegada segura de los artefactos peruanos com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oj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eliz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burri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ris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44A0-73AF-4E0D-B2F6-443604F9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9577-F938-42EC-94E7-D5248659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F87C-BB8E-4275-8698-0B904489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B8DB-8964-48AB-A6D3-7F12F2E4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98BC-4359-49F6-A97D-417D302D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3AE3-918F-48C6-BD91-4ED60231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FB1-9864-4638-B831-4914A0D6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91FA-2711-4D98-8528-B8C3FE1F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80E9-A130-4DF5-BBF1-940D09B4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E402-5044-4CDE-9589-1D46E21F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3196-72AB-469A-AC2F-4BDCE310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79BB-F2B9-47E1-B010-1BB48ACB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2848-7FCB-4FC1-9BD0-752680C1B36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Read “The Kiss of the Assassin” carefully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Take the Investigator’s Challenge Quiz to determine how carefully you read the story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After you complete the quiz and see your score, review each question. 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Find the part of the story that provides the correct answer to the question.  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Underline or highlight the important details you find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82680" y="25779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82680" y="321300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82680" y="38606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82680" y="44830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82680" y="5118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 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11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05080" y="0"/>
            <a:ext cx="68389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89160" y="30225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70080" y="367020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70080" y="430524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0080" y="4952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48720" y="228600"/>
            <a:ext cx="990360" cy="380880"/>
          </a:xfrm>
          <a:custGeom>
            <a:avLst/>
            <a:gdLst>
              <a:gd name="textAreaLeft" fmla="*/ 24480 w 990360"/>
              <a:gd name="textAreaRight" fmla="*/ 965880 w 990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32" y="1400"/>
                </a:lnTo>
                <a:lnTo>
                  <a:pt x="1400" y="140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32" y="20200"/>
                </a:lnTo>
                <a:lnTo>
                  <a:pt x="54732" y="140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32" y="2020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3811"/>
                </a:solidFill>
                <a:latin typeface="Bookman Old Style"/>
              </a:rPr>
              <a:t>S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chae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82680" y="25146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82680" y="30733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82680" y="36194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82680" y="41655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82680" y="47116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36831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31622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42037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47116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52322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82680" y="29336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82680" y="34923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82680" y="40514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82680" y="46101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29336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34923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40514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46101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51562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592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592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592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592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592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592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82680" y="24638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82680" y="34164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82680" y="4038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82680" y="46735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82680" y="53211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82680" y="25909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82680" y="321300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82680" y="38606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82680" y="44956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82680" y="5118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82680" y="30099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82680" y="36576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82680" y="42926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82680" y="49276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33019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39369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45594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2070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 </cp:lastModifiedBy>
  <dcterms:modified xsi:type="dcterms:W3CDTF">2006-04-06T17:51:59Z</dcterms:modified>
  <cp:revision>76</cp:revision>
  <dc:subject/>
  <dc:title>Investigator’s Challenge</dc:title>
</cp:coreProperties>
</file>