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E61E-716C-4040-B60B-BBA5717B2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EE3E-95A3-45EF-AA52-F39B5D895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3B5-11E3-4C01-A8D8-93506390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98A-8FCE-4B61-B9F3-1F60914B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317-39AB-438B-A5B3-21B1BA15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FB2-6597-4EF2-BB25-4FBE8350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E272-2F0E-43AA-994E-DC18CFF8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E8E-55EA-4127-86E5-58A9CE3C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F0D-0BFC-4811-8CBC-2897AE55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B5B-994C-441C-AA1B-25376A71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A2C-FD2D-4B9E-871C-C4399A25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98D-397B-45EE-8855-74B0E95A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FC20-8CB8-44E7-A310-8F620D18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DBD8-E223-45B1-A80B-A5BDCA23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1D8F-15ED-4360-A0AE-5D488222914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itstudent</cp:lastModifiedBy>
  <dcterms:modified xsi:type="dcterms:W3CDTF">2002-08-06T19:40:48Z</dcterms:modified>
  <cp:revision>22</cp:revision>
  <dc:subject/>
  <dc:title>What’s the difference between weather and climate?</dc:title>
</cp:coreProperties>
</file>