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029E-D4AB-4C53-9671-AA7884A4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FC75-85CF-4EA0-A0D5-9A7F50A0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09FC-D7DC-455F-A107-7649494D1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8621-3497-482A-970F-9191DF3E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1152-2887-45D5-A09D-9397B2E5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F5FE-8595-4F67-B6A0-D6CEDC1E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723D-9078-4547-833F-4CDF9493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5929-7EB4-4029-A7DD-F3E1FED9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D583-72AF-4FF2-8550-BC30BC94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780D-9981-4DA9-970C-F004A617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74D4-DB74-465E-AC6C-F647C1AC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E2F6-63FA-4491-83D9-B1504601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1E6B-1E9D-423E-8AC1-3FD857E9A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9:05Z</dcterms:created>
  <dc:creator>Texas A&amp;M Veterinary Medicine</dc:creator>
  <dc:description/>
  <dc:language>en-US</dc:language>
  <cp:lastModifiedBy>Texas A&amp;M Veterinary Medicine</cp:lastModifiedBy>
  <dcterms:modified xsi:type="dcterms:W3CDTF">2007-09-03T13:29:07Z</dcterms:modified>
  <cp:revision>1</cp:revision>
  <dc:subject/>
  <dc:title>Lead Poisoning</dc:title>
</cp:coreProperties>
</file>