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421C-854B-4885-94D2-9F1F74FC2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1C2A-711E-4DD7-B225-ACD2D0E8E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7980-E34C-492E-8F0F-868AE88CE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E0F3-663E-4059-9948-F6340279F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8118-9733-4500-ADD0-04A6B5EE5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5C69-6CC0-4DCD-82E9-AB7F2020D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0F31-D73C-4D06-8B49-E28AC56FB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02C3-74C9-4F47-88B4-CA13F1A59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4755-F698-4C18-AAA8-59678431C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EFA8-B01F-4BD8-8A08-406E33F2F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82EF-800E-4D16-A908-2CB809147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90D2-29AB-4751-B4FF-A81C24A91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E20A7-6FD2-4812-AA04-1019CB7C9EC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bola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9810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ever, headache, joint and muscle aches, sore throat, weakness, diarrhea, vomiting and stomach p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88620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irect contact with the blood and/or secretions of an infected person, contact with objects, such as needles, that have been contaminated with infected secre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4:17Z</dcterms:modified>
  <cp:revision>52</cp:revision>
  <dc:subject/>
  <dc:title>Hazards</dc:title>
</cp:coreProperties>
</file>