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04E1C-A34C-4878-9188-7362F5DEEA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0FBB4-5A49-4779-8A50-51545F10F2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2D74F-4570-4D96-9A99-BD4BA0E48D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2B572-9A3E-4F2C-8036-125B9EFA7F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D6023-4CCE-4C31-81D8-D4265634AE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33BB4-BC1F-4604-9A78-E9BAC9C1B0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5ADD5-1F16-48C5-87CA-FF0BAA7928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440EE-4D13-4D91-A20F-6CF4F3E6DB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A51F1-9538-4E82-B24F-6E4461D015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87814-6A1D-431D-980E-F65747CE82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B33C8-198C-47F8-A9F4-DF5FC2FDEE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8A82C-A812-432D-AA2D-A83E7C1C4B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16E63-C9BD-450E-ADCC-75D4F0BAAAC9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member that a decimal is a fractional number :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it is a part of something who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2AA19-A77F-413E-B8F8-96AEB1476B8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 = 0.44444). 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1000th place (e.g. 0.4, 0.44, 0.444).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.4444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8120" y="5105520"/>
            <a:ext cx="2982960" cy="20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8F5E0-BE64-4BD5-A783-5C276FD48A48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vhardy</cp:lastModifiedBy>
  <cp:lastPrinted>2001-01-16T19:55:21Z</cp:lastPrinted>
  <dcterms:modified xsi:type="dcterms:W3CDTF">2003-05-23T21:20:07Z</dcterms:modified>
  <cp:revision>207</cp:revision>
  <dc:subject/>
  <dc:title>VTPP 423 - PHYSIOLOGY</dc:title>
</cp:coreProperties>
</file>