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8EAF7-7B6F-4E72-B500-77DEDAFD8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CE6C6-B0C8-4C34-8559-09537EA2F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D9F6-BDEA-4C78-80E9-A9C10A600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C63B8-6036-4A56-9F28-E0CE1B6FC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F4B1-63C9-40AF-A13F-E2E5EE4A0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E270-9823-4819-8067-47393F0FD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7EB6-0E5A-4E42-A458-D986EC83E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037E-209E-4D9F-B219-5FA3C35B9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E6FC-BADC-4607-98EE-62F5A1E0D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7E55-C2AB-4F7F-9744-6723F48CF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235B-53D1-4D7F-AB9E-AA4BF4920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3D31-76F4-43B7-BD01-529586D30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FAA3-DADC-464F-8205-7A5A4FB14E5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134A-EB08-401D-A101-4E84348FBD6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836E-14E0-497C-812C-07471B2F8A4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58Z</dcterms:modified>
  <cp:revision>211</cp:revision>
  <dc:subject/>
  <dc:title>VTPP 423 - PHYSIOLOGY</dc:title>
</cp:coreProperties>
</file>