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24D8-7897-49E5-AF03-897CE544F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3121-50FC-45C7-88B2-5717F303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93A9-E797-439F-B1BC-2246711C5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1E27-35D7-4635-B0B6-961A1014D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9924-C534-4419-AB99-815B73FF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5588-A11A-4AA4-BD1F-B91D04C5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D452-967F-4009-9600-8F70D6A7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7FEB-1718-4FBE-A8EA-22E4ED37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282D-61D6-49CB-8F6A-B00B076D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4386-0116-4CAF-ABF7-85A24D40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909A-A1C4-4F4B-9AE4-8F5DD5DF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F426-C217-4D9C-9EFD-FB68131F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429B-293E-442C-A609-D2A249B6EF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00Z</dcterms:modified>
  <cp:revision>46</cp:revision>
  <dc:subject/>
  <dc:title>Hazards</dc:title>
</cp:coreProperties>
</file>