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9059-C731-4992-885D-AFD32477A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ienvenido a la prueba de “localización absoluta.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te crees listo, procede a la diapositiva siguiente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¿Qué ciudad se encuentra a 14º S.L., 72º W.L.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qui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hiclay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us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¿Qué ciudad se encuentra a 17.5º S.L., 71º W.L.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qui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hiclay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us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latitud por el centro de Perú 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º S.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9º N.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0º W.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longitud por el centro de Perú 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º E.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5º W.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76º W.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localización absoluta de Perú 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9º N.L. y 32º E.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º S.L. y 75º W.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0º N.L. y 77º W.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latitud de Lima 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º S.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9º N.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0º W.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longitud de Lima 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º E.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5º W.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76º W.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localización absoluta de Lima 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9º N.L. y 32º E.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º S.L. y 76º W.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0º N.L. y 77º W.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¿Qué ciudad se encuentra a 7º S.L., 80º W.L.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qui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hiclay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us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¿Qué ciudad se encuentra a 4º S.L., 74º W.L.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qui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hiclay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us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FFD6-18D8-429B-870C-8243CB00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F4E0-0D40-439B-8FE0-26E2267A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635A-E435-4F6C-B25C-55787D2D6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B74B-44C2-456C-8D05-C5EB31AB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5554-7224-490B-A80D-76B85D81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CA7E-A39D-45C8-90B2-C1AA3A89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ABC1-A0B2-4AE0-A472-84740FBC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5AA0-6AA7-41E7-AD8A-88A6739D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579D-1554-49E9-8A43-A13FE2CE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4ADA-20B7-486A-9498-0E5E5CA8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AEFC-9835-4155-8B28-67F4C17C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8781-EF41-4285-9FDF-5F29AC67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CE94-74F7-48EA-9465-7B5DC1A9BE3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2112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42400" y="441972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4° S.L., 72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2900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29000" y="53816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29000" y="58118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29000" y="62784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21120" y="485136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07480" y="441972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17.5° S.L., 71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2900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29000" y="53816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29000" y="58212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29000" y="62881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49520" y="57913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49520" y="5334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4952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49520" y="57913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49520" y="5334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4952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5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0" y="0"/>
            <a:ext cx="91440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49520" y="57913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49520" y="5334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4952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343240" y="4952880"/>
            <a:ext cx="5110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titude for Lima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40160" y="57913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40160" y="53341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4952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2343240" y="4952880"/>
            <a:ext cx="52308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29000" y="577368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30440" y="5334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29000" y="62103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2343240" y="4952880"/>
            <a:ext cx="6008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solute location of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29000" y="577224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29000" y="53341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29000" y="620244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0528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42760" y="4419720"/>
            <a:ext cx="57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, 80° W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2900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29000" y="534348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29000" y="5783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29000" y="623088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03480" y="487044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42400" y="44197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4° S.L., 74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2900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29000" y="53816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29000" y="58212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29000" y="62690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 </cp:lastModifiedBy>
  <cp:lastPrinted>2002-05-17T17:38:54Z</cp:lastPrinted>
  <dcterms:modified xsi:type="dcterms:W3CDTF">2006-04-06T20:15:29Z</dcterms:modified>
  <cp:revision>651</cp:revision>
  <dc:subject/>
  <dc:title>Investigate the Mystery:</dc:title>
</cp:coreProperties>
</file>