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34AC-2FA8-44DC-A0CA-FAB84084D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less water vapor than warm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war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east to 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n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B. coo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6BF-58AE-407B-823D-22D4F767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6A1-1BA1-474C-A366-E72E406A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0D7-39D1-4B62-ABB8-D7F8E612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6BE-EE12-4B6E-8866-2461CB8D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D5E-9B08-438A-8115-C6775737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C54-121D-4DA9-BEAF-128802A1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AC2-2A1D-4C12-A678-6E7183B1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31A-B3C0-4537-A63F-AB2BC94D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E11-DB30-4676-96A2-1FC64B3E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1EA-22A3-4E2D-98DC-82868AEF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2E4-2722-4278-9466-8EFAF369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F76-BCA5-4B1E-B64C-2474514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BEC2-C8A5-43BD-B446-6E49E65A725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../Appendices/Social%20Studies/PrecTemp.ppt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648320" y="2057400"/>
            <a:ext cx="4214520" cy="3438360"/>
            <a:chOff x="4648320" y="2057400"/>
            <a:chExt cx="4214520" cy="3438360"/>
          </a:xfrm>
        </p:grpSpPr>
        <p:grpSp>
          <p:nvGrpSpPr>
            <p:cNvPr id="49" name=""/>
            <p:cNvGrpSpPr/>
            <p:nvPr/>
          </p:nvGrpSpPr>
          <p:grpSpPr>
            <a:xfrm>
              <a:off x="4672080" y="2057400"/>
              <a:ext cx="3809880" cy="3438360"/>
              <a:chOff x="4672080" y="2057400"/>
              <a:chExt cx="3809880" cy="3438360"/>
            </a:xfrm>
          </p:grpSpPr>
          <p:pic>
            <p:nvPicPr>
              <p:cNvPr id="50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0574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672080" y="21337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5891040" y="30780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46640" y="350532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72080" y="297180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3840" y="422100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43680" y="495288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72080" y="37497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648320" y="4495680"/>
              <a:ext cx="838080" cy="914760"/>
              <a:chOff x="4648320" y="4495680"/>
              <a:chExt cx="838080" cy="914760"/>
            </a:xfrm>
          </p:grpSpPr>
          <p:sp>
            <p:nvSpPr>
              <p:cNvPr id="59" name=""/>
              <p:cNvSpPr/>
              <p:nvPr/>
            </p:nvSpPr>
            <p:spPr>
              <a:xfrm>
                <a:off x="5105520" y="47242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952880" y="4952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952880" y="44956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971960" y="5133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38720" y="47797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48320" y="47797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3064800">
              <a:off x="5227200" y="40150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70760" y="424980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in Per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429000"/>
            <a:ext cx="3276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differences do you see in the amount of precipitation at each city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you see any patterns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676520"/>
            <a:ext cx="3581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x cities are labeled on the map to the right.  The average amount of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precipitation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is next to the name of each ci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oler air holds 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less water vapor than warm ai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more water vapor than warm ai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air moves down a mountain, the air becomes 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warm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d you notice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ndes Mountains run through Per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ities on the west side of the mountains get less precipitation than the cities on the east side of the mountain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648320" y="2286000"/>
            <a:ext cx="4214520" cy="3438360"/>
            <a:chOff x="4648320" y="2286000"/>
            <a:chExt cx="4214520" cy="3438360"/>
          </a:xfrm>
        </p:grpSpPr>
        <p:grpSp>
          <p:nvGrpSpPr>
            <p:cNvPr id="74" name=""/>
            <p:cNvGrpSpPr/>
            <p:nvPr/>
          </p:nvGrpSpPr>
          <p:grpSpPr>
            <a:xfrm>
              <a:off x="4672080" y="2286000"/>
              <a:ext cx="3809880" cy="3438360"/>
              <a:chOff x="4672080" y="2286000"/>
              <a:chExt cx="3809880" cy="3438360"/>
            </a:xfrm>
          </p:grpSpPr>
          <p:pic>
            <p:nvPicPr>
              <p:cNvPr id="75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2860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672080" y="23623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891040" y="33066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6640" y="373392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72080" y="320040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3840" y="444960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43680" y="518148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72080" y="39783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648320" y="4724280"/>
              <a:ext cx="838080" cy="914760"/>
              <a:chOff x="4648320" y="4724280"/>
              <a:chExt cx="838080" cy="914760"/>
            </a:xfrm>
          </p:grpSpPr>
          <p:sp>
            <p:nvSpPr>
              <p:cNvPr id="84" name=""/>
              <p:cNvSpPr/>
              <p:nvPr/>
            </p:nvSpPr>
            <p:spPr>
              <a:xfrm>
                <a:off x="5105520" y="49528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52880" y="51814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952880" y="47242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971960" y="53625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38720" y="50083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48320" y="50083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rot="3064800">
              <a:off x="5227200" y="42436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70760" y="447840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Climat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38098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n precipitation creates different climates across Per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st of the mountains, Peru has a relatively dry, desert-like climat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t of the mountains, Peru has relatively moist, tropical climat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3600" y="76212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weather is wet on the east side of the mountain, why is it not wet on the west side of the mounta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you think causes this difference in precipit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24280" y="2200320"/>
            <a:ext cx="4214520" cy="3438360"/>
            <a:chOff x="4724280" y="2200320"/>
            <a:chExt cx="4214520" cy="3438360"/>
          </a:xfrm>
        </p:grpSpPr>
        <p:grpSp>
          <p:nvGrpSpPr>
            <p:cNvPr id="100" name=""/>
            <p:cNvGrpSpPr/>
            <p:nvPr/>
          </p:nvGrpSpPr>
          <p:grpSpPr>
            <a:xfrm>
              <a:off x="4748040" y="2200320"/>
              <a:ext cx="3809880" cy="3438360"/>
              <a:chOff x="4748040" y="2200320"/>
              <a:chExt cx="3809880" cy="343836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748040" y="220032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4748040" y="227664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5967000" y="32209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22600" y="364824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8040" y="311472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09800" y="436392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9640" y="509580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48040" y="389268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724280" y="4638600"/>
              <a:ext cx="838080" cy="914760"/>
              <a:chOff x="4724280" y="4638600"/>
              <a:chExt cx="838080" cy="914760"/>
            </a:xfrm>
          </p:grpSpPr>
          <p:sp>
            <p:nvSpPr>
              <p:cNvPr id="110" name=""/>
              <p:cNvSpPr/>
              <p:nvPr/>
            </p:nvSpPr>
            <p:spPr>
              <a:xfrm>
                <a:off x="5181480" y="486720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28840" y="50958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28840" y="463860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47920" y="52768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14680" y="492264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24280" y="492264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3064800">
              <a:off x="5303160" y="415800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46720" y="439272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vailing Wind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n precipitation across the mountains has to do with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ailing wi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ver Peru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ailing w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direction from which wind normally blows in an are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vailing wind in Peru blows from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st to the wes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00600" y="3191040"/>
            <a:ext cx="4214520" cy="3438360"/>
            <a:chOff x="4800600" y="3191040"/>
            <a:chExt cx="4214520" cy="3438360"/>
          </a:xfrm>
        </p:grpSpPr>
        <p:grpSp>
          <p:nvGrpSpPr>
            <p:cNvPr id="122" name=""/>
            <p:cNvGrpSpPr/>
            <p:nvPr/>
          </p:nvGrpSpPr>
          <p:grpSpPr>
            <a:xfrm>
              <a:off x="4824360" y="3191040"/>
              <a:ext cx="3809880" cy="3438360"/>
              <a:chOff x="4824360" y="3191040"/>
              <a:chExt cx="3809880" cy="34383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824360" y="319104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4824360" y="326736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043320" y="421164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98920" y="463896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4360" y="410544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6120" y="535464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5960" y="608652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24360" y="48834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00600" y="5629320"/>
              <a:ext cx="838080" cy="914760"/>
              <a:chOff x="4800600" y="5629320"/>
              <a:chExt cx="838080" cy="914760"/>
            </a:xfrm>
          </p:grpSpPr>
          <p:sp>
            <p:nvSpPr>
              <p:cNvPr id="132" name=""/>
              <p:cNvSpPr/>
              <p:nvPr/>
            </p:nvSpPr>
            <p:spPr>
              <a:xfrm>
                <a:off x="5257800" y="5857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05160" y="60865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05160" y="562932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24240" y="6267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91000" y="591336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00600" y="591336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rot="3064800">
              <a:off x="5379480" y="514872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23040" y="538344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82520" y="76320"/>
            <a:ext cx="7223400" cy="363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d over the mountai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44197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wind moves from the east to west, the moist air must travel over the Andes Mountain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uds over the mountai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3962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moist air rises to go over the mountains, it gets cool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oler air cannot hold as much moisture as the warm air, so clouds form and it begins to r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, the air looses most of its’ moistu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y air on the other s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air travels over the mountain and starts to make its way back down, the air gets warmer and is no longer mois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the air on the west side of the mountain is dry and the air on the east side of the mountain is we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90720" y="784080"/>
            <a:ext cx="7521480" cy="3635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Peru, the prevailing winds blow from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east to wes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west to e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is the name of Peru’s large mountain range over which the winds blow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 air rises up a mountain, the air becomes _____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warm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20:04Z</dcterms:created>
  <dc:creator>Suzanne Junek</dc:creator>
  <dc:description/>
  <dc:language>en-US</dc:language>
  <cp:lastModifiedBy>Texas A&amp;M Veterinary Medicine</cp:lastModifiedBy>
  <dcterms:modified xsi:type="dcterms:W3CDTF">2005-05-25T16:17:23Z</dcterms:modified>
  <cp:revision>36</cp:revision>
  <dc:subject/>
  <dc:title>Social Studies Mystery</dc:title>
</cp:coreProperties>
</file>