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B594-A88C-4464-A719-25D918D2D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of independent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Selecting various sources 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Reading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Read to take 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the distinguishing features of gen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G) Draw conclusions from information and knowledge to raise additional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A) Identify the purposes of different types of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Offer observations, connections, and questions in response to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Englis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973-D47D-4512-97FB-E40D5215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68C-CAB8-4C9B-B9BA-0BCB2FC3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9B5-9BB8-4BB2-8117-D1568FF6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08F-D016-421F-AF7D-926123C9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3E7-8F06-49A4-B060-C8195AE8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FF3-F9DA-49B6-AD0A-8056B345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ACB-5E2B-4CD8-9EC1-68F33D7F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4C1-7014-4CBB-95E1-C147A95E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399-569D-42FF-9370-5FC8AB11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B96-4CEF-45CF-B712-959312C7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801-EA7D-4D9E-9B7A-4F5AA8C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090-83E0-40C2-AD8B-8FC7AC1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023C-E61C-4141-8532-741B8E216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ChalQ.ppt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4280" y="152388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adventur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e comprehension of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important events in the story and determine why they stand ou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Rec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“The Kiss of the Assassin” care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your memory and understanding of important details by completing the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Investigator’s Challenge Qui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1523880"/>
            <a:ext cx="2857680" cy="43434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ing the Adven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6440" y="169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the story all ab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we learn about Per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re the health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it about the environment that was causing the health problems? How did we figure that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ld prevent the health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art of the story stands out to you m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parts of suspense o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e parts of the story that come to your mind when you think back on it and write them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whether they involve some sort of emotion or suspense.  What makes it stick out to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29970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way to figure out why a certain part of a story creates an emotion is to look at that part by itself and then in relation to the parts ar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Lines are a great way to break down a story into individual sections for further analysi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77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5:27Z</dcterms:modified>
  <cp:revision>24</cp:revision>
  <dc:subject/>
  <dc:title>Objectives – English 1</dc:title>
</cp:coreProperties>
</file>