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C53B-F577-476B-B2C5-123B8FB11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14D-8FFF-41F5-9C90-1E32952F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304-97BF-441C-82CD-A486C31D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718-A965-4841-98FD-75A8D8A4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9AC-92D8-49AC-B49D-05A1AAA9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61A-D321-4042-ABD6-2148D867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8B9-691F-44A1-AB08-C0DFE95A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F42-5C2E-4753-ACED-4D740E95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769-C8CD-4E1F-9316-2036A4CB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A76-32C6-4E5B-9B28-26175CA2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6C2-3AE2-405F-8E49-EA1B003C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BDB-AAB8-406B-BE8F-479FC4F2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36A-EF25-41F4-8E82-9BBD90B8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9380-B7D3-481B-8FB8-DE3B2C98E1F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itstudent</cp:lastModifiedBy>
  <dcterms:modified xsi:type="dcterms:W3CDTF">2002-08-06T19:40:15Z</dcterms:modified>
  <cp:revision>8</cp:revision>
  <dc:subject/>
  <dc:title>What’s the difference between weather and climate?</dc:title>
</cp:coreProperties>
</file>