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D6FF-9F9A-4E30-83E6-A4574B0E0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8A7E-3610-4F97-B554-9F2D950D4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04BD-44B7-4E81-9B17-B3F2B3106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A8DA-4E33-4566-985D-B7A091EB0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B286-0D25-4ACD-9F6A-5B0B19F1D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A17A-5EF1-4E28-8B16-B7269603F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55E1-C3C1-4335-A971-2541B2F88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B261-4EC8-4455-9B38-D9243A14D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F0DA-2888-49BA-B2AA-F63902A82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CF2E-7D19-42D0-A288-B38241181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3EB2-D1AB-40C1-8F3D-8C54916C8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688B-30EE-4DCB-9ACD-EC85EE548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C91-67D1-4094-936B-3F0FECE041A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Fixed%20Rectangle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3FE4-A4D9-4D76-B3B1-C36E59B557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JBox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5080-582E-48C6-944E-D5874FB985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9A15-DD6E-4165-8B5C-D36B92D1E2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E88B-4554-4F1A-B567-1996C84441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42B1-F518-45DE-9C16-12080D2AB8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E816-41A3-4343-B845-E8781A862E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F5B5-DBDF-4E1A-A440-F5C9414EB8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8EA6-BE2B-407D-8899-7E12270E016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27Z</dcterms:modified>
  <cp:revision>238</cp:revision>
  <dc:subject/>
  <dc:title>VTPP 423 - PHYSIOLOGY</dc:title>
</cp:coreProperties>
</file>