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BD26-B064-4CC6-9A4D-AED28BAA3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precipitación en el Per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eis ciudades son marcados en el mapa que está a la derecha.  La precipitación media está a la derecha del nombre de cada ciudad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¿Qué diferencias ves el volumen de la precipitación de cada ciuda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¿Ves alguna secuencia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. less water vapor than warm 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. war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¿Te diste cuenta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s Andes se sitúan en Per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s ciudades al oeste de las montañas reciben menos precipitación que las ciudades al este de las montañas.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s climas distin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diferencia de precipitación crea distintos climas en Perú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l oeste de las montañas, hay un clima seco parecido al desierto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l este de las montañas, hay un clima húmeda parecido al clima tropical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¿Por qué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. east to w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n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B. coo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007C-2529-41F9-97B5-B17309220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61FE-C57F-4949-8CA5-656BECC0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E5BE-CB44-49BF-8453-6C4418474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D087-A939-4EAE-B9ED-5E47BED68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EC2B-613D-48E6-8E0A-3516CB9C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9EB4-CB01-4169-BCEA-0EBBE2DB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786A-5320-44E1-AA69-A569F24C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62F1-F3DB-43A0-8A75-EDF62042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DF85-C945-4AF5-B433-D8965443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7880-2043-4236-9C09-5B0B6F7D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4B22-6D2A-4195-9513-E0F92385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AB89-EFBA-4E17-9649-A30F8C5E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30D5-35B1-4D67-9609-4A29E8207C2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file:///../Appendices/Social%20Studies/PrecTemp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4648320" y="2057400"/>
            <a:ext cx="4214520" cy="3438360"/>
            <a:chOff x="4648320" y="2057400"/>
            <a:chExt cx="4214520" cy="3438360"/>
          </a:xfrm>
        </p:grpSpPr>
        <p:grpSp>
          <p:nvGrpSpPr>
            <p:cNvPr id="49" name=""/>
            <p:cNvGrpSpPr/>
            <p:nvPr/>
          </p:nvGrpSpPr>
          <p:grpSpPr>
            <a:xfrm>
              <a:off x="4672080" y="2057400"/>
              <a:ext cx="3809880" cy="3438360"/>
              <a:chOff x="4672080" y="2057400"/>
              <a:chExt cx="3809880" cy="3438360"/>
            </a:xfrm>
          </p:grpSpPr>
          <p:pic>
            <p:nvPicPr>
              <p:cNvPr id="50" name="" descr=""/>
              <p:cNvPicPr/>
              <p:nvPr/>
            </p:nvPicPr>
            <p:blipFill>
              <a:blip r:embed="rId2"/>
              <a:srcRect l="27577" t="-1965" r="0" b="0"/>
              <a:stretch/>
            </p:blipFill>
            <p:spPr>
              <a:xfrm>
                <a:off x="4672080" y="2057400"/>
                <a:ext cx="3809880" cy="343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4672080" y="2133720"/>
                <a:ext cx="0" cy="33526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5891040" y="3078000"/>
              <a:ext cx="1828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urimaguas (81.5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146640" y="3505320"/>
              <a:ext cx="149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callpa (61.7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672080" y="2971800"/>
              <a:ext cx="761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iura •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2.6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33840" y="4221000"/>
              <a:ext cx="703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ma •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.8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43680" y="4952880"/>
              <a:ext cx="99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equipa •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3.9 in.)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672080" y="374976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acific</a:t>
              </a:r>
              <a:br>
                <a:rPr sz="1400"/>
              </a:b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Oce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648320" y="4495680"/>
              <a:ext cx="838080" cy="914760"/>
              <a:chOff x="4648320" y="4495680"/>
              <a:chExt cx="838080" cy="914760"/>
            </a:xfrm>
          </p:grpSpPr>
          <p:sp>
            <p:nvSpPr>
              <p:cNvPr id="59" name=""/>
              <p:cNvSpPr/>
              <p:nvPr/>
            </p:nvSpPr>
            <p:spPr>
              <a:xfrm>
                <a:off x="5105520" y="472428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952880" y="495288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952880" y="4495680"/>
                <a:ext cx="27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971960" y="51339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238720" y="4779720"/>
                <a:ext cx="247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648320" y="4779720"/>
                <a:ext cx="33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 rot="3064800">
              <a:off x="5227200" y="401508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A     n     d     e     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070760" y="4249800"/>
              <a:ext cx="179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erto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Maldonado (89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in Peru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3429000"/>
            <a:ext cx="3276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differences do you see in the amount of precipitation at each city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you see any patterns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1676520"/>
            <a:ext cx="35812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x cities are labeled on the map to the right.  The average amount of </a:t>
            </a:r>
            <a:r>
              <a:rPr b="0" lang="en-US" sz="2400" spc="-1" strike="noStrike" u="sng">
                <a:solidFill>
                  <a:srgbClr val="3333ff"/>
                </a:solidFill>
                <a:uFillTx/>
                <a:latin typeface="Times New Roman"/>
                <a:hlinkClick r:id="rId3"/>
              </a:rPr>
              <a:t>precipitation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 is next to the name of each city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1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ooler air holds _______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. less water vapor than warm ai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. more water vapor than warm ai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 air moves down a mountain, the air becomes _______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. warm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. cool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d you notice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ndes Mountains run through Peru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ities on the west side of the mountains get less precipitation than the cities on the east side of the mountain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4648320" y="2286000"/>
            <a:ext cx="4214520" cy="3438360"/>
            <a:chOff x="4648320" y="2286000"/>
            <a:chExt cx="4214520" cy="3438360"/>
          </a:xfrm>
        </p:grpSpPr>
        <p:grpSp>
          <p:nvGrpSpPr>
            <p:cNvPr id="74" name=""/>
            <p:cNvGrpSpPr/>
            <p:nvPr/>
          </p:nvGrpSpPr>
          <p:grpSpPr>
            <a:xfrm>
              <a:off x="4672080" y="2286000"/>
              <a:ext cx="3809880" cy="3438360"/>
              <a:chOff x="4672080" y="2286000"/>
              <a:chExt cx="3809880" cy="3438360"/>
            </a:xfrm>
          </p:grpSpPr>
          <p:pic>
            <p:nvPicPr>
              <p:cNvPr id="75" name="" descr=""/>
              <p:cNvPicPr/>
              <p:nvPr/>
            </p:nvPicPr>
            <p:blipFill>
              <a:blip r:embed="rId2"/>
              <a:srcRect l="27577" t="-1965" r="0" b="0"/>
              <a:stretch/>
            </p:blipFill>
            <p:spPr>
              <a:xfrm>
                <a:off x="4672080" y="2286000"/>
                <a:ext cx="3809880" cy="343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/>
              <p:nvPr/>
            </p:nvSpPr>
            <p:spPr>
              <a:xfrm>
                <a:off x="4672080" y="2362320"/>
                <a:ext cx="0" cy="33526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5891040" y="3306600"/>
              <a:ext cx="1828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urimaguas (81.5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6640" y="3733920"/>
              <a:ext cx="149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callpa (61.7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672080" y="3200400"/>
              <a:ext cx="761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iura •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2.6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433840" y="4449600"/>
              <a:ext cx="703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ma •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.8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043680" y="5181480"/>
              <a:ext cx="99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equipa •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3.9 in.)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672080" y="397836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acific</a:t>
              </a:r>
              <a:br>
                <a:rPr sz="1400"/>
              </a:b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Oce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4648320" y="4724280"/>
              <a:ext cx="838080" cy="914760"/>
              <a:chOff x="4648320" y="4724280"/>
              <a:chExt cx="838080" cy="914760"/>
            </a:xfrm>
          </p:grpSpPr>
          <p:sp>
            <p:nvSpPr>
              <p:cNvPr id="84" name=""/>
              <p:cNvSpPr/>
              <p:nvPr/>
            </p:nvSpPr>
            <p:spPr>
              <a:xfrm>
                <a:off x="5105520" y="495288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952880" y="518148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952880" y="4724280"/>
                <a:ext cx="27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971960" y="53625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238720" y="5008320"/>
                <a:ext cx="247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648320" y="5008320"/>
                <a:ext cx="33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 rot="3064800">
              <a:off x="5227200" y="424368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A     n     d     e     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70760" y="4478400"/>
              <a:ext cx="179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erto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Maldonado (89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1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fferent Climat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3809880"/>
            <a:ext cx="7696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fference in precipitation creates different climates across Peru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st of the mountains, Peru has a relatively dry, desert-like climat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st of the mountains, Peru has relatively moist, tropical climat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93600" y="762120"/>
            <a:ext cx="7155000" cy="363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1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weather is wet on the east side of the mountain, why is it not wet on the west side of the mounta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do you think causes this difference in precipit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724280" y="2200320"/>
            <a:ext cx="4214520" cy="3438360"/>
            <a:chOff x="4724280" y="2200320"/>
            <a:chExt cx="4214520" cy="3438360"/>
          </a:xfrm>
        </p:grpSpPr>
        <p:grpSp>
          <p:nvGrpSpPr>
            <p:cNvPr id="100" name=""/>
            <p:cNvGrpSpPr/>
            <p:nvPr/>
          </p:nvGrpSpPr>
          <p:grpSpPr>
            <a:xfrm>
              <a:off x="4748040" y="2200320"/>
              <a:ext cx="3809880" cy="3438360"/>
              <a:chOff x="4748040" y="2200320"/>
              <a:chExt cx="3809880" cy="3438360"/>
            </a:xfrm>
          </p:grpSpPr>
          <p:pic>
            <p:nvPicPr>
              <p:cNvPr id="101" name="" descr=""/>
              <p:cNvPicPr/>
              <p:nvPr/>
            </p:nvPicPr>
            <p:blipFill>
              <a:blip r:embed="rId2"/>
              <a:srcRect l="27577" t="-1965" r="0" b="0"/>
              <a:stretch/>
            </p:blipFill>
            <p:spPr>
              <a:xfrm>
                <a:off x="4748040" y="2200320"/>
                <a:ext cx="3809880" cy="343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>
                <a:off x="4748040" y="2276640"/>
                <a:ext cx="0" cy="33526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5967000" y="3220920"/>
              <a:ext cx="1828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urimaguas (81.5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22600" y="3648240"/>
              <a:ext cx="149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callpa (61.7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48040" y="3114720"/>
              <a:ext cx="761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iura •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2.6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509800" y="4363920"/>
              <a:ext cx="703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ma •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.8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119640" y="5095800"/>
              <a:ext cx="99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equipa •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3.9 in.)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48040" y="389268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acific</a:t>
              </a:r>
              <a:br>
                <a:rPr sz="1400"/>
              </a:b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Oce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4724280" y="4638600"/>
              <a:ext cx="838080" cy="914760"/>
              <a:chOff x="4724280" y="4638600"/>
              <a:chExt cx="838080" cy="914760"/>
            </a:xfrm>
          </p:grpSpPr>
          <p:sp>
            <p:nvSpPr>
              <p:cNvPr id="110" name=""/>
              <p:cNvSpPr/>
              <p:nvPr/>
            </p:nvSpPr>
            <p:spPr>
              <a:xfrm>
                <a:off x="5181480" y="486720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028840" y="509580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028840" y="4638600"/>
                <a:ext cx="27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047920" y="527688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314680" y="4922640"/>
                <a:ext cx="247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724280" y="4922640"/>
                <a:ext cx="33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 rot="3064800">
              <a:off x="5303160" y="415800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A     n     d     e     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46720" y="4392720"/>
              <a:ext cx="179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erto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Maldonado (89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1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evailing Wind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fference in precipitation across the mountains has to do with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vailing win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ver Peru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vailing win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the direction from which wind normally blows in an area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revailing wind in Peru blows from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ast to the wes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800600" y="3191040"/>
            <a:ext cx="4214520" cy="3438360"/>
            <a:chOff x="4800600" y="3191040"/>
            <a:chExt cx="4214520" cy="3438360"/>
          </a:xfrm>
        </p:grpSpPr>
        <p:grpSp>
          <p:nvGrpSpPr>
            <p:cNvPr id="122" name=""/>
            <p:cNvGrpSpPr/>
            <p:nvPr/>
          </p:nvGrpSpPr>
          <p:grpSpPr>
            <a:xfrm>
              <a:off x="4824360" y="3191040"/>
              <a:ext cx="3809880" cy="3438360"/>
              <a:chOff x="4824360" y="3191040"/>
              <a:chExt cx="3809880" cy="3438360"/>
            </a:xfrm>
          </p:grpSpPr>
          <p:pic>
            <p:nvPicPr>
              <p:cNvPr id="123" name="" descr=""/>
              <p:cNvPicPr/>
              <p:nvPr/>
            </p:nvPicPr>
            <p:blipFill>
              <a:blip r:embed="rId2"/>
              <a:srcRect l="27577" t="-1965" r="0" b="0"/>
              <a:stretch/>
            </p:blipFill>
            <p:spPr>
              <a:xfrm>
                <a:off x="4824360" y="3191040"/>
                <a:ext cx="3809880" cy="343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>
                <a:off x="4824360" y="3267360"/>
                <a:ext cx="0" cy="33526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043320" y="4211640"/>
              <a:ext cx="1828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urimaguas (81.5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98920" y="4638960"/>
              <a:ext cx="149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callpa (61.7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24360" y="4105440"/>
              <a:ext cx="761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iura •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2.6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86120" y="5354640"/>
              <a:ext cx="703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ma •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.8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95960" y="6086520"/>
              <a:ext cx="99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equipa •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3.9 in.)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24360" y="48834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acific</a:t>
              </a:r>
              <a:br>
                <a:rPr sz="1400"/>
              </a:b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Oce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4800600" y="5629320"/>
              <a:ext cx="838080" cy="914760"/>
              <a:chOff x="4800600" y="5629320"/>
              <a:chExt cx="838080" cy="914760"/>
            </a:xfrm>
          </p:grpSpPr>
          <p:sp>
            <p:nvSpPr>
              <p:cNvPr id="132" name=""/>
              <p:cNvSpPr/>
              <p:nvPr/>
            </p:nvSpPr>
            <p:spPr>
              <a:xfrm>
                <a:off x="5257800" y="585792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105160" y="608652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105160" y="5629320"/>
                <a:ext cx="27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124240" y="626760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391000" y="5913360"/>
                <a:ext cx="247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800600" y="5913360"/>
                <a:ext cx="33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 rot="3064800">
              <a:off x="5379480" y="514872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A     n     d     e     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223040" y="5383440"/>
              <a:ext cx="179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erto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Maldonado (89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082520" y="76320"/>
            <a:ext cx="7223400" cy="3635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1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nd over the mountai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44197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the wind moves from the east to west, the moist air must travel over the Andes Mountains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066680" y="784080"/>
            <a:ext cx="7440840" cy="36356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1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ouds over the mountai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1760" y="3962520"/>
            <a:ext cx="7543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the moist air rises to go over the mountains, it gets cooler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oler air cannot hold as much moisture as the warm air, so clouds form and it begins to rai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e, the air looses most of its’ moistu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066680" y="784080"/>
            <a:ext cx="7440840" cy="36356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1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ry air on the other s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39625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e air travels over the mountain and starts to make its way back down, the air gets warmer and is no longer moist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fore, the air on the west side of the mountain is dry and the air on the east side of the mountain is wet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990720" y="784080"/>
            <a:ext cx="7521480" cy="36356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1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Peru, the prevailing winds blow from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_______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. east to west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. west to ea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is the name of Peru’s large mountain range over which the winds blow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s air rises up a mountain, the air becomes _____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. warm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. cool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8T02:20:04Z</dcterms:created>
  <dc:creator>Suzanne Junek</dc:creator>
  <dc:description/>
  <dc:language>en-US</dc:language>
  <cp:lastModifiedBy> </cp:lastModifiedBy>
  <dcterms:modified xsi:type="dcterms:W3CDTF">2006-04-06T06:19:34Z</dcterms:modified>
  <cp:revision>37</cp:revision>
  <dc:subject/>
  <dc:title>Social Studies Mystery</dc:title>
</cp:coreProperties>
</file>