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1093-410C-4E78-BECE-6D372DCEA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575F-AF08-4E6F-AF54-B442CE333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FEA7-050B-4855-9D5C-992AF73D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22AF-7C52-4461-ACE8-49F17125C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A0D5-DD30-4AE7-A455-87E080153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DDD0-9626-42C4-9FAB-643CC115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F0FF-ABCB-478F-A6A6-F36D998D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DD24-3169-4833-9229-B0860459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E1BE-3023-4544-80B4-ADD624D0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C490-E76F-4CF4-9203-261CFF1A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A86E-97D7-4FD0-8882-557FA83E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1143-ABB3-4F8B-B616-4E9D798E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908F-4804-459D-85F6-AE40E25A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9F8B-6880-4D11-95C0-C976AA3F3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3-01-16T18:37:15Z</dcterms:modified>
  <cp:revision>28</cp:revision>
  <dc:subject/>
  <dc:title>Sensory Details </dc:title>
</cp:coreProperties>
</file>