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2210-66AC-4483-B56E-E39A5C9B8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bulary Challeng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Spe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Malnour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foreb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Monstro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Re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ssass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4F08-97B5-4130-A970-E472CAFA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BF34-5304-4F36-BECE-132FD2F8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CEB0-E394-4562-B847-7EFDFFB6A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CA8C-DE32-4CD3-A685-D3133CDF6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F75E-D222-43A8-99B9-4460B28B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60E0-4683-4389-AEC4-C03AB894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EFBE-B424-4701-A4A1-3F0877B8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62A9-3F0A-452B-8EE7-108180E4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CEDD-4128-4378-88A1-B96D6156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31E7-98BE-4841-BEE8-43D45FCC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87FE-8B51-43D0-B68C-CC7AEDEA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5211-BEEC-4EEA-B2E6-88E201AD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4140-7E06-44D0-8F03-EE55950DC49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eVocab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ease fill in the blank with the correct word from “The Kiss of the Assassin.” Use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lossary of Term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a resource if need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needed expert advice on ancient Peruvian temples for my report, so I scheduled an interview with the __________ of the museum of Peruvian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My final report on Peru was  ___________. It covered all aspects of the country including geography, culture and economic 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prevent the crime in this story, Connie and Roman had to _________ a strategy quick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find out more about the behavior of the black beetle, scientists select a few beetles and study the characteristics of each   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eelings of the Peruvian people about their ancient relics were _________ to the villain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knew that the stray cat at the archeological site was __________ because I could see the outline of his ribs through his fu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’s actions were the reason for Connie’s feelings of 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ile of trash left behind by the tourists who came to see the archeological site was a __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y studying _________ of ancient cultures, we can learn about the pa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sect was the __________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Vince Hardy</cp:lastModifiedBy>
  <dcterms:modified xsi:type="dcterms:W3CDTF">2007-05-03T15:06:30Z</dcterms:modified>
  <cp:revision>26</cp:revision>
  <dc:subject/>
  <dc:title>PowerPoint Presentation</dc:title>
</cp:coreProperties>
</file>