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006D-FB92-4B3C-9F0A-F1FB88379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CF1D-5551-4B61-B05F-3D81A4969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04CC-59F8-4BA6-8A1C-D35EABFAA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0B5F-5A00-4DC5-8C1F-B7BC11A02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FBE5-60D5-49E4-9C59-9E06F9730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9916-340D-4F81-9B14-82D953DA0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6EAF-9317-4A7B-BD78-19E19387C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847F-A5F0-4EB4-BDDE-2E718F27C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2A32-181A-41A7-B13F-DC748118A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FDF9-1DD2-43DD-A691-EED643482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3751-71F6-4085-BF0B-CE23BB6D4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D7F2-5583-4F49-8176-0178D7ADD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BD12-E7EA-4D6D-B3A0-E052CD83465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5933-6E72-4C06-A602-9024C986F84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DB7E-E539-4B9A-AA13-9206F591ECE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25Z</dcterms:modified>
  <cp:revision>210</cp:revision>
  <dc:subject/>
  <dc:title>VTPP 423 - PHYSIOLOGY</dc:title>
</cp:coreProperties>
</file>