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9 (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AD1F4-0E04-49A5-9B61-1F1860CEFD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66CAB-5A9C-4EDB-8ECE-844A129D0B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3179F-C16F-43CB-B370-ACD93E1156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45D78-4EBD-48F3-9C7E-BA5806DE14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637C8-2341-461A-BE7A-B7024E858F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C974B-FA12-4D30-BDA0-2CB627BA51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BD3BB-5C08-482A-8695-802EFBB047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6B277-7587-43D1-8859-F9F524CB25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7A769-FAEC-4F25-A545-810248E672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31C63-E786-4F09-9853-A363A1C289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4F4F0-8EF4-4CD9-BA96-BE90B01EC9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3620E-E88C-4D18-A766-3A0EC7B61C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CD4B3-7728-4A72-9B79-AF3248DECA68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22960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Theoretical 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- the ratio of the number of ways the event can occur to the number of possible outcomes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P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(event)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ways the event can occu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possible outcome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90920" y="4191120"/>
            <a:ext cx="60195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92C01-9078-49BD-9942-1E5DEF8D748F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3560" y="1213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	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Occurre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0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Cannot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Not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2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50-50 cha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Very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Always occurs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6A4F1-BD6A-4E56-AA54-3D8D5DEBE221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153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00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438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14400" y="2514600"/>
            <a:ext cx="7315200" cy="0"/>
          </a:xfrm>
          <a:prstGeom prst="line">
            <a:avLst/>
          </a:prstGeom>
          <a:ln w="5724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nnot      Not Likely     50-50      Very Likely      Certai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ccur        to Occur       Chance      to Occur         to Occu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 = 0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P = 1/4          P = 1/2           P = 3/4         P = 1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= 0 %      = 25%         = 50%         = 75%     = 100%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te: The closer the probability is to 1, the more likely the event is to occur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90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55308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305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1295280"/>
            <a:ext cx="12189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28800" y="1295280"/>
            <a:ext cx="175248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09880" y="1295280"/>
            <a:ext cx="121932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81480" y="1295280"/>
            <a:ext cx="198144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391520" y="1295280"/>
            <a:ext cx="14475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FED61-A756-4627-9AA2-0C2BF8399922}" type="slidenum">
              <a:t>3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50Z</dcterms:modified>
  <cp:revision>207</cp:revision>
  <dc:subject/>
  <dc:title>VTPP 423 - PHYSIOLOGY</dc:title>
</cp:coreProperties>
</file>