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CB000-3A31-41D1-89A3-CECAE3A3C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D196D-C3EC-4C7F-89B4-14CA07681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34B60-AEFB-4A8C-B692-19FCE4E25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968D3-D6FC-4A8B-9AD5-C11633CDC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1851B-E6EA-4C6F-887E-093229CA9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27944-FD47-4F0C-B0A4-20C96D533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A4B0E-B31A-4406-9896-662FCD386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656E8-19A6-4FC1-BE97-5EC269F81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A91EA-6CDE-4A92-8B77-D793146E4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2EFBC-319C-430B-A627-B0BE4F124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A2B84-0D58-4011-9965-9C587A81F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8AF8B-315F-436E-B626-4042D46AC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F61C3-4302-4629-BA1B-83363CB4165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IDS (Acquired Immune Deficiency Syndrome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9480" y="2286000"/>
            <a:ext cx="7925040" cy="283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rapid weight loss, dry cough, recurring fever, profound fatigue, swollen lymph glands, diarrhea, unusual blemishes on tongue and in mouth, pneumonia, memory loss, depression, red/purple blotches on or under the skin or inside the mouth/n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5334120"/>
            <a:ext cx="792504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blood-to-blood and sexual contact with infected pers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mallpox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2286000"/>
            <a:ext cx="8153280" cy="19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evere illness followed by a blisterlike body rash, high fever, extreme lethargy, headache, backache, abdominal pain, vomiting, delir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57200" y="4495680"/>
            <a:ext cx="8153280" cy="19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direct and fairly prolonged face-to-face contact is required, direct contact with infected bodily fluids or contaminated objects such as bedding or clot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uberculosi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57200" y="228600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ughing up thick, cloudy, and sometimes bloody mucus from the lungs, rapid heart beat, swelling of lymph gla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22748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ughing or sneezing of infected person, unpasteurized milk or milk products obtained from infected cat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Yellow Fev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200" y="228600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udden onset of fever, jaundice, and hemorrh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57200" y="374004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pread through bites of infected mosquito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reutzfeldt – Jakob Diseas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1905120"/>
            <a:ext cx="8153280" cy="19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dementia, decreased muscular coordination, personality changes, impaired vision, insomnia, depression, or unusual sen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57200" y="426708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Inject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of bodily fluids or tissues that contain an abnormal prote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ningiti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57200" y="190512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severe headache, stiff neck, dislike of bright lights, fever, vomiting, drowsiness, rash, less responsiv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57200" y="380988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absorption/ Skin Contact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of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Neisseria meningitide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in combination with a compromised immune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oliomyeliti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57200" y="190512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fever, malaise, headache, nausea and vomiting, excruciating muscle pain and stiffness in the neck and b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57200" y="380988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ingestion or inhalat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of Poliovirus. Usually spread through contaminated fe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est Nile Viru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190512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loss of coordination, tremors, depression, weaknes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200" y="350532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Inject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through bite of infected mosquit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ead Poison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57200" y="1752480"/>
            <a:ext cx="8153280" cy="19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brain damage, headaches, tiredness, digestive problems, muscle and joint pain, memory and concentration problems, fluid accumulation in lu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57200" y="4191120"/>
            <a:ext cx="8153280" cy="19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gestion or inhalat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f lead.  Lead was used in paint prior to 1978 and it can be found in the soil and drinking water (lead pipes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rown Lu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228600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hortness of breath, coughing, and wheez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373392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long-term inhalation of cotton, flax, or hemp du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hagas Diseas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228600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atigue, fever, enlarged liver/spleen, swollen lymph glands, rash, loss of appetite, diarrhea, vomi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pread through bites/feces of Triatomine bu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holer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2286000"/>
            <a:ext cx="822960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watery diarrhea, rapid dehydration, vomiting, leg cram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5360" y="366408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ntaminated food/water, contaminated feces of an infected per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bola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198108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ever, headache, joint and muscle aches, sore throat, weakness, diarrhea, vomiting and stomach pa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3886200"/>
            <a:ext cx="8153280" cy="19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direct contact with the blood and/or secretions of an infected person, contact with objects, such as needles, that have been contaminated with infected secre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. coli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2286000"/>
            <a:ext cx="822960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bloody diarrhea, abdominal cramps, fe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3740040"/>
            <a:ext cx="822960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ntaminated meat, contaminated human fe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fectious Hepatitis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213372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jaundice, fatigue, dark urine, abdominal pain, loss of appetite, naus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358128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blood or bodily fluid of an infected person, contact with needle previously used by an infected per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fluenz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2286000"/>
            <a:ext cx="8153280" cy="1737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fever, headache, tiredness, cough, sore throat, runny/stuffy nose, body aches, diarrhea, vomi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57200" y="4343400"/>
            <a:ext cx="8153280" cy="701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ughing and sneez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ab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7200" y="2286000"/>
            <a:ext cx="8153280" cy="24076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ever, headache, and general malaise.  May include insomnia, anxiety, confusion, slight or partial paralysis, excitation, hallucinations, agitation, hypersalivation, difficulty swallowing, and hydrophob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5029200"/>
            <a:ext cx="8153280" cy="701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aliva of infected anim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Texas A&amp;M Veterinary Medicine</cp:lastModifiedBy>
  <dcterms:modified xsi:type="dcterms:W3CDTF">2007-08-30T16:20:49Z</dcterms:modified>
  <cp:revision>45</cp:revision>
  <dc:subject/>
  <dc:title>Hazards</dc:title>
</cp:coreProperties>
</file>