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FCB0A-14E2-4E39-9EBF-87C6951C97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926DE-98E1-4274-82DC-4825B92A48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10B17-B52B-473B-89A0-75A9C71780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34B60-4379-4E1A-B352-A7C9FF7121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C6AF0-D221-40AE-8510-D108F89B54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8C631-0A51-445C-AB42-D201389977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6B21D-299C-4B90-A274-880831FD12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40414-DBF3-446E-ABD1-67C3AE85ED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3C6DE-BAEC-4A59-9D9F-CC2901328B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55189-7F96-4F3D-8A54-A4564BDFC6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6985C-A97B-4ED9-B86E-84F139B2CD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9C795-C5AD-4739-A402-74432C7038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9EF7-82AD-4744-A19D-7D51B6EC2FE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4FD1C-6DE4-48D6-A472-156FF27A1D6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97265-0C6D-4AEF-8C6B-7A4484EF3FE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30903-3EB9-4C86-AF16-EBD8F32E46E2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7:11Z</dcterms:modified>
  <cp:revision>206</cp:revision>
  <dc:subject/>
  <dc:title>VTPP 423 - PHYSIOLOGY</dc:title>
</cp:coreProperties>
</file>