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A07B-A57C-45C8-88E3-F4A97256A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7ED-6D54-4F06-85B9-569F8A3D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3F9-06D0-41EE-8708-0BA0CDA3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551-B1F6-4DD3-90D1-B10F3613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736-7428-462D-8859-EF8BAD8E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82B-ED05-4C6F-B40C-07C3D16E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45A-C4BD-4F2F-AC84-86D14625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DFC-8B6A-47CD-9F8A-9EF2827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72C-30AA-401E-8F69-5F088340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198-C2EC-4DD8-9EB2-07A5E320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1DE-FC52-479D-8E91-E97DE49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30C-C3FB-4315-8317-5BA55D5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8A5-E3CC-495B-A237-8969712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E27-DC38-4A8B-ADD3-4398CD4EDC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itstudent</cp:lastModifiedBy>
  <dcterms:modified xsi:type="dcterms:W3CDTF">2002-08-06T19:40:55Z</dcterms:modified>
  <cp:revision>7</cp:revision>
  <dc:subject/>
  <dc:title>What’s the difference between weather and climate?</dc:title>
</cp:coreProperties>
</file>