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A02EB-114F-4CCF-B370-83A0817676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41D58-04FD-43A9-A982-E4699CA5E6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298C4-11C3-4E43-B535-A6E53C245F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7E44E-5559-42F6-9D25-744BFE542B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2C338-3B92-4E3D-8AEC-1B09CF6B3C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D1963-7811-4234-ACC0-FED0F0C404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D6C73-6270-415C-B20A-A29E3FCE2F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D238E-1666-44C2-A330-34BE2143DC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BD96A-8330-4A04-ACAB-9F383231EF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63E20-2BD0-44F4-86E8-A290FFBEFD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26A6F-A7D1-438D-9C03-684D3081BE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9D522-47AD-4265-AD11-2DDF8CBF34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3A7B7-A7DD-4A32-A54F-17B01A2F179B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66D40-6469-4565-8A73-F507CA0D8FAD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vhardy</cp:lastModifiedBy>
  <cp:lastPrinted>2001-01-16T19:55:21Z</cp:lastPrinted>
  <dcterms:modified xsi:type="dcterms:W3CDTF">2003-05-23T21:25:38Z</dcterms:modified>
  <cp:revision>209</cp:revision>
  <dc:subject/>
  <dc:title>VTPP 423 - PHYSIOLOGY</dc:title>
</cp:coreProperties>
</file>