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4A82-0F1F-40E1-AF95-2CFB317C7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offee and Sugarc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22D-8D25-44A8-BAB3-D0DAE1E3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D44-37BD-485F-A29F-CE1505C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A9E-FE7C-4B39-A98A-3382523C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933-C825-4B36-85B2-FEC21A13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8CC-2911-4A79-BF27-9895CA9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713-EED5-4328-A1C0-0AF1E1A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A3B-5FC3-418E-B790-3A34DC1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D6D-5A51-4CE7-BC09-E6585AC6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179-44FC-4B03-812E-C5810C76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9F4-4C78-405C-9E9F-7A050EC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1BF-A42E-4D1A-BFF0-290B5DA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E1A-77E7-451D-A5A5-6D12909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5407-D4D5-432C-B038-B0B5910073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Tour of Peru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 this presentation: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will look at the history, government, people, economy and geography of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n, we will visit a few cities across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was once inhabited by an ancient warlike people known as the In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97180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14880" cy="51321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932280" cy="243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0:34:50Z</dcterms:created>
  <dc:creator>Unknown User</dc:creator>
  <dc:description/>
  <dc:language>en-US</dc:language>
  <cp:lastModifiedBy>Texas A&amp;M Veterinary Medicine</cp:lastModifiedBy>
  <dcterms:modified xsi:type="dcterms:W3CDTF">2005-05-25T16:04:04Z</dcterms:modified>
  <cp:revision>39</cp:revision>
  <dc:subject/>
  <dc:title>Tour of Peru</dc:title>
</cp:coreProperties>
</file>