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CA44-6E70-4F46-8DE6-D55662240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5522-5498-4F5D-A82B-A7A4EAC7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B395-DC85-4B1F-A137-D0B941B49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B50E-4013-43B3-B298-82ACFF4F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E716-063E-433D-BF2A-6C2622C1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9F5F-65B8-49A9-A284-3AB3156B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6806-42FD-40DD-9B69-F1FE9737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597B-1521-4D9D-A07D-0622B30B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D378-B07C-4C42-BA7E-8DB8842C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AEFB-3ACC-43C9-A197-7D092CCF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33E2-7FFB-4310-9309-E8215C02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1928-F2BD-4B05-8B20-78F7F206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F9BF-8DA4-4CEC-896B-684ABDAF8C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06Z</dcterms:modified>
  <cp:revision>47</cp:revision>
  <dc:subject/>
  <dc:title>Hazards</dc:title>
</cp:coreProperties>
</file>