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F3D5-26EC-4762-A3AB-F1069708E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17F3-5ECF-4B4E-9893-5883DE48A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F528-CE91-4F82-86F8-DDF35346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4C29-688D-48DC-A15B-98D8787F7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7DE1-19ED-4D10-BEE8-CDBB0151F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A3B9-DDE5-4DE3-9237-2EDC9873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7FB4-31DE-4CFF-AAA3-910AD7E0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A240-E1DC-41BC-B8F7-3051AA9C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253A-A6D4-4513-8DA7-C0A1DE6A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9367-D865-4026-B464-4BC4ECEB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5FAB-20A9-459A-B3F5-7102AB1D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0426-FDAF-4661-A4C6-9492339A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CFAE-CE3D-42E6-B53B-02E83C26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297C-1A60-49F4-AB08-926C548E737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1-16T18:50:08Z</dcterms:modified>
  <cp:revision>28</cp:revision>
  <dc:subject/>
  <dc:title>Descriptive Writing</dc:title>
</cp:coreProperties>
</file>