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AADD2-44D7-433D-8554-F0AF141771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B6B8-460C-4125-8F0F-C48D6B981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FB10-0277-44CC-9B83-2C743B6EA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AA66-7F28-4933-8C98-93BDDC61D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01EC-6518-442B-A503-B44367C80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3978-C66F-4DFB-ABB7-A46E5A9FE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923F-3991-45C7-B12E-AF0BA43BC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7607-2D54-4B33-B52D-FC9082E9D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E431-C46F-48FB-A461-D71479C48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713D-2719-4D0D-9BB5-D31CDAF99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B673-672F-4492-B1B4-6226CE68D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A401-1DF6-44C9-A2E4-2F57A09B4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1F3F-D3E0-429D-BB16-7DF3E575F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96C0D-DCE0-49FA-8CA9-69698ED4AA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c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c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Adverb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dverbs modify verbs, adjectives, or other adverb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sk yourself, “What is the adverb modifying and what is it telling me about?”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en?  Wher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How?  How ofte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o what exten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20:15:00Z</dcterms:created>
  <dc:creator>Instructional Tech Student</dc:creator>
  <dc:description/>
  <dc:language>en-US</dc:language>
  <cp:lastModifiedBy>vhardy</cp:lastModifiedBy>
  <dcterms:modified xsi:type="dcterms:W3CDTF">2002-12-19T23:01:53Z</dcterms:modified>
  <cp:revision>8</cp:revision>
  <dc:subject/>
  <dc:title>Adverbs Adverbs modify verbs, adjectives, or other adverbs.</dc:title>
</cp:coreProperties>
</file>