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5956-24A1-4799-BCE2-7BA8747E8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C), Integers in real 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ratios/rates using multiplication/division of whole numbe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te equation from problem situ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 length, area, time, temperature, capacity, weigh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D)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Convert measures within the same measurement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B), Select appropriate tools to solve a probl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9/5  x 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) +  32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9/5 x 18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) + 32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= 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2.4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+ 32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4.4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 is equal to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4.4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8 (B) Measure/solve problems of length, area, time, temperature,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8 (D) Convert measures within the same measurement sy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/apply mathematics to everyday experien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cience TEK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4 (A) Collect, analyze, and record information using scientific too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4 (A) Collect, analyze, and record information to explain a phenomen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4 (A) Collect, record, and analyze information using general scientific too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21 (F) Use math skills to interpret social studies inform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KEYWORDS: Fahrenheit Celsius temperature scale temperature conversion conversions ratio calc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1247760" cy="206676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vert pounds to 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lbs x (1kg / 2.2lbs) x (1000g / 1 kg) = 907.2 grams of dry 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y number of grams by kilojoules/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7.2 grams x (7 kilojoules/gram)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,350.4 kilojoules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B) Use problem-solving model to answer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Select or develop an appropriate problem solving strategy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B) Use a problem-solving model that solves a problem using a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C) Select or develop an appropriate problem-solving strate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B) Use problem-solvi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C) Select an appropriate problem solving strate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ratio conversions unit conversions multiplication division fraction ratio propor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y number of centimeters by number of kilometers each centimeter repres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45 cm x (9.50 km/cm)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.28 k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) Set up conversion problem to determine the distance in i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45 cm x (1 in/ 2.54 cm)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75 i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Formulate and equations form a problem situation using letters as unkno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measurement system conversion conversions length ratio proportion fraction multi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1F9-DB46-4572-97E6-13A17A82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BC5-0BA8-4133-8989-81681A76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379-AAD0-470A-877D-F63BEF5B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CC5A-AAB9-44C7-92EF-733D0F9C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AE6-4090-4876-ABF7-C1BB3014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B7E-2697-4650-AEE4-6DA7591E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68A-2F30-452D-884C-F4D2F7F0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F26-11C7-475F-AB2A-891BDD56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7B7-F975-464A-AF59-AB172FB0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549-E0CE-4CFB-97BB-DF7242CF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DE5-7006-4ABB-BC31-D451450B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EDB6-C1B4-42DA-BFDD-E4D937B2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6A79-A655-4982-A330-C7129E527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TempConv.ppt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Appendices/Per Problems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Appendices/LgthConv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PE Math Supplement.ppt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4479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emperatures from degrees Celsius to degrees Fahrenh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energy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otal distances in different measurement syst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m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4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Temper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6720" y="154908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n arriving in Peru, Connie checked the temperature using the BPC.  The temperature was colder than she had expected.  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temperature was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br>
              <a:rPr sz="2800"/>
            </a:b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sius, what was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erature in Fahrenheit?</a:t>
            </a:r>
            <a:br>
              <a:rPr sz="28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Click here for Temperature Conversion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629400" y="2743200"/>
            <a:ext cx="2079720" cy="345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644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644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kids first met Miguel, he had gathered about 2 pounds of dry dung to add to the fire.  Knowing dung can release 7 kilojoules of energy per gram of dung burned, how much energy would be produced from the du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0080" y="628020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for more information on unit con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64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guel’s Jou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84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’s family came from a small village in the mountains to earn better pay while working at the dig.  Measuring on a map, their village is 4.45 cm from Paloma.  If each centimeter on the map represents a distance of 9.50 km, how far did they have to travel to get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asured in inches, what would be the distance between the dig site and the village as measured on the m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47240" y="6230880"/>
            <a:ext cx="52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e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or more information on length con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Math Challenge Quiz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test your math skill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343400" y="1371600"/>
            <a:ext cx="3995640" cy="49957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0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5:18:05Z</dcterms:created>
  <dc:creator>Jeremiah McNichols</dc:creator>
  <dc:description/>
  <dc:language>en-US</dc:language>
  <cp:lastModifiedBy>Jeremiah McNichols</cp:lastModifiedBy>
  <dcterms:modified xsi:type="dcterms:W3CDTF">2008-06-26T19:40:03Z</dcterms:modified>
  <cp:revision>24</cp:revision>
  <dc:subject/>
  <dc:title>Measurement</dc:title>
</cp:coreProperties>
</file>