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4CAA-3F7D-4AC9-80C7-74989EE7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longitude latitude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map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equator prime meridian geography absolute location 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hemisphere geography latitude longitude degrees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map geography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geography latitude longitude map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Paloma Lima latitude longitude capital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WORDS: Lima latitude longitude geography map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absolute location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Equator Hemisphere longitude latitude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FDF-F3F6-47F7-9801-B7ED1DF8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F64-61FF-4731-815E-8B29301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8CA-1998-4DE3-BA43-6801127A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19C-76CF-4F65-9354-162AAE91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4B7-B8BD-432C-832A-EA74FAC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1D8-08BD-494D-8831-378383B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B7E-3563-4383-8785-EB9BB88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E72-65C0-426C-A10C-27423BE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C1F-B90F-40A6-BF6F-E1250D7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108-2C1B-468D-B204-8F8B222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F9E-456E-45E6-90D5-CB330FE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C5F-C362-4D10-BED7-944B92D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820-5DE3-4970-848E-249D888DB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4952880"/>
            <a:ext cx="77724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city is located at 4° S.L., 74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at city is located at 14° S.L., 72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at city is located at 17.5° S.L., 71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1000" y="4952520"/>
            <a:ext cx="6937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164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re you correct?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layo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quitos is located at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4° W.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co is located at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2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 is located at 17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1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806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0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bsolute geographic location of Peru (longitude and latitude) and use this information to locate Peru and its cities on a map or glo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students need instruction in using longitude and latitude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080" y="35532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Per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045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enter of Peru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Peru on the ma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6° W.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066680" y="5335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Pe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latitude for Peru?  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Peru? 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eru is 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Lima, Per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160" y="4140360"/>
            <a:ext cx="8103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ma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° S.L., 77.1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oma, Peru is a coastal village located very close to Lima, the capital city of Peru.  It is the oldest known village with continuous habitation and is over 7,700 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714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Lima, Peru above (12.0° S.L., 77.1° W.L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00600" cy="51548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953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3384720"/>
            <a:ext cx="608040" cy="326880"/>
          </a:xfrm>
          <a:custGeom>
            <a:avLst/>
            <a:gdLst/>
            <a:ahLst/>
            <a:rect l="l" t="t" r="r" b="b"/>
            <a:pathLst>
              <a:path w="383" h="206">
                <a:moveTo>
                  <a:pt x="14" y="0"/>
                </a:moveTo>
                <a:cubicBezTo>
                  <a:pt x="60" y="23"/>
                  <a:pt x="54" y="16"/>
                  <a:pt x="100" y="0"/>
                </a:cubicBezTo>
                <a:cubicBezTo>
                  <a:pt x="144" y="16"/>
                  <a:pt x="153" y="17"/>
                  <a:pt x="203" y="9"/>
                </a:cubicBezTo>
                <a:cubicBezTo>
                  <a:pt x="232" y="12"/>
                  <a:pt x="262" y="7"/>
                  <a:pt x="289" y="17"/>
                </a:cubicBezTo>
                <a:cubicBezTo>
                  <a:pt x="296" y="20"/>
                  <a:pt x="304" y="96"/>
                  <a:pt x="315" y="103"/>
                </a:cubicBezTo>
                <a:cubicBezTo>
                  <a:pt x="327" y="111"/>
                  <a:pt x="344" y="109"/>
                  <a:pt x="358" y="112"/>
                </a:cubicBezTo>
                <a:cubicBezTo>
                  <a:pt x="366" y="121"/>
                  <a:pt x="380" y="126"/>
                  <a:pt x="383" y="138"/>
                </a:cubicBezTo>
                <a:cubicBezTo>
                  <a:pt x="383" y="140"/>
                  <a:pt x="371" y="194"/>
                  <a:pt x="366" y="198"/>
                </a:cubicBezTo>
                <a:cubicBezTo>
                  <a:pt x="359" y="204"/>
                  <a:pt x="349" y="203"/>
                  <a:pt x="340" y="206"/>
                </a:cubicBezTo>
                <a:cubicBezTo>
                  <a:pt x="307" y="195"/>
                  <a:pt x="299" y="188"/>
                  <a:pt x="289" y="155"/>
                </a:cubicBezTo>
                <a:cubicBezTo>
                  <a:pt x="312" y="79"/>
                  <a:pt x="203" y="117"/>
                  <a:pt x="160" y="120"/>
                </a:cubicBezTo>
                <a:cubicBezTo>
                  <a:pt x="131" y="117"/>
                  <a:pt x="103" y="112"/>
                  <a:pt x="74" y="112"/>
                </a:cubicBezTo>
                <a:cubicBezTo>
                  <a:pt x="59" y="112"/>
                  <a:pt x="45" y="125"/>
                  <a:pt x="31" y="120"/>
                </a:cubicBezTo>
                <a:cubicBezTo>
                  <a:pt x="23" y="117"/>
                  <a:pt x="25" y="103"/>
                  <a:pt x="22" y="95"/>
                </a:cubicBezTo>
                <a:cubicBezTo>
                  <a:pt x="17" y="65"/>
                  <a:pt x="0" y="27"/>
                  <a:pt x="14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Lima, Peru on th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What is the latitude for Lima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is the longitude for Lima? __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absolute location for Lima, Peru is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4698720"/>
            <a:ext cx="792504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Lima, Peru is 12.0° S.L., 77.1° W.L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Which city is further Nor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ich city is closer to the Equa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ich city is located in the Southern Hemisp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ich city is located in the Western Hemispher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08:20Z</dcterms:modified>
  <cp:revision>21</cp:revision>
  <dc:subject/>
  <dc:title>Slide 1</dc:title>
</cp:coreProperties>
</file>