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7F4C-5C33-4F9D-A7ED-726E58C0C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bulary Challeng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I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Spe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Malnour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foreb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Monstro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Rel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ssass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0117-A07C-4501-954F-CCE0C361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EF0B-2FEA-42D6-9591-E048EDFE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AA5F-09D6-4CD8-9FF7-289078F1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8766-94CC-4CB0-BFE1-6161393F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F392-6DB3-4E0D-BEB0-E06AF435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F6A6-49D1-433C-B4B8-50C101A5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FC8E-AB0A-4063-AB60-A191842C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D4FF-4AF8-4D9A-9FE6-32870CF6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D294-D3CB-40A5-A99C-0968E955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5230-946B-4921-B151-D10D8A11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6300-D8A2-49B5-B6E0-098C3421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7DA4-F5AD-4B37-9AAE-D7EBC486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E4F6-16B4-4328-A5BF-A8097C42E4C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eVocab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ease fill in the blank with the correct word from “The Kiss of the Assassin.” Use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lossary of Term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a resource if need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needed expert advice on ancient Peruvian temples for my report, so I scheduled an interview with the __________ of the museum of Peruvian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My final report on Peru was  ___________. It covered all aspects of the country including geography, culture and economic 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prevent the crime in this story, Connie and Roman had to _________ a strategy quick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find out more about the behavior of the black beetle, scientists select a few beetles and study the characteristics of each   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eelings of the Peruvian people about their ancient relics were _________ to the villain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knew that the stray cat at the archeological site was __________ because I could see the outline of his ribs through his fu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’s actions were the reason for Connie’s feelings of 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ile of trash left behind by the tourists who came to see the archeological site was a __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y studying _________ of ancient cultures, we can learn about the pa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sect was the __________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Vince Hardy</cp:lastModifiedBy>
  <dcterms:modified xsi:type="dcterms:W3CDTF">2007-05-03T15:06:30Z</dcterms:modified>
  <cp:revision>26</cp:revision>
  <dc:subject/>
  <dc:title>PowerPoint Presentation</dc:title>
</cp:coreProperties>
</file>