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9971-1163-4FAA-854F-92ED5C0E5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F684-0C78-4484-AC12-DEDED942E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8064-E285-4F55-8EEA-170B5326F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B089-DB4E-4EE6-ADA0-8F9B76197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8068-A176-40E8-8528-A71F5382F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A7D5-7653-48CA-8DDA-9F54A3059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2032-FEAB-4255-AEFF-819D825C5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A4D7-527B-4857-9233-90923C15E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A204-AB39-4122-A4CB-E0F3D1C14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785D-4592-40AB-BB0C-4EEAA792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C7F6-75D1-4B2E-9C80-CDFDB382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623E-7CD3-404A-BCF5-345D9DEA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E8F53-4A8E-4738-8C5A-ACFFC466BEC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up thick, cloudy, and sometimes bloody mucus from the lungs, rapid heart beat, swelling of lymph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2274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or sneezing of infected person, unpasteurized milk or milk products obtained from infected c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7:06Z</dcterms:modified>
  <cp:revision>47</cp:revision>
  <dc:subject/>
  <dc:title>Hazards</dc:title>
</cp:coreProperties>
</file>