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63C4-12DB-427B-AC2B-B125F06CC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ED87-7BFA-440A-879A-AA9884D3F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FAE9-E474-4C16-A0CA-1705DF4281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72657-C577-4ADD-B581-524997405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F0D3-6BD1-4CC0-9832-5CFE4CE859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FCC2-5EF5-4DB1-8201-9BD9256BF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05029-D6E5-4D06-ADF5-59FEEA4C3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3C38-5A8B-497A-8F79-810AABB55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F3DE6-BFB7-4F6D-AD1C-3CD6E3F8A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20BF-BB07-4308-B5EB-1972C98CE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EC6A-C693-49AD-99DC-E2D86840F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8C9AD-64A1-4FD5-9222-383DF4560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BBB8-B17E-4BD5-9007-A288D7BEA90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05F66-9EF0-440F-B910-374EC881177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4D06-7CF4-4639-880E-B9E7D24E327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4:23Z</dcterms:modified>
  <cp:revision>210</cp:revision>
  <dc:subject/>
  <dc:title>VTPP 423 - PHYSIOLOGY</dc:title>
</cp:coreProperties>
</file>