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F914-1408-4BDF-9CB8-DE63A7F4D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47FA-20A9-4D1E-8EEB-E28FD090B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567A-1113-4269-9EF3-7F68D61C1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0272-25A0-497F-A775-4E86AE2BB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2E16-6061-4907-8D28-01311378B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D9AF-1A42-437A-ADEC-54A990B64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6FC2-FB96-4AD1-8F29-B5D03895B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8177-CFF0-40EC-9617-862CDB7BD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EF9C-DD57-4C58-A60D-40003A2F9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8AE3-0CB1-4AAD-B68C-C0B0B228C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DC8E-5B05-42B7-83C1-54952363A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D628-5720-4B5C-B9D1-6CCC616DF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B3D9-C446-4F76-AE2B-D71E53CC0FD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408C-BE6A-4347-8E6C-61133EA443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F06B-F466-48F6-B72C-CA0156ECA3D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58Z</dcterms:modified>
  <cp:revision>211</cp:revision>
  <dc:subject/>
  <dc:title>VTPP 423 - PHYSIOLOGY</dc:title>
</cp:coreProperties>
</file>