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671B-5C92-4319-BFBC-92EF41AB7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5F56E-B3C5-41E6-8F81-760251CDB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0DDF5-AD42-40EA-AC08-BBE5DC074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F07BD-3933-4D8F-AD6C-9BB31506D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8B56D-E3AB-4871-9A5C-63B1F4EF2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5D7B7-0E06-4DC1-9C78-47C33C597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54ABA-37C4-4367-8E4E-C31EA1A5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8A61F-7375-4E13-B9C8-A9CB06C32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0B084-1440-468A-B4A8-3496AC03B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85BA2-276E-4D34-A794-98B909D12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FEC6E-DE06-4CB6-AEDD-F51104955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25A00-89B7-496A-A30D-7BDE38437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2D32F-BC6B-401C-A434-528696679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630B-2444-4AD4-BBCC-0A80B1065DE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1" name="PlaceHolder 2"/>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2"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6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4" name="" descr=""/>
          <p:cNvPicPr/>
          <p:nvPr/>
        </p:nvPicPr>
        <p:blipFill>
          <a:blip r:embed="rId2"/>
          <a:stretch/>
        </p:blipFill>
        <p:spPr>
          <a:xfrm>
            <a:off x="4343400" y="3657600"/>
            <a:ext cx="4114800" cy="234468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ebebeb"/>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ebebeb"/>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ebebeb"/>
              </a:solidFill>
              <a:latin typeface="Times New Roman"/>
            </a:endParaRPr>
          </a:p>
        </p:txBody>
      </p:sp>
      <p:sp>
        <p:nvSpPr>
          <p:cNvPr id="73"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4" name="" descr=""/>
          <p:cNvPicPr/>
          <p:nvPr/>
        </p:nvPicPr>
        <p:blipFill>
          <a:blip r:embed="rId2"/>
          <a:stretch/>
        </p:blipFill>
        <p:spPr>
          <a:xfrm>
            <a:off x="4343400" y="2971800"/>
            <a:ext cx="4100400" cy="168912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in Idea</a:t>
            </a:r>
            <a:endParaRPr b="0" lang="en-US" sz="4400" spc="-1" strike="noStrike">
              <a:solidFill>
                <a:srgbClr val="ebebeb"/>
              </a:solidFill>
              <a:latin typeface="Times New Roman"/>
            </a:endParaRPr>
          </a:p>
        </p:txBody>
      </p:sp>
      <p:sp>
        <p:nvSpPr>
          <p:cNvPr id="77" name="PlaceHolder 2"/>
          <p:cNvSpPr>
            <a:spLocks noGrp="1"/>
          </p:cNvSpPr>
          <p:nvPr>
            <p:ph/>
          </p:nvPr>
        </p:nvSpPr>
        <p:spPr>
          <a:xfrm>
            <a:off x="457200" y="1371600"/>
            <a:ext cx="4038480" cy="45259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29040" indent="-3290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29040" indent="-3290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8" name="" descr=""/>
          <p:cNvPicPr/>
          <p:nvPr/>
        </p:nvPicPr>
        <p:blipFill>
          <a:blip r:embed="rId2"/>
          <a:stretch/>
        </p:blipFill>
        <p:spPr>
          <a:xfrm>
            <a:off x="4572000" y="2057400"/>
            <a:ext cx="4191120" cy="370512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5-05-17T17:29:26Z</dcterms:modified>
  <cp:revision>42</cp:revision>
  <dc:subject/>
  <dc:title>Social Studies Mystery</dc:title>
</cp:coreProperties>
</file>