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3BF5-E542-4B26-A63F-2E6E5AA6C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D620-3260-4ABF-97DC-C37A852A3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B445-61E8-4235-A4EC-C14B45951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9690-12F4-4A51-BC74-BA9065F16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9DE3-528C-4091-8644-DCD85AEED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7EB8-BCB9-4BAF-B878-195469659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0D40-4ABE-4A81-B4B9-EE34948E0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5D41-A3B0-4948-94C4-6926B2626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0958-EBEF-4183-80D7-BA70EA64E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6F85-414C-4AA0-BCE0-C806F5F90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35CE-4BE8-4B02-9288-FDC9CB78F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FB05-200D-45C5-9D40-D979E6814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E182-8339-4BD6-859B-CA0B1A83BE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D195-FC93-4ADA-8AF7-628D564151D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38Z</dcterms:modified>
  <cp:revision>209</cp:revision>
  <dc:subject/>
  <dc:title>VTPP 423 - PHYSIOLOGY</dc:title>
</cp:coreProperties>
</file>