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B350-5205-44E0-8ED0-60ED70906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an archaeolog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Migu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ancient artifac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Robe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both in Peru and in the United Sta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adobe hu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a bug bi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g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insec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had a painful sting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3BD-6BF0-452F-A8FA-CC18FC56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B0F-335A-468E-87AF-EBB79BEF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37E-BAA1-4766-AC0A-446E1181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FE3-73E9-4977-80A1-6292A50E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191-59BC-4E71-892B-313598D0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A5D0-9D18-4CFA-B581-62F1F074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CDC-3081-4539-998D-96A13DE7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A67-BFBC-4F00-AC39-57A850A5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00A-D009-4460-9EF1-FD118F0F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C7B-A3E4-43BC-858D-D57A29D8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B3F-6485-43D9-A277-9B501F3E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E17-BCAD-46E9-BCB3-C7082044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BA55-EB54-4C7C-A046-0EE3E27E166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Read “The Kiss of the Assassin” carefull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Take the Investigator’s Challenge Quiz to determine how carefully you read the stor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fter you complete the quiz and see your score, review each question. 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Find the part of the story that provides the correct answer to the question.  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Underline or highlight the important details you find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82680" y="25779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82680" y="32130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82680" y="3860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82680" y="44830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82680" y="5118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05080" y="0"/>
            <a:ext cx="6838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89160" y="30225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70080" y="367020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70080" y="43052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0080" y="4952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3811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chae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2680" y="2514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2680" y="30733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82680" y="36194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2680" y="41655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82680" y="47116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683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162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2037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7116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5232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82680" y="2933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82680" y="34923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82680" y="40514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2680" y="4610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2933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34923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40514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4610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51562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82680" y="24638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82680" y="34164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82680" y="4038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82680" y="46735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82680" y="53211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82680" y="25909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82680" y="32130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82680" y="3860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2680" y="44956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2680" y="5118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82680" y="30099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82680" y="3657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82680" y="42926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2680" y="49276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33019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9369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45594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2070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5-05-17T17:22:13Z</dcterms:modified>
  <cp:revision>75</cp:revision>
  <dc:subject/>
  <dc:title>Investigator’s Challenge</dc:title>
</cp:coreProperties>
</file>