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8024B-76A0-44C7-8A20-D71C733F4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../slides/slide3.xml"/><Relationship Id="rId3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 (C), Integers in real lif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olve ratios/rates using multiplication/division of whole number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5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rmulate equation from problem situ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8 (B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easure length, area, time, temperature, capacity, weigh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8 (D),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Convert measures within the same measurement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/apply mathematics to everyday exper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B), Select appropriate tools to solve a probl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9/5  x  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) +  32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9/5 x 18 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) + 32 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o = o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2.4 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+ 32 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4.4 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C is equal to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64.4</a:t>
            </a:r>
            <a:r>
              <a:rPr b="1" lang="en-US" sz="9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th TEKS: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.8 (B) Measure/solve problems of length, area, time, temperature, capac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.8 (D) Convert measures within the same measurement syste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.11 (A)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/apply mathematics to everyday experien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.2 (B) Add, subtract, multiply, and divide fractions and decimals to find answ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8.2 (B) Add, subtract, multiply, and divide rational numbers in problem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Science TEKS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.4 (A) Collect, analyze, and record information using scientific too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.4 (A) Collect, analyze, and record information to explain a phenomen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8.4 (A) Collect, record, and analyze information using general scientific too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.21 (F) Use math skills to interpret social studies informatio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KEYWORDS: Fahrenheit Celsius temperature scale temperature conversion conversions ratio calcul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57600" y="1143000"/>
            <a:ext cx="1247760" cy="2066760"/>
          </a:xfrm>
          <a:prstGeom prst="rect">
            <a:avLst/>
          </a:prstGeom>
          <a:ln w="0">
            <a:noFill/>
          </a:ln>
        </p:spPr>
      </p:pic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v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vert pounds to gr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 lbs x (1kg / 2.2lbs) x (1000g / 1 kg) = 907.2 grams of dry du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ultiply number of grams by kilojoules/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07.2 grams x (7 kilojoules/gram) =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,350.4 kilojoules of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 (C) Use multiplication and division in problems with equal ratios and r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B) Use problem-solving model to answer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C) Select or develop an appropriate problem solving strategy to solve probl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3 (B) Use a problem-solving model that solves a problem using a 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3 (C) Select or develop an appropriate problem-solving strateg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 (B) Use problem-solving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 (C) Select an appropriate problem solving strate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ratio conversions unit conversions multiplication division fraction ratio propor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v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ultiply number of centimeters by number of kilometers each centimeter represen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45 cm x (9.50 km/cm) =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2.28 k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) Set up conversion problem to determine the distance in inch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45 cm x (1 in/ 2.54 cm) =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75 i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 (C) Use multiplication and division in problems with equal ratios and r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5 Formulate and equations form a problem situation using letters as unknow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A), Identify/apply mathematics to everyday exper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 (B) Add, subtract, multiply, and divide fractions and decimals to find answ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2 (B) Add, subtract, multiply, and divide rational numbers in probl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2 (D) Use multiplication by a unit rate to represent proportional relationshi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measurement system conversion conversions length ratio proportion fraction multipl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3CE6-C766-4EFF-8F90-AEF206C2C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8E4B-88D7-498F-851E-EB7C3BD0C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CC0A-EC40-4318-AD7C-B43F1ACE4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0AD1-6D46-4A23-AB25-9C5F58144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04CB-23D3-4A53-8793-091A591DE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AA94-B7FF-4E0C-BA60-40EB0EFF6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2A38-ABA4-46F6-BF0C-C8BDBA305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C80C-73C7-4093-B92C-BEE66DE0E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2EE8-5368-4A28-B89C-9E4B1B875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FD1D-43F8-4600-9708-72EA59F0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A11B-992E-4296-8651-3A5C94B3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68D5-A756-464A-A721-C4E9C49E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A76E2-B457-4EC9-B6E4-DB03B95EF6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Appendices/TempConv.ppt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hyperlink" Target="Appendices/Per Problems.ppt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hyperlink" Target="Appendices/LgthConv.ppt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Appendices/PE Math Supplement.ppt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3.png"/><Relationship Id="rId9" Type="http://schemas.openxmlformats.org/officeDocument/2006/relationships/hyperlink" Target="http://peer.tamu.edu/forms/Curricula_Survey.shtml" TargetMode="External"/><Relationship Id="rId10" Type="http://schemas.openxmlformats.org/officeDocument/2006/relationships/hyperlink" Target="http://peer.tamu.edu/forms/Curricula_Survey.shtml" TargetMode="External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85720" y="971640"/>
            <a:ext cx="7972560" cy="1466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3123720"/>
            <a:ext cx="792504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0000cc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621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1447920"/>
            <a:ext cx="7772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t temperatures from degrees Celsius to degrees Fahrenhe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stand energy prod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culate total distances in different measurement syste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m-1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436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rting Temper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66720" y="1549080"/>
            <a:ext cx="777240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on arriving in Peru, Connie checked the temperature using the BPC.  The temperature was colder than she had expected.  </a:t>
            </a:r>
            <a:br>
              <a:rPr sz="28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temperature was 1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 </a:t>
            </a:r>
            <a:br>
              <a:rPr sz="2800"/>
            </a:b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lsius, what was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mperature in Fahrenheit?</a:t>
            </a:r>
            <a:br>
              <a:rPr sz="2800"/>
            </a:br>
            <a:br>
              <a:rPr sz="2000"/>
            </a:b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Click here for Temperature Conversion Inf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9240" cy="6856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6629400" y="2743200"/>
            <a:ext cx="2079720" cy="3451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1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76440" y="35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76440" y="172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kids first met Miguel, he had gathered about 2 pounds of dry dung to add to the fire.  Knowing dung can release 7 kilojoules of energy per gram of dung burned, how much energy would be produced from the du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900080" y="6280200"/>
            <a:ext cx="53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</a:t>
            </a:r>
            <a:r>
              <a:rPr b="0" lang="en-US" sz="1800" spc="-1" strike="noStrike" u="sng">
                <a:solidFill>
                  <a:srgbClr val="0000cc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for more information on unit convers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6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644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guel’s Journ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84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guel’s family came from a small village in the mountains to earn better pay while working at the dig.  Measuring on a map, their village is 4.45 cm from Paloma.  If each centimeter on the map represents a distance of 9.50 km, how far did they have to travel to get the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measured in inches, what would be the distance between the dig site and the village as measured on the ma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947240" y="6230880"/>
            <a:ext cx="524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</a:t>
            </a:r>
            <a:r>
              <a:rPr b="0" lang="en-US" sz="1800" spc="-1" strike="noStrike" u="sng">
                <a:solidFill>
                  <a:srgbClr val="0000cc"/>
                </a:solidFill>
                <a:uFillTx/>
                <a:latin typeface="Times New Roman"/>
                <a:hlinkClick r:id="rId3"/>
              </a:rPr>
              <a:t>her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for more information on length convers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6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 the </a:t>
            </a:r>
            <a:r>
              <a:rPr b="0" lang="en-US" sz="32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Math Challenge Quiz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 test your math skill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343400" y="1371600"/>
            <a:ext cx="3995640" cy="499572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80880" y="1909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380880" y="34336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380880" y="4957920"/>
            <a:ext cx="1359000" cy="13716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04920" y="9907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248520" y="2209680"/>
            <a:ext cx="2601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 of Agricultural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enter for Environmental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Veterinary Medicine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4724280" y="345132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4724280" y="49705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643280" y="1928880"/>
            <a:ext cx="1546560" cy="1371600"/>
            <a:chOff x="4643280" y="1928880"/>
            <a:chExt cx="1546560" cy="1371600"/>
          </a:xfrm>
        </p:grpSpPr>
        <p:sp>
          <p:nvSpPr>
            <p:cNvPr id="80" name=""/>
            <p:cNvSpPr/>
            <p:nvPr/>
          </p:nvSpPr>
          <p:spPr>
            <a:xfrm>
              <a:off x="4724280" y="1928880"/>
              <a:ext cx="137160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1" name=""/>
            <p:cNvGraphicFramePr/>
            <p:nvPr/>
          </p:nvGraphicFramePr>
          <p:xfrm>
            <a:off x="4643280" y="2117880"/>
            <a:ext cx="1546560" cy="101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643280" y="2117880"/>
                      <a:ext cx="154656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3" name=""/>
          <p:cNvSpPr/>
          <p:nvPr/>
        </p:nvSpPr>
        <p:spPr>
          <a:xfrm>
            <a:off x="1916280" y="2139840"/>
            <a:ext cx="267480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onal Institute of Environmental Health Sci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Times New Roman"/>
                <a:hlinkClick r:id="rId9"/>
              </a:rPr>
              <a:t>http://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Times New Roman"/>
                <a:hlinkClick r:id="rId10"/>
              </a:rPr>
              <a:t>peer.tamu.edu/forms/Curricula_Survey.sht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5T15:18:05Z</dcterms:created>
  <dc:creator>Jeremiah McNichols</dc:creator>
  <dc:description/>
  <dc:language>en-US</dc:language>
  <cp:lastModifiedBy>Jeremiah McNichols</cp:lastModifiedBy>
  <dcterms:modified xsi:type="dcterms:W3CDTF">2008-06-26T19:40:03Z</dcterms:modified>
  <cp:revision>24</cp:revision>
  <dc:subject/>
  <dc:title>Measurement</dc:title>
</cp:coreProperties>
</file>