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1DCF8-90C7-4D15-93D3-0D219A0DD6E9}"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9536D-CD80-4726-B2D5-025DCAF26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446CB-8C46-4CAD-8255-681D57902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40370-BEFF-4C1C-A23F-A15A62172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AE92B-04F2-4C7B-8175-7D20344EE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2C750-B024-440B-8DF7-D030633FB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28E03-9579-425D-A7E9-40A7A96A2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121B8-4BBC-4F2C-B047-02A88DB9C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BC03F-F405-40FB-9977-F362827A5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42645-9BC1-41F7-BE93-5E74F61F7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2A2F6-081C-4780-9E63-F483F17AC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310E3-65BC-4738-85F0-5E017D512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C2742-9623-4D2F-85D2-04447E3DB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7927-5F5D-40B9-8EA0-14DCD47DB6A5}"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t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wklemm</cp:lastModifiedBy>
  <dcterms:modified xsi:type="dcterms:W3CDTF">2003-06-23T21:09:03Z</dcterms:modified>
  <cp:revision>284</cp:revision>
  <dc:subject/>
  <dc:title>Combating Infections</dc:title>
</cp:coreProperties>
</file>