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57C9-DFE1-42D2-9DF5-125609D79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CB2C-384C-4EF0-8653-708F2C46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B294-58DA-4352-AAA6-5DCB7118A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5ED4-1A51-4E57-A941-B8FB67D22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53D1-DF68-4BFE-A0EA-73EFA343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B563-0A93-403B-AAC4-A79E6A7E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FFC9-B68F-4D1C-A478-3A9A450A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B619-571B-4C78-A9E6-1F61B5AE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6D01-8487-4261-8F21-793BA7E3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DF8A-27DA-4959-9811-FB4CCE69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248A-0553-4E37-A08F-2ED7CCFF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A566-F223-48C9-BEF0-7804EFA6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8F87-33E5-4A19-9BC3-128FEE0172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curring chills, fever, anemia and sometimes jaund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 through bite of infected mosqui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4T21:53:52Z</dcterms:modified>
  <cp:revision>51</cp:revision>
  <dc:subject/>
  <dc:title>Hazards</dc:title>
</cp:coreProperties>
</file>