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1C38-AE7F-46F0-B0A3-ED8B7B993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801-6583-4C2A-BBBA-CB8EBF0D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6E7-9F7A-48CB-80D8-7938D770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3E8-0346-41E9-B8BC-BDCC3CA0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A6B-CC7E-4B19-9A91-8748B8CB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BBC-3463-4427-BC89-2789DE1D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7B7-54CB-478C-A536-3DAF69C2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E8E-EC59-49E3-A6C1-DBA9A636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575-CD52-459C-8504-36A1AF48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D8B-FDAF-44BA-BD7B-C95058FB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B5D-6104-4D3F-A84E-68A93378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FA64-347C-4B57-8B6C-C57665FA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4A7-4F7E-438B-B6E7-FE14BE26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2C25-7415-43EB-9E1F-F795DAE1C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vhardy</cp:lastModifiedBy>
  <dcterms:modified xsi:type="dcterms:W3CDTF">2003-05-23T21:26:30Z</dcterms:modified>
  <cp:revision>5</cp:revision>
  <dc:subject/>
  <dc:title>Metric Multiplication Factors</dc:title>
</cp:coreProperties>
</file>