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06FE-C0EE-4B5F-AC8D-EDB0C98C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longitude latitude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map geography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ongitude latitude equator prime meridian geography absolute location 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hemisphere geography latitude longitude degrees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map geography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geography latitude longitude map globe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Paloma Lima latitude longitude capital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WORDS: Lima latitude longitude geography map absolute location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titude longitude absolute location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Equator Hemisphere longitude latitude map geography degrees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408-0B07-4992-9227-E3180D3E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1FD-71CC-4E47-BE71-CB95B9E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21F-8249-49FF-87C6-920964FD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6C0-222C-4961-8E7B-F3A46D42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F4-30C5-40F9-8168-64D2A6B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D22-2FC9-4CEB-AD24-D49E673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485-56DE-4658-9F43-05BEEFF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252-FB9E-454E-81DF-7816A3A7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AEE-9867-469E-8C07-A28BDA2B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4AA-B344-4226-8176-348ED52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F04-3070-412C-9F8B-22C9B49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AAA-1690-4511-BD02-BB8BEFA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E79E-9EFE-40C9-8262-A0A57ECE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4952880"/>
            <a:ext cx="77724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city is located at 4° S.L., 74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at city is located at 14° S.L., 72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at city is located at 17.5° S.L., 71° W.L.? _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1000" y="4952520"/>
            <a:ext cx="6937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164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re you correct?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layo is located at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80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quitos is located at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4° W.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co is located at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2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4600" indent="-384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 is located at 17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1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806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0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bsolute geographic location of Peru (longitude and latitude) and use this information to locate Peru and its cities on a map or glo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students need instruction in using longitude and latitude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080" y="355320"/>
            <a:ext cx="78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Per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045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enter of Peru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u in the Eastern or Western Hemisp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Peru on the ma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S.L., 76° W.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066680" y="5335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Pe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latitude for Peru?  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Peru? 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eru is 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Lima, Per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160" y="4140360"/>
            <a:ext cx="8103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ma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° S.L., 77.1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oma, Peru is a coastal village located very close to Lima, the capital city of Peru.  It is the oldest known village with continuous habitation and is over 7,700 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714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and click on Lima, Peru above (12.0° S.L., 77.1° W.L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00600" cy="51548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9532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3384720"/>
            <a:ext cx="608040" cy="326880"/>
          </a:xfrm>
          <a:custGeom>
            <a:avLst/>
            <a:gdLst/>
            <a:ahLst/>
            <a:rect l="l" t="t" r="r" b="b"/>
            <a:pathLst>
              <a:path w="383" h="206">
                <a:moveTo>
                  <a:pt x="14" y="0"/>
                </a:moveTo>
                <a:cubicBezTo>
                  <a:pt x="60" y="23"/>
                  <a:pt x="54" y="16"/>
                  <a:pt x="100" y="0"/>
                </a:cubicBezTo>
                <a:cubicBezTo>
                  <a:pt x="144" y="16"/>
                  <a:pt x="153" y="17"/>
                  <a:pt x="203" y="9"/>
                </a:cubicBezTo>
                <a:cubicBezTo>
                  <a:pt x="232" y="12"/>
                  <a:pt x="262" y="7"/>
                  <a:pt x="289" y="17"/>
                </a:cubicBezTo>
                <a:cubicBezTo>
                  <a:pt x="296" y="20"/>
                  <a:pt x="304" y="96"/>
                  <a:pt x="315" y="103"/>
                </a:cubicBezTo>
                <a:cubicBezTo>
                  <a:pt x="327" y="111"/>
                  <a:pt x="344" y="109"/>
                  <a:pt x="358" y="112"/>
                </a:cubicBezTo>
                <a:cubicBezTo>
                  <a:pt x="366" y="121"/>
                  <a:pt x="380" y="126"/>
                  <a:pt x="383" y="138"/>
                </a:cubicBezTo>
                <a:cubicBezTo>
                  <a:pt x="383" y="140"/>
                  <a:pt x="371" y="194"/>
                  <a:pt x="366" y="198"/>
                </a:cubicBezTo>
                <a:cubicBezTo>
                  <a:pt x="359" y="204"/>
                  <a:pt x="349" y="203"/>
                  <a:pt x="340" y="206"/>
                </a:cubicBezTo>
                <a:cubicBezTo>
                  <a:pt x="307" y="195"/>
                  <a:pt x="299" y="188"/>
                  <a:pt x="289" y="155"/>
                </a:cubicBezTo>
                <a:cubicBezTo>
                  <a:pt x="312" y="79"/>
                  <a:pt x="203" y="117"/>
                  <a:pt x="160" y="120"/>
                </a:cubicBezTo>
                <a:cubicBezTo>
                  <a:pt x="131" y="117"/>
                  <a:pt x="103" y="112"/>
                  <a:pt x="74" y="112"/>
                </a:cubicBezTo>
                <a:cubicBezTo>
                  <a:pt x="59" y="112"/>
                  <a:pt x="45" y="125"/>
                  <a:pt x="31" y="120"/>
                </a:cubicBezTo>
                <a:cubicBezTo>
                  <a:pt x="23" y="117"/>
                  <a:pt x="25" y="103"/>
                  <a:pt x="22" y="95"/>
                </a:cubicBezTo>
                <a:cubicBezTo>
                  <a:pt x="17" y="65"/>
                  <a:pt x="0" y="27"/>
                  <a:pt x="14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Lima, Peru on the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What is the latitude for Lima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° 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at is the longitude for Lima? _________° 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absolute location for Lima, Peru is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4698720"/>
            <a:ext cx="792504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solute location for Lima, Peru is 12.0° S.L., 77.1° W.L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Which city is further Nor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Which city is closer to the Equa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Which city is located in the Southern Hemisp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Which city is located in the Western Hemispher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08:20Z</dcterms:modified>
  <cp:revision>21</cp:revision>
  <dc:subject/>
  <dc:title>Slide 1</dc:title>
</cp:coreProperties>
</file>