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C61FC-A3ED-42B1-920C-8079ABA4B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FE82E-B179-4B88-8F25-525C64413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0CE6B-8498-4829-AF57-1CC51D960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F5C13-D512-4806-A7CD-7ABEB4FB3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29A15-6F23-4E27-A19C-E9E2B1939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374EC-1C57-43F6-A9FC-BD963CB5A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B51EB-1336-4E2D-88EF-6C913B0B8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D73E3-5D0E-47E1-8F9A-BCA755AED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88090-E215-404F-9374-3B98CD033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26189-50A4-48AE-BD44-FAD01E40C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E1397-2025-479F-A075-3158BCD84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6A71C-BF72-4897-907D-1DD570AEA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5FFA8-C521-4A3D-AF21-5167BBEAB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BDA82-F125-4910-88E9-B306AA76A9D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Laconia"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vhardy</cp:lastModifiedBy>
  <dcterms:modified xsi:type="dcterms:W3CDTF">2003-02-06T02:02:45Z</dcterms:modified>
  <cp:revision>22</cp:revision>
  <dc:subject/>
  <dc:title>What Do We Do To Purify Water Today?</dc:title>
</cp:coreProperties>
</file>