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145C-BEAD-4B49-8D77-C5B86B90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, C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egular reading of independen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Demonstrating fluency an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Adjustment of read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Using multiple referen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, Composing original texts while applying the conventions of written language to communicat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, Applying standard grammar and usage to communicate clearly and effectively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, Using writing processes for self-initiated and assigne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Interpret idioms, analogies, and multiple-meaning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ocabulary language dictionary glossary vocabulary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H) Use compiled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escriptive writing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senses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“Adjective” or “Adverb” for more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grammar lang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G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descriptive wr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129-2DBA-49A2-89CA-96F47562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71A-4593-433F-A44C-EC801E8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073-51C7-48B7-B5BE-08675880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34B-2B26-4E43-A12B-A1A12133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01C-B83E-4D5C-B64A-5797AF30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1E8-CA7C-4FB2-8708-8932226F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722-B468-43ED-BBD0-6AF8A34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CEC-CE07-46B9-B2B6-D14A456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D27-B967-41C6-8646-8DD4A05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66E-9325-4AAF-AD9E-F8ED40F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950-D3ED-4D03-9957-6BBF574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22B-4857-4862-8D4E-4DE1317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3DB-1E69-4295-9FB9-2C5B6622D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djctv.ppt" TargetMode="External"/><Relationship Id="rId3" Type="http://schemas.openxmlformats.org/officeDocument/2006/relationships/hyperlink" Target="file:///Appendices/Advrbs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ew vocabulary words from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essay about an archeological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finitions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ssay that demonstrates proper use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new words will help to improve your writing and reading. Look through “The Kiss of the Assassin” and identify words that are unfamilia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in the Glossary of Terms to help find definitions of thes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to see if you are an expert Word Explor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36840"/>
            <a:ext cx="2857320" cy="4332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rtifacts Could Tal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the story that the archaeological dig was located in Paloma, a village that had been inhabited continuously for 7,700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Miguel’s father and that you have just unearthed an artifact at the Paloma s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at that object might have been and describe it. Remember the key points to include in a descriptiv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9560" y="1828800"/>
            <a:ext cx="88567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djective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ive sens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to descri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  Include sight, sound, smell, taste or touch wor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ina"/>
          <p:cNvPicPr/>
          <p:nvPr/>
        </p:nvPicPr>
        <p:blipFill>
          <a:blip r:embed="rId2"/>
          <a:stretch/>
        </p:blipFill>
        <p:spPr>
          <a:xfrm>
            <a:off x="4572000" y="1949400"/>
            <a:ext cx="4191120" cy="2730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13880" y="542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d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noun. For example: “The kissing bug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 of a type of bug called a reduvid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verb.  It can also be used as an adjective to refer to the state of someone’s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good” means to be in good spirits. “Good” modifies “spirit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fel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he had seen the precious ancient rel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well” means to be in goo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sister did not fe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he had a f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46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the blanks with “good” or “well,” then tell whether each word is acting as an adjective or an adver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id a _______ job of helping Robert pack up the ship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Robert worked _______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ther had not been feeling ______ for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1036_001"/>
          <p:cNvPicPr/>
          <p:nvPr/>
        </p:nvPicPr>
        <p:blipFill>
          <a:blip r:embed="rId2"/>
          <a:stretch/>
        </p:blipFill>
        <p:spPr>
          <a:xfrm>
            <a:off x="3743280" y="1749600"/>
            <a:ext cx="5019840" cy="33130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y in Peru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14600"/>
            <a:ext cx="3289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scene in the picture to begin to understand the daily life of a village in Peru.  Use adjectives and adverbs to make your writing vivid and precise.  Begin by describing what you see with adjectives, then add actions and life with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1:46Z</dcterms:modified>
  <cp:revision>29</cp:revision>
  <dc:subject/>
  <dc:title>Objectives – English 1</dc:title>
</cp:coreProperties>
</file>