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E191-570E-47A4-92B8-E70FA6CCE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88E-C6F9-41AB-A615-B964F1D7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F26-ACD1-4216-AD8E-4A28C7FE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11F-9442-4F2E-9552-037E86B1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041-85D6-4ADF-AF70-003A638D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06B-79AA-4359-881D-E158E3C6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792-7E57-46F0-9E8C-7C3B52AB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E93-0DF1-44A9-B2E9-6F94AEF7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458-47A4-43A6-A797-4E1DC5C8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74E-8A6A-4C63-B9CD-BE835FE7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C6A-BE39-419C-B9D5-46DB3E10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EA0-228B-42E3-9445-3AD8A490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A96-BE35-44DB-A0A2-D9D195E4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F986-32F1-4A3C-87FC-44859D9C608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Jeremiah McNichols</cp:lastModifiedBy>
  <dcterms:modified xsi:type="dcterms:W3CDTF">2005-06-21T20:11:07Z</dcterms:modified>
  <cp:revision>24</cp:revision>
  <dc:subject/>
  <dc:title>PowerPoint Presentation</dc:title>
</cp:coreProperties>
</file>