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E217-99CD-4C80-9249-7149C0C65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265E-A62A-4E1C-811A-55215773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3D19-C307-4E15-BC0F-90A3F41E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8866-D82E-4B75-A2E7-E11A3867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B47F-4437-420F-A4C7-CF012E13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1A9E-345B-4B72-B1E1-A68FFA50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A45E-3DBE-4E48-A5DB-698BE0A0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6E43-2FCA-45D5-83F8-151653A6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CCCD-5C61-4A43-A77C-04331D08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CEB6-09D9-4EBE-BC3B-A128A789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4F33-4CE7-42A8-9043-8CB858CC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E3C0-7241-42E6-8C93-DCF1AB7D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9D69-AE89-4F66-A773-489CA112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00DA-4713-4C2E-BE33-FFCA0A1C5D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meter = 1.6 mi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ljlab</cp:lastModifiedBy>
  <dcterms:modified xsi:type="dcterms:W3CDTF">2003-06-19T18:38:52Z</dcterms:modified>
  <cp:revision>6</cp:revision>
  <dc:subject/>
  <dc:title>Length Conversions</dc:title>
</cp:coreProperties>
</file>