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1715-F9B3-4C1B-82E5-CFFE6C4B2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851-5043-4817-97E9-B76DC8A3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9B2-CAF8-4BC9-B062-E7D1EF6A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74C-67BC-433B-8462-409BD14D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5E3-7DB4-47BB-852E-59A3198B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ED9-3386-4320-94C5-9FEBD0AF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1A1-817A-4CCD-81F3-FEF52F2D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1D6-E732-4CBC-90BD-353CEF37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4F8-3CB1-4C6A-A650-38C062A5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842-4FE0-4CB5-B15C-8BFC0EF0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819-FA40-488D-841D-C0387169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39C-8B33-492D-AA8B-A9B25657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2AC-1FD9-47FF-99A1-8967A6E5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DF05-6B1A-4ED1-ADFA-EC49AAF8E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meter = 1.6 mi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ljlab</cp:lastModifiedBy>
  <dcterms:modified xsi:type="dcterms:W3CDTF">2003-06-19T18:38:52Z</dcterms:modified>
  <cp:revision>6</cp:revision>
  <dc:subject/>
  <dc:title>Length Conversions</dc:title>
</cp:coreProperties>
</file>