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DCEEF-AF5B-4B62-9743-428530FA16E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5666-9EAF-443D-8E15-72D9D62C8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F1A6-0C46-4B20-89D2-0CD8C1AF0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2409-3216-494F-AF15-636C86A86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54F7-A6DD-4DBE-8CE3-11EFC8225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95F1-4A86-46E5-90AA-8BC27079E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340D-E4CA-4AF6-915E-4EFEA815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6462-E5E3-4FBD-9BE0-1B4528FD9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F658-6CD4-4ED3-86B2-9F884610E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DDF3-2F98-4F97-A72D-943604FEC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DAEF-1159-46E6-8E9C-5AEC35D9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24F8-A23E-41A8-A8B3-934CA70D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120C-22CF-432B-B3E1-8D8930E9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C2266-7F36-4DD5-A3D7-836939C5509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vhardy</cp:lastModifiedBy>
  <dcterms:modified xsi:type="dcterms:W3CDTF">2003-05-29T00:06:40Z</dcterms:modified>
  <cp:revision>32</cp:revision>
  <dc:subject/>
  <dc:title>Comparing Apples to Oranges</dc:title>
</cp:coreProperties>
</file>