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D7AD-EE0C-4B29-A26E-E2EC7A31D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E31-6307-4BDC-AE67-047BBBC8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B41-CF96-4973-9161-FC58B8EA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968-2152-4F97-8D86-A09A10F2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947-59CA-4454-8579-A8F2515D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C51-4460-4B1D-ABCC-24E322E7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662-4341-47D4-A9D3-18671560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7F1-0818-4668-BC85-DF6B4842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7F3-CAE3-44C8-9747-B038C387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D20-9CED-4952-88E4-1B3A38AB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F633-3EAF-4410-B7EC-D87A607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15F-CB02-4EF0-BD46-8739DB4B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C38-F8ED-4854-BE28-577EF181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3F7C-3F39-4E6A-97FB-582DE52567B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itstudent</cp:lastModifiedBy>
  <dcterms:modified xsi:type="dcterms:W3CDTF">2002-08-06T19:40:55Z</dcterms:modified>
  <cp:revision>7</cp:revision>
  <dc:subject/>
  <dc:title>What’s the difference between weather and climate?</dc:title>
</cp:coreProperties>
</file>