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5.png" ContentType="image/png"/>
  <Override PartName="/ppt/media/image3.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media/image5.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4410-4BBC-41A6-ABFA-9D0122DEC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3E7D-0991-49C3-97AB-4CA9436CD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9C45-8B38-40CA-A6A8-B16E806B4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t>
            </a:r>
            <a:r>
              <a:rPr b="0" lang="en-US" sz="1000" spc="-1" strike="noStrike">
                <a:solidFill>
                  <a:srgbClr val="000000"/>
                </a:solidFill>
                <a:latin typeface="Arial"/>
                <a:ea typeface="Times New Roman"/>
              </a:rPr>
              <a:t>Responses of organisms are caused by internal or external stimuli</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r>
              <a:rPr b="0" lang="en-US" sz="1000" spc="-1" strike="noStrike">
                <a:solidFill>
                  <a:srgbClr val="000000"/>
                </a:solidFill>
                <a:latin typeface="Arial"/>
                <a:ea typeface="Times New Roman"/>
              </a:rPr>
              <a:t> Analyzing, reviewing, and critiquing scientific explanations.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B) </a:t>
            </a:r>
            <a:r>
              <a:rPr b="0" lang="en-US" sz="1000" spc="-1" strike="noStrike">
                <a:solidFill>
                  <a:srgbClr val="000000"/>
                </a:solidFill>
                <a:latin typeface="Arial"/>
                <a:ea typeface="Times New Roman"/>
              </a:rPr>
              <a:t>Demonstrating safe practices during field and lab investigations. Making wise choices in the use of resour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a:t>
            </a:r>
            <a:r>
              <a:rPr b="0" lang="en-US" sz="1000" spc="-1" strike="noStrike">
                <a:solidFill>
                  <a:srgbClr val="000000"/>
                </a:solidFill>
                <a:latin typeface="Arial"/>
                <a:ea typeface="Times New Roman"/>
              </a:rPr>
              <a:t>Planning and implementing investigative procedures. Collecting data.</a:t>
            </a:r>
            <a:r>
              <a:rPr b="0" lang="en-US" sz="1000" spc="-1" strike="noStrike">
                <a:solidFill>
                  <a:srgbClr val="000000"/>
                </a:solidFill>
                <a:latin typeface="Arial"/>
              </a:rPr>
              <a:t> </a:t>
            </a:r>
            <a:r>
              <a:rPr b="0" lang="en-US" sz="1000" spc="-1" strike="noStrike">
                <a:solidFill>
                  <a:srgbClr val="000000"/>
                </a:solidFill>
                <a:latin typeface="Arial"/>
                <a:ea typeface="Times New Roman"/>
              </a:rPr>
              <a:t>Analyzing and interpreting information.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 </a:t>
            </a:r>
            <a:r>
              <a:rPr b="0" lang="en-US" sz="1000" spc="-1" strike="noStrike">
                <a:solidFill>
                  <a:srgbClr val="000000"/>
                </a:solidFill>
                <a:latin typeface="Arial"/>
                <a:ea typeface="Times New Roman"/>
              </a:rPr>
              <a:t>Collecting, analyzing, and recording information. Identifying patterns in collected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A3C8-D885-4AAE-B666-006F155A7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think of West Nile virus, because it is in the news lately.  Malaria may also come to mind.  Because it is so prevalent around the world, the teacher may be wish to introduce a side-bar study of malaria, its geography, and cultural factors that perpetua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sects diseases transmiss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4684-EA8E-49CF-B601-D5AA564CF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diseas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93AF-EB94-478E-975F-1F37B2CBB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F9DD-CF9F-4AB8-8F96-5E89569B4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parasite biology mosquitoes red blood cell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405C-62D4-49CE-9B88-F5A4E61A0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 of Peru probably does not have a lot of mosquitoes, because the ground is high, there are no jungles with a lot of standing water, and the climate can be very c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of the symptoms are not caused by mosquitoes (facial l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bug (kissing bug) is prominent in the story.  See the science supplement for a little info on the kissing bug. There are a couple of math slides here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bvious test is to use a microscope to examine the red blood cells of patients.  The malaria parasite can actually be seen inside the red cell if there is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malaria, see http://www.cdc.gov/travel/malinfo.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who.int/inf-fs/en/fact094.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vectors symptoms sickness illnes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7E38-DDEE-49F8-8A62-959B3365F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37C1-5DC1-4F4B-8F8D-B700468AA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ways to do this. Some of the most obviou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 the incidence of these symptoms in other parts of the country where the people have similar lifestyles but do not have many mosquitoes or kissing bugs. There are many variables that would be difficult to control.  Also, this is not really an experiment, but it is a way to gather evidence.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se insecticides to exterminate the insects in one village and not the other and observe if there are differences in the incidence of the disease. Of    course insects can move from one village to another, so the insect-control program would have to be continu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id test” experiment would be to take insects where you have verified the presence of the trypanosome parasite in their bodily fluids, let them bite a human, and then test to see if the human becomes sick with the disease. This is not humane. It does satisfy the famous Koch’s postulates for proving the cause of a disease. These postulate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cific organism should be shown to be present in all cases of animals suffering from a specific disease but should not be found in healthy animal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 specific microorganism should be isolated from the diseased animal and grown in pure culture on artificial laboratory med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This freshly isolated microorganism, when inoculated into a healthy laboratory animal, should cause the same disease seen in the original anim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he microorganism should be re-isolated in pure culture from the experimental inf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ganism microorganism disease kissing bugs experimental desig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8B132-1918-4526-88AB-B49C4757F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204FB-FDC7-4302-B4CD-712561827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47D5B-E4BB-43E8-A0C0-4B8063EA7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F2979-5EB6-4EA4-8681-C32E79CD5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9C08A-4AB8-4744-881A-B729757D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4321C-1DF1-4D5D-A232-02CC2E510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D7D2D-29D2-43D9-961D-D4EFE531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583AE-3502-4229-9CEF-2C42F5939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39E2D-36AB-44BD-8D53-4EFFF324A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20B09-6D57-4BC6-8A5B-60F0314C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1732-FA55-471E-A9A0-6B42AC65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6CC4F-99CB-4EC5-AC58-56D46689F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EB5D-78C9-422F-8D8A-EBF361C836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Hazards/yellow%20fever.ppt" TargetMode="External"/><Relationship Id="rId3" Type="http://schemas.openxmlformats.org/officeDocument/2006/relationships/hyperlink" Target="file:///Appendices/Hazards/Influenza.ppt" TargetMode="External"/><Relationship Id="rId4" Type="http://schemas.openxmlformats.org/officeDocument/2006/relationships/hyperlink" Target="file:///Appendices/Hazards/rabies.ppt" TargetMode="External"/><Relationship Id="rId5" Type="http://schemas.openxmlformats.org/officeDocument/2006/relationships/hyperlink" Target="file:///Appendices/Hazards/Lead%20Poisoning.ppt" TargetMode="External"/><Relationship Id="rId6" Type="http://schemas.openxmlformats.org/officeDocument/2006/relationships/hyperlink" Target="file:///Appendices/Hazards/brown%20lung.ppt" TargetMode="External"/><Relationship Id="rId7" Type="http://schemas.openxmlformats.org/officeDocument/2006/relationships/hyperlink" Target="file:///Appendices/Hazards/tuberculosis.ppt" TargetMode="External"/><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909800"/>
            <a:ext cx="1371600" cy="1371600"/>
          </a:xfrm>
          <a:prstGeom prst="rect">
            <a:avLst/>
          </a:prstGeom>
          <a:ln w="0">
            <a:noFill/>
          </a:ln>
        </p:spPr>
      </p:pic>
      <p:pic>
        <p:nvPicPr>
          <p:cNvPr id="85" name="" descr=""/>
          <p:cNvPicPr/>
          <p:nvPr/>
        </p:nvPicPr>
        <p:blipFill>
          <a:blip r:embed="rId3"/>
          <a:stretch/>
        </p:blipFill>
        <p:spPr>
          <a:xfrm>
            <a:off x="380880" y="3433680"/>
            <a:ext cx="1371600" cy="1382760"/>
          </a:xfrm>
          <a:prstGeom prst="rect">
            <a:avLst/>
          </a:prstGeom>
          <a:ln w="0">
            <a:noFill/>
          </a:ln>
        </p:spPr>
      </p:pic>
      <p:pic>
        <p:nvPicPr>
          <p:cNvPr id="86" name="" descr=""/>
          <p:cNvPicPr/>
          <p:nvPr/>
        </p:nvPicPr>
        <p:blipFill>
          <a:blip r:embed="rId4"/>
          <a:stretch/>
        </p:blipFill>
        <p:spPr>
          <a:xfrm>
            <a:off x="380880" y="4957920"/>
            <a:ext cx="1359000" cy="1371600"/>
          </a:xfrm>
          <a:prstGeom prst="rect">
            <a:avLst/>
          </a:prstGeom>
          <a:ln w="0">
            <a:noFill/>
          </a:ln>
        </p:spPr>
      </p:pic>
      <p:sp>
        <p:nvSpPr>
          <p:cNvPr id="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9" name="" descr=""/>
          <p:cNvPicPr/>
          <p:nvPr/>
        </p:nvPicPr>
        <p:blipFill>
          <a:blip r:embed="rId5"/>
          <a:stretch/>
        </p:blipFill>
        <p:spPr>
          <a:xfrm>
            <a:off x="4724280" y="3451320"/>
            <a:ext cx="1371600" cy="1382760"/>
          </a:xfrm>
          <a:prstGeom prst="rect">
            <a:avLst/>
          </a:prstGeom>
          <a:ln w="0">
            <a:noFill/>
          </a:ln>
        </p:spPr>
      </p:pic>
      <p:pic>
        <p:nvPicPr>
          <p:cNvPr id="90" name="" descr=""/>
          <p:cNvPicPr/>
          <p:nvPr/>
        </p:nvPicPr>
        <p:blipFill>
          <a:blip r:embed="rId6"/>
          <a:stretch/>
        </p:blipFill>
        <p:spPr>
          <a:xfrm>
            <a:off x="4724280" y="4970520"/>
            <a:ext cx="1371600" cy="1371600"/>
          </a:xfrm>
          <a:prstGeom prst="rect">
            <a:avLst/>
          </a:prstGeom>
          <a:ln w="0">
            <a:noFill/>
          </a:ln>
        </p:spPr>
      </p:pic>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 name=""/>
          <p:cNvGrpSpPr/>
          <p:nvPr/>
        </p:nvGrpSpPr>
        <p:grpSpPr>
          <a:xfrm>
            <a:off x="4643280" y="1928880"/>
            <a:ext cx="1546560" cy="1371600"/>
            <a:chOff x="4643280" y="1928880"/>
            <a:chExt cx="1546560" cy="1371600"/>
          </a:xfrm>
        </p:grpSpPr>
        <p:sp>
          <p:nvSpPr>
            <p:cNvPr id="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4643280" y="2117880"/>
            <a:ext cx="1546560" cy="1012680"/>
          </p:xfrm>
          <a:graphic>
            <a:graphicData uri="http://schemas.openxmlformats.org/presentationml/2006/ole">
              <p:oleObj r:id="rId7" spid="">
                <p:embed/>
                <p:pic>
                  <p:nvPicPr>
                    <p:cNvPr id="9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1447560"/>
            <a:ext cx="8077320" cy="33526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the most widespread parasitic disease in the world.</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life cycle of this parasite.</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 the argument against this parasite being the cause of the sickness in the story.</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and update your original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a plan that could test whether or not the sickness in the story was carried by insec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58"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0" y="0"/>
            <a:ext cx="219240" cy="6858000"/>
          </a:xfrm>
          <a:prstGeom prst="rect">
            <a:avLst/>
          </a:prstGeom>
          <a:ln w="0">
            <a:noFill/>
          </a:ln>
        </p:spPr>
      </p:pic>
      <p:pic>
        <p:nvPicPr>
          <p:cNvPr id="60" name="" descr=""/>
          <p:cNvPicPr/>
          <p:nvPr/>
        </p:nvPicPr>
        <p:blipFill>
          <a:blip r:embed="rId3"/>
          <a:stretch/>
        </p:blipFill>
        <p:spPr>
          <a:xfrm>
            <a:off x="4572000" y="1973160"/>
            <a:ext cx="4343400" cy="331488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uld the sickness be?</a:t>
            </a:r>
            <a:endParaRPr b="0" lang="en-US" sz="4400" spc="-1" strike="noStrike">
              <a:solidFill>
                <a:srgbClr val="000000"/>
              </a:solidFill>
              <a:latin typeface="Times New Roman"/>
            </a:endParaRPr>
          </a:p>
        </p:txBody>
      </p:sp>
      <p:sp>
        <p:nvSpPr>
          <p:cNvPr id="63" name="PlaceHolder 2"/>
          <p:cNvSpPr>
            <a:spLocks noGrp="1"/>
          </p:cNvSpPr>
          <p:nvPr>
            <p:ph/>
          </p:nvPr>
        </p:nvSpPr>
        <p:spPr>
          <a:xfrm>
            <a:off x="463680" y="2727000"/>
            <a:ext cx="2619360" cy="3902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2"/>
              </a:rPr>
              <a:t>Yellow fev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3"/>
              </a:rPr>
              <a:t>Influenz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4"/>
              </a:rPr>
              <a:t>Rab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5"/>
              </a:rPr>
              <a:t>Lead Poisoning</a:t>
            </a:r>
            <a:endParaRPr b="0" lang="en-US" sz="2800" spc="-1" strike="noStrike">
              <a:solidFill>
                <a:srgbClr val="000000"/>
              </a:solidFill>
              <a:latin typeface="Times New Roman"/>
            </a:endParaRPr>
          </a:p>
        </p:txBody>
      </p:sp>
      <p:sp>
        <p:nvSpPr>
          <p:cNvPr id="64" name=""/>
          <p:cNvSpPr/>
          <p:nvPr/>
        </p:nvSpPr>
        <p:spPr>
          <a:xfrm>
            <a:off x="6326280" y="2798640"/>
            <a:ext cx="2394000" cy="360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ler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ati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1020600" y="1393920"/>
            <a:ext cx="740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ny disease or pathogen to see a list of symptoms and modes of transmission.</a:t>
            </a:r>
            <a:endParaRPr b="0" lang="en-US" sz="2400" spc="-1" strike="noStrike">
              <a:solidFill>
                <a:srgbClr val="000000"/>
              </a:solidFill>
              <a:latin typeface="Arial"/>
            </a:endParaRPr>
          </a:p>
        </p:txBody>
      </p:sp>
      <p:sp>
        <p:nvSpPr>
          <p:cNvPr id="66" name=""/>
          <p:cNvSpPr/>
          <p:nvPr/>
        </p:nvSpPr>
        <p:spPr>
          <a:xfrm>
            <a:off x="3311640" y="2743200"/>
            <a:ext cx="2949480" cy="4062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6"/>
              </a:rPr>
              <a:t>Brown lung</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7"/>
              </a:rPr>
              <a:t>Tuberculosis</a:t>
            </a:r>
            <a:r>
              <a:rPr b="0" lang="en-US" sz="2800" spc="-1" strike="noStrike" u="sng">
                <a:solidFill>
                  <a:srgbClr val="000000"/>
                </a:solidFill>
                <a:uFillTx/>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coli O517:H7</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gas dise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219320"/>
            <a:ext cx="6172200" cy="4114800"/>
          </a:xfrm>
          <a:prstGeom prst="rect">
            <a:avLst/>
          </a:prstGeom>
          <a:noFill/>
          <a:ln w="0">
            <a:noFill/>
          </a:ln>
        </p:spPr>
        <p:txBody>
          <a:bodyPr lIns="90000" rIns="90000" tIns="46800" bIns="46800" anchor="t">
            <a:normAutofit fontScale="90000"/>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0880" y="2514600"/>
            <a:ext cx="4194000" cy="2708280"/>
          </a:xfrm>
          <a:prstGeom prst="rect">
            <a:avLst/>
          </a:prstGeom>
          <a:ln w="0">
            <a:noFill/>
          </a:ln>
        </p:spPr>
      </p:pic>
      <p:pic>
        <p:nvPicPr>
          <p:cNvPr id="70" name="" descr=""/>
          <p:cNvPicPr/>
          <p:nvPr/>
        </p:nvPicPr>
        <p:blipFill>
          <a:blip r:embed="rId3"/>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77"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81"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7T14:25:15Z</dcterms:modified>
  <cp:revision>23</cp:revision>
  <dc:subject/>
  <dc:title>Slide 1</dc:title>
</cp:coreProperties>
</file>