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B9C1-A011-4D6B-86A0-B7C2A2F7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1482-3090-4205-B2CF-84E872D8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9F2A-6D8C-4519-A6D6-480C9418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1F03-ECA5-4CE7-8F92-BD49073D0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1500-FC1C-4CEA-8F16-C17CA57C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2CD5-9FE4-4EBC-9873-D68F6DD4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441F-4B00-435F-BBAC-452FCEC2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7AF2-B8E0-41A5-A22C-C4A86335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E98C-B335-46FF-BB36-506329E5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CF97-650C-4854-8D2E-6445B2EE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7AA5-1A9E-4FA9-A47D-F3C08094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E97D-0603-40FB-9BC6-790A12BD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9B01-1E73-4A64-B518-77AC7BDB74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urring chills, fever, anemia and sometimes jaund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 through bite of infected mosqui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4T21:53:52Z</dcterms:modified>
  <cp:revision>51</cp:revision>
  <dc:subject/>
  <dc:title>Hazards</dc:title>
</cp:coreProperties>
</file>