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DF6F-153F-4090-98D6-05392C575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83FC-8E40-4FB0-A2B5-E58E9509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C393-EBFB-42A5-8ACB-613D4513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EC53-1229-471A-A924-79621CE24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C5ED-0AA0-424A-9041-47AA740B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3C50-0012-4E72-BDD7-87E76C44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290D-4743-47DA-95AF-59D8D212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0D86-3855-44BB-AACB-C99582BD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8FB1-E250-42D9-A395-4D695A41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E6ED-3A73-48E1-8F6C-B3491516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432F-1FDA-47FC-8CCA-E9699B1D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E486-42D5-40AC-97EE-FD1E9898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1800-2FFF-4FF7-B1AF-92D5328F2A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06Z</dcterms:modified>
  <cp:revision>47</cp:revision>
  <dc:subject/>
  <dc:title>Hazards</dc:title>
</cp:coreProperties>
</file>