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73C5-EA4E-4B4C-BF6E-CE268C697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BF5A-6832-4C69-9265-D27C9C713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28B4-C9FE-4857-B74F-A9C2BFFC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7852-C3B2-45C1-8191-6263B5BB7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8F43-744D-4547-BF96-C70E2C379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C6CB-B1F4-4AC1-B5CA-F68562AC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7321-190E-44E4-854E-F0256388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68A4-E4FE-44E2-8B25-A8B83E34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ADEA-011B-494E-9077-79426D96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0236-67BC-4612-B96D-7E43E245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8CA6-5567-4653-9F5B-0AAE6380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6A57-C400-45A2-A4B3-8691F660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DC7B-8B34-411E-86B5-9F59A450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6856-AD37-412F-878B-F1EE6830C2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vhardy</cp:lastModifiedBy>
  <dcterms:modified xsi:type="dcterms:W3CDTF">2002-12-19T23:01:53Z</dcterms:modified>
  <cp:revision>8</cp:revision>
  <dc:subject/>
  <dc:title>Adverbs Adverbs modify verbs, adjectives, or other adverbs.</dc:title>
</cp:coreProperties>
</file>