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A05F-80BC-4B0C-B9EB-90C7F369D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E301-418D-46B0-A2AE-758630D2F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F4A2-1822-4DF8-AA04-8D096F5FF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0030-0204-438E-838A-1D3EDD793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4717-8E01-4D34-AC08-789B6D0A7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2B2C-A66A-4863-BBDE-E3A5B2856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A158-7E4C-4A38-9A2B-BF9EC141F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1829-16D5-4B8E-9ABB-1F8F3E0EB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67E6-C3D6-448E-9BB5-4CF95AA5F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F8E8-143C-42A7-BFD1-F3B5A9D10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1F67-94F5-401D-8D37-F902C71A1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B68F-4750-4209-AD5B-38205259B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394A5-94EB-43AB-91DF-AF60E5A2472C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Adjective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djectives modify nouns or pronou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Using adjectives gives an accurate description of the object at hand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ne?  What kind?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ow many?  How much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21:31:57Z</dcterms:created>
  <dc:creator>ITMD</dc:creator>
  <dc:description/>
  <dc:language>en-US</dc:language>
  <cp:lastModifiedBy>vhardy</cp:lastModifiedBy>
  <dcterms:modified xsi:type="dcterms:W3CDTF">2002-12-19T23:01:26Z</dcterms:modified>
  <cp:revision>61</cp:revision>
  <dc:subject/>
  <dc:title>Locating Places</dc:title>
</cp:coreProperties>
</file>