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9348-C67C-45DA-B619-51FA6F646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C84C-DA08-4651-B5AB-AFA1EF3C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1A5B-D438-4912-AE07-0A3F145A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577F-EAA1-4B37-9C8C-615BD2169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D92D-BD37-4419-8094-7D44521D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0D5E-4F5A-45C2-A355-7B32FA29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9C7B-6F5A-42F8-8613-0A650D80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9E06-CE68-4881-94E3-C0121FBA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084C-5291-40C8-88C5-126FFDED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750E-C5A7-420F-8520-8BF15141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3FC4-7A7A-4A21-B80D-E9AD2894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3281-2274-43FD-B790-1A4AB708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9C5B-5F9A-4BC6-8CE1-308CC0C0B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Posi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simple form of an adjective or adverb that does not compare one thing to any specific thing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od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Compara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dicates a higher or lower quality or manner. Two things are being compared and the comparison is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usual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ormed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-er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the positive form of  a word or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more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les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the positive form of longer word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ier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han you. 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You should talk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more quiet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isons: the </a:t>
            </a: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Superlativ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Degre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perlative degree indicates the highest or lowest level of quality or manner. It is used when more than two things are compared and is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med by adding -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the end of the positive form or by adding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lea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 the positive for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 woke up the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earliest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today.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You talk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ost quietly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5:26:25Z</dcterms:created>
  <dc:creator>Gina Balducci</dc:creator>
  <dc:description/>
  <dc:language>en-US</dc:language>
  <cp:lastModifiedBy>Instructional Tech Student</cp:lastModifiedBy>
  <dcterms:modified xsi:type="dcterms:W3CDTF">2002-05-29T16:40:50Z</dcterms:modified>
  <cp:revision>7</cp:revision>
  <dc:subject/>
  <dc:title>PowerPoint Presentation</dc:title>
</cp:coreProperties>
</file>