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A2D5F-9779-439C-8CC3-40D5E0EFB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(A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ading of independent materi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8 (B-D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) Selecting various sources of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) Reading for varied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) Read to take a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(B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stablishing and adjusting purposes for rea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2 (B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cognizing the distinguishing features of genr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A) Use personal knowledge and experiences for comprehen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B) Establish and adjust purposes for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) Monitor comprehension and modify when understanding breaks dow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E) Use the text’s structure to locate and recal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G) Paraphrase and summariz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H) Draw inferences and support them with th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K) Answer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M) Use study strategies to learn important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3 (G) Draw conclusions from information and knowledge to raise additional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B) Analyze information using various metho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 re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A) Identify the purposes of different types of tex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A) Offer observations, connections, and questions in response to th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English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E) Use the text’s structure to locate and recal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BB5D-3431-4090-9AF7-1908D71C3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B1AA-B648-42E5-9E78-CC7AA6CB3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F05E-FB8C-4029-A089-D7C64C665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7662-935D-424B-9729-E96195C8F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F6AE-B4BC-445C-90E0-DC1187400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99B6-1F1A-467D-91A2-810CCE024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5033-51C4-44AD-A01C-B0105EFE9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CE47-61AD-469B-8FE3-22C3A909A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93A1-F6E0-4873-BD7F-EC9161530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D89E-A39B-4B1A-8CF2-5791F9E2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DEF2-89E4-4E20-B99C-EB810A48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9398-BD5A-4B96-BF6B-8F475A1E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F2A5C-D6F5-4067-9DA8-E2342248EC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Appendices/PeChalQ.ppt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.png"/><Relationship Id="rId9" Type="http://schemas.openxmlformats.org/officeDocument/2006/relationships/hyperlink" Target="http://peer.tamu.edu/forms/Curricula_Survey.shtml" TargetMode="External"/><Relationship Id="rId10" Type="http://schemas.openxmlformats.org/officeDocument/2006/relationships/hyperlink" Target="http://peer.tamu.edu/forms/Curricula_Survey.shtml" TargetMode="External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85720" y="971640"/>
            <a:ext cx="7972560" cy="1466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3123720"/>
            <a:ext cx="792504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0000cc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84280" y="1523880"/>
            <a:ext cx="7772400" cy="35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the adventure s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nstrate comprehension of the s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 important events in the story and determine why they stand ou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e-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6440" y="35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 You Recal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“The Kiss of the Assassin” careful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your memory and understanding of important details by completing the </a:t>
            </a:r>
            <a:r>
              <a:rPr b="0" lang="en-US" sz="28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Investigator’s Challenge Qui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066680" y="1523880"/>
            <a:ext cx="2857680" cy="434340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0952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e-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60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ing the Adven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76440" y="1692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was the story all abou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id we learn about Per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were the health probl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was it about the environment that was causing the health problems? How did we figure that ou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could prevent the health probl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e-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o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part of the story stands out to you mos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it parts of suspense or emo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k of the parts of the story that come to your mind when you think back on it and write them d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whether they involve some sort of emotion or suspense.  What makes it stick out to yo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e-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791320" y="2286000"/>
            <a:ext cx="299700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 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ood way to figure out why a certain part of a story creates an emotion is to look at that part by itself and then in relation to the parts around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Lines are a great way to break down a story into individual sections for further analysi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e-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80880" y="1909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80880" y="34336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380880" y="4957920"/>
            <a:ext cx="1359000" cy="13716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04920" y="9907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248520" y="2209680"/>
            <a:ext cx="2601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 of Agricultural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enter for Environmental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Veterinary Medicine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4724280" y="345132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4724280" y="49705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4643280" y="1928880"/>
            <a:ext cx="1546560" cy="1371600"/>
            <a:chOff x="4643280" y="1928880"/>
            <a:chExt cx="1546560" cy="1371600"/>
          </a:xfrm>
        </p:grpSpPr>
        <p:sp>
          <p:nvSpPr>
            <p:cNvPr id="77" name=""/>
            <p:cNvSpPr/>
            <p:nvPr/>
          </p:nvSpPr>
          <p:spPr>
            <a:xfrm>
              <a:off x="4724280" y="1928880"/>
              <a:ext cx="137160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8" name=""/>
            <p:cNvGraphicFramePr/>
            <p:nvPr/>
          </p:nvGraphicFramePr>
          <p:xfrm>
            <a:off x="4643280" y="2117880"/>
            <a:ext cx="1546560" cy="101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643280" y="2117880"/>
                      <a:ext cx="154656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0" name=""/>
          <p:cNvSpPr/>
          <p:nvPr/>
        </p:nvSpPr>
        <p:spPr>
          <a:xfrm>
            <a:off x="1916280" y="2139840"/>
            <a:ext cx="267480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onal Institute of Environmental Health Sci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Times New Roman"/>
                <a:hlinkClick r:id="rId9"/>
              </a:rPr>
              <a:t>http://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Times New Roman"/>
                <a:hlinkClick r:id="rId10"/>
              </a:rPr>
              <a:t>peer.tamu.edu/forms/Curricula_Survey.sht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19:51:27Z</dcterms:created>
  <dc:creator>wklemm</dc:creator>
  <dc:description/>
  <dc:language>en-US</dc:language>
  <cp:lastModifiedBy>College of Veterinary Medicine</cp:lastModifiedBy>
  <dcterms:modified xsi:type="dcterms:W3CDTF">2008-01-02T17:55:27Z</dcterms:modified>
  <cp:revision>24</cp:revision>
  <dc:subject/>
  <dc:title>Objectives – English 1</dc:title>
</cp:coreProperties>
</file>