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2782-552E-4AA1-87EC-FBE8E5A12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FF4-A364-4AC9-9E05-44077E28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311-7B3D-4846-8BD8-AF3EEBE7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5DE-F0FF-42DE-B7A4-336B8316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993-201D-4DA7-A8B2-3AB0884E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795-86E5-462C-862D-3EB815B4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BDA-A2D8-4919-8F08-4D22BC4B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A561-7168-43DA-A980-282433CC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62E-5DC0-4350-9199-D22EB0E5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0E7-1883-4A82-B936-14AD91DC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076-323F-4882-A7D3-57227D27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800-2180-42E8-AD27-DA72DA32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549-A8E6-4767-943D-D57102C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48CB-F234-43E8-B034-8E2225AE2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0Z</dcterms:modified>
  <cp:revision>18</cp:revision>
  <dc:subject/>
  <dc:title>What’s the difference between weather and climate?</dc:title>
</cp:coreProperties>
</file>