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34F9-1681-4BDA-B7A6-5F085D33A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31F6-0983-47BD-A699-DDAAEA4C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EEB7-30F8-4E6C-9C68-06C34DDBA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0B47-B4E1-4016-AC34-B9A0F5BDC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E3CA-B4ED-4485-A798-F974244E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D86D-A81F-4353-8661-B5AD0EA8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82D6-3785-41CD-AEEB-A1811034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E328-69AC-42EC-9870-CB0A1F6D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F081-A95B-4111-8CD7-4E893D90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5D00-03ED-4493-8C3F-9DFA67EE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B58C-38A5-435D-AA5E-CDE934C9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3496-A096-41C7-AF84-D67C65B5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E7DD-9F14-44C9-AAE7-B1FC126A65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, contaminat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3T14:46:38Z</dcterms:modified>
  <cp:revision>52</cp:revision>
  <dc:subject/>
  <dc:title>Hazards</dc:title>
</cp:coreProperties>
</file>