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E618-BB3C-4537-934D-37AF97F4D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Locating words using dictionaries, glossaries and other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, C, 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egular reading of independen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Demonstrating fluency and 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Adjustment of reading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Using multiple referen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, Composing original texts while applying the conventions of written language to communicat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, Applying standard grammar and usage to communicate clearly and effectively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, Using writing processes for self-initiated and assigned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Interpret idioms, analogies, and multiple-meaning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vocabulary language dictionary glossary vocabulary challe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H) Use compiled information and knowledge to raise additional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A) Write legibly using cursive or manuscript as appropri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B) Write compound and complex sentences with both types of cla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 Use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E) Use prepositional phrases to elaborate writte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H) Use apostrophes in contractions with increasing correc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escriptive writing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senses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on “Adjective” or “Adverb” for more hel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grammar lang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G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descriptive wri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D86-4674-43D8-8E1B-90682F7A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036-8DE9-433A-A503-67EE8F9F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323-B6FA-421F-895B-BA23356A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217-4A48-44ED-9371-BC8234F6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474-11CA-4DAE-A2CD-E8508BA2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101-B9DE-46E2-A986-52521F43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51D-6247-4342-94BE-5041E4D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C0A-667C-47CB-8860-4646600C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F75-F2A7-4A12-B116-8E1FFDC1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0AD-A52B-460F-A272-2827D63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45A-AE77-4049-8017-7DCE9C2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2D4-4C36-408D-B035-903E7C7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B5C2-C4E3-4C22-838E-C4DE8F1A3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djctv.ppt" TargetMode="External"/><Relationship Id="rId3" Type="http://schemas.openxmlformats.org/officeDocument/2006/relationships/hyperlink" Target="file:///Appendices/Advrbs.ppt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new vocabulary words from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descriptive essay about an archeological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definitions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ssay that demonstrates proper use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new words will help to improve your writing and reading. Look through “The Kiss of the Assassin” and identify words that are unfamiliar to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in the Glossary of Terms to help find definitions of these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Vocabulary Challenge to see if you are an expert Word Explor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91320" y="1536840"/>
            <a:ext cx="2857320" cy="4332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Artifacts Could Tal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from the story that the archaeological dig was located in Paloma, a village that had been inhabited continuously for 7,700 yea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that you are Miguel’s father and that you have just unearthed an artifact at the Paloma si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what that object might have been and describe it. Remember the key points to include in a descriptiv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9560" y="1828800"/>
            <a:ext cx="88567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defin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djective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five sens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lis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s to descri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icture.  Include sight, sound, smell, taste or touch wor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China"/>
          <p:cNvPicPr/>
          <p:nvPr/>
        </p:nvPicPr>
        <p:blipFill>
          <a:blip r:embed="rId2"/>
          <a:stretch/>
        </p:blipFill>
        <p:spPr>
          <a:xfrm>
            <a:off x="4572000" y="1949400"/>
            <a:ext cx="4191120" cy="2730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13880" y="542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dj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noun. For example: “The kissing bug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 of a type of bug called a reduvid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adver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verb.  It can also be used as an adjective to refer to the state of someone’s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good” means to be in good spirits. “Good” modifies “spirit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fel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he had seen the precious ancient rel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well” means to be in good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sister did not fe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he had a f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6440" y="4665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in the blanks with “good” or “well,” then tell whether each word is acting as an adjective or an adver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id a _______ job of helping Robert pack up the ship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Robert worked _______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father had not been feeling ______ for a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1036_001"/>
          <p:cNvPicPr/>
          <p:nvPr/>
        </p:nvPicPr>
        <p:blipFill>
          <a:blip r:embed="rId2"/>
          <a:stretch/>
        </p:blipFill>
        <p:spPr>
          <a:xfrm>
            <a:off x="3743280" y="1749600"/>
            <a:ext cx="5019840" cy="33130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y in Peru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14600"/>
            <a:ext cx="3289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scene in the picture to begin to understand the daily life of a village in Peru.  Use adjectives and adverbs to make your writing vivid and precise.  Begin by describing what you see with adjectives, then add actions and life with ad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1:46Z</dcterms:modified>
  <cp:revision>29</cp:revision>
  <dc:subject/>
  <dc:title>Objectives – English 1</dc:title>
</cp:coreProperties>
</file>