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040B-3C10-4708-AC9B-A2E226C91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6C8A-51C5-4299-8DA1-B1CC06072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D511-4141-480E-B391-8B65D8E99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6E87-30D9-4634-AF2D-EECAAE649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7A84-1A71-49D1-BB69-1E411D7EC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B936-6E1F-4C9F-B567-93B30623C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FABDB-0695-4C66-99B0-77FF634CE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88325-5D6E-4257-90BC-A6A6B240B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759D-058C-41E4-9985-4107F8E84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B2E5-7E66-40BB-A759-7A5201117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A7B2-D5E1-455D-BDDC-A14EC5535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AF7A-0F21-4DB5-9A3F-0804D96DD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AB9E-9843-41CE-BFFF-3775D82117F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1FD4-1D12-4335-AB82-008031CF781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71DAB-0666-4E99-A015-C0FDB0D0454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353AA-236F-47E4-AD34-6D769FB94B9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C204-3DCC-4CC2-82C4-378AF17B328B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11Z</dcterms:modified>
  <cp:revision>216</cp:revision>
  <dc:subject/>
  <dc:title>VTPP 423 - PHYSIOLOGY</dc:title>
</cp:coreProperties>
</file>