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1AAF-9751-401A-A20F-21274D68D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BADF-43C4-49F4-9C2B-E620556E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6E30-EF41-4CB2-AB2E-FDA864665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807D-D9BB-4132-82B8-307C84F83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3DAB-E9C3-4A56-A238-5A792BB4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D939-D4A5-4945-B905-96A61D1D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EE78-EB2C-4CDF-8056-2CC4B1D8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F4A9-A9CF-426E-8E92-14D430CD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E04C-97AE-48BF-B8EE-2180AB42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F6C4-9F97-40EE-9BC8-DBB9F93A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EEA2-22ED-4DDB-AB9B-BDB7F455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3920-6E03-407F-A9D2-4778FF7F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8CA9-8457-4404-A439-53E72E801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06Z</dcterms:created>
  <dc:creator>Texas A&amp;M Veterinary Medicine</dc:creator>
  <dc:description/>
  <dc:language>en-US</dc:language>
  <cp:lastModifiedBy>Texas A&amp;M Veterinary Medicine</cp:lastModifiedBy>
  <dcterms:modified xsi:type="dcterms:W3CDTF">2007-09-03T13:27:10Z</dcterms:modified>
  <cp:revision>1</cp:revision>
  <dc:subject/>
  <dc:title>Meningitis</dc:title>
</cp:coreProperties>
</file>