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9753-78B5-4400-969C-37724E04D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6F51-914F-495D-9ADF-3E890FD04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6C98-3C77-45D9-B244-2CCEBE87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A515-1947-40EE-A200-89BD7D7E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A0AA-544B-41E2-84EC-65668F27E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AF0A-4BB6-4AD1-B6F1-1F57A425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29FC-F175-4359-8E46-3F9CE613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6E65-837A-40F4-98C5-80E3D8B3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3CE7-0BAA-4B42-BB03-CA1CF13B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E768-943B-4BD6-A8F5-C3D6AFC8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89D0-B9D5-4CF3-BBE7-A55232B0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CC74-E578-421F-AE53-86254288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B00C-5930-4FA4-8F8B-9326E080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20E6-964C-46D4-909F-8588689030D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2112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42400" y="441972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4° S.L., 72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21120" y="485136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07480" y="441972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17.5° S.L., 71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3170160"/>
          <a:ext cx="217332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19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5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43240" y="4952880"/>
            <a:ext cx="5110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titude for Lima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343240" y="4952880"/>
            <a:ext cx="52308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2343240" y="4952880"/>
            <a:ext cx="6008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solute location of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0528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42760" y="4419720"/>
            <a:ext cx="57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, 80° W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03480" y="487044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42400" y="44197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4° S.L., 74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Ljlab</cp:lastModifiedBy>
  <cp:lastPrinted>2002-05-17T17:38:54Z</cp:lastPrinted>
  <dcterms:modified xsi:type="dcterms:W3CDTF">2008-06-09T16:51:16Z</dcterms:modified>
  <cp:revision>657</cp:revision>
  <dc:subject/>
  <dc:title>Investigate the Mystery:</dc:title>
</cp:coreProperties>
</file>