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5027-3A91-492B-BEE3-1AEE4880E8B0}"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B0830-25CF-4866-B3F1-8DCCA7829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2A2E1-5F4A-4165-A6F5-B27E77636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915DC-E886-497D-B42C-BC35CD3D5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46453-823D-41DE-97D1-F5D17A927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395DF-A5A7-451A-ADDD-3DEC1EF7F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A932A-90CB-49F6-B782-CE82DCD0C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2976-57B6-4345-A1BD-4BB629E86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7D63F-121F-403E-ABF4-CE50240EF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C8465-5E59-436D-966E-2A3D8186C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E05B-2532-46C6-8CA9-647ADB37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CAA6D-F2BF-4237-9E74-097F0D5D2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3B074-634B-4A84-B372-2DE23F0E3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E4F0-7D05-4D44-932C-AD598177B52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wklemm</cp:lastModifiedBy>
  <dcterms:modified xsi:type="dcterms:W3CDTF">2003-06-23T21:09:03Z</dcterms:modified>
  <cp:revision>284</cp:revision>
  <dc:subject/>
  <dc:title>Combating Infections</dc:title>
</cp:coreProperties>
</file>