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19.gif" ContentType="image/gif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D9AE-29C5-423F-8C09-B35AB4F95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018-98A0-4F83-9647-A2639CB2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215-B5D9-4A68-A91A-D99098B7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43D-D564-4964-9028-C3B07034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643-74B9-44B6-BD19-644EE893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EC62-0581-4B71-9A23-118DE34D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B660-0CFA-41C7-BC6A-EF200A67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2912-EA3E-42C9-9BAB-30D3CFAE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77A5-DC25-4D27-A697-BBEABA53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4FC1-5267-49F6-BC8B-E4E58FD9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F03D-0279-4766-95D7-7B0E7230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1AC3-E3A5-4670-AAA7-79610C22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24E-45B3-422F-BED1-1ADDF50F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77BB-4E5B-4E76-854B-B4C0B6CF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87A7-70CE-42E8-997F-8E42B1DD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747B-0990-4A36-926E-7B88FE6D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257E-A41F-401C-92DB-74BA65ED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8D4C-B081-454E-ADD3-698CE674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4CA-A53C-48DB-9380-C8A127F2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D18-F9F8-459C-BB20-4E900815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B07-80FA-40AE-A2B2-7C87F362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25F-6199-4A30-B341-D4619638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F30-DBBD-44EC-8E3B-F44F3A57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38D-F23C-4B05-95A5-DDE2CB9C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BAA-E852-43CC-938C-35A3D058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440-8CC9-4F60-9039-CBE38A179B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F838-6BAA-44C6-9E17-D87143F0A9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peer.tamu.edu/curriculum_modules/Cell_Biology/CellBiol/Proteins/whatweknow4.htm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Globe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3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smoker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876920" y="1512720"/>
            <a:ext cx="4057560" cy="4125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CigsToBrain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SmokeInLungs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j0178822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NoSmoking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Airplane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Money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laying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vhardy</cp:lastModifiedBy>
  <dcterms:modified xsi:type="dcterms:W3CDTF">2003-02-06T05:01:02Z</dcterms:modified>
  <cp:revision>28</cp:revision>
  <dc:subject/>
  <dc:title>Tobacco and the Cellular Mechanisms of Nicotine Addiction</dc:title>
</cp:coreProperties>
</file>