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FC5F-9103-44D6-8DB0-B8217BA4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east to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n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. coo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less water vapor than warm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wa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D) Interpret and use graphic sources of information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A) Describe and predict the impact of different catastrophic events on Ea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C) Make inferences about effects of human activities on Earth’s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Analyze how natural or human events may have caused exti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Describe how human activities have modified soil, water, and air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3CD-46C0-496E-A7FE-EA4B289D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BF4-5767-4F3F-BF38-E29728ED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4A9-7D4C-47A8-8D2F-625EB970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A0D-3549-449B-9F7F-CF6AE80E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DBD-9732-4BB1-A912-BFFAEC9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487-7E25-4BCE-8739-0E4E4ECE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836-B30C-4577-B567-556FA0D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F01-0873-4EC2-AF60-8F5EE9DC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3C4-AA49-4B56-A8E2-CF1696E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7FD-8D7E-466B-9BD5-6D039F9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20F-54D9-4B92-803D-FFDADEE1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701-50DD-4BD2-8744-0F100CBC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1EE1-189F-4326-840C-2C382F5A6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Appendices/PrecTemp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y air on the oth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ir travels over the mountain and starts to make its way back down, the air gets warmer and is no longer mo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the air on the west side of the mountain is dry and the air on the east side of the mountain is w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90720" y="784080"/>
            <a:ext cx="7521480" cy="363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eru, the prevailing winds blow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east to we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est to 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name of Peru’s large mountain range over which the winds blow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ir rises up a mountain, the air become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arm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er air hold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ess water vapor than warm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ore water vapor than warm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ir moves down a mountain, the air become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ar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8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climate in different parts of Peru and explain why it v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80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648320" y="2057400"/>
            <a:ext cx="3833640" cy="3438360"/>
            <a:chOff x="4648320" y="2057400"/>
            <a:chExt cx="3833640" cy="3438360"/>
          </a:xfrm>
        </p:grpSpPr>
        <p:grpSp>
          <p:nvGrpSpPr>
            <p:cNvPr id="55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891040" y="307800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46640" y="350532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2080" y="297180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422100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43680" y="495288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65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24980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pitation in 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429000"/>
            <a:ext cx="3276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ifferences do you see in the amount of precipitation at each 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see any patt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67652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 cities are labeled on the map to the right.  The average amount of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recipit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is next to the name of each c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you notic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des Mountains run through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ies on the west side of the mountains get less precipitation than the cities on the east side of the mou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771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8320" y="2057400"/>
            <a:ext cx="3833640" cy="3438360"/>
            <a:chOff x="4648320" y="2057400"/>
            <a:chExt cx="3833640" cy="3438360"/>
          </a:xfrm>
        </p:grpSpPr>
        <p:grpSp>
          <p:nvGrpSpPr>
            <p:cNvPr id="81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82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891040" y="307800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6640" y="350532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2080" y="297180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422100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43680" y="495288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91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86600" y="424980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81000" y="3371760"/>
            <a:ext cx="715320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3600" y="76212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Cli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38098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in precipitation creates different climates across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of the mountains, Peru has a relatively dry, desert-like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 of the mountains, Peru has relatively moist, tropical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eather is wet on the east side of the mountain, why is it not wet on the west side of the mount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think causes this difference in precipi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62360" y="2041560"/>
            <a:ext cx="3833640" cy="3438360"/>
            <a:chOff x="4662360" y="2041560"/>
            <a:chExt cx="3833640" cy="3438360"/>
          </a:xfrm>
        </p:grpSpPr>
        <p:grpSp>
          <p:nvGrpSpPr>
            <p:cNvPr id="108" name=""/>
            <p:cNvGrpSpPr/>
            <p:nvPr/>
          </p:nvGrpSpPr>
          <p:grpSpPr>
            <a:xfrm>
              <a:off x="4686120" y="2041560"/>
              <a:ext cx="3809880" cy="3438360"/>
              <a:chOff x="4686120" y="2041560"/>
              <a:chExt cx="3809880" cy="3438360"/>
            </a:xfrm>
          </p:grpSpPr>
          <p:pic>
            <p:nvPicPr>
              <p:cNvPr id="109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86120" y="204156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686120" y="211788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905080" y="306216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0680" y="348948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6120" y="295596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4120" y="420516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57720" y="493704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86120" y="37339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662360" y="4479840"/>
              <a:ext cx="838080" cy="914760"/>
              <a:chOff x="4662360" y="4479840"/>
              <a:chExt cx="838080" cy="914760"/>
            </a:xfrm>
          </p:grpSpPr>
          <p:sp>
            <p:nvSpPr>
              <p:cNvPr id="118" name=""/>
              <p:cNvSpPr/>
              <p:nvPr/>
            </p:nvSpPr>
            <p:spPr>
              <a:xfrm>
                <a:off x="5119560" y="470844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66920" y="49370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66920" y="447984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6000" y="51181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52760" y="47638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62360" y="476388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rot="3064800">
              <a:off x="5241240" y="39992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00640" y="423396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320976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iling W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3624120"/>
            <a:ext cx="419076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in precipitation across the mountains has to do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ailing w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Peru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ailing 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rection from which wind normally blows in a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ailing wind in Peru blows from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 to the w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178600" y="3538440"/>
            <a:ext cx="3836520" cy="3090960"/>
            <a:chOff x="5178600" y="3538440"/>
            <a:chExt cx="3836520" cy="3090960"/>
          </a:xfrm>
        </p:grpSpPr>
        <p:grpSp>
          <p:nvGrpSpPr>
            <p:cNvPr id="130" name=""/>
            <p:cNvGrpSpPr/>
            <p:nvPr/>
          </p:nvGrpSpPr>
          <p:grpSpPr>
            <a:xfrm>
              <a:off x="5200200" y="3538440"/>
              <a:ext cx="3468240" cy="3090960"/>
              <a:chOff x="5200200" y="3538440"/>
              <a:chExt cx="3468240" cy="3090960"/>
            </a:xfrm>
          </p:grpSpPr>
          <p:pic>
            <p:nvPicPr>
              <p:cNvPr id="131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5200200" y="3538440"/>
                <a:ext cx="3468240" cy="309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200200" y="3606840"/>
                <a:ext cx="0" cy="3013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309720" y="4455720"/>
              <a:ext cx="166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2640" y="4839840"/>
              <a:ext cx="1362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00200" y="4360320"/>
              <a:ext cx="69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93560" y="5483160"/>
              <a:ext cx="640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8680" y="6141240"/>
              <a:ext cx="90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200" y="5059800"/>
              <a:ext cx="69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178600" y="5730120"/>
              <a:ext cx="762480" cy="849960"/>
              <a:chOff x="5178600" y="5730120"/>
              <a:chExt cx="762480" cy="8499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4760" y="5935320"/>
                <a:ext cx="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55800" y="6140880"/>
                <a:ext cx="27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55800" y="573012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73080" y="6303600"/>
                <a:ext cx="20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5720" y="5985360"/>
                <a:ext cx="22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78600" y="59853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3064800">
              <a:off x="5707800" y="5292720"/>
              <a:ext cx="184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3960" y="5509080"/>
              <a:ext cx="163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54080" y="676440"/>
            <a:ext cx="7278840" cy="363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over the mount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wind moves from the east to west, the moist air must travel over the Andes Mountai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ver the moun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3962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moist air rises to go over the mountains, it gets cool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er air cannot hold as much moisture as the warm air, so clouds form and it begins to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the air loses most of its’ mois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College of Veterinary Medicine</cp:lastModifiedBy>
  <dcterms:modified xsi:type="dcterms:W3CDTF">2008-01-03T16:22:19Z</dcterms:modified>
  <cp:revision>25</cp:revision>
  <dc:subject/>
  <dc:title>Slide 1</dc:title>
</cp:coreProperties>
</file>