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19.gif" ContentType="image/gif"/>
  <Override PartName="/ppt/media/image10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8A9B-3FAA-4C2B-91EB-6ECFA92D0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F22-8561-4448-AE87-E8F1AF34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9C2D-3C6F-45F1-9786-ACB8A51C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FD69-A82D-4297-BEBB-87DC733C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FB47-5F89-4B10-8B3A-B243D813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69E0-EFC3-45DF-B425-337BBC45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99B7-6989-49E5-AD41-A6627D86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4C3B-0D63-46E7-B39F-F5DDF4D9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71C2-302D-49BB-9FC6-A4A4AB41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E5A8-AC11-4768-9BE3-F5108696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F0AE-2E56-4D0A-8E17-DD0DEA1D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8E19-8B0E-4DBD-B482-B1B07859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847-CAED-42C1-BC8C-5228FA68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2A51-867B-4CD9-B4C0-C538C7CC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6ADD-FABA-49A6-B928-481A0412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00DB-65FA-4F4A-9790-325CEC67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5EF2-A841-432C-915F-C450188F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63F0-495E-4211-B741-9BD8A050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91E-DE35-490A-86CF-CD89F09D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C3C-2930-42E3-82F6-DA19F2F7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06C-1302-4127-82AA-29DF0AEF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AC9-E5BB-4177-B123-C0BC238B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097-9577-4584-BE46-E21B8495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7C2B-279E-4F97-B034-5B7E3ABC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D216-9E22-4760-B386-57652024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37A5-4F1C-45C2-8E86-BDEDB44AE5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46DD-0BB5-4A63-B5C4-7A2C3D2C74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hyperlink" Target="http://peer.tamu.edu/curriculum_modules/Cell_Biology/CellBiol/Proteins/whatweknow4.htm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Globe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3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smoker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876920" y="1512720"/>
            <a:ext cx="4057560" cy="41259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4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CigsToBrain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SmokeInLungs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j0178822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NoSmoking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Airplane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Money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Playing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vhardy</cp:lastModifiedBy>
  <dcterms:modified xsi:type="dcterms:W3CDTF">2003-02-06T05:01:02Z</dcterms:modified>
  <cp:revision>28</cp:revision>
  <dc:subject/>
  <dc:title>Tobacco and the Cellular Mechanisms of Nicotine Addiction</dc:title>
</cp:coreProperties>
</file>