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2A55-E491-4126-82E9-58FDBAE87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39F0-7A14-420B-98CF-E2FDFBB50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7021-C61A-495D-AD56-9260505FA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EDA9-75FC-4147-A05A-2031FEC7E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DD95-8BD2-48A4-AA0B-D3B2E8289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9C3E-E334-4546-9FDE-C918FB69F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57B7-5ACD-412B-A232-A09DE10E9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F1A5-02AC-487E-AA36-4395C7353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D1B9-C3A3-4717-A8ED-C0676FF45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F77F-A5C7-4EE1-85BF-AB03FED78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9947-E90A-4744-8793-6D06E0465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43B4-7F52-4229-8DE5-F000F4BEF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B0E21-B375-488E-9B77-98B51BF906D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rown Lu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hortness of breath, coughing, and wh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339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ong-term inhalation of cotton, flax, or hemp d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1:07Z</dcterms:modified>
  <cp:revision>46</cp:revision>
  <dc:subject/>
  <dc:title>Hazards</dc:title>
</cp:coreProperties>
</file>