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9ABD-CB57-444F-9994-88DADA87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855C-4185-4D48-B5CB-5F76FF58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F5B0-B605-4369-8FB8-99100FD7C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754B-3007-4230-A73E-FC8708BED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5473-31CF-4669-AC2B-05C70A91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CB68-DF61-4A3E-82C6-CD800173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FFB9-A366-47CA-8371-E7A32E36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547C-CC03-429D-B6B5-077BA8B1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311B-C04F-4749-A7FB-0ACD72AA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1F4A-7253-487C-8C9E-1DAF0E4A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BF06-EE68-48A9-B769-43BC0A51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EDBD-FFC6-40AE-A1CC-D28D4FC5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7728-86D4-4BD3-84DB-DE91DCB6D3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urring chills, fever, anemia and sometimes jaund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 through bite of infected mosqui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4T21:53:52Z</dcterms:modified>
  <cp:revision>51</cp:revision>
  <dc:subject/>
  <dc:title>Hazards</dc:title>
</cp:coreProperties>
</file>