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A6E68-BBF0-4F6E-9240-98F357DA85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C151E-EAFF-44AE-9E0F-A93CBC6802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91440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EEB3-8C89-46D9-8B54-CCA5F114D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E059-308E-4F68-BB97-794C64703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835B-1882-4299-B5CA-9C7A70EB5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8DC6-60D2-407B-A298-17E005FF1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AFDF-217C-473A-B2C3-25C8165D1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B449-AA4A-4AC1-B00A-F54535B46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2F6E-E4D0-4F01-B2E8-8264FFD5F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3261-D375-4BAD-A63E-CB8FEEB95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84B3-BB24-4065-98B4-5BE7764D5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5608-B5BA-496B-B4AB-A0C503A51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C277-DBAD-47C3-A4B7-3CF44B829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AD74-D77E-4856-8F5E-BB97B588B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718E2-FC13-4F9C-8346-158F68AFFF63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770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ecipitation and Temperatur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1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Precipitation includes all forms of moisture falling to the surface of the earth. (Examples: rain, sleet, snow, hail)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181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Temperature is how warm or cool the air is outsid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4:23:11Z</dcterms:created>
  <dc:creator>Charles C. Farnsworth, Ph.D. - Instructional Design</dc:creator>
  <dc:description/>
  <dc:language>en-US</dc:language>
  <cp:lastModifiedBy>Vince Hardy</cp:lastModifiedBy>
  <dcterms:modified xsi:type="dcterms:W3CDTF">2007-01-12T21:51:41Z</dcterms:modified>
  <cp:revision>23</cp:revision>
  <dc:subject/>
  <dc:title>What’s the difference between weather and climate?</dc:title>
</cp:coreProperties>
</file>