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456E-3C75-4F97-9E60-CE0B26EF2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3050-E308-4B59-81C6-52EBD534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9831-3922-4D40-B4A7-5B64F37F8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59A2-1B30-4810-A0E7-C0827C239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4DB3-3022-4ED4-92E9-A5B158C3B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CDF5-5C82-4F44-ABD7-87DE8EAC1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C48E-7357-425B-9AC7-65532566E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6D92-F6AE-455F-8244-47DAF805B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ACEA-2E9C-416D-BA51-D57FBB4D1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39E2-DB40-4EB0-AF80-91E1F5BF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09E4-A17A-4626-B25F-8985FBCB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BC67-90CD-4E3D-937F-929D1BD5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09C7B-B8BD-4443-B39C-039B45D618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st Nile Vi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oss of coordination, tremors, depression, weak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053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rough bite of infected mosqui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8:33Z</dcterms:created>
  <dc:creator>Texas A&amp;M Veterinary Medicine</dc:creator>
  <dc:description/>
  <dc:language>en-US</dc:language>
  <cp:lastModifiedBy>Texas A&amp;M Veterinary Medicine</cp:lastModifiedBy>
  <dcterms:modified xsi:type="dcterms:W3CDTF">2007-09-03T13:28:35Z</dcterms:modified>
  <cp:revision>1</cp:revision>
  <dc:subject/>
  <dc:title>West Nile Virus</dc:title>
</cp:coreProperties>
</file>