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377E-0661-4E78-B740-7E2AB36C2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7192-261A-4FDE-AC14-CE88014D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7BC2-DA84-4EDD-9FEE-FEF19429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CAA9-3702-4D5F-AC6B-93DAF9535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0AF5-3050-4826-AEF2-0FF4730D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2146-730E-425A-9FDF-41EB59FE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1B0C-D2B0-4691-BC90-7B5AB742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ABDE-AAF7-4736-B550-BC4EA6CB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ECB1-EB49-4317-8A71-504F1C4F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FF51-1357-4CD3-A56C-1F9D71FD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C3BE-3957-4BA3-AE59-9B8A4FA4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11FF-6780-44FE-8427-DD0C99FC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C1D8-81FE-4083-B9A2-D174906B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D2EC-CBC1-4EEF-BFBC-876821A4184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2112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42400" y="441972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4° S.L., 72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21120" y="485136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07480" y="441972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17.5° S.L., 71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3170160"/>
          <a:ext cx="217332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19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5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43240" y="4952880"/>
            <a:ext cx="5110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titude for Lima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343240" y="4952880"/>
            <a:ext cx="52308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2343240" y="4952880"/>
            <a:ext cx="6008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solute location of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0528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42760" y="4419720"/>
            <a:ext cx="57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, 80° W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03480" y="487044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42400" y="44197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4° S.L., 74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Texas A&amp;M Veterinary Medicine</cp:lastModifiedBy>
  <cp:lastPrinted>2002-05-17T17:38:54Z</cp:lastPrinted>
  <dcterms:modified xsi:type="dcterms:W3CDTF">2007-08-29T18:55:45Z</dcterms:modified>
  <cp:revision>656</cp:revision>
  <dc:subject/>
  <dc:title>Investigate the Mystery:</dc:title>
</cp:coreProperties>
</file>