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44928-717B-4047-8B1B-AA881D35EB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Represent Proportions/Conversions using Tables and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F76B-BA74-4503-822E-3CF7A12E5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1125-17E8-4AA5-AF9B-B4EEDEEFA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DB3E-24D2-4773-AC6B-D80EF261D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4A32-98EB-4153-BFA8-D87F6395C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0972-8525-479A-AD8C-162264F0A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F246-46A9-4013-88F0-9C5903E5F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9DE0-7643-4220-B5B5-6044F6989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F296-61C8-451F-8C85-58551E28D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206B-507C-48BF-AFF9-99F26E126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A75F-C93A-4392-9B4C-E485DA6D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8D0B-0588-47AD-A33B-C56CDA65D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14C4-2681-43DD-B2B5-3FF5C841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46C23-DB22-473C-933A-B20DF66B48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75960"/>
            <a:ext cx="7770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tric Multiplication Facto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ltiplication Fac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efix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ymb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l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ct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ll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31:03Z</dcterms:created>
  <dc:creator>ITWorkstation</dc:creator>
  <dc:description/>
  <dc:language>en-US</dc:language>
  <cp:lastModifiedBy>ljlab</cp:lastModifiedBy>
  <dcterms:modified xsi:type="dcterms:W3CDTF">2003-09-11T17:19:02Z</dcterms:modified>
  <cp:revision>6</cp:revision>
  <dc:subject/>
  <dc:title>Metric Multiplication Factors</dc:title>
</cp:coreProperties>
</file>