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C8C4-79D4-4538-8494-878F74AEF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bulary Challeng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Spe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Malnour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foreb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Monstro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Re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ssass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DB91-7082-40BE-BF6A-A8C4B8EF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0220-10FD-404E-88AD-6461020B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4AFC-839B-44AB-8AA6-5C8D324AC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DE63-CB66-4297-9AD9-AC550B6C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4AF2-EA85-4EF8-B81A-E7A811C9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5067-2256-4CFE-8613-0B54C183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3339-5F4A-434A-917C-EF081381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E093-B98B-456E-9B67-0506DA52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087F-9F15-49EE-9C9F-40D815CC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5B21-4F7F-4BFF-A6FB-41DDADE5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E679-8E2E-4E76-8FC5-CC517769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BD3A-9EC8-4264-AF70-262C1703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6AF7-1358-4F5E-A4A8-6B25AA93640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eVocab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ease fill in the blank with the correct word from “The Kiss of the Assassin.” Use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lossary of Term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a resource if need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needed expert advice on ancient Peruvian temples for my report, so I scheduled an interview with the __________ of the museum of Peruvian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My final report on Peru was  ___________. It covered all aspects of the country including geography, culture and economic 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prevent the crime in this story, Connie and Roman had to _________ a strategy quick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find out more about the behavior of the black beetle, scientists select a few beetles and study the characteristics of each   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eelings of the Peruvian people about their ancient relics were _________ to the villain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knew that the stray cat at the archeological site was __________ because I could see the outline of his ribs through his fu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’s actions were the reason for Connie’s feelings of 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ile of trash left behind by the tourists who came to see the archeological site was a __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y studying _________ of ancient cultures, we can learn about the pa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sect was the __________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Vince Hardy</cp:lastModifiedBy>
  <dcterms:modified xsi:type="dcterms:W3CDTF">2007-05-03T15:06:30Z</dcterms:modified>
  <cp:revision>26</cp:revision>
  <dc:subject/>
  <dc:title>PowerPoint Presentation</dc:title>
</cp:coreProperties>
</file>