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7048B-E8A0-44E8-8B91-26EC959F4AA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8B72-6E43-4695-9FE0-38E1BA738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E406-01CD-4F8A-BB61-008EE5AD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5A3F-0EC8-423E-A4BC-73C8BCE5C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02EE-EF92-4460-ADCB-ACEE3D191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6323-E248-4393-81C6-FCA23E1CE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D057-B519-401E-8CDD-D83D14703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E24C-F894-4AC0-A2F4-0EF66B1C4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81AB-1A7D-4965-9D26-BED1C0D2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F98B-2877-40B9-B50C-58D4292CF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5580-0B58-4B0E-AA7B-2B02039D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D24C-9D50-43CD-8341-A7D93D79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E0CF-7AB5-4B04-8900-B29C3B2A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90EF3-24AA-4631-8098-2EF48145984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vhardy</cp:lastModifiedBy>
  <dcterms:modified xsi:type="dcterms:W3CDTF">2003-05-29T00:06:40Z</dcterms:modified>
  <cp:revision>32</cp:revision>
  <dc:subject/>
  <dc:title>Comparing Apples to Oranges</dc:title>
</cp:coreProperties>
</file>