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C516-CB33-49EF-AC11-1067A9401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6240-0777-447D-B9A3-C25449B63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3C4F-8449-4A11-A146-71E2EBAA6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E64A-8706-497E-8EAE-211435661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7E52-843D-4D6E-BCA3-6EDE9B332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9AFF-38BA-477A-94E1-FDF499DF9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C627-4A63-4778-B311-B64228D78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9456-E40D-4805-9A4A-626DE87C6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3DDC-D5B9-4241-83A4-5B62DBE36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7C51-B1DC-434F-8F28-3E4852321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0039-D6C0-4011-9C4A-BD121B08D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A553-7D65-4443-B914-0B8F12091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F21C0-C2BB-4B06-8696-2EEB86A484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reutzfeldt – Jakob Dise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0512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ementia, decreased muscular coordination, personality changes, impaired vision, insomnia, depression, or unusual sen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267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bodily fluids or tissues that contain an abnormal 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6:11Z</dcterms:created>
  <dc:creator>Texas A&amp;M Veterinary Medicine</dc:creator>
  <dc:description/>
  <dc:language>en-US</dc:language>
  <cp:lastModifiedBy>Texas A&amp;M Veterinary Medicine</cp:lastModifiedBy>
  <dcterms:modified xsi:type="dcterms:W3CDTF">2007-09-03T13:26:33Z</dcterms:modified>
  <cp:revision>1</cp:revision>
  <dc:subject/>
  <dc:title>Creutzfeldt – Jakob Disease</dc:title>
</cp:coreProperties>
</file>