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E13D-7654-4802-BFD0-1A08D5E6D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3202-4540-4B8F-A75C-239AC40FB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B5DB-F30C-4FB0-AA6E-9E21CB81F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8624-3587-4CA7-818F-2CA2056A8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054D-A3F4-485D-AD96-ADA501A2D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390B-893E-4553-A18A-705DE5E2F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9D10-C3CD-4935-BB22-3EFE59BAA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FA4B-9E99-4D50-AA68-5ECF751F1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6921-FBE8-440D-AA72-FED8C3672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4FA1-C3AB-480A-8775-1E3643245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FAE3-6EC8-4E75-9A49-CA5C4FDF2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01A1-117E-4C31-9EFA-85075E311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2375B-5BFA-4BBA-A209-781B17E0AA3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tatistic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, Mean, Median, and Mode are all words that we use to describe numerical dat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 is the lowest and the highest number in a data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n is the average of all the numbers in a data set, or all of the data added up and then divided by the number of data point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dian is the middlemost number in a data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E:  If there is an even number of data points, the average of the middle two give the media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e is the number that is repeated the most in a data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ample Data Se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re is a sample data se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, 4, 6, 2, 8, 5, 2, 4, 6, 9, 2, 1, 2, 2, 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Range:  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, 2, 2, 2, 2, 2, 4, 4, 5, 5, 6, 6, 8,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n:  59/15 = 3.933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Median 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1, 1, 2, 2, 2, 2, 2, 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4, 5, 5, 6, 6, 8, 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Mode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1, 1, 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2, 2, 2, 2, 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4, 4, 5, 5, 6, 6, 8, 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8T17:44:00Z</dcterms:created>
  <dc:creator>vtpp</dc:creator>
  <dc:description/>
  <dc:language>en-US</dc:language>
  <cp:lastModifiedBy>vhardy</cp:lastModifiedBy>
  <dcterms:modified xsi:type="dcterms:W3CDTF">2003-05-23T21:31:31Z</dcterms:modified>
  <cp:revision>6</cp:revision>
  <dc:subject/>
  <dc:title>Statistics</dc:title>
</cp:coreProperties>
</file>