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7836-E713-4FCA-96E5-263B77C86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E514-361E-4FA7-B27A-837C1966E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A303-97B4-408C-B878-13A61900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8B10-6A1A-403F-9F3A-3829CF7AB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657A-B633-4956-BDF3-60A097EAF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EF40-958D-486D-B45F-A6417525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F539-32E3-4751-BCB1-F4CF49C0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42BA-03C5-4C72-8A15-6C598EB5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C704-26DC-4673-9824-63B3233B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BA83-02BC-4D6B-B46B-05F7E374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C530-B85B-407A-8FAC-DDA60132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0585-0FFF-4D68-80CF-0F0A2A04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6F7D-3E70-4E10-A003-787D270F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2CFD-D859-484E-97BD-4E5CD88B3DF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itstudent</cp:lastModifiedBy>
  <dcterms:modified xsi:type="dcterms:W3CDTF">2002-08-06T19:36:29Z</dcterms:modified>
  <cp:revision>23</cp:revision>
  <dc:subject/>
  <dc:title>To Sum It All Up…</dc:title>
</cp:coreProperties>
</file>