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8886-5FA4-4489-8FCC-4C26B7C6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6C53-B202-4B96-B57D-2DD1D424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5997-9321-4D27-91DA-9B40A847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67E3-9365-460A-9EAE-88DA27EFF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C117-8389-4F72-9395-9E413C6F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5904-61EB-4B6C-81B6-B03B50D2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7BA5-F1CA-42A2-891E-8E0B62C7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ED00-4527-4A6D-9668-37AB5C97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51E5-7C51-4215-8B04-169635E3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DEDC-B35E-45E7-930B-F0BDF035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A02A-A805-4FB7-AA2E-C96CAF57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DF6C-8C58-41AA-8315-27C1CDE7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D637-257D-40E3-A71A-19D6E30DDE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00Z</dcterms:modified>
  <cp:revision>46</cp:revision>
  <dc:subject/>
  <dc:title>Hazards</dc:title>
</cp:coreProperties>
</file>