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7E46-0300-47A5-86D1-1776C17B8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747E-104E-455A-A95B-2B408D579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A97B-6F17-4E26-9C40-D9E79A56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F2C8-1969-4D31-89D0-571B3B6D3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A3DA-68A9-4ECD-91BA-65A887EA9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4CDB-282A-4396-A177-364B59B2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226C-9177-4DFA-A4F2-E30C9BB4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0EAC-408A-4D87-AE63-792BD61A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8EAF-9B15-4295-A816-15B1DCFC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80CF-ECA9-48EA-A5BC-C3202AE7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966E-2E04-49CD-867D-E658C28C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DA9F-4383-4314-A741-2E3197A6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4F8F-33E4-48F2-9F60-268FA471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2F32-5AD9-473A-82DC-6F69137B5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3-01-16T18:37:15Z</dcterms:modified>
  <cp:revision>28</cp:revision>
  <dc:subject/>
  <dc:title>Sensory Details </dc:title>
</cp:coreProperties>
</file>