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E3CC-72DA-4AF0-9190-70709FE0C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many words in the story that are unfamiliar to your students. Ask students to find each word that is new to them, define the word, find a synonym and antonym for each word, then use each word in a sentence outside the context of the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6C: The student is expected to: locate the meanings, pronunciations, and derivations of unfamiliar words using dictionaries, glossaries, and other source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FEAC-42D9-4C95-9380-BBE7E5BFD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ECE6-0E6F-4C9F-AC17-4BC277AD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E4AE-00F1-49F3-9EE2-69ED4ACBE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EF1E-A84D-4203-9FCD-FB37067D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ED53-E35C-4394-BC5F-E1BB7BE6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D294-9C33-4E72-AE23-078FB1A7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5FD8-22C8-434D-89EE-A76BD9FA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DEC0-A03A-4ED5-A5AD-4B634D01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FCB4-051E-43B8-A207-D95CD430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37BE-BAD5-4F1F-8112-076B2696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B808-F62E-46EF-97E8-E8284DC4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8906-3F24-424C-B5C8-8963C828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83D8-84BB-44DE-A9E4-9D267E064E2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omprehensive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Very large in content, all inclusiv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Assassi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 murderer of a prominent pers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Specimen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An item representative of an entire set or whol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urator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One in charge of a selection, as at a museum or library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rreleva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Unrelated to the matter at han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Foreboding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have a premonition or feeling of a future misfortun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 (cont.)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232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onstrosity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Something that is unusually large or that gives a feeling of disgus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mpleme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put into effec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Relics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Something that has survived from an extinct culture or from a specific time perio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alnourished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ffected by improper or poor nutriti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Ljlab</cp:lastModifiedBy>
  <dcterms:modified xsi:type="dcterms:W3CDTF">2005-05-25T16:30:06Z</dcterms:modified>
  <cp:revision>20</cp:revision>
  <dc:subject/>
  <dc:title>PowerPoint Presentation</dc:title>
</cp:coreProperties>
</file>