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C093-26D5-4BEB-9AC4-307E7B38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7ADB-9FFF-4E4D-A06E-D3AD29D7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9366-AE3B-4104-B0D1-8F9097E3A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4FB4-F0E9-4E08-8B1F-B8A7F3240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E9CE-93CB-48AB-94A2-83D7F156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8A8E-17D9-4FA3-8579-7073104D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EFD0-7D40-4E4A-95A9-D13CDE38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95A8-DCC8-4B3B-A883-198420D3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A5B5-AC01-4A52-96F1-3FD67381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1D2D-0977-4BCE-AA67-D8B9D1B1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E469-B05D-4DD8-AF9E-F90EFD0E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BAB8-CF41-4699-AF31-1F630C95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2945-A364-4063-97DF-65D5ED2B98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45Z</dcterms:modified>
  <cp:revision>49</cp:revision>
  <dc:subject/>
  <dc:title>Hazards</dc:title>
</cp:coreProperties>
</file>