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777D-6845-49A9-83E1-73BB9783D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7501-6F26-4818-9A46-64ED60F5B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2324-00E0-4600-BA88-E1305B18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9426-2285-4E8F-A22E-A88665EE6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44AC-0D64-465A-8B88-CB459F617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931A-5165-4AAA-B975-C3910A60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06DF-6560-451B-9506-504B1001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3A2B-9505-4817-94CE-FB2FCFA7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D0A5-330F-45E8-8802-C929DB31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8169-731E-4E8F-8F7F-1A89DAB6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E923-CBEF-4B5E-8114-2BA48DFA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EE89-D2BE-4756-8E0F-B265096A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042B-EFD5-44BA-9B62-BB82B2A3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136D-4F71-43F8-BE6A-CD6CAA9384C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3-01-16T18:50:08Z</dcterms:modified>
  <cp:revision>28</cp:revision>
  <dc:subject/>
  <dc:title>Descriptive Writing</dc:title>
</cp:coreProperties>
</file>