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108C-E02E-463B-ADEC-C33A4F5C9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03C5-F575-4074-8D0C-598EE81E7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897F-6AA3-41BA-87C8-BF562098B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AEB2-792D-488A-9989-76DA4E17F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B7BD-61F7-4916-85B1-2510D3E2A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67F2-5C80-4164-930F-635800C56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E00C-74D6-41FE-8948-F7E262C19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EC82-3686-4FCC-843D-742B94F3B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FB9D-48DB-491A-BD00-DF076206D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7E7A-BC54-4ADF-9D80-FC5133963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3B02-AE61-4B13-84A0-FAEFEE8F8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426C-3AAA-4BAA-896D-707A5412D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AEE6C-1B2C-4E9D-8CC3-E71D4A7F520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oler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tery diarrhea, rapid dehydration, vomiting, leg cra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5360" y="3664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food/water, contaminated feces of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2:25Z</dcterms:modified>
  <cp:revision>48</cp:revision>
  <dc:subject/>
  <dc:title>Hazards</dc:title>
</cp:coreProperties>
</file>