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FB502-6972-4D75-9136-C4B282B9F7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55922-6290-46A1-9D21-8BDC137B3D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91440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Social Studies –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2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social studies terminology correct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22 (A), 8.31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2FD6F-1E67-4EE0-B0C6-AE9A4BE15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5A347-4B54-40CC-9E09-9295FBBE1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11B87-820C-4CF7-907C-C2048ADB0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CCA74-CEB4-457E-BBB5-D400CAE62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AA462-241D-4FA5-A03F-8405A6D04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8E7CF-BF82-4632-AA5A-9D35C84EC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E657E-018B-4BCE-B825-DBE2A571F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AFAD9-0D89-4F93-B7CC-7F2F478C7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290EC-3A1A-4B54-A372-442BD3517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6C6A4-7DBF-49FF-A463-D6AB94655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6E1F5-D459-4D21-938D-386078436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02F70-12A0-4A4A-B117-DD4658DBC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26D14-7536-4D44-BAF2-6F923EA4B917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1760" y="380520"/>
            <a:ext cx="7770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Precipitation and Temperatur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1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Precipitation includes all forms of moisture falling to the surface of the earth. (Examples: rain, sleet, snow, hail)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181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Temperature is how warm or cool the air is outside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5T14:23:11Z</dcterms:created>
  <dc:creator>Charles C. Farnsworth, Ph.D. - Instructional Design</dc:creator>
  <dc:description/>
  <dc:language>en-US</dc:language>
  <cp:lastModifiedBy>Vince Hardy</cp:lastModifiedBy>
  <dcterms:modified xsi:type="dcterms:W3CDTF">2007-01-12T21:51:41Z</dcterms:modified>
  <cp:revision>23</cp:revision>
  <dc:subject/>
  <dc:title>What’s the difference between weather and climate?</dc:title>
</cp:coreProperties>
</file>