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B557-249B-4CB5-96FB-C8A234A3A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6EAB-352B-48BB-B6D2-2363D079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C0DA-1798-4EA7-96E5-D2B807F26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5CF2-20AE-435C-A6CC-A7EE5A783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C341-ADDE-484F-902C-C696632D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ECA2-BE41-4335-AF17-E3C954D4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C576-A697-45AE-98ED-53139B55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442F-BF51-4292-A5E1-A49D80E3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AD4F-A91D-45B8-952A-A97CB645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D13F-5082-45A1-8D0A-B9B0665D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6555-C412-4D4B-96E1-BAA02064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6CE6-EC99-44F4-80DD-09B7FF99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57FF-C10C-4590-B7D3-C7C4BC2D8E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8-30T16:20:49Z</dcterms:modified>
  <cp:revision>45</cp:revision>
  <dc:subject/>
  <dc:title>Hazards</dc:title>
</cp:coreProperties>
</file>