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31B60-B388-4B1C-96E3-FA216E9FEB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9EEA5-A3CD-4267-AD39-C21FFE3816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7BCF3-47C9-47EB-A2C9-66947CAE70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A412F-B0F6-4E89-892D-1DB0DC1BAA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27C45-0BB3-47DA-8067-F76F037B70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0F6AD-3476-43AA-8926-51977EBBAB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30A40-B66F-4B7F-B8F4-C06E9C7861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3632A-3A43-4EE1-B900-82DD3831CB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498CB-DDF2-4FAD-BF7C-D8D0B81A79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179FF-E6DB-4F18-B2E2-C5CA7D7240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02636-3916-4A80-BDD3-4F88E383AF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40855-EE15-497D-98BF-D8D3D7B460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BBE05-BAF6-4FE9-8043-883DB0C560E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 it is written as a PERCENT, the decimal number is the part and 100 is always the whole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F9B86-398E-412E-A88E-0926554D61E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) Multiply the decimal by 100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) Add a percent sign after the answer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or 100%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.83 or 83%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97200" y="4724280"/>
            <a:ext cx="345132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57EC5-324B-4CAA-9E16-ABDB1D86D894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09Z</dcterms:modified>
  <cp:revision>211</cp:revision>
  <dc:subject/>
  <dc:title>VTPP 423 - PHYSIOLOGY</dc:title>
</cp:coreProperties>
</file>