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4D78-9A95-4C1B-A700-493590315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9593-C246-4015-B5D6-2C7159D4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9D47-98E6-448E-9AA8-27BACAEA0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9739-34E7-4F25-86EA-C0DA7E73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AF53-F314-49B6-87BC-9BC613A1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D5C7-8F9E-44A4-99BD-0A20337E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6DF9-1DC8-4666-9091-FBBDF2CC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E3FD-1CF7-476B-9A07-512B346D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487D-EE4A-4E4C-A6EE-9CBC8002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5F40-5591-492C-B3B9-44E9A07A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7893-2F8E-4F85-BC86-7C33875C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A3AE-D5C5-4DC3-9668-A3068082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6104-C68C-4562-A536-0E72CF39B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47Z</dcterms:created>
  <dc:creator>Texas A&amp;M Veterinary Medicine</dc:creator>
  <dc:description/>
  <dc:language>en-US</dc:language>
  <cp:lastModifiedBy>Texas A&amp;M Veterinary Medicine</cp:lastModifiedBy>
  <dcterms:modified xsi:type="dcterms:W3CDTF">2007-09-03T13:27:50Z</dcterms:modified>
  <cp:revision>1</cp:revision>
  <dc:subject/>
  <dc:title>Poliomyelitis</dc:title>
</cp:coreProperties>
</file>