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F031-1DF3-4671-8222-ACCC21BC0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6153-A016-4B39-84AB-4AB5E32D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ADBA-08DD-4762-95C5-1634558D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A49B-473E-4107-9D79-5B913F4DE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A107-9C40-4368-B2D7-85E93781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688B-CEF6-41FE-9ED2-8DAFF5EA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4F41-10CE-4173-ADC7-C6D170A8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5347-AD68-45E8-96D2-B71C4CB9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D8F3-BF01-4C36-B253-ED5A929E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4BFC-2BBF-4B69-B44E-EE2D5893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5576-FC7D-429C-AE6C-31BAC968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C86A-F55C-4B96-B3F1-BD9F1CF7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BB62-D0E8-4694-8C63-FDB404281A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17Z</dcterms:modified>
  <cp:revision>52</cp:revision>
  <dc:subject/>
  <dc:title>Hazards</dc:title>
</cp:coreProperties>
</file>