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92E6-3A7A-4598-88E0-0A0E9960A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5767-FC87-433A-94B7-8D905382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AFA0-85CC-4A84-B35A-DB07B044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1ED5-DF89-45F5-BF51-45E888C5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96BA-34B1-4AAA-8169-0E27E4CD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ECEF-7157-4E95-B236-6628DA83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2B56-541A-4153-8531-0A1CBEDC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A5DB-A6E8-4BB3-832F-90828882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97DB-17FA-4779-B835-526972E2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138D-75E5-4678-B152-84A5F50A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3BA8-5EF0-42D3-9608-67B7C345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34CC-4611-421C-9FCC-EAAD6297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6DBE-57F0-4619-BDFA-0E86A4B0E9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07Z</dcterms:modified>
  <cp:revision>46</cp:revision>
  <dc:subject/>
  <dc:title>Hazards</dc:title>
</cp:coreProperties>
</file>