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5B54-BCD9-461F-B031-DF90D937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3246-A4B3-4585-8BA9-DFC1E92B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A025-FBF0-4745-B901-DC5A82F2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41B1-F807-4006-AEA6-ABC6D033C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84F4-27B8-45BD-B6B8-EF8BB5B5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5681-AC77-43DD-B6D2-BDB8CF83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7D3A-2E90-4871-9864-A8CC5455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7A60-8717-4942-837A-F87C9A66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22FA-AF94-442F-BDC3-6E1751DC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862D-4132-44ED-8B43-6BD20E40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0D8A-67B1-4268-A9B2-0B63C309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6FE9-2BE8-4583-BB7A-3076B58B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7A75-04C8-494B-B5CB-B8C37BBDB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06Z</dcterms:created>
  <dc:creator>Texas A&amp;M Veterinary Medicine</dc:creator>
  <dc:description/>
  <dc:language>en-US</dc:language>
  <cp:lastModifiedBy>Texas A&amp;M Veterinary Medicine</cp:lastModifiedBy>
  <dcterms:modified xsi:type="dcterms:W3CDTF">2007-09-03T13:27:10Z</dcterms:modified>
  <cp:revision>1</cp:revision>
  <dc:subject/>
  <dc:title>Meningitis</dc:title>
</cp:coreProperties>
</file>