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F0CB-9602-40FE-9319-FDACB1811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F041-8A22-4089-87AD-24D946EF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7E8E-9394-4B0A-B9D1-1B182B614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9E5A-E585-48E8-BF31-10825E66D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EAA7-8652-4AA8-AA7F-DC766C08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69FA-1A13-46B1-A3C7-CA4974E0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9E0C-2D5F-433F-8688-010DF17E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8CDF-A3A3-462F-9552-5C348106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A457-DB53-4705-A730-2A1A42CA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4315-AF8D-4468-AB35-A35C85C0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BBC1-6EED-4E06-B3DE-C6728969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8682-21AA-4E57-83B6-20FAACA1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27EA-342A-42A5-B703-79EEB9AEF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8:33Z</dcterms:created>
  <dc:creator>Texas A&amp;M Veterinary Medicine</dc:creator>
  <dc:description/>
  <dc:language>en-US</dc:language>
  <cp:lastModifiedBy>Texas A&amp;M Veterinary Medicine</cp:lastModifiedBy>
  <dcterms:modified xsi:type="dcterms:W3CDTF">2007-09-03T13:28:35Z</dcterms:modified>
  <cp:revision>1</cp:revision>
  <dc:subject/>
  <dc:title>West Nile Virus</dc:title>
</cp:coreProperties>
</file>