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45A9-78AA-45AF-9930-F5EBB6E5124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CECB-C4F7-4927-8FCD-C2DBAD35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FF41-686D-43EF-8D02-50A495F0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2970-33DD-4008-BC5E-50660CCF7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CA9E-46D2-4E8B-85B2-385FA963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1A8D-8FD6-4D39-9910-3AB6E3B7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BACF-8327-47DD-AFE9-FE6E9523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4860-21CF-4A11-846C-F93DBAD5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0713-444F-440D-964B-797C00C1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F1ED-F9D7-48A8-83F8-773E7D98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90EF-4FB2-4212-8451-E6A457F9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8772-DDF7-4F2B-8C09-C661CD20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2D8A-8712-45DB-A3C2-223E5080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C7CF-582F-46DF-A920-E53A518CA33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vhardy</cp:lastModifiedBy>
  <dcterms:modified xsi:type="dcterms:W3CDTF">2003-05-29T00:06:40Z</dcterms:modified>
  <cp:revision>32</cp:revision>
  <dc:subject/>
  <dc:title>Comparing Apples to Oranges</dc:title>
</cp:coreProperties>
</file>