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3C38A-E3A3-4532-B1F5-F6A160D72A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H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ing and using writing processes for self-initiated and assigned writing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0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marizing and organizing ideas from multiple sourc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just a skeleton of a story map to assist in summary. These are the elements the students should use to complete the summary. Filling out a story map will help them in the organization of the summa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0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marizing and organizing ideas from multiple sourc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494C2-A298-402A-AF66-A5891FCA4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413C3-329D-4FD9-B862-605904472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F8182-6040-4687-B8FB-241787454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8E122-96EE-4862-9630-4BBFF7AC5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5288C-1000-4EA2-A95D-AF821AF2B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B8C3A-C6B0-4E48-B1B6-81BF8B212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39633-4154-4A75-977D-BE884FC25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EC7BF-251D-4519-BFE0-FBBBA4486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D4063-E459-47C7-A3CC-35E1D262E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D9E77-68DD-4323-B50D-DEAE40E26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47E52-CCAE-450A-8910-F6C2F456B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424D1-23C7-4DD1-9CFD-D7B20FEFE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3DC94-E450-41C2-907D-274E8F8AC045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To Sum It All Up…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 summary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ames characters,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ells about their problems and goals, an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escribes how the characters try to solve their problems and reach their goal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Map It Ou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story map lists  important details to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be included in the summary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Setting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Character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Details of the plot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Problem-solving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Outcome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n example of a story map is shown on the next slid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2" name="j0299203" descr=""/>
          <p:cNvPicPr/>
          <p:nvPr/>
        </p:nvPicPr>
        <p:blipFill>
          <a:blip r:embed="rId2"/>
          <a:stretch/>
        </p:blipFill>
        <p:spPr>
          <a:xfrm>
            <a:off x="4932360" y="1828800"/>
            <a:ext cx="3059280" cy="35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Story Map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4920" y="2133720"/>
            <a:ext cx="853416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etting: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haracters: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lot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roblem Solving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utcom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338040" y="2133720"/>
            <a:ext cx="8534160" cy="3657600"/>
            <a:chOff x="338040" y="2133720"/>
            <a:chExt cx="8534160" cy="3657600"/>
          </a:xfrm>
        </p:grpSpPr>
        <p:sp>
          <p:nvSpPr>
            <p:cNvPr id="56" name=""/>
            <p:cNvSpPr/>
            <p:nvPr/>
          </p:nvSpPr>
          <p:spPr>
            <a:xfrm>
              <a:off x="338040" y="2133720"/>
              <a:ext cx="0" cy="3657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38040" y="579132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V="1">
              <a:off x="8872200" y="2133720"/>
              <a:ext cx="0" cy="3657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38040" y="213372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38040" y="274320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38040" y="342900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38040" y="396252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624040" y="3429000"/>
              <a:ext cx="0" cy="2362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053040" y="3429000"/>
              <a:ext cx="0" cy="2362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6T15:13:49Z</dcterms:created>
  <dc:creator>Gina Balducci</dc:creator>
  <dc:description/>
  <dc:language>en-US</dc:language>
  <cp:lastModifiedBy>itstudent</cp:lastModifiedBy>
  <dcterms:modified xsi:type="dcterms:W3CDTF">2002-08-06T19:36:29Z</dcterms:modified>
  <cp:revision>23</cp:revision>
  <dc:subject/>
  <dc:title>To Sum It All Up…</dc:title>
</cp:coreProperties>
</file>