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ABC6-14E4-486E-B69D-D162237F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, Integers in real 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D)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onvert measures within the same measuremen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, Select appropriate tools to solve a prob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 x 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) +  32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9/5 x 18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= 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+ 32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4.4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 is equal to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4.4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B) Measure/solve problems of length, area, time, temperature,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4 (A) Collect, analyze, and record information using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4 (A) Collect, analyze, and record information to explain a phenomen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4 (A) Collect, record, and analyze information using general scientific too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Fahrenheit Celsius temperature scale temperature conversion conversions ratio calc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247760" cy="20667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t pounds to 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lbs x (1kg / 2.2lbs) x (1000g / 1 kg) = 907.2 grams of dry 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grams by kilojoules/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7.2 grams x (7 kilojoules/gra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,350.4 kilojoules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Use problem-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Select or develop an appropriate problem 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B) Use a problem-solving model that solves a problem using a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Us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Select an appropriate problem solving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atio conversions unit conversions multiplication division fraction ratio propo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y number of centimeters by number of kilometers each centimeter repres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9.50 km/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.28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Set up conversion problem to determine the distance in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45 cm x (1 in/ 2.54 cm) =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75 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and equations form a problem situation using letters as unkno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easurement system conversion conversions length ratio proportion fraction multi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226-AD96-497A-BDDC-792FB3B9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32E-B27E-4288-BB61-26C7A3A1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5E1-018E-4155-A609-756AA483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182-190D-4580-A4A5-FEC3ADD1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E59-A48E-4FBC-B2C2-9405ED67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BDC-995C-4EA5-ADAD-0AC8795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D6A-6312-46F4-9408-1E20050D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5CE-35EC-4AEA-9EF6-8CD42BFF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103-33F6-4679-BEC7-F5EC0B19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0D2-9F34-49B9-9F97-9735C1A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E6E-53E9-48E0-BD85-222106C0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399-D2EC-47BC-9635-725939B4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FFDE-98AA-44E6-9C4A-62DCD9FE0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TempConv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Appendices/Per Problem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Appendices/LgthConv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PE Math Supplemen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4479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emperatures from degrees Celsius to degrees Fahren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energy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otal distances in different measurement sys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ting Temper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6720" y="154908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arriving in Peru, Connie checked the temperature using the BPC.  The temperature was colder than she had expected.  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emperature was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br>
              <a:rPr sz="2800"/>
            </a:b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, what wa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in Fahrenheit?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Click here for Temperature Conversion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2079720" cy="345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kids first met Miguel, he had gathered about 2 pounds of dry dung to add to the fire.  Knowing dung can release 7 kilojoules of energy per gram of dung burned, how much energy would be produced from the du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0080" y="628020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for more information on unit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64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guel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8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mily came from a small village in the mountains to earn better pay while working at the dig.  Measuring on a map, their village is 4.45 cm from Paloma.  If each centimeter on the map represents a distance of 9.50 km, how far did they have to travel to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asured in inches, what would be the distance between the dig site and the village as measured on the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47240" y="62308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 more information on length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ath Challenge Quiz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test your math skill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3995640" cy="4995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5:18:05Z</dcterms:created>
  <dc:creator>Jeremiah McNichols</dc:creator>
  <dc:description/>
  <dc:language>en-US</dc:language>
  <cp:lastModifiedBy>Jeremiah McNichols</cp:lastModifiedBy>
  <dcterms:modified xsi:type="dcterms:W3CDTF">2008-06-26T19:40:03Z</dcterms:modified>
  <cp:revision>24</cp:revision>
  <dc:subject/>
  <dc:title>Measurement</dc:title>
</cp:coreProperties>
</file>