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A91A1-9D51-45DD-A1D9-3635A0CD30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16D8D9-2657-4356-B661-CEA571E877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59AB09-EAF1-4D2C-9CE1-58D41F2629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D6688F-C5FE-41F2-8E0D-5DF3EDA278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20999F-345B-4E26-9CF5-0FD0646280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344F61-6DE2-46C5-98E1-6B059D35FA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49D8E0-BE47-4B65-A97B-34B20DEFAD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D68793-0DD0-4328-AE2E-A0D177D2A7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1D6F0A-7BEB-4E15-B027-3A08E95E22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D9F879-F0BF-43D8-B9CE-F3A62CB39E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AC1720-3BAB-44C6-A5A1-F7D850CC8F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6E5F8-3811-4165-92CF-BE1BBE5899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3CF32D-57D6-4744-89EE-413E6DC768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9681B-ED61-440B-A25B-7A36CF53DFEA}"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800240"/>
            <a:ext cx="7772400" cy="160020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How do you find a city or other location on a world map or glob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t might be easy to find Dallas, Texas, but what if you were asked to find San Miguel, Argentina?  Where would you begin to look?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0" name="" descr=""/>
          <p:cNvPicPr/>
          <p:nvPr/>
        </p:nvPicPr>
        <p:blipFill>
          <a:blip r:embed="rId2"/>
          <a:stretch/>
        </p:blipFill>
        <p:spPr>
          <a:xfrm>
            <a:off x="3124080" y="1523880"/>
            <a:ext cx="236232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en geographers use the term “absolute location” they are referring to the global address of a place.  </a:t>
            </a:r>
            <a:endParaRPr b="0" lang="en-US" sz="2400" spc="-1" strike="noStrike">
              <a:solidFill>
                <a:srgbClr val="ebebeb"/>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ebeb"/>
                </a:solidFill>
                <a:uFillTx/>
                <a:latin typeface="Times New Roman"/>
              </a:rPr>
              <a:t>Absolute location</a:t>
            </a:r>
            <a:r>
              <a:rPr b="0" lang="en-US" sz="2000" spc="-1" strike="noStrike">
                <a:solidFill>
                  <a:srgbClr val="ebebeb"/>
                </a:solidFill>
                <a:latin typeface="Times New Roman"/>
              </a:rPr>
              <a:t> is the location of a place on the earth’s surface stated in terms of latitude and longitud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o find the absolute location of a place on the earth’s surfac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rst, look to see if it is in the Northern Hemisphere or the South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n, look to see if it is in the Western Hemisphere or the East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nally, find its exact location using lines of latitude and longitude.  </a:t>
            </a:r>
            <a:endParaRPr b="0" lang="en-US" sz="2000" spc="-1" strike="noStrike">
              <a:solidFill>
                <a:srgbClr val="ebebeb"/>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sp>
        <p:nvSpPr>
          <p:cNvPr id="189"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pic>
        <p:nvPicPr>
          <p:cNvPr id="19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191" name=""/>
          <p:cNvSpPr/>
          <p:nvPr/>
        </p:nvSpPr>
        <p:spPr>
          <a:xfrm>
            <a:off x="1015920" y="5310360"/>
            <a:ext cx="7373880" cy="13914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95680" y="1971720"/>
            <a:ext cx="380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6440" y="5351400"/>
            <a:ext cx="847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Look for the circle around Mexico.  Were you corr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s global address is about 25° North Latitude and 110° West Longitu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 the absolute location for Mexico is 25° North Latitude and 110° West Longitude.</a:t>
            </a:r>
            <a:endParaRPr b="0" lang="en-US" sz="1800" spc="-1" strike="noStrike">
              <a:solidFill>
                <a:srgbClr val="000000"/>
              </a:solidFill>
              <a:latin typeface="Times New Roman"/>
            </a:endParaRPr>
          </a:p>
        </p:txBody>
      </p:sp>
      <p:sp>
        <p:nvSpPr>
          <p:cNvPr id="199"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pic>
        <p:nvPicPr>
          <p:cNvPr id="20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201" name=""/>
          <p:cNvSpPr/>
          <p:nvPr/>
        </p:nvSpPr>
        <p:spPr>
          <a:xfrm>
            <a:off x="2624040" y="2000160"/>
            <a:ext cx="381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3"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earching for places on a world map or a globe can be time consuming and frustrating.  Sometimes you don’t know where to begin looking! </a:t>
            </a:r>
            <a:endParaRPr b="0" lang="en-US" sz="2400" spc="-1" strike="noStrike">
              <a:solidFill>
                <a:srgbClr val="ebebeb"/>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a place more quickly if you know its address.  </a:t>
            </a:r>
            <a:endParaRPr b="0" lang="en-US" sz="2400" spc="-1" strike="noStrike">
              <a:solidFill>
                <a:srgbClr val="ebebeb"/>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All places on Earth have a specific address.  This address makes it easy to find a plac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Places on Earth do not have addresses like Row M, Seat 9 or 4120 Viola Driv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addresses of places on the Earth are given in latitude and longitud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anchor="t">
            <a:normAutofit/>
          </a:bodyPr>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he coordinates of a location are like an address for that place.  If you know the coordinates (like 34</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North Latitude and 58</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West Longitude), you can easily find any place on the earth’s surfac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6" name="" descr=""/>
          <p:cNvPicPr/>
          <p:nvPr/>
        </p:nvPicPr>
        <p:blipFill>
          <a:blip r:embed="rId2"/>
          <a:stretch/>
        </p:blipFill>
        <p:spPr>
          <a:xfrm>
            <a:off x="2209680" y="274320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3-09-11T17:22:42Z</dcterms:modified>
  <cp:revision>106</cp:revision>
  <dc:subject/>
  <dc:title>Locating Places</dc:title>
</cp:coreProperties>
</file>