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786D6-48F1-4C8D-A84B-8079506EE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6.10 (C, H, K, M), 6.11 (C), 6.12 (F, G, K), 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6843-5411-4F4C-B53D-877F3E69C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EB0A-8C25-494A-A2E5-5CE7DDD86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356E-1F8C-4D6A-BB23-468456498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67F2-CFC4-4527-A4ED-076409E00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036B-27A9-4716-BE86-876837E74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A980-7B54-4CFB-8CB3-446A580F6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F5E3-6701-4D29-BC56-28B92071E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C197-7ACF-438B-9D33-DB2FF5EA9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DF06-EE6E-4D4E-9B56-39EA85A78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2DFB-1329-4E95-8934-5CDE9159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370D-B15E-4570-8F3E-CB2BE41C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F74B-CDFB-46B3-9E74-65BED78F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D7FDE-09A9-4494-9718-A3ECDE834266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41240" y="2217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ntomologist studies …</a:t>
            </a:r>
            <a:br>
              <a:rPr sz="3200"/>
            </a:br>
            <a:br>
              <a:rPr sz="900"/>
            </a:b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uilding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ir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im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cient artifa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se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1212840" y="4308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1217520" y="2540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1216080" y="3135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1219320" y="3724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1212840" y="49100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AutoNum type="arabicPeriod" startAt="10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“kissing bug” was termed an “assassin” because i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ly bit important peop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ly bit politicia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d a painful st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ed after it bit someon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1222200" y="4730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1227240" y="2959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1225440" y="3551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1219320" y="41464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132440" y="5118120"/>
            <a:ext cx="961920" cy="504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3213000" y="2857680"/>
            <a:ext cx="279108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obert is best described a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villai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Peruvian nati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nthropologis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etired teac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nie’s brot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89400" y="0"/>
            <a:ext cx="57546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211400" y="4313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216080" y="2544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214280" y="3137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217520" y="372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211400" y="49132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 New Roman"/>
              <a:buAutoNum type="arabicPeriod" startAt="2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onnie and Roman could not have prevented the crime in this story without the help of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p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r. Bak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lcol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igue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222200" y="51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227240" y="3387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225440" y="399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219320" y="45864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222200" y="5789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ft of which one of the following was the focus of the story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rug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cient artifac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eap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are monke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222200" y="473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227240" y="2951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225440" y="3557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219320" y="414324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016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villain in the story plans to blame the crime on …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obe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oma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igue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ni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222200" y="473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227240" y="2959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1225440" y="3556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1219320" y="41418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1222200" y="53308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09120" y="17146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5440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action in this story occur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clusively (only) at an archaeological dig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aloma, Peru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clusively in a United States museu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the school that Connie and Roman atten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oth in Peru and in the Unite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a boat traveling to Peru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220760" y="4592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1227240" y="2489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225440" y="33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1227240" y="39895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1222200" y="5178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AutoNum type="arabicPeriod" startAt="6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Miguel’s family lived in a(n)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arge dormi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dobe hu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il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useb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71680" indent="-571680" algn="ctr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212840" y="4314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217520" y="2543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1216080" y="3135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1219320" y="3720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212840" y="49100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large swelling above the eye of Miguel’s sister was caused by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hit from a softbal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ug bit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edic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skin diseas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222200" y="473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227240" y="2955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1224000" y="3549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1219320" y="41385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spry’s reaction to the safe return of the Peruvian artifacts to the museum is best described a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g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or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a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22200" y="51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1227240" y="3382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1225440" y="39924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1219320" y="45910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5T15:07:59Z</dcterms:created>
  <dc:creator>Dr. Deborah Kochevar</dc:creator>
  <dc:description/>
  <dc:language>en-US</dc:language>
  <cp:lastModifiedBy>Texas A&amp;M Veterinary Medicine</cp:lastModifiedBy>
  <dcterms:modified xsi:type="dcterms:W3CDTF">2007-09-04T19:23:48Z</dcterms:modified>
  <cp:revision>91</cp:revision>
  <dc:subject/>
  <dc:title>Investigator’s Challenge</dc:title>
</cp:coreProperties>
</file>