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B6DD-E69E-423F-8F0E-D23157D3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638F-5E28-4CAF-B4EE-198B6CBF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152B-3F8E-48FA-A570-C00568FEB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126A-A612-4927-8F20-FEC52216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EC0E-8EC2-4FC5-98C2-1E52A914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7F20-1CDC-4EE5-A2CE-817AC14E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DDF6-48ED-4670-935D-92B7E4DE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0C1A-681A-4037-B540-A118755D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5FBA-DBF2-4714-B03A-12F4BF35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5B13-1C35-4FA7-A243-3BDE953E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7211-EB5E-4600-B333-EF8817F8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13B9-D067-42F2-8C7E-B1EA18D8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436B-F764-4B76-A6CE-9764B3227E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39Z</dcterms:modified>
  <cp:revision>46</cp:revision>
  <dc:subject/>
  <dc:title>Hazards</dc:title>
</cp:coreProperties>
</file>