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6F11-E691-4300-AFBC-BAC6ABB6A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564A-FA4D-4CB8-AE54-0C37B0FA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0520-20F9-4AE1-89B3-1B983625C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1EBE-3959-4811-B9C3-1C7E76EFF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BDD4-6CAC-4310-AB58-F154AF2C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0440-FE1D-4A5D-A6D7-34955980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58EF-EF64-46A5-88D5-A1E829BF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D643-FCFA-4CF5-93B6-5EBB17DD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6D58-5382-429D-B5DD-A3881A08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E52D-2204-41A8-8C15-95D1817D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5BBB-AA6F-4802-AD62-699DD380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2A50-9E0C-47B6-94B7-BF3E3A56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00C4-9CD5-49E1-A1EA-94725CA41F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5:34Z</dcterms:modified>
  <cp:revision>45</cp:revision>
  <dc:subject/>
  <dc:title>Hazards</dc:title>
</cp:coreProperties>
</file>