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DEB9-ABBA-4DE6-9F15-9F6FA58E9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448C-0D7E-4D95-8D7A-43424ECDD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D8A0-26D9-4D61-9976-2A5635D4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C669-A19E-48AD-808E-073BC840E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EB53-11D9-4881-93FA-75DA38024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5C87-F152-4D41-AF85-BEF75079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A010-6AAA-4202-90E1-44AD850F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E153-9E8B-489B-BD9A-6AFEED57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3403-4450-4774-A2E2-F70C7559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5CE9-73F6-4A6F-8F4B-9A902E01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F446-4AA8-4322-B06D-5CACD0C0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A581-64A5-487E-BBC4-8F441253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BA1A-62D8-4D0B-B240-2788C421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8639-A37F-4EF7-9B9D-DCF0FA0DAA1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vhardy</cp:lastModifiedBy>
  <dcterms:modified xsi:type="dcterms:W3CDTF">2002-12-19T22:49:20Z</dcterms:modified>
  <cp:revision>23</cp:revision>
  <dc:subject/>
  <dc:title>What Do I Say?</dc:title>
</cp:coreProperties>
</file>