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0C38-DB3D-437E-9190-7D8D58EA0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9820-E288-48AD-97FE-DB214A5E8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4BE6-B606-4599-95F9-B95FA4D51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276C-2BF2-47BE-B9C1-02DE1B629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E6FF-7519-45CA-916B-05AD001EF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6A79-E8F9-4AC4-82CF-A6F0B03CE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29B3-8074-40A2-A7F9-44DFF97CC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FAEC-638B-40B4-95AA-157E0B6EC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4C38-5758-4499-9EB3-CF86183A4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CA81-15EA-4643-802A-EF69E07CB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B93B-4E18-46F3-ADD5-44C2D4987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B90D-FEC6-48E1-B76A-AD8377F8A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5DCED-64A3-4FDD-BC0F-163ACD0E7BE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b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2407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and general malaise.  May include insomnia, anxiety, confusion, slight or partial paralysis, excitation, hallucinations, agitation, hypersalivation, difficulty swallowing, and hydrophob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50292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aliva of infected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6:00Z</dcterms:modified>
  <cp:revision>46</cp:revision>
  <dc:subject/>
  <dc:title>Hazards</dc:title>
</cp:coreProperties>
</file>