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F33F-00F6-49E1-B0BA-C3163686E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D49B-BC98-4A2F-80F6-1A3526D49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84A7-EB37-46D6-AE90-289E071A8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87BF-7488-42F5-848E-FCB681FFF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E871-0F56-4441-9306-7A30CC9D0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B13C-733F-46A7-B5E2-318BACE4E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70CE-196D-4421-83CB-EB5D3D033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E569-0566-4357-994E-4DFB42A78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C7D8-6A42-411D-AA60-E008940D2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6D52-A0DC-4D60-B3B8-234E8F125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8A42-A5F3-4930-A1E1-736E5A261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80C5-6D76-4BC5-9576-F9CB0E2FF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02BC0-4ED1-4AE3-93E1-DE4D7DBF394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IDS (Acquired Immune Deficiency Syndrome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2286000"/>
            <a:ext cx="7925040" cy="283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apid weight loss, dry cough, recurring fever, profound fatigue, swollen lymph glands, diarrhea, unusual blemishes on tongue and in mouth, pneumonia, memory loss, depression, red/purple blotches on or under the skin or inside the mouth/n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5334120"/>
            <a:ext cx="792504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lood-to-blood and sexual contact with infected pers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Ljlab</cp:lastModifiedBy>
  <dcterms:modified xsi:type="dcterms:W3CDTF">2005-01-21T19:04:07Z</dcterms:modified>
  <cp:revision>42</cp:revision>
  <dc:subject/>
  <dc:title>Hazards</dc:title>
</cp:coreProperties>
</file>