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84BA-D2E9-43E4-8204-A89A2FF1C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1F2B-8B1F-4D8F-914B-742DD500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5B3D-7513-48D9-BCEC-0B2642928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0DE2-21D4-406E-A9B7-E85357E18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5E54-77B6-426E-86C5-C0C0816A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48B3-9A85-4AC1-87CA-52AD245A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3F66-C925-4581-8791-9A36ADFB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A7F1-6D08-44B9-94EF-27089E98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4851-954A-4A92-8223-425E2614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8AC0-7229-4013-BD32-92113872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5F07-7618-4E40-AF55-A60BC527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6324-F7FF-488C-82F6-F169B4DD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91CF-C9FD-4B86-94BB-479BE9FFA4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8-30T16:20:49Z</dcterms:modified>
  <cp:revision>45</cp:revision>
  <dc:subject/>
  <dc:title>Hazards</dc:title>
</cp:coreProperties>
</file>