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384F4-A0A0-4E1E-B996-45C137B15D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952560" y="0"/>
            <a:ext cx="5010120" cy="375912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0" y="3860640"/>
            <a:ext cx="6858000" cy="52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85392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9E3DC-4B97-441C-9EDC-B1296134D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F528E-6498-47ED-8A29-136A951F9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F147D-DE71-445A-82DE-B56CA9505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B9C9D-23D9-4667-83DD-D120E6068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2CB35-79C3-4F3C-9121-73D72D5AC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291F5-7C9C-44C4-81F5-A9C25212B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4E14D-C44C-43CE-A422-EE8FC6BA7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D0C56-3489-4C91-809B-CDF9D9CC0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E6E7F-8E30-4D98-8791-954567C7C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F0066-B73E-4743-AEA2-C740FB174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D2449-852B-42F2-B895-634AC1993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09A67-0AD1-4EEE-B24F-1A2DCAFB6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ED32C-B9BA-4FA2-8D65-99D3717BA2B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304920"/>
            <a:ext cx="77709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7240" y="1904760"/>
            <a:ext cx="7770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2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Times New Roman"/>
              </a:rPr>
              <a:t>Climate is the average condition of the atmosphere (like temperature and precipitation) over a long period of time.  It is the average of weather conditions in a place.</a:t>
            </a: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26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For example, over the past 40 years, New Jersey has had an average temperature of 32 º Fahrenheit and an average precipitation of 2.8 inches during the month of February.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Weather is the state of the atmosphere at a </a:t>
            </a:r>
            <a:r>
              <a:rPr b="0" lang="en-US" sz="2900" spc="-1" strike="noStrike" u="sng">
                <a:solidFill>
                  <a:srgbClr val="ffffff"/>
                </a:solidFill>
                <a:uFillTx/>
                <a:latin typeface="Times New Roman"/>
              </a:rPr>
              <a:t>given place and time</a:t>
            </a: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en-US" sz="29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24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For example, the temperature right now in New Jersey is 56º F and it is snowing.  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Just as weather differs from day to day, climate differs from place to place.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5T14:23:11Z</dcterms:created>
  <dc:creator>Charles C. Farnsworth, Ph.D. - Instructional Design</dc:creator>
  <dc:description/>
  <dc:language>en-US</dc:language>
  <cp:lastModifiedBy>Vince Hardy</cp:lastModifiedBy>
  <dcterms:modified xsi:type="dcterms:W3CDTF">2007-01-12T21:51:09Z</dcterms:modified>
  <cp:revision>19</cp:revision>
  <dc:subject/>
  <dc:title>What’s the difference between weather and climate?</dc:title>
</cp:coreProperties>
</file>