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90D50-54D0-4A0C-9707-32C43E24B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9831-A3DA-4ADA-B3A4-38185799B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A874-111C-44AC-B144-84569FC9C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A298-88E4-4913-89EB-2D8AEB820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5EFD-CC90-4FFD-A627-A9D8C8201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5E89-D7E7-4B60-9EC6-F5976FB7F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B50F-5A21-4A29-830A-E0CC366BD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6825-5A60-40A3-9687-360DC369B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17EA-4E3E-43CD-B991-B0E02697B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18FB-E579-406B-825B-036BEF570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2CF9-268C-4C09-AE35-1DA67E2C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A7D9-AAD4-4F84-87B9-00493D6A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6E7B-38E3-4C6F-9962-2F7FF277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67C30-E9C0-4847-8BFA-179827C685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ljlab</cp:lastModifiedBy>
  <dcterms:modified xsi:type="dcterms:W3CDTF">2003-09-11T17:19:02Z</dcterms:modified>
  <cp:revision>6</cp:revision>
  <dc:subject/>
  <dc:title>Metric Multiplication Factors</dc:title>
</cp:coreProperties>
</file>