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A802-C3E6-4BB1-8089-64E43A03C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A0A4-31CF-4BAE-BC18-F820571B2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60F5-4E75-473E-A881-00821FF9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520D-3477-4A3B-BCAD-99558A88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C3F7-9B2F-4FE2-9D07-E3B1855C0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F8E9-07C4-4623-892F-A9772E66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8E86-E955-429E-991A-036AAF13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4ED2-198D-454A-AAC2-AD2F2708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7D95-28FF-4380-9687-BE0AE73E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570B-4288-4A4D-A69B-15BC51A8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4508-5257-44FD-A51A-7AABC025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BE42-CB21-46FE-8E50-A9815611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9040-7530-4E93-B021-A9E142F8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D622-8B78-4728-A452-2C0BE2951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1-16T18:37:15Z</dcterms:modified>
  <cp:revision>28</cp:revision>
  <dc:subject/>
  <dc:title>Sensory Details </dc:title>
</cp:coreProperties>
</file>