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8CAA-721E-4CE1-A97D-97C49628C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6D7B-A75E-49E0-8B7D-659692DD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B146-FB5E-4CE2-B733-4DB3BF9F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20F3-1390-49D6-82DC-13AB45800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EF7C-2389-4914-BDA0-5B51ACAD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7563-C788-4920-8776-7419BCB2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A900-B07C-42DE-9263-23C54B46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E5F3-18DD-47D4-9B19-B644B0B9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5B31-EECA-4F84-B96A-C9360F4C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C261-CA7E-41FA-8643-D2D24C03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2F2B-8A1F-42F3-A1BB-BD3852A2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FC12-7679-49CC-B150-8D007D87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298D-C6AC-4DDC-920D-E329C0E9A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6:11Z</dcterms:created>
  <dc:creator>Texas A&amp;M Veterinary Medicine</dc:creator>
  <dc:description/>
  <dc:language>en-US</dc:language>
  <cp:lastModifiedBy>Texas A&amp;M Veterinary Medicine</cp:lastModifiedBy>
  <dcterms:modified xsi:type="dcterms:W3CDTF">2007-09-03T13:26:33Z</dcterms:modified>
  <cp:revision>1</cp:revision>
  <dc:subject/>
  <dc:title>Creutzfeldt – Jakob Disease</dc:title>
</cp:coreProperties>
</file>