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5986-786F-4363-B1C2-8D7016F0A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3B50-DE10-43AA-B729-0B713151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82EB-D4AF-403F-AD58-ABC4B62BF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2888-8F69-4164-9585-D89182076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F889-3F55-4B64-B848-8323C11A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2DA9-4BC3-41D6-A7CA-2B09A56D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08F2-ED42-4BE4-A67E-3A6E7058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CA88-2867-4DD5-A853-3CF5D520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10A7-C0DA-4C9F-8713-1988E089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50F1-5D34-4F81-BD4D-556C1C16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53C1-FA32-40F8-9D64-B421B4A4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8AF2-5D6C-4001-970D-6FF92DF0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11AD-CF76-473C-A6C1-004C0E0675A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vhardy</cp:lastModifiedBy>
  <dcterms:modified xsi:type="dcterms:W3CDTF">2002-12-19T23:01:26Z</dcterms:modified>
  <cp:revision>61</cp:revision>
  <dc:subject/>
  <dc:title>Locating Places</dc:title>
</cp:coreProperties>
</file>