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DAB0-5E90-465F-9D51-0F676CB3E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5DAE-C9AB-48DC-A101-CCF3080C0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8837-01FF-4970-B533-FD05B8194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70A3-1481-4BF6-8759-B9F1FC436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692E-77FF-4602-B3DC-A7B1F550D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A83D-A3DB-4133-BDB8-F0F9CCE74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E8A0-7C88-4D6E-B11F-C9E30DD61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574C-BA9D-4C3B-8219-4DD857C99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ED38-3276-4F47-B336-E98A7E2DE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82D9-4690-4354-8D40-6A486078D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2626-DC35-418B-AFCD-73758DA71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1BA1-E41C-4A4A-B223-A73BE695D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144A1-D008-4311-8E10-41C18EA0E11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luenz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737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ever, headache, tiredness, cough, sore throat, runny/stuffy nose, body aches, diarrhea, vom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3434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and sn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5:34Z</dcterms:modified>
  <cp:revision>45</cp:revision>
  <dc:subject/>
  <dc:title>Hazards</dc:title>
</cp:coreProperties>
</file>