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BD68B-CEF9-4387-9B3A-8185703AF7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does not contain the full text of the TEKS.  It is intended to be a guide to, not a substitute for, the TEKS.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A00F12-F2AD-4DE9-937E-30E62046FE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6F28AE-91CA-415F-BFE1-785E89325C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94BE85-96FC-4158-9945-936B2DA768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C94A9A-9656-4833-A3A7-98594511C0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3CF424-E532-4BED-9E0E-223755BD74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65C56C-40CF-4FBC-84FC-D07B0A97B7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9EF01C-C1A0-4BA4-A586-DC3C83CFF3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FB3FC8-5AFD-482C-84D2-E7B05D71B1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CB6D89-B24F-4F79-A2A7-787B1732A3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475AE-5B97-4C91-9BE0-007A3AE07C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9D279-4657-42C4-A91F-24CDC35C7C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100B8-5AC8-4410-BC57-105C91D357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90189-E469-489B-B5C8-95297E2F8933}"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vhardy</cp:lastModifiedBy>
  <dcterms:modified xsi:type="dcterms:W3CDTF">2003-05-21T21:23:34Z</dcterms:modified>
  <cp:revision>25</cp:revision>
  <dc:subject/>
  <dc:title>Persuasive Writing</dc:title>
</cp:coreProperties>
</file>