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3070-E158-4917-ADC4-76B2898EF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E358-6338-47A9-B916-BF2DEF5D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CD89-9C10-4433-85B3-AFE52B384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2A60-F8CE-4CF8-9184-930638911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B7C7-D69A-44AB-856A-1E840AB0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4C5C-9089-45CA-86B5-BDAC596A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DD5C-3D42-4576-8089-BD139C03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B1BC-8E6E-4E67-A055-3DBCE3F1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83CE-EDFF-430C-B0BD-50EA0B73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4CE7-3E73-43C8-B2F4-814F8E1E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FCDB-8766-494D-B4ED-81B9C7EC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0BA9-88B6-448A-9720-028E8745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4870-5353-4F2A-9566-FB1DFA4AA0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45Z</dcterms:modified>
  <cp:revision>49</cp:revision>
  <dc:subject/>
  <dc:title>Hazards</dc:title>
</cp:coreProperties>
</file>