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3EA18E-1898-4891-838F-3BBA9FC6B5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11C5CB-12C5-4D5F-B6F4-D3AA394009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C864E8-8508-4231-A9CB-2C985E89B0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29FAB4-D9C2-43BF-A130-60590904BE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9B1BFE-29DB-4DB9-A40E-A4A450154C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95CD40-79A0-446C-A3C3-770492B7EF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3493A-432D-4E44-BA7E-5139BD1878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16F316-EA6D-43CE-ACAC-D37D925A19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8C1948-B2A4-44F9-BAA5-3F4CE6583C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F255C5-005C-40D9-BFA2-4C7DBAE6EE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3D21AA-5525-4C3D-A319-6962B4FB6B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94A084-BCEE-4770-8C5C-EE9F01C65F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12BE2-538E-432B-96F2-BC77A2C91BC2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Triang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7240" y="1447920"/>
            <a:ext cx="7770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triangle = 1/2 x Base x Heigh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as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5800" y="1447920"/>
            <a:ext cx="7543800" cy="464796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RightTriangle" descr=""/>
          <p:cNvPicPr/>
          <p:nvPr/>
        </p:nvPicPr>
        <p:blipFill>
          <a:blip r:embed="rId2"/>
          <a:stretch/>
        </p:blipFill>
        <p:spPr>
          <a:xfrm>
            <a:off x="3406680" y="3048120"/>
            <a:ext cx="2308320" cy="2320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214D2E-29A4-4FF3-8639-30248F55DEBD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Squar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square = Side x Side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d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d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9480" y="1447920"/>
            <a:ext cx="7543800" cy="44956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Box" descr=""/>
          <p:cNvPicPr/>
          <p:nvPr/>
        </p:nvPicPr>
        <p:blipFill>
          <a:blip r:embed="rId2"/>
          <a:stretch/>
        </p:blipFill>
        <p:spPr>
          <a:xfrm>
            <a:off x="3276720" y="3124080"/>
            <a:ext cx="2171520" cy="2160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A331CB-0DD1-4083-AC12-9758499EE231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Circ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circle = </a:t>
            </a:r>
            <a:r>
              <a:rPr b="0" lang="en-US" sz="32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x Radius x Radius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amete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09480" y="1447920"/>
            <a:ext cx="7543800" cy="45720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114800" y="42670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114800" y="3124080"/>
            <a:ext cx="0" cy="236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Circle" descr=""/>
          <p:cNvPicPr/>
          <p:nvPr/>
        </p:nvPicPr>
        <p:blipFill>
          <a:blip r:embed="rId2"/>
          <a:stretch/>
        </p:blipFill>
        <p:spPr>
          <a:xfrm>
            <a:off x="2819520" y="3048120"/>
            <a:ext cx="2503440" cy="2503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6A1865-03CF-4850-9DC2-068E8507DC56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Rectang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rectangle = Length x Width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idth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ength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9480" y="1447920"/>
            <a:ext cx="7543800" cy="45720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Rectangle" descr=""/>
          <p:cNvPicPr/>
          <p:nvPr/>
        </p:nvPicPr>
        <p:blipFill>
          <a:blip r:embed="rId2"/>
          <a:stretch/>
        </p:blipFill>
        <p:spPr>
          <a:xfrm>
            <a:off x="2759040" y="3003480"/>
            <a:ext cx="3314880" cy="2251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8B6C6-0AD0-4947-BDBA-A8B594F32E6E}" type="slidenum">
              <a:t>4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6:39Z</dcterms:modified>
  <cp:revision>217</cp:revision>
  <dc:subject/>
  <dc:title>VTPP 423 - PHYSIOLOGY</dc:title>
</cp:coreProperties>
</file>