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153D-519F-4D8B-A9FB-E2816E23F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181C-41A5-4A26-9239-26CBAE271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E07E-0985-483E-8A51-20FC39B4B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7DBC-88E9-4B81-8CBD-F55A21371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EB2F-21A4-44F0-BE57-286C38905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626E-E58D-4ABC-A23E-F4B8CD093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F21A-37F9-4075-AEC2-58603D492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8099-956A-491A-810A-6786CA9AB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4318B-55C5-4DF5-A43B-D356389F3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B0515-AD55-4065-9FA6-7283D1FA5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FE77-40A9-470B-A425-4758947B1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69296-9AB7-4B81-B12A-1AF059C6D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ED34-3169-465E-8BEC-69E160C9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683A-EDC1-447A-B18B-F52501A4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A2FB7-6A02-4001-AD1A-9294D91E2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7E14-E997-4F5A-8DF0-9DBE9C44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05CB-3093-48A0-86B9-D09399D5E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B1E5-F3DC-4917-8D88-3EA98627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3AA2-12AA-47EE-BDB9-AE72201A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B434-A430-46F8-9D22-862D8E573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1962-29F6-4CFA-8001-A21FEC0C2C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523880"/>
            <a:ext cx="8001000" cy="4572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ree examples of diseases that are transmitted by way of skin contact and insect bi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ate your hypothesis in a way that allows you to investigate different cau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 an experiment to investigate the likely causes of the dis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definition of a disease vec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life cycle of a parasite.</a:t>
            </a: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600200"/>
            <a:ext cx="6629400" cy="4495680"/>
          </a:xfrm>
          <a:prstGeom prst="rect">
            <a:avLst/>
          </a:prstGeom>
          <a:noFill/>
          <a:ln w="0">
            <a:noFill/>
          </a:ln>
        </p:spPr>
        <p:txBody>
          <a:bodyPr lIns="90000" rIns="90000" tIns="46800" bIns="46800"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We all know about flies contaminating food and mosquitoes carrying organisms that cause malaria or encephaliti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es – carry food-poisoning bacteri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caused by a blood parasit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caused by a vir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 of the illnesses in our story may be similar but not the same.  So maybe this is another diseas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poisoning – vomiting, diarrhe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flu-like, fever, shaking, chills, tirednes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headache</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324480" y="2362320"/>
            <a:ext cx="2667240" cy="18572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5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0" y="0"/>
            <a:ext cx="21924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67" name="PlaceHolder 2"/>
          <p:cNvSpPr>
            <a:spLocks noGrp="1"/>
          </p:cNvSpPr>
          <p:nvPr>
            <p:ph/>
          </p:nvPr>
        </p:nvSpPr>
        <p:spPr>
          <a:xfrm>
            <a:off x="914040" y="1828800"/>
            <a:ext cx="7340760" cy="374184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iology, a “vector” is defined as a carrier of disease organis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kinds of animals or insects that could be a vector.</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71" name="PlaceHolder 2"/>
          <p:cNvSpPr>
            <a:spLocks noGrp="1"/>
          </p:cNvSpPr>
          <p:nvPr>
            <p:ph/>
          </p:nvPr>
        </p:nvSpPr>
        <p:spPr>
          <a:xfrm>
            <a:off x="891720" y="2179440"/>
            <a:ext cx="7340760" cy="37400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asites have different stages in their lives:</a:t>
            </a:r>
            <a:endParaRPr b="0" lang="en-US" sz="36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4:59Z</dcterms:modified>
  <cp:revision>19</cp:revision>
  <dc:subject/>
  <dc:title>Slide 1</dc:title>
</cp:coreProperties>
</file>