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8C9A-7784-4870-9AA7-1C0BD6222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3456-8FAA-4A04-91FD-2347F819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7456-ECE2-4119-B78F-D0F289293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53EF-FF81-4D3C-9D2E-1AB420CDE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6405-4C3D-47AD-9125-14D367C2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231F-32CE-4382-A04A-7810302B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0B70-A561-4C18-901E-FBAADDA8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0E39-C34C-4FD1-9142-6C69C37A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18D3-2E76-4171-93B0-C427833C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8E95-7329-46D3-99A0-C2F4A8A7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E15E-6D52-45E1-89FA-1EAB01E5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EA8C-1974-4982-A270-81120C9E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5275-49A3-4EFA-842A-12E8218FD0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8-30T16:20:49Z</dcterms:modified>
  <cp:revision>45</cp:revision>
  <dc:subject/>
  <dc:title>Hazards</dc:title>
</cp:coreProperties>
</file>