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A3963-A88C-496B-9AFD-D1C4380E09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952560" y="0"/>
            <a:ext cx="5010120" cy="375912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0" y="3860640"/>
            <a:ext cx="6858000" cy="5283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6FCD2-E7D0-4EC0-8A9E-8A21AEC02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B32B2-7874-4EFD-AB47-6572B1E63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61310-84F9-4748-A81D-BEC9644F5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05530-5986-4EC0-A3D0-A0081EA0E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6A957-D3D0-4C93-8463-50201A848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57F32-2D13-47DD-A548-2E8497AB9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DF7EC-39AF-4ED7-800F-5CAF42DC7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1BDFD-6E62-4C44-B6CA-166F0F177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5426A-025B-44B2-8D43-8301BA8BA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0ED7A-1420-4930-ABB2-A0E5F319F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A5D87-9928-44ED-9004-F392E99D9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27D59-677F-49C2-8721-FF584CEE8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1A189-37FB-4221-9BE7-785B1550F359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304920"/>
            <a:ext cx="77709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7240" y="1904760"/>
            <a:ext cx="7770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Climate is the average condition of the atmosphere (like temperature and precipitation) over a long period of time.  It is the average of weather conditions in a plac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or example, over the past 40 years, in February, New Jersey has had an average temperature of 32 º F and an average precipitation of 2.8 inches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5T19:49:56Z</dcterms:created>
  <dc:creator>ITMD</dc:creator>
  <dc:description/>
  <dc:language>en-US</dc:language>
  <cp:lastModifiedBy>ljlab</cp:lastModifiedBy>
  <dcterms:modified xsi:type="dcterms:W3CDTF">2003-09-11T17:22:49Z</dcterms:modified>
  <cp:revision>9</cp:revision>
  <dc:subject/>
  <dc:title>What’s the difference between weather and climate?</dc:title>
</cp:coreProperties>
</file>