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10CE-F630-49C1-9237-9035083A7AB8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F3A5-19DE-4F3C-8815-839782101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A91A-ED38-4283-998A-ECB6D261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8902-C64D-408A-B0FE-64F2C8635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C0C4-3B13-4805-8635-5CCB9A451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CD8D-C365-4AC4-BA23-70583535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B1EF-7C48-4E3C-8A25-DB561EB2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AC88-9DDA-4944-8495-51E9D82B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4E4F-2452-40F3-8A52-27A0B47B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C49F-ACCF-47BE-835C-7774AAEA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DB6C-A487-4639-983A-01562DD5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4724-ADC0-4F2F-B85B-CEA165C8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AA96-F1E1-416E-A696-1FD3CDD9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A370-314E-40B2-A817-D5F3784E7A8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Mailbox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Letters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itstudent</cp:lastModifiedBy>
  <dcterms:modified xsi:type="dcterms:W3CDTF">2002-08-06T19:35:34Z</dcterms:modified>
  <cp:revision>15</cp:revision>
  <dc:subject/>
  <dc:title>Writing a Business Letter</dc:title>
</cp:coreProperties>
</file>