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2B3A-D53C-4071-9984-F0C2AA433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many words in the story that are unfamiliar to your students. Ask students to find each word that is new to them, define the word, find a synonym and antonym for each word, then use each word in a sentence outside the context of the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6C: The student is expected to: locate the meanings, pronunciations, and derivations of unfamiliar words using dictionaries, glossaries, and other source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EF5F-5EF8-4E31-AAC1-3FC96501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F639-D8C2-451A-B049-0B4E944B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1AD5-02DF-4A6A-9112-7344BBC3D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38FE-BFA1-47B7-9CAF-FF138C9F2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8C21-A9E3-4135-8E53-622B63BA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AE86-BB1D-425E-9883-E9C0EF9F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D25F-83DF-4315-9179-69727D39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C41F-8E75-4D09-A744-9CD903F6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301C-EDF0-4C57-B64F-BEEEF50E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3AF7-1B01-4A8D-892A-FF6A5531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2569-49F7-41F7-B406-BFB2F6A9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56EC-F9EC-4471-B6DD-B9E74578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EA8D-CDFB-4212-8946-CED65FB3EAB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omprehensive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Very large in content, all inclusiv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Assassi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 murderer of a prominent pers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Specimen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An item representative of an entire set or whol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urator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One in charge of a selection, as at a museum or library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rreleva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Unrelated to the matter at han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Foreboding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have a premonition or feeling of a future misfortun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 (cont.)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232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onstrosity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Something that is unusually large or that gives a feeling of disgus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mpleme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put into effec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Relics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Something that has survived from an extinct culture or from a specific time perio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alnourished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ffected by improper or poor nutriti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Ljlab</cp:lastModifiedBy>
  <dcterms:modified xsi:type="dcterms:W3CDTF">2005-05-25T16:30:06Z</dcterms:modified>
  <cp:revision>20</cp:revision>
  <dc:subject/>
  <dc:title>PowerPoint Presentation</dc:title>
</cp:coreProperties>
</file>