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F7EB6-882D-4BE9-BEDC-F7750659E6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re may be many words in the story that are unfamiliar to your students. Ask students to find each word that is new to them, define the word, find a synonym and antonym for each word, then use each word in a sentence outside the context of the sto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6.6C: The student is expected to: locate the meanings, pronunciations, and derivations of unfamiliar words using dictionaries, glossaries, and other sources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FED1-7FBC-4046-BD68-29542DDD3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1F7D-544E-4CC2-85B3-6081A87F0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0B6B-DAB3-41AD-8B13-E7D444443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AE03-4350-4AC1-BA2F-D09E6F3BB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038E-7EAF-4D0B-A13B-8DFECB63F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37EF-25FD-485E-8B6E-A90E7685D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CC79-38EA-4B74-A3C4-9700BAD54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A1DD-1927-4B2F-8D9B-31A57B919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F568-7D45-4303-ADB9-B047B14D5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1D8D-6BC8-4677-B839-CB401438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BE8A-1207-476B-8E9D-CD4DF2AA6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0A7D-CF24-4C55-965B-F6909C132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C7128-FEB2-4A75-8550-4BAD310BD82C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lossary of Term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Comprehensive</a:t>
            </a:r>
            <a:r>
              <a:rPr b="1" lang="en-US" sz="29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Very large in content, all inclusive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Assassi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A murderer of a prominent person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Specimen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An item representative of an entire set or whole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Curator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One in charge of a selection, as at a museum or library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Irrelevant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Unrelated to the matter at hand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Foreboding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to have a premonition or feeling of a future misfortune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6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301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lossary of Terms (cont.)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2320" y="12193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Monstrosity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Something that is unusually large or that gives a feeling of disgus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Implement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To put into effec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Relics</a:t>
            </a:r>
            <a:r>
              <a:rPr b="1" lang="en-US" sz="29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Something that has survived from an extinct culture or from a specific time period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Malnourished</a:t>
            </a:r>
            <a:r>
              <a:rPr b="1" lang="en-US" sz="29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Affected by improper or poor nutrition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6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1T19:07:46Z</dcterms:created>
  <dc:creator>Instructional Technology</dc:creator>
  <dc:description/>
  <dc:language>en-US</dc:language>
  <cp:lastModifiedBy>Ljlab</cp:lastModifiedBy>
  <dcterms:modified xsi:type="dcterms:W3CDTF">2005-05-25T16:30:06Z</dcterms:modified>
  <cp:revision>20</cp:revision>
  <dc:subject/>
  <dc:title>PowerPoint Presentation</dc:title>
</cp:coreProperties>
</file>