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543A-28C3-4884-BD44-BCB0B74B8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1E74-E3C0-4C53-9D62-E4C04A74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357D-7E3F-4225-BDDA-0D30BE0D1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A001-974B-4744-83FE-4F36E1696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50EA-69E3-48D4-985D-619B8C77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7308-797E-4419-A9D4-022D6EE9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AB2F-CAC6-45D0-94CB-DFA84D2C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6D2F-1E80-4099-94C8-7C470E36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F365-66C4-44AC-85B8-2910610D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BD8D-76A5-4420-ADEE-BCC43964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2439-038E-432B-8830-972F8187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2092-097E-4697-B457-D02112BE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3626-8FF1-4B6A-8F31-213F226C8E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17Z</dcterms:modified>
  <cp:revision>52</cp:revision>
  <dc:subject/>
  <dc:title>Hazards</dc:title>
</cp:coreProperties>
</file>