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43F9-A9A8-446E-9C99-BD0DEADA3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B2B7-75C7-489B-8015-4A5AC28B8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D929-BD8E-4E41-8426-B7D11C8F9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683C-8477-4A7B-AB6A-333380552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6AC4-B54F-4DFD-BA22-D30775845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9591-3D32-4556-9E1A-DF87F55E0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20CA-620A-4636-9AF9-D3BD5C0D5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D7B1-03AB-48BF-88D3-529FD1791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78C3-E209-4907-8F59-03B02F40A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938A-B913-49BD-BF37-4DD9CEB46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428A-2341-4977-87EA-E3968DAAD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BC26-DD30-4C24-8548-823F13C30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BF38E-ACCD-4FC9-8BE2-6D3AF2DAC7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ningi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0512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evere headache, stiff neck, dislike of bright lights, fever, vomiting, drowsiness, rash, less respons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8098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bsorption/ Skin Contac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eisseria meningitid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in combination with a compromised immun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7:06Z</dcterms:created>
  <dc:creator>Texas A&amp;M Veterinary Medicine</dc:creator>
  <dc:description/>
  <dc:language>en-US</dc:language>
  <cp:lastModifiedBy>Texas A&amp;M Veterinary Medicine</cp:lastModifiedBy>
  <dcterms:modified xsi:type="dcterms:W3CDTF">2007-09-03T13:27:10Z</dcterms:modified>
  <cp:revision>1</cp:revision>
  <dc:subject/>
  <dc:title>Meningitis</dc:title>
</cp:coreProperties>
</file>