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D8B5-8063-4007-AFBA-33EA1B44B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D154-1928-46B5-8D3C-73C9332F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7DB7-3925-4D6C-8AF2-14F468E47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3F24-DC47-4175-B1B0-68609C55A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F177-57D7-47D5-A465-37FE3B88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F0D5-1830-48BA-990B-85F47D31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6AEF-9E9E-43C8-A829-3A944C9F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D309-36C0-4840-BC49-5EFADC63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653C-34A8-4EF8-B716-AD5C9B05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39B6-E0EB-4BFC-BC54-C155886D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2BE2-8F44-48D4-8AE0-ED44264A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7911-BF7E-4FBB-8F55-B1C36711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1AAD-72E2-4F29-89E0-CA41C9C02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6:11Z</dcterms:created>
  <dc:creator>Texas A&amp;M Veterinary Medicine</dc:creator>
  <dc:description/>
  <dc:language>en-US</dc:language>
  <cp:lastModifiedBy>Texas A&amp;M Veterinary Medicine</cp:lastModifiedBy>
  <dcterms:modified xsi:type="dcterms:W3CDTF">2007-09-03T13:26:33Z</dcterms:modified>
  <cp:revision>1</cp:revision>
  <dc:subject/>
  <dc:title>Creutzfeldt – Jakob Disease</dc:title>
</cp:coreProperties>
</file>