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DC6D-57BE-42DA-B99C-118891F46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56F3-817E-4CA3-8A8F-4E5D7B09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3DE5-FE84-4515-9DB5-E587FEBE3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8B90-087D-4859-8794-DD0EBBECA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C1E9-E4A1-44EE-A492-E0D26B95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7E8E-80B5-4A6F-8EA0-671F9438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8462-9053-4774-B85E-69B39D67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1A15-8199-4A6C-BA5E-4B58A75A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A664-2E1D-494F-93D7-3ACFEB6A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457F-D12A-42A3-BB2A-3F02E348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2BAE-15D2-49B9-BC48-FC429B2F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2430-B4BC-4AEC-A169-C955B134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A3FB-C35A-4F6C-BB73-AB931180B2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50Z</dcterms:modified>
  <cp:revision>44</cp:revision>
  <dc:subject/>
  <dc:title>Hazards</dc:title>
</cp:coreProperties>
</file>