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A7BB-DFFB-42AB-B744-576435676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9ECE-4942-48D4-A8BC-EA40D270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916E-90F8-4341-8A20-BEE5EBE1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E277-0324-45B4-90D4-8EC463953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9A28-4719-4AF8-B366-A31560E4A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4AC0-B2EA-466D-8A7A-ED3C08DD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6D96-807E-4808-8E63-96C24587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2506-ED0E-41B8-B5B7-3E8E8E66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106D-E9CA-4911-B143-AAB2177B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970A-90F0-4BA3-B77A-04438E89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73A0-1975-4CB8-A1D5-48CA811E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E956-C52A-4AE0-9D4A-D7E13FC9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B850-C58C-4B1B-A792-21D0F50F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CC95-7210-47A6-9240-5DDACC9C0BE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itstudent</cp:lastModifiedBy>
  <dcterms:modified xsi:type="dcterms:W3CDTF">2002-08-06T19:36:29Z</dcterms:modified>
  <cp:revision>23</cp:revision>
  <dc:subject/>
  <dc:title>To Sum It All Up…</dc:title>
</cp:coreProperties>
</file>