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B33DD-A2FC-4E73-A6AD-8D4A156827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EB33B-922C-4334-83F8-8255933A6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C88A2-C5B6-457E-8C4B-67E0446C8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E7EA6-8D91-4734-A8AF-99EEFDF250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3B8F31-DD30-4437-BA4B-30222451F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7F2DC-9BED-49A3-BF2A-D49E48F7A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ABF49-5A05-4913-BFCA-D5EAF6764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45503-1AC0-4AB2-BF69-3720A6F89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24DA0-EB5E-43D2-800A-584C17E08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9703A-A16E-47ED-9691-D6F21CD73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3C03A-5802-47EA-8FB8-9055FC689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17BD3-E4C6-4B99-9DF7-C6BD48F85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28B9E-E968-4EC6-81A0-1906E1E20C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52D3A-2BE7-4E11-9C1F-398A789FF99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vhardy</cp:lastModifiedBy>
  <dcterms:modified xsi:type="dcterms:W3CDTF">2003-05-21T21:23:34Z</dcterms:modified>
  <cp:revision>25</cp:revision>
  <dc:subject/>
  <dc:title>Persuasive Writing</dc:title>
</cp:coreProperties>
</file>