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E9BD-0A45-4E4A-9DF7-B9D73F100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A45A-7F38-4310-A1B1-1735377C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45DA-925A-4F7F-991A-D39FA37E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379B-F6D5-4F87-A34D-6FDBC71D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BE2D-6D28-4635-ADA1-C9B974F5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F69B-970D-4021-97A0-5FA6C42A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3FF1-116C-4BCD-A5E2-3B8D55EF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884C-C107-4658-B49E-A36F74BF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2F4C-AD20-4AC2-984C-5084B22D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1F1B-2509-441E-B2FE-440D7395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0A83-5BF7-43B6-9A32-DE82FB8D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C08E-7B14-4A21-ADFE-413F181B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DA05-0931-4670-8230-8C94E0B6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4D2C-8626-4172-B797-CDCDCA325C1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Texas A&amp;M Veterinary Medicine</cp:lastModifiedBy>
  <cp:lastPrinted>2002-05-17T17:38:54Z</cp:lastPrinted>
  <dcterms:modified xsi:type="dcterms:W3CDTF">2007-08-29T18:55:45Z</dcterms:modified>
  <cp:revision>656</cp:revision>
  <dc:subject/>
  <dc:title>Investigate the Mystery:</dc:title>
</cp:coreProperties>
</file>