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F2DBD-177C-4340-900B-75A1317BBD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H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ing and using writing processes for self-initiated and assigned writing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just a skeleton of a story map to assist in summary. These are the elements the students should use to complete the summary. Filling out a story map will help them in the organization of the summa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DC7D-7FEE-43DE-98C2-86A0D5D08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68B4-9D48-4C84-BC05-95960C9DC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495E-69B0-408F-B822-881340D07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0AAD-51A9-4BDC-905A-2CB8E7316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2458-E88B-4ABC-A673-8A060FD53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934B-1C6E-4E49-8A29-85F3715A0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D2F2-ACDB-447D-AD0E-C7DB08F25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8163-E743-40A6-996A-01371EAE8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1B6B-215D-43BF-9CAE-F6606D605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B008-8C80-4ED6-87BE-AACDEF016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3D00-4AB1-433F-8C73-264332D43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D12B-BC74-4989-9AC1-ADB09D670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6EF0E-2693-4FEA-8DAA-ADC95E862947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o Sum It All Up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 summary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ames characters,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lls about their problems and goals, a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scribes how the characters try to solve their problems and reach their goal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ap It Ou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story map lists  important details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e included in the summary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ett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haracte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Details of the plo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Problem-solv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n example of a story map is shown on the next slid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2" name="j0299203" descr=""/>
          <p:cNvPicPr/>
          <p:nvPr/>
        </p:nvPicPr>
        <p:blipFill>
          <a:blip r:embed="rId2"/>
          <a:stretch/>
        </p:blipFill>
        <p:spPr>
          <a:xfrm>
            <a:off x="4932360" y="1828800"/>
            <a:ext cx="3059280" cy="35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Story Map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5341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tting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haracters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lot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blem Solving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338040" y="2133720"/>
            <a:ext cx="8534160" cy="3657600"/>
            <a:chOff x="338040" y="2133720"/>
            <a:chExt cx="8534160" cy="3657600"/>
          </a:xfrm>
        </p:grpSpPr>
        <p:sp>
          <p:nvSpPr>
            <p:cNvPr id="56" name=""/>
            <p:cNvSpPr/>
            <p:nvPr/>
          </p:nvSpPr>
          <p:spPr>
            <a:xfrm>
              <a:off x="33804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38040" y="57913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887220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38040" y="21337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38040" y="27432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38040" y="34290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38040" y="39625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624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53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6T15:13:49Z</dcterms:created>
  <dc:creator>Gina Balducci</dc:creator>
  <dc:description/>
  <dc:language>en-US</dc:language>
  <cp:lastModifiedBy>itstudent</cp:lastModifiedBy>
  <dcterms:modified xsi:type="dcterms:W3CDTF">2002-08-06T19:36:29Z</dcterms:modified>
  <cp:revision>23</cp:revision>
  <dc:subject/>
  <dc:title>To Sum It All Up…</dc:title>
</cp:coreProperties>
</file>