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8516-C3F7-4B09-9343-9EE55EE9C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6.10 (C, H, K, M), 6.11 (C), 6.12 (F, G, K), 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C4C-FE98-45DB-8611-226C63923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6E9-E98B-4076-A9B5-67719F3D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6A3-0383-42BB-B179-7619B309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8E1-9221-4E51-B4F3-65511D12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B576-5326-4BD9-B064-2C1AEF49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9C6-2B81-4351-AFA2-83AC9B4C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295-E60E-413E-AB0E-07B7E322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0D8-DCD1-440E-8396-6372A0F2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794-9B2F-4146-BDDD-BE1371EB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48F-1DE8-461D-839F-3B20B3F7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222C-E101-48B3-9318-D359D47E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3AD-C3A1-4420-96CA-40DD9B8B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C8A2-5FBB-480F-A45F-C08E4394464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ntomologist studies …</a:t>
            </a:r>
            <a:br>
              <a:rPr sz="3200"/>
            </a:br>
            <a:br>
              <a:rPr sz="9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i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ec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212840" y="430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217520" y="2540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21932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10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“kissing bug” was termed an “assassin” because i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important peop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ly bit polit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painful s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ed after it bit someo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22200" y="47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225440" y="355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219320" y="41464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32440" y="511812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213000" y="2857680"/>
            <a:ext cx="279108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obert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villai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Peruvian n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nthropologis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etired teac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’s bro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9400" y="0"/>
            <a:ext cx="5754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1400" y="43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6080" y="254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14280" y="313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17520" y="372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11400" y="4913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 New Roman"/>
              <a:buAutoNum type="arabicPeriod" startAt="2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onnie and Roman could not have prevented the crime in this story without the help of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p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r. Bak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lcol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7240" y="3387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2544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9320" y="4586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2200" y="5789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ft of which one of the following was the focus of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cient artifa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eap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are monk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7240" y="2951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25440" y="355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9320" y="414324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villain in the story plans to blame the crime on …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be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igue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01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227240" y="2959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225440" y="35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219320" y="4141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222200" y="5330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714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ction in this story occur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(only) at an archaeological dig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loma,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lusively in a United States museu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school that Connie and Roman att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th in Peru and in the Unite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oat traveling to Peru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220760" y="4592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227240" y="2489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225440" y="33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227240" y="3989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222200" y="5178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bebeb"/>
              </a:buClr>
              <a:buFont typeface="Times"/>
              <a:buAutoNum type="arabicPeriod" startAt="6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Miguel’s family lived in a(n)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rge dormito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dobe hu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l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use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212840" y="4314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217520" y="254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216080" y="3135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21932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212840" y="49100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large swelling above the eye of Miguel’s sister was caused by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hit from a softb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g bit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dic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kin disea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22200" y="473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227240" y="2955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4000" y="354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219320" y="4138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PE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spry’s reaction to the safe return of the Peruvian artifacts to the museum is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22200" y="518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27240" y="3382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225440" y="39924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219320" y="45910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5:07:59Z</dcterms:created>
  <dc:creator>Dr. Deborah Kochevar</dc:creator>
  <dc:description/>
  <dc:language>en-US</dc:language>
  <cp:lastModifiedBy>Texas A&amp;M Veterinary Medicine</cp:lastModifiedBy>
  <dcterms:modified xsi:type="dcterms:W3CDTF">2007-09-04T19:23:48Z</dcterms:modified>
  <cp:revision>91</cp:revision>
  <dc:subject/>
  <dc:title>Investigator’s Challenge</dc:title>
</cp:coreProperties>
</file>