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8B3-CC8A-4F26-9908-4D52260C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D60-62A7-4161-864E-6AA4CD27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F47C-ED93-457A-BCE6-6473F2BF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7545-9DD1-4978-9095-9F91801C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03E-55C6-42CB-82B2-38F5191F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95E-B73D-4433-9A56-36038748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A99-05B3-4922-98CA-04321600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271-025E-47FD-B898-047E47C8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F8A-2529-4DF8-B6F7-F8C7C8B0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0D4-7695-48A2-AC2E-361877B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9671-8985-4FB5-BB56-9D180073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363A-CC61-4D74-AF0F-D5E0E4CA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1A0C-7F95-435C-AC2F-12CD7720AD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240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ever, headache, and general malaise.  May include insomnia, anxiety, confusion, slight or partial paralysis, excitation, hallucinations, agitation, hypersalivation, difficulty swallowing, and hydropho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0292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liva of infecte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6:00Z</dcterms:modified>
  <cp:revision>46</cp:revision>
  <dc:subject/>
  <dc:title>Hazards</dc:title>
</cp:coreProperties>
</file>