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353-6BDF-48E0-B125-7EDA8080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351-273B-473E-87F9-B41F7351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AD0A-3794-415E-BCCC-FD5BB590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9A77-4E39-4D44-80E1-2247290D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C2B-96DB-476D-A8CC-F5AB0A8D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0F7-CF2C-4D31-97FB-34B3683D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3E33-781A-4EFB-AF04-AFF903CA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818-5B1C-4F70-8E73-0B118B2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321-5DC7-42A7-AF73-698F70A8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649-712A-4FFE-BE36-0CE59A7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99E-E32E-48B2-9752-03BAAD36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207-17FE-448C-987B-6F0C1029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E018-6111-412A-8A4A-D6F4C17DA3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Hepatiti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133720"/>
            <a:ext cx="8153280" cy="112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ptom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aundice, fatigue, dark urine, abdominal pain, loss of appetite,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81280"/>
            <a:ext cx="8153280" cy="155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lood or bodily fluid of an infected person, contact with needle previously used by an infected 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6:15:43Z</dcterms:created>
  <dc:creator>Partnership for Environmental Education and Rural Health</dc:creator>
  <dc:description/>
  <dc:language>en-US</dc:language>
  <cp:lastModifiedBy>Jeremiah McNichols</cp:lastModifiedBy>
  <dcterms:modified xsi:type="dcterms:W3CDTF">2005-01-21T21:34:55Z</dcterms:modified>
  <cp:revision>51</cp:revision>
  <dc:subject/>
  <dc:title>Hazards</dc:title>
</cp:coreProperties>
</file>