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CEFE-A24D-4CBC-8CE4-F8553FB63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6D3C-F133-4FE6-B4A7-496B3BF5E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ED37-3CD2-4CF3-AE02-1ABBC027D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ED43-6B96-4047-ACEB-4DA2FF4C6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EA30-85E0-486F-BB2E-6D80A8501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243C-2120-49ED-A7A2-F67BED526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FD38-9EAF-420F-86DA-8E6411917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10BD-ED30-4324-A693-D0584D59E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0447-5828-4E7D-BE50-ECF1379C3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B234-89F7-4F05-8636-8903E0EB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EE9F-C630-4F16-BB2C-3056143C7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ED34-FF2A-4473-A63F-A4F76B17D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FEC1F-CFBF-40F6-90B2-D40CC67011A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ellow Fe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dden onset of fever, jaundice, and hemorrh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4004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pread through bites of infected mosquit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7:50Z</dcterms:modified>
  <cp:revision>44</cp:revision>
  <dc:subject/>
  <dc:title>Hazards</dc:title>
</cp:coreProperties>
</file>