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3D15-963F-4250-B181-51E0FA733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46A6-0D8A-46CC-9A74-85113336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6BB6-6FD1-4F92-9ABA-0B3F0F5A5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ACA2-7343-4564-A9BE-375E61EB5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9952-6076-4893-89E2-8D762886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D10F-D117-4A29-B9C9-D76CC66B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BFC4-A446-4BA9-A50C-6D4537CB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78F6-9AA7-4718-8FE6-C3AB5F07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6F1D-4170-4F21-B495-CDD90051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3A6E-213D-4F75-AC51-79AB0203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F6F2-0921-4CB8-AB68-DA0245E8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0864-AA09-40DA-87CC-2E65CC0D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9569-1DBC-4177-8F07-AC70AB2945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. col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y diarrhea, abdominal cramps,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meat, contaminated human feces, contaminat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3T14:46:38Z</dcterms:modified>
  <cp:revision>52</cp:revision>
  <dc:subject/>
  <dc:title>Hazards</dc:title>
</cp:coreProperties>
</file>