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EE9-9082-4F4D-A243-11FC6A74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491-825E-4F44-87D3-50FBD5CD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B17-1CE1-48EC-9FB7-CAA2F0A8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BFF5-0D17-4A72-B8C3-0012C284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3A1-74C3-48A0-B552-C797D4C9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D58-0269-4A24-80D7-BED71D5B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00EB-FD97-4676-83AD-8059D1EE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32D6-8FE5-4736-A0E7-4742D2BF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EE9-8CAD-4405-839D-9F5B6C47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361-693F-4796-94BA-02B92CD2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8AF-3736-40AC-A822-054D6AA5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989-8B42-4977-B38E-0BA4FF4A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F14E-CAAC-4818-A251-024F989F1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 Nile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s of coordination, tremors, depression, weak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rough bite of infected mosqu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8:33Z</dcterms:created>
  <dc:creator>Texas A&amp;M Veterinary Medicine</dc:creator>
  <dc:description/>
  <dc:language>en-US</dc:language>
  <cp:lastModifiedBy>Texas A&amp;M Veterinary Medicine</cp:lastModifiedBy>
  <dcterms:modified xsi:type="dcterms:W3CDTF">2007-09-03T13:28:35Z</dcterms:modified>
  <cp:revision>1</cp:revision>
  <dc:subject/>
  <dc:title>West Nile Virus</dc:title>
</cp:coreProperties>
</file>