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6F0-5D89-4650-8444-8A1D1C2B00A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F51-C743-430E-906E-DDD612DD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112-3756-43EB-A446-CD94431D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C15-BB7E-4AC0-99D3-28E8BE81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3B5-7B89-403E-9C8B-925EF08C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B00-D5F7-4F73-9754-B4C812DA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FCE-3C6C-47AB-B80A-D12DD258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19E-7BA4-4A30-84AD-054A16A2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662-A6B9-4661-A11C-88EAA08D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37D-57D6-4008-A892-FDCF832D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E1B-F9F5-4B70-9620-02D89C91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FE1-3915-4595-A29D-F943D841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83D-89DA-4751-BBB7-00AD1CB6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D74D-26BC-4F4D-9ADD-45623B22A83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Mailbox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Letters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itstudent</cp:lastModifiedBy>
  <dcterms:modified xsi:type="dcterms:W3CDTF">2002-08-06T19:35:34Z</dcterms:modified>
  <cp:revision>15</cp:revision>
  <dc:subject/>
  <dc:title>Writing a Business Letter</dc:title>
</cp:coreProperties>
</file>