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12-EB69-419D-BA3B-87853B85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5B3-B8C9-41C9-AA24-DA69DD2B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FBA-5A25-4451-982D-C251899E0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D29-41CD-4240-BE5D-08C5005E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FF5-C3D4-4847-BFFD-840CC4C0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A4E-4853-4081-AF0E-0C2CD1A9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5995-91BB-4DB8-9170-1BBD56A2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2EB-FFF1-4AEC-809D-AB0093B4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B50-C051-4C5F-AC2F-7D743B81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A1B-4018-422F-9AD2-D4D4C784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A47-2108-47DE-AB56-FAC4F4C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CD3-EBF0-4B57-A236-0E843685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7770-BC6B-483B-91FD-54435DF734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wn Lu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ortness of breath, coughing, and wh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ng-term inhalation of cotton, flax, or hemp 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1:07Z</dcterms:modified>
  <cp:revision>46</cp:revision>
  <dc:subject/>
  <dc:title>Hazards</dc:title>
</cp:coreProperties>
</file>