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3C2-8EE0-4830-9D42-123F02FD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E69-CBFC-4934-9E7C-981A98A3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F6FA-C16F-4AA7-90D7-1D7F9117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D5B-8A08-466C-98E8-6F9F2968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732-8712-48B2-8863-96484FD5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50D-AA97-45CC-8BE0-B20F7E0A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517-F911-474B-8DC1-94A068F6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8AC-95BF-4297-862E-8CFE3DFB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F84-440A-4A7D-91C7-66671C6D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104-9A67-4305-BCD0-7589A0D5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350-1220-42CE-9EBC-1CCC6AF4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342-6C72-48E8-B8E2-2C6AB026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1D4E-2661-4D93-9BB8-7F09F93B3B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8-30T16:20:49Z</dcterms:modified>
  <cp:revision>45</cp:revision>
  <dc:subject/>
  <dc:title>Hazards</dc:title>
</cp:coreProperties>
</file>