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B26C-B874-4790-A69B-C47832FA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DF2-AB91-4938-A0E8-49161659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BDB-2F6C-4F27-8AC6-B61DCC67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6EE-EA3E-46C9-B044-EC4C59E35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98E-2FA6-4B84-BA56-A12B867E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411-5B86-4F36-B2F0-9F6E26EF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607-B01D-401E-BCB5-6D097CD1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35B-E58D-4D68-BB61-F96D3932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D778-FECA-4BE1-B55F-7851F942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556-9BF6-42E7-AB64-3124B24F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A5F2-25B0-4137-BC57-206CD25F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78F-69DE-43D0-9BD7-5540B831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C7A9-D0C1-4FCC-A028-A42922164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75248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in damage, headaches, tiredness, digestive problems, muscle and joint pain, memory and concentration problems, fluid accumulation in lu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191120"/>
            <a:ext cx="8153280" cy="19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mission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estion or inhal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lead.  Lead was used in paint prior to 1978 and it can be found in the soil and drinking water (lead pip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13:29:05Z</dcterms:created>
  <dc:creator>Texas A&amp;M Veterinary Medicine</dc:creator>
  <dc:description/>
  <dc:language>en-US</dc:language>
  <cp:lastModifiedBy>Texas A&amp;M Veterinary Medicine</cp:lastModifiedBy>
  <dcterms:modified xsi:type="dcterms:W3CDTF">2007-09-03T13:29:07Z</dcterms:modified>
  <cp:revision>1</cp:revision>
  <dc:subject/>
  <dc:title>Lead Poisoning</dc:title>
</cp:coreProperties>
</file>