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C45-0D0F-41A4-B4EB-26ABB1C2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905-24A4-429F-AAB4-3B2AD02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47A-4F30-4C26-B4CF-64150498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58C-1CA9-42D7-941A-EEBD7113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CE4-5EA8-4B07-9080-701A71F3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04C-99F1-4E07-8EAA-A1DDCF6E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FEC3-BD13-457D-B5F5-BD940D67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631-4170-4EC2-A70D-3BEF5F7B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99C3-77C6-4ED9-BF30-2BF03659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0250-4ED5-433A-862F-EDCCB264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8D3-1FA5-44AF-A3BE-C04E862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3D6-7115-4B0D-A5EB-4D901FB6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5E2D-6F62-48CF-B85C-72A2F41F2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DS (Acquired Immune Deficiency Syndro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286000"/>
            <a:ext cx="7925040" cy="283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pid weight loss, dry cough, recurring fever, profound fatigue, swollen lymph glands, diarrhea, unusual blemishes on tongue and in mouth, pneumonia, memory loss, depression, red/purple blotches on or under the skin or inside the mouth/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4120"/>
            <a:ext cx="792504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-to-blood and sexual contact with infected per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Ljlab</cp:lastModifiedBy>
  <dcterms:modified xsi:type="dcterms:W3CDTF">2005-01-21T19:04:07Z</dcterms:modified>
  <cp:revision>42</cp:revision>
  <dc:subject/>
  <dc:title>Hazards</dc:title>
</cp:coreProperties>
</file>