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A5FA-1C4F-4688-860F-8436F5B52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5CA-6BF8-45CB-B940-A2341102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ACA-B33A-4FF2-BE76-08EBB289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E9FF-5122-4BDF-B96A-E2DCBF64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726A-7A2F-49AF-B5F0-BA6801AD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A2A6-7B93-46AB-B556-60B17EF5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590-18FD-48B7-815B-2EE48056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9E3-995B-4F3F-92AB-5E18537E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476-8BC9-44F0-938A-3BFFCFC4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058-E417-4F5A-A913-812A84BA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1F7-5115-4A01-AA87-3C6AD3D2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6B6-AEDF-4B38-A8F6-1EF15209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D85F-659B-42AD-B788-4F76BA8F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43EA-296F-473E-A69A-699A693652E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vhardy</cp:lastModifiedBy>
  <dcterms:modified xsi:type="dcterms:W3CDTF">2002-12-19T22:49:20Z</dcterms:modified>
  <cp:revision>23</cp:revision>
  <dc:subject/>
  <dc:title>What Do I Say?</dc:title>
</cp:coreProperties>
</file>