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38.jpeg" ContentType="image/jpeg"/>
  <Override PartName="/ppt/media/image40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6.png" ContentType="image/png"/>
  <Override PartName="/ppt/media/image14.wmf" ContentType="image/x-wmf"/>
  <Override PartName="/ppt/media/image43.png" ContentType="image/png"/>
  <Override PartName="/ppt/media/image15.jpeg" ContentType="image/jpeg"/>
  <Override PartName="/ppt/media/image11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B512-89AC-46E2-80BF-FC0256A87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9079-C62F-45DC-9F52-AD4D0F4A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0F1-2DF3-47B3-AA0D-1BF08A3C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B26-1F20-4C04-8DBD-97109EFF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8F28-7E98-445D-AD2E-865EDC7A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AA1-17F1-4B8C-B36F-EE0E2F45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6C9-54CA-479D-A13A-DE171B9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9B7-660E-4FC4-A192-BD687014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878-786A-4EF1-ABBD-39B42A53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913-D5A2-4F5A-8DE1-4F0B991A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4980-E381-4848-BA72-4E86F3B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495-7682-45E6-AF72-6C00468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2E3-382D-4735-84DE-E0C1175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81EE-4B27-4D9C-9037-BE00FFB52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18" t="0" r="92795" b="24546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rcRect l="4069" t="19236" r="4069" b="0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rcRect l="7010" t="8248" r="7010" b="6250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28529" t="36391" r="69298" b="44047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30719" t="36576" r="66963" b="44154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25627" t="31253" r="29376" b="33597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32869" t="42888" r="44244" b="44022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32845" t="58581" r="35284" b="38362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32869" t="58407" r="35582" b="35129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rcRect l="0" t="13419" r="0" b="25738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7205" b="-2032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rcRect l="7795" t="0" r="0" b="0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67007" t="33191" r="30607" b="47414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rcRect l="16848" t="5242" r="25497" b="5242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rcRect l="28917" t="0" r="24963" b="0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64737" t="36424" r="32996" b="47414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rcRect l="25627" t="31253" r="29376" b="33597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5T00:29:11Z</dcterms:modified>
  <cp:revision>68</cp:revision>
  <dc:subject/>
  <dc:title>Slide 1</dc:title>
</cp:coreProperties>
</file>