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87D4-0979-4363-9FFC-A760DD3AA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0D1A-43CD-43F2-A27D-A90264B2F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1440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F5D-9165-4F8F-B641-8ACB3A82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153-872B-48C7-988E-6A561EED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2966-0DCF-4758-AD8E-B5F1179D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A86-7A0F-44FC-93D2-C7DF9C52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721A-5A74-4CA0-8F5F-1086D576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DF3-3A71-42E7-BBED-0E8C39C2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9E8-6779-4540-8CF6-CFA3772E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03A-8D01-4AD7-80BD-CC29FE66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ED6-33B1-45AC-99D0-5A5F6C66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706E-F538-47EC-9AA0-CE68633C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2F14-EC9B-4DFA-B062-F33453B5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6AB-DFE5-48ED-B0BE-25B39593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C940-C9E5-462E-8B0F-9CBB15383AA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7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and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Precipitation includes all forms of moisture falling to the surface of the earth. (Examples: rain, sleet, snow, hail)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emperature is how warm or cool the air is outsid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41Z</dcterms:modified>
  <cp:revision>23</cp:revision>
  <dc:subject/>
  <dc:title>What’s the difference between weather and climate?</dc:title>
</cp:coreProperties>
</file>