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960A-AD78-4C22-99B1-33D280E5AA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550-4BE2-43E9-8981-DA56D3A27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B7D-8440-4EAC-8EB0-F9E3CFC0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0B8-E0FF-4A01-AE6E-DDA6DD0E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B5A-DDB9-45A4-92E5-E8736E78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9A1-7311-482F-95F6-8130BB77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2CE-B6A3-40BD-BF5B-A68683B8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7DC-DDD1-424B-8EDA-050AF513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CE6-C142-4DD2-AF8C-3F7F8064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F0E-7446-4447-A3BC-7D3EB5A5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74B-C4C7-40D3-8509-118ECD99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FAB-4DF8-480D-A9A7-1048EE77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756-4C79-4130-94BF-0637409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9E1C-3C27-4049-BC46-BDBF15C2BA7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vhardy</cp:lastModifiedBy>
  <dcterms:modified xsi:type="dcterms:W3CDTF">2003-05-29T00:06:40Z</dcterms:modified>
  <cp:revision>32</cp:revision>
  <dc:subject/>
  <dc:title>Comparing Apples to Oranges</dc:title>
</cp:coreProperties>
</file>