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639B-63CF-48E6-92E6-C734607E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B36-B15D-4DD4-8643-F2A53542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0FB-0AE6-42CF-A52D-BF4A90BA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26B-35DA-48E7-AEA9-30C376B2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E26-D54E-4567-B72C-392B8B15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620A-315E-4FEA-89CB-D378DD5B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02B-D0E1-4FF3-8310-B7B10157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C60-BE6A-45B0-890E-6CD4459B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D701-F826-4863-B0A8-0C96183B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0C38-E805-4B44-AD18-ECBEF752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CA6-751F-4D30-B11C-83C01C44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F1D-7ECD-4E6F-A6F1-674CD597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AE0-14A9-4138-95CD-5DB39F9F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6C3E-A37C-4335-BB38-7851A6E8C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3-01-16T18:37:15Z</dcterms:modified>
  <cp:revision>28</cp:revision>
  <dc:subject/>
  <dc:title>Sensory Details </dc:title>
</cp:coreProperties>
</file>