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FCAA-7EFF-48CA-9501-C0BCB9DA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bulary Challeng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Spe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Irrelev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Malnour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forebo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Monstr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Rel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Assass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6AE-0AC3-4E05-BC7D-D0D87052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65E-053B-4769-9015-83EBB34E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D53-B885-4686-A117-E6F8545E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341-06E5-4C6B-80C0-5CA4FE5F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B3C-B75C-49F1-9C99-249B4526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64F-D419-41C1-9F49-A3586CC2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1E2-2791-4296-847C-697F9CF5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5F2-49CC-4284-81E9-1836E9E4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471-F81A-47B9-8A25-BB247A8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802-6FE4-4840-ACF3-AC03C3A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2FE-4819-450D-9691-BEAE3DBC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FB6-2812-4437-84FA-552DE93A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A937-95EA-48F5-87EE-2BF582BB0A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PeVocab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ease fill in the blank with the correct word from “The Kiss of the Assassin.” Use the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lossary of Term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s a resource if need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needed expert advice on ancient Peruvian temples for my report, so I scheduled an interview with the __________ of the museum of Peruvian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My final report on Peru was  ___________. It covered all aspects of the country including geography, culture and economic 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prevent the crime in this story, Connie and Roman had to _________ a strategy quickl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order to find out more about the behavior of the black beetle, scientists select a few beetles and study the characteristics of each   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eelings of the Peruvian people about their ancient relics were _________ to the villain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 knew that the stray cat at the archeological site was __________ because I could see the outline of his ribs through his fu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’s actions were the reason for Connie’s feelings of 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37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ile of trash left behind by the tourists who came to see the archeological site was a _____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y studying _________ of ancient cultures, we can learn about the pa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sect was the __________ in this s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PE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0" y="5281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Vince Hardy</cp:lastModifiedBy>
  <dcterms:modified xsi:type="dcterms:W3CDTF">2007-05-03T15:06:30Z</dcterms:modified>
  <cp:revision>26</cp:revision>
  <dc:subject/>
  <dc:title>PowerPoint Presentation</dc:title>
</cp:coreProperties>
</file>