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3973-4BF0-4E1E-B153-90E2A09A4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many words in the story that are unfamiliar to your students. Ask students to find each word that is new to them, define the word, find a synonym and antonym for each word, then use each word in a sentence outside the context of the sto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6C: The student is expected to: locate the meanings, pronunciations, and derivations of unfamiliar words using dictionaries, glossaries, and other source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E44-72DC-45DD-A5D1-1603CA9B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4FE-18C5-4593-88F8-258C2B3A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8EB1-0265-4BFA-B3EA-94BA29AC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827-520D-41C7-A3E4-E27F43E9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F5A8-2F03-4C1F-A627-3F97BC8E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9BD-3E85-49E0-8B0B-4B3191BA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9F5-134D-4090-ABDA-FE9BB3B0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B91-73AC-468C-AEB8-D9C1CB18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D77-D604-4087-A8FA-C8A6467F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7BFC-FE88-4F5B-9546-41F1233E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A94A-A319-4C78-A5F8-8E0B53FB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9CA-F3A2-433E-B05E-1F44CEE2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4C42-66D6-440D-8467-0AB0BE78E22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omprehensive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Very large in content, all inclusiv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Assassi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 murderer of a prominent pers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Specimen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An item representative of an entire set or whol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Curator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One in charge of a selection, as at a museum or library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rreleva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Unrelated to the matter at han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Foreboding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have a premonition or feeling of a future misfortune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lossary of Terms (cont.)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232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onstrosity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Something that is unusually large or that gives a feeling of disgus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Implement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– To put into effec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Relics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Something that has survived from an extinct culture or from a specific time period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81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ebebeb"/>
                </a:solidFill>
                <a:uFillTx/>
                <a:latin typeface="Times New Roman"/>
              </a:rPr>
              <a:t>Malnourished</a:t>
            </a:r>
            <a:r>
              <a:rPr b="1" lang="en-US" sz="29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– Affected by improper or poor nutrition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9:07:46Z</dcterms:created>
  <dc:creator>Instructional Technology</dc:creator>
  <dc:description/>
  <dc:language>en-US</dc:language>
  <cp:lastModifiedBy>Ljlab</cp:lastModifiedBy>
  <dcterms:modified xsi:type="dcterms:W3CDTF">2005-05-25T16:30:06Z</dcterms:modified>
  <cp:revision>20</cp:revision>
  <dc:subject/>
  <dc:title>PowerPoint Presentation</dc:title>
</cp:coreProperties>
</file>