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D2124-CE34-4E39-AB4E-D0E63DD33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does not contain the full text of the TEKS.  It is intended to be a guide to, not a substitute for, the TEK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EE57B-9E75-4416-9FDE-BBDB5A1A9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9947C-B828-4422-844F-D12554D7C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D2760-27EF-42BC-B298-5C507BB92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6C81F-8C43-40B0-BBE5-AD9F6B6E1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C02B-D7CE-41AA-B424-020330E7E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2A33-6A01-4205-8E2C-DA086E5D1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9DD3D-AC70-4C8A-91F9-B00D940F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F74C4-8B22-4EA6-BED1-20D978B26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A551E-6F2B-48EA-98B5-5708F98C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12731-CEBA-4AB6-9E10-96A784B9A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FB3C3-75BF-4C6D-9082-A79FF3143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558C3-1495-4625-B77E-61DA889B9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6C93-ADFD-40A4-A09A-F11C56C960D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vhardy</cp:lastModifiedBy>
  <dcterms:modified xsi:type="dcterms:W3CDTF">2003-05-21T21:23:34Z</dcterms:modified>
  <cp:revision>25</cp:revision>
  <dc:subject/>
  <dc:title>Persuasive Writing</dc:title>
</cp:coreProperties>
</file>