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9DE9-96FE-420E-9C65-14D8FF07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2CBD-53B9-4C63-AD52-36A9C622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BBF-F1E2-4431-8447-B7E82944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A88-A86C-4527-AC00-DA33B071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AF5-B463-4567-A293-10B1F25A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49B8-50C8-4B60-B0CC-02910CDB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3362-0044-4594-90E2-3A4C3330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C8D-E367-4E5F-8DE7-58217E87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2799-029F-41F6-B31D-D0B4AE6E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7C2-A402-4CE2-978C-6F2225D6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7E3-6C94-4BB3-B30E-EF9A4DBC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9A3-2A0C-40B0-8F1D-DBB77FA2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8B52-56C6-4659-9ACC-AF72625377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22960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y diarrhea, rapid dehydration, vomiting, leg cr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3664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taminated food/water, contaminated feces of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2:25Z</dcterms:modified>
  <cp:revision>48</cp:revision>
  <dc:subject/>
  <dc:title>Hazards</dc:title>
</cp:coreProperties>
</file>