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DCB-693E-4420-AEE8-DFE3D220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9A0-C386-44A7-B528-B1A94B94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C2F-3AB7-4E8C-84B5-D74712F6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B8E-AF97-4166-BAF3-81B65A80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F21-9951-4168-B589-0BFEBC07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954-BEA8-40C3-ABF4-F5E86001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28A-5281-434A-B173-FC0886DB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825-0BBC-4398-B499-1015D33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56F-1DE7-460D-84EF-371F9489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A21-CC7E-4A17-B198-EC5B2BC8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7905-C1DD-4570-83E7-10F9CC3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818-4F60-40F7-8FC0-2E386C7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FC40-206C-4FAA-AC25-93772479B8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bol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joint and muscle aches, sore throat, weakness, diarrhea, vomiting and stomach p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862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contact with the blood and/or secretions of an infected person, contact with objects, such as needles, that have been contaminated with infected secre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17Z</dcterms:modified>
  <cp:revision>52</cp:revision>
  <dc:subject/>
  <dc:title>Hazards</dc:title>
</cp:coreProperties>
</file>