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11AA-5939-4462-9BE8-B739E0DC7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7651-4630-4E55-9B76-9407C716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C79C-802E-43B3-984C-CAB36C982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0E1D-3CB3-4B0E-BBB8-B3908E882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005D-66EE-42AD-8FAA-B5F79A7F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3C47-D69E-452F-BB34-67817D44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E655-ADF1-42A7-88BB-C03F2197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2611-FA1A-4BA1-B53C-B6A55DA4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1B4F-05D3-4561-A589-913A7D5F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747B-269E-4EB9-BC6B-8CE61EF6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E9FB-5E65-4ED9-95A6-EBB5B98B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696D-E3E3-44DB-B64C-6D29391E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9EE3-7141-46C2-9C94-82E3A2D11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eutzfeldt – Jakob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mentia, decreased muscular coordination, personality changes, impaired vision, insomnia, depression, or unusual sen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67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bodily fluids or tissues that contain an abnormal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6:11Z</dcterms:created>
  <dc:creator>Texas A&amp;M Veterinary Medicine</dc:creator>
  <dc:description/>
  <dc:language>en-US</dc:language>
  <cp:lastModifiedBy>Texas A&amp;M Veterinary Medicine</cp:lastModifiedBy>
  <dcterms:modified xsi:type="dcterms:W3CDTF">2007-09-03T13:26:33Z</dcterms:modified>
  <cp:revision>1</cp:revision>
  <dc:subject/>
  <dc:title>Creutzfeldt – Jakob Disease</dc:title>
</cp:coreProperties>
</file>