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1EB-711B-4047-B1A2-7F7EF290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349-7A8C-4337-9D72-0277E60D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C72-03A2-4C18-81B9-391D85EB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936D-153D-4242-8C5B-19E57A05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F36-3567-46DB-8C89-5CE09AA9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017-1E39-462C-AC1E-4BBAA2EE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964-184F-4D1F-A967-041FFD7A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610-4648-4A96-9FCB-3C9BEFAF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727-2CF7-4C50-AC96-3A85ECBA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7809-043F-40A9-B829-D4E47F55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2C9-7BE7-4842-8725-FF14B8F2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176-908B-431C-9F82-43113B2B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24DB-2E84-4C08-AFE9-EF96DA1F8B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286000"/>
            <a:ext cx="8153280" cy="173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ever, headache, tiredness, cough, sore throat, runny/stuffy nose, body aches, diarrhea, 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343400"/>
            <a:ext cx="8153280" cy="70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ughing and snee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5:34Z</dcterms:modified>
  <cp:revision>45</cp:revision>
  <dc:subject/>
  <dc:title>Hazards</dc:title>
</cp:coreProperties>
</file>