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8741-0B71-4A1C-8452-38E142CC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BE8-CC41-4A56-AE5B-F6241339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8B3-C433-417F-BFC8-5953FB9B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535-842C-4276-854E-FE8DF726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976-C158-4422-99C5-B76FFBBD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2A5-CBAA-4CC1-A460-2B862F26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969-3A9D-434C-814E-F49A3D90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67C-0E39-406C-A504-292687BD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327-AC67-4722-8D5B-4E7A1432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6C5-C7F7-44D4-B561-7622F4BB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3CD-9E96-4F5F-A0C8-44377637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5DB-32C2-4869-9C65-263EB328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3E9-994E-4B3A-8C9F-A6D8EB239F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gas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tigue, fever, enlarged liver/spleen, swollen lymph glands, rash, loss of appetite, diarrhea,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148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/feces of Triatomin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45Z</dcterms:modified>
  <cp:revision>49</cp:revision>
  <dc:subject/>
  <dc:title>Hazards</dc:title>
</cp:coreProperties>
</file>