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6F3-5B9B-4E19-B8F0-A31C8CBE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DD4-4D92-427D-A665-675FB582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628-4C53-45FE-B450-B938A285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C22-A19E-437A-A5FE-AB78EEF1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47F-EC0F-4EC0-AE20-5D75BACC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D96-B47B-4D6D-A055-FF39B252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A1C-53DD-410C-9939-6D3C410F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94A-DE40-4DA3-BAB3-F1AF4FBB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058-2ADE-485E-8173-4EEA8C4D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F548-C473-4163-88F5-FA43E0B7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D3A-FE99-46C1-A63F-A60C15B2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81E-04BE-44C8-BAA7-88D4F07D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6A62-9CFB-482D-849A-14AED8A866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98108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urring chills, fever, anemia and sometimes jaund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7339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 through bite of infected mosqui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Texas A&amp;M Veterinary Medicine</cp:lastModifiedBy>
  <dcterms:modified xsi:type="dcterms:W3CDTF">2007-09-04T21:53:52Z</dcterms:modified>
  <cp:revision>51</cp:revision>
  <dc:subject/>
  <dc:title>Hazards</dc:title>
</cp:coreProperties>
</file>