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70F-54BB-47BE-88D9-20FB1C1A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75E3-3E1F-444C-ACC9-330E4943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716-80CF-453D-8A6C-7D5298EF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455-7EC5-4182-A130-F210BD08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41F2-FE06-4E9C-BB6B-00038C7B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214-242C-47BB-9167-A8909885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DF0-6335-4086-A6FD-B994E972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8C1-12E5-4719-AA38-25578837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5F2-90C4-4F7D-B589-E4D07535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079-8FF8-46DD-B28C-358C6781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F5F1-6D2D-4A24-8608-23B83A05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E39-1F3E-463A-9877-FF01DFA5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EE60-9390-411A-937C-E87A7B91C3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vere illness followed by a blisterlike body rash, high fever, extreme lethargy, headache, backache, abdominal pain, vomiting, deli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4956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irect and fairly prolonged face-to-face contact is required, direct contact with infected bodily fluids or contaminated objects such as bedding or 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39Z</dcterms:modified>
  <cp:revision>46</cp:revision>
  <dc:subject/>
  <dc:title>Hazards</dc:title>
</cp:coreProperties>
</file>