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A673-BBC8-4801-A87B-E98C40894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043-112B-4396-A2E4-CA5F6D5B3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3F4-22E4-48D0-859F-D1638F8F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5852-D9BF-49D5-B275-77EF139C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7F26-5374-4266-B320-9FE4B8AB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55C-CD25-4B03-9570-DB89D365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559-C84E-47AB-B3C1-C7879FA4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2E4-8328-4C38-B2CC-EEA7BFBD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C4E5-FEF7-48AA-B7EE-E5C4B37E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5CD-58A6-47CB-B8BC-D928B033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B61-DC3D-445F-BF4D-7F1183F9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D9B-33F2-47A3-81A5-A990BDD2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64F5-4517-4DB8-9594-2468FEAC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F9C5-DD79-49CD-B8CE-F23C250EBCA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3-01-16T18:50:08Z</dcterms:modified>
  <cp:revision>28</cp:revision>
  <dc:subject/>
  <dc:title>Descriptive Writing</dc:title>
</cp:coreProperties>
</file>