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5B0D-56A1-421B-855A-ED6CA97CC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CD2-787C-4E87-8CB0-112CD9CF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9CC-206D-49FD-81D5-0A95FA26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D4B-446A-45F1-8A86-436BD8FD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7001-9000-4F8F-83DC-BE4A2BBE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DB31-712F-433E-97F5-25347786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29B-0E31-419D-A4A3-FA893A53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2A6-0F8D-47F1-9BD5-3ACC16F6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0B4-77E1-441F-8A6B-2F996A5B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E28-253F-44AE-82A8-71020362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7BF-BEA5-42E5-8568-1FC020CE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8CA-93EC-418F-87E6-A2533979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F96-42AB-4350-96C2-906BD9AD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9A36-0ED8-42FE-8BE9-8B254F9E230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../Appendices/Social%20Studies/AbsoLoca.ppt" TargetMode="External"/><Relationship Id="rId4" Type="http://schemas.openxmlformats.org/officeDocument/2006/relationships/hyperlink" Target="AbsoLoca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2112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2400" y="4419720"/>
            <a:ext cx="58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4° S.L., 72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1120" y="485136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07480" y="4419720"/>
            <a:ext cx="62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17.5° S.L., 71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3170160"/>
          <a:ext cx="217332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1957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Peru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5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343240" y="4952880"/>
            <a:ext cx="5110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titude for Lima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343240" y="4952880"/>
            <a:ext cx="52308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343240" y="4952880"/>
            <a:ext cx="6008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solute location of Lim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° S.L. and 76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603520" y="53640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10000" y="581328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606760" y="6240600"/>
            <a:ext cx="26496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05280" y="484200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42760" y="4419720"/>
            <a:ext cx="57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, 80° W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03480" y="4870440"/>
            <a:ext cx="33987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qu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cl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2400" y="44197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4° S.L., 74° W.L.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712960" y="333360"/>
            <a:ext cx="3735360" cy="40100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PE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603520" y="494496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610000" y="539424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06760" y="5821200"/>
            <a:ext cx="26496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2606760" y="626112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Texas A&amp;M Veterinary Medicine</cp:lastModifiedBy>
  <cp:lastPrinted>2002-05-17T17:38:54Z</cp:lastPrinted>
  <dcterms:modified xsi:type="dcterms:W3CDTF">2007-08-29T18:55:45Z</dcterms:modified>
  <cp:revision>656</cp:revision>
  <dc:subject/>
  <dc:title>Investigate the Mystery:</dc:title>
</cp:coreProperties>
</file>