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C15-8DE0-49C2-A3A3-2D9F50F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A3-B720-4549-A741-56C3754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EE9-EC4D-4616-A902-402DD9BE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D8E-EA6B-4795-B068-93E4629BF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C25-8E30-487B-9976-03D2ACB7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FDF2-FBF7-4C80-A27C-E82B4634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D83-C6EE-40E0-8CC8-CDA7DD2C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053D-101C-459D-998B-4C0BDCC3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0BA-C8F8-4AFA-9619-FA0A5F0D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ED2-117B-431D-8FE0-1BDC91A8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545E-5006-4CD4-803A-3981112C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4BF-E7C6-44D8-87B5-2B5628B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9642-8284-4779-8C02-41848D3D5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omyel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ever, malaise, headache, nausea and vomiting, excruciating muscle pain and stiffness in the neck and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Poliovirus. Usually spread through contaminated f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47Z</dcterms:created>
  <dc:creator>Texas A&amp;M Veterinary Medicine</dc:creator>
  <dc:description/>
  <dc:language>en-US</dc:language>
  <cp:lastModifiedBy>Texas A&amp;M Veterinary Medicine</cp:lastModifiedBy>
  <dcterms:modified xsi:type="dcterms:W3CDTF">2007-09-03T13:27:50Z</dcterms:modified>
  <cp:revision>1</cp:revision>
  <dc:subject/>
  <dc:title>Poliomyelitis</dc:title>
</cp:coreProperties>
</file>