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14B-26DE-459F-A719-FF0DBD28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E94-F82A-4093-80B5-01047353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B89-9554-46C2-88D3-3D394371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1A3-6E27-459F-AEDF-44065F2F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DC4-E9C1-4079-86DD-8968A236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6A7-F081-43ED-86ED-5DB05D12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548-0892-47CB-8A5A-5A91DBA3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600-47EB-43A8-8C14-31C2E111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387-39D6-453C-BCA4-769413E6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6EB9-BC42-4720-92DB-E7CC1C03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4ECA-200A-43AD-BC40-3105E3EC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A27-EBC5-4565-B164-E101BB46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8AE3-95F4-4C72-820B-3B0D20B1B3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, Mean, Median, and Mode are all words that we use to describe numerical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is the lowest and the highe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 is the average of all the numbers in a data set, or all of the data added up and then divided by the number of data poi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n is the middlemost number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 If there is an even number of data points, the average of the middle two give the medi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 is the number that is repeated the most in a data s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ample Data Se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e is a sample data s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4, 6, 2, 8, 5, 2, 4, 6, 9, 2, 1, 2, 2,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ange: 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 2, 2, 2, 2, 2, 4, 4, 5, 5, 6, 6, 8,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n:  59/15 = 3.93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edian 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2, 2, 2, 2, 2,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od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1, 1, 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2, 2, 2, 2,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4, 4, 5, 5, 6, 6, 8,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7:44:00Z</dcterms:created>
  <dc:creator>vtpp</dc:creator>
  <dc:description/>
  <dc:language>en-US</dc:language>
  <cp:lastModifiedBy>vhardy</cp:lastModifiedBy>
  <dcterms:modified xsi:type="dcterms:W3CDTF">2003-05-23T21:31:31Z</dcterms:modified>
  <cp:revision>6</cp:revision>
  <dc:subject/>
  <dc:title>Statistics</dc:title>
</cp:coreProperties>
</file>