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(C) Describe Relationship Between Radius, Diameter, Circumfer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A11627-B66D-4B0B-B74D-C557453D3D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A3D2F6-8013-409B-9A92-CAC49DB273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A3DFC2-5FA0-4FE8-AB0F-643F62FC7B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6A228D-7B10-4972-989B-0C71294768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CDC0E6-89AC-4CA3-AC5F-DEBB2958F9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342C39-3292-406B-A7F2-F3CE9BCFDC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BFDCA1-ECB4-4273-AB93-F5103C3ABD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D825CC-663F-4F7B-B693-DB9B8D730E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094277-7F09-45FD-A043-A6A973BCD9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4B9ACB-1D19-4763-BAF9-875CDDD043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A11F9B-06A7-4F26-8DA0-554E07A09E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BBC6BE-5081-4652-98B8-954BB3A18D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1C149-79C7-45A5-8F46-BAECA3F0AD92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685800" y="990360"/>
            <a:ext cx="77709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circumference (C) of a circle is the distance around a circle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 = 2 </a:t>
            </a:r>
            <a:r>
              <a:rPr b="0" lang="en-US" sz="3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r                           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 = </a:t>
            </a:r>
            <a:r>
              <a:rPr b="0" lang="en-US" sz="3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r = radiu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 = diamete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 = r + r = 2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Symbol"/>
                <a:ea typeface="Symbol"/>
              </a:rPr>
              <a:t>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ircumferenc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410080" y="3124080"/>
            <a:ext cx="0" cy="2210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409720" y="419112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4114800" y="2666880"/>
            <a:ext cx="4194000" cy="27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09AAE1-2BAF-4E60-A8E4-E96768B7CBAA}" type="slidenum">
              <a:t>1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6:50Z</dcterms:modified>
  <cp:revision>208</cp:revision>
  <dc:subject/>
  <dc:title>VTPP 423 - PHYSIOLOGY</dc:title>
</cp:coreProperties>
</file>