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BFFD-592D-4E62-92AC-A6BC0EFA7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C), </a:t>
            </a:r>
            <a:r>
              <a:rPr b="0" lang="en-US" sz="1000" spc="-1" strike="noStrike">
                <a:solidFill>
                  <a:srgbClr val="000000"/>
                </a:solidFill>
                <a:latin typeface="Arial"/>
                <a:ea typeface="Times New Roman"/>
              </a:rPr>
              <a:t>Planning and implementing investigative procedures. Analyzing and interpreting information. Analyzing, reviewing, and critiquing scientific explanations</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a:t>
            </a:r>
            <a:r>
              <a:rPr b="0" lang="en-US" sz="1000" spc="-1" strike="noStrike">
                <a:solidFill>
                  <a:srgbClr val="000000"/>
                </a:solidFill>
                <a:latin typeface="Arial"/>
                <a:ea typeface="Times New Roman"/>
              </a:rPr>
              <a:t>Analyzing, reviewing, and critiquing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Drawing inferences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Predict social, economic, and environmental results from discover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illness predictions sick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B) Using a decision-making process to identify a situation and take a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H) Use compiled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B) Organize prior knowledge about a topic in various 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C) Take notes from relevant and authoritativ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D) Summarize and organize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E) Present information in various forms using techn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F) Evaluate personal research and raise new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G) Follow accepted formats for writing research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cientific research investigative procedures scientific metho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mptoms: They are tired all the time and they have trouble breath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 they live: The sick people live in rural barrios. The problem does not seem to affect city peopl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festyle: They live in dirty conditions, use dung for fuel, drink water from irrigation pipes, and have poor sanitation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vironment: High altitude, cold, and many flies, mosquitoes, and “bugs” are all cited.  There is no mention of industrial polluta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 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B) Incorporate main and supporting ideas in verbal and written mess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D) Create written and visu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E) Use standard grammar, spelling, sentence structure, and punctu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Generate ideas and plans for writing by using prewriting strateg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B) Developing drafts by categorizing ideas into paragraphs and pap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C) Revise drafts by elaborating, deleting, moving, and combining 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A) Frame questions to direct resear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symptoms lifestyle environment illness sick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is point, not enough information is available to answer. But these are options students should think abou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A) Differentiate between structure and func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B) Determine all organisms are made of cells whose functions sustain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C) Identify how structure complements function at different levels of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Identify responses in organisms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B) Identify responses in organisms to external stimuli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C) Identify components of an ecosystem to which organisms respo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A) Identify the systems and functions of the human organis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 (B) Describe how organisms maintain stable internal condi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A) Analyze changes due to in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B) Identify responses in organisms to external stimuli</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A) Describe interactions among systems in the human organis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6 (B) Identify feedback mechanisms that maintain a system’s equilibri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A) Identify factors affecting someone's physical, emotional, and social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B) Make healthy choices from among environmental alternat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nalyze the relationships among the body syste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Describe various modes of disease 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Compare healthy cell growth to cell growth in the diseas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List noncontagious and hereditary diseases, prevention, and treat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 Analyze healthy and unhealthy dietary pract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B) Analyze risks for contracting specific diseases from various fac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C) Know risk factors linked with contagious and noncontagious dis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3 (D) Summarize the facts related to HIV infection and ST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A) Relate physical and social environmental factors to heal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6 (B) Describe the application of strategies for controlling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8.1 (D) Describe the life cycle of human be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K) Answer different types and levels of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G) Draw conclusions from information and knowledge to raise additional ques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EYWORDS: illness symptoms swollen eye vomiting diarrhea gaunt appearance tir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rpose of these questions is to help students organize their thinking and develop an approach to the problem solv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dictions from the hypothesis should usually extend beyond the facts of the story, because many of the clues in the story were used to develop the hypothesis in the first place.  You may want to have the students play “what if” games by developing related scenarios in which they specify certain similar environmental health conditions, apply the hypothesis to the scenario, and predict what would happen i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should recall from the story what was said about events or circumstances that might have been related to the sickness. To do that, they need to consider things involving food, air, water, and direct contact. They need to look for clues that help identify whether the sickness is caused by some kind of toxin or some infectious agent.  Some likely possibilities should be identified and phrased as a testable hypothesis. Details of how to test the hypothesis and the evidence needed to support it will become clearer as the students move through the next sli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Analyze and interpret information to construct reasonabl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Communicate valid conclusi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E) Construct graphs, tables, maps, and charts to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Analyze, review, and critique scientific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D) Evaluate the impact of research on scientific thought, society,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E) Connect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 Collect, analyze, and record information using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Identify patterns in collected inform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C) Organize, analyze, make inferences, and predict trends from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 (E) Construct visual aids using tools including computers to analyz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A) Analyze, review, and critique expla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B) Draw inferences based on data related to promotional materi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D) Evaluate research’s impact on scientific thought, society, the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 (E) Connect 7th grade science concepts with the history of sci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A) Collect, analyze, and record information to explain a phenomen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 (B) Collect and analyze information to recognize patter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A) Plan and implement investigative proced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B) Collect data by observing and meas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C) Organize, analyze, evaluate, make inferences, and predict tre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D) Communicate valid conclu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2 (E) Construct visuals using tools to organize, examine, and evaluate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A) Analyze, review, and critique scientific explanations using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B) Draw inferences based on data related to promotional materi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C) Represent the natural world using models and identify their limi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D) Evaluate research’s impact on science, society, and the enviro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 (E) Connect science concepts with the history of science and scienti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A) Collect, record, and analyze information using general scientific to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 (B) Extrapolate from collected information to make predi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cial Studies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3 (A) Use a problem-solv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3 (A) Form and revise questions for investigat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0 (D) Summarize and organize ideas from multiple 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WORDS: hypothesis hypotheses predictions environmental health concerns science appendix</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A998F-41B6-406B-A4EF-C3B45B2D7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E63FB-49FC-4C27-8BFF-D6A3888E6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2CE14-3966-49D4-AA94-E940A1E23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026C3-E3C7-406D-9CB4-6AC4A2FA4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83C6D-095C-4BD7-A085-2B3E1512F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FE452-E147-4B9D-88EB-4CF869CB8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773A-3838-46D6-9B12-200ACC810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7F0A1-B454-4D64-8C59-20953B4F3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50C8-FE44-4D6E-B60D-78AF24CD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3BE5D-93A0-4CBD-85F7-434551D93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C58FA-DD43-4984-B197-D1FAC517A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24625-6A98-4E56-9B65-2BB3F8B5C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4E74-AF9C-4207-B1BC-FCB1B29C37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cience.ppt" TargetMode="External"/><Relationship Id="rId3" Type="http://schemas.openxmlformats.org/officeDocument/2006/relationships/image" Target="../media/image3.jpeg"/><Relationship Id="rId4" Type="http://schemas.openxmlformats.org/officeDocument/2006/relationships/slideLayout" Target="../slideLayouts/slideLayout2.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Science.ppt"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85720" y="971640"/>
            <a:ext cx="7972560" cy="1466640"/>
          </a:xfrm>
          <a:prstGeom prst="rect">
            <a:avLst/>
          </a:prstGeom>
          <a:ln w="0">
            <a:noFill/>
          </a:ln>
        </p:spPr>
      </p:pic>
      <p:sp>
        <p:nvSpPr>
          <p:cNvPr id="49" name="PlaceHolder 1"/>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09120" y="1523520"/>
            <a:ext cx="8001000" cy="449604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a hypothesis about the cause of the sickness and the kinds of evidence that would support the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predictions from this hypothesi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e the situation surrounding the sickness (symptoms, where people live, their lifestyle, their environment).</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and contrast the symptoms of the two sick people.</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lan for solving the problem.</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s-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6440" y="356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ving the Mystery of Sicknes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possible causes of the various sicknesses in the story?  Can you state these causes in the form of an hypothesi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kind of evidence would you need to confirm that your hypothesis is correc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predictions could you make if the hypothesis were proven correc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0"/>
            <a:ext cx="219240" cy="68565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76440" y="36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685440" y="1599840"/>
            <a:ext cx="7815240" cy="487692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he story, you learn that many of the workers feel tired all the time.  The boss thinks they are lazy.  Let us consider the possibility that they are actually sick.</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Your challenge</a:t>
            </a:r>
            <a:r>
              <a:rPr b="0" lang="en-US" sz="3200" spc="-1" strike="noStrike">
                <a:solidFill>
                  <a:srgbClr val="000000"/>
                </a:solidFill>
                <a:latin typeface="Times New Roman"/>
              </a:rPr>
              <a:t>: Figure out why they are sick.</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Times New Roman"/>
                <a:hlinkClick r:id="rId2"/>
              </a:rPr>
              <a:t>Click here </a:t>
            </a:r>
            <a:r>
              <a:rPr b="0" lang="en-US" sz="3200" spc="-1" strike="noStrike">
                <a:solidFill>
                  <a:srgbClr val="000000"/>
                </a:solidFill>
                <a:latin typeface="Times New Roman"/>
              </a:rPr>
              <a:t>for information on how to do Scientific Research.</a:t>
            </a:r>
            <a:endParaRPr b="0" lang="en-US" sz="3200" spc="-1" strike="noStrike">
              <a:solidFill>
                <a:srgbClr val="000000"/>
              </a:solidFill>
              <a:latin typeface="Times New Roman"/>
            </a:endParaRPr>
          </a:p>
        </p:txBody>
      </p:sp>
      <p:pic>
        <p:nvPicPr>
          <p:cNvPr id="59" name="" descr=""/>
          <p:cNvPicPr/>
          <p:nvPr/>
        </p:nvPicPr>
        <p:blipFill>
          <a:blip r:embed="rId3"/>
          <a:stretch/>
        </p:blipFill>
        <p:spPr>
          <a:xfrm>
            <a:off x="0" y="0"/>
            <a:ext cx="219240" cy="68565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8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key facts might relate to the sickness of the worker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symptoms of the illness. Are they digestive, respiratory, or skin proble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of where the sick people l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short description about the lifestyle of the sick peop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ings in their environment that might be part of the problem.</a:t>
            </a:r>
            <a:endParaRPr b="0" lang="en-US" sz="2800" spc="-1" strike="noStrike">
              <a:solidFill>
                <a:srgbClr val="000000"/>
              </a:solidFill>
              <a:latin typeface="Times New Roman"/>
            </a:endParaRPr>
          </a:p>
        </p:txBody>
      </p:sp>
      <p:pic>
        <p:nvPicPr>
          <p:cNvPr id="63" name="" descr=""/>
          <p:cNvPicPr/>
          <p:nvPr/>
        </p:nvPicPr>
        <p:blipFill>
          <a:blip r:embed="rId2"/>
          <a:stretch/>
        </p:blipFill>
        <p:spPr>
          <a:xfrm>
            <a:off x="0" y="0"/>
            <a:ext cx="219240" cy="6856560"/>
          </a:xfrm>
          <a:prstGeom prst="rect">
            <a:avLst/>
          </a:prstGeom>
          <a:ln w="0">
            <a:noFill/>
          </a:ln>
        </p:spPr>
      </p:pic>
      <p:sp>
        <p:nvSpPr>
          <p:cNvPr id="64" name=""/>
          <p:cNvSpPr/>
          <p:nvPr/>
        </p:nvSpPr>
        <p:spPr>
          <a:xfrm>
            <a:off x="195120" y="647712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6440" y="6948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sickness of Miguel’s sister and father relevan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ister seemed to have different problems: swollen eye, vomiting, diarrhea, gaunt appearan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uel said his father was always t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ld we be dealing with two different illnesses or two forms of the same illness?</a:t>
            </a:r>
            <a:endParaRPr b="0" lang="en-US" sz="3200" spc="-1" strike="noStrike">
              <a:solidFill>
                <a:srgbClr val="000000"/>
              </a:solidFill>
              <a:latin typeface="Times New Roman"/>
            </a:endParaRPr>
          </a:p>
        </p:txBody>
      </p:sp>
      <p:pic>
        <p:nvPicPr>
          <p:cNvPr id="67" name="" descr=""/>
          <p:cNvPicPr/>
          <p:nvPr/>
        </p:nvPicPr>
        <p:blipFill>
          <a:blip r:embed="rId2"/>
          <a:stretch/>
        </p:blipFill>
        <p:spPr>
          <a:xfrm>
            <a:off x="0" y="0"/>
            <a:ext cx="219240" cy="6856560"/>
          </a:xfrm>
          <a:prstGeom prst="rect">
            <a:avLst/>
          </a:prstGeom>
          <a:ln w="0">
            <a:noFill/>
          </a:ln>
        </p:spPr>
      </p:pic>
      <p:pic>
        <p:nvPicPr>
          <p:cNvPr id="68" name="" descr=""/>
          <p:cNvPicPr/>
          <p:nvPr/>
        </p:nvPicPr>
        <p:blipFill>
          <a:blip r:embed="rId3"/>
          <a:stretch/>
        </p:blipFill>
        <p:spPr>
          <a:xfrm>
            <a:off x="7296120" y="5165640"/>
            <a:ext cx="1542960" cy="1463760"/>
          </a:xfrm>
          <a:prstGeom prst="rect">
            <a:avLst/>
          </a:prstGeom>
          <a:ln w="0">
            <a:noFill/>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76440" y="352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Plan A Strateg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0" y="0"/>
            <a:ext cx="219240" cy="68580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5f5f"/>
                </a:solidFill>
                <a:latin typeface="Verdana"/>
              </a:rPr>
              <a:t>PE-40.0</a:t>
            </a:r>
            <a:endParaRPr b="0" lang="en-US" sz="1000" spc="-1" strike="noStrike">
              <a:solidFill>
                <a:srgbClr val="000000"/>
              </a:solidFill>
              <a:latin typeface="Arial"/>
            </a:endParaRPr>
          </a:p>
        </p:txBody>
      </p:sp>
      <p:sp>
        <p:nvSpPr>
          <p:cNvPr id="73" name=""/>
          <p:cNvSpPr/>
          <p:nvPr/>
        </p:nvSpPr>
        <p:spPr>
          <a:xfrm>
            <a:off x="1295280" y="1582560"/>
            <a:ext cx="7010640" cy="4437000"/>
          </a:xfrm>
          <a:prstGeom prst="rect">
            <a:avLst/>
          </a:prstGeom>
          <a:noFill/>
          <a:ln w="0">
            <a:noFill/>
          </a:ln>
        </p:spPr>
        <p:style>
          <a:lnRef idx="0"/>
          <a:fillRef idx="0"/>
          <a:effectRef idx="0"/>
          <a:fontRef idx="minor"/>
        </p:style>
        <p:txBody>
          <a:bodyPr lIns="90000" rIns="90000" tIns="46800" bIns="46800" anchor="t">
            <a:spAutoFit/>
          </a:bodyPr>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roblems were reported in the story?</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you trying to find out?</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nformation do you have? … not have?</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hypothesize?  See our </a:t>
            </a:r>
            <a:r>
              <a:rPr b="0" lang="en-US" sz="2800" spc="-1" strike="noStrike" u="sng">
                <a:solidFill>
                  <a:srgbClr val="0000cc"/>
                </a:solidFill>
                <a:uFillTx/>
                <a:latin typeface="Times New Roman"/>
                <a:hlinkClick r:id="rId3"/>
              </a:rPr>
              <a:t>science appendix</a:t>
            </a:r>
            <a:r>
              <a:rPr b="0" lang="en-US" sz="2800" spc="-1" strike="noStrike">
                <a:solidFill>
                  <a:srgbClr val="000000"/>
                </a:solidFill>
                <a:latin typeface="Times New Roman"/>
              </a:rPr>
              <a:t> for help here.</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facts would test your hypothesis?</a:t>
            </a:r>
            <a:endParaRPr b="0" lang="en-US" sz="2800" spc="-1" strike="noStrike">
              <a:solidFill>
                <a:srgbClr val="000000"/>
              </a:solidFill>
              <a:latin typeface="Arial"/>
            </a:endParaRPr>
          </a:p>
          <a:p>
            <a:pPr lvl="2" marL="23652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hypothesis is true, what predictions would you make?  Do your predictions fit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380880" y="1909800"/>
            <a:ext cx="1371600" cy="1371600"/>
          </a:xfrm>
          <a:prstGeom prst="rect">
            <a:avLst/>
          </a:prstGeom>
          <a:ln w="0">
            <a:noFill/>
          </a:ln>
        </p:spPr>
      </p:pic>
      <p:pic>
        <p:nvPicPr>
          <p:cNvPr id="75" name="" descr=""/>
          <p:cNvPicPr/>
          <p:nvPr/>
        </p:nvPicPr>
        <p:blipFill>
          <a:blip r:embed="rId3"/>
          <a:stretch/>
        </p:blipFill>
        <p:spPr>
          <a:xfrm>
            <a:off x="380880" y="3433680"/>
            <a:ext cx="1371600" cy="1382760"/>
          </a:xfrm>
          <a:prstGeom prst="rect">
            <a:avLst/>
          </a:prstGeom>
          <a:ln w="0">
            <a:noFill/>
          </a:ln>
        </p:spPr>
      </p:pic>
      <p:pic>
        <p:nvPicPr>
          <p:cNvPr id="76" name="" descr=""/>
          <p:cNvPicPr/>
          <p:nvPr/>
        </p:nvPicPr>
        <p:blipFill>
          <a:blip r:embed="rId4"/>
          <a:stretch/>
        </p:blipFill>
        <p:spPr>
          <a:xfrm>
            <a:off x="380880" y="4957920"/>
            <a:ext cx="1359000" cy="1371600"/>
          </a:xfrm>
          <a:prstGeom prst="rect">
            <a:avLst/>
          </a:prstGeom>
          <a:ln w="0">
            <a:noFill/>
          </a:ln>
        </p:spPr>
      </p:pic>
      <p:sp>
        <p:nvSpPr>
          <p:cNvPr id="77"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78"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79" name="" descr=""/>
          <p:cNvPicPr/>
          <p:nvPr/>
        </p:nvPicPr>
        <p:blipFill>
          <a:blip r:embed="rId5"/>
          <a:stretch/>
        </p:blipFill>
        <p:spPr>
          <a:xfrm>
            <a:off x="4724280" y="3451320"/>
            <a:ext cx="1371600" cy="1382760"/>
          </a:xfrm>
          <a:prstGeom prst="rect">
            <a:avLst/>
          </a:prstGeom>
          <a:ln w="0">
            <a:noFill/>
          </a:ln>
        </p:spPr>
      </p:pic>
      <p:pic>
        <p:nvPicPr>
          <p:cNvPr id="80" name="" descr=""/>
          <p:cNvPicPr/>
          <p:nvPr/>
        </p:nvPicPr>
        <p:blipFill>
          <a:blip r:embed="rId6"/>
          <a:stretch/>
        </p:blipFill>
        <p:spPr>
          <a:xfrm>
            <a:off x="4724280" y="4970520"/>
            <a:ext cx="1371600" cy="1371600"/>
          </a:xfrm>
          <a:prstGeom prst="rect">
            <a:avLst/>
          </a:prstGeom>
          <a:ln w="0">
            <a:noFill/>
          </a:ln>
        </p:spPr>
      </p:pic>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2" name=""/>
          <p:cNvGrpSpPr/>
          <p:nvPr/>
        </p:nvGrpSpPr>
        <p:grpSpPr>
          <a:xfrm>
            <a:off x="4643280" y="1928880"/>
            <a:ext cx="1546560" cy="1371600"/>
            <a:chOff x="4643280" y="1928880"/>
            <a:chExt cx="1546560" cy="1371600"/>
          </a:xfrm>
        </p:grpSpPr>
        <p:sp>
          <p:nvSpPr>
            <p:cNvPr id="83"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4" name=""/>
            <p:cNvGraphicFramePr/>
            <p:nvPr/>
          </p:nvGraphicFramePr>
          <p:xfrm>
            <a:off x="4643280" y="2117880"/>
            <a:ext cx="1546560" cy="1012680"/>
          </p:xfrm>
          <a:graphic>
            <a:graphicData uri="http://schemas.openxmlformats.org/presentationml/2006/ole">
              <p:oleObj r:id="rId7" spid="">
                <p:embed/>
                <p:pic>
                  <p:nvPicPr>
                    <p:cNvPr id="85"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86"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9"/>
              </a:rPr>
              <a:t>http://</a:t>
            </a:r>
            <a:r>
              <a:rPr b="0" lang="en-US" sz="2000" spc="-1" strike="noStrike" u="sng">
                <a:solidFill>
                  <a:srgbClr val="0000cc"/>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5:16:51Z</dcterms:created>
  <dc:creator>WKlemm</dc:creator>
  <dc:description/>
  <dc:language>en-US</dc:language>
  <cp:lastModifiedBy>Vince Hardy</cp:lastModifiedBy>
  <dcterms:modified xsi:type="dcterms:W3CDTF">2008-05-07T19:25:36Z</dcterms:modified>
  <cp:revision>24</cp:revision>
  <dc:subject/>
  <dc:title>Slide 1</dc:title>
</cp:coreProperties>
</file>