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6D9-F575-4ED9-9FB2-1ED4E9BF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E54-E083-4EF1-A0C3-D857229A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5C72-B2C9-41AE-A68F-C3BF7D28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48E2-0D6F-4F4A-90C4-ADC39BF4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261-064A-4F9D-8A6F-61375784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E38-90CF-4E73-8F6B-E579167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7DF-3C26-44E4-A755-37A3CEA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FEF5-A8B0-445D-94CA-0CAA9857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C0E-BD3A-45DC-A17C-5240A97E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F25-2E3B-49D8-82D2-00FF51F9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CC2-1678-4BE8-A79D-6712417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F30C-BCB2-49B8-A22E-4CE48EE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0D2-3031-441F-974F-15F0FBA9C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0512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vere headache, stiff neck, dislike of bright lights, fever, vomiting, drowsiness, rash, less respons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8098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bsorption/ Skin Contac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isseria meningiti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combination with a compromised immu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7:06Z</dcterms:created>
  <dc:creator>Texas A&amp;M Veterinary Medicine</dc:creator>
  <dc:description/>
  <dc:language>en-US</dc:language>
  <cp:lastModifiedBy>Texas A&amp;M Veterinary Medicine</cp:lastModifiedBy>
  <dcterms:modified xsi:type="dcterms:W3CDTF">2007-09-03T13:27:10Z</dcterms:modified>
  <cp:revision>1</cp:revision>
  <dc:subject/>
  <dc:title>Meningitis</dc:title>
</cp:coreProperties>
</file>