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50CD-6232-4B7F-A2B5-3DF2E976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83AB-A967-4F6E-B7D3-78923740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28CD-38A7-4390-A220-AEF92B9D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5D53-6B74-4CD9-BC1E-3D3F5B82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267-06F6-4069-97A1-5EDA72E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D71-E008-4372-9B19-F854D2C4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EA56-E376-4FFE-B7A0-79E6E034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239-60DA-42FA-BC87-C610743F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6E3-A1D7-4DC5-990E-8FBE0428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DEA-6F3B-4B37-8116-3F29E9F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76D-1700-4632-9F61-832249B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87D-529B-4D03-8A8A-A24E09EF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544D-9665-4EF7-B142-BDC64F46E9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up thick, cloudy, and sometimes bloody mucus from the lungs, rapid heart beat, swelling of lymph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2274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or sneezing of infected person, unpasteurized milk or milk products obtained from infected ca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7:06Z</dcterms:modified>
  <cp:revision>47</cp:revision>
  <dc:subject/>
  <dc:title>Hazards</dc:title>
</cp:coreProperties>
</file>