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5.png" ContentType="image/png"/>
  <Override PartName="/ppt/media/image4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gif" ContentType="image/gif"/>
  <Override PartName="/ppt/media/image10.png" ContentType="image/png"/>
  <Override PartName="/ppt/media/image18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2E15-8DEE-4C97-BF07-EDCCA2B6C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B4E-8E2C-47F2-9173-22DBAFD0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07A6-3C94-415C-8EE7-5E27BFB0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6DF-A04B-417A-B4BC-2570D78D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FE4-2E91-44D2-B7CF-2F01D117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1E63-A14F-40E2-8192-9DA57A01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85BC-020B-4E28-846D-64C95320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8263-57FA-41A7-9C7A-A3728334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E2D0-CD90-4C47-AD31-5849B942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0435-2DEC-45D3-AE9C-6C77B547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7CAC-D5A4-43BC-B5A9-99EA61E9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5644-1556-42C9-8268-B726A25A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C7D-1F99-438B-9183-FBC3E796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AC5C-1CE5-41EA-8556-CEA493D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4DFD-AD34-4731-AB85-D50A8522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41EF-DE11-4923-83F6-69512537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50D5-07C7-42C4-B15A-6EC576D0E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7EA1-59DE-42E9-A6E8-843C5D75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BA2-05A3-4365-8422-28A8AB6F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CBF-F37E-4791-A050-549561ED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4C5-3D1D-4A32-B3B1-1814359B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C9C-FA6F-4134-9321-7DFAFBF3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201-469F-4BCB-8D62-E1017B73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809-E4C9-4276-9833-0A9ADB2B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F0E-D5A3-4234-A1FC-851B2B17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1F1C-7872-4B5B-9342-84DBD5940F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9C72-7B10-44C5-AF0C-1DA57C92A2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6992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35996" t="33926" r="35996" b="40648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35996" t="33926" r="35996" b="41927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35878" t="33289" r="36837" b="43205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29997" t="27525" r="30956" b="35368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12481" t="7680" r="11399" b="13766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