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C)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99CC-694C-45AF-95ED-4527107AC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2992-62CE-447D-85B3-9F74AA8EC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7E3B-7A12-4193-AC74-A391500D3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FB30-70CB-4648-990D-DEB20B8D5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69E5-3D6E-4171-BAFA-AF378898C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A291-0C5D-4778-B823-E4C6815A2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ECD1-4529-4516-844A-D4E67BD47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1C8D-53C8-4BFA-9348-ABF3C47DB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E6D2-6A79-4023-938A-B8A88C826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DDAB1-4D5C-45B1-AFE5-35EE947C6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B9FC-364B-42CB-AE31-235689107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E367-19BE-4832-99BE-2D310018E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98B8-0575-49AC-B1D8-9A122335D5E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5/100  = 0.25  = a quarte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What percentage of a dollar is a dim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en cents = 0.10 = 0.10 x 100 = 10%  of one dollar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475E-6BD1-4134-8B6B-1A1AAE6DF6E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Example: What coins would you use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to represent 17% of a dollar?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7/100 = 0.17 = 0.10 + 0.05 + 0.02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a dime, nickel, and 2 pennies!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e how you can always CA$H in on percentage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48520" y="914400"/>
            <a:ext cx="242244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137C8-61BB-431F-B1D3-9B322B1752D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41Z</dcterms:modified>
  <cp:revision>211</cp:revision>
  <dc:subject/>
  <dc:title>VTPP 423 - PHYSIOLOGY</dc:title>
</cp:coreProperties>
</file>