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B2581-E094-4286-B2FD-B610208DA665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112B-0A37-4872-A71C-674D87D56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B2C4-AC41-4A6C-99C7-2E742CC7A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220E-0BDF-4C82-8DB5-0AA43CCA6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E691-5E80-4770-A4BE-7EA148E99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FC25-9EE8-4E04-AB85-167CFC59A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2ECF-588F-4DAE-8663-BA480027F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634A-94C5-44DC-B263-5DA82C4F1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5881-7F1F-4D23-B087-D7ADDA772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D61E-45A8-49C1-AE1D-B1C2B36BB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823D-F1D3-421E-AC8C-E7EB6FCE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5FF8-BD09-441D-89CB-007B36B8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F14C-83F8-4C14-87CD-428937E5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313CB-8918-4BA3-A91F-9807408D91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itstudent</cp:lastModifiedBy>
  <dcterms:modified xsi:type="dcterms:W3CDTF">2002-08-06T19:36:00Z</dcterms:modified>
  <cp:revision>14</cp:revision>
  <dc:subject/>
  <dc:title>Informative Essay</dc:title>
</cp:coreProperties>
</file>