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EAEB-EF30-4546-90B5-15C2C06ED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E972-B2D7-4F9F-A2C4-C596A5828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1934-6241-414E-8F25-16A6F972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9FC4-1920-4F87-BBF1-E91F59F9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48F5-81AA-4F43-B2BA-01A89C07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9012-C895-41E6-B23B-D45CDEFD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5416-FA19-41CE-88F0-DC8FE460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AEA9-6F95-4039-A108-2E1B1803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3AB3-15CB-4A58-8711-C494A5B7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C210-2C28-49B6-A2A5-BE62775A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A0A1-D3D5-41AD-B453-2559F088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6631-F84F-45BC-B4C2-3C622744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9CC0-D313-45E3-BF40-A27C7BE0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F4EB-AEEA-4BA3-9FC4-8871B38C9A4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itstudent</cp:lastModifiedBy>
  <dcterms:modified xsi:type="dcterms:W3CDTF">2002-08-06T19:36:29Z</dcterms:modified>
  <cp:revision>23</cp:revision>
  <dc:subject/>
  <dc:title>To Sum It All Up…</dc:title>
</cp:coreProperties>
</file>