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0F91F-7330-43EA-914E-417624A283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952560" y="0"/>
            <a:ext cx="5010120" cy="375912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0" y="3860640"/>
            <a:ext cx="6858000" cy="5283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E7CD0-DC29-4DE0-BB24-397668754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E828E-E9A9-46D0-9139-AC2EC1654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550C5-1A65-4F8C-9A76-13D087F8F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B2D22-515C-4455-BC29-D3E49DADA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BC3E6-A7FA-4DE1-BA2B-251B249D0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F533C-978D-4E73-91C3-773236F7C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DDD72-C892-48DF-9010-709DFAEA7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BF803-E3AE-453D-A5B6-2AC243F01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9938B-0431-4A8F-8A40-45CA6D123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DDF78-CA46-4426-A6AC-6B8066914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5D9AD-C955-4633-A2FB-3152ED9D8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D3D4C-111B-4FB8-8D46-3F7C44855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81B2E-7CB8-439B-AFE9-5DE43E5FC3F8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304920"/>
            <a:ext cx="77709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7240" y="1904760"/>
            <a:ext cx="7770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Climate is the average condition of the atmosphere (like temperature and precipitation) over a long period of time.  It is the average of weather conditions in a plac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or example, over the past 40 years, in February, New Jersey has had an average temperature of 32 º F and an average precipitation of 2.8 inches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5T19:49:56Z</dcterms:created>
  <dc:creator>ITMD</dc:creator>
  <dc:description/>
  <dc:language>en-US</dc:language>
  <cp:lastModifiedBy>ljlab</cp:lastModifiedBy>
  <dcterms:modified xsi:type="dcterms:W3CDTF">2003-09-11T17:22:49Z</dcterms:modified>
  <cp:revision>9</cp:revision>
  <dc:subject/>
  <dc:title>What’s the difference between weather and climate?</dc:title>
</cp:coreProperties>
</file>