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5085-1B59-491D-ABB5-9E7DA7868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FCF2-F528-46EF-A8DD-326366BDC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2FF7-125C-4689-9D63-6991E0AC5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03A6-33B4-4B14-BF57-ACE4CA536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D79A-26FE-4B34-A23F-A16D8A0F1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EBE7-20EF-4887-80BF-C547176DA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E595-D663-4C7A-9C7C-FF26A71B8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F4A0-7A0A-47BB-A4BF-85C676EC6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6B1B-E426-4462-A888-3970BD6E3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5319-4DC7-4E98-B27B-BDE09C1C4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1EB0-F4A7-4E5A-945B-556614D27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77AF-7955-4913-B415-6AE35D4A0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3D06C-48F0-4E4B-80F8-CCBF9B8059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ningi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0512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evere headache, stiff neck, dislike of bright lights, fever, vomiting, drowsiness, rash, less respons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8098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bsorption/ Skin Contac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eisseria meningitid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in combination with a compromised immun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7:06Z</dcterms:created>
  <dc:creator>Texas A&amp;M Veterinary Medicine</dc:creator>
  <dc:description/>
  <dc:language>en-US</dc:language>
  <cp:lastModifiedBy>Texas A&amp;M Veterinary Medicine</cp:lastModifiedBy>
  <dcterms:modified xsi:type="dcterms:W3CDTF">2007-09-03T13:27:10Z</dcterms:modified>
  <cp:revision>1</cp:revision>
  <dc:subject/>
  <dc:title>Meningitis</dc:title>
</cp:coreProperties>
</file>