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8EDB-94D2-4857-8A6F-BC4A4E0EE78C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00E3-E1AC-4354-9CEA-30DE61D53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04C5-CB66-4C6B-91B8-C0284123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7D7B-45BF-4873-A96C-820C8DBB0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65DB-DA72-436B-B12B-550A477E5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3F07-0903-400A-8F5B-AD121FA9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A1F2-4A91-4EAC-99DC-A4684067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A035-2154-4A82-88A8-C3865AB2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24F2-39A2-4440-9E83-C396D07E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0917-EE9A-4275-8DCF-71A75404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D4B6-3705-45BD-9640-B265FBE4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D2F2-C1E2-49D4-9CB2-1858C168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40BF-5EC9-4E3E-80BE-2A7B4F21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BCA7-BF0C-444E-82A5-3A2988981BB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Mailbox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Letters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itstudent</cp:lastModifiedBy>
  <dcterms:modified xsi:type="dcterms:W3CDTF">2002-08-06T19:35:34Z</dcterms:modified>
  <cp:revision>15</cp:revision>
  <dc:subject/>
  <dc:title>Writing a Business Letter</dc:title>
</cp:coreProperties>
</file>