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425D8-C842-4D89-8176-70F4808942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explain to the class what “audience” is or ask them to tell you. Who are some different audiences? How will the interview or conversation differ with different audien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ffective volume, rate, tone, and pi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o the class what “yes” and “no” questions are. Ask them how to ask open-ended questions that require time and thought. You may want to have them think of a few questions to start.  Examples: What do you think about……. or, If you had this to do over again…  Show the class how to ask questions that will make the interview interes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EE57-B923-4BE5-BB19-3E293DE28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223B-1BE1-4843-937C-DCD2A14E6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E9B3-4035-40BC-9CEE-8DDD01D75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DA14-FFD9-4B1C-886D-36447C5A4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B340-9663-4441-B5F9-8E485EB51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D707-FBD1-41EE-AD24-B1EF5F1A2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80A2-107B-49E4-A982-A9DE41C8B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9A97-89A5-4233-B651-72C0D45D2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D177-5DCB-4170-B085-70A633FED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2C30-3E4E-40CD-B7B2-DDD189FC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0CC6-467B-4C08-BB08-71178920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7E07-F37C-4389-A45F-F901260F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60478-5617-4486-95A3-E0AAFE815FE9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s An Interview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952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is an encounter between a person collecting information (the interviewer) and a person from whom information is needed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allows you to collect specific information as you research a top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get the most from the interview, be prepared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Intrview" descr=""/>
          <p:cNvPicPr/>
          <p:nvPr/>
        </p:nvPicPr>
        <p:blipFill>
          <a:blip r:embed="rId2"/>
          <a:stretch/>
        </p:blipFill>
        <p:spPr>
          <a:xfrm>
            <a:off x="5867280" y="2057400"/>
            <a:ext cx="269712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Before You Go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now your audience so you can dress and speak appropriately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swer some pre-interview question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 will you interview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does this person like or dislik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 will you speak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are your expectation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09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lan Your Interview Using the 5W’s and 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46168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at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en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re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y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How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Intrview2" descr=""/>
          <p:cNvPicPr/>
          <p:nvPr/>
        </p:nvPicPr>
        <p:blipFill>
          <a:blip r:embed="rId2"/>
          <a:stretch/>
        </p:blipFill>
        <p:spPr>
          <a:xfrm>
            <a:off x="4724280" y="2233440"/>
            <a:ext cx="3864240" cy="3864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 Closed Questions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8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osed questions” are questions that can be answered with one word – usually “yes” or ”no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eave your “yes” and “no” questions at home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g deep and ask “opinion questions” to give detail to your report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’re Ready to Go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81200" y="171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w that you are on your way, don’t forget…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n, pencil, notepa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written list of prepared questi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nners, courteous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cebreakers (conversation starters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28:21Z</dcterms:created>
  <dc:creator>Gina Balducci</dc:creator>
  <dc:description/>
  <dc:language>en-US</dc:language>
  <cp:lastModifiedBy>vhardy</cp:lastModifiedBy>
  <dcterms:modified xsi:type="dcterms:W3CDTF">2002-12-19T22:49:20Z</dcterms:modified>
  <cp:revision>23</cp:revision>
  <dc:subject/>
  <dc:title>What Do I Say?</dc:title>
</cp:coreProperties>
</file>