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BEFEF-D856-45AD-844E-8011432A56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re may be many words in the story that are unfamiliar to your students. Ask students to find each word that is new to them, define the word, find a synonym and antonym for each word, then use each word in a sentence outside the context of the sto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6.6C: The student is expected to: locate the meanings, pronunciations, and derivations of unfamiliar words using dictionaries, glossaries, and other sources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06CB-0C19-40C6-ABF5-E7A8A3D49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F583-E9D0-475A-9229-332B9129A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F7EB-BBE5-4577-AB37-77170E825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4F7C-4447-403E-A4CC-41AF58682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6947-2501-4FFE-9888-075C381EF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E227-7458-464C-8811-542A40F95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319A-21FF-46AD-98BB-ED383DA2D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7052-AA81-42E9-B87E-3C4C544BD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E2A8-FB4B-43F2-BF90-1CF3BE738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7B83-FE12-4B5E-8804-0C8D8972C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DB0B-8262-4161-9691-7DD44CE6C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EA5D-0CC8-42FC-B635-679200E8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A1F38-3174-43A6-8792-280D06587D82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lossary of Term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Comprehensive</a:t>
            </a:r>
            <a:r>
              <a:rPr b="1" lang="en-US" sz="29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Very large in content, all inclusive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Assassi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A murderer of a prominent person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Specimen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An item representative of an entire set or whole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Curator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One in charge of a selection, as at a museum or library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Irrelevant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Unrelated to the matter at hand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Foreboding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to have a premonition or feeling of a future misfortune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6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301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lossary of Terms (cont.)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2320" y="12193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Monstrosity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Something that is unusually large or that gives a feeling of disgus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Implement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To put into effec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Relics</a:t>
            </a:r>
            <a:r>
              <a:rPr b="1" lang="en-US" sz="29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Something that has survived from an extinct culture or from a specific time period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Malnourished</a:t>
            </a:r>
            <a:r>
              <a:rPr b="1" lang="en-US" sz="29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Affected by improper or poor nutrition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6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1T19:07:46Z</dcterms:created>
  <dc:creator>Instructional Technology</dc:creator>
  <dc:description/>
  <dc:language>en-US</dc:language>
  <cp:lastModifiedBy>Ljlab</cp:lastModifiedBy>
  <dcterms:modified xsi:type="dcterms:W3CDTF">2005-05-25T16:30:06Z</dcterms:modified>
  <cp:revision>20</cp:revision>
  <dc:subject/>
  <dc:title>PowerPoint Presentation</dc:title>
</cp:coreProperties>
</file>