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6B0F-7B16-4318-A5C2-008493236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A649-B4A1-467B-BD97-B7D346F7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5520-18BD-4B11-81A5-3CF985177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C661-2F8F-4AD5-87E7-1CD7F1D1C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4729-D802-45DE-B544-EECF1239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8898-377E-4632-9AD6-971193C3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B4F0-3CC8-4C64-A19C-D0A80D0A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9334-7802-49ED-A710-42CEE272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23B5-22D3-4E9D-9C71-0B46DFA4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C520-5128-4B94-94D1-FD6132B2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B86C-220D-4E01-B5CF-6E28B72E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B8FB-2E86-4A54-B54E-4C9935DA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88A9-8FA5-4C1A-8EF2-B8326E04AF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8-30T16:20:49Z</dcterms:modified>
  <cp:revision>45</cp:revision>
  <dc:subject/>
  <dc:title>Hazards</dc:title>
</cp:coreProperties>
</file>