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035E-7BAC-45BD-AB4E-16A0B11C5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DECB-CAB1-47C4-B745-A97345E2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1E90-AF74-4E3B-B064-BB9E4C282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6C1A-7944-4C5C-9717-86FF09838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3B20-3DB9-4FEC-BE7D-240D4823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047B-434F-4EEF-9809-F36FAAC8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8116-02B8-4BB0-8E2B-DB32A494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A502-BC61-490B-B164-94A5A229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5C9E-BB2B-4008-ACA6-D115E564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6186-7216-44CA-AD40-32696ACD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D34E-6F57-4024-B370-B78D8D6D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EBFA-C897-4039-828F-EF8CA794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5E94-936E-48EF-99AE-BDBD9E4BC2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17Z</dcterms:modified>
  <cp:revision>52</cp:revision>
  <dc:subject/>
  <dc:title>Hazards</dc:title>
</cp:coreProperties>
</file>