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980238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80400" cy="92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243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55680" y="-360"/>
            <a:ext cx="30243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2280"/>
            <a:ext cx="4618080" cy="346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773920"/>
            <a:ext cx="30243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55680" y="8773920"/>
            <a:ext cx="30243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6BE9E4DF-55B3-428C-8600-957A734A11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A, C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Compare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 Integers in Real-lif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4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resent Proportions/Conversions using Tables and Symbo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1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Appropriate Problem-Solving Mode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3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Conjectures from Patterns or Sets of Examples/Non-exampl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A), 7.4 (C), 7.11 (B), 7.15 (A), 8.1 (A), 8.3 (A), 8.5 (A), 8.16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h –6.1 (A, C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Compare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 Integers in Real-lif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4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resent Proportions/Conversions using Tables and Symbo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1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Appropriate Problem-Solving Mode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A), 7.4 (C), 7.11 (B), 7.15 (A), 8.1 (A), 8.3 (A), 8.5 (A), 8.16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67B7C-B133-4C26-B630-4701DCA6F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DAAE1-7A86-43BE-A484-58752220C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EBA59-0155-4DB2-8BF7-9C7877921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9065A-ABA2-476F-8E4D-ADD877C5F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1FCED-D80A-4DBB-B7B9-84FF82944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B7BAF-A58B-4ED0-B71F-AEA187CEC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582E6-E1BF-4A40-AC2E-D5E6F05E1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07CEC-8205-4501-A8F6-526A2A601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3C272-40AD-4FED-A801-74A94E935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BC9B7-678E-4EF6-95B1-05C0AC926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780F5-835C-4392-A3F4-513B0C383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3F89A-B61C-4163-9616-0D1B5972A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0F47A-F8EB-4F32-96BC-B24E92E2DCBD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Climograph.doc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mograph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A climograph is a graph that displays average (mean) precipitation and temperature for an area.  It is used to compare the climate in different places.  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WeatherMan" descr=""/>
          <p:cNvPicPr/>
          <p:nvPr/>
        </p:nvPicPr>
        <p:blipFill>
          <a:blip r:embed="rId2"/>
          <a:stretch/>
        </p:blipFill>
        <p:spPr>
          <a:xfrm>
            <a:off x="4038480" y="3962520"/>
            <a:ext cx="2354400" cy="234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457200" y="838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reparing Your Own Climograp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371600" y="2438280"/>
            <a:ext cx="6629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lick 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ere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to print a blank climograph and use it to make your own climograph.  Refer back to this appendix if you need directions to make your own climograp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recipitation Pattern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f you go to www.worldclimate.com, you can find average monthly precipitation for many places in a chart like this one for Orlando, Florida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trick to reading charts and graphs is finding a patter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at patterns do you see in the average precipitation data for Orlando, Florida?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s there more precipitation in the summer months or the winter months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623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380880" y="2438280"/>
            <a:ext cx="8229600" cy="1128600"/>
            <a:chOff x="380880" y="2438280"/>
            <a:chExt cx="8229600" cy="1128600"/>
          </a:xfrm>
        </p:grpSpPr>
        <p:sp>
          <p:nvSpPr>
            <p:cNvPr id="54" name=""/>
            <p:cNvSpPr/>
            <p:nvPr/>
          </p:nvSpPr>
          <p:spPr>
            <a:xfrm>
              <a:off x="7924680" y="3200400"/>
              <a:ext cx="68580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49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391160" y="3200400"/>
              <a:ext cx="5335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848280" y="3200400"/>
              <a:ext cx="54288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257520" y="3200400"/>
              <a:ext cx="5907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3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671800" y="320040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082840" y="3200400"/>
              <a:ext cx="5889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495680" y="3200400"/>
              <a:ext cx="5871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908160" y="3200400"/>
              <a:ext cx="5875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319200" y="3200400"/>
              <a:ext cx="5889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3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733480" y="320040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142720" y="3200400"/>
              <a:ext cx="5907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3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557000" y="320040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990360" y="3200400"/>
              <a:ext cx="56664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80880" y="3200400"/>
              <a:ext cx="60948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249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inch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924680" y="2819160"/>
              <a:ext cx="68580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247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391160" y="2819160"/>
              <a:ext cx="5335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53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848280" y="2819160"/>
              <a:ext cx="54288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52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257520" y="2819160"/>
              <a:ext cx="5907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9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671800" y="281916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6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082840" y="2819160"/>
              <a:ext cx="5889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8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495680" y="2819160"/>
              <a:ext cx="5871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97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908160" y="2819160"/>
              <a:ext cx="5875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2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319200" y="2819160"/>
              <a:ext cx="5889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3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733480" y="281916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0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142720" y="2819160"/>
              <a:ext cx="5907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6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557000" y="281916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2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990360" y="2819160"/>
              <a:ext cx="56664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54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80880" y="2819160"/>
              <a:ext cx="60948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924680" y="2438280"/>
              <a:ext cx="68580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Ye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391160" y="2438280"/>
              <a:ext cx="5335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Dec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848280" y="2438280"/>
              <a:ext cx="54288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Nov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257520" y="2438280"/>
              <a:ext cx="5907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Oct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671800" y="243828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Se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082840" y="2438280"/>
              <a:ext cx="5889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Aug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495680" y="2438280"/>
              <a:ext cx="5871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Jul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908160" y="2438280"/>
              <a:ext cx="5875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Jun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19200" y="2438280"/>
              <a:ext cx="5889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a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733480" y="243828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Apr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142720" y="2438280"/>
              <a:ext cx="5907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ar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557000" y="243828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Feb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990360" y="2438280"/>
              <a:ext cx="56664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ebebeb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ebebeb"/>
                  </a:solidFill>
                  <a:latin typeface="Times New Roman"/>
                </a:rPr>
                <a:t>Jan.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80880" y="2438280"/>
              <a:ext cx="60948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0880" y="2438280"/>
              <a:ext cx="8229600" cy="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80880" y="2819160"/>
              <a:ext cx="8229600" cy="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80880" y="3200400"/>
              <a:ext cx="8229600" cy="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0880" y="3566880"/>
              <a:ext cx="8229600" cy="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880" y="2438280"/>
              <a:ext cx="0" cy="112860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99036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55700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14272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73348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31920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90816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49568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08284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67180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25752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84828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39116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92468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610480" y="2438280"/>
              <a:ext cx="0" cy="112860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ompare Pattern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People construct climographs to compare climates in different places.  Climographs convert lots of numerical data to a simple display of bars and lines.  Because they are so simple, climographs make it easy to see patterns in climate and to compare the climates in different place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raphing Average Precipitation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25909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abel the y-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xis (vertical)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ith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verag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ecipitation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evels in inches.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is exampl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uses intervals of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5 inches between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marking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2971800" y="4876560"/>
            <a:ext cx="51055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abel the x-axis (horizontal) with the months (Jan.-Dec.) and include a space for the yearly average precipitation at the end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20" name="Precip" descr=""/>
          <p:cNvPicPr/>
          <p:nvPr/>
        </p:nvPicPr>
        <p:blipFill>
          <a:blip r:embed="rId2"/>
          <a:stretch/>
        </p:blipFill>
        <p:spPr>
          <a:xfrm>
            <a:off x="3352680" y="1523880"/>
            <a:ext cx="4857840" cy="269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2960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raphing Average Precipitation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2666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For our example, the January average precipitation was 2.1 inches, so we drew a bar over  January reaching the 2.1 level on the y-axis of the graph.  Graph the precipitation data for the remaining months in the same way.</a:t>
            </a: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Remember to always label your x and y axis when drawing a graph and add a title for  the whole graph.</a:t>
            </a: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90760" y="4876920"/>
            <a:ext cx="38098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Next, plot the average precipitation for January by drawing a bar over January </a:t>
            </a:r>
            <a:br>
              <a:rPr sz="1800"/>
            </a:b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reaching up to the amount of precipitation listed for that month.</a:t>
            </a:r>
            <a:br>
              <a:rPr sz="1800"/>
            </a:b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24" name="Prec" descr=""/>
          <p:cNvPicPr/>
          <p:nvPr/>
        </p:nvPicPr>
        <p:blipFill>
          <a:blip r:embed="rId2"/>
          <a:stretch/>
        </p:blipFill>
        <p:spPr>
          <a:xfrm>
            <a:off x="3600360" y="1714680"/>
            <a:ext cx="4857840" cy="270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Temperature Pattern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838080"/>
            <a:ext cx="7772400" cy="56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ww.worldclimate.com can also give you a chart on average temperature for many places.  Here are the average monthly temperatures for Orlando, Florida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member, the key to reading graphs is looking for a pattern!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at patterns do you see in the average temperature data for Orlando, Florida?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s it hotter in the summer or in the winter months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457200" y="2514600"/>
            <a:ext cx="8229600" cy="1128600"/>
            <a:chOff x="457200" y="2514600"/>
            <a:chExt cx="8229600" cy="1128600"/>
          </a:xfrm>
        </p:grpSpPr>
        <p:sp>
          <p:nvSpPr>
            <p:cNvPr id="128" name=""/>
            <p:cNvSpPr/>
            <p:nvPr/>
          </p:nvSpPr>
          <p:spPr>
            <a:xfrm>
              <a:off x="8001000" y="3276720"/>
              <a:ext cx="68580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2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467480" y="3276720"/>
              <a:ext cx="5335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1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924600" y="3276720"/>
              <a:ext cx="54288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7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333840" y="3276720"/>
              <a:ext cx="5907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4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748120" y="327672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1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159160" y="3276720"/>
              <a:ext cx="5889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2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572000" y="3276720"/>
              <a:ext cx="5871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2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84480" y="3276720"/>
              <a:ext cx="5875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1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395520" y="3276720"/>
              <a:ext cx="5889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7.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809800" y="327672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1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219040" y="3276720"/>
              <a:ext cx="5907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6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633320" y="327672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1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066680" y="3276720"/>
              <a:ext cx="56664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59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57200" y="3276720"/>
              <a:ext cx="60948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°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8001000" y="2895480"/>
              <a:ext cx="68580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2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467480" y="2895480"/>
              <a:ext cx="5335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6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924600" y="2895480"/>
              <a:ext cx="54288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9.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333840" y="2895480"/>
              <a:ext cx="5907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3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748120" y="289548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7.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159160" y="2895480"/>
              <a:ext cx="5889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8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572000" y="2895480"/>
              <a:ext cx="5871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8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984480" y="2895480"/>
              <a:ext cx="5875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7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395520" y="2895480"/>
              <a:ext cx="5889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5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809800" y="289548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1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219040" y="2895480"/>
              <a:ext cx="5907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9.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633320" y="289548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6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066680" y="2895480"/>
              <a:ext cx="56664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5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57200" y="2895480"/>
              <a:ext cx="60948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°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001000" y="2514600"/>
              <a:ext cx="68580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Ye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467480" y="2514600"/>
              <a:ext cx="5335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Dec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924600" y="2514600"/>
              <a:ext cx="54288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Nov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333840" y="2514600"/>
              <a:ext cx="5907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Oct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748120" y="251460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Se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159160" y="2514600"/>
              <a:ext cx="5889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Aug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572000" y="2514600"/>
              <a:ext cx="5871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Jul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984480" y="2514600"/>
              <a:ext cx="5875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Jun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395520" y="2514600"/>
              <a:ext cx="5889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a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809800" y="251460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Apr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219040" y="2514600"/>
              <a:ext cx="5907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ar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633320" y="251460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Feb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066680" y="2514600"/>
              <a:ext cx="56664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Jan.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57200" y="2514600"/>
              <a:ext cx="60948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57200" y="2514600"/>
              <a:ext cx="8229600" cy="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7200" y="2895480"/>
              <a:ext cx="8229600" cy="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57200" y="3276720"/>
              <a:ext cx="8229600" cy="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57200" y="3643200"/>
              <a:ext cx="8229600" cy="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57200" y="2514600"/>
              <a:ext cx="0" cy="112860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06668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63332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21904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80980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39552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8448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57200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15916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74812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33384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92460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46748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800100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686800" y="2514600"/>
              <a:ext cx="0" cy="112860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raphing Average Temperatur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895480" y="4952520"/>
            <a:ext cx="55627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abel the x-axis (horizontal) with the months (Jan.-Dec.) and include a space for the yearly average temperature at the end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1447560"/>
            <a:ext cx="22860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abel the y-axis (vertical) with the average temperature levels in degrees Fahrenheit.  This example uses intervals of 20 degrees between marking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92" name="Temp" descr=""/>
          <p:cNvPicPr/>
          <p:nvPr/>
        </p:nvPicPr>
        <p:blipFill>
          <a:blip r:embed="rId2"/>
          <a:stretch/>
        </p:blipFill>
        <p:spPr>
          <a:xfrm>
            <a:off x="3276720" y="1752480"/>
            <a:ext cx="4857480" cy="2705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bebeb"/>
                </a:solidFill>
                <a:latin typeface="Times New Roman"/>
              </a:rPr>
              <a:t>Graphing Average Temperatur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880" y="1152360"/>
            <a:ext cx="3353040" cy="547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lnSpc>
                <a:spcPct val="90000"/>
              </a:lnSpc>
              <a:spcBef>
                <a:spcPts val="125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Next, plot the average temperature for January by placing a dot over January at the average temperature for that month.  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82600" indent="-282600">
              <a:lnSpc>
                <a:spcPct val="90000"/>
              </a:lnSpc>
              <a:spcBef>
                <a:spcPts val="125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For our example, the January average temper-ature was 59.9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F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, so we placed a dot over January at the 59.9 level on the y-axis of the graph.  Graphing the remaining temperature data in the same way for each month and for the year.  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82600" indent="-282600">
              <a:lnSpc>
                <a:spcPct val="90000"/>
              </a:lnSpc>
              <a:spcBef>
                <a:spcPts val="125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Remember to always label your x and y axis when drawing a graph and add a title for  the whole graph.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82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14800" y="1981080"/>
            <a:ext cx="4495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Finally, connect the dots!  Draw a line from the dot for January and continue through the dot for December.  </a:t>
            </a:r>
            <a:r>
              <a:rPr b="0" lang="en-US" sz="2000" spc="-1" strike="noStrike" u="sng">
                <a:solidFill>
                  <a:srgbClr val="ebebeb"/>
                </a:solidFill>
                <a:uFillTx/>
                <a:latin typeface="Times New Roman"/>
              </a:rPr>
              <a:t>Do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ebebeb"/>
                </a:solidFill>
                <a:uFillTx/>
                <a:latin typeface="Times New Roman"/>
              </a:rPr>
              <a:t>not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connect the dot for the yearly average.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96" name="Temp" descr=""/>
          <p:cNvPicPr/>
          <p:nvPr/>
        </p:nvPicPr>
        <p:blipFill>
          <a:blip r:embed="rId2"/>
          <a:stretch/>
        </p:blipFill>
        <p:spPr>
          <a:xfrm>
            <a:off x="3828960" y="1371600"/>
            <a:ext cx="4857840" cy="270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480" y="137160"/>
            <a:ext cx="7772400" cy="71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mograph</a:t>
            </a:r>
            <a:br>
              <a:rPr sz="4400"/>
            </a:br>
            <a:br>
              <a:rPr sz="800"/>
            </a:br>
            <a:br>
              <a:rPr sz="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climograph includes both the average precipitation and the average temperature data.  When you combine the two previous graphs, your climograph should look like this one</a:t>
            </a:r>
            <a:br>
              <a:rPr sz="2400"/>
            </a:br>
            <a:br>
              <a:rPr sz="12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800"/>
            </a:br>
            <a:br>
              <a:rPr sz="20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2000"/>
            </a:br>
            <a:br>
              <a:rPr sz="20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Be sure to include a title for your graph and a key showing the symbols that represent the average precipitation and the average temperature.</a:t>
            </a:r>
            <a:br>
              <a:rPr sz="2400"/>
            </a:br>
            <a:br>
              <a:rPr sz="2000"/>
            </a:b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98" name="Clim" descr=""/>
          <p:cNvPicPr/>
          <p:nvPr/>
        </p:nvPicPr>
        <p:blipFill>
          <a:blip r:embed="rId2"/>
          <a:stretch/>
        </p:blipFill>
        <p:spPr>
          <a:xfrm>
            <a:off x="1981080" y="2590920"/>
            <a:ext cx="4857840" cy="26953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5T15:38:51Z</dcterms:created>
  <dc:creator>Charles C. Farnsworth, Ph.D. - Instructional Design</dc:creator>
  <dc:description/>
  <dc:language>en-US</dc:language>
  <cp:lastModifiedBy>ljlab</cp:lastModifiedBy>
  <cp:lastPrinted>2002-05-15T14:22:53Z</cp:lastPrinted>
  <dcterms:modified xsi:type="dcterms:W3CDTF">2003-09-11T17:22:57Z</dcterms:modified>
  <cp:revision>69</cp:revision>
  <dc:subject/>
  <dc:title>Climograph</dc:title>
</cp:coreProperties>
</file>