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E4E5-4FF7-4690-933D-88A9FF99C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13F9-C0AF-46BF-8709-9DEC2F712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4B09-695A-4F5E-9DD9-782A70B4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2C7F-F185-4185-AD00-D3A8D94BE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FDF2-04F2-44FD-9B32-E5E29B9ED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303B-8035-4632-96E5-2E20360C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3780-94B2-45E9-BFC1-1364C1E6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1AB8-F796-465C-A264-E22232A4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AD78-35A2-46F2-9076-A70FEF48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A429-7E8D-455A-B05B-C14AD06A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A256-A838-4055-9136-1D2E206D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E59A-831A-4613-A932-B24ABB7A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2C5A-4F0A-4D80-B4B2-93B0D343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3821-3A34-4EE6-8322-F2F473BCA14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1-16T18:50:08Z</dcterms:modified>
  <cp:revision>28</cp:revision>
  <dc:subject/>
  <dc:title>Descriptive Writing</dc:title>
</cp:coreProperties>
</file>