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65512-C3B3-4D19-935C-52E3B57CAD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C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Writing to express, discover, record, develop, reflect on ideas and problem so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 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 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k students to provide some good adjectives that appeal to all five senses. You may want to show a few of these words first to help get them started. What do they hear? What do they smell? Give them the liberty to make up a story as they describe the pi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AC4D-DD94-4D4C-B3C6-B099117E7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CAD7-3584-4842-AD5C-A579308ED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4B70-7D47-402B-880D-960DEFD9D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D837-960D-4680-AEA8-DEE66122D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1A7F-8D79-4C36-90B1-D7ACF579C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A9FD-D35B-43F4-A301-221B0BF3C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5903-BAC9-46AB-B667-8A807F668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3A1C-A04C-4701-9712-33A4A51A2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768C-F626-4604-A3FF-AB54D6C7C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72A2-8422-470E-B985-2E78ABD9B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AFC2-A45A-49EE-A705-11CB2F174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AF72-D265-46DA-B9B5-A6868437E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07ECD-6382-47D7-9C2F-8B2B770E15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liff-in-Clouds1" descr=""/>
          <p:cNvPicPr/>
          <p:nvPr/>
        </p:nvPicPr>
        <p:blipFill>
          <a:blip r:embed="rId2"/>
          <a:stretch/>
        </p:blipFill>
        <p:spPr>
          <a:xfrm>
            <a:off x="206280" y="104760"/>
            <a:ext cx="8793360" cy="6642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nsory Detail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1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nsory details are details that appeal to any of the five sens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od sensory details and words in a descriptive essay actually take a person to a place where they can see, hear, smell, and even feel the descrip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mokey-Light1" descr=""/>
          <p:cNvPicPr/>
          <p:nvPr/>
        </p:nvPicPr>
        <p:blipFill>
          <a:blip r:embed="rId2"/>
          <a:stretch/>
        </p:blipFill>
        <p:spPr>
          <a:xfrm>
            <a:off x="206280" y="100080"/>
            <a:ext cx="8785440" cy="66466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Describe This Pi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1752480"/>
            <a:ext cx="266724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257800" y="1752480"/>
            <a:ext cx="266688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3760" y="1752480"/>
            <a:ext cx="2514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l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e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lori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wak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Ear pier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Warm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urr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837720" y="1752120"/>
            <a:ext cx="2590920" cy="41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Da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en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agr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ri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li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rilli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weet aro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20:08:20Z</dcterms:created>
  <dc:creator>ITMD</dc:creator>
  <dc:description/>
  <dc:language>en-US</dc:language>
  <cp:lastModifiedBy>ljlab</cp:lastModifiedBy>
  <cp:lastPrinted>2002-01-04T15:57:18Z</cp:lastPrinted>
  <dcterms:modified xsi:type="dcterms:W3CDTF">2003-01-16T18:37:15Z</dcterms:modified>
  <cp:revision>28</cp:revision>
  <dc:subject/>
  <dc:title>Sensory Details </dc:title>
</cp:coreProperties>
</file>