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EEBD-15B3-48CF-A918-77D7F3860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AF3C-27AB-4308-8F4C-B4DAA53E2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222E-ABFD-4711-A6B4-3FA982539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9293-ADCE-4C42-A818-4C4929D7E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6CF9-7F36-4538-A3DE-D20D7A155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D624-E508-40E2-8B57-76A570B61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4A77-E56C-4FD5-8E95-C3C4A2902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9CF0-E966-42A6-9FBE-96456D616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BD0F-B7E1-40E0-854C-C36086CE0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4C3B-A4A9-4699-AA65-A8F29ED05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5B87-AA6E-42E7-994D-CF98FF7AD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8749-7F32-4AB1-A1DF-15699ECE3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12DF1-2985-4AFF-A1A4-830A1BDDF4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liomyeli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0512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fever, malaise, headache, nausea and vomiting, excruciating muscle pain and stiffness in the neck and 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8098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gestion or inhal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Poliovirus. Usually spread through contaminated f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7:47Z</dcterms:created>
  <dc:creator>Texas A&amp;M Veterinary Medicine</dc:creator>
  <dc:description/>
  <dc:language>en-US</dc:language>
  <cp:lastModifiedBy>Texas A&amp;M Veterinary Medicine</cp:lastModifiedBy>
  <dcterms:modified xsi:type="dcterms:W3CDTF">2007-09-03T13:27:50Z</dcterms:modified>
  <cp:revision>1</cp:revision>
  <dc:subject/>
  <dc:title>Poliomyelitis</dc:title>
</cp:coreProperties>
</file>