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B825-5B00-4571-8124-D502C1E33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BBBE-5E07-40F4-95D8-C0C0DB06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771B-1179-4E78-8C08-E03E0CCD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8201-CB7A-4CDE-9C9B-AFAFB41D9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19EB-39A4-4C24-8272-ED01C0D3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E390-37DE-4610-9D6A-E69016CB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21F1-B49A-4C5D-9F89-207B5C5C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05F7-C697-4C5C-B9B1-D85913FB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7E79-1B7C-4E2E-97A7-BF1ED05A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BE91-7E81-4F8D-A026-0EB1C66C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F788-E2E9-4016-AB53-7C78DA8E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8DBB-05E5-4268-84EE-1ACBA648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C3C1-3369-471D-8CF7-DCD1A96C12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, contaminat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3T14:46:38Z</dcterms:modified>
  <cp:revision>52</cp:revision>
  <dc:subject/>
  <dc:title>Hazards</dc:title>
</cp:coreProperties>
</file>