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5998-D00D-43AC-BC16-E1C5EEC1B6A8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5517-BE8B-4475-938D-2E907CA1B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B051-5101-443E-9C1C-21FCA069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757E-ED03-4455-AA8D-121854892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BF17-87E0-4D6F-B6F0-2FAB58E1F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5DF7-532C-4645-BC01-D7629208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A02A-8293-4C39-AB69-A238643A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325C-2CCA-49BD-9CB5-E0380CDC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0031-C3BE-4143-8745-5956EC5C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36A5-D0BE-4B30-89ED-EF4842B0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C1F4-2EFF-4A73-AF0D-563AB59F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B0B7-B651-4C92-ADB6-46F04A40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FD04-A271-49D2-B2A2-70A07F1D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B5C4-BF5B-40C9-AF08-10C3E92724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itstudent</cp:lastModifiedBy>
  <dcterms:modified xsi:type="dcterms:W3CDTF">2002-08-06T19:36:00Z</dcterms:modified>
  <cp:revision>14</cp:revision>
  <dc:subject/>
  <dc:title>Informative Essay</dc:title>
</cp:coreProperties>
</file>