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56CFD-D4F3-40AA-9494-FEDAA86BB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52ED-2E0B-41F5-8F66-8DDB62108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D6B7-AA44-468C-B969-BD0926415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61C3-BD94-46D3-BE1A-3629B6DB8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82F6-FEA0-479C-A881-C40EDDD0A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E504-294E-4EF9-BCEB-7C955B889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8C81-667B-4FA0-9855-6EA5B18F0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749C-6AD4-4C15-B098-3B7DCC24E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B2DF-A0E3-4D8F-875B-0CC1E4820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C2CA-A1C8-4456-A6F8-F06C19F39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30C9-CD0F-478F-B08B-AF8EB024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AFDB-8072-454F-8406-5C8D4EDD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F996-4115-46CD-B925-41B8C9FD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76762-E40C-46FD-804F-7B00ACAE6D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ngth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ches per Centi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centimeter = 0.394 inc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eet per 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eter = 3.28 feet = 1.09 y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les per kilo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ile = 1.6 kilome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8:42Z</dcterms:created>
  <dc:creator>ITWorkstation</dc:creator>
  <dc:description/>
  <dc:language>en-US</dc:language>
  <cp:lastModifiedBy>Texas A&amp;M Veterinary Medicine</cp:lastModifiedBy>
  <dcterms:modified xsi:type="dcterms:W3CDTF">2004-10-28T19:23:48Z</dcterms:modified>
  <cp:revision>8</cp:revision>
  <dc:subject/>
  <dc:title>Length Conversions</dc:title>
</cp:coreProperties>
</file>