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AB93E-821F-41D6-B525-E21C33DBD5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rehens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bulary Challenge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B: The student is expected to: draw on experiences to bring meanings to words in context such as interpreting idioms, multiple-meaning words, and analogies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: use multiple reference aids, including a thesaurus, a synonym finder, a dictionary, and software, to clarify meanings and usage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Im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Specim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Irrelev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Malnouris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forebo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Monstros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Rel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Assass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7129-7115-4419-BDD2-218603763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9C7E-F62C-41FC-9A0A-339031C17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3C2D-6895-4A09-A1B7-80CD3DA95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5F5A-99B7-4242-A3BF-40C046A5A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19A5-32F0-4ABD-A772-F5EDB487E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F0BC-96D5-4524-8CA6-AA9C8C401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9AEA-2677-4C2B-89C9-15536715A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C4EB-7757-4C45-8A41-228D1F1F1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31FC-6C05-4797-8BA3-D4D7973A7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81B3-0A79-4751-BF4B-B515EF69C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E5EB-3062-492E-A3A1-A16BD3987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68A7-D511-4802-A967-F5DC2AEB1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E5608-E6AC-4112-ACCA-C0185E0A434B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PeVocab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80880" y="13716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lease fill in the blank with the correct word from “The Kiss of the Assassin.” Use the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Glossary of Terms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as a resource if need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 needed expert advice on ancient Peruvian temples for my report, so I scheduled an interview with the __________ of the museum of Peruvian artifac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My final report on Peru was  ___________. It covered all aspects of the country including geography, culture and economic issu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37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order to prevent the crime in this story, Connie and Roman had to _________ a strategy quickl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order to find out more about the behavior of the black beetle, scientists select a few beetles and study the characteristics of each   _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feelings of the Peruvian people about their ancient relics were _________ to the villain in this sto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137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 knew that the stray cat at the archeological site was __________ because I could see the outline of his ribs through his fu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pry’s actions were the reason for Connie’s feelings of ___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800" y="137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pile of trash left behind by the tourists who came to see the archeological site was a _____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y studying _________ of ancient cultures, we can learn about the pas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0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sect was the __________ in this sto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1T19:07:46Z</dcterms:created>
  <dc:creator>Instructional Technology</dc:creator>
  <dc:description/>
  <dc:language>en-US</dc:language>
  <cp:lastModifiedBy>Vince Hardy</cp:lastModifiedBy>
  <dcterms:modified xsi:type="dcterms:W3CDTF">2007-05-03T15:06:30Z</dcterms:modified>
  <cp:revision>26</cp:revision>
  <dc:subject/>
  <dc:title>PowerPoint Presentation</dc:title>
</cp:coreProperties>
</file>