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BD4D-67EE-4D02-9313-91D3B1E50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729F-6640-4077-92C0-3E8292B3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2147-0FB9-418C-BB10-D2DCEB393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CEBD-A822-44BE-969B-50D770D45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702A-C97C-494F-81D9-030E4B5A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A9C0-3CD2-407D-9B9F-ACA8344C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90AB-CC59-4DC7-B7ED-44131764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9B09-3E8E-448E-BDF4-28B1B69C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0A66-89F8-46F2-A66F-1F1D9364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A37E-7DCA-4438-BDFE-76569190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C21C-8ABA-4B8A-93C6-59014D78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6F84-F7C7-4077-88AE-9129E4DB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4547-9F34-4FF7-B7F7-1935B4E4EB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, contaminat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3T14:46:38Z</dcterms:modified>
  <cp:revision>52</cp:revision>
  <dc:subject/>
  <dc:title>Hazards</dc:title>
</cp:coreProperties>
</file>