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2B54-7BC6-4584-AC92-4A1B9D784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DD76-A8AA-4230-B676-B1963BD3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731A-52DB-4661-B6A3-BDA12957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B20E-6AFE-43C8-9FA0-D74829DC8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34FA-A24E-4B8A-A34B-12B6A26E7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86B6-874B-4E21-A6C1-A86A6F0E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CBAD-008C-46D0-B1FE-87BAF4C2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B02A-F534-43AB-BF96-FA2C21D1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9554-DD59-4617-8AC6-3C4E0DF0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E682-51A6-4838-B069-843C984E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EEAE-DC23-41C7-B2BC-3A55CCF0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49C7-A228-4C9A-AE3E-2DEB738B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37B5-CBDD-432F-B28E-7A1AC51D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CB28-CCBC-4709-A53F-B37C5A12A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1-16T18:37:15Z</dcterms:modified>
  <cp:revision>28</cp:revision>
  <dc:subject/>
  <dc:title>Sensory Details </dc:title>
</cp:coreProperties>
</file>