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C103-6574-46EE-AED1-468F71A13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B623-55C6-405F-A9BD-432236FE6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9D21-0670-43F6-B47B-96454C99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81C5-44F5-452C-AD6D-6C440FEAA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1676-E600-4685-B490-EF7F627CA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3072-E863-4057-9E1E-EA222592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A78E-33E8-4244-B005-42FD4FF3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D521-1B1A-4E7F-96EE-7F5D975E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6F01-5632-4558-A041-2A33AD6B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7E05-6D60-4323-8526-780098A9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3F20-5036-4CC6-8865-41FA0A71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CEF2-5E4E-4702-ABDB-1CDE98AF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6A72-846C-402A-B381-DF152DD0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A0E6-6EA4-4330-A3D5-33B5B10FCF6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vhardy</cp:lastModifiedBy>
  <dcterms:modified xsi:type="dcterms:W3CDTF">2002-12-19T22:49:20Z</dcterms:modified>
  <cp:revision>23</cp:revision>
  <dc:subject/>
  <dc:title>What Do I Say?</dc:title>
</cp:coreProperties>
</file>