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C007-103F-4020-8A25-6D3B6C964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E9A7-3BCE-4ADC-93F5-721C42DC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756F-B1C6-4AF0-AAFC-2EECD2B3D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1537-ACC8-448E-83A6-B009C3CA6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145B-FA87-4647-9A6C-CD5FE670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8F0B-6C40-4000-8014-6CD41B35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B286-0198-4EF7-BAB0-E7C828F0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7892-70F2-425A-8EB6-D1955950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73E0-2C05-42FB-A1A7-354B4308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42AE-D371-47A1-B44C-B569A9EC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27CC-1C03-4E72-80FF-8AD61300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8046-814D-47E6-8687-1A1C5B9B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8CFB-5307-4662-80C8-B69E351826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8-30T16:20:49Z</dcterms:modified>
  <cp:revision>45</cp:revision>
  <dc:subject/>
  <dc:title>Hazards</dc:title>
</cp:coreProperties>
</file>