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D924A-9F75-4F83-A90C-A3DBA30716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CCFB-0CDE-4B5B-A59D-4C460EF44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49E3-B5E0-4766-A024-8A777B3ED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6824-E33D-4A86-84ED-BC77E490A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E128-363E-4848-888B-5A0E719F5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BD59-7A99-4B7E-892D-5DE1E57FB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F7C0-0A8C-45EB-A5E3-BCBEDF5D4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2FBD-400C-43A0-99A6-D5A811D2B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0E9B-2F99-4056-AA80-1D8CBEEA9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139C-1F63-40CC-B9EB-4F9FE3AD8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FC67-758C-48C8-9A76-314736530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66FD-0D8F-411E-8564-DFFA24FCF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39AF-CD23-41EE-BB0F-B9C9E27A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ED0DF-CB1A-4F9A-A6B3-85DEE3D484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For example, over the past 40 years, New Jersey has had an average temperature of 32 º Fahrenheit and an average precipitation of 2.8 inches during the month of February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Weather is the state of the atmosphere at a 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given place and time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For example, the temperature right now in New Jersey is 56º F and it is snowing. 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09Z</dcterms:modified>
  <cp:revision>19</cp:revision>
  <dc:subject/>
  <dc:title>What’s the difference between weather and climate?</dc:title>
</cp:coreProperties>
</file>