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3D2F-702F-4291-8CBE-76B9F49CF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D948-A417-44FB-9A9D-5EDEE25C3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464B-2C0B-4FCC-B928-832802D54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B7DB-485B-4C29-86CF-2F491B6B9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8D17-0B1A-4233-9ED7-E77F43ACE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25D4-42A3-4EEF-987E-40FF2B3FE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FC85-430D-422C-8744-B39CF1B0E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0CB8-DB8E-49B8-9C46-17E652C89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5392-FB57-4ABF-BEE6-2149B3F8A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B14F-62A9-4001-B13A-B96D50704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5C3A-44D6-4D16-8CCA-F031CAE28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87E6-CFF8-4BDB-871B-C7192B73B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FCF6B-A320-422B-9CDC-B876CFE2718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b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2407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and general malaise.  May include insomnia, anxiety, confusion, slight or partial paralysis, excitation, hallucinations, agitation, hypersalivation, difficulty swallowing, and hydrophob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50292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aliva of infected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6:00Z</dcterms:modified>
  <cp:revision>46</cp:revision>
  <dc:subject/>
  <dc:title>Hazards</dc:title>
</cp:coreProperties>
</file>