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4856-1EFA-4DEE-8951-3F651430E4FC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FD3A-DCCB-4A94-9DE5-EAAE5B14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7DCE-0153-474A-84ED-33E85498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4B0D-9951-43F5-930D-071429C35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B441-3C57-4446-AD1D-17A32D635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C15D-E612-475C-BA90-A7872BA3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5536-6714-4CF2-97E6-5E84A03B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B3D3-D1B7-4933-BA06-148793A8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CFBC-7346-4A32-8D54-79834621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31A7-530A-424C-BD9D-089AA8AF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9BB3-E603-4B8A-8E31-15778D6B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0524-0EDE-4410-9E2A-840D06D6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EA31-65FE-4DED-95B1-A268C5C2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6640-29FE-4146-9A18-E887A31BE7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itstudent</cp:lastModifiedBy>
  <dcterms:modified xsi:type="dcterms:W3CDTF">2002-08-06T19:36:00Z</dcterms:modified>
  <cp:revision>14</cp:revision>
  <dc:subject/>
  <dc:title>Informative Essay</dc:title>
</cp:coreProperties>
</file>