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7F77-99CF-4D25-86DC-B35C94953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32D0-8879-4809-885B-441F4080D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340C-40E0-4D2F-A5A3-BBFB8AF5C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A147-9389-42E9-B6E6-90E322DAC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6782-B951-42FF-B921-2AD0EF2F4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D1D9-DDED-493C-A9C3-79230DCA4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3078-060B-4B2A-A343-75CA136D8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57BA-4929-4223-B6BE-E22ED00AC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A859-69EE-4202-9930-321D605E9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08B9-5B39-4899-BDB9-9BED630A3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6C32-1A18-4615-9810-306498251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78E9-9650-4BBD-A4C3-AB24CF4E6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D8B5C-438C-4B27-B7E7-FC2FF5EC75D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IDS (Acquired Immune Deficiency Syndrome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2286000"/>
            <a:ext cx="7925040" cy="283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apid weight loss, dry cough, recurring fever, profound fatigue, swollen lymph glands, diarrhea, unusual blemishes on tongue and in mouth, pneumonia, memory loss, depression, red/purple blotches on or under the skin or inside the mouth/n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5334120"/>
            <a:ext cx="792504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lood-to-blood and sexual contact with infected pers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Ljlab</cp:lastModifiedBy>
  <dcterms:modified xsi:type="dcterms:W3CDTF">2005-01-21T19:04:07Z</dcterms:modified>
  <cp:revision>42</cp:revision>
  <dc:subject/>
  <dc:title>Hazards</dc:title>
</cp:coreProperties>
</file>