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03337-6F93-4A85-B0A0-6B4F52A6A8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F6B7-32EA-4762-8494-A694BC5C8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4AA3-CEF4-4787-8095-6FF548DEA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05BF-9B97-454D-B35E-AF35176C4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4D84-9F09-46D8-AEAD-DCFAFDF8E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A44A-FFD4-4601-A571-361BD2379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6DAA-F56F-4F7D-BA2A-085FA50B9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F164-4C50-4D45-85B4-0FA22A65D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EEEC-261B-4CE7-A9A6-5DDE86ADF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D884-4D8F-483F-9E19-5036FFD3F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8254-E664-45F6-A08F-60FFD6C1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2DD1-F418-4905-AD7F-D8B3A2BF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F791-B9C2-4FDA-95C0-B3A548DE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0CEAF-8749-4044-9541-1591E3D510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ljlab</cp:lastModifiedBy>
  <dcterms:modified xsi:type="dcterms:W3CDTF">2003-09-11T17:19:02Z</dcterms:modified>
  <cp:revision>6</cp:revision>
  <dc:subject/>
  <dc:title>Metric Multiplication Factors</dc:title>
</cp:coreProperties>
</file>