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2BED-86C0-4097-9EEB-6FAFED204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may be many words in the story that are unfamiliar to your students. Ask students to find each word that is new to them, define the word, find a synonym and antonym for each word, then use each word in a sentence outside the context of the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6C: The student is expected to: locate the meanings, pronunciations, and derivations of unfamiliar words using dictionaries, glossaries, and other source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9383-3FFC-4BE1-8427-62BFAB9BD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6C83-8F0B-41DA-862B-C556DE7E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AC5E-C583-4999-A820-5D136736B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F7B5-90D4-467A-9FEC-43FECC708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25D5-BEEC-4A76-A422-08A35EAA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6131-ED6D-47CD-9003-95BA5955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3677-9F94-4C47-8CA2-AD69E920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C01B-8BAB-4EDD-A764-496373AC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EB66-0027-434C-9DDC-8A6E8C9F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8B4D-6A7D-4E0B-9CEA-DCF3CC55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435D-6030-4E8D-BA11-1E86B8F1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8769-F994-4303-9794-0D26E161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E1F1-4585-4DBB-A677-114C0E89197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omprehensive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Very large in content, all inclusiv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Assassi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 murderer of a prominent pers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Specimen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An item representative of an entire set or whol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urator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One in charge of a selection, as at a museum or library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rreleva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Unrelated to the matter at han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Foreboding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have a premonition or feeling of a future misfortun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01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 (cont.)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232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onstrosity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Something that is unusually large or that gives a feeling of disgus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mpleme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put into effec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Relics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Something that has survived from an extinct culture or from a specific time perio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alnourished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ffected by improper or poor nutriti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Ljlab</cp:lastModifiedBy>
  <dcterms:modified xsi:type="dcterms:W3CDTF">2005-05-25T16:30:06Z</dcterms:modified>
  <cp:revision>20</cp:revision>
  <dc:subject/>
  <dc:title>PowerPoint Presentation</dc:title>
</cp:coreProperties>
</file>