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812-07A8-4561-83DB-63BFEAB04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ap longitude latitude geography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ongitude latitude map geography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ongitude latitude equator prime meridian geography absolute location 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hemisphere geography latitude longitude degrees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titude longitude map geography globe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geography latitude longitude map globe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Paloma Lima latitude longitude capital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WORDS: Lima latitude longitude geography map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titude longitude absolute location map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Equator Hemisphere longitude latitude map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12C-4165-4FFF-9AB9-2D382CD4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FCC-1720-408D-A39A-9B857468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DC7-A945-491F-9E77-34F9779E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047-0490-48B0-9BEA-AB2B24A7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42E-6B7B-48DA-BB5E-4231260B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C18-4E71-4779-AFEC-DF12B69E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11F-6F40-47E3-BC45-1FE5AD0C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ECD-32D6-4B15-AE56-8E5B9176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B98-7902-49A3-BE89-B57A29D8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F24-A084-45D8-A4DD-0F0EC5B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5AE-FA93-4C63-977F-34209BBE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2C5-91B8-4EFF-AAF1-70D76404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6B37-674D-4841-9E8F-CAD36B7EA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4952880"/>
            <a:ext cx="777240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What city is located at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80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at city is located at 4° S.L., 74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What city is located at 14° S.L., 72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What city is located at 17.5° S.L., 71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1000" y="4952520"/>
            <a:ext cx="6937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164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re you correct?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clayo is located at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80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quitos is located at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4° W.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co is located at 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2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 is located at 17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1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64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1806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0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bsolute geographic location of Peru (longitude and latitude) and use this information to locate Peru and its cities on a map or glo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71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students need instruction in using longitude and latitude,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click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080" y="35532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Per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045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center of Peru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u in the Northern or Southern Hemisp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u in the Eastern or Western Hemispher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47640" y="5029200"/>
            <a:ext cx="78487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to the center of Peru on the map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6° W.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066680" y="5335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Pe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latitude for Peru?  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Peru? _______° 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eru is _______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is Lima, Per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6160" y="4140360"/>
            <a:ext cx="81039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ma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° S.L., 77.1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oma, Peru is a coastal village located very close to Lima, the capital city of Peru.  It is the oldest known village with continuous habitation and is over 7,700 years o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714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Lima, Peru above (12.0° S.L., 77.1° W.L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00600" cy="51548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04920"/>
            <a:ext cx="4953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3384720"/>
            <a:ext cx="608040" cy="326880"/>
          </a:xfrm>
          <a:custGeom>
            <a:avLst/>
            <a:gdLst/>
            <a:ahLst/>
            <a:rect l="l" t="t" r="r" b="b"/>
            <a:pathLst>
              <a:path w="383" h="206">
                <a:moveTo>
                  <a:pt x="14" y="0"/>
                </a:moveTo>
                <a:cubicBezTo>
                  <a:pt x="60" y="23"/>
                  <a:pt x="54" y="16"/>
                  <a:pt x="100" y="0"/>
                </a:cubicBezTo>
                <a:cubicBezTo>
                  <a:pt x="144" y="16"/>
                  <a:pt x="153" y="17"/>
                  <a:pt x="203" y="9"/>
                </a:cubicBezTo>
                <a:cubicBezTo>
                  <a:pt x="232" y="12"/>
                  <a:pt x="262" y="7"/>
                  <a:pt x="289" y="17"/>
                </a:cubicBezTo>
                <a:cubicBezTo>
                  <a:pt x="296" y="20"/>
                  <a:pt x="304" y="96"/>
                  <a:pt x="315" y="103"/>
                </a:cubicBezTo>
                <a:cubicBezTo>
                  <a:pt x="327" y="111"/>
                  <a:pt x="344" y="109"/>
                  <a:pt x="358" y="112"/>
                </a:cubicBezTo>
                <a:cubicBezTo>
                  <a:pt x="366" y="121"/>
                  <a:pt x="380" y="126"/>
                  <a:pt x="383" y="138"/>
                </a:cubicBezTo>
                <a:cubicBezTo>
                  <a:pt x="383" y="140"/>
                  <a:pt x="371" y="194"/>
                  <a:pt x="366" y="198"/>
                </a:cubicBezTo>
                <a:cubicBezTo>
                  <a:pt x="359" y="204"/>
                  <a:pt x="349" y="203"/>
                  <a:pt x="340" y="206"/>
                </a:cubicBezTo>
                <a:cubicBezTo>
                  <a:pt x="307" y="195"/>
                  <a:pt x="299" y="188"/>
                  <a:pt x="289" y="155"/>
                </a:cubicBezTo>
                <a:cubicBezTo>
                  <a:pt x="312" y="79"/>
                  <a:pt x="203" y="117"/>
                  <a:pt x="160" y="120"/>
                </a:cubicBezTo>
                <a:cubicBezTo>
                  <a:pt x="131" y="117"/>
                  <a:pt x="103" y="112"/>
                  <a:pt x="74" y="112"/>
                </a:cubicBezTo>
                <a:cubicBezTo>
                  <a:pt x="59" y="112"/>
                  <a:pt x="45" y="125"/>
                  <a:pt x="31" y="120"/>
                </a:cubicBezTo>
                <a:cubicBezTo>
                  <a:pt x="23" y="117"/>
                  <a:pt x="25" y="103"/>
                  <a:pt x="22" y="95"/>
                </a:cubicBezTo>
                <a:cubicBezTo>
                  <a:pt x="17" y="65"/>
                  <a:pt x="0" y="27"/>
                  <a:pt x="14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Lima, Peru on the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What is the latitude for Lima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° 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at is the longitude for Lima? _________° 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he absolute location for Lima, Peru is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4698720"/>
            <a:ext cx="792504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solute location for Lima, Peru is 12.0° S.L., 77.1° W.L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Which city is further Nor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ich city is closer to the Equat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Which city is located in the Southern Hemisp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Which city is located in the Western Hemispher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College of Veterinary Medicine</cp:lastModifiedBy>
  <dcterms:modified xsi:type="dcterms:W3CDTF">2008-01-03T16:08:20Z</dcterms:modified>
  <cp:revision>21</cp:revision>
  <dc:subject/>
  <dc:title>Slide 1</dc:title>
</cp:coreProperties>
</file>