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2145-C724-4123-AD70-216F308DB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0A6E-8AC4-465F-A7C5-2464DB2EB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437E-EEE2-4D39-9DD0-6B505E1A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0BDF-CA4A-47D6-9B13-BB8604B2B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D6EC-056C-4D88-8008-B5032214C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90C4-478E-4173-8A6D-6AB9EF28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3773-C8C4-4A6B-B0DF-BE069556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D1CF-169D-4DDF-87AC-034104DE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37F1-D7F2-4B1B-8A3A-C029A2B4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D3FB-C2F6-480E-ABD7-BCA1D4E6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7BBF-8CFF-4F61-9909-59E29237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33B5-6570-4354-A3EF-3C911EC3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E8D0-93C3-4F03-8942-3199A21F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4400-F590-411D-9324-AC2828A1BB2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2112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42400" y="4419720"/>
            <a:ext cx="58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4° S.L., 72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21120" y="485136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07480" y="4419720"/>
            <a:ext cx="62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17.5° S.L., 71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3170160"/>
          <a:ext cx="217332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19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5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343240" y="4952880"/>
            <a:ext cx="5110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titude for Lima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2343240" y="4952880"/>
            <a:ext cx="52308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2343240" y="4952880"/>
            <a:ext cx="6008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solute location of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0528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42760" y="4419720"/>
            <a:ext cx="57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, 80° W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03480" y="487044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42400" y="441972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4° S.L., 74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Ljlab</cp:lastModifiedBy>
  <cp:lastPrinted>2002-05-17T17:38:54Z</cp:lastPrinted>
  <dcterms:modified xsi:type="dcterms:W3CDTF">2008-06-09T16:51:16Z</dcterms:modified>
  <cp:revision>657</cp:revision>
  <dc:subject/>
  <dc:title>Investigate the Mystery:</dc:title>
</cp:coreProperties>
</file>