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B318D-9B6F-46EA-88F0-4D732FB5BB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tire Investigator’s Challenge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6.10 (C, H, K, M), 6.11 (C), 6.12 (F, G, K), 7.10 (C, H, K, M), 7.11 (C), 7.12 (F, G, K), 8.10 (C, H, K, M), 8.11 (C), 8.12 (F, G, 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1642-C711-4DCA-B45A-7F18A0243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660D-5A5F-4346-8C36-AE0E66E8D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81C3-F362-42F1-8594-9403BB33C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CA3B-0389-4ACE-928F-E2DC06459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ED03-36DD-40F0-9FDD-8D4F2C814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BD27-AB8A-4F20-9B75-C6AEB4DA9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9112-4117-470A-A99F-DA46E7CAB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79B3-1A53-467F-8F8F-92C9D5571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3882-1FD5-42D4-9C8B-AC2EDB362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F411-DF35-4887-BD73-BEFC7A909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16C2-0CDB-453D-84FC-3BB5464D6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1131-A937-4979-B413-D9933B628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378FC-B4A9-4C9B-A945-390A19021F6C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41240" y="2217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275"/>
              </a:spcBef>
              <a:spcAft>
                <a:spcPts val="275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9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 entomologist studies …</a:t>
            </a:r>
            <a:br>
              <a:rPr sz="3200"/>
            </a:br>
            <a:br>
              <a:rPr sz="900"/>
            </a:b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uilding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ird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imal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cient artifac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sec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1212840" y="4308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1217520" y="2540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5"/>
          <a:stretch/>
        </p:blipFill>
        <p:spPr>
          <a:xfrm>
            <a:off x="1216080" y="31352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1219320" y="37242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7"/>
          <a:stretch/>
        </p:blipFill>
        <p:spPr>
          <a:xfrm>
            <a:off x="1212840" y="491004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1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85800" indent="-68580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ebebeb"/>
              </a:buClr>
              <a:buFont typeface="Times"/>
              <a:buAutoNum type="arabicPeriod" startAt="10"/>
              <a:tabLst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“kissing bug” was termed an “assassin” because i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68580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6858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nly bit important peopl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858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nly bit politician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858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d a painful st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858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ed after it bit someon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858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1222200" y="4730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4"/>
          <a:stretch/>
        </p:blipFill>
        <p:spPr>
          <a:xfrm>
            <a:off x="1227240" y="29592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5"/>
          <a:stretch/>
        </p:blipFill>
        <p:spPr>
          <a:xfrm>
            <a:off x="1225440" y="35514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6"/>
          <a:stretch/>
        </p:blipFill>
        <p:spPr>
          <a:xfrm>
            <a:off x="1219320" y="414648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4132440" y="5118120"/>
            <a:ext cx="961920" cy="5047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3213000" y="2857680"/>
            <a:ext cx="2791080" cy="12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obert is best described as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villai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Peruvian nativ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anthropologis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retired teach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nnie’s broth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389400" y="0"/>
            <a:ext cx="57546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211400" y="43131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1216080" y="25448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1214280" y="31370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1217520" y="3724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7"/>
          <a:stretch/>
        </p:blipFill>
        <p:spPr>
          <a:xfrm>
            <a:off x="1211400" y="491328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ebebeb"/>
              </a:buClr>
              <a:buFont typeface="Times New Roman"/>
              <a:buAutoNum type="arabicPeriod" startAt="2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onnie and Roman could not have prevented the crime in this story without the help of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spr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r. Bak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alcolm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iguel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.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1222200" y="5184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1227240" y="33876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1225440" y="3994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1219320" y="45864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7"/>
          <a:stretch/>
        </p:blipFill>
        <p:spPr>
          <a:xfrm>
            <a:off x="1222200" y="578952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ft of which one of the following was the focus of the story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rug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cient artifact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eapon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rare monkey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1222200" y="4734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1227240" y="29512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1225440" y="35575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6"/>
          <a:stretch/>
        </p:blipFill>
        <p:spPr>
          <a:xfrm>
            <a:off x="1219320" y="414324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60160"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villain in the story plans to blame the crime on …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6016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601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ober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01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oma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01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iguel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01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nni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01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.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1222200" y="4734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1227240" y="29592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1225440" y="3556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6"/>
          <a:stretch/>
        </p:blipFill>
        <p:spPr>
          <a:xfrm>
            <a:off x="1219320" y="41418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7"/>
          <a:stretch/>
        </p:blipFill>
        <p:spPr>
          <a:xfrm>
            <a:off x="1222200" y="533088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609120" y="17146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54400"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114300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action in this story occurs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544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xclusively (only) at an archaeological dig i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aloma, Peru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544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xclusively in a United States museum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544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 the school that Connie and Roman atten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544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oth in Peru and in the United Stat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544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n a boat traveling to Peru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1220760" y="45925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1227240" y="24890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1225440" y="3384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6"/>
          <a:stretch/>
        </p:blipFill>
        <p:spPr>
          <a:xfrm>
            <a:off x="1227240" y="39895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7"/>
          <a:stretch/>
        </p:blipFill>
        <p:spPr>
          <a:xfrm>
            <a:off x="1222200" y="517860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ebebeb"/>
              </a:buClr>
              <a:buFont typeface="Times"/>
              <a:buAutoNum type="arabicPeriod" startAt="6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Miguel’s family lived in a(n)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n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arge dormitor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dobe hu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il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ouseboa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71680" indent="-571680" algn="ctr"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212840" y="4314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1217520" y="25430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1216080" y="31352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6"/>
          <a:stretch/>
        </p:blipFill>
        <p:spPr>
          <a:xfrm>
            <a:off x="1219320" y="37209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212840" y="491004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7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large swelling above the eye of Miguel’s sister was caused by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hit from a softball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bug bit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edicatio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skin diseas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1222200" y="4734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1227240" y="29559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5"/>
          <a:stretch/>
        </p:blipFill>
        <p:spPr>
          <a:xfrm>
            <a:off x="1224000" y="3549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6"/>
          <a:stretch/>
        </p:blipFill>
        <p:spPr>
          <a:xfrm>
            <a:off x="1219320" y="413856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8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spry’s reaction to the safe return of the Peruvian artifacts to the museum is best described as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gr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pp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ore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a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1222200" y="5184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1227240" y="33829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5"/>
          <a:stretch/>
        </p:blipFill>
        <p:spPr>
          <a:xfrm>
            <a:off x="1225440" y="399240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6"/>
          <a:stretch/>
        </p:blipFill>
        <p:spPr>
          <a:xfrm>
            <a:off x="1219320" y="459108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5T15:07:59Z</dcterms:created>
  <dc:creator>Dr. Deborah Kochevar</dc:creator>
  <dc:description/>
  <dc:language>en-US</dc:language>
  <cp:lastModifiedBy>Texas A&amp;M Veterinary Medicine</cp:lastModifiedBy>
  <dcterms:modified xsi:type="dcterms:W3CDTF">2007-09-04T19:23:48Z</dcterms:modified>
  <cp:revision>91</cp:revision>
  <dc:subject/>
  <dc:title>Investigator’s Challenge</dc:title>
</cp:coreProperties>
</file>