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A54C8-9B47-41EB-9EDB-F504803C7C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952560" y="0"/>
            <a:ext cx="5010120" cy="375912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0" y="3860640"/>
            <a:ext cx="6858000" cy="52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85392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46C3C-D23F-4BD0-9A28-E67BABA55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43000-1A9A-41BF-BB1F-46EC4C14E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54A82-242E-470D-9CCA-AD4843A24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FFF80-AD7C-4430-9A49-4863F1F2C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3F7E9-72B2-4481-B312-F00645459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F5A78-4DF8-4E3C-BB6C-2A7D5E811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635B3-6A01-4D3A-B98A-55CD65AE2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F98B4-D742-4A52-BE65-021A7809E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046AA-9035-4585-BE79-D72F3DDC5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3331D-0250-472E-8AA8-247290927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ABBD4-812D-4AA2-B9FA-391A1CCE5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E0F14-F1E9-4692-A2D3-EAB6B58DE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12B91-FD4C-4A9C-B10E-763F66A2AB1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304920"/>
            <a:ext cx="77709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7240" y="1904760"/>
            <a:ext cx="7770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2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Times New Roman"/>
              </a:rPr>
              <a:t>Climate is the average condition of the atmosphere (like temperature and precipitation) over a long period of time.  It is the average of weather conditions in a place.</a:t>
            </a: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26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For example, over the past 40 years, New Jersey has had an average temperature of 32 º Fahrenheit and an average precipitation of 2.8 inches during the month of February.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Weather is the state of the atmosphere at a </a:t>
            </a:r>
            <a:r>
              <a:rPr b="0" lang="en-US" sz="2900" spc="-1" strike="noStrike" u="sng">
                <a:solidFill>
                  <a:srgbClr val="ffffff"/>
                </a:solidFill>
                <a:uFillTx/>
                <a:latin typeface="Times New Roman"/>
              </a:rPr>
              <a:t>given place and time</a:t>
            </a: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en-US" sz="29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24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For example, the temperature right now in New Jersey is 56º F and it is snowing.  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Just as weather differs from day to day, climate differs from place to place.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5T14:23:11Z</dcterms:created>
  <dc:creator>Charles C. Farnsworth, Ph.D. - Instructional Design</dc:creator>
  <dc:description/>
  <dc:language>en-US</dc:language>
  <cp:lastModifiedBy>Vince Hardy</cp:lastModifiedBy>
  <dcterms:modified xsi:type="dcterms:W3CDTF">2007-01-12T21:51:09Z</dcterms:modified>
  <cp:revision>19</cp:revision>
  <dc:subject/>
  <dc:title>What’s the difference between weather and climate?</dc:title>
</cp:coreProperties>
</file>