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FCEA-07E9-44E5-B231-08BF86A63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EED5-39D4-4EF5-B103-33F73EDC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C86E-DD62-420A-9102-F09B2D59F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280D-641E-41C7-A97E-36A929648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6B85-BD12-466E-B7A3-4E31D9A9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C1F7-CDD5-47A1-8493-69F75E3A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DC51-DF8C-4CA1-9FB5-F220A072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8C3A-08AB-4538-9A0C-543E405E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D7CA-F3A2-4E5F-A3A2-53D1CFBA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BB49-7EC6-424E-9B0C-9F4D9DF8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8592-6666-4ACA-BA04-F32C96D8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E1FD-1965-44A6-86A0-DCF4BB93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CFED-37F0-46B5-B3C5-B20EC7AE98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5:34Z</dcterms:modified>
  <cp:revision>45</cp:revision>
  <dc:subject/>
  <dc:title>Hazards</dc:title>
</cp:coreProperties>
</file>