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09E1-916F-4BAF-8463-739871BE7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0A9D-7A70-4D12-958A-7881FDAC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DA01-B538-4F2D-9049-485FAC97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F1B1-0D3A-4579-AFAA-2FA534F24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163F-9607-495C-800D-25E03C4EE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66D5-E337-4286-BE8E-5B7A0F91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D28A-B2BD-460F-AFA7-4F8D2A11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9020-B564-4A4B-A5D7-B30EF2AB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08E5-023B-4930-983F-051354AA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DC6F-924D-4297-820E-1CFBCFE6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3B0E-E71B-42B2-A052-5BCE89C5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D88B-DFA0-498F-B98D-06CFCA9D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B0DB-272F-4606-A81D-1F381437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C1C5-EFAE-4128-B88D-8FF56745DB0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1-16T18:50:08Z</dcterms:modified>
  <cp:revision>28</cp:revision>
  <dc:subject/>
  <dc:title>Descriptive Writing</dc:title>
</cp:coreProperties>
</file>