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9B6A-7E8F-4DE9-8484-4D199751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ath skills to interpret social studies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B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sing and answering questions about geographic distributions and patter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ocial studies terminology correctl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latitude longitude geography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ontinent map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map geography distance direc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ocean country map geography direction world geography map reading relativ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w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r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ing and interpreting inform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capital Lima direction map geography relativ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ither with absolute or relative lo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the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C) Express ideas orally based on research and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23 (A) Use a problem-solving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Use study strategies to learn importan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direction absolute location relativ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6048-6DFB-4CC8-9814-41FB065A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607-B994-47B9-B477-D3E191D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D4D-9211-4FFD-BB5D-0C2DB33A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728A-BF42-4116-8571-36870070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10A0-7966-4C19-89B3-9D82FA42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0BE-339B-4A04-A308-17C90822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FF6-A4B1-44B1-90BA-DF4244BD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29B-DD4C-42C0-848A-17E4272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06D-FD6F-4E6F-BCA7-48FEF618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13A-BF8B-4B07-A77E-D98D0F60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1429-A32F-4A89-96DE-8AE16E0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2CD-647E-4E9D-B73F-5CEF17C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AE09-E605-424D-89FF-2367CB13E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SSQ.ppt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85720" y="971640"/>
            <a:ext cx="7972560" cy="1466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123720"/>
            <a:ext cx="7925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2209680"/>
            <a:ext cx="2601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95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6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8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Times New Roman"/>
                <a:hlinkClick r:id="rId9"/>
              </a:rPr>
              <a:t>http://peer.tamu.edu/forms/Curricula_Survey.s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lative geographic location of Peru (longitude and latitude) to describe the location of Peru relative to other parts of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is Peru in relation to other pla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67652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47640" y="4941360"/>
            <a:ext cx="7848720" cy="155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 highlighted on the map above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u i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Located on what continent__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North of what continent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West of what continent_____________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47640" y="5334120"/>
            <a:ext cx="7848720" cy="8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you were to travel using the shortest distance to Peru from your home, in which direction would you travel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00320" y="2479680"/>
            <a:ext cx="362160" cy="347760"/>
          </a:xfrm>
          <a:custGeom>
            <a:avLst/>
            <a:gdLst/>
            <a:ahLst/>
            <a:rect l="l" t="t" r="r" b="b"/>
            <a:pathLst>
              <a:path w="228" h="219">
                <a:moveTo>
                  <a:pt x="11" y="38"/>
                </a:moveTo>
                <a:cubicBezTo>
                  <a:pt x="30" y="43"/>
                  <a:pt x="30" y="52"/>
                  <a:pt x="47" y="58"/>
                </a:cubicBezTo>
                <a:cubicBezTo>
                  <a:pt x="51" y="38"/>
                  <a:pt x="51" y="29"/>
                  <a:pt x="71" y="22"/>
                </a:cubicBezTo>
                <a:cubicBezTo>
                  <a:pt x="74" y="18"/>
                  <a:pt x="83" y="0"/>
                  <a:pt x="91" y="2"/>
                </a:cubicBezTo>
                <a:cubicBezTo>
                  <a:pt x="99" y="4"/>
                  <a:pt x="100" y="22"/>
                  <a:pt x="103" y="26"/>
                </a:cubicBezTo>
                <a:cubicBezTo>
                  <a:pt x="111" y="36"/>
                  <a:pt x="139" y="42"/>
                  <a:pt x="139" y="42"/>
                </a:cubicBezTo>
                <a:cubicBezTo>
                  <a:pt x="138" y="46"/>
                  <a:pt x="138" y="51"/>
                  <a:pt x="135" y="54"/>
                </a:cubicBezTo>
                <a:cubicBezTo>
                  <a:pt x="132" y="57"/>
                  <a:pt x="125" y="55"/>
                  <a:pt x="123" y="58"/>
                </a:cubicBezTo>
                <a:cubicBezTo>
                  <a:pt x="118" y="65"/>
                  <a:pt x="118" y="74"/>
                  <a:pt x="115" y="82"/>
                </a:cubicBezTo>
                <a:cubicBezTo>
                  <a:pt x="114" y="86"/>
                  <a:pt x="111" y="94"/>
                  <a:pt x="111" y="94"/>
                </a:cubicBezTo>
                <a:cubicBezTo>
                  <a:pt x="115" y="115"/>
                  <a:pt x="112" y="134"/>
                  <a:pt x="135" y="118"/>
                </a:cubicBezTo>
                <a:cubicBezTo>
                  <a:pt x="155" y="125"/>
                  <a:pt x="143" y="135"/>
                  <a:pt x="163" y="142"/>
                </a:cubicBezTo>
                <a:cubicBezTo>
                  <a:pt x="175" y="106"/>
                  <a:pt x="189" y="146"/>
                  <a:pt x="207" y="158"/>
                </a:cubicBezTo>
                <a:cubicBezTo>
                  <a:pt x="228" y="190"/>
                  <a:pt x="184" y="184"/>
                  <a:pt x="163" y="198"/>
                </a:cubicBezTo>
                <a:cubicBezTo>
                  <a:pt x="156" y="218"/>
                  <a:pt x="151" y="219"/>
                  <a:pt x="131" y="214"/>
                </a:cubicBezTo>
                <a:cubicBezTo>
                  <a:pt x="100" y="194"/>
                  <a:pt x="116" y="200"/>
                  <a:pt x="83" y="194"/>
                </a:cubicBezTo>
                <a:cubicBezTo>
                  <a:pt x="63" y="163"/>
                  <a:pt x="54" y="87"/>
                  <a:pt x="15" y="74"/>
                </a:cubicBezTo>
                <a:cubicBezTo>
                  <a:pt x="4" y="58"/>
                  <a:pt x="0" y="55"/>
                  <a:pt x="11" y="38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u is highlighted on the map be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562720" y="1828800"/>
            <a:ext cx="304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ocean is to the we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large country is to the east of Per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the ocean located to the east of Per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2438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43800" y="2286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19720" y="441972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429000"/>
            <a:ext cx="1981080" cy="1143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4000680" cy="520056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952640" y="2155680"/>
            <a:ext cx="865080" cy="1278000"/>
          </a:xfrm>
          <a:custGeom>
            <a:avLst/>
            <a:gdLst/>
            <a:ahLst/>
            <a:rect l="l" t="t" r="r" b="b"/>
            <a:pathLst>
              <a:path w="545" h="805">
                <a:moveTo>
                  <a:pt x="167" y="120"/>
                </a:moveTo>
                <a:cubicBezTo>
                  <a:pt x="185" y="114"/>
                  <a:pt x="198" y="104"/>
                  <a:pt x="215" y="98"/>
                </a:cubicBezTo>
                <a:cubicBezTo>
                  <a:pt x="246" y="69"/>
                  <a:pt x="252" y="40"/>
                  <a:pt x="259" y="0"/>
                </a:cubicBezTo>
                <a:cubicBezTo>
                  <a:pt x="297" y="10"/>
                  <a:pt x="270" y="16"/>
                  <a:pt x="302" y="28"/>
                </a:cubicBezTo>
                <a:cubicBezTo>
                  <a:pt x="319" y="73"/>
                  <a:pt x="294" y="19"/>
                  <a:pt x="324" y="49"/>
                </a:cubicBezTo>
                <a:cubicBezTo>
                  <a:pt x="333" y="58"/>
                  <a:pt x="339" y="71"/>
                  <a:pt x="346" y="82"/>
                </a:cubicBezTo>
                <a:cubicBezTo>
                  <a:pt x="349" y="87"/>
                  <a:pt x="357" y="85"/>
                  <a:pt x="362" y="87"/>
                </a:cubicBezTo>
                <a:cubicBezTo>
                  <a:pt x="401" y="100"/>
                  <a:pt x="358" y="91"/>
                  <a:pt x="438" y="98"/>
                </a:cubicBezTo>
                <a:cubicBezTo>
                  <a:pt x="459" y="105"/>
                  <a:pt x="469" y="103"/>
                  <a:pt x="476" y="125"/>
                </a:cubicBezTo>
                <a:cubicBezTo>
                  <a:pt x="463" y="171"/>
                  <a:pt x="475" y="113"/>
                  <a:pt x="482" y="158"/>
                </a:cubicBezTo>
                <a:cubicBezTo>
                  <a:pt x="486" y="186"/>
                  <a:pt x="432" y="184"/>
                  <a:pt x="422" y="185"/>
                </a:cubicBezTo>
                <a:cubicBezTo>
                  <a:pt x="387" y="198"/>
                  <a:pt x="375" y="225"/>
                  <a:pt x="346" y="245"/>
                </a:cubicBezTo>
                <a:cubicBezTo>
                  <a:pt x="344" y="254"/>
                  <a:pt x="345" y="264"/>
                  <a:pt x="340" y="272"/>
                </a:cubicBezTo>
                <a:cubicBezTo>
                  <a:pt x="337" y="278"/>
                  <a:pt x="325" y="277"/>
                  <a:pt x="324" y="283"/>
                </a:cubicBezTo>
                <a:cubicBezTo>
                  <a:pt x="315" y="355"/>
                  <a:pt x="311" y="348"/>
                  <a:pt x="346" y="359"/>
                </a:cubicBezTo>
                <a:cubicBezTo>
                  <a:pt x="355" y="387"/>
                  <a:pt x="359" y="399"/>
                  <a:pt x="389" y="408"/>
                </a:cubicBezTo>
                <a:cubicBezTo>
                  <a:pt x="407" y="434"/>
                  <a:pt x="406" y="423"/>
                  <a:pt x="433" y="413"/>
                </a:cubicBezTo>
                <a:cubicBezTo>
                  <a:pt x="451" y="387"/>
                  <a:pt x="460" y="391"/>
                  <a:pt x="471" y="419"/>
                </a:cubicBezTo>
                <a:cubicBezTo>
                  <a:pt x="442" y="462"/>
                  <a:pt x="484" y="484"/>
                  <a:pt x="520" y="495"/>
                </a:cubicBezTo>
                <a:cubicBezTo>
                  <a:pt x="545" y="531"/>
                  <a:pt x="530" y="615"/>
                  <a:pt x="514" y="658"/>
                </a:cubicBezTo>
                <a:cubicBezTo>
                  <a:pt x="519" y="687"/>
                  <a:pt x="530" y="700"/>
                  <a:pt x="514" y="723"/>
                </a:cubicBezTo>
                <a:cubicBezTo>
                  <a:pt x="507" y="745"/>
                  <a:pt x="507" y="754"/>
                  <a:pt x="487" y="767"/>
                </a:cubicBezTo>
                <a:cubicBezTo>
                  <a:pt x="475" y="805"/>
                  <a:pt x="471" y="788"/>
                  <a:pt x="455" y="772"/>
                </a:cubicBezTo>
                <a:cubicBezTo>
                  <a:pt x="444" y="761"/>
                  <a:pt x="435" y="760"/>
                  <a:pt x="422" y="756"/>
                </a:cubicBezTo>
                <a:cubicBezTo>
                  <a:pt x="391" y="710"/>
                  <a:pt x="432" y="764"/>
                  <a:pt x="395" y="734"/>
                </a:cubicBezTo>
                <a:cubicBezTo>
                  <a:pt x="390" y="730"/>
                  <a:pt x="389" y="722"/>
                  <a:pt x="384" y="718"/>
                </a:cubicBezTo>
                <a:cubicBezTo>
                  <a:pt x="372" y="710"/>
                  <a:pt x="344" y="706"/>
                  <a:pt x="330" y="701"/>
                </a:cubicBezTo>
                <a:cubicBezTo>
                  <a:pt x="314" y="678"/>
                  <a:pt x="302" y="680"/>
                  <a:pt x="275" y="674"/>
                </a:cubicBezTo>
                <a:cubicBezTo>
                  <a:pt x="269" y="654"/>
                  <a:pt x="246" y="632"/>
                  <a:pt x="226" y="625"/>
                </a:cubicBezTo>
                <a:cubicBezTo>
                  <a:pt x="221" y="610"/>
                  <a:pt x="217" y="589"/>
                  <a:pt x="210" y="576"/>
                </a:cubicBezTo>
                <a:cubicBezTo>
                  <a:pt x="204" y="565"/>
                  <a:pt x="188" y="544"/>
                  <a:pt x="188" y="544"/>
                </a:cubicBezTo>
                <a:cubicBezTo>
                  <a:pt x="181" y="514"/>
                  <a:pt x="174" y="501"/>
                  <a:pt x="156" y="473"/>
                </a:cubicBezTo>
                <a:cubicBezTo>
                  <a:pt x="149" y="462"/>
                  <a:pt x="134" y="441"/>
                  <a:pt x="134" y="441"/>
                </a:cubicBezTo>
                <a:cubicBezTo>
                  <a:pt x="128" y="413"/>
                  <a:pt x="130" y="402"/>
                  <a:pt x="107" y="386"/>
                </a:cubicBezTo>
                <a:cubicBezTo>
                  <a:pt x="98" y="362"/>
                  <a:pt x="81" y="344"/>
                  <a:pt x="69" y="321"/>
                </a:cubicBezTo>
                <a:cubicBezTo>
                  <a:pt x="62" y="308"/>
                  <a:pt x="65" y="299"/>
                  <a:pt x="52" y="288"/>
                </a:cubicBezTo>
                <a:cubicBezTo>
                  <a:pt x="42" y="280"/>
                  <a:pt x="20" y="267"/>
                  <a:pt x="20" y="267"/>
                </a:cubicBezTo>
                <a:cubicBezTo>
                  <a:pt x="7" y="229"/>
                  <a:pt x="0" y="225"/>
                  <a:pt x="14" y="180"/>
                </a:cubicBezTo>
                <a:cubicBezTo>
                  <a:pt x="5" y="152"/>
                  <a:pt x="18" y="160"/>
                  <a:pt x="42" y="153"/>
                </a:cubicBezTo>
                <a:cubicBezTo>
                  <a:pt x="54" y="172"/>
                  <a:pt x="53" y="183"/>
                  <a:pt x="74" y="191"/>
                </a:cubicBezTo>
                <a:cubicBezTo>
                  <a:pt x="82" y="213"/>
                  <a:pt x="90" y="214"/>
                  <a:pt x="112" y="207"/>
                </a:cubicBezTo>
                <a:cubicBezTo>
                  <a:pt x="116" y="192"/>
                  <a:pt x="118" y="159"/>
                  <a:pt x="128" y="147"/>
                </a:cubicBezTo>
                <a:cubicBezTo>
                  <a:pt x="142" y="129"/>
                  <a:pt x="167" y="144"/>
                  <a:pt x="167" y="120"/>
                </a:cubicBezTo>
                <a:close/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7760" y="2863800"/>
            <a:ext cx="95400" cy="87480"/>
          </a:xfrm>
          <a:custGeom>
            <a:avLst/>
            <a:gdLst/>
            <a:ahLst/>
            <a:rect l="l" t="t" r="r" b="b"/>
            <a:pathLst>
              <a:path w="60" h="55">
                <a:moveTo>
                  <a:pt x="0" y="0"/>
                </a:moveTo>
                <a:cubicBezTo>
                  <a:pt x="0" y="0"/>
                  <a:pt x="46" y="4"/>
                  <a:pt x="49" y="16"/>
                </a:cubicBezTo>
                <a:cubicBezTo>
                  <a:pt x="60" y="55"/>
                  <a:pt x="21" y="49"/>
                  <a:pt x="0" y="49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47640" y="5029200"/>
            <a:ext cx="7848720" cy="15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a is highlighted on the ma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What city is the capital of Peru?  _______________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is city is located in what direction from Cusco? 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The city of Iquitos is located in what direction from Lima? _________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13160" y="333360"/>
            <a:ext cx="4116240" cy="4419720"/>
          </a:xfrm>
          <a:prstGeom prst="rect">
            <a:avLst/>
          </a:prstGeom>
          <a:ln w="88920">
            <a:solidFill>
              <a:srgbClr val="673811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6440" y="36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talking with a friend. She asks, “Where is Peru?” How would you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re to travel from Texas to Peru, in what direction would you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is closer to Peru?  ___Canada    ___the USA   ___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Verdana"/>
              </a:rPr>
              <a:t>PEh-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8:40:31Z</dcterms:created>
  <dc:creator>wklemm</dc:creator>
  <dc:description/>
  <dc:language>en-US</dc:language>
  <cp:lastModifiedBy>College of Veterinary Medicine</cp:lastModifiedBy>
  <dcterms:modified xsi:type="dcterms:W3CDTF">2008-06-09T17:29:13Z</dcterms:modified>
  <cp:revision>20</cp:revision>
  <dc:subject/>
  <dc:title>Objectives – Social Studies 2</dc:title>
</cp:coreProperties>
</file>