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AB00-B2DC-45EE-9490-C85E18FAB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DA38-F9C4-4B2E-8901-55477CFD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6396-2B13-437B-8570-4014B62D8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3948-3B0F-4982-95C0-24961C45E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29DE-929C-46C2-BDD7-CBE4BAC0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78B2-BB0D-42DA-A687-C6AC11F8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4FD1-B0CF-42EB-BB6F-50BE2F3B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D2D0-8A4B-4078-94D6-4E0A54B7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4CDD-7E7E-4299-AE88-9BE1E2A9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2DB7-9C1C-4998-9C0B-D804FFBE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FD9B-98B8-405E-862A-D2437CCA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B550-19C2-4D72-A338-C7362382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DDF1-B640-4160-AE1E-2F1C18F490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17Z</dcterms:modified>
  <cp:revision>52</cp:revision>
  <dc:subject/>
  <dc:title>Hazards</dc:title>
</cp:coreProperties>
</file>