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E4EB-BAEA-4F13-BCDE-155E08C40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432-16D4-4077-BEC3-D3DBFFED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AFF-8878-4320-9737-FD07C734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55E7-AB60-4D62-A2C1-251CD0B1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A5FF-6420-4664-B2BF-B7ED80AE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994-11CC-4C9D-8E62-CC1B35E4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3F4-DDD6-411D-82BF-0F1F6635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8F95-7EE1-4F7A-8307-0D66169E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E88-A25E-4410-8B60-7C2AD3C5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315-0926-40A1-97F5-C474FD53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A61-7BB3-4B9A-9D97-38F106A2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348-2DC7-4D11-96F7-D0A50F5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4C9-D01C-4C8B-BD46-AF02CBB5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907C-ECF2-49C9-970C-AEFC41436A3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Ljlab</cp:lastModifiedBy>
  <cp:lastPrinted>2002-05-17T17:38:54Z</cp:lastPrinted>
  <dcterms:modified xsi:type="dcterms:W3CDTF">2008-06-09T16:51:16Z</dcterms:modified>
  <cp:revision>657</cp:revision>
  <dc:subject/>
  <dc:title>Investigate the Mystery:</dc:title>
</cp:coreProperties>
</file>