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9125-C8D4-4678-93B9-15CAAD8ED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F76B-6BBF-45AE-831C-16456729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4898-125D-44C1-A337-4269FA513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F846-BBE8-4AAA-8AC7-C3E33F592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1DCD-67E2-4DD4-8A88-FF533271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816D-A194-41AE-93C3-1F6C5F48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A044-0011-4BF5-BC56-9B69F22F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DA7B-77EE-4C06-9256-1F05C4A1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D8FD-4429-4D02-9AD3-B78C1F99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C76C-68FE-4EFC-8C38-10B39CF9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8520-BA96-45B3-9F51-7A5CA94F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B876-EBC4-437B-BE34-B771C684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81C3-5CA0-4116-AC35-8C6D5A6174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8-30T16:20:49Z</dcterms:modified>
  <cp:revision>45</cp:revision>
  <dc:subject/>
  <dc:title>Hazards</dc:title>
</cp:coreProperties>
</file>