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2EC80-ABC2-4C73-8579-CCDF2724D0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C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Writing to express, discover, record, develop, reflect on ideas and problem so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 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 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k students to provide some good adjectives that appeal to all five senses. You may want to show a few of these words first to help get them started. What do they hear? What do they smell? Give them the liberty to make up a story as they describe the pi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8E8B-12A4-4F8F-8F0F-1299FA0F4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1C8C-CE41-405D-A4D9-41B57F060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959B-E94E-48B9-9FDF-67F2E8471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2672-A7EE-4577-8133-FDBD9F4BD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5376-A155-4323-B76F-8CAC8DE24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37F9-8170-4797-BD72-D7EA31C09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6569-9126-4768-9A9A-BFEC74F50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2B7E-FC32-4C34-B052-391F716A0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C771-E983-4177-988D-89A2FB625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FA63-060A-467A-BB25-5ADB78F85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37C7-966F-45A1-BF90-CD2248F76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9F64-BA2D-4574-B1E7-DDEC0F2BF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F792F-8A10-429D-8D29-4B0B31B2F5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liff-in-Clouds1" descr=""/>
          <p:cNvPicPr/>
          <p:nvPr/>
        </p:nvPicPr>
        <p:blipFill>
          <a:blip r:embed="rId2"/>
          <a:stretch/>
        </p:blipFill>
        <p:spPr>
          <a:xfrm>
            <a:off x="206280" y="104760"/>
            <a:ext cx="8793360" cy="6642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nsory Detail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1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nsory details are details that appeal to any of the five sens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od sensory details and words in a descriptive essay actually take a person to a place where they can see, hear, smell, and even feel the descrip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mokey-Light1" descr=""/>
          <p:cNvPicPr/>
          <p:nvPr/>
        </p:nvPicPr>
        <p:blipFill>
          <a:blip r:embed="rId2"/>
          <a:stretch/>
        </p:blipFill>
        <p:spPr>
          <a:xfrm>
            <a:off x="206280" y="100080"/>
            <a:ext cx="8785440" cy="66466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Describe This Pi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1752480"/>
            <a:ext cx="266724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257800" y="1752480"/>
            <a:ext cx="266688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3760" y="1752480"/>
            <a:ext cx="2514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l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e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lori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wak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Ear pier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Warm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urr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837720" y="1752120"/>
            <a:ext cx="2590920" cy="41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Da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en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agr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ri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li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rilli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weet aro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20:08:20Z</dcterms:created>
  <dc:creator>ITMD</dc:creator>
  <dc:description/>
  <dc:language>en-US</dc:language>
  <cp:lastModifiedBy>ljlab</cp:lastModifiedBy>
  <cp:lastPrinted>2002-01-04T15:57:18Z</cp:lastPrinted>
  <dcterms:modified xsi:type="dcterms:W3CDTF">2003-01-16T18:37:15Z</dcterms:modified>
  <cp:revision>28</cp:revision>
  <dc:subject/>
  <dc:title>Sensory Details </dc:title>
</cp:coreProperties>
</file>