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63C60-8598-430E-A7F8-74D72CB32D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rehens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bulary Challenge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B: The student is expected to: draw on experiences to bring meanings to words in context such as interpreting idioms, multiple-meaning words, and analogies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: use multiple reference aids, including a thesaurus, a synonym finder, a dictionary, and software, to clarify meanings and usage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Im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Specim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Irrelev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Malnouris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forebo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Monstros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Rel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Assass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8754-7E4D-42BC-B904-9D47A373E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E0C1-4150-4E44-AB95-0ED035EC4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5F84-48EC-4352-BB8A-6A9A8AEAD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5962-0A11-4256-A1AB-72AF6C362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3DA8-6AD8-4901-84E1-62FC792C6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543D-629A-42AA-8A6E-C280B88DD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3530-3C7C-4C90-A4C5-02F37EF5A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7FAA-1383-4AE6-8BF1-AC3E35889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948E-6CCC-4410-8AA1-E3B96EA6E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7C0F-338C-4ADE-8047-9037000C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FE97-0191-4687-BBB0-8AEB8234C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0439-9EEC-4503-A02C-38549586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C321F-FE0D-48CB-AB27-89080E74EB9E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PeVocab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80880" y="13716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lease fill in the blank with the correct word from “The Kiss of the Assassin.” Use the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Glossary of Terms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as a resource if need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 needed expert advice on ancient Peruvian temples for my report, so I scheduled an interview with the __________ of the museum of Peruvian artifac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My final report on Peru was  ___________. It covered all aspects of the country including geography, culture and economic issu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37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order to prevent the crime in this story, Connie and Roman had to _________ a strategy quickl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order to find out more about the behavior of the black beetle, scientists select a few beetles and study the characteristics of each   _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feelings of the Peruvian people about their ancient relics were _________ to the villain in this sto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137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 knew that the stray cat at the archeological site was __________ because I could see the outline of his ribs through his fu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pry’s actions were the reason for Connie’s feelings of ___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800" y="137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pile of trash left behind by the tourists who came to see the archeological site was a _____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y studying _________ of ancient cultures, we can learn about the pas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0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sect was the __________ in this sto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1T19:07:46Z</dcterms:created>
  <dc:creator>Instructional Technology</dc:creator>
  <dc:description/>
  <dc:language>en-US</dc:language>
  <cp:lastModifiedBy>Vince Hardy</cp:lastModifiedBy>
  <dcterms:modified xsi:type="dcterms:W3CDTF">2007-05-03T15:06:30Z</dcterms:modified>
  <cp:revision>26</cp:revision>
  <dc:subject/>
  <dc:title>PowerPoint Presentation</dc:title>
</cp:coreProperties>
</file>