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244C-EF6C-4A24-8215-CB327994D8A8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6A6E-071D-4F4F-ADBC-C27542F50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1E99-0FB7-429D-8F38-0FEA5D37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2D77-B422-44AB-A345-94C9A8964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8A62-A0E5-4A8C-9A29-8021AB0B4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8367-E2C6-4187-B474-D6C3CF48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199B-D910-46C9-AC47-C19E3CAA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6E95-CA32-4489-9367-A5D16AC1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3489-4969-4662-AC2E-84968B09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060E-3CD6-44E5-B2ED-9981B9F6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B225-78D0-4F9A-8CFA-C82716E5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510B-1CED-4881-B4EF-CF0BAE1B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C4F6-111E-49BA-9DF7-47B93642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E245-D4D8-4F4C-8AB5-B1D36CC034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itstudent</cp:lastModifiedBy>
  <dcterms:modified xsi:type="dcterms:W3CDTF">2002-08-06T19:36:00Z</dcterms:modified>
  <cp:revision>14</cp:revision>
  <dc:subject/>
  <dc:title>Informative Essay</dc:title>
</cp:coreProperties>
</file>