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B3C3-310C-4373-80B0-0DE323C87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D07B-6F4E-4528-A0C0-FB9FF55C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64A3-3E81-481D-A720-CD9758F44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DCF6-3961-401E-8711-4E3D12840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B7E0-403A-4960-B45B-9664F0DA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A550-36A2-44CF-8786-18477C33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243D-F56E-447F-95E4-6B80C01B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9158-94DB-4182-A8FE-E7FC31BC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D484-D791-42D4-A735-6223B1BC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A4EA-EF55-49F8-BC98-10B33638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A9D5-0C35-4D0C-B221-DC378E8C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1B82-BEEF-45B1-93BC-A7863DEE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AC25-5452-4B7A-87CC-DF59250918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, contaminat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3T14:46:38Z</dcterms:modified>
  <cp:revision>52</cp:revision>
  <dc:subject/>
  <dc:title>Hazards</dc:title>
</cp:coreProperties>
</file>