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6411-C2D2-4322-8F94-763FE6651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A3A-1922-46ED-A104-CE8EB922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E4F-CA73-4D85-9595-490F365C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1F5-96CD-4726-9D31-17761BA4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BEA-F664-4AD0-B487-B7D320AE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9F77-350B-4021-B855-72F2E16F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2F3-859B-4366-8BE6-F7278F22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C94-BEE8-4383-95C5-894492C6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196-F5C7-44EE-A5F2-F4E88D18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902-DB48-40F0-83AA-58B5368A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70FB-2C2D-470B-9659-EBDA5064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7CF-E76D-4350-98A0-A5A9BA56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D26-9A27-46C1-92D0-220E5F21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E9CE-8528-4F33-A928-45370EBEF7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vhardy</cp:lastModifiedBy>
  <dcterms:modified xsi:type="dcterms:W3CDTF">2002-12-19T23:01:53Z</dcterms:modified>
  <cp:revision>8</cp:revision>
  <dc:subject/>
  <dc:title>Adverbs Adverbs modify verbs, adjectives, or other adverbs.</dc:title>
</cp:coreProperties>
</file>