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822B-774D-4947-849D-66771BC1E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2B46-0E46-49F2-BFBB-7249A3B47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1D79-9341-4FAE-88BF-D03B118E0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83C6-6E6D-41FA-B728-31ACD2488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253E-94FF-44F6-87CC-9940A17ED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87E0-2046-4405-A7FA-0FF0E0DFE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F2F8-EDA6-43A9-9A86-7B2084584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4324-9A89-4422-801C-ABD505065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31A5-6968-4C48-B0EC-F8DB769FB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D952-3E15-4FFF-B011-E82F514AC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9799-AE9F-4555-BCED-E3BF7025F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EF0B-50EC-47AC-93A0-C9BC41CB3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E4C49-E6B4-4D70-9379-279491DB56D0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jective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jectives modify nouns or pronou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Using adjectives gives an accurate description of the object at hand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?  What kind?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 many?  How much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21:31:57Z</dcterms:created>
  <dc:creator>ITMD</dc:creator>
  <dc:description/>
  <dc:language>en-US</dc:language>
  <cp:lastModifiedBy>vhardy</cp:lastModifiedBy>
  <dcterms:modified xsi:type="dcterms:W3CDTF">2002-12-19T23:01:26Z</dcterms:modified>
  <cp:revision>61</cp:revision>
  <dc:subject/>
  <dc:title>Locating Places</dc:title>
</cp:coreProperties>
</file>