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E2B05-A179-4337-9E7A-DDD38E81B8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BF951-F654-4002-816C-7E8C44C0E7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91440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Social Studies –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2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social studies terminology correct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22 (A), 8.31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FA06B-265D-40E0-AF7B-15BE504CC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661A3-FDF2-4FEC-B183-6E27B214B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A1F3E-F99A-43A4-877D-AB322B1CD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D0716-242E-4C29-81C3-482598307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03219-95A2-4EB0-AFC4-943A0FBE0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76A35-7600-48A1-8EC4-1A0742D54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CC743-FAAD-457B-98EE-8C9F9CAD2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FF6B1-5C10-458F-B725-8DDFE6816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4DC27-03CC-42BB-8CF6-CBA480423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9DF97-8E4A-4DE1-A1CF-5EBB0B26D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C7294-FD8E-4E58-8D76-C16E1E537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CC44A-9BE8-42F2-816D-08183375E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E8404-3FC0-4CBB-B145-DB9BA88CC87A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1760" y="380520"/>
            <a:ext cx="7770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Precipitation and Temperatur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1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Precipitation includes all forms of moisture falling to the surface of the earth. (Examples: rain, sleet, snow, hail)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181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Temperature is how warm or cool the air is outside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5T14:23:11Z</dcterms:created>
  <dc:creator>Charles C. Farnsworth, Ph.D. - Instructional Design</dc:creator>
  <dc:description/>
  <dc:language>en-US</dc:language>
  <cp:lastModifiedBy>Vince Hardy</cp:lastModifiedBy>
  <dcterms:modified xsi:type="dcterms:W3CDTF">2007-01-12T21:51:41Z</dcterms:modified>
  <cp:revision>23</cp:revision>
  <dc:subject/>
  <dc:title>What’s the difference between weather and climate?</dc:title>
</cp:coreProperties>
</file>