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EFA6A-A47B-491B-BD99-2B78676D83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8BD0-C5A5-40A5-91CD-D0CD99561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95EF-B518-4D85-81D6-C796B0BF6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7317-725C-445A-8E8D-699821DC1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3D2E-C4C2-46F0-8120-3B28A745B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A007-8318-4AFE-8F2E-9E91BF268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D931-CD51-4A31-820A-67A461502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E849-D265-4402-A4CF-0C902061F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94A7-D380-4485-A39F-B129F3BDA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B429-3946-449B-94FC-4AE5008A5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FCBF-9D76-417E-AB5D-11E0E1DC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AEC0-38F9-4B14-81F1-44158B26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FD3E-B9F5-489A-8D6C-1887B8D3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F6592-8FF5-41A6-BE66-F3FABCC6CB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ngth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ches per Centi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centimeter = 0.394 inc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eet per 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eter = 3.28 feet = 1.09 y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les per kilo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ile = 1.6 kilome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8:42Z</dcterms:created>
  <dc:creator>ITWorkstation</dc:creator>
  <dc:description/>
  <dc:language>en-US</dc:language>
  <cp:lastModifiedBy>Texas A&amp;M Veterinary Medicine</cp:lastModifiedBy>
  <dcterms:modified xsi:type="dcterms:W3CDTF">2004-10-28T19:23:48Z</dcterms:modified>
  <cp:revision>8</cp:revision>
  <dc:subject/>
  <dc:title>Length Conversions</dc:title>
</cp:coreProperties>
</file>