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50BB-B035-40D8-B83E-27AFEC4B8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5693-2D64-4B35-ADC5-1B2A4E7F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9C1C-2C94-414F-AEBD-8CAE57AA5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4A4B-54B3-4A33-93C0-A6879C68B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5C6E-339C-4D14-AE92-BF2654BE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5AB2-B75B-4FAF-AB6A-794AB75B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A8F8-D3CF-412C-9164-798AA01B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2569-53CB-465E-AFDE-4BD10006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44B0-4923-40AA-A168-CFDB9A3F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8C40-1431-4752-ABB7-EBB9E2B2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9000-7A23-4419-BD15-14F2DB55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187B-0874-450E-AF47-8D2A4FE0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35A2-8E0C-415B-9A60-48A2497890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55Z</dcterms:modified>
  <cp:revision>51</cp:revision>
  <dc:subject/>
  <dc:title>Hazards</dc:title>
</cp:coreProperties>
</file>