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FC21-6DD3-4481-B8F2-CF75F8F9C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C754-F121-45A3-AAF9-65B3F2508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9D38-DA7B-4224-AD1F-B05D4F37E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2B7C-38CC-4498-88A2-18765A903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B953-B940-4A04-9413-120FC029A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242B-8D3A-4C78-BAA3-562CE7875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1694-2A65-4AFD-BD77-12BA9DF2B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ABC2-9C35-4224-9DE0-15F5F4BF9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D6FC-0D39-4A9F-B1DB-6778F9F3E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69B1-F808-4DE7-A0E4-39A22D234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F006-446E-4C8A-8D65-E0188FEB4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E503-3094-49EB-8318-4B50B9468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D7052-0803-42F5-BE0D-191369896D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liomyeli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0512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fever, malaise, headache, nausea and vomiting, excruciating muscle pain and stiffness in the neck and 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8098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gestion or inhal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Poliovirus. Usually spread through contaminated f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7:47Z</dcterms:created>
  <dc:creator>Texas A&amp;M Veterinary Medicine</dc:creator>
  <dc:description/>
  <dc:language>en-US</dc:language>
  <cp:lastModifiedBy>Texas A&amp;M Veterinary Medicine</cp:lastModifiedBy>
  <dcterms:modified xsi:type="dcterms:W3CDTF">2007-09-03T13:27:50Z</dcterms:modified>
  <cp:revision>1</cp:revision>
  <dc:subject/>
  <dc:title>Poliomyelitis</dc:title>
</cp:coreProperties>
</file>