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C83F-2E13-4CD3-9E37-93A992DA0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4D0-37F4-4309-8ACF-60D8A499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B6D-AA45-4D4A-B39B-A4C28807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01B-4585-408F-B1DF-4EBAB7C2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5EB2-7BD8-44FD-99DA-3E84A91E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CE1-1E65-4179-A498-9EBE09DE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73F-9D08-49FB-872D-886CCDF5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23C-0D4B-4B60-A598-09159AB2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EB4-19ED-44B1-B624-0D34B4DB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008-214D-47B7-8AC2-39970E17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88F-080E-40C3-99DD-642C0E16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C7E-FE18-44E0-8A06-103C9EFD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C77-6FB4-4E7F-985E-B7790AFC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CF17-EAAB-4BAC-881F-11C6C966C89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Ljlab</cp:lastModifiedBy>
  <cp:lastPrinted>2002-05-17T17:38:54Z</cp:lastPrinted>
  <dcterms:modified xsi:type="dcterms:W3CDTF">2008-06-09T16:51:16Z</dcterms:modified>
  <cp:revision>657</cp:revision>
  <dc:subject/>
  <dc:title>Investigate the Mystery:</dc:title>
</cp:coreProperties>
</file>