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8F3F-A8BC-4AEF-961E-D68A770E6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9891-F6A4-4D9E-887A-260EFE1C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5DC7-DCC4-4F57-9A9F-31C163338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6928-B15D-4F9A-A3CE-B7599DB8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6C1E-F226-440C-A22B-7B2E27FF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0672-03CE-4EF7-8508-52D33579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5A20-54A4-4069-8027-F132E780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0D44-A95F-4179-9CA5-4220A9B1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88EF-9E2F-4B97-BFA3-1719BDF8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9ECB-B2F9-4823-B6F6-187782B7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500F-C5D5-40F5-905C-71BBE30C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B2E1-E872-40BE-9997-94A05425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D36A-76F1-47B3-86B0-0A18A38AE2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45Z</dcterms:modified>
  <cp:revision>49</cp:revision>
  <dc:subject/>
  <dc:title>Hazards</dc:title>
</cp:coreProperties>
</file>