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C66AC-5DE4-4AF5-ACBA-BB7A461E2C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AA78D-CB89-4697-86A0-01FAA53C9D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6DAF6-E53A-4DBD-95E8-BD50E0C8DF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70454-C8A2-44D3-89FA-C569F35696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EB017-F52B-4767-B9D7-592ECDBC1B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44B7F-007A-4DCE-A6EC-4D615B97AF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1838E-B405-4269-81E4-6B4F4380EE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DCF2F-603E-48D7-AB8C-9305706FBB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02C7F-53C3-4810-92CF-7ECFE9CF45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3377F-13F7-4F26-B84E-3B2C3B11BD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2BD0B-D235-4DEB-B78E-AC982F8206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9ECF9-224C-40EF-916B-610F13EF91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B47E6-4A71-421A-8B60-F59DFF8EFCC5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 it is written as a PERCENT, the decimal number is the part and 100 is always the whole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3C9F8-3472-4079-A692-FF4643E42BC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) Multiply the decimal by 100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) Add a percent sign after the answer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or 100%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.83 or 83%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97200" y="4724280"/>
            <a:ext cx="345132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E0276-BD83-4C39-BA6B-310DC746DF2D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09Z</dcterms:modified>
  <cp:revision>211</cp:revision>
  <dc:subject/>
  <dc:title>VTPP 423 - PHYSIOLOGY</dc:title>
</cp:coreProperties>
</file>