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8861B-3897-4FCC-9625-4B06CD31F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AFBD-7877-44E1-B426-826CB2863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40FE-0F2E-4087-9C41-DA0A084C9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B287-26D9-4DA0-A9E8-11DABB3A4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0CE0-5260-480A-8159-46A6A721A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9621-5B0E-4777-80D0-BD2473539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5FC7-BC21-4F4B-A856-1D4269342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76EF-8658-4AE2-A6A8-5E7788D97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4C37-D28A-4A21-8E12-D820A291C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659E-A5CC-4A25-823B-698B7B29A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F6ED-C3F5-4367-9690-AF280CF6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CF30-99EB-4AD6-B23C-15599F76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7610-8009-493D-BA02-3B1A139E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A0A8D-6327-4C80-BB4E-CD69E6F084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ljlab</cp:lastModifiedBy>
  <dcterms:modified xsi:type="dcterms:W3CDTF">2003-09-11T17:19:02Z</dcterms:modified>
  <cp:revision>6</cp:revision>
  <dc:subject/>
  <dc:title>Metric Multiplication Factors</dc:title>
</cp:coreProperties>
</file>