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8909-BFEC-4753-831A-CE0D10028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8432-0BD3-45E5-8072-3330B0B8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CF95-9E1E-47B5-B2C1-710159588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8CE6-0BA8-45B4-A91A-47913C22D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E9D1-C4FC-40CD-BA56-CA269949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3908-1574-41A3-8A0A-9E25E399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C540-8C4C-4A00-ABAE-D07B346E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41F6-B2F1-43CE-A66A-3CB94D42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464E-4235-4816-90A3-C2D78396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D78E-B416-4FE7-9BA2-72BDC885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4324-7DF4-4355-B340-050EC339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D41C-FFA9-4612-B890-E41D45E2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9A2E-34BE-49E2-A7A3-9F821FF033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5:34Z</dcterms:modified>
  <cp:revision>45</cp:revision>
  <dc:subject/>
  <dc:title>Hazards</dc:title>
</cp:coreProperties>
</file>