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38BD-8275-47BA-A61B-653806055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2BE5-8B6F-4E4D-AE6D-1A20AA41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0A6C-5997-4F49-8C84-63FCBB840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CD7E-D87C-4C60-A5DA-1CB2F8788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7A75-3AAE-47A9-BBB2-FA88C779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4817-D585-447F-9AC7-4DFF8DAB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5B8F-22C4-45D2-BEFF-4B036ABD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BB9E-8BE5-4724-851A-B965238F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AE0D-C917-4112-8FB0-11E4F4E5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7C4E-573C-4290-87E8-1F71EA4B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1199-DCD9-46E1-93C4-5CF5DAA5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21F0-3AAC-4FD3-A1C0-2F86E69E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7720-51A3-4802-85B3-1F520D2D72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8-30T16:20:49Z</dcterms:modified>
  <cp:revision>45</cp:revision>
  <dc:subject/>
  <dc:title>Hazards</dc:title>
</cp:coreProperties>
</file>