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7FCFF-5385-44F2-A3B4-084531AB79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952560" y="0"/>
            <a:ext cx="5010120" cy="375912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0" y="3860640"/>
            <a:ext cx="6858000" cy="52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85392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281EB-5F3A-4BA4-8B3F-A7DFF4E63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208ED-CF64-4309-BECA-ADB46D105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B4D1D-1B0D-4376-8A70-3908CCC73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52EE1-0FAF-489C-963F-E4D4B4534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31481-9D94-4A52-BFB9-FD5F5545E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CE77D-7507-426C-A8A3-22CEB707F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4D705-3223-4748-B7CE-7AE3B1FA2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A5E3C-395C-46FC-9D4F-B0C42EE6D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98DD0-917D-4A5F-B3F6-00D40D154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C9FC0-6405-4D94-BA73-788866F5B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2ADB1-8A2A-424C-BCCA-0370BA289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54A27-868E-46E4-9A3C-4C8AB34AA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600B5-F7E7-4A02-BBDF-BAEF2300ED8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304920"/>
            <a:ext cx="77709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7240" y="1904760"/>
            <a:ext cx="7770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2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Times New Roman"/>
              </a:rPr>
              <a:t>Climate is the average condition of the atmosphere (like temperature and precipitation) over a long period of time.  It is the average of weather conditions in a place.</a:t>
            </a: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26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For example, over the past 40 years, New Jersey has had an average temperature of 32 º Fahrenheit and an average precipitation of 2.8 inches during the month of February.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Weather is the state of the atmosphere at a </a:t>
            </a:r>
            <a:r>
              <a:rPr b="0" lang="en-US" sz="2900" spc="-1" strike="noStrike" u="sng">
                <a:solidFill>
                  <a:srgbClr val="ffffff"/>
                </a:solidFill>
                <a:uFillTx/>
                <a:latin typeface="Times New Roman"/>
              </a:rPr>
              <a:t>given place and time</a:t>
            </a: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en-US" sz="29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24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For example, the temperature right now in New Jersey is 56º F and it is snowing.  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Just as weather differs from day to day, climate differs from place to place.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5T14:23:11Z</dcterms:created>
  <dc:creator>Charles C. Farnsworth, Ph.D. - Instructional Design</dc:creator>
  <dc:description/>
  <dc:language>en-US</dc:language>
  <cp:lastModifiedBy>Vince Hardy</cp:lastModifiedBy>
  <dcterms:modified xsi:type="dcterms:W3CDTF">2007-01-12T21:51:09Z</dcterms:modified>
  <cp:revision>19</cp:revision>
  <dc:subject/>
  <dc:title>What’s the difference between weather and climate?</dc:title>
</cp:coreProperties>
</file>