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F793-D6FD-4C9A-915D-574D59D68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914B-62E3-451F-9A5D-B864AA64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8B7F-DD53-4A42-9521-57641A1C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22AE-E55B-472F-98D3-E80C27B9C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6A20-3F70-4B48-9CA5-CE4C84B90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2906-BED2-4C0A-BABD-5C1984AC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F047-5681-4AC3-9E6F-311003BE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A576-2A36-4B9E-8138-16A7F4EA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C59E-3E46-4A5A-B1C2-49BC61E5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6690-D009-4D1F-872B-8D23846A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CD2B-77CA-4C75-8B2D-B33C818F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A406-2B85-4FE0-80B5-DC75EFCE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068F-BE8B-4E40-A23A-D37877AF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7691-9046-46A8-850B-7DF745773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1-16T18:37:15Z</dcterms:modified>
  <cp:revision>28</cp:revision>
  <dc:subject/>
  <dc:title>Sensory Details </dc:title>
</cp:coreProperties>
</file>