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D9B1-19CF-493C-9A45-592E1622A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50F7-C812-4C90-BFA2-878316270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ACB3-D3C0-4BC6-B186-848409C52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AC93-FA1A-4ACD-9953-3CABD836A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DD58-2790-4851-83DB-F172BED23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4249-2A34-4E22-8220-7F167CF9F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C2C8-F7EA-4630-B9B8-451A59913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35D7-926A-4F17-BE8A-CA0F8456D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B61F-6C67-4B5A-B1D0-16FE5F831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10B0-EF5C-487A-B2F0-0C8A8F6D7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1D08-0277-4717-B4DF-46147976A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CA17-483A-4AD5-A7A5-56562EEDE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3FDEE-A570-4C39-9D3A-D838BE88001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b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2407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and general malaise.  May include insomnia, anxiety, confusion, slight or partial paralysis, excitation, hallucinations, agitation, hypersalivation, difficulty swallowing, and hydrophob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50292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aliva of infected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6:00Z</dcterms:modified>
  <cp:revision>46</cp:revision>
  <dc:subject/>
  <dc:title>Hazards</dc:title>
</cp:coreProperties>
</file>