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62EC-8488-40E1-9C00-D49FD0E5C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0449-5EE3-4E18-9256-F5C2579BF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CFE5-4C05-4CC9-A8E5-C653E1B6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964E-F2A7-4B87-B4BF-D875B87C5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0863-AEBC-4A95-88C2-6C1F47FB8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FC33-DA3B-408B-A8B1-FBAA344F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78E5-1FC2-482E-8F99-5EA9D5A0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8647-58CB-4EE2-9DA0-F678143C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CAAF-5DA2-4AEB-BBA3-7D613903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F301-A41B-43A6-BF7F-76720B77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F2E6-388D-4151-AAE0-248C30BE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1908-30FE-4443-A44A-6A9AE5BC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33F6-43A9-4F41-9AAA-8395AC9D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01DD-F567-478F-AB52-9A13F41659D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vhardy</cp:lastModifiedBy>
  <dcterms:modified xsi:type="dcterms:W3CDTF">2002-12-19T22:49:20Z</dcterms:modified>
  <cp:revision>23</cp:revision>
  <dc:subject/>
  <dc:title>What Do I Say?</dc:title>
</cp:coreProperties>
</file>