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E2E6-7041-481D-882C-D8C57E8A4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E24B-789A-427C-9A87-B5B9D9715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1933-CE8B-46E6-9936-D0773DB8E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2831-3BDB-43A1-BD3F-DB1E5D3C7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047C-2367-48BB-8922-7118ADD3E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9B51-D35F-47C0-BD13-868F7C27B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320A-15E8-43A8-BAA3-82CE3D522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2B37-9A88-40D4-8753-CBC0BE5DE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28F6-28B6-440B-B85E-FE4E6C771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F64A-5C39-430B-8A88-65EB1D58D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7911-46F4-42AF-83BB-71B7575AD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F3A0-E312-4970-840A-B33765C15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6A6BB-57C3-45D4-838A-FA65911BC5B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IDS (Acquired Immune Deficiency Syndrome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2286000"/>
            <a:ext cx="7925040" cy="283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apid weight loss, dry cough, recurring fever, profound fatigue, swollen lymph glands, diarrhea, unusual blemishes on tongue and in mouth, pneumonia, memory loss, depression, red/purple blotches on or under the skin or inside the mouth/n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5334120"/>
            <a:ext cx="792504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lood-to-blood and sexual contact with infected pers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Ljlab</cp:lastModifiedBy>
  <dcterms:modified xsi:type="dcterms:W3CDTF">2005-01-21T19:04:07Z</dcterms:modified>
  <cp:revision>42</cp:revision>
  <dc:subject/>
  <dc:title>Hazards</dc:title>
</cp:coreProperties>
</file>