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F8C64-1439-465C-A599-04B9AAB95877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luenc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3 (A, B, E, G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Forming and revising questions for investig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 Using text organiz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Using multiple sources to locate in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ummarizing and organizing information from multiple 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) Drawing conclusions from information gathered from multiple 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3 (A, B, E, G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Forming and revising questions for investig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 Using text organiz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Using multiple sources to locate in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ummarizing and organizing information from multiple 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) Drawing conclusions from information gathered from multiple 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E, F, H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electing and using voice and style appropriate to audience and purp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) 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) 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6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sing original texts, applying the conventions of written language to communicate clear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7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ying standard grammar and usage to communicate clearly and effectively in writ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, C, D, 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 Developing drafts by categorizing ideas and organizing th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Revising selected drafts by adding, elaborating, deleting, combining, and rearranging tex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) Revising drafts for coherence, progression, and logical support of ide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Editing drafts for specific purpo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E, F, H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electing and using voice and style appropriate to audience and purp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) 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) 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E, F, H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electing and using voice and style appropriate to audience and purp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) 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) 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A3918-9FCC-4004-AF30-8366685FC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70D8D-DCE9-4268-9DCA-6789F9BE2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1CCBC-ED11-4265-8885-141BC2F77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5B400-7155-4B88-A5C8-A1A98FD30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48BA3-0121-49F7-B35E-D11DDF0C1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6B92E-8EAC-4159-935D-D0BB7487B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04E15-3F05-4DBB-8B07-D4E62454B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4EF09-55DD-4140-A37F-96B52B7F4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A8B8D-52DB-4D1E-BD0D-BA2B4962F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4A36E-DE9E-4AA6-802B-9C62037E2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2A176-D21F-401C-B3A8-333B827FB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39E1A-14C0-4F42-9491-D1BBE3AD2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346B7-8462-481B-BF7E-C1F4F9052B66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omparing and Contrasting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n essay that compares and contrasts explains how two or more things are alike and how they are different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1061720" y="1766880"/>
            <a:ext cx="1440" cy="1440"/>
          </a:xfrm>
          <a:prstGeom prst="rect">
            <a:avLst/>
          </a:prstGeom>
          <a:solidFill>
            <a:srgbClr val="5b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518840" y="1628640"/>
            <a:ext cx="1440" cy="1800"/>
          </a:xfrm>
          <a:prstGeom prst="rect">
            <a:avLst/>
          </a:prstGeom>
          <a:solidFill>
            <a:srgbClr val="51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0518840" y="1628640"/>
            <a:ext cx="1440" cy="1800"/>
          </a:xfrm>
          <a:prstGeom prst="rect">
            <a:avLst/>
          </a:prstGeom>
          <a:solidFill>
            <a:srgbClr val="51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1296800" y="1174680"/>
            <a:ext cx="2880" cy="1800"/>
          </a:xfrm>
          <a:custGeom>
            <a:avLst/>
            <a:gdLst/>
            <a:ahLst/>
            <a:rect l="l" t="t" r="r" b="b"/>
            <a:pathLst>
              <a:path w="3" h="0">
                <a:moveTo>
                  <a:pt x="3" y="0"/>
                </a:moveTo>
                <a:lnTo>
                  <a:pt x="3" y="0"/>
                </a:lnTo>
                <a:lnTo>
                  <a:pt x="0" y="0"/>
                </a:lnTo>
                <a:lnTo>
                  <a:pt x="3" y="0"/>
                </a:lnTo>
                <a:close/>
              </a:path>
            </a:pathLst>
          </a:custGeom>
          <a:solidFill>
            <a:srgbClr val="35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0115640" y="1217520"/>
            <a:ext cx="1440" cy="18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2514600" y="3809880"/>
            <a:ext cx="4103640" cy="23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Now You Try I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ist two things that you can compare and contrast.  For example, compare and contrast your preferences in music to those of your parent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old a sheet of paper in half lengthwise.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ist all the ways the music you like is 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different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from the music your parents like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n the other side, list all the ways that the music you like is the 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same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as the music your parents prefer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Possible Points to Compare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ypes of Music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Rock and roll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Rap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Techno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Classical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ypes of instrument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Electric guitar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Violin or other symphonic instrument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4280" y="190512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rtists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Specific bands or singer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Vintage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When was the music recorded.  For example: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Golden Oldie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Contemporary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oudnes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Getting it on Paper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evelop your lists into sentences, then into paragraph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Elaborate on the details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hoose how you will organize your comparison and use that plan throughout your essay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Ways to Organize a Compare/Contrast Essay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One Approach…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escribe all the similarities in one paragraph, and all the differences in another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or example, describe the music you like in one paragraph and the music your parents like in the next paragraph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Or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More Organization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nother Way to Go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hoose a specific aspect of the subject to compare and contrast in each paragraph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or example, in the first paragraph you might explain that you like rap and your parents prefer classical (contrast/difference), but you both like rock and roll (comparison/similarity). In the second paragraph, you might explain that you like contemporary artists while your parents prefer artists of the 70’s and 80’s (contrast/ difference)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Simple Ways to Compare Objects</a:t>
            </a: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1980720"/>
            <a:ext cx="38102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olo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hap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z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ast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extur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Use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4191120" y="1905120"/>
            <a:ext cx="3736800" cy="299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11T15:04:10Z</dcterms:created>
  <dc:creator>Gina Balducci</dc:creator>
  <dc:description/>
  <dc:language>en-US</dc:language>
  <cp:lastModifiedBy>vhardy</cp:lastModifiedBy>
  <dcterms:modified xsi:type="dcterms:W3CDTF">2003-05-29T00:06:40Z</dcterms:modified>
  <cp:revision>32</cp:revision>
  <dc:subject/>
  <dc:title>Comparing Apples to Oranges</dc:title>
</cp:coreProperties>
</file>