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1AA1-FC34-4493-8F74-45EA10125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332A-FD8A-48F0-B8FA-197DF80C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25E9-B815-40A6-B63F-72CAC8E55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EDAC-679C-43BB-9B8E-9FCF8A14D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8A59-5D37-4D15-B5DC-3870450D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E8A1-652B-49B5-8518-A2EEEDD0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D543-A00A-4FBC-B1BF-AF404A62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50D9-797B-451B-AB20-AED6ED8B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5200-5C8D-419A-BD8E-59053ED6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F65A-8E04-4AAC-B13F-A0A8EF80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C3B1-47BF-4701-BC96-ADB06D50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0224-5AC7-42B9-8E20-42B1B538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9057-27DD-41F7-A40A-CD8246321C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07Z</dcterms:modified>
  <cp:revision>46</cp:revision>
  <dc:subject/>
  <dc:title>Hazards</dc:title>
</cp:coreProperties>
</file>