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6D62-88BE-459E-93A7-F039BE9DE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. east to w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n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B. coo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Use study strategies to learn importa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. less water vapor than warm 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. war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Offer observations, connections, and questions in response to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Explain how physical processes made physical patterns on the su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scribe the physical processes that produce natural 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 Identify and analyze ways people adapt to the physical environ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D) Communicate valid conclus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D) Communicate valid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D) Communicate valid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3 (D) Interpret and use graphic sources of information to answer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A) Describe and predict the impact of different catastrophic events on Ear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C) Make inferences about effects of human activities on Earth’s re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B) Analyze how natural or human events may have caused exti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C) Describe how human activities have modified soil, water, and air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6FC-9127-4813-A06C-3C5F264A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64BA-AD89-4CFB-9760-FAE00F9B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F65-5E4A-41C3-AD8E-49F60153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78CC-C375-42F8-919B-83F968FE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A16-3B51-4CC4-AD0C-36724261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901-8DF2-4111-8B33-D44C3738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D945-F009-43C3-8DF3-14FCAE67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A23-9383-425A-BA36-D7EDEB8F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81D-F445-4906-A6C8-3D133426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874-EA61-4701-ABD1-5CDA4221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C035-D2C2-45B5-B2D1-CE23AAA1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716-4A66-4CEB-8D9E-AE96D8EA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77C7-7643-4BBA-BED8-78980990D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Appendices/PrecTemp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66680" y="3352680"/>
            <a:ext cx="7162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y air on the other 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3962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air travels over the mountain and starts to make its way back down, the air gets warmer and is no longer moi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the air on the west side of the mountain is dry and the air on the east side of the mountain is w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990720" y="784080"/>
            <a:ext cx="7521480" cy="3635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eru, the prevailing winds blow fro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east to we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west to e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name of Peru’s large mountain range over which the winds blow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ir rises up a mountain, the air becomes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warm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coo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ler air holds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less water vapor than warm 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more water vapor than warm 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ir moves down a mountain, the air becomes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war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coo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80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1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3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peer.tamu.edu/forms/Curricula_Survey.s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climate in different parts of Peru and explain why it va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808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4648320" y="2057400"/>
            <a:ext cx="3833640" cy="3438360"/>
            <a:chOff x="4648320" y="2057400"/>
            <a:chExt cx="3833640" cy="3438360"/>
          </a:xfrm>
        </p:grpSpPr>
        <p:grpSp>
          <p:nvGrpSpPr>
            <p:cNvPr id="55" name=""/>
            <p:cNvGrpSpPr/>
            <p:nvPr/>
          </p:nvGrpSpPr>
          <p:grpSpPr>
            <a:xfrm>
              <a:off x="4672080" y="2057400"/>
              <a:ext cx="3809880" cy="3438360"/>
              <a:chOff x="4672080" y="2057400"/>
              <a:chExt cx="3809880" cy="3438360"/>
            </a:xfrm>
          </p:grpSpPr>
          <p:pic>
            <p:nvPicPr>
              <p:cNvPr id="56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672080" y="205740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4672080" y="213372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5891040" y="3078000"/>
              <a:ext cx="210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46640" y="350532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72080" y="2971800"/>
              <a:ext cx="89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10080" y="4221000"/>
              <a:ext cx="727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43680" y="4952880"/>
              <a:ext cx="111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72080" y="374976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4648320" y="4495680"/>
              <a:ext cx="838080" cy="914760"/>
              <a:chOff x="4648320" y="4495680"/>
              <a:chExt cx="838080" cy="914760"/>
            </a:xfrm>
          </p:grpSpPr>
          <p:sp>
            <p:nvSpPr>
              <p:cNvPr id="65" name=""/>
              <p:cNvSpPr/>
              <p:nvPr/>
            </p:nvSpPr>
            <p:spPr>
              <a:xfrm>
                <a:off x="5105520" y="47242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52880" y="49528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52880" y="449568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971960" y="51339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238720" y="477972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648320" y="477972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 rot="3064800">
              <a:off x="5227200" y="401508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86600" y="4249800"/>
              <a:ext cx="138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ldonado     (89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pitation in Pe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429000"/>
            <a:ext cx="3276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ifferences do you see in the amount of precipitation at each c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see any patter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676520"/>
            <a:ext cx="3581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 cities are labeled on the map to the right.  The average amount of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precipit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is next to the name of each cit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 you notic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des Mountains run through Per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ties on the west side of the mountains get less precipitation than the cities on the east side of the mount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7712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648320" y="2057400"/>
            <a:ext cx="3833640" cy="3438360"/>
            <a:chOff x="4648320" y="2057400"/>
            <a:chExt cx="3833640" cy="3438360"/>
          </a:xfrm>
        </p:grpSpPr>
        <p:grpSp>
          <p:nvGrpSpPr>
            <p:cNvPr id="81" name=""/>
            <p:cNvGrpSpPr/>
            <p:nvPr/>
          </p:nvGrpSpPr>
          <p:grpSpPr>
            <a:xfrm>
              <a:off x="4672080" y="2057400"/>
              <a:ext cx="3809880" cy="3438360"/>
              <a:chOff x="4672080" y="2057400"/>
              <a:chExt cx="3809880" cy="3438360"/>
            </a:xfrm>
          </p:grpSpPr>
          <p:pic>
            <p:nvPicPr>
              <p:cNvPr id="82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672080" y="205740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672080" y="213372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5891040" y="3078000"/>
              <a:ext cx="210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46640" y="350532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72080" y="2971800"/>
              <a:ext cx="89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10080" y="4221000"/>
              <a:ext cx="727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43680" y="4952880"/>
              <a:ext cx="111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72080" y="374976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4648320" y="4495680"/>
              <a:ext cx="838080" cy="914760"/>
              <a:chOff x="4648320" y="4495680"/>
              <a:chExt cx="838080" cy="914760"/>
            </a:xfrm>
          </p:grpSpPr>
          <p:sp>
            <p:nvSpPr>
              <p:cNvPr id="91" name=""/>
              <p:cNvSpPr/>
              <p:nvPr/>
            </p:nvSpPr>
            <p:spPr>
              <a:xfrm>
                <a:off x="5105520" y="47242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52880" y="495288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52880" y="449568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971960" y="51339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38720" y="477972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48320" y="477972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 rot="3064800">
              <a:off x="5227200" y="401508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86600" y="4249800"/>
              <a:ext cx="138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ldonado     (89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81000" y="3371760"/>
            <a:ext cx="7153200" cy="266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93600" y="762120"/>
            <a:ext cx="7155000" cy="3635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Clim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380988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fference in precipitation creates different climates across Per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of the mountains, Peru has a relatively dry, desert-like cl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t of the mountains, Peru has relatively moist, tropical cl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weather is wet on the east side of the mountain, why is it not wet on the west side of the mount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you think causes this difference in precipit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662360" y="2041560"/>
            <a:ext cx="3833640" cy="3438360"/>
            <a:chOff x="4662360" y="2041560"/>
            <a:chExt cx="3833640" cy="3438360"/>
          </a:xfrm>
        </p:grpSpPr>
        <p:grpSp>
          <p:nvGrpSpPr>
            <p:cNvPr id="108" name=""/>
            <p:cNvGrpSpPr/>
            <p:nvPr/>
          </p:nvGrpSpPr>
          <p:grpSpPr>
            <a:xfrm>
              <a:off x="4686120" y="2041560"/>
              <a:ext cx="3809880" cy="3438360"/>
              <a:chOff x="4686120" y="2041560"/>
              <a:chExt cx="3809880" cy="3438360"/>
            </a:xfrm>
          </p:grpSpPr>
          <p:pic>
            <p:nvPicPr>
              <p:cNvPr id="109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4686120" y="2041560"/>
                <a:ext cx="3809880" cy="34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686120" y="2117880"/>
                <a:ext cx="0" cy="33526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5905080" y="3062160"/>
              <a:ext cx="210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60680" y="348948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86120" y="2955960"/>
              <a:ext cx="89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24120" y="4205160"/>
              <a:ext cx="727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57720" y="4937040"/>
              <a:ext cx="111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86120" y="37339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662360" y="4479840"/>
              <a:ext cx="838080" cy="914760"/>
              <a:chOff x="4662360" y="4479840"/>
              <a:chExt cx="838080" cy="914760"/>
            </a:xfrm>
          </p:grpSpPr>
          <p:sp>
            <p:nvSpPr>
              <p:cNvPr id="118" name=""/>
              <p:cNvSpPr/>
              <p:nvPr/>
            </p:nvSpPr>
            <p:spPr>
              <a:xfrm>
                <a:off x="5119560" y="470844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66920" y="493704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966920" y="4479840"/>
                <a:ext cx="27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86000" y="511812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252760" y="476388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62360" y="4763880"/>
                <a:ext cx="33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 rot="3064800">
              <a:off x="5241240" y="39992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00640" y="4233960"/>
              <a:ext cx="138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ldonado     (89 in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66680" y="3209760"/>
            <a:ext cx="7162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ailing W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3624120"/>
            <a:ext cx="4190760" cy="31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fference in precipitation across the mountains has to do with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ailing wi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ver Peru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ailing w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irection from which wind normally blows in an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vailing wind in Peru blows from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t to the w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178600" y="3538440"/>
            <a:ext cx="3836520" cy="3090960"/>
            <a:chOff x="5178600" y="3538440"/>
            <a:chExt cx="3836520" cy="3090960"/>
          </a:xfrm>
        </p:grpSpPr>
        <p:grpSp>
          <p:nvGrpSpPr>
            <p:cNvPr id="130" name=""/>
            <p:cNvGrpSpPr/>
            <p:nvPr/>
          </p:nvGrpSpPr>
          <p:grpSpPr>
            <a:xfrm>
              <a:off x="5200200" y="3538440"/>
              <a:ext cx="3468240" cy="3090960"/>
              <a:chOff x="5200200" y="3538440"/>
              <a:chExt cx="3468240" cy="3090960"/>
            </a:xfrm>
          </p:grpSpPr>
          <p:pic>
            <p:nvPicPr>
              <p:cNvPr id="131" name="" descr=""/>
              <p:cNvPicPr/>
              <p:nvPr/>
            </p:nvPicPr>
            <p:blipFill>
              <a:blip r:embed="rId2"/>
              <a:srcRect l="27577" t="-1965" r="0" b="0"/>
              <a:stretch/>
            </p:blipFill>
            <p:spPr>
              <a:xfrm>
                <a:off x="5200200" y="3538440"/>
                <a:ext cx="3468240" cy="309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5200200" y="3606840"/>
                <a:ext cx="0" cy="3013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6309720" y="4455720"/>
              <a:ext cx="1666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urimaguas (81.5 in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42640" y="4839840"/>
              <a:ext cx="1362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callpa (61.7 in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00200" y="4360320"/>
              <a:ext cx="69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ur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2.6 in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93560" y="5483160"/>
              <a:ext cx="640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m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.8 in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48680" y="6141240"/>
              <a:ext cx="901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quipa •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3.9 in.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00200" y="5059800"/>
              <a:ext cx="693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cific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5178600" y="5730120"/>
              <a:ext cx="762480" cy="849960"/>
              <a:chOff x="5178600" y="5730120"/>
              <a:chExt cx="762480" cy="849960"/>
            </a:xfrm>
          </p:grpSpPr>
          <p:sp>
            <p:nvSpPr>
              <p:cNvPr id="140" name=""/>
              <p:cNvSpPr/>
              <p:nvPr/>
            </p:nvSpPr>
            <p:spPr>
              <a:xfrm>
                <a:off x="5594760" y="5935320"/>
                <a:ext cx="0" cy="410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55800" y="6140880"/>
                <a:ext cx="27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55800" y="5730120"/>
                <a:ext cx="24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73080" y="6303600"/>
                <a:ext cx="208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15720" y="5985360"/>
                <a:ext cx="225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178600" y="598536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rot="3064800">
              <a:off x="5707800" y="5292720"/>
              <a:ext cx="184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     n     d     e     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83960" y="5509080"/>
              <a:ext cx="163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ert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Maldonado (89 in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054080" y="676440"/>
            <a:ext cx="7278840" cy="363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3352680"/>
            <a:ext cx="7162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 over the mount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44197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wind moves from the east to west, the moist air must travel over the Andes Mountai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066680" y="784080"/>
            <a:ext cx="7440840" cy="3635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3352680"/>
            <a:ext cx="7162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uds over the mount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3962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moist air rises to go over the mountains, it gets cool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oler air cannot hold as much moisture as the warm air, so clouds form and it begins to 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, the air loses most of its’ mois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066680" y="784080"/>
            <a:ext cx="7440840" cy="3635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Eh-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31:10Z</dcterms:created>
  <dc:creator>WKlemm</dc:creator>
  <dc:description/>
  <dc:language>en-US</dc:language>
  <cp:lastModifiedBy>College of Veterinary Medicine</cp:lastModifiedBy>
  <dcterms:modified xsi:type="dcterms:W3CDTF">2008-01-03T16:22:19Z</dcterms:modified>
  <cp:revision>25</cp:revision>
  <dc:subject/>
  <dc:title>Slide 1</dc:title>
</cp:coreProperties>
</file>