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555F-39AF-42BD-A788-4C455AE32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EA19-27F3-4DD1-AB64-76D871DA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8012-93E8-40B2-A996-5AAEA0F48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65A4-1AE7-4929-9563-A1ACD3AD8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DE07-0381-40C8-86A3-077913F7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7C8D-8AC9-4C05-B2F1-DC000E8F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71C2-6E57-4B57-B720-7E0F0E00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6D49-DE96-4DAF-B343-E15D9FE8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E3CA-BAC0-4E63-A494-B835314E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7A92-0EA0-4F58-9D57-E1868A49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3F12-054F-4203-8EF7-081A1134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9E9F-7BD0-4E0E-AA79-B4C3B15C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A985-2E9F-4F70-9449-E4123B8759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39Z</dcterms:modified>
  <cp:revision>46</cp:revision>
  <dc:subject/>
  <dc:title>Hazards</dc:title>
</cp:coreProperties>
</file>