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B05E3-3B1A-49F4-A647-56A53C6A76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8537A7-428B-4D06-8FC5-E4AEEB48A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B6D45-1D9A-4FB0-9B20-EE914AAAD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06341-1D06-427B-8AA1-70F99A204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D0DF2-CD39-4171-9209-909C78FBAD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41DD2-92F6-4702-BE72-27DA59986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47E3B-2F43-40D6-8EAA-1F54C916B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1EF4C-79AF-4CAB-909B-FB5A4ECC7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67141-59FE-46F9-8EA4-EB32E8C6B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26B23-6769-4758-82BF-0BA7CA0F6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85104-1C3C-436D-AE8D-F2A37C82D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AB7F9-7D90-4A01-9DDF-C07D82992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B9B48-A244-4A5C-B10C-1066C9A8B7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577CE-833A-47BF-BE58-E272B04CE5A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vhardy</cp:lastModifiedBy>
  <dcterms:modified xsi:type="dcterms:W3CDTF">2003-05-21T21:23:34Z</dcterms:modified>
  <cp:revision>25</cp:revision>
  <dc:subject/>
  <dc:title>Persuasive Writing</dc:title>
</cp:coreProperties>
</file>