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EE5B-8ECC-4276-B732-DEBDF66AD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77E-EF92-49A4-A17D-E418461C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736-1AC1-412F-AAF0-A437500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104-2059-4BCE-B55E-13B7AE46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F06-03F4-4A34-8B5E-3311AD48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707-B670-4FF5-8082-FA4E237E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2AE-BEE7-445B-8EEC-AA1EB5D6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BB7-5B58-4CF6-9EF0-5C72BC4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14E-2E5D-4234-9964-25F19A7F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1AE-1034-406D-8BAF-DAF66B09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045-9021-48FF-9596-B2478B27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8B4-D7B3-4D83-AB98-6C2F5F9E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5F9-74F4-4DCA-8D63-E38DCDF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992A-CD79-43B9-ABD7-B6A65CFD578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Ljlab</cp:lastModifiedBy>
  <cp:lastPrinted>2002-05-17T17:38:54Z</cp:lastPrinted>
  <dcterms:modified xsi:type="dcterms:W3CDTF">2008-06-09T16:51:16Z</dcterms:modified>
  <cp:revision>657</cp:revision>
  <dc:subject/>
  <dc:title>Investigate the Mystery:</dc:title>
</cp:coreProperties>
</file>