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240-0F45-4C4B-BC94-7823A847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AA0-E133-423A-8FB9-B92A49E4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FA1-8765-43F4-87A6-C34045AA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AD4-1E19-4154-B128-30A77307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195-EB40-4213-8EBA-4533987D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2D1-A055-48E1-8506-6F9EA259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AAB-835B-41B9-85D5-0416AEA1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411-7914-4184-99FB-BB257A29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1A1-E15E-4FA4-A583-F6B96FA1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FE4-42D9-4FEC-AB66-5A31257A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46C-4DB8-44A8-81E0-44CC9806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FF6-F5C7-415D-B826-A24A6A1E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3AEA-E677-40BB-9C9F-1C2C918022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19Z</dcterms:modified>
  <cp:revision>46</cp:revision>
  <dc:subject/>
  <dc:title>Hazards</dc:title>
</cp:coreProperties>
</file>