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D42C-A48E-45FA-8597-48F7ECD3F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story page 1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story page 1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3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7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7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8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8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2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4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5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79BB-F6BF-458A-91FE-45AAE35F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8ABC-25BA-443D-AA0C-79192264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2A96-F0BF-40C1-BBCC-751D717C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BC05-D67A-44F4-9500-D3A17F84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C23-4258-4F83-AE37-A41C4B23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8AF5-4A5C-420A-9FB2-0866B4A4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5E76-3BD4-4B4F-AB18-BDF17259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1542-407B-4B7D-A676-C880EC2C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40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2182-CC9F-4154-94BA-857DDB80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CB15-28FD-4260-A672-65035C57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F36A-FFD5-464F-B5E3-5530FA81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5806-C3F5-4EA0-AC82-2BD78B42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5BE5-A0C2-4D02-9044-386CE16BF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grabbed the torch and dropped it on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molde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mber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molde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fer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ly bu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ght g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xpec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0016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098720" y="3335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101600" y="3941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096920" y="4533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ick’s laughter faded away to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hort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hort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a choking no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uck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01600" y="476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100160" y="2971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103400" y="357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098720" y="41673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091040" y="44323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hick, damp blanket of clouds threatened to unleash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rrent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ins at any moment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Torrent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ins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undant and rapidly flo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accompanied by sn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to drizz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s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12760" y="521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98720" y="3429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01600" y="4013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109520" y="461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nly light came from a small torch that Tick held in front of him and the gree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uminesc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low from Jace’s computer keypad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uminesc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s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a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 to s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light e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creen sa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00160" y="5529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98720" y="3740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01600" y="431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9692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876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animals barreled past Tick and Jace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blivi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everything around them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blivi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 to 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ghte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98720" y="5129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09692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100160" y="39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095480" y="45356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rmadill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curri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to a tight fissure in the rock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curri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uggests that the armadi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u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rr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098720" y="5121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100160" y="3941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095480" y="45338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rmadillo scurried into a tigh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ss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the rock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ssu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v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rrow op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am of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 sp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98720" y="5127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100160" y="39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095480" y="4540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followed Tick as 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ekk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 the dark passage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e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 quic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w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 with some difficul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98720" y="5124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96920" y="333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100160" y="3935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095480" y="4537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revealed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ast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colored walls and majestic formation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ast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s to a color tha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 and subd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dar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98720" y="512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096920" y="333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10016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095480" y="45356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had set the retur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ordin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arlier while he talked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ordin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fer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ched clo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wor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used to define a lo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98720" y="5127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100160" y="39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095480" y="4540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7T17:41:07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1000000000001023620</vt:lpwstr>
  </property>
</Properties>
</file>