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C2F4-EA99-47CB-8D27-8AF931FC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0107-8D34-4E7D-8223-131ADE8D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A15E-1811-415A-B4D5-2E52B847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8062-7479-4EA8-864F-DC8C579B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77F8-3A73-41BF-A0BE-B8AA636E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FC0-9B14-4E65-A8F5-9B218BC1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ED2-5271-4C01-97E0-F99D915B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84D-AB3C-4D18-87F5-149D7552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203-B1D3-472D-BD4B-D62DD558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EAA-D0A9-4A75-83A4-50C3AD1B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CC78-10EF-4A49-B53F-8817FD95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E86-580D-45C9-BE8D-A4511C12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24BC-5E33-4698-8611-C4658344B5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with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09Z</dcterms:modified>
  <cp:revision>52</cp:revision>
  <dc:subject/>
  <dc:title>Hazards</dc:title>
</cp:coreProperties>
</file>