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A110-E378-4B26-9BD5-ED0692FA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BBB4-E4E2-43F2-BF55-0DCC383B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7C27-C948-4EB5-B48A-A74968538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B03B-4B2B-40A4-A5A8-3C6B0252D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BEDC-4B0A-4FD5-9EA4-D6A40148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614A-9A4A-4325-9C02-1AAA390E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3626-D4F0-4ECD-A83E-8C36A4B1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0D70-68A9-456D-BCEF-8EE49166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0A38-9EA1-49A8-BE76-A8CE87DC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1A8C-50FB-41C8-8519-6655E859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5BE6-1897-4A3E-A7D2-D95CCDF3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D833-394F-413D-9AC6-09DE39CB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9C33-2D4B-403A-AA9A-AB46B5635D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3:30Z</dcterms:modified>
  <cp:revision>53</cp:revision>
  <dc:subject/>
  <dc:title>Hazards</dc:title>
</cp:coreProperties>
</file>