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37C-F9C5-4CEB-BAE9-0B749B7B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854-47FD-44E2-8E4C-99CD6DBD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49B-F7E7-4452-A168-F9BAA083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BCA-CC6A-4636-9842-9BA249FA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86E-0188-4751-940B-4F9E0F73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A2F-50CA-4588-B08D-4CD5646A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844-FF33-4A89-B312-BCBE1129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F12-AAA9-49E9-AACA-79CCAE23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A5A-F57D-4027-AB57-20F950D0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28A-FF3D-4918-8560-99C6C074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61D-D7E5-4F59-B9C4-88DE04D0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D00-DE28-4BE5-BC65-BC52A2DA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A84D-E621-4DBD-9B57-B607DF08FB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08Z</dcterms:modified>
  <cp:revision>48</cp:revision>
  <dc:subject/>
  <dc:title>Hazards</dc:title>
</cp:coreProperties>
</file>