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EAF8-607E-4BEB-BACA-BCFAD6443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7528-3B4F-4BD4-84E2-68E5D2153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7A46-F53C-4ABB-A72F-49BDBE81E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EA38-740A-4C10-B23E-1B1FFD07C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37B6-4461-453B-B154-CDFE75BF3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2532-13B1-4795-A497-3E9175503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CFDE-194E-4E65-8B8D-ABF857D52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BD8D-3CCC-448D-916A-734447BDC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1342-CFB4-45B8-9A5F-96722820A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0DED-8217-43B9-BBD2-39431509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1E0A-4772-4E91-8D67-EE27F654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4989-B9DB-426C-8DE9-BB342AEC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DB0C9-9C5E-4D0F-8E67-8E1328B8D8E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DS (Acquired Immune Deficiency Syndrom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286000"/>
            <a:ext cx="7925040" cy="283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pid weight loss, dry cough, recurring fever, profound fatigue, swollen lymph glands, diarrhea, unusual blemishes on tongue and in mouth, pneumonia, memory loss, depression, red/purple blotches on or under the skin or inside the mouth/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4120"/>
            <a:ext cx="792504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-to-blood and sexual contact with infected per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22860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vere illness followed by a blisterlike body rash, high fever, extreme lethargy, headache, backache, abdominal pain, vomiting, deli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44956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and fairly prolonged face-to-face contact is required, direct contact with infected bodily fluids or contaminated objects such as bedding or 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up thick, cloudy, and sometimes bloody mucus from the lungs, rapid heart beat, swelling of lymph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2274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or sneezing of infected person, unpasteurized milk or milk products obtained from infected c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dden onset of fever, jaundice, and hemorr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374004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 of infected mosquit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wn L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rtness of breath, coughing, and wh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ng-term inhalation of cotton, flax, or hemp 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gas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atigue, fever, enlarged liver/spleen, swollen lymph glands, rash, loss of appetite, diarrhea, vo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/feces of Triatomine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y diarrhea, rapid dehydration, vomiting, leg cr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5360" y="3664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food/water, contaminated feces of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bol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9810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joint and muscle aches, sore throat, weakness, diarrhea, vomiting and stomach p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38862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contact with the blood and/or secretions of an infected person, contact with objects, such as needles, that have been contaminated with infected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 col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y diarrhea, abdominal cramps,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374004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meat, contaminated human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ctious Hepat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1337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aundice, fatigue, dark urine, abdominal pain, loss of appetite, 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5812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 or bodily fluid of an infected person, contact with needle previously used by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286000"/>
            <a:ext cx="8153280" cy="173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ver, headache, tiredness, cough, sore throat, runny/stuffy nose, body aches, diarrhea, vo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43434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and sn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b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2286000"/>
            <a:ext cx="8153280" cy="240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and general malaise.  May include insomnia, anxiety, confusion, slight or partial paralysis, excitation, hallucinations, agitation, hypersalivation, difficulty swallowing, and hydropho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50292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liva of infecte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Ljlab</cp:lastModifiedBy>
  <dcterms:modified xsi:type="dcterms:W3CDTF">2005-05-10T17:14:08Z</dcterms:modified>
  <cp:revision>43</cp:revision>
  <dc:subject/>
  <dc:title>Hazards</dc:title>
</cp:coreProperties>
</file>