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048-0259-468B-AE8D-992746C1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7E9-F445-4627-B046-E7329993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B25-4938-4BAB-9FC1-D4982DDB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395-FE99-4D36-8E0A-CC7D3C69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F4F-79D6-4BB8-86C6-308DE7A6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9B4-9761-47B6-9A94-5B58D26E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71A-9B58-40DF-89DB-19D1ED76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8420-CA2F-4ABF-9649-518E776A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8E3-E49E-4585-B1A3-F61991A8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962-1E90-4CC5-AAB1-F9C28F3C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2B5-31C9-46D2-A3B7-DEBD1B0A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3E3-6FE7-4B18-9844-EC3D3754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E601-B7E1-479A-B1DE-3D5BE76523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11Z</dcterms:modified>
  <cp:revision>50</cp:revision>
  <dc:subject/>
  <dc:title>Hazards</dc:title>
</cp:coreProperties>
</file>