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4AFF-BFB2-41D2-BA75-2A82BE08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61C9-8FEA-4F68-8163-1678154C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179-CF1B-4AA9-8C1E-EF1A3025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9BE-432A-46E8-8EBC-6E4E2481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A57-4EF7-4562-8293-6866A2FF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165-2E80-427E-A513-05CAE6AF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3BC-210E-4090-A651-05F81A94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8AD-B515-4D56-977A-54C81A1A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5682-C392-4CE1-8347-BFA99758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AABF-0CC5-4F6E-8E65-F8F65AF4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750-C5B1-4EB1-9970-DEABA7DC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74DE-74B6-4309-A0BA-BA82F520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31D0-A42B-4A6D-9285-B720A2DC36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00Z</dcterms:modified>
  <cp:revision>47</cp:revision>
  <dc:subject/>
  <dc:title>Hazards</dc:title>
</cp:coreProperties>
</file>