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3C3-49C5-4F99-ACF5-B10EEC82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DD6-6309-4D82-82C3-FEA9F9B0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54B-7198-4805-B240-9B39E23D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AE7-212F-4901-A2C0-7E3A12F6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C43-755D-42D7-8413-AB7FCDE7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A4D-291C-4A31-8B9C-BD40C10B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866-6282-4E42-8DEC-D35E28E4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048-5359-43A6-B3C9-CF75C9C6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A1A-69A9-4DFD-9627-4ADEF5A4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82F-AC25-4D56-83CB-E111608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CA3-99E1-4F50-B8EC-C4411DC9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C58-D137-4C3F-995C-B9D563E6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7640-1336-49DA-B49A-7BF6CE61FD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19Z</dcterms:modified>
  <cp:revision>45</cp:revision>
  <dc:subject/>
  <dc:title>Hazards</dc:title>
</cp:coreProperties>
</file>