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EFE-2C47-4AF6-BFCC-44626BDD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952-ED97-4DF7-BB56-0BD281FE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8F2-DC88-4BDA-ACED-E9733552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A66-C796-4DF3-A447-39E32ED0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45D-1F2A-421E-AC58-11B93B03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870-AC95-439E-A894-F9E46466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014-1D09-4EFB-BD86-C080D2DE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6B4-1A24-4F63-9207-3B0C231D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927-F359-4170-932F-0E2D940E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624-A23D-4336-83BA-9F1B9A58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3F4-7A11-4634-808C-0EDCA6FE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D51-3884-4867-8A62-0A988C62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89C5-1EE7-4BB1-AD45-E9B746790E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20Z</dcterms:modified>
  <cp:revision>49</cp:revision>
  <dc:subject/>
  <dc:title>Hazards</dc:title>
</cp:coreProperties>
</file>