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B21-8610-43E0-82B8-0556C60D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F84-8D26-447D-9763-73FE7DA3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5EA-82C3-4469-B8E0-7D9CCADA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2BC-E323-426C-82B5-C9934D43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C08-96DF-4DAB-AB1D-B8967DEB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B27-892B-4108-B407-572FB3BA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A78-1F47-489D-8BD9-B0F5005D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DDD-9C5C-49C2-8996-3C96DA90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5F0-7095-497D-AA24-2796C5EA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CD5-2C22-4A3E-A8AB-678C1152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58C-2185-47E6-9D66-5FE740B9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731-8AA0-497D-8D6D-DBB02CDF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A4E3-4193-4200-9B01-34F2054FFD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19Z</dcterms:modified>
  <cp:revision>46</cp:revision>
  <dc:subject/>
  <dc:title>Hazards</dc:title>
</cp:coreProperties>
</file>