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C511-083F-4462-9E21-25D38253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9C9-0D97-4C2D-95F3-671F3940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BCA-0963-4A01-91E9-B96253E2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F62-407C-484C-8E8D-44AA4EB0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44F-F89C-4087-8743-5CAC2BE0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E9F-41EF-44BC-BA5A-C8EBA89D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07E-D6B6-40E9-9F09-19B66027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C767-FA70-4390-945F-8A3315BF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76A-CB02-4078-8A7C-B2F169AD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33C7-EDAA-4EC5-A35E-68E654D6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068-20BC-4B9A-B515-74A1EAD4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B83E-7581-4306-9BA0-B4E673CA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C52A-98C9-48B2-98C8-F2594DC89B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00Z</dcterms:modified>
  <cp:revision>47</cp:revision>
  <dc:subject/>
  <dc:title>Hazards</dc:title>
</cp:coreProperties>
</file>