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07B-1677-44ED-9071-8C331D8C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0B8-FD24-47AB-AEAF-1033C851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700-9868-467E-950F-7D24EBE3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DAB-9D04-496E-97F6-C2596615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153-7C48-4675-B8E1-17B2CEC6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ED2-DF39-445D-8B02-EC2A4664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13F-99D3-4682-9316-0047A529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BC5-2AF5-4FBC-873A-9F48CDFF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BA3-88B8-4A52-B391-C1469328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6FD-DF62-443A-A1EB-6CCE9DB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A92-9902-487E-B8B4-F5A18543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032-B4A9-42AD-ADC4-7E36188A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04F7-28DA-42E3-ACB2-95F3093AB7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09Z</dcterms:modified>
  <cp:revision>52</cp:revision>
  <dc:subject/>
  <dc:title>Hazards</dc:title>
</cp:coreProperties>
</file>