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6B9-103D-4FA5-8C35-ED9D2C7F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BD9-25C8-4468-9F6D-F0659FFD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A51-40ED-49F1-84AC-B4634EF5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216-0ADF-4BDD-AC5E-07C2EA4D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A78-D3B4-4007-935E-BBB445D2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109-9BE8-4083-9CFA-33BA340D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D64-6A11-4D26-BEE0-EF841F3E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F610-CFC6-4330-BDB4-81B9626A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BAD-D6AC-4250-B461-6946228F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F1C-F775-453D-844C-0E6E8C86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824-F5BD-4F3E-9888-2752BA98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317-5411-4E47-A3E5-7D791E66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59C7-149D-4A5B-8A3F-774DB45288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57Z</dcterms:modified>
  <cp:revision>47</cp:revision>
  <dc:subject/>
  <dc:title>Hazards</dc:title>
</cp:coreProperties>
</file>