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5E6D-CA7E-49D4-A21D-C1F8623ED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800F-4C49-4AAF-9FEE-5D9E14733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EE04-609F-49EA-8CA9-827A2C4E0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B458-B75E-4200-962D-712D53295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EC3C-7A67-49B8-A86E-B1D5D53A1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E9DE-9BEB-4525-8C84-1E9CAF91A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D3A8-171D-4733-BA00-E2B6B265C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7CE8-64C2-4496-95F2-37513F829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975D-0DCD-4328-AA33-C71BFE0AD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1B84-A4AC-4670-978E-AD616075E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0071-DE30-439B-AD51-17B7B5BD3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5AB6-1996-4C69-B949-36A84199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6F747-9532-4AE6-9897-AA3E5A28E9C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gas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atigue, fever, enlarged liver/spleen, swollen lymph glands, rash, loss of appetite, diarrhea, vom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/feces of Triatomine b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8-09-23T15:33:11Z</dcterms:modified>
  <cp:revision>50</cp:revision>
  <dc:subject/>
  <dc:title>Hazards</dc:title>
</cp:coreProperties>
</file>