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1631-451B-4E2A-8ED3-9F850F19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39B8-3C54-4C64-9F2F-0D0D76FE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3FE7-6473-47FD-A4C2-BBDF5165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E085-8B16-4E98-82BC-CFC2CA365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D87E-9437-45D0-8EFA-AD771EBD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CF73-1882-4B93-A946-9543012D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EF4A-17C0-4A0B-8D95-66CC2A3C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533E-C405-48F2-ACBA-ED06B79C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205C-270B-423C-89A1-B38A39DA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AF0D-9353-4311-AE87-687230EE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984F-7C26-4ECD-AE7B-CD5EA6BD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DF63-FC7F-4D67-8C6F-7D11ACC9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D2AB-1AC7-4275-99E5-DB706807C0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5:08Z</dcterms:modified>
  <cp:revision>48</cp:revision>
  <dc:subject/>
  <dc:title>Hazards</dc:title>
</cp:coreProperties>
</file>