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86A-1D5F-4B75-8B60-9DDC83A1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FA0-A8BC-469F-9687-754FA34E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3C3-E3EB-44EC-ABEE-E5E4B28E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AEE-61CB-4B1B-B79F-45C4B5CD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578-D9CB-45AE-BA9F-14C5DB60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29B-5D30-4555-842D-7033318F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C1F-C975-4B6E-A38A-08A78655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21A-F07C-4CE2-A2D7-0C406673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F5C-1AD9-4E61-81AF-0F1730AD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3C5-DE27-4F6C-B413-2FA8D580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EF5-A69E-44AE-AF5E-CB37B724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723-3EC1-4F85-956D-F7B03D00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A1FE-8ED1-4B3A-B998-257A5CC6E8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5-10T17:14:08Z</dcterms:modified>
  <cp:revision>43</cp:revision>
  <dc:subject/>
  <dc:title>Hazards</dc:title>
</cp:coreProperties>
</file>