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84B-D60A-44B7-80E3-3A5CBC5C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287-0FB0-4667-AD1F-6A2E068E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B8AF-EE8A-4F63-A4AF-9CEDBDF7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E4DA-16AE-4673-8DBA-DECD07FB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2B4-907A-40A0-87EE-1D9A290A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33A-BF10-4C9E-9876-AEB9FC10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DB1-B0F3-49B3-B46F-B5EB1A68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574-7DB1-4ACB-99F5-48738AF9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777-B347-4056-B0DF-F388DB6E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AB66-49CD-4118-AEC0-000C5B63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DE1-84C6-43D3-BB90-71A736C2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826-19ED-48AB-94A3-919ABA9D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E54A-4149-4871-85CD-19396D8FA4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with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36Z</dcterms:modified>
  <cp:revision>47</cp:revision>
  <dc:subject/>
  <dc:title>Hazards</dc:title>
</cp:coreProperties>
</file>