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682E9-61B9-43B5-B46A-505DEFA3A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 http://www.mudomaha.com/naturalgas/CO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: On click, the chamber described in the question is superimposed on the hill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7 m x 5 m x 150 m = 5250 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7.9) Volumes of pr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7C42-BD6C-4537-9ED0-58483F4D7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0F81-BD1E-4A23-A51D-6A07FB022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E46B-5BFF-4F94-9435-DB97ACCE5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0863-6CFF-46F9-88F3-00BD9D056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DCF6-D70A-45B6-B0F7-44499429A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96EB-5012-4C28-88B4-6C3995844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6117-C5D0-4E6A-B5F6-8C7EB0AD0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47E6-A43F-4535-B7A7-EC0E92B2F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6EFB-0201-497E-BA04-826561648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CE61-7B91-4A80-886F-1053D6FC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3BDB-2450-45EC-860F-699253D0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52E9-DCF3-479D-89CE-F7AFF7D2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0781-F916-44A6-84E4-3CD20E8D5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forms/Curricula_Survey.shtml" TargetMode="External"/><Relationship Id="rId3" Type="http://schemas.openxmlformats.org/officeDocument/2006/relationships/hyperlink" Target="http://peer.tamu.edu/forms/Curricula_Survey.shtml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 rot="20693400">
            <a:off x="1673280" y="3406320"/>
            <a:ext cx="1390680" cy="1684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 rot="1444200">
            <a:off x="2400480" y="961560"/>
            <a:ext cx="973080" cy="1177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 rot="3646200">
            <a:off x="4044600" y="145800"/>
            <a:ext cx="784080" cy="949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 rot="19624800">
            <a:off x="2317680" y="5562360"/>
            <a:ext cx="1635120" cy="1981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 rot="4759200">
            <a:off x="5997960" y="-118080"/>
            <a:ext cx="658800" cy="7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 rot="819000">
            <a:off x="2437920" y="1218960"/>
            <a:ext cx="4038840" cy="761760"/>
          </a:xfrm>
          <a:prstGeom prst="ellipse">
            <a:avLst/>
          </a:prstGeom>
          <a:noFill/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990720"/>
            <a:ext cx="10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819520" y="16765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34120" y="9907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105520" y="16765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2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2438280" y="1143000"/>
            <a:ext cx="3886200" cy="609480"/>
            <a:chOff x="2438280" y="1143000"/>
            <a:chExt cx="3886200" cy="609480"/>
          </a:xfrm>
        </p:grpSpPr>
        <p:sp>
          <p:nvSpPr>
            <p:cNvPr id="148" name=""/>
            <p:cNvSpPr/>
            <p:nvPr/>
          </p:nvSpPr>
          <p:spPr>
            <a:xfrm>
              <a:off x="2438280" y="1143000"/>
              <a:ext cx="1447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_______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876560" y="1143000"/>
              <a:ext cx="1447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_______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90760" y="1295280"/>
              <a:ext cx="381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85800" y="380880"/>
            <a:ext cx="3809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we must solve for 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3124080"/>
            <a:ext cx="2133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250 x 0.20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43200" y="3124080"/>
            <a:ext cx="990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3809880"/>
            <a:ext cx="5943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, we divide our answer by 1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57200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50 ÷ 100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19520" y="4572000"/>
            <a:ext cx="99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666880" y="1523880"/>
            <a:ext cx="990720" cy="762120"/>
          </a:xfrm>
          <a:prstGeom prst="ellipse">
            <a:avLst/>
          </a:prstGeom>
          <a:noFill/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5715000"/>
            <a:ext cx="2895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us, x = 10.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2438280"/>
            <a:ext cx="5943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, we multiply 5250 by 0.2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48120" y="5105520"/>
            <a:ext cx="5638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ans whenever there is 10.50 cubic meters of carbon monoxide in the cave, it will be lethal for the people in t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04920" y="228600"/>
            <a:ext cx="86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w fast does carbon monoxide develop from a campfi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192096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 that carbon monoxide is being produced from a campfire at a rate of 210,000 cubic centimeters / minu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304812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 many 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cubic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meter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/ minute of carbon monoxide are being produc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44956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100 centimeters in a m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54864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many 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cubi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entimeters are in one 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cubi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e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80880" y="654120"/>
            <a:ext cx="810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t’s solve this graphicall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78040" y="2496960"/>
            <a:ext cx="572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f this is one meter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57480" y="3889440"/>
            <a:ext cx="1295640" cy="0"/>
          </a:xfrm>
          <a:prstGeom prst="line">
            <a:avLst/>
          </a:prstGeom>
          <a:ln w="82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884160" y="2496960"/>
            <a:ext cx="775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n, this is one square meter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90880" y="3746520"/>
            <a:ext cx="1295640" cy="12952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654120"/>
            <a:ext cx="810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t’s solve this graphicall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884160" y="1700280"/>
            <a:ext cx="752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d, this is a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cubic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meter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381480" y="3198960"/>
            <a:ext cx="1334880" cy="1333440"/>
          </a:xfrm>
          <a:prstGeom prst="rect">
            <a:avLst/>
          </a:prstGeom>
          <a:solidFill>
            <a:srgbClr val="33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1480" y="4965840"/>
            <a:ext cx="8218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w that we see what a cubic meter looks like, we must figure out how many cubic centimeters are in one of these cub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5920" y="654120"/>
            <a:ext cx="814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t’s solve this graphicall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538280" y="5848200"/>
            <a:ext cx="41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0,000 square centi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4120" y="47160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 centimeters are in one me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84840" y="701640"/>
            <a:ext cx="1295640" cy="0"/>
          </a:xfrm>
          <a:prstGeom prst="line">
            <a:avLst/>
          </a:prstGeom>
          <a:ln w="4752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4120" y="93204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ere are 100 centimeters in one m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432160" y="2556000"/>
            <a:ext cx="1295280" cy="12952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76200" y="166536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, how many square centimeters are in this squa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033800" y="2622600"/>
            <a:ext cx="430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member, we said this square was one square m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52800" y="4119480"/>
            <a:ext cx="29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1 meter = 100 centime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15960" y="4695840"/>
            <a:ext cx="34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a = Base x H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54120" y="5237280"/>
            <a:ext cx="614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a = 100 centimeters x 100 centi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756480" y="4583160"/>
            <a:ext cx="2193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o, one square meter = 10,000 square centi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533520" y="35712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, we do the same to find out how many cubic centimeters are in one cubic m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4120" y="4354560"/>
            <a:ext cx="51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ume = Base  x  Width  x  H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649680" y="2133720"/>
            <a:ext cx="1295280" cy="1295280"/>
          </a:xfrm>
          <a:prstGeom prst="rect">
            <a:avLst/>
          </a:prstGeom>
          <a:solidFill>
            <a:srgbClr val="33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54120" y="5003640"/>
            <a:ext cx="59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olume = 100 cm  x  100 cm  x  100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93880" y="5621400"/>
            <a:ext cx="50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,000,000 square centi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415200" y="4351320"/>
            <a:ext cx="238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o, one cubic  me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 1,000,000 cubic centi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305160" y="3782880"/>
            <a:ext cx="18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100 centime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3611520" y="3504960"/>
            <a:ext cx="1268280" cy="308160"/>
            <a:chOff x="3611520" y="3504960"/>
            <a:chExt cx="1268280" cy="308160"/>
          </a:xfrm>
        </p:grpSpPr>
        <p:sp>
          <p:nvSpPr>
            <p:cNvPr id="195" name=""/>
            <p:cNvSpPr/>
            <p:nvPr/>
          </p:nvSpPr>
          <p:spPr>
            <a:xfrm>
              <a:off x="3611520" y="3505320"/>
              <a:ext cx="652680" cy="307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4226040" y="3504960"/>
              <a:ext cx="653760" cy="307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27040" y="2160720"/>
            <a:ext cx="308160" cy="1268280"/>
            <a:chOff x="3227040" y="2160720"/>
            <a:chExt cx="308160" cy="1268280"/>
          </a:xfrm>
        </p:grpSpPr>
        <p:sp>
          <p:nvSpPr>
            <p:cNvPr id="198" name=""/>
            <p:cNvSpPr/>
            <p:nvPr/>
          </p:nvSpPr>
          <p:spPr>
            <a:xfrm flipH="1">
              <a:off x="3227040" y="2160720"/>
              <a:ext cx="307800" cy="6526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27400" y="2775240"/>
              <a:ext cx="307800" cy="6537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1306440" y="2584440"/>
            <a:ext cx="18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100 centime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570640" y="3092400"/>
            <a:ext cx="18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100 centime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4994280" y="2814480"/>
            <a:ext cx="614520" cy="614160"/>
            <a:chOff x="4994280" y="2814480"/>
            <a:chExt cx="614520" cy="614160"/>
          </a:xfrm>
        </p:grpSpPr>
        <p:sp>
          <p:nvSpPr>
            <p:cNvPr id="203" name=""/>
            <p:cNvSpPr/>
            <p:nvPr/>
          </p:nvSpPr>
          <p:spPr>
            <a:xfrm flipV="1">
              <a:off x="4994280" y="3198600"/>
              <a:ext cx="614520" cy="2300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608800" y="2814480"/>
              <a:ext cx="0" cy="3844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ack to th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69880"/>
            <a:ext cx="8229600" cy="13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e wanted to know how many cubic </a:t>
            </a:r>
            <a:r>
              <a:rPr b="1" i="1" lang="en-US" sz="2600" spc="-1" strike="noStrike">
                <a:solidFill>
                  <a:srgbClr val="333399"/>
                </a:solidFill>
                <a:latin typeface="Times New Roman"/>
              </a:rPr>
              <a:t>meter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per minute is equivalent to 210,000 cubic </a:t>
            </a:r>
            <a:r>
              <a:rPr b="1" i="1" lang="en-US" sz="2600" spc="-1" strike="noStrike">
                <a:solidFill>
                  <a:srgbClr val="333399"/>
                </a:solidFill>
                <a:latin typeface="Times New Roman"/>
              </a:rPr>
              <a:t>centimeter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per minut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1880" y="3059280"/>
            <a:ext cx="82296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just found out that 1,000,000 cubic centimeters make up 1 cubic mete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90680" y="4081320"/>
            <a:ext cx="822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 times does 1,000,000 divide into 210,000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19640" y="4735440"/>
            <a:ext cx="2112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0.21 ti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61880" y="542592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, carbon monoxide is produced from a campfire at a rate of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.21 cubic meters / minu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77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1" dur="770" fill="hold"/>
                                        <p:tgtEl>
                                          <p:spTgt spid="2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3" dur="77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5" dur="77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04920" y="1469880"/>
            <a:ext cx="8534160" cy="1152720"/>
          </a:xfrm>
          <a:prstGeom prst="rect">
            <a:avLst/>
          </a:prstGeom>
          <a:solidFill>
            <a:srgbClr val="333399"/>
          </a:solidFill>
          <a:ln w="63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333399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ack to our original problem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28480" y="15616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How long could Jace and Tick have stayed in the cav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before dying from the carbon monoxide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98680" y="2890800"/>
            <a:ext cx="622296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now have all the information you n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olve the problem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77800" y="4081320"/>
            <a:ext cx="806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de 10.50 cubic meters by 0.21 cubic me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11560" y="4695840"/>
            <a:ext cx="998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= 50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47760" y="5191200"/>
            <a:ext cx="8267760" cy="1541520"/>
            <a:chOff x="347760" y="5191200"/>
            <a:chExt cx="8267760" cy="1541520"/>
          </a:xfrm>
        </p:grpSpPr>
        <p:sp>
          <p:nvSpPr>
            <p:cNvPr id="218" name=""/>
            <p:cNvSpPr/>
            <p:nvPr/>
          </p:nvSpPr>
          <p:spPr>
            <a:xfrm>
              <a:off x="347760" y="5502240"/>
              <a:ext cx="7105680" cy="11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t would take 50 minutes for Jace and Tick to be in serious trouble from the carbon monoxide!!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9" name="" descr=""/>
            <p:cNvPicPr/>
            <p:nvPr/>
          </p:nvPicPr>
          <p:blipFill>
            <a:blip r:embed="rId2"/>
            <a:stretch/>
          </p:blipFill>
          <p:spPr>
            <a:xfrm>
              <a:off x="7299360" y="5191200"/>
              <a:ext cx="1316160" cy="1541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04920" y="9907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peer.tamu.edu/forms/Curricula_Survey.sht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380880" y="1981080"/>
            <a:ext cx="8570880" cy="4487040"/>
            <a:chOff x="380880" y="1981080"/>
            <a:chExt cx="8570880" cy="4487040"/>
          </a:xfrm>
        </p:grpSpPr>
        <p:pic>
          <p:nvPicPr>
            <p:cNvPr id="224" name="" descr=""/>
            <p:cNvPicPr/>
            <p:nvPr/>
          </p:nvPicPr>
          <p:blipFill>
            <a:blip r:embed="rId4"/>
            <a:stretch/>
          </p:blipFill>
          <p:spPr>
            <a:xfrm>
              <a:off x="380880" y="19861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" descr=""/>
            <p:cNvPicPr/>
            <p:nvPr/>
          </p:nvPicPr>
          <p:blipFill>
            <a:blip r:embed="rId5"/>
            <a:stretch/>
          </p:blipFill>
          <p:spPr>
            <a:xfrm>
              <a:off x="3808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" descr=""/>
            <p:cNvPicPr/>
            <p:nvPr/>
          </p:nvPicPr>
          <p:blipFill>
            <a:blip r:embed="rId6"/>
            <a:stretch/>
          </p:blipFill>
          <p:spPr>
            <a:xfrm>
              <a:off x="380880" y="5033880"/>
              <a:ext cx="1359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7"/>
            <a:stretch/>
          </p:blipFill>
          <p:spPr>
            <a:xfrm>
              <a:off x="47242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8"/>
            <a:stretch/>
          </p:blipFill>
          <p:spPr>
            <a:xfrm>
              <a:off x="4724280" y="50292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9" name=""/>
            <p:cNvGrpSpPr/>
            <p:nvPr/>
          </p:nvGrpSpPr>
          <p:grpSpPr>
            <a:xfrm>
              <a:off x="4643280" y="1981080"/>
              <a:ext cx="1546560" cy="1371600"/>
              <a:chOff x="4643280" y="1981080"/>
              <a:chExt cx="1546560" cy="1371600"/>
            </a:xfrm>
          </p:grpSpPr>
          <p:sp>
            <p:nvSpPr>
              <p:cNvPr id="230" name=""/>
              <p:cNvSpPr/>
              <p:nvPr/>
            </p:nvSpPr>
            <p:spPr>
              <a:xfrm>
                <a:off x="4724280" y="1981080"/>
                <a:ext cx="137160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43280" y="2170080"/>
                <a:ext cx="1546560" cy="1012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32" name=""/>
            <p:cNvSpPr/>
            <p:nvPr/>
          </p:nvSpPr>
          <p:spPr>
            <a:xfrm>
              <a:off x="1898640" y="2206800"/>
              <a:ext cx="2617920" cy="41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ational Institute of Environmental Healt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ci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artnership for Environmental Education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llege of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222960" y="2166840"/>
              <a:ext cx="2728800" cy="43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partment of Agricultural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he Center for Environmental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llege of Veterinary Medicine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03160" y="1668600"/>
            <a:ext cx="7763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volume calculations to solve per problems related to carbon monoxide poiso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t rates to different un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 rot="17071200">
            <a:off x="-317160" y="-47160"/>
            <a:ext cx="836640" cy="26337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99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3715800">
            <a:off x="8486640" y="186840"/>
            <a:ext cx="765360" cy="19274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99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3273200">
            <a:off x="691920" y="2091960"/>
            <a:ext cx="1560240" cy="8510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99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9173000">
            <a:off x="1096560" y="182520"/>
            <a:ext cx="590760" cy="8510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99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1544000">
            <a:off x="2509200" y="2441160"/>
            <a:ext cx="749160" cy="6825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99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6987000">
            <a:off x="8426880" y="1372320"/>
            <a:ext cx="369720" cy="16700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99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9370800">
            <a:off x="6492600" y="2356920"/>
            <a:ext cx="1006560" cy="432000"/>
          </a:xfrm>
          <a:prstGeom prst="triangle">
            <a:avLst>
              <a:gd name="adj" fmla="val 60370"/>
            </a:avLst>
          </a:prstGeom>
          <a:gradFill rotWithShape="0">
            <a:gsLst>
              <a:gs pos="0">
                <a:srgbClr val="ff99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21469800">
            <a:off x="3794040" y="-68040"/>
            <a:ext cx="493920" cy="682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99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0709600">
            <a:off x="1998360" y="325440"/>
            <a:ext cx="1538280" cy="3348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99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4051440" y="2523600"/>
            <a:ext cx="514080" cy="4194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99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690800">
            <a:off x="6953400" y="74520"/>
            <a:ext cx="809640" cy="9352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99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0342200">
            <a:off x="5591880" y="2441160"/>
            <a:ext cx="397080" cy="585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99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477600">
            <a:off x="5335560" y="14400"/>
            <a:ext cx="750960" cy="684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99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2050200">
            <a:off x="7391520" y="441000"/>
            <a:ext cx="1135080" cy="836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00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34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5701200">
            <a:off x="8425080" y="1045440"/>
            <a:ext cx="501480" cy="12841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00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34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8894400">
            <a:off x="7133760" y="2106360"/>
            <a:ext cx="1135080" cy="836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00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34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636000">
            <a:off x="5940000" y="179280"/>
            <a:ext cx="1135080" cy="5842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00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34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329400">
            <a:off x="4201920" y="-151920"/>
            <a:ext cx="1390320" cy="836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00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34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21361800">
            <a:off x="3032280" y="14400"/>
            <a:ext cx="890280" cy="669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00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34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20331000">
            <a:off x="1655640" y="343080"/>
            <a:ext cx="725760" cy="5014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00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34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8248400">
            <a:off x="620640" y="152280"/>
            <a:ext cx="738360" cy="15411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00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34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0321800">
            <a:off x="5822280" y="2441160"/>
            <a:ext cx="927000" cy="585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00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34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10668600">
            <a:off x="3922560" y="2440800"/>
            <a:ext cx="2184480" cy="585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00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34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0800000">
            <a:off x="3152880" y="2441160"/>
            <a:ext cx="877680" cy="6685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00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34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2565200">
            <a:off x="1702800" y="2288880"/>
            <a:ext cx="1028520" cy="585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00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34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4848200">
            <a:off x="212400" y="1030320"/>
            <a:ext cx="739440" cy="20541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00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34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457200"/>
            <a:ext cx="7086600" cy="22096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w safe are cav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5866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Let’s investigate a proble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3200400"/>
            <a:ext cx="82296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member the fire that Jace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ck burned inside the cave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s tha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al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af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 you think?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1523880"/>
            <a:ext cx="8534160" cy="2667240"/>
          </a:xfrm>
          <a:prstGeom prst="rect">
            <a:avLst/>
          </a:prstGeom>
          <a:solidFill>
            <a:srgbClr val="333399"/>
          </a:solidFill>
          <a:ln w="63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64628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ow long could Jace and Tick have stayed in the cave before the carbon monoxide reached deadly level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720360" y="2314440"/>
            <a:ext cx="76914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ze of the c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fast carbon monoxide is produced from a campf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uch carbon monoxide must be in the air to be dead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54936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nformation do we need to know to solve this probl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380880" y="228600"/>
            <a:ext cx="9886680" cy="6781680"/>
          </a:xfrm>
          <a:custGeom>
            <a:avLst/>
            <a:gdLst/>
            <a:ahLst/>
            <a:rect l="l" t="t" r="r" b="b"/>
            <a:pathLst>
              <a:path w="6228" h="4608">
                <a:moveTo>
                  <a:pt x="96" y="1860"/>
                </a:moveTo>
                <a:cubicBezTo>
                  <a:pt x="0" y="1764"/>
                  <a:pt x="284" y="1781"/>
                  <a:pt x="300" y="1776"/>
                </a:cubicBezTo>
                <a:cubicBezTo>
                  <a:pt x="312" y="1773"/>
                  <a:pt x="356" y="1690"/>
                  <a:pt x="420" y="1668"/>
                </a:cubicBezTo>
                <a:lnTo>
                  <a:pt x="684" y="1644"/>
                </a:lnTo>
                <a:lnTo>
                  <a:pt x="984" y="1932"/>
                </a:lnTo>
                <a:lnTo>
                  <a:pt x="1056" y="1848"/>
                </a:lnTo>
                <a:lnTo>
                  <a:pt x="1080" y="1476"/>
                </a:lnTo>
                <a:lnTo>
                  <a:pt x="1056" y="1284"/>
                </a:lnTo>
                <a:lnTo>
                  <a:pt x="972" y="1188"/>
                </a:lnTo>
                <a:lnTo>
                  <a:pt x="852" y="1164"/>
                </a:lnTo>
                <a:lnTo>
                  <a:pt x="1512" y="648"/>
                </a:lnTo>
                <a:lnTo>
                  <a:pt x="2460" y="204"/>
                </a:lnTo>
                <a:lnTo>
                  <a:pt x="3312" y="0"/>
                </a:lnTo>
                <a:lnTo>
                  <a:pt x="6192" y="84"/>
                </a:lnTo>
                <a:lnTo>
                  <a:pt x="6228" y="4596"/>
                </a:lnTo>
                <a:lnTo>
                  <a:pt x="12" y="4608"/>
                </a:lnTo>
                <a:lnTo>
                  <a:pt x="156" y="1956"/>
                </a:lnTo>
                <a:lnTo>
                  <a:pt x="96" y="1860"/>
                </a:lnTo>
                <a:close/>
              </a:path>
            </a:pathLst>
          </a:custGeom>
          <a:solidFill>
            <a:srgbClr val="808080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228600"/>
            <a:ext cx="792468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3200" y="2076480"/>
            <a:ext cx="704880" cy="1270080"/>
          </a:xfrm>
          <a:custGeom>
            <a:avLst/>
            <a:gdLst/>
            <a:ahLst/>
            <a:rect l="l" t="t" r="r" b="b"/>
            <a:pathLst>
              <a:path w="444" h="812">
                <a:moveTo>
                  <a:pt x="44" y="528"/>
                </a:moveTo>
                <a:cubicBezTo>
                  <a:pt x="0" y="408"/>
                  <a:pt x="62" y="206"/>
                  <a:pt x="104" y="120"/>
                </a:cubicBezTo>
                <a:cubicBezTo>
                  <a:pt x="146" y="34"/>
                  <a:pt x="242" y="0"/>
                  <a:pt x="296" y="12"/>
                </a:cubicBezTo>
                <a:cubicBezTo>
                  <a:pt x="350" y="24"/>
                  <a:pt x="414" y="68"/>
                  <a:pt x="428" y="192"/>
                </a:cubicBezTo>
                <a:cubicBezTo>
                  <a:pt x="442" y="316"/>
                  <a:pt x="444" y="700"/>
                  <a:pt x="380" y="756"/>
                </a:cubicBezTo>
                <a:cubicBezTo>
                  <a:pt x="316" y="812"/>
                  <a:pt x="114" y="576"/>
                  <a:pt x="44" y="528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211200">
            <a:off x="689040" y="2041560"/>
            <a:ext cx="307800" cy="820800"/>
          </a:xfrm>
          <a:custGeom>
            <a:avLst/>
            <a:gdLst/>
            <a:ahLst/>
            <a:rect l="l" t="t" r="r" b="b"/>
            <a:pathLst>
              <a:path w="252" h="528">
                <a:moveTo>
                  <a:pt x="56" y="528"/>
                </a:moveTo>
                <a:cubicBezTo>
                  <a:pt x="63" y="328"/>
                  <a:pt x="0" y="197"/>
                  <a:pt x="152" y="96"/>
                </a:cubicBezTo>
                <a:cubicBezTo>
                  <a:pt x="174" y="81"/>
                  <a:pt x="202" y="75"/>
                  <a:pt x="224" y="60"/>
                </a:cubicBezTo>
                <a:cubicBezTo>
                  <a:pt x="252" y="17"/>
                  <a:pt x="248" y="38"/>
                  <a:pt x="248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3040" y="2076480"/>
            <a:ext cx="628560" cy="1212840"/>
          </a:xfrm>
          <a:custGeom>
            <a:avLst/>
            <a:gdLst/>
            <a:ahLst/>
            <a:rect l="l" t="t" r="r" b="b"/>
            <a:pathLst>
              <a:path w="396" h="764">
                <a:moveTo>
                  <a:pt x="4" y="484"/>
                </a:moveTo>
                <a:lnTo>
                  <a:pt x="0" y="256"/>
                </a:lnTo>
                <a:lnTo>
                  <a:pt x="36" y="132"/>
                </a:lnTo>
                <a:lnTo>
                  <a:pt x="76" y="84"/>
                </a:lnTo>
                <a:lnTo>
                  <a:pt x="140" y="44"/>
                </a:lnTo>
                <a:lnTo>
                  <a:pt x="164" y="0"/>
                </a:lnTo>
                <a:lnTo>
                  <a:pt x="280" y="40"/>
                </a:lnTo>
                <a:lnTo>
                  <a:pt x="364" y="128"/>
                </a:lnTo>
                <a:lnTo>
                  <a:pt x="396" y="332"/>
                </a:lnTo>
                <a:lnTo>
                  <a:pt x="368" y="708"/>
                </a:lnTo>
                <a:lnTo>
                  <a:pt x="304" y="764"/>
                </a:lnTo>
                <a:lnTo>
                  <a:pt x="188" y="676"/>
                </a:lnTo>
                <a:lnTo>
                  <a:pt x="4" y="484"/>
                </a:lnTo>
                <a:close/>
              </a:path>
            </a:pathLst>
          </a:custGeom>
          <a:gradFill rotWithShape="0">
            <a:gsLst>
              <a:gs pos="0">
                <a:srgbClr val="080808"/>
              </a:gs>
              <a:gs pos="100000">
                <a:srgbClr val="808080"/>
              </a:gs>
            </a:gsLst>
            <a:lin ang="810000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 rot="850200">
            <a:off x="645480" y="3151080"/>
            <a:ext cx="8800920" cy="1191240"/>
          </a:xfrm>
          <a:prstGeom prst="cube">
            <a:avLst>
              <a:gd name="adj" fmla="val 25000"/>
            </a:avLst>
          </a:prstGeom>
          <a:solidFill>
            <a:srgbClr val="c0c0c0">
              <a:alpha val="56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-190440" y="646272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4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2057400"/>
            <a:ext cx="8382240" cy="3200400"/>
          </a:xfrm>
          <a:custGeom>
            <a:avLst/>
            <a:gdLst/>
            <a:ahLst/>
            <a:rect l="l" t="t" r="r" b="b"/>
            <a:pathLst>
              <a:path w="5280" h="2016">
                <a:moveTo>
                  <a:pt x="96" y="768"/>
                </a:moveTo>
                <a:lnTo>
                  <a:pt x="528" y="1008"/>
                </a:lnTo>
                <a:lnTo>
                  <a:pt x="1440" y="1344"/>
                </a:lnTo>
                <a:lnTo>
                  <a:pt x="2208" y="1536"/>
                </a:lnTo>
                <a:lnTo>
                  <a:pt x="3312" y="1872"/>
                </a:lnTo>
                <a:lnTo>
                  <a:pt x="3456" y="1824"/>
                </a:lnTo>
                <a:lnTo>
                  <a:pt x="3792" y="1920"/>
                </a:lnTo>
                <a:lnTo>
                  <a:pt x="4416" y="2016"/>
                </a:lnTo>
                <a:lnTo>
                  <a:pt x="4896" y="2016"/>
                </a:lnTo>
                <a:lnTo>
                  <a:pt x="5184" y="2016"/>
                </a:lnTo>
                <a:lnTo>
                  <a:pt x="5280" y="1488"/>
                </a:lnTo>
                <a:lnTo>
                  <a:pt x="5232" y="1200"/>
                </a:lnTo>
                <a:lnTo>
                  <a:pt x="5136" y="1104"/>
                </a:lnTo>
                <a:lnTo>
                  <a:pt x="4800" y="1008"/>
                </a:lnTo>
                <a:lnTo>
                  <a:pt x="3984" y="864"/>
                </a:lnTo>
                <a:lnTo>
                  <a:pt x="3360" y="816"/>
                </a:lnTo>
                <a:lnTo>
                  <a:pt x="2832" y="624"/>
                </a:lnTo>
                <a:lnTo>
                  <a:pt x="1824" y="432"/>
                </a:lnTo>
                <a:lnTo>
                  <a:pt x="1056" y="288"/>
                </a:lnTo>
                <a:lnTo>
                  <a:pt x="912" y="240"/>
                </a:lnTo>
                <a:lnTo>
                  <a:pt x="720" y="144"/>
                </a:lnTo>
                <a:lnTo>
                  <a:pt x="480" y="144"/>
                </a:lnTo>
                <a:lnTo>
                  <a:pt x="240" y="0"/>
                </a:lnTo>
                <a:lnTo>
                  <a:pt x="0" y="0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8800" y="2362320"/>
            <a:ext cx="304920" cy="1218960"/>
          </a:xfrm>
          <a:custGeom>
            <a:avLst/>
            <a:gdLst/>
            <a:ahLst/>
            <a:rect l="l" t="t" r="r" b="b"/>
            <a:pathLst>
              <a:path w="192" h="768">
                <a:moveTo>
                  <a:pt x="48" y="0"/>
                </a:moveTo>
                <a:lnTo>
                  <a:pt x="192" y="192"/>
                </a:lnTo>
                <a:lnTo>
                  <a:pt x="192" y="432"/>
                </a:lnTo>
                <a:lnTo>
                  <a:pt x="0" y="76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2819520"/>
            <a:ext cx="609480" cy="759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895480" y="2590920"/>
            <a:ext cx="228600" cy="761760"/>
          </a:xfrm>
          <a:custGeom>
            <a:avLst/>
            <a:gdLst/>
            <a:ahLst/>
            <a:rect l="l" t="t" r="r" b="b"/>
            <a:pathLst>
              <a:path w="144" h="480">
                <a:moveTo>
                  <a:pt x="0" y="0"/>
                </a:moveTo>
                <a:lnTo>
                  <a:pt x="144" y="192"/>
                </a:lnTo>
                <a:lnTo>
                  <a:pt x="96" y="48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3200400"/>
            <a:ext cx="152280" cy="914400"/>
          </a:xfrm>
          <a:custGeom>
            <a:avLst/>
            <a:gdLst/>
            <a:ahLst/>
            <a:rect l="l" t="t" r="r" b="b"/>
            <a:pathLst>
              <a:path w="96" h="576">
                <a:moveTo>
                  <a:pt x="0" y="576"/>
                </a:moveTo>
                <a:lnTo>
                  <a:pt x="96" y="288"/>
                </a:lnTo>
                <a:lnTo>
                  <a:pt x="9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2895480"/>
            <a:ext cx="380880" cy="1219320"/>
          </a:xfrm>
          <a:custGeom>
            <a:avLst/>
            <a:gdLst/>
            <a:ahLst/>
            <a:rect l="l" t="t" r="r" b="b"/>
            <a:pathLst>
              <a:path w="240" h="768">
                <a:moveTo>
                  <a:pt x="0" y="0"/>
                </a:moveTo>
                <a:lnTo>
                  <a:pt x="192" y="192"/>
                </a:lnTo>
                <a:lnTo>
                  <a:pt x="240" y="432"/>
                </a:lnTo>
                <a:lnTo>
                  <a:pt x="144" y="76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6629400" y="46483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610480" y="3657600"/>
            <a:ext cx="381240" cy="838080"/>
          </a:xfrm>
          <a:custGeom>
            <a:avLst/>
            <a:gdLst/>
            <a:ahLst/>
            <a:rect l="l" t="t" r="r" b="b"/>
            <a:pathLst>
              <a:path w="240" h="528">
                <a:moveTo>
                  <a:pt x="0" y="0"/>
                </a:moveTo>
                <a:lnTo>
                  <a:pt x="192" y="192"/>
                </a:lnTo>
                <a:lnTo>
                  <a:pt x="240" y="5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irst, let’s find out how much space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s inside the cav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9760" y="4138560"/>
            <a:ext cx="57150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ssume Longhorn cavern looks approximately like th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e want to find the volume of this cave.  What shape could we use to approximate th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86400" y="5105520"/>
            <a:ext cx="3657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ow about a rectangular pris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-380880" y="228600"/>
            <a:ext cx="9886680" cy="6781680"/>
          </a:xfrm>
          <a:custGeom>
            <a:avLst/>
            <a:gdLst/>
            <a:ahLst/>
            <a:rect l="l" t="t" r="r" b="b"/>
            <a:pathLst>
              <a:path w="6228" h="4608">
                <a:moveTo>
                  <a:pt x="96" y="1860"/>
                </a:moveTo>
                <a:cubicBezTo>
                  <a:pt x="0" y="1764"/>
                  <a:pt x="284" y="1781"/>
                  <a:pt x="300" y="1776"/>
                </a:cubicBezTo>
                <a:cubicBezTo>
                  <a:pt x="312" y="1773"/>
                  <a:pt x="356" y="1690"/>
                  <a:pt x="420" y="1668"/>
                </a:cubicBezTo>
                <a:lnTo>
                  <a:pt x="684" y="1644"/>
                </a:lnTo>
                <a:lnTo>
                  <a:pt x="984" y="1932"/>
                </a:lnTo>
                <a:lnTo>
                  <a:pt x="1056" y="1848"/>
                </a:lnTo>
                <a:lnTo>
                  <a:pt x="1080" y="1476"/>
                </a:lnTo>
                <a:lnTo>
                  <a:pt x="1056" y="1284"/>
                </a:lnTo>
                <a:lnTo>
                  <a:pt x="972" y="1188"/>
                </a:lnTo>
                <a:lnTo>
                  <a:pt x="852" y="1164"/>
                </a:lnTo>
                <a:lnTo>
                  <a:pt x="1512" y="648"/>
                </a:lnTo>
                <a:lnTo>
                  <a:pt x="2460" y="204"/>
                </a:lnTo>
                <a:lnTo>
                  <a:pt x="3312" y="0"/>
                </a:lnTo>
                <a:lnTo>
                  <a:pt x="6192" y="84"/>
                </a:lnTo>
                <a:lnTo>
                  <a:pt x="6228" y="4596"/>
                </a:lnTo>
                <a:lnTo>
                  <a:pt x="12" y="4608"/>
                </a:lnTo>
                <a:lnTo>
                  <a:pt x="156" y="1956"/>
                </a:lnTo>
                <a:lnTo>
                  <a:pt x="96" y="1860"/>
                </a:lnTo>
                <a:close/>
              </a:path>
            </a:pathLst>
          </a:custGeom>
          <a:solidFill>
            <a:srgbClr val="808080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43200" y="228600"/>
            <a:ext cx="632448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666880" y="533520"/>
            <a:ext cx="61437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measure the passageway of the cave to be 150 meters long, 5 meters wide and 7 meters tall.  What is the approximate volume of the passagew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73200" y="2076480"/>
            <a:ext cx="704880" cy="1270080"/>
          </a:xfrm>
          <a:custGeom>
            <a:avLst/>
            <a:gdLst/>
            <a:ahLst/>
            <a:rect l="l" t="t" r="r" b="b"/>
            <a:pathLst>
              <a:path w="444" h="812">
                <a:moveTo>
                  <a:pt x="44" y="528"/>
                </a:moveTo>
                <a:cubicBezTo>
                  <a:pt x="0" y="408"/>
                  <a:pt x="62" y="206"/>
                  <a:pt x="104" y="120"/>
                </a:cubicBezTo>
                <a:cubicBezTo>
                  <a:pt x="146" y="34"/>
                  <a:pt x="242" y="0"/>
                  <a:pt x="296" y="12"/>
                </a:cubicBezTo>
                <a:cubicBezTo>
                  <a:pt x="350" y="24"/>
                  <a:pt x="414" y="68"/>
                  <a:pt x="428" y="192"/>
                </a:cubicBezTo>
                <a:cubicBezTo>
                  <a:pt x="442" y="316"/>
                  <a:pt x="444" y="700"/>
                  <a:pt x="380" y="756"/>
                </a:cubicBezTo>
                <a:cubicBezTo>
                  <a:pt x="316" y="812"/>
                  <a:pt x="114" y="576"/>
                  <a:pt x="44" y="528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211200">
            <a:off x="689040" y="2041560"/>
            <a:ext cx="307800" cy="820800"/>
          </a:xfrm>
          <a:custGeom>
            <a:avLst/>
            <a:gdLst/>
            <a:ahLst/>
            <a:rect l="l" t="t" r="r" b="b"/>
            <a:pathLst>
              <a:path w="252" h="528">
                <a:moveTo>
                  <a:pt x="56" y="528"/>
                </a:moveTo>
                <a:cubicBezTo>
                  <a:pt x="63" y="328"/>
                  <a:pt x="0" y="197"/>
                  <a:pt x="152" y="96"/>
                </a:cubicBezTo>
                <a:cubicBezTo>
                  <a:pt x="174" y="81"/>
                  <a:pt x="202" y="75"/>
                  <a:pt x="224" y="60"/>
                </a:cubicBezTo>
                <a:cubicBezTo>
                  <a:pt x="252" y="17"/>
                  <a:pt x="248" y="38"/>
                  <a:pt x="248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43040" y="2076480"/>
            <a:ext cx="628560" cy="1212840"/>
          </a:xfrm>
          <a:custGeom>
            <a:avLst/>
            <a:gdLst/>
            <a:ahLst/>
            <a:rect l="l" t="t" r="r" b="b"/>
            <a:pathLst>
              <a:path w="396" h="764">
                <a:moveTo>
                  <a:pt x="4" y="484"/>
                </a:moveTo>
                <a:lnTo>
                  <a:pt x="0" y="256"/>
                </a:lnTo>
                <a:lnTo>
                  <a:pt x="36" y="132"/>
                </a:lnTo>
                <a:lnTo>
                  <a:pt x="76" y="84"/>
                </a:lnTo>
                <a:lnTo>
                  <a:pt x="140" y="44"/>
                </a:lnTo>
                <a:lnTo>
                  <a:pt x="164" y="0"/>
                </a:lnTo>
                <a:lnTo>
                  <a:pt x="280" y="40"/>
                </a:lnTo>
                <a:lnTo>
                  <a:pt x="364" y="128"/>
                </a:lnTo>
                <a:lnTo>
                  <a:pt x="396" y="332"/>
                </a:lnTo>
                <a:lnTo>
                  <a:pt x="368" y="708"/>
                </a:lnTo>
                <a:lnTo>
                  <a:pt x="304" y="764"/>
                </a:lnTo>
                <a:lnTo>
                  <a:pt x="188" y="676"/>
                </a:lnTo>
                <a:lnTo>
                  <a:pt x="4" y="484"/>
                </a:lnTo>
                <a:close/>
              </a:path>
            </a:pathLst>
          </a:custGeom>
          <a:gradFill rotWithShape="0">
            <a:gsLst>
              <a:gs pos="0">
                <a:srgbClr val="080808"/>
              </a:gs>
              <a:gs pos="100000">
                <a:srgbClr val="808080"/>
              </a:gs>
            </a:gsLst>
            <a:lin ang="810000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rot="850200">
            <a:off x="645480" y="3151080"/>
            <a:ext cx="8800920" cy="1191240"/>
          </a:xfrm>
          <a:prstGeom prst="cube">
            <a:avLst>
              <a:gd name="adj" fmla="val 25000"/>
            </a:avLst>
          </a:prstGeom>
          <a:solidFill>
            <a:srgbClr val="c0c0c0">
              <a:alpha val="56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3680" y="62326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4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2057400"/>
            <a:ext cx="8382240" cy="3200400"/>
          </a:xfrm>
          <a:custGeom>
            <a:avLst/>
            <a:gdLst/>
            <a:ahLst/>
            <a:rect l="l" t="t" r="r" b="b"/>
            <a:pathLst>
              <a:path w="5280" h="2016">
                <a:moveTo>
                  <a:pt x="96" y="768"/>
                </a:moveTo>
                <a:lnTo>
                  <a:pt x="528" y="1008"/>
                </a:lnTo>
                <a:lnTo>
                  <a:pt x="1440" y="1344"/>
                </a:lnTo>
                <a:lnTo>
                  <a:pt x="2208" y="1536"/>
                </a:lnTo>
                <a:lnTo>
                  <a:pt x="3312" y="1872"/>
                </a:lnTo>
                <a:lnTo>
                  <a:pt x="3456" y="1824"/>
                </a:lnTo>
                <a:lnTo>
                  <a:pt x="3792" y="1920"/>
                </a:lnTo>
                <a:lnTo>
                  <a:pt x="4416" y="2016"/>
                </a:lnTo>
                <a:lnTo>
                  <a:pt x="4896" y="2016"/>
                </a:lnTo>
                <a:lnTo>
                  <a:pt x="5184" y="2016"/>
                </a:lnTo>
                <a:lnTo>
                  <a:pt x="5280" y="1488"/>
                </a:lnTo>
                <a:lnTo>
                  <a:pt x="5232" y="1200"/>
                </a:lnTo>
                <a:lnTo>
                  <a:pt x="5136" y="1104"/>
                </a:lnTo>
                <a:lnTo>
                  <a:pt x="4800" y="1008"/>
                </a:lnTo>
                <a:lnTo>
                  <a:pt x="3984" y="864"/>
                </a:lnTo>
                <a:lnTo>
                  <a:pt x="3360" y="816"/>
                </a:lnTo>
                <a:lnTo>
                  <a:pt x="2832" y="624"/>
                </a:lnTo>
                <a:lnTo>
                  <a:pt x="1824" y="432"/>
                </a:lnTo>
                <a:lnTo>
                  <a:pt x="1056" y="288"/>
                </a:lnTo>
                <a:lnTo>
                  <a:pt x="912" y="240"/>
                </a:lnTo>
                <a:lnTo>
                  <a:pt x="720" y="144"/>
                </a:lnTo>
                <a:lnTo>
                  <a:pt x="480" y="144"/>
                </a:lnTo>
                <a:lnTo>
                  <a:pt x="240" y="0"/>
                </a:lnTo>
                <a:lnTo>
                  <a:pt x="0" y="0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28800" y="2362320"/>
            <a:ext cx="304920" cy="1218960"/>
          </a:xfrm>
          <a:custGeom>
            <a:avLst/>
            <a:gdLst/>
            <a:ahLst/>
            <a:rect l="l" t="t" r="r" b="b"/>
            <a:pathLst>
              <a:path w="192" h="768">
                <a:moveTo>
                  <a:pt x="48" y="0"/>
                </a:moveTo>
                <a:lnTo>
                  <a:pt x="192" y="192"/>
                </a:lnTo>
                <a:lnTo>
                  <a:pt x="192" y="432"/>
                </a:lnTo>
                <a:lnTo>
                  <a:pt x="0" y="76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2819520"/>
            <a:ext cx="609480" cy="759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590920"/>
            <a:ext cx="228600" cy="761760"/>
          </a:xfrm>
          <a:custGeom>
            <a:avLst/>
            <a:gdLst/>
            <a:ahLst/>
            <a:rect l="l" t="t" r="r" b="b"/>
            <a:pathLst>
              <a:path w="144" h="480">
                <a:moveTo>
                  <a:pt x="0" y="0"/>
                </a:moveTo>
                <a:lnTo>
                  <a:pt x="144" y="192"/>
                </a:lnTo>
                <a:lnTo>
                  <a:pt x="96" y="48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3200400"/>
            <a:ext cx="152280" cy="914400"/>
          </a:xfrm>
          <a:custGeom>
            <a:avLst/>
            <a:gdLst/>
            <a:ahLst/>
            <a:rect l="l" t="t" r="r" b="b"/>
            <a:pathLst>
              <a:path w="96" h="576">
                <a:moveTo>
                  <a:pt x="0" y="576"/>
                </a:moveTo>
                <a:lnTo>
                  <a:pt x="96" y="288"/>
                </a:lnTo>
                <a:lnTo>
                  <a:pt x="9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800600" y="2895480"/>
            <a:ext cx="380880" cy="1219320"/>
          </a:xfrm>
          <a:custGeom>
            <a:avLst/>
            <a:gdLst/>
            <a:ahLst/>
            <a:rect l="l" t="t" r="r" b="b"/>
            <a:pathLst>
              <a:path w="240" h="768">
                <a:moveTo>
                  <a:pt x="0" y="0"/>
                </a:moveTo>
                <a:lnTo>
                  <a:pt x="192" y="192"/>
                </a:lnTo>
                <a:lnTo>
                  <a:pt x="240" y="432"/>
                </a:lnTo>
                <a:lnTo>
                  <a:pt x="144" y="76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629400" y="426672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610480" y="3657600"/>
            <a:ext cx="381240" cy="838080"/>
          </a:xfrm>
          <a:custGeom>
            <a:avLst/>
            <a:gdLst/>
            <a:ahLst/>
            <a:rect l="l" t="t" r="r" b="b"/>
            <a:pathLst>
              <a:path w="240" h="528">
                <a:moveTo>
                  <a:pt x="0" y="0"/>
                </a:moveTo>
                <a:lnTo>
                  <a:pt x="192" y="192"/>
                </a:lnTo>
                <a:lnTo>
                  <a:pt x="240" y="5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91800" y="5043600"/>
            <a:ext cx="351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 m x 5 m x 150 m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93600" y="4357800"/>
            <a:ext cx="15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59840" y="4997520"/>
            <a:ext cx="188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5250 m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990720" y="23619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air contains only 0.20% carbon monoxide, it can be deadl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228600"/>
            <a:ext cx="8610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w much carbon monoxide would have to be in Longhorn Tavern to be dead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3505320"/>
            <a:ext cx="7696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this fact, find out how many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ubic met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ir in Longhorn Tavern have to contain carbon monoxide to prove dead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5334120"/>
            <a:ext cx="76960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HINT:  you need to know the volume of the cave that we just estim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lving the problem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olume of the cave is 5250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25146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ant to find out how much air is contained in 0.20% of Longhorn Cavern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3886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o this, we set up a propor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71800" y="457200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124080" y="5257800"/>
            <a:ext cx="10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38680" y="45720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10080" y="5257800"/>
            <a:ext cx="10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2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743200" y="4724280"/>
            <a:ext cx="3886200" cy="609480"/>
            <a:chOff x="2743200" y="4724280"/>
            <a:chExt cx="3886200" cy="609480"/>
          </a:xfrm>
        </p:grpSpPr>
        <p:sp>
          <p:nvSpPr>
            <p:cNvPr id="139" name=""/>
            <p:cNvSpPr/>
            <p:nvPr/>
          </p:nvSpPr>
          <p:spPr>
            <a:xfrm>
              <a:off x="2743200" y="4724280"/>
              <a:ext cx="1447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_______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181480" y="4724280"/>
              <a:ext cx="1447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_______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95680" y="4876560"/>
              <a:ext cx="381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3T18:21:42Z</dcterms:created>
  <dc:creator>Texas A&amp;M Veterinary Medicine</dc:creator>
  <dc:description/>
  <dc:language>en-US</dc:language>
  <cp:lastModifiedBy>Jeremiah McNichols</cp:lastModifiedBy>
  <dcterms:modified xsi:type="dcterms:W3CDTF">2008-09-24T18:26:25Z</dcterms:modified>
  <cp:revision>13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606000000000001023620</vt:lpwstr>
  </property>
</Properties>
</file>