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9029-0218-40E3-9E9B-909A3D196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7E3D-9F65-4DE9-80A4-5E4239F7F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20B2-2EE2-4F43-BECE-A71FC46C1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27A7-ADE1-40A1-9CCA-B2DEC41E3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85D6-51DE-4375-943E-41A6F6FCC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EAA0-386B-4E72-A8A1-C08B31052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5DAB-3E32-454C-9FB1-CFD9F3786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6EF8-D2CD-46DC-954D-E67542198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6AC5-92AF-48FA-8EBB-D6083F726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92CE-0D31-4EB8-9974-5684E0A4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D6DE-0312-40A4-A636-1B2FEABA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89AA-6854-4180-8F7B-C7DAEF79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7FF70-DABB-4BE7-8B73-7FB6A3897FF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ellow Fe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dden onset of fever, jaundice, and hemorrh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4004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 of infected mosquit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8-09-23T15:35:19Z</dcterms:modified>
  <cp:revision>45</cp:revision>
  <dc:subject/>
  <dc:title>Hazards</dc:title>
</cp:coreProperties>
</file>