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664-BA87-4E17-B26C-03BF80D3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50D-CC03-4C2D-BDDA-D9ADF594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8E1-7470-404D-82F6-85C00AF5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D90-F124-412E-994D-5D2784E8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79C-529D-43DA-9848-776654FE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2D4-94A1-4EDF-99F5-5F442138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811-DA4F-4A59-BCCB-66877C44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D917-7C14-4714-A760-CB5BED43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EDF-39D7-4F5C-93B6-6F52924C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16C-FB64-4085-A856-88B12808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63D-42EF-4F5D-8A91-C4768F79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1E9-B1CA-4A6F-B7A6-2CFB5347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00C0-B9A0-4304-9214-326D27D50B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36Z</dcterms:modified>
  <cp:revision>47</cp:revision>
  <dc:subject/>
  <dc:title>Hazards</dc:title>
</cp:coreProperties>
</file>