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480-F070-46EE-80DD-83A4FABC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54D-1ED2-4FC9-ABCA-F560AC2B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BA3-C2E5-45C5-9276-4DD5917D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78F-3246-449F-840D-2FE1CBA5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28A-2B22-41C8-B2E3-BE87FD79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117-348A-49BD-BEEC-7A1AD116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771-7CDC-4B3E-B1DF-14C19DA5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76F-24FC-46CD-894F-DC44BC4D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6C9-9538-41FA-A481-E79EAA68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EFE-BD2B-4BF6-84D5-A1EAB017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EA94-A0FD-4DA2-A7BA-623AD39A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E97-4A11-4A2D-8B60-9E75F455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6FE7-3C1C-4039-A582-3500AEC0CF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30Z</dcterms:modified>
  <cp:revision>53</cp:revision>
  <dc:subject/>
  <dc:title>Hazards</dc:title>
</cp:coreProperties>
</file>