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E8B-A8DD-4018-A659-A367FA11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938-7D5E-4A12-9612-6B0BD1DE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9E3-21DF-4FAB-BA88-5A7662AA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DD9-ADF9-49EA-B607-6E4CBD7A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1D4-EF1B-40C9-A578-E26D2221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FF2-613D-45D6-8C32-DE87F725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26C-128C-49AD-BE78-59E281B4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AD4-5F56-4CE8-95A5-1BFEBF1B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451-B7BA-4E8E-8530-7B82A2B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888-5BC5-4A5A-BA6D-FC4E2397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CCC-8F5E-47C4-B7D9-45F7AC1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339-9552-4640-9D6F-F142FAB4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0BB6-58CA-468B-AA4E-B20B54DAEC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00Z</dcterms:modified>
  <cp:revision>47</cp:revision>
  <dc:subject/>
  <dc:title>Hazards</dc:title>
</cp:coreProperties>
</file>