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9D3-331A-49EA-8816-10C64821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1FB-8C8F-47ED-AAF2-48C6D89B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617-F08C-4250-BE5E-963F33B6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F14-D46A-40C3-9A9E-4E36E7CD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7B80-F376-48E5-8CD0-57CC1C8B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CA1-EABF-437B-B4B4-B936ADDE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8F3-EE13-4980-BCB6-2BB3B4C9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DFB-4407-4F3D-8063-1DBDDFD2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9F7-2561-436A-90FC-3182AA1F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C1E-7DE4-495D-A43E-87ABE180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021-7283-4C29-AEE6-085951DB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80A-5A3D-4441-8EB8-255573DA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CD01-F85F-4999-969D-1D5E991FFC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5:08Z</dcterms:modified>
  <cp:revision>48</cp:revision>
  <dc:subject/>
  <dc:title>Hazards</dc:title>
</cp:coreProperties>
</file>