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2437-04C4-4D21-B457-34197BDA1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442-AACB-4FF9-9F41-3887C212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21F-C8A9-4FEF-8E29-3ED5115D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F6EF-72B1-4211-935C-74088BEB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278-73FC-4097-A53F-452DA50E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2F2-2FDC-45E5-96C8-E48441B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F84-A3B7-4827-ADE2-A71D0BAD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25D-0002-4720-A93F-8AD6B9D5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0D7-2821-4CFD-B635-7CCA719D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9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F75-9D08-4909-B41B-1EDEA6C1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608-F3D2-45A6-9940-7E1D80AE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B9D-539D-46F1-B105-C7BFAB9D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4C6-8D08-42C9-BB94-30D03712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4F54-4958-4444-8746-9801EC7AF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rages Jace from helping the distres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s Jace how to milk the cow with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ollen u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ot surprised by the aggressive sku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unable to hunt squirrels because he ha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55520" y="2548080"/>
            <a:ext cx="376560" cy="46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060560" y="5113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063800" y="3564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068480" y="4421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Tick confuses the words “virus” and “venus.”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 believes a virus may be responsibl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d behavior of the two stran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howling at the raco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usual behavior of the skunk towards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yo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ad squirrels he had been fi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58760" y="501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2640" y="3435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7320" y="412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5612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3400" y="475308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is story 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lie Hollid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ra and Sylva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3800" y="307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58760" y="365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60560" y="423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faced all of the following challenges in the story EX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flood waters caused by heavy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ing a steady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for Pep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58760" y="462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52640" y="3436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7320" y="4024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1689120"/>
            <a:ext cx="80769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encounters Tick be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works at the cavern that Jace’s family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ightening bolt triggered the time travel devi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Jace’s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lost and looking for the main trail ba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visitor’s c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is from the health department and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a disease outbreak in cattle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55520" y="253836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60560" y="550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063800" y="3541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58760" y="45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a very unusual encounter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 disagree on what to do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rk muse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kunk attacks a coyote and wins the f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es a scared armadi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 sit around a campfire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55520" y="295272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0560" y="501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3800" y="3822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68480" y="441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15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ce of which of the following context clues is NOT useful for determining the time period described in this stor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s (C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 playing on the 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sevelt in the Whit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ing a racc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0560" y="31352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5240" y="501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065240" y="376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063800" y="43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tells Jace that they are in the  midst of the Great Depression. Which of the following is consistent with that time period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conditions in Texas and 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 are consistent with the Gre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0560" y="313056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65240" y="5135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62000" y="37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63800" y="438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family were visi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ailroad mu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horn 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tting z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CC work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60560" y="424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63800" y="306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8760" y="36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strangers who came upon Jace and Tick in the cave were looking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adi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nie and Clyde’s l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rock form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55520" y="286380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5408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345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5520" y="40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4T15:45:0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1000000000001023620</vt:lpwstr>
  </property>
</Properties>
</file>