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1DF5-A33D-474A-BFE8-32EA499D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D85-004C-4022-AE96-6CD99B51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05D-D182-423E-91F3-ED0C6020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DEF3-DF87-49BA-86B6-F169347F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3681-D38C-4A52-B475-9A9FF88F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9F17-9900-41FC-8082-7749AAA8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798E-66C0-40AF-9A05-F88E4B81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52C-3473-4E9A-9146-DEDB4E58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BB5-8F6F-4528-BD9F-F238D9AC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EFD-4A11-45F9-AFBF-664834E7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7EF-A912-4A9F-9686-E7403A1C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AE3F-656B-4BDE-8B0F-F0979AD0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963B-2CC7-44FC-9AA6-F8F778A40F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2:49Z</dcterms:modified>
  <cp:revision>43</cp:revision>
  <dc:subject/>
  <dc:title>Hazards</dc:title>
</cp:coreProperties>
</file>