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367-ED0E-4DCE-997B-A1C02D48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7F1-97D1-475D-9663-0064CDD3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8F1-2F73-4367-8BE2-1301C5F0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FD9-0E5D-4879-AB19-72CF4A8A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213-7A33-43D9-BC12-892CC667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6DB-B42D-48ED-895B-FA949B14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42D-5A3D-433E-8DE9-B64FADC1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D53-9DE8-4BDB-9AC1-B1286003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DE7-4A31-4611-A306-AC4ABADB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0D4-F6D8-4EAE-A9DE-C6210074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48A-2926-4F02-8CB6-3D973F54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724-D10B-4B05-9938-EAEE2D1D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0BFE-9A48-4E35-8837-C20E16CB32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47Z</dcterms:modified>
  <cp:revision>52</cp:revision>
  <dc:subject/>
  <dc:title>Hazards</dc:title>
</cp:coreProperties>
</file>