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D703-9CB1-4AC7-A908-B81ADD41F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3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2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4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5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55D-6D15-4A55-B52B-DD09247B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21F-5A84-46DF-B983-AE62349B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57F-1E9B-455B-AC9E-628F11E2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58F-6C21-42AE-83AE-87340320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6A9-5E9B-48AA-AE62-B16D58DB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764-BC33-4659-9B58-279B7CB0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1F0-D577-45EB-894A-B720C111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570-574B-44C9-812D-837A1EEA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40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458-9575-4A94-A3EE-A41EF3C7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3EF-74FC-4EE1-B7ED-A52C9757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766-0A74-43CA-B06C-AF299563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C99-5506-46C9-BF54-B5FA1698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1107-1EF3-432C-8632-DA0929DB2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grabbed the torch and dropped it on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mb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 bu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xp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0016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098720" y="3335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10160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096920" y="4533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ick’s laughter faded away to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a choking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uck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01600" y="476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0016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10340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098720" y="41673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4323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hick, damp blanket of clouds threatened to unleash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t any moment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undant and rapidly fl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accompanied by sn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to drizz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2760" y="521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98720" y="3429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1600" y="4013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61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nly light came from a small torch that Tick held in front of him and the gree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low from Jace’s computer keypa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to s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light e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reen sa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00160" y="5529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98720" y="3740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01600" y="43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9692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87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nimals barreled past Tick and Jace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everything around them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ghte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98720" y="5129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09692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00160" y="39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o a tight fissure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ggests that the armadi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u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r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98720" y="5121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10016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095480" y="45338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scurried into a tigh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 op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am of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s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followed Tick as 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k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the dark passage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w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 with some difficul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98720" y="512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96920" y="333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100160" y="3935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95480" y="4537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revealed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colored walls and majestic formation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 a color tha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and subd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da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9872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96920" y="333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10016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set the retur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arlier while he talked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ed clo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wor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used to define a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7T17:41:07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1000000000001023620</vt:lpwstr>
  </property>
</Properties>
</file>