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48D7-E80A-4260-A8EA-83C3C10A4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story page 1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story page 1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3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7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7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8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8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12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14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age 15 of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114C-F7E0-4052-96E2-48AB4453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8924-477D-4918-B21D-8B8E4DE8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33B3-1A69-4DE6-AAA4-22DED84A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6C1D-3AE3-420A-BA3D-4CDE2C50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68D6-95FF-4B8B-9950-71C2E5AD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2AF8-19BE-4470-809C-8FB6844A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9B4E-87E8-4E6E-B8CC-61CC7EDF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71B9-BE8E-4F12-B5FC-6571BCE1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40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2DE2-3B31-4747-93C1-08171277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BDDF-F584-4773-ACC2-C2F03EC2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1886-A5E1-44B7-9D88-9F2C988F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70C5-D34A-4DC0-94C2-82AAF2A0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E13C-5143-4EDA-8AFC-BC66FE4E3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grabbed the torch and dropped it on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molder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mber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molder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fer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ly bu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ght g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expec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0016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098720" y="3335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101600" y="3941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096920" y="4533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ick’s laughter faded away to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hort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hort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a choking no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uck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101600" y="476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100160" y="2971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103400" y="357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098720" y="41673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091040" y="443232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hick, damp blanket of clouds threatened to unleash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orrenti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ains at any moment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Torrenti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ains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undant and rapidly flow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ten accompanied by sn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to drizz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s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12760" y="521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98720" y="3429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101600" y="4013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109520" y="461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nly light came from a small torch that Tick held in front of him and the gree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uminesc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low from Jace’s computer keypad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uminesce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s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a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 to s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light e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8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creen sa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00160" y="5529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98720" y="3740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01600" y="431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9692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876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animals barreled past Tick and Jace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blivi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everything around them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blivi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 to b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ghte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98720" y="5129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09692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100160" y="39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095480" y="45356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rmadill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curri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to a tight fissure in the rock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curri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uggests that the armadil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u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rr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098720" y="5121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096920" y="33415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100160" y="3941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095480" y="45338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rmadillo scurried into a tigh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ss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the rock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ssu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v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rrow ope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am of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 sp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98720" y="5127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096920" y="33415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100160" y="39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095480" y="4540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followed Tick as 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ekk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 the dark passage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e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 quic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w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 with some difficul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98720" y="5124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096920" y="3338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100160" y="3935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095480" y="4537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revealed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ast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colored walls and majestic formation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ast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s to a color that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 and subdu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dar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98720" y="512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096920" y="333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10016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095480" y="45356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2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had set the retur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ordin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arlier while he talked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ordin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fer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ched clo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wor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used to define a lo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98720" y="5127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96920" y="33415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100160" y="39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095480" y="4540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7T17:41:07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1000000000001023620</vt:lpwstr>
  </property>
</Properties>
</file>