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F773-2CD2-4E1E-AB83-C71FE7C8D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7D15-AF29-4A05-8B4D-4E2CDE174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1430-D729-40BE-A706-E7B032D9F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511D-FC6D-498C-B52F-FE2780093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66B0-733C-48FE-BEAA-D6D09878D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84E6-3AAD-4E3B-8B83-082D86FC4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B9A8-DD1B-4D88-B22D-14B61B61B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10EB-078A-40F9-82E2-5748996AF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F800-E298-440C-A0CF-DCEBEF5DB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0193-4B33-4822-ADA2-EBDD9D180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22F0-18D2-4438-8BFF-6357A273E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2CA8-7790-4A01-93A6-727235419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EA120-DAF7-4D7A-AAB7-7A26D3A16F8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oler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22960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atery diarrhea, rapid dehydration, vomiting, leg cram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5360" y="366408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taminated food/water, contaminated feces of an infected 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8-09-23T15:33:20Z</dcterms:modified>
  <cp:revision>49</cp:revision>
  <dc:subject/>
  <dc:title>Hazards</dc:title>
</cp:coreProperties>
</file>