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4EA-DDD8-435D-86E3-4D5AE7BD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2CE-8D5D-4DD1-98C2-86D572E3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27C-BCB2-4587-9590-7089BFD2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A67-DFEB-4DDF-871F-1493FCFD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867-F9C5-4024-8467-D7EF7FC3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C34-9A06-4226-86E9-4A27E329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D36-781B-4516-95C2-144988CA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6CB-2029-424F-909E-BF0D60FA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1BA-AB1E-42ED-A7CC-8AFD3B5A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90E-7D69-4A43-9D91-41041CEA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66F-4192-4F96-B8CE-A548B842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A81-B6E6-4BB8-8514-85BE1C3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30F1-FB24-4B85-8461-4EE8BCD405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5:08Z</dcterms:modified>
  <cp:revision>48</cp:revision>
  <dc:subject/>
  <dc:title>Hazards</dc:title>
</cp:coreProperties>
</file>