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18AB-F941-452F-86A1-33695F798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1333-24A1-493B-8490-91FFEE78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7AAA-0FAB-4082-A339-A92211EE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15D6-B5BB-4555-B80C-F12A1A99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8A8F-308D-4582-B7C0-E8DC01CC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ACE5-EA81-4568-BFE3-93A6AB40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88E0-FD70-4E61-91E7-4C11877E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2B22-09E6-487D-AFAA-E7D9E9E3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9194-ADE4-42B6-A51F-9C4D692E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718B-06D0-4292-9D93-76958526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7492-A751-4B63-9C67-238B14BD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2B9C-24A0-4D23-A330-1814530B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2D8B-A786-4161-AA17-BFA462B9A2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3:20Z</dcterms:modified>
  <cp:revision>49</cp:revision>
  <dc:subject/>
  <dc:title>Hazards</dc:title>
</cp:coreProperties>
</file>