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98B22-7E57-49B2-899C-129FB04DC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istakes and Corrections: (14 total)</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er (Dear)</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m (Mom)</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ly (lonely)</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nd wish I was back… (and I wish I was back…)</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 (se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into two sentence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lonely here and I wish I was back home. I want to see you and my friends.</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milie (family)</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a question mark: …California?</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tence fragment: Job for me too. Correction would include rewriting the sentence. For exampl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need a job too.</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rahs (Sarah’s)</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a question mark:  …dog come hom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 verb structure: I am or I’m going to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te (writ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ve (Lov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ed and 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dden flash of lightning and a loud clap of thunder caused Jace to jump, scratching his leg on a prickly cact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can be anything that expands or adds to the action of the first sentence. Correct grammar and spelling should be us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ed and 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ck’s instructions were cut short by the sudden arrival of a big, hard-shelled armadillo that came streaking into the cave through a slender ope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or armadillo was looking for a safe place to hide from a long-legged, floppy-eared dog that was in hot pursu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corre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ddish-brown cow grazed on the stubbly grass that looked brown and burnt even though it was spring. She walked slowly with stiff, jerky movements that looked painful at every ste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e looked thirsty but there was no water to be found.</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Everyone    Verb:  are famili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in agreement. Correct “are” to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man     Verb: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in agreement. Correct “are” to “i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oculation – protection from infection by stimulating the immune response against a pathog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Inoculation   Verb:  hel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help” to “help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Most      Verb: do not di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has” to “ha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Person  Verb:  are tre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are” to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 spelling of vaccination should be addre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pper is the most in need of a rabies vaccination because of the risk of exposure to the rabid cow and her calf, the skunk or the bat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C0DDF-1028-4527-86CA-655A2D58B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48FF2-43A1-480D-BB17-54FF88A69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AE5B2-B89D-4EBF-9CFD-8551C1DE8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2AA2C-8BF7-4B28-B270-5FA40BE71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4DB5C-4B21-4AE8-BE54-885A3891C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C5509-9BD4-4F23-B035-870F603C9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AD20F-B406-424A-A755-E65F8F37E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DE3EB-9031-4121-867C-E1BEC1BD4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4F4EA-3F67-4D28-B777-80D21EE52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D6B21-FEAE-4F5F-B0F3-ED1B1A611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32CAC-20AB-48DE-BB6A-18A4432F1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7EA3D-1831-459A-B8E3-41F751D55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83280" indent="-26280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5156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7204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89252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75922-7E55-4D43-A8BF-82CCFA94A5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04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 Quiz</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0" y="327672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The E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0" name="PlaceHolder 2"/>
          <p:cNvSpPr>
            <a:spLocks noGrp="1"/>
          </p:cNvSpPr>
          <p:nvPr>
            <p:ph/>
          </p:nvPr>
        </p:nvSpPr>
        <p:spPr>
          <a:xfrm>
            <a:off x="457200" y="2362320"/>
            <a:ext cx="40384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 the story, Tick states that he left home at the age of 14 years.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uring his first month away, he was homesick and wrote a letter to his family. </a:t>
            </a:r>
            <a:endParaRPr b="0" lang="en-US" sz="24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elp Tick by editing the letter to his mom.</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3"/>
          <p:cNvSpPr>
            <a:spLocks noGrp="1"/>
          </p:cNvSpPr>
          <p:nvPr>
            <p:ph/>
          </p:nvPr>
        </p:nvSpPr>
        <p:spPr>
          <a:xfrm>
            <a:off x="4648320" y="1828800"/>
            <a:ext cx="4038480" cy="411480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i="1" lang="en-US" sz="2400" spc="-1" strike="noStrike">
                <a:solidFill>
                  <a:srgbClr val="ffffff"/>
                </a:solidFill>
                <a:latin typeface="Times New Roman"/>
              </a:rPr>
              <a:t>Deer mom,</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It is lonly here and wish I was back home and I want to sea you and my friends. Did the familie leave for California. I hope dad can find a job. Job for me too. Did Sarahs dog come home. I going to rite again soon.</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love,</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Tick</a:t>
            </a:r>
            <a:endParaRPr b="0" lang="en-US" sz="2400" spc="-1" strike="noStrike">
              <a:solidFill>
                <a:srgbClr val="ffffff"/>
              </a:solidFill>
              <a:latin typeface="Times New Roman"/>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0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elp Ms. Swilling, the author of “Raccoons, Robbers and Radios,” improve the sentences on the following slides. Each edited sentence should include correct spelling and grammar. Look for ways to add adjectives or adverbs that make each sentence come aliv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r each edited sentence, provide a new, second sentence that expands the activity described in the first sentence. An example of an added sentence is provided on the next slide.</a:t>
            </a:r>
            <a:endParaRPr b="0" lang="en-US" sz="2400" spc="-1" strike="noStrike">
              <a:solidFill>
                <a:srgbClr val="ffffff"/>
              </a:solidFill>
              <a:latin typeface="Times New Roman"/>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 flash of litning and a clap of thunder, caused Jace to jump. He scratched his leg on a cactus. </a:t>
            </a:r>
            <a:endParaRPr b="0" lang="en-US" sz="2800" spc="-1" strike="noStrike">
              <a:solidFill>
                <a:srgbClr val="ffffff"/>
              </a:solidFill>
              <a:latin typeface="Times New Roman"/>
            </a:endParaRPr>
          </a:p>
        </p:txBody>
      </p:sp>
      <p:sp>
        <p:nvSpPr>
          <p:cNvPr id="58"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rite a new sentence to add to the action. For exampl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tree next to Jace was hit with a second bolt and burst into flame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ick’s instrctions were cut short by the arival of an armadillo. The armadillo came into the cav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3"/>
          <p:cNvSpPr>
            <a:spLocks noGrp="1"/>
          </p:cNvSpPr>
          <p:nvPr>
            <p:ph/>
          </p:nvPr>
        </p:nvSpPr>
        <p:spPr>
          <a:xfrm>
            <a:off x="4647960" y="1981080"/>
            <a:ext cx="426708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adding adjectives or adverbs or choosing improved action verbs.</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n’t forget to write a new second sentence that expands the action!</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 cow grazed on grass. She walked, like she was in pain.</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your prose interesting to read by painting an image in your reader’s mind.</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additions that you would find interesting to read!</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Everyone are familiar with the song “Stormy Weather.’</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young man like Tick or Jace are a good companion for Pepper.</a:t>
            </a:r>
            <a:endParaRPr b="0" lang="en-US" sz="2800" spc="-1" strike="noStrike">
              <a:solidFill>
                <a:srgbClr val="ffffff"/>
              </a:solidFill>
              <a:latin typeface="Times New Roman"/>
            </a:endParaRPr>
          </a:p>
        </p:txBody>
      </p:sp>
      <p:sp>
        <p:nvSpPr>
          <p:cNvPr id="70" name="PlaceHolder 3"/>
          <p:cNvSpPr>
            <a:spLocks noGrp="1"/>
          </p:cNvSpPr>
          <p:nvPr>
            <p:ph/>
          </p:nvPr>
        </p:nvSpPr>
        <p:spPr>
          <a:xfrm>
            <a:off x="4647960" y="1981080"/>
            <a:ext cx="426708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each sentence to the left.</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subject and verb do not agree, correct the sentence. </a:t>
            </a:r>
            <a:endParaRPr b="0" lang="en-US" sz="2800" spc="-1" strike="noStrike">
              <a:solidFill>
                <a:srgbClr val="ffffff"/>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Inoculation with a rabies vaccine help to protect animals from illnes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e the word inoculation.</a:t>
            </a:r>
            <a:endParaRPr b="0" lang="en-US" sz="2800" spc="-1" strike="noStrike">
              <a:solidFill>
                <a:srgbClr val="ffffff"/>
              </a:solidFill>
              <a:latin typeface="Times New Roman"/>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the sentence.</a:t>
            </a:r>
            <a:endParaRPr b="0" lang="en-US" sz="2800" spc="-1" strike="noStrike">
              <a:solidFill>
                <a:srgbClr val="ffffff"/>
              </a:solidFill>
              <a:latin typeface="Times New Roman"/>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subject and verb do not agree, correct the sentence. </a:t>
            </a:r>
            <a:endParaRPr b="0" lang="en-US" sz="2800" spc="-1" strike="noStrike">
              <a:solidFill>
                <a:srgbClr val="ffffff"/>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Of the many people who has been exposed to rabid dogs,  most do not die.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Each exposed person are treated with a series of rabies vaxination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each sentence. Do they agre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nimal in this story might need protection from rabies. Why?</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Ljlab</cp:lastModifiedBy>
  <dcterms:modified xsi:type="dcterms:W3CDTF">2005-05-25T15:48:59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5601000000000001023620</vt:lpwstr>
  </property>
</Properties>
</file>