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A0B-6C62-464F-8A51-6EC180C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DCF-29F8-4941-83F7-C636FF91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21C9-4C07-40E3-AB80-C11950CE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612-6D1D-498C-A6FD-A148DE48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65F-BEBE-4615-A471-F6E81F5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B5B-4096-4F5C-8127-B0161C9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3B8-1818-4FFC-8317-720F47D3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FDC-C345-4F21-8EF9-DED104A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AB1-E021-48CA-86B3-0AC7151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B84-DA07-4AFB-90ED-77FA34C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079-2921-40A6-9598-D6245E3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F58-DAA9-4787-B358-58211B9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67F7-9B2A-4CEC-818A-501B25D98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36Z</dcterms:modified>
  <cp:revision>47</cp:revision>
  <dc:subject/>
  <dc:title>Hazards</dc:title>
</cp:coreProperties>
</file>