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AD63-8BEC-4164-BA87-DF0D3BE3C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story page 1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story page 1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3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7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7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8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8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12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14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15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5E9C-C4FD-4E1A-BD4A-F87B2B64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175F-F721-4C76-8B7D-B016BBFA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3B74-3AE0-4E3F-B881-1B39FEE4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6816-150F-407C-8014-4134FEF8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78CB-DE39-4138-9050-D7B83BEC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A2FB-2093-4938-98AB-75D30177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2D24-461C-4667-BE83-C002A559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AFAD-BF05-4DD6-99C4-34F731B5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40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E92D-4942-4BB4-B8CC-B9B41531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DC98-5B68-432C-A3AC-EDD3651D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BBBA-0433-4DB7-9BDB-A071813C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6B30-57B1-480C-B894-503248D5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46B7-6848-4907-8D61-C68B4F5C6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grabbed the torch and dropped it on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molder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mber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molder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fer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ly bu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ght g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expec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00160" y="5121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098720" y="3335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101600" y="3941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096920" y="4533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ick’s laughter faded away to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hort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hort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a choking no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uck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101600" y="476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100160" y="2971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103400" y="357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098720" y="41673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091040" y="443232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hick, damp blanket of clouds threatened to unleash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orrenti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ains at any moment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Torrenti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ains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undant and rapidly flow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ten accompanied by sno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to drizz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s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12760" y="521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98720" y="3429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01600" y="4013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109520" y="461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nly light came from a small torch that Tick held in front of him and the gree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uminesc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low from Jace’s computer keypad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uminesce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s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a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cult to s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light e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creen sa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00160" y="5529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98720" y="3740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01600" y="431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9692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876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animals barreled past Tick and Jace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blivi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everything around them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blivi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 to b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ghte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98720" y="5129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096920" y="3343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100160" y="3936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095480" y="45356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rmadill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curri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to a tight fissure in the rock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curri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uggests that the armadil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u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rr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098720" y="5121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096920" y="33415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100160" y="3941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1095480" y="45338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rmadillo scurried into a tigh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ss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the rock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ssu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v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rrow ope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am of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 sp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98720" y="5127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096920" y="33415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100160" y="39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095480" y="4540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followed Tick as 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ekk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 the dark passage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e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 quic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w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 with some difficul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98720" y="5124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096920" y="3338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100160" y="3935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095480" y="4537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revealed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ast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colored walls and majestic formation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ast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s to a color that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 and subd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dar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98720" y="512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096920" y="333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100160" y="3933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095480" y="45356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had set the retur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ordin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arlier while he talked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ordin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fer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ched clo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wor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used to define a lo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98720" y="5127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96920" y="33415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100160" y="39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095480" y="4540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7T17:41:07Z</dcterms:modified>
  <cp:revision>55</cp:revision>
  <dc:subject/>
  <dc:title>PowerPoint Presentation</dc:title>
</cp:coreProperties>
</file>