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7A40-73F3-4C25-9DCB-D7817553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86B-D93C-40D5-AF39-2F4C9CA5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953-E6B4-40C4-B151-4943598B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737-49F2-422E-AD6E-A0FAED47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B5B-ECD1-4684-8E3F-98E721ED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902-A702-4AE4-B8DD-B7AE43A4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392-072E-4BED-A663-B830F313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83C-C904-44D0-B9E1-3E7BDB83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359-C297-4B95-934E-E297E5EE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38E-23DC-4CD4-971C-D1D6ECF2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00A-A74B-4C90-81CF-A1FD7772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1EC4-F3B6-4416-9E4D-EC9BD504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2FBA-388D-44CA-848B-FCFB818CAA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47Z</dcterms:modified>
  <cp:revision>52</cp:revision>
  <dc:subject/>
  <dc:title>Hazards</dc:title>
</cp:coreProperties>
</file>