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4C5DC-2043-41E9-88E2-FF522E8C96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rder text: Append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3233-0FB1-4AF8-B84E-B7B6400E7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CC4F-703C-42D2-A548-46C27014F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B47C-3E77-4687-9403-4BF506B24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24D8-C424-4F9B-AAFC-0E1823367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2A64-5DB1-4E89-AE34-28D9D9D37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9A59-4B1C-4702-A3B1-55D917EDC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539D-BB73-4B47-9588-67EA6719C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EC95-72B0-4B14-9A73-7AA49C699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D782-4388-4CAE-8381-BBF401490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84C5-A316-47E4-8BD4-B5C197197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8B7A-B75F-4DA6-97FA-04635B869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112E-9507-4668-AEE6-9D96AD636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3E64A-43B2-44A0-90FE-A3BFB31C1B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ime of day is i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landscap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kind of animals are thes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o these animals naturally liv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you guess where this picture was taken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143000"/>
            <a:ext cx="7696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observations can you make from looking at this picture?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Africa%20344" descr="Africa"/>
          <p:cNvPicPr/>
          <p:nvPr/>
        </p:nvPicPr>
        <p:blipFill>
          <a:blip r:embed="rId2"/>
          <a:stretch/>
        </p:blipFill>
        <p:spPr>
          <a:xfrm>
            <a:off x="469800" y="2438280"/>
            <a:ext cx="3962520" cy="2638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xt is the information that surrounds a particular word or passage that helps determine the meaning of the word or passage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xamining the context of the previous picture, you were able to guess that the picture was probably taken in Africa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questions might you ask yourself when assessing the context of a passage of tex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727280"/>
            <a:ext cx="38862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author or speaker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reader or audien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passage about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does the action take pla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you identify emotions that are expressed in the text? 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</p:txBody>
      </p:sp>
      <p:pic>
        <p:nvPicPr>
          <p:cNvPr id="56" name="QuestionMark" descr=""/>
          <p:cNvPicPr/>
          <p:nvPr/>
        </p:nvPicPr>
        <p:blipFill>
          <a:blip r:embed="rId2"/>
          <a:stretch/>
        </p:blipFill>
        <p:spPr>
          <a:xfrm>
            <a:off x="762120" y="2044800"/>
            <a:ext cx="332568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4:03:32Z</dcterms:created>
  <dc:creator>Gina Balducci</dc:creator>
  <dc:description/>
  <dc:language>en-US</dc:language>
  <cp:lastModifiedBy>vhardy</cp:lastModifiedBy>
  <dcterms:modified xsi:type="dcterms:W3CDTF">2002-12-19T23:00:29Z</dcterms:modified>
  <cp:revision>16</cp:revision>
  <dc:subject/>
  <dc:title>Context Clues</dc:title>
</cp:coreProperties>
</file>