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EC8-87E4-4FB0-BF03-6A24C88A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61B-D329-465D-848C-62BC5CC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697-3A65-422B-86B4-A500D411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53B-24D9-4AD1-AF94-BE09101C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798-B281-45C4-AE60-6C383BA8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94E-695A-4EF8-A038-DC421B9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1A8-73BA-4B49-A9EA-4D9B8C3D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DCA-D2A7-4537-9FFB-A5ED8461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0D9-E8ED-463C-B69C-6CF65881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08F-AECD-4A4E-94FF-9E78C34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E85-1DD5-48E2-9FF7-DB83F3F8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FE1-D302-45FC-BB2B-A9CF08B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C93E-9ED2-466E-A375-A338D0F5A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19Z</dcterms:modified>
  <cp:revision>45</cp:revision>
  <dc:subject/>
  <dc:title>Hazards</dc:title>
</cp:coreProperties>
</file>