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BC6-41B0-44B9-B979-FB383B7E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155-83D4-46A6-A996-EDC3858A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B6F-E88B-45F0-94C6-99D2FAD2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DCD-A994-4400-93C6-8D8285F1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499-77A5-4DA9-95C5-4993116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E44-5B77-4683-9527-E080D0D3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A54-A1DE-4F82-A356-38E518A0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E72-798D-4794-B3F2-25DA6C3B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492-F85F-4D96-9BDD-5828DD88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38A-EC8B-4487-A567-CDEBAEF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6A1-1797-4F92-9AF6-94867918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189-44FD-49BF-81EC-B13BB165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2002-1EF9-4520-A026-736A9F038D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47Z</dcterms:modified>
  <cp:revision>52</cp:revision>
  <dc:subject/>
  <dc:title>Hazards</dc:title>
</cp:coreProperties>
</file>