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6CE-20D0-42EC-821D-B3513400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CFD-DA92-4463-A66D-809D17EA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AF8-0D48-46D2-ACFE-44FE9310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451-CA63-4710-8F89-DDE4AD47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197-1B22-4F92-ABDA-0B9AE795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4A0-591D-4ABA-ACF8-E6CFA2E5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50A-DD7C-4456-A6FA-33E4850E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CDF-3BFA-4A18-93E2-1E3B1BB7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61B-77CF-4C82-BB6F-5B13ED3A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41B-B7B7-4EC3-9796-0E71CA53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F6B-FB79-473A-B4A5-C3C1A7EE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DD4-F359-449A-B5B0-9AAB1B71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A1A7-00A6-43A2-A5A5-ADBC476EBF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09Z</dcterms:modified>
  <cp:revision>52</cp:revision>
  <dc:subject/>
  <dc:title>Hazards</dc:title>
</cp:coreProperties>
</file>