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750AC-1D2F-4777-A3BA-CAC852478A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CA44-B3F9-4361-BCE9-21A4AA879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AFC4-5B70-4EE5-88FA-67DAC72A7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F94B-BC56-4391-8DB6-E4C91D57E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B9B2-948A-430B-9C30-A1420DFDF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5F53-7A9D-4E8D-BCC1-DCF99018A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299E-8710-4531-9E56-12B20D446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1421-E363-430C-BE80-8F1BC4E04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579C-9F02-4F3A-8D7D-53ACD01A4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4B93-29CB-40A5-9CC5-55CF69449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3CD1-98FF-4994-B042-565D087F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6AB2-5418-45FC-B96F-01684241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51D7-B012-4BF0-9B2A-6AEE528E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D2517-C177-4AEF-9E36-E063CE7C4F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ljlab</cp:lastModifiedBy>
  <dcterms:modified xsi:type="dcterms:W3CDTF">2003-09-11T17:19:02Z</dcterms:modified>
  <cp:revision>6</cp:revision>
  <dc:subject/>
  <dc:title>Metric Multiplication Factors</dc:title>
</cp:coreProperties>
</file>