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890-9CD2-49B9-A86D-0FE19B58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527-A6B2-4708-B42B-1BB2DD36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D7B-38EC-4EB1-9860-856B220D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1EC-214C-4C24-A688-F04938A0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DA3-8962-428D-AE0D-770147F3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E93-1EAF-4E06-A8FC-DC6F12B0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017-A0F3-4DB0-95DA-C925312E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FA3-4917-41BD-99A5-D4B2A771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3E2-2F7C-4C5C-84EE-01465BB2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4E2-A212-4981-A246-B508F41A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314-AA17-45B3-8616-DB3A2320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36E-A92C-4E6A-93C3-8C4DDA28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7526-CBE1-405E-88DE-371895AA23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3:00Z</dcterms:modified>
  <cp:revision>47</cp:revision>
  <dc:subject/>
  <dc:title>Hazards</dc:title>
</cp:coreProperties>
</file>