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BE2B-D812-42DE-B9BD-84AF8E93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65BD-2867-4EBA-B58E-9317E381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3298-7DBF-4858-9BF0-3FA2A788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FC3E-B03E-4289-918F-11B753D0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52A3-66DC-4E2C-8ACB-F15C60A7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92BE-BF38-4A48-B7CE-3DD951D1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FA8F-E2B2-4F9F-9C91-20649273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0715-0D1D-4B13-84EC-27B05B8B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93DB-144B-4521-A118-D28E8AA8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0006-2C68-4C50-A7CE-F290E7EA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8869-93A8-47CB-A8F7-344C19F1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0EB9-51BC-433B-92FC-4C08BCD0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8C52-7197-418E-ADFC-A5129EE649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3:39Z</dcterms:modified>
  <cp:revision>51</cp:revision>
  <dc:subject/>
  <dc:title>Hazards</dc:title>
</cp:coreProperties>
</file>