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A5D-BEC6-4A9F-88B1-DAD05A6D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B51-4008-4F93-8406-E7DCB238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572-0B7D-497F-89A9-41BA6DAA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1754-FE9F-46E7-A384-B80CDCFB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0C2A-07F5-494E-A826-258A66B2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E02C-B82F-4CE8-BEBE-21AE6FB3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B13-A95C-4F95-9FE6-DB8AA31F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7056-1937-42A3-895A-BBF39A44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367-5BC1-4E86-AC11-46765043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27D-526F-411E-A870-98C7A38A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F874-9A86-4BC0-863C-15223545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DA1-85FE-40AB-9612-263D50D7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71CF-1725-4F56-AA18-70C162C1C6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2:49Z</dcterms:modified>
  <cp:revision>43</cp:revision>
  <dc:subject/>
  <dc:title>Hazards</dc:title>
</cp:coreProperties>
</file>