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7.jpeg" ContentType="image/jpeg"/>
  <Override PartName="/ppt/media/image12.wmf" ContentType="image/x-wmf"/>
  <Override PartName="/ppt/media/image4.png" ContentType="image/png"/>
  <Override PartName="/ppt/media/suction.wav" ContentType="audio/x-wav"/>
  <Override PartName="/ppt/media/image2.png" ContentType="image/png"/>
  <Override PartName="/ppt/media/image18.jpeg" ContentType="image/jpeg"/>
  <Override PartName="/ppt/media/image17.jpeg" ContentType="image/jpeg"/>
  <Override PartName="/ppt/media/image16.wmf" ContentType="image/x-wmf"/>
  <Override PartName="/ppt/media/image14.jpeg" ContentType="image/jpeg"/>
  <Override PartName="/ppt/media/image13.jpeg" ContentType="image/jpeg"/>
  <Override PartName="/ppt/media/image1.jpeg" ContentType="image/jpeg"/>
  <Override PartName="/ppt/media/image5.jpeg" ContentType="image/jpeg"/>
  <Override PartName="/ppt/media/image9.wmf" ContentType="image/x-wmf"/>
  <Override PartName="/ppt/media/image8.jpeg" ContentType="image/jpeg"/>
  <Override PartName="/ppt/media/image10.jpeg" ContentType="image/jpeg"/>
  <Override PartName="/ppt/media/image15.png" ContentType="image/png"/>
  <Override PartName="/ppt/media/image3.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custShowLst>
    <p:custShow name="Custom Show 1" id="0">
      <p:sldLst>
        <p:sld r:id="rId4"/>
        <p:sld r:id="rId5"/>
        <p:sld r:id="rId1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B617-47CB-4EC3-8953-90441BD97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In two clicks, information about the Texas Wildlife Damage Management Service’s oral vaccination program is presented, along with an animated bait-drop (with soun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xas Wildlife Damage Management Service has a vaccination program that delivers the rabies vaccine orally using food ba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ogram is reducing the spread of rabies among coyotes in South Texas and gray foxes in West Texas. (Chopper passes through screen, dropping ba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 TWDM’s oral vaccination program: http://agnews.tamu.edu/dailynews/stories/WFSC/Dec1704a.ht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bat strains, e.g. the Mexican Free-Tail, Hoary Bat, Silver Haired ba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s die from rabies, but they can carry it in latent form in their brown fat during hibernation. Actually, the raccoon is the animal most often seen with rabies, but only one case has been reported of spread to a human from a raco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In two clicks, the replication of a virus in a nerve cell is demonstrated with accompanying tex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ter a rabid animal bites another animal, the virus in the saliva attaches itself to a nerve ce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virus replicates itself within the cell. The copies of the virus thenburst out of the cell and move on to infect other cel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In two clicks, the virus courses through the nervous system with accompanying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52678-CF1B-478F-8F60-748ACA1B0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61D19-CE68-449B-B6AF-933A80E13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ABAEA-FD30-486C-B76D-DAC5CB94D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134E9-99FD-4E36-A641-BBA100B2C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BADFC-4F1A-49D3-9312-0446D6FA3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B829E-F2E7-4CC8-9701-3E97165CB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20A12-55E0-40EA-866D-0DD3EE684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675C9-FD66-42AD-B811-9CCB0783C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AE4BE-439B-4560-BC21-2F70C912F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38C3F-DE33-4D92-ABF0-8C3ACAA74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E57A-67BC-4C01-95FA-25E914034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A9BA-7407-4FB5-9137-FCC97C10B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3E54-EA67-4995-B4C5-416BB26EB7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oleObject" Target="../embeddings/oleObject1.bin"/><Relationship Id="rId4" Type="http://schemas.openxmlformats.org/officeDocument/2006/relationships/image" Target="../media/image19.jpeg"/><Relationship Id="rId5" Type="http://schemas.openxmlformats.org/officeDocument/2006/relationships/slideLayout" Target="../slideLayouts/slideLayout7.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peer.tamu.edu/curriculum_modules/OrganSystems/Module_1/index.ht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idwest.fws.gov/marktwain/Images/animals/bat.JPG"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http://www.nps.gov/tont/nature/graphics/skunk.jpg" TargetMode="External"/><Relationship Id="rId6" Type="http://schemas.openxmlformats.org/officeDocument/2006/relationships/image" Target="../media/image7.jpeg"/><Relationship Id="rId7" Type="http://schemas.openxmlformats.org/officeDocument/2006/relationships/hyperlink" Target="http://ceres.ca.gov/geo_area/bioregions/South_Coast/coyote.gif" TargetMode="External"/><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OrganSystems/Module_5/index.htm" TargetMode="External"/><Relationship Id="rId3" Type="http://schemas.openxmlformats.org/officeDocument/2006/relationships/audio" Target="../media/suction.wav"/><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bie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228600" y="3885840"/>
            <a:ext cx="876312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Almost Always Fatal Vir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Deadly Virus</a:t>
            </a:r>
            <a:endParaRPr b="0" lang="en-US" sz="4400" spc="-1" strike="noStrike">
              <a:solidFill>
                <a:srgbClr val="ffffff"/>
              </a:solidFill>
              <a:latin typeface="Times New Roman"/>
            </a:endParaRPr>
          </a:p>
        </p:txBody>
      </p:sp>
      <p:sp>
        <p:nvSpPr>
          <p:cNvPr id="249" name="PlaceHolder 2"/>
          <p:cNvSpPr>
            <a:spLocks noGrp="1"/>
          </p:cNvSpPr>
          <p:nvPr>
            <p:ph/>
          </p:nvPr>
        </p:nvSpPr>
        <p:spPr>
          <a:xfrm>
            <a:off x="4032000" y="2133360"/>
            <a:ext cx="4716360" cy="30956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three humans have survived rabies. The disease kills about 50,000 people a year worldwid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llions of animals die each year from rabi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 of rabies cases occur in wildlif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0" name="" descr="Rabies"/>
          <p:cNvPicPr/>
          <p:nvPr/>
        </p:nvPicPr>
        <p:blipFill>
          <a:blip r:embed="rId2"/>
          <a:stretch/>
        </p:blipFill>
        <p:spPr>
          <a:xfrm>
            <a:off x="433440" y="2276640"/>
            <a:ext cx="3382920" cy="2705040"/>
          </a:xfrm>
          <a:prstGeom prst="rect">
            <a:avLst/>
          </a:prstGeom>
          <a:ln w="0">
            <a:noFill/>
          </a:ln>
        </p:spPr>
      </p:pic>
      <p:sp>
        <p:nvSpPr>
          <p:cNvPr id="251" name=""/>
          <p:cNvSpPr/>
          <p:nvPr/>
        </p:nvSpPr>
        <p:spPr>
          <a:xfrm>
            <a:off x="361800" y="5003640"/>
            <a:ext cx="1454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MedlinePlus</a:t>
            </a:r>
            <a:endParaRPr b="0" lang="en-US" sz="1200" spc="-1" strike="noStrike">
              <a:solidFill>
                <a:srgbClr val="ffffff"/>
              </a:solidFill>
              <a:latin typeface="Times New Roman"/>
            </a:endParaRPr>
          </a:p>
        </p:txBody>
      </p:sp>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0.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34920" y="-27000"/>
            <a:ext cx="9178920" cy="7058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4" name="" descr=""/>
          <p:cNvPicPr/>
          <p:nvPr/>
        </p:nvPicPr>
        <p:blipFill>
          <a:blip r:embed="rId2"/>
          <a:stretch/>
        </p:blipFill>
        <p:spPr>
          <a:xfrm>
            <a:off x="3382920" y="954000"/>
            <a:ext cx="5545080" cy="3699000"/>
          </a:xfrm>
          <a:prstGeom prst="rect">
            <a:avLst/>
          </a:prstGeom>
          <a:ln w="0">
            <a:noFill/>
          </a:ln>
        </p:spPr>
      </p:pic>
      <p:sp>
        <p:nvSpPr>
          <p:cNvPr id="255" name="PlaceHolder 1"/>
          <p:cNvSpPr>
            <a:spLocks noGrp="1"/>
          </p:cNvSpPr>
          <p:nvPr>
            <p:ph/>
          </p:nvPr>
        </p:nvSpPr>
        <p:spPr>
          <a:xfrm>
            <a:off x="250560" y="1555920"/>
            <a:ext cx="3313080" cy="46814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irus is found all over the world and is in every state in the U.S. except Hawaii.</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ases occur due to bites from infected wildlif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2001, there were over 7,000 reported cases of rabies in the U.S.</a:t>
            </a:r>
            <a:endParaRPr b="0" lang="en-US" sz="2400" spc="-1" strike="noStrike">
              <a:solidFill>
                <a:srgbClr val="ffffff"/>
              </a:solidFill>
              <a:latin typeface="Times New Roman"/>
            </a:endParaRPr>
          </a:p>
        </p:txBody>
      </p:sp>
      <p:sp>
        <p:nvSpPr>
          <p:cNvPr id="256" name=""/>
          <p:cNvSpPr/>
          <p:nvPr/>
        </p:nvSpPr>
        <p:spPr>
          <a:xfrm>
            <a:off x="3203640" y="223920"/>
            <a:ext cx="5581440" cy="15127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PlaceHolder 2"/>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rabies found?</a:t>
            </a:r>
            <a:endParaRPr b="0" lang="en-US" sz="4400" spc="-1" strike="noStrike">
              <a:solidFill>
                <a:srgbClr val="ffffff"/>
              </a:solidFill>
              <a:latin typeface="Times New Roman"/>
            </a:endParaRPr>
          </a:p>
        </p:txBody>
      </p:sp>
      <p:sp>
        <p:nvSpPr>
          <p:cNvPr id="2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1.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to Protect Yourself</a:t>
            </a:r>
            <a:endParaRPr b="0" lang="en-US" sz="4400" spc="-1" strike="noStrike">
              <a:solidFill>
                <a:srgbClr val="ffffff"/>
              </a:solidFill>
              <a:latin typeface="Times New Roman"/>
            </a:endParaRPr>
          </a:p>
        </p:txBody>
      </p:sp>
      <p:sp>
        <p:nvSpPr>
          <p:cNvPr id="2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approach mammals in the wild and get away from any wild animals that act tame around you.</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your pets vaccinated for rabies and do not let them run around with wild animals.</a:t>
            </a:r>
            <a:endParaRPr b="0" lang="en-US" sz="2400" spc="-1" strike="noStrike">
              <a:solidFill>
                <a:srgbClr val="ffffff"/>
              </a:solidFill>
              <a:latin typeface="Times New Roman"/>
            </a:endParaRPr>
          </a:p>
        </p:txBody>
      </p:sp>
      <p:pic>
        <p:nvPicPr>
          <p:cNvPr id="261" name="" descr=""/>
          <p:cNvPicPr/>
          <p:nvPr/>
        </p:nvPicPr>
        <p:blipFill>
          <a:blip r:embed="rId2"/>
          <a:stretch/>
        </p:blipFill>
        <p:spPr>
          <a:xfrm>
            <a:off x="5111640" y="1973160"/>
            <a:ext cx="3205440" cy="2617920"/>
          </a:xfrm>
          <a:prstGeom prst="rect">
            <a:avLst/>
          </a:prstGeom>
          <a:ln w="0">
            <a:noFill/>
          </a:ln>
        </p:spPr>
      </p:pic>
      <p:sp>
        <p:nvSpPr>
          <p:cNvPr id="262" name=""/>
          <p:cNvSpPr/>
          <p:nvPr/>
        </p:nvSpPr>
        <p:spPr>
          <a:xfrm rot="20893200">
            <a:off x="5401080" y="3260880"/>
            <a:ext cx="503280" cy="2804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Rabies</a:t>
            </a:r>
            <a:endParaRPr b="0" lang="en-US" sz="8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1</a:t>
            </a:r>
            <a:endParaRPr b="0" lang="en-US" sz="1200" spc="-1" strike="noStrike">
              <a:solidFill>
                <a:srgbClr val="ffffff"/>
              </a:solidFill>
              <a:latin typeface="Times New Roman"/>
            </a:endParaRPr>
          </a:p>
        </p:txBody>
      </p:sp>
      <p:sp>
        <p:nvSpPr>
          <p:cNvPr id="2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2.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Rabies Vaccine</a:t>
            </a:r>
            <a:endParaRPr b="0" lang="en-US" sz="4400" spc="-1" strike="noStrike">
              <a:solidFill>
                <a:srgbClr val="ffffff"/>
              </a:solidFill>
              <a:latin typeface="Times New Roman"/>
            </a:endParaRPr>
          </a:p>
        </p:txBody>
      </p:sp>
      <p:sp>
        <p:nvSpPr>
          <p:cNvPr id="265" name="PlaceHolder 2"/>
          <p:cNvSpPr>
            <a:spLocks noGrp="1"/>
          </p:cNvSpPr>
          <p:nvPr>
            <p:ph/>
          </p:nvPr>
        </p:nvSpPr>
        <p:spPr>
          <a:xfrm>
            <a:off x="4211640" y="1952640"/>
            <a:ext cx="4464000" cy="3240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accine is a inactivated virus usually grown in a chicken embry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accine should be given to animals every 3 years and to people that work around wild animals.</a:t>
            </a:r>
            <a:endParaRPr b="0" lang="en-US" sz="2400" spc="-1" strike="noStrike">
              <a:solidFill>
                <a:srgbClr val="ffffff"/>
              </a:solidFill>
              <a:latin typeface="Times New Roman"/>
            </a:endParaRPr>
          </a:p>
        </p:txBody>
      </p:sp>
      <p:pic>
        <p:nvPicPr>
          <p:cNvPr id="266" name="" descr=""/>
          <p:cNvPicPr/>
          <p:nvPr/>
        </p:nvPicPr>
        <p:blipFill>
          <a:blip r:embed="rId2"/>
          <a:stretch/>
        </p:blipFill>
        <p:spPr>
          <a:xfrm>
            <a:off x="1143000" y="1981080"/>
            <a:ext cx="2494080" cy="3657600"/>
          </a:xfrm>
          <a:prstGeom prst="rect">
            <a:avLst/>
          </a:prstGeom>
          <a:ln w="28440">
            <a:solidFill>
              <a:srgbClr val="ffffff"/>
            </a:solidFill>
            <a:miter/>
          </a:ln>
        </p:spPr>
      </p:pic>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3.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5651640" y="5697360"/>
            <a:ext cx="2050920" cy="116064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3456000" y="5832360"/>
            <a:ext cx="2050920" cy="116064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572000" y="5697360"/>
            <a:ext cx="205092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4608360" y="5481720"/>
            <a:ext cx="205128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4681440" y="526572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accinating Wildlife</a:t>
            </a:r>
            <a:endParaRPr b="0" lang="en-US" sz="4400" spc="-1" strike="noStrike">
              <a:solidFill>
                <a:srgbClr val="ffffff"/>
              </a:solidFill>
              <a:latin typeface="Times New Roman"/>
            </a:endParaRPr>
          </a:p>
        </p:txBody>
      </p:sp>
      <p:sp>
        <p:nvSpPr>
          <p:cNvPr id="274" name=""/>
          <p:cNvSpPr/>
          <p:nvPr/>
        </p:nvSpPr>
        <p:spPr>
          <a:xfrm>
            <a:off x="0" y="5761080"/>
            <a:ext cx="2050920" cy="1160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rot="1027800">
            <a:off x="10223640" y="98100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rot="19268400">
            <a:off x="10476000" y="101736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rot="17227800">
            <a:off x="10476720" y="101664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2"/>
          <p:cNvSpPr>
            <a:spLocks noGrp="1"/>
          </p:cNvSpPr>
          <p:nvPr>
            <p:ph/>
          </p:nvPr>
        </p:nvSpPr>
        <p:spPr>
          <a:xfrm>
            <a:off x="4647960" y="1699920"/>
            <a:ext cx="4064040" cy="2160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exas Wildlife Damage Management Service has a vaccination program that delivers the rabies vaccine orally using food bait.</a:t>
            </a:r>
            <a:endParaRPr b="0" lang="en-US" sz="2400" spc="-1" strike="noStrike">
              <a:solidFill>
                <a:srgbClr val="ffffff"/>
              </a:solidFill>
              <a:latin typeface="Times New Roman"/>
            </a:endParaRPr>
          </a:p>
        </p:txBody>
      </p:sp>
      <p:sp>
        <p:nvSpPr>
          <p:cNvPr id="279" name=""/>
          <p:cNvSpPr/>
          <p:nvPr/>
        </p:nvSpPr>
        <p:spPr>
          <a:xfrm flipH="1">
            <a:off x="-181080" y="-27000"/>
            <a:ext cx="36734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36360" y="-243360"/>
            <a:ext cx="0" cy="37083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8118360" y="497664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76360" y="1808280"/>
            <a:ext cx="3540960" cy="2971440"/>
            <a:chOff x="576360" y="1808280"/>
            <a:chExt cx="3540960" cy="2971440"/>
          </a:xfrm>
        </p:grpSpPr>
        <p:sp>
          <p:nvSpPr>
            <p:cNvPr id="283" name=""/>
            <p:cNvSpPr/>
            <p:nvPr/>
          </p:nvSpPr>
          <p:spPr>
            <a:xfrm>
              <a:off x="576360" y="4503240"/>
              <a:ext cx="2207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DM agents at work</a:t>
              </a:r>
              <a:endParaRPr b="0" lang="en-US" sz="1200" spc="-1" strike="noStrike">
                <a:solidFill>
                  <a:srgbClr val="ffffff"/>
                </a:solidFill>
                <a:latin typeface="Times New Roman"/>
              </a:endParaRPr>
            </a:p>
          </p:txBody>
        </p:sp>
        <p:pic>
          <p:nvPicPr>
            <p:cNvPr id="284" name="" descr=""/>
            <p:cNvPicPr/>
            <p:nvPr/>
          </p:nvPicPr>
          <p:blipFill>
            <a:blip r:embed="rId2"/>
            <a:stretch/>
          </p:blipFill>
          <p:spPr>
            <a:xfrm>
              <a:off x="671400" y="1808280"/>
              <a:ext cx="3445920" cy="2584800"/>
            </a:xfrm>
            <a:prstGeom prst="rect">
              <a:avLst/>
            </a:prstGeom>
            <a:ln w="28440">
              <a:solidFill>
                <a:srgbClr val="ffffff"/>
              </a:solidFill>
              <a:miter/>
            </a:ln>
          </p:spPr>
        </p:pic>
      </p:grpSp>
      <p:sp>
        <p:nvSpPr>
          <p:cNvPr id="285" name=""/>
          <p:cNvSpPr/>
          <p:nvPr/>
        </p:nvSpPr>
        <p:spPr>
          <a:xfrm rot="1027800">
            <a:off x="10223280" y="101772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rot="1027800">
            <a:off x="10402560" y="116064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rot="17227800">
            <a:off x="10548000" y="101628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17227800">
            <a:off x="10476720" y="101664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rot="19268400">
            <a:off x="10475640" y="119664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rot="19268400">
            <a:off x="10404000" y="112500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rot="17227800">
            <a:off x="10800360" y="94464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2" name=""/>
          <p:cNvGrpSpPr/>
          <p:nvPr/>
        </p:nvGrpSpPr>
        <p:grpSpPr>
          <a:xfrm>
            <a:off x="9256680" y="-1809000"/>
            <a:ext cx="7628400" cy="3989880"/>
            <a:chOff x="9256680" y="-1809000"/>
            <a:chExt cx="7628400" cy="3989880"/>
          </a:xfrm>
        </p:grpSpPr>
        <p:grpSp>
          <p:nvGrpSpPr>
            <p:cNvPr id="293" name=""/>
            <p:cNvGrpSpPr/>
            <p:nvPr/>
          </p:nvGrpSpPr>
          <p:grpSpPr>
            <a:xfrm>
              <a:off x="10767600" y="-1809000"/>
              <a:ext cx="6117480" cy="3989880"/>
              <a:chOff x="10767600" y="-1809000"/>
              <a:chExt cx="6117480" cy="3989880"/>
            </a:xfrm>
          </p:grpSpPr>
          <p:sp>
            <p:nvSpPr>
              <p:cNvPr id="294" name=""/>
              <p:cNvSpPr/>
              <p:nvPr/>
            </p:nvSpPr>
            <p:spPr>
              <a:xfrm rot="21266400">
                <a:off x="10834200" y="271440"/>
                <a:ext cx="2820960" cy="1512720"/>
              </a:xfrm>
              <a:prstGeom prst="ellipse">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rot="1323600">
                <a:off x="12407400" y="-1112760"/>
                <a:ext cx="4176720" cy="2414520"/>
              </a:xfrm>
              <a:custGeom>
                <a:avLst/>
                <a:gdLst/>
                <a:ahLst/>
                <a:rect l="l" t="t" r="r" b="b"/>
                <a:pathLst>
                  <a:path w="2631" h="1521">
                    <a:moveTo>
                      <a:pt x="975" y="1521"/>
                    </a:moveTo>
                    <a:lnTo>
                      <a:pt x="1996" y="931"/>
                    </a:lnTo>
                    <a:lnTo>
                      <a:pt x="2359" y="1158"/>
                    </a:lnTo>
                    <a:lnTo>
                      <a:pt x="2631" y="1044"/>
                    </a:lnTo>
                    <a:lnTo>
                      <a:pt x="2200" y="749"/>
                    </a:lnTo>
                    <a:lnTo>
                      <a:pt x="2450" y="568"/>
                    </a:lnTo>
                    <a:lnTo>
                      <a:pt x="2177" y="568"/>
                    </a:lnTo>
                    <a:lnTo>
                      <a:pt x="2201" y="0"/>
                    </a:lnTo>
                    <a:lnTo>
                      <a:pt x="2046" y="82"/>
                    </a:lnTo>
                    <a:lnTo>
                      <a:pt x="1860" y="749"/>
                    </a:lnTo>
                    <a:lnTo>
                      <a:pt x="839" y="1226"/>
                    </a:lnTo>
                    <a:lnTo>
                      <a:pt x="658" y="1067"/>
                    </a:lnTo>
                    <a:lnTo>
                      <a:pt x="0" y="1407"/>
                    </a:lnTo>
                    <a:lnTo>
                      <a:pt x="975" y="1521"/>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rot="21292800">
                <a:off x="15465960" y="379800"/>
                <a:ext cx="263520" cy="249120"/>
              </a:xfrm>
              <a:prstGeom prst="star5">
                <a:avLst/>
              </a:prstGeom>
              <a:solidFill>
                <a:srgbClr val="ffffff"/>
              </a:solidFill>
              <a:ln w="93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97" name=""/>
              <p:cNvSpPr/>
              <p:nvPr/>
            </p:nvSpPr>
            <p:spPr>
              <a:xfrm rot="20070000">
                <a:off x="10927080" y="598680"/>
                <a:ext cx="1079280" cy="612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V="1">
                <a:off x="10970640" y="1991160"/>
                <a:ext cx="2406240" cy="189720"/>
              </a:xfrm>
              <a:prstGeom prst="line">
                <a:avLst/>
              </a:prstGeom>
              <a:ln w="7632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flipV="1">
                <a:off x="11578680" y="1518480"/>
                <a:ext cx="242640" cy="598680"/>
              </a:xfrm>
              <a:prstGeom prst="line">
                <a:avLst/>
              </a:prstGeom>
              <a:ln w="15228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H="1" flipV="1">
                <a:off x="12728160" y="1584360"/>
                <a:ext cx="201600" cy="457920"/>
              </a:xfrm>
              <a:prstGeom prst="line">
                <a:avLst/>
              </a:prstGeom>
              <a:ln w="15228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 name=""/>
            <p:cNvSpPr/>
            <p:nvPr/>
          </p:nvSpPr>
          <p:spPr>
            <a:xfrm>
              <a:off x="12211560" y="-306360"/>
              <a:ext cx="51120" cy="642240"/>
            </a:xfrm>
            <a:prstGeom prst="line">
              <a:avLst/>
            </a:prstGeom>
            <a:ln w="7632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rot="21289200">
              <a:off x="9259200" y="-177840"/>
              <a:ext cx="5904000" cy="323640"/>
            </a:xfrm>
            <a:prstGeom prst="ellips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3" name=""/>
          <p:cNvSpPr/>
          <p:nvPr/>
        </p:nvSpPr>
        <p:spPr>
          <a:xfrm>
            <a:off x="1152360" y="555300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258920" y="5734080"/>
            <a:ext cx="205092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195640" y="5229360"/>
            <a:ext cx="205092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268360" y="5516640"/>
            <a:ext cx="205128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268360" y="5761080"/>
            <a:ext cx="205128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6588000" y="569736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8118360" y="526572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7848720" y="5697360"/>
            <a:ext cx="205092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828720" y="5761080"/>
            <a:ext cx="205092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2" name="" descr=""/>
          <p:cNvPicPr/>
          <p:nvPr/>
        </p:nvPicPr>
        <p:blipFill>
          <a:blip r:embed="rId3"/>
          <a:stretch/>
        </p:blipFill>
        <p:spPr>
          <a:xfrm>
            <a:off x="9468000" y="4113360"/>
            <a:ext cx="304560" cy="304560"/>
          </a:xfrm>
          <a:prstGeom prst="rect">
            <a:avLst/>
          </a:prstGeom>
          <a:ln w="0">
            <a:noFill/>
          </a:ln>
        </p:spPr>
      </p:pic>
      <p:sp>
        <p:nvSpPr>
          <p:cNvPr id="313" name=""/>
          <p:cNvSpPr/>
          <p:nvPr/>
        </p:nvSpPr>
        <p:spPr>
          <a:xfrm>
            <a:off x="4648320" y="3716280"/>
            <a:ext cx="4064040" cy="172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rogram is reducing the spread of rabies among coyotes in South Texas and gray foxes in West Texas.</a:t>
            </a:r>
            <a:endParaRPr b="0" lang="en-US" sz="2400" spc="-1" strike="noStrike">
              <a:solidFill>
                <a:srgbClr val="ffffff"/>
              </a:solidFill>
              <a:latin typeface="Times New Roman"/>
            </a:endParaRPr>
          </a:p>
        </p:txBody>
      </p:sp>
      <p:sp>
        <p:nvSpPr>
          <p:cNvPr id="3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4.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282"/>
                                        </p:tgtEl>
                                        <p:attrNameLst>
                                          <p:attrName>style.visibility</p:attrName>
                                        </p:attrNameLst>
                                      </p:cBhvr>
                                      <p:to>
                                        <p:strVal val="visible"/>
                                      </p:to>
                                    </p:set>
                                    <p:animEffect filter="fade" transition="in">
                                      <p:cBhvr additive="repl">
                                        <p:cTn id="162" dur="1000"/>
                                        <p:tgtEl>
                                          <p:spTgt spid="282"/>
                                        </p:tgtEl>
                                      </p:cBhvr>
                                    </p:animEffect>
                                  </p:childTnLst>
                                </p:cTn>
                              </p:par>
                              <p:par>
                                <p:cTn id="163" nodeType="withEffect" fill="hold" presetClass="entr" presetID="10">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65" dur="1000"/>
                                        <p:tgtEl>
                                          <p:spTgt spid="278">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10">
                                  <p:stCondLst>
                                    <p:cond delay="0"/>
                                  </p:stCondLst>
                                  <p:childTnLst>
                                    <p:animEffect filter="fade" transition="out">
                                      <p:cBhvr additive="repl">
                                        <p:cTn id="169" dur="1000"/>
                                        <p:tgtEl>
                                          <p:spTgt spid="278">
                                            <p:txEl>
                                              <p:pRg st="0" end="0"/>
                                            </p:txEl>
                                          </p:spTgt>
                                        </p:tgtEl>
                                      </p:cBhvr>
                                    </p:animEffect>
                                    <p:set>
                                      <p:cBhvr>
                                        <p:cTn id="170" dur="1" fill="hold">
                                          <p:stCondLst>
                                            <p:cond delay="999"/>
                                          </p:stCondLst>
                                        </p:cTn>
                                        <p:tgtEl>
                                          <p:spTgt spid="278">
                                            <p:txEl>
                                              <p:pRg st="0" end="0"/>
                                            </p:txEl>
                                          </p:spTgt>
                                        </p:tgtEl>
                                        <p:attrNameLst>
                                          <p:attrName>style.visibility</p:attrName>
                                        </p:attrNameLst>
                                      </p:cBhvr>
                                      <p:to>
                                        <p:strVal val="hidden"/>
                                      </p:to>
                                    </p:set>
                                  </p:childTnLst>
                                </p:cTn>
                              </p:par>
                              <p:par>
                                <p:cTn id="171" nodeType="withEffect" fill="hold" presetClass="exit" presetID="10">
                                  <p:stCondLst>
                                    <p:cond delay="0"/>
                                  </p:stCondLst>
                                  <p:childTnLst>
                                    <p:animEffect filter="fade" transition="out">
                                      <p:cBhvr additive="repl">
                                        <p:cTn id="172" dur="1000"/>
                                        <p:tgtEl>
                                          <p:spTgt spid="282"/>
                                        </p:tgtEl>
                                      </p:cBhvr>
                                    </p:animEffect>
                                    <p:set>
                                      <p:cBhvr>
                                        <p:cTn id="173" dur="1" fill="hold">
                                          <p:stCondLst>
                                            <p:cond delay="999"/>
                                          </p:stCondLst>
                                        </p:cTn>
                                        <p:tgtEl>
                                          <p:spTgt spid="282"/>
                                        </p:tgtEl>
                                        <p:attrNameLst>
                                          <p:attrName>style.visibility</p:attrName>
                                        </p:attrNameLst>
                                      </p:cBhvr>
                                      <p:to>
                                        <p:strVal val="hidden"/>
                                      </p:to>
                                    </p:set>
                                  </p:childTnLst>
                                </p:cTn>
                              </p:par>
                            </p:childTnLst>
                          </p:cTn>
                        </p:par>
                        <p:par>
                          <p:cTn id="174" fill="hold">
                            <p:stCondLst>
                              <p:cond delay="1000"/>
                            </p:stCondLst>
                            <p:childTnLst>
                              <p:par>
                                <p:cTn id="175" nodeType="afterEffect" fill="hold" presetClass="entr" presetID="10">
                                  <p:stCondLst>
                                    <p:cond delay="0"/>
                                  </p:stCondLst>
                                  <p:childTnLst>
                                    <p:set>
                                      <p:cBhvr>
                                        <p:cTn id="176" dur="1" fill="hold">
                                          <p:stCondLst>
                                            <p:cond delay="0"/>
                                          </p:stCondLst>
                                        </p:cTn>
                                        <p:tgtEl>
                                          <p:spTgt spid="313"/>
                                        </p:tgtEl>
                                        <p:attrNameLst>
                                          <p:attrName>style.visibility</p:attrName>
                                        </p:attrNameLst>
                                      </p:cBhvr>
                                      <p:to>
                                        <p:strVal val="visible"/>
                                      </p:to>
                                    </p:set>
                                    <p:animEffect filter="fade" transition="in">
                                      <p:cBhvr additive="repl">
                                        <p:cTn id="177" dur="2000"/>
                                        <p:tgtEl>
                                          <p:spTgt spid="313"/>
                                        </p:tgtEl>
                                      </p:cBhvr>
                                    </p:animEffect>
                                  </p:childTnLst>
                                </p:cTn>
                              </p:par>
                              <p:par>
                                <p:cTn id="178" nodeType="withEffect" fill="hold" presetClass="mediacall" presetID="1">
                                  <p:stCondLst>
                                    <p:cond delay="0"/>
                                  </p:stCondLst>
                                  <p:childTnLst>
                                    <p:cmd type="call" cmd="playFrom(0.0)">
                                      <p:cBhvr>
                                        <p:cTn id="179" dur="6259" fill="hold"/>
                                        <p:tgtEl>
                                          <p:spTgt spid="312"/>
                                        </p:tgtEl>
                                      </p:cBhvr>
                                    </p:cmd>
                                  </p:childTnLst>
                                </p:cTn>
                              </p:par>
                              <p:par>
                                <p:cTn id="180" nodeType="withEffect" fill="hold" presetClass="path" presetID="0">
                                  <p:stCondLst>
                                    <p:cond delay="2000"/>
                                  </p:stCondLst>
                                  <p:childTnLst>
                                    <p:animMotion origin="layout" path="M -0.03941 -4.16185E-006 L -2.2599 0.09457 E">
                                      <p:cBhvr>
                                        <p:cTn id="181" dur="3000" fill="hold"/>
                                        <p:tgtEl>
                                          <p:spTgt spid="292"/>
                                        </p:tgtEl>
                                      </p:cBhvr>
                                    </p:animMotion>
                                  </p:childTnLst>
                                </p:cTn>
                              </p:par>
                              <p:par>
                                <p:cTn id="182" nodeType="withEffect" fill="hold" presetClass="path" presetID="0">
                                  <p:stCondLst>
                                    <p:cond delay="2000"/>
                                  </p:stCondLst>
                                  <p:childTnLst>
                                    <p:animMotion origin="layout" path="M 1.94444E-006 -4.79769E-006 C -0.1349 0.00232 -0.08334 0.0037 -0.13038 0.00625 C -0.16788 0.00833 -0.24323 0.01064 -0.24323 0.01087 C -0.25209 0.0148 -0.25695 0.02683 -0.26389 0.03584 C -0.26962 0.05365 -0.26198 0.0333 -0.26962 0.0444 C -0.27136 0.04717 -0.27222 0.0518 -0.27379 0.05503 C -0.27465 0.06151 -0.27656 0.06821 -0.27813 0.07399 C -0.27934 0.07839 -0.28143 0.08185 -0.28229 0.08671 C -0.28472 0.09966 -0.28959 0.11168 -0.2934 0.12255 C -0.29584 0.13711 -0.30104 0.15214 -0.30521 0.16486 C -0.30886 0.17457 -0.30677 0.16232 -0.30972 0.1755 C -0.31441 0.19561 -0.31702 0.21804 -0.32066 0.23885 C -0.32309 0.25388 -0.32257 0.27006 -0.325 0.28532 C -0.32761 0.31284 -0.32587 0.30266 -0.32847 0.317 C -0.32917 0.33226 -0.32882 0.33735 -0.33281 0.34868 C -0.33455 0.36162 -0.33334 0.35446 -0.33577 0.36995 C -0.33646 0.3718 -0.33768 0.37249 -0.3382 0.37411 C -0.34028 0.37943 -0.34219 0.38706 -0.34375 0.39307 C -0.34514 0.39862 -0.3467 0.4044 -0.34827 0.41018 C -0.34948 0.41619 -0.34948 0.42359 -0.35122 0.42914 C -0.35452 0.43792 -0.35313 0.43307 -0.35573 0.44394 C -0.3566 0.45619 -0.35851 0.46752 -0.36215 0.47769 C -0.36389 0.48763 -0.3658 0.49873 -0.36875 0.50729 C -0.37153 0.52948 -0.36788 0.50197 -0.37205 0.52417 C -0.37726 0.55006 -0.38125 0.57688 -0.38629 0.60255 C -0.38837 0.61365 -0.38941 0.62428 -0.39306 0.63422 C -0.39514 0.65133 -0.39236 0.63446 -0.39636 0.64902 C -0.39722 0.65295 -0.39757 0.65989 -0.39844 0.66382 C -0.39931 0.67099 -0.40122 0.67631 -0.40295 0.68278 C -0.4066 0.70012 -0.40261 0.69133 -0.40712 0.69966 C -0.40955 0.71469 -0.40816 0.70868 -0.41146 0.71862 C -0.41302 0.7281 -0.41424 0.73781 -0.41684 0.74613 C -0.41893 0.75746 -0.42014 0.7681 -0.42361 0.77781 C -0.42622 0.79399 -0.42986 0.80902 -0.43351 0.82451 C -0.43559 0.83446 -0.43559 0.84116 -0.43889 0.84972 C -0.44011 0.85827 -0.44132 0.86313 -0.44323 0.87099 C -0.44531 0.88047 -0.44566 0.88787 -0.44861 0.89619 C -0.45018 0.90451 -0.45278 0.91053 -0.45278 0.91954 E">
                                      <p:cBhvr>
                                        <p:cTn id="183" dur="3000" fill="hold"/>
                                        <p:tgtEl>
                                          <p:spTgt spid="291"/>
                                        </p:tgtEl>
                                      </p:cBhvr>
                                    </p:animMotion>
                                  </p:childTnLst>
                                </p:cTn>
                              </p:par>
                              <p:par>
                                <p:cTn id="184" nodeType="withEffect" fill="hold" presetClass="path" presetID="0">
                                  <p:stCondLst>
                                    <p:cond delay="2000"/>
                                  </p:stCondLst>
                                  <p:childTnLst>
                                    <p:animMotion origin="layout" path="M 8.33333E-007 -0.01572 C -0.16701 -0.01479 -0.32274 -0.01086 -0.48629 -0.00693 C -0.51667 -0.00485 -0.54688 -0.00693 -0.57708 -0.00208 C -0.58056 -0.00162 -0.57986 0.0074 -0.58177 0.01156 C -0.58368 0.02104 -0.58976 0.03862 -0.59497 0.04578 C -0.59722 0.05573 -0.60104 0.06382 -0.60625 0.07075 C -0.60938 0.08393 -0.60573 0.07191 -0.61267 0.0844 C -0.61736 0.09295 -0.62049 0.10197 -0.6257 0.1096 C -0.62622 0.11191 -0.62639 0.11445 -0.62726 0.1163 C -0.62813 0.11815 -0.62986 0.11885 -0.63056 0.12093 C -0.6342 0.13087 -0.63438 0.13896 -0.63854 0.14821 C -0.64097 0.16116 -0.64601 0.17272 -0.65 0.18474 C -0.65139 0.18914 -0.65243 0.19376 -0.6533 0.19838 C -0.65382 0.20139 -0.65399 0.20463 -0.65486 0.20763 C -0.65712 0.21549 -0.66129 0.22359 -0.66458 0.23029 C -0.66771 0.24393 -0.67379 0.2548 -0.68073 0.26451 C -0.68281 0.27353 -0.68507 0.27515 -0.69045 0.28047 C -0.69254 0.28463 -0.69549 0.2874 -0.69705 0.29203 C -0.70087 0.3022 -0.69965 0.30914 -0.70504 0.31723 C -0.70712 0.32578 -0.70851 0.33388 -0.71163 0.3422 C -0.71337 0.35769 -0.71493 0.37249 -0.72135 0.38544 C -0.72743 0.41087 -0.71771 0.37156 -0.72622 0.39931 C -0.72917 0.40902 -0.7309 0.41711 -0.73438 0.42659 C -0.73785 0.43653 -0.73941 0.44694 -0.7441 0.45619 C -0.74688 0.46844 -0.74861 0.48 -0.75382 0.49064 C -0.75747 0.5059 -0.75469 0.50035 -0.76024 0.50867 C -0.76476 0.52833 -0.75816 0.50405 -0.7651 0.52 C -0.77257 0.53734 -0.75868 0.51561 -0.77153 0.53364 C -0.77361 0.54266 -0.77552 0.54659 -0.78125 0.55191 C -0.78177 0.55399 -0.78177 0.55677 -0.78281 0.55885 C -0.78524 0.56301 -0.79097 0.57041 -0.79097 0.57064 C -0.79445 0.58451 -0.80087 0.59561 -0.80556 0.60902 C -0.81198 0.62729 -0.80104 0.60324 -0.81059 0.62266 C -0.81424 0.63885 -0.81094 0.63376 -0.81858 0.64093 C -0.82292 0.65942 -0.81667 0.63677 -0.82344 0.65249 C -0.82431 0.65434 -0.82413 0.65711 -0.825 0.65919 C -0.82708 0.66382 -0.82865 0.66914 -0.83142 0.6726 C -0.83247 0.67445 -0.83385 0.67561 -0.83472 0.67746 C -0.84063 0.6881 -0.84445 0.69919 -0.8526 0.70705 C -0.85642 0.71492 -0.86007 0.71908 -0.86545 0.72532 C -0.87083 0.7311 -0.87535 0.74151 -0.88021 0.74821 C -0.88281 0.75191 -0.88438 0.75746 -0.88663 0.76162 C -0.88767 0.76416 -0.88993 0.76856 -0.88993 0.76879 C -0.89375 0.78521 -0.89063 0.77896 -0.89792 0.78914 C -0.89965 0.797 -0.90017 0.80324 -0.90451 0.80948 C -0.90642 0.81781 -0.90816 0.82428 -0.91267 0.83029 C -0.91701 0.84902 -0.91076 0.82567 -0.91736 0.84185 C -0.92031 0.84879 -0.92135 0.85388 -0.92552 0.85989 C -0.92604 0.8622 -0.92622 0.86474 -0.92708 0.86659 C -0.93021 0.87445 -0.93802 0.88509 -0.9401 0.89411 C -0.94063 0.89642 -0.94045 0.89919 -0.94167 0.90081 C -0.94236 0.90197 -0.94375 0.90081 -0.94479 0.90081 E">
                                      <p:cBhvr>
                                        <p:cTn id="185" dur="3000" fill="hold"/>
                                        <p:tgtEl>
                                          <p:spTgt spid="275"/>
                                        </p:tgtEl>
                                      </p:cBhvr>
                                    </p:animMotion>
                                  </p:childTnLst>
                                </p:cTn>
                              </p:par>
                              <p:par>
                                <p:cTn id="186" nodeType="withEffect" fill="hold" presetClass="path" presetID="0">
                                  <p:stCondLst>
                                    <p:cond delay="2000"/>
                                  </p:stCondLst>
                                  <p:childTnLst>
                                    <p:animMotion origin="layout" path="M 8.33333E-007 -6.35838E-007 C -0.18455 0.00093 -0.35642 0.00486 -0.53698 0.00879 C -0.57066 0.01087 -0.60399 0.00879 -0.63733 0.01364 C -0.64115 0.0141 -0.64028 0.02312 -0.64254 0.02728 C -0.64462 0.03676 -0.65122 0.05434 -0.65712 0.0615 C -0.65955 0.07145 -0.66372 0.07954 -0.66945 0.08647 C -0.67292 0.09965 -0.66892 0.08763 -0.67656 0.10012 C -0.68177 0.10867 -0.68524 0.11769 -0.69097 0.12532 C -0.69149 0.12763 -0.69167 0.13017 -0.69271 0.13202 C -0.69358 0.13387 -0.69549 0.13457 -0.69635 0.13665 C -0.70035 0.14659 -0.70052 0.15468 -0.70521 0.16393 C -0.70781 0.17688 -0.71337 0.18844 -0.71788 0.20046 C -0.71927 0.20486 -0.72049 0.20948 -0.72153 0.2141 C -0.72205 0.21711 -0.72222 0.22035 -0.72326 0.22335 C -0.7257 0.23121 -0.73021 0.23931 -0.73385 0.24601 C -0.73733 0.25965 -0.7441 0.27052 -0.75174 0.28023 C -0.75399 0.28925 -0.7566 0.29087 -0.7625 0.29619 C -0.76476 0.30035 -0.76806 0.30312 -0.76979 0.30775 C -0.77396 0.31792 -0.77257 0.32486 -0.77865 0.33295 C -0.7809 0.3415 -0.78247 0.3496 -0.78594 0.35792 C -0.78785 0.37341 -0.78958 0.38821 -0.79653 0.40116 C -0.8033 0.42659 -0.79254 0.38728 -0.80191 0.41503 C -0.80521 0.42474 -0.80712 0.43283 -0.81094 0.44231 C -0.81476 0.45225 -0.81649 0.46266 -0.8217 0.47191 C -0.82483 0.48416 -0.82674 0.49572 -0.83247 0.50636 C -0.83646 0.52162 -0.83333 0.51607 -0.83958 0.52439 C -0.84445 0.54405 -0.83715 0.51977 -0.84497 0.53572 C -0.85313 0.55306 -0.83785 0.53133 -0.85208 0.54936 C -0.85434 0.55838 -0.85642 0.56231 -0.86267 0.56763 C -0.86337 0.56971 -0.86337 0.57249 -0.86441 0.57457 C -0.86719 0.57873 -0.87344 0.58613 -0.87344 0.58636 C -0.87726 0.60023 -0.88438 0.61133 -0.88958 0.62474 C -0.8967 0.64301 -0.88455 0.61896 -0.89514 0.63838 C -0.89913 0.65457 -0.89549 0.64948 -0.90399 0.65665 C -0.90868 0.67515 -0.90191 0.65249 -0.90938 0.66821 C -0.91024 0.67006 -0.91007 0.67283 -0.91111 0.67491 C -0.91337 0.67954 -0.9151 0.68486 -0.91806 0.68832 C -0.91927 0.69017 -0.92083 0.69133 -0.9217 0.69318 C -0.9283 0.70382 -0.93247 0.71491 -0.94149 0.72278 C -0.94566 0.73064 -0.94983 0.7348 -0.95573 0.74104 C -0.96163 0.74682 -0.96667 0.75723 -0.97205 0.76393 C -0.97483 0.76763 -0.97656 0.77318 -0.97917 0.77734 C -0.98021 0.77989 -0.98281 0.78428 -0.98281 0.78451 C -0.98698 0.80093 -0.98351 0.79468 -0.99149 0.80486 C -0.9934 0.81272 -0.9941 0.81896 -0.99879 0.8252 C -1.00087 0.83353 -1.00295 0.84 -1.00781 0.84601 C -1.01267 0.86474 -1.00573 0.84139 -1.01302 0.85757 C -1.01632 0.86451 -1.01736 0.8696 -1.02205 0.87561 C -1.02257 0.87792 -1.02274 0.88046 -1.02379 0.88231 C -1.02726 0.89017 -1.03576 0.90081 -1.0382 0.90983 C -1.03872 0.91214 -1.03854 0.91491 -1.03993 0.91653 C -1.04063 0.91769 -1.04219 0.91653 -1.04323 0.91653 E">
                                      <p:cBhvr>
                                        <p:cTn id="187" dur="3000" fill="hold"/>
                                        <p:tgtEl>
                                          <p:spTgt spid="285"/>
                                        </p:tgtEl>
                                      </p:cBhvr>
                                    </p:animMotion>
                                  </p:childTnLst>
                                </p:cTn>
                              </p:par>
                              <p:par>
                                <p:cTn id="188" nodeType="withEffect" fill="hold" presetClass="path" presetID="0">
                                  <p:stCondLst>
                                    <p:cond delay="2000"/>
                                  </p:stCondLst>
                                  <p:childTnLst>
                                    <p:animMotion origin="layout" path="M 2.77778E-006 -0.02613 C -0.14219 -0.0252 -0.27448 -0.02127 -0.41354 -0.01734 C -0.43941 -0.01526 -0.46493 -0.01734 -0.49063 -0.01249 C -0.49358 -0.01202 -0.49288 -0.00301 -0.49462 0.00116 C -0.49618 0.01064 -0.50139 0.02821 -0.50573 0.03538 C -0.50782 0.04532 -0.51094 0.05341 -0.51528 0.06035 C -0.51806 0.07353 -0.51493 0.0615 -0.52084 0.07399 C -0.52483 0.08254 -0.52743 0.09156 -0.53195 0.09919 C -0.53247 0.1015 -0.53264 0.10405 -0.53334 0.1059 C -0.53403 0.10775 -0.53559 0.10844 -0.53611 0.11052 C -0.53924 0.12046 -0.53941 0.12855 -0.54288 0.1378 C -0.54479 0.15075 -0.54931 0.16231 -0.55261 0.17434 C -0.55382 0.17873 -0.55452 0.18335 -0.55538 0.18798 C -0.55591 0.19098 -0.55608 0.19422 -0.55677 0.19723 C -0.55868 0.20509 -0.56216 0.21318 -0.56511 0.21988 C -0.56754 0.23353 -0.57275 0.24439 -0.57865 0.2541 C -0.58038 0.26312 -0.58247 0.26474 -0.58681 0.27006 C -0.58872 0.27422 -0.59132 0.27699 -0.59254 0.28162 C -0.59584 0.29179 -0.59479 0.29873 -0.59931 0.30682 C -0.60122 0.31538 -0.60226 0.32347 -0.60504 0.33179 C -0.6066 0.34728 -0.60782 0.36208 -0.61337 0.37503 C -0.61841 0.40046 -0.61025 0.36116 -0.61736 0.3889 C -0.61997 0.39861 -0.62136 0.40671 -0.62431 0.41618 C -0.62726 0.42613 -0.62847 0.43653 -0.63264 0.44578 C -0.6349 0.45803 -0.63646 0.4696 -0.6408 0.48023 C -0.64393 0.49549 -0.6415 0.48994 -0.64636 0.49827 C -0.65018 0.51792 -0.64445 0.49364 -0.65035 0.5096 C -0.65677 0.52694 -0.64479 0.5052 -0.65591 0.52324 C -0.65764 0.53225 -0.6592 0.53618 -0.66407 0.5415 C -0.66459 0.54358 -0.66459 0.54636 -0.66545 0.54844 C -0.66771 0.5526 -0.6724 0.56 -0.6724 0.56023 C -0.67535 0.5741 -0.68091 0.5852 -0.6849 0.59861 C -0.69028 0.61688 -0.68108 0.59283 -0.68907 0.61225 C -0.69219 0.62844 -0.68941 0.62335 -0.69584 0.63052 C -0.69948 0.64902 -0.69427 0.62636 -0.7 0.64208 C -0.7007 0.64393 -0.7007 0.64671 -0.70139 0.64879 C -0.70295 0.65341 -0.70452 0.65873 -0.70677 0.6622 C -0.70764 0.66405 -0.70886 0.6652 -0.70972 0.66705 C -0.71459 0.67769 -0.71788 0.68879 -0.72483 0.69665 C -0.72795 0.70451 -0.73108 0.70867 -0.73577 0.71491 C -0.74028 0.72069 -0.7441 0.7311 -0.74809 0.7378 C -0.75035 0.7415 -0.75191 0.74705 -0.75365 0.75121 C -0.75452 0.75376 -0.75643 0.75815 -0.75643 0.75838 C -0.75972 0.7748 -0.75712 0.76855 -0.7632 0.77873 C -0.76476 0.78659 -0.76528 0.79283 -0.76893 0.79908 C -0.77049 0.8074 -0.77205 0.81387 -0.77587 0.81988 C -0.77952 0.83861 -0.77431 0.81526 -0.77969 0.83144 C -0.78229 0.83838 -0.78316 0.84347 -0.78663 0.84948 C -0.78733 0.85179 -0.78733 0.85434 -0.78802 0.85618 C -0.7908 0.86405 -0.7974 0.87468 -0.79913 0.8837 C -0.79948 0.88601 -0.79931 0.88879 -0.80052 0.8904 C -0.80104 0.89156 -0.80226 0.8904 -0.80295 0.8904 E">
                                      <p:cBhvr>
                                        <p:cTn id="189" dur="3000" fill="hold"/>
                                        <p:tgtEl>
                                          <p:spTgt spid="286"/>
                                        </p:tgtEl>
                                      </p:cBhvr>
                                    </p:animMotion>
                                  </p:childTnLst>
                                </p:cTn>
                              </p:par>
                              <p:par>
                                <p:cTn id="190" nodeType="withEffect" fill="hold" presetClass="path" presetID="0">
                                  <p:stCondLst>
                                    <p:cond delay="2000"/>
                                  </p:stCondLst>
                                  <p:childTnLst>
                                    <p:animMotion origin="layout" path="M -3.33333E-006 -4.21965E-006 C -0.19549 0.00232 -0.12031 0.0037 -0.18889 0.00625 C -0.2434 0.00833 -0.35243 0.01064 -0.35243 0.01064 C -0.36528 0.0148 -0.37222 0.02682 -0.38264 0.03584 C -0.39115 0.05365 -0.37986 0.0333 -0.39062 0.0444 C -0.39323 0.04717 -0.39462 0.0518 -0.39687 0.05503 C -0.39844 0.06151 -0.40087 0.06821 -0.4033 0.07399 C -0.40503 0.07839 -0.40833 0.08185 -0.40955 0.08671 C -0.41285 0.09966 -0.41979 0.11168 -0.42552 0.12255 C -0.42899 0.13711 -0.43646 0.15214 -0.44288 0.16486 C -0.44792 0.17457 -0.44496 0.16232 -0.44931 0.17549 C -0.4559 0.19561 -0.4599 0.21804 -0.4651 0.23885 C -0.46892 0.25388 -0.46771 0.27006 -0.47153 0.28532 C -0.475 0.31284 -0.47257 0.30266 -0.47621 0.317 C -0.47743 0.33226 -0.47691 0.33734 -0.48264 0.34867 C -0.48507 0.36162 -0.48351 0.35445 -0.48733 0.36995 C -0.48785 0.3718 -0.48976 0.37249 -0.49062 0.37411 C -0.49392 0.37943 -0.49601 0.38706 -0.49844 0.39307 C -0.50069 0.39862 -0.50278 0.4044 -0.50486 0.41018 C -0.50712 0.41619 -0.5066 0.42359 -0.50955 0.42914 C -0.51424 0.43792 -0.51198 0.43307 -0.51597 0.44393 C -0.51753 0.45619 -0.52014 0.46752 -0.52552 0.47769 C -0.52795 0.48763 -0.53056 0.49873 -0.53507 0.50729 C -0.53906 0.52948 -0.53351 0.50197 -0.53976 0.52417 C -0.54705 0.55006 -0.55278 0.57688 -0.56042 0.60255 C -0.56371 0.61365 -0.56493 0.62428 -0.56996 0.63422 C -0.57309 0.65133 -0.56927 0.63445 -0.57465 0.64902 C -0.57604 0.65295 -0.57691 0.65989 -0.57778 0.66382 C -0.57934 0.67099 -0.58212 0.6763 -0.5842 0.68278 C -0.58993 0.70012 -0.58403 0.69133 -0.59062 0.69966 C -0.59427 0.71469 -0.59184 0.70867 -0.59687 0.71862 C -0.59913 0.7281 -0.60069 0.73781 -0.60486 0.74613 C -0.60764 0.75746 -0.60937 0.7681 -0.61441 0.77781 C -0.6184 0.79399 -0.62361 0.80902 -0.62865 0.82451 C -0.63194 0.83445 -0.63212 0.84116 -0.63663 0.84971 C -0.63819 0.85827 -0.64028 0.86313 -0.64288 0.87099 C -0.64601 0.88047 -0.6467 0.88786 -0.65087 0.89619 C -0.65295 0.90451 -0.65729 0.91052 -0.65729 0.91954 E">
                                      <p:cBhvr>
                                        <p:cTn id="191" dur="3000" fill="hold"/>
                                        <p:tgtEl>
                                          <p:spTgt spid="277"/>
                                        </p:tgtEl>
                                      </p:cBhvr>
                                    </p:animMotion>
                                  </p:childTnLst>
                                </p:cTn>
                              </p:par>
                              <p:par>
                                <p:cTn id="192" nodeType="withEffect" fill="hold" presetClass="path" presetID="0">
                                  <p:stCondLst>
                                    <p:cond delay="2000"/>
                                  </p:stCondLst>
                                  <p:childTnLst>
                                    <p:animMotion origin="layout" path="M 5.55556E-007 -0.03145 C -0.10313 -0.02913 -0.06354 -0.02775 -0.09965 -0.0252 C -0.12847 -0.02312 -0.18594 -0.02081 -0.18594 -0.02058 C -0.19271 -0.01665 -0.19635 -0.00462 -0.20174 0.00439 C -0.20625 0.0222 -0.20035 0.00185 -0.20608 0.01295 C -0.20747 0.01572 -0.20816 0.02035 -0.20938 0.02358 C -0.21007 0.03006 -0.21146 0.03676 -0.21267 0.04254 C -0.21354 0.04694 -0.21528 0.0504 -0.21597 0.05526 C -0.21771 0.06821 -0.22135 0.08023 -0.22448 0.0911 C -0.22622 0.10566 -0.23021 0.12069 -0.23351 0.13341 C -0.23629 0.14312 -0.23472 0.13087 -0.23698 0.14405 C -0.24045 0.16416 -0.24254 0.18659 -0.24531 0.2074 C -0.24722 0.22243 -0.2467 0.23861 -0.24861 0.25387 C -0.25052 0.28139 -0.24931 0.27121 -0.25122 0.28555 C -0.25174 0.30081 -0.25156 0.3059 -0.25451 0.31722 C -0.2559 0.33017 -0.25504 0.32301 -0.25694 0.3385 C -0.25729 0.34035 -0.25833 0.34104 -0.25868 0.34266 C -0.26042 0.34798 -0.26163 0.35561 -0.26285 0.36162 C -0.26406 0.36717 -0.2651 0.37295 -0.26632 0.37873 C -0.26736 0.38474 -0.26719 0.39214 -0.26875 0.39769 C -0.27118 0.40647 -0.26997 0.40162 -0.27205 0.41248 C -0.27292 0.42474 -0.27431 0.43607 -0.27708 0.44624 C -0.27847 0.45618 -0.27986 0.46728 -0.28212 0.47584 C -0.2842 0.49803 -0.28142 0.47052 -0.28472 0.49272 C -0.28854 0.51861 -0.29149 0.54543 -0.29549 0.5711 C -0.29722 0.5822 -0.29792 0.59283 -0.30052 0.60277 C -0.30226 0.61988 -0.30017 0.60301 -0.30313 0.61757 C -0.30382 0.6215 -0.30417 0.62844 -0.30469 0.63237 C -0.30556 0.63954 -0.30694 0.64485 -0.30816 0.65133 C -0.31111 0.66867 -0.30799 0.65988 -0.31146 0.66821 C -0.31337 0.68324 -0.31215 0.67722 -0.31476 0.68717 C -0.31597 0.69665 -0.31684 0.70636 -0.31892 0.71468 C -0.32049 0.72601 -0.32135 0.73665 -0.32396 0.74636 C -0.32604 0.76254 -0.32882 0.77757 -0.3316 0.79306 C -0.33333 0.80301 -0.33333 0.80971 -0.33576 0.81827 C -0.33663 0.82682 -0.33767 0.83168 -0.33906 0.83954 C -0.34063 0.84902 -0.34097 0.85642 -0.34323 0.86474 C -0.34427 0.87306 -0.34653 0.87907 -0.34653 0.88809 E">
                                      <p:cBhvr>
                                        <p:cTn id="193" dur="3000" fill="hold"/>
                                        <p:tgtEl>
                                          <p:spTgt spid="287"/>
                                        </p:tgtEl>
                                      </p:cBhvr>
                                    </p:animMotion>
                                  </p:childTnLst>
                                </p:cTn>
                              </p:par>
                              <p:par>
                                <p:cTn id="194" nodeType="withEffect" fill="hold" presetClass="path" presetID="0">
                                  <p:stCondLst>
                                    <p:cond delay="2000"/>
                                  </p:stCondLst>
                                  <p:childTnLst>
                                    <p:animMotion origin="layout" path="M 5E-006 5.78035E-007 C -0.40296 0.00231 -0.2481 0.0037 -0.38941 0.00624 C -0.50174 0.00832 -0.72639 0.01064 -0.72639 0.01087 C -0.75278 0.0148 -0.76719 0.02682 -0.78855 0.03584 C -0.80608 0.05364 -0.78282 0.03329 -0.80504 0.04439 C -0.81042 0.04717 -0.81337 0.05179 -0.81789 0.05503 C -0.82119 0.0615 -0.82622 0.06821 -0.83125 0.07399 C -0.83473 0.07838 -0.8415 0.08185 -0.8441 0.0867 C -0.85087 0.09965 -0.86511 0.11168 -0.87691 0.12254 C -0.88421 0.13711 -0.89948 0.15214 -0.91268 0.16485 C -0.9231 0.17457 -0.91702 0.16231 -0.92605 0.17549 C -0.93959 0.19561 -0.94775 0.21803 -0.95851 0.23884 C -0.9665 0.25387 -0.96389 0.27006 -0.97171 0.28532 C -0.979 0.31283 -0.97396 0.30266 -0.98143 0.31699 C -0.98403 0.33225 -0.98282 0.33734 -0.99462 0.34867 C -0.99966 0.36162 -0.99653 0.35445 -1.00435 0.36994 C -1.00539 0.37179 -1.00938 0.37248 -1.01112 0.3741 C -1.01789 0.37942 -1.02223 0.38705 -1.02726 0.39306 C -1.03195 0.39861 -1.03612 0.40439 -1.04046 0.41017 C -1.04514 0.41618 -1.0441 0.42358 -1.05018 0.42913 C -1.05973 0.43792 -1.05521 0.43306 -1.06337 0.44393 C -1.06667 0.45618 -1.07205 0.46751 -1.08299 0.47769 C -1.08803 0.48763 -1.09323 0.49873 -1.10261 0.50728 C -1.11077 0.52948 -1.09931 0.50196 -1.11216 0.52416 C -1.12726 0.55006 -1.13907 0.57688 -1.15487 0.60254 C -1.16164 0.61364 -1.16407 0.62428 -1.17448 0.63422 C -1.18091 0.65133 -1.1731 0.63445 -1.18421 0.64902 C -1.18698 0.65295 -1.18872 0.65988 -1.19063 0.66381 C -1.19376 0.67098 -1.19948 0.6763 -1.20382 0.68277 C -1.21563 0.70012 -1.20348 0.69133 -1.21702 0.69965 C -1.22448 0.71468 -1.21962 0.70867 -1.22987 0.71861 C -1.23455 0.72809 -1.23785 0.7378 -1.24636 0.74613 C -1.25209 0.75746 -1.25573 0.76809 -1.26598 0.7778 C -1.27431 0.79399 -1.28507 0.80902 -1.29532 0.82451 C -1.30226 0.83445 -1.30261 0.84116 -1.31181 0.84971 C -1.31511 0.85827 -1.31945 0.86312 -1.32466 0.87098 C -1.33126 0.88046 -1.33264 0.88786 -1.34115 0.89618 C -1.34549 0.90451 -1.35452 0.91052 -1.35452 0.91954 E">
                                      <p:cBhvr>
                                        <p:cTn id="195" dur="3000" fill="hold"/>
                                        <p:tgtEl>
                                          <p:spTgt spid="288"/>
                                        </p:tgtEl>
                                      </p:cBhvr>
                                    </p:animMotion>
                                  </p:childTnLst>
                                </p:cTn>
                              </p:par>
                              <p:par>
                                <p:cTn id="196" nodeType="withEffect" fill="hold" presetClass="path" presetID="0">
                                  <p:stCondLst>
                                    <p:cond delay="2000"/>
                                  </p:stCondLst>
                                  <p:childTnLst>
                                    <p:animMotion origin="layout" path="M 6.94444E-006 2.31214E-007 C -0.32794 0.00254 -0.17534 -0.00647 -0.29044 0.00624 C -0.29739 0.01225 -0.30538 0.02335 -0.30798 0.03376 C -0.31163 0.04902 -0.30833 0.04416 -0.31597 0.05064 C -0.31926 0.06428 -0.32256 0.07699 -0.32864 0.08879 C -0.33159 0.10081 -0.33124 0.11792 -0.33819 0.12671 C -0.3427 0.15723 -0.33697 0.19468 -0.35086 0.22197 C -0.35451 0.23653 -0.35746 0.25225 -0.36197 0.26636 C -0.36597 0.27884 -0.3644 0.27029 -0.36666 0.28116 C -0.36926 0.29364 -0.37239 0.30497 -0.37621 0.31699 C -0.37864 0.32462 -0.37899 0.3311 -0.38263 0.33827 C -0.3868 0.35514 -0.3894 0.37619 -0.39687 0.39098 C -0.40017 0.40879 -0.40676 0.4259 -0.40954 0.44393 C -0.41371 0.47191 -0.41406 0.50035 -0.42378 0.52624 C -0.42569 0.53873 -0.42916 0.54983 -0.43176 0.56231 C -0.4335 0.57041 -0.4335 0.57549 -0.43819 0.58127 C -0.44062 0.59514 -0.44322 0.61179 -0.4493 0.62358 C -0.45121 0.63376 -0.45399 0.64185 -0.45711 0.6511 C -0.46024 0.66058 -0.46093 0.66798 -0.4651 0.6763 C -0.47083 0.69965 -0.4618 0.66474 -0.46979 0.68902 C -0.47274 0.6978 -0.47447 0.70913 -0.47621 0.71861 C -0.47968 0.73757 -0.48229 0.75931 -0.49044 0.77572 C -0.49201 0.78451 -0.49444 0.79075 -0.49687 0.79908 C -0.49982 0.80902 -0.50034 0.8178 -0.50485 0.82659 C -0.50833 0.84069 -0.50954 0.85642 -0.51597 0.86867 C -0.5177 0.87861 -0.51996 0.88856 -0.52222 0.89827 C -0.52308 0.90243 -0.5243 0.90682 -0.52534 0.91098 C -0.52586 0.91306 -0.52708 0.91746 -0.52708 0.91746 E">
                                      <p:cBhvr>
                                        <p:cTn id="197" dur="3000" fill="hold"/>
                                        <p:tgtEl>
                                          <p:spTgt spid="276"/>
                                        </p:tgtEl>
                                      </p:cBhvr>
                                    </p:animMotion>
                                  </p:childTnLst>
                                </p:cTn>
                              </p:par>
                              <p:par>
                                <p:cTn id="198" nodeType="withEffect" fill="hold" presetClass="path" presetID="0">
                                  <p:stCondLst>
                                    <p:cond delay="2000"/>
                                  </p:stCondLst>
                                  <p:childTnLst>
                                    <p:animMotion origin="layout" path="M -1.38889E-006 2.19653E-006 C -0.58802 0.00254 -0.31441 -0.00648 -0.52066 0.00624 C -0.53316 0.01225 -0.54739 0.02335 -0.55208 0.03376 C -0.55868 0.04902 -0.55278 0.04416 -0.56649 0.05063 C -0.57239 0.06428 -0.5783 0.07699 -0.58923 0.08878 C -0.59444 0.10081 -0.59392 0.11792 -0.60625 0.1267 C -0.61441 0.15722 -0.60417 0.19468 -0.62899 0.22196 C -0.63559 0.23653 -0.6408 0.25225 -0.64896 0.26636 C -0.65607 0.27884 -0.6533 0.27029 -0.65729 0.28115 C -0.66198 0.29364 -0.66753 0.30497 -0.67448 0.31699 C -0.67882 0.32462 -0.67951 0.3311 -0.68594 0.33826 C -0.6934 0.35514 -0.69809 0.37618 -0.71146 0.39098 C -0.71736 0.40878 -0.72917 0.42589 -0.7342 0.44393 C -0.74167 0.47191 -0.74236 0.50034 -0.75972 0.52624 C -0.76319 0.53873 -0.76944 0.54982 -0.77396 0.56231 C -0.77708 0.5704 -0.77708 0.57549 -0.78559 0.58127 C -0.78993 0.59514 -0.79462 0.61179 -0.80538 0.62358 C -0.80885 0.63376 -0.81389 0.64185 -0.81944 0.6511 C -0.825 0.66058 -0.82639 0.66797 -0.83385 0.6763 C -0.8441 0.69965 -0.82795 0.66474 -0.84219 0.68902 C -0.84739 0.6978 -0.85052 0.70913 -0.85364 0.71861 C -0.85989 0.73757 -0.86458 0.7593 -0.87917 0.77572 C -0.88194 0.78451 -0.88646 0.79075 -0.8908 0.79907 C -0.89601 0.80902 -0.89687 0.8178 -0.90503 0.82659 C -0.91128 0.84069 -0.91337 0.85641 -0.925 0.86867 C -0.92812 0.87861 -0.93212 0.88855 -0.93611 0.89826 C -0.93767 0.90243 -0.93993 0.90682 -0.94184 0.91098 C -0.94271 0.91306 -0.94479 0.91745 -0.94479 0.91769 E">
                                      <p:cBhvr>
                                        <p:cTn id="199" dur="3000" fill="hold"/>
                                        <p:tgtEl>
                                          <p:spTgt spid="289"/>
                                        </p:tgtEl>
                                      </p:cBhvr>
                                    </p:animMotion>
                                  </p:childTnLst>
                                </p:cTn>
                              </p:par>
                              <p:par>
                                <p:cTn id="200" nodeType="withEffect" fill="hold" presetClass="path" presetID="0">
                                  <p:stCondLst>
                                    <p:cond delay="2000"/>
                                  </p:stCondLst>
                                  <p:childTnLst>
                                    <p:animMotion origin="layout" path="M 1.11111E-006 -3.17919E-006 C -0.76684 0.00255 -0.41007 -0.00647 -0.67917 0.00625 C -0.69531 0.01226 -0.71406 0.02336 -0.72014 0.03376 C -0.72865 0.04902 -0.72101 0.04417 -0.73889 0.05064 C -0.74653 0.06428 -0.75417 0.077 -0.7684 0.08879 C -0.77535 0.10081 -0.77448 0.11792 -0.7908 0.12671 C -0.80139 0.15723 -0.78785 0.19469 -0.82031 0.22197 C -0.82899 0.23653 -0.83576 0.25226 -0.84636 0.26636 C -0.85573 0.27885 -0.85208 0.27029 -0.85729 0.28116 C -0.86337 0.29364 -0.87066 0.30497 -0.87969 0.317 C -0.88542 0.32463 -0.88611 0.3311 -0.89462 0.33827 C -0.90434 0.35515 -0.91059 0.37619 -0.92795 0.39099 C -0.93559 0.40879 -0.95104 0.4259 -0.95764 0.44393 C -0.96736 0.47191 -0.96806 0.50035 -0.9908 0.52625 C -0.99531 0.53873 -1.00347 0.54983 -1.00955 0.56232 C -1.01354 0.57041 -1.01354 0.57549 -1.02448 0.58127 C -1.03021 0.59515 -1.03629 0.6118 -1.05052 0.62359 C -1.05504 0.63376 -1.06146 0.64185 -1.06875 0.6511 C -1.07604 0.66058 -1.07778 0.66798 -1.08733 0.6763 C -1.1007 0.69966 -1.07969 0.66474 -1.09827 0.68902 C -1.10521 0.69781 -1.1092 0.70914 -1.1132 0.71862 C -1.12136 0.73758 -1.12743 0.75931 -1.14653 0.77573 C -1.15017 0.78451 -1.1559 0.79075 -1.16163 0.79908 C -1.1684 0.80902 -1.16962 0.81781 -1.18021 0.82659 C -1.18837 0.8407 -1.19115 0.85642 -1.20625 0.86867 C -1.21024 0.87862 -1.21563 0.88856 -1.22083 0.89827 C -1.22292 0.90243 -1.2257 0.90682 -1.22813 0.91099 C -1.22934 0.91307 -1.23229 0.91746 -1.23229 0.91769 E">
                                      <p:cBhvr>
                                        <p:cTn id="201" dur="3000" fill="hold"/>
                                        <p:tgtEl>
                                          <p:spTgt spid="2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Viruses that Affect Nerves</a:t>
            </a:r>
            <a:endParaRPr b="0" lang="en-US" sz="4400" spc="-1" strike="noStrike">
              <a:solidFill>
                <a:srgbClr val="ffffff"/>
              </a:solidFill>
              <a:latin typeface="Times New Roman"/>
            </a:endParaRPr>
          </a:p>
        </p:txBody>
      </p:sp>
      <p:sp>
        <p:nvSpPr>
          <p:cNvPr id="316" name="PlaceHolder 2"/>
          <p:cNvSpPr>
            <a:spLocks noGrp="1"/>
          </p:cNvSpPr>
          <p:nvPr>
            <p:ph/>
          </p:nvPr>
        </p:nvSpPr>
        <p:spPr>
          <a:xfrm>
            <a:off x="685440" y="1700280"/>
            <a:ext cx="7666200" cy="1728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ruses that attack nerves, like the rabies virus, are some of the most deadly viruses worldwid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quine encephalitis, West Nile and polio viruses are just three of the more deadly viruses.</a:t>
            </a:r>
            <a:endParaRPr b="0" lang="en-US" sz="2400" spc="-1" strike="noStrike">
              <a:solidFill>
                <a:srgbClr val="ffffff"/>
              </a:solidFill>
              <a:latin typeface="Times New Roman"/>
            </a:endParaRPr>
          </a:p>
        </p:txBody>
      </p:sp>
      <p:sp>
        <p:nvSpPr>
          <p:cNvPr id="317" name=""/>
          <p:cNvSpPr/>
          <p:nvPr/>
        </p:nvSpPr>
        <p:spPr>
          <a:xfrm>
            <a:off x="4648320" y="5105520"/>
            <a:ext cx="4206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318" name=""/>
          <p:cNvSpPr/>
          <p:nvPr/>
        </p:nvSpPr>
        <p:spPr>
          <a:xfrm>
            <a:off x="2951280" y="4400640"/>
            <a:ext cx="3781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Encephalitis, swelling of the brain, can be caused by the Equine Encephalitis virus.  The virus kills about 35% of its victims. </a:t>
            </a:r>
            <a:endParaRPr b="0" lang="en-US" sz="2400" spc="-1" strike="noStrike">
              <a:solidFill>
                <a:srgbClr val="ffffff"/>
              </a:solidFill>
              <a:latin typeface="Times New Roman"/>
            </a:endParaRPr>
          </a:p>
        </p:txBody>
      </p:sp>
      <p:pic>
        <p:nvPicPr>
          <p:cNvPr id="319" name="" descr=""/>
          <p:cNvPicPr/>
          <p:nvPr/>
        </p:nvPicPr>
        <p:blipFill>
          <a:blip r:embed="rId2"/>
          <a:stretch/>
        </p:blipFill>
        <p:spPr>
          <a:xfrm>
            <a:off x="900000" y="4329000"/>
            <a:ext cx="1803600" cy="2060640"/>
          </a:xfrm>
          <a:prstGeom prst="rect">
            <a:avLst/>
          </a:prstGeom>
          <a:ln w="0">
            <a:noFill/>
          </a:ln>
        </p:spPr>
      </p:pic>
      <p:sp>
        <p:nvSpPr>
          <p:cNvPr id="3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5.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53">
                                  <p:stCondLst>
                                    <p:cond delay="0"/>
                                  </p:stCondLst>
                                  <p:childTnLst>
                                    <p:set>
                                      <p:cBhvr>
                                        <p:cTn id="207" dur="1" fill="hold">
                                          <p:stCondLst>
                                            <p:cond delay="0"/>
                                          </p:stCondLst>
                                        </p:cTn>
                                        <p:tgtEl>
                                          <p:spTgt spid="319"/>
                                        </p:tgtEl>
                                        <p:attrNameLst>
                                          <p:attrName>style.visibility</p:attrName>
                                        </p:attrNameLst>
                                      </p:cBhvr>
                                      <p:to>
                                        <p:strVal val="visible"/>
                                      </p:to>
                                    </p:set>
                                    <p:anim calcmode="lin" valueType="num">
                                      <p:cBhvr additive="repl">
                                        <p:cTn id="208" dur="500" fill="hold"/>
                                        <p:tgtEl>
                                          <p:spTgt spid="319"/>
                                        </p:tgtEl>
                                        <p:attrNameLst>
                                          <p:attrName>ppt_w</p:attrName>
                                        </p:attrNameLst>
                                      </p:cBhvr>
                                      <p:tavLst>
                                        <p:tav tm="0">
                                          <p:val>
                                            <p:fltVal val="0"/>
                                          </p:val>
                                        </p:tav>
                                        <p:tav tm="100000">
                                          <p:val>
                                            <p:strVal val="#ppt_w"/>
                                          </p:val>
                                        </p:tav>
                                      </p:tavLst>
                                    </p:anim>
                                    <p:anim calcmode="lin" valueType="num">
                                      <p:cBhvr additive="repl">
                                        <p:cTn id="209" dur="500" fill="hold"/>
                                        <p:tgtEl>
                                          <p:spTgt spid="319"/>
                                        </p:tgtEl>
                                        <p:attrNameLst>
                                          <p:attrName>ppt_h</p:attrName>
                                        </p:attrNameLst>
                                      </p:cBhvr>
                                      <p:tavLst>
                                        <p:tav tm="0">
                                          <p:val>
                                            <p:fltVal val="0"/>
                                          </p:val>
                                        </p:tav>
                                        <p:tav tm="100000">
                                          <p:val>
                                            <p:strVal val="#ppt_h"/>
                                          </p:val>
                                        </p:tav>
                                      </p:tavLst>
                                    </p:anim>
                                    <p:animEffect filter="fade" transition="in">
                                      <p:cBhvr additive="repl">
                                        <p:cTn id="21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26520"/>
            <a:ext cx="781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st Nile Virus</a:t>
            </a:r>
            <a:endParaRPr b="0" lang="en-US" sz="4400" spc="-1" strike="noStrike">
              <a:solidFill>
                <a:srgbClr val="ffffff"/>
              </a:solidFill>
              <a:latin typeface="Times New Roman"/>
            </a:endParaRPr>
          </a:p>
        </p:txBody>
      </p:sp>
      <p:sp>
        <p:nvSpPr>
          <p:cNvPr id="3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st Nile virus is spread by mosquitoe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affects humans and animals, and its symptoms range from mild to severe and even lethal.</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ptoms include incoordination, tremors, depression and weaknes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a vaccine for West Nile virus.</a:t>
            </a:r>
            <a:endParaRPr b="0" lang="en-US" sz="2400" spc="-1" strike="noStrike">
              <a:solidFill>
                <a:srgbClr val="ffffff"/>
              </a:solidFill>
              <a:latin typeface="Times New Roman"/>
            </a:endParaRPr>
          </a:p>
        </p:txBody>
      </p:sp>
      <p:pic>
        <p:nvPicPr>
          <p:cNvPr id="323" name="" descr=""/>
          <p:cNvPicPr/>
          <p:nvPr/>
        </p:nvPicPr>
        <p:blipFill>
          <a:blip r:embed="rId2"/>
          <a:stretch/>
        </p:blipFill>
        <p:spPr>
          <a:xfrm>
            <a:off x="5040360" y="2147760"/>
            <a:ext cx="2408040" cy="3657600"/>
          </a:xfrm>
          <a:prstGeom prst="rect">
            <a:avLst/>
          </a:prstGeom>
          <a:ln w="38160">
            <a:solidFill>
              <a:srgbClr val="ffffff"/>
            </a:solidFill>
            <a:miter/>
          </a:ln>
        </p:spPr>
      </p:pic>
      <p:sp>
        <p:nvSpPr>
          <p:cNvPr id="3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6.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5364000" y="3986280"/>
            <a:ext cx="3384720" cy="1708200"/>
          </a:xfrm>
          <a:prstGeom prst="rect">
            <a:avLst/>
          </a:prstGeom>
          <a:ln w="28440">
            <a:solidFill>
              <a:srgbClr val="ffffff"/>
            </a:solidFill>
            <a:miter/>
          </a:ln>
        </p:spPr>
      </p:pic>
      <p:sp>
        <p:nvSpPr>
          <p:cNvPr id="326"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lio</a:t>
            </a:r>
            <a:endParaRPr b="0" lang="en-US" sz="4400" spc="-1" strike="noStrike">
              <a:solidFill>
                <a:srgbClr val="ffffff"/>
              </a:solidFill>
              <a:latin typeface="Times New Roman"/>
            </a:endParaRPr>
          </a:p>
        </p:txBody>
      </p:sp>
      <p:graphicFrame>
        <p:nvGraphicFramePr>
          <p:cNvPr id="327" name=""/>
          <p:cNvGraphicFramePr/>
          <p:nvPr/>
        </p:nvGraphicFramePr>
        <p:xfrm>
          <a:off x="5364000" y="1658880"/>
          <a:ext cx="3384720" cy="2225880"/>
        </p:xfrm>
        <a:graphic>
          <a:graphicData uri="http://schemas.openxmlformats.org/presentationml/2006/ole">
            <p:oleObj r:id="rId3" spid="">
              <p:embed/>
              <p:pic>
                <p:nvPicPr>
                  <p:cNvPr id="328" name="" descr=""/>
                  <p:cNvPicPr/>
                  <p:nvPr/>
                </p:nvPicPr>
                <p:blipFill>
                  <a:blip r:embed="rId4"/>
                  <a:stretch/>
                </p:blipFill>
                <p:spPr>
                  <a:xfrm>
                    <a:off x="5364000" y="1658880"/>
                    <a:ext cx="3384720" cy="2225880"/>
                  </a:xfrm>
                  <a:prstGeom prst="rect">
                    <a:avLst/>
                  </a:prstGeom>
                  <a:ln w="28440">
                    <a:solidFill>
                      <a:srgbClr val="ffffff"/>
                    </a:solidFill>
                    <a:miter/>
                  </a:ln>
                </p:spPr>
              </p:pic>
            </p:oleObj>
          </a:graphicData>
        </a:graphic>
      </p:graphicFrame>
      <p:sp>
        <p:nvSpPr>
          <p:cNvPr id="329" name="PlaceHolder 2"/>
          <p:cNvSpPr>
            <a:spLocks noGrp="1"/>
          </p:cNvSpPr>
          <p:nvPr>
            <p:ph/>
          </p:nvPr>
        </p:nvSpPr>
        <p:spPr>
          <a:xfrm>
            <a:off x="323640" y="1509840"/>
            <a:ext cx="4787640" cy="411480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o is a disease caused by the Poliovirus.</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 polio can be a minor illness in some, it can also cause permanent paralysis and even death in untreated patients.</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orld Health Organization is in the process of eradicating the disease through the use of a vaccine, but polio is still spreading, even to countries that used to be polio free.</a:t>
            </a:r>
            <a:endParaRPr b="0" lang="en-US" sz="2400" spc="-1" strike="noStrike">
              <a:solidFill>
                <a:srgbClr val="ffffff"/>
              </a:solidFill>
              <a:latin typeface="Times New Roman"/>
            </a:endParaRPr>
          </a:p>
        </p:txBody>
      </p:sp>
      <p:sp>
        <p:nvSpPr>
          <p:cNvPr id="330" name=""/>
          <p:cNvSpPr/>
          <p:nvPr/>
        </p:nvSpPr>
        <p:spPr>
          <a:xfrm>
            <a:off x="5256360" y="5844600"/>
            <a:ext cx="374796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p: Polio patients at Amar Jyoti Research and Rehabilitation Center, Delhi, India, November 2002; Photo: World Health Organization/P. Virot. Bottom: Endemic incidence of polio (red).</a:t>
            </a:r>
            <a:endParaRPr b="0" lang="en-US" sz="1000" spc="-1" strike="noStrike">
              <a:solidFill>
                <a:srgbClr val="ffffff"/>
              </a:solidFill>
              <a:latin typeface="Times New Roman"/>
            </a:endParaRPr>
          </a:p>
        </p:txBody>
      </p:sp>
      <p:sp>
        <p:nvSpPr>
          <p:cNvPr id="3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7.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80880" y="2133720"/>
            <a:ext cx="4191120" cy="1949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Rabies?</a:t>
            </a:r>
            <a:endParaRPr b="0" lang="en-US" sz="4400" spc="-1" strike="noStrike">
              <a:solidFill>
                <a:srgbClr val="ffffff"/>
              </a:solidFill>
              <a:latin typeface="Times New Roman"/>
            </a:endParaRPr>
          </a:p>
        </p:txBody>
      </p:sp>
      <p:sp>
        <p:nvSpPr>
          <p:cNvPr id="5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abies is a deadly viral disease caused by the Lyssavirus that affects all mammals.</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t is usually transmitted through a bite from a rabid animal.</a:t>
            </a:r>
            <a:endParaRPr b="0" lang="en-US" sz="2600" spc="-1" strike="noStrike">
              <a:solidFill>
                <a:srgbClr val="ffffff"/>
              </a:solidFill>
              <a:latin typeface="Times New Roman"/>
            </a:endParaRPr>
          </a:p>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t causes an animal to first be excited and then become paralyzed. </a:t>
            </a:r>
            <a:endParaRPr b="0" lang="en-US" sz="2600" spc="-1" strike="noStrike">
              <a:solidFill>
                <a:srgbClr val="ffffff"/>
              </a:solidFill>
              <a:latin typeface="Times New Roman"/>
            </a:endParaRPr>
          </a:p>
        </p:txBody>
      </p:sp>
      <p:pic>
        <p:nvPicPr>
          <p:cNvPr id="53" name="" descr="rabies virus diagram"/>
          <p:cNvPicPr/>
          <p:nvPr/>
        </p:nvPicPr>
        <p:blipFill>
          <a:blip r:embed="rId2"/>
          <a:stretch/>
        </p:blipFill>
        <p:spPr>
          <a:xfrm>
            <a:off x="527040" y="2286000"/>
            <a:ext cx="3968640" cy="1673280"/>
          </a:xfrm>
          <a:prstGeom prst="rect">
            <a:avLst/>
          </a:prstGeom>
          <a:ln w="0">
            <a:noFill/>
          </a:ln>
        </p:spPr>
      </p:pic>
      <p:sp>
        <p:nvSpPr>
          <p:cNvPr id="54" name=""/>
          <p:cNvSpPr/>
          <p:nvPr/>
        </p:nvSpPr>
        <p:spPr>
          <a:xfrm>
            <a:off x="380880" y="4114800"/>
            <a:ext cx="3962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ucture of the rabies virus</a:t>
            </a:r>
            <a:endParaRPr b="0" lang="en-US" sz="12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2.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Rabies Virus</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bies Virus is a Rhabdovirus.  These viruses are all shaped like a bulle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irus has single stranded RNA (we have double stranded DNA), an envelope that allows it to attach to nerve cells, and glycoproteins which trigger an immune response.</a:t>
            </a:r>
            <a:endParaRPr b="0" lang="en-US" sz="2400" spc="-1" strike="noStrike">
              <a:solidFill>
                <a:srgbClr val="ffffff"/>
              </a:solidFill>
              <a:latin typeface="Times New Roman"/>
            </a:endParaRPr>
          </a:p>
        </p:txBody>
      </p:sp>
      <p:pic>
        <p:nvPicPr>
          <p:cNvPr id="58" name="" descr=""/>
          <p:cNvPicPr/>
          <p:nvPr/>
        </p:nvPicPr>
        <p:blipFill>
          <a:blip r:embed="rId2"/>
          <a:stretch/>
        </p:blipFill>
        <p:spPr>
          <a:xfrm>
            <a:off x="1143000" y="4648320"/>
            <a:ext cx="3886200" cy="1638360"/>
          </a:xfrm>
          <a:prstGeom prst="rect">
            <a:avLst/>
          </a:prstGeom>
          <a:ln w="0">
            <a:noFill/>
          </a:ln>
        </p:spPr>
      </p:pic>
      <p:sp>
        <p:nvSpPr>
          <p:cNvPr id="59" name=""/>
          <p:cNvSpPr/>
          <p:nvPr/>
        </p:nvSpPr>
        <p:spPr>
          <a:xfrm>
            <a:off x="5867280" y="4724280"/>
            <a:ext cx="2895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3"/>
              </a:rPr>
              <a:t>Click Here for more information about the immune response!</a:t>
            </a:r>
            <a:endParaRPr b="0" lang="en-US" sz="24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3.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t Rabies</a:t>
            </a:r>
            <a:endParaRPr b="0" lang="en-US" sz="4400" spc="-1" strike="noStrike">
              <a:solidFill>
                <a:srgbClr val="ffffff"/>
              </a:solidFill>
              <a:latin typeface="Times New Roman"/>
            </a:endParaRPr>
          </a:p>
        </p:txBody>
      </p:sp>
      <p:sp>
        <p:nvSpPr>
          <p:cNvPr id="62" name="PlaceHolder 2"/>
          <p:cNvSpPr>
            <a:spLocks noGrp="1"/>
          </p:cNvSpPr>
          <p:nvPr>
            <p:ph/>
          </p:nvPr>
        </p:nvSpPr>
        <p:spPr>
          <a:xfrm>
            <a:off x="685440" y="1981080"/>
            <a:ext cx="4876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a strain unique to bats, but it infects other speci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s spread it to each other by grooming bites. Aerosol spread also occurs in crowded cav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75% of human rabies cases in the U.S. come from bat bites</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638680" y="1981080"/>
            <a:ext cx="3095640" cy="229572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4.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a:hlinkClick r:id="rId2"/>
          </p:cNvPr>
          <p:cNvPicPr/>
          <p:nvPr/>
        </p:nvPicPr>
        <p:blipFill>
          <a:blip r:embed="rId3"/>
          <a:stretch/>
        </p:blipFill>
        <p:spPr>
          <a:xfrm>
            <a:off x="2268360" y="1960560"/>
            <a:ext cx="1835280" cy="1181160"/>
          </a:xfrm>
          <a:prstGeom prst="rect">
            <a:avLst/>
          </a:prstGeom>
          <a:ln w="28440">
            <a:solidFill>
              <a:srgbClr val="ffffff"/>
            </a:solidFill>
            <a:miter/>
          </a:ln>
        </p:spPr>
      </p:pic>
      <p:sp>
        <p:nvSpPr>
          <p:cNvPr id="66" name="PlaceHolder 1"/>
          <p:cNvSpPr>
            <a:spLocks noGrp="1"/>
          </p:cNvSpPr>
          <p:nvPr>
            <p:ph type="title"/>
          </p:nvPr>
        </p:nvSpPr>
        <p:spPr>
          <a:xfrm>
            <a:off x="76212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 you get rabies?</a:t>
            </a:r>
            <a:endParaRPr b="0" lang="en-US" sz="4400" spc="-1" strike="noStrike">
              <a:solidFill>
                <a:srgbClr val="ffffff"/>
              </a:solidFill>
              <a:latin typeface="Times New Roman"/>
            </a:endParaRPr>
          </a:p>
        </p:txBody>
      </p:sp>
      <p:sp>
        <p:nvSpPr>
          <p:cNvPr id="67" name="PlaceHolder 2"/>
          <p:cNvSpPr>
            <a:spLocks noGrp="1"/>
          </p:cNvSpPr>
          <p:nvPr>
            <p:ph/>
          </p:nvPr>
        </p:nvSpPr>
        <p:spPr>
          <a:xfrm>
            <a:off x="4140000" y="1582560"/>
            <a:ext cx="4824360" cy="41148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can get the rabies virus from the saliva of a rabid animal – in most cases, by being bitten.</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y mammal can get rabies, and there are a few wild mammals which are commonly infected.</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dogs get rabies from skunks due to their natural attraction towards skunks.</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people who contract rabies get it from bats.</a:t>
            </a:r>
            <a:endParaRPr b="0" lang="en-US" sz="2400" spc="-1" strike="noStrike">
              <a:solidFill>
                <a:srgbClr val="ffffff"/>
              </a:solidFill>
              <a:latin typeface="Times New Roman"/>
            </a:endParaRPr>
          </a:p>
        </p:txBody>
      </p:sp>
      <p:pic>
        <p:nvPicPr>
          <p:cNvPr id="68" name="" descr=""/>
          <p:cNvPicPr/>
          <p:nvPr/>
        </p:nvPicPr>
        <p:blipFill>
          <a:blip r:embed="rId4"/>
          <a:stretch/>
        </p:blipFill>
        <p:spPr>
          <a:xfrm>
            <a:off x="431640" y="1828800"/>
            <a:ext cx="2057400" cy="1257480"/>
          </a:xfrm>
          <a:prstGeom prst="rect">
            <a:avLst/>
          </a:prstGeom>
          <a:ln w="28440">
            <a:solidFill>
              <a:srgbClr val="ffffff"/>
            </a:solidFill>
            <a:miter/>
          </a:ln>
        </p:spPr>
      </p:pic>
      <p:pic>
        <p:nvPicPr>
          <p:cNvPr id="69" name="" descr="">
            <a:hlinkClick r:id="rId5"/>
          </p:cNvPr>
          <p:cNvPicPr/>
          <p:nvPr/>
        </p:nvPicPr>
        <p:blipFill>
          <a:blip r:embed="rId6"/>
          <a:stretch/>
        </p:blipFill>
        <p:spPr>
          <a:xfrm>
            <a:off x="2124000" y="3086280"/>
            <a:ext cx="1459080" cy="1584000"/>
          </a:xfrm>
          <a:prstGeom prst="rect">
            <a:avLst/>
          </a:prstGeom>
          <a:ln w="28440">
            <a:solidFill>
              <a:srgbClr val="ffffff"/>
            </a:solidFill>
            <a:miter/>
          </a:ln>
        </p:spPr>
      </p:pic>
      <p:pic>
        <p:nvPicPr>
          <p:cNvPr id="70" name="" descr="">
            <a:hlinkClick r:id="rId7"/>
          </p:cNvPr>
          <p:cNvPicPr/>
          <p:nvPr/>
        </p:nvPicPr>
        <p:blipFill>
          <a:blip r:embed="rId8"/>
          <a:stretch/>
        </p:blipFill>
        <p:spPr>
          <a:xfrm>
            <a:off x="358920" y="3014640"/>
            <a:ext cx="1849320" cy="1459080"/>
          </a:xfrm>
          <a:prstGeom prst="rect">
            <a:avLst/>
          </a:prstGeom>
          <a:ln w="28440">
            <a:solidFill>
              <a:srgbClr val="ffffff"/>
            </a:solidFill>
            <a:miter/>
          </a:ln>
        </p:spPr>
      </p:pic>
      <p:sp>
        <p:nvSpPr>
          <p:cNvPr id="71" name=""/>
          <p:cNvSpPr/>
          <p:nvPr/>
        </p:nvSpPr>
        <p:spPr>
          <a:xfrm>
            <a:off x="431640" y="5029200"/>
            <a:ext cx="3606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Raccoons, bats, skunks, and coyotes are common carriers of the rabies virus</a:t>
            </a:r>
            <a:endParaRPr b="0" lang="en-US" sz="2400" spc="-1" strike="noStrike">
              <a:solidFill>
                <a:srgbClr val="ffffff"/>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5.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203640" y="1557360"/>
            <a:ext cx="5673600" cy="5100480"/>
          </a:xfrm>
          <a:custGeom>
            <a:avLst/>
            <a:gdLst/>
            <a:ahLst/>
            <a:rect l="l" t="t" r="r" b="b"/>
            <a:pathLst>
              <a:path w="3228" h="2902">
                <a:moveTo>
                  <a:pt x="181" y="1782"/>
                </a:moveTo>
                <a:cubicBezTo>
                  <a:pt x="207" y="1755"/>
                  <a:pt x="281" y="1716"/>
                  <a:pt x="309" y="1696"/>
                </a:cubicBezTo>
                <a:cubicBezTo>
                  <a:pt x="387" y="1640"/>
                  <a:pt x="446" y="1543"/>
                  <a:pt x="469" y="1451"/>
                </a:cubicBezTo>
                <a:cubicBezTo>
                  <a:pt x="468" y="1426"/>
                  <a:pt x="501" y="1053"/>
                  <a:pt x="415" y="928"/>
                </a:cubicBezTo>
                <a:cubicBezTo>
                  <a:pt x="400" y="863"/>
                  <a:pt x="360" y="796"/>
                  <a:pt x="330" y="736"/>
                </a:cubicBezTo>
                <a:cubicBezTo>
                  <a:pt x="298" y="673"/>
                  <a:pt x="326" y="711"/>
                  <a:pt x="277" y="672"/>
                </a:cubicBezTo>
                <a:cubicBezTo>
                  <a:pt x="269" y="666"/>
                  <a:pt x="245" y="651"/>
                  <a:pt x="255" y="651"/>
                </a:cubicBezTo>
                <a:cubicBezTo>
                  <a:pt x="258" y="651"/>
                  <a:pt x="340" y="711"/>
                  <a:pt x="351" y="715"/>
                </a:cubicBezTo>
                <a:cubicBezTo>
                  <a:pt x="413" y="740"/>
                  <a:pt x="477" y="756"/>
                  <a:pt x="543" y="768"/>
                </a:cubicBezTo>
                <a:cubicBezTo>
                  <a:pt x="580" y="767"/>
                  <a:pt x="809" y="769"/>
                  <a:pt x="906" y="747"/>
                </a:cubicBezTo>
                <a:cubicBezTo>
                  <a:pt x="916" y="745"/>
                  <a:pt x="981" y="722"/>
                  <a:pt x="1002" y="715"/>
                </a:cubicBezTo>
                <a:cubicBezTo>
                  <a:pt x="1013" y="711"/>
                  <a:pt x="1034" y="704"/>
                  <a:pt x="1034" y="704"/>
                </a:cubicBezTo>
                <a:cubicBezTo>
                  <a:pt x="1073" y="675"/>
                  <a:pt x="1110" y="663"/>
                  <a:pt x="1151" y="640"/>
                </a:cubicBezTo>
                <a:cubicBezTo>
                  <a:pt x="1208" y="609"/>
                  <a:pt x="1238" y="571"/>
                  <a:pt x="1290" y="534"/>
                </a:cubicBezTo>
                <a:cubicBezTo>
                  <a:pt x="1356" y="488"/>
                  <a:pt x="1415" y="441"/>
                  <a:pt x="1461" y="374"/>
                </a:cubicBezTo>
                <a:cubicBezTo>
                  <a:pt x="1468" y="353"/>
                  <a:pt x="1472" y="330"/>
                  <a:pt x="1482" y="310"/>
                </a:cubicBezTo>
                <a:cubicBezTo>
                  <a:pt x="1486" y="301"/>
                  <a:pt x="1498" y="297"/>
                  <a:pt x="1503" y="288"/>
                </a:cubicBezTo>
                <a:cubicBezTo>
                  <a:pt x="1551" y="192"/>
                  <a:pt x="1491" y="250"/>
                  <a:pt x="1567" y="192"/>
                </a:cubicBezTo>
                <a:cubicBezTo>
                  <a:pt x="1580" y="143"/>
                  <a:pt x="1610" y="110"/>
                  <a:pt x="1631" y="64"/>
                </a:cubicBezTo>
                <a:cubicBezTo>
                  <a:pt x="1640" y="43"/>
                  <a:pt x="1653" y="0"/>
                  <a:pt x="1653" y="0"/>
                </a:cubicBezTo>
                <a:cubicBezTo>
                  <a:pt x="1657" y="82"/>
                  <a:pt x="1642" y="170"/>
                  <a:pt x="1674" y="246"/>
                </a:cubicBezTo>
                <a:cubicBezTo>
                  <a:pt x="1747" y="419"/>
                  <a:pt x="1885" y="573"/>
                  <a:pt x="2047" y="662"/>
                </a:cubicBezTo>
                <a:cubicBezTo>
                  <a:pt x="2069" y="674"/>
                  <a:pt x="2093" y="686"/>
                  <a:pt x="2111" y="704"/>
                </a:cubicBezTo>
                <a:cubicBezTo>
                  <a:pt x="2118" y="711"/>
                  <a:pt x="2124" y="721"/>
                  <a:pt x="2133" y="726"/>
                </a:cubicBezTo>
                <a:cubicBezTo>
                  <a:pt x="2204" y="767"/>
                  <a:pt x="2287" y="787"/>
                  <a:pt x="2367" y="800"/>
                </a:cubicBezTo>
                <a:cubicBezTo>
                  <a:pt x="2440" y="825"/>
                  <a:pt x="2366" y="802"/>
                  <a:pt x="2506" y="822"/>
                </a:cubicBezTo>
                <a:cubicBezTo>
                  <a:pt x="2594" y="834"/>
                  <a:pt x="2685" y="884"/>
                  <a:pt x="2773" y="886"/>
                </a:cubicBezTo>
                <a:cubicBezTo>
                  <a:pt x="2919" y="889"/>
                  <a:pt x="3064" y="893"/>
                  <a:pt x="3210" y="896"/>
                </a:cubicBezTo>
                <a:cubicBezTo>
                  <a:pt x="3150" y="900"/>
                  <a:pt x="3089" y="901"/>
                  <a:pt x="3029" y="907"/>
                </a:cubicBezTo>
                <a:cubicBezTo>
                  <a:pt x="2968" y="913"/>
                  <a:pt x="2937" y="961"/>
                  <a:pt x="2890" y="992"/>
                </a:cubicBezTo>
                <a:cubicBezTo>
                  <a:pt x="2875" y="1037"/>
                  <a:pt x="2842" y="1070"/>
                  <a:pt x="2815" y="1110"/>
                </a:cubicBezTo>
                <a:cubicBezTo>
                  <a:pt x="2808" y="1121"/>
                  <a:pt x="2794" y="1142"/>
                  <a:pt x="2794" y="1142"/>
                </a:cubicBezTo>
                <a:cubicBezTo>
                  <a:pt x="2770" y="1260"/>
                  <a:pt x="2784" y="1365"/>
                  <a:pt x="2826" y="1472"/>
                </a:cubicBezTo>
                <a:cubicBezTo>
                  <a:pt x="2859" y="1554"/>
                  <a:pt x="2827" y="1516"/>
                  <a:pt x="2869" y="1558"/>
                </a:cubicBezTo>
                <a:cubicBezTo>
                  <a:pt x="2899" y="1682"/>
                  <a:pt x="3014" y="1785"/>
                  <a:pt x="3093" y="1878"/>
                </a:cubicBezTo>
                <a:cubicBezTo>
                  <a:pt x="3127" y="1917"/>
                  <a:pt x="3159" y="1957"/>
                  <a:pt x="3210" y="1974"/>
                </a:cubicBezTo>
                <a:cubicBezTo>
                  <a:pt x="3228" y="1980"/>
                  <a:pt x="3175" y="1959"/>
                  <a:pt x="3157" y="1952"/>
                </a:cubicBezTo>
                <a:cubicBezTo>
                  <a:pt x="3126" y="1922"/>
                  <a:pt x="3090" y="1913"/>
                  <a:pt x="3050" y="1899"/>
                </a:cubicBezTo>
                <a:cubicBezTo>
                  <a:pt x="2964" y="1813"/>
                  <a:pt x="3067" y="1906"/>
                  <a:pt x="2986" y="1856"/>
                </a:cubicBezTo>
                <a:cubicBezTo>
                  <a:pt x="2967" y="1844"/>
                  <a:pt x="2953" y="1825"/>
                  <a:pt x="2933" y="1814"/>
                </a:cubicBezTo>
                <a:cubicBezTo>
                  <a:pt x="2894" y="1792"/>
                  <a:pt x="2819" y="1781"/>
                  <a:pt x="2773" y="1771"/>
                </a:cubicBezTo>
                <a:cubicBezTo>
                  <a:pt x="2709" y="1740"/>
                  <a:pt x="2641" y="1727"/>
                  <a:pt x="2570" y="1718"/>
                </a:cubicBezTo>
                <a:cubicBezTo>
                  <a:pt x="2456" y="1721"/>
                  <a:pt x="2343" y="1722"/>
                  <a:pt x="2229" y="1728"/>
                </a:cubicBezTo>
                <a:cubicBezTo>
                  <a:pt x="2212" y="1729"/>
                  <a:pt x="2165" y="1756"/>
                  <a:pt x="2154" y="1760"/>
                </a:cubicBezTo>
                <a:cubicBezTo>
                  <a:pt x="2115" y="1776"/>
                  <a:pt x="2034" y="1795"/>
                  <a:pt x="2005" y="1824"/>
                </a:cubicBezTo>
                <a:cubicBezTo>
                  <a:pt x="1975" y="1854"/>
                  <a:pt x="1993" y="1843"/>
                  <a:pt x="1951" y="1856"/>
                </a:cubicBezTo>
                <a:cubicBezTo>
                  <a:pt x="1916" y="1891"/>
                  <a:pt x="1883" y="1902"/>
                  <a:pt x="1845" y="1931"/>
                </a:cubicBezTo>
                <a:cubicBezTo>
                  <a:pt x="1804" y="1962"/>
                  <a:pt x="1772" y="1998"/>
                  <a:pt x="1727" y="2027"/>
                </a:cubicBezTo>
                <a:cubicBezTo>
                  <a:pt x="1674" y="2108"/>
                  <a:pt x="1703" y="2073"/>
                  <a:pt x="1642" y="2134"/>
                </a:cubicBezTo>
                <a:cubicBezTo>
                  <a:pt x="1618" y="2158"/>
                  <a:pt x="1615" y="2190"/>
                  <a:pt x="1599" y="2219"/>
                </a:cubicBezTo>
                <a:cubicBezTo>
                  <a:pt x="1583" y="2248"/>
                  <a:pt x="1564" y="2276"/>
                  <a:pt x="1546" y="2304"/>
                </a:cubicBezTo>
                <a:cubicBezTo>
                  <a:pt x="1533" y="2325"/>
                  <a:pt x="1511" y="2340"/>
                  <a:pt x="1493" y="2358"/>
                </a:cubicBezTo>
                <a:cubicBezTo>
                  <a:pt x="1461" y="2391"/>
                  <a:pt x="1443" y="2436"/>
                  <a:pt x="1418" y="2475"/>
                </a:cubicBezTo>
                <a:cubicBezTo>
                  <a:pt x="1381" y="2533"/>
                  <a:pt x="1358" y="2597"/>
                  <a:pt x="1322" y="2656"/>
                </a:cubicBezTo>
                <a:cubicBezTo>
                  <a:pt x="1309" y="2678"/>
                  <a:pt x="1279" y="2720"/>
                  <a:pt x="1279" y="2720"/>
                </a:cubicBezTo>
                <a:cubicBezTo>
                  <a:pt x="1265" y="2764"/>
                  <a:pt x="1242" y="2802"/>
                  <a:pt x="1215" y="2838"/>
                </a:cubicBezTo>
                <a:cubicBezTo>
                  <a:pt x="1200" y="2858"/>
                  <a:pt x="1173" y="2902"/>
                  <a:pt x="1173" y="2902"/>
                </a:cubicBezTo>
                <a:cubicBezTo>
                  <a:pt x="1199" y="2823"/>
                  <a:pt x="1184" y="2858"/>
                  <a:pt x="1215" y="2795"/>
                </a:cubicBezTo>
                <a:cubicBezTo>
                  <a:pt x="1215" y="2769"/>
                  <a:pt x="1291" y="2279"/>
                  <a:pt x="1162" y="2144"/>
                </a:cubicBezTo>
                <a:cubicBezTo>
                  <a:pt x="1120" y="2021"/>
                  <a:pt x="994" y="1961"/>
                  <a:pt x="874" y="1942"/>
                </a:cubicBezTo>
                <a:cubicBezTo>
                  <a:pt x="764" y="1897"/>
                  <a:pt x="675" y="1913"/>
                  <a:pt x="554" y="1920"/>
                </a:cubicBezTo>
                <a:cubicBezTo>
                  <a:pt x="472" y="1932"/>
                  <a:pt x="390" y="1937"/>
                  <a:pt x="309" y="1952"/>
                </a:cubicBezTo>
                <a:cubicBezTo>
                  <a:pt x="209" y="1949"/>
                  <a:pt x="109" y="1953"/>
                  <a:pt x="10" y="1942"/>
                </a:cubicBezTo>
                <a:cubicBezTo>
                  <a:pt x="0" y="1941"/>
                  <a:pt x="23" y="1926"/>
                  <a:pt x="31" y="1920"/>
                </a:cubicBezTo>
                <a:cubicBezTo>
                  <a:pt x="41" y="1912"/>
                  <a:pt x="53" y="1907"/>
                  <a:pt x="63" y="1899"/>
                </a:cubicBezTo>
                <a:cubicBezTo>
                  <a:pt x="154" y="1822"/>
                  <a:pt x="65" y="1883"/>
                  <a:pt x="138" y="1835"/>
                </a:cubicBezTo>
                <a:cubicBezTo>
                  <a:pt x="145" y="1824"/>
                  <a:pt x="151" y="1813"/>
                  <a:pt x="159" y="1803"/>
                </a:cubicBezTo>
                <a:cubicBezTo>
                  <a:pt x="165" y="1795"/>
                  <a:pt x="181" y="1782"/>
                  <a:pt x="181" y="1782"/>
                </a:cubicBezTo>
                <a:close/>
              </a:path>
            </a:pathLst>
          </a:custGeom>
          <a:solidFill>
            <a:srgbClr val="ffffff"/>
          </a:solid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3867120" y="4795920"/>
            <a:ext cx="1892160" cy="1189080"/>
          </a:xfrm>
          <a:custGeom>
            <a:avLst/>
            <a:gdLst/>
            <a:ahLst/>
            <a:rect l="l" t="t" r="r" b="b"/>
            <a:pathLst>
              <a:path w="1192" h="749">
                <a:moveTo>
                  <a:pt x="124" y="97"/>
                </a:moveTo>
                <a:cubicBezTo>
                  <a:pt x="72" y="82"/>
                  <a:pt x="98" y="127"/>
                  <a:pt x="75" y="67"/>
                </a:cubicBezTo>
                <a:cubicBezTo>
                  <a:pt x="144" y="0"/>
                  <a:pt x="569" y="19"/>
                  <a:pt x="651" y="15"/>
                </a:cubicBezTo>
                <a:cubicBezTo>
                  <a:pt x="697" y="28"/>
                  <a:pt x="732" y="27"/>
                  <a:pt x="769" y="63"/>
                </a:cubicBezTo>
                <a:cubicBezTo>
                  <a:pt x="806" y="165"/>
                  <a:pt x="789" y="123"/>
                  <a:pt x="816" y="193"/>
                </a:cubicBezTo>
                <a:cubicBezTo>
                  <a:pt x="823" y="210"/>
                  <a:pt x="843" y="208"/>
                  <a:pt x="857" y="219"/>
                </a:cubicBezTo>
                <a:cubicBezTo>
                  <a:pt x="867" y="226"/>
                  <a:pt x="873" y="237"/>
                  <a:pt x="884" y="246"/>
                </a:cubicBezTo>
                <a:cubicBezTo>
                  <a:pt x="896" y="258"/>
                  <a:pt x="909" y="262"/>
                  <a:pt x="922" y="273"/>
                </a:cubicBezTo>
                <a:cubicBezTo>
                  <a:pt x="986" y="322"/>
                  <a:pt x="969" y="355"/>
                  <a:pt x="1057" y="379"/>
                </a:cubicBezTo>
                <a:cubicBezTo>
                  <a:pt x="1122" y="475"/>
                  <a:pt x="1192" y="685"/>
                  <a:pt x="1079" y="749"/>
                </a:cubicBezTo>
                <a:cubicBezTo>
                  <a:pt x="974" y="715"/>
                  <a:pt x="1037" y="579"/>
                  <a:pt x="981" y="490"/>
                </a:cubicBezTo>
                <a:cubicBezTo>
                  <a:pt x="967" y="466"/>
                  <a:pt x="942" y="456"/>
                  <a:pt x="925" y="435"/>
                </a:cubicBezTo>
                <a:cubicBezTo>
                  <a:pt x="825" y="302"/>
                  <a:pt x="791" y="278"/>
                  <a:pt x="647" y="237"/>
                </a:cubicBezTo>
                <a:cubicBezTo>
                  <a:pt x="602" y="207"/>
                  <a:pt x="562" y="152"/>
                  <a:pt x="514" y="131"/>
                </a:cubicBezTo>
                <a:cubicBezTo>
                  <a:pt x="489" y="120"/>
                  <a:pt x="438" y="109"/>
                  <a:pt x="438" y="109"/>
                </a:cubicBezTo>
                <a:cubicBezTo>
                  <a:pt x="136" y="150"/>
                  <a:pt x="0" y="108"/>
                  <a:pt x="124"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the virus do?</a:t>
            </a:r>
            <a:endParaRPr b="0" lang="en-US" sz="4400" spc="-1" strike="noStrike">
              <a:solidFill>
                <a:srgbClr val="ffffff"/>
              </a:solidFill>
              <a:latin typeface="Times New Roman"/>
            </a:endParaRPr>
          </a:p>
        </p:txBody>
      </p:sp>
      <p:sp>
        <p:nvSpPr>
          <p:cNvPr id="76" name="PlaceHolder 2"/>
          <p:cNvSpPr>
            <a:spLocks noGrp="1"/>
          </p:cNvSpPr>
          <p:nvPr>
            <p:ph/>
          </p:nvPr>
        </p:nvSpPr>
        <p:spPr>
          <a:xfrm>
            <a:off x="324000" y="5407200"/>
            <a:ext cx="4860720" cy="1730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a rabid animal bites another animal, the virus in the saliva attaches itself to a nerve cell.</a:t>
            </a:r>
            <a:endParaRPr b="0" lang="en-US" sz="2400" spc="-1" strike="noStrike">
              <a:solidFill>
                <a:srgbClr val="ffffff"/>
              </a:solidFill>
              <a:latin typeface="Times New Roman"/>
            </a:endParaRPr>
          </a:p>
        </p:txBody>
      </p:sp>
      <p:grpSp>
        <p:nvGrpSpPr>
          <p:cNvPr id="77" name=""/>
          <p:cNvGrpSpPr/>
          <p:nvPr/>
        </p:nvGrpSpPr>
        <p:grpSpPr>
          <a:xfrm>
            <a:off x="-1159920" y="1577160"/>
            <a:ext cx="1001160" cy="1317960"/>
            <a:chOff x="-1159920" y="1577160"/>
            <a:chExt cx="1001160" cy="1317960"/>
          </a:xfrm>
        </p:grpSpPr>
        <p:grpSp>
          <p:nvGrpSpPr>
            <p:cNvPr id="78" name=""/>
            <p:cNvGrpSpPr/>
            <p:nvPr/>
          </p:nvGrpSpPr>
          <p:grpSpPr>
            <a:xfrm>
              <a:off x="-1159920" y="1577160"/>
              <a:ext cx="1001160" cy="1317960"/>
              <a:chOff x="-1159920" y="1577160"/>
              <a:chExt cx="1001160" cy="1317960"/>
            </a:xfrm>
          </p:grpSpPr>
          <p:grpSp>
            <p:nvGrpSpPr>
              <p:cNvPr id="79" name=""/>
              <p:cNvGrpSpPr/>
              <p:nvPr/>
            </p:nvGrpSpPr>
            <p:grpSpPr>
              <a:xfrm>
                <a:off x="-1159920" y="1577160"/>
                <a:ext cx="671400" cy="1105200"/>
                <a:chOff x="-1159920" y="1577160"/>
                <a:chExt cx="671400" cy="1105200"/>
              </a:xfrm>
            </p:grpSpPr>
            <p:sp>
              <p:nvSpPr>
                <p:cNvPr id="80" name=""/>
                <p:cNvSpPr/>
                <p:nvPr/>
              </p:nvSpPr>
              <p:spPr>
                <a:xfrm rot="20349600">
                  <a:off x="-1052640" y="1635840"/>
                  <a:ext cx="45720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rot="20349600">
                  <a:off x="-751320" y="2065680"/>
                  <a:ext cx="15228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 name=""/>
              <p:cNvGrpSpPr/>
              <p:nvPr/>
            </p:nvGrpSpPr>
            <p:grpSpPr>
              <a:xfrm>
                <a:off x="-637560" y="2284920"/>
                <a:ext cx="478800" cy="329760"/>
                <a:chOff x="-637560" y="2284920"/>
                <a:chExt cx="478800" cy="329760"/>
              </a:xfrm>
            </p:grpSpPr>
            <p:sp>
              <p:nvSpPr>
                <p:cNvPr id="83" name=""/>
                <p:cNvSpPr/>
                <p:nvPr/>
              </p:nvSpPr>
              <p:spPr>
                <a:xfrm flipV="1">
                  <a:off x="-637560" y="2284920"/>
                  <a:ext cx="186480" cy="1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86720" y="2298960"/>
                  <a:ext cx="295200" cy="132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flipV="1">
                  <a:off x="-604800" y="2376000"/>
                  <a:ext cx="186480" cy="152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453960" y="2390040"/>
                  <a:ext cx="295200" cy="132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613080" y="2462400"/>
                  <a:ext cx="186840" cy="1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461880" y="2476440"/>
                  <a:ext cx="294840" cy="132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 name=""/>
              <p:cNvGrpSpPr/>
              <p:nvPr/>
            </p:nvGrpSpPr>
            <p:grpSpPr>
              <a:xfrm>
                <a:off x="-1015200" y="2451240"/>
                <a:ext cx="436680" cy="443880"/>
                <a:chOff x="-1015200" y="2451240"/>
                <a:chExt cx="436680" cy="443880"/>
              </a:xfrm>
            </p:grpSpPr>
            <p:sp>
              <p:nvSpPr>
                <p:cNvPr id="90" name=""/>
                <p:cNvSpPr/>
                <p:nvPr/>
              </p:nvSpPr>
              <p:spPr>
                <a:xfrm flipH="1">
                  <a:off x="-918720" y="2454120"/>
                  <a:ext cx="24084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91" name=""/>
                <p:cNvSpPr/>
                <p:nvPr/>
              </p:nvSpPr>
              <p:spPr>
                <a:xfrm flipH="1">
                  <a:off x="-1015200" y="2451240"/>
                  <a:ext cx="13248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flipH="1">
                  <a:off x="-882360" y="2544120"/>
                  <a:ext cx="24048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93" name=""/>
                <p:cNvSpPr/>
                <p:nvPr/>
              </p:nvSpPr>
              <p:spPr>
                <a:xfrm flipH="1">
                  <a:off x="-978840" y="2541240"/>
                  <a:ext cx="13212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H="1">
                  <a:off x="-819000" y="2603160"/>
                  <a:ext cx="24048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95" name=""/>
                <p:cNvSpPr/>
                <p:nvPr/>
              </p:nvSpPr>
              <p:spPr>
                <a:xfrm flipH="1">
                  <a:off x="-915480" y="2600280"/>
                  <a:ext cx="13212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 name=""/>
            <p:cNvSpPr/>
            <p:nvPr/>
          </p:nvSpPr>
          <p:spPr>
            <a:xfrm>
              <a:off x="-880920" y="1854360"/>
              <a:ext cx="152280" cy="38412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7" name=""/>
          <p:cNvGrpSpPr/>
          <p:nvPr/>
        </p:nvGrpSpPr>
        <p:grpSpPr>
          <a:xfrm>
            <a:off x="4447080" y="1755000"/>
            <a:ext cx="1001160" cy="1317960"/>
            <a:chOff x="4447080" y="1755000"/>
            <a:chExt cx="1001160" cy="1317960"/>
          </a:xfrm>
        </p:grpSpPr>
        <p:grpSp>
          <p:nvGrpSpPr>
            <p:cNvPr id="98" name=""/>
            <p:cNvGrpSpPr/>
            <p:nvPr/>
          </p:nvGrpSpPr>
          <p:grpSpPr>
            <a:xfrm>
              <a:off x="4447080" y="1755000"/>
              <a:ext cx="671400" cy="1105200"/>
              <a:chOff x="4447080" y="1755000"/>
              <a:chExt cx="671400" cy="1105200"/>
            </a:xfrm>
          </p:grpSpPr>
          <p:sp>
            <p:nvSpPr>
              <p:cNvPr id="99" name=""/>
              <p:cNvSpPr/>
              <p:nvPr/>
            </p:nvSpPr>
            <p:spPr>
              <a:xfrm rot="20349600">
                <a:off x="4554000" y="1813680"/>
                <a:ext cx="45720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rot="20349600">
                <a:off x="4855320" y="2243520"/>
                <a:ext cx="15228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1" name=""/>
            <p:cNvGrpSpPr/>
            <p:nvPr/>
          </p:nvGrpSpPr>
          <p:grpSpPr>
            <a:xfrm>
              <a:off x="4969440" y="2462760"/>
              <a:ext cx="478800" cy="329760"/>
              <a:chOff x="4969440" y="2462760"/>
              <a:chExt cx="478800" cy="329760"/>
            </a:xfrm>
          </p:grpSpPr>
          <p:sp>
            <p:nvSpPr>
              <p:cNvPr id="102" name=""/>
              <p:cNvSpPr/>
              <p:nvPr/>
            </p:nvSpPr>
            <p:spPr>
              <a:xfrm flipV="1">
                <a:off x="4969440" y="2462760"/>
                <a:ext cx="186480" cy="1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120280" y="2476800"/>
                <a:ext cx="295200" cy="132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V="1">
                <a:off x="5002200" y="2553840"/>
                <a:ext cx="186480" cy="152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153040" y="2567880"/>
                <a:ext cx="295200" cy="132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V="1">
                <a:off x="4993920" y="2640240"/>
                <a:ext cx="186840" cy="1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5145120" y="2654280"/>
                <a:ext cx="294840" cy="132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4591800" y="2629080"/>
              <a:ext cx="436680" cy="443880"/>
              <a:chOff x="4591800" y="2629080"/>
              <a:chExt cx="436680" cy="443880"/>
            </a:xfrm>
          </p:grpSpPr>
          <p:sp>
            <p:nvSpPr>
              <p:cNvPr id="109" name=""/>
              <p:cNvSpPr/>
              <p:nvPr/>
            </p:nvSpPr>
            <p:spPr>
              <a:xfrm flipH="1">
                <a:off x="4688280" y="2631960"/>
                <a:ext cx="24084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0" name=""/>
              <p:cNvSpPr/>
              <p:nvPr/>
            </p:nvSpPr>
            <p:spPr>
              <a:xfrm flipH="1">
                <a:off x="4591800" y="2629080"/>
                <a:ext cx="13248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H="1">
                <a:off x="4724640" y="2721960"/>
                <a:ext cx="24048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2" name=""/>
              <p:cNvSpPr/>
              <p:nvPr/>
            </p:nvSpPr>
            <p:spPr>
              <a:xfrm flipH="1">
                <a:off x="4628160" y="2719080"/>
                <a:ext cx="13212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4788000" y="2781000"/>
                <a:ext cx="24048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4" name=""/>
              <p:cNvSpPr/>
              <p:nvPr/>
            </p:nvSpPr>
            <p:spPr>
              <a:xfrm flipH="1">
                <a:off x="4691520" y="2778120"/>
                <a:ext cx="13212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 name=""/>
          <p:cNvSpPr/>
          <p:nvPr/>
        </p:nvSpPr>
        <p:spPr>
          <a:xfrm>
            <a:off x="4729320" y="2031840"/>
            <a:ext cx="152280" cy="3844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311800" y="3584520"/>
            <a:ext cx="152280" cy="38412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472360" y="3451680"/>
            <a:ext cx="351720" cy="217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a:off x="4903560" y="3545640"/>
            <a:ext cx="182880" cy="34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 name=""/>
          <p:cNvGrpSpPr/>
          <p:nvPr/>
        </p:nvGrpSpPr>
        <p:grpSpPr>
          <a:xfrm>
            <a:off x="4124160" y="3631320"/>
            <a:ext cx="1095840" cy="1318680"/>
            <a:chOff x="4124160" y="3631320"/>
            <a:chExt cx="1095840" cy="1318680"/>
          </a:xfrm>
        </p:grpSpPr>
        <p:grpSp>
          <p:nvGrpSpPr>
            <p:cNvPr id="120" name=""/>
            <p:cNvGrpSpPr/>
            <p:nvPr/>
          </p:nvGrpSpPr>
          <p:grpSpPr>
            <a:xfrm>
              <a:off x="4124160" y="3631320"/>
              <a:ext cx="1095840" cy="1318680"/>
              <a:chOff x="4124160" y="3631320"/>
              <a:chExt cx="1095840" cy="1318680"/>
            </a:xfrm>
          </p:grpSpPr>
          <p:grpSp>
            <p:nvGrpSpPr>
              <p:cNvPr id="121" name=""/>
              <p:cNvGrpSpPr/>
              <p:nvPr/>
            </p:nvGrpSpPr>
            <p:grpSpPr>
              <a:xfrm>
                <a:off x="4466880" y="3631320"/>
                <a:ext cx="753120" cy="1089360"/>
                <a:chOff x="4466880" y="3631320"/>
                <a:chExt cx="753120" cy="1089360"/>
              </a:xfrm>
            </p:grpSpPr>
            <p:sp>
              <p:nvSpPr>
                <p:cNvPr id="122" name=""/>
                <p:cNvSpPr/>
                <p:nvPr/>
              </p:nvSpPr>
              <p:spPr>
                <a:xfrm rot="1606200">
                  <a:off x="4632840" y="3697200"/>
                  <a:ext cx="45684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rot="1606200">
                  <a:off x="4596120" y="4109400"/>
                  <a:ext cx="15192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 name=""/>
              <p:cNvGrpSpPr/>
              <p:nvPr/>
            </p:nvGrpSpPr>
            <p:grpSpPr>
              <a:xfrm>
                <a:off x="4534560" y="4487040"/>
                <a:ext cx="418680" cy="462960"/>
                <a:chOff x="4534560" y="4487040"/>
                <a:chExt cx="418680" cy="462960"/>
              </a:xfrm>
            </p:grpSpPr>
            <p:sp>
              <p:nvSpPr>
                <p:cNvPr id="125" name=""/>
                <p:cNvSpPr/>
                <p:nvPr/>
              </p:nvSpPr>
              <p:spPr>
                <a:xfrm>
                  <a:off x="4648320" y="4487040"/>
                  <a:ext cx="237960" cy="34920"/>
                </a:xfrm>
                <a:prstGeom prst="line">
                  <a:avLst/>
                </a:prstGeom>
                <a:ln w="38160">
                  <a:solidFill>
                    <a:srgbClr val="33cc33"/>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6" name=""/>
                <p:cNvSpPr/>
                <p:nvPr/>
              </p:nvSpPr>
              <p:spPr>
                <a:xfrm>
                  <a:off x="4852440" y="4505400"/>
                  <a:ext cx="100800" cy="306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4603320" y="4572720"/>
                  <a:ext cx="237960" cy="34920"/>
                </a:xfrm>
                <a:prstGeom prst="line">
                  <a:avLst/>
                </a:prstGeom>
                <a:ln w="38160">
                  <a:solidFill>
                    <a:srgbClr val="33cc33"/>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8" name=""/>
                <p:cNvSpPr/>
                <p:nvPr/>
              </p:nvSpPr>
              <p:spPr>
                <a:xfrm>
                  <a:off x="4807440" y="4590720"/>
                  <a:ext cx="100800" cy="3070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534560" y="4624920"/>
                  <a:ext cx="237960" cy="34920"/>
                </a:xfrm>
                <a:prstGeom prst="line">
                  <a:avLst/>
                </a:prstGeom>
                <a:ln w="38160">
                  <a:solidFill>
                    <a:srgbClr val="33cc33"/>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0" name=""/>
                <p:cNvSpPr/>
                <p:nvPr/>
              </p:nvSpPr>
              <p:spPr>
                <a:xfrm>
                  <a:off x="4738320" y="4643280"/>
                  <a:ext cx="100800" cy="306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4124160" y="4298400"/>
                <a:ext cx="485640" cy="344520"/>
                <a:chOff x="4124160" y="4298400"/>
                <a:chExt cx="485640" cy="344520"/>
              </a:xfrm>
            </p:grpSpPr>
            <p:sp>
              <p:nvSpPr>
                <p:cNvPr id="132" name=""/>
                <p:cNvSpPr/>
                <p:nvPr/>
              </p:nvSpPr>
              <p:spPr>
                <a:xfrm flipH="1" flipV="1">
                  <a:off x="4440240" y="4298400"/>
                  <a:ext cx="169560" cy="170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H="1">
                  <a:off x="4167000" y="4315680"/>
                  <a:ext cx="306720" cy="101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H="1" flipV="1">
                  <a:off x="4398120" y="4385880"/>
                  <a:ext cx="169560" cy="170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H="1">
                  <a:off x="4125240" y="4403160"/>
                  <a:ext cx="306720" cy="101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flipV="1">
                  <a:off x="4397040" y="4472280"/>
                  <a:ext cx="169560" cy="170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H="1">
                  <a:off x="4124160" y="4489560"/>
                  <a:ext cx="306720" cy="101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8" name=""/>
            <p:cNvSpPr/>
            <p:nvPr/>
          </p:nvSpPr>
          <p:spPr>
            <a:xfrm flipH="1">
              <a:off x="4716000" y="3942360"/>
              <a:ext cx="182880" cy="34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5200560" y="3742200"/>
            <a:ext cx="1022040" cy="1322280"/>
            <a:chOff x="5200560" y="3742200"/>
            <a:chExt cx="1022040" cy="1322280"/>
          </a:xfrm>
        </p:grpSpPr>
        <p:grpSp>
          <p:nvGrpSpPr>
            <p:cNvPr id="140" name=""/>
            <p:cNvGrpSpPr/>
            <p:nvPr/>
          </p:nvGrpSpPr>
          <p:grpSpPr>
            <a:xfrm>
              <a:off x="5200560" y="3742200"/>
              <a:ext cx="1022040" cy="1322280"/>
              <a:chOff x="5200560" y="3742200"/>
              <a:chExt cx="1022040" cy="1322280"/>
            </a:xfrm>
          </p:grpSpPr>
          <p:grpSp>
            <p:nvGrpSpPr>
              <p:cNvPr id="141" name=""/>
              <p:cNvGrpSpPr/>
              <p:nvPr/>
            </p:nvGrpSpPr>
            <p:grpSpPr>
              <a:xfrm>
                <a:off x="5200560" y="3742200"/>
                <a:ext cx="688320" cy="1102680"/>
                <a:chOff x="5200560" y="3742200"/>
                <a:chExt cx="688320" cy="1102680"/>
              </a:xfrm>
            </p:grpSpPr>
            <p:sp>
              <p:nvSpPr>
                <p:cNvPr id="142" name=""/>
                <p:cNvSpPr/>
                <p:nvPr/>
              </p:nvSpPr>
              <p:spPr>
                <a:xfrm rot="20252400">
                  <a:off x="5313960" y="3803400"/>
                  <a:ext cx="45684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rot="20252400">
                  <a:off x="5626080" y="4229280"/>
                  <a:ext cx="15192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 name=""/>
              <p:cNvGrpSpPr/>
              <p:nvPr/>
            </p:nvGrpSpPr>
            <p:grpSpPr>
              <a:xfrm>
                <a:off x="5742000" y="4442400"/>
                <a:ext cx="480600" cy="333720"/>
                <a:chOff x="5742000" y="4442400"/>
                <a:chExt cx="480600" cy="333720"/>
              </a:xfrm>
            </p:grpSpPr>
            <p:sp>
              <p:nvSpPr>
                <p:cNvPr id="145" name=""/>
                <p:cNvSpPr/>
                <p:nvPr/>
              </p:nvSpPr>
              <p:spPr>
                <a:xfrm flipV="1">
                  <a:off x="5742000" y="4442400"/>
                  <a:ext cx="181800" cy="157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888880" y="4457160"/>
                  <a:ext cx="298440" cy="123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5777280" y="4532400"/>
                  <a:ext cx="181800" cy="157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924160" y="4547160"/>
                  <a:ext cx="298440" cy="124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V="1">
                  <a:off x="5771880" y="4618800"/>
                  <a:ext cx="182160" cy="157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5918760" y="4633560"/>
                  <a:ext cx="298080" cy="124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 name=""/>
              <p:cNvGrpSpPr/>
              <p:nvPr/>
            </p:nvGrpSpPr>
            <p:grpSpPr>
              <a:xfrm>
                <a:off x="5374800" y="4617360"/>
                <a:ext cx="431640" cy="447120"/>
                <a:chOff x="5374800" y="4617360"/>
                <a:chExt cx="431640" cy="447120"/>
              </a:xfrm>
            </p:grpSpPr>
            <p:sp>
              <p:nvSpPr>
                <p:cNvPr id="152" name=""/>
                <p:cNvSpPr/>
                <p:nvPr/>
              </p:nvSpPr>
              <p:spPr>
                <a:xfrm flipH="1">
                  <a:off x="5463360" y="4617360"/>
                  <a:ext cx="239760" cy="16920"/>
                </a:xfrm>
                <a:prstGeom prst="line">
                  <a:avLst/>
                </a:prstGeom>
                <a:ln w="38160">
                  <a:solidFill>
                    <a:srgbClr val="33cc33"/>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3" name=""/>
                <p:cNvSpPr/>
                <p:nvPr/>
              </p:nvSpPr>
              <p:spPr>
                <a:xfrm flipH="1">
                  <a:off x="5374800" y="4620240"/>
                  <a:ext cx="123480" cy="2984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H="1">
                  <a:off x="5501880" y="4705920"/>
                  <a:ext cx="239760" cy="17280"/>
                </a:xfrm>
                <a:prstGeom prst="line">
                  <a:avLst/>
                </a:prstGeom>
                <a:ln w="38160">
                  <a:solidFill>
                    <a:srgbClr val="33cc33"/>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5" name=""/>
                <p:cNvSpPr/>
                <p:nvPr/>
              </p:nvSpPr>
              <p:spPr>
                <a:xfrm flipH="1">
                  <a:off x="5413320" y="4708800"/>
                  <a:ext cx="123480" cy="2984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H="1">
                  <a:off x="5566680" y="4763520"/>
                  <a:ext cx="239760" cy="16920"/>
                </a:xfrm>
                <a:prstGeom prst="line">
                  <a:avLst/>
                </a:prstGeom>
                <a:ln w="38160">
                  <a:solidFill>
                    <a:srgbClr val="33cc33"/>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7" name=""/>
                <p:cNvSpPr/>
                <p:nvPr/>
              </p:nvSpPr>
              <p:spPr>
                <a:xfrm flipH="1">
                  <a:off x="5478480" y="4766040"/>
                  <a:ext cx="123480" cy="2984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8" name=""/>
            <p:cNvSpPr/>
            <p:nvPr/>
          </p:nvSpPr>
          <p:spPr>
            <a:xfrm>
              <a:off x="5535360" y="4017960"/>
              <a:ext cx="152640" cy="38412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9" name=""/>
          <p:cNvGrpSpPr/>
          <p:nvPr/>
        </p:nvGrpSpPr>
        <p:grpSpPr>
          <a:xfrm>
            <a:off x="5737680" y="3488040"/>
            <a:ext cx="1311480" cy="1185840"/>
            <a:chOff x="5737680" y="3488040"/>
            <a:chExt cx="1311480" cy="1185840"/>
          </a:xfrm>
        </p:grpSpPr>
        <p:grpSp>
          <p:nvGrpSpPr>
            <p:cNvPr id="160" name=""/>
            <p:cNvGrpSpPr/>
            <p:nvPr/>
          </p:nvGrpSpPr>
          <p:grpSpPr>
            <a:xfrm>
              <a:off x="5737680" y="3488040"/>
              <a:ext cx="1311480" cy="1185840"/>
              <a:chOff x="5737680" y="3488040"/>
              <a:chExt cx="1311480" cy="1185840"/>
            </a:xfrm>
          </p:grpSpPr>
          <p:grpSp>
            <p:nvGrpSpPr>
              <p:cNvPr id="161" name=""/>
              <p:cNvGrpSpPr/>
              <p:nvPr/>
            </p:nvGrpSpPr>
            <p:grpSpPr>
              <a:xfrm>
                <a:off x="5737680" y="3488040"/>
                <a:ext cx="1053000" cy="852480"/>
                <a:chOff x="5737680" y="3488040"/>
                <a:chExt cx="1053000" cy="852480"/>
              </a:xfrm>
            </p:grpSpPr>
            <p:sp>
              <p:nvSpPr>
                <p:cNvPr id="162" name=""/>
                <p:cNvSpPr/>
                <p:nvPr/>
              </p:nvSpPr>
              <p:spPr>
                <a:xfrm rot="18256200">
                  <a:off x="5920920" y="3527280"/>
                  <a:ext cx="45720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18256200">
                  <a:off x="6419880" y="3801240"/>
                  <a:ext cx="15228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 name=""/>
              <p:cNvGrpSpPr/>
              <p:nvPr/>
            </p:nvGrpSpPr>
            <p:grpSpPr>
              <a:xfrm>
                <a:off x="6564960" y="3879360"/>
                <a:ext cx="484200" cy="391320"/>
                <a:chOff x="6564960" y="3879360"/>
                <a:chExt cx="484200" cy="391320"/>
              </a:xfrm>
            </p:grpSpPr>
            <p:sp>
              <p:nvSpPr>
                <p:cNvPr id="165" name=""/>
                <p:cNvSpPr/>
                <p:nvPr/>
              </p:nvSpPr>
              <p:spPr>
                <a:xfrm flipV="1">
                  <a:off x="6564960" y="3907800"/>
                  <a:ext cx="65880" cy="231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V="1">
                  <a:off x="6609600" y="3879360"/>
                  <a:ext cx="317880" cy="60120"/>
                </a:xfrm>
                <a:prstGeom prst="line">
                  <a:avLst/>
                </a:prstGeom>
                <a:ln w="38160">
                  <a:solidFill>
                    <a:srgbClr val="33cc33"/>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7" name=""/>
                <p:cNvSpPr/>
                <p:nvPr/>
              </p:nvSpPr>
              <p:spPr>
                <a:xfrm flipV="1">
                  <a:off x="6644160" y="3963960"/>
                  <a:ext cx="65880" cy="231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V="1">
                  <a:off x="6688800" y="3935520"/>
                  <a:ext cx="317520" cy="60120"/>
                </a:xfrm>
                <a:prstGeom prst="line">
                  <a:avLst/>
                </a:prstGeom>
                <a:ln w="38160">
                  <a:solidFill>
                    <a:srgbClr val="33cc33"/>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9" name=""/>
                <p:cNvSpPr/>
                <p:nvPr/>
              </p:nvSpPr>
              <p:spPr>
                <a:xfrm flipV="1">
                  <a:off x="6686640" y="4039200"/>
                  <a:ext cx="66240" cy="231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V="1">
                  <a:off x="6731640" y="4010760"/>
                  <a:ext cx="317520" cy="60120"/>
                </a:xfrm>
                <a:prstGeom prst="line">
                  <a:avLst/>
                </a:prstGeom>
                <a:ln w="38160">
                  <a:solidFill>
                    <a:srgbClr val="33cc33"/>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grpSp>
            <p:nvGrpSpPr>
              <p:cNvPr id="171" name=""/>
              <p:cNvGrpSpPr/>
              <p:nvPr/>
            </p:nvGrpSpPr>
            <p:grpSpPr>
              <a:xfrm>
                <a:off x="6350040" y="4176360"/>
                <a:ext cx="358560" cy="497520"/>
                <a:chOff x="6350040" y="4176360"/>
                <a:chExt cx="358560" cy="497520"/>
              </a:xfrm>
            </p:grpSpPr>
            <p:sp>
              <p:nvSpPr>
                <p:cNvPr id="172" name=""/>
                <p:cNvSpPr/>
                <p:nvPr/>
              </p:nvSpPr>
              <p:spPr>
                <a:xfrm flipH="1">
                  <a:off x="6350040" y="4176360"/>
                  <a:ext cx="191520" cy="146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372000" y="4291200"/>
                  <a:ext cx="60120" cy="317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6431040" y="4229280"/>
                  <a:ext cx="191520" cy="146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453000" y="4344120"/>
                  <a:ext cx="60120" cy="317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a:off x="6517080" y="4241520"/>
                  <a:ext cx="191520" cy="146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6538680" y="4356360"/>
                  <a:ext cx="60120" cy="317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8" name=""/>
            <p:cNvSpPr/>
            <p:nvPr/>
          </p:nvSpPr>
          <p:spPr>
            <a:xfrm>
              <a:off x="5983920" y="3764520"/>
              <a:ext cx="351360" cy="2174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 name=""/>
          <p:cNvGrpSpPr/>
          <p:nvPr/>
        </p:nvGrpSpPr>
        <p:grpSpPr>
          <a:xfrm>
            <a:off x="4893480" y="2879280"/>
            <a:ext cx="991440" cy="1315440"/>
            <a:chOff x="4893480" y="2879280"/>
            <a:chExt cx="991440" cy="1315440"/>
          </a:xfrm>
        </p:grpSpPr>
        <p:grpSp>
          <p:nvGrpSpPr>
            <p:cNvPr id="180" name=""/>
            <p:cNvGrpSpPr/>
            <p:nvPr/>
          </p:nvGrpSpPr>
          <p:grpSpPr>
            <a:xfrm>
              <a:off x="4893480" y="2879280"/>
              <a:ext cx="991440" cy="1315440"/>
              <a:chOff x="4893480" y="2879280"/>
              <a:chExt cx="991440" cy="1315440"/>
            </a:xfrm>
          </p:grpSpPr>
          <p:grpSp>
            <p:nvGrpSpPr>
              <p:cNvPr id="181" name=""/>
              <p:cNvGrpSpPr/>
              <p:nvPr/>
            </p:nvGrpSpPr>
            <p:grpSpPr>
              <a:xfrm>
                <a:off x="4893480" y="2879280"/>
                <a:ext cx="665280" cy="1106280"/>
                <a:chOff x="4893480" y="2879280"/>
                <a:chExt cx="665280" cy="1106280"/>
              </a:xfrm>
            </p:grpSpPr>
            <p:sp>
              <p:nvSpPr>
                <p:cNvPr id="182" name=""/>
                <p:cNvSpPr/>
                <p:nvPr/>
              </p:nvSpPr>
              <p:spPr>
                <a:xfrm rot="20389200">
                  <a:off x="4997520" y="2936880"/>
                  <a:ext cx="45684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rot="20389200">
                  <a:off x="5294160" y="3368520"/>
                  <a:ext cx="15192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4" name=""/>
              <p:cNvGrpSpPr/>
              <p:nvPr/>
            </p:nvGrpSpPr>
            <p:grpSpPr>
              <a:xfrm>
                <a:off x="5407200" y="3590280"/>
                <a:ext cx="477720" cy="327600"/>
                <a:chOff x="5407200" y="3590280"/>
                <a:chExt cx="477720" cy="327600"/>
              </a:xfrm>
            </p:grpSpPr>
            <p:sp>
              <p:nvSpPr>
                <p:cNvPr id="185" name=""/>
                <p:cNvSpPr/>
                <p:nvPr/>
              </p:nvSpPr>
              <p:spPr>
                <a:xfrm flipV="1">
                  <a:off x="5407200" y="3590280"/>
                  <a:ext cx="188280" cy="150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559840" y="3603960"/>
                  <a:ext cx="293040" cy="135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5438880" y="3682080"/>
                  <a:ext cx="188280" cy="1497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5591520" y="3695400"/>
                  <a:ext cx="293400" cy="135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V="1">
                  <a:off x="5430240" y="3768120"/>
                  <a:ext cx="188280" cy="1497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582520" y="3781440"/>
                  <a:ext cx="293400" cy="135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 name=""/>
              <p:cNvGrpSpPr/>
              <p:nvPr/>
            </p:nvGrpSpPr>
            <p:grpSpPr>
              <a:xfrm>
                <a:off x="5027760" y="3751200"/>
                <a:ext cx="437400" cy="443520"/>
                <a:chOff x="5027760" y="3751200"/>
                <a:chExt cx="437400" cy="443520"/>
              </a:xfrm>
            </p:grpSpPr>
            <p:sp>
              <p:nvSpPr>
                <p:cNvPr id="192" name=""/>
                <p:cNvSpPr/>
                <p:nvPr/>
              </p:nvSpPr>
              <p:spPr>
                <a:xfrm flipH="1">
                  <a:off x="5127480" y="3756600"/>
                  <a:ext cx="240480" cy="7200"/>
                </a:xfrm>
                <a:prstGeom prst="line">
                  <a:avLst/>
                </a:prstGeom>
                <a:ln w="38160">
                  <a:solidFill>
                    <a:srgbClr val="33cc33"/>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93" name=""/>
                <p:cNvSpPr/>
                <p:nvPr/>
              </p:nvSpPr>
              <p:spPr>
                <a:xfrm flipH="1">
                  <a:off x="5027760" y="3751200"/>
                  <a:ext cx="135360" cy="29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a:off x="5162760" y="3846600"/>
                  <a:ext cx="240120" cy="7560"/>
                </a:xfrm>
                <a:prstGeom prst="line">
                  <a:avLst/>
                </a:prstGeom>
                <a:ln w="38160">
                  <a:solidFill>
                    <a:srgbClr val="33cc33"/>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5" name=""/>
                <p:cNvSpPr/>
                <p:nvPr/>
              </p:nvSpPr>
              <p:spPr>
                <a:xfrm flipH="1">
                  <a:off x="5062680" y="3841560"/>
                  <a:ext cx="135360" cy="29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H="1">
                  <a:off x="5225040" y="3906720"/>
                  <a:ext cx="240120" cy="7560"/>
                </a:xfrm>
                <a:prstGeom prst="line">
                  <a:avLst/>
                </a:prstGeom>
                <a:ln w="38160">
                  <a:solidFill>
                    <a:srgbClr val="33cc33"/>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flipH="1">
                  <a:off x="5125320" y="3901320"/>
                  <a:ext cx="135360" cy="29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8" name=""/>
            <p:cNvSpPr/>
            <p:nvPr/>
          </p:nvSpPr>
          <p:spPr>
            <a:xfrm>
              <a:off x="5152680" y="3097440"/>
              <a:ext cx="159480" cy="3808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9" name=""/>
          <p:cNvSpPr/>
          <p:nvPr/>
        </p:nvSpPr>
        <p:spPr>
          <a:xfrm>
            <a:off x="287280" y="2276640"/>
            <a:ext cx="2664000" cy="173016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irus replicates itself within the cell. The copies of the virus then burst out of the cell and move on to infect other cells.</a:t>
            </a:r>
            <a:endParaRPr b="0" lang="en-US" sz="2400" spc="-1" strike="noStrike">
              <a:solidFill>
                <a:srgbClr val="ffffff"/>
              </a:solidFill>
              <a:latin typeface="Times New Roman"/>
            </a:endParaRPr>
          </a:p>
        </p:txBody>
      </p:sp>
      <p:sp>
        <p:nvSpPr>
          <p:cNvPr id="200" name=""/>
          <p:cNvSpPr/>
          <p:nvPr/>
        </p:nvSpPr>
        <p:spPr>
          <a:xfrm>
            <a:off x="6119640" y="5664240"/>
            <a:ext cx="2808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Arial"/>
                <a:hlinkClick r:id="rId2"/>
              </a:rPr>
              <a:t>See our online curriculum</a:t>
            </a:r>
            <a:r>
              <a:rPr b="0" lang="en-US" sz="1600" spc="-1" strike="noStrike" u="sng">
                <a:solidFill>
                  <a:srgbClr val="ffffff"/>
                </a:solidFill>
                <a:uFillTx/>
                <a:latin typeface="Arial"/>
              </a:rPr>
              <a:t> to learn more about nerve cells and the nervous system.</a:t>
            </a:r>
            <a:endParaRPr b="0" lang="en-US" sz="1600" spc="-1" strike="noStrike">
              <a:solidFill>
                <a:srgbClr val="ffffff"/>
              </a:solidFill>
              <a:latin typeface="Times New Roman"/>
            </a:endParaRPr>
          </a:p>
        </p:txBody>
      </p:sp>
      <p:sp>
        <p:nvSpPr>
          <p:cNvPr id="2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6.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00295 0.01873 C 0.13038 -0.02521 0.25816 -0.06867 0.36024 -0.06729 C 0.46198 -0.0659 0.5724 0.01133 0.61406 0.02705 E">
                                      <p:cBhvr>
                                        <p:cTn id="6" dur="2000" fill="hold"/>
                                        <p:tgtEl>
                                          <p:spTgt spid="77"/>
                                        </p:tgtEl>
                                      </p:cBhvr>
                                    </p:animMotion>
                                  </p:childTnLst>
                                </p:cTn>
                              </p:par>
                              <p:par>
                                <p:cTn id="7" nodeType="withEffect" fill="hold" presetClass="entr" presetID="10">
                                  <p:stCondLst>
                                    <p:cond delay="0"/>
                                  </p:stCondLst>
                                  <p:childTnLst>
                                    <p:set>
                                      <p:cBhvr>
                                        <p:cTn id="8" dur="1" fill="hold">
                                          <p:stCondLst>
                                            <p:cond delay="0"/>
                                          </p:stCondLst>
                                        </p:cTn>
                                        <p:tgtEl>
                                          <p:spTgt spid="76">
                                            <p:txEl>
                                              <p:pRg st="0" end="0"/>
                                            </p:txEl>
                                          </p:spTgt>
                                        </p:tgtEl>
                                        <p:attrNameLst>
                                          <p:attrName>style.visibility</p:attrName>
                                        </p:attrNameLst>
                                      </p:cBhvr>
                                      <p:to>
                                        <p:strVal val="visible"/>
                                      </p:to>
                                    </p:set>
                                    <p:animEffect filter="fade" transition="in">
                                      <p:cBhvr additive="repl">
                                        <p:cTn id="9" dur="1000"/>
                                        <p:tgtEl>
                                          <p:spTgt spid="7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
                                  <p:stCondLst>
                                    <p:cond delay="0"/>
                                  </p:stCondLst>
                                  <p:childTnLst>
                                    <p:set>
                                      <p:cBhvr>
                                        <p:cTn id="13" dur="1" fill="hold">
                                          <p:stCondLst>
                                            <p:cond delay="0"/>
                                          </p:stCondLst>
                                        </p:cTn>
                                        <p:tgtEl>
                                          <p:spTgt spid="77"/>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76">
                                            <p:txEl>
                                              <p:pRg st="0" end="0"/>
                                            </p:txEl>
                                          </p:spTgt>
                                        </p:tgtEl>
                                      </p:cBhvr>
                                    </p:animEffect>
                                    <p:set>
                                      <p:cBhvr>
                                        <p:cTn id="16" dur="1" fill="hold">
                                          <p:stCondLst>
                                            <p:cond delay="999"/>
                                          </p:stCondLst>
                                        </p:cTn>
                                        <p:tgtEl>
                                          <p:spTgt spid="76">
                                            <p:txEl>
                                              <p:pRg st="0" end="0"/>
                                            </p:txEl>
                                          </p:spTgt>
                                        </p:tgtEl>
                                        <p:attrNameLst>
                                          <p:attrName>style.visibility</p:attrName>
                                        </p:attrNameLst>
                                      </p:cBhvr>
                                      <p:to>
                                        <p:strVal val="hidden"/>
                                      </p:to>
                                    </p:set>
                                  </p:childTnLst>
                                </p:cTn>
                              </p:par>
                              <p:par>
                                <p:cTn id="17" nodeType="withEffect" fill="hold" presetClass="entr" presetID="10">
                                  <p:stCondLst>
                                    <p:cond delay="0"/>
                                  </p:stCondLst>
                                  <p:childTnLst>
                                    <p:set>
                                      <p:cBhvr>
                                        <p:cTn id="18"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9" dur="1000"/>
                                        <p:tgtEl>
                                          <p:spTgt spid="199">
                                            <p:txEl>
                                              <p:pRg st="0" end="0"/>
                                            </p:txEl>
                                          </p:spTgt>
                                        </p:tgtEl>
                                      </p:cBhvr>
                                    </p:animEffect>
                                  </p:childTnLst>
                                </p:cTn>
                              </p:par>
                              <p:par>
                                <p:cTn id="20" nodeType="withEffect" fill="hold" presetClass="entr" presetID="1">
                                  <p:stCondLst>
                                    <p:cond delay="0"/>
                                  </p:stCondLst>
                                  <p:childTnLst>
                                    <p:set>
                                      <p:cBhvr>
                                        <p:cTn id="21" dur="1" fill="hold">
                                          <p:stCondLst>
                                            <p:cond delay="0"/>
                                          </p:stCondLst>
                                        </p:cTn>
                                        <p:tgtEl>
                                          <p:spTgt spid="97"/>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115"/>
                                        </p:tgtEl>
                                        <p:attrNameLst>
                                          <p:attrName>style.visibility</p:attrName>
                                        </p:attrNameLst>
                                      </p:cBhvr>
                                      <p:to>
                                        <p:strVal val="visible"/>
                                      </p:to>
                                    </p:set>
                                  </p:childTnLst>
                                </p:cTn>
                              </p:par>
                              <p:par>
                                <p:cTn id="24" nodeType="withEffect" fill="hold" presetClass="path" presetID="49">
                                  <p:stCondLst>
                                    <p:cond delay="0"/>
                                  </p:stCondLst>
                                  <p:childTnLst>
                                    <p:animMotion origin="layout" path="M -1.66667E-006 6.93642E-007 L 0.04254 0.15098 E">
                                      <p:cBhvr>
                                        <p:cTn id="25" dur="1000" fill="hold"/>
                                        <p:tgtEl>
                                          <p:spTgt spid="115"/>
                                        </p:tgtEl>
                                      </p:cBhvr>
                                    </p:animMotion>
                                  </p:childTnLst>
                                </p:cTn>
                              </p:par>
                            </p:childTnLst>
                          </p:cTn>
                        </p:par>
                        <p:par>
                          <p:cTn id="26" fill="hold">
                            <p:stCondLst>
                              <p:cond delay="1000"/>
                            </p:stCondLst>
                            <p:childTnLst>
                              <p:par>
                                <p:cTn id="27" nodeType="afterEffect" fill="hold" presetClass="entr" presetID="49" repeatCount="1000">
                                  <p:stCondLst>
                                    <p:cond delay="0"/>
                                  </p:stCondLst>
                                  <p:childTnLst>
                                    <p:set>
                                      <p:cBhvr>
                                        <p:cTn id="28" dur="1" fill="hold">
                                          <p:stCondLst>
                                            <p:cond delay="0"/>
                                          </p:stCondLst>
                                        </p:cTn>
                                        <p:tgtEl>
                                          <p:spTgt spid="116"/>
                                        </p:tgtEl>
                                        <p:attrNameLst>
                                          <p:attrName>style.visibility</p:attrName>
                                        </p:attrNameLst>
                                      </p:cBhvr>
                                      <p:to>
                                        <p:strVal val="visible"/>
                                      </p:to>
                                    </p:set>
                                    <p:anim calcmode="lin" valueType="num">
                                      <p:cBhvr additive="repl">
                                        <p:cTn id="29" dur="500" fill="hold"/>
                                        <p:tgtEl>
                                          <p:spTgt spid="116"/>
                                        </p:tgtEl>
                                        <p:attrNameLst>
                                          <p:attrName>ppt_w</p:attrName>
                                        </p:attrNameLst>
                                      </p:cBhvr>
                                      <p:tavLst>
                                        <p:tav tm="0">
                                          <p:val>
                                            <p:fltVal val="0"/>
                                          </p:val>
                                        </p:tav>
                                        <p:tav tm="100000">
                                          <p:val>
                                            <p:strVal val="#ppt_w"/>
                                          </p:val>
                                        </p:tav>
                                      </p:tavLst>
                                    </p:anim>
                                    <p:anim calcmode="lin" valueType="num">
                                      <p:cBhvr additive="repl">
                                        <p:cTn id="30" dur="500" fill="hold"/>
                                        <p:tgtEl>
                                          <p:spTgt spid="116"/>
                                        </p:tgtEl>
                                        <p:attrNameLst>
                                          <p:attrName>ppt_h</p:attrName>
                                        </p:attrNameLst>
                                      </p:cBhvr>
                                      <p:tavLst>
                                        <p:tav tm="0">
                                          <p:val>
                                            <p:fltVal val="0"/>
                                          </p:val>
                                        </p:tav>
                                        <p:tav tm="100000">
                                          <p:val>
                                            <p:strVal val="#ppt_h"/>
                                          </p:val>
                                        </p:tav>
                                      </p:tavLst>
                                    </p:anim>
                                    <p:anim calcmode="lin" valueType="num">
                                      <p:cBhvr additive="repl">
                                        <p:cTn id="31" dur="500" fill="hold"/>
                                        <p:tgtEl>
                                          <p:spTgt spid="116"/>
                                        </p:tgtEl>
                                        <p:attrNameLst>
                                          <p:attrName>r</p:attrName>
                                        </p:attrNameLst>
                                      </p:cBhvr>
                                      <p:tavLst>
                                        <p:tav tm="0">
                                          <p:val>
                                            <p:strVal val="360"/>
                                          </p:val>
                                        </p:tav>
                                        <p:tav tm="100000">
                                          <p:val>
                                            <p:strVal val="0"/>
                                          </p:val>
                                        </p:tav>
                                      </p:tavLst>
                                    </p:anim>
                                    <p:animEffect filter="fade" transition="in">
                                      <p:cBhvr additive="repl">
                                        <p:cTn id="32" dur="500"/>
                                        <p:tgtEl>
                                          <p:spTgt spid="116"/>
                                        </p:tgtEl>
                                      </p:cBhvr>
                                    </p:animEffect>
                                  </p:childTnLst>
                                </p:cTn>
                              </p:par>
                              <p:par>
                                <p:cTn id="33" nodeType="withEffect" fill="hold" presetClass="entr" presetID="49" repeatCount="1000">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500" fill="hold"/>
                                        <p:tgtEl>
                                          <p:spTgt spid="117"/>
                                        </p:tgtEl>
                                        <p:attrNameLst>
                                          <p:attrName>ppt_w</p:attrName>
                                        </p:attrNameLst>
                                      </p:cBhvr>
                                      <p:tavLst>
                                        <p:tav tm="0">
                                          <p:val>
                                            <p:fltVal val="0"/>
                                          </p:val>
                                        </p:tav>
                                        <p:tav tm="100000">
                                          <p:val>
                                            <p:strVal val="#ppt_w"/>
                                          </p:val>
                                        </p:tav>
                                      </p:tavLst>
                                    </p:anim>
                                    <p:anim calcmode="lin" valueType="num">
                                      <p:cBhvr additive="repl">
                                        <p:cTn id="36" dur="500" fill="hold"/>
                                        <p:tgtEl>
                                          <p:spTgt spid="117"/>
                                        </p:tgtEl>
                                        <p:attrNameLst>
                                          <p:attrName>ppt_h</p:attrName>
                                        </p:attrNameLst>
                                      </p:cBhvr>
                                      <p:tavLst>
                                        <p:tav tm="0">
                                          <p:val>
                                            <p:fltVal val="0"/>
                                          </p:val>
                                        </p:tav>
                                        <p:tav tm="100000">
                                          <p:val>
                                            <p:strVal val="#ppt_h"/>
                                          </p:val>
                                        </p:tav>
                                      </p:tavLst>
                                    </p:anim>
                                    <p:anim calcmode="lin" valueType="num">
                                      <p:cBhvr additive="repl">
                                        <p:cTn id="37" dur="500" fill="hold"/>
                                        <p:tgtEl>
                                          <p:spTgt spid="117"/>
                                        </p:tgtEl>
                                        <p:attrNameLst>
                                          <p:attrName>r</p:attrName>
                                        </p:attrNameLst>
                                      </p:cBhvr>
                                      <p:tavLst>
                                        <p:tav tm="0">
                                          <p:val>
                                            <p:strVal val="360"/>
                                          </p:val>
                                        </p:tav>
                                        <p:tav tm="100000">
                                          <p:val>
                                            <p:strVal val="0"/>
                                          </p:val>
                                        </p:tav>
                                      </p:tavLst>
                                    </p:anim>
                                    <p:animEffect filter="fade" transition="in">
                                      <p:cBhvr additive="repl">
                                        <p:cTn id="38" dur="500"/>
                                        <p:tgtEl>
                                          <p:spTgt spid="117"/>
                                        </p:tgtEl>
                                      </p:cBhvr>
                                    </p:animEffect>
                                  </p:childTnLst>
                                </p:cTn>
                              </p:par>
                              <p:par>
                                <p:cTn id="39" nodeType="withEffect" fill="hold" presetClass="entr" presetID="49" repeatCount="1000">
                                  <p:stCondLst>
                                    <p:cond delay="0"/>
                                  </p:stCondLst>
                                  <p:childTnLst>
                                    <p:set>
                                      <p:cBhvr>
                                        <p:cTn id="40" dur="1" fill="hold">
                                          <p:stCondLst>
                                            <p:cond delay="0"/>
                                          </p:stCondLst>
                                        </p:cTn>
                                        <p:tgtEl>
                                          <p:spTgt spid="118"/>
                                        </p:tgtEl>
                                        <p:attrNameLst>
                                          <p:attrName>style.visibility</p:attrName>
                                        </p:attrNameLst>
                                      </p:cBhvr>
                                      <p:to>
                                        <p:strVal val="visible"/>
                                      </p:to>
                                    </p:set>
                                    <p:anim calcmode="lin" valueType="num">
                                      <p:cBhvr additive="repl">
                                        <p:cTn id="41" dur="500" fill="hold"/>
                                        <p:tgtEl>
                                          <p:spTgt spid="118"/>
                                        </p:tgtEl>
                                        <p:attrNameLst>
                                          <p:attrName>ppt_w</p:attrName>
                                        </p:attrNameLst>
                                      </p:cBhvr>
                                      <p:tavLst>
                                        <p:tav tm="0">
                                          <p:val>
                                            <p:fltVal val="0"/>
                                          </p:val>
                                        </p:tav>
                                        <p:tav tm="100000">
                                          <p:val>
                                            <p:strVal val="#ppt_w"/>
                                          </p:val>
                                        </p:tav>
                                      </p:tavLst>
                                    </p:anim>
                                    <p:anim calcmode="lin" valueType="num">
                                      <p:cBhvr additive="repl">
                                        <p:cTn id="42" dur="500" fill="hold"/>
                                        <p:tgtEl>
                                          <p:spTgt spid="118"/>
                                        </p:tgtEl>
                                        <p:attrNameLst>
                                          <p:attrName>ppt_h</p:attrName>
                                        </p:attrNameLst>
                                      </p:cBhvr>
                                      <p:tavLst>
                                        <p:tav tm="0">
                                          <p:val>
                                            <p:fltVal val="0"/>
                                          </p:val>
                                        </p:tav>
                                        <p:tav tm="100000">
                                          <p:val>
                                            <p:strVal val="#ppt_h"/>
                                          </p:val>
                                        </p:tav>
                                      </p:tavLst>
                                    </p:anim>
                                    <p:anim calcmode="lin" valueType="num">
                                      <p:cBhvr additive="repl">
                                        <p:cTn id="43" dur="500" fill="hold"/>
                                        <p:tgtEl>
                                          <p:spTgt spid="118"/>
                                        </p:tgtEl>
                                        <p:attrNameLst>
                                          <p:attrName>r</p:attrName>
                                        </p:attrNameLst>
                                      </p:cBhvr>
                                      <p:tavLst>
                                        <p:tav tm="0">
                                          <p:val>
                                            <p:strVal val="360"/>
                                          </p:val>
                                        </p:tav>
                                        <p:tav tm="100000">
                                          <p:val>
                                            <p:strVal val="0"/>
                                          </p:val>
                                        </p:tav>
                                      </p:tavLst>
                                    </p:anim>
                                    <p:animEffect filter="fade" transition="in">
                                      <p:cBhvr additive="repl">
                                        <p:cTn id="44" dur="500"/>
                                        <p:tgtEl>
                                          <p:spTgt spid="118"/>
                                        </p:tgtEl>
                                      </p:cBhvr>
                                    </p:animEffect>
                                  </p:childTnLst>
                                </p:cTn>
                              </p:par>
                            </p:childTnLst>
                          </p:cTn>
                        </p:par>
                        <p:par>
                          <p:cTn id="45" fill="hold">
                            <p:stCondLst>
                              <p:cond delay="1500"/>
                            </p:stCondLst>
                            <p:childTnLst>
                              <p:par>
                                <p:cTn id="46" nodeType="afterEffect" fill="hold" presetClass="path" presetID="35">
                                  <p:stCondLst>
                                    <p:cond delay="0"/>
                                  </p:stCondLst>
                                  <p:childTnLst>
                                    <p:animMotion origin="layout" path="M -4.16667E-006 4.73988E-006 L -0.02048 0.06474 E">
                                      <p:cBhvr>
                                        <p:cTn id="47" dur="2000" fill="hold"/>
                                        <p:tgtEl>
                                          <p:spTgt spid="118"/>
                                        </p:tgtEl>
                                      </p:cBhvr>
                                    </p:animMotion>
                                  </p:childTnLst>
                                </p:cTn>
                              </p:par>
                              <p:par>
                                <p:cTn id="48" nodeType="withEffect" fill="hold" presetClass="path" presetID="63">
                                  <p:stCondLst>
                                    <p:cond delay="0"/>
                                  </p:stCondLst>
                                  <p:childTnLst>
                                    <p:animMotion origin="layout" path="M -1.94444E-006 3.69942E-006 L 0.07344 0.05595 E">
                                      <p:cBhvr>
                                        <p:cTn id="49" dur="2000" fill="hold"/>
                                        <p:tgtEl>
                                          <p:spTgt spid="117"/>
                                        </p:tgtEl>
                                      </p:cBhvr>
                                    </p:animMotion>
                                  </p:childTnLst>
                                </p:cTn>
                              </p:par>
                              <p:par>
                                <p:cTn id="50" nodeType="withEffect" fill="hold" presetClass="path" presetID="49">
                                  <p:stCondLst>
                                    <p:cond delay="0"/>
                                  </p:stCondLst>
                                  <p:childTnLst>
                                    <p:animMotion origin="layout" path="M 4.72222E-006 3.64162E-006 L 0.02013 0.07514 E">
                                      <p:cBhvr>
                                        <p:cTn id="51" dur="2000" fill="hold"/>
                                        <p:tgtEl>
                                          <p:spTgt spid="116"/>
                                        </p:tgtEl>
                                      </p:cBhvr>
                                    </p:animMotion>
                                  </p:childTnLst>
                                </p:cTn>
                              </p:par>
                            </p:childTnLst>
                          </p:cTn>
                        </p:par>
                        <p:par>
                          <p:cTn id="52" fill="hold">
                            <p:stCondLst>
                              <p:cond delay="3500"/>
                            </p:stCondLst>
                            <p:childTnLst>
                              <p:par>
                                <p:cTn id="53" nodeType="afterEffect" fill="hold" presetClass="path" presetID="0">
                                  <p:stCondLst>
                                    <p:cond delay="0"/>
                                  </p:stCondLst>
                                  <p:childTnLst>
                                    <p:animMotion origin="layout" path="M 0 -0.00531 C -0.11198 -0.02844 -0.22378 -0.05133 -0.32882 0.01573 C -0.43368 0.08301 -0.57951 0.3348 -0.62969 0.39862 E">
                                      <p:cBhvr>
                                        <p:cTn id="54" dur="2000" fill="hold"/>
                                        <p:tgtEl>
                                          <p:spTgt spid="97"/>
                                        </p:tgtEl>
                                      </p:cBhvr>
                                    </p:animMotion>
                                  </p:childTnLst>
                                </p:cTn>
                              </p:par>
                            </p:childTnLst>
                          </p:cTn>
                        </p:par>
                        <p:par>
                          <p:cTn id="55" fill="hold">
                            <p:stCondLst>
                              <p:cond delay="5500"/>
                            </p:stCondLst>
                            <p:childTnLst>
                              <p:par>
                                <p:cTn id="56" nodeType="afterEffect" fill="hold" presetClass="exit" presetID="10">
                                  <p:stCondLst>
                                    <p:cond delay="0"/>
                                  </p:stCondLst>
                                  <p:childTnLst>
                                    <p:animEffect filter="fade" transition="out">
                                      <p:cBhvr additive="repl">
                                        <p:cTn id="57" dur="1000"/>
                                        <p:tgtEl>
                                          <p:spTgt spid="117"/>
                                        </p:tgtEl>
                                      </p:cBhvr>
                                    </p:animEffect>
                                    <p:set>
                                      <p:cBhvr>
                                        <p:cTn id="58" dur="1" fill="hold">
                                          <p:stCondLst>
                                            <p:cond delay="999"/>
                                          </p:stCondLst>
                                        </p:cTn>
                                        <p:tgtEl>
                                          <p:spTgt spid="117"/>
                                        </p:tgtEl>
                                        <p:attrNameLst>
                                          <p:attrName>style.visibility</p:attrName>
                                        </p:attrNameLst>
                                      </p:cBhvr>
                                      <p:to>
                                        <p:strVal val="hidden"/>
                                      </p:to>
                                    </p:set>
                                  </p:childTnLst>
                                </p:cTn>
                              </p:par>
                              <p:par>
                                <p:cTn id="59" nodeType="withEffect" fill="hold" presetClass="exit" presetID="10">
                                  <p:stCondLst>
                                    <p:cond delay="0"/>
                                  </p:stCondLst>
                                  <p:childTnLst>
                                    <p:animEffect filter="fade" transition="out">
                                      <p:cBhvr additive="repl">
                                        <p:cTn id="60" dur="1000"/>
                                        <p:tgtEl>
                                          <p:spTgt spid="116"/>
                                        </p:tgtEl>
                                      </p:cBhvr>
                                    </p:animEffect>
                                    <p:set>
                                      <p:cBhvr>
                                        <p:cTn id="61" dur="1" fill="hold">
                                          <p:stCondLst>
                                            <p:cond delay="999"/>
                                          </p:stCondLst>
                                        </p:cTn>
                                        <p:tgtEl>
                                          <p:spTgt spid="116"/>
                                        </p:tgtEl>
                                        <p:attrNameLst>
                                          <p:attrName>style.visibility</p:attrName>
                                        </p:attrNameLst>
                                      </p:cBhvr>
                                      <p:to>
                                        <p:strVal val="hidden"/>
                                      </p:to>
                                    </p:set>
                                  </p:childTnLst>
                                </p:cTn>
                              </p:par>
                              <p:par>
                                <p:cTn id="62" nodeType="withEffect" fill="hold" presetClass="exit" presetID="10">
                                  <p:stCondLst>
                                    <p:cond delay="0"/>
                                  </p:stCondLst>
                                  <p:childTnLst>
                                    <p:animEffect filter="fade" transition="out">
                                      <p:cBhvr additive="repl">
                                        <p:cTn id="63" dur="1000"/>
                                        <p:tgtEl>
                                          <p:spTgt spid="118"/>
                                        </p:tgtEl>
                                      </p:cBhvr>
                                    </p:animEffect>
                                    <p:set>
                                      <p:cBhvr>
                                        <p:cTn id="64" dur="1" fill="hold">
                                          <p:stCondLst>
                                            <p:cond delay="999"/>
                                          </p:stCondLst>
                                        </p:cTn>
                                        <p:tgtEl>
                                          <p:spTgt spid="118"/>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15"/>
                                        </p:tgtEl>
                                        <p:attrNameLst>
                                          <p:attrName>style.visibility</p:attrName>
                                        </p:attrNameLst>
                                      </p:cBhvr>
                                      <p:to>
                                        <p:strVal val="hidden"/>
                                      </p:to>
                                    </p:set>
                                  </p:childTnLst>
                                </p:cTn>
                              </p:par>
                              <p:par>
                                <p:cTn id="67" nodeType="withEffect" fill="hold" presetClass="entr" presetID="10">
                                  <p:stCondLst>
                                    <p:cond delay="0"/>
                                  </p:stCondLst>
                                  <p:childTnLst>
                                    <p:set>
                                      <p:cBhvr>
                                        <p:cTn id="68" dur="1" fill="hold">
                                          <p:stCondLst>
                                            <p:cond delay="0"/>
                                          </p:stCondLst>
                                        </p:cTn>
                                        <p:tgtEl>
                                          <p:spTgt spid="159"/>
                                        </p:tgtEl>
                                        <p:attrNameLst>
                                          <p:attrName>style.visibility</p:attrName>
                                        </p:attrNameLst>
                                      </p:cBhvr>
                                      <p:to>
                                        <p:strVal val="visible"/>
                                      </p:to>
                                    </p:set>
                                    <p:animEffect filter="fade" transition="in">
                                      <p:cBhvr additive="repl">
                                        <p:cTn id="69" dur="500"/>
                                        <p:tgtEl>
                                          <p:spTgt spid="159"/>
                                        </p:tgtEl>
                                      </p:cBhvr>
                                    </p:animEffect>
                                  </p:childTnLst>
                                </p:cTn>
                              </p:par>
                              <p:par>
                                <p:cTn id="70" nodeType="withEffect" fill="hold" presetClass="entr" presetID="10">
                                  <p:stCondLst>
                                    <p:cond delay="0"/>
                                  </p:stCondLst>
                                  <p:childTnLst>
                                    <p:set>
                                      <p:cBhvr>
                                        <p:cTn id="71" dur="1" fill="hold">
                                          <p:stCondLst>
                                            <p:cond delay="0"/>
                                          </p:stCondLst>
                                        </p:cTn>
                                        <p:tgtEl>
                                          <p:spTgt spid="139"/>
                                        </p:tgtEl>
                                        <p:attrNameLst>
                                          <p:attrName>style.visibility</p:attrName>
                                        </p:attrNameLst>
                                      </p:cBhvr>
                                      <p:to>
                                        <p:strVal val="visible"/>
                                      </p:to>
                                    </p:set>
                                    <p:animEffect filter="fade" transition="in">
                                      <p:cBhvr additive="repl">
                                        <p:cTn id="72" dur="500"/>
                                        <p:tgtEl>
                                          <p:spTgt spid="139"/>
                                        </p:tgtEl>
                                      </p:cBhvr>
                                    </p:animEffect>
                                  </p:childTnLst>
                                </p:cTn>
                              </p:par>
                              <p:par>
                                <p:cTn id="73" nodeType="withEffect" fill="hold" presetClass="entr" presetID="10">
                                  <p:stCondLst>
                                    <p:cond delay="0"/>
                                  </p:stCondLst>
                                  <p:childTnLst>
                                    <p:set>
                                      <p:cBhvr>
                                        <p:cTn id="74" dur="1" fill="hold">
                                          <p:stCondLst>
                                            <p:cond delay="0"/>
                                          </p:stCondLst>
                                        </p:cTn>
                                        <p:tgtEl>
                                          <p:spTgt spid="119"/>
                                        </p:tgtEl>
                                        <p:attrNameLst>
                                          <p:attrName>style.visibility</p:attrName>
                                        </p:attrNameLst>
                                      </p:cBhvr>
                                      <p:to>
                                        <p:strVal val="visible"/>
                                      </p:to>
                                    </p:set>
                                    <p:animEffect filter="fade" transition="in">
                                      <p:cBhvr additive="repl">
                                        <p:cTn id="75" dur="500"/>
                                        <p:tgtEl>
                                          <p:spTgt spid="119"/>
                                        </p:tgtEl>
                                      </p:cBhvr>
                                    </p:animEffect>
                                  </p:childTnLst>
                                </p:cTn>
                              </p:par>
                              <p:par>
                                <p:cTn id="76" nodeType="withEffect" fill="hold" presetClass="entr" presetID="10">
                                  <p:stCondLst>
                                    <p:cond delay="0"/>
                                  </p:stCondLst>
                                  <p:childTnLst>
                                    <p:set>
                                      <p:cBhvr>
                                        <p:cTn id="77" dur="1" fill="hold">
                                          <p:stCondLst>
                                            <p:cond delay="0"/>
                                          </p:stCondLst>
                                        </p:cTn>
                                        <p:tgtEl>
                                          <p:spTgt spid="179"/>
                                        </p:tgtEl>
                                        <p:attrNameLst>
                                          <p:attrName>style.visibility</p:attrName>
                                        </p:attrNameLst>
                                      </p:cBhvr>
                                      <p:to>
                                        <p:strVal val="visible"/>
                                      </p:to>
                                    </p:set>
                                    <p:animEffect filter="fade" transition="in">
                                      <p:cBhvr additive="repl">
                                        <p:cTn id="78" dur="500"/>
                                        <p:tgtEl>
                                          <p:spTgt spid="179"/>
                                        </p:tgtEl>
                                      </p:cBhvr>
                                    </p:animEffect>
                                  </p:childTnLst>
                                </p:cTn>
                              </p:par>
                            </p:childTnLst>
                          </p:cTn>
                        </p:par>
                        <p:par>
                          <p:cTn id="79" fill="hold">
                            <p:stCondLst>
                              <p:cond delay="6500"/>
                            </p:stCondLst>
                            <p:childTnLst>
                              <p:par>
                                <p:cTn id="80" nodeType="afterEffect" fill="hold" presetClass="entr" presetID="10">
                                  <p:stCondLst>
                                    <p:cond delay="0"/>
                                  </p:stCondLst>
                                  <p:childTnLst>
                                    <p:audio isNarration="0">
                                      <p:cMediaNode showWhenStopped="1">
                                        <p:cTn/>
                                        <p:tgtEl>
                                          <p:sndTgt r:embed="rId3" name="suction.wav"/>
                                        </p:tgtEl>
                                      </p:cMediaNode>
                                    </p:audio>
                                    <p:set>
                                      <p:cBhvr>
                                        <p:cTn id="81" dur="1" fill="hold">
                                          <p:stCondLst>
                                            <p:cond delay="0"/>
                                          </p:stCondLst>
                                        </p:cTn>
                                        <p:tgtEl>
                                          <p:spTgt spid="74"/>
                                        </p:tgtEl>
                                        <p:attrNameLst>
                                          <p:attrName>style.visibility</p:attrName>
                                        </p:attrNameLst>
                                      </p:cBhvr>
                                      <p:to>
                                        <p:strVal val="visible"/>
                                      </p:to>
                                    </p:set>
                                    <p:animEffect filter="fade" transition="in">
                                      <p:cBhvr additive="repl">
                                        <p:cTn id="82" dur="500"/>
                                        <p:tgtEl>
                                          <p:spTgt spid="74"/>
                                        </p:tgtEl>
                                      </p:cBhvr>
                                    </p:animEffect>
                                  </p:childTnLst>
                                </p:cTn>
                              </p:par>
                              <p:par>
                                <p:cTn id="83" nodeType="withEffect" fill="hold" presetClass="path" presetID="49">
                                  <p:stCondLst>
                                    <p:cond delay="0"/>
                                  </p:stCondLst>
                                  <p:childTnLst>
                                    <p:animMotion origin="layout" path="M 0.00521 -0.00763 L -0.19636 0.54937 E">
                                      <p:cBhvr>
                                        <p:cTn id="84" dur="2000" fill="hold"/>
                                        <p:tgtEl>
                                          <p:spTgt spid="119"/>
                                        </p:tgtEl>
                                      </p:cBhvr>
                                    </p:animMotion>
                                  </p:childTnLst>
                                </p:cTn>
                              </p:par>
                              <p:par>
                                <p:cTn id="85" nodeType="withEffect" fill="hold" presetClass="path" presetID="49">
                                  <p:stCondLst>
                                    <p:cond delay="1000"/>
                                  </p:stCondLst>
                                  <p:childTnLst>
                                    <p:animMotion origin="layout" path="M -0.00174 -0.01665 L -0.37674 0.48601 E">
                                      <p:cBhvr>
                                        <p:cTn id="86" dur="2000" fill="hold"/>
                                        <p:tgtEl>
                                          <p:spTgt spid="139"/>
                                        </p:tgtEl>
                                      </p:cBhvr>
                                    </p:animMotion>
                                  </p:childTnLst>
                                </p:cTn>
                              </p:par>
                              <p:par>
                                <p:cTn id="87" nodeType="withEffect" fill="hold" presetClass="path" presetID="49">
                                  <p:stCondLst>
                                    <p:cond delay="1500"/>
                                  </p:stCondLst>
                                  <p:childTnLst>
                                    <p:animMotion origin="layout" path="M 2.77778E-007 3.52601E-006 L -0.48628 0.59607 E">
                                      <p:cBhvr>
                                        <p:cTn id="88" dur="2000" fill="hold"/>
                                        <p:tgtEl>
                                          <p:spTgt spid="159"/>
                                        </p:tgtEl>
                                      </p:cBhvr>
                                    </p:animMotion>
                                  </p:childTnLst>
                                </p:cTn>
                              </p:par>
                              <p:par>
                                <p:cTn id="89" nodeType="withEffect" fill="hold" presetClass="path" presetID="49">
                                  <p:stCondLst>
                                    <p:cond delay="2000"/>
                                  </p:stCondLst>
                                  <p:childTnLst>
                                    <p:animMotion origin="layout" path="M -0.01146 -0.03098 L -0.20121 0.63376 E">
                                      <p:cBhvr>
                                        <p:cTn id="90" dur="2000" fill="hold"/>
                                        <p:tgtEl>
                                          <p:spTgt spid="179"/>
                                        </p:tgtEl>
                                      </p:cBhvr>
                                    </p:animMotion>
                                  </p:childTnLst>
                                </p:cTn>
                              </p:par>
                            </p:childTnLst>
                          </p:cTn>
                        </p:par>
                        <p:par>
                          <p:cTn id="91" fill="hold">
                            <p:stCondLst>
                              <p:cond delay="10500"/>
                            </p:stCondLst>
                            <p:childTnLst>
                              <p:par>
                                <p:cTn id="92" nodeType="afterEffect" fill="hold" presetClass="emph" presetID="1" presetSubtype="2">
                                  <p:stCondLst>
                                    <p:cond delay="0"/>
                                  </p:stCondLst>
                                  <p:childTnLst>
                                    <p:animClr clrSpc="rgb">
                                      <p:cBhvr>
                                        <p:cTn id="93" dur="2000" fill="hold"/>
                                        <p:tgtEl>
                                          <p:spTgt spid="73"/>
                                        </p:tgtEl>
                                        <p:attrNameLst>
                                          <p:attrName>fillcolor</p:attrName>
                                        </p:attrNameLst>
                                      </p:cBhvr>
                                      <p:to>
                                        <a:srgbClr val="c0c0c0"/>
                                      </p:to>
                                    </p:animClr>
                                    <p:set>
                                      <p:cBhvr>
                                        <p:cTn id="94" dur="2000" fill="hold"/>
                                        <p:tgtEl>
                                          <p:spTgt spid="73"/>
                                        </p:tgtEl>
                                        <p:attrNameLst>
                                          <p:attrName>fill.type</p:attrName>
                                        </p:attrNameLst>
                                      </p:cBhvr>
                                      <p:to>
                                        <p:strVal val="solid"/>
                                      </p:to>
                                    </p:set>
                                  </p:childTnLst>
                                </p:cTn>
                              </p:par>
                              <p:par>
                                <p:cTn id="95" nodeType="withEffect" fill="hold" presetClass="emph" presetID="1" presetSubtype="2">
                                  <p:stCondLst>
                                    <p:cond delay="0"/>
                                  </p:stCondLst>
                                  <p:childTnLst>
                                    <p:animClr clrSpc="rgb">
                                      <p:cBhvr>
                                        <p:cTn id="96" dur="2000" fill="hold"/>
                                        <p:tgtEl>
                                          <p:spTgt spid="74"/>
                                        </p:tgtEl>
                                        <p:attrNameLst>
                                          <p:attrName>fillcolor</p:attrName>
                                        </p:attrNameLst>
                                      </p:cBhvr>
                                      <p:to>
                                        <a:srgbClr val="c0c0c0"/>
                                      </p:to>
                                    </p:animClr>
                                    <p:set>
                                      <p:cBhvr>
                                        <p:cTn id="97" dur="2000" fill="hold"/>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Virus at Work</a:t>
            </a:r>
            <a:endParaRPr b="0" lang="en-US" sz="4400" spc="-1" strike="noStrike">
              <a:solidFill>
                <a:srgbClr val="ffffff"/>
              </a:solidFill>
              <a:latin typeface="Times New Roman"/>
            </a:endParaRPr>
          </a:p>
        </p:txBody>
      </p:sp>
      <p:grpSp>
        <p:nvGrpSpPr>
          <p:cNvPr id="203" name=""/>
          <p:cNvGrpSpPr/>
          <p:nvPr/>
        </p:nvGrpSpPr>
        <p:grpSpPr>
          <a:xfrm>
            <a:off x="-828720" y="252360"/>
            <a:ext cx="2849400" cy="7101000"/>
            <a:chOff x="-828720" y="252360"/>
            <a:chExt cx="2849400" cy="7101000"/>
          </a:xfrm>
        </p:grpSpPr>
        <p:sp>
          <p:nvSpPr>
            <p:cNvPr id="204" name=""/>
            <p:cNvSpPr/>
            <p:nvPr/>
          </p:nvSpPr>
          <p:spPr>
            <a:xfrm>
              <a:off x="-828720" y="1160640"/>
              <a:ext cx="2849400" cy="6192720"/>
            </a:xfrm>
            <a:custGeom>
              <a:avLst/>
              <a:gdLst/>
              <a:ahLst/>
              <a:rect l="l" t="t" r="r" b="b"/>
              <a:pathLst>
                <a:path w="1795" h="3901">
                  <a:moveTo>
                    <a:pt x="1460" y="259"/>
                  </a:moveTo>
                  <a:cubicBezTo>
                    <a:pt x="1454" y="341"/>
                    <a:pt x="1515" y="503"/>
                    <a:pt x="1487" y="579"/>
                  </a:cubicBezTo>
                  <a:cubicBezTo>
                    <a:pt x="1494" y="739"/>
                    <a:pt x="1404" y="806"/>
                    <a:pt x="1493" y="900"/>
                  </a:cubicBezTo>
                  <a:cubicBezTo>
                    <a:pt x="1496" y="946"/>
                    <a:pt x="1495" y="992"/>
                    <a:pt x="1503" y="1037"/>
                  </a:cubicBezTo>
                  <a:cubicBezTo>
                    <a:pt x="1505" y="1048"/>
                    <a:pt x="1517" y="1054"/>
                    <a:pt x="1521" y="1064"/>
                  </a:cubicBezTo>
                  <a:cubicBezTo>
                    <a:pt x="1540" y="1108"/>
                    <a:pt x="1561" y="1165"/>
                    <a:pt x="1576" y="1211"/>
                  </a:cubicBezTo>
                  <a:cubicBezTo>
                    <a:pt x="1579" y="1327"/>
                    <a:pt x="1584" y="1389"/>
                    <a:pt x="1595" y="1504"/>
                  </a:cubicBezTo>
                  <a:cubicBezTo>
                    <a:pt x="1596" y="1515"/>
                    <a:pt x="1581" y="1533"/>
                    <a:pt x="1612" y="1576"/>
                  </a:cubicBezTo>
                  <a:lnTo>
                    <a:pt x="1795" y="1904"/>
                  </a:lnTo>
                  <a:lnTo>
                    <a:pt x="1775" y="1928"/>
                  </a:lnTo>
                  <a:lnTo>
                    <a:pt x="1695" y="1844"/>
                  </a:lnTo>
                  <a:lnTo>
                    <a:pt x="1767" y="2044"/>
                  </a:lnTo>
                  <a:lnTo>
                    <a:pt x="1739" y="2052"/>
                  </a:lnTo>
                  <a:lnTo>
                    <a:pt x="1656" y="1860"/>
                  </a:lnTo>
                  <a:lnTo>
                    <a:pt x="1701" y="2109"/>
                  </a:lnTo>
                  <a:lnTo>
                    <a:pt x="1663" y="2104"/>
                  </a:lnTo>
                  <a:lnTo>
                    <a:pt x="1619" y="1924"/>
                  </a:lnTo>
                  <a:lnTo>
                    <a:pt x="1603" y="1952"/>
                  </a:lnTo>
                  <a:lnTo>
                    <a:pt x="1610" y="2109"/>
                  </a:lnTo>
                  <a:lnTo>
                    <a:pt x="1575" y="2120"/>
                  </a:lnTo>
                  <a:lnTo>
                    <a:pt x="1542" y="1950"/>
                  </a:lnTo>
                  <a:lnTo>
                    <a:pt x="1520" y="2064"/>
                  </a:lnTo>
                  <a:lnTo>
                    <a:pt x="1491" y="2052"/>
                  </a:lnTo>
                  <a:lnTo>
                    <a:pt x="1503" y="1848"/>
                  </a:lnTo>
                  <a:lnTo>
                    <a:pt x="1497" y="1678"/>
                  </a:lnTo>
                  <a:lnTo>
                    <a:pt x="1361" y="1383"/>
                  </a:lnTo>
                  <a:lnTo>
                    <a:pt x="1293" y="1247"/>
                  </a:lnTo>
                  <a:lnTo>
                    <a:pt x="1248" y="635"/>
                  </a:lnTo>
                  <a:lnTo>
                    <a:pt x="1225" y="1406"/>
                  </a:lnTo>
                  <a:lnTo>
                    <a:pt x="1316" y="1769"/>
                  </a:lnTo>
                  <a:lnTo>
                    <a:pt x="1316" y="2086"/>
                  </a:lnTo>
                  <a:lnTo>
                    <a:pt x="1248" y="2427"/>
                  </a:lnTo>
                  <a:lnTo>
                    <a:pt x="1202" y="2699"/>
                  </a:lnTo>
                  <a:lnTo>
                    <a:pt x="1248" y="2948"/>
                  </a:lnTo>
                  <a:lnTo>
                    <a:pt x="1248" y="3220"/>
                  </a:lnTo>
                  <a:lnTo>
                    <a:pt x="1112" y="3560"/>
                  </a:lnTo>
                  <a:lnTo>
                    <a:pt x="1112" y="3719"/>
                  </a:lnTo>
                  <a:lnTo>
                    <a:pt x="1157" y="3901"/>
                  </a:lnTo>
                  <a:lnTo>
                    <a:pt x="839" y="3901"/>
                  </a:lnTo>
                  <a:lnTo>
                    <a:pt x="907" y="3719"/>
                  </a:lnTo>
                  <a:lnTo>
                    <a:pt x="907" y="3606"/>
                  </a:lnTo>
                  <a:lnTo>
                    <a:pt x="953" y="3515"/>
                  </a:lnTo>
                  <a:lnTo>
                    <a:pt x="907" y="3152"/>
                  </a:lnTo>
                  <a:lnTo>
                    <a:pt x="930" y="2925"/>
                  </a:lnTo>
                  <a:lnTo>
                    <a:pt x="953" y="2721"/>
                  </a:lnTo>
                  <a:lnTo>
                    <a:pt x="862" y="2222"/>
                  </a:lnTo>
                  <a:lnTo>
                    <a:pt x="839" y="1928"/>
                  </a:lnTo>
                  <a:lnTo>
                    <a:pt x="771" y="2290"/>
                  </a:lnTo>
                  <a:lnTo>
                    <a:pt x="749" y="2744"/>
                  </a:lnTo>
                  <a:lnTo>
                    <a:pt x="749" y="2925"/>
                  </a:lnTo>
                  <a:lnTo>
                    <a:pt x="726" y="3016"/>
                  </a:lnTo>
                  <a:lnTo>
                    <a:pt x="771" y="3130"/>
                  </a:lnTo>
                  <a:lnTo>
                    <a:pt x="771" y="3583"/>
                  </a:lnTo>
                  <a:lnTo>
                    <a:pt x="771" y="3742"/>
                  </a:lnTo>
                  <a:lnTo>
                    <a:pt x="817" y="3855"/>
                  </a:lnTo>
                  <a:lnTo>
                    <a:pt x="0" y="3855"/>
                  </a:lnTo>
                  <a:lnTo>
                    <a:pt x="204" y="589"/>
                  </a:lnTo>
                  <a:lnTo>
                    <a:pt x="204" y="340"/>
                  </a:lnTo>
                  <a:lnTo>
                    <a:pt x="658" y="136"/>
                  </a:lnTo>
                  <a:lnTo>
                    <a:pt x="703" y="0"/>
                  </a:lnTo>
                  <a:lnTo>
                    <a:pt x="998" y="0"/>
                  </a:lnTo>
                  <a:lnTo>
                    <a:pt x="1066" y="159"/>
                  </a:lnTo>
                  <a:lnTo>
                    <a:pt x="1460" y="25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71280" y="252360"/>
              <a:ext cx="863640" cy="1124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504720" y="1339920"/>
              <a:ext cx="2016360" cy="75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471600" y="612720"/>
            <a:ext cx="104760" cy="3484440"/>
          </a:xfrm>
          <a:custGeom>
            <a:avLst/>
            <a:gdLst/>
            <a:ahLst/>
            <a:rect l="l" t="t" r="r" b="b"/>
            <a:pathLst>
              <a:path w="51" h="1947">
                <a:moveTo>
                  <a:pt x="10" y="0"/>
                </a:moveTo>
                <a:cubicBezTo>
                  <a:pt x="14" y="354"/>
                  <a:pt x="16" y="659"/>
                  <a:pt x="46" y="996"/>
                </a:cubicBezTo>
                <a:cubicBezTo>
                  <a:pt x="38" y="1230"/>
                  <a:pt x="51" y="1470"/>
                  <a:pt x="0" y="1700"/>
                </a:cubicBezTo>
                <a:cubicBezTo>
                  <a:pt x="7" y="1789"/>
                  <a:pt x="28" y="1860"/>
                  <a:pt x="28" y="1947"/>
                </a:cubicBezTo>
              </a:path>
            </a:pathLst>
          </a:custGeom>
          <a:noFill/>
          <a:ln w="572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8" name=""/>
          <p:cNvGrpSpPr/>
          <p:nvPr/>
        </p:nvGrpSpPr>
        <p:grpSpPr>
          <a:xfrm>
            <a:off x="503280" y="1441440"/>
            <a:ext cx="1252440" cy="2771280"/>
            <a:chOff x="503280" y="1441440"/>
            <a:chExt cx="1252440" cy="2771280"/>
          </a:xfrm>
        </p:grpSpPr>
        <p:sp>
          <p:nvSpPr>
            <p:cNvPr id="209" name=""/>
            <p:cNvSpPr/>
            <p:nvPr/>
          </p:nvSpPr>
          <p:spPr>
            <a:xfrm>
              <a:off x="536400" y="1512720"/>
              <a:ext cx="1219320" cy="262836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503280" y="1441440"/>
              <a:ext cx="1218960" cy="262872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503280" y="1584000"/>
              <a:ext cx="1218960" cy="262872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721080" y="1476360"/>
            <a:ext cx="1252440" cy="2771280"/>
            <a:chOff x="-721080" y="1476360"/>
            <a:chExt cx="1252440" cy="2771280"/>
          </a:xfrm>
        </p:grpSpPr>
        <p:sp>
          <p:nvSpPr>
            <p:cNvPr id="213" name=""/>
            <p:cNvSpPr/>
            <p:nvPr/>
          </p:nvSpPr>
          <p:spPr>
            <a:xfrm flipH="1">
              <a:off x="-721440" y="1547640"/>
              <a:ext cx="1219320" cy="262836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687600" y="1476360"/>
              <a:ext cx="1218960" cy="262872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687600" y="1618920"/>
              <a:ext cx="1218960" cy="262872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
          <p:cNvSpPr/>
          <p:nvPr/>
        </p:nvSpPr>
        <p:spPr>
          <a:xfrm>
            <a:off x="579600" y="3154320"/>
            <a:ext cx="45072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rot="641400">
            <a:off x="485280" y="3384720"/>
            <a:ext cx="451080" cy="58068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39640" y="3241800"/>
            <a:ext cx="45108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76320" y="3154320"/>
            <a:ext cx="45072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35640" y="3343320"/>
            <a:ext cx="45108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88920" y="3271680"/>
            <a:ext cx="45072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36400" y="3792600"/>
            <a:ext cx="435240" cy="3454200"/>
          </a:xfrm>
          <a:custGeom>
            <a:avLst/>
            <a:gdLst/>
            <a:ahLst/>
            <a:rect l="l" t="t" r="r" b="b"/>
            <a:pathLst>
              <a:path w="274" h="2176">
                <a:moveTo>
                  <a:pt x="0" y="0"/>
                </a:moveTo>
                <a:cubicBezTo>
                  <a:pt x="8" y="43"/>
                  <a:pt x="50" y="133"/>
                  <a:pt x="82" y="165"/>
                </a:cubicBezTo>
                <a:cubicBezTo>
                  <a:pt x="97" y="180"/>
                  <a:pt x="116" y="193"/>
                  <a:pt x="128" y="211"/>
                </a:cubicBezTo>
                <a:cubicBezTo>
                  <a:pt x="134" y="220"/>
                  <a:pt x="138" y="230"/>
                  <a:pt x="146" y="238"/>
                </a:cubicBezTo>
                <a:cubicBezTo>
                  <a:pt x="154" y="246"/>
                  <a:pt x="165" y="249"/>
                  <a:pt x="174" y="256"/>
                </a:cubicBezTo>
                <a:cubicBezTo>
                  <a:pt x="184" y="264"/>
                  <a:pt x="192" y="275"/>
                  <a:pt x="201" y="284"/>
                </a:cubicBezTo>
                <a:cubicBezTo>
                  <a:pt x="228" y="366"/>
                  <a:pt x="210" y="451"/>
                  <a:pt x="238" y="531"/>
                </a:cubicBezTo>
                <a:cubicBezTo>
                  <a:pt x="249" y="619"/>
                  <a:pt x="253" y="593"/>
                  <a:pt x="274" y="659"/>
                </a:cubicBezTo>
                <a:cubicBezTo>
                  <a:pt x="271" y="887"/>
                  <a:pt x="270" y="1116"/>
                  <a:pt x="265" y="1344"/>
                </a:cubicBezTo>
                <a:cubicBezTo>
                  <a:pt x="262" y="1448"/>
                  <a:pt x="224" y="1552"/>
                  <a:pt x="210" y="1655"/>
                </a:cubicBezTo>
                <a:cubicBezTo>
                  <a:pt x="201" y="1722"/>
                  <a:pt x="196" y="1791"/>
                  <a:pt x="174" y="1856"/>
                </a:cubicBezTo>
                <a:cubicBezTo>
                  <a:pt x="167" y="1914"/>
                  <a:pt x="169" y="1929"/>
                  <a:pt x="155" y="1975"/>
                </a:cubicBezTo>
                <a:cubicBezTo>
                  <a:pt x="150" y="1993"/>
                  <a:pt x="137" y="2030"/>
                  <a:pt x="137" y="2030"/>
                </a:cubicBezTo>
                <a:cubicBezTo>
                  <a:pt x="123" y="2115"/>
                  <a:pt x="128" y="2066"/>
                  <a:pt x="128" y="217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03280" y="3673440"/>
            <a:ext cx="434880" cy="3454560"/>
          </a:xfrm>
          <a:custGeom>
            <a:avLst/>
            <a:gdLst/>
            <a:ahLst/>
            <a:rect l="l" t="t" r="r" b="b"/>
            <a:pathLst>
              <a:path w="274" h="2176">
                <a:moveTo>
                  <a:pt x="0" y="0"/>
                </a:moveTo>
                <a:cubicBezTo>
                  <a:pt x="8" y="43"/>
                  <a:pt x="50" y="133"/>
                  <a:pt x="82" y="165"/>
                </a:cubicBezTo>
                <a:cubicBezTo>
                  <a:pt x="97" y="180"/>
                  <a:pt x="116" y="193"/>
                  <a:pt x="128" y="211"/>
                </a:cubicBezTo>
                <a:cubicBezTo>
                  <a:pt x="134" y="220"/>
                  <a:pt x="138" y="230"/>
                  <a:pt x="146" y="238"/>
                </a:cubicBezTo>
                <a:cubicBezTo>
                  <a:pt x="154" y="246"/>
                  <a:pt x="165" y="249"/>
                  <a:pt x="174" y="256"/>
                </a:cubicBezTo>
                <a:cubicBezTo>
                  <a:pt x="184" y="264"/>
                  <a:pt x="192" y="275"/>
                  <a:pt x="201" y="284"/>
                </a:cubicBezTo>
                <a:cubicBezTo>
                  <a:pt x="228" y="366"/>
                  <a:pt x="210" y="451"/>
                  <a:pt x="238" y="531"/>
                </a:cubicBezTo>
                <a:cubicBezTo>
                  <a:pt x="249" y="619"/>
                  <a:pt x="253" y="593"/>
                  <a:pt x="274" y="659"/>
                </a:cubicBezTo>
                <a:cubicBezTo>
                  <a:pt x="271" y="887"/>
                  <a:pt x="270" y="1116"/>
                  <a:pt x="265" y="1344"/>
                </a:cubicBezTo>
                <a:cubicBezTo>
                  <a:pt x="262" y="1448"/>
                  <a:pt x="224" y="1552"/>
                  <a:pt x="210" y="1655"/>
                </a:cubicBezTo>
                <a:cubicBezTo>
                  <a:pt x="201" y="1722"/>
                  <a:pt x="196" y="1791"/>
                  <a:pt x="174" y="1856"/>
                </a:cubicBezTo>
                <a:cubicBezTo>
                  <a:pt x="167" y="1914"/>
                  <a:pt x="169" y="1929"/>
                  <a:pt x="155" y="1975"/>
                </a:cubicBezTo>
                <a:cubicBezTo>
                  <a:pt x="150" y="1993"/>
                  <a:pt x="137" y="2030"/>
                  <a:pt x="137" y="2030"/>
                </a:cubicBezTo>
                <a:cubicBezTo>
                  <a:pt x="123" y="2115"/>
                  <a:pt x="128" y="2066"/>
                  <a:pt x="128" y="217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flipH="1">
            <a:off x="69840" y="3827520"/>
            <a:ext cx="434880" cy="3454200"/>
          </a:xfrm>
          <a:custGeom>
            <a:avLst/>
            <a:gdLst/>
            <a:ahLst/>
            <a:rect l="l" t="t" r="r" b="b"/>
            <a:pathLst>
              <a:path w="274" h="2176">
                <a:moveTo>
                  <a:pt x="0" y="0"/>
                </a:moveTo>
                <a:cubicBezTo>
                  <a:pt x="8" y="43"/>
                  <a:pt x="50" y="133"/>
                  <a:pt x="82" y="165"/>
                </a:cubicBezTo>
                <a:cubicBezTo>
                  <a:pt x="97" y="180"/>
                  <a:pt x="116" y="193"/>
                  <a:pt x="128" y="211"/>
                </a:cubicBezTo>
                <a:cubicBezTo>
                  <a:pt x="134" y="220"/>
                  <a:pt x="138" y="230"/>
                  <a:pt x="146" y="238"/>
                </a:cubicBezTo>
                <a:cubicBezTo>
                  <a:pt x="154" y="246"/>
                  <a:pt x="165" y="249"/>
                  <a:pt x="174" y="256"/>
                </a:cubicBezTo>
                <a:cubicBezTo>
                  <a:pt x="184" y="264"/>
                  <a:pt x="192" y="275"/>
                  <a:pt x="201" y="284"/>
                </a:cubicBezTo>
                <a:cubicBezTo>
                  <a:pt x="228" y="366"/>
                  <a:pt x="210" y="451"/>
                  <a:pt x="238" y="531"/>
                </a:cubicBezTo>
                <a:cubicBezTo>
                  <a:pt x="249" y="619"/>
                  <a:pt x="253" y="593"/>
                  <a:pt x="274" y="659"/>
                </a:cubicBezTo>
                <a:cubicBezTo>
                  <a:pt x="271" y="887"/>
                  <a:pt x="270" y="1116"/>
                  <a:pt x="265" y="1344"/>
                </a:cubicBezTo>
                <a:cubicBezTo>
                  <a:pt x="262" y="1448"/>
                  <a:pt x="224" y="1552"/>
                  <a:pt x="210" y="1655"/>
                </a:cubicBezTo>
                <a:cubicBezTo>
                  <a:pt x="201" y="1722"/>
                  <a:pt x="196" y="1791"/>
                  <a:pt x="174" y="1856"/>
                </a:cubicBezTo>
                <a:cubicBezTo>
                  <a:pt x="167" y="1914"/>
                  <a:pt x="169" y="1929"/>
                  <a:pt x="155" y="1975"/>
                </a:cubicBezTo>
                <a:cubicBezTo>
                  <a:pt x="150" y="1993"/>
                  <a:pt x="137" y="2030"/>
                  <a:pt x="137" y="2030"/>
                </a:cubicBezTo>
                <a:cubicBezTo>
                  <a:pt x="123" y="2115"/>
                  <a:pt x="128" y="2066"/>
                  <a:pt x="128" y="217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H="1">
            <a:off x="35640" y="3708360"/>
            <a:ext cx="435240" cy="3454560"/>
          </a:xfrm>
          <a:custGeom>
            <a:avLst/>
            <a:gdLst/>
            <a:ahLst/>
            <a:rect l="l" t="t" r="r" b="b"/>
            <a:pathLst>
              <a:path w="274" h="2176">
                <a:moveTo>
                  <a:pt x="0" y="0"/>
                </a:moveTo>
                <a:cubicBezTo>
                  <a:pt x="8" y="43"/>
                  <a:pt x="50" y="133"/>
                  <a:pt x="82" y="165"/>
                </a:cubicBezTo>
                <a:cubicBezTo>
                  <a:pt x="97" y="180"/>
                  <a:pt x="116" y="193"/>
                  <a:pt x="128" y="211"/>
                </a:cubicBezTo>
                <a:cubicBezTo>
                  <a:pt x="134" y="220"/>
                  <a:pt x="138" y="230"/>
                  <a:pt x="146" y="238"/>
                </a:cubicBezTo>
                <a:cubicBezTo>
                  <a:pt x="154" y="246"/>
                  <a:pt x="165" y="249"/>
                  <a:pt x="174" y="256"/>
                </a:cubicBezTo>
                <a:cubicBezTo>
                  <a:pt x="184" y="264"/>
                  <a:pt x="192" y="275"/>
                  <a:pt x="201" y="284"/>
                </a:cubicBezTo>
                <a:cubicBezTo>
                  <a:pt x="228" y="366"/>
                  <a:pt x="210" y="451"/>
                  <a:pt x="238" y="531"/>
                </a:cubicBezTo>
                <a:cubicBezTo>
                  <a:pt x="249" y="619"/>
                  <a:pt x="253" y="593"/>
                  <a:pt x="274" y="659"/>
                </a:cubicBezTo>
                <a:cubicBezTo>
                  <a:pt x="271" y="887"/>
                  <a:pt x="270" y="1116"/>
                  <a:pt x="265" y="1344"/>
                </a:cubicBezTo>
                <a:cubicBezTo>
                  <a:pt x="262" y="1448"/>
                  <a:pt x="224" y="1552"/>
                  <a:pt x="210" y="1655"/>
                </a:cubicBezTo>
                <a:cubicBezTo>
                  <a:pt x="201" y="1722"/>
                  <a:pt x="196" y="1791"/>
                  <a:pt x="174" y="1856"/>
                </a:cubicBezTo>
                <a:cubicBezTo>
                  <a:pt x="167" y="1914"/>
                  <a:pt x="169" y="1929"/>
                  <a:pt x="155" y="1975"/>
                </a:cubicBezTo>
                <a:cubicBezTo>
                  <a:pt x="150" y="1993"/>
                  <a:pt x="137" y="2030"/>
                  <a:pt x="137" y="2030"/>
                </a:cubicBezTo>
                <a:cubicBezTo>
                  <a:pt x="123" y="2115"/>
                  <a:pt x="128" y="2066"/>
                  <a:pt x="128" y="217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08000" y="360360"/>
            <a:ext cx="765000" cy="633240"/>
          </a:xfrm>
          <a:custGeom>
            <a:avLst/>
            <a:gdLst/>
            <a:ahLst/>
            <a:rect l="l" t="t" r="r" b="b"/>
            <a:pathLst>
              <a:path w="482" h="399">
                <a:moveTo>
                  <a:pt x="217" y="260"/>
                </a:moveTo>
                <a:cubicBezTo>
                  <a:pt x="203" y="293"/>
                  <a:pt x="194" y="330"/>
                  <a:pt x="174" y="359"/>
                </a:cubicBezTo>
                <a:cubicBezTo>
                  <a:pt x="166" y="370"/>
                  <a:pt x="155" y="359"/>
                  <a:pt x="145" y="363"/>
                </a:cubicBezTo>
                <a:cubicBezTo>
                  <a:pt x="60" y="399"/>
                  <a:pt x="152" y="383"/>
                  <a:pt x="78" y="392"/>
                </a:cubicBezTo>
                <a:cubicBezTo>
                  <a:pt x="34" y="365"/>
                  <a:pt x="0" y="370"/>
                  <a:pt x="6" y="303"/>
                </a:cubicBezTo>
                <a:cubicBezTo>
                  <a:pt x="32" y="236"/>
                  <a:pt x="50" y="164"/>
                  <a:pt x="83" y="100"/>
                </a:cubicBezTo>
                <a:cubicBezTo>
                  <a:pt x="90" y="88"/>
                  <a:pt x="106" y="94"/>
                  <a:pt x="116" y="86"/>
                </a:cubicBezTo>
                <a:cubicBezTo>
                  <a:pt x="124" y="79"/>
                  <a:pt x="127" y="63"/>
                  <a:pt x="135" y="55"/>
                </a:cubicBezTo>
                <a:cubicBezTo>
                  <a:pt x="162" y="25"/>
                  <a:pt x="159" y="45"/>
                  <a:pt x="189" y="34"/>
                </a:cubicBezTo>
                <a:cubicBezTo>
                  <a:pt x="294" y="0"/>
                  <a:pt x="218" y="8"/>
                  <a:pt x="292" y="6"/>
                </a:cubicBezTo>
                <a:cubicBezTo>
                  <a:pt x="428" y="65"/>
                  <a:pt x="383" y="29"/>
                  <a:pt x="441" y="132"/>
                </a:cubicBezTo>
                <a:cubicBezTo>
                  <a:pt x="401" y="234"/>
                  <a:pt x="482" y="334"/>
                  <a:pt x="395" y="342"/>
                </a:cubicBezTo>
                <a:cubicBezTo>
                  <a:pt x="324" y="303"/>
                  <a:pt x="275" y="328"/>
                  <a:pt x="250" y="245"/>
                </a:cubicBezTo>
                <a:cubicBezTo>
                  <a:pt x="223" y="265"/>
                  <a:pt x="234" y="266"/>
                  <a:pt x="217" y="260"/>
                </a:cubicBez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34920" y="297000"/>
            <a:ext cx="900000" cy="780840"/>
          </a:xfrm>
          <a:custGeom>
            <a:avLst/>
            <a:gdLst/>
            <a:ahLst/>
            <a:rect l="l" t="t" r="r" b="b"/>
            <a:pathLst>
              <a:path w="482" h="399">
                <a:moveTo>
                  <a:pt x="217" y="260"/>
                </a:moveTo>
                <a:cubicBezTo>
                  <a:pt x="203" y="293"/>
                  <a:pt x="194" y="330"/>
                  <a:pt x="174" y="359"/>
                </a:cubicBezTo>
                <a:cubicBezTo>
                  <a:pt x="166" y="370"/>
                  <a:pt x="155" y="359"/>
                  <a:pt x="145" y="363"/>
                </a:cubicBezTo>
                <a:cubicBezTo>
                  <a:pt x="60" y="399"/>
                  <a:pt x="152" y="383"/>
                  <a:pt x="78" y="392"/>
                </a:cubicBezTo>
                <a:cubicBezTo>
                  <a:pt x="34" y="365"/>
                  <a:pt x="0" y="370"/>
                  <a:pt x="6" y="303"/>
                </a:cubicBezTo>
                <a:cubicBezTo>
                  <a:pt x="32" y="236"/>
                  <a:pt x="50" y="164"/>
                  <a:pt x="83" y="100"/>
                </a:cubicBezTo>
                <a:cubicBezTo>
                  <a:pt x="90" y="88"/>
                  <a:pt x="106" y="94"/>
                  <a:pt x="116" y="86"/>
                </a:cubicBezTo>
                <a:cubicBezTo>
                  <a:pt x="124" y="79"/>
                  <a:pt x="127" y="63"/>
                  <a:pt x="135" y="55"/>
                </a:cubicBezTo>
                <a:cubicBezTo>
                  <a:pt x="162" y="25"/>
                  <a:pt x="159" y="45"/>
                  <a:pt x="189" y="34"/>
                </a:cubicBezTo>
                <a:cubicBezTo>
                  <a:pt x="294" y="0"/>
                  <a:pt x="218" y="8"/>
                  <a:pt x="292" y="6"/>
                </a:cubicBezTo>
                <a:cubicBezTo>
                  <a:pt x="428" y="65"/>
                  <a:pt x="383" y="29"/>
                  <a:pt x="441" y="132"/>
                </a:cubicBezTo>
                <a:cubicBezTo>
                  <a:pt x="401" y="234"/>
                  <a:pt x="482" y="334"/>
                  <a:pt x="395" y="342"/>
                </a:cubicBezTo>
                <a:cubicBezTo>
                  <a:pt x="324" y="303"/>
                  <a:pt x="275" y="328"/>
                  <a:pt x="250" y="245"/>
                </a:cubicBezTo>
                <a:cubicBezTo>
                  <a:pt x="223" y="265"/>
                  <a:pt x="234" y="266"/>
                  <a:pt x="217" y="260"/>
                </a:cubicBezTo>
                <a:close/>
              </a:path>
            </a:pathLst>
          </a:custGeom>
          <a:solidFill>
            <a:srgbClr val="ff0000">
              <a:alpha val="6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865080" y="765000"/>
            <a:ext cx="2665440" cy="6553440"/>
          </a:xfrm>
          <a:custGeom>
            <a:avLst/>
            <a:gdLst/>
            <a:ahLst/>
            <a:rect l="l" t="t" r="r" b="b"/>
            <a:pathLst>
              <a:path w="1679" h="4128">
                <a:moveTo>
                  <a:pt x="182" y="1633"/>
                </a:moveTo>
                <a:lnTo>
                  <a:pt x="273" y="1247"/>
                </a:lnTo>
                <a:lnTo>
                  <a:pt x="273" y="635"/>
                </a:lnTo>
                <a:lnTo>
                  <a:pt x="318" y="454"/>
                </a:lnTo>
                <a:lnTo>
                  <a:pt x="545" y="408"/>
                </a:lnTo>
                <a:lnTo>
                  <a:pt x="771" y="431"/>
                </a:lnTo>
                <a:lnTo>
                  <a:pt x="794" y="0"/>
                </a:lnTo>
                <a:lnTo>
                  <a:pt x="885" y="23"/>
                </a:lnTo>
                <a:lnTo>
                  <a:pt x="930" y="113"/>
                </a:lnTo>
                <a:lnTo>
                  <a:pt x="930" y="408"/>
                </a:lnTo>
                <a:lnTo>
                  <a:pt x="1066" y="431"/>
                </a:lnTo>
                <a:lnTo>
                  <a:pt x="1338" y="431"/>
                </a:lnTo>
                <a:lnTo>
                  <a:pt x="1429" y="499"/>
                </a:lnTo>
                <a:lnTo>
                  <a:pt x="1475" y="680"/>
                </a:lnTo>
                <a:lnTo>
                  <a:pt x="1452" y="953"/>
                </a:lnTo>
                <a:lnTo>
                  <a:pt x="1475" y="1293"/>
                </a:lnTo>
                <a:lnTo>
                  <a:pt x="1543" y="1565"/>
                </a:lnTo>
                <a:lnTo>
                  <a:pt x="1611" y="1837"/>
                </a:lnTo>
                <a:lnTo>
                  <a:pt x="1679" y="2064"/>
                </a:lnTo>
                <a:lnTo>
                  <a:pt x="1656" y="2155"/>
                </a:lnTo>
                <a:lnTo>
                  <a:pt x="1588" y="2155"/>
                </a:lnTo>
                <a:lnTo>
                  <a:pt x="1543" y="1928"/>
                </a:lnTo>
                <a:lnTo>
                  <a:pt x="1475" y="1701"/>
                </a:lnTo>
                <a:lnTo>
                  <a:pt x="1407" y="1610"/>
                </a:lnTo>
                <a:lnTo>
                  <a:pt x="1361" y="1225"/>
                </a:lnTo>
                <a:lnTo>
                  <a:pt x="1361" y="839"/>
                </a:lnTo>
                <a:lnTo>
                  <a:pt x="1316" y="590"/>
                </a:lnTo>
                <a:lnTo>
                  <a:pt x="930" y="590"/>
                </a:lnTo>
                <a:lnTo>
                  <a:pt x="930" y="794"/>
                </a:lnTo>
                <a:lnTo>
                  <a:pt x="998" y="1111"/>
                </a:lnTo>
                <a:lnTo>
                  <a:pt x="976" y="1429"/>
                </a:lnTo>
                <a:lnTo>
                  <a:pt x="1021" y="1520"/>
                </a:lnTo>
                <a:lnTo>
                  <a:pt x="1112" y="1565"/>
                </a:lnTo>
                <a:lnTo>
                  <a:pt x="1202" y="1633"/>
                </a:lnTo>
                <a:lnTo>
                  <a:pt x="1202" y="1724"/>
                </a:lnTo>
                <a:lnTo>
                  <a:pt x="1225" y="1905"/>
                </a:lnTo>
                <a:lnTo>
                  <a:pt x="1157" y="1973"/>
                </a:lnTo>
                <a:lnTo>
                  <a:pt x="1112" y="2041"/>
                </a:lnTo>
                <a:lnTo>
                  <a:pt x="1021" y="1973"/>
                </a:lnTo>
                <a:lnTo>
                  <a:pt x="1021" y="1860"/>
                </a:lnTo>
                <a:lnTo>
                  <a:pt x="930" y="1769"/>
                </a:lnTo>
                <a:lnTo>
                  <a:pt x="998" y="1928"/>
                </a:lnTo>
                <a:lnTo>
                  <a:pt x="1134" y="2087"/>
                </a:lnTo>
                <a:lnTo>
                  <a:pt x="1202" y="2518"/>
                </a:lnTo>
                <a:lnTo>
                  <a:pt x="1225" y="2744"/>
                </a:lnTo>
                <a:lnTo>
                  <a:pt x="1202" y="3039"/>
                </a:lnTo>
                <a:lnTo>
                  <a:pt x="1180" y="3334"/>
                </a:lnTo>
                <a:lnTo>
                  <a:pt x="1112" y="3674"/>
                </a:lnTo>
                <a:lnTo>
                  <a:pt x="1066" y="4014"/>
                </a:lnTo>
                <a:lnTo>
                  <a:pt x="1021" y="4082"/>
                </a:lnTo>
                <a:lnTo>
                  <a:pt x="930" y="4060"/>
                </a:lnTo>
                <a:lnTo>
                  <a:pt x="976" y="3788"/>
                </a:lnTo>
                <a:lnTo>
                  <a:pt x="1021" y="3379"/>
                </a:lnTo>
                <a:lnTo>
                  <a:pt x="1021" y="3311"/>
                </a:lnTo>
                <a:lnTo>
                  <a:pt x="1066" y="3153"/>
                </a:lnTo>
                <a:lnTo>
                  <a:pt x="1066" y="2495"/>
                </a:lnTo>
                <a:lnTo>
                  <a:pt x="1021" y="2223"/>
                </a:lnTo>
                <a:lnTo>
                  <a:pt x="930" y="2064"/>
                </a:lnTo>
                <a:lnTo>
                  <a:pt x="840" y="2064"/>
                </a:lnTo>
                <a:lnTo>
                  <a:pt x="703" y="2200"/>
                </a:lnTo>
                <a:lnTo>
                  <a:pt x="635" y="2540"/>
                </a:lnTo>
                <a:lnTo>
                  <a:pt x="635" y="2858"/>
                </a:lnTo>
                <a:lnTo>
                  <a:pt x="635" y="3311"/>
                </a:lnTo>
                <a:lnTo>
                  <a:pt x="703" y="3651"/>
                </a:lnTo>
                <a:lnTo>
                  <a:pt x="771" y="3924"/>
                </a:lnTo>
                <a:lnTo>
                  <a:pt x="794" y="4060"/>
                </a:lnTo>
                <a:lnTo>
                  <a:pt x="749" y="4128"/>
                </a:lnTo>
                <a:lnTo>
                  <a:pt x="658" y="4082"/>
                </a:lnTo>
                <a:lnTo>
                  <a:pt x="635" y="3878"/>
                </a:lnTo>
                <a:lnTo>
                  <a:pt x="567" y="3470"/>
                </a:lnTo>
                <a:lnTo>
                  <a:pt x="522" y="3153"/>
                </a:lnTo>
                <a:lnTo>
                  <a:pt x="499" y="2518"/>
                </a:lnTo>
                <a:lnTo>
                  <a:pt x="567" y="2132"/>
                </a:lnTo>
                <a:lnTo>
                  <a:pt x="613" y="2019"/>
                </a:lnTo>
                <a:lnTo>
                  <a:pt x="794" y="1860"/>
                </a:lnTo>
                <a:lnTo>
                  <a:pt x="794" y="1769"/>
                </a:lnTo>
                <a:lnTo>
                  <a:pt x="658" y="1814"/>
                </a:lnTo>
                <a:lnTo>
                  <a:pt x="635" y="1951"/>
                </a:lnTo>
                <a:lnTo>
                  <a:pt x="567" y="1996"/>
                </a:lnTo>
                <a:lnTo>
                  <a:pt x="499" y="1951"/>
                </a:lnTo>
                <a:lnTo>
                  <a:pt x="545" y="1701"/>
                </a:lnTo>
                <a:lnTo>
                  <a:pt x="613" y="1565"/>
                </a:lnTo>
                <a:lnTo>
                  <a:pt x="817" y="1520"/>
                </a:lnTo>
                <a:lnTo>
                  <a:pt x="817" y="1384"/>
                </a:lnTo>
                <a:lnTo>
                  <a:pt x="817" y="612"/>
                </a:lnTo>
                <a:lnTo>
                  <a:pt x="567" y="635"/>
                </a:lnTo>
                <a:lnTo>
                  <a:pt x="431" y="612"/>
                </a:lnTo>
                <a:lnTo>
                  <a:pt x="386" y="680"/>
                </a:lnTo>
                <a:lnTo>
                  <a:pt x="386" y="839"/>
                </a:lnTo>
                <a:lnTo>
                  <a:pt x="386" y="1179"/>
                </a:lnTo>
                <a:lnTo>
                  <a:pt x="386" y="1452"/>
                </a:lnTo>
                <a:lnTo>
                  <a:pt x="341" y="1701"/>
                </a:lnTo>
                <a:lnTo>
                  <a:pt x="250" y="1905"/>
                </a:lnTo>
                <a:lnTo>
                  <a:pt x="159" y="2245"/>
                </a:lnTo>
                <a:lnTo>
                  <a:pt x="0" y="2109"/>
                </a:lnTo>
                <a:lnTo>
                  <a:pt x="182" y="1633"/>
                </a:lnTo>
                <a:close/>
              </a:path>
            </a:pathLst>
          </a:custGeom>
          <a:solidFill>
            <a:srgbClr val="ff0000">
              <a:alpha val="6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395280" y="728640"/>
            <a:ext cx="684360" cy="5472000"/>
          </a:xfrm>
          <a:custGeom>
            <a:avLst/>
            <a:gdLst/>
            <a:ahLst/>
            <a:rect l="l" t="t" r="r" b="b"/>
            <a:pathLst>
              <a:path w="431" h="3447">
                <a:moveTo>
                  <a:pt x="363" y="3447"/>
                </a:moveTo>
                <a:lnTo>
                  <a:pt x="227" y="3425"/>
                </a:lnTo>
                <a:lnTo>
                  <a:pt x="295" y="3221"/>
                </a:lnTo>
                <a:lnTo>
                  <a:pt x="295" y="2858"/>
                </a:lnTo>
                <a:lnTo>
                  <a:pt x="272" y="2517"/>
                </a:lnTo>
                <a:lnTo>
                  <a:pt x="204" y="2223"/>
                </a:lnTo>
                <a:lnTo>
                  <a:pt x="114" y="2132"/>
                </a:lnTo>
                <a:lnTo>
                  <a:pt x="23" y="2019"/>
                </a:lnTo>
                <a:lnTo>
                  <a:pt x="0" y="1814"/>
                </a:lnTo>
                <a:lnTo>
                  <a:pt x="23" y="1542"/>
                </a:lnTo>
                <a:lnTo>
                  <a:pt x="23" y="1202"/>
                </a:lnTo>
                <a:lnTo>
                  <a:pt x="23" y="794"/>
                </a:lnTo>
                <a:lnTo>
                  <a:pt x="0" y="499"/>
                </a:lnTo>
                <a:lnTo>
                  <a:pt x="0" y="318"/>
                </a:lnTo>
                <a:lnTo>
                  <a:pt x="0" y="136"/>
                </a:lnTo>
                <a:lnTo>
                  <a:pt x="46" y="0"/>
                </a:lnTo>
                <a:lnTo>
                  <a:pt x="91" y="68"/>
                </a:lnTo>
                <a:lnTo>
                  <a:pt x="114" y="159"/>
                </a:lnTo>
                <a:lnTo>
                  <a:pt x="114" y="318"/>
                </a:lnTo>
                <a:lnTo>
                  <a:pt x="136" y="748"/>
                </a:lnTo>
                <a:lnTo>
                  <a:pt x="182" y="1066"/>
                </a:lnTo>
                <a:lnTo>
                  <a:pt x="182" y="1383"/>
                </a:lnTo>
                <a:lnTo>
                  <a:pt x="182" y="1542"/>
                </a:lnTo>
                <a:lnTo>
                  <a:pt x="136" y="1860"/>
                </a:lnTo>
                <a:lnTo>
                  <a:pt x="204" y="2019"/>
                </a:lnTo>
                <a:lnTo>
                  <a:pt x="340" y="2132"/>
                </a:lnTo>
                <a:lnTo>
                  <a:pt x="363" y="2359"/>
                </a:lnTo>
                <a:lnTo>
                  <a:pt x="431" y="2676"/>
                </a:lnTo>
                <a:lnTo>
                  <a:pt x="408" y="3062"/>
                </a:lnTo>
                <a:lnTo>
                  <a:pt x="408" y="3243"/>
                </a:lnTo>
                <a:lnTo>
                  <a:pt x="363" y="3447"/>
                </a:lnTo>
                <a:close/>
              </a:path>
            </a:pathLst>
          </a:custGeom>
          <a:solidFill>
            <a:srgbClr val="ff0000">
              <a:alpha val="6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1836720" y="368280"/>
            <a:ext cx="4248000" cy="6085080"/>
            <a:chOff x="1836720" y="368280"/>
            <a:chExt cx="4248000" cy="6085080"/>
          </a:xfrm>
        </p:grpSpPr>
        <p:sp>
          <p:nvSpPr>
            <p:cNvPr id="231" name=""/>
            <p:cNvSpPr/>
            <p:nvPr/>
          </p:nvSpPr>
          <p:spPr>
            <a:xfrm>
              <a:off x="1836720" y="368280"/>
              <a:ext cx="755640" cy="6085080"/>
            </a:xfrm>
            <a:custGeom>
              <a:avLst/>
              <a:gdLst>
                <a:gd name="textAreaLeft" fmla="*/ 0 w 755640"/>
                <a:gd name="textAreaRight" fmla="*/ 272880 w 755640"/>
                <a:gd name="textAreaTop" fmla="*/ 158400 h 6085080"/>
                <a:gd name="textAreaBottom" fmla="*/ 5926680 h 608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844720" y="2600280"/>
              <a:ext cx="3240000" cy="19227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irus travels all the way to the brain and throughout the nervous system, causing severe inflammation.</a:t>
              </a:r>
              <a:endParaRPr b="0" lang="en-US" sz="2400" spc="-1" strike="noStrike">
                <a:solidFill>
                  <a:srgbClr val="ffffff"/>
                </a:solidFill>
                <a:latin typeface="Times New Roman"/>
              </a:endParaRPr>
            </a:p>
          </p:txBody>
        </p:sp>
      </p:grpSp>
      <p:grpSp>
        <p:nvGrpSpPr>
          <p:cNvPr id="233" name=""/>
          <p:cNvGrpSpPr/>
          <p:nvPr/>
        </p:nvGrpSpPr>
        <p:grpSpPr>
          <a:xfrm>
            <a:off x="250920" y="1017720"/>
            <a:ext cx="5833800" cy="1298520"/>
            <a:chOff x="250920" y="1017720"/>
            <a:chExt cx="5833800" cy="1298520"/>
          </a:xfrm>
        </p:grpSpPr>
        <p:sp>
          <p:nvSpPr>
            <p:cNvPr id="234" name=""/>
            <p:cNvSpPr/>
            <p:nvPr/>
          </p:nvSpPr>
          <p:spPr>
            <a:xfrm>
              <a:off x="2268360" y="1490760"/>
              <a:ext cx="38163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irus also infects the salivary glands.</a:t>
              </a:r>
              <a:endParaRPr b="0" lang="en-US" sz="2400" spc="-1" strike="noStrike">
                <a:solidFill>
                  <a:srgbClr val="ffffff"/>
                </a:solidFill>
                <a:latin typeface="Times New Roman"/>
              </a:endParaRPr>
            </a:p>
          </p:txBody>
        </p:sp>
        <p:sp>
          <p:nvSpPr>
            <p:cNvPr id="235" name=""/>
            <p:cNvSpPr/>
            <p:nvPr/>
          </p:nvSpPr>
          <p:spPr>
            <a:xfrm>
              <a:off x="250920" y="1017720"/>
              <a:ext cx="468360" cy="250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719280" y="1123920"/>
              <a:ext cx="1476360" cy="68436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 name=""/>
          <p:cNvSpPr/>
          <p:nvPr/>
        </p:nvSpPr>
        <p:spPr>
          <a:xfrm rot="2588400">
            <a:off x="610920" y="1015920"/>
            <a:ext cx="144360" cy="181080"/>
          </a:xfrm>
          <a:prstGeom prst="ellipse">
            <a:avLst/>
          </a:prstGeom>
          <a:solidFill>
            <a:srgbClr val="ff0000">
              <a:alpha val="6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18788400">
            <a:off x="234000" y="1033920"/>
            <a:ext cx="144360" cy="180720"/>
          </a:xfrm>
          <a:prstGeom prst="ellipse">
            <a:avLst/>
          </a:prstGeom>
          <a:solidFill>
            <a:srgbClr val="ff0000">
              <a:alpha val="6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093080" y="634536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7.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30"/>
                                        </p:tgtEl>
                                        <p:attrNameLst>
                                          <p:attrName>style.visibility</p:attrName>
                                        </p:attrNameLst>
                                      </p:cBhvr>
                                      <p:to>
                                        <p:strVal val="visible"/>
                                      </p:to>
                                    </p:set>
                                    <p:animEffect filter="fade" transition="in">
                                      <p:cBhvr additive="repl">
                                        <p:cTn id="104" dur="500"/>
                                        <p:tgtEl>
                                          <p:spTgt spid="230"/>
                                        </p:tgtEl>
                                      </p:cBhvr>
                                    </p:animEffect>
                                  </p:childTnLst>
                                </p:cTn>
                              </p:par>
                            </p:childTnLst>
                          </p:cTn>
                        </p:par>
                        <p:par>
                          <p:cTn id="105" fill="hold">
                            <p:stCondLst>
                              <p:cond delay="500"/>
                            </p:stCondLst>
                            <p:childTnLst>
                              <p:par>
                                <p:cTn id="106" nodeType="afterEffect" fill="hold" presetClass="entr" presetID="22" presetSubtype="4">
                                  <p:stCondLst>
                                    <p:cond delay="0"/>
                                  </p:stCondLst>
                                  <p:childTnLst>
                                    <p:set>
                                      <p:cBhvr>
                                        <p:cTn id="107" dur="1" fill="hold">
                                          <p:stCondLst>
                                            <p:cond delay="0"/>
                                          </p:stCondLst>
                                        </p:cTn>
                                        <p:tgtEl>
                                          <p:spTgt spid="229"/>
                                        </p:tgtEl>
                                        <p:attrNameLst>
                                          <p:attrName>style.visibility</p:attrName>
                                        </p:attrNameLst>
                                      </p:cBhvr>
                                      <p:to>
                                        <p:strVal val="visible"/>
                                      </p:to>
                                    </p:set>
                                    <p:animEffect filter="wipe(down)" transition="in">
                                      <p:cBhvr additive="repl">
                                        <p:cTn id="108" dur="2000"/>
                                        <p:tgtEl>
                                          <p:spTgt spid="229"/>
                                        </p:tgtEl>
                                      </p:cBhvr>
                                    </p:animEffect>
                                  </p:childTnLst>
                                </p:cTn>
                              </p:par>
                            </p:childTnLst>
                          </p:cTn>
                        </p:par>
                        <p:par>
                          <p:cTn id="109" fill="hold">
                            <p:stCondLst>
                              <p:cond delay="2500"/>
                            </p:stCondLst>
                            <p:childTnLst>
                              <p:par>
                                <p:cTn id="110" nodeType="afterEffect" fill="hold" presetClass="entr" presetID="10">
                                  <p:stCondLst>
                                    <p:cond delay="0"/>
                                  </p:stCondLst>
                                  <p:childTnLst>
                                    <p:set>
                                      <p:cBhvr>
                                        <p:cTn id="111" dur="1" fill="hold">
                                          <p:stCondLst>
                                            <p:cond delay="0"/>
                                          </p:stCondLst>
                                        </p:cTn>
                                        <p:tgtEl>
                                          <p:spTgt spid="227"/>
                                        </p:tgtEl>
                                        <p:attrNameLst>
                                          <p:attrName>style.visibility</p:attrName>
                                        </p:attrNameLst>
                                      </p:cBhvr>
                                      <p:to>
                                        <p:strVal val="visible"/>
                                      </p:to>
                                    </p:set>
                                    <p:animEffect filter="fade" transition="in">
                                      <p:cBhvr additive="repl">
                                        <p:cTn id="112" dur="500"/>
                                        <p:tgtEl>
                                          <p:spTgt spid="227"/>
                                        </p:tgtEl>
                                      </p:cBhvr>
                                    </p:animEffect>
                                  </p:childTnLst>
                                </p:cTn>
                              </p:par>
                            </p:childTnLst>
                          </p:cTn>
                        </p:par>
                        <p:par>
                          <p:cTn id="113" fill="hold">
                            <p:stCondLst>
                              <p:cond delay="3000"/>
                            </p:stCondLst>
                            <p:childTnLst>
                              <p:par>
                                <p:cTn id="114" nodeType="afterEffect" fill="hold" presetClass="entr" presetID="22" presetSubtype="1">
                                  <p:stCondLst>
                                    <p:cond delay="0"/>
                                  </p:stCondLst>
                                  <p:childTnLst>
                                    <p:set>
                                      <p:cBhvr>
                                        <p:cTn id="115" dur="1" fill="hold">
                                          <p:stCondLst>
                                            <p:cond delay="0"/>
                                          </p:stCondLst>
                                        </p:cTn>
                                        <p:tgtEl>
                                          <p:spTgt spid="228"/>
                                        </p:tgtEl>
                                        <p:attrNameLst>
                                          <p:attrName>style.visibility</p:attrName>
                                        </p:attrNameLst>
                                      </p:cBhvr>
                                      <p:to>
                                        <p:strVal val="visible"/>
                                      </p:to>
                                    </p:set>
                                    <p:animEffect filter="wipe(up)" transition="in">
                                      <p:cBhvr additive="repl">
                                        <p:cTn id="116" dur="2000"/>
                                        <p:tgtEl>
                                          <p:spTgt spid="228"/>
                                        </p:tgtEl>
                                      </p:cBhvr>
                                    </p:animEffect>
                                  </p:childTnLst>
                                </p:cTn>
                              </p:par>
                            </p:childTnLst>
                          </p:cTn>
                        </p:par>
                        <p:par>
                          <p:cTn id="117" fill="hold">
                            <p:stCondLst>
                              <p:cond delay="5000"/>
                            </p:stCondLst>
                            <p:childTnLst>
                              <p:par>
                                <p:cTn id="118" nodeType="afterEffect" fill="hold" presetClass="exit" presetID="10">
                                  <p:stCondLst>
                                    <p:cond delay="0"/>
                                  </p:stCondLst>
                                  <p:childTnLst>
                                    <p:animEffect filter="fade" transition="out">
                                      <p:cBhvr additive="repl">
                                        <p:cTn id="119" dur="500"/>
                                        <p:tgtEl>
                                          <p:spTgt spid="229"/>
                                        </p:tgtEl>
                                      </p:cBhvr>
                                    </p:animEffect>
                                    <p:set>
                                      <p:cBhvr>
                                        <p:cTn id="120" dur="1" fill="hold">
                                          <p:stCondLst>
                                            <p:cond delay="499"/>
                                          </p:stCondLst>
                                        </p:cTn>
                                        <p:tgtEl>
                                          <p:spTgt spid="229"/>
                                        </p:tgtEl>
                                        <p:attrNameLst>
                                          <p:attrName>style.visibility</p:attrName>
                                        </p:attrNameLst>
                                      </p:cBhvr>
                                      <p:to>
                                        <p:strVal val="hidden"/>
                                      </p:to>
                                    </p:set>
                                  </p:childTnLst>
                                </p:cTn>
                              </p:par>
                              <p:par>
                                <p:cTn id="121" nodeType="withEffect" fill="hold" presetClass="emph" presetID="27" repeatCount="indefinite">
                                  <p:stCondLst>
                                    <p:cond delay="0"/>
                                  </p:stCondLst>
                                  <p:childTnLst>
                                    <p:animClr clrSpc="rgb">
                                      <p:cBhvr>
                                        <p:cTn id="122" dur="250" autoRev="1" fill="hold"/>
                                        <p:tgtEl>
                                          <p:spTgt spid="228"/>
                                        </p:tgtEl>
                                        <p:attrNameLst>
                                          <p:attrName>style.color</p:attrName>
                                        </p:attrNameLst>
                                      </p:cBhvr>
                                      <p:to>
                                        <a:srgbClr val="ff3300"/>
                                      </p:to>
                                    </p:animClr>
                                    <p:animClr clrSpc="rgb">
                                      <p:cBhvr>
                                        <p:cTn id="123" dur="250" autoRev="1" fill="hold"/>
                                        <p:tgtEl>
                                          <p:spTgt spid="228"/>
                                        </p:tgtEl>
                                        <p:attrNameLst>
                                          <p:attrName>fillcolor</p:attrName>
                                        </p:attrNameLst>
                                      </p:cBhvr>
                                      <p:to>
                                        <a:srgbClr val="ff3300"/>
                                      </p:to>
                                    </p:animClr>
                                    <p:set>
                                      <p:cBhvr>
                                        <p:cTn id="124" dur="250" autoRev="1" fill="hold"/>
                                        <p:tgtEl>
                                          <p:spTgt spid="228"/>
                                        </p:tgtEl>
                                        <p:attrNameLst>
                                          <p:attrName>fill.type</p:attrName>
                                        </p:attrNameLst>
                                      </p:cBhvr>
                                      <p:to>
                                        <p:strVal val="solid"/>
                                      </p:to>
                                    </p:set>
                                  </p:childTnLst>
                                </p:cTn>
                              </p:par>
                              <p:par>
                                <p:cTn id="125" nodeType="withEffect" fill="hold" presetClass="emph" presetID="27" repeatCount="indefinite">
                                  <p:stCondLst>
                                    <p:cond delay="0"/>
                                  </p:stCondLst>
                                  <p:childTnLst>
                                    <p:animClr clrSpc="rgb">
                                      <p:cBhvr>
                                        <p:cTn id="126" dur="250" autoRev="1" fill="hold"/>
                                        <p:tgtEl>
                                          <p:spTgt spid="227"/>
                                        </p:tgtEl>
                                        <p:attrNameLst>
                                          <p:attrName>style.color</p:attrName>
                                        </p:attrNameLst>
                                      </p:cBhvr>
                                      <p:to>
                                        <a:srgbClr val="ff3300"/>
                                      </p:to>
                                    </p:animClr>
                                    <p:animClr clrSpc="rgb">
                                      <p:cBhvr>
                                        <p:cTn id="127" dur="250" autoRev="1" fill="hold"/>
                                        <p:tgtEl>
                                          <p:spTgt spid="227"/>
                                        </p:tgtEl>
                                        <p:attrNameLst>
                                          <p:attrName>fillcolor</p:attrName>
                                        </p:attrNameLst>
                                      </p:cBhvr>
                                      <p:to>
                                        <a:srgbClr val="ff3300"/>
                                      </p:to>
                                    </p:animClr>
                                    <p:set>
                                      <p:cBhvr>
                                        <p:cTn id="128" dur="250" autoRev="1" fill="hold"/>
                                        <p:tgtEl>
                                          <p:spTgt spid="227"/>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500"/>
                                        <p:tgtEl>
                                          <p:spTgt spid="230"/>
                                        </p:tgtEl>
                                      </p:cBhvr>
                                    </p:animEffect>
                                    <p:set>
                                      <p:cBhvr>
                                        <p:cTn id="133" dur="1" fill="hold">
                                          <p:stCondLst>
                                            <p:cond delay="499"/>
                                          </p:stCondLst>
                                        </p:cTn>
                                        <p:tgtEl>
                                          <p:spTgt spid="230"/>
                                        </p:tgtEl>
                                        <p:attrNameLst>
                                          <p:attrName>style.visibility</p:attrName>
                                        </p:attrNameLst>
                                      </p:cBhvr>
                                      <p:to>
                                        <p:strVal val="hidden"/>
                                      </p:to>
                                    </p:set>
                                  </p:childTnLst>
                                </p:cTn>
                              </p:par>
                            </p:childTnLst>
                          </p:cTn>
                        </p:par>
                        <p:par>
                          <p:cTn id="134" fill="hold">
                            <p:stCondLst>
                              <p:cond delay="500"/>
                            </p:stCondLst>
                            <p:childTnLst>
                              <p:par>
                                <p:cTn id="135" nodeType="afterEffect" fill="hold" presetClass="entr" presetID="10">
                                  <p:stCondLst>
                                    <p:cond delay="0"/>
                                  </p:stCondLst>
                                  <p:childTnLst>
                                    <p:set>
                                      <p:cBhvr>
                                        <p:cTn id="136" dur="1" fill="hold">
                                          <p:stCondLst>
                                            <p:cond delay="0"/>
                                          </p:stCondLst>
                                        </p:cTn>
                                        <p:tgtEl>
                                          <p:spTgt spid="233"/>
                                        </p:tgtEl>
                                        <p:attrNameLst>
                                          <p:attrName>style.visibility</p:attrName>
                                        </p:attrNameLst>
                                      </p:cBhvr>
                                      <p:to>
                                        <p:strVal val="visible"/>
                                      </p:to>
                                    </p:set>
                                    <p:animEffect filter="fade" transition="in">
                                      <p:cBhvr additive="repl">
                                        <p:cTn id="137" dur="500"/>
                                        <p:tgtEl>
                                          <p:spTgt spid="233"/>
                                        </p:tgtEl>
                                      </p:cBhvr>
                                    </p:animEffect>
                                  </p:childTnLst>
                                </p:cTn>
                              </p:par>
                              <p:par>
                                <p:cTn id="138" nodeType="withEffect" fill="hold" presetClass="entr" presetID="55">
                                  <p:stCondLst>
                                    <p:cond delay="0"/>
                                  </p:stCondLst>
                                  <p:childTnLst>
                                    <p:set>
                                      <p:cBhvr>
                                        <p:cTn id="139" dur="1" fill="hold">
                                          <p:stCondLst>
                                            <p:cond delay="0"/>
                                          </p:stCondLst>
                                        </p:cTn>
                                        <p:tgtEl>
                                          <p:spTgt spid="238"/>
                                        </p:tgtEl>
                                        <p:attrNameLst>
                                          <p:attrName>style.visibility</p:attrName>
                                        </p:attrNameLst>
                                      </p:cBhvr>
                                      <p:to>
                                        <p:strVal val="visible"/>
                                      </p:to>
                                    </p:set>
                                    <p:anim calcmode="lin" valueType="num">
                                      <p:cBhvr additive="repl">
                                        <p:cTn id="140" dur="1000" fill="hold"/>
                                        <p:tgtEl>
                                          <p:spTgt spid="238"/>
                                        </p:tgtEl>
                                        <p:attrNameLst>
                                          <p:attrName>ppt_w</p:attrName>
                                        </p:attrNameLst>
                                      </p:cBhvr>
                                      <p:tavLst>
                                        <p:tav tm="0">
                                          <p:val>
                                            <p:strVal val="#ppt_w*0.70"/>
                                          </p:val>
                                        </p:tav>
                                        <p:tav tm="100000">
                                          <p:val>
                                            <p:strVal val="#ppt_w"/>
                                          </p:val>
                                        </p:tav>
                                      </p:tavLst>
                                    </p:anim>
                                    <p:anim calcmode="lin" valueType="num">
                                      <p:cBhvr additive="repl">
                                        <p:cTn id="141" dur="1000" fill="hold"/>
                                        <p:tgtEl>
                                          <p:spTgt spid="238"/>
                                        </p:tgtEl>
                                        <p:attrNameLst>
                                          <p:attrName>ppt_h</p:attrName>
                                        </p:attrNameLst>
                                      </p:cBhvr>
                                      <p:tavLst>
                                        <p:tav tm="0">
                                          <p:val>
                                            <p:strVal val="#ppt_h"/>
                                          </p:val>
                                        </p:tav>
                                        <p:tav tm="100000">
                                          <p:val>
                                            <p:strVal val="#ppt_h"/>
                                          </p:val>
                                        </p:tav>
                                      </p:tavLst>
                                    </p:anim>
                                    <p:animEffect filter="fade" transition="in">
                                      <p:cBhvr additive="repl">
                                        <p:cTn id="142" dur="1000"/>
                                        <p:tgtEl>
                                          <p:spTgt spid="238"/>
                                        </p:tgtEl>
                                      </p:cBhvr>
                                    </p:animEffect>
                                  </p:childTnLst>
                                </p:cTn>
                              </p:par>
                              <p:par>
                                <p:cTn id="143" nodeType="withEffect" fill="hold" presetClass="entr" presetID="55">
                                  <p:stCondLst>
                                    <p:cond delay="0"/>
                                  </p:stCondLst>
                                  <p:childTnLst>
                                    <p:set>
                                      <p:cBhvr>
                                        <p:cTn id="144" dur="1" fill="hold">
                                          <p:stCondLst>
                                            <p:cond delay="0"/>
                                          </p:stCondLst>
                                        </p:cTn>
                                        <p:tgtEl>
                                          <p:spTgt spid="237"/>
                                        </p:tgtEl>
                                        <p:attrNameLst>
                                          <p:attrName>style.visibility</p:attrName>
                                        </p:attrNameLst>
                                      </p:cBhvr>
                                      <p:to>
                                        <p:strVal val="visible"/>
                                      </p:to>
                                    </p:set>
                                    <p:anim calcmode="lin" valueType="num">
                                      <p:cBhvr additive="repl">
                                        <p:cTn id="145" dur="1000" fill="hold"/>
                                        <p:tgtEl>
                                          <p:spTgt spid="237"/>
                                        </p:tgtEl>
                                        <p:attrNameLst>
                                          <p:attrName>ppt_w</p:attrName>
                                        </p:attrNameLst>
                                      </p:cBhvr>
                                      <p:tavLst>
                                        <p:tav tm="0">
                                          <p:val>
                                            <p:strVal val="#ppt_w*0.70"/>
                                          </p:val>
                                        </p:tav>
                                        <p:tav tm="100000">
                                          <p:val>
                                            <p:strVal val="#ppt_w"/>
                                          </p:val>
                                        </p:tav>
                                      </p:tavLst>
                                    </p:anim>
                                    <p:anim calcmode="lin" valueType="num">
                                      <p:cBhvr additive="repl">
                                        <p:cTn id="146" dur="1000" fill="hold"/>
                                        <p:tgtEl>
                                          <p:spTgt spid="237"/>
                                        </p:tgtEl>
                                        <p:attrNameLst>
                                          <p:attrName>ppt_h</p:attrName>
                                        </p:attrNameLst>
                                      </p:cBhvr>
                                      <p:tavLst>
                                        <p:tav tm="0">
                                          <p:val>
                                            <p:strVal val="#ppt_h"/>
                                          </p:val>
                                        </p:tav>
                                        <p:tav tm="100000">
                                          <p:val>
                                            <p:strVal val="#ppt_h"/>
                                          </p:val>
                                        </p:tav>
                                      </p:tavLst>
                                    </p:anim>
                                    <p:animEffect filter="fade" transition="in">
                                      <p:cBhvr additive="repl">
                                        <p:cTn id="147" dur="1000"/>
                                        <p:tgtEl>
                                          <p:spTgt spid="237"/>
                                        </p:tgtEl>
                                      </p:cBhvr>
                                    </p:animEffect>
                                  </p:childTnLst>
                                </p:cTn>
                              </p:par>
                              <p:par>
                                <p:cTn id="148" nodeType="withEffect" fill="hold" presetClass="emph" presetID="27" repeatCount="indefinite">
                                  <p:stCondLst>
                                    <p:cond delay="0"/>
                                  </p:stCondLst>
                                  <p:childTnLst>
                                    <p:animClr clrSpc="rgb">
                                      <p:cBhvr>
                                        <p:cTn id="149" dur="250" autoRev="1" fill="hold"/>
                                        <p:tgtEl>
                                          <p:spTgt spid="237"/>
                                        </p:tgtEl>
                                        <p:attrNameLst>
                                          <p:attrName>style.color</p:attrName>
                                        </p:attrNameLst>
                                      </p:cBhvr>
                                      <p:to>
                                        <a:srgbClr val="ff9900"/>
                                      </p:to>
                                    </p:animClr>
                                    <p:animClr clrSpc="rgb">
                                      <p:cBhvr>
                                        <p:cTn id="150" dur="250" autoRev="1" fill="hold"/>
                                        <p:tgtEl>
                                          <p:spTgt spid="237"/>
                                        </p:tgtEl>
                                        <p:attrNameLst>
                                          <p:attrName>fillcolor</p:attrName>
                                        </p:attrNameLst>
                                      </p:cBhvr>
                                      <p:to>
                                        <a:srgbClr val="ff9900"/>
                                      </p:to>
                                    </p:animClr>
                                    <p:set>
                                      <p:cBhvr>
                                        <p:cTn id="151" dur="250" autoRev="1" fill="hold"/>
                                        <p:tgtEl>
                                          <p:spTgt spid="237"/>
                                        </p:tgtEl>
                                        <p:attrNameLst>
                                          <p:attrName>fill.type</p:attrName>
                                        </p:attrNameLst>
                                      </p:cBhvr>
                                      <p:to>
                                        <p:strVal val="solid"/>
                                      </p:to>
                                    </p:set>
                                  </p:childTnLst>
                                </p:cTn>
                              </p:par>
                              <p:par>
                                <p:cTn id="152" nodeType="withEffect" fill="hold" presetClass="emph" presetID="27" repeatCount="indefinite">
                                  <p:stCondLst>
                                    <p:cond delay="0"/>
                                  </p:stCondLst>
                                  <p:childTnLst>
                                    <p:animClr clrSpc="rgb">
                                      <p:cBhvr>
                                        <p:cTn id="153" dur="250" autoRev="1" fill="hold"/>
                                        <p:tgtEl>
                                          <p:spTgt spid="238"/>
                                        </p:tgtEl>
                                        <p:attrNameLst>
                                          <p:attrName>style.color</p:attrName>
                                        </p:attrNameLst>
                                      </p:cBhvr>
                                      <p:to>
                                        <a:srgbClr val="ff9900"/>
                                      </p:to>
                                    </p:animClr>
                                    <p:animClr clrSpc="rgb">
                                      <p:cBhvr>
                                        <p:cTn id="154" dur="250" autoRev="1" fill="hold"/>
                                        <p:tgtEl>
                                          <p:spTgt spid="238"/>
                                        </p:tgtEl>
                                        <p:attrNameLst>
                                          <p:attrName>fillcolor</p:attrName>
                                        </p:attrNameLst>
                                      </p:cBhvr>
                                      <p:to>
                                        <a:srgbClr val="ff9900"/>
                                      </p:to>
                                    </p:animClr>
                                    <p:set>
                                      <p:cBhvr>
                                        <p:cTn id="155" dur="250" autoRev="1" fill="hold"/>
                                        <p:tgtEl>
                                          <p:spTgt spid="2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 Enigma</a:t>
            </a:r>
            <a:endParaRPr b="0" lang="en-US" sz="4400" spc="-1" strike="noStrike">
              <a:solidFill>
                <a:srgbClr val="ffffff"/>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abies virus does not usually kill neurons it infe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ns most likely to have the virus are in the hippocampus and cerebral cortex – brain areas that do not affect life and death.</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o why does rabies kill?</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knows!</a:t>
            </a:r>
            <a:endParaRPr b="0" lang="en-US" sz="2400" spc="-1" strike="noStrike">
              <a:solidFill>
                <a:srgbClr val="ffffff"/>
              </a:solidFill>
              <a:latin typeface="Times New Roman"/>
            </a:endParaRPr>
          </a:p>
        </p:txBody>
      </p:sp>
      <p:sp>
        <p:nvSpPr>
          <p:cNvPr id="2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8.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are the symptoms?</a:t>
            </a:r>
            <a:endParaRPr b="0" lang="en-US" sz="4400" spc="-1" strike="noStrike">
              <a:solidFill>
                <a:srgbClr val="ffffff"/>
              </a:solidFill>
              <a:latin typeface="Times New Roman"/>
            </a:endParaRPr>
          </a:p>
        </p:txBody>
      </p:sp>
      <p:sp>
        <p:nvSpPr>
          <p:cNvPr id="244" name="PlaceHolder 2"/>
          <p:cNvSpPr>
            <a:spLocks noGrp="1"/>
          </p:cNvSpPr>
          <p:nvPr>
            <p:ph/>
          </p:nvPr>
        </p:nvSpPr>
        <p:spPr>
          <a:xfrm>
            <a:off x="4355640" y="1981080"/>
            <a:ext cx="4102200" cy="4114800"/>
          </a:xfrm>
          <a:prstGeom prst="rect">
            <a:avLst/>
          </a:prstGeom>
          <a:noFill/>
          <a:ln w="0">
            <a:noFill/>
          </a:ln>
        </p:spPr>
        <p:txBody>
          <a:bodyPr lIns="90000" rIns="90000" tIns="46800" bIns="46800" anchor="t">
            <a:normAutofit fontScale="96000"/>
          </a:bodyPr>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isease has three stages.</a:t>
            </a:r>
            <a:endParaRPr b="0" lang="en-US" sz="2400" spc="-1" strike="noStrike">
              <a:solidFill>
                <a:srgbClr val="ffffff"/>
              </a:solidFill>
              <a:latin typeface="Times New Roman"/>
            </a:endParaRPr>
          </a:p>
          <a:p>
            <a:pPr marL="511920" indent="-51192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rodromal:</a:t>
            </a:r>
            <a:r>
              <a:rPr b="0" lang="en-US" sz="2400" spc="-1" strike="noStrike">
                <a:solidFill>
                  <a:srgbClr val="ffffff"/>
                </a:solidFill>
                <a:latin typeface="Times New Roman"/>
              </a:rPr>
              <a:t> Animal changes personality. For example, a shy animal becomes friendly.</a:t>
            </a:r>
            <a:endParaRPr b="0" lang="en-US" sz="2400" spc="-1" strike="noStrike">
              <a:solidFill>
                <a:srgbClr val="ffffff"/>
              </a:solidFill>
              <a:latin typeface="Times New Roman"/>
            </a:endParaRPr>
          </a:p>
          <a:p>
            <a:pPr marL="511920" indent="-51192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urious:</a:t>
            </a:r>
            <a:r>
              <a:rPr b="0" lang="en-US" sz="2400" spc="-1" strike="noStrike">
                <a:solidFill>
                  <a:srgbClr val="ffffff"/>
                </a:solidFill>
                <a:latin typeface="Times New Roman"/>
              </a:rPr>
              <a:t> Animal becomes angry, commonly bites, and might continuously drool.</a:t>
            </a:r>
            <a:endParaRPr b="0" lang="en-US" sz="2400" spc="-1" strike="noStrike">
              <a:solidFill>
                <a:srgbClr val="ffffff"/>
              </a:solidFill>
              <a:latin typeface="Times New Roman"/>
            </a:endParaRPr>
          </a:p>
          <a:p>
            <a:pPr marL="511920" indent="-51192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aralytic:</a:t>
            </a:r>
            <a:r>
              <a:rPr b="0" lang="en-US" sz="2400" spc="-1" strike="noStrike">
                <a:solidFill>
                  <a:srgbClr val="ffffff"/>
                </a:solidFill>
                <a:latin typeface="Times New Roman"/>
              </a:rPr>
              <a:t> Animal loses the ability to move, especially in the jaw, and will drool even more.</a:t>
            </a:r>
            <a:endParaRPr b="0" lang="en-US" sz="2400" spc="-1" strike="noStrike">
              <a:solidFill>
                <a:srgbClr val="ffffff"/>
              </a:solidFill>
              <a:latin typeface="Times New Roman"/>
            </a:endParaRPr>
          </a:p>
        </p:txBody>
      </p:sp>
      <p:sp>
        <p:nvSpPr>
          <p:cNvPr id="245" name=""/>
          <p:cNvSpPr/>
          <p:nvPr/>
        </p:nvSpPr>
        <p:spPr>
          <a:xfrm>
            <a:off x="431640" y="5159520"/>
            <a:ext cx="3733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t usually takes 1-3 months for symptoms to appear after an animal is infected with the virus.</a:t>
            </a:r>
            <a:endParaRPr b="0" lang="en-US" sz="2000" spc="-1" strike="noStrike">
              <a:solidFill>
                <a:srgbClr val="ffffff"/>
              </a:solidFill>
              <a:latin typeface="Times New Roman"/>
            </a:endParaRPr>
          </a:p>
        </p:txBody>
      </p:sp>
      <p:pic>
        <p:nvPicPr>
          <p:cNvPr id="246" name="" descr=""/>
          <p:cNvPicPr/>
          <p:nvPr/>
        </p:nvPicPr>
        <p:blipFill>
          <a:blip r:embed="rId2"/>
          <a:stretch/>
        </p:blipFill>
        <p:spPr>
          <a:xfrm>
            <a:off x="973080" y="1916280"/>
            <a:ext cx="3167280" cy="3009600"/>
          </a:xfrm>
          <a:prstGeom prst="rect">
            <a:avLst/>
          </a:prstGeom>
          <a:ln w="0">
            <a:noFill/>
          </a:ln>
        </p:spPr>
      </p:pic>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9.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7:46:07Z</dcterms:created>
  <dc:creator>W.K</dc:creator>
  <dc:description/>
  <dc:language>en-US</dc:language>
  <cp:lastModifiedBy>Jeremiah McNichols</cp:lastModifiedBy>
  <dcterms:modified xsi:type="dcterms:W3CDTF">2005-05-26T17:18:59Z</dcterms:modified>
  <cp:revision>33</cp:revision>
  <dc:subject/>
  <dc:title>Rabies</dc:title>
</cp:coreProperties>
</file>