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334D-29E9-4C02-99A4-7316D0855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EC84-EE17-4CCF-BD7F-D289D2A7A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7E3E-A7F1-4840-9F17-5C94A02BB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26D2-026A-4805-AEDD-8C645AC4B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865A-ABDD-4A2F-AD9F-BE2FDD892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659E-FE83-4D01-9245-C877395A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F6AB-4825-4E90-8510-62FF6248A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FDAF-3517-4138-8F20-A307F4132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B1B1-99CC-4FED-8CFA-FF3293656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71CB-1B96-49CB-84BB-3097B650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19CB-01A3-4A2B-807A-4714260B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269F-0FF4-4AFD-A388-0A8A78E1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9A969-C002-4132-B0D7-218AB0E0C11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 col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y diarrhea, abdominal cramps,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4004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meat, contaminated human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3:47Z</dcterms:modified>
  <cp:revision>52</cp:revision>
  <dc:subject/>
  <dc:title>Hazards</dc:title>
</cp:coreProperties>
</file>