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9B3-F96A-4197-A202-88ABB6D4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A88-188D-42BE-9F49-D94D07E8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3B36-CA50-48D7-AD40-C63190D1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3C7-720F-49C0-8D99-2A4FDADD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379-2774-4A72-B2B8-87A5DFAF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7C9-DAA9-4043-93C2-557D601C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8F99-F1BD-4841-8954-C32E4C69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90E-CA88-40EA-B650-212D5075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4FE-0EBB-44D2-910F-B38ECAF4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3B05-B26A-4ED2-837C-82150780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3D6-0A2E-405F-A2DF-FBC7926F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533-886E-4169-93B6-0C51C939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0D8C-C32A-497C-8683-EF07AB6432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00Z</dcterms:modified>
  <cp:revision>47</cp:revision>
  <dc:subject/>
  <dc:title>Hazards</dc:title>
</cp:coreProperties>
</file>