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AD8-412C-491D-93D4-EBE403E8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2 of 3: In three slides, the process by which viruses travel along spinal nerve cells’ microtub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3 of 3: In three slides, the process by which viruses travel along spinal nerve cells’ microtub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A red line ascends along a microtubule, followed by a red pulse, to indicate the passage of the virus through the microtub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 / (0.008 meters/hr) = 125 hours; 125 hours / (24 hr/day) = 5.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400,000 to 2:  200,000 times more people die from cigarettes than ba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Probability and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 covered in this pres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D) Select appropriate tools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mensions are from the CDC website on rabies and the rhabdovi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volume of cylinder + volume of hemispherical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 Generate formulas for perimeter, area,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A) Make formulas, for conversions, perimeter, area, volume, and sc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8 (B) Connect models to formulas for volumes of different 3-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, slide 1 of 3: In the following three slides, the process by which viruses travel along spinal nerve cells’ microtubules, along with accompanying ani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our nerve cells are very long. The nerve cells from our feet to our spinal cord are around a meter in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 contain microtubules that extend along the entire length of the nerve cell. (Nerve cell splits to reveal microtubule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viruses hitch a ride on these microtubules. (Virus and pathway appear, and subway car races in, picks up virus, and races off aga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41B-D83A-4670-8AA7-2A8506C3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E705-C51E-4B88-88D8-B595838E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3D6-C0BC-4B7D-AFED-58291C68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51C-19D6-477E-A10A-AD70D9F9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A40-5A00-4BA1-BCAA-AD1C391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88C-64AF-4F19-BE61-4D759129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A76-2FE9-463E-BB87-077E663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BEE-F919-4AC0-ADD1-CE50529B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1A1-4788-4AF5-B4D9-553AFB0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25B-8733-4FF6-A717-44CCBF8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597-DA59-49AC-9626-9655D60E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3CB-3CCE-4075-AA09-8AF8416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992-DA13-4087-BD39-F0BEC379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693400">
            <a:off x="1673280" y="3406320"/>
            <a:ext cx="13906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444200">
            <a:off x="2400480" y="961560"/>
            <a:ext cx="97308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3646200">
            <a:off x="4044600" y="145800"/>
            <a:ext cx="784080" cy="94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19624800">
            <a:off x="2317680" y="556236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4759200">
            <a:off x="5997960" y="-118080"/>
            <a:ext cx="658800" cy="797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4968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bability and Geometry of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448080" y="4130280"/>
            <a:ext cx="55245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ve cells contain microtubules that extend along the entire length of the nerv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72600" y="1971000"/>
            <a:ext cx="1990080" cy="1987560"/>
            <a:chOff x="2172600" y="1971000"/>
            <a:chExt cx="1990080" cy="1987560"/>
          </a:xfrm>
        </p:grpSpPr>
        <p:sp>
          <p:nvSpPr>
            <p:cNvPr id="185" name=""/>
            <p:cNvSpPr/>
            <p:nvPr/>
          </p:nvSpPr>
          <p:spPr>
            <a:xfrm rot="2640600">
              <a:off x="2438280" y="2287440"/>
              <a:ext cx="1458720" cy="135432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640600">
              <a:off x="3271320" y="24480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640600">
              <a:off x="3480840" y="263844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40600">
              <a:off x="3024000" y="25045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640600">
              <a:off x="3233520" y="269496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640600">
              <a:off x="3423600" y="29052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640600">
              <a:off x="2757240" y="252360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640600">
              <a:off x="2947320" y="275256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640600">
              <a:off x="3156840" y="29620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640600">
              <a:off x="3366360" y="31906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640600">
              <a:off x="2662200" y="27712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640600">
              <a:off x="2871720" y="29617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640600">
              <a:off x="3062160" y="317124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640600">
              <a:off x="2623680" y="30384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640600">
              <a:off x="2833560" y="32284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rot="2640600">
            <a:off x="6248520" y="-1525320"/>
            <a:ext cx="1458720" cy="13543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4125 -0.55 E">
                                      <p:cBhvr>
                                        <p:cTn id="1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5400000">
            <a:off x="8460000" y="2493000"/>
            <a:ext cx="244656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8629560" y="1862280"/>
            <a:ext cx="8486640" cy="1662120"/>
            <a:chOff x="-8629560" y="1862280"/>
            <a:chExt cx="8486640" cy="1662120"/>
          </a:xfrm>
        </p:grpSpPr>
        <p:grpSp>
          <p:nvGrpSpPr>
            <p:cNvPr id="205" name=""/>
            <p:cNvGrpSpPr/>
            <p:nvPr/>
          </p:nvGrpSpPr>
          <p:grpSpPr>
            <a:xfrm>
              <a:off x="-8629560" y="1862280"/>
              <a:ext cx="8486640" cy="1662120"/>
              <a:chOff x="-8629560" y="1862280"/>
              <a:chExt cx="8486640" cy="1662120"/>
            </a:xfrm>
          </p:grpSpPr>
          <p:sp>
            <p:nvSpPr>
              <p:cNvPr id="206" name=""/>
              <p:cNvSpPr/>
              <p:nvPr/>
            </p:nvSpPr>
            <p:spPr>
              <a:xfrm>
                <a:off x="-7581600" y="1866960"/>
                <a:ext cx="6417720" cy="1657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2400120" y="1862280"/>
                <a:ext cx="2257200" cy="16621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0800000">
                <a:off x="-8629560" y="1866960"/>
                <a:ext cx="2257200" cy="16574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2304720" y="2038680"/>
                <a:ext cx="84708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84400">
                <a:off x="-1085760" y="2086200"/>
                <a:ext cx="780840" cy="485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8616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5295600" y="2038680"/>
                <a:ext cx="84708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628632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7277040" y="2038680"/>
                <a:ext cx="847440" cy="6001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941600">
                <a:off x="-8419680" y="2066760"/>
                <a:ext cx="780840" cy="485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8001000" y="2829240"/>
                <a:ext cx="7619760" cy="209520"/>
              </a:xfrm>
              <a:prstGeom prst="parallelogram">
                <a:avLst>
                  <a:gd name="adj" fmla="val 909192"/>
                </a:avLst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-3362400" y="1971720"/>
              <a:ext cx="990720" cy="1466640"/>
              <a:chOff x="-3362400" y="1971720"/>
              <a:chExt cx="990720" cy="1466640"/>
            </a:xfrm>
          </p:grpSpPr>
          <p:sp>
            <p:nvSpPr>
              <p:cNvPr id="218" name=""/>
              <p:cNvSpPr/>
              <p:nvPr/>
            </p:nvSpPr>
            <p:spPr>
              <a:xfrm>
                <a:off x="-3362400" y="1971720"/>
                <a:ext cx="990720" cy="1466640"/>
              </a:xfrm>
              <a:custGeom>
                <a:avLst/>
                <a:gdLst>
                  <a:gd name="textAreaLeft" fmla="*/ 48240 w 990720"/>
                  <a:gd name="textAreaRight" fmla="*/ 942480 w 990720"/>
                  <a:gd name="textAreaTop" fmla="*/ 48240 h 1466640"/>
                  <a:gd name="textAreaBottom" fmla="*/ 1418400 h 1466640"/>
                </a:gdLst>
                <a:ahLst/>
                <a:rect l="textAreaLeft" t="textAreaTop" r="textAreaRight" b="textAreaBottom"/>
                <a:pathLst>
                  <a:path w="21600" h="31972">
                    <a:moveTo>
                      <a:pt x="3600" y="0"/>
                    </a:moveTo>
                    <a:arcTo wR="3600" hR="3600" stAng="16200000" swAng="-5400000"/>
                    <a:lnTo>
                      <a:pt x="0" y="28372"/>
                    </a:lnTo>
                    <a:arcTo wR="3600" hR="3600" stAng="10800000" swAng="-5400000"/>
                    <a:lnTo>
                      <a:pt x="18000" y="319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362400" y="2838240"/>
                <a:ext cx="990720" cy="20916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295800" y="2037960"/>
                <a:ext cx="847800" cy="59976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48080" y="4130280"/>
            <a:ext cx="55245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viruses hitch a ride on these microtub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753080" y="1971720"/>
            <a:ext cx="990360" cy="1447560"/>
            <a:chOff x="4753080" y="1971720"/>
            <a:chExt cx="990360" cy="1447560"/>
          </a:xfrm>
        </p:grpSpPr>
        <p:sp>
          <p:nvSpPr>
            <p:cNvPr id="239" name=""/>
            <p:cNvSpPr/>
            <p:nvPr/>
          </p:nvSpPr>
          <p:spPr>
            <a:xfrm>
              <a:off x="4753080" y="1971720"/>
              <a:ext cx="990360" cy="144756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447560"/>
                <a:gd name="textAreaBottom" fmla="*/ 1399320 h 1447560"/>
              </a:gdLst>
              <a:ahLst/>
              <a:rect l="textAreaLeft" t="textAreaTop" r="textAreaRight" b="textAreaBottom"/>
              <a:pathLst>
                <a:path w="21600" h="31568">
                  <a:moveTo>
                    <a:pt x="3600" y="0"/>
                  </a:moveTo>
                  <a:arcTo wR="3600" hR="3600" stAng="16200000" swAng="-5400000"/>
                  <a:lnTo>
                    <a:pt x="0" y="27968"/>
                  </a:lnTo>
                  <a:arcTo wR="3600" hR="3600" stAng="10800000" swAng="-5400000"/>
                  <a:lnTo>
                    <a:pt x="18000" y="31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53080" y="2933640"/>
              <a:ext cx="9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57480" y="2057400"/>
              <a:ext cx="761760" cy="4950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43360" y="1962000"/>
            <a:ext cx="990720" cy="1467000"/>
            <a:chOff x="4743360" y="1962000"/>
            <a:chExt cx="990720" cy="1467000"/>
          </a:xfrm>
        </p:grpSpPr>
        <p:sp>
          <p:nvSpPr>
            <p:cNvPr id="243" name=""/>
            <p:cNvSpPr/>
            <p:nvPr/>
          </p:nvSpPr>
          <p:spPr>
            <a:xfrm>
              <a:off x="4743360" y="1962000"/>
              <a:ext cx="990720" cy="1467000"/>
            </a:xfrm>
            <a:custGeom>
              <a:avLst/>
              <a:gdLst>
                <a:gd name="textAreaLeft" fmla="*/ 48240 w 990720"/>
                <a:gd name="textAreaRight" fmla="*/ 942480 w 990720"/>
                <a:gd name="textAreaTop" fmla="*/ 48240 h 1467000"/>
                <a:gd name="textAreaBottom" fmla="*/ 1418760 h 1467000"/>
              </a:gdLst>
              <a:ahLst/>
              <a:rect l="textAreaLeft" t="textAreaTop" r="textAreaRight" b="textAreaBottom"/>
              <a:pathLst>
                <a:path w="21600" h="31980">
                  <a:moveTo>
                    <a:pt x="3600" y="0"/>
                  </a:moveTo>
                  <a:arcTo wR="3600" hR="3600" stAng="16200000" swAng="-5400000"/>
                  <a:lnTo>
                    <a:pt x="0" y="28380"/>
                  </a:lnTo>
                  <a:arcTo wR="3600" hR="3600" stAng="10800000" swAng="-5400000"/>
                  <a:lnTo>
                    <a:pt x="18000" y="319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43360" y="2828880"/>
              <a:ext cx="990720" cy="20952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09960" y="2028600"/>
              <a:ext cx="847800" cy="6001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312320" y="2716200"/>
            <a:ext cx="792720" cy="1050120"/>
            <a:chOff x="7312320" y="2716200"/>
            <a:chExt cx="792720" cy="1050120"/>
          </a:xfrm>
        </p:grpSpPr>
        <p:grpSp>
          <p:nvGrpSpPr>
            <p:cNvPr id="247" name=""/>
            <p:cNvGrpSpPr/>
            <p:nvPr/>
          </p:nvGrpSpPr>
          <p:grpSpPr>
            <a:xfrm>
              <a:off x="7512120" y="2716200"/>
              <a:ext cx="411480" cy="960120"/>
              <a:chOff x="7512120" y="2716200"/>
              <a:chExt cx="411480" cy="960120"/>
            </a:xfrm>
          </p:grpSpPr>
          <p:sp>
            <p:nvSpPr>
              <p:cNvPr id="248" name=""/>
              <p:cNvSpPr/>
              <p:nvPr/>
            </p:nvSpPr>
            <p:spPr>
              <a:xfrm>
                <a:off x="7512120" y="2716200"/>
                <a:ext cx="411480" cy="617400"/>
              </a:xfrm>
              <a:prstGeom prst="octagon">
                <a:avLst>
                  <a:gd name="adj" fmla="val 29287"/>
                </a:avLst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48920" y="3127680"/>
                <a:ext cx="136800" cy="548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692120" y="3402000"/>
              <a:ext cx="412920" cy="362880"/>
              <a:chOff x="7692120" y="3402000"/>
              <a:chExt cx="412920" cy="36288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7727760" y="340200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99480" y="340236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726320" y="348912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7680" y="348948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692120" y="355896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63480" y="355932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2320" y="3403440"/>
              <a:ext cx="412920" cy="362880"/>
              <a:chOff x="7312320" y="3403440"/>
              <a:chExt cx="412920" cy="362880"/>
            </a:xfrm>
          </p:grpSpPr>
          <p:sp>
            <p:nvSpPr>
              <p:cNvPr id="258" name=""/>
              <p:cNvSpPr/>
              <p:nvPr/>
            </p:nvSpPr>
            <p:spPr>
              <a:xfrm flipH="1" flipV="1">
                <a:off x="7484040" y="340344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312320" y="340380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7485480" y="349056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314120" y="349092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7519680" y="3560400"/>
                <a:ext cx="205560" cy="68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348320" y="3560760"/>
                <a:ext cx="205560" cy="20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686560" y="1943280"/>
            <a:ext cx="990360" cy="1466640"/>
            <a:chOff x="5686560" y="1943280"/>
            <a:chExt cx="990360" cy="1466640"/>
          </a:xfrm>
        </p:grpSpPr>
        <p:sp>
          <p:nvSpPr>
            <p:cNvPr id="265" name=""/>
            <p:cNvSpPr/>
            <p:nvPr/>
          </p:nvSpPr>
          <p:spPr>
            <a:xfrm>
              <a:off x="5686560" y="1943280"/>
              <a:ext cx="990360" cy="1466640"/>
            </a:xfrm>
            <a:custGeom>
              <a:avLst/>
              <a:gdLst>
                <a:gd name="textAreaLeft" fmla="*/ 48240 w 990360"/>
                <a:gd name="textAreaRight" fmla="*/ 942120 w 990360"/>
                <a:gd name="textAreaTop" fmla="*/ 48240 h 1466640"/>
                <a:gd name="textAreaBottom" fmla="*/ 1418400 h 1466640"/>
              </a:gdLst>
              <a:ahLst/>
              <a:rect l="textAreaLeft" t="textAreaTop" r="textAreaRight" b="textAreaBottom"/>
              <a:pathLst>
                <a:path w="21600" h="31984">
                  <a:moveTo>
                    <a:pt x="3600" y="0"/>
                  </a:moveTo>
                  <a:arcTo wR="3600" hR="3600" stAng="16200000" swAng="-5400000"/>
                  <a:lnTo>
                    <a:pt x="0" y="28384"/>
                  </a:lnTo>
                  <a:arcTo wR="3600" hR="3600" stAng="10800000" swAng="-5400000"/>
                  <a:lnTo>
                    <a:pt x="18000" y="319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86560" y="2809800"/>
              <a:ext cx="990360" cy="20916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2800" y="2009520"/>
              <a:ext cx="847440" cy="5997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416 -2.59259E-006 L 0.88646 -2.59259E-006 E">
                                      <p:cBhvr>
                                        <p:cTn id="2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162 L 0.10295 -0.00162 E">
                                      <p:cBhvr>
                                        <p:cTn id="3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55112E-017 C -0.01285 -0.00787 -0.02691 -0.00278 -0.03958 -0.00185 C -0.04358 -0.00116 -0.04774 -0.00023 -0.05174 -5.55112E-017 C -0.06893 0.00116 -0.08611 0.00046 -0.1033 0.00208 C -0.1033 0.00231 -0.11337 0.00671 -0.11545 0.00787 C -0.11858 0.00926 -0.1382 0.01157 -0.13872 0.01157 C -0.1724 0.05417 -0.14202 0.01736 -0.25208 0.01343 C -0.25781 0.01319 -0.26372 -0.00093 -0.26719 -0.00764 C -0.26927 -0.01134 -0.27327 -0.01898 -0.27327 -0.01875 C -0.27535 -0.03079 -0.27726 -0.04144 -0.2783 -0.05347 C -0.27795 -0.06273 -0.28021 -0.08727 -0.27222 -0.08218 C -0.26893 -0.07269 -0.27031 -0.0787 -0.27031 -0.06319 E">
                                      <p:cBhvr>
                                        <p:cTn id="3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116 L -0.10226 0.00116 E">
                                      <p:cBhvr>
                                        <p:cTn id="4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646 -2.59259E-006 L 2.08334 -2.59259E-006 E">
                                      <p:cBhvr>
                                        <p:cTn id="64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 rot="5400000">
            <a:off x="8460000" y="2493000"/>
            <a:ext cx="2446560" cy="469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914400" y="3200400"/>
            <a:ext cx="1790640" cy="179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67120" y="3668760"/>
            <a:ext cx="47149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one virus particle infected your foot and made its way into a microtubule. If the distance to your spinal cord was 1 meter, how many days would it take for the virus to get to our spinal cord if it moved at 0.008 meters per h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8020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1" presetSubtype="6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angerous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2838600"/>
            <a:ext cx="777240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2 people in the United States die each year as a result of bat b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400,000 people in the United States die each year due to smoking related ill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times more people do cigarettes kill than bats ki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94440" y="1143000"/>
            <a:ext cx="1511280" cy="12351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213080" y="155880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2127240" y="1197000"/>
            <a:ext cx="2031840" cy="1336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305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7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rabies can spread through a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how probability affects the spread of th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data for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geometry of vir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 in the sto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ck and Jace explore the cave, looking for Tick’s dog, Pe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ree of them explore outside the c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ee a sick-looking calf following its m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lso see a skunk and a coyote fight. The skunk wins the f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st storm starts, and they ret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into the c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4711680"/>
            <a:ext cx="19051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Math Behind Viru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26287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re viruses shap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big are viru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Volume of the Rhabdovi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9520" y="1599840"/>
            <a:ext cx="4819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bies is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habdovir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of a rhabdovirus is shaped like a hemisphere and the remaining portion of the bullet is shaped like a cylin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dimensions shown in the drawing, what is the volume of a rhabdovir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74520" y="1165680"/>
            <a:ext cx="1897920" cy="1871280"/>
            <a:chOff x="4574520" y="1165680"/>
            <a:chExt cx="1897920" cy="1871280"/>
          </a:xfrm>
        </p:grpSpPr>
        <p:sp>
          <p:nvSpPr>
            <p:cNvPr id="64" name=""/>
            <p:cNvSpPr/>
            <p:nvPr/>
          </p:nvSpPr>
          <p:spPr>
            <a:xfrm rot="18954000">
              <a:off x="5703480" y="12780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954000">
              <a:off x="4593960" y="187452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65200" y="2006280"/>
            <a:ext cx="2081160" cy="1244520"/>
            <a:chOff x="6865200" y="2006280"/>
            <a:chExt cx="2081160" cy="1244520"/>
          </a:xfrm>
        </p:grpSpPr>
        <p:sp>
          <p:nvSpPr>
            <p:cNvPr id="67" name=""/>
            <p:cNvSpPr/>
            <p:nvPr/>
          </p:nvSpPr>
          <p:spPr>
            <a:xfrm rot="20587800">
              <a:off x="8247600" y="207936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587800">
              <a:off x="6932880" y="232848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697720" y="1276920"/>
            <a:ext cx="1662120" cy="2027160"/>
            <a:chOff x="5697720" y="1276920"/>
            <a:chExt cx="1662120" cy="2027160"/>
          </a:xfrm>
        </p:grpSpPr>
        <p:sp>
          <p:nvSpPr>
            <p:cNvPr id="70" name=""/>
            <p:cNvSpPr/>
            <p:nvPr/>
          </p:nvSpPr>
          <p:spPr>
            <a:xfrm rot="7391400">
              <a:off x="5854680" y="25038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391400">
              <a:off x="5826960" y="178668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896000" y="2890440"/>
            <a:ext cx="1200960" cy="2077200"/>
            <a:chOff x="4896000" y="2890440"/>
            <a:chExt cx="1200960" cy="2077200"/>
          </a:xfrm>
        </p:grpSpPr>
        <p:sp>
          <p:nvSpPr>
            <p:cNvPr id="73" name=""/>
            <p:cNvSpPr/>
            <p:nvPr/>
          </p:nvSpPr>
          <p:spPr>
            <a:xfrm rot="15277200">
              <a:off x="5011920" y="29250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5277200">
              <a:off x="4744800" y="375012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58120" y="4309560"/>
            <a:ext cx="2037240" cy="1634760"/>
            <a:chOff x="6558120" y="4309560"/>
            <a:chExt cx="2037240" cy="1634760"/>
          </a:xfrm>
        </p:grpSpPr>
        <p:sp>
          <p:nvSpPr>
            <p:cNvPr id="76" name=""/>
            <p:cNvSpPr/>
            <p:nvPr/>
          </p:nvSpPr>
          <p:spPr>
            <a:xfrm rot="12717000">
              <a:off x="6698520" y="4417200"/>
              <a:ext cx="60912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2717000">
              <a:off x="6930000" y="4869360"/>
              <a:ext cx="159984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902480" y="4951080"/>
            <a:ext cx="2082240" cy="1249560"/>
            <a:chOff x="4902480" y="4951080"/>
            <a:chExt cx="2082240" cy="1249560"/>
          </a:xfrm>
        </p:grpSpPr>
        <p:sp>
          <p:nvSpPr>
            <p:cNvPr id="79" name=""/>
            <p:cNvSpPr/>
            <p:nvPr/>
          </p:nvSpPr>
          <p:spPr>
            <a:xfrm rot="1026000">
              <a:off x="6284880" y="542160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26000">
              <a:off x="4970520" y="517068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47560" y="3356280"/>
            <a:ext cx="1962360" cy="708840"/>
            <a:chOff x="5947560" y="3356280"/>
            <a:chExt cx="1962360" cy="708840"/>
          </a:xfrm>
        </p:grpSpPr>
        <p:sp>
          <p:nvSpPr>
            <p:cNvPr id="83" name=""/>
            <p:cNvSpPr/>
            <p:nvPr/>
          </p:nvSpPr>
          <p:spPr>
            <a:xfrm rot="21594600">
              <a:off x="7299720" y="3356640"/>
              <a:ext cx="609480" cy="704880"/>
            </a:xfrm>
            <a:prstGeom prst="flowChartDelay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1594600">
              <a:off x="5947920" y="3358800"/>
              <a:ext cx="1600200" cy="7048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495680" y="6019920"/>
            <a:ext cx="472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easurements are in nanometers (nm).  A nanometer is on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illion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876640" y="3358800"/>
            <a:ext cx="2834280" cy="1232280"/>
            <a:chOff x="5876640" y="3358800"/>
            <a:chExt cx="2834280" cy="1232280"/>
          </a:xfrm>
        </p:grpSpPr>
        <p:grpSp>
          <p:nvGrpSpPr>
            <p:cNvPr id="87" name=""/>
            <p:cNvGrpSpPr/>
            <p:nvPr/>
          </p:nvGrpSpPr>
          <p:grpSpPr>
            <a:xfrm>
              <a:off x="5956200" y="3359160"/>
              <a:ext cx="1962000" cy="704880"/>
              <a:chOff x="5956200" y="3359160"/>
              <a:chExt cx="1962000" cy="704880"/>
            </a:xfrm>
          </p:grpSpPr>
          <p:sp>
            <p:nvSpPr>
              <p:cNvPr id="88" name=""/>
              <p:cNvSpPr/>
              <p:nvPr/>
            </p:nvSpPr>
            <p:spPr>
              <a:xfrm>
                <a:off x="7308720" y="3359160"/>
                <a:ext cx="609480" cy="704880"/>
              </a:xfrm>
              <a:prstGeom prst="flowChartDelay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56200" y="3359160"/>
                <a:ext cx="1600200" cy="70488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77200" y="41148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2280" y="4343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876640" y="434340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81560" y="41148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0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77000" y="41148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947000" y="3358800"/>
              <a:ext cx="763920" cy="705240"/>
              <a:chOff x="7947000" y="3358800"/>
              <a:chExt cx="763920" cy="705240"/>
            </a:xfrm>
          </p:grpSpPr>
          <p:sp>
            <p:nvSpPr>
              <p:cNvPr id="96" name=""/>
              <p:cNvSpPr/>
              <p:nvPr/>
            </p:nvSpPr>
            <p:spPr>
              <a:xfrm>
                <a:off x="7966080" y="4064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146800" y="38354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8146800" y="3358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50960" y="352116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5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7000" y="3359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lculate the Volume of the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of cylinde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×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3.14 × (75 n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× 18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3,179,250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-216720" y="3962520"/>
            <a:ext cx="4331160" cy="2695320"/>
            <a:chOff x="-216720" y="3962520"/>
            <a:chExt cx="4331160" cy="2695320"/>
          </a:xfrm>
        </p:grpSpPr>
        <p:sp>
          <p:nvSpPr>
            <p:cNvPr id="104" name=""/>
            <p:cNvSpPr/>
            <p:nvPr/>
          </p:nvSpPr>
          <p:spPr>
            <a:xfrm rot="2863800">
              <a:off x="37800" y="5067000"/>
              <a:ext cx="1371600" cy="12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571500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971800" y="5638320"/>
              <a:ext cx="1142640" cy="3812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142640" y="6172200"/>
              <a:ext cx="129492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560" y="3962520"/>
              <a:ext cx="304560" cy="13716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33560" y="4191120"/>
              <a:ext cx="38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culate the Volume of the 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Volume of hemisphere = ½ vol. of sphe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½ × (4/3) ×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× r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½ × 4/3 × 3.14 × (75nm)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8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= 883,125 n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175120" cy="2174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533520" y="3885840"/>
            <a:ext cx="1904760" cy="1066680"/>
          </a:xfrm>
          <a:prstGeom prst="line">
            <a:avLst/>
          </a:prstGeom>
          <a:ln w="3168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1148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ting it togeth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 = Volume of cylinder + Volume of hemispherical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Volume = 3,179,250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+ 883,125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4,062,375 n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at’s 4 million cubic nanomet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2666520"/>
            <a:ext cx="3111480" cy="1524240"/>
            <a:chOff x="3059280" y="2666520"/>
            <a:chExt cx="3111480" cy="1524240"/>
          </a:xfrm>
        </p:grpSpPr>
        <p:grpSp>
          <p:nvGrpSpPr>
            <p:cNvPr id="118" name=""/>
            <p:cNvGrpSpPr/>
            <p:nvPr/>
          </p:nvGrpSpPr>
          <p:grpSpPr>
            <a:xfrm>
              <a:off x="3059280" y="2666880"/>
              <a:ext cx="2315160" cy="1523880"/>
              <a:chOff x="3059280" y="2666880"/>
              <a:chExt cx="2315160" cy="15238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149640" y="2666880"/>
                <a:ext cx="2224800" cy="871200"/>
                <a:chOff x="3149640" y="2666880"/>
                <a:chExt cx="2224800" cy="871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683240" y="2666880"/>
                  <a:ext cx="691200" cy="871200"/>
                </a:xfrm>
                <a:prstGeom prst="flowChartDelay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149640" y="2666880"/>
                  <a:ext cx="1814760" cy="871200"/>
                </a:xfrm>
                <a:prstGeom prst="rect">
                  <a:avLst/>
                </a:prstGeom>
                <a:solidFill>
                  <a:srgbClr val="9933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873680" y="3601800"/>
                <a:ext cx="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27360" y="388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3059280" y="388440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63480" y="367164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80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59280" y="3601800"/>
                <a:ext cx="0" cy="58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406840" y="2666520"/>
              <a:ext cx="763920" cy="871560"/>
              <a:chOff x="5406840" y="2666520"/>
              <a:chExt cx="763920" cy="871560"/>
            </a:xfrm>
          </p:grpSpPr>
          <p:sp>
            <p:nvSpPr>
              <p:cNvPr id="128" name=""/>
              <p:cNvSpPr/>
              <p:nvPr/>
            </p:nvSpPr>
            <p:spPr>
              <a:xfrm>
                <a:off x="5428440" y="35380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33280" y="3255480"/>
                <a:ext cx="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633280" y="2666520"/>
                <a:ext cx="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0800" y="2867040"/>
                <a:ext cx="75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5 n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6840" y="26668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640600">
            <a:off x="3295440" y="24480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640600">
            <a:off x="3504960" y="2638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640600">
            <a:off x="3047760" y="25052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640600">
            <a:off x="3257280" y="269568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640600">
            <a:off x="3447720" y="290520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640600">
            <a:off x="651960" y="4078080"/>
            <a:ext cx="1459080" cy="13539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40600">
            <a:off x="2781360" y="25236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640600">
            <a:off x="2971800" y="275220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640600">
            <a:off x="3180960" y="29624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640600">
            <a:off x="3390480" y="319104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640600">
            <a:off x="2685600" y="277164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640600">
            <a:off x="2895120" y="2962440"/>
            <a:ext cx="24156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640600">
            <a:off x="3085920" y="3171960"/>
            <a:ext cx="241200" cy="18396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640600">
            <a:off x="2647440" y="3038400"/>
            <a:ext cx="24156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640600">
            <a:off x="2857680" y="3228480"/>
            <a:ext cx="241200" cy="18432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72600" y="1971000"/>
            <a:ext cx="1990080" cy="1987560"/>
            <a:chOff x="2172600" y="1971000"/>
            <a:chExt cx="1990080" cy="1987560"/>
          </a:xfrm>
        </p:grpSpPr>
        <p:sp>
          <p:nvSpPr>
            <p:cNvPr id="149" name=""/>
            <p:cNvSpPr/>
            <p:nvPr/>
          </p:nvSpPr>
          <p:spPr>
            <a:xfrm rot="2640600">
              <a:off x="2438280" y="2287440"/>
              <a:ext cx="1458720" cy="135432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640600">
              <a:off x="3271320" y="24480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640600">
              <a:off x="3480840" y="263844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640600">
              <a:off x="3024000" y="25045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640600">
              <a:off x="3233520" y="269496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640600">
              <a:off x="3423600" y="29052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640600">
              <a:off x="2757240" y="252360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640600">
              <a:off x="2947320" y="275256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640600">
              <a:off x="3156840" y="29620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640600">
              <a:off x="3366360" y="3190680"/>
              <a:ext cx="24156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640600">
              <a:off x="2662200" y="27712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640600">
              <a:off x="2871720" y="296172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640600">
              <a:off x="3062160" y="317124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640600">
              <a:off x="2623680" y="3038400"/>
              <a:ext cx="241200" cy="18396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40600">
              <a:off x="2833560" y="3228480"/>
              <a:ext cx="241200" cy="1843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2640600">
            <a:off x="6248520" y="-1525320"/>
            <a:ext cx="1458720" cy="13543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al Superhigh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4124160"/>
            <a:ext cx="48578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f our nerve cells are very long. The nerve cells from our feet to our spinal cord are around a meter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70840" y="6346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5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1:42Z</dcterms:created>
  <dc:creator>Texas A&amp;M Veterinary Medicine</dc:creator>
  <dc:description/>
  <dc:language>en-US</dc:language>
  <cp:lastModifiedBy>Jeremiah McNichols</cp:lastModifiedBy>
  <dcterms:modified xsi:type="dcterms:W3CDTF">2008-09-22T19:38:44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6000000000001023620</vt:lpwstr>
  </property>
</Properties>
</file>