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69BF8-489C-4899-9127-37CB439DB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9C71B-2BC9-4BDA-804E-8F28FAC01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F44EE-3A9D-4E49-85CE-94177F4CA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7E55B-383C-4A91-897C-FBC620473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A8DB0-D268-47B7-A91C-E26DDE5D3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2AEBF-D4FC-4B3C-97FB-93FB61330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711B4-ECEC-472C-9077-4F9655B63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E3180-5A65-46B8-A1E6-1D463A5B1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9ADFE-75BF-4CA6-A712-5FF87B700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9A553-2D66-4368-BAF3-657872925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412B1-FF2A-4406-A65A-8252E0668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09D5F-3C45-4C00-8392-01AA2B6FE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E6C22-9402-4570-B01F-A889AA4A8D6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rown Lu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228600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hortness of breath, coughing, and wheez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373392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long-term inhalation of cotton, flax, or hemp du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Jeremiah McNichols</cp:lastModifiedBy>
  <dcterms:modified xsi:type="dcterms:W3CDTF">2005-01-21T21:31:07Z</dcterms:modified>
  <cp:revision>46</cp:revision>
  <dc:subject/>
  <dc:title>Hazards</dc:title>
</cp:coreProperties>
</file>