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388-4205-4C61-876D-55231FA3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7EB-47CB-4007-8E5B-A00CFC1B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97B-5C5A-458A-8C08-F2EC7694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213-494C-40B9-843D-380DFD0E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822-21A1-4E6F-828E-1769944C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544-8C77-4A66-AE35-5E31B336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CCF-1071-44CF-BADD-29B9A57F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4712-50E0-4E6C-A05D-34FD0E56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8FA-B596-45B7-A951-024B32A3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ABE-8E28-44E3-9142-29303EB7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6CE-2F09-4588-A3E7-87D8AC93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176-EDC4-46BC-813A-8CE656C9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905E-E23D-4228-A3A8-05C71074EF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30Z</dcterms:modified>
  <cp:revision>53</cp:revision>
  <dc:subject/>
  <dc:title>Hazards</dc:title>
</cp:coreProperties>
</file>