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4E0-CA79-48B7-A16D-99B527C4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D4B-8555-40BE-9750-0036D140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F9C-8382-445F-B5D1-B2C2582C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FC9-2B93-4EC5-AE73-E15616AE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A727-E5BC-4F98-8C46-B9FEA543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E75-E10A-448C-BDEF-348C8000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E18-76EB-4B52-9BD1-604BB7E7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6FB-3571-4702-8547-E80C4C74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516-D29A-4F63-BFC1-4B9BA2EC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DFA-3267-45A6-B8E0-63D79389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4FD-BEF4-4021-89F1-8D480542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C58-F2BE-4B9F-BAFC-45294BD2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1692-E13F-4810-AA9E-6039DE5AAD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ct with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4:09Z</dcterms:modified>
  <cp:revision>52</cp:revision>
  <dc:subject/>
  <dc:title>Hazards</dc:title>
</cp:coreProperties>
</file>