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A822-BD49-412F-A51A-30043C184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BB07-DC04-40A4-AE89-FE44C205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3752-0F22-401D-B670-1D820150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4D7E-9A21-4134-8A85-5658129B8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9621-77C4-499E-BFA6-D9486A16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C673-AC06-4C89-87FB-610DADF7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F475-EF22-4D74-B210-BCE95995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26E9-9334-4476-9008-EBCFB234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F2FD-42AA-4FD5-9563-E196CCFB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06E1-58C9-4426-9F1A-89B4E499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F6BA-72DA-4DCE-9640-1E1488B1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32F5-C473-468B-AFF7-70695E60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01CA-D8B0-4106-A9C7-A5914EC7A2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20Z</dcterms:modified>
  <cp:revision>49</cp:revision>
  <dc:subject/>
  <dc:title>Hazards</dc:title>
</cp:coreProperties>
</file>