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A930B-68E5-46EA-88B3-21979D0ED6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9752C-DE62-4B18-9D4E-37454AD93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689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838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65D36-E3B3-41E4-981C-EB02D0B83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689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689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838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838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6867F-CF13-46F0-9EC9-CB02CA9B1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89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689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689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838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838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838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35DD2-2192-4560-9639-8D1D9E889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689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B02DB-A85D-4531-ABFA-5686227EE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689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3FBCA-36CB-4443-B5BD-73BA98AB0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689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689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8C3B0-7D3D-4ACF-AD10-981ABF334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D8692-CACC-4A5E-9B08-DC9AD810A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790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9F9D7-0E2B-45BD-9D3D-12C79FAD4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89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89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838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A22F3-8E1A-44B5-8AE8-FB893756D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689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689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838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0BEDF-D89F-40D2-A005-0ED68DA55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689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689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838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526E1-143D-49BE-9B43-23CC4E051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689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4803C-31E6-4695-9E13-B120058EE5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image" Target="../media/image2.png"/><Relationship Id="rId5" Type="http://schemas.openxmlformats.org/officeDocument/2006/relationships/image" Target="../media/image4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image" Target="../media/image2.png"/><Relationship Id="rId5" Type="http://schemas.openxmlformats.org/officeDocument/2006/relationships/image" Target="../media/image4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image" Target="../media/image2.png"/><Relationship Id="rId5" Type="http://schemas.openxmlformats.org/officeDocument/2006/relationships/image" Target="../media/image4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image" Target="../media/image2.png"/><Relationship Id="rId5" Type="http://schemas.openxmlformats.org/officeDocument/2006/relationships/image" Target="../media/image4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image" Target="../media/image2.png"/><Relationship Id="rId5" Type="http://schemas.openxmlformats.org/officeDocument/2006/relationships/image" Target="../media/image4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image" Target="../media/image2.png"/><Relationship Id="rId5" Type="http://schemas.openxmlformats.org/officeDocument/2006/relationships/image" Target="../media/image4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image" Target="../media/image2.png"/><Relationship Id="rId5" Type="http://schemas.openxmlformats.org/officeDocument/2006/relationships/image" Target="../media/image4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image" Target="../media/image2.png"/><Relationship Id="rId5" Type="http://schemas.openxmlformats.org/officeDocument/2006/relationships/image" Target="../media/image4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image" Target="../media/image2.png"/><Relationship Id="rId5" Type="http://schemas.openxmlformats.org/officeDocument/2006/relationships/image" Target="../media/image4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689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630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9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ic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304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5630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scourages Jace from helping the distressed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lf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30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eaches Jace how to milk the cow with th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wollen udd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30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s not surprised by the aggressive skunk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30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s unable to hunt squirrels because he has no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un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30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RR-10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1055520" y="2548080"/>
            <a:ext cx="376560" cy="4680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1060560" y="511344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1063800" y="35640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5"/>
          <a:stretch/>
        </p:blipFill>
        <p:spPr>
          <a:xfrm>
            <a:off x="1068480" y="442116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689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0.  Tick confuses the words “virus” and “venus.”  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He believes a virus may be responsible f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bad behavior of the two stranger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epper howling at the raco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unusual behavior of the skunk towards th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yot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dead squirrels he had been find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RR-10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1054080" y="2840040"/>
            <a:ext cx="376200" cy="46836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1058760" y="50101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4"/>
          <a:stretch/>
        </p:blipFill>
        <p:spPr>
          <a:xfrm>
            <a:off x="1052640" y="343548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5"/>
          <a:stretch/>
        </p:blipFill>
        <p:spPr>
          <a:xfrm>
            <a:off x="1057320" y="41259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156120" y="2792520"/>
            <a:ext cx="2790720" cy="125712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4073400" y="4753080"/>
            <a:ext cx="962280" cy="5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RR-9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689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4560" indent="-57456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two main characters in this story ar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epper and Tic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illie Holliday and Ja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ace and Tic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zra and Sylvan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063800" y="30733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1055520" y="2479680"/>
            <a:ext cx="376560" cy="4683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1058760" y="36511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5"/>
          <a:stretch/>
        </p:blipFill>
        <p:spPr>
          <a:xfrm>
            <a:off x="1060560" y="42372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RR-9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685800" y="1689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ick faced all of the following challenges in the story EXCEP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voiding flood waters caused by heavy rai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nding foo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eeping a steady job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viding for Pepp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1054080" y="2840040"/>
            <a:ext cx="376200" cy="4683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058760" y="46227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1052640" y="34369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5"/>
          <a:stretch/>
        </p:blipFill>
        <p:spPr>
          <a:xfrm>
            <a:off x="1057320" y="40244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00200" y="1689120"/>
            <a:ext cx="807696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630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ace encounters Tick becau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304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5630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ick works at the cavern that Jace’s family is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isit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30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lightening bolt triggered the time travel devic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n Jace’s comput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30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oth are lost and looking for the main trail back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the visitor’s cent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30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ick is from the health department and is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vestigating a disease outbreak in cattle in th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re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RR-10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1055520" y="2538360"/>
            <a:ext cx="376560" cy="46836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1060560" y="55087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4"/>
          <a:stretch/>
        </p:blipFill>
        <p:spPr>
          <a:xfrm>
            <a:off x="1063800" y="354168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5"/>
          <a:stretch/>
        </p:blipFill>
        <p:spPr>
          <a:xfrm>
            <a:off x="1058760" y="4518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689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400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4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ich of the following best describes a very unusual encounter in the story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000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5400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ace and his mother disagree on what to do in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park museu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00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kunk attacks a coyote and wins the figh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00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epper chases a scared armadill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00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ace and Tick sit around a campfire and talk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00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RR-10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1055520" y="2952720"/>
            <a:ext cx="376560" cy="46836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1060560" y="50148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1063800" y="382284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5"/>
          <a:stretch/>
        </p:blipFill>
        <p:spPr>
          <a:xfrm>
            <a:off x="1068480" y="44197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RR-10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689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5152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5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esence of which of the following context clues is NOT useful for determining the time period described in this story?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51520" indent="0">
              <a:lnSpc>
                <a:spcPct val="10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ivilian Conservation Corps (CCC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51520" indent="0">
              <a:lnSpc>
                <a:spcPct val="10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ngs playing on the radi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51520" indent="0">
              <a:lnSpc>
                <a:spcPct val="10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oosevelt in the White Hou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51520" indent="0">
              <a:lnSpc>
                <a:spcPct val="10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epper chasing a racco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1060560" y="3135240"/>
            <a:ext cx="376200" cy="46836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1065240" y="50166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1065240" y="37670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5"/>
          <a:stretch/>
        </p:blipFill>
        <p:spPr>
          <a:xfrm>
            <a:off x="1063800" y="43830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68912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400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6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ick tells Jace that they are in the  midst of the Great Depression. Which of the following is consistent with that time period?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0000" indent="0">
              <a:lnSpc>
                <a:spcPct val="10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oovervil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0000" indent="0">
              <a:lnSpc>
                <a:spcPct val="10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rought conditions in Texas and Oklahom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0000" indent="0">
              <a:lnSpc>
                <a:spcPct val="10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ock market cras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0000" indent="0">
              <a:lnSpc>
                <a:spcPct val="10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 of the above are consistent with the Great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pressi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RR-10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060560" y="3130560"/>
            <a:ext cx="376200" cy="4683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1065240" y="5135400"/>
            <a:ext cx="374760" cy="4654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4"/>
          <a:stretch/>
        </p:blipFill>
        <p:spPr>
          <a:xfrm>
            <a:off x="1062000" y="37688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5"/>
          <a:stretch/>
        </p:blipFill>
        <p:spPr>
          <a:xfrm>
            <a:off x="1063800" y="43848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RR-10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689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86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7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ace and his family were visiting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86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86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railroad muse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86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Longhorn Caver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86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petting zo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86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CCC work cam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055520" y="2479680"/>
            <a:ext cx="376560" cy="4683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1060560" y="42433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4"/>
          <a:stretch/>
        </p:blipFill>
        <p:spPr>
          <a:xfrm>
            <a:off x="1063800" y="30672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5"/>
          <a:stretch/>
        </p:blipFill>
        <p:spPr>
          <a:xfrm>
            <a:off x="1058760" y="36561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689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8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two strangers who came upon Jace and Tick in the cave were looking f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rmadillo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onnie and Clyde’s loo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usual rock formation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ir do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RR-10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1055520" y="2863800"/>
            <a:ext cx="376560" cy="4683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1054080" y="46213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1054080" y="34527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1055520" y="40402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7T19:50:03Z</dcterms:created>
  <dc:creator>David Marcovitz</dc:creator>
  <dc:description/>
  <dc:language>en-US</dc:language>
  <cp:lastModifiedBy>Vince Hardy</cp:lastModifiedBy>
  <dcterms:modified xsi:type="dcterms:W3CDTF">2007-05-04T15:45:08Z</dcterms:modified>
  <cp:revision>7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d201000000000001023620</vt:lpwstr>
  </property>
</Properties>
</file>