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F052-0EBE-49FF-BDE3-D168E935B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9AED-C2D9-40B4-8A92-41243C817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8B2C-9EBB-43FA-A08D-F2425F260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5A86-BD89-4044-9373-138BE9C98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63CE-FD32-4CDB-9A95-BBC7E4226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84D9-AE6C-49E2-B28C-A61CEF422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A313-90F0-4B8C-84B4-68613F3FB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11F0-7FD3-4649-917C-D82088620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E2C2-CF2B-4C4F-9D7C-44AD8338A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90BE-61E8-41D1-9502-F3E6270AF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B1A0-B02B-4186-997E-F92DF5697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DB38-3D61-4918-969C-9245CD0CE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12D3B-8452-4111-9DE8-E4149ABBD03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bola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9810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ever, headache, joint and muscle aches, sore throat, weakness, diarrhea, vomiting and stomach p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88620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irect contact with the blood and/or secretions of an infected person, contact with objects, such as needles, that have been contaminated with infected secre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8-09-23T15:33:30Z</dcterms:modified>
  <cp:revision>53</cp:revision>
  <dc:subject/>
  <dc:title>Hazards</dc:title>
</cp:coreProperties>
</file>