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F61E-EF5E-4679-9F84-46710252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memory.loc.gov/cgi-bin/query/D?fsaall:1:./temp/%7Eammem_ETA6::" TargetMode="External"/><Relationship Id="rId2" Type="http://schemas.openxmlformats.org/officeDocument/2006/relationships/hyperlink" Target="http://www.memory.loc.gov/cgi-bin/query/D?fsaall:3:./temp/%7Eammem_ETA6::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nt Mother: Destitute pea pickers in Nipomo, California; a 32 year old mother of seven children. February 19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oc.gov/rr/print/list/128_migm.htm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on of farmer in dust bowl area. Cimarron County, Oklah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ictu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ust is too much for this farmer's son in Cimarron County, Oklah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mory.loc.gov/cgi-bin/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Charles Benning sweeping steps of shack in "Shantytown," Spencer, Iow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mory.loc.gov/cgi-bin/query/D?fsaall:9:./temp/~ammem_HjJ2: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: CCC (Civilian Conservation Corps) boys at work, Prince George's County, Mary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mory.loc.gov/cgi-bin/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741-F499-492B-91A3-7E157567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4BF-4467-43FB-9597-9AB62B18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108-D526-4C6B-9BC4-9F55DEA6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5BE-93CC-42C3-9E93-99A1CFFD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045-0517-4239-B6B5-931DFFB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C00-6B78-44EA-8335-498476FB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710-2362-444F-814A-0A00EB1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7E8-796E-4F89-B698-D6E1986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C5A-E839-4624-B3D4-4B5B8A3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65E-69EA-4CEB-B441-215BC0F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1C0-618E-4540-B248-4222E917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893-4F26-4653-AB96-4B7A65B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E9E6-0B7B-4AD1-BF03-A4C873B9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rican P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hotographs of Americans during the Great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grant M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29257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7242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rmer’s 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3810240" cy="367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24280" y="2514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isloc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0962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vilian Conservation Cor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2832120" cy="4064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46227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19810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4:19:47Z</dcterms:created>
  <dc:creator>cvm</dc:creator>
  <dc:description/>
  <dc:language>en-US</dc:language>
  <cp:lastModifiedBy>Jennifer Ann Koop</cp:lastModifiedBy>
  <dcterms:modified xsi:type="dcterms:W3CDTF">2007-08-22T16:41:07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5000000000001023620</vt:lpwstr>
  </property>
</Properties>
</file>