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2E19-04B4-4932-8B14-827951EB4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0400-6A50-49A3-809E-5FB954D5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73BD-1C83-4AF3-930C-DFF82B7C7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61CC-F576-434A-9B70-12A425491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83FF-CCCA-4861-80CD-8121A29A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3405-6A67-483D-A7E9-19566980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0E8F-8980-43A3-94A1-F02E289A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82DE-A1A9-4138-ADCC-4C97E04F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B39C-D650-4FE9-B9BA-F0211F36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8E5A-3305-46B4-A13D-A7F682B9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3E35-81EF-48D0-A576-6C3C8E49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324D-0C09-45DB-B188-AD9E9053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2239-B274-4207-9562-3E61F075EC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5:08Z</dcterms:modified>
  <cp:revision>48</cp:revision>
  <dc:subject/>
  <dc:title>Hazards</dc:title>
</cp:coreProperties>
</file>