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CF84-3B60-4EE4-9E3A-D4A616C5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0561-308D-4044-BDDF-98D59C56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923C-8B6E-4DF9-A905-836AC3882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BD34-B9D1-487F-95AC-009AB11F5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6B0E-8217-46BE-9CD2-61C7C06D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300D-D00D-4181-BF09-52ACE009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9A34-1C9A-45F6-8E04-98131371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8861-6B26-45BA-A7F8-615171CD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D2B3-8B7E-45AF-8C17-20EDC5BF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7A41-D064-478B-981F-9ECF537D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41D8-B318-4F8D-80CD-47C8B746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44EE-E410-430D-8A9D-295CCD16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3409-0E54-44B6-9274-CC19FEEFA1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3:20Z</dcterms:modified>
  <cp:revision>49</cp:revision>
  <dc:subject/>
  <dc:title>Hazards</dc:title>
</cp:coreProperties>
</file>