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6317-9050-4809-97BE-1108AF9D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723-82C8-4508-B997-790717A5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A93-6DD0-40C1-B549-083612CA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AA9-C092-4C98-BECF-258703B1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372-6D6A-4B56-BDE1-470FCA16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363F-BBF9-41E9-91FC-14631509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A48-7360-4337-BAC5-60A17526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33C-BE0D-49FC-B779-AA3D7ACF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180-83B1-4F6B-852E-31A477F8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048-66BA-4272-810C-FAF0247E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585-869C-4C67-9133-D71866F9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3579-F4E1-4C5E-9211-A6D96D71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B4C4-FB23-4BB1-99B9-431C5DD151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8-09-23T15:32:49Z</dcterms:modified>
  <cp:revision>43</cp:revision>
  <dc:subject/>
  <dc:title>Hazards</dc:title>
</cp:coreProperties>
</file>