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E9C-6EAB-4E10-9F93-FABB670E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F00-E90A-4AE3-AA80-A9F4C267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B93-3ECC-47C7-B550-9EF47D80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F81-3893-4CAF-8F12-2846317E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45E-EF40-4E3C-9B71-277BDC18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B4B-A11A-4EF7-A2B5-BD8CDA7C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A53-38EC-4708-9FBA-7027A6A9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491-E9E4-49C4-AACB-C1C8C39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4D6-17E8-4DD2-94DC-21C26371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7F8-DE06-415B-BBD1-913E0E81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55B-E2F6-4C7C-880F-C427E49F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D22-87DF-4D05-91BB-6BA9C3B8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106A-D9AB-4197-89AD-F8523FAFC3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57Z</dcterms:modified>
  <cp:revision>47</cp:revision>
  <dc:subject/>
  <dc:title>Hazards</dc:title>
</cp:coreProperties>
</file>