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681-5A6D-40EE-A9A7-C7D4862B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534-D507-4B3C-B17E-38DF0C1B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191-A84D-4F2C-9093-A8C46E14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525-8AE8-403E-8A9D-9B176839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6EC-646A-471C-BD5C-77AF968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A3B-DAB1-495E-99E3-E0F5D1FE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192-E302-4E21-BEEC-351D2005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0F4-BAAF-4395-81AF-64A2B93D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6B9-804F-4D34-882D-24975FBE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79C-B649-4A86-BBD1-1DD2960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E50-0AAE-4FBF-8667-18701F6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70E-2A7A-4ACE-A8ED-350A0406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2FC4-9217-4DCB-B953-F0089F22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6:01:05Z</dcterms:created>
  <dc:creator>Jeremiah McNichols</dc:creator>
  <dc:description/>
  <dc:language>en-US</dc:language>
  <cp:lastModifiedBy>Jeremiah McNichols</cp:lastModifiedBy>
  <dcterms:modified xsi:type="dcterms:W3CDTF">2005-02-09T16:01:35Z</dcterms:modified>
  <cp:revision>1</cp:revision>
  <dc:subject/>
  <dc:title>Slide 1</dc:title>
</cp:coreProperties>
</file>