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8DF-8C0C-4A76-A7F1-F240A7C3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29F-0C9A-4358-B761-C3690B29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909C-72C1-4C58-AA34-3C04EF50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DF0-CC00-4237-BAD3-EA265E19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81E-3A6F-42F8-8B9C-9A6942D4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F1D-5A09-434E-B557-8D8C94EC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997-949F-4033-858B-20B3D9BC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F04-3D2E-4250-B91D-BE63A5E7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399-E077-4FE0-945C-213FCDD7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528-3976-4E8A-9298-1610AF6B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E46-28EA-4D12-AF3B-71871265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EA8-B28D-4A00-B16E-CE9AE77C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482A-925D-431C-960B-E10AD982C6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57Z</dcterms:modified>
  <cp:revision>47</cp:revision>
  <dc:subject/>
  <dc:title>Hazards</dc:title>
</cp:coreProperties>
</file>