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wmf" ContentType="image/x-wmf"/>
  <Override PartName="/ppt/media/image22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30.png" ContentType="image/png"/>
  <Override PartName="/ppt/media/image37.jpeg" ContentType="image/jpeg"/>
  <Override PartName="/ppt/media/image41.jpeg" ContentType="image/jpeg"/>
  <Override PartName="/ppt/media/image8.jpeg" ContentType="image/jpeg"/>
  <Override PartName="/ppt/media/image39.jpeg" ContentType="image/jpeg"/>
  <Override PartName="/ppt/media/image31.png" ContentType="image/png"/>
  <Override PartName="/ppt/media/image43.png" ContentType="image/pn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DDFB-B834-405E-849B-0609943EA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AB6E-C568-4AF6-B870-BD278580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8254-551E-4B49-8F36-B72B7C7D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9DCC-686A-406B-916F-671898C6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CD70-6C2A-4BAE-B3F9-55E0D3B2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0FD5-DEBB-4048-98ED-88F83335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A6E1-8B7B-4404-B104-39B7E0A2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B4FC-5AE6-4DB1-85CD-241ECE67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22A4-0E23-4B39-A9E2-E41B4087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2922-134D-4A06-A384-C2B3554C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148C-85D8-4A44-829B-B51F4E7B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03A1-049C-4D79-A5EA-E82658E5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3271-691D-4AE7-AD7C-CD84DD44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AF61-8CE4-4794-9AA5-74331E4DB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22" t="0" r="92792" b="24549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6450" t="14625" r="88720" b="29732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11312" t="15150" r="83530" b="30037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16096" t="33102" r="33045" b="29659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16043" t="77743" r="13130" b="13564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16096" t="77249" r="13793" b="4367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0" b="-2003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91955" t="5512" r="2743" b="39318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8:44Z</dcterms:modified>
  <cp:revision>68</cp:revision>
  <dc:subject/>
  <dc:title>Slide 1</dc:title>
</cp:coreProperties>
</file>