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905A-1F09-4908-A4D7-DAC54F70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6467-3CC9-43F2-9C1D-C9C0DAA3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567-6283-4D6F-9573-3BA26D71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088E-8252-41CE-B079-1A6A3654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35A-ED45-4DC1-957B-5C0FFA81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A93-F882-4E1E-B293-04FE2AE7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8B8B-D0E0-46DB-A41E-BE2B973D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50B-C9A5-49C6-840F-2C0F9097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6F2-8907-4C2D-B5F3-0E67388F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CD1-C1C9-481A-A967-2A780CC9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7EEF-F3D2-4243-9639-452F7BB7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9EA0-0B8B-44D5-813A-BBF0593B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5B6F-9FCF-4CB4-8E5E-3AE2BABA83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5-10T17:14:08Z</dcterms:modified>
  <cp:revision>43</cp:revision>
  <dc:subject/>
  <dc:title>Hazards</dc:title>
</cp:coreProperties>
</file>