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AA2-A7FC-42B7-BC26-306DDD03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E41-CFDD-4FCC-8488-CCDC5085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853-0BAF-4EE7-9C6D-5BB817A3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AFA-6A9E-4D56-AF66-BEBAECFA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10E-D401-41D0-97FE-234C00E2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0BE-A176-403A-B98B-7D63936B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81C-051E-44C9-B2E8-CBF98977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23A-F9CA-4478-91BE-E5E8DFCE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117-10D0-454B-A0B8-BF87A50C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ECB-5D6F-4102-8203-7952DB89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3DF-DE2F-490C-937C-AC5BD802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993-81C1-45EF-82C2-1DB701F3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5CC1-C8EB-4ADC-89A2-B63CCA6660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5-10T17:14:08Z</dcterms:modified>
  <cp:revision>43</cp:revision>
  <dc:subject/>
  <dc:title>Hazards</dc:title>
</cp:coreProperties>
</file>