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AB9-7652-4087-A41F-36B6D465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3E3-1047-49BC-A6F7-935BBDB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929-73BA-48C8-B8F0-08184CD9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67D-8D4A-4395-9E0A-093EBA03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FF6-6A4C-47E2-A23A-EA69B081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6F8-8ED7-4048-940F-9E2C5480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D10-36F3-4E54-91AA-008D5449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505-72FA-44FC-BC55-0EC58772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90D-4C8F-4732-A5D5-D7147111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140-0D75-44BD-83C5-D2B36BF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D13-A7AE-46DB-9AAB-D3566BE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044-A38C-4EB9-879A-5BAFAE5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9B9-9E59-4442-81BD-DDF83B9FC9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19Z</dcterms:modified>
  <cp:revision>46</cp:revision>
  <dc:subject/>
  <dc:title>Hazards</dc:title>
</cp:coreProperties>
</file>