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C9B0-0BEC-4915-8FF1-65C052727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9F46-12E3-4682-B1E6-5F1D728A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2C8A-421A-4CF4-B70F-F8A04C9A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EFA1-6D60-4115-BFD1-6BA090CCB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BBE8-0CBC-4E30-A4F5-F689AD5A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88DE-CA73-4B2F-9A6A-6D8BDA72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D5DB-8E34-4B45-A72E-819443A6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55C8-1DC0-489E-80B5-4FE84432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B075-BAC9-4AC8-BD9D-09BA7DE9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9BC6-4439-45C8-B51A-2B8EF6DF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CCD0-A345-473F-BFAF-F51A0CEB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4695-2B50-4D99-B63B-91B171C2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979A-6D3D-47D7-A300-B11BA607AE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11Z</dcterms:modified>
  <cp:revision>50</cp:revision>
  <dc:subject/>
  <dc:title>Hazards</dc:title>
</cp:coreProperties>
</file>