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9C00-15AC-450D-ABF2-C0ABCF122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detnews.com/2000/food/0216/panel/panel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onto.eia.doe.gov/oog/info/gdu/gasdiesel.a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Formulate an equation from a problem situation using letters as unkno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B) Use problem solving model to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A) Estimate and find solutions to application problems involving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B) Use problem solving model to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B) Use problem solving model to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Formulate an equation from a problem situation using letters as unkno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B) Use problem solving model to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A) Estimate and find solutions to application problems involving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B) Use problem solving model to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B) Use problem solving model to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at source for an inflation calculator: http://www.westegg.com/infl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3 (A) Make conjectures from patterns or sets of examples and non-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5 (A) Make conjectures from patterns or sets of examples and non-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6 (A) Make conjectures from patterns or sets of examples and non-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3 (A) Make conjectures from patterns or sets of examples and non-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5 (A) Make conjectures from patterns or sets of examples and non-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6 (A) Make conjectures from patterns or sets of examples and non-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Formulate an equation from a problem situation using letters as unkno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B) Use problem solving model to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A) Estimate and find solutions to application problems involving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B) Use problem solving model to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B) Use problem solving model to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Formulate an equation from a problem situation using letters as unkno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B) Use problem solving model to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A) Estimate and find solutions to application problems involving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B) Use problem solving model to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B) Use problem solving model to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 covered in this present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A) Describe proportions using rat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Formulate an equation from a problem situation using letters as unkno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B) Use problem solving model to answer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Select or develop an appropriate problem-solving strategy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D) Select appropriate tool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3 (A) Make conjectures from patterns or sets of examples and non-examp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 (A) Estimate and find solutions to application problems involving perc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B) Use problem solving model to answer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C) Select or develop an appropriate problem-solving strategy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3 (D) Select appropriate tool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5 (A) Make conjectures from patterns or sets of examples and non-examp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Identify and 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B) Use problem solving model to answer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C) Select or develop an appropriate problem-solving strategy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D) Select appropriate tools to solve probl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6 (A) Make conjectures from patterns or sets of examples and non-examp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rom the Social Studies packet.  It may be used as a review or completely taken out if not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An animated stock market chart notes a precipitous decline, followed by the text, in one cl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A) Explain factors that influence economic development and foreign 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A) Identify and describe the major eras in Texas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B) Analyze the impact of economic events in the free enterpris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3 (C) Analyze the causes and effects of economic differences in the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In two clicks, two texts boxes app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slide from the social studies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(A) Explain factors that influence economic development and foreign 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A) Identify and describe the major eras in Texas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B) Analyze the impact of economic events in the free enterpris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3 (C) Analyze the causes and effects of economic differences in the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for data: http://www.stockpickssystem.com/stock_market_histor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salary information: http://www.aft.org/sala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ianssearch.com/physician/salary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wz.salary.com/salarywizard/layouthtmls/swzl_compresult_national_HS080000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wz.salary.com/salarywizard/layouthtmls/swzl_compresult_national_FA060000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teacher has two options for using this s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The students may hypothesize what the wages today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The teacher may just present the data to the students (especially if time is an iss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teacher’s salary is the approxima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alary in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A) Identify and 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Formulate an equation from a problem situation using letters as unkno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B) Use problem solving model to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A) Estimate and find solutions to application problems involving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B) Use problem solving model to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B) Use problem solving model to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A) Describe proportions using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Formulate an equation from a problem situation using letters as unkno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B) Use problem solving model to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A) Estimate and find solutions to application problems involving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B) Use problem solving model to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B) Use problem solving model to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C) Select or develop an appropriate problem-solving strategy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927-A04C-4B05-940A-CDB08F01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1BD-082C-4FFE-9172-3E43293D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753-D6A5-49E9-9198-BB42C2F0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42B-554A-4F7C-8222-58C81091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2F9-10CF-4B92-8073-FD5172D9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C86-26C6-4496-9B3D-5B920DE8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CDE-3DC5-416B-9BC0-FD5D8F1E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B0A-B00D-48C0-BF77-1AF549B4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CD0-92D7-4089-9593-2F531473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9A92-12FD-4A0E-9427-7810FDD4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26AA-8597-4FB4-A8FC-644143F0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1660-D427-49CF-87CF-5C8A9312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A683-1483-43C6-9CF8-A87D7BDB3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20693400">
            <a:off x="1673280" y="3406320"/>
            <a:ext cx="1390680" cy="1684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 rot="1444200">
            <a:off x="2400480" y="961560"/>
            <a:ext cx="973080" cy="1177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 rot="3646200">
            <a:off x="4044600" y="145800"/>
            <a:ext cx="784080" cy="94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 rot="19624800">
            <a:off x="2317680" y="5562360"/>
            <a:ext cx="163512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 rot="4759200">
            <a:off x="5997960" y="-118080"/>
            <a:ext cx="658800" cy="797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91120" y="4968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ce Increase and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ces: You Comp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5120" y="632304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3.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371600"/>
          <a:ext cx="8229600" cy="5097600"/>
        </p:xfrm>
        <a:graphic>
          <a:graphicData uri="http://schemas.openxmlformats.org/drawingml/2006/table">
            <a:tbl>
              <a:tblPr/>
              <a:tblGrid>
                <a:gridCol w="3665520"/>
                <a:gridCol w="2363760"/>
                <a:gridCol w="2200320"/>
              </a:tblGrid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s in the 1930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s to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</a:tr>
              <a:tr h="81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x of saltine crack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0.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</a:tr>
              <a:tr h="81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x of bran flak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0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</a:tr>
              <a:tr h="81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lb. of hambur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gal. of 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0.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pair of sho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7089120" y="26668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1.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89120" y="51055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2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62400" y="58672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36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5564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3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12800" y="43434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1.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010280" y="336600"/>
            <a:ext cx="175284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8600" y="106200"/>
            <a:ext cx="8686800" cy="1143000"/>
          </a:xfrm>
          <a:prstGeom prst="rect">
            <a:avLst/>
          </a:prstGeom>
          <a:gradFill rotWithShape="0">
            <a:gsLst>
              <a:gs pos="0">
                <a:srgbClr val="333399">
                  <a:alpha val="40000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What is the percent incre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hat was the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approximat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percent increase in gas from the 1930’s to to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we know from the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353700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the increase in price of gas from 1930 to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69960" y="335268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rease w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4160" y="373392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$2.16 - $0.1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70160" y="3733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32680" y="3733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$1.9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52578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set up a proportion to find the percent incr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93320" y="5881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$0.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8560" y="5580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93320" y="53481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$2.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27880" y="55008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36000" y="55008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00840" y="5881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14240" y="5348160"/>
            <a:ext cx="4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55040" y="6262560"/>
            <a:ext cx="37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he percent of incre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81280" y="2209680"/>
            <a:ext cx="4155120" cy="368280"/>
            <a:chOff x="3581280" y="2209680"/>
            <a:chExt cx="4155120" cy="368280"/>
          </a:xfrm>
        </p:grpSpPr>
        <p:sp>
          <p:nvSpPr>
            <p:cNvPr id="213" name=""/>
            <p:cNvSpPr/>
            <p:nvPr/>
          </p:nvSpPr>
          <p:spPr>
            <a:xfrm>
              <a:off x="4195080" y="2209680"/>
              <a:ext cx="35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gas price in 1930 was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$0.18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81280" y="2361960"/>
              <a:ext cx="609840" cy="0"/>
            </a:xfrm>
            <a:prstGeom prst="line">
              <a:avLst/>
            </a:prstGeom>
            <a:ln w="442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81280" y="2666880"/>
            <a:ext cx="3660480" cy="368280"/>
            <a:chOff x="3581280" y="2666880"/>
            <a:chExt cx="3660480" cy="368280"/>
          </a:xfrm>
        </p:grpSpPr>
        <p:sp>
          <p:nvSpPr>
            <p:cNvPr id="216" name=""/>
            <p:cNvSpPr/>
            <p:nvPr/>
          </p:nvSpPr>
          <p:spPr>
            <a:xfrm>
              <a:off x="4194360" y="2666880"/>
              <a:ext cx="30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gas price today is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$2.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81280" y="2819160"/>
              <a:ext cx="609840" cy="0"/>
            </a:xfrm>
            <a:prstGeom prst="line">
              <a:avLst/>
            </a:prstGeom>
            <a:ln w="442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316400" y="4114800"/>
            <a:ext cx="359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can we round to approxima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03720" y="4419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$1.98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s to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$2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10200" y="481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$0.18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s to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$0.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152280"/>
            <a:ext cx="8686800" cy="1143000"/>
          </a:xfrm>
          <a:prstGeom prst="rect">
            <a:avLst/>
          </a:prstGeom>
          <a:gradFill rotWithShape="0">
            <a:gsLst>
              <a:gs pos="0">
                <a:srgbClr val="333399">
                  <a:alpha val="40000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What is the percent incre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60020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we must cross multiply to solve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965760" y="1614600"/>
            <a:ext cx="3955320" cy="901440"/>
            <a:chOff x="3965760" y="1614600"/>
            <a:chExt cx="3955320" cy="901440"/>
          </a:xfrm>
        </p:grpSpPr>
        <p:sp>
          <p:nvSpPr>
            <p:cNvPr id="225" name=""/>
            <p:cNvSpPr/>
            <p:nvPr/>
          </p:nvSpPr>
          <p:spPr>
            <a:xfrm>
              <a:off x="6630840" y="214776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$0.20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16080" y="1846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22480" y="1614600"/>
              <a:ext cx="100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$2.00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65760" y="176688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_________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73880" y="176688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_________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38720" y="214776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00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52120" y="1614600"/>
              <a:ext cx="42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772400" y="2514600"/>
            <a:ext cx="152280" cy="152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29200">
            <a:off x="3885840" y="1828800"/>
            <a:ext cx="4038480" cy="609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96080" y="1447920"/>
            <a:ext cx="152640" cy="152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20961000">
            <a:off x="3885840" y="1752120"/>
            <a:ext cx="4038480" cy="60984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297180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we multiply $2.00 x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4038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, we divide our product by $0.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3080" y="3139920"/>
            <a:ext cx="16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x 10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2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49680" y="4064040"/>
            <a:ext cx="22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</a:t>
            </a: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÷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1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500364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our answer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3440" y="4952880"/>
            <a:ext cx="12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1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5638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t, don’t forget the units!  What was our original question ask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90840" y="6172200"/>
            <a:ext cx="58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was 1000% percent increase!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48148E-006 C 0.02518 -0.00926 0.03438 -0.04028 -0.03246 -0.06481 C -0.0993 -0.08935 -0.35 -0.14745 -0.40138 -0.14768 C -0.45277 -0.14792 -0.37673 -0.08981 -0.34045 -0.06667 C -0.30416 -0.04352 -0.23975 -0.02014 -0.18368 -0.00903 C -0.1276 0.00208 -0.02517 0.00926 -5.55556E-007 -1.48148E-006 Z">
                                      <p:cBhvr>
                                        <p:cTn id="446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0.01782 C 0.00104 -0.01782 0.00226 -0.01782 -0.01076 -0.01782 C -0.02378 -0.01782 -0.05486 -0.02222 -0.0783 -0.01782 C -0.10174 -0.01342 -0.09896 -0.01227 -0.15122 0.00903 C -0.20347 0.03033 -0.35399 0.08542 -0.39184 0.10996 C -0.42969 0.13449 -0.44132 0.16436 -0.3783 0.15695 C -0.31528 0.14954 -0.07483 0.09398 -0.01337 0.06505 C 0.04809 0.03611 -0.0092 -0.00185 -0.00937 -0.0162 E">
                                      <p:cBhvr>
                                        <p:cTn id="464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152280"/>
            <a:ext cx="8686800" cy="1371600"/>
          </a:xfrm>
          <a:prstGeom prst="rect">
            <a:avLst/>
          </a:prstGeom>
          <a:gradFill rotWithShape="0">
            <a:gsLst>
              <a:gs pos="0">
                <a:srgbClr val="333399">
                  <a:alpha val="40000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But, is the Percent Increase Really that Hig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Infl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71360" y="2284920"/>
            <a:ext cx="58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crease in the general level of pric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2819520"/>
            <a:ext cx="5333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, what does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9560" y="4037400"/>
            <a:ext cx="72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st $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1930 would cost $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20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9560" y="3504240"/>
            <a:ext cx="70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st $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1930 would cost $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0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20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70280" y="4570920"/>
            <a:ext cx="76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st $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1930 would cost $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8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20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5181480"/>
            <a:ext cx="5333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notice a tr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7834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inflation, anything in 1930 would be worth 980% more today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8600" y="152280"/>
            <a:ext cx="8686800" cy="1143000"/>
          </a:xfrm>
          <a:prstGeom prst="rect">
            <a:avLst/>
          </a:prstGeom>
          <a:gradFill rotWithShape="0">
            <a:gsLst>
              <a:gs pos="0">
                <a:srgbClr val="333399">
                  <a:alpha val="40000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So, Back to Our Proble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2880" y="2589840"/>
            <a:ext cx="72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s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0.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1930 should co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2005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13716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id all things increase in price by the same amou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ow did inflation affect the cost of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our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item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3214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since gas cost $0.18 in 1930, it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houl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worth $1.94 today, but we saw that it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ctual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sts $2.16 to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70280" y="4723200"/>
            <a:ext cx="71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1930 would co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48.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20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5364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since the teacher’s salary was $60 per month in 1930, it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shoul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$648.28 today, but we saw that teachers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ctual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t paid $3,000 per month to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4267080"/>
            <a:ext cx="1752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2133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, we have to find the difference in price between what gas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houl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st today and what it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ctual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sts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152280"/>
            <a:ext cx="8839440" cy="1143000"/>
          </a:xfrm>
          <a:prstGeom prst="rect">
            <a:avLst/>
          </a:prstGeom>
          <a:gradFill rotWithShape="0">
            <a:gsLst>
              <a:gs pos="0">
                <a:srgbClr val="333399">
                  <a:alpha val="40000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ccff"/>
                </a:solidFill>
                <a:latin typeface="Times New Roman"/>
              </a:rPr>
              <a:t>Can we calculate the real percent increase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523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Let’s calculate the inflation for the Gas Pr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73960" y="336708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2.16 - $1.9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03120" y="33670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$0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41911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w, we must make a proportion to calculate what percentage $0.22 is of $1.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60320" y="5715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$1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59600" y="5181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$0.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94160" y="5334120"/>
            <a:ext cx="3955320" cy="538920"/>
            <a:chOff x="2594160" y="5334120"/>
            <a:chExt cx="3955320" cy="538920"/>
          </a:xfrm>
        </p:grpSpPr>
        <p:sp>
          <p:nvSpPr>
            <p:cNvPr id="272" name=""/>
            <p:cNvSpPr/>
            <p:nvPr/>
          </p:nvSpPr>
          <p:spPr>
            <a:xfrm>
              <a:off x="4344840" y="54133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4160" y="533412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_________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02280" y="533412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_________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967120" y="5715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80880" y="5181480"/>
            <a:ext cx="4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2364120" y="4114800"/>
            <a:ext cx="2603880" cy="597960"/>
            <a:chOff x="2364120" y="4114800"/>
            <a:chExt cx="2603880" cy="597960"/>
          </a:xfrm>
        </p:grpSpPr>
        <p:grpSp>
          <p:nvGrpSpPr>
            <p:cNvPr id="278" name=""/>
            <p:cNvGrpSpPr/>
            <p:nvPr/>
          </p:nvGrpSpPr>
          <p:grpSpPr>
            <a:xfrm>
              <a:off x="3262320" y="4114800"/>
              <a:ext cx="1705680" cy="585360"/>
              <a:chOff x="3262320" y="4114800"/>
              <a:chExt cx="1705680" cy="585360"/>
            </a:xfrm>
          </p:grpSpPr>
          <p:sp>
            <p:nvSpPr>
              <p:cNvPr id="279" name=""/>
              <p:cNvSpPr/>
              <p:nvPr/>
            </p:nvSpPr>
            <p:spPr>
              <a:xfrm>
                <a:off x="3262320" y="4114800"/>
                <a:ext cx="17056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62320" y="4114800"/>
                <a:ext cx="0" cy="585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3443760" y="42530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20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4120" y="42530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3295800" y="472428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364120" y="3657600"/>
            <a:ext cx="2603880" cy="1831320"/>
            <a:chOff x="2364120" y="3657600"/>
            <a:chExt cx="2603880" cy="1831320"/>
          </a:xfrm>
        </p:grpSpPr>
        <p:grpSp>
          <p:nvGrpSpPr>
            <p:cNvPr id="285" name=""/>
            <p:cNvGrpSpPr/>
            <p:nvPr/>
          </p:nvGrpSpPr>
          <p:grpSpPr>
            <a:xfrm>
              <a:off x="2364120" y="4114800"/>
              <a:ext cx="2603880" cy="597960"/>
              <a:chOff x="2364120" y="4114800"/>
              <a:chExt cx="2603880" cy="59796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262320" y="4114800"/>
                <a:ext cx="1705680" cy="585360"/>
                <a:chOff x="3262320" y="4114800"/>
                <a:chExt cx="1705680" cy="5853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262320" y="4114800"/>
                  <a:ext cx="170568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262320" y="4114800"/>
                  <a:ext cx="0" cy="585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"/>
              <p:cNvSpPr/>
              <p:nvPr/>
            </p:nvSpPr>
            <p:spPr>
              <a:xfrm>
                <a:off x="3443760" y="425304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200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364120" y="42530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94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77820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52960" y="45720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19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76280" y="464832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20720" y="502920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9643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cross multiply to find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440440" y="955800"/>
            <a:ext cx="4243320" cy="962640"/>
            <a:chOff x="2440440" y="955800"/>
            <a:chExt cx="4243320" cy="962640"/>
          </a:xfrm>
        </p:grpSpPr>
        <p:sp>
          <p:nvSpPr>
            <p:cNvPr id="298" name=""/>
            <p:cNvSpPr/>
            <p:nvPr/>
          </p:nvSpPr>
          <p:spPr>
            <a:xfrm>
              <a:off x="5107320" y="1489320"/>
              <a:ext cx="1035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$1.94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07320" y="955800"/>
              <a:ext cx="1035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$0.22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2440440" y="1108440"/>
              <a:ext cx="4243320" cy="581040"/>
              <a:chOff x="2440440" y="1108440"/>
              <a:chExt cx="4243320" cy="581040"/>
            </a:xfrm>
          </p:grpSpPr>
          <p:sp>
            <p:nvSpPr>
              <p:cNvPr id="301" name=""/>
              <p:cNvSpPr/>
              <p:nvPr/>
            </p:nvSpPr>
            <p:spPr>
              <a:xfrm>
                <a:off x="4192560" y="1260360"/>
                <a:ext cx="3438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40440" y="1108440"/>
                <a:ext cx="17352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_________ 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948560" y="1108440"/>
                <a:ext cx="17352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_________ 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2814840" y="1489320"/>
              <a:ext cx="802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100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28960" y="957600"/>
              <a:ext cx="476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324480" y="762120"/>
            <a:ext cx="152640" cy="1522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20815200">
            <a:off x="2361960" y="1066680"/>
            <a:ext cx="4267080" cy="685800"/>
          </a:xfrm>
          <a:prstGeom prst="ellipse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91440" y="251784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x 0.22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973960" y="2514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29200" y="1447920"/>
            <a:ext cx="1219320" cy="533160"/>
          </a:xfrm>
          <a:prstGeom prst="ellipse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09160" y="2957400"/>
            <a:ext cx="213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1" lang="en-US" sz="3200" spc="-1" strike="noStrike">
                <a:solidFill>
                  <a:srgbClr val="000000"/>
                </a:solidFill>
                <a:latin typeface="Agency FB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.94 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63960" y="2666880"/>
            <a:ext cx="49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use long division to solve this division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364120" y="4129200"/>
            <a:ext cx="2603880" cy="597600"/>
            <a:chOff x="2364120" y="4129200"/>
            <a:chExt cx="2603880" cy="597600"/>
          </a:xfrm>
        </p:grpSpPr>
        <p:grpSp>
          <p:nvGrpSpPr>
            <p:cNvPr id="314" name=""/>
            <p:cNvGrpSpPr/>
            <p:nvPr/>
          </p:nvGrpSpPr>
          <p:grpSpPr>
            <a:xfrm>
              <a:off x="3262320" y="4129200"/>
              <a:ext cx="1705680" cy="585000"/>
              <a:chOff x="3262320" y="4129200"/>
              <a:chExt cx="1705680" cy="585000"/>
            </a:xfrm>
          </p:grpSpPr>
          <p:sp>
            <p:nvSpPr>
              <p:cNvPr id="315" name=""/>
              <p:cNvSpPr/>
              <p:nvPr/>
            </p:nvSpPr>
            <p:spPr>
              <a:xfrm>
                <a:off x="3262320" y="4129200"/>
                <a:ext cx="17056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262320" y="4129200"/>
                <a:ext cx="0" cy="585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3443760" y="42670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64120" y="4267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 9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530440" y="4235400"/>
            <a:ext cx="2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786120" y="4205160"/>
            <a:ext cx="2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08348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7864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95640" y="3581280"/>
            <a:ext cx="297432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 divides into 2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1204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78520" y="4572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83800" y="5029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6432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46483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62120" y="4511520"/>
            <a:ext cx="297432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 divides into 26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30800" y="5410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95800" y="54864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61280" y="5867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72360" y="5486400"/>
            <a:ext cx="42984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there was approxim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11% increase in pric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so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18519E-006 C -0.01007 -0.01295 -0.04236 -0.01619 -0.08646 -0.00531 C -0.13056 0.00556 -0.20972 0.0433 -0.26493 0.06482 C -0.32014 0.08635 -0.39549 0.10533 -0.41753 0.12431 C -0.43958 0.1433 -0.4625 0.18728 -0.39722 0.17848 C -0.33194 0.16969 -0.09167 0.10163 -0.02569 0.072 C 0.04028 0.04237 0.01007 0.01297 0 5.18519E-006 Z">
                                      <p:cBhvr>
                                        <p:cTn id="687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43 0.00949 0.00156 0.01783 0.00955 0.02153 C 0.02275 0.01968 0.02361 0.02292 0.02709 0.0088 C 0.02431 -0.01551 0.0257 -0.00139 0.02709 0.00533 C 0.02743 0.00718 0.02743 0.00926 0.02847 0.01065 C 0.02952 0.01204 0.03108 0.01181 0.03247 0.0125 C 0.05174 0.01042 0.05139 0.01551 0.05139 -0.00555 E">
                                      <p:cBhvr>
                                        <p:cTn id="732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1504 C 0.00243 0.02454 0.00157 0.03287 0.00955 0.03657 C 0.02275 0.03472 0.02361 0.03796 0.02709 0.02384 C 0.02431 -0.000459999999999999 0.0257 0.01366 0.02709 0.02037 C 0.02743 0.02222 0.02743 0.0243 0.02848 0.02569 C 0.02952 0.02708 0.03108 0.02685 0.03247 0.02754 C 0.05174 0.02546 0.05139 0.03055 0.05139 0.00949 E">
                                      <p:cBhvr>
                                        <p:cTn id="734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000"/>
                            </p:stCondLst>
                            <p:childTnLst>
                              <p:par>
                                <p:cTn id="7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4000"/>
                            </p:stCondLst>
                            <p:childTnLst>
                              <p:par>
                                <p:cTn id="7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3000"/>
                            </p:stCondLst>
                            <p:childTnLst>
                              <p:par>
                                <p:cTn id="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1981080"/>
            <a:ext cx="8570880" cy="4487040"/>
            <a:chOff x="380880" y="1981080"/>
            <a:chExt cx="8570880" cy="4487040"/>
          </a:xfrm>
        </p:grpSpPr>
        <p:pic>
          <p:nvPicPr>
            <p:cNvPr id="338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3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344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6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22960" y="2166840"/>
              <a:ext cx="2728800" cy="43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ncept of inf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prices from the 1930s to today’s pr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percent increases in prices and salaries in order to observe financial tr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charts and graphs and interpret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happened in the sto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ce is taking a tour of Longhorn Cavern.  Lightning strikes and he is transported to 193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meets Tick, a sixteen year old boy waiting for a job with the Civilian Conservation Cor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ce finds out they are in the middle of the Gre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40560" y="4710240"/>
            <a:ext cx="32511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87200" y="150840"/>
            <a:ext cx="8728200" cy="6608880"/>
            <a:chOff x="187200" y="150840"/>
            <a:chExt cx="8728200" cy="6608880"/>
          </a:xfrm>
        </p:grpSpPr>
        <p:sp>
          <p:nvSpPr>
            <p:cNvPr id="60" name=""/>
            <p:cNvSpPr/>
            <p:nvPr/>
          </p:nvSpPr>
          <p:spPr>
            <a:xfrm>
              <a:off x="187200" y="628200"/>
              <a:ext cx="872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7200" y="1267560"/>
              <a:ext cx="872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7200" y="1893240"/>
              <a:ext cx="872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7200" y="2584800"/>
              <a:ext cx="872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7200" y="3346560"/>
              <a:ext cx="872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7200" y="4065480"/>
              <a:ext cx="872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7200" y="4785840"/>
              <a:ext cx="872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7200" y="5480280"/>
              <a:ext cx="872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7200" y="6107760"/>
              <a:ext cx="872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3112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8748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4204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628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0560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3748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6792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9800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3132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6212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4684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40312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-65160" y="-4680"/>
            <a:ext cx="1557360" cy="249552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415880" y="1625400"/>
            <a:ext cx="642960" cy="86508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2037960" y="1579680"/>
            <a:ext cx="1087560" cy="239688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102120" y="3688920"/>
            <a:ext cx="420480" cy="34452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479760" y="3636720"/>
            <a:ext cx="1285920" cy="2260440"/>
          </a:xfrm>
          <a:prstGeom prst="line">
            <a:avLst/>
          </a:prstGeom>
          <a:ln w="1522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3880" y="320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at Depression Beg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10080" y="1773360"/>
            <a:ext cx="4137120" cy="2570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1640" y="1979640"/>
            <a:ext cx="401796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October 29, 1929, the U.S. stock market crashed. This was the beginning of the Great Depression in the United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3200" y="653724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87200" y="150840"/>
            <a:ext cx="8728200" cy="6608880"/>
            <a:chOff x="187200" y="150840"/>
            <a:chExt cx="8728200" cy="6608880"/>
          </a:xfrm>
        </p:grpSpPr>
        <p:sp>
          <p:nvSpPr>
            <p:cNvPr id="91" name=""/>
            <p:cNvSpPr/>
            <p:nvPr/>
          </p:nvSpPr>
          <p:spPr>
            <a:xfrm>
              <a:off x="187200" y="628200"/>
              <a:ext cx="872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7200" y="1267560"/>
              <a:ext cx="872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7200" y="1893240"/>
              <a:ext cx="872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7200" y="2584800"/>
              <a:ext cx="872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7200" y="3346560"/>
              <a:ext cx="872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7200" y="4065480"/>
              <a:ext cx="872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7200" y="4785840"/>
              <a:ext cx="872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7200" y="5480280"/>
              <a:ext cx="872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7200" y="6107760"/>
              <a:ext cx="8728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3112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8748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4204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628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0560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3748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6792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800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3132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6212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4684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03120" y="150840"/>
              <a:ext cx="0" cy="6608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3880" y="29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at Depression Beg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4120" y="1797120"/>
            <a:ext cx="5025960" cy="2774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1960" y="1981080"/>
            <a:ext cx="4848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s of the Great Depression include overproduction, a very large income gap between rich and poor, too much credit being issued by banks, and the failure of several foreign econom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197320" y="2031840"/>
            <a:ext cx="3290760" cy="3732120"/>
            <a:chOff x="5197320" y="2031840"/>
            <a:chExt cx="3290760" cy="3732120"/>
          </a:xfrm>
        </p:grpSpPr>
        <p:sp>
          <p:nvSpPr>
            <p:cNvPr id="116" name=""/>
            <p:cNvSpPr/>
            <p:nvPr/>
          </p:nvSpPr>
          <p:spPr>
            <a:xfrm>
              <a:off x="5197320" y="3319560"/>
              <a:ext cx="2441880" cy="2444400"/>
            </a:xfrm>
            <a:custGeom>
              <a:avLst/>
              <a:gdLst/>
              <a:ahLst/>
              <a:rect l="l" t="t" r="r" b="b"/>
              <a:pathLst>
                <a:path w="1792" h="1794">
                  <a:moveTo>
                    <a:pt x="608" y="1746"/>
                  </a:moveTo>
                  <a:lnTo>
                    <a:pt x="614" y="1749"/>
                  </a:lnTo>
                  <a:lnTo>
                    <a:pt x="621" y="1751"/>
                  </a:lnTo>
                  <a:lnTo>
                    <a:pt x="628" y="1753"/>
                  </a:lnTo>
                  <a:lnTo>
                    <a:pt x="636" y="1756"/>
                  </a:lnTo>
                  <a:lnTo>
                    <a:pt x="643" y="1757"/>
                  </a:lnTo>
                  <a:lnTo>
                    <a:pt x="651" y="1760"/>
                  </a:lnTo>
                  <a:lnTo>
                    <a:pt x="660" y="1761"/>
                  </a:lnTo>
                  <a:lnTo>
                    <a:pt x="668" y="1764"/>
                  </a:lnTo>
                  <a:lnTo>
                    <a:pt x="687" y="1769"/>
                  </a:lnTo>
                  <a:lnTo>
                    <a:pt x="778" y="1606"/>
                  </a:lnTo>
                  <a:lnTo>
                    <a:pt x="786" y="1607"/>
                  </a:lnTo>
                  <a:lnTo>
                    <a:pt x="795" y="1609"/>
                  </a:lnTo>
                  <a:lnTo>
                    <a:pt x="804" y="1610"/>
                  </a:lnTo>
                  <a:lnTo>
                    <a:pt x="813" y="1611"/>
                  </a:lnTo>
                  <a:lnTo>
                    <a:pt x="821" y="1611"/>
                  </a:lnTo>
                  <a:lnTo>
                    <a:pt x="831" y="1613"/>
                  </a:lnTo>
                  <a:lnTo>
                    <a:pt x="839" y="1614"/>
                  </a:lnTo>
                  <a:lnTo>
                    <a:pt x="849" y="1614"/>
                  </a:lnTo>
                  <a:lnTo>
                    <a:pt x="896" y="1794"/>
                  </a:lnTo>
                  <a:lnTo>
                    <a:pt x="915" y="1794"/>
                  </a:lnTo>
                  <a:lnTo>
                    <a:pt x="927" y="1794"/>
                  </a:lnTo>
                  <a:lnTo>
                    <a:pt x="941" y="1793"/>
                  </a:lnTo>
                  <a:lnTo>
                    <a:pt x="953" y="1791"/>
                  </a:lnTo>
                  <a:lnTo>
                    <a:pt x="967" y="1791"/>
                  </a:lnTo>
                  <a:lnTo>
                    <a:pt x="979" y="1790"/>
                  </a:lnTo>
                  <a:lnTo>
                    <a:pt x="993" y="1789"/>
                  </a:lnTo>
                  <a:lnTo>
                    <a:pt x="1007" y="1786"/>
                  </a:lnTo>
                  <a:lnTo>
                    <a:pt x="1020" y="1784"/>
                  </a:lnTo>
                  <a:lnTo>
                    <a:pt x="1038" y="1782"/>
                  </a:lnTo>
                  <a:lnTo>
                    <a:pt x="1061" y="1596"/>
                  </a:lnTo>
                  <a:lnTo>
                    <a:pt x="1070" y="1594"/>
                  </a:lnTo>
                  <a:lnTo>
                    <a:pt x="1078" y="1592"/>
                  </a:lnTo>
                  <a:lnTo>
                    <a:pt x="1086" y="1590"/>
                  </a:lnTo>
                  <a:lnTo>
                    <a:pt x="1094" y="1588"/>
                  </a:lnTo>
                  <a:lnTo>
                    <a:pt x="1103" y="1585"/>
                  </a:lnTo>
                  <a:lnTo>
                    <a:pt x="1111" y="1583"/>
                  </a:lnTo>
                  <a:lnTo>
                    <a:pt x="1118" y="1580"/>
                  </a:lnTo>
                  <a:lnTo>
                    <a:pt x="1126" y="1577"/>
                  </a:lnTo>
                  <a:lnTo>
                    <a:pt x="1238" y="1725"/>
                  </a:lnTo>
                  <a:lnTo>
                    <a:pt x="1256" y="1717"/>
                  </a:lnTo>
                  <a:lnTo>
                    <a:pt x="1269" y="1712"/>
                  </a:lnTo>
                  <a:lnTo>
                    <a:pt x="1279" y="1706"/>
                  </a:lnTo>
                  <a:lnTo>
                    <a:pt x="1292" y="1701"/>
                  </a:lnTo>
                  <a:lnTo>
                    <a:pt x="1304" y="1695"/>
                  </a:lnTo>
                  <a:lnTo>
                    <a:pt x="1315" y="1688"/>
                  </a:lnTo>
                  <a:lnTo>
                    <a:pt x="1327" y="1683"/>
                  </a:lnTo>
                  <a:lnTo>
                    <a:pt x="1340" y="1676"/>
                  </a:lnTo>
                  <a:lnTo>
                    <a:pt x="1352" y="1669"/>
                  </a:lnTo>
                  <a:lnTo>
                    <a:pt x="1367" y="1660"/>
                  </a:lnTo>
                  <a:lnTo>
                    <a:pt x="1318" y="1480"/>
                  </a:lnTo>
                  <a:lnTo>
                    <a:pt x="1325" y="1476"/>
                  </a:lnTo>
                  <a:lnTo>
                    <a:pt x="1332" y="1470"/>
                  </a:lnTo>
                  <a:lnTo>
                    <a:pt x="1337" y="1466"/>
                  </a:lnTo>
                  <a:lnTo>
                    <a:pt x="1344" y="1461"/>
                  </a:lnTo>
                  <a:lnTo>
                    <a:pt x="1349" y="1455"/>
                  </a:lnTo>
                  <a:lnTo>
                    <a:pt x="1356" y="1450"/>
                  </a:lnTo>
                  <a:lnTo>
                    <a:pt x="1362" y="1445"/>
                  </a:lnTo>
                  <a:lnTo>
                    <a:pt x="1369" y="1440"/>
                  </a:lnTo>
                  <a:lnTo>
                    <a:pt x="1528" y="1533"/>
                  </a:lnTo>
                  <a:lnTo>
                    <a:pt x="1540" y="1520"/>
                  </a:lnTo>
                  <a:lnTo>
                    <a:pt x="1550" y="1510"/>
                  </a:lnTo>
                  <a:lnTo>
                    <a:pt x="1559" y="1499"/>
                  </a:lnTo>
                  <a:lnTo>
                    <a:pt x="1569" y="1489"/>
                  </a:lnTo>
                  <a:lnTo>
                    <a:pt x="1577" y="1478"/>
                  </a:lnTo>
                  <a:lnTo>
                    <a:pt x="1587" y="1469"/>
                  </a:lnTo>
                  <a:lnTo>
                    <a:pt x="1595" y="1458"/>
                  </a:lnTo>
                  <a:lnTo>
                    <a:pt x="1603" y="1447"/>
                  </a:lnTo>
                  <a:lnTo>
                    <a:pt x="1611" y="1436"/>
                  </a:lnTo>
                  <a:lnTo>
                    <a:pt x="1622" y="1421"/>
                  </a:lnTo>
                  <a:lnTo>
                    <a:pt x="1510" y="1275"/>
                  </a:lnTo>
                  <a:lnTo>
                    <a:pt x="1518" y="1262"/>
                  </a:lnTo>
                  <a:lnTo>
                    <a:pt x="1525" y="1248"/>
                  </a:lnTo>
                  <a:lnTo>
                    <a:pt x="1533" y="1234"/>
                  </a:lnTo>
                  <a:lnTo>
                    <a:pt x="1540" y="1220"/>
                  </a:lnTo>
                  <a:lnTo>
                    <a:pt x="1721" y="1246"/>
                  </a:lnTo>
                  <a:lnTo>
                    <a:pt x="1728" y="1229"/>
                  </a:lnTo>
                  <a:lnTo>
                    <a:pt x="1732" y="1218"/>
                  </a:lnTo>
                  <a:lnTo>
                    <a:pt x="1736" y="1207"/>
                  </a:lnTo>
                  <a:lnTo>
                    <a:pt x="1740" y="1196"/>
                  </a:lnTo>
                  <a:lnTo>
                    <a:pt x="1744" y="1185"/>
                  </a:lnTo>
                  <a:lnTo>
                    <a:pt x="1749" y="1171"/>
                  </a:lnTo>
                  <a:lnTo>
                    <a:pt x="1754" y="1156"/>
                  </a:lnTo>
                  <a:lnTo>
                    <a:pt x="1758" y="1139"/>
                  </a:lnTo>
                  <a:lnTo>
                    <a:pt x="1762" y="1123"/>
                  </a:lnTo>
                  <a:lnTo>
                    <a:pt x="1768" y="1104"/>
                  </a:lnTo>
                  <a:lnTo>
                    <a:pt x="1610" y="1015"/>
                  </a:lnTo>
                  <a:lnTo>
                    <a:pt x="1613" y="999"/>
                  </a:lnTo>
                  <a:lnTo>
                    <a:pt x="1614" y="984"/>
                  </a:lnTo>
                  <a:lnTo>
                    <a:pt x="1617" y="969"/>
                  </a:lnTo>
                  <a:lnTo>
                    <a:pt x="1618" y="954"/>
                  </a:lnTo>
                  <a:lnTo>
                    <a:pt x="1792" y="909"/>
                  </a:lnTo>
                  <a:lnTo>
                    <a:pt x="1791" y="890"/>
                  </a:lnTo>
                  <a:lnTo>
                    <a:pt x="1791" y="862"/>
                  </a:lnTo>
                  <a:lnTo>
                    <a:pt x="1790" y="833"/>
                  </a:lnTo>
                  <a:lnTo>
                    <a:pt x="1787" y="805"/>
                  </a:lnTo>
                  <a:lnTo>
                    <a:pt x="1784" y="777"/>
                  </a:lnTo>
                  <a:lnTo>
                    <a:pt x="1781" y="759"/>
                  </a:lnTo>
                  <a:lnTo>
                    <a:pt x="1605" y="737"/>
                  </a:lnTo>
                  <a:lnTo>
                    <a:pt x="1602" y="722"/>
                  </a:lnTo>
                  <a:lnTo>
                    <a:pt x="1598" y="707"/>
                  </a:lnTo>
                  <a:lnTo>
                    <a:pt x="1594" y="692"/>
                  </a:lnTo>
                  <a:lnTo>
                    <a:pt x="1589" y="677"/>
                  </a:lnTo>
                  <a:lnTo>
                    <a:pt x="1731" y="570"/>
                  </a:lnTo>
                  <a:lnTo>
                    <a:pt x="1722" y="552"/>
                  </a:lnTo>
                  <a:lnTo>
                    <a:pt x="1717" y="540"/>
                  </a:lnTo>
                  <a:lnTo>
                    <a:pt x="1711" y="526"/>
                  </a:lnTo>
                  <a:lnTo>
                    <a:pt x="1706" y="514"/>
                  </a:lnTo>
                  <a:lnTo>
                    <a:pt x="1701" y="501"/>
                  </a:lnTo>
                  <a:lnTo>
                    <a:pt x="1694" y="488"/>
                  </a:lnTo>
                  <a:lnTo>
                    <a:pt x="1687" y="475"/>
                  </a:lnTo>
                  <a:lnTo>
                    <a:pt x="1680" y="463"/>
                  </a:lnTo>
                  <a:lnTo>
                    <a:pt x="1673" y="451"/>
                  </a:lnTo>
                  <a:lnTo>
                    <a:pt x="1663" y="434"/>
                  </a:lnTo>
                  <a:lnTo>
                    <a:pt x="1495" y="481"/>
                  </a:lnTo>
                  <a:lnTo>
                    <a:pt x="1487" y="467"/>
                  </a:lnTo>
                  <a:lnTo>
                    <a:pt x="1477" y="455"/>
                  </a:lnTo>
                  <a:lnTo>
                    <a:pt x="1466" y="442"/>
                  </a:lnTo>
                  <a:lnTo>
                    <a:pt x="1456" y="429"/>
                  </a:lnTo>
                  <a:lnTo>
                    <a:pt x="1546" y="280"/>
                  </a:lnTo>
                  <a:lnTo>
                    <a:pt x="1532" y="267"/>
                  </a:lnTo>
                  <a:lnTo>
                    <a:pt x="1522" y="257"/>
                  </a:lnTo>
                  <a:lnTo>
                    <a:pt x="1511" y="247"/>
                  </a:lnTo>
                  <a:lnTo>
                    <a:pt x="1502" y="238"/>
                  </a:lnTo>
                  <a:lnTo>
                    <a:pt x="1491" y="228"/>
                  </a:lnTo>
                  <a:lnTo>
                    <a:pt x="1481" y="219"/>
                  </a:lnTo>
                  <a:lnTo>
                    <a:pt x="1470" y="209"/>
                  </a:lnTo>
                  <a:lnTo>
                    <a:pt x="1459" y="199"/>
                  </a:lnTo>
                  <a:lnTo>
                    <a:pt x="1448" y="191"/>
                  </a:lnTo>
                  <a:lnTo>
                    <a:pt x="1433" y="180"/>
                  </a:lnTo>
                  <a:lnTo>
                    <a:pt x="1297" y="286"/>
                  </a:lnTo>
                  <a:lnTo>
                    <a:pt x="1290" y="282"/>
                  </a:lnTo>
                  <a:lnTo>
                    <a:pt x="1282" y="276"/>
                  </a:lnTo>
                  <a:lnTo>
                    <a:pt x="1275" y="272"/>
                  </a:lnTo>
                  <a:lnTo>
                    <a:pt x="1269" y="268"/>
                  </a:lnTo>
                  <a:lnTo>
                    <a:pt x="1262" y="263"/>
                  </a:lnTo>
                  <a:lnTo>
                    <a:pt x="1253" y="258"/>
                  </a:lnTo>
                  <a:lnTo>
                    <a:pt x="1247" y="254"/>
                  </a:lnTo>
                  <a:lnTo>
                    <a:pt x="1238" y="250"/>
                  </a:lnTo>
                  <a:lnTo>
                    <a:pt x="1263" y="80"/>
                  </a:lnTo>
                  <a:lnTo>
                    <a:pt x="1245" y="72"/>
                  </a:lnTo>
                  <a:lnTo>
                    <a:pt x="1230" y="66"/>
                  </a:lnTo>
                  <a:lnTo>
                    <a:pt x="1218" y="61"/>
                  </a:lnTo>
                  <a:lnTo>
                    <a:pt x="1204" y="55"/>
                  </a:lnTo>
                  <a:lnTo>
                    <a:pt x="1192" y="51"/>
                  </a:lnTo>
                  <a:lnTo>
                    <a:pt x="1179" y="47"/>
                  </a:lnTo>
                  <a:lnTo>
                    <a:pt x="1167" y="43"/>
                  </a:lnTo>
                  <a:lnTo>
                    <a:pt x="1155" y="39"/>
                  </a:lnTo>
                  <a:lnTo>
                    <a:pt x="1141" y="35"/>
                  </a:lnTo>
                  <a:lnTo>
                    <a:pt x="1123" y="29"/>
                  </a:lnTo>
                  <a:lnTo>
                    <a:pt x="1038" y="177"/>
                  </a:lnTo>
                  <a:lnTo>
                    <a:pt x="1030" y="176"/>
                  </a:lnTo>
                  <a:lnTo>
                    <a:pt x="1020" y="175"/>
                  </a:lnTo>
                  <a:lnTo>
                    <a:pt x="1012" y="173"/>
                  </a:lnTo>
                  <a:lnTo>
                    <a:pt x="1002" y="172"/>
                  </a:lnTo>
                  <a:lnTo>
                    <a:pt x="993" y="171"/>
                  </a:lnTo>
                  <a:lnTo>
                    <a:pt x="985" y="169"/>
                  </a:lnTo>
                  <a:lnTo>
                    <a:pt x="975" y="168"/>
                  </a:lnTo>
                  <a:lnTo>
                    <a:pt x="967" y="167"/>
                  </a:lnTo>
                  <a:lnTo>
                    <a:pt x="923" y="0"/>
                  </a:lnTo>
                  <a:lnTo>
                    <a:pt x="905" y="0"/>
                  </a:lnTo>
                  <a:lnTo>
                    <a:pt x="891" y="0"/>
                  </a:lnTo>
                  <a:lnTo>
                    <a:pt x="878" y="0"/>
                  </a:lnTo>
                  <a:lnTo>
                    <a:pt x="864" y="0"/>
                  </a:lnTo>
                  <a:lnTo>
                    <a:pt x="850" y="2"/>
                  </a:lnTo>
                  <a:lnTo>
                    <a:pt x="837" y="2"/>
                  </a:lnTo>
                  <a:lnTo>
                    <a:pt x="824" y="3"/>
                  </a:lnTo>
                  <a:lnTo>
                    <a:pt x="810" y="5"/>
                  </a:lnTo>
                  <a:lnTo>
                    <a:pt x="797" y="6"/>
                  </a:lnTo>
                  <a:lnTo>
                    <a:pt x="778" y="9"/>
                  </a:lnTo>
                  <a:lnTo>
                    <a:pt x="756" y="176"/>
                  </a:lnTo>
                  <a:lnTo>
                    <a:pt x="747" y="179"/>
                  </a:lnTo>
                  <a:lnTo>
                    <a:pt x="738" y="180"/>
                  </a:lnTo>
                  <a:lnTo>
                    <a:pt x="730" y="183"/>
                  </a:lnTo>
                  <a:lnTo>
                    <a:pt x="720" y="184"/>
                  </a:lnTo>
                  <a:lnTo>
                    <a:pt x="710" y="187"/>
                  </a:lnTo>
                  <a:lnTo>
                    <a:pt x="701" y="190"/>
                  </a:lnTo>
                  <a:lnTo>
                    <a:pt x="693" y="193"/>
                  </a:lnTo>
                  <a:lnTo>
                    <a:pt x="683" y="195"/>
                  </a:lnTo>
                  <a:lnTo>
                    <a:pt x="579" y="58"/>
                  </a:lnTo>
                  <a:lnTo>
                    <a:pt x="562" y="65"/>
                  </a:lnTo>
                  <a:lnTo>
                    <a:pt x="550" y="70"/>
                  </a:lnTo>
                  <a:lnTo>
                    <a:pt x="538" y="76"/>
                  </a:lnTo>
                  <a:lnTo>
                    <a:pt x="525" y="81"/>
                  </a:lnTo>
                  <a:lnTo>
                    <a:pt x="513" y="87"/>
                  </a:lnTo>
                  <a:lnTo>
                    <a:pt x="501" y="94"/>
                  </a:lnTo>
                  <a:lnTo>
                    <a:pt x="488" y="99"/>
                  </a:lnTo>
                  <a:lnTo>
                    <a:pt x="477" y="106"/>
                  </a:lnTo>
                  <a:lnTo>
                    <a:pt x="465" y="112"/>
                  </a:lnTo>
                  <a:lnTo>
                    <a:pt x="448" y="120"/>
                  </a:lnTo>
                  <a:lnTo>
                    <a:pt x="494" y="285"/>
                  </a:lnTo>
                  <a:lnTo>
                    <a:pt x="485" y="290"/>
                  </a:lnTo>
                  <a:lnTo>
                    <a:pt x="477" y="296"/>
                  </a:lnTo>
                  <a:lnTo>
                    <a:pt x="469" y="302"/>
                  </a:lnTo>
                  <a:lnTo>
                    <a:pt x="461" y="308"/>
                  </a:lnTo>
                  <a:lnTo>
                    <a:pt x="453" y="315"/>
                  </a:lnTo>
                  <a:lnTo>
                    <a:pt x="444" y="320"/>
                  </a:lnTo>
                  <a:lnTo>
                    <a:pt x="437" y="327"/>
                  </a:lnTo>
                  <a:lnTo>
                    <a:pt x="429" y="333"/>
                  </a:lnTo>
                  <a:lnTo>
                    <a:pt x="281" y="246"/>
                  </a:lnTo>
                  <a:lnTo>
                    <a:pt x="267" y="258"/>
                  </a:lnTo>
                  <a:lnTo>
                    <a:pt x="258" y="268"/>
                  </a:lnTo>
                  <a:lnTo>
                    <a:pt x="248" y="278"/>
                  </a:lnTo>
                  <a:lnTo>
                    <a:pt x="239" y="287"/>
                  </a:lnTo>
                  <a:lnTo>
                    <a:pt x="230" y="297"/>
                  </a:lnTo>
                  <a:lnTo>
                    <a:pt x="222" y="308"/>
                  </a:lnTo>
                  <a:lnTo>
                    <a:pt x="214" y="317"/>
                  </a:lnTo>
                  <a:lnTo>
                    <a:pt x="206" y="327"/>
                  </a:lnTo>
                  <a:lnTo>
                    <a:pt x="197" y="337"/>
                  </a:lnTo>
                  <a:lnTo>
                    <a:pt x="185" y="352"/>
                  </a:lnTo>
                  <a:lnTo>
                    <a:pt x="291" y="485"/>
                  </a:lnTo>
                  <a:lnTo>
                    <a:pt x="285" y="493"/>
                  </a:lnTo>
                  <a:lnTo>
                    <a:pt x="280" y="503"/>
                  </a:lnTo>
                  <a:lnTo>
                    <a:pt x="274" y="511"/>
                  </a:lnTo>
                  <a:lnTo>
                    <a:pt x="269" y="521"/>
                  </a:lnTo>
                  <a:lnTo>
                    <a:pt x="263" y="530"/>
                  </a:lnTo>
                  <a:lnTo>
                    <a:pt x="258" y="540"/>
                  </a:lnTo>
                  <a:lnTo>
                    <a:pt x="252" y="548"/>
                  </a:lnTo>
                  <a:lnTo>
                    <a:pt x="248" y="558"/>
                  </a:lnTo>
                  <a:lnTo>
                    <a:pt x="77" y="534"/>
                  </a:lnTo>
                  <a:lnTo>
                    <a:pt x="69" y="551"/>
                  </a:lnTo>
                  <a:lnTo>
                    <a:pt x="63" y="566"/>
                  </a:lnTo>
                  <a:lnTo>
                    <a:pt x="58" y="581"/>
                  </a:lnTo>
                  <a:lnTo>
                    <a:pt x="52" y="595"/>
                  </a:lnTo>
                  <a:lnTo>
                    <a:pt x="48" y="608"/>
                  </a:lnTo>
                  <a:lnTo>
                    <a:pt x="45" y="618"/>
                  </a:lnTo>
                  <a:lnTo>
                    <a:pt x="41" y="628"/>
                  </a:lnTo>
                  <a:lnTo>
                    <a:pt x="38" y="637"/>
                  </a:lnTo>
                  <a:lnTo>
                    <a:pt x="34" y="648"/>
                  </a:lnTo>
                  <a:lnTo>
                    <a:pt x="30" y="666"/>
                  </a:lnTo>
                  <a:lnTo>
                    <a:pt x="181" y="752"/>
                  </a:lnTo>
                  <a:lnTo>
                    <a:pt x="177" y="773"/>
                  </a:lnTo>
                  <a:lnTo>
                    <a:pt x="174" y="794"/>
                  </a:lnTo>
                  <a:lnTo>
                    <a:pt x="173" y="816"/>
                  </a:lnTo>
                  <a:lnTo>
                    <a:pt x="170" y="836"/>
                  </a:lnTo>
                  <a:lnTo>
                    <a:pt x="0" y="880"/>
                  </a:lnTo>
                  <a:lnTo>
                    <a:pt x="0" y="899"/>
                  </a:lnTo>
                  <a:lnTo>
                    <a:pt x="0" y="925"/>
                  </a:lnTo>
                  <a:lnTo>
                    <a:pt x="1" y="951"/>
                  </a:lnTo>
                  <a:lnTo>
                    <a:pt x="3" y="976"/>
                  </a:lnTo>
                  <a:lnTo>
                    <a:pt x="5" y="1001"/>
                  </a:lnTo>
                  <a:lnTo>
                    <a:pt x="8" y="1020"/>
                  </a:lnTo>
                  <a:lnTo>
                    <a:pt x="185" y="1042"/>
                  </a:lnTo>
                  <a:lnTo>
                    <a:pt x="189" y="1063"/>
                  </a:lnTo>
                  <a:lnTo>
                    <a:pt x="195" y="1082"/>
                  </a:lnTo>
                  <a:lnTo>
                    <a:pt x="202" y="1102"/>
                  </a:lnTo>
                  <a:lnTo>
                    <a:pt x="207" y="1122"/>
                  </a:lnTo>
                  <a:lnTo>
                    <a:pt x="64" y="1230"/>
                  </a:lnTo>
                  <a:lnTo>
                    <a:pt x="71" y="1248"/>
                  </a:lnTo>
                  <a:lnTo>
                    <a:pt x="77" y="1260"/>
                  </a:lnTo>
                  <a:lnTo>
                    <a:pt x="82" y="1271"/>
                  </a:lnTo>
                  <a:lnTo>
                    <a:pt x="88" y="1282"/>
                  </a:lnTo>
                  <a:lnTo>
                    <a:pt x="93" y="1295"/>
                  </a:lnTo>
                  <a:lnTo>
                    <a:pt x="99" y="1305"/>
                  </a:lnTo>
                  <a:lnTo>
                    <a:pt x="104" y="1316"/>
                  </a:lnTo>
                  <a:lnTo>
                    <a:pt x="111" y="1327"/>
                  </a:lnTo>
                  <a:lnTo>
                    <a:pt x="117" y="1338"/>
                  </a:lnTo>
                  <a:lnTo>
                    <a:pt x="126" y="1356"/>
                  </a:lnTo>
                  <a:lnTo>
                    <a:pt x="300" y="1307"/>
                  </a:lnTo>
                  <a:lnTo>
                    <a:pt x="307" y="1315"/>
                  </a:lnTo>
                  <a:lnTo>
                    <a:pt x="313" y="1323"/>
                  </a:lnTo>
                  <a:lnTo>
                    <a:pt x="320" y="1332"/>
                  </a:lnTo>
                  <a:lnTo>
                    <a:pt x="325" y="1340"/>
                  </a:lnTo>
                  <a:lnTo>
                    <a:pt x="332" y="1348"/>
                  </a:lnTo>
                  <a:lnTo>
                    <a:pt x="337" y="1356"/>
                  </a:lnTo>
                  <a:lnTo>
                    <a:pt x="344" y="1363"/>
                  </a:lnTo>
                  <a:lnTo>
                    <a:pt x="351" y="1371"/>
                  </a:lnTo>
                  <a:lnTo>
                    <a:pt x="259" y="1528"/>
                  </a:lnTo>
                  <a:lnTo>
                    <a:pt x="273" y="1542"/>
                  </a:lnTo>
                  <a:lnTo>
                    <a:pt x="281" y="1550"/>
                  </a:lnTo>
                  <a:lnTo>
                    <a:pt x="291" y="1558"/>
                  </a:lnTo>
                  <a:lnTo>
                    <a:pt x="300" y="1566"/>
                  </a:lnTo>
                  <a:lnTo>
                    <a:pt x="310" y="1574"/>
                  </a:lnTo>
                  <a:lnTo>
                    <a:pt x="320" y="1583"/>
                  </a:lnTo>
                  <a:lnTo>
                    <a:pt x="329" y="1591"/>
                  </a:lnTo>
                  <a:lnTo>
                    <a:pt x="340" y="1599"/>
                  </a:lnTo>
                  <a:lnTo>
                    <a:pt x="350" y="1607"/>
                  </a:lnTo>
                  <a:lnTo>
                    <a:pt x="365" y="1620"/>
                  </a:lnTo>
                  <a:lnTo>
                    <a:pt x="510" y="1506"/>
                  </a:lnTo>
                  <a:lnTo>
                    <a:pt x="518" y="1511"/>
                  </a:lnTo>
                  <a:lnTo>
                    <a:pt x="527" y="1515"/>
                  </a:lnTo>
                  <a:lnTo>
                    <a:pt x="535" y="1521"/>
                  </a:lnTo>
                  <a:lnTo>
                    <a:pt x="543" y="1525"/>
                  </a:lnTo>
                  <a:lnTo>
                    <a:pt x="551" y="1531"/>
                  </a:lnTo>
                  <a:lnTo>
                    <a:pt x="560" y="1535"/>
                  </a:lnTo>
                  <a:lnTo>
                    <a:pt x="569" y="1539"/>
                  </a:lnTo>
                  <a:lnTo>
                    <a:pt x="577" y="1543"/>
                  </a:lnTo>
                  <a:lnTo>
                    <a:pt x="553" y="1725"/>
                  </a:lnTo>
                  <a:lnTo>
                    <a:pt x="570" y="1732"/>
                  </a:lnTo>
                  <a:lnTo>
                    <a:pt x="580" y="1736"/>
                  </a:lnTo>
                  <a:lnTo>
                    <a:pt x="590" y="1739"/>
                  </a:lnTo>
                  <a:lnTo>
                    <a:pt x="599" y="1743"/>
                  </a:lnTo>
                  <a:lnTo>
                    <a:pt x="608" y="17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63920" y="3387600"/>
              <a:ext cx="2306880" cy="2309760"/>
            </a:xfrm>
            <a:custGeom>
              <a:avLst/>
              <a:gdLst/>
              <a:ahLst/>
              <a:rect l="l" t="t" r="r" b="b"/>
              <a:pathLst>
                <a:path w="1693" h="1695">
                  <a:moveTo>
                    <a:pt x="969" y="1507"/>
                  </a:moveTo>
                  <a:lnTo>
                    <a:pt x="945" y="1689"/>
                  </a:lnTo>
                  <a:lnTo>
                    <a:pt x="937" y="1690"/>
                  </a:lnTo>
                  <a:lnTo>
                    <a:pt x="930" y="1690"/>
                  </a:lnTo>
                  <a:lnTo>
                    <a:pt x="922" y="1692"/>
                  </a:lnTo>
                  <a:lnTo>
                    <a:pt x="915" y="1692"/>
                  </a:lnTo>
                  <a:lnTo>
                    <a:pt x="907" y="1693"/>
                  </a:lnTo>
                  <a:lnTo>
                    <a:pt x="899" y="1693"/>
                  </a:lnTo>
                  <a:lnTo>
                    <a:pt x="892" y="1695"/>
                  </a:lnTo>
                  <a:lnTo>
                    <a:pt x="884" y="1695"/>
                  </a:lnTo>
                  <a:lnTo>
                    <a:pt x="838" y="1518"/>
                  </a:lnTo>
                  <a:lnTo>
                    <a:pt x="820" y="1518"/>
                  </a:lnTo>
                  <a:lnTo>
                    <a:pt x="808" y="1518"/>
                  </a:lnTo>
                  <a:lnTo>
                    <a:pt x="794" y="1516"/>
                  </a:lnTo>
                  <a:lnTo>
                    <a:pt x="782" y="1515"/>
                  </a:lnTo>
                  <a:lnTo>
                    <a:pt x="770" y="1513"/>
                  </a:lnTo>
                  <a:lnTo>
                    <a:pt x="757" y="1512"/>
                  </a:lnTo>
                  <a:lnTo>
                    <a:pt x="745" y="1511"/>
                  </a:lnTo>
                  <a:lnTo>
                    <a:pt x="733" y="1508"/>
                  </a:lnTo>
                  <a:lnTo>
                    <a:pt x="720" y="1507"/>
                  </a:lnTo>
                  <a:lnTo>
                    <a:pt x="703" y="1502"/>
                  </a:lnTo>
                  <a:lnTo>
                    <a:pt x="613" y="1662"/>
                  </a:lnTo>
                  <a:lnTo>
                    <a:pt x="604" y="1659"/>
                  </a:lnTo>
                  <a:lnTo>
                    <a:pt x="594" y="1656"/>
                  </a:lnTo>
                  <a:lnTo>
                    <a:pt x="585" y="1653"/>
                  </a:lnTo>
                  <a:lnTo>
                    <a:pt x="575" y="1651"/>
                  </a:lnTo>
                  <a:lnTo>
                    <a:pt x="571" y="1649"/>
                  </a:lnTo>
                  <a:lnTo>
                    <a:pt x="565" y="1647"/>
                  </a:lnTo>
                  <a:lnTo>
                    <a:pt x="561" y="1645"/>
                  </a:lnTo>
                  <a:lnTo>
                    <a:pt x="556" y="1644"/>
                  </a:lnTo>
                  <a:lnTo>
                    <a:pt x="582" y="1464"/>
                  </a:lnTo>
                  <a:lnTo>
                    <a:pt x="565" y="1457"/>
                  </a:lnTo>
                  <a:lnTo>
                    <a:pt x="553" y="1452"/>
                  </a:lnTo>
                  <a:lnTo>
                    <a:pt x="541" y="1446"/>
                  </a:lnTo>
                  <a:lnTo>
                    <a:pt x="530" y="1439"/>
                  </a:lnTo>
                  <a:lnTo>
                    <a:pt x="517" y="1434"/>
                  </a:lnTo>
                  <a:lnTo>
                    <a:pt x="506" y="1427"/>
                  </a:lnTo>
                  <a:lnTo>
                    <a:pt x="495" y="1420"/>
                  </a:lnTo>
                  <a:lnTo>
                    <a:pt x="484" y="1413"/>
                  </a:lnTo>
                  <a:lnTo>
                    <a:pt x="473" y="1406"/>
                  </a:lnTo>
                  <a:lnTo>
                    <a:pt x="458" y="1397"/>
                  </a:lnTo>
                  <a:lnTo>
                    <a:pt x="316" y="1508"/>
                  </a:lnTo>
                  <a:lnTo>
                    <a:pt x="310" y="1502"/>
                  </a:lnTo>
                  <a:lnTo>
                    <a:pt x="305" y="1498"/>
                  </a:lnTo>
                  <a:lnTo>
                    <a:pt x="299" y="1493"/>
                  </a:lnTo>
                  <a:lnTo>
                    <a:pt x="294" y="1487"/>
                  </a:lnTo>
                  <a:lnTo>
                    <a:pt x="287" y="1483"/>
                  </a:lnTo>
                  <a:lnTo>
                    <a:pt x="282" y="1478"/>
                  </a:lnTo>
                  <a:lnTo>
                    <a:pt x="276" y="1474"/>
                  </a:lnTo>
                  <a:lnTo>
                    <a:pt x="271" y="1468"/>
                  </a:lnTo>
                  <a:lnTo>
                    <a:pt x="361" y="1314"/>
                  </a:lnTo>
                  <a:lnTo>
                    <a:pt x="350" y="1301"/>
                  </a:lnTo>
                  <a:lnTo>
                    <a:pt x="340" y="1291"/>
                  </a:lnTo>
                  <a:lnTo>
                    <a:pt x="332" y="1280"/>
                  </a:lnTo>
                  <a:lnTo>
                    <a:pt x="323" y="1271"/>
                  </a:lnTo>
                  <a:lnTo>
                    <a:pt x="314" y="1260"/>
                  </a:lnTo>
                  <a:lnTo>
                    <a:pt x="306" y="1249"/>
                  </a:lnTo>
                  <a:lnTo>
                    <a:pt x="298" y="1238"/>
                  </a:lnTo>
                  <a:lnTo>
                    <a:pt x="290" y="1227"/>
                  </a:lnTo>
                  <a:lnTo>
                    <a:pt x="283" y="1216"/>
                  </a:lnTo>
                  <a:lnTo>
                    <a:pt x="272" y="1201"/>
                  </a:lnTo>
                  <a:lnTo>
                    <a:pt x="100" y="1249"/>
                  </a:lnTo>
                  <a:lnTo>
                    <a:pt x="94" y="1235"/>
                  </a:lnTo>
                  <a:lnTo>
                    <a:pt x="88" y="1223"/>
                  </a:lnTo>
                  <a:lnTo>
                    <a:pt x="81" y="1210"/>
                  </a:lnTo>
                  <a:lnTo>
                    <a:pt x="76" y="1196"/>
                  </a:lnTo>
                  <a:lnTo>
                    <a:pt x="216" y="1089"/>
                  </a:lnTo>
                  <a:lnTo>
                    <a:pt x="210" y="1073"/>
                  </a:lnTo>
                  <a:lnTo>
                    <a:pt x="201" y="1047"/>
                  </a:lnTo>
                  <a:lnTo>
                    <a:pt x="192" y="1019"/>
                  </a:lnTo>
                  <a:lnTo>
                    <a:pt x="186" y="993"/>
                  </a:lnTo>
                  <a:lnTo>
                    <a:pt x="180" y="966"/>
                  </a:lnTo>
                  <a:lnTo>
                    <a:pt x="177" y="948"/>
                  </a:lnTo>
                  <a:lnTo>
                    <a:pt x="3" y="926"/>
                  </a:lnTo>
                  <a:lnTo>
                    <a:pt x="2" y="912"/>
                  </a:lnTo>
                  <a:lnTo>
                    <a:pt x="2" y="897"/>
                  </a:lnTo>
                  <a:lnTo>
                    <a:pt x="0" y="884"/>
                  </a:lnTo>
                  <a:lnTo>
                    <a:pt x="0" y="869"/>
                  </a:lnTo>
                  <a:lnTo>
                    <a:pt x="168" y="825"/>
                  </a:lnTo>
                  <a:lnTo>
                    <a:pt x="169" y="807"/>
                  </a:lnTo>
                  <a:lnTo>
                    <a:pt x="170" y="779"/>
                  </a:lnTo>
                  <a:lnTo>
                    <a:pt x="175" y="750"/>
                  </a:lnTo>
                  <a:lnTo>
                    <a:pt x="177" y="723"/>
                  </a:lnTo>
                  <a:lnTo>
                    <a:pt x="183" y="696"/>
                  </a:lnTo>
                  <a:lnTo>
                    <a:pt x="187" y="678"/>
                  </a:lnTo>
                  <a:lnTo>
                    <a:pt x="37" y="593"/>
                  </a:lnTo>
                  <a:lnTo>
                    <a:pt x="39" y="587"/>
                  </a:lnTo>
                  <a:lnTo>
                    <a:pt x="42" y="583"/>
                  </a:lnTo>
                  <a:lnTo>
                    <a:pt x="43" y="579"/>
                  </a:lnTo>
                  <a:lnTo>
                    <a:pt x="44" y="573"/>
                  </a:lnTo>
                  <a:lnTo>
                    <a:pt x="47" y="565"/>
                  </a:lnTo>
                  <a:lnTo>
                    <a:pt x="51" y="556"/>
                  </a:lnTo>
                  <a:lnTo>
                    <a:pt x="54" y="546"/>
                  </a:lnTo>
                  <a:lnTo>
                    <a:pt x="58" y="536"/>
                  </a:lnTo>
                  <a:lnTo>
                    <a:pt x="228" y="561"/>
                  </a:lnTo>
                  <a:lnTo>
                    <a:pt x="235" y="545"/>
                  </a:lnTo>
                  <a:lnTo>
                    <a:pt x="242" y="532"/>
                  </a:lnTo>
                  <a:lnTo>
                    <a:pt x="247" y="520"/>
                  </a:lnTo>
                  <a:lnTo>
                    <a:pt x="254" y="508"/>
                  </a:lnTo>
                  <a:lnTo>
                    <a:pt x="261" y="495"/>
                  </a:lnTo>
                  <a:lnTo>
                    <a:pt x="269" y="483"/>
                  </a:lnTo>
                  <a:lnTo>
                    <a:pt x="276" y="472"/>
                  </a:lnTo>
                  <a:lnTo>
                    <a:pt x="283" y="460"/>
                  </a:lnTo>
                  <a:lnTo>
                    <a:pt x="291" y="449"/>
                  </a:lnTo>
                  <a:lnTo>
                    <a:pt x="302" y="434"/>
                  </a:lnTo>
                  <a:lnTo>
                    <a:pt x="198" y="302"/>
                  </a:lnTo>
                  <a:lnTo>
                    <a:pt x="203" y="296"/>
                  </a:lnTo>
                  <a:lnTo>
                    <a:pt x="209" y="291"/>
                  </a:lnTo>
                  <a:lnTo>
                    <a:pt x="213" y="285"/>
                  </a:lnTo>
                  <a:lnTo>
                    <a:pt x="218" y="278"/>
                  </a:lnTo>
                  <a:lnTo>
                    <a:pt x="224" y="273"/>
                  </a:lnTo>
                  <a:lnTo>
                    <a:pt x="229" y="267"/>
                  </a:lnTo>
                  <a:lnTo>
                    <a:pt x="234" y="262"/>
                  </a:lnTo>
                  <a:lnTo>
                    <a:pt x="239" y="256"/>
                  </a:lnTo>
                  <a:lnTo>
                    <a:pt x="386" y="340"/>
                  </a:lnTo>
                  <a:lnTo>
                    <a:pt x="398" y="329"/>
                  </a:lnTo>
                  <a:lnTo>
                    <a:pt x="409" y="320"/>
                  </a:lnTo>
                  <a:lnTo>
                    <a:pt x="419" y="311"/>
                  </a:lnTo>
                  <a:lnTo>
                    <a:pt x="430" y="303"/>
                  </a:lnTo>
                  <a:lnTo>
                    <a:pt x="441" y="295"/>
                  </a:lnTo>
                  <a:lnTo>
                    <a:pt x="452" y="287"/>
                  </a:lnTo>
                  <a:lnTo>
                    <a:pt x="464" y="280"/>
                  </a:lnTo>
                  <a:lnTo>
                    <a:pt x="475" y="272"/>
                  </a:lnTo>
                  <a:lnTo>
                    <a:pt x="486" y="265"/>
                  </a:lnTo>
                  <a:lnTo>
                    <a:pt x="501" y="255"/>
                  </a:lnTo>
                  <a:lnTo>
                    <a:pt x="457" y="95"/>
                  </a:lnTo>
                  <a:lnTo>
                    <a:pt x="464" y="90"/>
                  </a:lnTo>
                  <a:lnTo>
                    <a:pt x="471" y="88"/>
                  </a:lnTo>
                  <a:lnTo>
                    <a:pt x="478" y="84"/>
                  </a:lnTo>
                  <a:lnTo>
                    <a:pt x="484" y="81"/>
                  </a:lnTo>
                  <a:lnTo>
                    <a:pt x="493" y="78"/>
                  </a:lnTo>
                  <a:lnTo>
                    <a:pt x="500" y="75"/>
                  </a:lnTo>
                  <a:lnTo>
                    <a:pt x="506" y="71"/>
                  </a:lnTo>
                  <a:lnTo>
                    <a:pt x="515" y="68"/>
                  </a:lnTo>
                  <a:lnTo>
                    <a:pt x="615" y="202"/>
                  </a:lnTo>
                  <a:lnTo>
                    <a:pt x="633" y="196"/>
                  </a:lnTo>
                  <a:lnTo>
                    <a:pt x="645" y="192"/>
                  </a:lnTo>
                  <a:lnTo>
                    <a:pt x="657" y="188"/>
                  </a:lnTo>
                  <a:lnTo>
                    <a:pt x="670" y="185"/>
                  </a:lnTo>
                  <a:lnTo>
                    <a:pt x="682" y="181"/>
                  </a:lnTo>
                  <a:lnTo>
                    <a:pt x="694" y="178"/>
                  </a:lnTo>
                  <a:lnTo>
                    <a:pt x="707" y="176"/>
                  </a:lnTo>
                  <a:lnTo>
                    <a:pt x="720" y="173"/>
                  </a:lnTo>
                  <a:lnTo>
                    <a:pt x="733" y="170"/>
                  </a:lnTo>
                  <a:lnTo>
                    <a:pt x="751" y="167"/>
                  </a:lnTo>
                  <a:lnTo>
                    <a:pt x="771" y="3"/>
                  </a:lnTo>
                  <a:lnTo>
                    <a:pt x="779" y="3"/>
                  </a:lnTo>
                  <a:lnTo>
                    <a:pt x="788" y="1"/>
                  </a:lnTo>
                  <a:lnTo>
                    <a:pt x="796" y="1"/>
                  </a:lnTo>
                  <a:lnTo>
                    <a:pt x="804" y="1"/>
                  </a:lnTo>
                  <a:lnTo>
                    <a:pt x="812" y="0"/>
                  </a:lnTo>
                  <a:lnTo>
                    <a:pt x="820" y="0"/>
                  </a:lnTo>
                  <a:lnTo>
                    <a:pt x="829" y="0"/>
                  </a:lnTo>
                  <a:lnTo>
                    <a:pt x="837" y="0"/>
                  </a:lnTo>
                  <a:lnTo>
                    <a:pt x="879" y="162"/>
                  </a:lnTo>
                  <a:lnTo>
                    <a:pt x="896" y="163"/>
                  </a:lnTo>
                  <a:lnTo>
                    <a:pt x="908" y="165"/>
                  </a:lnTo>
                  <a:lnTo>
                    <a:pt x="922" y="166"/>
                  </a:lnTo>
                  <a:lnTo>
                    <a:pt x="934" y="167"/>
                  </a:lnTo>
                  <a:lnTo>
                    <a:pt x="947" y="169"/>
                  </a:lnTo>
                  <a:lnTo>
                    <a:pt x="960" y="171"/>
                  </a:lnTo>
                  <a:lnTo>
                    <a:pt x="973" y="173"/>
                  </a:lnTo>
                  <a:lnTo>
                    <a:pt x="985" y="176"/>
                  </a:lnTo>
                  <a:lnTo>
                    <a:pt x="997" y="178"/>
                  </a:lnTo>
                  <a:lnTo>
                    <a:pt x="1015" y="182"/>
                  </a:lnTo>
                  <a:lnTo>
                    <a:pt x="1097" y="37"/>
                  </a:lnTo>
                  <a:lnTo>
                    <a:pt x="1106" y="40"/>
                  </a:lnTo>
                  <a:lnTo>
                    <a:pt x="1113" y="42"/>
                  </a:lnTo>
                  <a:lnTo>
                    <a:pt x="1121" y="45"/>
                  </a:lnTo>
                  <a:lnTo>
                    <a:pt x="1128" y="48"/>
                  </a:lnTo>
                  <a:lnTo>
                    <a:pt x="1136" y="51"/>
                  </a:lnTo>
                  <a:lnTo>
                    <a:pt x="1144" y="53"/>
                  </a:lnTo>
                  <a:lnTo>
                    <a:pt x="1152" y="56"/>
                  </a:lnTo>
                  <a:lnTo>
                    <a:pt x="1161" y="60"/>
                  </a:lnTo>
                  <a:lnTo>
                    <a:pt x="1137" y="228"/>
                  </a:lnTo>
                  <a:lnTo>
                    <a:pt x="1152" y="236"/>
                  </a:lnTo>
                  <a:lnTo>
                    <a:pt x="1163" y="241"/>
                  </a:lnTo>
                  <a:lnTo>
                    <a:pt x="1174" y="247"/>
                  </a:lnTo>
                  <a:lnTo>
                    <a:pt x="1185" y="252"/>
                  </a:lnTo>
                  <a:lnTo>
                    <a:pt x="1195" y="258"/>
                  </a:lnTo>
                  <a:lnTo>
                    <a:pt x="1206" y="265"/>
                  </a:lnTo>
                  <a:lnTo>
                    <a:pt x="1215" y="272"/>
                  </a:lnTo>
                  <a:lnTo>
                    <a:pt x="1226" y="278"/>
                  </a:lnTo>
                  <a:lnTo>
                    <a:pt x="1236" y="285"/>
                  </a:lnTo>
                  <a:lnTo>
                    <a:pt x="1251" y="296"/>
                  </a:lnTo>
                  <a:lnTo>
                    <a:pt x="1384" y="192"/>
                  </a:lnTo>
                  <a:lnTo>
                    <a:pt x="1391" y="197"/>
                  </a:lnTo>
                  <a:lnTo>
                    <a:pt x="1398" y="203"/>
                  </a:lnTo>
                  <a:lnTo>
                    <a:pt x="1403" y="208"/>
                  </a:lnTo>
                  <a:lnTo>
                    <a:pt x="1410" y="214"/>
                  </a:lnTo>
                  <a:lnTo>
                    <a:pt x="1416" y="221"/>
                  </a:lnTo>
                  <a:lnTo>
                    <a:pt x="1422" y="226"/>
                  </a:lnTo>
                  <a:lnTo>
                    <a:pt x="1428" y="232"/>
                  </a:lnTo>
                  <a:lnTo>
                    <a:pt x="1435" y="237"/>
                  </a:lnTo>
                  <a:lnTo>
                    <a:pt x="1348" y="384"/>
                  </a:lnTo>
                  <a:lnTo>
                    <a:pt x="1359" y="396"/>
                  </a:lnTo>
                  <a:lnTo>
                    <a:pt x="1368" y="406"/>
                  </a:lnTo>
                  <a:lnTo>
                    <a:pt x="1374" y="416"/>
                  </a:lnTo>
                  <a:lnTo>
                    <a:pt x="1381" y="424"/>
                  </a:lnTo>
                  <a:lnTo>
                    <a:pt x="1390" y="434"/>
                  </a:lnTo>
                  <a:lnTo>
                    <a:pt x="1396" y="443"/>
                  </a:lnTo>
                  <a:lnTo>
                    <a:pt x="1403" y="453"/>
                  </a:lnTo>
                  <a:lnTo>
                    <a:pt x="1409" y="462"/>
                  </a:lnTo>
                  <a:lnTo>
                    <a:pt x="1416" y="472"/>
                  </a:lnTo>
                  <a:lnTo>
                    <a:pt x="1425" y="487"/>
                  </a:lnTo>
                  <a:lnTo>
                    <a:pt x="1591" y="442"/>
                  </a:lnTo>
                  <a:lnTo>
                    <a:pt x="1599" y="457"/>
                  </a:lnTo>
                  <a:lnTo>
                    <a:pt x="1606" y="472"/>
                  </a:lnTo>
                  <a:lnTo>
                    <a:pt x="1614" y="488"/>
                  </a:lnTo>
                  <a:lnTo>
                    <a:pt x="1621" y="503"/>
                  </a:lnTo>
                  <a:lnTo>
                    <a:pt x="1483" y="608"/>
                  </a:lnTo>
                  <a:lnTo>
                    <a:pt x="1488" y="626"/>
                  </a:lnTo>
                  <a:lnTo>
                    <a:pt x="1495" y="646"/>
                  </a:lnTo>
                  <a:lnTo>
                    <a:pt x="1502" y="668"/>
                  </a:lnTo>
                  <a:lnTo>
                    <a:pt x="1508" y="691"/>
                  </a:lnTo>
                  <a:lnTo>
                    <a:pt x="1512" y="713"/>
                  </a:lnTo>
                  <a:lnTo>
                    <a:pt x="1514" y="731"/>
                  </a:lnTo>
                  <a:lnTo>
                    <a:pt x="1689" y="752"/>
                  </a:lnTo>
                  <a:lnTo>
                    <a:pt x="1690" y="770"/>
                  </a:lnTo>
                  <a:lnTo>
                    <a:pt x="1691" y="786"/>
                  </a:lnTo>
                  <a:lnTo>
                    <a:pt x="1693" y="804"/>
                  </a:lnTo>
                  <a:lnTo>
                    <a:pt x="1693" y="822"/>
                  </a:lnTo>
                  <a:lnTo>
                    <a:pt x="1523" y="866"/>
                  </a:lnTo>
                  <a:lnTo>
                    <a:pt x="1523" y="884"/>
                  </a:lnTo>
                  <a:lnTo>
                    <a:pt x="1520" y="906"/>
                  </a:lnTo>
                  <a:lnTo>
                    <a:pt x="1517" y="928"/>
                  </a:lnTo>
                  <a:lnTo>
                    <a:pt x="1514" y="951"/>
                  </a:lnTo>
                  <a:lnTo>
                    <a:pt x="1510" y="973"/>
                  </a:lnTo>
                  <a:lnTo>
                    <a:pt x="1506" y="991"/>
                  </a:lnTo>
                  <a:lnTo>
                    <a:pt x="1661" y="1078"/>
                  </a:lnTo>
                  <a:lnTo>
                    <a:pt x="1656" y="1096"/>
                  </a:lnTo>
                  <a:lnTo>
                    <a:pt x="1652" y="1113"/>
                  </a:lnTo>
                  <a:lnTo>
                    <a:pt x="1646" y="1128"/>
                  </a:lnTo>
                  <a:lnTo>
                    <a:pt x="1641" y="1143"/>
                  </a:lnTo>
                  <a:lnTo>
                    <a:pt x="1464" y="1118"/>
                  </a:lnTo>
                  <a:lnTo>
                    <a:pt x="1455" y="1135"/>
                  </a:lnTo>
                  <a:lnTo>
                    <a:pt x="1450" y="1144"/>
                  </a:lnTo>
                  <a:lnTo>
                    <a:pt x="1444" y="1155"/>
                  </a:lnTo>
                  <a:lnTo>
                    <a:pt x="1439" y="1165"/>
                  </a:lnTo>
                  <a:lnTo>
                    <a:pt x="1433" y="1175"/>
                  </a:lnTo>
                  <a:lnTo>
                    <a:pt x="1428" y="1184"/>
                  </a:lnTo>
                  <a:lnTo>
                    <a:pt x="1422" y="1194"/>
                  </a:lnTo>
                  <a:lnTo>
                    <a:pt x="1417" y="1203"/>
                  </a:lnTo>
                  <a:lnTo>
                    <a:pt x="1412" y="1213"/>
                  </a:lnTo>
                  <a:lnTo>
                    <a:pt x="1402" y="1228"/>
                  </a:lnTo>
                  <a:lnTo>
                    <a:pt x="1513" y="1371"/>
                  </a:lnTo>
                  <a:lnTo>
                    <a:pt x="1508" y="1378"/>
                  </a:lnTo>
                  <a:lnTo>
                    <a:pt x="1502" y="1384"/>
                  </a:lnTo>
                  <a:lnTo>
                    <a:pt x="1497" y="1390"/>
                  </a:lnTo>
                  <a:lnTo>
                    <a:pt x="1491" y="1397"/>
                  </a:lnTo>
                  <a:lnTo>
                    <a:pt x="1486" y="1402"/>
                  </a:lnTo>
                  <a:lnTo>
                    <a:pt x="1480" y="1409"/>
                  </a:lnTo>
                  <a:lnTo>
                    <a:pt x="1475" y="1415"/>
                  </a:lnTo>
                  <a:lnTo>
                    <a:pt x="1469" y="1422"/>
                  </a:lnTo>
                  <a:lnTo>
                    <a:pt x="1314" y="1330"/>
                  </a:lnTo>
                  <a:lnTo>
                    <a:pt x="1300" y="1342"/>
                  </a:lnTo>
                  <a:lnTo>
                    <a:pt x="1292" y="1350"/>
                  </a:lnTo>
                  <a:lnTo>
                    <a:pt x="1283" y="1357"/>
                  </a:lnTo>
                  <a:lnTo>
                    <a:pt x="1274" y="1364"/>
                  </a:lnTo>
                  <a:lnTo>
                    <a:pt x="1265" y="1372"/>
                  </a:lnTo>
                  <a:lnTo>
                    <a:pt x="1255" y="1379"/>
                  </a:lnTo>
                  <a:lnTo>
                    <a:pt x="1246" y="1386"/>
                  </a:lnTo>
                  <a:lnTo>
                    <a:pt x="1237" y="1393"/>
                  </a:lnTo>
                  <a:lnTo>
                    <a:pt x="1228" y="1400"/>
                  </a:lnTo>
                  <a:lnTo>
                    <a:pt x="1213" y="1409"/>
                  </a:lnTo>
                  <a:lnTo>
                    <a:pt x="1262" y="1586"/>
                  </a:lnTo>
                  <a:lnTo>
                    <a:pt x="1255" y="1590"/>
                  </a:lnTo>
                  <a:lnTo>
                    <a:pt x="1248" y="1593"/>
                  </a:lnTo>
                  <a:lnTo>
                    <a:pt x="1240" y="1597"/>
                  </a:lnTo>
                  <a:lnTo>
                    <a:pt x="1233" y="1601"/>
                  </a:lnTo>
                  <a:lnTo>
                    <a:pt x="1226" y="1605"/>
                  </a:lnTo>
                  <a:lnTo>
                    <a:pt x="1220" y="1608"/>
                  </a:lnTo>
                  <a:lnTo>
                    <a:pt x="1211" y="1612"/>
                  </a:lnTo>
                  <a:lnTo>
                    <a:pt x="1204" y="1615"/>
                  </a:lnTo>
                  <a:lnTo>
                    <a:pt x="1095" y="1470"/>
                  </a:lnTo>
                  <a:lnTo>
                    <a:pt x="1078" y="1476"/>
                  </a:lnTo>
                  <a:lnTo>
                    <a:pt x="1067" y="1481"/>
                  </a:lnTo>
                  <a:lnTo>
                    <a:pt x="1055" y="1485"/>
                  </a:lnTo>
                  <a:lnTo>
                    <a:pt x="1044" y="1487"/>
                  </a:lnTo>
                  <a:lnTo>
                    <a:pt x="1032" y="1492"/>
                  </a:lnTo>
                  <a:lnTo>
                    <a:pt x="1021" y="1494"/>
                  </a:lnTo>
                  <a:lnTo>
                    <a:pt x="1008" y="1497"/>
                  </a:lnTo>
                  <a:lnTo>
                    <a:pt x="997" y="1500"/>
                  </a:lnTo>
                  <a:lnTo>
                    <a:pt x="985" y="1502"/>
                  </a:lnTo>
                  <a:lnTo>
                    <a:pt x="969" y="1507"/>
                  </a:lnTo>
                  <a:close/>
                </a:path>
              </a:pathLst>
            </a:custGeom>
            <a:solidFill>
              <a:srgbClr val="3fb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08560" y="2031840"/>
              <a:ext cx="1328760" cy="1332720"/>
            </a:xfrm>
            <a:custGeom>
              <a:avLst/>
              <a:gdLst/>
              <a:ahLst/>
              <a:rect l="l" t="t" r="r" b="b"/>
              <a:pathLst>
                <a:path w="975" h="978">
                  <a:moveTo>
                    <a:pt x="314" y="950"/>
                  </a:moveTo>
                  <a:lnTo>
                    <a:pt x="320" y="951"/>
                  </a:lnTo>
                  <a:lnTo>
                    <a:pt x="325" y="954"/>
                  </a:lnTo>
                  <a:lnTo>
                    <a:pt x="331" y="955"/>
                  </a:lnTo>
                  <a:lnTo>
                    <a:pt x="336" y="956"/>
                  </a:lnTo>
                  <a:lnTo>
                    <a:pt x="343" y="959"/>
                  </a:lnTo>
                  <a:lnTo>
                    <a:pt x="350" y="962"/>
                  </a:lnTo>
                  <a:lnTo>
                    <a:pt x="358" y="963"/>
                  </a:lnTo>
                  <a:lnTo>
                    <a:pt x="366" y="966"/>
                  </a:lnTo>
                  <a:lnTo>
                    <a:pt x="383" y="970"/>
                  </a:lnTo>
                  <a:lnTo>
                    <a:pt x="446" y="870"/>
                  </a:lnTo>
                  <a:lnTo>
                    <a:pt x="453" y="870"/>
                  </a:lnTo>
                  <a:lnTo>
                    <a:pt x="460" y="871"/>
                  </a:lnTo>
                  <a:lnTo>
                    <a:pt x="467" y="871"/>
                  </a:lnTo>
                  <a:lnTo>
                    <a:pt x="472" y="871"/>
                  </a:lnTo>
                  <a:lnTo>
                    <a:pt x="479" y="871"/>
                  </a:lnTo>
                  <a:lnTo>
                    <a:pt x="486" y="871"/>
                  </a:lnTo>
                  <a:lnTo>
                    <a:pt x="491" y="871"/>
                  </a:lnTo>
                  <a:lnTo>
                    <a:pt x="498" y="871"/>
                  </a:lnTo>
                  <a:lnTo>
                    <a:pt x="550" y="978"/>
                  </a:lnTo>
                  <a:lnTo>
                    <a:pt x="568" y="974"/>
                  </a:lnTo>
                  <a:lnTo>
                    <a:pt x="575" y="973"/>
                  </a:lnTo>
                  <a:lnTo>
                    <a:pt x="582" y="972"/>
                  </a:lnTo>
                  <a:lnTo>
                    <a:pt x="589" y="970"/>
                  </a:lnTo>
                  <a:lnTo>
                    <a:pt x="595" y="969"/>
                  </a:lnTo>
                  <a:lnTo>
                    <a:pt x="602" y="967"/>
                  </a:lnTo>
                  <a:lnTo>
                    <a:pt x="609" y="966"/>
                  </a:lnTo>
                  <a:lnTo>
                    <a:pt x="615" y="965"/>
                  </a:lnTo>
                  <a:lnTo>
                    <a:pt x="622" y="963"/>
                  </a:lnTo>
                  <a:lnTo>
                    <a:pt x="638" y="958"/>
                  </a:lnTo>
                  <a:lnTo>
                    <a:pt x="643" y="837"/>
                  </a:lnTo>
                  <a:lnTo>
                    <a:pt x="653" y="832"/>
                  </a:lnTo>
                  <a:lnTo>
                    <a:pt x="663" y="826"/>
                  </a:lnTo>
                  <a:lnTo>
                    <a:pt x="674" y="821"/>
                  </a:lnTo>
                  <a:lnTo>
                    <a:pt x="683" y="815"/>
                  </a:lnTo>
                  <a:lnTo>
                    <a:pt x="783" y="882"/>
                  </a:lnTo>
                  <a:lnTo>
                    <a:pt x="797" y="871"/>
                  </a:lnTo>
                  <a:lnTo>
                    <a:pt x="803" y="867"/>
                  </a:lnTo>
                  <a:lnTo>
                    <a:pt x="808" y="862"/>
                  </a:lnTo>
                  <a:lnTo>
                    <a:pt x="814" y="858"/>
                  </a:lnTo>
                  <a:lnTo>
                    <a:pt x="819" y="852"/>
                  </a:lnTo>
                  <a:lnTo>
                    <a:pt x="823" y="848"/>
                  </a:lnTo>
                  <a:lnTo>
                    <a:pt x="829" y="843"/>
                  </a:lnTo>
                  <a:lnTo>
                    <a:pt x="834" y="838"/>
                  </a:lnTo>
                  <a:lnTo>
                    <a:pt x="838" y="833"/>
                  </a:lnTo>
                  <a:lnTo>
                    <a:pt x="851" y="821"/>
                  </a:lnTo>
                  <a:lnTo>
                    <a:pt x="793" y="711"/>
                  </a:lnTo>
                  <a:lnTo>
                    <a:pt x="798" y="703"/>
                  </a:lnTo>
                  <a:lnTo>
                    <a:pt x="805" y="693"/>
                  </a:lnTo>
                  <a:lnTo>
                    <a:pt x="811" y="685"/>
                  </a:lnTo>
                  <a:lnTo>
                    <a:pt x="815" y="675"/>
                  </a:lnTo>
                  <a:lnTo>
                    <a:pt x="938" y="683"/>
                  </a:lnTo>
                  <a:lnTo>
                    <a:pt x="945" y="667"/>
                  </a:lnTo>
                  <a:lnTo>
                    <a:pt x="951" y="655"/>
                  </a:lnTo>
                  <a:lnTo>
                    <a:pt x="955" y="641"/>
                  </a:lnTo>
                  <a:lnTo>
                    <a:pt x="959" y="627"/>
                  </a:lnTo>
                  <a:lnTo>
                    <a:pt x="963" y="612"/>
                  </a:lnTo>
                  <a:lnTo>
                    <a:pt x="967" y="596"/>
                  </a:lnTo>
                  <a:lnTo>
                    <a:pt x="862" y="528"/>
                  </a:lnTo>
                  <a:lnTo>
                    <a:pt x="863" y="519"/>
                  </a:lnTo>
                  <a:lnTo>
                    <a:pt x="863" y="509"/>
                  </a:lnTo>
                  <a:lnTo>
                    <a:pt x="863" y="498"/>
                  </a:lnTo>
                  <a:lnTo>
                    <a:pt x="863" y="489"/>
                  </a:lnTo>
                  <a:lnTo>
                    <a:pt x="975" y="434"/>
                  </a:lnTo>
                  <a:lnTo>
                    <a:pt x="973" y="416"/>
                  </a:lnTo>
                  <a:lnTo>
                    <a:pt x="970" y="402"/>
                  </a:lnTo>
                  <a:lnTo>
                    <a:pt x="967" y="388"/>
                  </a:lnTo>
                  <a:lnTo>
                    <a:pt x="964" y="373"/>
                  </a:lnTo>
                  <a:lnTo>
                    <a:pt x="962" y="360"/>
                  </a:lnTo>
                  <a:lnTo>
                    <a:pt x="956" y="343"/>
                  </a:lnTo>
                  <a:lnTo>
                    <a:pt x="831" y="338"/>
                  </a:lnTo>
                  <a:lnTo>
                    <a:pt x="827" y="329"/>
                  </a:lnTo>
                  <a:lnTo>
                    <a:pt x="823" y="320"/>
                  </a:lnTo>
                  <a:lnTo>
                    <a:pt x="819" y="311"/>
                  </a:lnTo>
                  <a:lnTo>
                    <a:pt x="814" y="303"/>
                  </a:lnTo>
                  <a:lnTo>
                    <a:pt x="883" y="199"/>
                  </a:lnTo>
                  <a:lnTo>
                    <a:pt x="872" y="185"/>
                  </a:lnTo>
                  <a:lnTo>
                    <a:pt x="864" y="174"/>
                  </a:lnTo>
                  <a:lnTo>
                    <a:pt x="855" y="163"/>
                  </a:lnTo>
                  <a:lnTo>
                    <a:pt x="844" y="152"/>
                  </a:lnTo>
                  <a:lnTo>
                    <a:pt x="834" y="141"/>
                  </a:lnTo>
                  <a:lnTo>
                    <a:pt x="822" y="129"/>
                  </a:lnTo>
                  <a:lnTo>
                    <a:pt x="712" y="188"/>
                  </a:lnTo>
                  <a:lnTo>
                    <a:pt x="704" y="181"/>
                  </a:lnTo>
                  <a:lnTo>
                    <a:pt x="696" y="176"/>
                  </a:lnTo>
                  <a:lnTo>
                    <a:pt x="687" y="170"/>
                  </a:lnTo>
                  <a:lnTo>
                    <a:pt x="678" y="165"/>
                  </a:lnTo>
                  <a:lnTo>
                    <a:pt x="686" y="40"/>
                  </a:lnTo>
                  <a:lnTo>
                    <a:pt x="670" y="33"/>
                  </a:lnTo>
                  <a:lnTo>
                    <a:pt x="663" y="30"/>
                  </a:lnTo>
                  <a:lnTo>
                    <a:pt x="656" y="27"/>
                  </a:lnTo>
                  <a:lnTo>
                    <a:pt x="650" y="25"/>
                  </a:lnTo>
                  <a:lnTo>
                    <a:pt x="643" y="23"/>
                  </a:lnTo>
                  <a:lnTo>
                    <a:pt x="637" y="21"/>
                  </a:lnTo>
                  <a:lnTo>
                    <a:pt x="631" y="19"/>
                  </a:lnTo>
                  <a:lnTo>
                    <a:pt x="624" y="16"/>
                  </a:lnTo>
                  <a:lnTo>
                    <a:pt x="617" y="15"/>
                  </a:lnTo>
                  <a:lnTo>
                    <a:pt x="601" y="11"/>
                  </a:lnTo>
                  <a:lnTo>
                    <a:pt x="535" y="114"/>
                  </a:lnTo>
                  <a:lnTo>
                    <a:pt x="530" y="113"/>
                  </a:lnTo>
                  <a:lnTo>
                    <a:pt x="524" y="113"/>
                  </a:lnTo>
                  <a:lnTo>
                    <a:pt x="519" y="111"/>
                  </a:lnTo>
                  <a:lnTo>
                    <a:pt x="513" y="111"/>
                  </a:lnTo>
                  <a:lnTo>
                    <a:pt x="506" y="111"/>
                  </a:lnTo>
                  <a:lnTo>
                    <a:pt x="501" y="111"/>
                  </a:lnTo>
                  <a:lnTo>
                    <a:pt x="495" y="110"/>
                  </a:lnTo>
                  <a:lnTo>
                    <a:pt x="490" y="110"/>
                  </a:lnTo>
                  <a:lnTo>
                    <a:pt x="436" y="0"/>
                  </a:lnTo>
                  <a:lnTo>
                    <a:pt x="419" y="3"/>
                  </a:lnTo>
                  <a:lnTo>
                    <a:pt x="412" y="4"/>
                  </a:lnTo>
                  <a:lnTo>
                    <a:pt x="405" y="5"/>
                  </a:lnTo>
                  <a:lnTo>
                    <a:pt x="398" y="7"/>
                  </a:lnTo>
                  <a:lnTo>
                    <a:pt x="392" y="8"/>
                  </a:lnTo>
                  <a:lnTo>
                    <a:pt x="386" y="10"/>
                  </a:lnTo>
                  <a:lnTo>
                    <a:pt x="379" y="11"/>
                  </a:lnTo>
                  <a:lnTo>
                    <a:pt x="372" y="12"/>
                  </a:lnTo>
                  <a:lnTo>
                    <a:pt x="365" y="14"/>
                  </a:lnTo>
                  <a:lnTo>
                    <a:pt x="347" y="18"/>
                  </a:lnTo>
                  <a:lnTo>
                    <a:pt x="343" y="137"/>
                  </a:lnTo>
                  <a:lnTo>
                    <a:pt x="338" y="140"/>
                  </a:lnTo>
                  <a:lnTo>
                    <a:pt x="331" y="141"/>
                  </a:lnTo>
                  <a:lnTo>
                    <a:pt x="325" y="144"/>
                  </a:lnTo>
                  <a:lnTo>
                    <a:pt x="318" y="147"/>
                  </a:lnTo>
                  <a:lnTo>
                    <a:pt x="313" y="150"/>
                  </a:lnTo>
                  <a:lnTo>
                    <a:pt x="307" y="154"/>
                  </a:lnTo>
                  <a:lnTo>
                    <a:pt x="302" y="156"/>
                  </a:lnTo>
                  <a:lnTo>
                    <a:pt x="297" y="159"/>
                  </a:lnTo>
                  <a:lnTo>
                    <a:pt x="198" y="93"/>
                  </a:lnTo>
                  <a:lnTo>
                    <a:pt x="184" y="104"/>
                  </a:lnTo>
                  <a:lnTo>
                    <a:pt x="179" y="108"/>
                  </a:lnTo>
                  <a:lnTo>
                    <a:pt x="174" y="113"/>
                  </a:lnTo>
                  <a:lnTo>
                    <a:pt x="169" y="117"/>
                  </a:lnTo>
                  <a:lnTo>
                    <a:pt x="163" y="121"/>
                  </a:lnTo>
                  <a:lnTo>
                    <a:pt x="158" y="125"/>
                  </a:lnTo>
                  <a:lnTo>
                    <a:pt x="154" y="130"/>
                  </a:lnTo>
                  <a:lnTo>
                    <a:pt x="148" y="134"/>
                  </a:lnTo>
                  <a:lnTo>
                    <a:pt x="143" y="140"/>
                  </a:lnTo>
                  <a:lnTo>
                    <a:pt x="131" y="152"/>
                  </a:lnTo>
                  <a:lnTo>
                    <a:pt x="184" y="254"/>
                  </a:lnTo>
                  <a:lnTo>
                    <a:pt x="176" y="265"/>
                  </a:lnTo>
                  <a:lnTo>
                    <a:pt x="168" y="277"/>
                  </a:lnTo>
                  <a:lnTo>
                    <a:pt x="159" y="290"/>
                  </a:lnTo>
                  <a:lnTo>
                    <a:pt x="153" y="302"/>
                  </a:lnTo>
                  <a:lnTo>
                    <a:pt x="37" y="294"/>
                  </a:lnTo>
                  <a:lnTo>
                    <a:pt x="30" y="310"/>
                  </a:lnTo>
                  <a:lnTo>
                    <a:pt x="26" y="322"/>
                  </a:lnTo>
                  <a:lnTo>
                    <a:pt x="22" y="335"/>
                  </a:lnTo>
                  <a:lnTo>
                    <a:pt x="18" y="349"/>
                  </a:lnTo>
                  <a:lnTo>
                    <a:pt x="14" y="361"/>
                  </a:lnTo>
                  <a:lnTo>
                    <a:pt x="10" y="377"/>
                  </a:lnTo>
                  <a:lnTo>
                    <a:pt x="106" y="439"/>
                  </a:lnTo>
                  <a:lnTo>
                    <a:pt x="105" y="454"/>
                  </a:lnTo>
                  <a:lnTo>
                    <a:pt x="103" y="468"/>
                  </a:lnTo>
                  <a:lnTo>
                    <a:pt x="103" y="483"/>
                  </a:lnTo>
                  <a:lnTo>
                    <a:pt x="103" y="498"/>
                  </a:lnTo>
                  <a:lnTo>
                    <a:pt x="0" y="548"/>
                  </a:lnTo>
                  <a:lnTo>
                    <a:pt x="3" y="565"/>
                  </a:lnTo>
                  <a:lnTo>
                    <a:pt x="6" y="579"/>
                  </a:lnTo>
                  <a:lnTo>
                    <a:pt x="9" y="591"/>
                  </a:lnTo>
                  <a:lnTo>
                    <a:pt x="11" y="604"/>
                  </a:lnTo>
                  <a:lnTo>
                    <a:pt x="14" y="618"/>
                  </a:lnTo>
                  <a:lnTo>
                    <a:pt x="18" y="634"/>
                  </a:lnTo>
                  <a:lnTo>
                    <a:pt x="132" y="638"/>
                  </a:lnTo>
                  <a:lnTo>
                    <a:pt x="139" y="652"/>
                  </a:lnTo>
                  <a:lnTo>
                    <a:pt x="144" y="666"/>
                  </a:lnTo>
                  <a:lnTo>
                    <a:pt x="151" y="679"/>
                  </a:lnTo>
                  <a:lnTo>
                    <a:pt x="159" y="692"/>
                  </a:lnTo>
                  <a:lnTo>
                    <a:pt x="96" y="786"/>
                  </a:lnTo>
                  <a:lnTo>
                    <a:pt x="107" y="800"/>
                  </a:lnTo>
                  <a:lnTo>
                    <a:pt x="115" y="810"/>
                  </a:lnTo>
                  <a:lnTo>
                    <a:pt x="125" y="821"/>
                  </a:lnTo>
                  <a:lnTo>
                    <a:pt x="133" y="830"/>
                  </a:lnTo>
                  <a:lnTo>
                    <a:pt x="143" y="840"/>
                  </a:lnTo>
                  <a:lnTo>
                    <a:pt x="155" y="852"/>
                  </a:lnTo>
                  <a:lnTo>
                    <a:pt x="257" y="799"/>
                  </a:lnTo>
                  <a:lnTo>
                    <a:pt x="262" y="803"/>
                  </a:lnTo>
                  <a:lnTo>
                    <a:pt x="269" y="807"/>
                  </a:lnTo>
                  <a:lnTo>
                    <a:pt x="275" y="811"/>
                  </a:lnTo>
                  <a:lnTo>
                    <a:pt x="281" y="814"/>
                  </a:lnTo>
                  <a:lnTo>
                    <a:pt x="287" y="818"/>
                  </a:lnTo>
                  <a:lnTo>
                    <a:pt x="294" y="822"/>
                  </a:lnTo>
                  <a:lnTo>
                    <a:pt x="299" y="825"/>
                  </a:lnTo>
                  <a:lnTo>
                    <a:pt x="306" y="829"/>
                  </a:lnTo>
                  <a:lnTo>
                    <a:pt x="298" y="943"/>
                  </a:lnTo>
                  <a:lnTo>
                    <a:pt x="314" y="9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82360" y="2105640"/>
              <a:ext cx="1182960" cy="1185120"/>
            </a:xfrm>
            <a:custGeom>
              <a:avLst/>
              <a:gdLst/>
              <a:ahLst/>
              <a:rect l="l" t="t" r="r" b="b"/>
              <a:pathLst>
                <a:path w="868" h="870">
                  <a:moveTo>
                    <a:pt x="541" y="752"/>
                  </a:moveTo>
                  <a:lnTo>
                    <a:pt x="537" y="867"/>
                  </a:lnTo>
                  <a:lnTo>
                    <a:pt x="535" y="868"/>
                  </a:lnTo>
                  <a:lnTo>
                    <a:pt x="530" y="868"/>
                  </a:lnTo>
                  <a:lnTo>
                    <a:pt x="526" y="868"/>
                  </a:lnTo>
                  <a:lnTo>
                    <a:pt x="524" y="870"/>
                  </a:lnTo>
                  <a:lnTo>
                    <a:pt x="474" y="768"/>
                  </a:lnTo>
                  <a:lnTo>
                    <a:pt x="456" y="769"/>
                  </a:lnTo>
                  <a:lnTo>
                    <a:pt x="448" y="769"/>
                  </a:lnTo>
                  <a:lnTo>
                    <a:pt x="439" y="771"/>
                  </a:lnTo>
                  <a:lnTo>
                    <a:pt x="429" y="771"/>
                  </a:lnTo>
                  <a:lnTo>
                    <a:pt x="421" y="769"/>
                  </a:lnTo>
                  <a:lnTo>
                    <a:pt x="411" y="769"/>
                  </a:lnTo>
                  <a:lnTo>
                    <a:pt x="402" y="769"/>
                  </a:lnTo>
                  <a:lnTo>
                    <a:pt x="392" y="768"/>
                  </a:lnTo>
                  <a:lnTo>
                    <a:pt x="382" y="767"/>
                  </a:lnTo>
                  <a:lnTo>
                    <a:pt x="367" y="764"/>
                  </a:lnTo>
                  <a:lnTo>
                    <a:pt x="307" y="860"/>
                  </a:lnTo>
                  <a:lnTo>
                    <a:pt x="303" y="859"/>
                  </a:lnTo>
                  <a:lnTo>
                    <a:pt x="299" y="857"/>
                  </a:lnTo>
                  <a:lnTo>
                    <a:pt x="296" y="857"/>
                  </a:lnTo>
                  <a:lnTo>
                    <a:pt x="295" y="856"/>
                  </a:lnTo>
                  <a:lnTo>
                    <a:pt x="303" y="745"/>
                  </a:lnTo>
                  <a:lnTo>
                    <a:pt x="288" y="738"/>
                  </a:lnTo>
                  <a:lnTo>
                    <a:pt x="278" y="734"/>
                  </a:lnTo>
                  <a:lnTo>
                    <a:pt x="270" y="730"/>
                  </a:lnTo>
                  <a:lnTo>
                    <a:pt x="262" y="724"/>
                  </a:lnTo>
                  <a:lnTo>
                    <a:pt x="252" y="719"/>
                  </a:lnTo>
                  <a:lnTo>
                    <a:pt x="244" y="714"/>
                  </a:lnTo>
                  <a:lnTo>
                    <a:pt x="236" y="709"/>
                  </a:lnTo>
                  <a:lnTo>
                    <a:pt x="229" y="702"/>
                  </a:lnTo>
                  <a:lnTo>
                    <a:pt x="221" y="697"/>
                  </a:lnTo>
                  <a:lnTo>
                    <a:pt x="208" y="686"/>
                  </a:lnTo>
                  <a:lnTo>
                    <a:pt x="111" y="738"/>
                  </a:lnTo>
                  <a:lnTo>
                    <a:pt x="109" y="735"/>
                  </a:lnTo>
                  <a:lnTo>
                    <a:pt x="107" y="734"/>
                  </a:lnTo>
                  <a:lnTo>
                    <a:pt x="105" y="731"/>
                  </a:lnTo>
                  <a:lnTo>
                    <a:pt x="103" y="728"/>
                  </a:lnTo>
                  <a:lnTo>
                    <a:pt x="164" y="638"/>
                  </a:lnTo>
                  <a:lnTo>
                    <a:pt x="155" y="624"/>
                  </a:lnTo>
                  <a:lnTo>
                    <a:pt x="144" y="607"/>
                  </a:lnTo>
                  <a:lnTo>
                    <a:pt x="134" y="590"/>
                  </a:lnTo>
                  <a:lnTo>
                    <a:pt x="126" y="570"/>
                  </a:lnTo>
                  <a:lnTo>
                    <a:pt x="118" y="553"/>
                  </a:lnTo>
                  <a:lnTo>
                    <a:pt x="112" y="537"/>
                  </a:lnTo>
                  <a:lnTo>
                    <a:pt x="3" y="533"/>
                  </a:lnTo>
                  <a:lnTo>
                    <a:pt x="1" y="531"/>
                  </a:lnTo>
                  <a:lnTo>
                    <a:pt x="1" y="526"/>
                  </a:lnTo>
                  <a:lnTo>
                    <a:pt x="1" y="524"/>
                  </a:lnTo>
                  <a:lnTo>
                    <a:pt x="0" y="521"/>
                  </a:lnTo>
                  <a:lnTo>
                    <a:pt x="99" y="473"/>
                  </a:lnTo>
                  <a:lnTo>
                    <a:pt x="97" y="458"/>
                  </a:lnTo>
                  <a:lnTo>
                    <a:pt x="97" y="437"/>
                  </a:lnTo>
                  <a:lnTo>
                    <a:pt x="97" y="417"/>
                  </a:lnTo>
                  <a:lnTo>
                    <a:pt x="100" y="396"/>
                  </a:lnTo>
                  <a:lnTo>
                    <a:pt x="103" y="377"/>
                  </a:lnTo>
                  <a:lnTo>
                    <a:pt x="105" y="360"/>
                  </a:lnTo>
                  <a:lnTo>
                    <a:pt x="12" y="303"/>
                  </a:lnTo>
                  <a:lnTo>
                    <a:pt x="13" y="300"/>
                  </a:lnTo>
                  <a:lnTo>
                    <a:pt x="15" y="297"/>
                  </a:lnTo>
                  <a:lnTo>
                    <a:pt x="15" y="295"/>
                  </a:lnTo>
                  <a:lnTo>
                    <a:pt x="16" y="290"/>
                  </a:lnTo>
                  <a:lnTo>
                    <a:pt x="127" y="299"/>
                  </a:lnTo>
                  <a:lnTo>
                    <a:pt x="134" y="284"/>
                  </a:lnTo>
                  <a:lnTo>
                    <a:pt x="138" y="275"/>
                  </a:lnTo>
                  <a:lnTo>
                    <a:pt x="144" y="266"/>
                  </a:lnTo>
                  <a:lnTo>
                    <a:pt x="149" y="257"/>
                  </a:lnTo>
                  <a:lnTo>
                    <a:pt x="155" y="249"/>
                  </a:lnTo>
                  <a:lnTo>
                    <a:pt x="160" y="242"/>
                  </a:lnTo>
                  <a:lnTo>
                    <a:pt x="166" y="234"/>
                  </a:lnTo>
                  <a:lnTo>
                    <a:pt x="173" y="226"/>
                  </a:lnTo>
                  <a:lnTo>
                    <a:pt x="178" y="219"/>
                  </a:lnTo>
                  <a:lnTo>
                    <a:pt x="189" y="207"/>
                  </a:lnTo>
                  <a:lnTo>
                    <a:pt x="137" y="108"/>
                  </a:lnTo>
                  <a:lnTo>
                    <a:pt x="140" y="105"/>
                  </a:lnTo>
                  <a:lnTo>
                    <a:pt x="142" y="104"/>
                  </a:lnTo>
                  <a:lnTo>
                    <a:pt x="144" y="101"/>
                  </a:lnTo>
                  <a:lnTo>
                    <a:pt x="147" y="100"/>
                  </a:lnTo>
                  <a:lnTo>
                    <a:pt x="240" y="163"/>
                  </a:lnTo>
                  <a:lnTo>
                    <a:pt x="253" y="155"/>
                  </a:lnTo>
                  <a:lnTo>
                    <a:pt x="262" y="150"/>
                  </a:lnTo>
                  <a:lnTo>
                    <a:pt x="269" y="145"/>
                  </a:lnTo>
                  <a:lnTo>
                    <a:pt x="277" y="141"/>
                  </a:lnTo>
                  <a:lnTo>
                    <a:pt x="285" y="137"/>
                  </a:lnTo>
                  <a:lnTo>
                    <a:pt x="295" y="134"/>
                  </a:lnTo>
                  <a:lnTo>
                    <a:pt x="303" y="130"/>
                  </a:lnTo>
                  <a:lnTo>
                    <a:pt x="311" y="126"/>
                  </a:lnTo>
                  <a:lnTo>
                    <a:pt x="321" y="123"/>
                  </a:lnTo>
                  <a:lnTo>
                    <a:pt x="336" y="118"/>
                  </a:lnTo>
                  <a:lnTo>
                    <a:pt x="340" y="2"/>
                  </a:lnTo>
                  <a:lnTo>
                    <a:pt x="344" y="2"/>
                  </a:lnTo>
                  <a:lnTo>
                    <a:pt x="348" y="1"/>
                  </a:lnTo>
                  <a:lnTo>
                    <a:pt x="351" y="1"/>
                  </a:lnTo>
                  <a:lnTo>
                    <a:pt x="355" y="0"/>
                  </a:lnTo>
                  <a:lnTo>
                    <a:pt x="406" y="105"/>
                  </a:lnTo>
                  <a:lnTo>
                    <a:pt x="421" y="104"/>
                  </a:lnTo>
                  <a:lnTo>
                    <a:pt x="429" y="104"/>
                  </a:lnTo>
                  <a:lnTo>
                    <a:pt x="439" y="104"/>
                  </a:lnTo>
                  <a:lnTo>
                    <a:pt x="447" y="104"/>
                  </a:lnTo>
                  <a:lnTo>
                    <a:pt x="455" y="105"/>
                  </a:lnTo>
                  <a:lnTo>
                    <a:pt x="465" y="105"/>
                  </a:lnTo>
                  <a:lnTo>
                    <a:pt x="473" y="107"/>
                  </a:lnTo>
                  <a:lnTo>
                    <a:pt x="481" y="108"/>
                  </a:lnTo>
                  <a:lnTo>
                    <a:pt x="489" y="109"/>
                  </a:lnTo>
                  <a:lnTo>
                    <a:pt x="506" y="113"/>
                  </a:lnTo>
                  <a:lnTo>
                    <a:pt x="568" y="13"/>
                  </a:lnTo>
                  <a:lnTo>
                    <a:pt x="570" y="15"/>
                  </a:lnTo>
                  <a:lnTo>
                    <a:pt x="573" y="16"/>
                  </a:lnTo>
                  <a:lnTo>
                    <a:pt x="577" y="17"/>
                  </a:lnTo>
                  <a:lnTo>
                    <a:pt x="583" y="19"/>
                  </a:lnTo>
                  <a:lnTo>
                    <a:pt x="574" y="137"/>
                  </a:lnTo>
                  <a:lnTo>
                    <a:pt x="588" y="145"/>
                  </a:lnTo>
                  <a:lnTo>
                    <a:pt x="595" y="149"/>
                  </a:lnTo>
                  <a:lnTo>
                    <a:pt x="602" y="153"/>
                  </a:lnTo>
                  <a:lnTo>
                    <a:pt x="609" y="157"/>
                  </a:lnTo>
                  <a:lnTo>
                    <a:pt x="614" y="161"/>
                  </a:lnTo>
                  <a:lnTo>
                    <a:pt x="621" y="166"/>
                  </a:lnTo>
                  <a:lnTo>
                    <a:pt x="628" y="171"/>
                  </a:lnTo>
                  <a:lnTo>
                    <a:pt x="633" y="175"/>
                  </a:lnTo>
                  <a:lnTo>
                    <a:pt x="640" y="181"/>
                  </a:lnTo>
                  <a:lnTo>
                    <a:pt x="653" y="192"/>
                  </a:lnTo>
                  <a:lnTo>
                    <a:pt x="758" y="135"/>
                  </a:lnTo>
                  <a:lnTo>
                    <a:pt x="761" y="138"/>
                  </a:lnTo>
                  <a:lnTo>
                    <a:pt x="764" y="141"/>
                  </a:lnTo>
                  <a:lnTo>
                    <a:pt x="766" y="145"/>
                  </a:lnTo>
                  <a:lnTo>
                    <a:pt x="769" y="148"/>
                  </a:lnTo>
                  <a:lnTo>
                    <a:pt x="702" y="247"/>
                  </a:lnTo>
                  <a:lnTo>
                    <a:pt x="710" y="260"/>
                  </a:lnTo>
                  <a:lnTo>
                    <a:pt x="718" y="274"/>
                  </a:lnTo>
                  <a:lnTo>
                    <a:pt x="725" y="288"/>
                  </a:lnTo>
                  <a:lnTo>
                    <a:pt x="732" y="303"/>
                  </a:lnTo>
                  <a:lnTo>
                    <a:pt x="739" y="317"/>
                  </a:lnTo>
                  <a:lnTo>
                    <a:pt x="744" y="332"/>
                  </a:lnTo>
                  <a:lnTo>
                    <a:pt x="864" y="336"/>
                  </a:lnTo>
                  <a:lnTo>
                    <a:pt x="865" y="340"/>
                  </a:lnTo>
                  <a:lnTo>
                    <a:pt x="866" y="344"/>
                  </a:lnTo>
                  <a:lnTo>
                    <a:pt x="866" y="348"/>
                  </a:lnTo>
                  <a:lnTo>
                    <a:pt x="868" y="352"/>
                  </a:lnTo>
                  <a:lnTo>
                    <a:pt x="760" y="406"/>
                  </a:lnTo>
                  <a:lnTo>
                    <a:pt x="761" y="421"/>
                  </a:lnTo>
                  <a:lnTo>
                    <a:pt x="761" y="436"/>
                  </a:lnTo>
                  <a:lnTo>
                    <a:pt x="761" y="452"/>
                  </a:lnTo>
                  <a:lnTo>
                    <a:pt x="760" y="469"/>
                  </a:lnTo>
                  <a:lnTo>
                    <a:pt x="758" y="484"/>
                  </a:lnTo>
                  <a:lnTo>
                    <a:pt x="755" y="499"/>
                  </a:lnTo>
                  <a:lnTo>
                    <a:pt x="857" y="564"/>
                  </a:lnTo>
                  <a:lnTo>
                    <a:pt x="856" y="568"/>
                  </a:lnTo>
                  <a:lnTo>
                    <a:pt x="854" y="572"/>
                  </a:lnTo>
                  <a:lnTo>
                    <a:pt x="853" y="576"/>
                  </a:lnTo>
                  <a:lnTo>
                    <a:pt x="851" y="579"/>
                  </a:lnTo>
                  <a:lnTo>
                    <a:pt x="733" y="570"/>
                  </a:lnTo>
                  <a:lnTo>
                    <a:pt x="727" y="585"/>
                  </a:lnTo>
                  <a:lnTo>
                    <a:pt x="718" y="599"/>
                  </a:lnTo>
                  <a:lnTo>
                    <a:pt x="710" y="613"/>
                  </a:lnTo>
                  <a:lnTo>
                    <a:pt x="702" y="627"/>
                  </a:lnTo>
                  <a:lnTo>
                    <a:pt x="692" y="640"/>
                  </a:lnTo>
                  <a:lnTo>
                    <a:pt x="683" y="653"/>
                  </a:lnTo>
                  <a:lnTo>
                    <a:pt x="738" y="757"/>
                  </a:lnTo>
                  <a:lnTo>
                    <a:pt x="735" y="760"/>
                  </a:lnTo>
                  <a:lnTo>
                    <a:pt x="732" y="762"/>
                  </a:lnTo>
                  <a:lnTo>
                    <a:pt x="728" y="765"/>
                  </a:lnTo>
                  <a:lnTo>
                    <a:pt x="725" y="768"/>
                  </a:lnTo>
                  <a:lnTo>
                    <a:pt x="629" y="702"/>
                  </a:lnTo>
                  <a:lnTo>
                    <a:pt x="616" y="712"/>
                  </a:lnTo>
                  <a:lnTo>
                    <a:pt x="609" y="717"/>
                  </a:lnTo>
                  <a:lnTo>
                    <a:pt x="600" y="721"/>
                  </a:lnTo>
                  <a:lnTo>
                    <a:pt x="594" y="725"/>
                  </a:lnTo>
                  <a:lnTo>
                    <a:pt x="587" y="730"/>
                  </a:lnTo>
                  <a:lnTo>
                    <a:pt x="580" y="734"/>
                  </a:lnTo>
                  <a:lnTo>
                    <a:pt x="572" y="738"/>
                  </a:lnTo>
                  <a:lnTo>
                    <a:pt x="565" y="742"/>
                  </a:lnTo>
                  <a:lnTo>
                    <a:pt x="557" y="745"/>
                  </a:lnTo>
                  <a:lnTo>
                    <a:pt x="541" y="752"/>
                  </a:lnTo>
                  <a:close/>
                </a:path>
              </a:pathLst>
            </a:custGeom>
            <a:solidFill>
              <a:srgbClr val="ceed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60760" y="2574360"/>
              <a:ext cx="1327320" cy="1325520"/>
            </a:xfrm>
            <a:custGeom>
              <a:avLst/>
              <a:gdLst/>
              <a:ahLst/>
              <a:rect l="l" t="t" r="r" b="b"/>
              <a:pathLst>
                <a:path w="974" h="973">
                  <a:moveTo>
                    <a:pt x="862" y="451"/>
                  </a:moveTo>
                  <a:lnTo>
                    <a:pt x="969" y="388"/>
                  </a:lnTo>
                  <a:lnTo>
                    <a:pt x="964" y="370"/>
                  </a:lnTo>
                  <a:lnTo>
                    <a:pt x="963" y="364"/>
                  </a:lnTo>
                  <a:lnTo>
                    <a:pt x="962" y="358"/>
                  </a:lnTo>
                  <a:lnTo>
                    <a:pt x="959" y="351"/>
                  </a:lnTo>
                  <a:lnTo>
                    <a:pt x="958" y="346"/>
                  </a:lnTo>
                  <a:lnTo>
                    <a:pt x="955" y="339"/>
                  </a:lnTo>
                  <a:lnTo>
                    <a:pt x="953" y="331"/>
                  </a:lnTo>
                  <a:lnTo>
                    <a:pt x="951" y="324"/>
                  </a:lnTo>
                  <a:lnTo>
                    <a:pt x="948" y="316"/>
                  </a:lnTo>
                  <a:lnTo>
                    <a:pt x="941" y="299"/>
                  </a:lnTo>
                  <a:lnTo>
                    <a:pt x="816" y="305"/>
                  </a:lnTo>
                  <a:lnTo>
                    <a:pt x="811" y="296"/>
                  </a:lnTo>
                  <a:lnTo>
                    <a:pt x="807" y="288"/>
                  </a:lnTo>
                  <a:lnTo>
                    <a:pt x="801" y="280"/>
                  </a:lnTo>
                  <a:lnTo>
                    <a:pt x="796" y="272"/>
                  </a:lnTo>
                  <a:lnTo>
                    <a:pt x="856" y="162"/>
                  </a:lnTo>
                  <a:lnTo>
                    <a:pt x="844" y="150"/>
                  </a:lnTo>
                  <a:lnTo>
                    <a:pt x="840" y="144"/>
                  </a:lnTo>
                  <a:lnTo>
                    <a:pt x="834" y="140"/>
                  </a:lnTo>
                  <a:lnTo>
                    <a:pt x="829" y="134"/>
                  </a:lnTo>
                  <a:lnTo>
                    <a:pt x="823" y="129"/>
                  </a:lnTo>
                  <a:lnTo>
                    <a:pt x="819" y="123"/>
                  </a:lnTo>
                  <a:lnTo>
                    <a:pt x="814" y="119"/>
                  </a:lnTo>
                  <a:lnTo>
                    <a:pt x="808" y="114"/>
                  </a:lnTo>
                  <a:lnTo>
                    <a:pt x="803" y="110"/>
                  </a:lnTo>
                  <a:lnTo>
                    <a:pt x="789" y="99"/>
                  </a:lnTo>
                  <a:lnTo>
                    <a:pt x="683" y="166"/>
                  </a:lnTo>
                  <a:lnTo>
                    <a:pt x="675" y="161"/>
                  </a:lnTo>
                  <a:lnTo>
                    <a:pt x="667" y="156"/>
                  </a:lnTo>
                  <a:lnTo>
                    <a:pt x="657" y="151"/>
                  </a:lnTo>
                  <a:lnTo>
                    <a:pt x="649" y="147"/>
                  </a:lnTo>
                  <a:lnTo>
                    <a:pt x="646" y="22"/>
                  </a:lnTo>
                  <a:lnTo>
                    <a:pt x="630" y="16"/>
                  </a:lnTo>
                  <a:lnTo>
                    <a:pt x="623" y="15"/>
                  </a:lnTo>
                  <a:lnTo>
                    <a:pt x="616" y="12"/>
                  </a:lnTo>
                  <a:lnTo>
                    <a:pt x="609" y="11"/>
                  </a:lnTo>
                  <a:lnTo>
                    <a:pt x="602" y="10"/>
                  </a:lnTo>
                  <a:lnTo>
                    <a:pt x="595" y="7"/>
                  </a:lnTo>
                  <a:lnTo>
                    <a:pt x="587" y="5"/>
                  </a:lnTo>
                  <a:lnTo>
                    <a:pt x="580" y="4"/>
                  </a:lnTo>
                  <a:lnTo>
                    <a:pt x="574" y="3"/>
                  </a:lnTo>
                  <a:lnTo>
                    <a:pt x="556" y="0"/>
                  </a:lnTo>
                  <a:lnTo>
                    <a:pt x="500" y="110"/>
                  </a:lnTo>
                  <a:lnTo>
                    <a:pt x="494" y="110"/>
                  </a:lnTo>
                  <a:lnTo>
                    <a:pt x="489" y="110"/>
                  </a:lnTo>
                  <a:lnTo>
                    <a:pt x="484" y="110"/>
                  </a:lnTo>
                  <a:lnTo>
                    <a:pt x="479" y="110"/>
                  </a:lnTo>
                  <a:lnTo>
                    <a:pt x="473" y="110"/>
                  </a:lnTo>
                  <a:lnTo>
                    <a:pt x="468" y="110"/>
                  </a:lnTo>
                  <a:lnTo>
                    <a:pt x="462" y="111"/>
                  </a:lnTo>
                  <a:lnTo>
                    <a:pt x="457" y="111"/>
                  </a:lnTo>
                  <a:lnTo>
                    <a:pt x="394" y="4"/>
                  </a:lnTo>
                  <a:lnTo>
                    <a:pt x="376" y="8"/>
                  </a:lnTo>
                  <a:lnTo>
                    <a:pt x="369" y="10"/>
                  </a:lnTo>
                  <a:lnTo>
                    <a:pt x="361" y="11"/>
                  </a:lnTo>
                  <a:lnTo>
                    <a:pt x="354" y="12"/>
                  </a:lnTo>
                  <a:lnTo>
                    <a:pt x="349" y="15"/>
                  </a:lnTo>
                  <a:lnTo>
                    <a:pt x="342" y="16"/>
                  </a:lnTo>
                  <a:lnTo>
                    <a:pt x="335" y="19"/>
                  </a:lnTo>
                  <a:lnTo>
                    <a:pt x="329" y="21"/>
                  </a:lnTo>
                  <a:lnTo>
                    <a:pt x="323" y="23"/>
                  </a:lnTo>
                  <a:lnTo>
                    <a:pt x="306" y="29"/>
                  </a:lnTo>
                  <a:lnTo>
                    <a:pt x="312" y="151"/>
                  </a:lnTo>
                  <a:lnTo>
                    <a:pt x="302" y="156"/>
                  </a:lnTo>
                  <a:lnTo>
                    <a:pt x="291" y="162"/>
                  </a:lnTo>
                  <a:lnTo>
                    <a:pt x="281" y="169"/>
                  </a:lnTo>
                  <a:lnTo>
                    <a:pt x="272" y="174"/>
                  </a:lnTo>
                  <a:lnTo>
                    <a:pt x="165" y="115"/>
                  </a:lnTo>
                  <a:lnTo>
                    <a:pt x="153" y="126"/>
                  </a:lnTo>
                  <a:lnTo>
                    <a:pt x="143" y="136"/>
                  </a:lnTo>
                  <a:lnTo>
                    <a:pt x="132" y="145"/>
                  </a:lnTo>
                  <a:lnTo>
                    <a:pt x="122" y="156"/>
                  </a:lnTo>
                  <a:lnTo>
                    <a:pt x="114" y="166"/>
                  </a:lnTo>
                  <a:lnTo>
                    <a:pt x="102" y="180"/>
                  </a:lnTo>
                  <a:lnTo>
                    <a:pt x="166" y="280"/>
                  </a:lnTo>
                  <a:lnTo>
                    <a:pt x="159" y="291"/>
                  </a:lnTo>
                  <a:lnTo>
                    <a:pt x="153" y="302"/>
                  </a:lnTo>
                  <a:lnTo>
                    <a:pt x="146" y="314"/>
                  </a:lnTo>
                  <a:lnTo>
                    <a:pt x="140" y="325"/>
                  </a:lnTo>
                  <a:lnTo>
                    <a:pt x="22" y="327"/>
                  </a:lnTo>
                  <a:lnTo>
                    <a:pt x="17" y="343"/>
                  </a:lnTo>
                  <a:lnTo>
                    <a:pt x="13" y="357"/>
                  </a:lnTo>
                  <a:lnTo>
                    <a:pt x="10" y="369"/>
                  </a:lnTo>
                  <a:lnTo>
                    <a:pt x="6" y="383"/>
                  </a:lnTo>
                  <a:lnTo>
                    <a:pt x="3" y="397"/>
                  </a:lnTo>
                  <a:lnTo>
                    <a:pt x="0" y="414"/>
                  </a:lnTo>
                  <a:lnTo>
                    <a:pt x="103" y="467"/>
                  </a:lnTo>
                  <a:lnTo>
                    <a:pt x="102" y="480"/>
                  </a:lnTo>
                  <a:lnTo>
                    <a:pt x="102" y="495"/>
                  </a:lnTo>
                  <a:lnTo>
                    <a:pt x="102" y="509"/>
                  </a:lnTo>
                  <a:lnTo>
                    <a:pt x="103" y="524"/>
                  </a:lnTo>
                  <a:lnTo>
                    <a:pt x="4" y="583"/>
                  </a:lnTo>
                  <a:lnTo>
                    <a:pt x="9" y="600"/>
                  </a:lnTo>
                  <a:lnTo>
                    <a:pt x="11" y="613"/>
                  </a:lnTo>
                  <a:lnTo>
                    <a:pt x="15" y="627"/>
                  </a:lnTo>
                  <a:lnTo>
                    <a:pt x="20" y="639"/>
                  </a:lnTo>
                  <a:lnTo>
                    <a:pt x="24" y="652"/>
                  </a:lnTo>
                  <a:lnTo>
                    <a:pt x="29" y="668"/>
                  </a:lnTo>
                  <a:lnTo>
                    <a:pt x="143" y="663"/>
                  </a:lnTo>
                  <a:lnTo>
                    <a:pt x="150" y="676"/>
                  </a:lnTo>
                  <a:lnTo>
                    <a:pt x="158" y="689"/>
                  </a:lnTo>
                  <a:lnTo>
                    <a:pt x="166" y="701"/>
                  </a:lnTo>
                  <a:lnTo>
                    <a:pt x="174" y="714"/>
                  </a:lnTo>
                  <a:lnTo>
                    <a:pt x="118" y="814"/>
                  </a:lnTo>
                  <a:lnTo>
                    <a:pt x="131" y="826"/>
                  </a:lnTo>
                  <a:lnTo>
                    <a:pt x="140" y="836"/>
                  </a:lnTo>
                  <a:lnTo>
                    <a:pt x="150" y="844"/>
                  </a:lnTo>
                  <a:lnTo>
                    <a:pt x="159" y="853"/>
                  </a:lnTo>
                  <a:lnTo>
                    <a:pt x="169" y="862"/>
                  </a:lnTo>
                  <a:lnTo>
                    <a:pt x="183" y="874"/>
                  </a:lnTo>
                  <a:lnTo>
                    <a:pt x="279" y="812"/>
                  </a:lnTo>
                  <a:lnTo>
                    <a:pt x="286" y="816"/>
                  </a:lnTo>
                  <a:lnTo>
                    <a:pt x="291" y="821"/>
                  </a:lnTo>
                  <a:lnTo>
                    <a:pt x="298" y="825"/>
                  </a:lnTo>
                  <a:lnTo>
                    <a:pt x="305" y="827"/>
                  </a:lnTo>
                  <a:lnTo>
                    <a:pt x="310" y="832"/>
                  </a:lnTo>
                  <a:lnTo>
                    <a:pt x="317" y="834"/>
                  </a:lnTo>
                  <a:lnTo>
                    <a:pt x="324" y="837"/>
                  </a:lnTo>
                  <a:lnTo>
                    <a:pt x="331" y="840"/>
                  </a:lnTo>
                  <a:lnTo>
                    <a:pt x="332" y="952"/>
                  </a:lnTo>
                  <a:lnTo>
                    <a:pt x="350" y="958"/>
                  </a:lnTo>
                  <a:lnTo>
                    <a:pt x="357" y="959"/>
                  </a:lnTo>
                  <a:lnTo>
                    <a:pt x="362" y="962"/>
                  </a:lnTo>
                  <a:lnTo>
                    <a:pt x="369" y="963"/>
                  </a:lnTo>
                  <a:lnTo>
                    <a:pt x="376" y="965"/>
                  </a:lnTo>
                  <a:lnTo>
                    <a:pt x="382" y="966"/>
                  </a:lnTo>
                  <a:lnTo>
                    <a:pt x="388" y="967"/>
                  </a:lnTo>
                  <a:lnTo>
                    <a:pt x="395" y="969"/>
                  </a:lnTo>
                  <a:lnTo>
                    <a:pt x="402" y="970"/>
                  </a:lnTo>
                  <a:lnTo>
                    <a:pt x="420" y="973"/>
                  </a:lnTo>
                  <a:lnTo>
                    <a:pt x="472" y="871"/>
                  </a:lnTo>
                  <a:lnTo>
                    <a:pt x="479" y="871"/>
                  </a:lnTo>
                  <a:lnTo>
                    <a:pt x="487" y="871"/>
                  </a:lnTo>
                  <a:lnTo>
                    <a:pt x="494" y="871"/>
                  </a:lnTo>
                  <a:lnTo>
                    <a:pt x="501" y="871"/>
                  </a:lnTo>
                  <a:lnTo>
                    <a:pt x="508" y="871"/>
                  </a:lnTo>
                  <a:lnTo>
                    <a:pt x="516" y="871"/>
                  </a:lnTo>
                  <a:lnTo>
                    <a:pt x="523" y="870"/>
                  </a:lnTo>
                  <a:lnTo>
                    <a:pt x="530" y="870"/>
                  </a:lnTo>
                  <a:lnTo>
                    <a:pt x="589" y="967"/>
                  </a:lnTo>
                  <a:lnTo>
                    <a:pt x="605" y="962"/>
                  </a:lnTo>
                  <a:lnTo>
                    <a:pt x="611" y="961"/>
                  </a:lnTo>
                  <a:lnTo>
                    <a:pt x="617" y="959"/>
                  </a:lnTo>
                  <a:lnTo>
                    <a:pt x="623" y="958"/>
                  </a:lnTo>
                  <a:lnTo>
                    <a:pt x="627" y="956"/>
                  </a:lnTo>
                  <a:lnTo>
                    <a:pt x="634" y="954"/>
                  </a:lnTo>
                  <a:lnTo>
                    <a:pt x="642" y="952"/>
                  </a:lnTo>
                  <a:lnTo>
                    <a:pt x="649" y="950"/>
                  </a:lnTo>
                  <a:lnTo>
                    <a:pt x="657" y="947"/>
                  </a:lnTo>
                  <a:lnTo>
                    <a:pt x="674" y="940"/>
                  </a:lnTo>
                  <a:lnTo>
                    <a:pt x="668" y="825"/>
                  </a:lnTo>
                  <a:lnTo>
                    <a:pt x="674" y="821"/>
                  </a:lnTo>
                  <a:lnTo>
                    <a:pt x="681" y="818"/>
                  </a:lnTo>
                  <a:lnTo>
                    <a:pt x="686" y="814"/>
                  </a:lnTo>
                  <a:lnTo>
                    <a:pt x="691" y="810"/>
                  </a:lnTo>
                  <a:lnTo>
                    <a:pt x="697" y="807"/>
                  </a:lnTo>
                  <a:lnTo>
                    <a:pt x="702" y="803"/>
                  </a:lnTo>
                  <a:lnTo>
                    <a:pt x="708" y="800"/>
                  </a:lnTo>
                  <a:lnTo>
                    <a:pt x="713" y="796"/>
                  </a:lnTo>
                  <a:lnTo>
                    <a:pt x="815" y="853"/>
                  </a:lnTo>
                  <a:lnTo>
                    <a:pt x="829" y="840"/>
                  </a:lnTo>
                  <a:lnTo>
                    <a:pt x="838" y="830"/>
                  </a:lnTo>
                  <a:lnTo>
                    <a:pt x="848" y="821"/>
                  </a:lnTo>
                  <a:lnTo>
                    <a:pt x="857" y="810"/>
                  </a:lnTo>
                  <a:lnTo>
                    <a:pt x="866" y="800"/>
                  </a:lnTo>
                  <a:lnTo>
                    <a:pt x="877" y="786"/>
                  </a:lnTo>
                  <a:lnTo>
                    <a:pt x="812" y="685"/>
                  </a:lnTo>
                  <a:lnTo>
                    <a:pt x="818" y="674"/>
                  </a:lnTo>
                  <a:lnTo>
                    <a:pt x="823" y="664"/>
                  </a:lnTo>
                  <a:lnTo>
                    <a:pt x="827" y="653"/>
                  </a:lnTo>
                  <a:lnTo>
                    <a:pt x="833" y="642"/>
                  </a:lnTo>
                  <a:lnTo>
                    <a:pt x="953" y="641"/>
                  </a:lnTo>
                  <a:lnTo>
                    <a:pt x="959" y="623"/>
                  </a:lnTo>
                  <a:lnTo>
                    <a:pt x="963" y="609"/>
                  </a:lnTo>
                  <a:lnTo>
                    <a:pt x="966" y="596"/>
                  </a:lnTo>
                  <a:lnTo>
                    <a:pt x="969" y="582"/>
                  </a:lnTo>
                  <a:lnTo>
                    <a:pt x="971" y="568"/>
                  </a:lnTo>
                  <a:lnTo>
                    <a:pt x="974" y="550"/>
                  </a:lnTo>
                  <a:lnTo>
                    <a:pt x="864" y="494"/>
                  </a:lnTo>
                  <a:lnTo>
                    <a:pt x="864" y="483"/>
                  </a:lnTo>
                  <a:lnTo>
                    <a:pt x="863" y="472"/>
                  </a:lnTo>
                  <a:lnTo>
                    <a:pt x="863" y="462"/>
                  </a:lnTo>
                  <a:lnTo>
                    <a:pt x="862" y="4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36000" y="2649240"/>
              <a:ext cx="1179720" cy="1175760"/>
            </a:xfrm>
            <a:custGeom>
              <a:avLst/>
              <a:gdLst/>
              <a:ahLst/>
              <a:rect l="l" t="t" r="r" b="b"/>
              <a:pathLst>
                <a:path w="866" h="863">
                  <a:moveTo>
                    <a:pt x="754" y="372"/>
                  </a:moveTo>
                  <a:lnTo>
                    <a:pt x="757" y="387"/>
                  </a:lnTo>
                  <a:lnTo>
                    <a:pt x="760" y="403"/>
                  </a:lnTo>
                  <a:lnTo>
                    <a:pt x="761" y="420"/>
                  </a:lnTo>
                  <a:lnTo>
                    <a:pt x="761" y="436"/>
                  </a:lnTo>
                  <a:lnTo>
                    <a:pt x="761" y="453"/>
                  </a:lnTo>
                  <a:lnTo>
                    <a:pt x="760" y="468"/>
                  </a:lnTo>
                  <a:lnTo>
                    <a:pt x="866" y="523"/>
                  </a:lnTo>
                  <a:lnTo>
                    <a:pt x="864" y="527"/>
                  </a:lnTo>
                  <a:lnTo>
                    <a:pt x="864" y="530"/>
                  </a:lnTo>
                  <a:lnTo>
                    <a:pt x="863" y="534"/>
                  </a:lnTo>
                  <a:lnTo>
                    <a:pt x="861" y="538"/>
                  </a:lnTo>
                  <a:lnTo>
                    <a:pt x="745" y="539"/>
                  </a:lnTo>
                  <a:lnTo>
                    <a:pt x="739" y="554"/>
                  </a:lnTo>
                  <a:lnTo>
                    <a:pt x="732" y="571"/>
                  </a:lnTo>
                  <a:lnTo>
                    <a:pt x="726" y="587"/>
                  </a:lnTo>
                  <a:lnTo>
                    <a:pt x="717" y="602"/>
                  </a:lnTo>
                  <a:lnTo>
                    <a:pt x="708" y="616"/>
                  </a:lnTo>
                  <a:lnTo>
                    <a:pt x="700" y="630"/>
                  </a:lnTo>
                  <a:lnTo>
                    <a:pt x="761" y="727"/>
                  </a:lnTo>
                  <a:lnTo>
                    <a:pt x="759" y="730"/>
                  </a:lnTo>
                  <a:lnTo>
                    <a:pt x="757" y="733"/>
                  </a:lnTo>
                  <a:lnTo>
                    <a:pt x="754" y="735"/>
                  </a:lnTo>
                  <a:lnTo>
                    <a:pt x="752" y="738"/>
                  </a:lnTo>
                  <a:lnTo>
                    <a:pt x="653" y="682"/>
                  </a:lnTo>
                  <a:lnTo>
                    <a:pt x="641" y="693"/>
                  </a:lnTo>
                  <a:lnTo>
                    <a:pt x="634" y="698"/>
                  </a:lnTo>
                  <a:lnTo>
                    <a:pt x="626" y="704"/>
                  </a:lnTo>
                  <a:lnTo>
                    <a:pt x="619" y="709"/>
                  </a:lnTo>
                  <a:lnTo>
                    <a:pt x="610" y="715"/>
                  </a:lnTo>
                  <a:lnTo>
                    <a:pt x="602" y="719"/>
                  </a:lnTo>
                  <a:lnTo>
                    <a:pt x="594" y="724"/>
                  </a:lnTo>
                  <a:lnTo>
                    <a:pt x="586" y="729"/>
                  </a:lnTo>
                  <a:lnTo>
                    <a:pt x="578" y="733"/>
                  </a:lnTo>
                  <a:lnTo>
                    <a:pt x="564" y="741"/>
                  </a:lnTo>
                  <a:lnTo>
                    <a:pt x="569" y="852"/>
                  </a:lnTo>
                  <a:lnTo>
                    <a:pt x="565" y="853"/>
                  </a:lnTo>
                  <a:lnTo>
                    <a:pt x="561" y="853"/>
                  </a:lnTo>
                  <a:lnTo>
                    <a:pt x="558" y="855"/>
                  </a:lnTo>
                  <a:lnTo>
                    <a:pt x="556" y="856"/>
                  </a:lnTo>
                  <a:lnTo>
                    <a:pt x="499" y="761"/>
                  </a:lnTo>
                  <a:lnTo>
                    <a:pt x="483" y="764"/>
                  </a:lnTo>
                  <a:lnTo>
                    <a:pt x="473" y="766"/>
                  </a:lnTo>
                  <a:lnTo>
                    <a:pt x="464" y="767"/>
                  </a:lnTo>
                  <a:lnTo>
                    <a:pt x="454" y="768"/>
                  </a:lnTo>
                  <a:lnTo>
                    <a:pt x="445" y="768"/>
                  </a:lnTo>
                  <a:lnTo>
                    <a:pt x="434" y="768"/>
                  </a:lnTo>
                  <a:lnTo>
                    <a:pt x="424" y="768"/>
                  </a:lnTo>
                  <a:lnTo>
                    <a:pt x="414" y="768"/>
                  </a:lnTo>
                  <a:lnTo>
                    <a:pt x="405" y="768"/>
                  </a:lnTo>
                  <a:lnTo>
                    <a:pt x="388" y="767"/>
                  </a:lnTo>
                  <a:lnTo>
                    <a:pt x="338" y="863"/>
                  </a:lnTo>
                  <a:lnTo>
                    <a:pt x="335" y="863"/>
                  </a:lnTo>
                  <a:lnTo>
                    <a:pt x="332" y="862"/>
                  </a:lnTo>
                  <a:lnTo>
                    <a:pt x="328" y="862"/>
                  </a:lnTo>
                  <a:lnTo>
                    <a:pt x="325" y="860"/>
                  </a:lnTo>
                  <a:lnTo>
                    <a:pt x="324" y="752"/>
                  </a:lnTo>
                  <a:lnTo>
                    <a:pt x="309" y="746"/>
                  </a:lnTo>
                  <a:lnTo>
                    <a:pt x="299" y="742"/>
                  </a:lnTo>
                  <a:lnTo>
                    <a:pt x="291" y="738"/>
                  </a:lnTo>
                  <a:lnTo>
                    <a:pt x="281" y="734"/>
                  </a:lnTo>
                  <a:lnTo>
                    <a:pt x="272" y="730"/>
                  </a:lnTo>
                  <a:lnTo>
                    <a:pt x="263" y="726"/>
                  </a:lnTo>
                  <a:lnTo>
                    <a:pt x="254" y="720"/>
                  </a:lnTo>
                  <a:lnTo>
                    <a:pt x="246" y="715"/>
                  </a:lnTo>
                  <a:lnTo>
                    <a:pt x="237" y="709"/>
                  </a:lnTo>
                  <a:lnTo>
                    <a:pt x="225" y="700"/>
                  </a:lnTo>
                  <a:lnTo>
                    <a:pt x="132" y="759"/>
                  </a:lnTo>
                  <a:lnTo>
                    <a:pt x="130" y="756"/>
                  </a:lnTo>
                  <a:lnTo>
                    <a:pt x="128" y="755"/>
                  </a:lnTo>
                  <a:lnTo>
                    <a:pt x="126" y="752"/>
                  </a:lnTo>
                  <a:lnTo>
                    <a:pt x="124" y="750"/>
                  </a:lnTo>
                  <a:lnTo>
                    <a:pt x="177" y="654"/>
                  </a:lnTo>
                  <a:lnTo>
                    <a:pt x="167" y="642"/>
                  </a:lnTo>
                  <a:lnTo>
                    <a:pt x="162" y="634"/>
                  </a:lnTo>
                  <a:lnTo>
                    <a:pt x="155" y="626"/>
                  </a:lnTo>
                  <a:lnTo>
                    <a:pt x="150" y="617"/>
                  </a:lnTo>
                  <a:lnTo>
                    <a:pt x="144" y="609"/>
                  </a:lnTo>
                  <a:lnTo>
                    <a:pt x="139" y="601"/>
                  </a:lnTo>
                  <a:lnTo>
                    <a:pt x="135" y="591"/>
                  </a:lnTo>
                  <a:lnTo>
                    <a:pt x="129" y="583"/>
                  </a:lnTo>
                  <a:lnTo>
                    <a:pt x="125" y="573"/>
                  </a:lnTo>
                  <a:lnTo>
                    <a:pt x="118" y="558"/>
                  </a:lnTo>
                  <a:lnTo>
                    <a:pt x="8" y="562"/>
                  </a:lnTo>
                  <a:lnTo>
                    <a:pt x="7" y="560"/>
                  </a:lnTo>
                  <a:lnTo>
                    <a:pt x="7" y="558"/>
                  </a:lnTo>
                  <a:lnTo>
                    <a:pt x="7" y="556"/>
                  </a:lnTo>
                  <a:lnTo>
                    <a:pt x="6" y="551"/>
                  </a:lnTo>
                  <a:lnTo>
                    <a:pt x="100" y="494"/>
                  </a:lnTo>
                  <a:lnTo>
                    <a:pt x="99" y="479"/>
                  </a:lnTo>
                  <a:lnTo>
                    <a:pt x="96" y="458"/>
                  </a:lnTo>
                  <a:lnTo>
                    <a:pt x="96" y="439"/>
                  </a:lnTo>
                  <a:lnTo>
                    <a:pt x="96" y="420"/>
                  </a:lnTo>
                  <a:lnTo>
                    <a:pt x="98" y="401"/>
                  </a:lnTo>
                  <a:lnTo>
                    <a:pt x="99" y="384"/>
                  </a:lnTo>
                  <a:lnTo>
                    <a:pt x="0" y="332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2" y="322"/>
                  </a:lnTo>
                  <a:lnTo>
                    <a:pt x="3" y="320"/>
                  </a:lnTo>
                  <a:lnTo>
                    <a:pt x="117" y="318"/>
                  </a:lnTo>
                  <a:lnTo>
                    <a:pt x="122" y="303"/>
                  </a:lnTo>
                  <a:lnTo>
                    <a:pt x="130" y="288"/>
                  </a:lnTo>
                  <a:lnTo>
                    <a:pt x="139" y="272"/>
                  </a:lnTo>
                  <a:lnTo>
                    <a:pt x="148" y="255"/>
                  </a:lnTo>
                  <a:lnTo>
                    <a:pt x="159" y="240"/>
                  </a:lnTo>
                  <a:lnTo>
                    <a:pt x="169" y="226"/>
                  </a:lnTo>
                  <a:lnTo>
                    <a:pt x="107" y="130"/>
                  </a:lnTo>
                  <a:lnTo>
                    <a:pt x="110" y="127"/>
                  </a:lnTo>
                  <a:lnTo>
                    <a:pt x="113" y="125"/>
                  </a:lnTo>
                  <a:lnTo>
                    <a:pt x="115" y="122"/>
                  </a:lnTo>
                  <a:lnTo>
                    <a:pt x="118" y="119"/>
                  </a:lnTo>
                  <a:lnTo>
                    <a:pt x="220" y="177"/>
                  </a:lnTo>
                  <a:lnTo>
                    <a:pt x="232" y="167"/>
                  </a:lnTo>
                  <a:lnTo>
                    <a:pt x="239" y="162"/>
                  </a:lnTo>
                  <a:lnTo>
                    <a:pt x="246" y="158"/>
                  </a:lnTo>
                  <a:lnTo>
                    <a:pt x="253" y="154"/>
                  </a:lnTo>
                  <a:lnTo>
                    <a:pt x="261" y="148"/>
                  </a:lnTo>
                  <a:lnTo>
                    <a:pt x="268" y="144"/>
                  </a:lnTo>
                  <a:lnTo>
                    <a:pt x="276" y="140"/>
                  </a:lnTo>
                  <a:lnTo>
                    <a:pt x="283" y="137"/>
                  </a:lnTo>
                  <a:lnTo>
                    <a:pt x="291" y="133"/>
                  </a:lnTo>
                  <a:lnTo>
                    <a:pt x="306" y="126"/>
                  </a:lnTo>
                  <a:lnTo>
                    <a:pt x="301" y="8"/>
                  </a:lnTo>
                  <a:lnTo>
                    <a:pt x="303" y="8"/>
                  </a:lnTo>
                  <a:lnTo>
                    <a:pt x="306" y="7"/>
                  </a:lnTo>
                  <a:lnTo>
                    <a:pt x="310" y="5"/>
                  </a:lnTo>
                  <a:lnTo>
                    <a:pt x="316" y="4"/>
                  </a:lnTo>
                  <a:lnTo>
                    <a:pt x="376" y="107"/>
                  </a:lnTo>
                  <a:lnTo>
                    <a:pt x="392" y="106"/>
                  </a:lnTo>
                  <a:lnTo>
                    <a:pt x="401" y="104"/>
                  </a:lnTo>
                  <a:lnTo>
                    <a:pt x="407" y="104"/>
                  </a:lnTo>
                  <a:lnTo>
                    <a:pt x="416" y="104"/>
                  </a:lnTo>
                  <a:lnTo>
                    <a:pt x="424" y="103"/>
                  </a:lnTo>
                  <a:lnTo>
                    <a:pt x="432" y="103"/>
                  </a:lnTo>
                  <a:lnTo>
                    <a:pt x="440" y="103"/>
                  </a:lnTo>
                  <a:lnTo>
                    <a:pt x="449" y="104"/>
                  </a:lnTo>
                  <a:lnTo>
                    <a:pt x="457" y="104"/>
                  </a:lnTo>
                  <a:lnTo>
                    <a:pt x="473" y="106"/>
                  </a:lnTo>
                  <a:lnTo>
                    <a:pt x="528" y="0"/>
                  </a:lnTo>
                  <a:lnTo>
                    <a:pt x="532" y="1"/>
                  </a:lnTo>
                  <a:lnTo>
                    <a:pt x="536" y="1"/>
                  </a:lnTo>
                  <a:lnTo>
                    <a:pt x="539" y="3"/>
                  </a:lnTo>
                  <a:lnTo>
                    <a:pt x="543" y="4"/>
                  </a:lnTo>
                  <a:lnTo>
                    <a:pt x="545" y="123"/>
                  </a:lnTo>
                  <a:lnTo>
                    <a:pt x="560" y="130"/>
                  </a:lnTo>
                  <a:lnTo>
                    <a:pt x="567" y="133"/>
                  </a:lnTo>
                  <a:lnTo>
                    <a:pt x="573" y="137"/>
                  </a:lnTo>
                  <a:lnTo>
                    <a:pt x="582" y="140"/>
                  </a:lnTo>
                  <a:lnTo>
                    <a:pt x="588" y="144"/>
                  </a:lnTo>
                  <a:lnTo>
                    <a:pt x="595" y="148"/>
                  </a:lnTo>
                  <a:lnTo>
                    <a:pt x="602" y="152"/>
                  </a:lnTo>
                  <a:lnTo>
                    <a:pt x="608" y="156"/>
                  </a:lnTo>
                  <a:lnTo>
                    <a:pt x="615" y="160"/>
                  </a:lnTo>
                  <a:lnTo>
                    <a:pt x="628" y="169"/>
                  </a:lnTo>
                  <a:lnTo>
                    <a:pt x="730" y="104"/>
                  </a:lnTo>
                  <a:lnTo>
                    <a:pt x="732" y="107"/>
                  </a:lnTo>
                  <a:lnTo>
                    <a:pt x="735" y="110"/>
                  </a:lnTo>
                  <a:lnTo>
                    <a:pt x="738" y="112"/>
                  </a:lnTo>
                  <a:lnTo>
                    <a:pt x="741" y="115"/>
                  </a:lnTo>
                  <a:lnTo>
                    <a:pt x="683" y="221"/>
                  </a:lnTo>
                  <a:lnTo>
                    <a:pt x="693" y="233"/>
                  </a:lnTo>
                  <a:lnTo>
                    <a:pt x="702" y="245"/>
                  </a:lnTo>
                  <a:lnTo>
                    <a:pt x="711" y="259"/>
                  </a:lnTo>
                  <a:lnTo>
                    <a:pt x="719" y="273"/>
                  </a:lnTo>
                  <a:lnTo>
                    <a:pt x="726" y="287"/>
                  </a:lnTo>
                  <a:lnTo>
                    <a:pt x="732" y="300"/>
                  </a:lnTo>
                  <a:lnTo>
                    <a:pt x="853" y="295"/>
                  </a:lnTo>
                  <a:lnTo>
                    <a:pt x="855" y="299"/>
                  </a:lnTo>
                  <a:lnTo>
                    <a:pt x="856" y="303"/>
                  </a:lnTo>
                  <a:lnTo>
                    <a:pt x="856" y="307"/>
                  </a:lnTo>
                  <a:lnTo>
                    <a:pt x="857" y="310"/>
                  </a:lnTo>
                  <a:lnTo>
                    <a:pt x="754" y="37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51720" y="2477160"/>
              <a:ext cx="433440" cy="4334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74" y="293"/>
                  </a:moveTo>
                  <a:lnTo>
                    <a:pt x="50" y="274"/>
                  </a:lnTo>
                  <a:lnTo>
                    <a:pt x="29" y="249"/>
                  </a:lnTo>
                  <a:lnTo>
                    <a:pt x="14" y="223"/>
                  </a:lnTo>
                  <a:lnTo>
                    <a:pt x="4" y="193"/>
                  </a:lnTo>
                  <a:lnTo>
                    <a:pt x="0" y="163"/>
                  </a:lnTo>
                  <a:lnTo>
                    <a:pt x="3" y="133"/>
                  </a:lnTo>
                  <a:lnTo>
                    <a:pt x="11" y="103"/>
                  </a:lnTo>
                  <a:lnTo>
                    <a:pt x="26" y="74"/>
                  </a:lnTo>
                  <a:lnTo>
                    <a:pt x="36" y="60"/>
                  </a:lnTo>
                  <a:lnTo>
                    <a:pt x="46" y="49"/>
                  </a:lnTo>
                  <a:lnTo>
                    <a:pt x="58" y="38"/>
                  </a:lnTo>
                  <a:lnTo>
                    <a:pt x="70" y="28"/>
                  </a:lnTo>
                  <a:lnTo>
                    <a:pt x="83" y="20"/>
                  </a:lnTo>
                  <a:lnTo>
                    <a:pt x="96" y="13"/>
                  </a:lnTo>
                  <a:lnTo>
                    <a:pt x="111" y="8"/>
                  </a:lnTo>
                  <a:lnTo>
                    <a:pt x="126" y="4"/>
                  </a:lnTo>
                  <a:lnTo>
                    <a:pt x="140" y="1"/>
                  </a:lnTo>
                  <a:lnTo>
                    <a:pt x="157" y="0"/>
                  </a:lnTo>
                  <a:lnTo>
                    <a:pt x="172" y="1"/>
                  </a:lnTo>
                  <a:lnTo>
                    <a:pt x="187" y="2"/>
                  </a:lnTo>
                  <a:lnTo>
                    <a:pt x="202" y="6"/>
                  </a:lnTo>
                  <a:lnTo>
                    <a:pt x="217" y="11"/>
                  </a:lnTo>
                  <a:lnTo>
                    <a:pt x="232" y="17"/>
                  </a:lnTo>
                  <a:lnTo>
                    <a:pt x="246" y="26"/>
                  </a:lnTo>
                  <a:lnTo>
                    <a:pt x="270" y="45"/>
                  </a:lnTo>
                  <a:lnTo>
                    <a:pt x="291" y="70"/>
                  </a:lnTo>
                  <a:lnTo>
                    <a:pt x="306" y="96"/>
                  </a:lnTo>
                  <a:lnTo>
                    <a:pt x="316" y="124"/>
                  </a:lnTo>
                  <a:lnTo>
                    <a:pt x="318" y="156"/>
                  </a:lnTo>
                  <a:lnTo>
                    <a:pt x="316" y="186"/>
                  </a:lnTo>
                  <a:lnTo>
                    <a:pt x="307" y="216"/>
                  </a:lnTo>
                  <a:lnTo>
                    <a:pt x="294" y="245"/>
                  </a:lnTo>
                  <a:lnTo>
                    <a:pt x="284" y="258"/>
                  </a:lnTo>
                  <a:lnTo>
                    <a:pt x="275" y="270"/>
                  </a:lnTo>
                  <a:lnTo>
                    <a:pt x="264" y="281"/>
                  </a:lnTo>
                  <a:lnTo>
                    <a:pt x="251" y="291"/>
                  </a:lnTo>
                  <a:lnTo>
                    <a:pt x="238" y="299"/>
                  </a:lnTo>
                  <a:lnTo>
                    <a:pt x="224" y="306"/>
                  </a:lnTo>
                  <a:lnTo>
                    <a:pt x="209" y="311"/>
                  </a:lnTo>
                  <a:lnTo>
                    <a:pt x="194" y="315"/>
                  </a:lnTo>
                  <a:lnTo>
                    <a:pt x="179" y="318"/>
                  </a:lnTo>
                  <a:lnTo>
                    <a:pt x="162" y="318"/>
                  </a:lnTo>
                  <a:lnTo>
                    <a:pt x="147" y="318"/>
                  </a:lnTo>
                  <a:lnTo>
                    <a:pt x="132" y="317"/>
                  </a:lnTo>
                  <a:lnTo>
                    <a:pt x="117" y="312"/>
                  </a:lnTo>
                  <a:lnTo>
                    <a:pt x="102" y="308"/>
                  </a:lnTo>
                  <a:lnTo>
                    <a:pt x="88" y="301"/>
                  </a:lnTo>
                  <a:lnTo>
                    <a:pt x="74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18040" y="4056480"/>
              <a:ext cx="978480" cy="979560"/>
            </a:xfrm>
            <a:custGeom>
              <a:avLst/>
              <a:gdLst/>
              <a:ahLst/>
              <a:rect l="l" t="t" r="r" b="b"/>
              <a:pathLst>
                <a:path w="718" h="719">
                  <a:moveTo>
                    <a:pt x="161" y="660"/>
                  </a:moveTo>
                  <a:lnTo>
                    <a:pt x="105" y="614"/>
                  </a:lnTo>
                  <a:lnTo>
                    <a:pt x="59" y="559"/>
                  </a:lnTo>
                  <a:lnTo>
                    <a:pt x="26" y="497"/>
                  </a:lnTo>
                  <a:lnTo>
                    <a:pt x="7" y="431"/>
                  </a:lnTo>
                  <a:lnTo>
                    <a:pt x="0" y="362"/>
                  </a:lnTo>
                  <a:lnTo>
                    <a:pt x="6" y="292"/>
                  </a:lnTo>
                  <a:lnTo>
                    <a:pt x="26" y="225"/>
                  </a:lnTo>
                  <a:lnTo>
                    <a:pt x="61" y="161"/>
                  </a:lnTo>
                  <a:lnTo>
                    <a:pt x="70" y="146"/>
                  </a:lnTo>
                  <a:lnTo>
                    <a:pt x="81" y="132"/>
                  </a:lnTo>
                  <a:lnTo>
                    <a:pt x="94" y="118"/>
                  </a:lnTo>
                  <a:lnTo>
                    <a:pt x="105" y="106"/>
                  </a:lnTo>
                  <a:lnTo>
                    <a:pt x="118" y="93"/>
                  </a:lnTo>
                  <a:lnTo>
                    <a:pt x="131" y="82"/>
                  </a:lnTo>
                  <a:lnTo>
                    <a:pt x="144" y="71"/>
                  </a:lnTo>
                  <a:lnTo>
                    <a:pt x="159" y="61"/>
                  </a:lnTo>
                  <a:lnTo>
                    <a:pt x="173" y="52"/>
                  </a:lnTo>
                  <a:lnTo>
                    <a:pt x="188" y="43"/>
                  </a:lnTo>
                  <a:lnTo>
                    <a:pt x="205" y="34"/>
                  </a:lnTo>
                  <a:lnTo>
                    <a:pt x="220" y="28"/>
                  </a:lnTo>
                  <a:lnTo>
                    <a:pt x="236" y="22"/>
                  </a:lnTo>
                  <a:lnTo>
                    <a:pt x="253" y="15"/>
                  </a:lnTo>
                  <a:lnTo>
                    <a:pt x="271" y="11"/>
                  </a:lnTo>
                  <a:lnTo>
                    <a:pt x="287" y="7"/>
                  </a:lnTo>
                  <a:lnTo>
                    <a:pt x="305" y="4"/>
                  </a:lnTo>
                  <a:lnTo>
                    <a:pt x="323" y="2"/>
                  </a:lnTo>
                  <a:lnTo>
                    <a:pt x="340" y="0"/>
                  </a:lnTo>
                  <a:lnTo>
                    <a:pt x="358" y="0"/>
                  </a:lnTo>
                  <a:lnTo>
                    <a:pt x="376" y="0"/>
                  </a:lnTo>
                  <a:lnTo>
                    <a:pt x="393" y="2"/>
                  </a:lnTo>
                  <a:lnTo>
                    <a:pt x="410" y="3"/>
                  </a:lnTo>
                  <a:lnTo>
                    <a:pt x="428" y="7"/>
                  </a:lnTo>
                  <a:lnTo>
                    <a:pt x="445" y="10"/>
                  </a:lnTo>
                  <a:lnTo>
                    <a:pt x="461" y="15"/>
                  </a:lnTo>
                  <a:lnTo>
                    <a:pt x="479" y="21"/>
                  </a:lnTo>
                  <a:lnTo>
                    <a:pt x="494" y="26"/>
                  </a:lnTo>
                  <a:lnTo>
                    <a:pt x="511" y="34"/>
                  </a:lnTo>
                  <a:lnTo>
                    <a:pt x="527" y="43"/>
                  </a:lnTo>
                  <a:lnTo>
                    <a:pt x="542" y="51"/>
                  </a:lnTo>
                  <a:lnTo>
                    <a:pt x="557" y="61"/>
                  </a:lnTo>
                  <a:lnTo>
                    <a:pt x="613" y="107"/>
                  </a:lnTo>
                  <a:lnTo>
                    <a:pt x="659" y="162"/>
                  </a:lnTo>
                  <a:lnTo>
                    <a:pt x="690" y="222"/>
                  </a:lnTo>
                  <a:lnTo>
                    <a:pt x="711" y="290"/>
                  </a:lnTo>
                  <a:lnTo>
                    <a:pt x="718" y="358"/>
                  </a:lnTo>
                  <a:lnTo>
                    <a:pt x="711" y="427"/>
                  </a:lnTo>
                  <a:lnTo>
                    <a:pt x="692" y="496"/>
                  </a:lnTo>
                  <a:lnTo>
                    <a:pt x="657" y="560"/>
                  </a:lnTo>
                  <a:lnTo>
                    <a:pt x="646" y="575"/>
                  </a:lnTo>
                  <a:lnTo>
                    <a:pt x="635" y="589"/>
                  </a:lnTo>
                  <a:lnTo>
                    <a:pt x="624" y="603"/>
                  </a:lnTo>
                  <a:lnTo>
                    <a:pt x="612" y="615"/>
                  </a:lnTo>
                  <a:lnTo>
                    <a:pt x="600" y="627"/>
                  </a:lnTo>
                  <a:lnTo>
                    <a:pt x="586" y="638"/>
                  </a:lnTo>
                  <a:lnTo>
                    <a:pt x="572" y="649"/>
                  </a:lnTo>
                  <a:lnTo>
                    <a:pt x="559" y="659"/>
                  </a:lnTo>
                  <a:lnTo>
                    <a:pt x="543" y="668"/>
                  </a:lnTo>
                  <a:lnTo>
                    <a:pt x="528" y="677"/>
                  </a:lnTo>
                  <a:lnTo>
                    <a:pt x="513" y="685"/>
                  </a:lnTo>
                  <a:lnTo>
                    <a:pt x="497" y="692"/>
                  </a:lnTo>
                  <a:lnTo>
                    <a:pt x="480" y="699"/>
                  </a:lnTo>
                  <a:lnTo>
                    <a:pt x="464" y="704"/>
                  </a:lnTo>
                  <a:lnTo>
                    <a:pt x="447" y="708"/>
                  </a:lnTo>
                  <a:lnTo>
                    <a:pt x="430" y="712"/>
                  </a:lnTo>
                  <a:lnTo>
                    <a:pt x="412" y="715"/>
                  </a:lnTo>
                  <a:lnTo>
                    <a:pt x="394" y="718"/>
                  </a:lnTo>
                  <a:lnTo>
                    <a:pt x="376" y="719"/>
                  </a:lnTo>
                  <a:lnTo>
                    <a:pt x="358" y="719"/>
                  </a:lnTo>
                  <a:lnTo>
                    <a:pt x="340" y="719"/>
                  </a:lnTo>
                  <a:lnTo>
                    <a:pt x="324" y="718"/>
                  </a:lnTo>
                  <a:lnTo>
                    <a:pt x="306" y="716"/>
                  </a:lnTo>
                  <a:lnTo>
                    <a:pt x="290" y="712"/>
                  </a:lnTo>
                  <a:lnTo>
                    <a:pt x="272" y="710"/>
                  </a:lnTo>
                  <a:lnTo>
                    <a:pt x="255" y="704"/>
                  </a:lnTo>
                  <a:lnTo>
                    <a:pt x="239" y="699"/>
                  </a:lnTo>
                  <a:lnTo>
                    <a:pt x="223" y="693"/>
                  </a:lnTo>
                  <a:lnTo>
                    <a:pt x="206" y="686"/>
                  </a:lnTo>
                  <a:lnTo>
                    <a:pt x="191" y="678"/>
                  </a:lnTo>
                  <a:lnTo>
                    <a:pt x="176" y="670"/>
                  </a:lnTo>
                  <a:lnTo>
                    <a:pt x="161" y="6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06440" y="3012840"/>
              <a:ext cx="433080" cy="434520"/>
            </a:xfrm>
            <a:custGeom>
              <a:avLst/>
              <a:gdLst/>
              <a:ahLst/>
              <a:rect l="l" t="t" r="r" b="b"/>
              <a:pathLst>
                <a:path w="318" h="319">
                  <a:moveTo>
                    <a:pt x="318" y="154"/>
                  </a:moveTo>
                  <a:lnTo>
                    <a:pt x="315" y="186"/>
                  </a:lnTo>
                  <a:lnTo>
                    <a:pt x="307" y="216"/>
                  </a:lnTo>
                  <a:lnTo>
                    <a:pt x="293" y="245"/>
                  </a:lnTo>
                  <a:lnTo>
                    <a:pt x="275" y="268"/>
                  </a:lnTo>
                  <a:lnTo>
                    <a:pt x="252" y="289"/>
                  </a:lnTo>
                  <a:lnTo>
                    <a:pt x="226" y="304"/>
                  </a:lnTo>
                  <a:lnTo>
                    <a:pt x="196" y="315"/>
                  </a:lnTo>
                  <a:lnTo>
                    <a:pt x="164" y="319"/>
                  </a:lnTo>
                  <a:lnTo>
                    <a:pt x="133" y="317"/>
                  </a:lnTo>
                  <a:lnTo>
                    <a:pt x="103" y="309"/>
                  </a:lnTo>
                  <a:lnTo>
                    <a:pt x="74" y="295"/>
                  </a:lnTo>
                  <a:lnTo>
                    <a:pt x="50" y="276"/>
                  </a:lnTo>
                  <a:lnTo>
                    <a:pt x="30" y="253"/>
                  </a:lnTo>
                  <a:lnTo>
                    <a:pt x="15" y="227"/>
                  </a:lnTo>
                  <a:lnTo>
                    <a:pt x="4" y="197"/>
                  </a:lnTo>
                  <a:lnTo>
                    <a:pt x="0" y="165"/>
                  </a:lnTo>
                  <a:lnTo>
                    <a:pt x="2" y="134"/>
                  </a:lnTo>
                  <a:lnTo>
                    <a:pt x="11" y="103"/>
                  </a:lnTo>
                  <a:lnTo>
                    <a:pt x="24" y="76"/>
                  </a:lnTo>
                  <a:lnTo>
                    <a:pt x="42" y="51"/>
                  </a:lnTo>
                  <a:lnTo>
                    <a:pt x="66" y="32"/>
                  </a:lnTo>
                  <a:lnTo>
                    <a:pt x="92" y="16"/>
                  </a:lnTo>
                  <a:lnTo>
                    <a:pt x="122" y="5"/>
                  </a:lnTo>
                  <a:lnTo>
                    <a:pt x="153" y="0"/>
                  </a:lnTo>
                  <a:lnTo>
                    <a:pt x="185" y="3"/>
                  </a:lnTo>
                  <a:lnTo>
                    <a:pt x="215" y="11"/>
                  </a:lnTo>
                  <a:lnTo>
                    <a:pt x="244" y="25"/>
                  </a:lnTo>
                  <a:lnTo>
                    <a:pt x="267" y="43"/>
                  </a:lnTo>
                  <a:lnTo>
                    <a:pt x="288" y="66"/>
                  </a:lnTo>
                  <a:lnTo>
                    <a:pt x="303" y="92"/>
                  </a:lnTo>
                  <a:lnTo>
                    <a:pt x="314" y="123"/>
                  </a:lnTo>
                  <a:lnTo>
                    <a:pt x="31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33200" y="653724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838080"/>
            <a:ext cx="73152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965160"/>
            <a:ext cx="7010640" cy="5671440"/>
          </a:xfrm>
          <a:prstGeom prst="rect">
            <a:avLst/>
          </a:prstGeom>
          <a:solidFill>
            <a:srgbClr val="6359e9"/>
          </a:solidFill>
          <a:ln w="9360">
            <a:solidFill>
              <a:srgbClr val="635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ccff"/>
                </a:solidFill>
                <a:latin typeface="Arial"/>
              </a:rPr>
              <a:t>During the Great Depression, prices and wages went down considerably.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Let’s compare prices and wages during the 1930s to those of to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ges: You Comp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3920" y="62326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3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1698480"/>
          <a:ext cx="7696080" cy="4626000"/>
        </p:xfrm>
        <a:graphic>
          <a:graphicData uri="http://schemas.openxmlformats.org/drawingml/2006/table">
            <a:tbl>
              <a:tblPr/>
              <a:tblGrid>
                <a:gridCol w="3429000"/>
                <a:gridCol w="2209680"/>
                <a:gridCol w="2057400"/>
              </a:tblGrid>
              <a:tr h="100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es in 1930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es toda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cher’s salary per mon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60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ctor’s salary per mon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4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k’s salary per mon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50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ountant’s salary per mon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80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790f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6555960" y="28954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3,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56320" y="38098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12,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55960" y="47242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2,6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55960" y="5638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$3,2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010280" y="395280"/>
            <a:ext cx="175284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152280"/>
            <a:ext cx="8686800" cy="1143000"/>
          </a:xfrm>
          <a:prstGeom prst="rect">
            <a:avLst/>
          </a:prstGeom>
          <a:gradFill rotWithShape="0">
            <a:gsLst>
              <a:gs pos="0">
                <a:srgbClr val="333399">
                  <a:alpha val="40000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What is the percent incre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hat was the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approximat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percent increase in the teacher’s salary from the 1930’s to to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49876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we know from the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6133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the increase in salary from 1930 to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9960" y="35053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rease w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4880" y="390060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$3,000.00 - $60.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70160" y="3900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33400" y="39006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$2,940.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19588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set up a proportion to find the percent incr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93680" y="5881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$60.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8560" y="5580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85680" y="53481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$3,000.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27880" y="55008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36000" y="55008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00840" y="5881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14240" y="5348160"/>
            <a:ext cx="4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5040" y="6338880"/>
            <a:ext cx="37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he percent of incre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581280" y="2438280"/>
            <a:ext cx="5069520" cy="368280"/>
            <a:chOff x="3581280" y="2438280"/>
            <a:chExt cx="5069520" cy="368280"/>
          </a:xfrm>
        </p:grpSpPr>
        <p:sp>
          <p:nvSpPr>
            <p:cNvPr id="155" name=""/>
            <p:cNvSpPr/>
            <p:nvPr/>
          </p:nvSpPr>
          <p:spPr>
            <a:xfrm>
              <a:off x="4195440" y="2438280"/>
              <a:ext cx="445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teacher salary from 1930 was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$60.0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81280" y="2666880"/>
              <a:ext cx="609840" cy="0"/>
            </a:xfrm>
            <a:prstGeom prst="line">
              <a:avLst/>
            </a:prstGeom>
            <a:ln w="442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581280" y="2895480"/>
            <a:ext cx="4676040" cy="368280"/>
            <a:chOff x="3581280" y="2895480"/>
            <a:chExt cx="4676040" cy="368280"/>
          </a:xfrm>
        </p:grpSpPr>
        <p:sp>
          <p:nvSpPr>
            <p:cNvPr id="158" name=""/>
            <p:cNvSpPr/>
            <p:nvPr/>
          </p:nvSpPr>
          <p:spPr>
            <a:xfrm>
              <a:off x="4194720" y="2895480"/>
              <a:ext cx="406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teacher salary today is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$3,000.0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124080"/>
              <a:ext cx="609840" cy="0"/>
            </a:xfrm>
            <a:prstGeom prst="line">
              <a:avLst/>
            </a:prstGeom>
            <a:ln w="442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352760" y="4343400"/>
            <a:ext cx="359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can we round to approxima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8520" y="4700520"/>
            <a:ext cx="30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$2,940.0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s to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$3,000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" y="228600"/>
            <a:ext cx="8686800" cy="1143000"/>
          </a:xfrm>
          <a:prstGeom prst="rect">
            <a:avLst/>
          </a:prstGeom>
          <a:gradFill rotWithShape="0">
            <a:gsLst>
              <a:gs pos="0">
                <a:srgbClr val="333399">
                  <a:alpha val="40000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What is the percent incre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6765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we must cross multiply to solve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889800" y="1690560"/>
            <a:ext cx="3955320" cy="901800"/>
            <a:chOff x="3889800" y="1690560"/>
            <a:chExt cx="3955320" cy="901800"/>
          </a:xfrm>
        </p:grpSpPr>
        <p:sp>
          <p:nvSpPr>
            <p:cNvPr id="166" name=""/>
            <p:cNvSpPr/>
            <p:nvPr/>
          </p:nvSpPr>
          <p:spPr>
            <a:xfrm>
              <a:off x="6555600" y="222408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$60.00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40480" y="1922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47600" y="169056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$3,000.00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89800" y="184320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_________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97920" y="184320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_________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62760" y="22240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00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76160" y="1690560"/>
              <a:ext cx="42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7772400" y="2590920"/>
            <a:ext cx="152280" cy="1522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29200">
            <a:off x="3885840" y="1905120"/>
            <a:ext cx="4038480" cy="609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1523880"/>
            <a:ext cx="152640" cy="152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0961000">
            <a:off x="3885840" y="1828440"/>
            <a:ext cx="4038480" cy="60948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30481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we multiply 3,000 x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1148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, we divide our product by 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4520" y="3216240"/>
            <a:ext cx="25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000 x 10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300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50040" y="4140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,000 </a:t>
            </a: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÷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5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507996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our answer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080" y="50292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5,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57150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t, don’t forget the units!  What was our original question ask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6172200"/>
            <a:ext cx="5410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was 5,000% percent increase!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48148E-006 C 0.02518 -0.00926 0.03438 -0.04028 -0.03246 -0.06481 C -0.0993 -0.08935 -0.35 -0.14745 -0.40138 -0.14768 C -0.45277 -0.14792 -0.37673 -0.08981 -0.34045 -0.06667 C -0.30416 -0.04352 -0.23975 -0.02014 -0.18368 -0.00903 C -0.1276 0.00208 -0.02517 0.00926 -5.55556E-007 -1.48148E-006 Z">
                                      <p:cBhvr>
                                        <p:cTn id="213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0.01782 C 0.00104 -0.01782 0.00226 -0.01782 -0.01076 -0.01782 C -0.02378 -0.01782 -0.05486 -0.02222 -0.0783 -0.01782 C -0.10174 -0.01342 -0.09896 -0.01227 -0.15122 0.00903 C -0.20347 0.03033 -0.35399 0.08542 -0.39184 0.10996 C -0.42969 0.13449 -0.44132 0.16436 -0.3783 0.15695 C -0.31528 0.14954 -0.07483 0.09398 -0.01337 0.06505 C 0.04809 0.03611 -0.0092 -0.00185 -0.00937 -0.0162 E">
                                      <p:cBhvr>
                                        <p:cTn id="231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21:22:20Z</dcterms:created>
  <dc:creator>Texas A&amp;M Veterinary Medicine</dc:creator>
  <dc:description/>
  <dc:language>en-US</dc:language>
  <cp:lastModifiedBy>Jeremiah McNichols</cp:lastModifiedBy>
  <dcterms:modified xsi:type="dcterms:W3CDTF">2008-09-23T13:03:11Z</dcterms:modified>
  <cp:revision>10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08000000000001023620</vt:lpwstr>
  </property>
</Properties>
</file>