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B057-EEC9-4FF2-93A7-BB5951767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40B-096B-4C74-B8AC-646F74DF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174-D71E-42F0-95BC-0FD17AAE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18F-3EFC-470A-B329-675B2DBB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DE5-030F-45CA-A906-7E0463B3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F95-C951-4AE0-9AE5-ABE93D8E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85C-22E0-4282-83D3-5565CBDD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D30-79F9-4431-8CAF-CCCD1C5D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4EB-75A9-40B9-B36B-854D1395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79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783-F147-42C5-B7E4-49972158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F72-18DE-4463-A564-AD584F7E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D68-8B38-4591-9BD0-6E3FB31E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52C-63B9-4199-9725-767775F5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8F66-5F41-457F-B661-982E2764D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rages Jace from helping the distres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s Jace how to milk the cow with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ollen u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not surprised by the aggressive sku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unable to hunt squirrels because he has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55520" y="2548080"/>
            <a:ext cx="376560" cy="46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060560" y="5113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063800" y="3564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068480" y="4421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Tick confuses the words “virus” and “venus.”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e believes a virus may be responsible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d behavior of the two strang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howling at the raco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usual behavior of the skunk towards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yo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ad squirrels he had been fi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58760" y="501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2640" y="3435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7320" y="412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5612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3400" y="475308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is story 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lie Hollid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ra and Sylva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3800" y="307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58760" y="365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060560" y="423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faced all of the following challenges in the story EX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flood waters caused by heavy 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ing a steady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for Pep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58760" y="462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52640" y="3436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7320" y="4024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1689120"/>
            <a:ext cx="807696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encounters Tick be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works at the cavern that Jace’s family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ightening bolt triggered the time travel devi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Jace’s comp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lost and looking for the main trail ba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visitor’s c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is from the health department and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 a disease outbreak in cattle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55520" y="253836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60560" y="550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063800" y="3541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58760" y="45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a very unusual encounter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 disagree on what to do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rk muse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kunk attacks a coyote and wins the f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es a scared armadi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 sit around a campfire and ta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55520" y="295272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0560" y="501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3800" y="3822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68480" y="441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15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ce of which of the following context clues is NOT useful for determining the time period described in this story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ian Conservation Corps (C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s playing on the ra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sevelt in the Whit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ing a racc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0560" y="31352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5240" y="501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065240" y="376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063800" y="43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tells Jace that they are in the  midst of the Great Depression. Which of the following is consistent with that time period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conditions in Texas and Okla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 are consistent with the Gre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0560" y="313056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65240" y="5135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62000" y="37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63800" y="438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family were visi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ailroad mus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nghorn 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tting z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CC work ca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60560" y="424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63800" y="306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8760" y="36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strangers who came upon Jace and Tick in the cave were looking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adil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nie and Clyde’s l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rock form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d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55520" y="286380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5408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345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5520" y="40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4T15:45:08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1000000000001023620</vt:lpwstr>
  </property>
</Properties>
</file>