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F696-56C0-4826-AE37-4BF709204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BD0D-F878-4992-AB99-F886F5EE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4105-8F47-43AE-952E-797E407A4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9A4A-D37B-45B8-A91D-F004FAE3B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581D-46AB-4D94-99A4-90AD030F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994C-0BAE-4E02-977B-8DF6B9F8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7993-AC3A-4218-A535-6090EA45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1D8D-8F3D-4CE7-8447-485E3019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4D21-5C5F-4B03-BD60-D302AB4E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A6F5-3547-42CB-982F-0FCB09A6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4BD5-7556-4656-B809-BCF969CE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323F-B675-4EE1-BEEA-480B8AE9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8557-75DA-4A3F-A936-7DD80614FC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Ljlab</cp:lastModifiedBy>
  <dcterms:modified xsi:type="dcterms:W3CDTF">2005-01-21T19:04:07Z</dcterms:modified>
  <cp:revision>42</cp:revision>
  <dc:subject/>
  <dc:title>Hazards</dc:title>
</cp:coreProperties>
</file>