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C55-544A-4D1B-948F-5F96FD5F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97A-21EE-40C9-89A8-4D5BEF20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061-E297-436D-9BA2-B8789BB8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A71-9D39-46B3-BC83-AA577875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B92-AD16-4274-B439-AE0D57C8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F16-D1D1-4DDA-B4D3-474501DE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78E-0F17-4D6D-93AD-76CC60CE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C306-4830-4F06-99B5-C7736A24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60D-7B34-4058-8927-BEB691D6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F0D-4698-4077-BC3D-F0DABE8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66D-1FD1-424F-AA4F-9441F5F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560-21D6-45AF-8810-C12D787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816-1BB4-4CD1-A365-41F462763A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30Z</dcterms:modified>
  <cp:revision>53</cp:revision>
  <dc:subject/>
  <dc:title>Hazards</dc:title>
</cp:coreProperties>
</file>