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B86-0165-4DFE-8201-9F8F91EF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BA5-B710-4224-B8B1-460DCFDF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4B5-9B7E-4DD7-A6B6-2496A8C2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30E-6BD8-458C-97D7-16FD9699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5E3-8788-4A28-9888-D50A8753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EE9-AEDE-450A-A581-C8C7D053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2F4-32D4-4A27-84EF-D26DED92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348-1A34-4881-A53F-E86627D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38F-DA60-4889-9D7B-550E8E83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296-E61F-450A-81C2-58046A72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CCD-FA78-48B2-A9E4-1DABBA9A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B3F-2311-4F21-A4E1-CD9E0BFA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1EFB-B953-4026-864E-1BA3E581A2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36Z</dcterms:modified>
  <cp:revision>47</cp:revision>
  <dc:subject/>
  <dc:title>Hazards</dc:title>
</cp:coreProperties>
</file>