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944B-33B8-40EF-A900-D0C5EAC5C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FCC3-A6FC-4445-B9EA-F4FE0380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A821-F16F-4DE7-92FD-B49EEC7BD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432E-4ED4-4BC7-94A3-1EB1FDC18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9C96-8EFC-4F13-B10D-0A498EB7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706D-A704-4C5D-BB02-BFA16AB3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612A-17BB-4605-B634-7253E46D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B0E9-282B-47FD-8DF8-98691C37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F83C-31FF-4F33-A3B2-7F19FDBB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2B43-2414-4E35-A81D-C846EF81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4E09-53A0-4712-941D-0CDC297C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83B7-5906-4FB8-8F13-E367AB1F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66EC-A995-4A4C-BE6D-14EF91A1F4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4:57Z</dcterms:modified>
  <cp:revision>47</cp:revision>
  <dc:subject/>
  <dc:title>Hazards</dc:title>
</cp:coreProperties>
</file>