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316-16AA-4C8A-B1A6-4A60A38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F21-9B32-4E3D-BB06-F871B80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13A-3417-44AD-B66F-357F80E2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E7A-C596-4486-A6EA-4B2E1AB8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DE9-AF5E-4ADC-B040-47480F19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3A5-A85E-461F-BCF7-1A8BBCD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4A4-9FBB-4001-9750-A3377FDE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F34-43F8-4FC3-A11F-0DFAC363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E68-1B85-4A5C-8FB7-C232F14A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D25-0CFE-4BA9-8E86-56EE296A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598-B02B-4892-BAA7-A7B0E1D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442-8A3F-4095-BDB5-005653B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4B74-63D5-4253-80D3-A0B2BF29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191120"/>
            <a:ext cx="76176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4191120"/>
            <a:ext cx="76212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4191120"/>
            <a:ext cx="76212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4191120"/>
            <a:ext cx="76176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4191120"/>
            <a:ext cx="76212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42900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66688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42900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342900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266688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05120"/>
            <a:ext cx="76176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05120"/>
            <a:ext cx="76212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05120"/>
            <a:ext cx="762120" cy="76176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42900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66688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266688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42900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42900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29000"/>
            <a:ext cx="76176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3429000"/>
            <a:ext cx="762120" cy="762120"/>
          </a:xfrm>
          <a:prstGeom prst="rect">
            <a:avLst/>
          </a:prstGeom>
          <a:solidFill>
            <a:srgbClr val="c0c0c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horn Cav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7:00:56Z</dcterms:created>
  <dc:creator>Ljlab</dc:creator>
  <dc:description/>
  <dc:language>en-US</dc:language>
  <cp:lastModifiedBy>Jeremiah McNichols</cp:lastModifiedBy>
  <dcterms:modified xsi:type="dcterms:W3CDTF">2005-02-10T14:56:19Z</dcterms:modified>
  <cp:revision>4</cp:revision>
  <dc:subject/>
  <dc:title>Slide 1</dc:title>
</cp:coreProperties>
</file>