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DA5-5A5C-441E-8685-7FAA0D78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5A9-AF3B-45BC-B014-CA413D40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C03-C38D-4D1E-BB10-E7077505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82C-7772-47AC-AF2D-34D45153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51D-D237-49A4-A395-FCC51EA6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135-3E3D-4412-AD36-BBABC107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FC5-CCE5-4F20-86A2-FA1C14EC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7FD-57B6-483C-A68D-265AA6DC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13B-7A54-40BF-A496-3885584F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E45-F981-4D4F-AC7B-EDBD71FB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5E8-200B-4E46-962D-9F55DFCF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D62-5840-4AB6-B5EF-82C12593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0CB9-E938-476D-B00D-04FE61A177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08Z</dcterms:modified>
  <cp:revision>48</cp:revision>
  <dc:subject/>
  <dc:title>Hazards</dc:title>
</cp:coreProperties>
</file>