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ACEF-65D7-425B-81BE-BBCBDC66D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http://www.mudomaha.com/naturalgas/C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On click, the chamber described in the question is superimposed on the hill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7 m x 5 m x 150 m = 5250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.9) Volumes of 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CDF-1596-41A9-ADD9-DDEB0538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079F-2D8E-467D-B4F7-E7E0359B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230-AA47-47B3-BD34-1A23D32E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67A-430A-418D-8093-4E7548B7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4A1-76E3-4645-ADA2-A33CA84D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BD8-3A74-4E92-9054-A3F57E27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CDD-E941-4290-BA87-25AEAE6D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9F1-B781-44F4-A78C-41C8EE43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D8F-6854-4D47-B7B7-38307934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130-A2B6-4CD9-8E40-E0665F92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931-D0C8-4B59-9CC2-4D5E6210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2C8-28F2-4605-AD85-DC2393B5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C449-58E1-4454-A4E6-27CED6457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20693400">
            <a:off x="1673280" y="3406320"/>
            <a:ext cx="1390680" cy="1684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1444200">
            <a:off x="2400480" y="961560"/>
            <a:ext cx="973080" cy="1177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rot="3646200">
            <a:off x="4044600" y="145800"/>
            <a:ext cx="784080" cy="94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 rot="19624800">
            <a:off x="2317680" y="5562360"/>
            <a:ext cx="163512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 rot="4759200">
            <a:off x="5997960" y="-118080"/>
            <a:ext cx="65880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rot="819000">
            <a:off x="2437920" y="1218960"/>
            <a:ext cx="4038840" cy="76176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9907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676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990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16765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438280" y="1143000"/>
            <a:ext cx="3886200" cy="609480"/>
            <a:chOff x="2438280" y="1143000"/>
            <a:chExt cx="3886200" cy="609480"/>
          </a:xfrm>
        </p:grpSpPr>
        <p:sp>
          <p:nvSpPr>
            <p:cNvPr id="148" name=""/>
            <p:cNvSpPr/>
            <p:nvPr/>
          </p:nvSpPr>
          <p:spPr>
            <a:xfrm>
              <a:off x="2438280" y="114300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_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6560" y="114300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_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0760" y="1295280"/>
              <a:ext cx="38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85800" y="3808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must solve for 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124080"/>
            <a:ext cx="2133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50 x 0.20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31240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809880"/>
            <a:ext cx="594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we divide our answer by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57200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0 ÷ 100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457200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1523880"/>
            <a:ext cx="990720" cy="76212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5715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us, x = 10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2438280"/>
            <a:ext cx="594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we multiply 5250 by 0.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510552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henever there is 10.50 cubic meters of carbon monoxide in the cave, it will be lethal for the people in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2286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fast does carbon monoxide develop from a campf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92096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at carbon monoxide is being produced from a campfire at a rate of 210,000 cubic centimeters / min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30481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any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ubic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met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/ minute of carbon monoxide are being pro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4956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100 centimeters in a 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5486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ub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entimeters are in one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ub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654120"/>
            <a:ext cx="81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solve this graphicall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78040" y="2496960"/>
            <a:ext cx="57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this is one met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7480" y="3889440"/>
            <a:ext cx="1295640" cy="0"/>
          </a:xfrm>
          <a:prstGeom prst="line">
            <a:avLst/>
          </a:prstGeom>
          <a:ln w="82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84160" y="2496960"/>
            <a:ext cx="775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, this is one square mete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90880" y="3746520"/>
            <a:ext cx="1295640" cy="12952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654120"/>
            <a:ext cx="81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solve this graphicall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84160" y="1700280"/>
            <a:ext cx="752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, this is a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ubi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er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81480" y="3198960"/>
            <a:ext cx="1334880" cy="1333440"/>
          </a:xfrm>
          <a:prstGeom prst="rect">
            <a:avLst/>
          </a:prstGeom>
          <a:solidFill>
            <a:srgbClr val="33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1480" y="4965840"/>
            <a:ext cx="821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that we see what a cubic meter looks like, we must figure out how many cubic centimeters are in one of these cu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920" y="654120"/>
            <a:ext cx="81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t’s solve this graphicall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38280" y="5848200"/>
            <a:ext cx="41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,000 square centi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4120" y="4716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centimeters are in one 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84840" y="701640"/>
            <a:ext cx="1295640" cy="0"/>
          </a:xfrm>
          <a:prstGeom prst="line">
            <a:avLst/>
          </a:prstGeom>
          <a:ln w="475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4120" y="93204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re are 100 centimeters in one 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32160" y="2556000"/>
            <a:ext cx="1295280" cy="12952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6200" y="166536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how many square centimeters are in this squ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33800" y="2622600"/>
            <a:ext cx="430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ember, we said this square was one square 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52800" y="4119480"/>
            <a:ext cx="29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 meter = 100 centi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5960" y="469584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a = Base x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4120" y="5237280"/>
            <a:ext cx="61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a = 100 centimeters x 100 centi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56480" y="4583160"/>
            <a:ext cx="219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, one square meter = 10,000 square centi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3571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, we do the same to find out how many cubic centimeters are in one cubic 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4120" y="4354560"/>
            <a:ext cx="51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= Base  x  Width  x 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49680" y="2133720"/>
            <a:ext cx="1295280" cy="1295280"/>
          </a:xfrm>
          <a:prstGeom prst="rect">
            <a:avLst/>
          </a:prstGeom>
          <a:solidFill>
            <a:srgbClr val="33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4120" y="5003640"/>
            <a:ext cx="59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olume = 100 cm  x  100 cm  x  10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3880" y="5621400"/>
            <a:ext cx="50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,000,000 square centi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15200" y="4351320"/>
            <a:ext cx="238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, one cubic  m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1,000,000 cubic centi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05160" y="3782880"/>
            <a:ext cx="18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00 centi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611520" y="3504960"/>
            <a:ext cx="1268280" cy="308160"/>
            <a:chOff x="3611520" y="3504960"/>
            <a:chExt cx="1268280" cy="308160"/>
          </a:xfrm>
        </p:grpSpPr>
        <p:sp>
          <p:nvSpPr>
            <p:cNvPr id="195" name=""/>
            <p:cNvSpPr/>
            <p:nvPr/>
          </p:nvSpPr>
          <p:spPr>
            <a:xfrm>
              <a:off x="3611520" y="3505320"/>
              <a:ext cx="652680" cy="30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226040" y="3504960"/>
              <a:ext cx="653760" cy="30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27040" y="2160720"/>
            <a:ext cx="308160" cy="1268280"/>
            <a:chOff x="3227040" y="2160720"/>
            <a:chExt cx="308160" cy="1268280"/>
          </a:xfrm>
        </p:grpSpPr>
        <p:sp>
          <p:nvSpPr>
            <p:cNvPr id="198" name=""/>
            <p:cNvSpPr/>
            <p:nvPr/>
          </p:nvSpPr>
          <p:spPr>
            <a:xfrm flipH="1">
              <a:off x="3227040" y="2160720"/>
              <a:ext cx="307800" cy="652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27400" y="2775240"/>
              <a:ext cx="307800" cy="653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306440" y="2584440"/>
            <a:ext cx="18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00 centi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70640" y="3092400"/>
            <a:ext cx="18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00 centi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994280" y="2814480"/>
            <a:ext cx="614520" cy="614160"/>
            <a:chOff x="4994280" y="2814480"/>
            <a:chExt cx="614520" cy="614160"/>
          </a:xfrm>
        </p:grpSpPr>
        <p:sp>
          <p:nvSpPr>
            <p:cNvPr id="203" name=""/>
            <p:cNvSpPr/>
            <p:nvPr/>
          </p:nvSpPr>
          <p:spPr>
            <a:xfrm flipV="1">
              <a:off x="4994280" y="3198600"/>
              <a:ext cx="614520" cy="230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08800" y="2814480"/>
              <a:ext cx="0" cy="384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ck to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69880"/>
            <a:ext cx="822960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e wanted to know how many cubic </a:t>
            </a:r>
            <a:r>
              <a:rPr b="1" i="1" lang="en-US" sz="2600" spc="-1" strike="noStrike">
                <a:solidFill>
                  <a:srgbClr val="333399"/>
                </a:solidFill>
                <a:latin typeface="Times New Roman"/>
              </a:rPr>
              <a:t>meter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er minute is equivalent to 210,000 cubic </a:t>
            </a:r>
            <a:r>
              <a:rPr b="1" i="1" lang="en-US" sz="2600" spc="-1" strike="noStrike">
                <a:solidFill>
                  <a:srgbClr val="333399"/>
                </a:solidFill>
                <a:latin typeface="Times New Roman"/>
              </a:rPr>
              <a:t>centimeter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per minu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1880" y="305928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just found out that 1,000,000 cubic centimeters make up 1 cubic me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0680" y="408132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times does 1,000,000 divide into 210,0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19640" y="4735440"/>
            <a:ext cx="2112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0.21 ti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1880" y="5425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arbon monoxide is produced from a campfire at a rate of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.21 cubic meters / min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69880"/>
            <a:ext cx="8534160" cy="1152720"/>
          </a:xfrm>
          <a:prstGeom prst="rect">
            <a:avLst/>
          </a:prstGeom>
          <a:solidFill>
            <a:srgbClr val="333399"/>
          </a:solidFill>
          <a:ln w="63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333399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ck to our original problem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28480" y="15616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ow long could Jace and Tick have stayed in the ca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before dying from the carbon monoxid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98680" y="2890800"/>
            <a:ext cx="62229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ow have all the information you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olve the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7800" y="4081320"/>
            <a:ext cx="80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10.50 cubic meters by 0.21 cubic 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11560" y="4695840"/>
            <a:ext cx="998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= 5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47760" y="5191200"/>
            <a:ext cx="8267760" cy="1541520"/>
            <a:chOff x="347760" y="5191200"/>
            <a:chExt cx="8267760" cy="1541520"/>
          </a:xfrm>
        </p:grpSpPr>
        <p:sp>
          <p:nvSpPr>
            <p:cNvPr id="218" name=""/>
            <p:cNvSpPr/>
            <p:nvPr/>
          </p:nvSpPr>
          <p:spPr>
            <a:xfrm>
              <a:off x="347760" y="5502240"/>
              <a:ext cx="710568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would take 50 minutes for Jace and Tick to be in serious trouble from the carbon monoxide!!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7299360" y="5191200"/>
              <a:ext cx="1316160" cy="1541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80880" y="1981080"/>
            <a:ext cx="8570880" cy="4487040"/>
            <a:chOff x="380880" y="1981080"/>
            <a:chExt cx="8570880" cy="4487040"/>
          </a:xfrm>
        </p:grpSpPr>
        <p:pic>
          <p:nvPicPr>
            <p:cNvPr id="224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23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2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22960" y="2166840"/>
              <a:ext cx="2728800" cy="43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3160" y="1668600"/>
            <a:ext cx="7763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volume calculations to solve per problems related to carbon monoxide poiso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rates to different un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17071200">
            <a:off x="-317160" y="-47160"/>
            <a:ext cx="836640" cy="2633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3715800">
            <a:off x="8486640" y="186840"/>
            <a:ext cx="765360" cy="1927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3273200">
            <a:off x="691920" y="2091960"/>
            <a:ext cx="1560240" cy="851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9173000">
            <a:off x="1096560" y="182520"/>
            <a:ext cx="590760" cy="851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1544000">
            <a:off x="2509200" y="2441160"/>
            <a:ext cx="749160" cy="682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6987000">
            <a:off x="8426880" y="1372320"/>
            <a:ext cx="369720" cy="1670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9370800">
            <a:off x="6492600" y="2356920"/>
            <a:ext cx="1006560" cy="432000"/>
          </a:xfrm>
          <a:prstGeom prst="triangle">
            <a:avLst>
              <a:gd name="adj" fmla="val 6037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469800">
            <a:off x="3794040" y="-68040"/>
            <a:ext cx="493920" cy="682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709600">
            <a:off x="1998360" y="325440"/>
            <a:ext cx="1538280" cy="334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51440" y="2523600"/>
            <a:ext cx="514080" cy="419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90800">
            <a:off x="6953400" y="74520"/>
            <a:ext cx="809640" cy="93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342200">
            <a:off x="5591880" y="2441160"/>
            <a:ext cx="397080" cy="585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477600">
            <a:off x="5335560" y="14400"/>
            <a:ext cx="750960" cy="68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50200">
            <a:off x="7391520" y="441000"/>
            <a:ext cx="1135080" cy="836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701200">
            <a:off x="8425080" y="1045440"/>
            <a:ext cx="501480" cy="1284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894400">
            <a:off x="7133760" y="2106360"/>
            <a:ext cx="1135080" cy="836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636000">
            <a:off x="5940000" y="179280"/>
            <a:ext cx="1135080" cy="584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329400">
            <a:off x="4201920" y="-151920"/>
            <a:ext cx="1390320" cy="836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1361800">
            <a:off x="3032280" y="14400"/>
            <a:ext cx="890280" cy="669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331000">
            <a:off x="1655640" y="343080"/>
            <a:ext cx="725760" cy="50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8248400">
            <a:off x="620640" y="152280"/>
            <a:ext cx="738360" cy="1541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321800">
            <a:off x="5822280" y="2441160"/>
            <a:ext cx="927000" cy="585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0668600">
            <a:off x="3922560" y="2440800"/>
            <a:ext cx="2184480" cy="585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0800000">
            <a:off x="3152880" y="2441160"/>
            <a:ext cx="877680" cy="6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2565200">
            <a:off x="1702800" y="2288880"/>
            <a:ext cx="1028520" cy="585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4848200">
            <a:off x="212400" y="1030320"/>
            <a:ext cx="739440" cy="2054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57200"/>
            <a:ext cx="7086600" cy="2209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w safe are cav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et’s investigate a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20040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ember the fire that Jac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ck burned inside the cav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a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523880"/>
            <a:ext cx="8534160" cy="2667240"/>
          </a:xfrm>
          <a:prstGeom prst="rect">
            <a:avLst/>
          </a:prstGeom>
          <a:solidFill>
            <a:srgbClr val="333399"/>
          </a:solidFill>
          <a:ln w="63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6462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long could Jace and Tick have stayed in the cave before the carbon monoxide reached deadly leve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20360" y="2314440"/>
            <a:ext cx="76914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of the c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fast carbon monoxide is produced from a camp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carbon monoxide must be in the air to be dea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4936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nformation do we need to know to solve this prob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380880" y="228600"/>
            <a:ext cx="9886680" cy="6781680"/>
          </a:xfrm>
          <a:custGeom>
            <a:avLst/>
            <a:gdLst/>
            <a:ahLst/>
            <a:rect l="l" t="t" r="r" b="b"/>
            <a:pathLst>
              <a:path w="6228" h="4608">
                <a:moveTo>
                  <a:pt x="96" y="1860"/>
                </a:moveTo>
                <a:cubicBezTo>
                  <a:pt x="0" y="1764"/>
                  <a:pt x="284" y="1781"/>
                  <a:pt x="300" y="1776"/>
                </a:cubicBezTo>
                <a:cubicBezTo>
                  <a:pt x="312" y="1773"/>
                  <a:pt x="356" y="1690"/>
                  <a:pt x="420" y="1668"/>
                </a:cubicBezTo>
                <a:lnTo>
                  <a:pt x="684" y="1644"/>
                </a:lnTo>
                <a:lnTo>
                  <a:pt x="984" y="1932"/>
                </a:lnTo>
                <a:lnTo>
                  <a:pt x="1056" y="1848"/>
                </a:lnTo>
                <a:lnTo>
                  <a:pt x="1080" y="1476"/>
                </a:lnTo>
                <a:lnTo>
                  <a:pt x="1056" y="1284"/>
                </a:lnTo>
                <a:lnTo>
                  <a:pt x="972" y="1188"/>
                </a:lnTo>
                <a:lnTo>
                  <a:pt x="852" y="1164"/>
                </a:lnTo>
                <a:lnTo>
                  <a:pt x="1512" y="648"/>
                </a:lnTo>
                <a:lnTo>
                  <a:pt x="2460" y="204"/>
                </a:lnTo>
                <a:lnTo>
                  <a:pt x="3312" y="0"/>
                </a:lnTo>
                <a:lnTo>
                  <a:pt x="6192" y="84"/>
                </a:lnTo>
                <a:lnTo>
                  <a:pt x="6228" y="4596"/>
                </a:lnTo>
                <a:lnTo>
                  <a:pt x="12" y="4608"/>
                </a:lnTo>
                <a:lnTo>
                  <a:pt x="156" y="1956"/>
                </a:lnTo>
                <a:lnTo>
                  <a:pt x="96" y="1860"/>
                </a:lnTo>
                <a:close/>
              </a:path>
            </a:pathLst>
          </a:custGeom>
          <a:solidFill>
            <a:srgbClr val="808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28600"/>
            <a:ext cx="79246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200" y="2076480"/>
            <a:ext cx="704880" cy="1270080"/>
          </a:xfrm>
          <a:custGeom>
            <a:avLst/>
            <a:gdLst/>
            <a:ahLst/>
            <a:rect l="l" t="t" r="r" b="b"/>
            <a:pathLst>
              <a:path w="444" h="812">
                <a:moveTo>
                  <a:pt x="44" y="528"/>
                </a:moveTo>
                <a:cubicBezTo>
                  <a:pt x="0" y="408"/>
                  <a:pt x="62" y="206"/>
                  <a:pt x="104" y="120"/>
                </a:cubicBezTo>
                <a:cubicBezTo>
                  <a:pt x="146" y="34"/>
                  <a:pt x="242" y="0"/>
                  <a:pt x="296" y="12"/>
                </a:cubicBezTo>
                <a:cubicBezTo>
                  <a:pt x="350" y="24"/>
                  <a:pt x="414" y="68"/>
                  <a:pt x="428" y="192"/>
                </a:cubicBezTo>
                <a:cubicBezTo>
                  <a:pt x="442" y="316"/>
                  <a:pt x="444" y="700"/>
                  <a:pt x="380" y="756"/>
                </a:cubicBezTo>
                <a:cubicBezTo>
                  <a:pt x="316" y="812"/>
                  <a:pt x="114" y="576"/>
                  <a:pt x="44" y="5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11200">
            <a:off x="689040" y="2041560"/>
            <a:ext cx="307800" cy="820800"/>
          </a:xfrm>
          <a:custGeom>
            <a:avLst/>
            <a:gdLst/>
            <a:ahLst/>
            <a:rect l="l" t="t" r="r" b="b"/>
            <a:pathLst>
              <a:path w="252" h="528">
                <a:moveTo>
                  <a:pt x="56" y="528"/>
                </a:moveTo>
                <a:cubicBezTo>
                  <a:pt x="63" y="328"/>
                  <a:pt x="0" y="197"/>
                  <a:pt x="152" y="96"/>
                </a:cubicBezTo>
                <a:cubicBezTo>
                  <a:pt x="174" y="81"/>
                  <a:pt x="202" y="75"/>
                  <a:pt x="224" y="60"/>
                </a:cubicBezTo>
                <a:cubicBezTo>
                  <a:pt x="252" y="17"/>
                  <a:pt x="248" y="38"/>
                  <a:pt x="248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3040" y="2076480"/>
            <a:ext cx="628560" cy="1212840"/>
          </a:xfrm>
          <a:custGeom>
            <a:avLst/>
            <a:gdLst/>
            <a:ahLst/>
            <a:rect l="l" t="t" r="r" b="b"/>
            <a:pathLst>
              <a:path w="396" h="764">
                <a:moveTo>
                  <a:pt x="4" y="484"/>
                </a:moveTo>
                <a:lnTo>
                  <a:pt x="0" y="256"/>
                </a:lnTo>
                <a:lnTo>
                  <a:pt x="36" y="132"/>
                </a:lnTo>
                <a:lnTo>
                  <a:pt x="76" y="84"/>
                </a:lnTo>
                <a:lnTo>
                  <a:pt x="140" y="44"/>
                </a:lnTo>
                <a:lnTo>
                  <a:pt x="164" y="0"/>
                </a:lnTo>
                <a:lnTo>
                  <a:pt x="280" y="40"/>
                </a:lnTo>
                <a:lnTo>
                  <a:pt x="364" y="128"/>
                </a:lnTo>
                <a:lnTo>
                  <a:pt x="396" y="332"/>
                </a:lnTo>
                <a:lnTo>
                  <a:pt x="368" y="708"/>
                </a:lnTo>
                <a:lnTo>
                  <a:pt x="304" y="764"/>
                </a:lnTo>
                <a:lnTo>
                  <a:pt x="188" y="676"/>
                </a:lnTo>
                <a:lnTo>
                  <a:pt x="4" y="484"/>
                </a:lnTo>
                <a:close/>
              </a:path>
            </a:pathLst>
          </a:custGeom>
          <a:gradFill rotWithShape="0">
            <a:gsLst>
              <a:gs pos="0">
                <a:srgbClr val="080808"/>
              </a:gs>
              <a:gs pos="100000">
                <a:srgbClr val="808080"/>
              </a:gs>
            </a:gsLst>
            <a:lin ang="81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rot="850200">
            <a:off x="645480" y="3151080"/>
            <a:ext cx="8800920" cy="1191240"/>
          </a:xfrm>
          <a:prstGeom prst="cube">
            <a:avLst>
              <a:gd name="adj" fmla="val 25000"/>
            </a:avLst>
          </a:prstGeom>
          <a:solidFill>
            <a:srgbClr val="c0c0c0">
              <a:alpha val="56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0440" y="646272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2057400"/>
            <a:ext cx="8382240" cy="3200400"/>
          </a:xfrm>
          <a:custGeom>
            <a:avLst/>
            <a:gdLst/>
            <a:ahLst/>
            <a:rect l="l" t="t" r="r" b="b"/>
            <a:pathLst>
              <a:path w="5280" h="2016">
                <a:moveTo>
                  <a:pt x="96" y="768"/>
                </a:moveTo>
                <a:lnTo>
                  <a:pt x="528" y="1008"/>
                </a:lnTo>
                <a:lnTo>
                  <a:pt x="1440" y="1344"/>
                </a:lnTo>
                <a:lnTo>
                  <a:pt x="2208" y="1536"/>
                </a:lnTo>
                <a:lnTo>
                  <a:pt x="3312" y="1872"/>
                </a:lnTo>
                <a:lnTo>
                  <a:pt x="3456" y="1824"/>
                </a:lnTo>
                <a:lnTo>
                  <a:pt x="3792" y="1920"/>
                </a:lnTo>
                <a:lnTo>
                  <a:pt x="4416" y="2016"/>
                </a:lnTo>
                <a:lnTo>
                  <a:pt x="4896" y="2016"/>
                </a:lnTo>
                <a:lnTo>
                  <a:pt x="5184" y="2016"/>
                </a:lnTo>
                <a:lnTo>
                  <a:pt x="5280" y="1488"/>
                </a:lnTo>
                <a:lnTo>
                  <a:pt x="5232" y="1200"/>
                </a:lnTo>
                <a:lnTo>
                  <a:pt x="5136" y="1104"/>
                </a:lnTo>
                <a:lnTo>
                  <a:pt x="4800" y="1008"/>
                </a:lnTo>
                <a:lnTo>
                  <a:pt x="3984" y="864"/>
                </a:lnTo>
                <a:lnTo>
                  <a:pt x="3360" y="816"/>
                </a:lnTo>
                <a:lnTo>
                  <a:pt x="2832" y="624"/>
                </a:lnTo>
                <a:lnTo>
                  <a:pt x="1824" y="432"/>
                </a:lnTo>
                <a:lnTo>
                  <a:pt x="1056" y="288"/>
                </a:lnTo>
                <a:lnTo>
                  <a:pt x="912" y="240"/>
                </a:lnTo>
                <a:lnTo>
                  <a:pt x="720" y="144"/>
                </a:lnTo>
                <a:lnTo>
                  <a:pt x="480" y="144"/>
                </a:ln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362320"/>
            <a:ext cx="304920" cy="1218960"/>
          </a:xfrm>
          <a:custGeom>
            <a:avLst/>
            <a:gdLst/>
            <a:ahLst/>
            <a:rect l="l" t="t" r="r" b="b"/>
            <a:pathLst>
              <a:path w="192" h="768">
                <a:moveTo>
                  <a:pt x="48" y="0"/>
                </a:moveTo>
                <a:lnTo>
                  <a:pt x="192" y="192"/>
                </a:lnTo>
                <a:lnTo>
                  <a:pt x="192" y="432"/>
                </a:lnTo>
                <a:lnTo>
                  <a:pt x="0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2819520"/>
            <a:ext cx="609480" cy="75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2590920"/>
            <a:ext cx="228600" cy="761760"/>
          </a:xfrm>
          <a:custGeom>
            <a:avLst/>
            <a:gdLst/>
            <a:ahLst/>
            <a:rect l="l" t="t" r="r" b="b"/>
            <a:pathLst>
              <a:path w="144" h="480">
                <a:moveTo>
                  <a:pt x="0" y="0"/>
                </a:moveTo>
                <a:lnTo>
                  <a:pt x="144" y="192"/>
                </a:lnTo>
                <a:lnTo>
                  <a:pt x="96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200400"/>
            <a:ext cx="152280" cy="914400"/>
          </a:xfrm>
          <a:custGeom>
            <a:avLst/>
            <a:gdLst/>
            <a:ahLst/>
            <a:rect l="l" t="t" r="r" b="b"/>
            <a:pathLst>
              <a:path w="96" h="576">
                <a:moveTo>
                  <a:pt x="0" y="576"/>
                </a:moveTo>
                <a:lnTo>
                  <a:pt x="96" y="288"/>
                </a:lnTo>
                <a:lnTo>
                  <a:pt x="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895480"/>
            <a:ext cx="380880" cy="1219320"/>
          </a:xfrm>
          <a:custGeom>
            <a:avLst/>
            <a:gdLst/>
            <a:ahLst/>
            <a:rect l="l" t="t" r="r" b="b"/>
            <a:pathLst>
              <a:path w="240" h="768">
                <a:moveTo>
                  <a:pt x="0" y="0"/>
                </a:moveTo>
                <a:lnTo>
                  <a:pt x="192" y="192"/>
                </a:lnTo>
                <a:lnTo>
                  <a:pt x="240" y="432"/>
                </a:lnTo>
                <a:lnTo>
                  <a:pt x="144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629400" y="4648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610480" y="36576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0" y="0"/>
                </a:moveTo>
                <a:lnTo>
                  <a:pt x="192" y="192"/>
                </a:lnTo>
                <a:lnTo>
                  <a:pt x="240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rst, let’s find out how much spac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inside the ca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760" y="4138560"/>
            <a:ext cx="5715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ume Longhorn cavern looks approximately like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want to find the volume of this cave.  What shape could we use to approximat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10552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w about a rectangular pr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380880" y="228600"/>
            <a:ext cx="9886680" cy="6781680"/>
          </a:xfrm>
          <a:custGeom>
            <a:avLst/>
            <a:gdLst/>
            <a:ahLst/>
            <a:rect l="l" t="t" r="r" b="b"/>
            <a:pathLst>
              <a:path w="6228" h="4608">
                <a:moveTo>
                  <a:pt x="96" y="1860"/>
                </a:moveTo>
                <a:cubicBezTo>
                  <a:pt x="0" y="1764"/>
                  <a:pt x="284" y="1781"/>
                  <a:pt x="300" y="1776"/>
                </a:cubicBezTo>
                <a:cubicBezTo>
                  <a:pt x="312" y="1773"/>
                  <a:pt x="356" y="1690"/>
                  <a:pt x="420" y="1668"/>
                </a:cubicBezTo>
                <a:lnTo>
                  <a:pt x="684" y="1644"/>
                </a:lnTo>
                <a:lnTo>
                  <a:pt x="984" y="1932"/>
                </a:lnTo>
                <a:lnTo>
                  <a:pt x="1056" y="1848"/>
                </a:lnTo>
                <a:lnTo>
                  <a:pt x="1080" y="1476"/>
                </a:lnTo>
                <a:lnTo>
                  <a:pt x="1056" y="1284"/>
                </a:lnTo>
                <a:lnTo>
                  <a:pt x="972" y="1188"/>
                </a:lnTo>
                <a:lnTo>
                  <a:pt x="852" y="1164"/>
                </a:lnTo>
                <a:lnTo>
                  <a:pt x="1512" y="648"/>
                </a:lnTo>
                <a:lnTo>
                  <a:pt x="2460" y="204"/>
                </a:lnTo>
                <a:lnTo>
                  <a:pt x="3312" y="0"/>
                </a:lnTo>
                <a:lnTo>
                  <a:pt x="6192" y="84"/>
                </a:lnTo>
                <a:lnTo>
                  <a:pt x="6228" y="4596"/>
                </a:lnTo>
                <a:lnTo>
                  <a:pt x="12" y="4608"/>
                </a:lnTo>
                <a:lnTo>
                  <a:pt x="156" y="1956"/>
                </a:lnTo>
                <a:lnTo>
                  <a:pt x="96" y="1860"/>
                </a:lnTo>
                <a:close/>
              </a:path>
            </a:pathLst>
          </a:custGeom>
          <a:solidFill>
            <a:srgbClr val="808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28600"/>
            <a:ext cx="6324480" cy="21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533520"/>
            <a:ext cx="6143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measure the passageway of the cave to be 150 meters long, 5 meters wide and 7 meters tall.  What is the approximate volume of the passage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3200" y="2076480"/>
            <a:ext cx="704880" cy="1270080"/>
          </a:xfrm>
          <a:custGeom>
            <a:avLst/>
            <a:gdLst/>
            <a:ahLst/>
            <a:rect l="l" t="t" r="r" b="b"/>
            <a:pathLst>
              <a:path w="444" h="812">
                <a:moveTo>
                  <a:pt x="44" y="528"/>
                </a:moveTo>
                <a:cubicBezTo>
                  <a:pt x="0" y="408"/>
                  <a:pt x="62" y="206"/>
                  <a:pt x="104" y="120"/>
                </a:cubicBezTo>
                <a:cubicBezTo>
                  <a:pt x="146" y="34"/>
                  <a:pt x="242" y="0"/>
                  <a:pt x="296" y="12"/>
                </a:cubicBezTo>
                <a:cubicBezTo>
                  <a:pt x="350" y="24"/>
                  <a:pt x="414" y="68"/>
                  <a:pt x="428" y="192"/>
                </a:cubicBezTo>
                <a:cubicBezTo>
                  <a:pt x="442" y="316"/>
                  <a:pt x="444" y="700"/>
                  <a:pt x="380" y="756"/>
                </a:cubicBezTo>
                <a:cubicBezTo>
                  <a:pt x="316" y="812"/>
                  <a:pt x="114" y="576"/>
                  <a:pt x="44" y="5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11200">
            <a:off x="689040" y="2041560"/>
            <a:ext cx="307800" cy="820800"/>
          </a:xfrm>
          <a:custGeom>
            <a:avLst/>
            <a:gdLst/>
            <a:ahLst/>
            <a:rect l="l" t="t" r="r" b="b"/>
            <a:pathLst>
              <a:path w="252" h="528">
                <a:moveTo>
                  <a:pt x="56" y="528"/>
                </a:moveTo>
                <a:cubicBezTo>
                  <a:pt x="63" y="328"/>
                  <a:pt x="0" y="197"/>
                  <a:pt x="152" y="96"/>
                </a:cubicBezTo>
                <a:cubicBezTo>
                  <a:pt x="174" y="81"/>
                  <a:pt x="202" y="75"/>
                  <a:pt x="224" y="60"/>
                </a:cubicBezTo>
                <a:cubicBezTo>
                  <a:pt x="252" y="17"/>
                  <a:pt x="248" y="38"/>
                  <a:pt x="248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3040" y="2076480"/>
            <a:ext cx="628560" cy="1212840"/>
          </a:xfrm>
          <a:custGeom>
            <a:avLst/>
            <a:gdLst/>
            <a:ahLst/>
            <a:rect l="l" t="t" r="r" b="b"/>
            <a:pathLst>
              <a:path w="396" h="764">
                <a:moveTo>
                  <a:pt x="4" y="484"/>
                </a:moveTo>
                <a:lnTo>
                  <a:pt x="0" y="256"/>
                </a:lnTo>
                <a:lnTo>
                  <a:pt x="36" y="132"/>
                </a:lnTo>
                <a:lnTo>
                  <a:pt x="76" y="84"/>
                </a:lnTo>
                <a:lnTo>
                  <a:pt x="140" y="44"/>
                </a:lnTo>
                <a:lnTo>
                  <a:pt x="164" y="0"/>
                </a:lnTo>
                <a:lnTo>
                  <a:pt x="280" y="40"/>
                </a:lnTo>
                <a:lnTo>
                  <a:pt x="364" y="128"/>
                </a:lnTo>
                <a:lnTo>
                  <a:pt x="396" y="332"/>
                </a:lnTo>
                <a:lnTo>
                  <a:pt x="368" y="708"/>
                </a:lnTo>
                <a:lnTo>
                  <a:pt x="304" y="764"/>
                </a:lnTo>
                <a:lnTo>
                  <a:pt x="188" y="676"/>
                </a:lnTo>
                <a:lnTo>
                  <a:pt x="4" y="484"/>
                </a:lnTo>
                <a:close/>
              </a:path>
            </a:pathLst>
          </a:custGeom>
          <a:gradFill rotWithShape="0">
            <a:gsLst>
              <a:gs pos="0">
                <a:srgbClr val="080808"/>
              </a:gs>
              <a:gs pos="100000">
                <a:srgbClr val="808080"/>
              </a:gs>
            </a:gsLst>
            <a:lin ang="81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rot="850200">
            <a:off x="645480" y="3151080"/>
            <a:ext cx="8800920" cy="1191240"/>
          </a:xfrm>
          <a:prstGeom prst="cube">
            <a:avLst>
              <a:gd name="adj" fmla="val 25000"/>
            </a:avLst>
          </a:prstGeom>
          <a:solidFill>
            <a:srgbClr val="c0c0c0">
              <a:alpha val="56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3680" y="62326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2057400"/>
            <a:ext cx="8382240" cy="3200400"/>
          </a:xfrm>
          <a:custGeom>
            <a:avLst/>
            <a:gdLst/>
            <a:ahLst/>
            <a:rect l="l" t="t" r="r" b="b"/>
            <a:pathLst>
              <a:path w="5280" h="2016">
                <a:moveTo>
                  <a:pt x="96" y="768"/>
                </a:moveTo>
                <a:lnTo>
                  <a:pt x="528" y="1008"/>
                </a:lnTo>
                <a:lnTo>
                  <a:pt x="1440" y="1344"/>
                </a:lnTo>
                <a:lnTo>
                  <a:pt x="2208" y="1536"/>
                </a:lnTo>
                <a:lnTo>
                  <a:pt x="3312" y="1872"/>
                </a:lnTo>
                <a:lnTo>
                  <a:pt x="3456" y="1824"/>
                </a:lnTo>
                <a:lnTo>
                  <a:pt x="3792" y="1920"/>
                </a:lnTo>
                <a:lnTo>
                  <a:pt x="4416" y="2016"/>
                </a:lnTo>
                <a:lnTo>
                  <a:pt x="4896" y="2016"/>
                </a:lnTo>
                <a:lnTo>
                  <a:pt x="5184" y="2016"/>
                </a:lnTo>
                <a:lnTo>
                  <a:pt x="5280" y="1488"/>
                </a:lnTo>
                <a:lnTo>
                  <a:pt x="5232" y="1200"/>
                </a:lnTo>
                <a:lnTo>
                  <a:pt x="5136" y="1104"/>
                </a:lnTo>
                <a:lnTo>
                  <a:pt x="4800" y="1008"/>
                </a:lnTo>
                <a:lnTo>
                  <a:pt x="3984" y="864"/>
                </a:lnTo>
                <a:lnTo>
                  <a:pt x="3360" y="816"/>
                </a:lnTo>
                <a:lnTo>
                  <a:pt x="2832" y="624"/>
                </a:lnTo>
                <a:lnTo>
                  <a:pt x="1824" y="432"/>
                </a:lnTo>
                <a:lnTo>
                  <a:pt x="1056" y="288"/>
                </a:lnTo>
                <a:lnTo>
                  <a:pt x="912" y="240"/>
                </a:lnTo>
                <a:lnTo>
                  <a:pt x="720" y="144"/>
                </a:lnTo>
                <a:lnTo>
                  <a:pt x="480" y="144"/>
                </a:ln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362320"/>
            <a:ext cx="304920" cy="1218960"/>
          </a:xfrm>
          <a:custGeom>
            <a:avLst/>
            <a:gdLst/>
            <a:ahLst/>
            <a:rect l="l" t="t" r="r" b="b"/>
            <a:pathLst>
              <a:path w="192" h="768">
                <a:moveTo>
                  <a:pt x="48" y="0"/>
                </a:moveTo>
                <a:lnTo>
                  <a:pt x="192" y="192"/>
                </a:lnTo>
                <a:lnTo>
                  <a:pt x="192" y="432"/>
                </a:lnTo>
                <a:lnTo>
                  <a:pt x="0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819520"/>
            <a:ext cx="609480" cy="75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590920"/>
            <a:ext cx="228600" cy="761760"/>
          </a:xfrm>
          <a:custGeom>
            <a:avLst/>
            <a:gdLst/>
            <a:ahLst/>
            <a:rect l="l" t="t" r="r" b="b"/>
            <a:pathLst>
              <a:path w="144" h="480">
                <a:moveTo>
                  <a:pt x="0" y="0"/>
                </a:moveTo>
                <a:lnTo>
                  <a:pt x="144" y="192"/>
                </a:lnTo>
                <a:lnTo>
                  <a:pt x="96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3200400"/>
            <a:ext cx="152280" cy="914400"/>
          </a:xfrm>
          <a:custGeom>
            <a:avLst/>
            <a:gdLst/>
            <a:ahLst/>
            <a:rect l="l" t="t" r="r" b="b"/>
            <a:pathLst>
              <a:path w="96" h="576">
                <a:moveTo>
                  <a:pt x="0" y="576"/>
                </a:moveTo>
                <a:lnTo>
                  <a:pt x="96" y="288"/>
                </a:lnTo>
                <a:lnTo>
                  <a:pt x="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2895480"/>
            <a:ext cx="380880" cy="1219320"/>
          </a:xfrm>
          <a:custGeom>
            <a:avLst/>
            <a:gdLst/>
            <a:ahLst/>
            <a:rect l="l" t="t" r="r" b="b"/>
            <a:pathLst>
              <a:path w="240" h="768">
                <a:moveTo>
                  <a:pt x="0" y="0"/>
                </a:moveTo>
                <a:lnTo>
                  <a:pt x="192" y="192"/>
                </a:lnTo>
                <a:lnTo>
                  <a:pt x="240" y="432"/>
                </a:lnTo>
                <a:lnTo>
                  <a:pt x="144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29400" y="42667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610480" y="365760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0" y="0"/>
                </a:moveTo>
                <a:lnTo>
                  <a:pt x="192" y="192"/>
                </a:lnTo>
                <a:lnTo>
                  <a:pt x="240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1800" y="5043600"/>
            <a:ext cx="35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 m x 5 m x 150 m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3600" y="435780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59840" y="4997520"/>
            <a:ext cx="188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250 m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90720" y="2361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ir contains only 0.20% carbon monoxide, it can be dead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2860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uch carbon monoxide would have to be in Longhorn Tavern to be dead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505320"/>
            <a:ext cx="76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is fact, find out how man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ubic 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ir in Longhorn Tavern have to contain carbon monoxide to prove dead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5334120"/>
            <a:ext cx="7696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HINT:  you need to know the volume of the cave that we just estim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lving the proble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olume of the cave is 525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2514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find out how much air is contained in 0.20% of Longhorn Caver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3886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 this, we set up a propor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45720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525780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4572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525780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743200" y="4724280"/>
            <a:ext cx="3886200" cy="609480"/>
            <a:chOff x="2743200" y="4724280"/>
            <a:chExt cx="3886200" cy="609480"/>
          </a:xfrm>
        </p:grpSpPr>
        <p:sp>
          <p:nvSpPr>
            <p:cNvPr id="139" name=""/>
            <p:cNvSpPr/>
            <p:nvPr/>
          </p:nvSpPr>
          <p:spPr>
            <a:xfrm>
              <a:off x="2743200" y="472428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_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1480" y="472428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_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95680" y="4876560"/>
              <a:ext cx="38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8:21:42Z</dcterms:created>
  <dc:creator>Texas A&amp;M Veterinary Medicine</dc:creator>
  <dc:description/>
  <dc:language>en-US</dc:language>
  <cp:lastModifiedBy>Jeremiah McNichols</cp:lastModifiedBy>
  <dcterms:modified xsi:type="dcterms:W3CDTF">2008-09-24T18:26:25Z</dcterms:modified>
  <cp:revision>1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6000000000001023620</vt:lpwstr>
  </property>
</Properties>
</file>