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6928-B3E3-4C2B-862C-2D32282D0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story page 1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story page 1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3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7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7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8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8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12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14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15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7B7E-FB84-4C09-9E14-A995FE9B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A613-5393-4CAE-B0A8-ACB7AE09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7665-B1C6-4A0D-92EE-9F44A618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28D1-6D63-4C73-B090-8589A4D6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F78A-CBEF-4F45-9F14-0395B967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1101-2886-479F-9174-9DA32969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8B58-0C14-4853-992D-47ED693F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99B7-B095-4C3C-8F95-EE52D259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40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49F4-9B92-4618-A50B-EC6D7621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D04C-AB8B-49DC-B59F-7AF9B136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9B38-6CE8-45C9-95B3-1D87748B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0ED8-5D22-46FF-A25C-29298F2D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C1E3-9955-4652-BA79-FA818B8F4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grabbed the torch and dropped it on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molder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mber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molder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fer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ly bu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ght g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expec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0016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098720" y="3335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101600" y="3941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096920" y="4533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ick’s laughter faded away to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hort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hort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a choking no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uck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101600" y="476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100160" y="2971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103400" y="357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098720" y="41673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091040" y="443232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hick, damp blanket of clouds threatened to unleash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orrenti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ains at any moment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Torrenti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ains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undant and rapidly flow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ten accompanied by sn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to drizz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s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12760" y="521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98720" y="3429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01600" y="4013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109520" y="461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nly light came from a small torch that Tick held in front of him and the gree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uminesc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low from Jace’s computer keypad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uminesce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s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a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 to s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light e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creen sa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00160" y="5529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98720" y="3740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01600" y="431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9692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876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animals barreled past Tick and Jace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blivi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everything around them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blivi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 to b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ghte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98720" y="5129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09692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100160" y="39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095480" y="45356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rmadill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curri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to a tight fissure in the rock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curri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uggests that the armadil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u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rr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098720" y="5121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096920" y="33415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100160" y="3941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095480" y="45338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rmadillo scurried into a tigh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ss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the rock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ssu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v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rrow ope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am of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 sp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98720" y="5127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096920" y="33415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100160" y="39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095480" y="4540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followed Tick as 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ekk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 the dark passage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e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 quic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w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 with some difficul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98720" y="5124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096920" y="3338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100160" y="3935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095480" y="4537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revealed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ast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colored walls and majestic formation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ast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s to a color that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 and subd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dar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98720" y="512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096920" y="333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10016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095480" y="45356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had set the retur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ordin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arlier while he talked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ordin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fer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ched clo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wor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used to define a lo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98720" y="5127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96920" y="33415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100160" y="39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095480" y="4540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7T17:41:07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1000000000001023620</vt:lpwstr>
  </property>
</Properties>
</file>