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ACE6-F472-433A-8521-D34447FDD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5AB9-474C-4496-AAA8-C646D93F7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3753-135C-4EE2-965F-BB23944D9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31AC-1E8D-4E2C-B6CE-EF9686426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B4C1-5E46-46A4-801D-1B5FE96FE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FB03-023D-49EF-AD76-26A80BB94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09B4-4614-4676-8D81-032A04809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344F-BC21-4FFC-B6F3-BA0E45077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B92E-1CDD-4524-9B8B-252239981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C718-0E0A-4D46-93DC-E536997A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BD30-34CF-45BB-92E0-AF4EE246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D9AB-65C0-41BB-8D04-7F1E94A5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FEDFE-E1F5-4777-B89B-DA148167420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 col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y diarrhea, abdominal cramps,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4004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meat, contaminated human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3:47Z</dcterms:modified>
  <cp:revision>52</cp:revision>
  <dc:subject/>
  <dc:title>Hazards</dc:title>
</cp:coreProperties>
</file>