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493-0E52-486E-92F6-1960AC9D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730-5EE1-4A43-BAC7-EEB04570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1B7-A24C-4576-906E-29C74ECE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579-C476-4452-A0DF-EB25896D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086-FC9D-46CC-A756-1079E14A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FF2-B800-474E-856C-E326A5C8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03E-B3BF-4DAB-BB6C-8B3ACEF2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F15-23FD-4322-A793-C12E109C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2F8-E3C8-4A6D-9ADD-FB1F11B3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ECE-3588-4E8C-BD79-24BBA794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925-2406-470E-AF19-8737E764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900-1123-4710-843D-63FED52A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C6C2-A81A-4825-AA55-187C371596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11Z</dcterms:modified>
  <cp:revision>50</cp:revision>
  <dc:subject/>
  <dc:title>Hazards</dc:title>
</cp:coreProperties>
</file>