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B1B-8847-4FB6-9E97-786A4522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4802-3CA3-43B4-8E26-9B13DEA5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F1C0-B94C-4F39-B3C0-8DAD8A8A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ADC8-9E2D-4342-A1D4-AA35B070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A408-D817-405C-A66A-55FBF58E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767C-754C-4BF4-A378-908C6B9B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F3D-0D40-42CF-B532-ED31EDA2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482-C077-45E9-99AB-00B7AA82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0210-5A08-4CE1-A3FC-29838BBA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6C8-DEA6-4375-AE43-825A5F4C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01D7-88C3-43AD-AECB-B175E7F5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8EF-19A4-49DF-8060-43A1D5A0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4EF1-1C91-461D-B6F7-B5EEAF5D83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5-10T17:14:08Z</dcterms:modified>
  <cp:revision>43</cp:revision>
  <dc:subject/>
  <dc:title>Hazards</dc:title>
</cp:coreProperties>
</file>