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BE7F-6B94-4FE2-B2BA-D521EE3B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B751-8BC1-4F0A-9FE0-C8C2E720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B72F-9286-4E21-BC65-F9B8277F7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5D23-CB36-4FB3-9343-56E549BA0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585D-D0EA-4436-AA56-52E9EC2A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74AB-84EE-41D5-B168-07D70E27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2862-1C5B-4E88-A153-292A1DEF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FEFB-07A0-4606-9950-18E799DB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25A3-D72A-42DE-8ED0-3BD22052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70FE-030F-4825-987D-F186C426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C0E9-4CC4-40C3-A808-7774C76E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B10C-D486-420B-BF9D-6291C8C4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05F7-1943-4481-9550-C2D73D5968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5:19Z</dcterms:modified>
  <cp:revision>45</cp:revision>
  <dc:subject/>
  <dc:title>Hazards</dc:title>
</cp:coreProperties>
</file>