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D85-6134-4A9D-BDA9-8A7DA137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986-E089-4451-AF4F-739959C6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69B-40CE-4DF6-9CF1-092805DF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5422-2943-4B71-8308-86F37723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FC7-6CBB-43AB-AC76-942EA057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4B4-DDAA-4642-8C3F-862582C0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E43-6233-4998-B8EC-B857FC05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91F-36FF-4A93-9C31-FC1F29F1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593-2B3D-464F-BCDA-273D7739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68E-AABC-4960-AF45-917557DF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DFB-8800-4517-B0EE-11136DCB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50F-D1B7-4D07-8A6E-EC0C559D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7EB9-2740-4B65-9E8A-AD82A44D92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57Z</dcterms:modified>
  <cp:revision>47</cp:revision>
  <dc:subject/>
  <dc:title>Hazards</dc:title>
</cp:coreProperties>
</file>