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7029-8C79-4C69-862D-F62A67C06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3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2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4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5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E41-342D-4744-B5E1-2C21F9DD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32B-F07E-4F81-B03A-6F7D121B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42F-3FC5-4909-8E1A-0BD3CC4A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794-BD80-41D5-8E89-685F1A2C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419-70F9-4B61-8576-3D4FFB8E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834-B98F-4A94-9CC1-0E544D5A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BBB-C4B5-42DE-9B86-3DF87707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E99-A1B0-48B3-A50C-4BD586E6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40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A6D-7A6D-4BA3-BCF1-C81F7F5F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5E5-C585-4CEA-9727-BAA46740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D63-28DF-437C-B96F-EBE3874B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DAF-2765-4AAE-A6FF-B6856DA0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0D48-E042-4723-BE2A-2622DA2BE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rabbed the torch and dropped it on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mb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 bu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xp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0016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98720" y="3335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0160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096920" y="4533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ick’s laughter faded away to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choking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c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01600" y="476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0016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0340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098720" y="41673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4323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ick, damp blanket of clouds threatened to unleas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t any momen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undant and rapidly f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accompanied by s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dri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2760" y="521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3429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1600" y="4013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61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light came from a small torch that Tick held in front of him and the gree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low from Jace’s computer keypa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to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light e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reen sa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00160" y="552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98720" y="3740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01600" y="43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9692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87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nimals barreled past Tick and Jac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everything around the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ghte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98720" y="5129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9692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00160" y="39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o a tight fissure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ggests that the armadi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98720" y="5121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0016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095480" y="45338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scurried into a tigh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op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 of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s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followed Tick as 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k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the dark passage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 with some difficu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98720" y="512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96920" y="333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00160" y="3935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95480" y="4537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revealed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colored walls and majestic forma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 a color tha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and subd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da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9872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96920" y="333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0016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set the retur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rlier while he talked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d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used to define a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7:41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1000000000001023620</vt:lpwstr>
  </property>
</Properties>
</file>