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2964-3D7E-473B-9BBE-5D3A2E97E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9836-E231-4ACF-B817-4224BD052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0270-A823-4E50-80EC-077A835CB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1C92-D2A0-4F6C-8F0E-08027BC0F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5256-6667-4DC4-8816-FF385C1D1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A183-2BCC-4BA1-AA2E-7B44A17D6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3369-0CBC-4757-84C5-844EF8853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4ADA-26A2-4194-8041-E6938147D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6EBB-3EB0-400F-B2DE-1A8320EBA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1ACD-D015-4FA2-BD8F-CF029228D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E7A9-86D3-4472-974D-1FCFB9481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C763-2255-470E-93DC-CE24C6BC2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50968-AE9B-4762-88CC-FAC4C0CBEF4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ectious Hepatiti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1337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jaundice, fatigue, dark urine, abdominal pain, loss of appetite, nau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5812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ct with blood or bodily fluid of an infected person, contact with needle previously used by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8-09-23T15:34:09Z</dcterms:modified>
  <cp:revision>52</cp:revision>
  <dc:subject/>
  <dc:title>Hazards</dc:title>
</cp:coreProperties>
</file>