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10F-8B4B-4D32-89F0-A7816A62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86EC-9341-49DC-907F-7AA896AD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1A3F-17AB-4922-9844-D924B258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46E-6B8E-40B7-BB3D-335EC346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CE5C-1E66-45BA-8939-D273C3AD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69C-6249-4DC4-8D66-6B843A9D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183-ED06-44BC-AA53-80729C47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CF4-8328-42BE-8377-5270034B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0CE7-90D1-4AD3-A21E-45200560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9747-4B78-45E7-800E-AE2B61C0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ADC2-405F-4584-A918-FEF4D2B6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000-689F-4928-A06E-7C3F95E2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CC36-E364-4AB0-9423-78E02F686D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57Z</dcterms:modified>
  <cp:revision>47</cp:revision>
  <dc:subject/>
  <dc:title>Hazards</dc:title>
</cp:coreProperties>
</file>