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1E54-2798-43F1-A400-A9784AF37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6E3E-8158-47ED-A396-A8EF7E56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0D68-2C34-4B3C-8ED3-5E2592F1C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B7E6-77D2-45E5-AAE6-32493A065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DEC1-E18F-4856-9725-6A9D6C07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2D85-E2D9-4C04-8892-1CD7EB82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4680-DA30-4652-900A-D909AE06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AD0B-1ED4-4649-BADA-B94C1D59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F721-3C60-44D5-9176-920946F7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38B7-7F27-43A3-8AF2-6A385DDF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86E6-7E5C-4C0D-9867-0B490A00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85F6-94DA-41BA-9ED3-15B9DCE2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1239-70EE-479B-B21F-5E893CEEBE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3:11Z</dcterms:modified>
  <cp:revision>50</cp:revision>
  <dc:subject/>
  <dc:title>Hazards</dc:title>
</cp:coreProperties>
</file>