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03C-863F-45B3-BCA5-0FDDBB9D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AC6-416E-4FBE-99D5-1D7A874C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E58-C8BC-49AB-B8B3-865087C9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453-0AF0-4C78-BE33-039E66DB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14D-3BCF-4DAA-936A-6B070B5C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338-BEB0-4AD8-A03A-BE3F36C3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C92-D7CD-4211-829A-48D2A2C5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2C2-0EE6-404A-983C-73D46C4B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3BA-275D-443C-B822-DBC5613E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156-7ED3-49D6-8628-0EF34774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1A6-EF29-496B-A2B0-62A5DCC9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402-B948-4530-8736-D899B8E2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ECC5-D6D4-4DBE-943B-2FF518F90E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47Z</dcterms:modified>
  <cp:revision>52</cp:revision>
  <dc:subject/>
  <dc:title>Hazards</dc:title>
</cp:coreProperties>
</file>