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27084-095C-4F1F-8F1D-30994B584B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D050-30E9-4436-AC2F-FEA62E2E5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689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838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34EE-5AB7-4FBF-91AE-1918D4FF6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689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689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838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838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6B0F-7A99-4D23-9E23-728D70AA2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89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689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689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838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838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838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63F3-4293-4B2D-9390-6CD7984C0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689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F46F-C136-4D51-9624-C94B66D08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689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0B5F-BD1E-4364-8711-5655EDC6A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689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689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AAB2-2758-4E28-9241-3ABE524DE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6C72-8404-4FE4-9560-6D3F2121D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790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5735-00C4-4F55-88B0-B7AB2AA69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89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89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838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01F4-420C-4BDA-A689-9A4900AB0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689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689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838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D91C-F744-4ABA-BCCB-BB66B1A2E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689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689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838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75D0-6DD2-4B43-B54B-60F0B4E8A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89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37D53-A7D7-4059-976A-0087D3FF1E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689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630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9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ic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304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630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scourages Jace from helping the distressed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lf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30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aches Jace how to milk the cow with th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wollen udd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30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 not surprised by the aggressive skunk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30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 unable to hunt squirrels because he has no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un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30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R-10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055520" y="2548080"/>
            <a:ext cx="376560" cy="4680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1060560" y="51134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1063800" y="35640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5"/>
          <a:stretch/>
        </p:blipFill>
        <p:spPr>
          <a:xfrm>
            <a:off x="1068480" y="44211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689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0.  Tick confuses the words “virus” and “venus.”  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He believes a virus may be responsible f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bad behavior of the two stranger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pper howling at the raco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unusual behavior of the skunk towards th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yot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dead squirrels he had been find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R-10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1054080" y="2840040"/>
            <a:ext cx="376200" cy="4683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1058760" y="5010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1052640" y="34354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5"/>
          <a:stretch/>
        </p:blipFill>
        <p:spPr>
          <a:xfrm>
            <a:off x="1057320" y="4125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156120" y="2792520"/>
            <a:ext cx="2790720" cy="12571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4073400" y="4753080"/>
            <a:ext cx="96228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R-9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89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4560" indent="-57456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two main characters in this story ar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pper and Tic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illie Holliday and J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ce and Tic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zra and Sylvan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063800" y="30733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055520" y="2479680"/>
            <a:ext cx="376560" cy="468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1058760" y="3651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1060560" y="42372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R-9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685800" y="1689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ick faced all of the following challenges in the story EXCEP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voiding flood waters caused by heavy rai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nding foo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eeping a steady jo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viding for Pepp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054080" y="2840040"/>
            <a:ext cx="376200" cy="4683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058760" y="4622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1052640" y="34369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1057320" y="40244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00200" y="1689120"/>
            <a:ext cx="807696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630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ce encounters Tick becau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304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630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ick works at the cavern that Jace’s family i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sit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30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lightening bolt triggered the time travel devic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 Jace’s comput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30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oth are lost and looking for the main trail back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the visitor’s cent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30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ick is from the health department and i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vestigating a disease outbreak in cattle in th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re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R-10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1055520" y="2538360"/>
            <a:ext cx="376560" cy="4683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1060560" y="55087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1063800" y="35416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5"/>
          <a:stretch/>
        </p:blipFill>
        <p:spPr>
          <a:xfrm>
            <a:off x="1058760" y="4518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89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400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ich of the following best describes a very unusual encounter in the story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000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400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ce and his mother disagree on what to do i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park museu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00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kunk attacks a coyote and wins the figh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00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pper chases a scared armadill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00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ce and Tick sit around a campfire and talk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00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R-10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1055520" y="2952720"/>
            <a:ext cx="376560" cy="4683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1060560" y="50148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1063800" y="38228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5"/>
          <a:stretch/>
        </p:blipFill>
        <p:spPr>
          <a:xfrm>
            <a:off x="1068480" y="44197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R-10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689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515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sence of which of the following context clues is NOT useful for determining the time period described in this story?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51520" indent="0">
              <a:lnSpc>
                <a:spcPct val="10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ivilian Conservation Corps (CCC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51520" indent="0">
              <a:lnSpc>
                <a:spcPct val="10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ngs playing on the rad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51520" indent="0">
              <a:lnSpc>
                <a:spcPct val="10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osevelt in the White Hou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51520" indent="0">
              <a:lnSpc>
                <a:spcPct val="10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pper chasing a racco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060560" y="3135240"/>
            <a:ext cx="376200" cy="4683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1065240" y="5016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1065240" y="37670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1063800" y="43830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68912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400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6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ick tells Jace that they are in the  midst of the Great Depression. Which of the following is consistent with that time period?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0000" indent="0">
              <a:lnSpc>
                <a:spcPct val="10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overvil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0000" indent="0">
              <a:lnSpc>
                <a:spcPct val="10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rought conditions in Texas and Oklaho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0000" indent="0">
              <a:lnSpc>
                <a:spcPct val="10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ock market cras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0000" indent="0">
              <a:lnSpc>
                <a:spcPct val="10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 of the above are consistent with the Great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press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R-10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060560" y="3130560"/>
            <a:ext cx="376200" cy="4683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1065240" y="513540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1062000" y="37688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5"/>
          <a:stretch/>
        </p:blipFill>
        <p:spPr>
          <a:xfrm>
            <a:off x="1063800" y="43848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R-10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689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86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7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ce and his family were visiting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86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86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railroad muse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86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Longhorn Caver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86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petting zo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86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CCC work cam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055520" y="2479680"/>
            <a:ext cx="376560" cy="4683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1060560" y="42433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1063800" y="30672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5"/>
          <a:stretch/>
        </p:blipFill>
        <p:spPr>
          <a:xfrm>
            <a:off x="1058760" y="3656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689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8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two strangers who came upon Jace and Tick in the cave were looking f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rmadillo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onnie and Clyde’s loo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usual rock formatio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ir do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R-10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1055520" y="2863800"/>
            <a:ext cx="376560" cy="4683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1054080" y="4621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1054080" y="3452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1055520" y="40402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7T19:50:03Z</dcterms:created>
  <dc:creator>David Marcovitz</dc:creator>
  <dc:description/>
  <dc:language>en-US</dc:language>
  <cp:lastModifiedBy>Vince Hardy</cp:lastModifiedBy>
  <dcterms:modified xsi:type="dcterms:W3CDTF">2007-05-04T15:45:08Z</dcterms:modified>
  <cp:revision>7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201000000000001023620</vt:lpwstr>
  </property>
</Properties>
</file>