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96AA-0D7C-4714-8C62-89DDF339E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D329-4D9D-4C56-8DF6-738C1AC5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2EAB-0664-410B-8C60-49CA9C91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892C-27D3-461D-B104-F7D11B8E8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30FC-4929-4C2B-9F37-94BEDFF7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E4D1-85D6-42A7-B0D3-A8ADB310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E305-5AE1-43B5-9803-B22286E3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CE1D-328C-4A33-8387-41A60218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9040-097F-425D-BC7D-2EFCB23C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998B-B160-4C29-9D43-BF9F1825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54C0-523F-4CFC-86D8-384402A5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874B-A6D3-4336-9A73-1BB25064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BB06-4DA5-4497-998F-1BA8DA99D0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2:49Z</dcterms:modified>
  <cp:revision>43</cp:revision>
  <dc:subject/>
  <dc:title>Hazards</dc:title>
</cp:coreProperties>
</file>