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230-6BA7-402E-B7F7-FDFBE1B4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257-0A1E-4BD2-86A4-64E41D1A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F12-C08D-4643-8AC9-CE3989E6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2AB-DAF8-43A4-9C7B-A8E0F639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491-38D1-4381-9A9E-8DCDB17F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0F9-4B19-4A7A-A58B-3A35FC77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9E7-4A05-4C92-ABEE-80E3D9F2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021-7824-41E8-AD3B-DB0291A3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2CD-17EA-4980-939B-51470832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21D-E3EA-4C16-8609-F3F3E314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1A9-C651-4BCA-9386-4F82827D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B02-CCE6-487C-8E85-C3A49887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3781-4F37-46CE-9A9A-754C88FBA8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36Z</dcterms:modified>
  <cp:revision>47</cp:revision>
  <dc:subject/>
  <dc:title>Hazards</dc:title>
</cp:coreProperties>
</file>