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41E-56A5-4D81-BEFD-93DA6173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D42-807E-49DC-86C3-B0C69659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A7C-14C4-45FE-B2B5-A03C4F53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456-9A7B-40A7-8913-76C13E44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25F-9D1A-45A4-A969-6C6E1FDE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DC9-16DF-4A3B-96E4-BBB0F04D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FF8-1D8E-47E0-AE4E-A6AE9B7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D26-C4D0-4D99-AC15-A6F97D35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05C-DCB9-4D7B-A0C1-612C08BC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2D7-A1EA-44AE-B49A-7A727411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4D2-6CD4-47EB-AE2E-3C247F2B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083-28C3-42C2-B7A5-87255EE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6BCA-15E0-448F-8741-11824903D2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19Z</dcterms:modified>
  <cp:revision>45</cp:revision>
  <dc:subject/>
  <dc:title>Hazards</dc:title>
</cp:coreProperties>
</file>