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6B47-3612-428B-8D53-16CBEB08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35A4-E426-4C5B-9FA5-A52BBE7F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A9F6-3509-4736-BC44-A7803DC9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7805-82C7-47D2-974B-947B3118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98BA-039F-4E3C-88DB-501A0A03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4E00-CE69-4ED8-8787-4E7DA68D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2231-706E-4D73-ABBF-87DA6173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8112-6A5A-4F77-B490-61A8F242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158-3D3C-40E4-921C-AB55DAC5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13B7-9ADA-4AD3-A4AE-97E86FF0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8490-401A-4B99-9C27-674159B2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E63-4564-40A0-B748-7BD41F1A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E9FC-87B0-47AC-84F0-302785FBDB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5:08Z</dcterms:modified>
  <cp:revision>48</cp:revision>
  <dc:subject/>
  <dc:title>Hazards</dc:title>
</cp:coreProperties>
</file>