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D45-498E-4740-954B-61949126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CF4-6DB7-4E5B-8D70-E3D384B9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F35-DB94-43C5-BE17-1DADA89E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F37-2DDA-411F-9233-B96EEA88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C3F-173E-4969-B667-45E09B12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85F-F74D-44B1-B2B0-920D6EC3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11F-98FC-4E95-94FB-3C5CA3E0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2DD-8470-447A-8312-0F431FFB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533-E8EB-4925-89B0-5552A311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566-738A-4B32-9073-4BE2D584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1CE-EE2D-406A-A717-F7B22165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CA0-3BF7-403B-8E04-200E506A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3598-C3F1-4A95-82F9-3E23C1F293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20Z</dcterms:modified>
  <cp:revision>49</cp:revision>
  <dc:subject/>
  <dc:title>Hazards</dc:title>
</cp:coreProperties>
</file>