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2B4-48BD-4B11-9007-E7E7E8C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794-3572-4A13-ACBF-5213EB26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AEB-0CEB-4A49-9982-9FBD80A7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CB8-D4A6-40E8-A8FB-EB01386B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73D-B295-48F8-B140-2F7E400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9E7-40F5-4700-82C9-B2A84C0F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B66-38DC-4684-AAE1-90CB19D6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2B3-11DE-4E0B-9399-CFF28B0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356-1FDC-4B63-BAB5-072C7FB6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491-2A60-4D58-A479-D4E6FF15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8E8-6DAF-4F2A-BFD3-78D6BBE4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D3A-D2A3-43CF-84CC-45CEE9CB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AE9C-DF35-4883-9DDE-D2C05144F7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19Z</dcterms:modified>
  <cp:revision>46</cp:revision>
  <dc:subject/>
  <dc:title>Hazards</dc:title>
</cp:coreProperties>
</file>