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8791-298D-4CEF-822C-06784BB6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F597-BECA-43AA-AF87-854F4722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664C-B4B3-4181-92B6-46F3D87AE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867E-DC6D-4A05-9E4D-B02544FA7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94F1-659E-4560-95A3-B2412E40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8C98-ECBA-489E-AB43-E3610294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8725-E798-4F41-B78F-F06FEB80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CD72-FE85-44BF-AB7B-D2C5DB71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5610-CDA1-47CF-8D2B-7B01146B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A2CE-F2EF-438F-B339-CC8C06C1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764F-CFCE-4C48-B818-33A0FD05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9AEB-FAE1-4584-BBA0-5603BA83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08CD-B15D-4419-B4AE-97C65C253D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20Z</dcterms:modified>
  <cp:revision>49</cp:revision>
  <dc:subject/>
  <dc:title>Hazards</dc:title>
</cp:coreProperties>
</file>