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418-4BB0-43DE-928B-BA15AADF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3DF-50BC-4AB1-8CB1-CDB508DF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81F-A559-4FC3-A25A-E51C682B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323-A2EE-4164-B473-3FC83751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622-225F-4E9D-9AE5-06C61F08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B2F-A99B-40A8-AF87-30854AB2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3B3-8221-4A85-9DAD-B92B8307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328-5BAC-4F47-9285-70B43552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93D-B3E1-4DDD-93E2-5E7FE562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6CB-FDD2-4D89-B956-2FEA0769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F37-FE69-4416-ACFD-38202162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E35-170E-4C68-AAA7-5F22164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914F-9F78-4C31-AA4C-92C2646711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57Z</dcterms:modified>
  <cp:revision>47</cp:revision>
  <dc:subject/>
  <dc:title>Hazards</dc:title>
</cp:coreProperties>
</file>