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5744-8BC8-4AF2-B6B7-EECBBF143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3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2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4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5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AF5-1C24-4D3A-B0E2-B7D05BD1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E17-D899-4564-A9C6-2E4D27C1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EFE-335E-4F33-8E84-C8076604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522-7B7F-41B3-BC5D-A16262FC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41E-29D6-4CE6-9B6A-FD3EA40C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4E5-568A-4EFE-8486-E970F4B1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742-A39B-4FE5-8790-E2714360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CB8-525F-4C23-A947-32388AD6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40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B12-6726-462D-82FA-079803EA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60B-F1EC-4D83-941C-EA531316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4A4-AB6F-4311-ACAC-183F0D80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FCF-A67A-4CF4-9713-4C8FC5E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D75A-81C0-4FDC-AB25-3CA5A3295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abbed the torch and dropped it o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b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 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xp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0016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98720" y="3335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0160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096920" y="4533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ick’s laughter faded away to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chok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c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01600" y="476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0016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0340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098720" y="41673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4323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ick, damp blanket of clouds threatened to unleas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t any momen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undant and rapidly f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accompanied by s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dri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2760" y="521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3429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1600" y="4013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61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light came from a small torch that Tick held in front of him and the gree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low from Jace’s computer keyp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to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light e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reen sa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00160" y="552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8720" y="3740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01600" y="43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692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87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nimals barreled past Tick and Jac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everything around the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ghte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98720" y="5129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9692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00160" y="39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a tight fissure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ggests that the armadi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98720" y="5121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0016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095480" y="45338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scurried into a tigh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op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s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followed Tick as 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the dark passag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 with some difficu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98720" y="512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96920" y="333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00160" y="3935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95480" y="4537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vealed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olored walls and majestic forma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 a color tha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and subd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d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9872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6920" y="333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0016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set the retur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rlier while he talked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d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used to define a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7:41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1000000000001023620</vt:lpwstr>
  </property>
</Properties>
</file>