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921-3BE6-41EC-B4D0-97CCD078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D36-C88F-4848-9145-A0F76934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FFD-11E5-41E2-AB79-BABDD245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B11-79A0-4D71-952E-618FC9DF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717-CDD8-40DF-BB1C-FE8A6FA9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EB8-CD00-46DA-B41A-33360AE9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DE0-D653-468F-8403-BD98512C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BE2-2218-4F16-A055-D94C15BA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312-F6EE-46AC-A0B1-17DDAA10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D99-D995-450D-B1E8-CFA87B7F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AA4-B743-4B73-B7A9-24B2C9C1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FDD-7B0C-4B48-A21A-2960862A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1A4C-25CA-451F-911E-8938DE0C58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36Z</dcterms:modified>
  <cp:revision>47</cp:revision>
  <dc:subject/>
  <dc:title>Hazards</dc:title>
</cp:coreProperties>
</file>