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ED5C-B026-4D3B-9C5D-390B98D6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602F-32E8-4117-BEDC-C16A788F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CEC-F0ED-4833-BAA8-6604DF02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688-52C5-4C80-A059-744943C3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2411-3089-46CE-A1BC-63B9A437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90A8-57B3-4184-BA25-A0706520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ABF1-3FCD-4D85-986B-ACAC7CEB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B887-9472-4E32-8EFC-38FFA893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3C51-6EF9-4E3B-8548-07653258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1157-DB9C-47F0-9D96-4FF5D79A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162B-7685-4503-8062-8E8F5597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2FA3-CDD8-423D-9AA1-D2CF60BB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0E5B-31A8-4AF5-BA57-19674E6269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19Z</dcterms:modified>
  <cp:revision>46</cp:revision>
  <dc:subject/>
  <dc:title>Hazards</dc:title>
</cp:coreProperties>
</file>