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CA0E-DAB2-40F4-AED4-0DA5FCBE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3633-F584-4A2F-AD3B-CAD76CDE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0E80-0380-45F1-A48D-DAC56567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6EDB-C6EE-488E-BB15-CB4BF4CF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2A4-3F4D-457C-AB75-A811D71D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5646-A68E-4673-8FAB-B02C9F5E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24F3-DCE5-4531-BBE6-865316C3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0471-5D08-4579-8A70-7B6934A0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4FF2-F01C-4E7E-863C-7AA15704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5A6E-3126-4B8F-B252-235499C3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FBF1-8BB2-4112-8AB3-F2A43AEF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9862-2493-441D-A8EE-2CD50985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2188-658F-448C-86E2-9AF7A57C68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with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09Z</dcterms:modified>
  <cp:revision>52</cp:revision>
  <dc:subject/>
  <dc:title>Hazards</dc:title>
</cp:coreProperties>
</file>