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F39-0C54-4A6F-9091-BECC6785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B7E-FD7E-403A-AE52-9067CC2A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B364-5A88-4325-9A00-F36D79D9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12E-ABBB-413F-B794-3E9562AC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8872-6E57-4D1C-90A2-8A0E3DA8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73F-03AB-435C-9BF3-51998187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504-1CBF-4824-8192-0ECF805A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DA0-2D78-4061-B808-FF251F7E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C9E-70D3-4544-BEF6-E9D2B9D5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6F4B-5D5E-4683-95EF-86F95592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72D-A580-494D-99D6-DD30546D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DEE-E696-47A4-A4E7-5B621F54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07FD-F5F7-447E-8D81-ACA4EF6451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00Z</dcterms:modified>
  <cp:revision>47</cp:revision>
  <dc:subject/>
  <dc:title>Hazards</dc:title>
</cp:coreProperties>
</file>