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B130-0F6F-4E81-9A2D-94D51B82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4BD-A525-4087-855C-EA69F174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CB79-E8A9-4B57-9DD6-7473C05D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250C-B797-429F-8920-64223D68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FB0B-3F82-45DB-A213-2016B244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C4D5-9E14-4DA2-AB72-6A2B1CF3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48F9-10BD-4489-818E-3BB6A62A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F4EA-2932-4482-9BC1-4D98F4F4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B10E-40DF-4DB6-9397-9C133FF8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7AC8-1363-466C-A482-FB5D3A4F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E2E6-BEEE-4E05-BB2C-61AB82C7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35DA-6735-41EF-88AE-17A5BF44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07D1-8290-447D-9389-5A3C849607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2:49Z</dcterms:modified>
  <cp:revision>43</cp:revision>
  <dc:subject/>
  <dc:title>Hazards</dc:title>
</cp:coreProperties>
</file>