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33B9E-EA9D-40AE-8A57-C63847FBF1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C, F, H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Writing to express, discover, record, develop, reflect on ideas and problem sol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 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) 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) 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7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adjectives and adverbs appropriat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k students to provide some good adjectives that appeal to all five senses. You may want to show a few of these words first to help get them started. What do they hear? What do they smell? Give them the liberty to make up a story as they describe the pict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6.17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adjectives and adverbs appropriat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3FF8A-9487-4525-8F64-63CCA838D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995C4-782A-466F-B8F0-4D3E34D38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EC1EE-EAB7-4F73-9A33-DC3AAFB45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F6939-24B0-4288-9B41-5AC8A5015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CD874-7560-45D4-8BDF-C17C1BFC3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71F1B-B307-4AEA-87C0-4075A1942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BF0A4-BAD7-4741-966D-85F7DE007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99DA7-DA58-4FBE-8FDB-A21C00A2D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CAB49-3591-4D24-BB96-3E5902B64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5AC3C-7EFE-496B-A63C-2A757946D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633EB-F3C3-4F41-8A89-F70B18D5F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7B1FB-32BF-4B44-8B19-B135A395D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BBFF5-E988-427B-8AD8-CDCD5A7B2A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Cliff-in-Clouds1" descr=""/>
          <p:cNvPicPr/>
          <p:nvPr/>
        </p:nvPicPr>
        <p:blipFill>
          <a:blip r:embed="rId2"/>
          <a:stretch/>
        </p:blipFill>
        <p:spPr>
          <a:xfrm>
            <a:off x="206280" y="104760"/>
            <a:ext cx="8793360" cy="6642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ensory Detail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12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nsory details are details that appeal to any of the five sense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ood sensory details and words in a descriptive essay actually take a person to a place where they can see, hear, smell, and even feel the descrip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Smokey-Light1" descr=""/>
          <p:cNvPicPr/>
          <p:nvPr/>
        </p:nvPicPr>
        <p:blipFill>
          <a:blip r:embed="rId2"/>
          <a:stretch/>
        </p:blipFill>
        <p:spPr>
          <a:xfrm>
            <a:off x="206280" y="100080"/>
            <a:ext cx="8785440" cy="664668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Describe This Pi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38080" y="1752480"/>
            <a:ext cx="2667240" cy="41911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257800" y="1752480"/>
            <a:ext cx="2666880" cy="41911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3760" y="1752480"/>
            <a:ext cx="2514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hi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le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Fres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Glorio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Awake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Ear pierc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Warm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Surre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837720" y="1752120"/>
            <a:ext cx="2590920" cy="41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o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Dam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Gent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Fragr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ris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Blin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Brilli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Sweet aro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20:08:20Z</dcterms:created>
  <dc:creator>ITMD</dc:creator>
  <dc:description/>
  <dc:language>en-US</dc:language>
  <cp:lastModifiedBy>Vince Hardy</cp:lastModifiedBy>
  <cp:lastPrinted>2002-01-04T15:57:18Z</cp:lastPrinted>
  <dcterms:modified xsi:type="dcterms:W3CDTF">2007-01-12T21:47:28Z</dcterms:modified>
  <cp:revision>29</cp:revision>
  <dc:subject/>
  <dc:title>Sensory Details </dc:title>
</cp:coreProperties>
</file>