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1BD-0D79-42A5-AEAE-BDCCA510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5BD-37F7-44BC-93D2-D2E36CBF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EF8-02A2-4BB0-95CD-F74C1C93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5D8-EB23-4E75-8B29-B07889B8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252-7035-4C90-A39B-04D70382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F3F-2DB0-48A2-80D1-44E19169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A9A-05AA-4BB5-BA0F-786843DA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78F-FABA-427E-B0D2-FEDC008D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0FA-309F-40AB-BBC0-40407A18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7FD-9F90-413A-80BD-BBF73940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DEF-A80A-4A5D-A9B1-1AA92E31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367-91A0-42FC-BAB6-56C00C9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6973-3E2B-46A7-B387-A09DCA54B0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47Z</dcterms:modified>
  <cp:revision>52</cp:revision>
  <dc:subject/>
  <dc:title>Hazards</dc:title>
</cp:coreProperties>
</file>