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DB68-15F6-499D-9BFB-A358F25D6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DD1-03D6-4B50-8BEB-8BDEB7A3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80B-5D38-4CA0-9B1C-445D2317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BEC-0F52-4FCF-9B06-C268C6AE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90A-DA9C-40DE-9B09-DBF02332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7F0-5AD6-4B96-9CEB-0914E78E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B01-7A20-402A-B3FA-E47C23D3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652-BC9D-4B93-BB90-43001F02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8B9-55E0-4C17-80EE-8BF2729A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25D-5E00-4434-B947-3137FA18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FA6-E99C-4AC8-B6DB-644E9B38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D02-0662-4DCF-9D87-617897E5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3E7-9F63-4FE1-BE73-46D4A3BB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566E-0078-447F-B10C-F54C065E957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77760" y="181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Read “Congo Cry” carefull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Take the Investigator’s Challenge Quiz to determine how carefully you read the stor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fter you complete the quiz and see your score, review each question. 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Find the part of the story that provides the correct answer to the question.  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Underline or highlight the information needed to answer the question correctly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28702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344160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98772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5464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51055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57280" y="24256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57280" y="33908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43434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57280" y="52578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832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39243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4830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50292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3656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832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3908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394956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44956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50547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37083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42418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47880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334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58928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4130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298440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5434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0892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463536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80656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7720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6864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52452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581652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2511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375912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43178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52196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61466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44160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0258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46004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1688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57531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80656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3782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39369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8895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54356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Texas A&amp;M Veterinary Medicine</cp:lastModifiedBy>
  <dcterms:modified xsi:type="dcterms:W3CDTF">2005-05-17T17:30:16Z</dcterms:modified>
  <cp:revision>55</cp:revision>
  <dc:subject/>
  <dc:title>Investigator Challenge Quiz</dc:title>
</cp:coreProperties>
</file>