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601D-1C23-44FB-901C-6EEF47AC1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12B-76C2-4FDC-8776-3AFF726D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D7F-530D-4D58-8D10-1A6D9909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E45-20B7-47B6-923D-1A8711B4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36A-278B-4E06-8E10-E33645E7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8E0-2BE3-4BBE-90BD-8775C1A0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EC5-F2FC-48BC-ABEA-F8C40F8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03A-6B67-4FBD-9028-3477FC3F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485-0738-4F84-B054-51F2E35F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904-C9A9-429B-A565-A45202C5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4B8-6BBF-49D2-96EF-3948AB9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6BE-B561-4E80-9023-6AFA5E04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46C-D050-447C-A7AC-A3C9940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36A5-786C-4A9B-8EC2-89B8239657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49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366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33440" y="447372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760" y="1297080"/>
            <a:ext cx="8610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52560" y="4495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4952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52560" y="54100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8160" y="35164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8160" y="4049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8160" y="4583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38160" y="36003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8160" y="4133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8160" y="46674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480" y="3610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480" y="4143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33480" y="4676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3480" y="31240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3480" y="3657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33480" y="4191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3480" y="3586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3480" y="4119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3480" y="4653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366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38160" y="3595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8160" y="4119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8160" y="5052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33480" y="4543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2840" y="50767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3480" y="5610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33480" y="3586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3480" y="4119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33480" y="4653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8160" y="3576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8160" y="4110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38160" y="46432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5-05-18T14:13:38Z</dcterms:modified>
  <cp:revision>59</cp:revision>
  <dc:subject/>
  <dc:title>Vocab Challenge</dc:title>
</cp:coreProperties>
</file>