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D0B1-A53C-416D-9F42-5997731F7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Dr. Allen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Children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Travis’s (although Travis’ is considered acceptable by some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ed portion of each underlined section is provided belo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n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 and assist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joyab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llowing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w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Capitalizing and punctuating correctly to clarify and enhance mea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Writing with accurate spelling of syllable constru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8 (G, H, 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fining selected pieces for general to specific aud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Proofreading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) Selecting and using reference materials and resources for writing, revising, and editing final draf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6.17 (B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riting in complete sent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.T. and Travis went into the jung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mmer stayed in the c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 is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hile Summer stayed in the c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.T. and Travis went into the jung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mmer tried to be stron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but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hen K.T. and Travis lef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he felt very sca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revious note sec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1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ravis thought Summer should stay in Texas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but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ummer insisted on going to Africa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. (compou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After a long day in the African jungl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ravis was ready to go hom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but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K.T. wanted to do more exploring. (compound 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ummer punched in the coordinates to go hom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when K.T. and Travis returned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. (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he sick mother’s baby cried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while she was waiting for the doctor.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(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.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Because Dr. Kathy Allen never saw the children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he never knew how the missing box arrived in the jungle.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(complex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F543-21C4-4952-9BA3-8B2BD4711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FA02-918D-492F-A4A8-2E600CA4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161F-0E94-473C-96CF-2F56C8B13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EB24-EFB4-4275-B10F-0417A6D8D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EB04-CC28-4973-B1A7-25CB246C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8C7F-9CF2-47DF-AC7F-EDE4A717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D24D-029C-4A4C-8987-39375FFD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73E5-F746-4E21-9223-6E7B2789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6337-4E18-44B0-A497-366D6759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6C70-FFD1-45E8-9F47-AA9733BA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46AB-FFAE-479F-9B19-B5A8B6C1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D5E7-4936-4385-B768-5D180FC8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09A2-8C8E-40DE-847C-E4756284A15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edical%20Clinik.pdf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K.T., Travis, and Summer arrived in Africa, they found a sign written in English posted on the clinic doo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the next slide, proofread the underlined portions of text from the sign and correct any err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67080" y="1523880"/>
            <a:ext cx="4618080" cy="4560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4876920"/>
            <a:ext cx="739116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200400"/>
            <a:ext cx="739116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What Belongs to Whom?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48765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mmer had to control ______ fear as she took       in all the sights and sounds of a new pla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447920"/>
            <a:ext cx="7620120" cy="23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wing possession is an important part of language usag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e the correct word to complete each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267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3200400"/>
            <a:ext cx="7467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he box belongs to Dr. Allen. The box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is 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267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4267080"/>
            <a:ext cx="1905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4191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4191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72200" y="41911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59436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59436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59436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ummer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5812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1958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More Possessives!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4191120"/>
            <a:ext cx="739152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2133720"/>
            <a:ext cx="739152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205740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One of the ________ biggest concerns was   getting cau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3200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31240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32004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3200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3124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4266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It was ________ idea to go to the Congo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52578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52578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52578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51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’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51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518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51460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44956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4520" y="365040"/>
            <a:ext cx="792468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8640" y="6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Medical Clinik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6360" y="138384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ur job is to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erve, and assist you in any way we can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To make our facilities more efficient and to make your visi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more enjoyabel, w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have provided some helpful instructions.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Please help us by doing the follow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38120" y="3441600"/>
            <a:ext cx="6629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orm to line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irst-time patience stand to th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left to request a registration c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ll others stand to the right?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Have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you’re identificati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card ready to show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Docto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175440"/>
            <a:ext cx="78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to print a hard copy of this 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Add Some Flavor!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9" name="" descr="Africa"/>
          <p:cNvPicPr/>
          <p:nvPr/>
        </p:nvPicPr>
        <p:blipFill>
          <a:blip r:embed="rId2"/>
          <a:stretch/>
        </p:blipFill>
        <p:spPr>
          <a:xfrm>
            <a:off x="5410080" y="1676520"/>
            <a:ext cx="2971800" cy="4114800"/>
          </a:xfrm>
          <a:prstGeom prst="rect">
            <a:avLst/>
          </a:prstGeom>
          <a:ln w="88920">
            <a:solidFill>
              <a:srgbClr val="3366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566640" y="1623960"/>
            <a:ext cx="4505400" cy="44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riters use compound and complex sentences to add spice to their writ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times they put both together and use compound complex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efinitions and examples of these types of sentences on the following sl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43000" y="3581280"/>
            <a:ext cx="701028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ompound Sentenc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– a sentence with two or more independent claus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886200"/>
            <a:ext cx="693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K.T. and Travis went into the jungle, and Summer stayed in the city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3581280"/>
            <a:ext cx="701028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ebebeb"/>
                </a:solidFill>
                <a:uFillTx/>
                <a:latin typeface="Times New Roman"/>
              </a:rPr>
              <a:t>Complex sentence</a:t>
            </a: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 – a sentence with one independent clause and one or more dependent clauses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3886200"/>
            <a:ext cx="693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While Summer stayed in the city, K.T. and Travis went into the jungl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14400" y="3657600"/>
            <a:ext cx="7543800" cy="2209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ebebeb"/>
                </a:solidFill>
                <a:uFillTx/>
                <a:latin typeface="Times New Roman"/>
              </a:rPr>
              <a:t>Compound complex</a:t>
            </a: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 – a sentence with two independent clauses and one or more dependent clauses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4114800"/>
            <a:ext cx="754380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Summer tried to be strong, but when K.T. and Travis left, she felt very scared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Review the Definitions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88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Check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your understanding of complex, compound, and compound complex sentences.</a:t>
            </a: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2188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Underline</a:t>
            </a:r>
            <a:r>
              <a:rPr b="1" lang="en-US" sz="35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the independent clauses and circle the dependent clauses in all of the examples on the previous slides.</a:t>
            </a: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5029200"/>
            <a:ext cx="7391160" cy="14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3581280"/>
            <a:ext cx="7391160" cy="129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Practice Unlocking Language 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720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abel the following sentences as compound, complex, or compound complex.  For more practice,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underlin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independent clauses an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ircl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dependent claus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3733920"/>
            <a:ext cx="723924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ravis thought Summer should stay in Texas, but Summer insisted on going to Af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7339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5105520"/>
            <a:ext cx="74516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After a long day in the African jungle, Travis was ready to go home, but K.T. wanted to do more explo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3341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95280" y="4876920"/>
            <a:ext cx="739152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3276720"/>
            <a:ext cx="7391520" cy="1295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1676520"/>
            <a:ext cx="7391520" cy="1295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More Practic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1752480"/>
            <a:ext cx="7238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mmer punched in the coordinates to go home when K.T. and Travis retur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3429000"/>
            <a:ext cx="7469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he sick mother’s baby cried while she was waiting for the do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4919760"/>
            <a:ext cx="71629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Because Dr. Kathy Allen never saw the children, she never knew how the missing box arrived in the ju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90512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350532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1814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5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19:37:55Z</dcterms:created>
  <dc:creator>Gina Balducci</dc:creator>
  <dc:description/>
  <dc:language>en-US</dc:language>
  <cp:lastModifiedBy>Jeremiah McNichols</cp:lastModifiedBy>
  <dcterms:modified xsi:type="dcterms:W3CDTF">2005-05-26T13:15:35Z</dcterms:modified>
  <cp:revision>32</cp:revision>
  <dc:subject/>
  <dc:title>PowerPoint Presentation</dc:title>
</cp:coreProperties>
</file>