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D229-CB0C-4818-B721-DAE6D16C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43C-10F7-4710-8355-8926999C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403-CEFA-4D29-989C-9EC3856B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0CA-ABE3-4D52-94A8-EC4DA578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A69-552B-4E0C-8B3E-4D343DAE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CA7-9F59-49EC-9B9A-A79B7A8E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B13-FABE-4828-A0B1-6C20FED3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197-7386-4126-B8BE-B6DE8D99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5A9-85BE-4CCB-BA36-1254FE3B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1A0-F5FD-4AD4-BD47-12D92D9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A7D-696A-4A90-92A0-B2812CE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F1C-1DE5-4B8B-8618-E0D6902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286-8121-4E58-B9A2-0D846F1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3B99-360D-458D-9B5C-C5E615A4E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dcterms:modified xsi:type="dcterms:W3CDTF">2005-05-17T17:34:51Z</dcterms:modified>
  <cp:revision>481</cp:revision>
  <dc:subject/>
  <dc:title>Investigate the Mystery:</dc:title>
</cp:coreProperties>
</file>