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8D6B-EB0E-42E3-9CA6-EE6EC59A0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OECD/IEA CO2 Emissions from Fuel Combustion,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rrows designating the passing of pollution clouds across the Southern Hemisphere travel across the scre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Bureau of La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90 Trade and Environmenta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s life expectancy for males is lower than that of other developed countries.  However, Russia also has a large gender discrepancy in life expectancy, a fact that statisticians attribute to widespread alcohol abuse among the adult mal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pollution in Russia, see our 6</a:t>
            </a:r>
            <a:r>
              <a:rPr b="0" lang="en-US" sz="1200" spc="-1" strike="noStrike" baseline="30000">
                <a:solidFill>
                  <a:srgbClr val="000000"/>
                </a:solidFill>
                <a:latin typeface="Arial"/>
              </a:rPr>
              <a:t>th</a:t>
            </a:r>
            <a:r>
              <a:rPr b="0" lang="en-US" sz="1200" spc="-1" strike="noStrike">
                <a:solidFill>
                  <a:srgbClr val="000000"/>
                </a:solidFill>
                <a:latin typeface="Arial"/>
              </a:rPr>
              <a:t> grade adventure story and slide set on the Ukra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E8CDF-FF63-4061-AF75-E3F909B4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A967-923F-42BD-8D51-CC544E0E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0A1E6-FAAA-435F-955E-2AC02C530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E5A33-3DEA-40FE-9986-0BA0EEF41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5F55D-B33B-459D-A7DF-E3BC07EF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4DBC-E627-4583-B234-8EF7A9FF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F19E-1581-446F-AE94-855CEE87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491B7-4AAA-4E88-9228-C99F20C30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46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39525-F018-4381-998C-2C1123CA0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BE67-4144-464A-9027-DE513F13C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CF8F-07C5-4061-9822-69FACA1D3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7DF1-90E5-4A80-A3A1-6BC79C280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9961-8E17-4E8A-86BC-84DE8A79D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hazards/global_warming.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685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a:t>
            </a:r>
            <a:br>
              <a:rPr sz="4400"/>
            </a:br>
            <a:r>
              <a:rPr b="0" lang="en-US" sz="4400" spc="-1" strike="noStrike">
                <a:solidFill>
                  <a:srgbClr val="ffffff"/>
                </a:solidFill>
                <a:latin typeface="Arial"/>
              </a:rPr>
              <a:t>A Worldwide Probl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a:t>
            </a:r>
            <a:r>
              <a:rPr b="0" lang="en-US" sz="4400" spc="-1" strike="noStrike" baseline="-25000">
                <a:solidFill>
                  <a:srgbClr val="ffffff"/>
                </a:solidFill>
                <a:latin typeface="Arial"/>
              </a:rPr>
              <a:t>2</a:t>
            </a:r>
            <a:r>
              <a:rPr b="0" lang="en-US" sz="4400" spc="-1" strike="noStrike">
                <a:solidFill>
                  <a:srgbClr val="ffffff"/>
                </a:solidFill>
                <a:latin typeface="Arial"/>
              </a:rPr>
              <a:t> Emissions Worldwide</a:t>
            </a:r>
            <a:endParaRPr b="0" lang="en-US" sz="4400" spc="-1" strike="noStrike">
              <a:solidFill>
                <a:srgbClr val="ffffff"/>
              </a:solidFill>
              <a:latin typeface="Arial"/>
            </a:endParaRPr>
          </a:p>
        </p:txBody>
      </p:sp>
      <p:graphicFrame>
        <p:nvGraphicFramePr>
          <p:cNvPr id="341" name=""/>
          <p:cNvGraphicFramePr/>
          <p:nvPr/>
        </p:nvGraphicFramePr>
        <p:xfrm>
          <a:off x="495360" y="1428840"/>
          <a:ext cx="8077320" cy="5105160"/>
        </p:xfrm>
        <a:graphic>
          <a:graphicData uri="http://schemas.openxmlformats.org/presentationml/2006/ole">
            <p:oleObj r:id="rId2" spid="">
              <p:embed/>
              <p:pic>
                <p:nvPicPr>
                  <p:cNvPr id="342" name="" descr=""/>
                  <p:cNvPicPr/>
                  <p:nvPr/>
                </p:nvPicPr>
                <p:blipFill>
                  <a:blip r:embed="rId3"/>
                  <a:stretch/>
                </p:blipFill>
                <p:spPr>
                  <a:xfrm>
                    <a:off x="495360" y="1428840"/>
                    <a:ext cx="8077320" cy="5105160"/>
                  </a:xfrm>
                  <a:prstGeom prst="rect">
                    <a:avLst/>
                  </a:prstGeom>
                  <a:ln w="0">
                    <a:noFill/>
                  </a:ln>
                </p:spPr>
              </p:pic>
            </p:oleObj>
          </a:graphicData>
        </a:graphic>
      </p:graphicFrame>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420840" y="3121200"/>
            <a:ext cx="10293480" cy="5341680"/>
            <a:chOff x="-420840" y="3121200"/>
            <a:chExt cx="10293480" cy="5341680"/>
          </a:xfrm>
        </p:grpSpPr>
        <p:sp>
          <p:nvSpPr>
            <p:cNvPr id="3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3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5"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390" name=""/>
          <p:cNvGrpSpPr/>
          <p:nvPr/>
        </p:nvGrpSpPr>
        <p:grpSpPr>
          <a:xfrm>
            <a:off x="-420840" y="3121200"/>
            <a:ext cx="10293480" cy="5341680"/>
            <a:chOff x="-420840" y="3121200"/>
            <a:chExt cx="10293480" cy="5341680"/>
          </a:xfrm>
        </p:grpSpPr>
        <p:sp>
          <p:nvSpPr>
            <p:cNvPr id="391"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401"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0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500"/>
                                  </p:stCondLst>
                                  <p:childTnLst>
                                    <p:set>
                                      <p:cBhvr>
                                        <p:cTn id="62" dur="1" fill="hold">
                                          <p:stCondLst>
                                            <p:cond delay="0"/>
                                          </p:stCondLst>
                                        </p:cTn>
                                        <p:tgtEl>
                                          <p:spTgt spid="400"/>
                                        </p:tgtEl>
                                        <p:attrNameLst>
                                          <p:attrName>style.visibility</p:attrName>
                                        </p:attrNameLst>
                                      </p:cBhvr>
                                      <p:to>
                                        <p:strVal val="visible"/>
                                      </p:to>
                                    </p:set>
                                    <p:animEffect filter="dissolve" transition="in">
                                      <p:cBhvr additive="repl">
                                        <p:cTn id="63" dur="500"/>
                                        <p:tgtEl>
                                          <p:spTgt spid="400"/>
                                        </p:tgtEl>
                                      </p:cBhvr>
                                    </p:animEffect>
                                  </p:childTnLst>
                                </p:cTn>
                              </p:par>
                            </p:childTnLst>
                          </p:cTn>
                        </p:par>
                        <p:par>
                          <p:cTn id="64" fill="hold">
                            <p:stCondLst>
                              <p:cond delay="1000"/>
                            </p:stCondLst>
                            <p:childTnLst>
                              <p:par>
                                <p:cTn id="65" nodeType="afterEffect" fill="hold" presetClass="entr" presetID="22" presetSubtype="1">
                                  <p:stCondLst>
                                    <p:cond delay="0"/>
                                  </p:stCondLst>
                                  <p:childTnLst>
                                    <p:set>
                                      <p:cBhvr>
                                        <p:cTn id="66" dur="1" fill="hold">
                                          <p:stCondLst>
                                            <p:cond delay="0"/>
                                          </p:stCondLst>
                                        </p:cTn>
                                        <p:tgtEl>
                                          <p:spTgt spid="396"/>
                                        </p:tgtEl>
                                        <p:attrNameLst>
                                          <p:attrName>style.visibility</p:attrName>
                                        </p:attrNameLst>
                                      </p:cBhvr>
                                      <p:to>
                                        <p:strVal val="visible"/>
                                      </p:to>
                                    </p:set>
                                    <p:animEffect filter="wipe(up)" transition="in">
                                      <p:cBhvr additive="repl">
                                        <p:cTn id="67" dur="500"/>
                                        <p:tgtEl>
                                          <p:spTgt spid="396"/>
                                        </p:tgtEl>
                                      </p:cBhvr>
                                    </p:animEffect>
                                  </p:childTnLst>
                                </p:cTn>
                              </p:par>
                            </p:childTnLst>
                          </p:cTn>
                        </p:par>
                        <p:par>
                          <p:cTn id="68" fill="hold">
                            <p:stCondLst>
                              <p:cond delay="1500"/>
                            </p:stCondLst>
                            <p:childTnLst>
                              <p:par>
                                <p:cTn id="69" nodeType="afterEffect" fill="hold" presetClass="entr" presetID="22" presetSubtype="1">
                                  <p:stCondLst>
                                    <p:cond delay="0"/>
                                  </p:stCondLst>
                                  <p:childTnLst>
                                    <p:set>
                                      <p:cBhvr>
                                        <p:cTn id="70" dur="1" fill="hold">
                                          <p:stCondLst>
                                            <p:cond delay="0"/>
                                          </p:stCondLst>
                                        </p:cTn>
                                        <p:tgtEl>
                                          <p:spTgt spid="397"/>
                                        </p:tgtEl>
                                        <p:attrNameLst>
                                          <p:attrName>style.visibility</p:attrName>
                                        </p:attrNameLst>
                                      </p:cBhvr>
                                      <p:to>
                                        <p:strVal val="visible"/>
                                      </p:to>
                                    </p:set>
                                    <p:animEffect filter="wipe(up)" transition="in">
                                      <p:cBhvr additive="repl">
                                        <p:cTn id="71" dur="500"/>
                                        <p:tgtEl>
                                          <p:spTgt spid="397"/>
                                        </p:tgtEl>
                                      </p:cBhvr>
                                    </p:animEffect>
                                  </p:childTnLst>
                                </p:cTn>
                              </p:par>
                            </p:childTnLst>
                          </p:cTn>
                        </p:par>
                        <p:par>
                          <p:cTn id="72" fill="hold">
                            <p:stCondLst>
                              <p:cond delay="2000"/>
                            </p:stCondLst>
                            <p:childTnLst>
                              <p:par>
                                <p:cTn id="73" nodeType="afterEffect" fill="hold" presetClass="entr" presetID="22" presetSubtype="1">
                                  <p:stCondLst>
                                    <p:cond delay="0"/>
                                  </p:stCondLst>
                                  <p:childTnLst>
                                    <p:set>
                                      <p:cBhvr>
                                        <p:cTn id="74" dur="1" fill="hold">
                                          <p:stCondLst>
                                            <p:cond delay="0"/>
                                          </p:stCondLst>
                                        </p:cTn>
                                        <p:tgtEl>
                                          <p:spTgt spid="399"/>
                                        </p:tgtEl>
                                        <p:attrNameLst>
                                          <p:attrName>style.visibility</p:attrName>
                                        </p:attrNameLst>
                                      </p:cBhvr>
                                      <p:to>
                                        <p:strVal val="visible"/>
                                      </p:to>
                                    </p:set>
                                    <p:animEffect filter="wipe(up)" transition="in">
                                      <p:cBhvr additive="repl">
                                        <p:cTn id="75" dur="500"/>
                                        <p:tgtEl>
                                          <p:spTgt spid="399"/>
                                        </p:tgtEl>
                                      </p:cBhvr>
                                    </p:animEffect>
                                  </p:childTnLst>
                                </p:cTn>
                              </p:par>
                            </p:childTnLst>
                          </p:cTn>
                        </p:par>
                        <p:par>
                          <p:cTn id="76" fill="hold">
                            <p:stCondLst>
                              <p:cond delay="2500"/>
                            </p:stCondLst>
                            <p:childTnLst>
                              <p:par>
                                <p:cTn id="77" nodeType="afterEffect" fill="hold" presetClass="entr" presetID="22" presetSubtype="4">
                                  <p:stCondLst>
                                    <p:cond delay="0"/>
                                  </p:stCondLst>
                                  <p:childTnLst>
                                    <p:set>
                                      <p:cBhvr>
                                        <p:cTn id="78" dur="1" fill="hold">
                                          <p:stCondLst>
                                            <p:cond delay="0"/>
                                          </p:stCondLst>
                                        </p:cTn>
                                        <p:tgtEl>
                                          <p:spTgt spid="398"/>
                                        </p:tgtEl>
                                        <p:attrNameLst>
                                          <p:attrName>style.visibility</p:attrName>
                                        </p:attrNameLst>
                                      </p:cBhvr>
                                      <p:to>
                                        <p:strVal val="visible"/>
                                      </p:to>
                                    </p:set>
                                    <p:animEffect filter="wipe(down)" transition="in">
                                      <p:cBhvr additive="repl">
                                        <p:cTn id="79" dur="500"/>
                                        <p:tgtEl>
                                          <p:spTgt spid="398"/>
                                        </p:tgtEl>
                                      </p:cBhvr>
                                    </p:animEffect>
                                  </p:childTnLst>
                                </p:cTn>
                              </p:par>
                            </p:childTnLst>
                          </p:cTn>
                        </p:par>
                        <p:par>
                          <p:cTn id="80" fill="hold">
                            <p:stCondLst>
                              <p:cond delay="3000"/>
                            </p:stCondLst>
                            <p:childTnLst>
                              <p:par>
                                <p:cTn id="81" nodeType="afterEffect" fill="hold" presetClass="entr" presetID="22" presetSubtype="1">
                                  <p:stCondLst>
                                    <p:cond delay="0"/>
                                  </p:stCondLst>
                                  <p:childTnLst>
                                    <p:set>
                                      <p:cBhvr>
                                        <p:cTn id="82" dur="1" fill="hold">
                                          <p:stCondLst>
                                            <p:cond delay="0"/>
                                          </p:stCondLst>
                                        </p:cTn>
                                        <p:tgtEl>
                                          <p:spTgt spid="402"/>
                                        </p:tgtEl>
                                        <p:attrNameLst>
                                          <p:attrName>style.visibility</p:attrName>
                                        </p:attrNameLst>
                                      </p:cBhvr>
                                      <p:to>
                                        <p:strVal val="visible"/>
                                      </p:to>
                                    </p:set>
                                    <p:animEffect filter="wipe(up)" transition="in">
                                      <p:cBhvr additive="repl">
                                        <p:cTn id="83" dur="500"/>
                                        <p:tgtEl>
                                          <p:spTgt spid="402"/>
                                        </p:tgtEl>
                                      </p:cBhvr>
                                    </p:animEffect>
                                  </p:childTnLst>
                                </p:cTn>
                              </p:par>
                            </p:childTnLst>
                          </p:cTn>
                        </p:par>
                        <p:par>
                          <p:cTn id="84" fill="hold">
                            <p:stCondLst>
                              <p:cond delay="3500"/>
                            </p:stCondLst>
                            <p:childTnLst>
                              <p:par>
                                <p:cTn id="85" nodeType="afterEffect" fill="hold" presetClass="entr" presetID="22" presetSubtype="4">
                                  <p:stCondLst>
                                    <p:cond delay="0"/>
                                  </p:stCondLst>
                                  <p:childTnLst>
                                    <p:set>
                                      <p:cBhvr>
                                        <p:cTn id="86" dur="1" fill="hold">
                                          <p:stCondLst>
                                            <p:cond delay="0"/>
                                          </p:stCondLst>
                                        </p:cTn>
                                        <p:tgtEl>
                                          <p:spTgt spid="401"/>
                                        </p:tgtEl>
                                        <p:attrNameLst>
                                          <p:attrName>style.visibility</p:attrName>
                                        </p:attrNameLst>
                                      </p:cBhvr>
                                      <p:to>
                                        <p:strVal val="visible"/>
                                      </p:to>
                                    </p:set>
                                    <p:animEffect filter="wipe(dow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9"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4"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6"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24" name=""/>
          <p:cNvGrpSpPr/>
          <p:nvPr/>
        </p:nvGrpSpPr>
        <p:grpSpPr>
          <a:xfrm>
            <a:off x="-420840" y="3121200"/>
            <a:ext cx="10293480" cy="5341680"/>
            <a:chOff x="-420840" y="3121200"/>
            <a:chExt cx="10293480" cy="5341680"/>
          </a:xfrm>
        </p:grpSpPr>
        <p:sp>
          <p:nvSpPr>
            <p:cNvPr id="42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61880" y="1432080"/>
            <a:ext cx="8097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pass through the atmosphere, but some radiation is absorbed and re-emitted in all directions by greenhouse gases such as carbon dioxide and water. Consequently, the earth’s surface and lower atmosphere are warmer.</a:t>
            </a:r>
            <a:endParaRPr b="0" lang="en-US" sz="2400" spc="-1" strike="noStrike">
              <a:solidFill>
                <a:srgbClr val="000000"/>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36"/>
                                        </p:tgtEl>
                                        <p:attrNameLst>
                                          <p:attrName>style.visibility</p:attrName>
                                        </p:attrNameLst>
                                      </p:cBhvr>
                                      <p:to>
                                        <p:strVal val="visible"/>
                                      </p:to>
                                    </p:set>
                                    <p:animEffect filter="dissolve" transition="in">
                                      <p:cBhvr additive="repl">
                                        <p:cTn id="94" dur="500"/>
                                        <p:tgtEl>
                                          <p:spTgt spid="436"/>
                                        </p:tgtEl>
                                      </p:cBhvr>
                                    </p:animEffect>
                                  </p:childTnLst>
                                </p:cTn>
                              </p:par>
                            </p:childTnLst>
                          </p:cTn>
                        </p:par>
                        <p:par>
                          <p:cTn id="95"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430"/>
                                        </p:tgtEl>
                                        <p:attrNameLst>
                                          <p:attrName>style.visibility</p:attrName>
                                        </p:attrNameLst>
                                      </p:cBhvr>
                                      <p:to>
                                        <p:strVal val="visible"/>
                                      </p:to>
                                    </p:set>
                                    <p:animEffect filter="wipe(down)" transition="in">
                                      <p:cBhvr additive="repl">
                                        <p:cTn id="98" dur="500"/>
                                        <p:tgtEl>
                                          <p:spTgt spid="430"/>
                                        </p:tgtEl>
                                      </p:cBhvr>
                                    </p:animEffect>
                                  </p:childTnLst>
                                </p:cTn>
                              </p:par>
                            </p:childTnLst>
                          </p:cTn>
                        </p:par>
                        <p:par>
                          <p:cTn id="99" fill="hold">
                            <p:stCondLst>
                              <p:cond delay="1000"/>
                            </p:stCondLst>
                            <p:childTnLst>
                              <p:par>
                                <p:cTn id="100" nodeType="afterEffect" fill="hold" presetClass="entr" presetID="22" presetSubtype="4">
                                  <p:stCondLst>
                                    <p:cond delay="0"/>
                                  </p:stCondLst>
                                  <p:childTnLst>
                                    <p:set>
                                      <p:cBhvr>
                                        <p:cTn id="101" dur="1" fill="hold">
                                          <p:stCondLst>
                                            <p:cond delay="0"/>
                                          </p:stCondLst>
                                        </p:cTn>
                                        <p:tgtEl>
                                          <p:spTgt spid="432"/>
                                        </p:tgtEl>
                                        <p:attrNameLst>
                                          <p:attrName>style.visibility</p:attrName>
                                        </p:attrNameLst>
                                      </p:cBhvr>
                                      <p:to>
                                        <p:strVal val="visible"/>
                                      </p:to>
                                    </p:set>
                                    <p:animEffect filter="wipe(down)" transition="in">
                                      <p:cBhvr additive="repl">
                                        <p:cTn id="102" dur="500"/>
                                        <p:tgtEl>
                                          <p:spTgt spid="432"/>
                                        </p:tgtEl>
                                      </p:cBhvr>
                                    </p:animEffect>
                                  </p:childTnLst>
                                </p:cTn>
                              </p:par>
                            </p:childTnLst>
                          </p:cTn>
                        </p:par>
                        <p:par>
                          <p:cTn id="103" fill="hold">
                            <p:stCondLst>
                              <p:cond delay="1500"/>
                            </p:stCondLst>
                            <p:childTnLst>
                              <p:par>
                                <p:cTn id="104" nodeType="afterEffect" fill="hold" presetClass="entr" presetID="22" presetSubtype="2">
                                  <p:stCondLst>
                                    <p:cond delay="0"/>
                                  </p:stCondLst>
                                  <p:childTnLst>
                                    <p:set>
                                      <p:cBhvr>
                                        <p:cTn id="105" dur="1" fill="hold">
                                          <p:stCondLst>
                                            <p:cond delay="0"/>
                                          </p:stCondLst>
                                        </p:cTn>
                                        <p:tgtEl>
                                          <p:spTgt spid="431"/>
                                        </p:tgtEl>
                                        <p:attrNameLst>
                                          <p:attrName>style.visibility</p:attrName>
                                        </p:attrNameLst>
                                      </p:cBhvr>
                                      <p:to>
                                        <p:strVal val="visible"/>
                                      </p:to>
                                    </p:set>
                                    <p:animEffect filter="wipe(right)" transition="in">
                                      <p:cBhvr additive="repl">
                                        <p:cTn id="10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39" name="PlaceHolder 2"/>
          <p:cNvSpPr>
            <a:spLocks noGrp="1"/>
          </p:cNvSpPr>
          <p:nvPr>
            <p:ph/>
          </p:nvPr>
        </p:nvSpPr>
        <p:spPr>
          <a:xfrm>
            <a:off x="571320" y="2253960"/>
            <a:ext cx="3850920" cy="3871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ir pollution relate to global warming? We can’t prove it does. But we do know that global warming is happening and that pollutants have the potential to trap heat in our atmosphere.</a:t>
            </a:r>
            <a:endParaRPr b="0" lang="en-US" sz="2400" spc="-1" strike="noStrike">
              <a:solidFill>
                <a:srgbClr val="ffffff"/>
              </a:solidFill>
              <a:latin typeface="Arial"/>
            </a:endParaRPr>
          </a:p>
        </p:txBody>
      </p:sp>
      <p:sp>
        <p:nvSpPr>
          <p:cNvPr id="440" name=""/>
          <p:cNvSpPr/>
          <p:nvPr/>
        </p:nvSpPr>
        <p:spPr>
          <a:xfrm>
            <a:off x="5324400" y="2944800"/>
            <a:ext cx="6480" cy="1440"/>
          </a:xfrm>
          <a:custGeom>
            <a:avLst/>
            <a:gdLst/>
            <a:ahLst/>
            <a:rect l="l" t="t" r="r" b="b"/>
            <a:pathLst>
              <a:path w="4" h="0">
                <a:moveTo>
                  <a:pt x="4" y="0"/>
                </a:moveTo>
                <a:lnTo>
                  <a:pt x="4" y="0"/>
                </a:lnTo>
                <a:lnTo>
                  <a:pt x="4" y="0"/>
                </a:lnTo>
                <a:lnTo>
                  <a:pt x="4" y="0"/>
                </a:lnTo>
                <a:lnTo>
                  <a:pt x="0" y="0"/>
                </a:lnTo>
                <a:lnTo>
                  <a:pt x="0" y="0"/>
                </a:lnTo>
                <a:lnTo>
                  <a:pt x="4" y="0"/>
                </a:lnTo>
                <a:lnTo>
                  <a:pt x="4"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7481880" y="36590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2" name=""/>
          <p:cNvGrpSpPr/>
          <p:nvPr/>
        </p:nvGrpSpPr>
        <p:grpSpPr>
          <a:xfrm>
            <a:off x="4572000" y="1832040"/>
            <a:ext cx="4011120" cy="4096800"/>
            <a:chOff x="4572000" y="1832040"/>
            <a:chExt cx="4011120" cy="4096800"/>
          </a:xfrm>
        </p:grpSpPr>
        <p:sp>
          <p:nvSpPr>
            <p:cNvPr id="443" name=""/>
            <p:cNvSpPr/>
            <p:nvPr/>
          </p:nvSpPr>
          <p:spPr>
            <a:xfrm>
              <a:off x="4812480" y="2058120"/>
              <a:ext cx="3499920" cy="3587040"/>
            </a:xfrm>
            <a:custGeom>
              <a:avLst/>
              <a:gdLst/>
              <a:ahLst/>
              <a:rect l="l" t="t" r="r" b="b"/>
              <a:pathLst>
                <a:path w="1642" h="1683">
                  <a:moveTo>
                    <a:pt x="1265" y="1596"/>
                  </a:moveTo>
                  <a:lnTo>
                    <a:pt x="1265" y="1596"/>
                  </a:lnTo>
                  <a:lnTo>
                    <a:pt x="1269" y="1599"/>
                  </a:lnTo>
                  <a:lnTo>
                    <a:pt x="1269" y="1599"/>
                  </a:lnTo>
                  <a:lnTo>
                    <a:pt x="1265" y="1596"/>
                  </a:lnTo>
                  <a:lnTo>
                    <a:pt x="1265" y="1596"/>
                  </a:lnTo>
                  <a:close/>
                  <a:moveTo>
                    <a:pt x="1642" y="1082"/>
                  </a:moveTo>
                  <a:lnTo>
                    <a:pt x="1642" y="1082"/>
                  </a:lnTo>
                  <a:lnTo>
                    <a:pt x="1606" y="1065"/>
                  </a:lnTo>
                  <a:lnTo>
                    <a:pt x="1576" y="1049"/>
                  </a:lnTo>
                  <a:lnTo>
                    <a:pt x="1549" y="1029"/>
                  </a:lnTo>
                  <a:lnTo>
                    <a:pt x="1526" y="1009"/>
                  </a:lnTo>
                  <a:lnTo>
                    <a:pt x="1509" y="992"/>
                  </a:lnTo>
                  <a:lnTo>
                    <a:pt x="1496" y="972"/>
                  </a:lnTo>
                  <a:lnTo>
                    <a:pt x="1486" y="955"/>
                  </a:lnTo>
                  <a:lnTo>
                    <a:pt x="1479" y="935"/>
                  </a:lnTo>
                  <a:lnTo>
                    <a:pt x="1469" y="905"/>
                  </a:lnTo>
                  <a:lnTo>
                    <a:pt x="1469" y="878"/>
                  </a:lnTo>
                  <a:lnTo>
                    <a:pt x="1469" y="862"/>
                  </a:lnTo>
                  <a:lnTo>
                    <a:pt x="1469" y="858"/>
                  </a:lnTo>
                  <a:lnTo>
                    <a:pt x="1469" y="858"/>
                  </a:lnTo>
                  <a:lnTo>
                    <a:pt x="1472" y="828"/>
                  </a:lnTo>
                  <a:lnTo>
                    <a:pt x="1476" y="805"/>
                  </a:lnTo>
                  <a:lnTo>
                    <a:pt x="1482" y="782"/>
                  </a:lnTo>
                  <a:lnTo>
                    <a:pt x="1492" y="758"/>
                  </a:lnTo>
                  <a:lnTo>
                    <a:pt x="1506" y="738"/>
                  </a:lnTo>
                  <a:lnTo>
                    <a:pt x="1522" y="721"/>
                  </a:lnTo>
                  <a:lnTo>
                    <a:pt x="1552" y="688"/>
                  </a:lnTo>
                  <a:lnTo>
                    <a:pt x="1586" y="665"/>
                  </a:lnTo>
                  <a:lnTo>
                    <a:pt x="1612" y="645"/>
                  </a:lnTo>
                  <a:lnTo>
                    <a:pt x="1642" y="631"/>
                  </a:lnTo>
                  <a:lnTo>
                    <a:pt x="1642" y="631"/>
                  </a:lnTo>
                  <a:lnTo>
                    <a:pt x="1579" y="638"/>
                  </a:lnTo>
                  <a:lnTo>
                    <a:pt x="1529" y="635"/>
                  </a:lnTo>
                  <a:lnTo>
                    <a:pt x="1486" y="628"/>
                  </a:lnTo>
                  <a:lnTo>
                    <a:pt x="1452" y="615"/>
                  </a:lnTo>
                  <a:lnTo>
                    <a:pt x="1429" y="598"/>
                  </a:lnTo>
                  <a:lnTo>
                    <a:pt x="1412" y="578"/>
                  </a:lnTo>
                  <a:lnTo>
                    <a:pt x="1402" y="555"/>
                  </a:lnTo>
                  <a:lnTo>
                    <a:pt x="1395" y="531"/>
                  </a:lnTo>
                  <a:lnTo>
                    <a:pt x="1395" y="508"/>
                  </a:lnTo>
                  <a:lnTo>
                    <a:pt x="1395" y="484"/>
                  </a:lnTo>
                  <a:lnTo>
                    <a:pt x="1402" y="461"/>
                  </a:lnTo>
                  <a:lnTo>
                    <a:pt x="1409" y="441"/>
                  </a:lnTo>
                  <a:lnTo>
                    <a:pt x="1419" y="411"/>
                  </a:lnTo>
                  <a:lnTo>
                    <a:pt x="1426" y="398"/>
                  </a:lnTo>
                  <a:lnTo>
                    <a:pt x="1426" y="398"/>
                  </a:lnTo>
                  <a:lnTo>
                    <a:pt x="1369" y="404"/>
                  </a:lnTo>
                  <a:lnTo>
                    <a:pt x="1345" y="401"/>
                  </a:lnTo>
                  <a:lnTo>
                    <a:pt x="1325" y="401"/>
                  </a:lnTo>
                  <a:lnTo>
                    <a:pt x="1305" y="394"/>
                  </a:lnTo>
                  <a:lnTo>
                    <a:pt x="1289" y="391"/>
                  </a:lnTo>
                  <a:lnTo>
                    <a:pt x="1275" y="381"/>
                  </a:lnTo>
                  <a:lnTo>
                    <a:pt x="1262" y="374"/>
                  </a:lnTo>
                  <a:lnTo>
                    <a:pt x="1249" y="364"/>
                  </a:lnTo>
                  <a:lnTo>
                    <a:pt x="1242" y="354"/>
                  </a:lnTo>
                  <a:lnTo>
                    <a:pt x="1225" y="328"/>
                  </a:lnTo>
                  <a:lnTo>
                    <a:pt x="1219" y="301"/>
                  </a:lnTo>
                  <a:lnTo>
                    <a:pt x="1215" y="274"/>
                  </a:lnTo>
                  <a:lnTo>
                    <a:pt x="1215" y="244"/>
                  </a:lnTo>
                  <a:lnTo>
                    <a:pt x="1219" y="217"/>
                  </a:lnTo>
                  <a:lnTo>
                    <a:pt x="1229" y="164"/>
                  </a:lnTo>
                  <a:lnTo>
                    <a:pt x="1239" y="127"/>
                  </a:lnTo>
                  <a:lnTo>
                    <a:pt x="1245" y="114"/>
                  </a:lnTo>
                  <a:lnTo>
                    <a:pt x="1245" y="114"/>
                  </a:lnTo>
                  <a:lnTo>
                    <a:pt x="1209" y="144"/>
                  </a:lnTo>
                  <a:lnTo>
                    <a:pt x="1172" y="167"/>
                  </a:lnTo>
                  <a:lnTo>
                    <a:pt x="1138" y="187"/>
                  </a:lnTo>
                  <a:lnTo>
                    <a:pt x="1108" y="207"/>
                  </a:lnTo>
                  <a:lnTo>
                    <a:pt x="1078" y="217"/>
                  </a:lnTo>
                  <a:lnTo>
                    <a:pt x="1052" y="227"/>
                  </a:lnTo>
                  <a:lnTo>
                    <a:pt x="1025" y="234"/>
                  </a:lnTo>
                  <a:lnTo>
                    <a:pt x="1002" y="237"/>
                  </a:lnTo>
                  <a:lnTo>
                    <a:pt x="978" y="241"/>
                  </a:lnTo>
                  <a:lnTo>
                    <a:pt x="958" y="237"/>
                  </a:lnTo>
                  <a:lnTo>
                    <a:pt x="941" y="234"/>
                  </a:lnTo>
                  <a:lnTo>
                    <a:pt x="921" y="227"/>
                  </a:lnTo>
                  <a:lnTo>
                    <a:pt x="908" y="217"/>
                  </a:lnTo>
                  <a:lnTo>
                    <a:pt x="891" y="207"/>
                  </a:lnTo>
                  <a:lnTo>
                    <a:pt x="868" y="184"/>
                  </a:lnTo>
                  <a:lnTo>
                    <a:pt x="845" y="157"/>
                  </a:lnTo>
                  <a:lnTo>
                    <a:pt x="831" y="127"/>
                  </a:lnTo>
                  <a:lnTo>
                    <a:pt x="818" y="94"/>
                  </a:lnTo>
                  <a:lnTo>
                    <a:pt x="808" y="67"/>
                  </a:lnTo>
                  <a:lnTo>
                    <a:pt x="798" y="21"/>
                  </a:lnTo>
                  <a:lnTo>
                    <a:pt x="798" y="0"/>
                  </a:lnTo>
                  <a:lnTo>
                    <a:pt x="798" y="0"/>
                  </a:lnTo>
                  <a:lnTo>
                    <a:pt x="795" y="41"/>
                  </a:lnTo>
                  <a:lnTo>
                    <a:pt x="791" y="77"/>
                  </a:lnTo>
                  <a:lnTo>
                    <a:pt x="788" y="107"/>
                  </a:lnTo>
                  <a:lnTo>
                    <a:pt x="781" y="137"/>
                  </a:lnTo>
                  <a:lnTo>
                    <a:pt x="771" y="161"/>
                  </a:lnTo>
                  <a:lnTo>
                    <a:pt x="761" y="181"/>
                  </a:lnTo>
                  <a:lnTo>
                    <a:pt x="751" y="197"/>
                  </a:lnTo>
                  <a:lnTo>
                    <a:pt x="741" y="211"/>
                  </a:lnTo>
                  <a:lnTo>
                    <a:pt x="728" y="224"/>
                  </a:lnTo>
                  <a:lnTo>
                    <a:pt x="715" y="231"/>
                  </a:lnTo>
                  <a:lnTo>
                    <a:pt x="701" y="237"/>
                  </a:lnTo>
                  <a:lnTo>
                    <a:pt x="688" y="241"/>
                  </a:lnTo>
                  <a:lnTo>
                    <a:pt x="658" y="244"/>
                  </a:lnTo>
                  <a:lnTo>
                    <a:pt x="624" y="237"/>
                  </a:lnTo>
                  <a:lnTo>
                    <a:pt x="594" y="227"/>
                  </a:lnTo>
                  <a:lnTo>
                    <a:pt x="564" y="211"/>
                  </a:lnTo>
                  <a:lnTo>
                    <a:pt x="538" y="194"/>
                  </a:lnTo>
                  <a:lnTo>
                    <a:pt x="511" y="177"/>
                  </a:lnTo>
                  <a:lnTo>
                    <a:pt x="474" y="147"/>
                  </a:lnTo>
                  <a:lnTo>
                    <a:pt x="461" y="137"/>
                  </a:lnTo>
                  <a:lnTo>
                    <a:pt x="461" y="137"/>
                  </a:lnTo>
                  <a:lnTo>
                    <a:pt x="467" y="164"/>
                  </a:lnTo>
                  <a:lnTo>
                    <a:pt x="474" y="187"/>
                  </a:lnTo>
                  <a:lnTo>
                    <a:pt x="474" y="211"/>
                  </a:lnTo>
                  <a:lnTo>
                    <a:pt x="474" y="234"/>
                  </a:lnTo>
                  <a:lnTo>
                    <a:pt x="474" y="254"/>
                  </a:lnTo>
                  <a:lnTo>
                    <a:pt x="471" y="271"/>
                  </a:lnTo>
                  <a:lnTo>
                    <a:pt x="464" y="288"/>
                  </a:lnTo>
                  <a:lnTo>
                    <a:pt x="457" y="304"/>
                  </a:lnTo>
                  <a:lnTo>
                    <a:pt x="437" y="328"/>
                  </a:lnTo>
                  <a:lnTo>
                    <a:pt x="414" y="348"/>
                  </a:lnTo>
                  <a:lnTo>
                    <a:pt x="384" y="364"/>
                  </a:lnTo>
                  <a:lnTo>
                    <a:pt x="354" y="378"/>
                  </a:lnTo>
                  <a:lnTo>
                    <a:pt x="324" y="384"/>
                  </a:lnTo>
                  <a:lnTo>
                    <a:pt x="291" y="391"/>
                  </a:lnTo>
                  <a:lnTo>
                    <a:pt x="234" y="394"/>
                  </a:lnTo>
                  <a:lnTo>
                    <a:pt x="190" y="394"/>
                  </a:lnTo>
                  <a:lnTo>
                    <a:pt x="177" y="391"/>
                  </a:lnTo>
                  <a:lnTo>
                    <a:pt x="177" y="391"/>
                  </a:lnTo>
                  <a:lnTo>
                    <a:pt x="200" y="421"/>
                  </a:lnTo>
                  <a:lnTo>
                    <a:pt x="220" y="451"/>
                  </a:lnTo>
                  <a:lnTo>
                    <a:pt x="237" y="478"/>
                  </a:lnTo>
                  <a:lnTo>
                    <a:pt x="251" y="505"/>
                  </a:lnTo>
                  <a:lnTo>
                    <a:pt x="261" y="531"/>
                  </a:lnTo>
                  <a:lnTo>
                    <a:pt x="267" y="558"/>
                  </a:lnTo>
                  <a:lnTo>
                    <a:pt x="271" y="581"/>
                  </a:lnTo>
                  <a:lnTo>
                    <a:pt x="274" y="605"/>
                  </a:lnTo>
                  <a:lnTo>
                    <a:pt x="274" y="628"/>
                  </a:lnTo>
                  <a:lnTo>
                    <a:pt x="271" y="648"/>
                  </a:lnTo>
                  <a:lnTo>
                    <a:pt x="264" y="668"/>
                  </a:lnTo>
                  <a:lnTo>
                    <a:pt x="257" y="688"/>
                  </a:lnTo>
                  <a:lnTo>
                    <a:pt x="237" y="725"/>
                  </a:lnTo>
                  <a:lnTo>
                    <a:pt x="214" y="755"/>
                  </a:lnTo>
                  <a:lnTo>
                    <a:pt x="214" y="755"/>
                  </a:lnTo>
                  <a:lnTo>
                    <a:pt x="200" y="742"/>
                  </a:lnTo>
                  <a:lnTo>
                    <a:pt x="187" y="725"/>
                  </a:lnTo>
                  <a:lnTo>
                    <a:pt x="174" y="705"/>
                  </a:lnTo>
                  <a:lnTo>
                    <a:pt x="167" y="685"/>
                  </a:lnTo>
                  <a:lnTo>
                    <a:pt x="167" y="685"/>
                  </a:lnTo>
                  <a:lnTo>
                    <a:pt x="167" y="678"/>
                  </a:lnTo>
                  <a:lnTo>
                    <a:pt x="167" y="678"/>
                  </a:lnTo>
                  <a:lnTo>
                    <a:pt x="170" y="665"/>
                  </a:lnTo>
                  <a:lnTo>
                    <a:pt x="177" y="651"/>
                  </a:lnTo>
                  <a:lnTo>
                    <a:pt x="184" y="638"/>
                  </a:lnTo>
                  <a:lnTo>
                    <a:pt x="184" y="638"/>
                  </a:lnTo>
                  <a:lnTo>
                    <a:pt x="194" y="625"/>
                  </a:lnTo>
                  <a:lnTo>
                    <a:pt x="200" y="611"/>
                  </a:lnTo>
                  <a:lnTo>
                    <a:pt x="200" y="608"/>
                  </a:lnTo>
                  <a:lnTo>
                    <a:pt x="197" y="601"/>
                  </a:lnTo>
                  <a:lnTo>
                    <a:pt x="194" y="601"/>
                  </a:lnTo>
                  <a:lnTo>
                    <a:pt x="187" y="598"/>
                  </a:lnTo>
                  <a:lnTo>
                    <a:pt x="187" y="598"/>
                  </a:lnTo>
                  <a:lnTo>
                    <a:pt x="180" y="601"/>
                  </a:lnTo>
                  <a:lnTo>
                    <a:pt x="174" y="605"/>
                  </a:lnTo>
                  <a:lnTo>
                    <a:pt x="164" y="615"/>
                  </a:lnTo>
                  <a:lnTo>
                    <a:pt x="160" y="625"/>
                  </a:lnTo>
                  <a:lnTo>
                    <a:pt x="160" y="628"/>
                  </a:lnTo>
                  <a:lnTo>
                    <a:pt x="160" y="628"/>
                  </a:lnTo>
                  <a:lnTo>
                    <a:pt x="160" y="635"/>
                  </a:lnTo>
                  <a:lnTo>
                    <a:pt x="157" y="638"/>
                  </a:lnTo>
                  <a:lnTo>
                    <a:pt x="150" y="638"/>
                  </a:lnTo>
                  <a:lnTo>
                    <a:pt x="150" y="638"/>
                  </a:lnTo>
                  <a:lnTo>
                    <a:pt x="140" y="631"/>
                  </a:lnTo>
                  <a:lnTo>
                    <a:pt x="127" y="615"/>
                  </a:lnTo>
                  <a:lnTo>
                    <a:pt x="117" y="595"/>
                  </a:lnTo>
                  <a:lnTo>
                    <a:pt x="110" y="578"/>
                  </a:lnTo>
                  <a:lnTo>
                    <a:pt x="110" y="578"/>
                  </a:lnTo>
                  <a:lnTo>
                    <a:pt x="104" y="561"/>
                  </a:lnTo>
                  <a:lnTo>
                    <a:pt x="97" y="548"/>
                  </a:lnTo>
                  <a:lnTo>
                    <a:pt x="90" y="545"/>
                  </a:lnTo>
                  <a:lnTo>
                    <a:pt x="87" y="541"/>
                  </a:lnTo>
                  <a:lnTo>
                    <a:pt x="80" y="545"/>
                  </a:lnTo>
                  <a:lnTo>
                    <a:pt x="74" y="548"/>
                  </a:lnTo>
                  <a:lnTo>
                    <a:pt x="74" y="548"/>
                  </a:lnTo>
                  <a:lnTo>
                    <a:pt x="70" y="555"/>
                  </a:lnTo>
                  <a:lnTo>
                    <a:pt x="70" y="561"/>
                  </a:lnTo>
                  <a:lnTo>
                    <a:pt x="70" y="578"/>
                  </a:lnTo>
                  <a:lnTo>
                    <a:pt x="80" y="595"/>
                  </a:lnTo>
                  <a:lnTo>
                    <a:pt x="107" y="631"/>
                  </a:lnTo>
                  <a:lnTo>
                    <a:pt x="107" y="631"/>
                  </a:lnTo>
                  <a:lnTo>
                    <a:pt x="107" y="635"/>
                  </a:lnTo>
                  <a:lnTo>
                    <a:pt x="104" y="638"/>
                  </a:lnTo>
                  <a:lnTo>
                    <a:pt x="94" y="631"/>
                  </a:lnTo>
                  <a:lnTo>
                    <a:pt x="94" y="631"/>
                  </a:lnTo>
                  <a:lnTo>
                    <a:pt x="77" y="621"/>
                  </a:lnTo>
                  <a:lnTo>
                    <a:pt x="64" y="608"/>
                  </a:lnTo>
                  <a:lnTo>
                    <a:pt x="57" y="598"/>
                  </a:lnTo>
                  <a:lnTo>
                    <a:pt x="54" y="585"/>
                  </a:lnTo>
                  <a:lnTo>
                    <a:pt x="54" y="585"/>
                  </a:lnTo>
                  <a:lnTo>
                    <a:pt x="47" y="571"/>
                  </a:lnTo>
                  <a:lnTo>
                    <a:pt x="40" y="561"/>
                  </a:lnTo>
                  <a:lnTo>
                    <a:pt x="34" y="558"/>
                  </a:lnTo>
                  <a:lnTo>
                    <a:pt x="27" y="558"/>
                  </a:lnTo>
                  <a:lnTo>
                    <a:pt x="27" y="558"/>
                  </a:lnTo>
                  <a:lnTo>
                    <a:pt x="20" y="561"/>
                  </a:lnTo>
                  <a:lnTo>
                    <a:pt x="14" y="568"/>
                  </a:lnTo>
                  <a:lnTo>
                    <a:pt x="14" y="578"/>
                  </a:lnTo>
                  <a:lnTo>
                    <a:pt x="20" y="591"/>
                  </a:lnTo>
                  <a:lnTo>
                    <a:pt x="20" y="591"/>
                  </a:lnTo>
                  <a:lnTo>
                    <a:pt x="27" y="605"/>
                  </a:lnTo>
                  <a:lnTo>
                    <a:pt x="40" y="618"/>
                  </a:lnTo>
                  <a:lnTo>
                    <a:pt x="57" y="638"/>
                  </a:lnTo>
                  <a:lnTo>
                    <a:pt x="84" y="658"/>
                  </a:lnTo>
                  <a:lnTo>
                    <a:pt x="84" y="658"/>
                  </a:lnTo>
                  <a:lnTo>
                    <a:pt x="90" y="661"/>
                  </a:lnTo>
                  <a:lnTo>
                    <a:pt x="90" y="668"/>
                  </a:lnTo>
                  <a:lnTo>
                    <a:pt x="80" y="668"/>
                  </a:lnTo>
                  <a:lnTo>
                    <a:pt x="80" y="668"/>
                  </a:lnTo>
                  <a:lnTo>
                    <a:pt x="67" y="668"/>
                  </a:lnTo>
                  <a:lnTo>
                    <a:pt x="54" y="665"/>
                  </a:lnTo>
                  <a:lnTo>
                    <a:pt x="40" y="658"/>
                  </a:lnTo>
                  <a:lnTo>
                    <a:pt x="30" y="648"/>
                  </a:lnTo>
                  <a:lnTo>
                    <a:pt x="30" y="648"/>
                  </a:lnTo>
                  <a:lnTo>
                    <a:pt x="20" y="638"/>
                  </a:lnTo>
                  <a:lnTo>
                    <a:pt x="10" y="638"/>
                  </a:lnTo>
                  <a:lnTo>
                    <a:pt x="4" y="641"/>
                  </a:lnTo>
                  <a:lnTo>
                    <a:pt x="4" y="641"/>
                  </a:lnTo>
                  <a:lnTo>
                    <a:pt x="0" y="645"/>
                  </a:lnTo>
                  <a:lnTo>
                    <a:pt x="0" y="655"/>
                  </a:lnTo>
                  <a:lnTo>
                    <a:pt x="0" y="658"/>
                  </a:lnTo>
                  <a:lnTo>
                    <a:pt x="4" y="665"/>
                  </a:lnTo>
                  <a:lnTo>
                    <a:pt x="7" y="668"/>
                  </a:lnTo>
                  <a:lnTo>
                    <a:pt x="17" y="671"/>
                  </a:lnTo>
                  <a:lnTo>
                    <a:pt x="17" y="671"/>
                  </a:lnTo>
                  <a:lnTo>
                    <a:pt x="60" y="691"/>
                  </a:lnTo>
                  <a:lnTo>
                    <a:pt x="90" y="698"/>
                  </a:lnTo>
                  <a:lnTo>
                    <a:pt x="107" y="701"/>
                  </a:lnTo>
                  <a:lnTo>
                    <a:pt x="124" y="701"/>
                  </a:lnTo>
                  <a:lnTo>
                    <a:pt x="124" y="701"/>
                  </a:lnTo>
                  <a:lnTo>
                    <a:pt x="137" y="698"/>
                  </a:lnTo>
                  <a:lnTo>
                    <a:pt x="137" y="698"/>
                  </a:lnTo>
                  <a:lnTo>
                    <a:pt x="144" y="715"/>
                  </a:lnTo>
                  <a:lnTo>
                    <a:pt x="154" y="735"/>
                  </a:lnTo>
                  <a:lnTo>
                    <a:pt x="170" y="758"/>
                  </a:lnTo>
                  <a:lnTo>
                    <a:pt x="190" y="782"/>
                  </a:lnTo>
                  <a:lnTo>
                    <a:pt x="190" y="782"/>
                  </a:lnTo>
                  <a:lnTo>
                    <a:pt x="164" y="805"/>
                  </a:lnTo>
                  <a:lnTo>
                    <a:pt x="137" y="825"/>
                  </a:lnTo>
                  <a:lnTo>
                    <a:pt x="87" y="855"/>
                  </a:lnTo>
                  <a:lnTo>
                    <a:pt x="47" y="875"/>
                  </a:lnTo>
                  <a:lnTo>
                    <a:pt x="34" y="878"/>
                  </a:lnTo>
                  <a:lnTo>
                    <a:pt x="34" y="878"/>
                  </a:lnTo>
                  <a:lnTo>
                    <a:pt x="100" y="895"/>
                  </a:lnTo>
                  <a:lnTo>
                    <a:pt x="130" y="902"/>
                  </a:lnTo>
                  <a:lnTo>
                    <a:pt x="154" y="912"/>
                  </a:lnTo>
                  <a:lnTo>
                    <a:pt x="174" y="922"/>
                  </a:lnTo>
                  <a:lnTo>
                    <a:pt x="190" y="932"/>
                  </a:lnTo>
                  <a:lnTo>
                    <a:pt x="207" y="945"/>
                  </a:lnTo>
                  <a:lnTo>
                    <a:pt x="217" y="955"/>
                  </a:lnTo>
                  <a:lnTo>
                    <a:pt x="227" y="968"/>
                  </a:lnTo>
                  <a:lnTo>
                    <a:pt x="234" y="982"/>
                  </a:lnTo>
                  <a:lnTo>
                    <a:pt x="237" y="995"/>
                  </a:lnTo>
                  <a:lnTo>
                    <a:pt x="241" y="1012"/>
                  </a:lnTo>
                  <a:lnTo>
                    <a:pt x="237" y="1039"/>
                  </a:lnTo>
                  <a:lnTo>
                    <a:pt x="230" y="1069"/>
                  </a:lnTo>
                  <a:lnTo>
                    <a:pt x="217" y="1095"/>
                  </a:lnTo>
                  <a:lnTo>
                    <a:pt x="200" y="1122"/>
                  </a:lnTo>
                  <a:lnTo>
                    <a:pt x="184" y="1145"/>
                  </a:lnTo>
                  <a:lnTo>
                    <a:pt x="167" y="1165"/>
                  </a:lnTo>
                  <a:lnTo>
                    <a:pt x="137" y="1199"/>
                  </a:lnTo>
                  <a:lnTo>
                    <a:pt x="124" y="1209"/>
                  </a:lnTo>
                  <a:lnTo>
                    <a:pt x="124" y="1209"/>
                  </a:lnTo>
                  <a:lnTo>
                    <a:pt x="154" y="1205"/>
                  </a:lnTo>
                  <a:lnTo>
                    <a:pt x="184" y="1205"/>
                  </a:lnTo>
                  <a:lnTo>
                    <a:pt x="207" y="1205"/>
                  </a:lnTo>
                  <a:lnTo>
                    <a:pt x="230" y="1209"/>
                  </a:lnTo>
                  <a:lnTo>
                    <a:pt x="251" y="1212"/>
                  </a:lnTo>
                  <a:lnTo>
                    <a:pt x="271" y="1219"/>
                  </a:lnTo>
                  <a:lnTo>
                    <a:pt x="284" y="1229"/>
                  </a:lnTo>
                  <a:lnTo>
                    <a:pt x="297" y="1239"/>
                  </a:lnTo>
                  <a:lnTo>
                    <a:pt x="311" y="1249"/>
                  </a:lnTo>
                  <a:lnTo>
                    <a:pt x="317" y="1262"/>
                  </a:lnTo>
                  <a:lnTo>
                    <a:pt x="331" y="1292"/>
                  </a:lnTo>
                  <a:lnTo>
                    <a:pt x="341" y="1322"/>
                  </a:lnTo>
                  <a:lnTo>
                    <a:pt x="341" y="1356"/>
                  </a:lnTo>
                  <a:lnTo>
                    <a:pt x="337" y="1392"/>
                  </a:lnTo>
                  <a:lnTo>
                    <a:pt x="334" y="1426"/>
                  </a:lnTo>
                  <a:lnTo>
                    <a:pt x="317" y="1486"/>
                  </a:lnTo>
                  <a:lnTo>
                    <a:pt x="304" y="1533"/>
                  </a:lnTo>
                  <a:lnTo>
                    <a:pt x="294" y="1549"/>
                  </a:lnTo>
                  <a:lnTo>
                    <a:pt x="294" y="1549"/>
                  </a:lnTo>
                  <a:lnTo>
                    <a:pt x="324" y="1516"/>
                  </a:lnTo>
                  <a:lnTo>
                    <a:pt x="347" y="1486"/>
                  </a:lnTo>
                  <a:lnTo>
                    <a:pt x="374" y="1463"/>
                  </a:lnTo>
                  <a:lnTo>
                    <a:pt x="397" y="1442"/>
                  </a:lnTo>
                  <a:lnTo>
                    <a:pt x="421" y="1426"/>
                  </a:lnTo>
                  <a:lnTo>
                    <a:pt x="441" y="1416"/>
                  </a:lnTo>
                  <a:lnTo>
                    <a:pt x="461" y="1406"/>
                  </a:lnTo>
                  <a:lnTo>
                    <a:pt x="481" y="1402"/>
                  </a:lnTo>
                  <a:lnTo>
                    <a:pt x="501" y="1399"/>
                  </a:lnTo>
                  <a:lnTo>
                    <a:pt x="518" y="1402"/>
                  </a:lnTo>
                  <a:lnTo>
                    <a:pt x="531" y="1406"/>
                  </a:lnTo>
                  <a:lnTo>
                    <a:pt x="548" y="1412"/>
                  </a:lnTo>
                  <a:lnTo>
                    <a:pt x="561" y="1419"/>
                  </a:lnTo>
                  <a:lnTo>
                    <a:pt x="574" y="1429"/>
                  </a:lnTo>
                  <a:lnTo>
                    <a:pt x="598" y="1452"/>
                  </a:lnTo>
                  <a:lnTo>
                    <a:pt x="618" y="1483"/>
                  </a:lnTo>
                  <a:lnTo>
                    <a:pt x="634" y="1513"/>
                  </a:lnTo>
                  <a:lnTo>
                    <a:pt x="648" y="1546"/>
                  </a:lnTo>
                  <a:lnTo>
                    <a:pt x="658" y="1576"/>
                  </a:lnTo>
                  <a:lnTo>
                    <a:pt x="671" y="1626"/>
                  </a:lnTo>
                  <a:lnTo>
                    <a:pt x="678" y="1646"/>
                  </a:lnTo>
                  <a:lnTo>
                    <a:pt x="678" y="1646"/>
                  </a:lnTo>
                  <a:lnTo>
                    <a:pt x="698" y="1569"/>
                  </a:lnTo>
                  <a:lnTo>
                    <a:pt x="708" y="1543"/>
                  </a:lnTo>
                  <a:lnTo>
                    <a:pt x="718" y="1516"/>
                  </a:lnTo>
                  <a:lnTo>
                    <a:pt x="731" y="1496"/>
                  </a:lnTo>
                  <a:lnTo>
                    <a:pt x="741" y="1479"/>
                  </a:lnTo>
                  <a:lnTo>
                    <a:pt x="755" y="1466"/>
                  </a:lnTo>
                  <a:lnTo>
                    <a:pt x="768" y="1459"/>
                  </a:lnTo>
                  <a:lnTo>
                    <a:pt x="778" y="1452"/>
                  </a:lnTo>
                  <a:lnTo>
                    <a:pt x="791" y="1452"/>
                  </a:lnTo>
                  <a:lnTo>
                    <a:pt x="805" y="1452"/>
                  </a:lnTo>
                  <a:lnTo>
                    <a:pt x="815" y="1456"/>
                  </a:lnTo>
                  <a:lnTo>
                    <a:pt x="838" y="1473"/>
                  </a:lnTo>
                  <a:lnTo>
                    <a:pt x="861" y="1493"/>
                  </a:lnTo>
                  <a:lnTo>
                    <a:pt x="885" y="1519"/>
                  </a:lnTo>
                  <a:lnTo>
                    <a:pt x="905" y="1549"/>
                  </a:lnTo>
                  <a:lnTo>
                    <a:pt x="938" y="1613"/>
                  </a:lnTo>
                  <a:lnTo>
                    <a:pt x="962" y="1663"/>
                  </a:lnTo>
                  <a:lnTo>
                    <a:pt x="968" y="1683"/>
                  </a:lnTo>
                  <a:lnTo>
                    <a:pt x="968" y="1683"/>
                  </a:lnTo>
                  <a:lnTo>
                    <a:pt x="968" y="1606"/>
                  </a:lnTo>
                  <a:lnTo>
                    <a:pt x="972" y="1546"/>
                  </a:lnTo>
                  <a:lnTo>
                    <a:pt x="975" y="1519"/>
                  </a:lnTo>
                  <a:lnTo>
                    <a:pt x="982" y="1499"/>
                  </a:lnTo>
                  <a:lnTo>
                    <a:pt x="988" y="1483"/>
                  </a:lnTo>
                  <a:lnTo>
                    <a:pt x="998" y="1469"/>
                  </a:lnTo>
                  <a:lnTo>
                    <a:pt x="1008" y="1456"/>
                  </a:lnTo>
                  <a:lnTo>
                    <a:pt x="1018" y="1449"/>
                  </a:lnTo>
                  <a:lnTo>
                    <a:pt x="1028" y="1442"/>
                  </a:lnTo>
                  <a:lnTo>
                    <a:pt x="1042" y="1439"/>
                  </a:lnTo>
                  <a:lnTo>
                    <a:pt x="1052" y="1439"/>
                  </a:lnTo>
                  <a:lnTo>
                    <a:pt x="1065" y="1442"/>
                  </a:lnTo>
                  <a:lnTo>
                    <a:pt x="1092" y="1449"/>
                  </a:lnTo>
                  <a:lnTo>
                    <a:pt x="1118" y="1463"/>
                  </a:lnTo>
                  <a:lnTo>
                    <a:pt x="1148" y="1483"/>
                  </a:lnTo>
                  <a:lnTo>
                    <a:pt x="1172" y="1503"/>
                  </a:lnTo>
                  <a:lnTo>
                    <a:pt x="1199" y="1526"/>
                  </a:lnTo>
                  <a:lnTo>
                    <a:pt x="1239" y="1569"/>
                  </a:lnTo>
                  <a:lnTo>
                    <a:pt x="1265" y="1596"/>
                  </a:lnTo>
                  <a:lnTo>
                    <a:pt x="1265" y="1596"/>
                  </a:lnTo>
                  <a:lnTo>
                    <a:pt x="1249" y="1573"/>
                  </a:lnTo>
                  <a:lnTo>
                    <a:pt x="1239" y="1553"/>
                  </a:lnTo>
                  <a:lnTo>
                    <a:pt x="1225" y="1526"/>
                  </a:lnTo>
                  <a:lnTo>
                    <a:pt x="1219" y="1496"/>
                  </a:lnTo>
                  <a:lnTo>
                    <a:pt x="1212" y="1463"/>
                  </a:lnTo>
                  <a:lnTo>
                    <a:pt x="1212" y="1426"/>
                  </a:lnTo>
                  <a:lnTo>
                    <a:pt x="1215" y="1382"/>
                  </a:lnTo>
                  <a:lnTo>
                    <a:pt x="1215" y="1382"/>
                  </a:lnTo>
                  <a:lnTo>
                    <a:pt x="1222" y="1359"/>
                  </a:lnTo>
                  <a:lnTo>
                    <a:pt x="1232" y="1342"/>
                  </a:lnTo>
                  <a:lnTo>
                    <a:pt x="1249" y="1332"/>
                  </a:lnTo>
                  <a:lnTo>
                    <a:pt x="1265" y="1326"/>
                  </a:lnTo>
                  <a:lnTo>
                    <a:pt x="1285" y="1322"/>
                  </a:lnTo>
                  <a:lnTo>
                    <a:pt x="1309" y="1322"/>
                  </a:lnTo>
                  <a:lnTo>
                    <a:pt x="1332" y="1322"/>
                  </a:lnTo>
                  <a:lnTo>
                    <a:pt x="1355" y="1329"/>
                  </a:lnTo>
                  <a:lnTo>
                    <a:pt x="1402" y="1342"/>
                  </a:lnTo>
                  <a:lnTo>
                    <a:pt x="1442" y="1356"/>
                  </a:lnTo>
                  <a:lnTo>
                    <a:pt x="1482" y="1372"/>
                  </a:lnTo>
                  <a:lnTo>
                    <a:pt x="1482" y="1372"/>
                  </a:lnTo>
                  <a:lnTo>
                    <a:pt x="1442" y="1326"/>
                  </a:lnTo>
                  <a:lnTo>
                    <a:pt x="1415" y="1282"/>
                  </a:lnTo>
                  <a:lnTo>
                    <a:pt x="1395" y="1242"/>
                  </a:lnTo>
                  <a:lnTo>
                    <a:pt x="1382" y="1209"/>
                  </a:lnTo>
                  <a:lnTo>
                    <a:pt x="1382" y="1209"/>
                  </a:lnTo>
                  <a:lnTo>
                    <a:pt x="1419" y="1202"/>
                  </a:lnTo>
                  <a:lnTo>
                    <a:pt x="1442" y="1192"/>
                  </a:lnTo>
                  <a:lnTo>
                    <a:pt x="1442" y="1192"/>
                  </a:lnTo>
                  <a:lnTo>
                    <a:pt x="1449" y="1202"/>
                  </a:lnTo>
                  <a:lnTo>
                    <a:pt x="1449" y="1202"/>
                  </a:lnTo>
                  <a:lnTo>
                    <a:pt x="1459" y="1209"/>
                  </a:lnTo>
                  <a:lnTo>
                    <a:pt x="1472" y="1219"/>
                  </a:lnTo>
                  <a:lnTo>
                    <a:pt x="1496" y="1229"/>
                  </a:lnTo>
                  <a:lnTo>
                    <a:pt x="1532" y="1242"/>
                  </a:lnTo>
                  <a:lnTo>
                    <a:pt x="1532" y="1242"/>
                  </a:lnTo>
                  <a:lnTo>
                    <a:pt x="1539" y="1246"/>
                  </a:lnTo>
                  <a:lnTo>
                    <a:pt x="1546" y="1246"/>
                  </a:lnTo>
                  <a:lnTo>
                    <a:pt x="1552" y="1242"/>
                  </a:lnTo>
                  <a:lnTo>
                    <a:pt x="1556" y="1236"/>
                  </a:lnTo>
                  <a:lnTo>
                    <a:pt x="1559" y="1232"/>
                  </a:lnTo>
                  <a:lnTo>
                    <a:pt x="1559" y="1232"/>
                  </a:lnTo>
                  <a:lnTo>
                    <a:pt x="1556" y="1226"/>
                  </a:lnTo>
                  <a:lnTo>
                    <a:pt x="1549" y="1222"/>
                  </a:lnTo>
                  <a:lnTo>
                    <a:pt x="1539" y="1222"/>
                  </a:lnTo>
                  <a:lnTo>
                    <a:pt x="1539" y="1222"/>
                  </a:lnTo>
                  <a:lnTo>
                    <a:pt x="1526" y="1222"/>
                  </a:lnTo>
                  <a:lnTo>
                    <a:pt x="1512" y="1219"/>
                  </a:lnTo>
                  <a:lnTo>
                    <a:pt x="1502" y="1212"/>
                  </a:lnTo>
                  <a:lnTo>
                    <a:pt x="1496" y="1205"/>
                  </a:lnTo>
                  <a:lnTo>
                    <a:pt x="1496" y="1205"/>
                  </a:lnTo>
                  <a:lnTo>
                    <a:pt x="1489" y="1199"/>
                  </a:lnTo>
                  <a:lnTo>
                    <a:pt x="1492" y="1195"/>
                  </a:lnTo>
                  <a:lnTo>
                    <a:pt x="1499" y="1195"/>
                  </a:lnTo>
                  <a:lnTo>
                    <a:pt x="1499" y="1195"/>
                  </a:lnTo>
                  <a:lnTo>
                    <a:pt x="1526" y="1199"/>
                  </a:lnTo>
                  <a:lnTo>
                    <a:pt x="1549" y="1195"/>
                  </a:lnTo>
                  <a:lnTo>
                    <a:pt x="1566" y="1195"/>
                  </a:lnTo>
                  <a:lnTo>
                    <a:pt x="1576" y="1189"/>
                  </a:lnTo>
                  <a:lnTo>
                    <a:pt x="1576" y="1189"/>
                  </a:lnTo>
                  <a:lnTo>
                    <a:pt x="1586" y="1185"/>
                  </a:lnTo>
                  <a:lnTo>
                    <a:pt x="1592" y="1179"/>
                  </a:lnTo>
                  <a:lnTo>
                    <a:pt x="1592" y="1172"/>
                  </a:lnTo>
                  <a:lnTo>
                    <a:pt x="1592" y="1165"/>
                  </a:lnTo>
                  <a:lnTo>
                    <a:pt x="1592" y="1165"/>
                  </a:lnTo>
                  <a:lnTo>
                    <a:pt x="1586" y="1162"/>
                  </a:lnTo>
                  <a:lnTo>
                    <a:pt x="1579" y="1162"/>
                  </a:lnTo>
                  <a:lnTo>
                    <a:pt x="1569" y="1162"/>
                  </a:lnTo>
                  <a:lnTo>
                    <a:pt x="1559" y="1169"/>
                  </a:lnTo>
                  <a:lnTo>
                    <a:pt x="1559" y="1169"/>
                  </a:lnTo>
                  <a:lnTo>
                    <a:pt x="1549" y="1172"/>
                  </a:lnTo>
                  <a:lnTo>
                    <a:pt x="1539" y="1175"/>
                  </a:lnTo>
                  <a:lnTo>
                    <a:pt x="1526" y="1175"/>
                  </a:lnTo>
                  <a:lnTo>
                    <a:pt x="1509" y="1175"/>
                  </a:lnTo>
                  <a:lnTo>
                    <a:pt x="1509" y="1175"/>
                  </a:lnTo>
                  <a:lnTo>
                    <a:pt x="1499" y="1172"/>
                  </a:lnTo>
                  <a:lnTo>
                    <a:pt x="1499" y="1169"/>
                  </a:lnTo>
                  <a:lnTo>
                    <a:pt x="1502" y="1165"/>
                  </a:lnTo>
                  <a:lnTo>
                    <a:pt x="1536" y="1159"/>
                  </a:lnTo>
                  <a:lnTo>
                    <a:pt x="1536" y="1159"/>
                  </a:lnTo>
                  <a:lnTo>
                    <a:pt x="1552" y="1152"/>
                  </a:lnTo>
                  <a:lnTo>
                    <a:pt x="1562" y="1145"/>
                  </a:lnTo>
                  <a:lnTo>
                    <a:pt x="1566" y="1139"/>
                  </a:lnTo>
                  <a:lnTo>
                    <a:pt x="1566" y="1132"/>
                  </a:lnTo>
                  <a:lnTo>
                    <a:pt x="1566" y="1132"/>
                  </a:lnTo>
                  <a:lnTo>
                    <a:pt x="1566" y="1125"/>
                  </a:lnTo>
                  <a:lnTo>
                    <a:pt x="1562" y="1122"/>
                  </a:lnTo>
                  <a:lnTo>
                    <a:pt x="1552" y="1122"/>
                  </a:lnTo>
                  <a:lnTo>
                    <a:pt x="1542" y="1125"/>
                  </a:lnTo>
                  <a:lnTo>
                    <a:pt x="1529" y="1132"/>
                  </a:lnTo>
                  <a:lnTo>
                    <a:pt x="1529" y="1132"/>
                  </a:lnTo>
                  <a:lnTo>
                    <a:pt x="1512" y="1139"/>
                  </a:lnTo>
                  <a:lnTo>
                    <a:pt x="1496" y="1145"/>
                  </a:lnTo>
                  <a:lnTo>
                    <a:pt x="1479" y="1149"/>
                  </a:lnTo>
                  <a:lnTo>
                    <a:pt x="1469" y="1145"/>
                  </a:lnTo>
                  <a:lnTo>
                    <a:pt x="1469" y="1145"/>
                  </a:lnTo>
                  <a:lnTo>
                    <a:pt x="1466" y="1142"/>
                  </a:lnTo>
                  <a:lnTo>
                    <a:pt x="1466" y="1139"/>
                  </a:lnTo>
                  <a:lnTo>
                    <a:pt x="1469" y="1135"/>
                  </a:lnTo>
                  <a:lnTo>
                    <a:pt x="1469" y="1135"/>
                  </a:lnTo>
                  <a:lnTo>
                    <a:pt x="1472" y="1122"/>
                  </a:lnTo>
                  <a:lnTo>
                    <a:pt x="1476" y="1112"/>
                  </a:lnTo>
                  <a:lnTo>
                    <a:pt x="1472" y="1105"/>
                  </a:lnTo>
                  <a:lnTo>
                    <a:pt x="1469" y="1102"/>
                  </a:lnTo>
                  <a:lnTo>
                    <a:pt x="1469" y="1102"/>
                  </a:lnTo>
                  <a:lnTo>
                    <a:pt x="1459" y="1099"/>
                  </a:lnTo>
                  <a:lnTo>
                    <a:pt x="1452" y="1102"/>
                  </a:lnTo>
                  <a:lnTo>
                    <a:pt x="1449" y="1112"/>
                  </a:lnTo>
                  <a:lnTo>
                    <a:pt x="1449" y="1125"/>
                  </a:lnTo>
                  <a:lnTo>
                    <a:pt x="1449" y="1125"/>
                  </a:lnTo>
                  <a:lnTo>
                    <a:pt x="1446" y="1142"/>
                  </a:lnTo>
                  <a:lnTo>
                    <a:pt x="1442" y="1152"/>
                  </a:lnTo>
                  <a:lnTo>
                    <a:pt x="1436" y="1162"/>
                  </a:lnTo>
                  <a:lnTo>
                    <a:pt x="1436" y="1162"/>
                  </a:lnTo>
                  <a:lnTo>
                    <a:pt x="1432" y="1165"/>
                  </a:lnTo>
                  <a:lnTo>
                    <a:pt x="1432" y="1165"/>
                  </a:lnTo>
                  <a:lnTo>
                    <a:pt x="1405" y="1179"/>
                  </a:lnTo>
                  <a:lnTo>
                    <a:pt x="1379" y="1182"/>
                  </a:lnTo>
                  <a:lnTo>
                    <a:pt x="1379" y="1182"/>
                  </a:lnTo>
                  <a:lnTo>
                    <a:pt x="1379" y="1159"/>
                  </a:lnTo>
                  <a:lnTo>
                    <a:pt x="1389" y="1139"/>
                  </a:lnTo>
                  <a:lnTo>
                    <a:pt x="1399" y="1119"/>
                  </a:lnTo>
                  <a:lnTo>
                    <a:pt x="1415" y="1105"/>
                  </a:lnTo>
                  <a:lnTo>
                    <a:pt x="1436" y="1095"/>
                  </a:lnTo>
                  <a:lnTo>
                    <a:pt x="1459" y="1089"/>
                  </a:lnTo>
                  <a:lnTo>
                    <a:pt x="1482" y="1082"/>
                  </a:lnTo>
                  <a:lnTo>
                    <a:pt x="1506" y="1079"/>
                  </a:lnTo>
                  <a:lnTo>
                    <a:pt x="1556" y="1075"/>
                  </a:lnTo>
                  <a:lnTo>
                    <a:pt x="1599" y="1079"/>
                  </a:lnTo>
                  <a:lnTo>
                    <a:pt x="1642" y="1082"/>
                  </a:lnTo>
                  <a:lnTo>
                    <a:pt x="1642" y="1082"/>
                  </a:lnTo>
                  <a:close/>
                  <a:moveTo>
                    <a:pt x="80" y="665"/>
                  </a:moveTo>
                  <a:lnTo>
                    <a:pt x="80" y="665"/>
                  </a:lnTo>
                  <a:lnTo>
                    <a:pt x="84" y="665"/>
                  </a:lnTo>
                  <a:lnTo>
                    <a:pt x="84" y="665"/>
                  </a:lnTo>
                  <a:lnTo>
                    <a:pt x="84" y="665"/>
                  </a:lnTo>
                  <a:lnTo>
                    <a:pt x="84" y="665"/>
                  </a:lnTo>
                  <a:lnTo>
                    <a:pt x="80" y="665"/>
                  </a:lnTo>
                  <a:lnTo>
                    <a:pt x="80" y="665"/>
                  </a:lnTo>
                  <a:close/>
                  <a:moveTo>
                    <a:pt x="1439" y="1115"/>
                  </a:moveTo>
                  <a:lnTo>
                    <a:pt x="1439" y="1115"/>
                  </a:lnTo>
                  <a:lnTo>
                    <a:pt x="1439" y="1115"/>
                  </a:lnTo>
                  <a:lnTo>
                    <a:pt x="1439" y="1115"/>
                  </a:lnTo>
                  <a:lnTo>
                    <a:pt x="1439" y="1115"/>
                  </a:lnTo>
                  <a:lnTo>
                    <a:pt x="1439" y="1115"/>
                  </a:lnTo>
                  <a:lnTo>
                    <a:pt x="1439" y="1115"/>
                  </a:lnTo>
                  <a:lnTo>
                    <a:pt x="1439" y="1115"/>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572000" y="1832040"/>
              <a:ext cx="4011120" cy="4096800"/>
            </a:xfrm>
            <a:custGeom>
              <a:avLst/>
              <a:gdLst/>
              <a:ahLst/>
              <a:rect l="l" t="t" r="r" b="b"/>
              <a:pathLst>
                <a:path w="1882" h="1922">
                  <a:moveTo>
                    <a:pt x="1882" y="1225"/>
                  </a:moveTo>
                  <a:lnTo>
                    <a:pt x="1769" y="1155"/>
                  </a:lnTo>
                  <a:lnTo>
                    <a:pt x="1769" y="1155"/>
                  </a:lnTo>
                  <a:lnTo>
                    <a:pt x="1739" y="1141"/>
                  </a:lnTo>
                  <a:lnTo>
                    <a:pt x="1712" y="1125"/>
                  </a:lnTo>
                  <a:lnTo>
                    <a:pt x="1692" y="1111"/>
                  </a:lnTo>
                  <a:lnTo>
                    <a:pt x="1672" y="1095"/>
                  </a:lnTo>
                  <a:lnTo>
                    <a:pt x="1655" y="1081"/>
                  </a:lnTo>
                  <a:lnTo>
                    <a:pt x="1645" y="1064"/>
                  </a:lnTo>
                  <a:lnTo>
                    <a:pt x="1629" y="1038"/>
                  </a:lnTo>
                  <a:lnTo>
                    <a:pt x="1619" y="1011"/>
                  </a:lnTo>
                  <a:lnTo>
                    <a:pt x="1619" y="991"/>
                  </a:lnTo>
                  <a:lnTo>
                    <a:pt x="1619" y="971"/>
                  </a:lnTo>
                  <a:lnTo>
                    <a:pt x="1619" y="968"/>
                  </a:lnTo>
                  <a:lnTo>
                    <a:pt x="1619" y="961"/>
                  </a:lnTo>
                  <a:lnTo>
                    <a:pt x="1619" y="961"/>
                  </a:lnTo>
                  <a:lnTo>
                    <a:pt x="1619" y="938"/>
                  </a:lnTo>
                  <a:lnTo>
                    <a:pt x="1625" y="918"/>
                  </a:lnTo>
                  <a:lnTo>
                    <a:pt x="1632" y="898"/>
                  </a:lnTo>
                  <a:lnTo>
                    <a:pt x="1639" y="881"/>
                  </a:lnTo>
                  <a:lnTo>
                    <a:pt x="1652" y="864"/>
                  </a:lnTo>
                  <a:lnTo>
                    <a:pt x="1665" y="848"/>
                  </a:lnTo>
                  <a:lnTo>
                    <a:pt x="1692" y="821"/>
                  </a:lnTo>
                  <a:lnTo>
                    <a:pt x="1719" y="801"/>
                  </a:lnTo>
                  <a:lnTo>
                    <a:pt x="1745" y="784"/>
                  </a:lnTo>
                  <a:lnTo>
                    <a:pt x="1769" y="771"/>
                  </a:lnTo>
                  <a:lnTo>
                    <a:pt x="1866" y="704"/>
                  </a:lnTo>
                  <a:lnTo>
                    <a:pt x="1752" y="701"/>
                  </a:lnTo>
                  <a:lnTo>
                    <a:pt x="1752" y="701"/>
                  </a:lnTo>
                  <a:lnTo>
                    <a:pt x="1715" y="704"/>
                  </a:lnTo>
                  <a:lnTo>
                    <a:pt x="1682" y="707"/>
                  </a:lnTo>
                  <a:lnTo>
                    <a:pt x="1652" y="704"/>
                  </a:lnTo>
                  <a:lnTo>
                    <a:pt x="1625" y="701"/>
                  </a:lnTo>
                  <a:lnTo>
                    <a:pt x="1602" y="697"/>
                  </a:lnTo>
                  <a:lnTo>
                    <a:pt x="1582" y="687"/>
                  </a:lnTo>
                  <a:lnTo>
                    <a:pt x="1569" y="677"/>
                  </a:lnTo>
                  <a:lnTo>
                    <a:pt x="1559" y="664"/>
                  </a:lnTo>
                  <a:lnTo>
                    <a:pt x="1559" y="664"/>
                  </a:lnTo>
                  <a:lnTo>
                    <a:pt x="1549" y="647"/>
                  </a:lnTo>
                  <a:lnTo>
                    <a:pt x="1545" y="627"/>
                  </a:lnTo>
                  <a:lnTo>
                    <a:pt x="1545" y="607"/>
                  </a:lnTo>
                  <a:lnTo>
                    <a:pt x="1549" y="587"/>
                  </a:lnTo>
                  <a:lnTo>
                    <a:pt x="1559" y="550"/>
                  </a:lnTo>
                  <a:lnTo>
                    <a:pt x="1572" y="524"/>
                  </a:lnTo>
                  <a:lnTo>
                    <a:pt x="1605" y="460"/>
                  </a:lnTo>
                  <a:lnTo>
                    <a:pt x="1532" y="470"/>
                  </a:lnTo>
                  <a:lnTo>
                    <a:pt x="1532" y="470"/>
                  </a:lnTo>
                  <a:lnTo>
                    <a:pt x="1482" y="474"/>
                  </a:lnTo>
                  <a:lnTo>
                    <a:pt x="1458" y="470"/>
                  </a:lnTo>
                  <a:lnTo>
                    <a:pt x="1438" y="470"/>
                  </a:lnTo>
                  <a:lnTo>
                    <a:pt x="1422" y="464"/>
                  </a:lnTo>
                  <a:lnTo>
                    <a:pt x="1405" y="457"/>
                  </a:lnTo>
                  <a:lnTo>
                    <a:pt x="1395" y="447"/>
                  </a:lnTo>
                  <a:lnTo>
                    <a:pt x="1385" y="437"/>
                  </a:lnTo>
                  <a:lnTo>
                    <a:pt x="1385" y="437"/>
                  </a:lnTo>
                  <a:lnTo>
                    <a:pt x="1375" y="427"/>
                  </a:lnTo>
                  <a:lnTo>
                    <a:pt x="1372" y="414"/>
                  </a:lnTo>
                  <a:lnTo>
                    <a:pt x="1365" y="387"/>
                  </a:lnTo>
                  <a:lnTo>
                    <a:pt x="1365" y="360"/>
                  </a:lnTo>
                  <a:lnTo>
                    <a:pt x="1365" y="330"/>
                  </a:lnTo>
                  <a:lnTo>
                    <a:pt x="1372" y="300"/>
                  </a:lnTo>
                  <a:lnTo>
                    <a:pt x="1378" y="273"/>
                  </a:lnTo>
                  <a:lnTo>
                    <a:pt x="1392" y="233"/>
                  </a:lnTo>
                  <a:lnTo>
                    <a:pt x="1432" y="106"/>
                  </a:lnTo>
                  <a:lnTo>
                    <a:pt x="1335" y="190"/>
                  </a:lnTo>
                  <a:lnTo>
                    <a:pt x="1335" y="190"/>
                  </a:lnTo>
                  <a:lnTo>
                    <a:pt x="1291" y="227"/>
                  </a:lnTo>
                  <a:lnTo>
                    <a:pt x="1248" y="253"/>
                  </a:lnTo>
                  <a:lnTo>
                    <a:pt x="1211" y="277"/>
                  </a:lnTo>
                  <a:lnTo>
                    <a:pt x="1175" y="293"/>
                  </a:lnTo>
                  <a:lnTo>
                    <a:pt x="1138" y="303"/>
                  </a:lnTo>
                  <a:lnTo>
                    <a:pt x="1108" y="307"/>
                  </a:lnTo>
                  <a:lnTo>
                    <a:pt x="1078" y="307"/>
                  </a:lnTo>
                  <a:lnTo>
                    <a:pt x="1051" y="300"/>
                  </a:lnTo>
                  <a:lnTo>
                    <a:pt x="1051" y="300"/>
                  </a:lnTo>
                  <a:lnTo>
                    <a:pt x="1034" y="290"/>
                  </a:lnTo>
                  <a:lnTo>
                    <a:pt x="1021" y="277"/>
                  </a:lnTo>
                  <a:lnTo>
                    <a:pt x="1004" y="257"/>
                  </a:lnTo>
                  <a:lnTo>
                    <a:pt x="991" y="237"/>
                  </a:lnTo>
                  <a:lnTo>
                    <a:pt x="964" y="190"/>
                  </a:lnTo>
                  <a:lnTo>
                    <a:pt x="941" y="137"/>
                  </a:lnTo>
                  <a:lnTo>
                    <a:pt x="924" y="86"/>
                  </a:lnTo>
                  <a:lnTo>
                    <a:pt x="911" y="43"/>
                  </a:lnTo>
                  <a:lnTo>
                    <a:pt x="901" y="0"/>
                  </a:lnTo>
                  <a:lnTo>
                    <a:pt x="881" y="117"/>
                  </a:lnTo>
                  <a:lnTo>
                    <a:pt x="881" y="117"/>
                  </a:lnTo>
                  <a:lnTo>
                    <a:pt x="881" y="153"/>
                  </a:lnTo>
                  <a:lnTo>
                    <a:pt x="874" y="190"/>
                  </a:lnTo>
                  <a:lnTo>
                    <a:pt x="868" y="220"/>
                  </a:lnTo>
                  <a:lnTo>
                    <a:pt x="858" y="247"/>
                  </a:lnTo>
                  <a:lnTo>
                    <a:pt x="848" y="270"/>
                  </a:lnTo>
                  <a:lnTo>
                    <a:pt x="834" y="287"/>
                  </a:lnTo>
                  <a:lnTo>
                    <a:pt x="821" y="300"/>
                  </a:lnTo>
                  <a:lnTo>
                    <a:pt x="807" y="307"/>
                  </a:lnTo>
                  <a:lnTo>
                    <a:pt x="807" y="307"/>
                  </a:lnTo>
                  <a:lnTo>
                    <a:pt x="794" y="310"/>
                  </a:lnTo>
                  <a:lnTo>
                    <a:pt x="781" y="313"/>
                  </a:lnTo>
                  <a:lnTo>
                    <a:pt x="751" y="310"/>
                  </a:lnTo>
                  <a:lnTo>
                    <a:pt x="721" y="300"/>
                  </a:lnTo>
                  <a:lnTo>
                    <a:pt x="691" y="283"/>
                  </a:lnTo>
                  <a:lnTo>
                    <a:pt x="661" y="267"/>
                  </a:lnTo>
                  <a:lnTo>
                    <a:pt x="637" y="247"/>
                  </a:lnTo>
                  <a:lnTo>
                    <a:pt x="597" y="217"/>
                  </a:lnTo>
                  <a:lnTo>
                    <a:pt x="494" y="117"/>
                  </a:lnTo>
                  <a:lnTo>
                    <a:pt x="537" y="253"/>
                  </a:lnTo>
                  <a:lnTo>
                    <a:pt x="537" y="253"/>
                  </a:lnTo>
                  <a:lnTo>
                    <a:pt x="550" y="300"/>
                  </a:lnTo>
                  <a:lnTo>
                    <a:pt x="550" y="320"/>
                  </a:lnTo>
                  <a:lnTo>
                    <a:pt x="550" y="340"/>
                  </a:lnTo>
                  <a:lnTo>
                    <a:pt x="550" y="357"/>
                  </a:lnTo>
                  <a:lnTo>
                    <a:pt x="544" y="374"/>
                  </a:lnTo>
                  <a:lnTo>
                    <a:pt x="537" y="390"/>
                  </a:lnTo>
                  <a:lnTo>
                    <a:pt x="530" y="404"/>
                  </a:lnTo>
                  <a:lnTo>
                    <a:pt x="530" y="404"/>
                  </a:lnTo>
                  <a:lnTo>
                    <a:pt x="517" y="414"/>
                  </a:lnTo>
                  <a:lnTo>
                    <a:pt x="507" y="424"/>
                  </a:lnTo>
                  <a:lnTo>
                    <a:pt x="477" y="440"/>
                  </a:lnTo>
                  <a:lnTo>
                    <a:pt x="444" y="450"/>
                  </a:lnTo>
                  <a:lnTo>
                    <a:pt x="410" y="457"/>
                  </a:lnTo>
                  <a:lnTo>
                    <a:pt x="374" y="464"/>
                  </a:lnTo>
                  <a:lnTo>
                    <a:pt x="343" y="464"/>
                  </a:lnTo>
                  <a:lnTo>
                    <a:pt x="293" y="460"/>
                  </a:lnTo>
                  <a:lnTo>
                    <a:pt x="200" y="450"/>
                  </a:lnTo>
                  <a:lnTo>
                    <a:pt x="260" y="520"/>
                  </a:lnTo>
                  <a:lnTo>
                    <a:pt x="260" y="520"/>
                  </a:lnTo>
                  <a:lnTo>
                    <a:pt x="300" y="574"/>
                  </a:lnTo>
                  <a:lnTo>
                    <a:pt x="313" y="597"/>
                  </a:lnTo>
                  <a:lnTo>
                    <a:pt x="327" y="621"/>
                  </a:lnTo>
                  <a:lnTo>
                    <a:pt x="337" y="644"/>
                  </a:lnTo>
                  <a:lnTo>
                    <a:pt x="343" y="667"/>
                  </a:lnTo>
                  <a:lnTo>
                    <a:pt x="347" y="691"/>
                  </a:lnTo>
                  <a:lnTo>
                    <a:pt x="350" y="714"/>
                  </a:lnTo>
                  <a:lnTo>
                    <a:pt x="350" y="714"/>
                  </a:lnTo>
                  <a:lnTo>
                    <a:pt x="347" y="734"/>
                  </a:lnTo>
                  <a:lnTo>
                    <a:pt x="343" y="757"/>
                  </a:lnTo>
                  <a:lnTo>
                    <a:pt x="337" y="781"/>
                  </a:lnTo>
                  <a:lnTo>
                    <a:pt x="323" y="801"/>
                  </a:lnTo>
                  <a:lnTo>
                    <a:pt x="323" y="801"/>
                  </a:lnTo>
                  <a:lnTo>
                    <a:pt x="317" y="787"/>
                  </a:lnTo>
                  <a:lnTo>
                    <a:pt x="317" y="787"/>
                  </a:lnTo>
                  <a:lnTo>
                    <a:pt x="317" y="787"/>
                  </a:lnTo>
                  <a:lnTo>
                    <a:pt x="317" y="787"/>
                  </a:lnTo>
                  <a:lnTo>
                    <a:pt x="320" y="777"/>
                  </a:lnTo>
                  <a:lnTo>
                    <a:pt x="327" y="767"/>
                  </a:lnTo>
                  <a:lnTo>
                    <a:pt x="327" y="767"/>
                  </a:lnTo>
                  <a:lnTo>
                    <a:pt x="337" y="751"/>
                  </a:lnTo>
                  <a:lnTo>
                    <a:pt x="343" y="741"/>
                  </a:lnTo>
                  <a:lnTo>
                    <a:pt x="347" y="727"/>
                  </a:lnTo>
                  <a:lnTo>
                    <a:pt x="347" y="717"/>
                  </a:lnTo>
                  <a:lnTo>
                    <a:pt x="347" y="717"/>
                  </a:lnTo>
                  <a:lnTo>
                    <a:pt x="347" y="707"/>
                  </a:lnTo>
                  <a:lnTo>
                    <a:pt x="347" y="697"/>
                  </a:lnTo>
                  <a:lnTo>
                    <a:pt x="347" y="697"/>
                  </a:lnTo>
                  <a:lnTo>
                    <a:pt x="340" y="687"/>
                  </a:lnTo>
                  <a:lnTo>
                    <a:pt x="330" y="677"/>
                  </a:lnTo>
                  <a:lnTo>
                    <a:pt x="317" y="671"/>
                  </a:lnTo>
                  <a:lnTo>
                    <a:pt x="300" y="667"/>
                  </a:lnTo>
                  <a:lnTo>
                    <a:pt x="300" y="667"/>
                  </a:lnTo>
                  <a:lnTo>
                    <a:pt x="290" y="671"/>
                  </a:lnTo>
                  <a:lnTo>
                    <a:pt x="280" y="671"/>
                  </a:lnTo>
                  <a:lnTo>
                    <a:pt x="263" y="681"/>
                  </a:lnTo>
                  <a:lnTo>
                    <a:pt x="263" y="681"/>
                  </a:lnTo>
                  <a:lnTo>
                    <a:pt x="260" y="671"/>
                  </a:lnTo>
                  <a:lnTo>
                    <a:pt x="260" y="671"/>
                  </a:lnTo>
                  <a:lnTo>
                    <a:pt x="250" y="651"/>
                  </a:lnTo>
                  <a:lnTo>
                    <a:pt x="240" y="631"/>
                  </a:lnTo>
                  <a:lnTo>
                    <a:pt x="227" y="621"/>
                  </a:lnTo>
                  <a:lnTo>
                    <a:pt x="210" y="614"/>
                  </a:lnTo>
                  <a:lnTo>
                    <a:pt x="210" y="614"/>
                  </a:lnTo>
                  <a:lnTo>
                    <a:pt x="197" y="611"/>
                  </a:lnTo>
                  <a:lnTo>
                    <a:pt x="187" y="614"/>
                  </a:lnTo>
                  <a:lnTo>
                    <a:pt x="173" y="617"/>
                  </a:lnTo>
                  <a:lnTo>
                    <a:pt x="163" y="627"/>
                  </a:lnTo>
                  <a:lnTo>
                    <a:pt x="163" y="627"/>
                  </a:lnTo>
                  <a:lnTo>
                    <a:pt x="160" y="631"/>
                  </a:lnTo>
                  <a:lnTo>
                    <a:pt x="160" y="631"/>
                  </a:lnTo>
                  <a:lnTo>
                    <a:pt x="143" y="627"/>
                  </a:lnTo>
                  <a:lnTo>
                    <a:pt x="123" y="631"/>
                  </a:lnTo>
                  <a:lnTo>
                    <a:pt x="123" y="631"/>
                  </a:lnTo>
                  <a:lnTo>
                    <a:pt x="113" y="634"/>
                  </a:lnTo>
                  <a:lnTo>
                    <a:pt x="106" y="644"/>
                  </a:lnTo>
                  <a:lnTo>
                    <a:pt x="100" y="651"/>
                  </a:lnTo>
                  <a:lnTo>
                    <a:pt x="93" y="661"/>
                  </a:lnTo>
                  <a:lnTo>
                    <a:pt x="93" y="661"/>
                  </a:lnTo>
                  <a:lnTo>
                    <a:pt x="90" y="681"/>
                  </a:lnTo>
                  <a:lnTo>
                    <a:pt x="90" y="681"/>
                  </a:lnTo>
                  <a:lnTo>
                    <a:pt x="93" y="694"/>
                  </a:lnTo>
                  <a:lnTo>
                    <a:pt x="100" y="714"/>
                  </a:lnTo>
                  <a:lnTo>
                    <a:pt x="100" y="714"/>
                  </a:lnTo>
                  <a:lnTo>
                    <a:pt x="100" y="714"/>
                  </a:lnTo>
                  <a:lnTo>
                    <a:pt x="100" y="714"/>
                  </a:lnTo>
                  <a:lnTo>
                    <a:pt x="93" y="721"/>
                  </a:lnTo>
                  <a:lnTo>
                    <a:pt x="86" y="724"/>
                  </a:lnTo>
                  <a:lnTo>
                    <a:pt x="86" y="727"/>
                  </a:lnTo>
                  <a:lnTo>
                    <a:pt x="86" y="727"/>
                  </a:lnTo>
                  <a:lnTo>
                    <a:pt x="80" y="741"/>
                  </a:lnTo>
                  <a:lnTo>
                    <a:pt x="76" y="761"/>
                  </a:lnTo>
                  <a:lnTo>
                    <a:pt x="76" y="761"/>
                  </a:lnTo>
                  <a:lnTo>
                    <a:pt x="76" y="774"/>
                  </a:lnTo>
                  <a:lnTo>
                    <a:pt x="76" y="774"/>
                  </a:lnTo>
                  <a:lnTo>
                    <a:pt x="83" y="784"/>
                  </a:lnTo>
                  <a:lnTo>
                    <a:pt x="90" y="794"/>
                  </a:lnTo>
                  <a:lnTo>
                    <a:pt x="100" y="804"/>
                  </a:lnTo>
                  <a:lnTo>
                    <a:pt x="117" y="814"/>
                  </a:lnTo>
                  <a:lnTo>
                    <a:pt x="117" y="814"/>
                  </a:lnTo>
                  <a:lnTo>
                    <a:pt x="127" y="817"/>
                  </a:lnTo>
                  <a:lnTo>
                    <a:pt x="127" y="817"/>
                  </a:lnTo>
                  <a:lnTo>
                    <a:pt x="147" y="827"/>
                  </a:lnTo>
                  <a:lnTo>
                    <a:pt x="170" y="834"/>
                  </a:lnTo>
                  <a:lnTo>
                    <a:pt x="197" y="841"/>
                  </a:lnTo>
                  <a:lnTo>
                    <a:pt x="227" y="844"/>
                  </a:lnTo>
                  <a:lnTo>
                    <a:pt x="227" y="844"/>
                  </a:lnTo>
                  <a:lnTo>
                    <a:pt x="253" y="881"/>
                  </a:lnTo>
                  <a:lnTo>
                    <a:pt x="253" y="881"/>
                  </a:lnTo>
                  <a:lnTo>
                    <a:pt x="210" y="911"/>
                  </a:lnTo>
                  <a:lnTo>
                    <a:pt x="173" y="934"/>
                  </a:lnTo>
                  <a:lnTo>
                    <a:pt x="133" y="951"/>
                  </a:lnTo>
                  <a:lnTo>
                    <a:pt x="0" y="1001"/>
                  </a:lnTo>
                  <a:lnTo>
                    <a:pt x="140" y="1021"/>
                  </a:lnTo>
                  <a:lnTo>
                    <a:pt x="140" y="1021"/>
                  </a:lnTo>
                  <a:lnTo>
                    <a:pt x="177" y="1028"/>
                  </a:lnTo>
                  <a:lnTo>
                    <a:pt x="210" y="1034"/>
                  </a:lnTo>
                  <a:lnTo>
                    <a:pt x="237" y="1044"/>
                  </a:lnTo>
                  <a:lnTo>
                    <a:pt x="260" y="1054"/>
                  </a:lnTo>
                  <a:lnTo>
                    <a:pt x="280" y="1068"/>
                  </a:lnTo>
                  <a:lnTo>
                    <a:pt x="297" y="1078"/>
                  </a:lnTo>
                  <a:lnTo>
                    <a:pt x="307" y="1091"/>
                  </a:lnTo>
                  <a:lnTo>
                    <a:pt x="313" y="1108"/>
                  </a:lnTo>
                  <a:lnTo>
                    <a:pt x="313" y="1108"/>
                  </a:lnTo>
                  <a:lnTo>
                    <a:pt x="317" y="1125"/>
                  </a:lnTo>
                  <a:lnTo>
                    <a:pt x="317" y="1125"/>
                  </a:lnTo>
                  <a:lnTo>
                    <a:pt x="313" y="1148"/>
                  </a:lnTo>
                  <a:lnTo>
                    <a:pt x="303" y="1171"/>
                  </a:lnTo>
                  <a:lnTo>
                    <a:pt x="290" y="1195"/>
                  </a:lnTo>
                  <a:lnTo>
                    <a:pt x="273" y="1218"/>
                  </a:lnTo>
                  <a:lnTo>
                    <a:pt x="240" y="1261"/>
                  </a:lnTo>
                  <a:lnTo>
                    <a:pt x="213" y="1288"/>
                  </a:lnTo>
                  <a:lnTo>
                    <a:pt x="113" y="1375"/>
                  </a:lnTo>
                  <a:lnTo>
                    <a:pt x="243" y="1352"/>
                  </a:lnTo>
                  <a:lnTo>
                    <a:pt x="243" y="1352"/>
                  </a:lnTo>
                  <a:lnTo>
                    <a:pt x="297" y="1348"/>
                  </a:lnTo>
                  <a:lnTo>
                    <a:pt x="317" y="1348"/>
                  </a:lnTo>
                  <a:lnTo>
                    <a:pt x="340" y="1348"/>
                  </a:lnTo>
                  <a:lnTo>
                    <a:pt x="357" y="1355"/>
                  </a:lnTo>
                  <a:lnTo>
                    <a:pt x="374" y="1362"/>
                  </a:lnTo>
                  <a:lnTo>
                    <a:pt x="387" y="1372"/>
                  </a:lnTo>
                  <a:lnTo>
                    <a:pt x="397" y="1382"/>
                  </a:lnTo>
                  <a:lnTo>
                    <a:pt x="397" y="1382"/>
                  </a:lnTo>
                  <a:lnTo>
                    <a:pt x="404" y="1395"/>
                  </a:lnTo>
                  <a:lnTo>
                    <a:pt x="410" y="1408"/>
                  </a:lnTo>
                  <a:lnTo>
                    <a:pt x="417" y="1442"/>
                  </a:lnTo>
                  <a:lnTo>
                    <a:pt x="417" y="1478"/>
                  </a:lnTo>
                  <a:lnTo>
                    <a:pt x="414" y="1515"/>
                  </a:lnTo>
                  <a:lnTo>
                    <a:pt x="404" y="1552"/>
                  </a:lnTo>
                  <a:lnTo>
                    <a:pt x="394" y="1585"/>
                  </a:lnTo>
                  <a:lnTo>
                    <a:pt x="374" y="1639"/>
                  </a:lnTo>
                  <a:lnTo>
                    <a:pt x="354" y="1729"/>
                  </a:lnTo>
                  <a:lnTo>
                    <a:pt x="437" y="1675"/>
                  </a:lnTo>
                  <a:lnTo>
                    <a:pt x="437" y="1675"/>
                  </a:lnTo>
                  <a:lnTo>
                    <a:pt x="467" y="1642"/>
                  </a:lnTo>
                  <a:lnTo>
                    <a:pt x="494" y="1612"/>
                  </a:lnTo>
                  <a:lnTo>
                    <a:pt x="520" y="1589"/>
                  </a:lnTo>
                  <a:lnTo>
                    <a:pt x="544" y="1569"/>
                  </a:lnTo>
                  <a:lnTo>
                    <a:pt x="567" y="1555"/>
                  </a:lnTo>
                  <a:lnTo>
                    <a:pt x="591" y="1545"/>
                  </a:lnTo>
                  <a:lnTo>
                    <a:pt x="611" y="1542"/>
                  </a:lnTo>
                  <a:lnTo>
                    <a:pt x="631" y="1545"/>
                  </a:lnTo>
                  <a:lnTo>
                    <a:pt x="631" y="1545"/>
                  </a:lnTo>
                  <a:lnTo>
                    <a:pt x="644" y="1548"/>
                  </a:lnTo>
                  <a:lnTo>
                    <a:pt x="657" y="1558"/>
                  </a:lnTo>
                  <a:lnTo>
                    <a:pt x="667" y="1569"/>
                  </a:lnTo>
                  <a:lnTo>
                    <a:pt x="681" y="1579"/>
                  </a:lnTo>
                  <a:lnTo>
                    <a:pt x="701" y="1609"/>
                  </a:lnTo>
                  <a:lnTo>
                    <a:pt x="717" y="1639"/>
                  </a:lnTo>
                  <a:lnTo>
                    <a:pt x="731" y="1675"/>
                  </a:lnTo>
                  <a:lnTo>
                    <a:pt x="741" y="1705"/>
                  </a:lnTo>
                  <a:lnTo>
                    <a:pt x="754" y="1759"/>
                  </a:lnTo>
                  <a:lnTo>
                    <a:pt x="784" y="1866"/>
                  </a:lnTo>
                  <a:lnTo>
                    <a:pt x="824" y="1759"/>
                  </a:lnTo>
                  <a:lnTo>
                    <a:pt x="824" y="1759"/>
                  </a:lnTo>
                  <a:lnTo>
                    <a:pt x="838" y="1709"/>
                  </a:lnTo>
                  <a:lnTo>
                    <a:pt x="854" y="1669"/>
                  </a:lnTo>
                  <a:lnTo>
                    <a:pt x="864" y="1639"/>
                  </a:lnTo>
                  <a:lnTo>
                    <a:pt x="878" y="1619"/>
                  </a:lnTo>
                  <a:lnTo>
                    <a:pt x="888" y="1605"/>
                  </a:lnTo>
                  <a:lnTo>
                    <a:pt x="894" y="1599"/>
                  </a:lnTo>
                  <a:lnTo>
                    <a:pt x="904" y="1595"/>
                  </a:lnTo>
                  <a:lnTo>
                    <a:pt x="904" y="1595"/>
                  </a:lnTo>
                  <a:lnTo>
                    <a:pt x="911" y="1595"/>
                  </a:lnTo>
                  <a:lnTo>
                    <a:pt x="918" y="1599"/>
                  </a:lnTo>
                  <a:lnTo>
                    <a:pt x="938" y="1612"/>
                  </a:lnTo>
                  <a:lnTo>
                    <a:pt x="954" y="1632"/>
                  </a:lnTo>
                  <a:lnTo>
                    <a:pt x="974" y="1659"/>
                  </a:lnTo>
                  <a:lnTo>
                    <a:pt x="994" y="1692"/>
                  </a:lnTo>
                  <a:lnTo>
                    <a:pt x="1014" y="1729"/>
                  </a:lnTo>
                  <a:lnTo>
                    <a:pt x="1031" y="1765"/>
                  </a:lnTo>
                  <a:lnTo>
                    <a:pt x="1048" y="1802"/>
                  </a:lnTo>
                  <a:lnTo>
                    <a:pt x="1105" y="1922"/>
                  </a:lnTo>
                  <a:lnTo>
                    <a:pt x="1118" y="1789"/>
                  </a:lnTo>
                  <a:lnTo>
                    <a:pt x="1118" y="1789"/>
                  </a:lnTo>
                  <a:lnTo>
                    <a:pt x="1118" y="1729"/>
                  </a:lnTo>
                  <a:lnTo>
                    <a:pt x="1118" y="1682"/>
                  </a:lnTo>
                  <a:lnTo>
                    <a:pt x="1121" y="1645"/>
                  </a:lnTo>
                  <a:lnTo>
                    <a:pt x="1128" y="1622"/>
                  </a:lnTo>
                  <a:lnTo>
                    <a:pt x="1135" y="1602"/>
                  </a:lnTo>
                  <a:lnTo>
                    <a:pt x="1145" y="1592"/>
                  </a:lnTo>
                  <a:lnTo>
                    <a:pt x="1148" y="1585"/>
                  </a:lnTo>
                  <a:lnTo>
                    <a:pt x="1155" y="1585"/>
                  </a:lnTo>
                  <a:lnTo>
                    <a:pt x="1155" y="1585"/>
                  </a:lnTo>
                  <a:lnTo>
                    <a:pt x="1168" y="1582"/>
                  </a:lnTo>
                  <a:lnTo>
                    <a:pt x="1188" y="1589"/>
                  </a:lnTo>
                  <a:lnTo>
                    <a:pt x="1208" y="1599"/>
                  </a:lnTo>
                  <a:lnTo>
                    <a:pt x="1235" y="1615"/>
                  </a:lnTo>
                  <a:lnTo>
                    <a:pt x="1261" y="1635"/>
                  </a:lnTo>
                  <a:lnTo>
                    <a:pt x="1291" y="1662"/>
                  </a:lnTo>
                  <a:lnTo>
                    <a:pt x="1318" y="1692"/>
                  </a:lnTo>
                  <a:lnTo>
                    <a:pt x="1348" y="1725"/>
                  </a:lnTo>
                  <a:lnTo>
                    <a:pt x="1348" y="1725"/>
                  </a:lnTo>
                  <a:lnTo>
                    <a:pt x="1352" y="1729"/>
                  </a:lnTo>
                  <a:lnTo>
                    <a:pt x="1352" y="1729"/>
                  </a:lnTo>
                  <a:lnTo>
                    <a:pt x="1352" y="1729"/>
                  </a:lnTo>
                  <a:lnTo>
                    <a:pt x="1355" y="1732"/>
                  </a:lnTo>
                  <a:lnTo>
                    <a:pt x="1472" y="1802"/>
                  </a:lnTo>
                  <a:lnTo>
                    <a:pt x="1408" y="1685"/>
                  </a:lnTo>
                  <a:lnTo>
                    <a:pt x="1405" y="1679"/>
                  </a:lnTo>
                  <a:lnTo>
                    <a:pt x="1405" y="1679"/>
                  </a:lnTo>
                  <a:lnTo>
                    <a:pt x="1392" y="1659"/>
                  </a:lnTo>
                  <a:lnTo>
                    <a:pt x="1382" y="1639"/>
                  </a:lnTo>
                  <a:lnTo>
                    <a:pt x="1375" y="1619"/>
                  </a:lnTo>
                  <a:lnTo>
                    <a:pt x="1368" y="1592"/>
                  </a:lnTo>
                  <a:lnTo>
                    <a:pt x="1362" y="1565"/>
                  </a:lnTo>
                  <a:lnTo>
                    <a:pt x="1362" y="1532"/>
                  </a:lnTo>
                  <a:lnTo>
                    <a:pt x="1365" y="1495"/>
                  </a:lnTo>
                  <a:lnTo>
                    <a:pt x="1365" y="1495"/>
                  </a:lnTo>
                  <a:lnTo>
                    <a:pt x="1368" y="1485"/>
                  </a:lnTo>
                  <a:lnTo>
                    <a:pt x="1372" y="1478"/>
                  </a:lnTo>
                  <a:lnTo>
                    <a:pt x="1382" y="1468"/>
                  </a:lnTo>
                  <a:lnTo>
                    <a:pt x="1382" y="1468"/>
                  </a:lnTo>
                  <a:lnTo>
                    <a:pt x="1398" y="1465"/>
                  </a:lnTo>
                  <a:lnTo>
                    <a:pt x="1422" y="1462"/>
                  </a:lnTo>
                  <a:lnTo>
                    <a:pt x="1445" y="1465"/>
                  </a:lnTo>
                  <a:lnTo>
                    <a:pt x="1472" y="1472"/>
                  </a:lnTo>
                  <a:lnTo>
                    <a:pt x="1528" y="1492"/>
                  </a:lnTo>
                  <a:lnTo>
                    <a:pt x="1575" y="1512"/>
                  </a:lnTo>
                  <a:lnTo>
                    <a:pt x="1675" y="1552"/>
                  </a:lnTo>
                  <a:lnTo>
                    <a:pt x="1622" y="1455"/>
                  </a:lnTo>
                  <a:lnTo>
                    <a:pt x="1622" y="1455"/>
                  </a:lnTo>
                  <a:lnTo>
                    <a:pt x="1575" y="1395"/>
                  </a:lnTo>
                  <a:lnTo>
                    <a:pt x="1559" y="1368"/>
                  </a:lnTo>
                  <a:lnTo>
                    <a:pt x="1545" y="1342"/>
                  </a:lnTo>
                  <a:lnTo>
                    <a:pt x="1545" y="1342"/>
                  </a:lnTo>
                  <a:lnTo>
                    <a:pt x="1549" y="1342"/>
                  </a:lnTo>
                  <a:lnTo>
                    <a:pt x="1549" y="1342"/>
                  </a:lnTo>
                  <a:lnTo>
                    <a:pt x="1569" y="1355"/>
                  </a:lnTo>
                  <a:lnTo>
                    <a:pt x="1589" y="1368"/>
                  </a:lnTo>
                  <a:lnTo>
                    <a:pt x="1625" y="1382"/>
                  </a:lnTo>
                  <a:lnTo>
                    <a:pt x="1632" y="1385"/>
                  </a:lnTo>
                  <a:lnTo>
                    <a:pt x="1632" y="1385"/>
                  </a:lnTo>
                  <a:lnTo>
                    <a:pt x="1649" y="1388"/>
                  </a:lnTo>
                  <a:lnTo>
                    <a:pt x="1662" y="1388"/>
                  </a:lnTo>
                  <a:lnTo>
                    <a:pt x="1672" y="1385"/>
                  </a:lnTo>
                  <a:lnTo>
                    <a:pt x="1682" y="1382"/>
                  </a:lnTo>
                  <a:lnTo>
                    <a:pt x="1682" y="1382"/>
                  </a:lnTo>
                  <a:lnTo>
                    <a:pt x="1692" y="1372"/>
                  </a:lnTo>
                  <a:lnTo>
                    <a:pt x="1699" y="1365"/>
                  </a:lnTo>
                  <a:lnTo>
                    <a:pt x="1705" y="1352"/>
                  </a:lnTo>
                  <a:lnTo>
                    <a:pt x="1709" y="1342"/>
                  </a:lnTo>
                  <a:lnTo>
                    <a:pt x="1709" y="1338"/>
                  </a:lnTo>
                  <a:lnTo>
                    <a:pt x="1709" y="1335"/>
                  </a:lnTo>
                  <a:lnTo>
                    <a:pt x="1709" y="1335"/>
                  </a:lnTo>
                  <a:lnTo>
                    <a:pt x="1705" y="1328"/>
                  </a:lnTo>
                  <a:lnTo>
                    <a:pt x="1705" y="1328"/>
                  </a:lnTo>
                  <a:lnTo>
                    <a:pt x="1719" y="1321"/>
                  </a:lnTo>
                  <a:lnTo>
                    <a:pt x="1729" y="1315"/>
                  </a:lnTo>
                  <a:lnTo>
                    <a:pt x="1739" y="1298"/>
                  </a:lnTo>
                  <a:lnTo>
                    <a:pt x="1739" y="1298"/>
                  </a:lnTo>
                  <a:lnTo>
                    <a:pt x="1742" y="1288"/>
                  </a:lnTo>
                  <a:lnTo>
                    <a:pt x="1742" y="1278"/>
                  </a:lnTo>
                  <a:lnTo>
                    <a:pt x="1742" y="1278"/>
                  </a:lnTo>
                  <a:lnTo>
                    <a:pt x="1742" y="1268"/>
                  </a:lnTo>
                  <a:lnTo>
                    <a:pt x="1739" y="1258"/>
                  </a:lnTo>
                  <a:lnTo>
                    <a:pt x="1739" y="1258"/>
                  </a:lnTo>
                  <a:lnTo>
                    <a:pt x="1729" y="1245"/>
                  </a:lnTo>
                  <a:lnTo>
                    <a:pt x="1715" y="1238"/>
                  </a:lnTo>
                  <a:lnTo>
                    <a:pt x="1715" y="1238"/>
                  </a:lnTo>
                  <a:lnTo>
                    <a:pt x="1712" y="1221"/>
                  </a:lnTo>
                  <a:lnTo>
                    <a:pt x="1712" y="1221"/>
                  </a:lnTo>
                  <a:lnTo>
                    <a:pt x="1749" y="1225"/>
                  </a:lnTo>
                  <a:lnTo>
                    <a:pt x="1882" y="12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885200" y="2058120"/>
              <a:ext cx="3427200" cy="3587040"/>
            </a:xfrm>
            <a:custGeom>
              <a:avLst/>
              <a:gdLst/>
              <a:ahLst/>
              <a:rect l="l" t="t" r="r" b="b"/>
              <a:pathLst>
                <a:path w="1608" h="1683">
                  <a:moveTo>
                    <a:pt x="764" y="0"/>
                  </a:moveTo>
                  <a:lnTo>
                    <a:pt x="764" y="0"/>
                  </a:lnTo>
                  <a:lnTo>
                    <a:pt x="764" y="21"/>
                  </a:lnTo>
                  <a:lnTo>
                    <a:pt x="774" y="67"/>
                  </a:lnTo>
                  <a:lnTo>
                    <a:pt x="784" y="94"/>
                  </a:lnTo>
                  <a:lnTo>
                    <a:pt x="797" y="127"/>
                  </a:lnTo>
                  <a:lnTo>
                    <a:pt x="811" y="157"/>
                  </a:lnTo>
                  <a:lnTo>
                    <a:pt x="834" y="184"/>
                  </a:lnTo>
                  <a:lnTo>
                    <a:pt x="857" y="207"/>
                  </a:lnTo>
                  <a:lnTo>
                    <a:pt x="874" y="217"/>
                  </a:lnTo>
                  <a:lnTo>
                    <a:pt x="887" y="227"/>
                  </a:lnTo>
                  <a:lnTo>
                    <a:pt x="907" y="234"/>
                  </a:lnTo>
                  <a:lnTo>
                    <a:pt x="924" y="237"/>
                  </a:lnTo>
                  <a:lnTo>
                    <a:pt x="944" y="241"/>
                  </a:lnTo>
                  <a:lnTo>
                    <a:pt x="968" y="237"/>
                  </a:lnTo>
                  <a:lnTo>
                    <a:pt x="991" y="234"/>
                  </a:lnTo>
                  <a:lnTo>
                    <a:pt x="1018" y="227"/>
                  </a:lnTo>
                  <a:lnTo>
                    <a:pt x="1044" y="217"/>
                  </a:lnTo>
                  <a:lnTo>
                    <a:pt x="1074" y="207"/>
                  </a:lnTo>
                  <a:lnTo>
                    <a:pt x="1104" y="187"/>
                  </a:lnTo>
                  <a:lnTo>
                    <a:pt x="1138" y="167"/>
                  </a:lnTo>
                  <a:lnTo>
                    <a:pt x="1175" y="144"/>
                  </a:lnTo>
                  <a:lnTo>
                    <a:pt x="1211" y="114"/>
                  </a:lnTo>
                  <a:lnTo>
                    <a:pt x="1211" y="114"/>
                  </a:lnTo>
                  <a:lnTo>
                    <a:pt x="1205" y="127"/>
                  </a:lnTo>
                  <a:lnTo>
                    <a:pt x="1195" y="164"/>
                  </a:lnTo>
                  <a:lnTo>
                    <a:pt x="1185" y="217"/>
                  </a:lnTo>
                  <a:lnTo>
                    <a:pt x="1181" y="244"/>
                  </a:lnTo>
                  <a:lnTo>
                    <a:pt x="1181" y="274"/>
                  </a:lnTo>
                  <a:lnTo>
                    <a:pt x="1185" y="301"/>
                  </a:lnTo>
                  <a:lnTo>
                    <a:pt x="1191" y="328"/>
                  </a:lnTo>
                  <a:lnTo>
                    <a:pt x="1208" y="354"/>
                  </a:lnTo>
                  <a:lnTo>
                    <a:pt x="1215" y="364"/>
                  </a:lnTo>
                  <a:lnTo>
                    <a:pt x="1228" y="374"/>
                  </a:lnTo>
                  <a:lnTo>
                    <a:pt x="1241" y="381"/>
                  </a:lnTo>
                  <a:lnTo>
                    <a:pt x="1255" y="391"/>
                  </a:lnTo>
                  <a:lnTo>
                    <a:pt x="1271" y="394"/>
                  </a:lnTo>
                  <a:lnTo>
                    <a:pt x="1291" y="401"/>
                  </a:lnTo>
                  <a:lnTo>
                    <a:pt x="1311" y="401"/>
                  </a:lnTo>
                  <a:lnTo>
                    <a:pt x="1335" y="404"/>
                  </a:lnTo>
                  <a:lnTo>
                    <a:pt x="1392" y="398"/>
                  </a:lnTo>
                  <a:lnTo>
                    <a:pt x="1392" y="398"/>
                  </a:lnTo>
                  <a:lnTo>
                    <a:pt x="1385" y="411"/>
                  </a:lnTo>
                  <a:lnTo>
                    <a:pt x="1375" y="441"/>
                  </a:lnTo>
                  <a:lnTo>
                    <a:pt x="1368" y="461"/>
                  </a:lnTo>
                  <a:lnTo>
                    <a:pt x="1361" y="484"/>
                  </a:lnTo>
                  <a:lnTo>
                    <a:pt x="1361" y="508"/>
                  </a:lnTo>
                  <a:lnTo>
                    <a:pt x="1361" y="531"/>
                  </a:lnTo>
                  <a:lnTo>
                    <a:pt x="1368" y="555"/>
                  </a:lnTo>
                  <a:lnTo>
                    <a:pt x="1378" y="578"/>
                  </a:lnTo>
                  <a:lnTo>
                    <a:pt x="1395" y="598"/>
                  </a:lnTo>
                  <a:lnTo>
                    <a:pt x="1418" y="615"/>
                  </a:lnTo>
                  <a:lnTo>
                    <a:pt x="1452" y="628"/>
                  </a:lnTo>
                  <a:lnTo>
                    <a:pt x="1495" y="635"/>
                  </a:lnTo>
                  <a:lnTo>
                    <a:pt x="1545" y="638"/>
                  </a:lnTo>
                  <a:lnTo>
                    <a:pt x="1608" y="631"/>
                  </a:lnTo>
                  <a:lnTo>
                    <a:pt x="1608" y="631"/>
                  </a:lnTo>
                  <a:lnTo>
                    <a:pt x="1578" y="645"/>
                  </a:lnTo>
                  <a:lnTo>
                    <a:pt x="1552" y="665"/>
                  </a:lnTo>
                  <a:lnTo>
                    <a:pt x="1518" y="688"/>
                  </a:lnTo>
                  <a:lnTo>
                    <a:pt x="1488" y="721"/>
                  </a:lnTo>
                  <a:lnTo>
                    <a:pt x="1472" y="738"/>
                  </a:lnTo>
                  <a:lnTo>
                    <a:pt x="1458" y="758"/>
                  </a:lnTo>
                  <a:lnTo>
                    <a:pt x="1448" y="782"/>
                  </a:lnTo>
                  <a:lnTo>
                    <a:pt x="1442" y="805"/>
                  </a:lnTo>
                  <a:lnTo>
                    <a:pt x="1438" y="828"/>
                  </a:lnTo>
                  <a:lnTo>
                    <a:pt x="1435" y="858"/>
                  </a:lnTo>
                  <a:lnTo>
                    <a:pt x="1435" y="858"/>
                  </a:lnTo>
                  <a:lnTo>
                    <a:pt x="1435" y="862"/>
                  </a:lnTo>
                  <a:lnTo>
                    <a:pt x="1435" y="878"/>
                  </a:lnTo>
                  <a:lnTo>
                    <a:pt x="1435" y="905"/>
                  </a:lnTo>
                  <a:lnTo>
                    <a:pt x="1445" y="935"/>
                  </a:lnTo>
                  <a:lnTo>
                    <a:pt x="1452" y="955"/>
                  </a:lnTo>
                  <a:lnTo>
                    <a:pt x="1462" y="972"/>
                  </a:lnTo>
                  <a:lnTo>
                    <a:pt x="1475" y="992"/>
                  </a:lnTo>
                  <a:lnTo>
                    <a:pt x="1492" y="1009"/>
                  </a:lnTo>
                  <a:lnTo>
                    <a:pt x="1515" y="1029"/>
                  </a:lnTo>
                  <a:lnTo>
                    <a:pt x="1542" y="1049"/>
                  </a:lnTo>
                  <a:lnTo>
                    <a:pt x="1572" y="1065"/>
                  </a:lnTo>
                  <a:lnTo>
                    <a:pt x="1608" y="1082"/>
                  </a:lnTo>
                  <a:lnTo>
                    <a:pt x="1608" y="1082"/>
                  </a:lnTo>
                  <a:lnTo>
                    <a:pt x="1588" y="1079"/>
                  </a:lnTo>
                  <a:lnTo>
                    <a:pt x="1542" y="1075"/>
                  </a:lnTo>
                  <a:lnTo>
                    <a:pt x="1508" y="1075"/>
                  </a:lnTo>
                  <a:lnTo>
                    <a:pt x="1478" y="1079"/>
                  </a:lnTo>
                  <a:lnTo>
                    <a:pt x="1445" y="1082"/>
                  </a:lnTo>
                  <a:lnTo>
                    <a:pt x="1415" y="1092"/>
                  </a:lnTo>
                  <a:lnTo>
                    <a:pt x="1388" y="1102"/>
                  </a:lnTo>
                  <a:lnTo>
                    <a:pt x="1375" y="1112"/>
                  </a:lnTo>
                  <a:lnTo>
                    <a:pt x="1365" y="1122"/>
                  </a:lnTo>
                  <a:lnTo>
                    <a:pt x="1358" y="1132"/>
                  </a:lnTo>
                  <a:lnTo>
                    <a:pt x="1351" y="1145"/>
                  </a:lnTo>
                  <a:lnTo>
                    <a:pt x="1345" y="1159"/>
                  </a:lnTo>
                  <a:lnTo>
                    <a:pt x="1345" y="1175"/>
                  </a:lnTo>
                  <a:lnTo>
                    <a:pt x="1345" y="1192"/>
                  </a:lnTo>
                  <a:lnTo>
                    <a:pt x="1348" y="1212"/>
                  </a:lnTo>
                  <a:lnTo>
                    <a:pt x="1358" y="1232"/>
                  </a:lnTo>
                  <a:lnTo>
                    <a:pt x="1368" y="1256"/>
                  </a:lnTo>
                  <a:lnTo>
                    <a:pt x="1381" y="1282"/>
                  </a:lnTo>
                  <a:lnTo>
                    <a:pt x="1398" y="1309"/>
                  </a:lnTo>
                  <a:lnTo>
                    <a:pt x="1448" y="1372"/>
                  </a:lnTo>
                  <a:lnTo>
                    <a:pt x="1448" y="1372"/>
                  </a:lnTo>
                  <a:lnTo>
                    <a:pt x="1408" y="1356"/>
                  </a:lnTo>
                  <a:lnTo>
                    <a:pt x="1368" y="1342"/>
                  </a:lnTo>
                  <a:lnTo>
                    <a:pt x="1321" y="1329"/>
                  </a:lnTo>
                  <a:lnTo>
                    <a:pt x="1298" y="1322"/>
                  </a:lnTo>
                  <a:lnTo>
                    <a:pt x="1275" y="1322"/>
                  </a:lnTo>
                  <a:lnTo>
                    <a:pt x="1251" y="1322"/>
                  </a:lnTo>
                  <a:lnTo>
                    <a:pt x="1231" y="1326"/>
                  </a:lnTo>
                  <a:lnTo>
                    <a:pt x="1215" y="1332"/>
                  </a:lnTo>
                  <a:lnTo>
                    <a:pt x="1198" y="1342"/>
                  </a:lnTo>
                  <a:lnTo>
                    <a:pt x="1188" y="1359"/>
                  </a:lnTo>
                  <a:lnTo>
                    <a:pt x="1181" y="1382"/>
                  </a:lnTo>
                  <a:lnTo>
                    <a:pt x="1181" y="1382"/>
                  </a:lnTo>
                  <a:lnTo>
                    <a:pt x="1178" y="1432"/>
                  </a:lnTo>
                  <a:lnTo>
                    <a:pt x="1181" y="1473"/>
                  </a:lnTo>
                  <a:lnTo>
                    <a:pt x="1188" y="1513"/>
                  </a:lnTo>
                  <a:lnTo>
                    <a:pt x="1198" y="1543"/>
                  </a:lnTo>
                  <a:lnTo>
                    <a:pt x="1211" y="1566"/>
                  </a:lnTo>
                  <a:lnTo>
                    <a:pt x="1221" y="1586"/>
                  </a:lnTo>
                  <a:lnTo>
                    <a:pt x="1235" y="1599"/>
                  </a:lnTo>
                  <a:lnTo>
                    <a:pt x="1235" y="1599"/>
                  </a:lnTo>
                  <a:lnTo>
                    <a:pt x="1221" y="1583"/>
                  </a:lnTo>
                  <a:lnTo>
                    <a:pt x="1185" y="1543"/>
                  </a:lnTo>
                  <a:lnTo>
                    <a:pt x="1158" y="1519"/>
                  </a:lnTo>
                  <a:lnTo>
                    <a:pt x="1131" y="1496"/>
                  </a:lnTo>
                  <a:lnTo>
                    <a:pt x="1101" y="1476"/>
                  </a:lnTo>
                  <a:lnTo>
                    <a:pt x="1074" y="1456"/>
                  </a:lnTo>
                  <a:lnTo>
                    <a:pt x="1044" y="1442"/>
                  </a:lnTo>
                  <a:lnTo>
                    <a:pt x="1031" y="1439"/>
                  </a:lnTo>
                  <a:lnTo>
                    <a:pt x="1018" y="1439"/>
                  </a:lnTo>
                  <a:lnTo>
                    <a:pt x="1004" y="1439"/>
                  </a:lnTo>
                  <a:lnTo>
                    <a:pt x="991" y="1446"/>
                  </a:lnTo>
                  <a:lnTo>
                    <a:pt x="978" y="1452"/>
                  </a:lnTo>
                  <a:lnTo>
                    <a:pt x="968" y="1463"/>
                  </a:lnTo>
                  <a:lnTo>
                    <a:pt x="961" y="1476"/>
                  </a:lnTo>
                  <a:lnTo>
                    <a:pt x="951" y="1493"/>
                  </a:lnTo>
                  <a:lnTo>
                    <a:pt x="944" y="1513"/>
                  </a:lnTo>
                  <a:lnTo>
                    <a:pt x="938" y="1539"/>
                  </a:lnTo>
                  <a:lnTo>
                    <a:pt x="934" y="1566"/>
                  </a:lnTo>
                  <a:lnTo>
                    <a:pt x="934" y="1599"/>
                  </a:lnTo>
                  <a:lnTo>
                    <a:pt x="934" y="1683"/>
                  </a:lnTo>
                  <a:lnTo>
                    <a:pt x="934" y="1683"/>
                  </a:lnTo>
                  <a:lnTo>
                    <a:pt x="928" y="1663"/>
                  </a:lnTo>
                  <a:lnTo>
                    <a:pt x="904" y="1613"/>
                  </a:lnTo>
                  <a:lnTo>
                    <a:pt x="871" y="1549"/>
                  </a:lnTo>
                  <a:lnTo>
                    <a:pt x="851" y="1519"/>
                  </a:lnTo>
                  <a:lnTo>
                    <a:pt x="827" y="1493"/>
                  </a:lnTo>
                  <a:lnTo>
                    <a:pt x="804" y="1473"/>
                  </a:lnTo>
                  <a:lnTo>
                    <a:pt x="781" y="1456"/>
                  </a:lnTo>
                  <a:lnTo>
                    <a:pt x="771" y="1452"/>
                  </a:lnTo>
                  <a:lnTo>
                    <a:pt x="757" y="1452"/>
                  </a:lnTo>
                  <a:lnTo>
                    <a:pt x="744" y="1452"/>
                  </a:lnTo>
                  <a:lnTo>
                    <a:pt x="734" y="1459"/>
                  </a:lnTo>
                  <a:lnTo>
                    <a:pt x="721" y="1466"/>
                  </a:lnTo>
                  <a:lnTo>
                    <a:pt x="707" y="1479"/>
                  </a:lnTo>
                  <a:lnTo>
                    <a:pt x="697" y="1496"/>
                  </a:lnTo>
                  <a:lnTo>
                    <a:pt x="684" y="1516"/>
                  </a:lnTo>
                  <a:lnTo>
                    <a:pt x="674" y="1543"/>
                  </a:lnTo>
                  <a:lnTo>
                    <a:pt x="664" y="1569"/>
                  </a:lnTo>
                  <a:lnTo>
                    <a:pt x="644" y="1646"/>
                  </a:lnTo>
                  <a:lnTo>
                    <a:pt x="644" y="1646"/>
                  </a:lnTo>
                  <a:lnTo>
                    <a:pt x="637" y="1626"/>
                  </a:lnTo>
                  <a:lnTo>
                    <a:pt x="624" y="1576"/>
                  </a:lnTo>
                  <a:lnTo>
                    <a:pt x="614" y="1546"/>
                  </a:lnTo>
                  <a:lnTo>
                    <a:pt x="600" y="1513"/>
                  </a:lnTo>
                  <a:lnTo>
                    <a:pt x="584" y="1483"/>
                  </a:lnTo>
                  <a:lnTo>
                    <a:pt x="564" y="1452"/>
                  </a:lnTo>
                  <a:lnTo>
                    <a:pt x="540" y="1429"/>
                  </a:lnTo>
                  <a:lnTo>
                    <a:pt x="527" y="1419"/>
                  </a:lnTo>
                  <a:lnTo>
                    <a:pt x="514" y="1412"/>
                  </a:lnTo>
                  <a:lnTo>
                    <a:pt x="497" y="1406"/>
                  </a:lnTo>
                  <a:lnTo>
                    <a:pt x="484" y="1402"/>
                  </a:lnTo>
                  <a:lnTo>
                    <a:pt x="467" y="1399"/>
                  </a:lnTo>
                  <a:lnTo>
                    <a:pt x="447" y="1402"/>
                  </a:lnTo>
                  <a:lnTo>
                    <a:pt x="427" y="1406"/>
                  </a:lnTo>
                  <a:lnTo>
                    <a:pt x="407" y="1416"/>
                  </a:lnTo>
                  <a:lnTo>
                    <a:pt x="387" y="1426"/>
                  </a:lnTo>
                  <a:lnTo>
                    <a:pt x="363" y="1442"/>
                  </a:lnTo>
                  <a:lnTo>
                    <a:pt x="340" y="1463"/>
                  </a:lnTo>
                  <a:lnTo>
                    <a:pt x="313" y="1486"/>
                  </a:lnTo>
                  <a:lnTo>
                    <a:pt x="290" y="1516"/>
                  </a:lnTo>
                  <a:lnTo>
                    <a:pt x="260" y="1549"/>
                  </a:lnTo>
                  <a:lnTo>
                    <a:pt x="260" y="1549"/>
                  </a:lnTo>
                  <a:lnTo>
                    <a:pt x="270" y="1533"/>
                  </a:lnTo>
                  <a:lnTo>
                    <a:pt x="283" y="1486"/>
                  </a:lnTo>
                  <a:lnTo>
                    <a:pt x="300" y="1426"/>
                  </a:lnTo>
                  <a:lnTo>
                    <a:pt x="303" y="1392"/>
                  </a:lnTo>
                  <a:lnTo>
                    <a:pt x="307" y="1356"/>
                  </a:lnTo>
                  <a:lnTo>
                    <a:pt x="307" y="1322"/>
                  </a:lnTo>
                  <a:lnTo>
                    <a:pt x="297" y="1292"/>
                  </a:lnTo>
                  <a:lnTo>
                    <a:pt x="283" y="1262"/>
                  </a:lnTo>
                  <a:lnTo>
                    <a:pt x="277" y="1249"/>
                  </a:lnTo>
                  <a:lnTo>
                    <a:pt x="263" y="1239"/>
                  </a:lnTo>
                  <a:lnTo>
                    <a:pt x="250" y="1229"/>
                  </a:lnTo>
                  <a:lnTo>
                    <a:pt x="237" y="1219"/>
                  </a:lnTo>
                  <a:lnTo>
                    <a:pt x="217" y="1212"/>
                  </a:lnTo>
                  <a:lnTo>
                    <a:pt x="196" y="1209"/>
                  </a:lnTo>
                  <a:lnTo>
                    <a:pt x="173" y="1205"/>
                  </a:lnTo>
                  <a:lnTo>
                    <a:pt x="150" y="1205"/>
                  </a:lnTo>
                  <a:lnTo>
                    <a:pt x="120" y="1205"/>
                  </a:lnTo>
                  <a:lnTo>
                    <a:pt x="90" y="1209"/>
                  </a:lnTo>
                  <a:lnTo>
                    <a:pt x="90" y="1209"/>
                  </a:lnTo>
                  <a:lnTo>
                    <a:pt x="103" y="1199"/>
                  </a:lnTo>
                  <a:lnTo>
                    <a:pt x="133" y="1165"/>
                  </a:lnTo>
                  <a:lnTo>
                    <a:pt x="150" y="1145"/>
                  </a:lnTo>
                  <a:lnTo>
                    <a:pt x="166" y="1122"/>
                  </a:lnTo>
                  <a:lnTo>
                    <a:pt x="183" y="1095"/>
                  </a:lnTo>
                  <a:lnTo>
                    <a:pt x="196" y="1069"/>
                  </a:lnTo>
                  <a:lnTo>
                    <a:pt x="203" y="1039"/>
                  </a:lnTo>
                  <a:lnTo>
                    <a:pt x="207" y="1012"/>
                  </a:lnTo>
                  <a:lnTo>
                    <a:pt x="203" y="995"/>
                  </a:lnTo>
                  <a:lnTo>
                    <a:pt x="200" y="982"/>
                  </a:lnTo>
                  <a:lnTo>
                    <a:pt x="193" y="968"/>
                  </a:lnTo>
                  <a:lnTo>
                    <a:pt x="183" y="955"/>
                  </a:lnTo>
                  <a:lnTo>
                    <a:pt x="173" y="945"/>
                  </a:lnTo>
                  <a:lnTo>
                    <a:pt x="156" y="932"/>
                  </a:lnTo>
                  <a:lnTo>
                    <a:pt x="140" y="922"/>
                  </a:lnTo>
                  <a:lnTo>
                    <a:pt x="120" y="912"/>
                  </a:lnTo>
                  <a:lnTo>
                    <a:pt x="96" y="902"/>
                  </a:lnTo>
                  <a:lnTo>
                    <a:pt x="66" y="895"/>
                  </a:lnTo>
                  <a:lnTo>
                    <a:pt x="0" y="878"/>
                  </a:lnTo>
                  <a:lnTo>
                    <a:pt x="0" y="878"/>
                  </a:lnTo>
                  <a:lnTo>
                    <a:pt x="16" y="872"/>
                  </a:lnTo>
                  <a:lnTo>
                    <a:pt x="63" y="848"/>
                  </a:lnTo>
                  <a:lnTo>
                    <a:pt x="90" y="832"/>
                  </a:lnTo>
                  <a:lnTo>
                    <a:pt x="120" y="812"/>
                  </a:lnTo>
                  <a:lnTo>
                    <a:pt x="150" y="788"/>
                  </a:lnTo>
                  <a:lnTo>
                    <a:pt x="176" y="758"/>
                  </a:lnTo>
                  <a:lnTo>
                    <a:pt x="203" y="728"/>
                  </a:lnTo>
                  <a:lnTo>
                    <a:pt x="220" y="691"/>
                  </a:lnTo>
                  <a:lnTo>
                    <a:pt x="230" y="671"/>
                  </a:lnTo>
                  <a:lnTo>
                    <a:pt x="233" y="651"/>
                  </a:lnTo>
                  <a:lnTo>
                    <a:pt x="237" y="631"/>
                  </a:lnTo>
                  <a:lnTo>
                    <a:pt x="240" y="608"/>
                  </a:lnTo>
                  <a:lnTo>
                    <a:pt x="237" y="585"/>
                  </a:lnTo>
                  <a:lnTo>
                    <a:pt x="233" y="558"/>
                  </a:lnTo>
                  <a:lnTo>
                    <a:pt x="227" y="535"/>
                  </a:lnTo>
                  <a:lnTo>
                    <a:pt x="217" y="508"/>
                  </a:lnTo>
                  <a:lnTo>
                    <a:pt x="203" y="481"/>
                  </a:lnTo>
                  <a:lnTo>
                    <a:pt x="186" y="451"/>
                  </a:lnTo>
                  <a:lnTo>
                    <a:pt x="166" y="421"/>
                  </a:lnTo>
                  <a:lnTo>
                    <a:pt x="143" y="391"/>
                  </a:lnTo>
                  <a:lnTo>
                    <a:pt x="143" y="391"/>
                  </a:lnTo>
                  <a:lnTo>
                    <a:pt x="156" y="394"/>
                  </a:lnTo>
                  <a:lnTo>
                    <a:pt x="200" y="394"/>
                  </a:lnTo>
                  <a:lnTo>
                    <a:pt x="257" y="391"/>
                  </a:lnTo>
                  <a:lnTo>
                    <a:pt x="290" y="384"/>
                  </a:lnTo>
                  <a:lnTo>
                    <a:pt x="320" y="378"/>
                  </a:lnTo>
                  <a:lnTo>
                    <a:pt x="350" y="364"/>
                  </a:lnTo>
                  <a:lnTo>
                    <a:pt x="380" y="348"/>
                  </a:lnTo>
                  <a:lnTo>
                    <a:pt x="403" y="328"/>
                  </a:lnTo>
                  <a:lnTo>
                    <a:pt x="423" y="304"/>
                  </a:lnTo>
                  <a:lnTo>
                    <a:pt x="430" y="288"/>
                  </a:lnTo>
                  <a:lnTo>
                    <a:pt x="437" y="271"/>
                  </a:lnTo>
                  <a:lnTo>
                    <a:pt x="440" y="254"/>
                  </a:lnTo>
                  <a:lnTo>
                    <a:pt x="440" y="234"/>
                  </a:lnTo>
                  <a:lnTo>
                    <a:pt x="440" y="211"/>
                  </a:lnTo>
                  <a:lnTo>
                    <a:pt x="440" y="187"/>
                  </a:lnTo>
                  <a:lnTo>
                    <a:pt x="433" y="164"/>
                  </a:lnTo>
                  <a:lnTo>
                    <a:pt x="427" y="137"/>
                  </a:lnTo>
                  <a:lnTo>
                    <a:pt x="427" y="137"/>
                  </a:lnTo>
                  <a:lnTo>
                    <a:pt x="440" y="147"/>
                  </a:lnTo>
                  <a:lnTo>
                    <a:pt x="477" y="177"/>
                  </a:lnTo>
                  <a:lnTo>
                    <a:pt x="504" y="194"/>
                  </a:lnTo>
                  <a:lnTo>
                    <a:pt x="530" y="211"/>
                  </a:lnTo>
                  <a:lnTo>
                    <a:pt x="560" y="227"/>
                  </a:lnTo>
                  <a:lnTo>
                    <a:pt x="590" y="237"/>
                  </a:lnTo>
                  <a:lnTo>
                    <a:pt x="624" y="244"/>
                  </a:lnTo>
                  <a:lnTo>
                    <a:pt x="654" y="241"/>
                  </a:lnTo>
                  <a:lnTo>
                    <a:pt x="667" y="237"/>
                  </a:lnTo>
                  <a:lnTo>
                    <a:pt x="681" y="231"/>
                  </a:lnTo>
                  <a:lnTo>
                    <a:pt x="694" y="224"/>
                  </a:lnTo>
                  <a:lnTo>
                    <a:pt x="707" y="211"/>
                  </a:lnTo>
                  <a:lnTo>
                    <a:pt x="717" y="197"/>
                  </a:lnTo>
                  <a:lnTo>
                    <a:pt x="727" y="181"/>
                  </a:lnTo>
                  <a:lnTo>
                    <a:pt x="737" y="161"/>
                  </a:lnTo>
                  <a:lnTo>
                    <a:pt x="747" y="137"/>
                  </a:lnTo>
                  <a:lnTo>
                    <a:pt x="754" y="107"/>
                  </a:lnTo>
                  <a:lnTo>
                    <a:pt x="757" y="77"/>
                  </a:lnTo>
                  <a:lnTo>
                    <a:pt x="761" y="41"/>
                  </a:lnTo>
                  <a:lnTo>
                    <a:pt x="764" y="0"/>
                  </a:lnTo>
                  <a:lnTo>
                    <a:pt x="764"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368480" y="4485600"/>
              <a:ext cx="538920" cy="155520"/>
            </a:xfrm>
            <a:custGeom>
              <a:avLst/>
              <a:gdLst/>
              <a:ahLst/>
              <a:rect l="l" t="t" r="r" b="b"/>
              <a:pathLst>
                <a:path w="253" h="73">
                  <a:moveTo>
                    <a:pt x="16" y="0"/>
                  </a:moveTo>
                  <a:lnTo>
                    <a:pt x="16" y="0"/>
                  </a:lnTo>
                  <a:lnTo>
                    <a:pt x="40" y="13"/>
                  </a:lnTo>
                  <a:lnTo>
                    <a:pt x="63" y="26"/>
                  </a:lnTo>
                  <a:lnTo>
                    <a:pt x="93" y="36"/>
                  </a:lnTo>
                  <a:lnTo>
                    <a:pt x="130" y="43"/>
                  </a:lnTo>
                  <a:lnTo>
                    <a:pt x="150" y="46"/>
                  </a:lnTo>
                  <a:lnTo>
                    <a:pt x="170" y="46"/>
                  </a:lnTo>
                  <a:lnTo>
                    <a:pt x="190" y="43"/>
                  </a:lnTo>
                  <a:lnTo>
                    <a:pt x="210" y="36"/>
                  </a:lnTo>
                  <a:lnTo>
                    <a:pt x="230" y="30"/>
                  </a:lnTo>
                  <a:lnTo>
                    <a:pt x="250" y="20"/>
                  </a:lnTo>
                  <a:lnTo>
                    <a:pt x="250" y="20"/>
                  </a:lnTo>
                  <a:lnTo>
                    <a:pt x="253" y="26"/>
                  </a:lnTo>
                  <a:lnTo>
                    <a:pt x="253" y="36"/>
                  </a:lnTo>
                  <a:lnTo>
                    <a:pt x="250" y="46"/>
                  </a:lnTo>
                  <a:lnTo>
                    <a:pt x="250" y="46"/>
                  </a:lnTo>
                  <a:lnTo>
                    <a:pt x="240" y="53"/>
                  </a:lnTo>
                  <a:lnTo>
                    <a:pt x="220" y="63"/>
                  </a:lnTo>
                  <a:lnTo>
                    <a:pt x="193" y="70"/>
                  </a:lnTo>
                  <a:lnTo>
                    <a:pt x="160" y="73"/>
                  </a:lnTo>
                  <a:lnTo>
                    <a:pt x="123" y="73"/>
                  </a:lnTo>
                  <a:lnTo>
                    <a:pt x="83" y="66"/>
                  </a:lnTo>
                  <a:lnTo>
                    <a:pt x="63" y="60"/>
                  </a:lnTo>
                  <a:lnTo>
                    <a:pt x="43" y="53"/>
                  </a:lnTo>
                  <a:lnTo>
                    <a:pt x="23" y="43"/>
                  </a:lnTo>
                  <a:lnTo>
                    <a:pt x="3" y="30"/>
                  </a:lnTo>
                  <a:lnTo>
                    <a:pt x="3" y="30"/>
                  </a:lnTo>
                  <a:lnTo>
                    <a:pt x="0" y="26"/>
                  </a:lnTo>
                  <a:lnTo>
                    <a:pt x="0" y="16"/>
                  </a:lnTo>
                  <a:lnTo>
                    <a:pt x="3" y="10"/>
                  </a:lnTo>
                  <a:lnTo>
                    <a:pt x="10" y="3"/>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864920" y="4400640"/>
              <a:ext cx="340920" cy="313200"/>
            </a:xfrm>
            <a:custGeom>
              <a:avLst/>
              <a:gdLst/>
              <a:ahLst/>
              <a:rect l="l" t="t" r="r" b="b"/>
              <a:pathLst>
                <a:path w="160" h="147">
                  <a:moveTo>
                    <a:pt x="4" y="63"/>
                  </a:moveTo>
                  <a:lnTo>
                    <a:pt x="4" y="63"/>
                  </a:lnTo>
                  <a:lnTo>
                    <a:pt x="10" y="53"/>
                  </a:lnTo>
                  <a:lnTo>
                    <a:pt x="14" y="43"/>
                  </a:lnTo>
                  <a:lnTo>
                    <a:pt x="17" y="26"/>
                  </a:lnTo>
                  <a:lnTo>
                    <a:pt x="17" y="26"/>
                  </a:lnTo>
                  <a:lnTo>
                    <a:pt x="17" y="13"/>
                  </a:lnTo>
                  <a:lnTo>
                    <a:pt x="20" y="3"/>
                  </a:lnTo>
                  <a:lnTo>
                    <a:pt x="27" y="0"/>
                  </a:lnTo>
                  <a:lnTo>
                    <a:pt x="37" y="3"/>
                  </a:lnTo>
                  <a:lnTo>
                    <a:pt x="37" y="3"/>
                  </a:lnTo>
                  <a:lnTo>
                    <a:pt x="40" y="6"/>
                  </a:lnTo>
                  <a:lnTo>
                    <a:pt x="44" y="13"/>
                  </a:lnTo>
                  <a:lnTo>
                    <a:pt x="40" y="23"/>
                  </a:lnTo>
                  <a:lnTo>
                    <a:pt x="37" y="36"/>
                  </a:lnTo>
                  <a:lnTo>
                    <a:pt x="37" y="36"/>
                  </a:lnTo>
                  <a:lnTo>
                    <a:pt x="34" y="40"/>
                  </a:lnTo>
                  <a:lnTo>
                    <a:pt x="34" y="43"/>
                  </a:lnTo>
                  <a:lnTo>
                    <a:pt x="37" y="46"/>
                  </a:lnTo>
                  <a:lnTo>
                    <a:pt x="37" y="46"/>
                  </a:lnTo>
                  <a:lnTo>
                    <a:pt x="47" y="50"/>
                  </a:lnTo>
                  <a:lnTo>
                    <a:pt x="64" y="46"/>
                  </a:lnTo>
                  <a:lnTo>
                    <a:pt x="80" y="40"/>
                  </a:lnTo>
                  <a:lnTo>
                    <a:pt x="97" y="33"/>
                  </a:lnTo>
                  <a:lnTo>
                    <a:pt x="97" y="33"/>
                  </a:lnTo>
                  <a:lnTo>
                    <a:pt x="110" y="26"/>
                  </a:lnTo>
                  <a:lnTo>
                    <a:pt x="120" y="23"/>
                  </a:lnTo>
                  <a:lnTo>
                    <a:pt x="130" y="23"/>
                  </a:lnTo>
                  <a:lnTo>
                    <a:pt x="134" y="26"/>
                  </a:lnTo>
                  <a:lnTo>
                    <a:pt x="134" y="33"/>
                  </a:lnTo>
                  <a:lnTo>
                    <a:pt x="134" y="33"/>
                  </a:lnTo>
                  <a:lnTo>
                    <a:pt x="134" y="40"/>
                  </a:lnTo>
                  <a:lnTo>
                    <a:pt x="130" y="46"/>
                  </a:lnTo>
                  <a:lnTo>
                    <a:pt x="120" y="53"/>
                  </a:lnTo>
                  <a:lnTo>
                    <a:pt x="104" y="60"/>
                  </a:lnTo>
                  <a:lnTo>
                    <a:pt x="70" y="66"/>
                  </a:lnTo>
                  <a:lnTo>
                    <a:pt x="70" y="66"/>
                  </a:lnTo>
                  <a:lnTo>
                    <a:pt x="67" y="70"/>
                  </a:lnTo>
                  <a:lnTo>
                    <a:pt x="67" y="73"/>
                  </a:lnTo>
                  <a:lnTo>
                    <a:pt x="77" y="76"/>
                  </a:lnTo>
                  <a:lnTo>
                    <a:pt x="77" y="76"/>
                  </a:lnTo>
                  <a:lnTo>
                    <a:pt x="94" y="76"/>
                  </a:lnTo>
                  <a:lnTo>
                    <a:pt x="107" y="76"/>
                  </a:lnTo>
                  <a:lnTo>
                    <a:pt x="117" y="73"/>
                  </a:lnTo>
                  <a:lnTo>
                    <a:pt x="127" y="70"/>
                  </a:lnTo>
                  <a:lnTo>
                    <a:pt x="127" y="70"/>
                  </a:lnTo>
                  <a:lnTo>
                    <a:pt x="137" y="63"/>
                  </a:lnTo>
                  <a:lnTo>
                    <a:pt x="147" y="63"/>
                  </a:lnTo>
                  <a:lnTo>
                    <a:pt x="154" y="63"/>
                  </a:lnTo>
                  <a:lnTo>
                    <a:pt x="160" y="66"/>
                  </a:lnTo>
                  <a:lnTo>
                    <a:pt x="160" y="66"/>
                  </a:lnTo>
                  <a:lnTo>
                    <a:pt x="160" y="73"/>
                  </a:lnTo>
                  <a:lnTo>
                    <a:pt x="160" y="80"/>
                  </a:lnTo>
                  <a:lnTo>
                    <a:pt x="154" y="86"/>
                  </a:lnTo>
                  <a:lnTo>
                    <a:pt x="144" y="90"/>
                  </a:lnTo>
                  <a:lnTo>
                    <a:pt x="144" y="90"/>
                  </a:lnTo>
                  <a:lnTo>
                    <a:pt x="134" y="96"/>
                  </a:lnTo>
                  <a:lnTo>
                    <a:pt x="117" y="96"/>
                  </a:lnTo>
                  <a:lnTo>
                    <a:pt x="94" y="100"/>
                  </a:lnTo>
                  <a:lnTo>
                    <a:pt x="67" y="96"/>
                  </a:lnTo>
                  <a:lnTo>
                    <a:pt x="67" y="96"/>
                  </a:lnTo>
                  <a:lnTo>
                    <a:pt x="60" y="96"/>
                  </a:lnTo>
                  <a:lnTo>
                    <a:pt x="57" y="100"/>
                  </a:lnTo>
                  <a:lnTo>
                    <a:pt x="64" y="106"/>
                  </a:lnTo>
                  <a:lnTo>
                    <a:pt x="64" y="106"/>
                  </a:lnTo>
                  <a:lnTo>
                    <a:pt x="70" y="113"/>
                  </a:lnTo>
                  <a:lnTo>
                    <a:pt x="80" y="120"/>
                  </a:lnTo>
                  <a:lnTo>
                    <a:pt x="94" y="123"/>
                  </a:lnTo>
                  <a:lnTo>
                    <a:pt x="107" y="123"/>
                  </a:lnTo>
                  <a:lnTo>
                    <a:pt x="107" y="123"/>
                  </a:lnTo>
                  <a:lnTo>
                    <a:pt x="117" y="123"/>
                  </a:lnTo>
                  <a:lnTo>
                    <a:pt x="124" y="127"/>
                  </a:lnTo>
                  <a:lnTo>
                    <a:pt x="127" y="133"/>
                  </a:lnTo>
                  <a:lnTo>
                    <a:pt x="127" y="133"/>
                  </a:lnTo>
                  <a:lnTo>
                    <a:pt x="124" y="137"/>
                  </a:lnTo>
                  <a:lnTo>
                    <a:pt x="120" y="143"/>
                  </a:lnTo>
                  <a:lnTo>
                    <a:pt x="114" y="147"/>
                  </a:lnTo>
                  <a:lnTo>
                    <a:pt x="107" y="147"/>
                  </a:lnTo>
                  <a:lnTo>
                    <a:pt x="100" y="143"/>
                  </a:lnTo>
                  <a:lnTo>
                    <a:pt x="100" y="143"/>
                  </a:lnTo>
                  <a:lnTo>
                    <a:pt x="64" y="130"/>
                  </a:lnTo>
                  <a:lnTo>
                    <a:pt x="40" y="120"/>
                  </a:lnTo>
                  <a:lnTo>
                    <a:pt x="27" y="110"/>
                  </a:lnTo>
                  <a:lnTo>
                    <a:pt x="17" y="103"/>
                  </a:lnTo>
                  <a:lnTo>
                    <a:pt x="17" y="103"/>
                  </a:lnTo>
                  <a:lnTo>
                    <a:pt x="7" y="86"/>
                  </a:lnTo>
                  <a:lnTo>
                    <a:pt x="0" y="76"/>
                  </a:lnTo>
                  <a:lnTo>
                    <a:pt x="0" y="70"/>
                  </a:lnTo>
                  <a:lnTo>
                    <a:pt x="4" y="63"/>
                  </a:lnTo>
                  <a:lnTo>
                    <a:pt x="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9600" y="2705760"/>
              <a:ext cx="2254680" cy="2248560"/>
            </a:xfrm>
            <a:custGeom>
              <a:avLst/>
              <a:gdLst/>
              <a:ahLst/>
              <a:rect l="l" t="t" r="r" b="b"/>
              <a:pathLst>
                <a:path w="1058" h="1055">
                  <a:moveTo>
                    <a:pt x="1058" y="528"/>
                  </a:moveTo>
                  <a:lnTo>
                    <a:pt x="1058" y="528"/>
                  </a:lnTo>
                  <a:lnTo>
                    <a:pt x="1055" y="581"/>
                  </a:lnTo>
                  <a:lnTo>
                    <a:pt x="1048" y="634"/>
                  </a:lnTo>
                  <a:lnTo>
                    <a:pt x="1035" y="685"/>
                  </a:lnTo>
                  <a:lnTo>
                    <a:pt x="1015" y="735"/>
                  </a:lnTo>
                  <a:lnTo>
                    <a:pt x="995" y="778"/>
                  </a:lnTo>
                  <a:lnTo>
                    <a:pt x="968" y="821"/>
                  </a:lnTo>
                  <a:lnTo>
                    <a:pt x="938" y="865"/>
                  </a:lnTo>
                  <a:lnTo>
                    <a:pt x="901" y="901"/>
                  </a:lnTo>
                  <a:lnTo>
                    <a:pt x="864" y="935"/>
                  </a:lnTo>
                  <a:lnTo>
                    <a:pt x="824" y="965"/>
                  </a:lnTo>
                  <a:lnTo>
                    <a:pt x="781" y="992"/>
                  </a:lnTo>
                  <a:lnTo>
                    <a:pt x="734" y="1015"/>
                  </a:lnTo>
                  <a:lnTo>
                    <a:pt x="688" y="1032"/>
                  </a:lnTo>
                  <a:lnTo>
                    <a:pt x="634" y="1045"/>
                  </a:lnTo>
                  <a:lnTo>
                    <a:pt x="584" y="1052"/>
                  </a:lnTo>
                  <a:lnTo>
                    <a:pt x="531" y="1055"/>
                  </a:lnTo>
                  <a:lnTo>
                    <a:pt x="531" y="1055"/>
                  </a:lnTo>
                  <a:lnTo>
                    <a:pt x="474" y="1052"/>
                  </a:lnTo>
                  <a:lnTo>
                    <a:pt x="424" y="1045"/>
                  </a:lnTo>
                  <a:lnTo>
                    <a:pt x="374" y="1032"/>
                  </a:lnTo>
                  <a:lnTo>
                    <a:pt x="324" y="1015"/>
                  </a:lnTo>
                  <a:lnTo>
                    <a:pt x="277" y="992"/>
                  </a:lnTo>
                  <a:lnTo>
                    <a:pt x="234" y="965"/>
                  </a:lnTo>
                  <a:lnTo>
                    <a:pt x="194" y="935"/>
                  </a:lnTo>
                  <a:lnTo>
                    <a:pt x="157" y="901"/>
                  </a:lnTo>
                  <a:lnTo>
                    <a:pt x="123" y="865"/>
                  </a:lnTo>
                  <a:lnTo>
                    <a:pt x="90" y="821"/>
                  </a:lnTo>
                  <a:lnTo>
                    <a:pt x="63" y="778"/>
                  </a:lnTo>
                  <a:lnTo>
                    <a:pt x="43" y="735"/>
                  </a:lnTo>
                  <a:lnTo>
                    <a:pt x="23" y="685"/>
                  </a:lnTo>
                  <a:lnTo>
                    <a:pt x="13" y="634"/>
                  </a:lnTo>
                  <a:lnTo>
                    <a:pt x="3" y="581"/>
                  </a:lnTo>
                  <a:lnTo>
                    <a:pt x="0" y="528"/>
                  </a:lnTo>
                  <a:lnTo>
                    <a:pt x="0" y="528"/>
                  </a:lnTo>
                  <a:lnTo>
                    <a:pt x="3" y="474"/>
                  </a:lnTo>
                  <a:lnTo>
                    <a:pt x="13" y="421"/>
                  </a:lnTo>
                  <a:lnTo>
                    <a:pt x="23" y="371"/>
                  </a:lnTo>
                  <a:lnTo>
                    <a:pt x="43" y="321"/>
                  </a:lnTo>
                  <a:lnTo>
                    <a:pt x="63" y="277"/>
                  </a:lnTo>
                  <a:lnTo>
                    <a:pt x="90" y="231"/>
                  </a:lnTo>
                  <a:lnTo>
                    <a:pt x="123" y="191"/>
                  </a:lnTo>
                  <a:lnTo>
                    <a:pt x="157" y="154"/>
                  </a:lnTo>
                  <a:lnTo>
                    <a:pt x="194" y="120"/>
                  </a:lnTo>
                  <a:lnTo>
                    <a:pt x="234" y="90"/>
                  </a:lnTo>
                  <a:lnTo>
                    <a:pt x="277" y="64"/>
                  </a:lnTo>
                  <a:lnTo>
                    <a:pt x="324" y="40"/>
                  </a:lnTo>
                  <a:lnTo>
                    <a:pt x="374" y="24"/>
                  </a:lnTo>
                  <a:lnTo>
                    <a:pt x="424" y="10"/>
                  </a:lnTo>
                  <a:lnTo>
                    <a:pt x="474" y="4"/>
                  </a:lnTo>
                  <a:lnTo>
                    <a:pt x="531" y="0"/>
                  </a:lnTo>
                  <a:lnTo>
                    <a:pt x="531" y="0"/>
                  </a:lnTo>
                  <a:lnTo>
                    <a:pt x="584" y="4"/>
                  </a:lnTo>
                  <a:lnTo>
                    <a:pt x="634" y="10"/>
                  </a:lnTo>
                  <a:lnTo>
                    <a:pt x="688" y="24"/>
                  </a:lnTo>
                  <a:lnTo>
                    <a:pt x="734" y="40"/>
                  </a:lnTo>
                  <a:lnTo>
                    <a:pt x="781" y="64"/>
                  </a:lnTo>
                  <a:lnTo>
                    <a:pt x="824" y="90"/>
                  </a:lnTo>
                  <a:lnTo>
                    <a:pt x="864" y="120"/>
                  </a:lnTo>
                  <a:lnTo>
                    <a:pt x="901" y="154"/>
                  </a:lnTo>
                  <a:lnTo>
                    <a:pt x="938" y="191"/>
                  </a:lnTo>
                  <a:lnTo>
                    <a:pt x="968" y="231"/>
                  </a:lnTo>
                  <a:lnTo>
                    <a:pt x="995" y="277"/>
                  </a:lnTo>
                  <a:lnTo>
                    <a:pt x="1015" y="321"/>
                  </a:lnTo>
                  <a:lnTo>
                    <a:pt x="1035" y="371"/>
                  </a:lnTo>
                  <a:lnTo>
                    <a:pt x="1048" y="421"/>
                  </a:lnTo>
                  <a:lnTo>
                    <a:pt x="1055" y="474"/>
                  </a:lnTo>
                  <a:lnTo>
                    <a:pt x="1058" y="528"/>
                  </a:lnTo>
                  <a:lnTo>
                    <a:pt x="1058" y="528"/>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439600" y="3012840"/>
              <a:ext cx="1950120" cy="1941480"/>
            </a:xfrm>
            <a:custGeom>
              <a:avLst/>
              <a:gdLst/>
              <a:ahLst/>
              <a:rect l="l" t="t" r="r" b="b"/>
              <a:pathLst>
                <a:path w="915" h="911">
                  <a:moveTo>
                    <a:pt x="551" y="891"/>
                  </a:moveTo>
                  <a:lnTo>
                    <a:pt x="551" y="891"/>
                  </a:lnTo>
                  <a:lnTo>
                    <a:pt x="497" y="888"/>
                  </a:lnTo>
                  <a:lnTo>
                    <a:pt x="444" y="878"/>
                  </a:lnTo>
                  <a:lnTo>
                    <a:pt x="394" y="868"/>
                  </a:lnTo>
                  <a:lnTo>
                    <a:pt x="344" y="848"/>
                  </a:lnTo>
                  <a:lnTo>
                    <a:pt x="300" y="828"/>
                  </a:lnTo>
                  <a:lnTo>
                    <a:pt x="257" y="801"/>
                  </a:lnTo>
                  <a:lnTo>
                    <a:pt x="214" y="771"/>
                  </a:lnTo>
                  <a:lnTo>
                    <a:pt x="177" y="734"/>
                  </a:lnTo>
                  <a:lnTo>
                    <a:pt x="143" y="697"/>
                  </a:lnTo>
                  <a:lnTo>
                    <a:pt x="113" y="657"/>
                  </a:lnTo>
                  <a:lnTo>
                    <a:pt x="87" y="614"/>
                  </a:lnTo>
                  <a:lnTo>
                    <a:pt x="63" y="567"/>
                  </a:lnTo>
                  <a:lnTo>
                    <a:pt x="47" y="520"/>
                  </a:lnTo>
                  <a:lnTo>
                    <a:pt x="33" y="467"/>
                  </a:lnTo>
                  <a:lnTo>
                    <a:pt x="27" y="417"/>
                  </a:lnTo>
                  <a:lnTo>
                    <a:pt x="23" y="360"/>
                  </a:lnTo>
                  <a:lnTo>
                    <a:pt x="23" y="360"/>
                  </a:lnTo>
                  <a:lnTo>
                    <a:pt x="27" y="310"/>
                  </a:lnTo>
                  <a:lnTo>
                    <a:pt x="33" y="260"/>
                  </a:lnTo>
                  <a:lnTo>
                    <a:pt x="43" y="210"/>
                  </a:lnTo>
                  <a:lnTo>
                    <a:pt x="60" y="163"/>
                  </a:lnTo>
                  <a:lnTo>
                    <a:pt x="83" y="120"/>
                  </a:lnTo>
                  <a:lnTo>
                    <a:pt x="107" y="77"/>
                  </a:lnTo>
                  <a:lnTo>
                    <a:pt x="133" y="36"/>
                  </a:lnTo>
                  <a:lnTo>
                    <a:pt x="167" y="0"/>
                  </a:lnTo>
                  <a:lnTo>
                    <a:pt x="167" y="0"/>
                  </a:lnTo>
                  <a:lnTo>
                    <a:pt x="130" y="36"/>
                  </a:lnTo>
                  <a:lnTo>
                    <a:pt x="97" y="80"/>
                  </a:lnTo>
                  <a:lnTo>
                    <a:pt x="70" y="123"/>
                  </a:lnTo>
                  <a:lnTo>
                    <a:pt x="47" y="170"/>
                  </a:lnTo>
                  <a:lnTo>
                    <a:pt x="27" y="220"/>
                  </a:lnTo>
                  <a:lnTo>
                    <a:pt x="13" y="273"/>
                  </a:lnTo>
                  <a:lnTo>
                    <a:pt x="3" y="327"/>
                  </a:lnTo>
                  <a:lnTo>
                    <a:pt x="0" y="384"/>
                  </a:lnTo>
                  <a:lnTo>
                    <a:pt x="0" y="384"/>
                  </a:lnTo>
                  <a:lnTo>
                    <a:pt x="3" y="437"/>
                  </a:lnTo>
                  <a:lnTo>
                    <a:pt x="13" y="490"/>
                  </a:lnTo>
                  <a:lnTo>
                    <a:pt x="23" y="541"/>
                  </a:lnTo>
                  <a:lnTo>
                    <a:pt x="43" y="591"/>
                  </a:lnTo>
                  <a:lnTo>
                    <a:pt x="63" y="634"/>
                  </a:lnTo>
                  <a:lnTo>
                    <a:pt x="90" y="677"/>
                  </a:lnTo>
                  <a:lnTo>
                    <a:pt x="123" y="721"/>
                  </a:lnTo>
                  <a:lnTo>
                    <a:pt x="157" y="757"/>
                  </a:lnTo>
                  <a:lnTo>
                    <a:pt x="194" y="791"/>
                  </a:lnTo>
                  <a:lnTo>
                    <a:pt x="234" y="821"/>
                  </a:lnTo>
                  <a:lnTo>
                    <a:pt x="277" y="848"/>
                  </a:lnTo>
                  <a:lnTo>
                    <a:pt x="324" y="871"/>
                  </a:lnTo>
                  <a:lnTo>
                    <a:pt x="374" y="888"/>
                  </a:lnTo>
                  <a:lnTo>
                    <a:pt x="424" y="901"/>
                  </a:lnTo>
                  <a:lnTo>
                    <a:pt x="474" y="908"/>
                  </a:lnTo>
                  <a:lnTo>
                    <a:pt x="531" y="911"/>
                  </a:lnTo>
                  <a:lnTo>
                    <a:pt x="531" y="911"/>
                  </a:lnTo>
                  <a:lnTo>
                    <a:pt x="584" y="908"/>
                  </a:lnTo>
                  <a:lnTo>
                    <a:pt x="641" y="901"/>
                  </a:lnTo>
                  <a:lnTo>
                    <a:pt x="691" y="888"/>
                  </a:lnTo>
                  <a:lnTo>
                    <a:pt x="741" y="868"/>
                  </a:lnTo>
                  <a:lnTo>
                    <a:pt x="788" y="844"/>
                  </a:lnTo>
                  <a:lnTo>
                    <a:pt x="834" y="814"/>
                  </a:lnTo>
                  <a:lnTo>
                    <a:pt x="874" y="781"/>
                  </a:lnTo>
                  <a:lnTo>
                    <a:pt x="915" y="747"/>
                  </a:lnTo>
                  <a:lnTo>
                    <a:pt x="915" y="747"/>
                  </a:lnTo>
                  <a:lnTo>
                    <a:pt x="878" y="778"/>
                  </a:lnTo>
                  <a:lnTo>
                    <a:pt x="838" y="808"/>
                  </a:lnTo>
                  <a:lnTo>
                    <a:pt x="794" y="831"/>
                  </a:lnTo>
                  <a:lnTo>
                    <a:pt x="748" y="851"/>
                  </a:lnTo>
                  <a:lnTo>
                    <a:pt x="701" y="868"/>
                  </a:lnTo>
                  <a:lnTo>
                    <a:pt x="654" y="881"/>
                  </a:lnTo>
                  <a:lnTo>
                    <a:pt x="604" y="888"/>
                  </a:lnTo>
                  <a:lnTo>
                    <a:pt x="551" y="891"/>
                  </a:lnTo>
                  <a:lnTo>
                    <a:pt x="551" y="8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496840" y="2763360"/>
              <a:ext cx="2139480" cy="2133360"/>
            </a:xfrm>
            <a:custGeom>
              <a:avLst/>
              <a:gdLst/>
              <a:ahLst/>
              <a:rect l="l" t="t" r="r" b="b"/>
              <a:pathLst>
                <a:path w="1004" h="1001">
                  <a:moveTo>
                    <a:pt x="1004" y="501"/>
                  </a:moveTo>
                  <a:lnTo>
                    <a:pt x="1004" y="501"/>
                  </a:lnTo>
                  <a:lnTo>
                    <a:pt x="1001" y="551"/>
                  </a:lnTo>
                  <a:lnTo>
                    <a:pt x="994" y="601"/>
                  </a:lnTo>
                  <a:lnTo>
                    <a:pt x="981" y="651"/>
                  </a:lnTo>
                  <a:lnTo>
                    <a:pt x="964" y="694"/>
                  </a:lnTo>
                  <a:lnTo>
                    <a:pt x="944" y="741"/>
                  </a:lnTo>
                  <a:lnTo>
                    <a:pt x="918" y="781"/>
                  </a:lnTo>
                  <a:lnTo>
                    <a:pt x="891" y="821"/>
                  </a:lnTo>
                  <a:lnTo>
                    <a:pt x="857" y="854"/>
                  </a:lnTo>
                  <a:lnTo>
                    <a:pt x="821" y="888"/>
                  </a:lnTo>
                  <a:lnTo>
                    <a:pt x="784" y="918"/>
                  </a:lnTo>
                  <a:lnTo>
                    <a:pt x="741" y="941"/>
                  </a:lnTo>
                  <a:lnTo>
                    <a:pt x="697" y="965"/>
                  </a:lnTo>
                  <a:lnTo>
                    <a:pt x="651" y="981"/>
                  </a:lnTo>
                  <a:lnTo>
                    <a:pt x="604" y="991"/>
                  </a:lnTo>
                  <a:lnTo>
                    <a:pt x="554" y="1001"/>
                  </a:lnTo>
                  <a:lnTo>
                    <a:pt x="504" y="1001"/>
                  </a:lnTo>
                  <a:lnTo>
                    <a:pt x="504" y="1001"/>
                  </a:lnTo>
                  <a:lnTo>
                    <a:pt x="450" y="1001"/>
                  </a:lnTo>
                  <a:lnTo>
                    <a:pt x="400" y="991"/>
                  </a:lnTo>
                  <a:lnTo>
                    <a:pt x="353" y="981"/>
                  </a:lnTo>
                  <a:lnTo>
                    <a:pt x="307" y="965"/>
                  </a:lnTo>
                  <a:lnTo>
                    <a:pt x="263" y="941"/>
                  </a:lnTo>
                  <a:lnTo>
                    <a:pt x="220" y="918"/>
                  </a:lnTo>
                  <a:lnTo>
                    <a:pt x="183" y="888"/>
                  </a:lnTo>
                  <a:lnTo>
                    <a:pt x="146" y="854"/>
                  </a:lnTo>
                  <a:lnTo>
                    <a:pt x="116" y="821"/>
                  </a:lnTo>
                  <a:lnTo>
                    <a:pt x="86" y="781"/>
                  </a:lnTo>
                  <a:lnTo>
                    <a:pt x="60" y="741"/>
                  </a:lnTo>
                  <a:lnTo>
                    <a:pt x="40" y="694"/>
                  </a:lnTo>
                  <a:lnTo>
                    <a:pt x="23" y="651"/>
                  </a:lnTo>
                  <a:lnTo>
                    <a:pt x="10" y="601"/>
                  </a:lnTo>
                  <a:lnTo>
                    <a:pt x="3" y="551"/>
                  </a:lnTo>
                  <a:lnTo>
                    <a:pt x="0" y="501"/>
                  </a:lnTo>
                  <a:lnTo>
                    <a:pt x="0" y="501"/>
                  </a:lnTo>
                  <a:lnTo>
                    <a:pt x="3" y="451"/>
                  </a:lnTo>
                  <a:lnTo>
                    <a:pt x="10" y="400"/>
                  </a:lnTo>
                  <a:lnTo>
                    <a:pt x="23" y="350"/>
                  </a:lnTo>
                  <a:lnTo>
                    <a:pt x="40" y="304"/>
                  </a:lnTo>
                  <a:lnTo>
                    <a:pt x="60" y="260"/>
                  </a:lnTo>
                  <a:lnTo>
                    <a:pt x="86" y="220"/>
                  </a:lnTo>
                  <a:lnTo>
                    <a:pt x="116" y="180"/>
                  </a:lnTo>
                  <a:lnTo>
                    <a:pt x="146" y="147"/>
                  </a:lnTo>
                  <a:lnTo>
                    <a:pt x="183" y="113"/>
                  </a:lnTo>
                  <a:lnTo>
                    <a:pt x="220" y="83"/>
                  </a:lnTo>
                  <a:lnTo>
                    <a:pt x="263" y="60"/>
                  </a:lnTo>
                  <a:lnTo>
                    <a:pt x="307" y="37"/>
                  </a:lnTo>
                  <a:lnTo>
                    <a:pt x="353" y="20"/>
                  </a:lnTo>
                  <a:lnTo>
                    <a:pt x="400" y="10"/>
                  </a:lnTo>
                  <a:lnTo>
                    <a:pt x="450" y="0"/>
                  </a:lnTo>
                  <a:lnTo>
                    <a:pt x="504" y="0"/>
                  </a:lnTo>
                  <a:lnTo>
                    <a:pt x="504" y="0"/>
                  </a:lnTo>
                  <a:lnTo>
                    <a:pt x="554" y="0"/>
                  </a:lnTo>
                  <a:lnTo>
                    <a:pt x="604" y="10"/>
                  </a:lnTo>
                  <a:lnTo>
                    <a:pt x="651" y="20"/>
                  </a:lnTo>
                  <a:lnTo>
                    <a:pt x="697" y="37"/>
                  </a:lnTo>
                  <a:lnTo>
                    <a:pt x="741" y="60"/>
                  </a:lnTo>
                  <a:lnTo>
                    <a:pt x="784" y="83"/>
                  </a:lnTo>
                  <a:lnTo>
                    <a:pt x="821" y="113"/>
                  </a:lnTo>
                  <a:lnTo>
                    <a:pt x="857" y="147"/>
                  </a:lnTo>
                  <a:lnTo>
                    <a:pt x="891" y="180"/>
                  </a:lnTo>
                  <a:lnTo>
                    <a:pt x="918" y="220"/>
                  </a:lnTo>
                  <a:lnTo>
                    <a:pt x="944" y="260"/>
                  </a:lnTo>
                  <a:lnTo>
                    <a:pt x="964" y="304"/>
                  </a:lnTo>
                  <a:lnTo>
                    <a:pt x="981" y="350"/>
                  </a:lnTo>
                  <a:lnTo>
                    <a:pt x="994" y="400"/>
                  </a:lnTo>
                  <a:lnTo>
                    <a:pt x="1001" y="451"/>
                  </a:lnTo>
                  <a:lnTo>
                    <a:pt x="1004" y="501"/>
                  </a:lnTo>
                  <a:lnTo>
                    <a:pt x="1004" y="501"/>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531400" y="2784600"/>
              <a:ext cx="2077920" cy="2078280"/>
            </a:xfrm>
            <a:custGeom>
              <a:avLst/>
              <a:gdLst/>
              <a:ahLst/>
              <a:rect l="l" t="t" r="r" b="b"/>
              <a:pathLst>
                <a:path w="975" h="975">
                  <a:moveTo>
                    <a:pt x="488" y="975"/>
                  </a:moveTo>
                  <a:lnTo>
                    <a:pt x="488" y="975"/>
                  </a:lnTo>
                  <a:lnTo>
                    <a:pt x="438" y="975"/>
                  </a:lnTo>
                  <a:lnTo>
                    <a:pt x="391" y="965"/>
                  </a:lnTo>
                  <a:lnTo>
                    <a:pt x="344" y="955"/>
                  </a:lnTo>
                  <a:lnTo>
                    <a:pt x="301" y="938"/>
                  </a:lnTo>
                  <a:lnTo>
                    <a:pt x="257" y="918"/>
                  </a:lnTo>
                  <a:lnTo>
                    <a:pt x="217" y="891"/>
                  </a:lnTo>
                  <a:lnTo>
                    <a:pt x="181" y="864"/>
                  </a:lnTo>
                  <a:lnTo>
                    <a:pt x="144" y="834"/>
                  </a:lnTo>
                  <a:lnTo>
                    <a:pt x="114" y="798"/>
                  </a:lnTo>
                  <a:lnTo>
                    <a:pt x="84" y="761"/>
                  </a:lnTo>
                  <a:lnTo>
                    <a:pt x="60" y="721"/>
                  </a:lnTo>
                  <a:lnTo>
                    <a:pt x="40" y="678"/>
                  </a:lnTo>
                  <a:lnTo>
                    <a:pt x="24" y="634"/>
                  </a:lnTo>
                  <a:lnTo>
                    <a:pt x="10" y="587"/>
                  </a:lnTo>
                  <a:lnTo>
                    <a:pt x="4" y="537"/>
                  </a:lnTo>
                  <a:lnTo>
                    <a:pt x="0" y="487"/>
                  </a:lnTo>
                  <a:lnTo>
                    <a:pt x="0" y="487"/>
                  </a:lnTo>
                  <a:lnTo>
                    <a:pt x="4" y="437"/>
                  </a:lnTo>
                  <a:lnTo>
                    <a:pt x="10" y="390"/>
                  </a:lnTo>
                  <a:lnTo>
                    <a:pt x="24" y="344"/>
                  </a:lnTo>
                  <a:lnTo>
                    <a:pt x="40" y="300"/>
                  </a:lnTo>
                  <a:lnTo>
                    <a:pt x="60" y="257"/>
                  </a:lnTo>
                  <a:lnTo>
                    <a:pt x="84" y="217"/>
                  </a:lnTo>
                  <a:lnTo>
                    <a:pt x="114" y="180"/>
                  </a:lnTo>
                  <a:lnTo>
                    <a:pt x="144" y="143"/>
                  </a:lnTo>
                  <a:lnTo>
                    <a:pt x="181" y="113"/>
                  </a:lnTo>
                  <a:lnTo>
                    <a:pt x="217" y="83"/>
                  </a:lnTo>
                  <a:lnTo>
                    <a:pt x="257" y="60"/>
                  </a:lnTo>
                  <a:lnTo>
                    <a:pt x="301" y="40"/>
                  </a:lnTo>
                  <a:lnTo>
                    <a:pt x="344" y="23"/>
                  </a:lnTo>
                  <a:lnTo>
                    <a:pt x="391" y="10"/>
                  </a:lnTo>
                  <a:lnTo>
                    <a:pt x="438" y="3"/>
                  </a:lnTo>
                  <a:lnTo>
                    <a:pt x="488" y="0"/>
                  </a:lnTo>
                  <a:lnTo>
                    <a:pt x="488" y="0"/>
                  </a:lnTo>
                  <a:lnTo>
                    <a:pt x="538" y="3"/>
                  </a:lnTo>
                  <a:lnTo>
                    <a:pt x="588" y="10"/>
                  </a:lnTo>
                  <a:lnTo>
                    <a:pt x="635" y="23"/>
                  </a:lnTo>
                  <a:lnTo>
                    <a:pt x="678" y="40"/>
                  </a:lnTo>
                  <a:lnTo>
                    <a:pt x="721" y="60"/>
                  </a:lnTo>
                  <a:lnTo>
                    <a:pt x="761" y="83"/>
                  </a:lnTo>
                  <a:lnTo>
                    <a:pt x="798" y="113"/>
                  </a:lnTo>
                  <a:lnTo>
                    <a:pt x="835" y="143"/>
                  </a:lnTo>
                  <a:lnTo>
                    <a:pt x="865" y="180"/>
                  </a:lnTo>
                  <a:lnTo>
                    <a:pt x="892" y="217"/>
                  </a:lnTo>
                  <a:lnTo>
                    <a:pt x="918" y="257"/>
                  </a:lnTo>
                  <a:lnTo>
                    <a:pt x="938" y="300"/>
                  </a:lnTo>
                  <a:lnTo>
                    <a:pt x="955" y="344"/>
                  </a:lnTo>
                  <a:lnTo>
                    <a:pt x="965" y="390"/>
                  </a:lnTo>
                  <a:lnTo>
                    <a:pt x="975" y="437"/>
                  </a:lnTo>
                  <a:lnTo>
                    <a:pt x="975" y="487"/>
                  </a:lnTo>
                  <a:lnTo>
                    <a:pt x="975" y="487"/>
                  </a:lnTo>
                  <a:lnTo>
                    <a:pt x="975" y="537"/>
                  </a:lnTo>
                  <a:lnTo>
                    <a:pt x="965" y="587"/>
                  </a:lnTo>
                  <a:lnTo>
                    <a:pt x="955" y="634"/>
                  </a:lnTo>
                  <a:lnTo>
                    <a:pt x="938" y="678"/>
                  </a:lnTo>
                  <a:lnTo>
                    <a:pt x="918" y="721"/>
                  </a:lnTo>
                  <a:lnTo>
                    <a:pt x="892" y="761"/>
                  </a:lnTo>
                  <a:lnTo>
                    <a:pt x="865" y="798"/>
                  </a:lnTo>
                  <a:lnTo>
                    <a:pt x="835" y="834"/>
                  </a:lnTo>
                  <a:lnTo>
                    <a:pt x="798" y="864"/>
                  </a:lnTo>
                  <a:lnTo>
                    <a:pt x="761" y="891"/>
                  </a:lnTo>
                  <a:lnTo>
                    <a:pt x="721" y="918"/>
                  </a:lnTo>
                  <a:lnTo>
                    <a:pt x="678" y="938"/>
                  </a:lnTo>
                  <a:lnTo>
                    <a:pt x="635" y="955"/>
                  </a:lnTo>
                  <a:lnTo>
                    <a:pt x="588" y="965"/>
                  </a:lnTo>
                  <a:lnTo>
                    <a:pt x="538" y="975"/>
                  </a:lnTo>
                  <a:lnTo>
                    <a:pt x="488" y="975"/>
                  </a:lnTo>
                  <a:lnTo>
                    <a:pt x="488" y="975"/>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573880" y="2812680"/>
              <a:ext cx="2013840" cy="2013840"/>
            </a:xfrm>
            <a:custGeom>
              <a:avLst/>
              <a:gdLst/>
              <a:ahLst/>
              <a:rect l="l" t="t" r="r" b="b"/>
              <a:pathLst>
                <a:path w="945" h="945">
                  <a:moveTo>
                    <a:pt x="471" y="945"/>
                  </a:moveTo>
                  <a:lnTo>
                    <a:pt x="471" y="945"/>
                  </a:lnTo>
                  <a:lnTo>
                    <a:pt x="424" y="945"/>
                  </a:lnTo>
                  <a:lnTo>
                    <a:pt x="378" y="935"/>
                  </a:lnTo>
                  <a:lnTo>
                    <a:pt x="331" y="925"/>
                  </a:lnTo>
                  <a:lnTo>
                    <a:pt x="287" y="908"/>
                  </a:lnTo>
                  <a:lnTo>
                    <a:pt x="247" y="888"/>
                  </a:lnTo>
                  <a:lnTo>
                    <a:pt x="207" y="865"/>
                  </a:lnTo>
                  <a:lnTo>
                    <a:pt x="171" y="838"/>
                  </a:lnTo>
                  <a:lnTo>
                    <a:pt x="137" y="808"/>
                  </a:lnTo>
                  <a:lnTo>
                    <a:pt x="107" y="775"/>
                  </a:lnTo>
                  <a:lnTo>
                    <a:pt x="80" y="738"/>
                  </a:lnTo>
                  <a:lnTo>
                    <a:pt x="57" y="698"/>
                  </a:lnTo>
                  <a:lnTo>
                    <a:pt x="37" y="658"/>
                  </a:lnTo>
                  <a:lnTo>
                    <a:pt x="20" y="614"/>
                  </a:lnTo>
                  <a:lnTo>
                    <a:pt x="10" y="568"/>
                  </a:lnTo>
                  <a:lnTo>
                    <a:pt x="0" y="521"/>
                  </a:lnTo>
                  <a:lnTo>
                    <a:pt x="0" y="474"/>
                  </a:lnTo>
                  <a:lnTo>
                    <a:pt x="0" y="474"/>
                  </a:lnTo>
                  <a:lnTo>
                    <a:pt x="0" y="424"/>
                  </a:lnTo>
                  <a:lnTo>
                    <a:pt x="10" y="377"/>
                  </a:lnTo>
                  <a:lnTo>
                    <a:pt x="20" y="334"/>
                  </a:lnTo>
                  <a:lnTo>
                    <a:pt x="37" y="291"/>
                  </a:lnTo>
                  <a:lnTo>
                    <a:pt x="57" y="247"/>
                  </a:lnTo>
                  <a:lnTo>
                    <a:pt x="80" y="211"/>
                  </a:lnTo>
                  <a:lnTo>
                    <a:pt x="107" y="174"/>
                  </a:lnTo>
                  <a:lnTo>
                    <a:pt x="137" y="141"/>
                  </a:lnTo>
                  <a:lnTo>
                    <a:pt x="171" y="110"/>
                  </a:lnTo>
                  <a:lnTo>
                    <a:pt x="207" y="80"/>
                  </a:lnTo>
                  <a:lnTo>
                    <a:pt x="247" y="57"/>
                  </a:lnTo>
                  <a:lnTo>
                    <a:pt x="287" y="37"/>
                  </a:lnTo>
                  <a:lnTo>
                    <a:pt x="331" y="24"/>
                  </a:lnTo>
                  <a:lnTo>
                    <a:pt x="378" y="10"/>
                  </a:lnTo>
                  <a:lnTo>
                    <a:pt x="424" y="4"/>
                  </a:lnTo>
                  <a:lnTo>
                    <a:pt x="471" y="0"/>
                  </a:lnTo>
                  <a:lnTo>
                    <a:pt x="471" y="0"/>
                  </a:lnTo>
                  <a:lnTo>
                    <a:pt x="521" y="4"/>
                  </a:lnTo>
                  <a:lnTo>
                    <a:pt x="568" y="10"/>
                  </a:lnTo>
                  <a:lnTo>
                    <a:pt x="611" y="24"/>
                  </a:lnTo>
                  <a:lnTo>
                    <a:pt x="655" y="37"/>
                  </a:lnTo>
                  <a:lnTo>
                    <a:pt x="698" y="57"/>
                  </a:lnTo>
                  <a:lnTo>
                    <a:pt x="735" y="80"/>
                  </a:lnTo>
                  <a:lnTo>
                    <a:pt x="771" y="110"/>
                  </a:lnTo>
                  <a:lnTo>
                    <a:pt x="805" y="141"/>
                  </a:lnTo>
                  <a:lnTo>
                    <a:pt x="835" y="174"/>
                  </a:lnTo>
                  <a:lnTo>
                    <a:pt x="865" y="211"/>
                  </a:lnTo>
                  <a:lnTo>
                    <a:pt x="888" y="247"/>
                  </a:lnTo>
                  <a:lnTo>
                    <a:pt x="908" y="291"/>
                  </a:lnTo>
                  <a:lnTo>
                    <a:pt x="922" y="334"/>
                  </a:lnTo>
                  <a:lnTo>
                    <a:pt x="935" y="377"/>
                  </a:lnTo>
                  <a:lnTo>
                    <a:pt x="942" y="424"/>
                  </a:lnTo>
                  <a:lnTo>
                    <a:pt x="945" y="474"/>
                  </a:lnTo>
                  <a:lnTo>
                    <a:pt x="945" y="474"/>
                  </a:lnTo>
                  <a:lnTo>
                    <a:pt x="942" y="521"/>
                  </a:lnTo>
                  <a:lnTo>
                    <a:pt x="935" y="568"/>
                  </a:lnTo>
                  <a:lnTo>
                    <a:pt x="922" y="614"/>
                  </a:lnTo>
                  <a:lnTo>
                    <a:pt x="908" y="658"/>
                  </a:lnTo>
                  <a:lnTo>
                    <a:pt x="888" y="698"/>
                  </a:lnTo>
                  <a:lnTo>
                    <a:pt x="865" y="738"/>
                  </a:lnTo>
                  <a:lnTo>
                    <a:pt x="835" y="775"/>
                  </a:lnTo>
                  <a:lnTo>
                    <a:pt x="805" y="808"/>
                  </a:lnTo>
                  <a:lnTo>
                    <a:pt x="771" y="838"/>
                  </a:lnTo>
                  <a:lnTo>
                    <a:pt x="735" y="865"/>
                  </a:lnTo>
                  <a:lnTo>
                    <a:pt x="698" y="888"/>
                  </a:lnTo>
                  <a:lnTo>
                    <a:pt x="655" y="908"/>
                  </a:lnTo>
                  <a:lnTo>
                    <a:pt x="611" y="925"/>
                  </a:lnTo>
                  <a:lnTo>
                    <a:pt x="568" y="935"/>
                  </a:lnTo>
                  <a:lnTo>
                    <a:pt x="521" y="945"/>
                  </a:lnTo>
                  <a:lnTo>
                    <a:pt x="471" y="945"/>
                  </a:lnTo>
                  <a:lnTo>
                    <a:pt x="471" y="945"/>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610240" y="2842200"/>
              <a:ext cx="1950120" cy="1948320"/>
            </a:xfrm>
            <a:custGeom>
              <a:avLst/>
              <a:gdLst/>
              <a:ahLst/>
              <a:rect l="l" t="t" r="r" b="b"/>
              <a:pathLst>
                <a:path w="915" h="914">
                  <a:moveTo>
                    <a:pt x="457" y="914"/>
                  </a:moveTo>
                  <a:lnTo>
                    <a:pt x="457" y="914"/>
                  </a:lnTo>
                  <a:lnTo>
                    <a:pt x="411" y="914"/>
                  </a:lnTo>
                  <a:lnTo>
                    <a:pt x="364" y="904"/>
                  </a:lnTo>
                  <a:lnTo>
                    <a:pt x="320" y="894"/>
                  </a:lnTo>
                  <a:lnTo>
                    <a:pt x="280" y="878"/>
                  </a:lnTo>
                  <a:lnTo>
                    <a:pt x="240" y="861"/>
                  </a:lnTo>
                  <a:lnTo>
                    <a:pt x="200" y="837"/>
                  </a:lnTo>
                  <a:lnTo>
                    <a:pt x="167" y="811"/>
                  </a:lnTo>
                  <a:lnTo>
                    <a:pt x="134" y="781"/>
                  </a:lnTo>
                  <a:lnTo>
                    <a:pt x="104" y="747"/>
                  </a:lnTo>
                  <a:lnTo>
                    <a:pt x="77" y="714"/>
                  </a:lnTo>
                  <a:lnTo>
                    <a:pt x="53" y="677"/>
                  </a:lnTo>
                  <a:lnTo>
                    <a:pt x="37" y="637"/>
                  </a:lnTo>
                  <a:lnTo>
                    <a:pt x="20" y="594"/>
                  </a:lnTo>
                  <a:lnTo>
                    <a:pt x="10" y="550"/>
                  </a:lnTo>
                  <a:lnTo>
                    <a:pt x="3" y="504"/>
                  </a:lnTo>
                  <a:lnTo>
                    <a:pt x="0" y="457"/>
                  </a:lnTo>
                  <a:lnTo>
                    <a:pt x="0" y="457"/>
                  </a:lnTo>
                  <a:lnTo>
                    <a:pt x="3" y="410"/>
                  </a:lnTo>
                  <a:lnTo>
                    <a:pt x="10" y="367"/>
                  </a:lnTo>
                  <a:lnTo>
                    <a:pt x="20" y="320"/>
                  </a:lnTo>
                  <a:lnTo>
                    <a:pt x="37" y="280"/>
                  </a:lnTo>
                  <a:lnTo>
                    <a:pt x="53" y="240"/>
                  </a:lnTo>
                  <a:lnTo>
                    <a:pt x="77" y="203"/>
                  </a:lnTo>
                  <a:lnTo>
                    <a:pt x="104" y="167"/>
                  </a:lnTo>
                  <a:lnTo>
                    <a:pt x="134" y="133"/>
                  </a:lnTo>
                  <a:lnTo>
                    <a:pt x="167" y="103"/>
                  </a:lnTo>
                  <a:lnTo>
                    <a:pt x="200" y="80"/>
                  </a:lnTo>
                  <a:lnTo>
                    <a:pt x="240" y="56"/>
                  </a:lnTo>
                  <a:lnTo>
                    <a:pt x="280" y="36"/>
                  </a:lnTo>
                  <a:lnTo>
                    <a:pt x="320" y="20"/>
                  </a:lnTo>
                  <a:lnTo>
                    <a:pt x="364" y="10"/>
                  </a:lnTo>
                  <a:lnTo>
                    <a:pt x="411" y="3"/>
                  </a:lnTo>
                  <a:lnTo>
                    <a:pt x="457" y="0"/>
                  </a:lnTo>
                  <a:lnTo>
                    <a:pt x="457" y="0"/>
                  </a:lnTo>
                  <a:lnTo>
                    <a:pt x="504" y="3"/>
                  </a:lnTo>
                  <a:lnTo>
                    <a:pt x="551" y="10"/>
                  </a:lnTo>
                  <a:lnTo>
                    <a:pt x="594" y="20"/>
                  </a:lnTo>
                  <a:lnTo>
                    <a:pt x="634" y="36"/>
                  </a:lnTo>
                  <a:lnTo>
                    <a:pt x="674" y="56"/>
                  </a:lnTo>
                  <a:lnTo>
                    <a:pt x="714" y="80"/>
                  </a:lnTo>
                  <a:lnTo>
                    <a:pt x="748" y="103"/>
                  </a:lnTo>
                  <a:lnTo>
                    <a:pt x="781" y="133"/>
                  </a:lnTo>
                  <a:lnTo>
                    <a:pt x="811" y="167"/>
                  </a:lnTo>
                  <a:lnTo>
                    <a:pt x="838" y="203"/>
                  </a:lnTo>
                  <a:lnTo>
                    <a:pt x="858" y="240"/>
                  </a:lnTo>
                  <a:lnTo>
                    <a:pt x="878" y="280"/>
                  </a:lnTo>
                  <a:lnTo>
                    <a:pt x="895" y="320"/>
                  </a:lnTo>
                  <a:lnTo>
                    <a:pt x="905" y="367"/>
                  </a:lnTo>
                  <a:lnTo>
                    <a:pt x="911" y="410"/>
                  </a:lnTo>
                  <a:lnTo>
                    <a:pt x="915" y="457"/>
                  </a:lnTo>
                  <a:lnTo>
                    <a:pt x="915" y="457"/>
                  </a:lnTo>
                  <a:lnTo>
                    <a:pt x="911" y="504"/>
                  </a:lnTo>
                  <a:lnTo>
                    <a:pt x="905" y="550"/>
                  </a:lnTo>
                  <a:lnTo>
                    <a:pt x="895" y="594"/>
                  </a:lnTo>
                  <a:lnTo>
                    <a:pt x="878" y="637"/>
                  </a:lnTo>
                  <a:lnTo>
                    <a:pt x="858" y="677"/>
                  </a:lnTo>
                  <a:lnTo>
                    <a:pt x="838" y="714"/>
                  </a:lnTo>
                  <a:lnTo>
                    <a:pt x="811" y="747"/>
                  </a:lnTo>
                  <a:lnTo>
                    <a:pt x="781" y="781"/>
                  </a:lnTo>
                  <a:lnTo>
                    <a:pt x="748" y="811"/>
                  </a:lnTo>
                  <a:lnTo>
                    <a:pt x="714" y="837"/>
                  </a:lnTo>
                  <a:lnTo>
                    <a:pt x="674" y="861"/>
                  </a:lnTo>
                  <a:lnTo>
                    <a:pt x="634" y="878"/>
                  </a:lnTo>
                  <a:lnTo>
                    <a:pt x="594" y="894"/>
                  </a:lnTo>
                  <a:lnTo>
                    <a:pt x="551" y="904"/>
                  </a:lnTo>
                  <a:lnTo>
                    <a:pt x="504" y="914"/>
                  </a:lnTo>
                  <a:lnTo>
                    <a:pt x="457" y="914"/>
                  </a:lnTo>
                  <a:lnTo>
                    <a:pt x="457" y="914"/>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646240" y="2870280"/>
              <a:ext cx="1883880" cy="1886040"/>
            </a:xfrm>
            <a:custGeom>
              <a:avLst/>
              <a:gdLst/>
              <a:ahLst/>
              <a:rect l="l" t="t" r="r" b="b"/>
              <a:pathLst>
                <a:path w="884" h="885">
                  <a:moveTo>
                    <a:pt x="444" y="885"/>
                  </a:moveTo>
                  <a:lnTo>
                    <a:pt x="444" y="885"/>
                  </a:lnTo>
                  <a:lnTo>
                    <a:pt x="397" y="885"/>
                  </a:lnTo>
                  <a:lnTo>
                    <a:pt x="354" y="878"/>
                  </a:lnTo>
                  <a:lnTo>
                    <a:pt x="310" y="865"/>
                  </a:lnTo>
                  <a:lnTo>
                    <a:pt x="270" y="851"/>
                  </a:lnTo>
                  <a:lnTo>
                    <a:pt x="233" y="831"/>
                  </a:lnTo>
                  <a:lnTo>
                    <a:pt x="197" y="811"/>
                  </a:lnTo>
                  <a:lnTo>
                    <a:pt x="160" y="784"/>
                  </a:lnTo>
                  <a:lnTo>
                    <a:pt x="130" y="754"/>
                  </a:lnTo>
                  <a:lnTo>
                    <a:pt x="100" y="724"/>
                  </a:lnTo>
                  <a:lnTo>
                    <a:pt x="76" y="691"/>
                  </a:lnTo>
                  <a:lnTo>
                    <a:pt x="53" y="654"/>
                  </a:lnTo>
                  <a:lnTo>
                    <a:pt x="36" y="614"/>
                  </a:lnTo>
                  <a:lnTo>
                    <a:pt x="20" y="574"/>
                  </a:lnTo>
                  <a:lnTo>
                    <a:pt x="10" y="531"/>
                  </a:lnTo>
                  <a:lnTo>
                    <a:pt x="3" y="487"/>
                  </a:lnTo>
                  <a:lnTo>
                    <a:pt x="0" y="444"/>
                  </a:lnTo>
                  <a:lnTo>
                    <a:pt x="0" y="444"/>
                  </a:lnTo>
                  <a:lnTo>
                    <a:pt x="3" y="397"/>
                  </a:lnTo>
                  <a:lnTo>
                    <a:pt x="10" y="354"/>
                  </a:lnTo>
                  <a:lnTo>
                    <a:pt x="20" y="310"/>
                  </a:lnTo>
                  <a:lnTo>
                    <a:pt x="36" y="270"/>
                  </a:lnTo>
                  <a:lnTo>
                    <a:pt x="53" y="230"/>
                  </a:lnTo>
                  <a:lnTo>
                    <a:pt x="76" y="194"/>
                  </a:lnTo>
                  <a:lnTo>
                    <a:pt x="100" y="160"/>
                  </a:lnTo>
                  <a:lnTo>
                    <a:pt x="130" y="130"/>
                  </a:lnTo>
                  <a:lnTo>
                    <a:pt x="160" y="100"/>
                  </a:lnTo>
                  <a:lnTo>
                    <a:pt x="197" y="77"/>
                  </a:lnTo>
                  <a:lnTo>
                    <a:pt x="233" y="53"/>
                  </a:lnTo>
                  <a:lnTo>
                    <a:pt x="270" y="33"/>
                  </a:lnTo>
                  <a:lnTo>
                    <a:pt x="310" y="20"/>
                  </a:lnTo>
                  <a:lnTo>
                    <a:pt x="354" y="10"/>
                  </a:lnTo>
                  <a:lnTo>
                    <a:pt x="397" y="3"/>
                  </a:lnTo>
                  <a:lnTo>
                    <a:pt x="444" y="0"/>
                  </a:lnTo>
                  <a:lnTo>
                    <a:pt x="444" y="0"/>
                  </a:lnTo>
                  <a:lnTo>
                    <a:pt x="487" y="3"/>
                  </a:lnTo>
                  <a:lnTo>
                    <a:pt x="530" y="10"/>
                  </a:lnTo>
                  <a:lnTo>
                    <a:pt x="574" y="20"/>
                  </a:lnTo>
                  <a:lnTo>
                    <a:pt x="614" y="33"/>
                  </a:lnTo>
                  <a:lnTo>
                    <a:pt x="654" y="53"/>
                  </a:lnTo>
                  <a:lnTo>
                    <a:pt x="691" y="77"/>
                  </a:lnTo>
                  <a:lnTo>
                    <a:pt x="724" y="100"/>
                  </a:lnTo>
                  <a:lnTo>
                    <a:pt x="754" y="130"/>
                  </a:lnTo>
                  <a:lnTo>
                    <a:pt x="784" y="160"/>
                  </a:lnTo>
                  <a:lnTo>
                    <a:pt x="811" y="194"/>
                  </a:lnTo>
                  <a:lnTo>
                    <a:pt x="831" y="230"/>
                  </a:lnTo>
                  <a:lnTo>
                    <a:pt x="851" y="270"/>
                  </a:lnTo>
                  <a:lnTo>
                    <a:pt x="864" y="310"/>
                  </a:lnTo>
                  <a:lnTo>
                    <a:pt x="878" y="354"/>
                  </a:lnTo>
                  <a:lnTo>
                    <a:pt x="884" y="397"/>
                  </a:lnTo>
                  <a:lnTo>
                    <a:pt x="884" y="444"/>
                  </a:lnTo>
                  <a:lnTo>
                    <a:pt x="884" y="444"/>
                  </a:lnTo>
                  <a:lnTo>
                    <a:pt x="884" y="487"/>
                  </a:lnTo>
                  <a:lnTo>
                    <a:pt x="878" y="531"/>
                  </a:lnTo>
                  <a:lnTo>
                    <a:pt x="864" y="574"/>
                  </a:lnTo>
                  <a:lnTo>
                    <a:pt x="851" y="614"/>
                  </a:lnTo>
                  <a:lnTo>
                    <a:pt x="831" y="654"/>
                  </a:lnTo>
                  <a:lnTo>
                    <a:pt x="811" y="691"/>
                  </a:lnTo>
                  <a:lnTo>
                    <a:pt x="784" y="724"/>
                  </a:lnTo>
                  <a:lnTo>
                    <a:pt x="754" y="754"/>
                  </a:lnTo>
                  <a:lnTo>
                    <a:pt x="724" y="784"/>
                  </a:lnTo>
                  <a:lnTo>
                    <a:pt x="691" y="811"/>
                  </a:lnTo>
                  <a:lnTo>
                    <a:pt x="654" y="831"/>
                  </a:lnTo>
                  <a:lnTo>
                    <a:pt x="614" y="851"/>
                  </a:lnTo>
                  <a:lnTo>
                    <a:pt x="574" y="865"/>
                  </a:lnTo>
                  <a:lnTo>
                    <a:pt x="530" y="878"/>
                  </a:lnTo>
                  <a:lnTo>
                    <a:pt x="487" y="885"/>
                  </a:lnTo>
                  <a:lnTo>
                    <a:pt x="444" y="885"/>
                  </a:lnTo>
                  <a:lnTo>
                    <a:pt x="444" y="885"/>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680080" y="2897640"/>
              <a:ext cx="1828800" cy="1821960"/>
            </a:xfrm>
            <a:custGeom>
              <a:avLst/>
              <a:gdLst/>
              <a:ahLst/>
              <a:rect l="l" t="t" r="r" b="b"/>
              <a:pathLst>
                <a:path w="858" h="855">
                  <a:moveTo>
                    <a:pt x="431" y="855"/>
                  </a:moveTo>
                  <a:lnTo>
                    <a:pt x="431" y="855"/>
                  </a:lnTo>
                  <a:lnTo>
                    <a:pt x="384" y="852"/>
                  </a:lnTo>
                  <a:lnTo>
                    <a:pt x="344" y="848"/>
                  </a:lnTo>
                  <a:lnTo>
                    <a:pt x="301" y="835"/>
                  </a:lnTo>
                  <a:lnTo>
                    <a:pt x="264" y="821"/>
                  </a:lnTo>
                  <a:lnTo>
                    <a:pt x="224" y="805"/>
                  </a:lnTo>
                  <a:lnTo>
                    <a:pt x="191" y="781"/>
                  </a:lnTo>
                  <a:lnTo>
                    <a:pt x="157" y="758"/>
                  </a:lnTo>
                  <a:lnTo>
                    <a:pt x="127" y="731"/>
                  </a:lnTo>
                  <a:lnTo>
                    <a:pt x="101" y="701"/>
                  </a:lnTo>
                  <a:lnTo>
                    <a:pt x="74" y="668"/>
                  </a:lnTo>
                  <a:lnTo>
                    <a:pt x="54" y="631"/>
                  </a:lnTo>
                  <a:lnTo>
                    <a:pt x="34" y="595"/>
                  </a:lnTo>
                  <a:lnTo>
                    <a:pt x="20" y="554"/>
                  </a:lnTo>
                  <a:lnTo>
                    <a:pt x="10" y="514"/>
                  </a:lnTo>
                  <a:lnTo>
                    <a:pt x="4" y="471"/>
                  </a:lnTo>
                  <a:lnTo>
                    <a:pt x="0" y="428"/>
                  </a:lnTo>
                  <a:lnTo>
                    <a:pt x="0" y="428"/>
                  </a:lnTo>
                  <a:lnTo>
                    <a:pt x="4" y="384"/>
                  </a:lnTo>
                  <a:lnTo>
                    <a:pt x="10" y="341"/>
                  </a:lnTo>
                  <a:lnTo>
                    <a:pt x="20" y="301"/>
                  </a:lnTo>
                  <a:lnTo>
                    <a:pt x="34" y="261"/>
                  </a:lnTo>
                  <a:lnTo>
                    <a:pt x="54" y="224"/>
                  </a:lnTo>
                  <a:lnTo>
                    <a:pt x="74" y="187"/>
                  </a:lnTo>
                  <a:lnTo>
                    <a:pt x="101" y="154"/>
                  </a:lnTo>
                  <a:lnTo>
                    <a:pt x="127" y="124"/>
                  </a:lnTo>
                  <a:lnTo>
                    <a:pt x="157" y="97"/>
                  </a:lnTo>
                  <a:lnTo>
                    <a:pt x="191" y="74"/>
                  </a:lnTo>
                  <a:lnTo>
                    <a:pt x="224" y="50"/>
                  </a:lnTo>
                  <a:lnTo>
                    <a:pt x="264" y="34"/>
                  </a:lnTo>
                  <a:lnTo>
                    <a:pt x="301" y="20"/>
                  </a:lnTo>
                  <a:lnTo>
                    <a:pt x="344" y="7"/>
                  </a:lnTo>
                  <a:lnTo>
                    <a:pt x="384" y="4"/>
                  </a:lnTo>
                  <a:lnTo>
                    <a:pt x="431" y="0"/>
                  </a:lnTo>
                  <a:lnTo>
                    <a:pt x="431" y="0"/>
                  </a:lnTo>
                  <a:lnTo>
                    <a:pt x="474" y="4"/>
                  </a:lnTo>
                  <a:lnTo>
                    <a:pt x="514" y="7"/>
                  </a:lnTo>
                  <a:lnTo>
                    <a:pt x="558" y="20"/>
                  </a:lnTo>
                  <a:lnTo>
                    <a:pt x="595" y="34"/>
                  </a:lnTo>
                  <a:lnTo>
                    <a:pt x="635" y="50"/>
                  </a:lnTo>
                  <a:lnTo>
                    <a:pt x="668" y="74"/>
                  </a:lnTo>
                  <a:lnTo>
                    <a:pt x="701" y="97"/>
                  </a:lnTo>
                  <a:lnTo>
                    <a:pt x="731" y="124"/>
                  </a:lnTo>
                  <a:lnTo>
                    <a:pt x="758" y="154"/>
                  </a:lnTo>
                  <a:lnTo>
                    <a:pt x="785" y="187"/>
                  </a:lnTo>
                  <a:lnTo>
                    <a:pt x="805" y="224"/>
                  </a:lnTo>
                  <a:lnTo>
                    <a:pt x="825" y="261"/>
                  </a:lnTo>
                  <a:lnTo>
                    <a:pt x="838" y="301"/>
                  </a:lnTo>
                  <a:lnTo>
                    <a:pt x="848" y="341"/>
                  </a:lnTo>
                  <a:lnTo>
                    <a:pt x="855" y="384"/>
                  </a:lnTo>
                  <a:lnTo>
                    <a:pt x="858" y="428"/>
                  </a:lnTo>
                  <a:lnTo>
                    <a:pt x="858" y="428"/>
                  </a:lnTo>
                  <a:lnTo>
                    <a:pt x="855" y="471"/>
                  </a:lnTo>
                  <a:lnTo>
                    <a:pt x="848" y="514"/>
                  </a:lnTo>
                  <a:lnTo>
                    <a:pt x="838" y="554"/>
                  </a:lnTo>
                  <a:lnTo>
                    <a:pt x="825" y="595"/>
                  </a:lnTo>
                  <a:lnTo>
                    <a:pt x="805" y="631"/>
                  </a:lnTo>
                  <a:lnTo>
                    <a:pt x="785" y="668"/>
                  </a:lnTo>
                  <a:lnTo>
                    <a:pt x="758" y="701"/>
                  </a:lnTo>
                  <a:lnTo>
                    <a:pt x="731" y="731"/>
                  </a:lnTo>
                  <a:lnTo>
                    <a:pt x="701" y="758"/>
                  </a:lnTo>
                  <a:lnTo>
                    <a:pt x="668" y="781"/>
                  </a:lnTo>
                  <a:lnTo>
                    <a:pt x="635" y="805"/>
                  </a:lnTo>
                  <a:lnTo>
                    <a:pt x="595" y="821"/>
                  </a:lnTo>
                  <a:lnTo>
                    <a:pt x="558" y="835"/>
                  </a:lnTo>
                  <a:lnTo>
                    <a:pt x="514" y="848"/>
                  </a:lnTo>
                  <a:lnTo>
                    <a:pt x="474" y="852"/>
                  </a:lnTo>
                  <a:lnTo>
                    <a:pt x="431" y="855"/>
                  </a:lnTo>
                  <a:lnTo>
                    <a:pt x="431" y="855"/>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22560" y="2927520"/>
              <a:ext cx="1758240" cy="1756080"/>
            </a:xfrm>
            <a:custGeom>
              <a:avLst/>
              <a:gdLst/>
              <a:ahLst/>
              <a:rect l="l" t="t" r="r" b="b"/>
              <a:pathLst>
                <a:path w="825" h="824">
                  <a:moveTo>
                    <a:pt x="411" y="824"/>
                  </a:moveTo>
                  <a:lnTo>
                    <a:pt x="411" y="824"/>
                  </a:lnTo>
                  <a:lnTo>
                    <a:pt x="371" y="821"/>
                  </a:lnTo>
                  <a:lnTo>
                    <a:pt x="328" y="818"/>
                  </a:lnTo>
                  <a:lnTo>
                    <a:pt x="291" y="807"/>
                  </a:lnTo>
                  <a:lnTo>
                    <a:pt x="251" y="791"/>
                  </a:lnTo>
                  <a:lnTo>
                    <a:pt x="214" y="774"/>
                  </a:lnTo>
                  <a:lnTo>
                    <a:pt x="181" y="754"/>
                  </a:lnTo>
                  <a:lnTo>
                    <a:pt x="151" y="731"/>
                  </a:lnTo>
                  <a:lnTo>
                    <a:pt x="121" y="704"/>
                  </a:lnTo>
                  <a:lnTo>
                    <a:pt x="94" y="674"/>
                  </a:lnTo>
                  <a:lnTo>
                    <a:pt x="71" y="644"/>
                  </a:lnTo>
                  <a:lnTo>
                    <a:pt x="51" y="607"/>
                  </a:lnTo>
                  <a:lnTo>
                    <a:pt x="30" y="574"/>
                  </a:lnTo>
                  <a:lnTo>
                    <a:pt x="17" y="534"/>
                  </a:lnTo>
                  <a:lnTo>
                    <a:pt x="7" y="494"/>
                  </a:lnTo>
                  <a:lnTo>
                    <a:pt x="0" y="454"/>
                  </a:lnTo>
                  <a:lnTo>
                    <a:pt x="0" y="410"/>
                  </a:lnTo>
                  <a:lnTo>
                    <a:pt x="0" y="410"/>
                  </a:lnTo>
                  <a:lnTo>
                    <a:pt x="0" y="370"/>
                  </a:lnTo>
                  <a:lnTo>
                    <a:pt x="7" y="327"/>
                  </a:lnTo>
                  <a:lnTo>
                    <a:pt x="17" y="290"/>
                  </a:lnTo>
                  <a:lnTo>
                    <a:pt x="30" y="250"/>
                  </a:lnTo>
                  <a:lnTo>
                    <a:pt x="51" y="213"/>
                  </a:lnTo>
                  <a:lnTo>
                    <a:pt x="71" y="180"/>
                  </a:lnTo>
                  <a:lnTo>
                    <a:pt x="94" y="150"/>
                  </a:lnTo>
                  <a:lnTo>
                    <a:pt x="121" y="120"/>
                  </a:lnTo>
                  <a:lnTo>
                    <a:pt x="151" y="93"/>
                  </a:lnTo>
                  <a:lnTo>
                    <a:pt x="181" y="70"/>
                  </a:lnTo>
                  <a:lnTo>
                    <a:pt x="214" y="50"/>
                  </a:lnTo>
                  <a:lnTo>
                    <a:pt x="251" y="30"/>
                  </a:lnTo>
                  <a:lnTo>
                    <a:pt x="291" y="16"/>
                  </a:lnTo>
                  <a:lnTo>
                    <a:pt x="328" y="6"/>
                  </a:lnTo>
                  <a:lnTo>
                    <a:pt x="371" y="0"/>
                  </a:lnTo>
                  <a:lnTo>
                    <a:pt x="411" y="0"/>
                  </a:lnTo>
                  <a:lnTo>
                    <a:pt x="411" y="0"/>
                  </a:lnTo>
                  <a:lnTo>
                    <a:pt x="454" y="0"/>
                  </a:lnTo>
                  <a:lnTo>
                    <a:pt x="494" y="6"/>
                  </a:lnTo>
                  <a:lnTo>
                    <a:pt x="535" y="16"/>
                  </a:lnTo>
                  <a:lnTo>
                    <a:pt x="571" y="30"/>
                  </a:lnTo>
                  <a:lnTo>
                    <a:pt x="608" y="50"/>
                  </a:lnTo>
                  <a:lnTo>
                    <a:pt x="641" y="70"/>
                  </a:lnTo>
                  <a:lnTo>
                    <a:pt x="675" y="93"/>
                  </a:lnTo>
                  <a:lnTo>
                    <a:pt x="705" y="120"/>
                  </a:lnTo>
                  <a:lnTo>
                    <a:pt x="731" y="150"/>
                  </a:lnTo>
                  <a:lnTo>
                    <a:pt x="755" y="180"/>
                  </a:lnTo>
                  <a:lnTo>
                    <a:pt x="775" y="213"/>
                  </a:lnTo>
                  <a:lnTo>
                    <a:pt x="792" y="250"/>
                  </a:lnTo>
                  <a:lnTo>
                    <a:pt x="805" y="290"/>
                  </a:lnTo>
                  <a:lnTo>
                    <a:pt x="815" y="327"/>
                  </a:lnTo>
                  <a:lnTo>
                    <a:pt x="822" y="370"/>
                  </a:lnTo>
                  <a:lnTo>
                    <a:pt x="825" y="410"/>
                  </a:lnTo>
                  <a:lnTo>
                    <a:pt x="825" y="410"/>
                  </a:lnTo>
                  <a:lnTo>
                    <a:pt x="822" y="454"/>
                  </a:lnTo>
                  <a:lnTo>
                    <a:pt x="815" y="494"/>
                  </a:lnTo>
                  <a:lnTo>
                    <a:pt x="805" y="534"/>
                  </a:lnTo>
                  <a:lnTo>
                    <a:pt x="792" y="574"/>
                  </a:lnTo>
                  <a:lnTo>
                    <a:pt x="775" y="607"/>
                  </a:lnTo>
                  <a:lnTo>
                    <a:pt x="755" y="644"/>
                  </a:lnTo>
                  <a:lnTo>
                    <a:pt x="731" y="674"/>
                  </a:lnTo>
                  <a:lnTo>
                    <a:pt x="705" y="704"/>
                  </a:lnTo>
                  <a:lnTo>
                    <a:pt x="675" y="731"/>
                  </a:lnTo>
                  <a:lnTo>
                    <a:pt x="641" y="754"/>
                  </a:lnTo>
                  <a:lnTo>
                    <a:pt x="608" y="774"/>
                  </a:lnTo>
                  <a:lnTo>
                    <a:pt x="571" y="791"/>
                  </a:lnTo>
                  <a:lnTo>
                    <a:pt x="535" y="807"/>
                  </a:lnTo>
                  <a:lnTo>
                    <a:pt x="494" y="818"/>
                  </a:lnTo>
                  <a:lnTo>
                    <a:pt x="454" y="821"/>
                  </a:lnTo>
                  <a:lnTo>
                    <a:pt x="411" y="824"/>
                  </a:lnTo>
                  <a:lnTo>
                    <a:pt x="411" y="82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8920" y="2955240"/>
              <a:ext cx="1694520" cy="1692000"/>
            </a:xfrm>
            <a:custGeom>
              <a:avLst/>
              <a:gdLst/>
              <a:ahLst/>
              <a:rect l="l" t="t" r="r" b="b"/>
              <a:pathLst>
                <a:path w="795" h="794">
                  <a:moveTo>
                    <a:pt x="397" y="794"/>
                  </a:moveTo>
                  <a:lnTo>
                    <a:pt x="397" y="794"/>
                  </a:lnTo>
                  <a:lnTo>
                    <a:pt x="357" y="791"/>
                  </a:lnTo>
                  <a:lnTo>
                    <a:pt x="317" y="788"/>
                  </a:lnTo>
                  <a:lnTo>
                    <a:pt x="281" y="778"/>
                  </a:lnTo>
                  <a:lnTo>
                    <a:pt x="244" y="764"/>
                  </a:lnTo>
                  <a:lnTo>
                    <a:pt x="207" y="748"/>
                  </a:lnTo>
                  <a:lnTo>
                    <a:pt x="174" y="728"/>
                  </a:lnTo>
                  <a:lnTo>
                    <a:pt x="144" y="704"/>
                  </a:lnTo>
                  <a:lnTo>
                    <a:pt x="117" y="678"/>
                  </a:lnTo>
                  <a:lnTo>
                    <a:pt x="90" y="651"/>
                  </a:lnTo>
                  <a:lnTo>
                    <a:pt x="67" y="621"/>
                  </a:lnTo>
                  <a:lnTo>
                    <a:pt x="47" y="588"/>
                  </a:lnTo>
                  <a:lnTo>
                    <a:pt x="30" y="551"/>
                  </a:lnTo>
                  <a:lnTo>
                    <a:pt x="17" y="514"/>
                  </a:lnTo>
                  <a:lnTo>
                    <a:pt x="7" y="477"/>
                  </a:lnTo>
                  <a:lnTo>
                    <a:pt x="0" y="437"/>
                  </a:lnTo>
                  <a:lnTo>
                    <a:pt x="0" y="397"/>
                  </a:lnTo>
                  <a:lnTo>
                    <a:pt x="0" y="397"/>
                  </a:lnTo>
                  <a:lnTo>
                    <a:pt x="0" y="357"/>
                  </a:lnTo>
                  <a:lnTo>
                    <a:pt x="7" y="317"/>
                  </a:lnTo>
                  <a:lnTo>
                    <a:pt x="17" y="277"/>
                  </a:lnTo>
                  <a:lnTo>
                    <a:pt x="30" y="240"/>
                  </a:lnTo>
                  <a:lnTo>
                    <a:pt x="47" y="207"/>
                  </a:lnTo>
                  <a:lnTo>
                    <a:pt x="67" y="174"/>
                  </a:lnTo>
                  <a:lnTo>
                    <a:pt x="90" y="144"/>
                  </a:lnTo>
                  <a:lnTo>
                    <a:pt x="117" y="117"/>
                  </a:lnTo>
                  <a:lnTo>
                    <a:pt x="144" y="90"/>
                  </a:lnTo>
                  <a:lnTo>
                    <a:pt x="174" y="67"/>
                  </a:lnTo>
                  <a:lnTo>
                    <a:pt x="207" y="47"/>
                  </a:lnTo>
                  <a:lnTo>
                    <a:pt x="244" y="30"/>
                  </a:lnTo>
                  <a:lnTo>
                    <a:pt x="281" y="17"/>
                  </a:lnTo>
                  <a:lnTo>
                    <a:pt x="317" y="7"/>
                  </a:lnTo>
                  <a:lnTo>
                    <a:pt x="357" y="0"/>
                  </a:lnTo>
                  <a:lnTo>
                    <a:pt x="397" y="0"/>
                  </a:lnTo>
                  <a:lnTo>
                    <a:pt x="397" y="0"/>
                  </a:lnTo>
                  <a:lnTo>
                    <a:pt x="437" y="0"/>
                  </a:lnTo>
                  <a:lnTo>
                    <a:pt x="477" y="7"/>
                  </a:lnTo>
                  <a:lnTo>
                    <a:pt x="518" y="17"/>
                  </a:lnTo>
                  <a:lnTo>
                    <a:pt x="551" y="30"/>
                  </a:lnTo>
                  <a:lnTo>
                    <a:pt x="588" y="47"/>
                  </a:lnTo>
                  <a:lnTo>
                    <a:pt x="621" y="67"/>
                  </a:lnTo>
                  <a:lnTo>
                    <a:pt x="651" y="90"/>
                  </a:lnTo>
                  <a:lnTo>
                    <a:pt x="678" y="117"/>
                  </a:lnTo>
                  <a:lnTo>
                    <a:pt x="704" y="144"/>
                  </a:lnTo>
                  <a:lnTo>
                    <a:pt x="728" y="174"/>
                  </a:lnTo>
                  <a:lnTo>
                    <a:pt x="748" y="207"/>
                  </a:lnTo>
                  <a:lnTo>
                    <a:pt x="765" y="240"/>
                  </a:lnTo>
                  <a:lnTo>
                    <a:pt x="778" y="277"/>
                  </a:lnTo>
                  <a:lnTo>
                    <a:pt x="788" y="317"/>
                  </a:lnTo>
                  <a:lnTo>
                    <a:pt x="795" y="357"/>
                  </a:lnTo>
                  <a:lnTo>
                    <a:pt x="795" y="397"/>
                  </a:lnTo>
                  <a:lnTo>
                    <a:pt x="795" y="397"/>
                  </a:lnTo>
                  <a:lnTo>
                    <a:pt x="795" y="437"/>
                  </a:lnTo>
                  <a:lnTo>
                    <a:pt x="788" y="477"/>
                  </a:lnTo>
                  <a:lnTo>
                    <a:pt x="778" y="514"/>
                  </a:lnTo>
                  <a:lnTo>
                    <a:pt x="765" y="551"/>
                  </a:lnTo>
                  <a:lnTo>
                    <a:pt x="748" y="588"/>
                  </a:lnTo>
                  <a:lnTo>
                    <a:pt x="728" y="621"/>
                  </a:lnTo>
                  <a:lnTo>
                    <a:pt x="704" y="651"/>
                  </a:lnTo>
                  <a:lnTo>
                    <a:pt x="678" y="678"/>
                  </a:lnTo>
                  <a:lnTo>
                    <a:pt x="651" y="704"/>
                  </a:lnTo>
                  <a:lnTo>
                    <a:pt x="621" y="728"/>
                  </a:lnTo>
                  <a:lnTo>
                    <a:pt x="588" y="748"/>
                  </a:lnTo>
                  <a:lnTo>
                    <a:pt x="551" y="764"/>
                  </a:lnTo>
                  <a:lnTo>
                    <a:pt x="518" y="778"/>
                  </a:lnTo>
                  <a:lnTo>
                    <a:pt x="477" y="788"/>
                  </a:lnTo>
                  <a:lnTo>
                    <a:pt x="437" y="791"/>
                  </a:lnTo>
                  <a:lnTo>
                    <a:pt x="397" y="794"/>
                  </a:lnTo>
                  <a:lnTo>
                    <a:pt x="397" y="794"/>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795280" y="2976480"/>
              <a:ext cx="1636920" cy="1636920"/>
            </a:xfrm>
            <a:custGeom>
              <a:avLst/>
              <a:gdLst/>
              <a:ahLst/>
              <a:rect l="l" t="t" r="r" b="b"/>
              <a:pathLst>
                <a:path w="768" h="768">
                  <a:moveTo>
                    <a:pt x="384" y="768"/>
                  </a:moveTo>
                  <a:lnTo>
                    <a:pt x="384" y="768"/>
                  </a:lnTo>
                  <a:lnTo>
                    <a:pt x="344" y="764"/>
                  </a:lnTo>
                  <a:lnTo>
                    <a:pt x="307" y="761"/>
                  </a:lnTo>
                  <a:lnTo>
                    <a:pt x="270" y="751"/>
                  </a:lnTo>
                  <a:lnTo>
                    <a:pt x="233" y="738"/>
                  </a:lnTo>
                  <a:lnTo>
                    <a:pt x="200" y="721"/>
                  </a:lnTo>
                  <a:lnTo>
                    <a:pt x="170" y="701"/>
                  </a:lnTo>
                  <a:lnTo>
                    <a:pt x="140" y="681"/>
                  </a:lnTo>
                  <a:lnTo>
                    <a:pt x="113" y="654"/>
                  </a:lnTo>
                  <a:lnTo>
                    <a:pt x="87" y="628"/>
                  </a:lnTo>
                  <a:lnTo>
                    <a:pt x="67" y="598"/>
                  </a:lnTo>
                  <a:lnTo>
                    <a:pt x="47" y="568"/>
                  </a:lnTo>
                  <a:lnTo>
                    <a:pt x="30" y="534"/>
                  </a:lnTo>
                  <a:lnTo>
                    <a:pt x="17" y="497"/>
                  </a:lnTo>
                  <a:lnTo>
                    <a:pt x="6" y="461"/>
                  </a:lnTo>
                  <a:lnTo>
                    <a:pt x="3" y="424"/>
                  </a:lnTo>
                  <a:lnTo>
                    <a:pt x="0" y="384"/>
                  </a:lnTo>
                  <a:lnTo>
                    <a:pt x="0" y="384"/>
                  </a:lnTo>
                  <a:lnTo>
                    <a:pt x="3" y="347"/>
                  </a:lnTo>
                  <a:lnTo>
                    <a:pt x="6" y="307"/>
                  </a:lnTo>
                  <a:lnTo>
                    <a:pt x="17" y="270"/>
                  </a:lnTo>
                  <a:lnTo>
                    <a:pt x="30" y="237"/>
                  </a:lnTo>
                  <a:lnTo>
                    <a:pt x="47" y="204"/>
                  </a:lnTo>
                  <a:lnTo>
                    <a:pt x="67" y="170"/>
                  </a:lnTo>
                  <a:lnTo>
                    <a:pt x="87" y="140"/>
                  </a:lnTo>
                  <a:lnTo>
                    <a:pt x="113" y="114"/>
                  </a:lnTo>
                  <a:lnTo>
                    <a:pt x="140" y="90"/>
                  </a:lnTo>
                  <a:lnTo>
                    <a:pt x="170" y="67"/>
                  </a:lnTo>
                  <a:lnTo>
                    <a:pt x="200" y="47"/>
                  </a:lnTo>
                  <a:lnTo>
                    <a:pt x="233" y="30"/>
                  </a:lnTo>
                  <a:lnTo>
                    <a:pt x="270" y="20"/>
                  </a:lnTo>
                  <a:lnTo>
                    <a:pt x="307" y="10"/>
                  </a:lnTo>
                  <a:lnTo>
                    <a:pt x="344" y="3"/>
                  </a:lnTo>
                  <a:lnTo>
                    <a:pt x="384" y="0"/>
                  </a:lnTo>
                  <a:lnTo>
                    <a:pt x="384" y="0"/>
                  </a:lnTo>
                  <a:lnTo>
                    <a:pt x="424" y="3"/>
                  </a:lnTo>
                  <a:lnTo>
                    <a:pt x="460" y="10"/>
                  </a:lnTo>
                  <a:lnTo>
                    <a:pt x="497" y="20"/>
                  </a:lnTo>
                  <a:lnTo>
                    <a:pt x="534" y="30"/>
                  </a:lnTo>
                  <a:lnTo>
                    <a:pt x="567" y="47"/>
                  </a:lnTo>
                  <a:lnTo>
                    <a:pt x="597" y="67"/>
                  </a:lnTo>
                  <a:lnTo>
                    <a:pt x="627" y="90"/>
                  </a:lnTo>
                  <a:lnTo>
                    <a:pt x="654" y="114"/>
                  </a:lnTo>
                  <a:lnTo>
                    <a:pt x="677" y="140"/>
                  </a:lnTo>
                  <a:lnTo>
                    <a:pt x="701" y="170"/>
                  </a:lnTo>
                  <a:lnTo>
                    <a:pt x="721" y="204"/>
                  </a:lnTo>
                  <a:lnTo>
                    <a:pt x="738" y="237"/>
                  </a:lnTo>
                  <a:lnTo>
                    <a:pt x="748" y="270"/>
                  </a:lnTo>
                  <a:lnTo>
                    <a:pt x="758" y="307"/>
                  </a:lnTo>
                  <a:lnTo>
                    <a:pt x="764" y="347"/>
                  </a:lnTo>
                  <a:lnTo>
                    <a:pt x="768" y="384"/>
                  </a:lnTo>
                  <a:lnTo>
                    <a:pt x="768" y="384"/>
                  </a:lnTo>
                  <a:lnTo>
                    <a:pt x="764" y="424"/>
                  </a:lnTo>
                  <a:lnTo>
                    <a:pt x="758" y="461"/>
                  </a:lnTo>
                  <a:lnTo>
                    <a:pt x="748" y="497"/>
                  </a:lnTo>
                  <a:lnTo>
                    <a:pt x="738" y="534"/>
                  </a:lnTo>
                  <a:lnTo>
                    <a:pt x="721" y="568"/>
                  </a:lnTo>
                  <a:lnTo>
                    <a:pt x="701" y="598"/>
                  </a:lnTo>
                  <a:lnTo>
                    <a:pt x="677" y="628"/>
                  </a:lnTo>
                  <a:lnTo>
                    <a:pt x="654" y="654"/>
                  </a:lnTo>
                  <a:lnTo>
                    <a:pt x="627" y="681"/>
                  </a:lnTo>
                  <a:lnTo>
                    <a:pt x="597" y="701"/>
                  </a:lnTo>
                  <a:lnTo>
                    <a:pt x="567" y="721"/>
                  </a:lnTo>
                  <a:lnTo>
                    <a:pt x="534" y="738"/>
                  </a:lnTo>
                  <a:lnTo>
                    <a:pt x="497" y="751"/>
                  </a:lnTo>
                  <a:lnTo>
                    <a:pt x="460" y="761"/>
                  </a:lnTo>
                  <a:lnTo>
                    <a:pt x="424" y="764"/>
                  </a:lnTo>
                  <a:lnTo>
                    <a:pt x="384" y="768"/>
                  </a:lnTo>
                  <a:lnTo>
                    <a:pt x="384" y="768"/>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831280" y="3004200"/>
              <a:ext cx="1570680" cy="1573200"/>
            </a:xfrm>
            <a:custGeom>
              <a:avLst/>
              <a:gdLst/>
              <a:ahLst/>
              <a:rect l="l" t="t" r="r" b="b"/>
              <a:pathLst>
                <a:path w="737" h="738">
                  <a:moveTo>
                    <a:pt x="370" y="738"/>
                  </a:moveTo>
                  <a:lnTo>
                    <a:pt x="370" y="738"/>
                  </a:lnTo>
                  <a:lnTo>
                    <a:pt x="330" y="735"/>
                  </a:lnTo>
                  <a:lnTo>
                    <a:pt x="293" y="731"/>
                  </a:lnTo>
                  <a:lnTo>
                    <a:pt x="260" y="721"/>
                  </a:lnTo>
                  <a:lnTo>
                    <a:pt x="226" y="708"/>
                  </a:lnTo>
                  <a:lnTo>
                    <a:pt x="193" y="695"/>
                  </a:lnTo>
                  <a:lnTo>
                    <a:pt x="163" y="675"/>
                  </a:lnTo>
                  <a:lnTo>
                    <a:pt x="133" y="655"/>
                  </a:lnTo>
                  <a:lnTo>
                    <a:pt x="110" y="631"/>
                  </a:lnTo>
                  <a:lnTo>
                    <a:pt x="83" y="605"/>
                  </a:lnTo>
                  <a:lnTo>
                    <a:pt x="63" y="575"/>
                  </a:lnTo>
                  <a:lnTo>
                    <a:pt x="46" y="545"/>
                  </a:lnTo>
                  <a:lnTo>
                    <a:pt x="30" y="514"/>
                  </a:lnTo>
                  <a:lnTo>
                    <a:pt x="16" y="478"/>
                  </a:lnTo>
                  <a:lnTo>
                    <a:pt x="10" y="444"/>
                  </a:lnTo>
                  <a:lnTo>
                    <a:pt x="3" y="408"/>
                  </a:lnTo>
                  <a:lnTo>
                    <a:pt x="0" y="371"/>
                  </a:lnTo>
                  <a:lnTo>
                    <a:pt x="0" y="371"/>
                  </a:lnTo>
                  <a:lnTo>
                    <a:pt x="3" y="331"/>
                  </a:lnTo>
                  <a:lnTo>
                    <a:pt x="10" y="294"/>
                  </a:lnTo>
                  <a:lnTo>
                    <a:pt x="16" y="261"/>
                  </a:lnTo>
                  <a:lnTo>
                    <a:pt x="30" y="227"/>
                  </a:lnTo>
                  <a:lnTo>
                    <a:pt x="46" y="194"/>
                  </a:lnTo>
                  <a:lnTo>
                    <a:pt x="63" y="164"/>
                  </a:lnTo>
                  <a:lnTo>
                    <a:pt x="83" y="134"/>
                  </a:lnTo>
                  <a:lnTo>
                    <a:pt x="110" y="111"/>
                  </a:lnTo>
                  <a:lnTo>
                    <a:pt x="133" y="87"/>
                  </a:lnTo>
                  <a:lnTo>
                    <a:pt x="163" y="64"/>
                  </a:lnTo>
                  <a:lnTo>
                    <a:pt x="193" y="47"/>
                  </a:lnTo>
                  <a:lnTo>
                    <a:pt x="226" y="30"/>
                  </a:lnTo>
                  <a:lnTo>
                    <a:pt x="260" y="17"/>
                  </a:lnTo>
                  <a:lnTo>
                    <a:pt x="293" y="10"/>
                  </a:lnTo>
                  <a:lnTo>
                    <a:pt x="330" y="4"/>
                  </a:lnTo>
                  <a:lnTo>
                    <a:pt x="370" y="0"/>
                  </a:lnTo>
                  <a:lnTo>
                    <a:pt x="370" y="0"/>
                  </a:lnTo>
                  <a:lnTo>
                    <a:pt x="407" y="4"/>
                  </a:lnTo>
                  <a:lnTo>
                    <a:pt x="443" y="10"/>
                  </a:lnTo>
                  <a:lnTo>
                    <a:pt x="477" y="17"/>
                  </a:lnTo>
                  <a:lnTo>
                    <a:pt x="514" y="30"/>
                  </a:lnTo>
                  <a:lnTo>
                    <a:pt x="544" y="47"/>
                  </a:lnTo>
                  <a:lnTo>
                    <a:pt x="574" y="64"/>
                  </a:lnTo>
                  <a:lnTo>
                    <a:pt x="604" y="87"/>
                  </a:lnTo>
                  <a:lnTo>
                    <a:pt x="630" y="111"/>
                  </a:lnTo>
                  <a:lnTo>
                    <a:pt x="654" y="134"/>
                  </a:lnTo>
                  <a:lnTo>
                    <a:pt x="674" y="164"/>
                  </a:lnTo>
                  <a:lnTo>
                    <a:pt x="694" y="194"/>
                  </a:lnTo>
                  <a:lnTo>
                    <a:pt x="707" y="227"/>
                  </a:lnTo>
                  <a:lnTo>
                    <a:pt x="721" y="261"/>
                  </a:lnTo>
                  <a:lnTo>
                    <a:pt x="731" y="294"/>
                  </a:lnTo>
                  <a:lnTo>
                    <a:pt x="734" y="331"/>
                  </a:lnTo>
                  <a:lnTo>
                    <a:pt x="737" y="371"/>
                  </a:lnTo>
                  <a:lnTo>
                    <a:pt x="737" y="371"/>
                  </a:lnTo>
                  <a:lnTo>
                    <a:pt x="734" y="408"/>
                  </a:lnTo>
                  <a:lnTo>
                    <a:pt x="731" y="444"/>
                  </a:lnTo>
                  <a:lnTo>
                    <a:pt x="721" y="478"/>
                  </a:lnTo>
                  <a:lnTo>
                    <a:pt x="707" y="514"/>
                  </a:lnTo>
                  <a:lnTo>
                    <a:pt x="694" y="545"/>
                  </a:lnTo>
                  <a:lnTo>
                    <a:pt x="674" y="575"/>
                  </a:lnTo>
                  <a:lnTo>
                    <a:pt x="654" y="605"/>
                  </a:lnTo>
                  <a:lnTo>
                    <a:pt x="630" y="631"/>
                  </a:lnTo>
                  <a:lnTo>
                    <a:pt x="604" y="655"/>
                  </a:lnTo>
                  <a:lnTo>
                    <a:pt x="574" y="675"/>
                  </a:lnTo>
                  <a:lnTo>
                    <a:pt x="544" y="695"/>
                  </a:lnTo>
                  <a:lnTo>
                    <a:pt x="514" y="708"/>
                  </a:lnTo>
                  <a:lnTo>
                    <a:pt x="477" y="721"/>
                  </a:lnTo>
                  <a:lnTo>
                    <a:pt x="443" y="731"/>
                  </a:lnTo>
                  <a:lnTo>
                    <a:pt x="407" y="735"/>
                  </a:lnTo>
                  <a:lnTo>
                    <a:pt x="370" y="738"/>
                  </a:lnTo>
                  <a:lnTo>
                    <a:pt x="370" y="738"/>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874120" y="3034080"/>
              <a:ext cx="1500480" cy="1506960"/>
            </a:xfrm>
            <a:custGeom>
              <a:avLst/>
              <a:gdLst/>
              <a:ahLst/>
              <a:rect l="l" t="t" r="r" b="b"/>
              <a:pathLst>
                <a:path w="704" h="707">
                  <a:moveTo>
                    <a:pt x="350" y="707"/>
                  </a:moveTo>
                  <a:lnTo>
                    <a:pt x="350" y="707"/>
                  </a:lnTo>
                  <a:lnTo>
                    <a:pt x="317" y="704"/>
                  </a:lnTo>
                  <a:lnTo>
                    <a:pt x="280" y="701"/>
                  </a:lnTo>
                  <a:lnTo>
                    <a:pt x="247" y="691"/>
                  </a:lnTo>
                  <a:lnTo>
                    <a:pt x="213" y="681"/>
                  </a:lnTo>
                  <a:lnTo>
                    <a:pt x="183" y="664"/>
                  </a:lnTo>
                  <a:lnTo>
                    <a:pt x="153" y="647"/>
                  </a:lnTo>
                  <a:lnTo>
                    <a:pt x="126" y="627"/>
                  </a:lnTo>
                  <a:lnTo>
                    <a:pt x="103" y="604"/>
                  </a:lnTo>
                  <a:lnTo>
                    <a:pt x="80" y="577"/>
                  </a:lnTo>
                  <a:lnTo>
                    <a:pt x="60" y="551"/>
                  </a:lnTo>
                  <a:lnTo>
                    <a:pt x="40" y="524"/>
                  </a:lnTo>
                  <a:lnTo>
                    <a:pt x="26" y="490"/>
                  </a:lnTo>
                  <a:lnTo>
                    <a:pt x="13" y="460"/>
                  </a:lnTo>
                  <a:lnTo>
                    <a:pt x="6" y="424"/>
                  </a:lnTo>
                  <a:lnTo>
                    <a:pt x="0" y="390"/>
                  </a:lnTo>
                  <a:lnTo>
                    <a:pt x="0" y="354"/>
                  </a:lnTo>
                  <a:lnTo>
                    <a:pt x="0" y="354"/>
                  </a:lnTo>
                  <a:lnTo>
                    <a:pt x="0" y="317"/>
                  </a:lnTo>
                  <a:lnTo>
                    <a:pt x="6" y="284"/>
                  </a:lnTo>
                  <a:lnTo>
                    <a:pt x="13" y="250"/>
                  </a:lnTo>
                  <a:lnTo>
                    <a:pt x="26" y="217"/>
                  </a:lnTo>
                  <a:lnTo>
                    <a:pt x="40" y="187"/>
                  </a:lnTo>
                  <a:lnTo>
                    <a:pt x="60" y="157"/>
                  </a:lnTo>
                  <a:lnTo>
                    <a:pt x="80" y="130"/>
                  </a:lnTo>
                  <a:lnTo>
                    <a:pt x="103" y="103"/>
                  </a:lnTo>
                  <a:lnTo>
                    <a:pt x="126" y="80"/>
                  </a:lnTo>
                  <a:lnTo>
                    <a:pt x="153" y="60"/>
                  </a:lnTo>
                  <a:lnTo>
                    <a:pt x="183" y="43"/>
                  </a:lnTo>
                  <a:lnTo>
                    <a:pt x="213" y="30"/>
                  </a:lnTo>
                  <a:lnTo>
                    <a:pt x="247" y="16"/>
                  </a:lnTo>
                  <a:lnTo>
                    <a:pt x="280" y="6"/>
                  </a:lnTo>
                  <a:lnTo>
                    <a:pt x="317" y="3"/>
                  </a:lnTo>
                  <a:lnTo>
                    <a:pt x="350" y="0"/>
                  </a:lnTo>
                  <a:lnTo>
                    <a:pt x="350" y="0"/>
                  </a:lnTo>
                  <a:lnTo>
                    <a:pt x="387" y="3"/>
                  </a:lnTo>
                  <a:lnTo>
                    <a:pt x="423" y="6"/>
                  </a:lnTo>
                  <a:lnTo>
                    <a:pt x="457" y="16"/>
                  </a:lnTo>
                  <a:lnTo>
                    <a:pt x="490" y="30"/>
                  </a:lnTo>
                  <a:lnTo>
                    <a:pt x="520" y="43"/>
                  </a:lnTo>
                  <a:lnTo>
                    <a:pt x="550" y="60"/>
                  </a:lnTo>
                  <a:lnTo>
                    <a:pt x="577" y="80"/>
                  </a:lnTo>
                  <a:lnTo>
                    <a:pt x="600" y="103"/>
                  </a:lnTo>
                  <a:lnTo>
                    <a:pt x="624" y="130"/>
                  </a:lnTo>
                  <a:lnTo>
                    <a:pt x="644" y="157"/>
                  </a:lnTo>
                  <a:lnTo>
                    <a:pt x="664" y="187"/>
                  </a:lnTo>
                  <a:lnTo>
                    <a:pt x="677" y="217"/>
                  </a:lnTo>
                  <a:lnTo>
                    <a:pt x="691" y="250"/>
                  </a:lnTo>
                  <a:lnTo>
                    <a:pt x="697" y="284"/>
                  </a:lnTo>
                  <a:lnTo>
                    <a:pt x="704" y="317"/>
                  </a:lnTo>
                  <a:lnTo>
                    <a:pt x="704" y="354"/>
                  </a:lnTo>
                  <a:lnTo>
                    <a:pt x="704" y="354"/>
                  </a:lnTo>
                  <a:lnTo>
                    <a:pt x="704" y="390"/>
                  </a:lnTo>
                  <a:lnTo>
                    <a:pt x="697" y="424"/>
                  </a:lnTo>
                  <a:lnTo>
                    <a:pt x="691" y="460"/>
                  </a:lnTo>
                  <a:lnTo>
                    <a:pt x="677" y="490"/>
                  </a:lnTo>
                  <a:lnTo>
                    <a:pt x="664" y="524"/>
                  </a:lnTo>
                  <a:lnTo>
                    <a:pt x="644" y="551"/>
                  </a:lnTo>
                  <a:lnTo>
                    <a:pt x="624" y="577"/>
                  </a:lnTo>
                  <a:lnTo>
                    <a:pt x="600" y="604"/>
                  </a:lnTo>
                  <a:lnTo>
                    <a:pt x="577" y="627"/>
                  </a:lnTo>
                  <a:lnTo>
                    <a:pt x="550" y="647"/>
                  </a:lnTo>
                  <a:lnTo>
                    <a:pt x="520" y="664"/>
                  </a:lnTo>
                  <a:lnTo>
                    <a:pt x="490" y="681"/>
                  </a:lnTo>
                  <a:lnTo>
                    <a:pt x="457" y="691"/>
                  </a:lnTo>
                  <a:lnTo>
                    <a:pt x="423" y="701"/>
                  </a:lnTo>
                  <a:lnTo>
                    <a:pt x="387" y="704"/>
                  </a:lnTo>
                  <a:lnTo>
                    <a:pt x="350" y="707"/>
                  </a:lnTo>
                  <a:lnTo>
                    <a:pt x="350" y="707"/>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908320" y="3062160"/>
              <a:ext cx="1445040" cy="1444680"/>
            </a:xfrm>
            <a:custGeom>
              <a:avLst/>
              <a:gdLst/>
              <a:ahLst/>
              <a:rect l="l" t="t" r="r" b="b"/>
              <a:pathLst>
                <a:path w="678" h="678">
                  <a:moveTo>
                    <a:pt x="678" y="337"/>
                  </a:moveTo>
                  <a:lnTo>
                    <a:pt x="678" y="337"/>
                  </a:lnTo>
                  <a:lnTo>
                    <a:pt x="675" y="374"/>
                  </a:lnTo>
                  <a:lnTo>
                    <a:pt x="671" y="407"/>
                  </a:lnTo>
                  <a:lnTo>
                    <a:pt x="661" y="441"/>
                  </a:lnTo>
                  <a:lnTo>
                    <a:pt x="651" y="471"/>
                  </a:lnTo>
                  <a:lnTo>
                    <a:pt x="634" y="501"/>
                  </a:lnTo>
                  <a:lnTo>
                    <a:pt x="618" y="528"/>
                  </a:lnTo>
                  <a:lnTo>
                    <a:pt x="598" y="554"/>
                  </a:lnTo>
                  <a:lnTo>
                    <a:pt x="578" y="578"/>
                  </a:lnTo>
                  <a:lnTo>
                    <a:pt x="554" y="601"/>
                  </a:lnTo>
                  <a:lnTo>
                    <a:pt x="528" y="621"/>
                  </a:lnTo>
                  <a:lnTo>
                    <a:pt x="501" y="638"/>
                  </a:lnTo>
                  <a:lnTo>
                    <a:pt x="471" y="651"/>
                  </a:lnTo>
                  <a:lnTo>
                    <a:pt x="438" y="661"/>
                  </a:lnTo>
                  <a:lnTo>
                    <a:pt x="407" y="671"/>
                  </a:lnTo>
                  <a:lnTo>
                    <a:pt x="374" y="674"/>
                  </a:lnTo>
                  <a:lnTo>
                    <a:pt x="337" y="678"/>
                  </a:lnTo>
                  <a:lnTo>
                    <a:pt x="337" y="678"/>
                  </a:lnTo>
                  <a:lnTo>
                    <a:pt x="304" y="674"/>
                  </a:lnTo>
                  <a:lnTo>
                    <a:pt x="271" y="671"/>
                  </a:lnTo>
                  <a:lnTo>
                    <a:pt x="237" y="661"/>
                  </a:lnTo>
                  <a:lnTo>
                    <a:pt x="207" y="651"/>
                  </a:lnTo>
                  <a:lnTo>
                    <a:pt x="177" y="638"/>
                  </a:lnTo>
                  <a:lnTo>
                    <a:pt x="147" y="621"/>
                  </a:lnTo>
                  <a:lnTo>
                    <a:pt x="124" y="601"/>
                  </a:lnTo>
                  <a:lnTo>
                    <a:pt x="97" y="578"/>
                  </a:lnTo>
                  <a:lnTo>
                    <a:pt x="77" y="554"/>
                  </a:lnTo>
                  <a:lnTo>
                    <a:pt x="57" y="528"/>
                  </a:lnTo>
                  <a:lnTo>
                    <a:pt x="40" y="501"/>
                  </a:lnTo>
                  <a:lnTo>
                    <a:pt x="27" y="471"/>
                  </a:lnTo>
                  <a:lnTo>
                    <a:pt x="14" y="441"/>
                  </a:lnTo>
                  <a:lnTo>
                    <a:pt x="7" y="407"/>
                  </a:lnTo>
                  <a:lnTo>
                    <a:pt x="0" y="374"/>
                  </a:lnTo>
                  <a:lnTo>
                    <a:pt x="0" y="337"/>
                  </a:lnTo>
                  <a:lnTo>
                    <a:pt x="0" y="337"/>
                  </a:lnTo>
                  <a:lnTo>
                    <a:pt x="0" y="304"/>
                  </a:lnTo>
                  <a:lnTo>
                    <a:pt x="7" y="271"/>
                  </a:lnTo>
                  <a:lnTo>
                    <a:pt x="14" y="237"/>
                  </a:lnTo>
                  <a:lnTo>
                    <a:pt x="27" y="207"/>
                  </a:lnTo>
                  <a:lnTo>
                    <a:pt x="40" y="177"/>
                  </a:lnTo>
                  <a:lnTo>
                    <a:pt x="57" y="150"/>
                  </a:lnTo>
                  <a:lnTo>
                    <a:pt x="77" y="124"/>
                  </a:lnTo>
                  <a:lnTo>
                    <a:pt x="97" y="100"/>
                  </a:lnTo>
                  <a:lnTo>
                    <a:pt x="124" y="77"/>
                  </a:lnTo>
                  <a:lnTo>
                    <a:pt x="147" y="57"/>
                  </a:lnTo>
                  <a:lnTo>
                    <a:pt x="177" y="40"/>
                  </a:lnTo>
                  <a:lnTo>
                    <a:pt x="207" y="27"/>
                  </a:lnTo>
                  <a:lnTo>
                    <a:pt x="237" y="17"/>
                  </a:lnTo>
                  <a:lnTo>
                    <a:pt x="271" y="7"/>
                  </a:lnTo>
                  <a:lnTo>
                    <a:pt x="304" y="3"/>
                  </a:lnTo>
                  <a:lnTo>
                    <a:pt x="337" y="0"/>
                  </a:lnTo>
                  <a:lnTo>
                    <a:pt x="337" y="0"/>
                  </a:lnTo>
                  <a:lnTo>
                    <a:pt x="374" y="3"/>
                  </a:lnTo>
                  <a:lnTo>
                    <a:pt x="407" y="7"/>
                  </a:lnTo>
                  <a:lnTo>
                    <a:pt x="438" y="17"/>
                  </a:lnTo>
                  <a:lnTo>
                    <a:pt x="471" y="27"/>
                  </a:lnTo>
                  <a:lnTo>
                    <a:pt x="501" y="40"/>
                  </a:lnTo>
                  <a:lnTo>
                    <a:pt x="528" y="57"/>
                  </a:lnTo>
                  <a:lnTo>
                    <a:pt x="554" y="77"/>
                  </a:lnTo>
                  <a:lnTo>
                    <a:pt x="578" y="100"/>
                  </a:lnTo>
                  <a:lnTo>
                    <a:pt x="598" y="124"/>
                  </a:lnTo>
                  <a:lnTo>
                    <a:pt x="618" y="150"/>
                  </a:lnTo>
                  <a:lnTo>
                    <a:pt x="634" y="177"/>
                  </a:lnTo>
                  <a:lnTo>
                    <a:pt x="651" y="207"/>
                  </a:lnTo>
                  <a:lnTo>
                    <a:pt x="661" y="237"/>
                  </a:lnTo>
                  <a:lnTo>
                    <a:pt x="671" y="271"/>
                  </a:lnTo>
                  <a:lnTo>
                    <a:pt x="675" y="304"/>
                  </a:lnTo>
                  <a:lnTo>
                    <a:pt x="678" y="337"/>
                  </a:lnTo>
                  <a:lnTo>
                    <a:pt x="678" y="337"/>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04800" y="3466440"/>
              <a:ext cx="526320" cy="450000"/>
            </a:xfrm>
            <a:custGeom>
              <a:avLst/>
              <a:gdLst/>
              <a:ahLst/>
              <a:rect l="l" t="t" r="r" b="b"/>
              <a:pathLst>
                <a:path w="247" h="211">
                  <a:moveTo>
                    <a:pt x="244" y="174"/>
                  </a:moveTo>
                  <a:lnTo>
                    <a:pt x="244" y="174"/>
                  </a:lnTo>
                  <a:lnTo>
                    <a:pt x="214" y="167"/>
                  </a:lnTo>
                  <a:lnTo>
                    <a:pt x="184" y="157"/>
                  </a:lnTo>
                  <a:lnTo>
                    <a:pt x="147" y="144"/>
                  </a:lnTo>
                  <a:lnTo>
                    <a:pt x="107" y="121"/>
                  </a:lnTo>
                  <a:lnTo>
                    <a:pt x="90" y="107"/>
                  </a:lnTo>
                  <a:lnTo>
                    <a:pt x="73" y="91"/>
                  </a:lnTo>
                  <a:lnTo>
                    <a:pt x="57" y="74"/>
                  </a:lnTo>
                  <a:lnTo>
                    <a:pt x="43" y="50"/>
                  </a:lnTo>
                  <a:lnTo>
                    <a:pt x="30" y="27"/>
                  </a:lnTo>
                  <a:lnTo>
                    <a:pt x="20" y="0"/>
                  </a:lnTo>
                  <a:lnTo>
                    <a:pt x="20" y="0"/>
                  </a:lnTo>
                  <a:lnTo>
                    <a:pt x="10" y="7"/>
                  </a:lnTo>
                  <a:lnTo>
                    <a:pt x="3" y="14"/>
                  </a:lnTo>
                  <a:lnTo>
                    <a:pt x="0" y="27"/>
                  </a:lnTo>
                  <a:lnTo>
                    <a:pt x="0" y="27"/>
                  </a:lnTo>
                  <a:lnTo>
                    <a:pt x="3" y="40"/>
                  </a:lnTo>
                  <a:lnTo>
                    <a:pt x="13" y="64"/>
                  </a:lnTo>
                  <a:lnTo>
                    <a:pt x="30" y="94"/>
                  </a:lnTo>
                  <a:lnTo>
                    <a:pt x="57" y="124"/>
                  </a:lnTo>
                  <a:lnTo>
                    <a:pt x="90" y="154"/>
                  </a:lnTo>
                  <a:lnTo>
                    <a:pt x="110" y="167"/>
                  </a:lnTo>
                  <a:lnTo>
                    <a:pt x="130" y="181"/>
                  </a:lnTo>
                  <a:lnTo>
                    <a:pt x="154" y="191"/>
                  </a:lnTo>
                  <a:lnTo>
                    <a:pt x="180" y="201"/>
                  </a:lnTo>
                  <a:lnTo>
                    <a:pt x="204" y="207"/>
                  </a:lnTo>
                  <a:lnTo>
                    <a:pt x="234" y="211"/>
                  </a:lnTo>
                  <a:lnTo>
                    <a:pt x="234" y="211"/>
                  </a:lnTo>
                  <a:lnTo>
                    <a:pt x="237" y="207"/>
                  </a:lnTo>
                  <a:lnTo>
                    <a:pt x="244" y="201"/>
                  </a:lnTo>
                  <a:lnTo>
                    <a:pt x="247" y="197"/>
                  </a:lnTo>
                  <a:lnTo>
                    <a:pt x="247" y="191"/>
                  </a:lnTo>
                  <a:lnTo>
                    <a:pt x="247" y="184"/>
                  </a:lnTo>
                  <a:lnTo>
                    <a:pt x="244" y="174"/>
                  </a:lnTo>
                  <a:lnTo>
                    <a:pt x="24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12480" y="3210840"/>
              <a:ext cx="426240" cy="340920"/>
            </a:xfrm>
            <a:custGeom>
              <a:avLst/>
              <a:gdLst/>
              <a:ahLst/>
              <a:rect l="l" t="t" r="r" b="b"/>
              <a:pathLst>
                <a:path w="200" h="160">
                  <a:moveTo>
                    <a:pt x="167" y="137"/>
                  </a:moveTo>
                  <a:lnTo>
                    <a:pt x="167" y="137"/>
                  </a:lnTo>
                  <a:lnTo>
                    <a:pt x="170" y="124"/>
                  </a:lnTo>
                  <a:lnTo>
                    <a:pt x="177" y="110"/>
                  </a:lnTo>
                  <a:lnTo>
                    <a:pt x="184" y="97"/>
                  </a:lnTo>
                  <a:lnTo>
                    <a:pt x="184" y="97"/>
                  </a:lnTo>
                  <a:lnTo>
                    <a:pt x="194" y="84"/>
                  </a:lnTo>
                  <a:lnTo>
                    <a:pt x="200" y="70"/>
                  </a:lnTo>
                  <a:lnTo>
                    <a:pt x="200" y="67"/>
                  </a:lnTo>
                  <a:lnTo>
                    <a:pt x="197" y="60"/>
                  </a:lnTo>
                  <a:lnTo>
                    <a:pt x="194" y="60"/>
                  </a:lnTo>
                  <a:lnTo>
                    <a:pt x="187" y="57"/>
                  </a:lnTo>
                  <a:lnTo>
                    <a:pt x="187" y="57"/>
                  </a:lnTo>
                  <a:lnTo>
                    <a:pt x="180" y="60"/>
                  </a:lnTo>
                  <a:lnTo>
                    <a:pt x="174" y="64"/>
                  </a:lnTo>
                  <a:lnTo>
                    <a:pt x="164" y="74"/>
                  </a:lnTo>
                  <a:lnTo>
                    <a:pt x="160" y="84"/>
                  </a:lnTo>
                  <a:lnTo>
                    <a:pt x="160" y="87"/>
                  </a:lnTo>
                  <a:lnTo>
                    <a:pt x="160" y="87"/>
                  </a:lnTo>
                  <a:lnTo>
                    <a:pt x="160" y="94"/>
                  </a:lnTo>
                  <a:lnTo>
                    <a:pt x="157" y="97"/>
                  </a:lnTo>
                  <a:lnTo>
                    <a:pt x="150" y="97"/>
                  </a:lnTo>
                  <a:lnTo>
                    <a:pt x="150" y="97"/>
                  </a:lnTo>
                  <a:lnTo>
                    <a:pt x="140" y="90"/>
                  </a:lnTo>
                  <a:lnTo>
                    <a:pt x="127" y="74"/>
                  </a:lnTo>
                  <a:lnTo>
                    <a:pt x="117" y="54"/>
                  </a:lnTo>
                  <a:lnTo>
                    <a:pt x="110" y="37"/>
                  </a:lnTo>
                  <a:lnTo>
                    <a:pt x="110" y="37"/>
                  </a:lnTo>
                  <a:lnTo>
                    <a:pt x="104" y="20"/>
                  </a:lnTo>
                  <a:lnTo>
                    <a:pt x="97" y="7"/>
                  </a:lnTo>
                  <a:lnTo>
                    <a:pt x="90" y="4"/>
                  </a:lnTo>
                  <a:lnTo>
                    <a:pt x="87" y="0"/>
                  </a:lnTo>
                  <a:lnTo>
                    <a:pt x="80" y="4"/>
                  </a:lnTo>
                  <a:lnTo>
                    <a:pt x="74" y="7"/>
                  </a:lnTo>
                  <a:lnTo>
                    <a:pt x="74" y="7"/>
                  </a:lnTo>
                  <a:lnTo>
                    <a:pt x="70" y="14"/>
                  </a:lnTo>
                  <a:lnTo>
                    <a:pt x="70" y="20"/>
                  </a:lnTo>
                  <a:lnTo>
                    <a:pt x="70" y="37"/>
                  </a:lnTo>
                  <a:lnTo>
                    <a:pt x="80" y="54"/>
                  </a:lnTo>
                  <a:lnTo>
                    <a:pt x="107" y="90"/>
                  </a:lnTo>
                  <a:lnTo>
                    <a:pt x="107" y="90"/>
                  </a:lnTo>
                  <a:lnTo>
                    <a:pt x="107" y="94"/>
                  </a:lnTo>
                  <a:lnTo>
                    <a:pt x="104" y="97"/>
                  </a:lnTo>
                  <a:lnTo>
                    <a:pt x="94" y="90"/>
                  </a:lnTo>
                  <a:lnTo>
                    <a:pt x="94" y="90"/>
                  </a:lnTo>
                  <a:lnTo>
                    <a:pt x="77" y="80"/>
                  </a:lnTo>
                  <a:lnTo>
                    <a:pt x="64" y="67"/>
                  </a:lnTo>
                  <a:lnTo>
                    <a:pt x="57" y="57"/>
                  </a:lnTo>
                  <a:lnTo>
                    <a:pt x="54" y="44"/>
                  </a:lnTo>
                  <a:lnTo>
                    <a:pt x="54" y="44"/>
                  </a:lnTo>
                  <a:lnTo>
                    <a:pt x="47" y="30"/>
                  </a:lnTo>
                  <a:lnTo>
                    <a:pt x="40" y="20"/>
                  </a:lnTo>
                  <a:lnTo>
                    <a:pt x="34" y="17"/>
                  </a:lnTo>
                  <a:lnTo>
                    <a:pt x="27" y="17"/>
                  </a:lnTo>
                  <a:lnTo>
                    <a:pt x="27" y="17"/>
                  </a:lnTo>
                  <a:lnTo>
                    <a:pt x="20" y="20"/>
                  </a:lnTo>
                  <a:lnTo>
                    <a:pt x="14" y="27"/>
                  </a:lnTo>
                  <a:lnTo>
                    <a:pt x="14" y="37"/>
                  </a:lnTo>
                  <a:lnTo>
                    <a:pt x="20" y="50"/>
                  </a:lnTo>
                  <a:lnTo>
                    <a:pt x="20" y="50"/>
                  </a:lnTo>
                  <a:lnTo>
                    <a:pt x="27" y="64"/>
                  </a:lnTo>
                  <a:lnTo>
                    <a:pt x="40" y="77"/>
                  </a:lnTo>
                  <a:lnTo>
                    <a:pt x="57" y="97"/>
                  </a:lnTo>
                  <a:lnTo>
                    <a:pt x="84" y="117"/>
                  </a:lnTo>
                  <a:lnTo>
                    <a:pt x="84" y="117"/>
                  </a:lnTo>
                  <a:lnTo>
                    <a:pt x="90" y="120"/>
                  </a:lnTo>
                  <a:lnTo>
                    <a:pt x="90" y="127"/>
                  </a:lnTo>
                  <a:lnTo>
                    <a:pt x="80" y="127"/>
                  </a:lnTo>
                  <a:lnTo>
                    <a:pt x="80" y="127"/>
                  </a:lnTo>
                  <a:lnTo>
                    <a:pt x="67" y="127"/>
                  </a:lnTo>
                  <a:lnTo>
                    <a:pt x="54" y="124"/>
                  </a:lnTo>
                  <a:lnTo>
                    <a:pt x="40" y="117"/>
                  </a:lnTo>
                  <a:lnTo>
                    <a:pt x="30" y="107"/>
                  </a:lnTo>
                  <a:lnTo>
                    <a:pt x="30" y="107"/>
                  </a:lnTo>
                  <a:lnTo>
                    <a:pt x="20" y="97"/>
                  </a:lnTo>
                  <a:lnTo>
                    <a:pt x="10" y="97"/>
                  </a:lnTo>
                  <a:lnTo>
                    <a:pt x="4" y="100"/>
                  </a:lnTo>
                  <a:lnTo>
                    <a:pt x="4" y="100"/>
                  </a:lnTo>
                  <a:lnTo>
                    <a:pt x="0" y="104"/>
                  </a:lnTo>
                  <a:lnTo>
                    <a:pt x="0" y="114"/>
                  </a:lnTo>
                  <a:lnTo>
                    <a:pt x="0" y="117"/>
                  </a:lnTo>
                  <a:lnTo>
                    <a:pt x="4" y="124"/>
                  </a:lnTo>
                  <a:lnTo>
                    <a:pt x="7" y="127"/>
                  </a:lnTo>
                  <a:lnTo>
                    <a:pt x="17" y="130"/>
                  </a:lnTo>
                  <a:lnTo>
                    <a:pt x="17" y="130"/>
                  </a:lnTo>
                  <a:lnTo>
                    <a:pt x="60" y="150"/>
                  </a:lnTo>
                  <a:lnTo>
                    <a:pt x="90" y="157"/>
                  </a:lnTo>
                  <a:lnTo>
                    <a:pt x="107" y="160"/>
                  </a:lnTo>
                  <a:lnTo>
                    <a:pt x="124" y="160"/>
                  </a:lnTo>
                  <a:lnTo>
                    <a:pt x="124" y="160"/>
                  </a:lnTo>
                  <a:lnTo>
                    <a:pt x="147" y="157"/>
                  </a:lnTo>
                  <a:lnTo>
                    <a:pt x="160" y="150"/>
                  </a:lnTo>
                  <a:lnTo>
                    <a:pt x="164" y="147"/>
                  </a:lnTo>
                  <a:lnTo>
                    <a:pt x="167" y="137"/>
                  </a:lnTo>
                  <a:lnTo>
                    <a:pt x="16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13320" y="4178520"/>
              <a:ext cx="626400" cy="277200"/>
            </a:xfrm>
            <a:custGeom>
              <a:avLst/>
              <a:gdLst/>
              <a:ahLst/>
              <a:rect l="l" t="t" r="r" b="b"/>
              <a:pathLst>
                <a:path w="294" h="130">
                  <a:moveTo>
                    <a:pt x="284" y="94"/>
                  </a:moveTo>
                  <a:lnTo>
                    <a:pt x="284" y="94"/>
                  </a:lnTo>
                  <a:lnTo>
                    <a:pt x="264" y="87"/>
                  </a:lnTo>
                  <a:lnTo>
                    <a:pt x="207" y="70"/>
                  </a:lnTo>
                  <a:lnTo>
                    <a:pt x="121" y="44"/>
                  </a:lnTo>
                  <a:lnTo>
                    <a:pt x="71" y="24"/>
                  </a:lnTo>
                  <a:lnTo>
                    <a:pt x="17" y="0"/>
                  </a:lnTo>
                  <a:lnTo>
                    <a:pt x="17" y="0"/>
                  </a:lnTo>
                  <a:lnTo>
                    <a:pt x="7" y="0"/>
                  </a:lnTo>
                  <a:lnTo>
                    <a:pt x="4" y="0"/>
                  </a:lnTo>
                  <a:lnTo>
                    <a:pt x="0" y="7"/>
                  </a:lnTo>
                  <a:lnTo>
                    <a:pt x="0" y="7"/>
                  </a:lnTo>
                  <a:lnTo>
                    <a:pt x="4" y="14"/>
                  </a:lnTo>
                  <a:lnTo>
                    <a:pt x="14" y="34"/>
                  </a:lnTo>
                  <a:lnTo>
                    <a:pt x="34" y="60"/>
                  </a:lnTo>
                  <a:lnTo>
                    <a:pt x="44" y="77"/>
                  </a:lnTo>
                  <a:lnTo>
                    <a:pt x="61" y="90"/>
                  </a:lnTo>
                  <a:lnTo>
                    <a:pt x="77" y="104"/>
                  </a:lnTo>
                  <a:lnTo>
                    <a:pt x="97" y="114"/>
                  </a:lnTo>
                  <a:lnTo>
                    <a:pt x="121" y="124"/>
                  </a:lnTo>
                  <a:lnTo>
                    <a:pt x="147" y="130"/>
                  </a:lnTo>
                  <a:lnTo>
                    <a:pt x="174" y="130"/>
                  </a:lnTo>
                  <a:lnTo>
                    <a:pt x="207" y="130"/>
                  </a:lnTo>
                  <a:lnTo>
                    <a:pt x="244" y="120"/>
                  </a:lnTo>
                  <a:lnTo>
                    <a:pt x="284" y="107"/>
                  </a:lnTo>
                  <a:lnTo>
                    <a:pt x="284" y="107"/>
                  </a:lnTo>
                  <a:lnTo>
                    <a:pt x="294" y="104"/>
                  </a:lnTo>
                  <a:lnTo>
                    <a:pt x="294" y="97"/>
                  </a:lnTo>
                  <a:lnTo>
                    <a:pt x="291" y="94"/>
                  </a:lnTo>
                  <a:lnTo>
                    <a:pt x="284" y="94"/>
                  </a:lnTo>
                  <a:lnTo>
                    <a:pt x="284" y="94"/>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46720" y="3703320"/>
              <a:ext cx="319680" cy="204120"/>
            </a:xfrm>
            <a:custGeom>
              <a:avLst/>
              <a:gdLst/>
              <a:ahLst/>
              <a:rect l="l" t="t" r="r" b="b"/>
              <a:pathLst>
                <a:path w="150" h="96">
                  <a:moveTo>
                    <a:pt x="150" y="96"/>
                  </a:moveTo>
                  <a:lnTo>
                    <a:pt x="150" y="96"/>
                  </a:lnTo>
                  <a:lnTo>
                    <a:pt x="144" y="83"/>
                  </a:lnTo>
                  <a:lnTo>
                    <a:pt x="134" y="66"/>
                  </a:lnTo>
                  <a:lnTo>
                    <a:pt x="120" y="50"/>
                  </a:lnTo>
                  <a:lnTo>
                    <a:pt x="100" y="33"/>
                  </a:lnTo>
                  <a:lnTo>
                    <a:pt x="73" y="20"/>
                  </a:lnTo>
                  <a:lnTo>
                    <a:pt x="57" y="16"/>
                  </a:lnTo>
                  <a:lnTo>
                    <a:pt x="40" y="13"/>
                  </a:lnTo>
                  <a:lnTo>
                    <a:pt x="20" y="13"/>
                  </a:lnTo>
                  <a:lnTo>
                    <a:pt x="0" y="16"/>
                  </a:lnTo>
                  <a:lnTo>
                    <a:pt x="0" y="16"/>
                  </a:lnTo>
                  <a:lnTo>
                    <a:pt x="20" y="6"/>
                  </a:lnTo>
                  <a:lnTo>
                    <a:pt x="43" y="3"/>
                  </a:lnTo>
                  <a:lnTo>
                    <a:pt x="67" y="0"/>
                  </a:lnTo>
                  <a:lnTo>
                    <a:pt x="80" y="3"/>
                  </a:lnTo>
                  <a:lnTo>
                    <a:pt x="94" y="6"/>
                  </a:lnTo>
                  <a:lnTo>
                    <a:pt x="107" y="13"/>
                  </a:lnTo>
                  <a:lnTo>
                    <a:pt x="120" y="23"/>
                  </a:lnTo>
                  <a:lnTo>
                    <a:pt x="130" y="33"/>
                  </a:lnTo>
                  <a:lnTo>
                    <a:pt x="137" y="50"/>
                  </a:lnTo>
                  <a:lnTo>
                    <a:pt x="147" y="73"/>
                  </a:lnTo>
                  <a:lnTo>
                    <a:pt x="150" y="96"/>
                  </a:lnTo>
                  <a:lnTo>
                    <a:pt x="15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9640" y="3432600"/>
              <a:ext cx="371160" cy="119160"/>
            </a:xfrm>
            <a:custGeom>
              <a:avLst/>
              <a:gdLst/>
              <a:ahLst/>
              <a:rect l="l" t="t" r="r" b="b"/>
              <a:pathLst>
                <a:path w="174" h="56">
                  <a:moveTo>
                    <a:pt x="174" y="56"/>
                  </a:moveTo>
                  <a:lnTo>
                    <a:pt x="174" y="56"/>
                  </a:lnTo>
                  <a:lnTo>
                    <a:pt x="160" y="46"/>
                  </a:lnTo>
                  <a:lnTo>
                    <a:pt x="147" y="36"/>
                  </a:lnTo>
                  <a:lnTo>
                    <a:pt x="123" y="30"/>
                  </a:lnTo>
                  <a:lnTo>
                    <a:pt x="100" y="23"/>
                  </a:lnTo>
                  <a:lnTo>
                    <a:pt x="70" y="23"/>
                  </a:lnTo>
                  <a:lnTo>
                    <a:pt x="53" y="26"/>
                  </a:lnTo>
                  <a:lnTo>
                    <a:pt x="37" y="30"/>
                  </a:lnTo>
                  <a:lnTo>
                    <a:pt x="17" y="36"/>
                  </a:lnTo>
                  <a:lnTo>
                    <a:pt x="0" y="50"/>
                  </a:lnTo>
                  <a:lnTo>
                    <a:pt x="0" y="50"/>
                  </a:lnTo>
                  <a:lnTo>
                    <a:pt x="17" y="33"/>
                  </a:lnTo>
                  <a:lnTo>
                    <a:pt x="33" y="16"/>
                  </a:lnTo>
                  <a:lnTo>
                    <a:pt x="57" y="6"/>
                  </a:lnTo>
                  <a:lnTo>
                    <a:pt x="67" y="0"/>
                  </a:lnTo>
                  <a:lnTo>
                    <a:pt x="80" y="0"/>
                  </a:lnTo>
                  <a:lnTo>
                    <a:pt x="97" y="0"/>
                  </a:lnTo>
                  <a:lnTo>
                    <a:pt x="110" y="3"/>
                  </a:lnTo>
                  <a:lnTo>
                    <a:pt x="127" y="10"/>
                  </a:lnTo>
                  <a:lnTo>
                    <a:pt x="144" y="20"/>
                  </a:lnTo>
                  <a:lnTo>
                    <a:pt x="160" y="36"/>
                  </a:lnTo>
                  <a:lnTo>
                    <a:pt x="174" y="56"/>
                  </a:lnTo>
                  <a:lnTo>
                    <a:pt x="17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87240" y="3609720"/>
              <a:ext cx="356040" cy="405000"/>
            </a:xfrm>
            <a:custGeom>
              <a:avLst/>
              <a:gdLst/>
              <a:ahLst/>
              <a:rect l="l" t="t" r="r" b="b"/>
              <a:pathLst>
                <a:path w="167" h="190">
                  <a:moveTo>
                    <a:pt x="3" y="160"/>
                  </a:moveTo>
                  <a:lnTo>
                    <a:pt x="3" y="160"/>
                  </a:lnTo>
                  <a:lnTo>
                    <a:pt x="0" y="130"/>
                  </a:lnTo>
                  <a:lnTo>
                    <a:pt x="0" y="104"/>
                  </a:lnTo>
                  <a:lnTo>
                    <a:pt x="3" y="70"/>
                  </a:lnTo>
                  <a:lnTo>
                    <a:pt x="6" y="54"/>
                  </a:lnTo>
                  <a:lnTo>
                    <a:pt x="13" y="40"/>
                  </a:lnTo>
                  <a:lnTo>
                    <a:pt x="20" y="27"/>
                  </a:lnTo>
                  <a:lnTo>
                    <a:pt x="30" y="14"/>
                  </a:lnTo>
                  <a:lnTo>
                    <a:pt x="43" y="7"/>
                  </a:lnTo>
                  <a:lnTo>
                    <a:pt x="60" y="0"/>
                  </a:lnTo>
                  <a:lnTo>
                    <a:pt x="76" y="0"/>
                  </a:lnTo>
                  <a:lnTo>
                    <a:pt x="100" y="3"/>
                  </a:lnTo>
                  <a:lnTo>
                    <a:pt x="100" y="3"/>
                  </a:lnTo>
                  <a:lnTo>
                    <a:pt x="117" y="10"/>
                  </a:lnTo>
                  <a:lnTo>
                    <a:pt x="133" y="24"/>
                  </a:lnTo>
                  <a:lnTo>
                    <a:pt x="150" y="40"/>
                  </a:lnTo>
                  <a:lnTo>
                    <a:pt x="157" y="50"/>
                  </a:lnTo>
                  <a:lnTo>
                    <a:pt x="160" y="64"/>
                  </a:lnTo>
                  <a:lnTo>
                    <a:pt x="163" y="80"/>
                  </a:lnTo>
                  <a:lnTo>
                    <a:pt x="167" y="97"/>
                  </a:lnTo>
                  <a:lnTo>
                    <a:pt x="163" y="117"/>
                  </a:lnTo>
                  <a:lnTo>
                    <a:pt x="160" y="137"/>
                  </a:lnTo>
                  <a:lnTo>
                    <a:pt x="150" y="164"/>
                  </a:lnTo>
                  <a:lnTo>
                    <a:pt x="137" y="190"/>
                  </a:lnTo>
                  <a:lnTo>
                    <a:pt x="137" y="190"/>
                  </a:lnTo>
                  <a:lnTo>
                    <a:pt x="127" y="184"/>
                  </a:lnTo>
                  <a:lnTo>
                    <a:pt x="96" y="174"/>
                  </a:lnTo>
                  <a:lnTo>
                    <a:pt x="76" y="167"/>
                  </a:lnTo>
                  <a:lnTo>
                    <a:pt x="53" y="160"/>
                  </a:lnTo>
                  <a:lnTo>
                    <a:pt x="26" y="160"/>
                  </a:lnTo>
                  <a:lnTo>
                    <a:pt x="3" y="160"/>
                  </a:lnTo>
                  <a:lnTo>
                    <a:pt x="3" y="160"/>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00200" y="3630960"/>
              <a:ext cx="321840" cy="362520"/>
            </a:xfrm>
            <a:custGeom>
              <a:avLst/>
              <a:gdLst/>
              <a:ahLst/>
              <a:rect l="l" t="t" r="r" b="b"/>
              <a:pathLst>
                <a:path w="151" h="170">
                  <a:moveTo>
                    <a:pt x="4" y="137"/>
                  </a:moveTo>
                  <a:lnTo>
                    <a:pt x="4" y="137"/>
                  </a:lnTo>
                  <a:lnTo>
                    <a:pt x="0" y="114"/>
                  </a:lnTo>
                  <a:lnTo>
                    <a:pt x="0" y="87"/>
                  </a:lnTo>
                  <a:lnTo>
                    <a:pt x="4" y="60"/>
                  </a:lnTo>
                  <a:lnTo>
                    <a:pt x="14" y="34"/>
                  </a:lnTo>
                  <a:lnTo>
                    <a:pt x="20" y="24"/>
                  </a:lnTo>
                  <a:lnTo>
                    <a:pt x="30" y="14"/>
                  </a:lnTo>
                  <a:lnTo>
                    <a:pt x="40" y="7"/>
                  </a:lnTo>
                  <a:lnTo>
                    <a:pt x="54" y="0"/>
                  </a:lnTo>
                  <a:lnTo>
                    <a:pt x="74" y="0"/>
                  </a:lnTo>
                  <a:lnTo>
                    <a:pt x="94" y="4"/>
                  </a:lnTo>
                  <a:lnTo>
                    <a:pt x="94" y="4"/>
                  </a:lnTo>
                  <a:lnTo>
                    <a:pt x="107" y="10"/>
                  </a:lnTo>
                  <a:lnTo>
                    <a:pt x="121" y="20"/>
                  </a:lnTo>
                  <a:lnTo>
                    <a:pt x="137" y="37"/>
                  </a:lnTo>
                  <a:lnTo>
                    <a:pt x="147" y="57"/>
                  </a:lnTo>
                  <a:lnTo>
                    <a:pt x="151" y="70"/>
                  </a:lnTo>
                  <a:lnTo>
                    <a:pt x="151" y="87"/>
                  </a:lnTo>
                  <a:lnTo>
                    <a:pt x="151" y="104"/>
                  </a:lnTo>
                  <a:lnTo>
                    <a:pt x="144" y="124"/>
                  </a:lnTo>
                  <a:lnTo>
                    <a:pt x="137" y="147"/>
                  </a:lnTo>
                  <a:lnTo>
                    <a:pt x="127" y="170"/>
                  </a:lnTo>
                  <a:lnTo>
                    <a:pt x="127" y="170"/>
                  </a:lnTo>
                  <a:lnTo>
                    <a:pt x="117" y="164"/>
                  </a:lnTo>
                  <a:lnTo>
                    <a:pt x="90" y="154"/>
                  </a:lnTo>
                  <a:lnTo>
                    <a:pt x="50" y="144"/>
                  </a:lnTo>
                  <a:lnTo>
                    <a:pt x="27" y="140"/>
                  </a:lnTo>
                  <a:lnTo>
                    <a:pt x="4" y="137"/>
                  </a:lnTo>
                  <a:lnTo>
                    <a:pt x="4"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023160" y="3929040"/>
              <a:ext cx="140400" cy="36000"/>
            </a:xfrm>
            <a:custGeom>
              <a:avLst/>
              <a:gdLst/>
              <a:ahLst/>
              <a:rect l="l" t="t" r="r" b="b"/>
              <a:pathLst>
                <a:path w="66" h="17">
                  <a:moveTo>
                    <a:pt x="66" y="10"/>
                  </a:moveTo>
                  <a:lnTo>
                    <a:pt x="66" y="10"/>
                  </a:lnTo>
                  <a:lnTo>
                    <a:pt x="36" y="10"/>
                  </a:lnTo>
                  <a:lnTo>
                    <a:pt x="13" y="10"/>
                  </a:lnTo>
                  <a:lnTo>
                    <a:pt x="0" y="17"/>
                  </a:lnTo>
                  <a:lnTo>
                    <a:pt x="0" y="17"/>
                  </a:lnTo>
                  <a:lnTo>
                    <a:pt x="3" y="14"/>
                  </a:lnTo>
                  <a:lnTo>
                    <a:pt x="13" y="7"/>
                  </a:lnTo>
                  <a:lnTo>
                    <a:pt x="33" y="0"/>
                  </a:lnTo>
                  <a:lnTo>
                    <a:pt x="46" y="0"/>
                  </a:lnTo>
                  <a:lnTo>
                    <a:pt x="60" y="4"/>
                  </a:lnTo>
                  <a:lnTo>
                    <a:pt x="66" y="10"/>
                  </a:lnTo>
                  <a:close/>
                </a:path>
              </a:pathLst>
            </a:custGeom>
            <a:solidFill>
              <a:srgbClr val="dfb33a"/>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0" name=""/>
            <p:cNvSpPr/>
            <p:nvPr/>
          </p:nvSpPr>
          <p:spPr>
            <a:xfrm>
              <a:off x="6100200" y="3709800"/>
              <a:ext cx="236160" cy="249120"/>
            </a:xfrm>
            <a:custGeom>
              <a:avLst/>
              <a:gdLst/>
              <a:ahLst/>
              <a:rect l="l" t="t" r="r" b="b"/>
              <a:pathLst>
                <a:path w="111" h="117">
                  <a:moveTo>
                    <a:pt x="90" y="117"/>
                  </a:moveTo>
                  <a:lnTo>
                    <a:pt x="90" y="117"/>
                  </a:lnTo>
                  <a:lnTo>
                    <a:pt x="97" y="107"/>
                  </a:lnTo>
                  <a:lnTo>
                    <a:pt x="104" y="90"/>
                  </a:lnTo>
                  <a:lnTo>
                    <a:pt x="111" y="73"/>
                  </a:lnTo>
                  <a:lnTo>
                    <a:pt x="111" y="57"/>
                  </a:lnTo>
                  <a:lnTo>
                    <a:pt x="111" y="40"/>
                  </a:lnTo>
                  <a:lnTo>
                    <a:pt x="104" y="30"/>
                  </a:lnTo>
                  <a:lnTo>
                    <a:pt x="97" y="20"/>
                  </a:lnTo>
                  <a:lnTo>
                    <a:pt x="90" y="13"/>
                  </a:lnTo>
                  <a:lnTo>
                    <a:pt x="77" y="7"/>
                  </a:lnTo>
                  <a:lnTo>
                    <a:pt x="77" y="7"/>
                  </a:lnTo>
                  <a:lnTo>
                    <a:pt x="60" y="0"/>
                  </a:lnTo>
                  <a:lnTo>
                    <a:pt x="47" y="0"/>
                  </a:lnTo>
                  <a:lnTo>
                    <a:pt x="34" y="0"/>
                  </a:lnTo>
                  <a:lnTo>
                    <a:pt x="24" y="3"/>
                  </a:lnTo>
                  <a:lnTo>
                    <a:pt x="7" y="13"/>
                  </a:lnTo>
                  <a:lnTo>
                    <a:pt x="4" y="17"/>
                  </a:lnTo>
                  <a:lnTo>
                    <a:pt x="4" y="17"/>
                  </a:lnTo>
                  <a:lnTo>
                    <a:pt x="0" y="50"/>
                  </a:lnTo>
                  <a:lnTo>
                    <a:pt x="0" y="77"/>
                  </a:lnTo>
                  <a:lnTo>
                    <a:pt x="0" y="90"/>
                  </a:lnTo>
                  <a:lnTo>
                    <a:pt x="4" y="103"/>
                  </a:lnTo>
                  <a:lnTo>
                    <a:pt x="4" y="103"/>
                  </a:lnTo>
                  <a:lnTo>
                    <a:pt x="27" y="107"/>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33600" y="3822840"/>
              <a:ext cx="362160" cy="406800"/>
            </a:xfrm>
            <a:custGeom>
              <a:avLst/>
              <a:gdLst/>
              <a:ahLst/>
              <a:rect l="l" t="t" r="r" b="b"/>
              <a:pathLst>
                <a:path w="170" h="191">
                  <a:moveTo>
                    <a:pt x="133" y="191"/>
                  </a:moveTo>
                  <a:lnTo>
                    <a:pt x="133" y="191"/>
                  </a:lnTo>
                  <a:lnTo>
                    <a:pt x="147" y="167"/>
                  </a:lnTo>
                  <a:lnTo>
                    <a:pt x="160" y="140"/>
                  </a:lnTo>
                  <a:lnTo>
                    <a:pt x="167" y="110"/>
                  </a:lnTo>
                  <a:lnTo>
                    <a:pt x="170" y="94"/>
                  </a:lnTo>
                  <a:lnTo>
                    <a:pt x="170" y="77"/>
                  </a:lnTo>
                  <a:lnTo>
                    <a:pt x="170" y="60"/>
                  </a:lnTo>
                  <a:lnTo>
                    <a:pt x="163" y="47"/>
                  </a:lnTo>
                  <a:lnTo>
                    <a:pt x="157" y="34"/>
                  </a:lnTo>
                  <a:lnTo>
                    <a:pt x="143" y="20"/>
                  </a:lnTo>
                  <a:lnTo>
                    <a:pt x="127" y="10"/>
                  </a:lnTo>
                  <a:lnTo>
                    <a:pt x="107" y="0"/>
                  </a:lnTo>
                  <a:lnTo>
                    <a:pt x="107" y="0"/>
                  </a:lnTo>
                  <a:lnTo>
                    <a:pt x="87" y="0"/>
                  </a:lnTo>
                  <a:lnTo>
                    <a:pt x="70" y="4"/>
                  </a:lnTo>
                  <a:lnTo>
                    <a:pt x="47" y="10"/>
                  </a:lnTo>
                  <a:lnTo>
                    <a:pt x="37" y="17"/>
                  </a:lnTo>
                  <a:lnTo>
                    <a:pt x="27" y="27"/>
                  </a:lnTo>
                  <a:lnTo>
                    <a:pt x="20" y="40"/>
                  </a:lnTo>
                  <a:lnTo>
                    <a:pt x="10" y="54"/>
                  </a:lnTo>
                  <a:lnTo>
                    <a:pt x="3" y="74"/>
                  </a:lnTo>
                  <a:lnTo>
                    <a:pt x="0" y="97"/>
                  </a:lnTo>
                  <a:lnTo>
                    <a:pt x="0" y="124"/>
                  </a:lnTo>
                  <a:lnTo>
                    <a:pt x="0" y="154"/>
                  </a:lnTo>
                  <a:lnTo>
                    <a:pt x="0" y="154"/>
                  </a:lnTo>
                  <a:lnTo>
                    <a:pt x="13" y="154"/>
                  </a:lnTo>
                  <a:lnTo>
                    <a:pt x="43" y="161"/>
                  </a:lnTo>
                  <a:lnTo>
                    <a:pt x="87" y="171"/>
                  </a:lnTo>
                  <a:lnTo>
                    <a:pt x="110" y="181"/>
                  </a:lnTo>
                  <a:lnTo>
                    <a:pt x="133" y="191"/>
                  </a:lnTo>
                  <a:lnTo>
                    <a:pt x="133" y="1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948360" y="3844080"/>
              <a:ext cx="332280" cy="349200"/>
            </a:xfrm>
            <a:custGeom>
              <a:avLst/>
              <a:gdLst/>
              <a:ahLst/>
              <a:rect l="l" t="t" r="r" b="b"/>
              <a:pathLst>
                <a:path w="156" h="164">
                  <a:moveTo>
                    <a:pt x="123" y="164"/>
                  </a:moveTo>
                  <a:lnTo>
                    <a:pt x="123" y="164"/>
                  </a:lnTo>
                  <a:lnTo>
                    <a:pt x="136" y="144"/>
                  </a:lnTo>
                  <a:lnTo>
                    <a:pt x="146" y="120"/>
                  </a:lnTo>
                  <a:lnTo>
                    <a:pt x="153" y="94"/>
                  </a:lnTo>
                  <a:lnTo>
                    <a:pt x="156" y="67"/>
                  </a:lnTo>
                  <a:lnTo>
                    <a:pt x="153" y="54"/>
                  </a:lnTo>
                  <a:lnTo>
                    <a:pt x="150" y="40"/>
                  </a:lnTo>
                  <a:lnTo>
                    <a:pt x="143" y="27"/>
                  </a:lnTo>
                  <a:lnTo>
                    <a:pt x="130" y="17"/>
                  </a:lnTo>
                  <a:lnTo>
                    <a:pt x="116" y="7"/>
                  </a:lnTo>
                  <a:lnTo>
                    <a:pt x="96" y="0"/>
                  </a:lnTo>
                  <a:lnTo>
                    <a:pt x="96" y="0"/>
                  </a:lnTo>
                  <a:lnTo>
                    <a:pt x="80" y="0"/>
                  </a:lnTo>
                  <a:lnTo>
                    <a:pt x="63" y="4"/>
                  </a:lnTo>
                  <a:lnTo>
                    <a:pt x="46" y="10"/>
                  </a:lnTo>
                  <a:lnTo>
                    <a:pt x="36" y="17"/>
                  </a:lnTo>
                  <a:lnTo>
                    <a:pt x="26" y="24"/>
                  </a:lnTo>
                  <a:lnTo>
                    <a:pt x="20" y="37"/>
                  </a:lnTo>
                  <a:lnTo>
                    <a:pt x="13" y="50"/>
                  </a:lnTo>
                  <a:lnTo>
                    <a:pt x="6" y="67"/>
                  </a:lnTo>
                  <a:lnTo>
                    <a:pt x="3" y="87"/>
                  </a:lnTo>
                  <a:lnTo>
                    <a:pt x="0" y="110"/>
                  </a:lnTo>
                  <a:lnTo>
                    <a:pt x="3" y="137"/>
                  </a:lnTo>
                  <a:lnTo>
                    <a:pt x="3" y="137"/>
                  </a:lnTo>
                  <a:lnTo>
                    <a:pt x="40" y="141"/>
                  </a:lnTo>
                  <a:lnTo>
                    <a:pt x="80" y="151"/>
                  </a:lnTo>
                  <a:lnTo>
                    <a:pt x="123" y="164"/>
                  </a:lnTo>
                  <a:lnTo>
                    <a:pt x="123"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939720" y="3922920"/>
              <a:ext cx="243000" cy="249120"/>
            </a:xfrm>
            <a:custGeom>
              <a:avLst/>
              <a:gdLst/>
              <a:ahLst/>
              <a:rect l="l" t="t" r="r" b="b"/>
              <a:pathLst>
                <a:path w="114" h="117">
                  <a:moveTo>
                    <a:pt x="90" y="117"/>
                  </a:moveTo>
                  <a:lnTo>
                    <a:pt x="90" y="117"/>
                  </a:lnTo>
                  <a:lnTo>
                    <a:pt x="100" y="107"/>
                  </a:lnTo>
                  <a:lnTo>
                    <a:pt x="107" y="93"/>
                  </a:lnTo>
                  <a:lnTo>
                    <a:pt x="110" y="77"/>
                  </a:lnTo>
                  <a:lnTo>
                    <a:pt x="114" y="60"/>
                  </a:lnTo>
                  <a:lnTo>
                    <a:pt x="110" y="43"/>
                  </a:lnTo>
                  <a:lnTo>
                    <a:pt x="107" y="33"/>
                  </a:lnTo>
                  <a:lnTo>
                    <a:pt x="100" y="27"/>
                  </a:lnTo>
                  <a:lnTo>
                    <a:pt x="94" y="17"/>
                  </a:lnTo>
                  <a:lnTo>
                    <a:pt x="80" y="10"/>
                  </a:lnTo>
                  <a:lnTo>
                    <a:pt x="80" y="10"/>
                  </a:lnTo>
                  <a:lnTo>
                    <a:pt x="64" y="3"/>
                  </a:lnTo>
                  <a:lnTo>
                    <a:pt x="50" y="0"/>
                  </a:lnTo>
                  <a:lnTo>
                    <a:pt x="37" y="0"/>
                  </a:lnTo>
                  <a:lnTo>
                    <a:pt x="30" y="3"/>
                  </a:lnTo>
                  <a:lnTo>
                    <a:pt x="17" y="10"/>
                  </a:lnTo>
                  <a:lnTo>
                    <a:pt x="14" y="17"/>
                  </a:lnTo>
                  <a:lnTo>
                    <a:pt x="14" y="17"/>
                  </a:lnTo>
                  <a:lnTo>
                    <a:pt x="4" y="50"/>
                  </a:lnTo>
                  <a:lnTo>
                    <a:pt x="0" y="77"/>
                  </a:lnTo>
                  <a:lnTo>
                    <a:pt x="4" y="90"/>
                  </a:lnTo>
                  <a:lnTo>
                    <a:pt x="7" y="104"/>
                  </a:lnTo>
                  <a:lnTo>
                    <a:pt x="7" y="104"/>
                  </a:lnTo>
                  <a:lnTo>
                    <a:pt x="30" y="107"/>
                  </a:lnTo>
                  <a:lnTo>
                    <a:pt x="57" y="110"/>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152840" y="4187160"/>
              <a:ext cx="127800" cy="91800"/>
            </a:xfrm>
            <a:custGeom>
              <a:avLst/>
              <a:gdLst/>
              <a:ahLst/>
              <a:rect l="l" t="t" r="r" b="b"/>
              <a:pathLst>
                <a:path w="60" h="43">
                  <a:moveTo>
                    <a:pt x="0" y="3"/>
                  </a:moveTo>
                  <a:lnTo>
                    <a:pt x="0" y="3"/>
                  </a:lnTo>
                  <a:lnTo>
                    <a:pt x="27" y="20"/>
                  </a:lnTo>
                  <a:lnTo>
                    <a:pt x="47" y="30"/>
                  </a:lnTo>
                  <a:lnTo>
                    <a:pt x="60" y="43"/>
                  </a:lnTo>
                  <a:lnTo>
                    <a:pt x="60" y="43"/>
                  </a:lnTo>
                  <a:lnTo>
                    <a:pt x="57" y="36"/>
                  </a:lnTo>
                  <a:lnTo>
                    <a:pt x="47" y="26"/>
                  </a:lnTo>
                  <a:lnTo>
                    <a:pt x="34" y="13"/>
                  </a:lnTo>
                  <a:lnTo>
                    <a:pt x="20" y="6"/>
                  </a:lnTo>
                  <a:lnTo>
                    <a:pt x="7" y="0"/>
                  </a:lnTo>
                  <a:lnTo>
                    <a:pt x="0" y="3"/>
                  </a:lnTo>
                  <a:close/>
                </a:path>
              </a:pathLst>
            </a:custGeom>
            <a:solidFill>
              <a:srgbClr val="dfb33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7046640" y="3959280"/>
              <a:ext cx="93600" cy="140400"/>
            </a:xfrm>
            <a:custGeom>
              <a:avLst/>
              <a:gdLst/>
              <a:ahLst/>
              <a:rect l="l" t="t" r="r" b="b"/>
              <a:pathLst>
                <a:path w="44" h="66">
                  <a:moveTo>
                    <a:pt x="40" y="66"/>
                  </a:moveTo>
                  <a:lnTo>
                    <a:pt x="17" y="63"/>
                  </a:lnTo>
                  <a:lnTo>
                    <a:pt x="17" y="63"/>
                  </a:lnTo>
                  <a:lnTo>
                    <a:pt x="17" y="60"/>
                  </a:lnTo>
                  <a:lnTo>
                    <a:pt x="17" y="50"/>
                  </a:lnTo>
                  <a:lnTo>
                    <a:pt x="10" y="40"/>
                  </a:lnTo>
                  <a:lnTo>
                    <a:pt x="7" y="36"/>
                  </a:lnTo>
                  <a:lnTo>
                    <a:pt x="0" y="30"/>
                  </a:lnTo>
                  <a:lnTo>
                    <a:pt x="4" y="0"/>
                  </a:lnTo>
                  <a:lnTo>
                    <a:pt x="4" y="0"/>
                  </a:lnTo>
                  <a:lnTo>
                    <a:pt x="14" y="3"/>
                  </a:lnTo>
                  <a:lnTo>
                    <a:pt x="30" y="13"/>
                  </a:lnTo>
                  <a:lnTo>
                    <a:pt x="37" y="23"/>
                  </a:lnTo>
                  <a:lnTo>
                    <a:pt x="44" y="33"/>
                  </a:lnTo>
                  <a:lnTo>
                    <a:pt x="44" y="50"/>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193800" y="3746160"/>
              <a:ext cx="91800" cy="140400"/>
            </a:xfrm>
            <a:custGeom>
              <a:avLst/>
              <a:gdLst/>
              <a:ahLst/>
              <a:rect l="l" t="t" r="r" b="b"/>
              <a:pathLst>
                <a:path w="43" h="66">
                  <a:moveTo>
                    <a:pt x="40" y="66"/>
                  </a:moveTo>
                  <a:lnTo>
                    <a:pt x="16" y="63"/>
                  </a:lnTo>
                  <a:lnTo>
                    <a:pt x="16" y="63"/>
                  </a:lnTo>
                  <a:lnTo>
                    <a:pt x="16" y="60"/>
                  </a:lnTo>
                  <a:lnTo>
                    <a:pt x="16" y="50"/>
                  </a:lnTo>
                  <a:lnTo>
                    <a:pt x="13" y="40"/>
                  </a:lnTo>
                  <a:lnTo>
                    <a:pt x="6" y="33"/>
                  </a:lnTo>
                  <a:lnTo>
                    <a:pt x="0" y="30"/>
                  </a:lnTo>
                  <a:lnTo>
                    <a:pt x="6" y="0"/>
                  </a:lnTo>
                  <a:lnTo>
                    <a:pt x="6" y="0"/>
                  </a:lnTo>
                  <a:lnTo>
                    <a:pt x="13" y="3"/>
                  </a:lnTo>
                  <a:lnTo>
                    <a:pt x="30" y="13"/>
                  </a:lnTo>
                  <a:lnTo>
                    <a:pt x="40" y="23"/>
                  </a:lnTo>
                  <a:lnTo>
                    <a:pt x="43" y="33"/>
                  </a:lnTo>
                  <a:lnTo>
                    <a:pt x="43" y="46"/>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249600" y="3737160"/>
              <a:ext cx="86760" cy="79200"/>
            </a:xfrm>
            <a:custGeom>
              <a:avLst/>
              <a:gdLst/>
              <a:ahLst/>
              <a:rect l="l" t="t" r="r" b="b"/>
              <a:pathLst>
                <a:path w="41" h="37">
                  <a:moveTo>
                    <a:pt x="0" y="10"/>
                  </a:moveTo>
                  <a:lnTo>
                    <a:pt x="0" y="10"/>
                  </a:lnTo>
                  <a:lnTo>
                    <a:pt x="0" y="17"/>
                  </a:lnTo>
                  <a:lnTo>
                    <a:pt x="4" y="24"/>
                  </a:lnTo>
                  <a:lnTo>
                    <a:pt x="7" y="30"/>
                  </a:lnTo>
                  <a:lnTo>
                    <a:pt x="14" y="34"/>
                  </a:lnTo>
                  <a:lnTo>
                    <a:pt x="14" y="34"/>
                  </a:lnTo>
                  <a:lnTo>
                    <a:pt x="20" y="37"/>
                  </a:lnTo>
                  <a:lnTo>
                    <a:pt x="30" y="34"/>
                  </a:lnTo>
                  <a:lnTo>
                    <a:pt x="34" y="30"/>
                  </a:lnTo>
                  <a:lnTo>
                    <a:pt x="41" y="24"/>
                  </a:lnTo>
                  <a:lnTo>
                    <a:pt x="41" y="24"/>
                  </a:lnTo>
                  <a:lnTo>
                    <a:pt x="41" y="17"/>
                  </a:lnTo>
                  <a:lnTo>
                    <a:pt x="41" y="10"/>
                  </a:lnTo>
                  <a:lnTo>
                    <a:pt x="34" y="4"/>
                  </a:lnTo>
                  <a:lnTo>
                    <a:pt x="27" y="0"/>
                  </a:lnTo>
                  <a:lnTo>
                    <a:pt x="27" y="0"/>
                  </a:lnTo>
                  <a:lnTo>
                    <a:pt x="20" y="0"/>
                  </a:lnTo>
                  <a:lnTo>
                    <a:pt x="14" y="0"/>
                  </a:lnTo>
                  <a:lnTo>
                    <a:pt x="7" y="4"/>
                  </a:lnTo>
                  <a:lnTo>
                    <a:pt x="0"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6635160" y="4072320"/>
              <a:ext cx="198000" cy="148680"/>
            </a:xfrm>
            <a:custGeom>
              <a:avLst/>
              <a:gdLst/>
              <a:ahLst/>
              <a:rect l="l" t="t" r="r" b="b"/>
              <a:pathLst>
                <a:path w="93" h="70">
                  <a:moveTo>
                    <a:pt x="0" y="27"/>
                  </a:moveTo>
                  <a:lnTo>
                    <a:pt x="0" y="27"/>
                  </a:lnTo>
                  <a:lnTo>
                    <a:pt x="3" y="40"/>
                  </a:lnTo>
                  <a:lnTo>
                    <a:pt x="10" y="54"/>
                  </a:lnTo>
                  <a:lnTo>
                    <a:pt x="23" y="64"/>
                  </a:lnTo>
                  <a:lnTo>
                    <a:pt x="40" y="70"/>
                  </a:lnTo>
                  <a:lnTo>
                    <a:pt x="40" y="70"/>
                  </a:lnTo>
                  <a:lnTo>
                    <a:pt x="56" y="70"/>
                  </a:lnTo>
                  <a:lnTo>
                    <a:pt x="73" y="67"/>
                  </a:lnTo>
                  <a:lnTo>
                    <a:pt x="86" y="57"/>
                  </a:lnTo>
                  <a:lnTo>
                    <a:pt x="93" y="47"/>
                  </a:lnTo>
                  <a:lnTo>
                    <a:pt x="93" y="47"/>
                  </a:lnTo>
                  <a:lnTo>
                    <a:pt x="90" y="30"/>
                  </a:lnTo>
                  <a:lnTo>
                    <a:pt x="83" y="20"/>
                  </a:lnTo>
                  <a:lnTo>
                    <a:pt x="70" y="7"/>
                  </a:lnTo>
                  <a:lnTo>
                    <a:pt x="53" y="3"/>
                  </a:lnTo>
                  <a:lnTo>
                    <a:pt x="53" y="3"/>
                  </a:lnTo>
                  <a:lnTo>
                    <a:pt x="36" y="0"/>
                  </a:lnTo>
                  <a:lnTo>
                    <a:pt x="20" y="7"/>
                  </a:lnTo>
                  <a:lnTo>
                    <a:pt x="6" y="13"/>
                  </a:lnTo>
                  <a:lnTo>
                    <a:pt x="0" y="27"/>
                  </a:lnTo>
                  <a:lnTo>
                    <a:pt x="0" y="27"/>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110360" y="3980520"/>
              <a:ext cx="78480" cy="70560"/>
            </a:xfrm>
            <a:custGeom>
              <a:avLst/>
              <a:gdLst/>
              <a:ahLst/>
              <a:rect l="l" t="t" r="r" b="b"/>
              <a:pathLst>
                <a:path w="37" h="33">
                  <a:moveTo>
                    <a:pt x="4" y="10"/>
                  </a:moveTo>
                  <a:lnTo>
                    <a:pt x="4" y="10"/>
                  </a:lnTo>
                  <a:lnTo>
                    <a:pt x="0" y="16"/>
                  </a:lnTo>
                  <a:lnTo>
                    <a:pt x="4" y="23"/>
                  </a:lnTo>
                  <a:lnTo>
                    <a:pt x="7" y="30"/>
                  </a:lnTo>
                  <a:lnTo>
                    <a:pt x="14" y="33"/>
                  </a:lnTo>
                  <a:lnTo>
                    <a:pt x="14" y="33"/>
                  </a:lnTo>
                  <a:lnTo>
                    <a:pt x="20" y="33"/>
                  </a:lnTo>
                  <a:lnTo>
                    <a:pt x="27" y="33"/>
                  </a:lnTo>
                  <a:lnTo>
                    <a:pt x="30" y="30"/>
                  </a:lnTo>
                  <a:lnTo>
                    <a:pt x="34" y="23"/>
                  </a:lnTo>
                  <a:lnTo>
                    <a:pt x="34" y="23"/>
                  </a:lnTo>
                  <a:lnTo>
                    <a:pt x="37" y="16"/>
                  </a:lnTo>
                  <a:lnTo>
                    <a:pt x="37" y="10"/>
                  </a:lnTo>
                  <a:lnTo>
                    <a:pt x="30" y="6"/>
                  </a:lnTo>
                  <a:lnTo>
                    <a:pt x="27" y="0"/>
                  </a:lnTo>
                  <a:lnTo>
                    <a:pt x="27" y="0"/>
                  </a:lnTo>
                  <a:lnTo>
                    <a:pt x="20" y="0"/>
                  </a:lnTo>
                  <a:lnTo>
                    <a:pt x="14" y="0"/>
                  </a:lnTo>
                  <a:lnTo>
                    <a:pt x="7" y="3"/>
                  </a:lnTo>
                  <a:lnTo>
                    <a:pt x="4" y="10"/>
                  </a:lnTo>
                  <a:lnTo>
                    <a:pt x="4" y="1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0" name=""/>
            <p:cNvSpPr/>
            <p:nvPr/>
          </p:nvSpPr>
          <p:spPr>
            <a:xfrm>
              <a:off x="6455880" y="4485600"/>
              <a:ext cx="200520" cy="85320"/>
            </a:xfrm>
            <a:custGeom>
              <a:avLst/>
              <a:gdLst/>
              <a:ahLst/>
              <a:rect l="l" t="t" r="r" b="b"/>
              <a:pathLst>
                <a:path w="94" h="40">
                  <a:moveTo>
                    <a:pt x="84" y="23"/>
                  </a:moveTo>
                  <a:lnTo>
                    <a:pt x="84" y="23"/>
                  </a:lnTo>
                  <a:lnTo>
                    <a:pt x="77" y="23"/>
                  </a:lnTo>
                  <a:lnTo>
                    <a:pt x="60" y="23"/>
                  </a:lnTo>
                  <a:lnTo>
                    <a:pt x="34" y="16"/>
                  </a:lnTo>
                  <a:lnTo>
                    <a:pt x="20" y="10"/>
                  </a:lnTo>
                  <a:lnTo>
                    <a:pt x="4" y="0"/>
                  </a:lnTo>
                  <a:lnTo>
                    <a:pt x="4" y="0"/>
                  </a:lnTo>
                  <a:lnTo>
                    <a:pt x="4" y="0"/>
                  </a:lnTo>
                  <a:lnTo>
                    <a:pt x="0" y="0"/>
                  </a:lnTo>
                  <a:lnTo>
                    <a:pt x="0" y="6"/>
                  </a:lnTo>
                  <a:lnTo>
                    <a:pt x="0" y="6"/>
                  </a:lnTo>
                  <a:lnTo>
                    <a:pt x="4" y="16"/>
                  </a:lnTo>
                  <a:lnTo>
                    <a:pt x="7" y="23"/>
                  </a:lnTo>
                  <a:lnTo>
                    <a:pt x="17" y="33"/>
                  </a:lnTo>
                  <a:lnTo>
                    <a:pt x="27" y="36"/>
                  </a:lnTo>
                  <a:lnTo>
                    <a:pt x="40" y="40"/>
                  </a:lnTo>
                  <a:lnTo>
                    <a:pt x="60" y="40"/>
                  </a:lnTo>
                  <a:lnTo>
                    <a:pt x="80" y="36"/>
                  </a:lnTo>
                  <a:lnTo>
                    <a:pt x="80" y="36"/>
                  </a:lnTo>
                  <a:lnTo>
                    <a:pt x="90" y="33"/>
                  </a:lnTo>
                  <a:lnTo>
                    <a:pt x="94" y="26"/>
                  </a:lnTo>
                  <a:lnTo>
                    <a:pt x="84" y="23"/>
                  </a:lnTo>
                  <a:lnTo>
                    <a:pt x="84" y="23"/>
                  </a:lnTo>
                  <a:close/>
                </a:path>
              </a:pathLst>
            </a:custGeom>
            <a:solidFill>
              <a:srgbClr val="dfb33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81" name=""/>
            <p:cNvSpPr/>
            <p:nvPr/>
          </p:nvSpPr>
          <p:spPr>
            <a:xfrm>
              <a:off x="6370920" y="4230000"/>
              <a:ext cx="419760" cy="191880"/>
            </a:xfrm>
            <a:custGeom>
              <a:avLst/>
              <a:gdLst/>
              <a:ahLst/>
              <a:rect l="l" t="t" r="r" b="b"/>
              <a:pathLst>
                <a:path w="197" h="90">
                  <a:moveTo>
                    <a:pt x="190" y="70"/>
                  </a:moveTo>
                  <a:lnTo>
                    <a:pt x="190" y="70"/>
                  </a:lnTo>
                  <a:lnTo>
                    <a:pt x="120" y="46"/>
                  </a:lnTo>
                  <a:lnTo>
                    <a:pt x="60" y="23"/>
                  </a:lnTo>
                  <a:lnTo>
                    <a:pt x="10" y="0"/>
                  </a:lnTo>
                  <a:lnTo>
                    <a:pt x="10" y="0"/>
                  </a:lnTo>
                  <a:lnTo>
                    <a:pt x="4" y="0"/>
                  </a:lnTo>
                  <a:lnTo>
                    <a:pt x="0" y="0"/>
                  </a:lnTo>
                  <a:lnTo>
                    <a:pt x="0" y="3"/>
                  </a:lnTo>
                  <a:lnTo>
                    <a:pt x="0" y="3"/>
                  </a:lnTo>
                  <a:lnTo>
                    <a:pt x="10" y="16"/>
                  </a:lnTo>
                  <a:lnTo>
                    <a:pt x="27" y="43"/>
                  </a:lnTo>
                  <a:lnTo>
                    <a:pt x="44" y="56"/>
                  </a:lnTo>
                  <a:lnTo>
                    <a:pt x="60" y="70"/>
                  </a:lnTo>
                  <a:lnTo>
                    <a:pt x="84" y="80"/>
                  </a:lnTo>
                  <a:lnTo>
                    <a:pt x="110" y="90"/>
                  </a:lnTo>
                  <a:lnTo>
                    <a:pt x="110" y="90"/>
                  </a:lnTo>
                  <a:lnTo>
                    <a:pt x="137" y="90"/>
                  </a:lnTo>
                  <a:lnTo>
                    <a:pt x="164" y="86"/>
                  </a:lnTo>
                  <a:lnTo>
                    <a:pt x="190" y="83"/>
                  </a:lnTo>
                  <a:lnTo>
                    <a:pt x="190" y="83"/>
                  </a:lnTo>
                  <a:lnTo>
                    <a:pt x="197" y="76"/>
                  </a:lnTo>
                  <a:lnTo>
                    <a:pt x="197" y="73"/>
                  </a:lnTo>
                  <a:lnTo>
                    <a:pt x="190" y="70"/>
                  </a:lnTo>
                  <a:lnTo>
                    <a:pt x="19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4" name="PlaceHolder 2"/>
          <p:cNvSpPr>
            <a:spLocks noGrp="1"/>
          </p:cNvSpPr>
          <p:nvPr>
            <p:ph/>
          </p:nvPr>
        </p:nvSpPr>
        <p:spPr>
          <a:xfrm>
            <a:off x="568080" y="5446440"/>
            <a:ext cx="8273880" cy="1315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rth is getting warmer. The average temperature has risen about 1 degree Fahrenheit in the last century and the rate at which the temperature is rising is accelerating.</a:t>
            </a:r>
            <a:endParaRPr b="0" lang="en-US" sz="2000" spc="-1" strike="noStrike">
              <a:solidFill>
                <a:srgbClr val="ffffff"/>
              </a:solidFill>
              <a:latin typeface="Arial"/>
            </a:endParaRPr>
          </a:p>
        </p:txBody>
      </p:sp>
      <p:pic>
        <p:nvPicPr>
          <p:cNvPr id="485" name="" descr=""/>
          <p:cNvPicPr/>
          <p:nvPr/>
        </p:nvPicPr>
        <p:blipFill>
          <a:blip r:embed="rId2"/>
          <a:stretch/>
        </p:blipFill>
        <p:spPr>
          <a:xfrm>
            <a:off x="1133640" y="1395360"/>
            <a:ext cx="6824520" cy="386712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8" name="PlaceHolder 2"/>
          <p:cNvSpPr>
            <a:spLocks noGrp="1"/>
          </p:cNvSpPr>
          <p:nvPr>
            <p:ph/>
          </p:nvPr>
        </p:nvSpPr>
        <p:spPr>
          <a:xfrm>
            <a:off x="4572000" y="169236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Industrial Revolution, the levels of certain gagses in the atmosphere have risen significantly:  carbon dioxide has increased by 30%, methane by 100% and nitrous oxide by 15%.  These increases in gases increase the heat-trapping ability of the Earth. </a:t>
            </a:r>
            <a:endParaRPr b="0" lang="en-US" sz="2400" spc="-1" strike="noStrike">
              <a:solidFill>
                <a:srgbClr val="ffffff"/>
              </a:solidFill>
              <a:latin typeface="Arial"/>
            </a:endParaRPr>
          </a:p>
        </p:txBody>
      </p:sp>
      <p:grpSp>
        <p:nvGrpSpPr>
          <p:cNvPr id="489" name=""/>
          <p:cNvGrpSpPr/>
          <p:nvPr/>
        </p:nvGrpSpPr>
        <p:grpSpPr>
          <a:xfrm>
            <a:off x="843120" y="1568520"/>
            <a:ext cx="3039840" cy="4757760"/>
            <a:chOff x="843120" y="1568520"/>
            <a:chExt cx="3039840" cy="4757760"/>
          </a:xfrm>
        </p:grpSpPr>
        <p:sp>
          <p:nvSpPr>
            <p:cNvPr id="490" name=""/>
            <p:cNvSpPr/>
            <p:nvPr/>
          </p:nvSpPr>
          <p:spPr>
            <a:xfrm>
              <a:off x="843120" y="1568520"/>
              <a:ext cx="3039840" cy="4757760"/>
            </a:xfrm>
            <a:custGeom>
              <a:avLst/>
              <a:gdLst/>
              <a:ahLst/>
              <a:rect l="l" t="t" r="r" b="b"/>
              <a:pathLst>
                <a:path w="1915" h="2997">
                  <a:moveTo>
                    <a:pt x="1915" y="2997"/>
                  </a:moveTo>
                  <a:lnTo>
                    <a:pt x="1915" y="50"/>
                  </a:lnTo>
                  <a:lnTo>
                    <a:pt x="1033" y="114"/>
                  </a:lnTo>
                  <a:lnTo>
                    <a:pt x="1036" y="111"/>
                  </a:lnTo>
                  <a:lnTo>
                    <a:pt x="1033" y="108"/>
                  </a:lnTo>
                  <a:lnTo>
                    <a:pt x="1022" y="99"/>
                  </a:lnTo>
                  <a:lnTo>
                    <a:pt x="1007" y="86"/>
                  </a:lnTo>
                  <a:lnTo>
                    <a:pt x="986" y="69"/>
                  </a:lnTo>
                  <a:lnTo>
                    <a:pt x="960" y="53"/>
                  </a:lnTo>
                  <a:lnTo>
                    <a:pt x="932" y="36"/>
                  </a:lnTo>
                  <a:lnTo>
                    <a:pt x="900" y="21"/>
                  </a:lnTo>
                  <a:lnTo>
                    <a:pt x="867" y="11"/>
                  </a:lnTo>
                  <a:lnTo>
                    <a:pt x="849" y="6"/>
                  </a:lnTo>
                  <a:lnTo>
                    <a:pt x="832" y="5"/>
                  </a:lnTo>
                  <a:lnTo>
                    <a:pt x="814" y="2"/>
                  </a:lnTo>
                  <a:lnTo>
                    <a:pt x="796" y="0"/>
                  </a:lnTo>
                  <a:lnTo>
                    <a:pt x="778" y="0"/>
                  </a:lnTo>
                  <a:lnTo>
                    <a:pt x="760" y="0"/>
                  </a:lnTo>
                  <a:lnTo>
                    <a:pt x="742" y="0"/>
                  </a:lnTo>
                  <a:lnTo>
                    <a:pt x="724" y="2"/>
                  </a:lnTo>
                  <a:lnTo>
                    <a:pt x="704" y="3"/>
                  </a:lnTo>
                  <a:lnTo>
                    <a:pt x="685" y="6"/>
                  </a:lnTo>
                  <a:lnTo>
                    <a:pt x="665" y="8"/>
                  </a:lnTo>
                  <a:lnTo>
                    <a:pt x="644" y="11"/>
                  </a:lnTo>
                  <a:lnTo>
                    <a:pt x="624" y="15"/>
                  </a:lnTo>
                  <a:lnTo>
                    <a:pt x="602" y="18"/>
                  </a:lnTo>
                  <a:lnTo>
                    <a:pt x="579" y="23"/>
                  </a:lnTo>
                  <a:lnTo>
                    <a:pt x="557" y="27"/>
                  </a:lnTo>
                  <a:lnTo>
                    <a:pt x="512" y="39"/>
                  </a:lnTo>
                  <a:lnTo>
                    <a:pt x="469" y="54"/>
                  </a:lnTo>
                  <a:lnTo>
                    <a:pt x="430" y="74"/>
                  </a:lnTo>
                  <a:lnTo>
                    <a:pt x="396" y="93"/>
                  </a:lnTo>
                  <a:lnTo>
                    <a:pt x="367" y="113"/>
                  </a:lnTo>
                  <a:lnTo>
                    <a:pt x="344" y="128"/>
                  </a:lnTo>
                  <a:lnTo>
                    <a:pt x="331" y="139"/>
                  </a:lnTo>
                  <a:lnTo>
                    <a:pt x="326" y="143"/>
                  </a:lnTo>
                  <a:lnTo>
                    <a:pt x="326" y="166"/>
                  </a:lnTo>
                  <a:lnTo>
                    <a:pt x="109" y="181"/>
                  </a:lnTo>
                  <a:lnTo>
                    <a:pt x="126" y="471"/>
                  </a:lnTo>
                  <a:lnTo>
                    <a:pt x="114" y="479"/>
                  </a:lnTo>
                  <a:lnTo>
                    <a:pt x="100" y="486"/>
                  </a:lnTo>
                  <a:lnTo>
                    <a:pt x="87" y="497"/>
                  </a:lnTo>
                  <a:lnTo>
                    <a:pt x="73" y="507"/>
                  </a:lnTo>
                  <a:lnTo>
                    <a:pt x="58" y="519"/>
                  </a:lnTo>
                  <a:lnTo>
                    <a:pt x="46" y="533"/>
                  </a:lnTo>
                  <a:lnTo>
                    <a:pt x="34" y="546"/>
                  </a:lnTo>
                  <a:lnTo>
                    <a:pt x="25" y="560"/>
                  </a:lnTo>
                  <a:lnTo>
                    <a:pt x="15" y="583"/>
                  </a:lnTo>
                  <a:lnTo>
                    <a:pt x="7" y="610"/>
                  </a:lnTo>
                  <a:lnTo>
                    <a:pt x="1" y="640"/>
                  </a:lnTo>
                  <a:lnTo>
                    <a:pt x="0" y="671"/>
                  </a:lnTo>
                  <a:lnTo>
                    <a:pt x="1" y="703"/>
                  </a:lnTo>
                  <a:lnTo>
                    <a:pt x="7" y="733"/>
                  </a:lnTo>
                  <a:lnTo>
                    <a:pt x="18" y="760"/>
                  </a:lnTo>
                  <a:lnTo>
                    <a:pt x="33" y="783"/>
                  </a:lnTo>
                  <a:lnTo>
                    <a:pt x="49" y="801"/>
                  </a:lnTo>
                  <a:lnTo>
                    <a:pt x="63" y="817"/>
                  </a:lnTo>
                  <a:lnTo>
                    <a:pt x="75" y="831"/>
                  </a:lnTo>
                  <a:lnTo>
                    <a:pt x="84" y="843"/>
                  </a:lnTo>
                  <a:lnTo>
                    <a:pt x="91" y="854"/>
                  </a:lnTo>
                  <a:lnTo>
                    <a:pt x="97" y="866"/>
                  </a:lnTo>
                  <a:lnTo>
                    <a:pt x="100" y="878"/>
                  </a:lnTo>
                  <a:lnTo>
                    <a:pt x="102" y="891"/>
                  </a:lnTo>
                  <a:lnTo>
                    <a:pt x="103" y="918"/>
                  </a:lnTo>
                  <a:lnTo>
                    <a:pt x="109" y="941"/>
                  </a:lnTo>
                  <a:lnTo>
                    <a:pt x="122" y="962"/>
                  </a:lnTo>
                  <a:lnTo>
                    <a:pt x="141" y="984"/>
                  </a:lnTo>
                  <a:lnTo>
                    <a:pt x="146" y="989"/>
                  </a:lnTo>
                  <a:lnTo>
                    <a:pt x="150" y="994"/>
                  </a:lnTo>
                  <a:lnTo>
                    <a:pt x="153" y="998"/>
                  </a:lnTo>
                  <a:lnTo>
                    <a:pt x="158" y="1003"/>
                  </a:lnTo>
                  <a:lnTo>
                    <a:pt x="265" y="2950"/>
                  </a:lnTo>
                  <a:lnTo>
                    <a:pt x="1915" y="29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27160" y="1733400"/>
              <a:ext cx="2693880" cy="4494240"/>
            </a:xfrm>
            <a:custGeom>
              <a:avLst/>
              <a:gdLst/>
              <a:ahLst/>
              <a:rect l="l" t="t" r="r" b="b"/>
              <a:pathLst>
                <a:path w="1697" h="2831">
                  <a:moveTo>
                    <a:pt x="1697" y="0"/>
                  </a:moveTo>
                  <a:lnTo>
                    <a:pt x="0" y="116"/>
                  </a:lnTo>
                  <a:lnTo>
                    <a:pt x="131" y="2792"/>
                  </a:lnTo>
                  <a:lnTo>
                    <a:pt x="1689" y="2831"/>
                  </a:lnTo>
                  <a:lnTo>
                    <a:pt x="169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47920" y="3040200"/>
              <a:ext cx="2398680" cy="3200400"/>
            </a:xfrm>
            <a:custGeom>
              <a:avLst/>
              <a:gdLst/>
              <a:ahLst/>
              <a:rect l="l" t="t" r="r" b="b"/>
              <a:pathLst>
                <a:path w="1511" h="2016">
                  <a:moveTo>
                    <a:pt x="331" y="1801"/>
                  </a:moveTo>
                  <a:lnTo>
                    <a:pt x="346" y="474"/>
                  </a:lnTo>
                  <a:lnTo>
                    <a:pt x="308" y="443"/>
                  </a:lnTo>
                  <a:lnTo>
                    <a:pt x="308" y="440"/>
                  </a:lnTo>
                  <a:lnTo>
                    <a:pt x="308" y="432"/>
                  </a:lnTo>
                  <a:lnTo>
                    <a:pt x="311" y="420"/>
                  </a:lnTo>
                  <a:lnTo>
                    <a:pt x="320" y="407"/>
                  </a:lnTo>
                  <a:lnTo>
                    <a:pt x="335" y="392"/>
                  </a:lnTo>
                  <a:lnTo>
                    <a:pt x="361" y="378"/>
                  </a:lnTo>
                  <a:lnTo>
                    <a:pt x="397" y="368"/>
                  </a:lnTo>
                  <a:lnTo>
                    <a:pt x="447" y="362"/>
                  </a:lnTo>
                  <a:lnTo>
                    <a:pt x="498" y="362"/>
                  </a:lnTo>
                  <a:lnTo>
                    <a:pt x="539" y="366"/>
                  </a:lnTo>
                  <a:lnTo>
                    <a:pt x="567" y="375"/>
                  </a:lnTo>
                  <a:lnTo>
                    <a:pt x="588" y="387"/>
                  </a:lnTo>
                  <a:lnTo>
                    <a:pt x="600" y="399"/>
                  </a:lnTo>
                  <a:lnTo>
                    <a:pt x="608" y="410"/>
                  </a:lnTo>
                  <a:lnTo>
                    <a:pt x="611" y="417"/>
                  </a:lnTo>
                  <a:lnTo>
                    <a:pt x="612" y="420"/>
                  </a:lnTo>
                  <a:lnTo>
                    <a:pt x="585" y="443"/>
                  </a:lnTo>
                  <a:lnTo>
                    <a:pt x="716" y="1715"/>
                  </a:lnTo>
                  <a:lnTo>
                    <a:pt x="885" y="1661"/>
                  </a:lnTo>
                  <a:lnTo>
                    <a:pt x="805" y="342"/>
                  </a:lnTo>
                  <a:lnTo>
                    <a:pt x="771" y="327"/>
                  </a:lnTo>
                  <a:lnTo>
                    <a:pt x="769" y="322"/>
                  </a:lnTo>
                  <a:lnTo>
                    <a:pt x="766" y="312"/>
                  </a:lnTo>
                  <a:lnTo>
                    <a:pt x="766" y="295"/>
                  </a:lnTo>
                  <a:lnTo>
                    <a:pt x="772" y="276"/>
                  </a:lnTo>
                  <a:lnTo>
                    <a:pt x="787" y="255"/>
                  </a:lnTo>
                  <a:lnTo>
                    <a:pt x="814" y="235"/>
                  </a:lnTo>
                  <a:lnTo>
                    <a:pt x="856" y="217"/>
                  </a:lnTo>
                  <a:lnTo>
                    <a:pt x="917" y="203"/>
                  </a:lnTo>
                  <a:lnTo>
                    <a:pt x="983" y="197"/>
                  </a:lnTo>
                  <a:lnTo>
                    <a:pt x="1031" y="203"/>
                  </a:lnTo>
                  <a:lnTo>
                    <a:pt x="1066" y="214"/>
                  </a:lnTo>
                  <a:lnTo>
                    <a:pt x="1088" y="231"/>
                  </a:lnTo>
                  <a:lnTo>
                    <a:pt x="1102" y="249"/>
                  </a:lnTo>
                  <a:lnTo>
                    <a:pt x="1108" y="264"/>
                  </a:lnTo>
                  <a:lnTo>
                    <a:pt x="1109" y="276"/>
                  </a:lnTo>
                  <a:lnTo>
                    <a:pt x="1109" y="280"/>
                  </a:lnTo>
                  <a:lnTo>
                    <a:pt x="1078" y="304"/>
                  </a:lnTo>
                  <a:lnTo>
                    <a:pt x="1295" y="1584"/>
                  </a:lnTo>
                  <a:lnTo>
                    <a:pt x="1379" y="1561"/>
                  </a:lnTo>
                  <a:lnTo>
                    <a:pt x="1283" y="161"/>
                  </a:lnTo>
                  <a:lnTo>
                    <a:pt x="1225" y="142"/>
                  </a:lnTo>
                  <a:lnTo>
                    <a:pt x="1224" y="139"/>
                  </a:lnTo>
                  <a:lnTo>
                    <a:pt x="1222" y="131"/>
                  </a:lnTo>
                  <a:lnTo>
                    <a:pt x="1221" y="119"/>
                  </a:lnTo>
                  <a:lnTo>
                    <a:pt x="1225" y="104"/>
                  </a:lnTo>
                  <a:lnTo>
                    <a:pt x="1237" y="85"/>
                  </a:lnTo>
                  <a:lnTo>
                    <a:pt x="1258" y="65"/>
                  </a:lnTo>
                  <a:lnTo>
                    <a:pt x="1293" y="44"/>
                  </a:lnTo>
                  <a:lnTo>
                    <a:pt x="1344" y="21"/>
                  </a:lnTo>
                  <a:lnTo>
                    <a:pt x="1377" y="11"/>
                  </a:lnTo>
                  <a:lnTo>
                    <a:pt x="1406" y="5"/>
                  </a:lnTo>
                  <a:lnTo>
                    <a:pt x="1432" y="2"/>
                  </a:lnTo>
                  <a:lnTo>
                    <a:pt x="1451" y="0"/>
                  </a:lnTo>
                  <a:lnTo>
                    <a:pt x="1468" y="0"/>
                  </a:lnTo>
                  <a:lnTo>
                    <a:pt x="1478" y="2"/>
                  </a:lnTo>
                  <a:lnTo>
                    <a:pt x="1486" y="3"/>
                  </a:lnTo>
                  <a:lnTo>
                    <a:pt x="1487" y="3"/>
                  </a:lnTo>
                  <a:lnTo>
                    <a:pt x="1511" y="2016"/>
                  </a:lnTo>
                  <a:lnTo>
                    <a:pt x="0" y="2001"/>
                  </a:lnTo>
                  <a:lnTo>
                    <a:pt x="37" y="1846"/>
                  </a:lnTo>
                  <a:lnTo>
                    <a:pt x="331" y="1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906480" y="1638360"/>
              <a:ext cx="2914560" cy="1982880"/>
            </a:xfrm>
            <a:custGeom>
              <a:avLst/>
              <a:gdLst/>
              <a:ahLst/>
              <a:rect l="l" t="t" r="r" b="b"/>
              <a:pathLst>
                <a:path w="1836" h="1249">
                  <a:moveTo>
                    <a:pt x="687" y="1232"/>
                  </a:moveTo>
                  <a:lnTo>
                    <a:pt x="872" y="1225"/>
                  </a:lnTo>
                  <a:lnTo>
                    <a:pt x="875" y="1222"/>
                  </a:lnTo>
                  <a:lnTo>
                    <a:pt x="881" y="1214"/>
                  </a:lnTo>
                  <a:lnTo>
                    <a:pt x="892" y="1204"/>
                  </a:lnTo>
                  <a:lnTo>
                    <a:pt x="902" y="1189"/>
                  </a:lnTo>
                  <a:lnTo>
                    <a:pt x="913" y="1174"/>
                  </a:lnTo>
                  <a:lnTo>
                    <a:pt x="920" y="1157"/>
                  </a:lnTo>
                  <a:lnTo>
                    <a:pt x="926" y="1141"/>
                  </a:lnTo>
                  <a:lnTo>
                    <a:pt x="926" y="1126"/>
                  </a:lnTo>
                  <a:lnTo>
                    <a:pt x="919" y="1100"/>
                  </a:lnTo>
                  <a:lnTo>
                    <a:pt x="908" y="1083"/>
                  </a:lnTo>
                  <a:lnTo>
                    <a:pt x="899" y="1074"/>
                  </a:lnTo>
                  <a:lnTo>
                    <a:pt x="896" y="1071"/>
                  </a:lnTo>
                  <a:lnTo>
                    <a:pt x="919" y="1032"/>
                  </a:lnTo>
                  <a:lnTo>
                    <a:pt x="920" y="1035"/>
                  </a:lnTo>
                  <a:lnTo>
                    <a:pt x="923" y="1043"/>
                  </a:lnTo>
                  <a:lnTo>
                    <a:pt x="929" y="1055"/>
                  </a:lnTo>
                  <a:lnTo>
                    <a:pt x="937" y="1068"/>
                  </a:lnTo>
                  <a:lnTo>
                    <a:pt x="947" y="1083"/>
                  </a:lnTo>
                  <a:lnTo>
                    <a:pt x="961" y="1097"/>
                  </a:lnTo>
                  <a:lnTo>
                    <a:pt x="978" y="1109"/>
                  </a:lnTo>
                  <a:lnTo>
                    <a:pt x="996" y="1118"/>
                  </a:lnTo>
                  <a:lnTo>
                    <a:pt x="1015" y="1123"/>
                  </a:lnTo>
                  <a:lnTo>
                    <a:pt x="1032" y="1127"/>
                  </a:lnTo>
                  <a:lnTo>
                    <a:pt x="1047" y="1130"/>
                  </a:lnTo>
                  <a:lnTo>
                    <a:pt x="1059" y="1132"/>
                  </a:lnTo>
                  <a:lnTo>
                    <a:pt x="1068" y="1132"/>
                  </a:lnTo>
                  <a:lnTo>
                    <a:pt x="1075" y="1133"/>
                  </a:lnTo>
                  <a:lnTo>
                    <a:pt x="1080" y="1133"/>
                  </a:lnTo>
                  <a:lnTo>
                    <a:pt x="1081" y="1133"/>
                  </a:lnTo>
                  <a:lnTo>
                    <a:pt x="1104" y="1156"/>
                  </a:lnTo>
                  <a:lnTo>
                    <a:pt x="1107" y="1153"/>
                  </a:lnTo>
                  <a:lnTo>
                    <a:pt x="1115" y="1144"/>
                  </a:lnTo>
                  <a:lnTo>
                    <a:pt x="1127" y="1132"/>
                  </a:lnTo>
                  <a:lnTo>
                    <a:pt x="1142" y="1117"/>
                  </a:lnTo>
                  <a:lnTo>
                    <a:pt x="1160" y="1102"/>
                  </a:lnTo>
                  <a:lnTo>
                    <a:pt x="1178" y="1088"/>
                  </a:lnTo>
                  <a:lnTo>
                    <a:pt x="1199" y="1077"/>
                  </a:lnTo>
                  <a:lnTo>
                    <a:pt x="1218" y="1071"/>
                  </a:lnTo>
                  <a:lnTo>
                    <a:pt x="1241" y="1068"/>
                  </a:lnTo>
                  <a:lnTo>
                    <a:pt x="1265" y="1067"/>
                  </a:lnTo>
                  <a:lnTo>
                    <a:pt x="1289" y="1065"/>
                  </a:lnTo>
                  <a:lnTo>
                    <a:pt x="1313" y="1065"/>
                  </a:lnTo>
                  <a:lnTo>
                    <a:pt x="1333" y="1064"/>
                  </a:lnTo>
                  <a:lnTo>
                    <a:pt x="1351" y="1064"/>
                  </a:lnTo>
                  <a:lnTo>
                    <a:pt x="1362" y="1064"/>
                  </a:lnTo>
                  <a:lnTo>
                    <a:pt x="1366" y="1064"/>
                  </a:lnTo>
                  <a:lnTo>
                    <a:pt x="1368" y="1059"/>
                  </a:lnTo>
                  <a:lnTo>
                    <a:pt x="1372" y="1049"/>
                  </a:lnTo>
                  <a:lnTo>
                    <a:pt x="1372" y="1034"/>
                  </a:lnTo>
                  <a:lnTo>
                    <a:pt x="1366" y="1017"/>
                  </a:lnTo>
                  <a:lnTo>
                    <a:pt x="1360" y="1008"/>
                  </a:lnTo>
                  <a:lnTo>
                    <a:pt x="1352" y="999"/>
                  </a:lnTo>
                  <a:lnTo>
                    <a:pt x="1343" y="992"/>
                  </a:lnTo>
                  <a:lnTo>
                    <a:pt x="1336" y="984"/>
                  </a:lnTo>
                  <a:lnTo>
                    <a:pt x="1330" y="980"/>
                  </a:lnTo>
                  <a:lnTo>
                    <a:pt x="1324" y="975"/>
                  </a:lnTo>
                  <a:lnTo>
                    <a:pt x="1321" y="972"/>
                  </a:lnTo>
                  <a:lnTo>
                    <a:pt x="1319" y="971"/>
                  </a:lnTo>
                  <a:lnTo>
                    <a:pt x="1322" y="971"/>
                  </a:lnTo>
                  <a:lnTo>
                    <a:pt x="1328" y="971"/>
                  </a:lnTo>
                  <a:lnTo>
                    <a:pt x="1336" y="969"/>
                  </a:lnTo>
                  <a:lnTo>
                    <a:pt x="1345" y="966"/>
                  </a:lnTo>
                  <a:lnTo>
                    <a:pt x="1354" y="963"/>
                  </a:lnTo>
                  <a:lnTo>
                    <a:pt x="1362" y="959"/>
                  </a:lnTo>
                  <a:lnTo>
                    <a:pt x="1366" y="951"/>
                  </a:lnTo>
                  <a:lnTo>
                    <a:pt x="1366" y="940"/>
                  </a:lnTo>
                  <a:lnTo>
                    <a:pt x="1357" y="913"/>
                  </a:lnTo>
                  <a:lnTo>
                    <a:pt x="1346" y="886"/>
                  </a:lnTo>
                  <a:lnTo>
                    <a:pt x="1337" y="864"/>
                  </a:lnTo>
                  <a:lnTo>
                    <a:pt x="1334" y="855"/>
                  </a:lnTo>
                  <a:lnTo>
                    <a:pt x="1381" y="825"/>
                  </a:lnTo>
                  <a:lnTo>
                    <a:pt x="1381" y="835"/>
                  </a:lnTo>
                  <a:lnTo>
                    <a:pt x="1386" y="858"/>
                  </a:lnTo>
                  <a:lnTo>
                    <a:pt x="1393" y="883"/>
                  </a:lnTo>
                  <a:lnTo>
                    <a:pt x="1411" y="901"/>
                  </a:lnTo>
                  <a:lnTo>
                    <a:pt x="1423" y="906"/>
                  </a:lnTo>
                  <a:lnTo>
                    <a:pt x="1438" y="907"/>
                  </a:lnTo>
                  <a:lnTo>
                    <a:pt x="1452" y="907"/>
                  </a:lnTo>
                  <a:lnTo>
                    <a:pt x="1465" y="907"/>
                  </a:lnTo>
                  <a:lnTo>
                    <a:pt x="1479" y="906"/>
                  </a:lnTo>
                  <a:lnTo>
                    <a:pt x="1488" y="903"/>
                  </a:lnTo>
                  <a:lnTo>
                    <a:pt x="1494" y="901"/>
                  </a:lnTo>
                  <a:lnTo>
                    <a:pt x="1497" y="901"/>
                  </a:lnTo>
                  <a:lnTo>
                    <a:pt x="1496" y="901"/>
                  </a:lnTo>
                  <a:lnTo>
                    <a:pt x="1491" y="904"/>
                  </a:lnTo>
                  <a:lnTo>
                    <a:pt x="1491" y="913"/>
                  </a:lnTo>
                  <a:lnTo>
                    <a:pt x="1497" y="931"/>
                  </a:lnTo>
                  <a:lnTo>
                    <a:pt x="1505" y="942"/>
                  </a:lnTo>
                  <a:lnTo>
                    <a:pt x="1514" y="950"/>
                  </a:lnTo>
                  <a:lnTo>
                    <a:pt x="1523" y="956"/>
                  </a:lnTo>
                  <a:lnTo>
                    <a:pt x="1533" y="959"/>
                  </a:lnTo>
                  <a:lnTo>
                    <a:pt x="1544" y="962"/>
                  </a:lnTo>
                  <a:lnTo>
                    <a:pt x="1551" y="963"/>
                  </a:lnTo>
                  <a:lnTo>
                    <a:pt x="1557" y="963"/>
                  </a:lnTo>
                  <a:lnTo>
                    <a:pt x="1559" y="963"/>
                  </a:lnTo>
                  <a:lnTo>
                    <a:pt x="1560" y="962"/>
                  </a:lnTo>
                  <a:lnTo>
                    <a:pt x="1563" y="959"/>
                  </a:lnTo>
                  <a:lnTo>
                    <a:pt x="1569" y="954"/>
                  </a:lnTo>
                  <a:lnTo>
                    <a:pt x="1578" y="948"/>
                  </a:lnTo>
                  <a:lnTo>
                    <a:pt x="1589" y="940"/>
                  </a:lnTo>
                  <a:lnTo>
                    <a:pt x="1604" y="930"/>
                  </a:lnTo>
                  <a:lnTo>
                    <a:pt x="1622" y="921"/>
                  </a:lnTo>
                  <a:lnTo>
                    <a:pt x="1643" y="909"/>
                  </a:lnTo>
                  <a:lnTo>
                    <a:pt x="1669" y="898"/>
                  </a:lnTo>
                  <a:lnTo>
                    <a:pt x="1696" y="888"/>
                  </a:lnTo>
                  <a:lnTo>
                    <a:pt x="1724" y="879"/>
                  </a:lnTo>
                  <a:lnTo>
                    <a:pt x="1752" y="870"/>
                  </a:lnTo>
                  <a:lnTo>
                    <a:pt x="1776" y="864"/>
                  </a:lnTo>
                  <a:lnTo>
                    <a:pt x="1795" y="859"/>
                  </a:lnTo>
                  <a:lnTo>
                    <a:pt x="1809" y="856"/>
                  </a:lnTo>
                  <a:lnTo>
                    <a:pt x="1813" y="855"/>
                  </a:lnTo>
                  <a:lnTo>
                    <a:pt x="1836" y="438"/>
                  </a:lnTo>
                  <a:lnTo>
                    <a:pt x="1834" y="435"/>
                  </a:lnTo>
                  <a:lnTo>
                    <a:pt x="1828" y="429"/>
                  </a:lnTo>
                  <a:lnTo>
                    <a:pt x="1821" y="417"/>
                  </a:lnTo>
                  <a:lnTo>
                    <a:pt x="1810" y="403"/>
                  </a:lnTo>
                  <a:lnTo>
                    <a:pt x="1797" y="385"/>
                  </a:lnTo>
                  <a:lnTo>
                    <a:pt x="1782" y="365"/>
                  </a:lnTo>
                  <a:lnTo>
                    <a:pt x="1764" y="344"/>
                  </a:lnTo>
                  <a:lnTo>
                    <a:pt x="1744" y="322"/>
                  </a:lnTo>
                  <a:lnTo>
                    <a:pt x="1724" y="299"/>
                  </a:lnTo>
                  <a:lnTo>
                    <a:pt x="1702" y="278"/>
                  </a:lnTo>
                  <a:lnTo>
                    <a:pt x="1681" y="257"/>
                  </a:lnTo>
                  <a:lnTo>
                    <a:pt x="1657" y="236"/>
                  </a:lnTo>
                  <a:lnTo>
                    <a:pt x="1634" y="218"/>
                  </a:lnTo>
                  <a:lnTo>
                    <a:pt x="1611" y="203"/>
                  </a:lnTo>
                  <a:lnTo>
                    <a:pt x="1589" y="191"/>
                  </a:lnTo>
                  <a:lnTo>
                    <a:pt x="1566" y="183"/>
                  </a:lnTo>
                  <a:lnTo>
                    <a:pt x="1526" y="174"/>
                  </a:lnTo>
                  <a:lnTo>
                    <a:pt x="1493" y="168"/>
                  </a:lnTo>
                  <a:lnTo>
                    <a:pt x="1467" y="165"/>
                  </a:lnTo>
                  <a:lnTo>
                    <a:pt x="1446" y="164"/>
                  </a:lnTo>
                  <a:lnTo>
                    <a:pt x="1429" y="165"/>
                  </a:lnTo>
                  <a:lnTo>
                    <a:pt x="1419" y="167"/>
                  </a:lnTo>
                  <a:lnTo>
                    <a:pt x="1413" y="168"/>
                  </a:lnTo>
                  <a:lnTo>
                    <a:pt x="1411" y="168"/>
                  </a:lnTo>
                  <a:lnTo>
                    <a:pt x="1410" y="167"/>
                  </a:lnTo>
                  <a:lnTo>
                    <a:pt x="1404" y="162"/>
                  </a:lnTo>
                  <a:lnTo>
                    <a:pt x="1393" y="155"/>
                  </a:lnTo>
                  <a:lnTo>
                    <a:pt x="1377" y="147"/>
                  </a:lnTo>
                  <a:lnTo>
                    <a:pt x="1354" y="138"/>
                  </a:lnTo>
                  <a:lnTo>
                    <a:pt x="1324" y="129"/>
                  </a:lnTo>
                  <a:lnTo>
                    <a:pt x="1288" y="120"/>
                  </a:lnTo>
                  <a:lnTo>
                    <a:pt x="1243" y="114"/>
                  </a:lnTo>
                  <a:lnTo>
                    <a:pt x="1196" y="111"/>
                  </a:lnTo>
                  <a:lnTo>
                    <a:pt x="1155" y="113"/>
                  </a:lnTo>
                  <a:lnTo>
                    <a:pt x="1121" y="119"/>
                  </a:lnTo>
                  <a:lnTo>
                    <a:pt x="1092" y="126"/>
                  </a:lnTo>
                  <a:lnTo>
                    <a:pt x="1069" y="137"/>
                  </a:lnTo>
                  <a:lnTo>
                    <a:pt x="1051" y="147"/>
                  </a:lnTo>
                  <a:lnTo>
                    <a:pt x="1041" y="158"/>
                  </a:lnTo>
                  <a:lnTo>
                    <a:pt x="1035" y="168"/>
                  </a:lnTo>
                  <a:lnTo>
                    <a:pt x="1032" y="170"/>
                  </a:lnTo>
                  <a:lnTo>
                    <a:pt x="1027" y="168"/>
                  </a:lnTo>
                  <a:lnTo>
                    <a:pt x="1021" y="164"/>
                  </a:lnTo>
                  <a:lnTo>
                    <a:pt x="1014" y="156"/>
                  </a:lnTo>
                  <a:lnTo>
                    <a:pt x="1003" y="146"/>
                  </a:lnTo>
                  <a:lnTo>
                    <a:pt x="991" y="132"/>
                  </a:lnTo>
                  <a:lnTo>
                    <a:pt x="978" y="119"/>
                  </a:lnTo>
                  <a:lnTo>
                    <a:pt x="962" y="104"/>
                  </a:lnTo>
                  <a:lnTo>
                    <a:pt x="944" y="89"/>
                  </a:lnTo>
                  <a:lnTo>
                    <a:pt x="926" y="73"/>
                  </a:lnTo>
                  <a:lnTo>
                    <a:pt x="905" y="58"/>
                  </a:lnTo>
                  <a:lnTo>
                    <a:pt x="884" y="43"/>
                  </a:lnTo>
                  <a:lnTo>
                    <a:pt x="860" y="31"/>
                  </a:lnTo>
                  <a:lnTo>
                    <a:pt x="834" y="21"/>
                  </a:lnTo>
                  <a:lnTo>
                    <a:pt x="809" y="12"/>
                  </a:lnTo>
                  <a:lnTo>
                    <a:pt x="780" y="6"/>
                  </a:lnTo>
                  <a:lnTo>
                    <a:pt x="752" y="3"/>
                  </a:lnTo>
                  <a:lnTo>
                    <a:pt x="725" y="0"/>
                  </a:lnTo>
                  <a:lnTo>
                    <a:pt x="699" y="0"/>
                  </a:lnTo>
                  <a:lnTo>
                    <a:pt x="673" y="0"/>
                  </a:lnTo>
                  <a:lnTo>
                    <a:pt x="651" y="1"/>
                  </a:lnTo>
                  <a:lnTo>
                    <a:pt x="628" y="3"/>
                  </a:lnTo>
                  <a:lnTo>
                    <a:pt x="609" y="6"/>
                  </a:lnTo>
                  <a:lnTo>
                    <a:pt x="591" y="9"/>
                  </a:lnTo>
                  <a:lnTo>
                    <a:pt x="574" y="12"/>
                  </a:lnTo>
                  <a:lnTo>
                    <a:pt x="559" y="15"/>
                  </a:lnTo>
                  <a:lnTo>
                    <a:pt x="547" y="18"/>
                  </a:lnTo>
                  <a:lnTo>
                    <a:pt x="536" y="22"/>
                  </a:lnTo>
                  <a:lnTo>
                    <a:pt x="527" y="24"/>
                  </a:lnTo>
                  <a:lnTo>
                    <a:pt x="521" y="27"/>
                  </a:lnTo>
                  <a:lnTo>
                    <a:pt x="518" y="28"/>
                  </a:lnTo>
                  <a:lnTo>
                    <a:pt x="517" y="28"/>
                  </a:lnTo>
                  <a:lnTo>
                    <a:pt x="511" y="30"/>
                  </a:lnTo>
                  <a:lnTo>
                    <a:pt x="493" y="34"/>
                  </a:lnTo>
                  <a:lnTo>
                    <a:pt x="469" y="42"/>
                  </a:lnTo>
                  <a:lnTo>
                    <a:pt x="438" y="52"/>
                  </a:lnTo>
                  <a:lnTo>
                    <a:pt x="407" y="69"/>
                  </a:lnTo>
                  <a:lnTo>
                    <a:pt x="377" y="90"/>
                  </a:lnTo>
                  <a:lnTo>
                    <a:pt x="351" y="119"/>
                  </a:lnTo>
                  <a:lnTo>
                    <a:pt x="331" y="152"/>
                  </a:lnTo>
                  <a:lnTo>
                    <a:pt x="315" y="212"/>
                  </a:lnTo>
                  <a:lnTo>
                    <a:pt x="318" y="248"/>
                  </a:lnTo>
                  <a:lnTo>
                    <a:pt x="325" y="263"/>
                  </a:lnTo>
                  <a:lnTo>
                    <a:pt x="331" y="268"/>
                  </a:lnTo>
                  <a:lnTo>
                    <a:pt x="327" y="269"/>
                  </a:lnTo>
                  <a:lnTo>
                    <a:pt x="313" y="271"/>
                  </a:lnTo>
                  <a:lnTo>
                    <a:pt x="295" y="277"/>
                  </a:lnTo>
                  <a:lnTo>
                    <a:pt x="273" y="284"/>
                  </a:lnTo>
                  <a:lnTo>
                    <a:pt x="247" y="295"/>
                  </a:lnTo>
                  <a:lnTo>
                    <a:pt x="222" y="308"/>
                  </a:lnTo>
                  <a:lnTo>
                    <a:pt x="197" y="325"/>
                  </a:lnTo>
                  <a:lnTo>
                    <a:pt x="178" y="346"/>
                  </a:lnTo>
                  <a:lnTo>
                    <a:pt x="163" y="370"/>
                  </a:lnTo>
                  <a:lnTo>
                    <a:pt x="149" y="393"/>
                  </a:lnTo>
                  <a:lnTo>
                    <a:pt x="140" y="415"/>
                  </a:lnTo>
                  <a:lnTo>
                    <a:pt x="133" y="435"/>
                  </a:lnTo>
                  <a:lnTo>
                    <a:pt x="128" y="451"/>
                  </a:lnTo>
                  <a:lnTo>
                    <a:pt x="125" y="465"/>
                  </a:lnTo>
                  <a:lnTo>
                    <a:pt x="124" y="474"/>
                  </a:lnTo>
                  <a:lnTo>
                    <a:pt x="124" y="477"/>
                  </a:lnTo>
                  <a:lnTo>
                    <a:pt x="121" y="478"/>
                  </a:lnTo>
                  <a:lnTo>
                    <a:pt x="110" y="480"/>
                  </a:lnTo>
                  <a:lnTo>
                    <a:pt x="95" y="486"/>
                  </a:lnTo>
                  <a:lnTo>
                    <a:pt x="77" y="493"/>
                  </a:lnTo>
                  <a:lnTo>
                    <a:pt x="57" y="505"/>
                  </a:lnTo>
                  <a:lnTo>
                    <a:pt x="38" y="522"/>
                  </a:lnTo>
                  <a:lnTo>
                    <a:pt x="21" y="543"/>
                  </a:lnTo>
                  <a:lnTo>
                    <a:pt x="8" y="569"/>
                  </a:lnTo>
                  <a:lnTo>
                    <a:pt x="0" y="599"/>
                  </a:lnTo>
                  <a:lnTo>
                    <a:pt x="0" y="627"/>
                  </a:lnTo>
                  <a:lnTo>
                    <a:pt x="6" y="654"/>
                  </a:lnTo>
                  <a:lnTo>
                    <a:pt x="15" y="679"/>
                  </a:lnTo>
                  <a:lnTo>
                    <a:pt x="26" y="701"/>
                  </a:lnTo>
                  <a:lnTo>
                    <a:pt x="36" y="716"/>
                  </a:lnTo>
                  <a:lnTo>
                    <a:pt x="44" y="727"/>
                  </a:lnTo>
                  <a:lnTo>
                    <a:pt x="47" y="731"/>
                  </a:lnTo>
                  <a:lnTo>
                    <a:pt x="53" y="740"/>
                  </a:lnTo>
                  <a:lnTo>
                    <a:pt x="66" y="764"/>
                  </a:lnTo>
                  <a:lnTo>
                    <a:pt x="79" y="800"/>
                  </a:lnTo>
                  <a:lnTo>
                    <a:pt x="85" y="840"/>
                  </a:lnTo>
                  <a:lnTo>
                    <a:pt x="91" y="862"/>
                  </a:lnTo>
                  <a:lnTo>
                    <a:pt x="107" y="885"/>
                  </a:lnTo>
                  <a:lnTo>
                    <a:pt x="131" y="910"/>
                  </a:lnTo>
                  <a:lnTo>
                    <a:pt x="158" y="933"/>
                  </a:lnTo>
                  <a:lnTo>
                    <a:pt x="185" y="954"/>
                  </a:lnTo>
                  <a:lnTo>
                    <a:pt x="210" y="971"/>
                  </a:lnTo>
                  <a:lnTo>
                    <a:pt x="226" y="981"/>
                  </a:lnTo>
                  <a:lnTo>
                    <a:pt x="232" y="986"/>
                  </a:lnTo>
                  <a:lnTo>
                    <a:pt x="231" y="995"/>
                  </a:lnTo>
                  <a:lnTo>
                    <a:pt x="228" y="1017"/>
                  </a:lnTo>
                  <a:lnTo>
                    <a:pt x="232" y="1055"/>
                  </a:lnTo>
                  <a:lnTo>
                    <a:pt x="247" y="1102"/>
                  </a:lnTo>
                  <a:lnTo>
                    <a:pt x="258" y="1124"/>
                  </a:lnTo>
                  <a:lnTo>
                    <a:pt x="265" y="1142"/>
                  </a:lnTo>
                  <a:lnTo>
                    <a:pt x="273" y="1156"/>
                  </a:lnTo>
                  <a:lnTo>
                    <a:pt x="282" y="1166"/>
                  </a:lnTo>
                  <a:lnTo>
                    <a:pt x="294" y="1175"/>
                  </a:lnTo>
                  <a:lnTo>
                    <a:pt x="310" y="1183"/>
                  </a:lnTo>
                  <a:lnTo>
                    <a:pt x="333" y="1192"/>
                  </a:lnTo>
                  <a:lnTo>
                    <a:pt x="363" y="1202"/>
                  </a:lnTo>
                  <a:lnTo>
                    <a:pt x="396" y="1211"/>
                  </a:lnTo>
                  <a:lnTo>
                    <a:pt x="426" y="1216"/>
                  </a:lnTo>
                  <a:lnTo>
                    <a:pt x="452" y="1217"/>
                  </a:lnTo>
                  <a:lnTo>
                    <a:pt x="475" y="1217"/>
                  </a:lnTo>
                  <a:lnTo>
                    <a:pt x="493" y="1216"/>
                  </a:lnTo>
                  <a:lnTo>
                    <a:pt x="506" y="1213"/>
                  </a:lnTo>
                  <a:lnTo>
                    <a:pt x="514" y="1211"/>
                  </a:lnTo>
                  <a:lnTo>
                    <a:pt x="517" y="1210"/>
                  </a:lnTo>
                  <a:lnTo>
                    <a:pt x="515" y="1210"/>
                  </a:lnTo>
                  <a:lnTo>
                    <a:pt x="512" y="1211"/>
                  </a:lnTo>
                  <a:lnTo>
                    <a:pt x="509" y="1213"/>
                  </a:lnTo>
                  <a:lnTo>
                    <a:pt x="506" y="1216"/>
                  </a:lnTo>
                  <a:lnTo>
                    <a:pt x="508" y="1220"/>
                  </a:lnTo>
                  <a:lnTo>
                    <a:pt x="514" y="1226"/>
                  </a:lnTo>
                  <a:lnTo>
                    <a:pt x="527" y="1234"/>
                  </a:lnTo>
                  <a:lnTo>
                    <a:pt x="548" y="1242"/>
                  </a:lnTo>
                  <a:lnTo>
                    <a:pt x="574" y="1248"/>
                  </a:lnTo>
                  <a:lnTo>
                    <a:pt x="600" y="1249"/>
                  </a:lnTo>
                  <a:lnTo>
                    <a:pt x="622" y="1249"/>
                  </a:lnTo>
                  <a:lnTo>
                    <a:pt x="643" y="1246"/>
                  </a:lnTo>
                  <a:lnTo>
                    <a:pt x="661" y="1242"/>
                  </a:lnTo>
                  <a:lnTo>
                    <a:pt x="675" y="1237"/>
                  </a:lnTo>
                  <a:lnTo>
                    <a:pt x="684" y="1234"/>
                  </a:lnTo>
                  <a:lnTo>
                    <a:pt x="687" y="123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958680" y="1700280"/>
              <a:ext cx="2816280" cy="1863720"/>
            </a:xfrm>
            <a:custGeom>
              <a:avLst/>
              <a:gdLst/>
              <a:ahLst/>
              <a:rect l="l" t="t" r="r" b="b"/>
              <a:pathLst>
                <a:path w="1774" h="1174">
                  <a:moveTo>
                    <a:pt x="664" y="1159"/>
                  </a:moveTo>
                  <a:lnTo>
                    <a:pt x="844" y="1151"/>
                  </a:lnTo>
                  <a:lnTo>
                    <a:pt x="847" y="1148"/>
                  </a:lnTo>
                  <a:lnTo>
                    <a:pt x="853" y="1142"/>
                  </a:lnTo>
                  <a:lnTo>
                    <a:pt x="862" y="1132"/>
                  </a:lnTo>
                  <a:lnTo>
                    <a:pt x="872" y="1118"/>
                  </a:lnTo>
                  <a:lnTo>
                    <a:pt x="881" y="1103"/>
                  </a:lnTo>
                  <a:lnTo>
                    <a:pt x="890" y="1088"/>
                  </a:lnTo>
                  <a:lnTo>
                    <a:pt x="895" y="1073"/>
                  </a:lnTo>
                  <a:lnTo>
                    <a:pt x="895" y="1058"/>
                  </a:lnTo>
                  <a:lnTo>
                    <a:pt x="887" y="1035"/>
                  </a:lnTo>
                  <a:lnTo>
                    <a:pt x="877" y="1019"/>
                  </a:lnTo>
                  <a:lnTo>
                    <a:pt x="868" y="1010"/>
                  </a:lnTo>
                  <a:lnTo>
                    <a:pt x="865" y="1007"/>
                  </a:lnTo>
                  <a:lnTo>
                    <a:pt x="887" y="971"/>
                  </a:lnTo>
                  <a:lnTo>
                    <a:pt x="889" y="974"/>
                  </a:lnTo>
                  <a:lnTo>
                    <a:pt x="892" y="981"/>
                  </a:lnTo>
                  <a:lnTo>
                    <a:pt x="898" y="992"/>
                  </a:lnTo>
                  <a:lnTo>
                    <a:pt x="905" y="1005"/>
                  </a:lnTo>
                  <a:lnTo>
                    <a:pt x="916" y="1019"/>
                  </a:lnTo>
                  <a:lnTo>
                    <a:pt x="928" y="1031"/>
                  </a:lnTo>
                  <a:lnTo>
                    <a:pt x="945" y="1043"/>
                  </a:lnTo>
                  <a:lnTo>
                    <a:pt x="963" y="1050"/>
                  </a:lnTo>
                  <a:lnTo>
                    <a:pt x="981" y="1055"/>
                  </a:lnTo>
                  <a:lnTo>
                    <a:pt x="997" y="1058"/>
                  </a:lnTo>
                  <a:lnTo>
                    <a:pt x="1011" y="1061"/>
                  </a:lnTo>
                  <a:lnTo>
                    <a:pt x="1023" y="1063"/>
                  </a:lnTo>
                  <a:lnTo>
                    <a:pt x="1032" y="1064"/>
                  </a:lnTo>
                  <a:lnTo>
                    <a:pt x="1038" y="1064"/>
                  </a:lnTo>
                  <a:lnTo>
                    <a:pt x="1042" y="1064"/>
                  </a:lnTo>
                  <a:lnTo>
                    <a:pt x="1044" y="1064"/>
                  </a:lnTo>
                  <a:lnTo>
                    <a:pt x="1066" y="1087"/>
                  </a:lnTo>
                  <a:lnTo>
                    <a:pt x="1069" y="1084"/>
                  </a:lnTo>
                  <a:lnTo>
                    <a:pt x="1077" y="1075"/>
                  </a:lnTo>
                  <a:lnTo>
                    <a:pt x="1088" y="1064"/>
                  </a:lnTo>
                  <a:lnTo>
                    <a:pt x="1103" y="1049"/>
                  </a:lnTo>
                  <a:lnTo>
                    <a:pt x="1121" y="1035"/>
                  </a:lnTo>
                  <a:lnTo>
                    <a:pt x="1139" y="1022"/>
                  </a:lnTo>
                  <a:lnTo>
                    <a:pt x="1158" y="1013"/>
                  </a:lnTo>
                  <a:lnTo>
                    <a:pt x="1178" y="1007"/>
                  </a:lnTo>
                  <a:lnTo>
                    <a:pt x="1199" y="1004"/>
                  </a:lnTo>
                  <a:lnTo>
                    <a:pt x="1222" y="1002"/>
                  </a:lnTo>
                  <a:lnTo>
                    <a:pt x="1246" y="1001"/>
                  </a:lnTo>
                  <a:lnTo>
                    <a:pt x="1268" y="1001"/>
                  </a:lnTo>
                  <a:lnTo>
                    <a:pt x="1288" y="999"/>
                  </a:lnTo>
                  <a:lnTo>
                    <a:pt x="1304" y="999"/>
                  </a:lnTo>
                  <a:lnTo>
                    <a:pt x="1315" y="999"/>
                  </a:lnTo>
                  <a:lnTo>
                    <a:pt x="1319" y="999"/>
                  </a:lnTo>
                  <a:lnTo>
                    <a:pt x="1321" y="996"/>
                  </a:lnTo>
                  <a:lnTo>
                    <a:pt x="1325" y="986"/>
                  </a:lnTo>
                  <a:lnTo>
                    <a:pt x="1325" y="972"/>
                  </a:lnTo>
                  <a:lnTo>
                    <a:pt x="1319" y="956"/>
                  </a:lnTo>
                  <a:lnTo>
                    <a:pt x="1313" y="948"/>
                  </a:lnTo>
                  <a:lnTo>
                    <a:pt x="1306" y="941"/>
                  </a:lnTo>
                  <a:lnTo>
                    <a:pt x="1298" y="933"/>
                  </a:lnTo>
                  <a:lnTo>
                    <a:pt x="1291" y="926"/>
                  </a:lnTo>
                  <a:lnTo>
                    <a:pt x="1285" y="920"/>
                  </a:lnTo>
                  <a:lnTo>
                    <a:pt x="1279" y="917"/>
                  </a:lnTo>
                  <a:lnTo>
                    <a:pt x="1276" y="914"/>
                  </a:lnTo>
                  <a:lnTo>
                    <a:pt x="1274" y="912"/>
                  </a:lnTo>
                  <a:lnTo>
                    <a:pt x="1276" y="912"/>
                  </a:lnTo>
                  <a:lnTo>
                    <a:pt x="1282" y="912"/>
                  </a:lnTo>
                  <a:lnTo>
                    <a:pt x="1291" y="911"/>
                  </a:lnTo>
                  <a:lnTo>
                    <a:pt x="1300" y="909"/>
                  </a:lnTo>
                  <a:lnTo>
                    <a:pt x="1309" y="904"/>
                  </a:lnTo>
                  <a:lnTo>
                    <a:pt x="1315" y="900"/>
                  </a:lnTo>
                  <a:lnTo>
                    <a:pt x="1319" y="892"/>
                  </a:lnTo>
                  <a:lnTo>
                    <a:pt x="1319" y="883"/>
                  </a:lnTo>
                  <a:lnTo>
                    <a:pt x="1312" y="859"/>
                  </a:lnTo>
                  <a:lnTo>
                    <a:pt x="1301" y="832"/>
                  </a:lnTo>
                  <a:lnTo>
                    <a:pt x="1292" y="813"/>
                  </a:lnTo>
                  <a:lnTo>
                    <a:pt x="1289" y="804"/>
                  </a:lnTo>
                  <a:lnTo>
                    <a:pt x="1335" y="775"/>
                  </a:lnTo>
                  <a:lnTo>
                    <a:pt x="1335" y="784"/>
                  </a:lnTo>
                  <a:lnTo>
                    <a:pt x="1338" y="805"/>
                  </a:lnTo>
                  <a:lnTo>
                    <a:pt x="1347" y="829"/>
                  </a:lnTo>
                  <a:lnTo>
                    <a:pt x="1363" y="847"/>
                  </a:lnTo>
                  <a:lnTo>
                    <a:pt x="1375" y="852"/>
                  </a:lnTo>
                  <a:lnTo>
                    <a:pt x="1389" y="853"/>
                  </a:lnTo>
                  <a:lnTo>
                    <a:pt x="1402" y="853"/>
                  </a:lnTo>
                  <a:lnTo>
                    <a:pt x="1416" y="853"/>
                  </a:lnTo>
                  <a:lnTo>
                    <a:pt x="1428" y="852"/>
                  </a:lnTo>
                  <a:lnTo>
                    <a:pt x="1437" y="849"/>
                  </a:lnTo>
                  <a:lnTo>
                    <a:pt x="1443" y="847"/>
                  </a:lnTo>
                  <a:lnTo>
                    <a:pt x="1446" y="847"/>
                  </a:lnTo>
                  <a:lnTo>
                    <a:pt x="1444" y="847"/>
                  </a:lnTo>
                  <a:lnTo>
                    <a:pt x="1440" y="850"/>
                  </a:lnTo>
                  <a:lnTo>
                    <a:pt x="1440" y="859"/>
                  </a:lnTo>
                  <a:lnTo>
                    <a:pt x="1446" y="876"/>
                  </a:lnTo>
                  <a:lnTo>
                    <a:pt x="1453" y="885"/>
                  </a:lnTo>
                  <a:lnTo>
                    <a:pt x="1461" y="892"/>
                  </a:lnTo>
                  <a:lnTo>
                    <a:pt x="1472" y="897"/>
                  </a:lnTo>
                  <a:lnTo>
                    <a:pt x="1482" y="901"/>
                  </a:lnTo>
                  <a:lnTo>
                    <a:pt x="1491" y="903"/>
                  </a:lnTo>
                  <a:lnTo>
                    <a:pt x="1499" y="904"/>
                  </a:lnTo>
                  <a:lnTo>
                    <a:pt x="1505" y="904"/>
                  </a:lnTo>
                  <a:lnTo>
                    <a:pt x="1506" y="904"/>
                  </a:lnTo>
                  <a:lnTo>
                    <a:pt x="1508" y="903"/>
                  </a:lnTo>
                  <a:lnTo>
                    <a:pt x="1511" y="901"/>
                  </a:lnTo>
                  <a:lnTo>
                    <a:pt x="1517" y="897"/>
                  </a:lnTo>
                  <a:lnTo>
                    <a:pt x="1524" y="891"/>
                  </a:lnTo>
                  <a:lnTo>
                    <a:pt x="1535" y="883"/>
                  </a:lnTo>
                  <a:lnTo>
                    <a:pt x="1550" y="874"/>
                  </a:lnTo>
                  <a:lnTo>
                    <a:pt x="1566" y="865"/>
                  </a:lnTo>
                  <a:lnTo>
                    <a:pt x="1588" y="855"/>
                  </a:lnTo>
                  <a:lnTo>
                    <a:pt x="1612" y="844"/>
                  </a:lnTo>
                  <a:lnTo>
                    <a:pt x="1639" y="834"/>
                  </a:lnTo>
                  <a:lnTo>
                    <a:pt x="1666" y="825"/>
                  </a:lnTo>
                  <a:lnTo>
                    <a:pt x="1693" y="817"/>
                  </a:lnTo>
                  <a:lnTo>
                    <a:pt x="1716" y="811"/>
                  </a:lnTo>
                  <a:lnTo>
                    <a:pt x="1735" y="807"/>
                  </a:lnTo>
                  <a:lnTo>
                    <a:pt x="1747" y="805"/>
                  </a:lnTo>
                  <a:lnTo>
                    <a:pt x="1752" y="804"/>
                  </a:lnTo>
                  <a:lnTo>
                    <a:pt x="1774" y="412"/>
                  </a:lnTo>
                  <a:lnTo>
                    <a:pt x="1773" y="409"/>
                  </a:lnTo>
                  <a:lnTo>
                    <a:pt x="1768" y="403"/>
                  </a:lnTo>
                  <a:lnTo>
                    <a:pt x="1759" y="393"/>
                  </a:lnTo>
                  <a:lnTo>
                    <a:pt x="1749" y="379"/>
                  </a:lnTo>
                  <a:lnTo>
                    <a:pt x="1737" y="363"/>
                  </a:lnTo>
                  <a:lnTo>
                    <a:pt x="1722" y="345"/>
                  </a:lnTo>
                  <a:lnTo>
                    <a:pt x="1705" y="323"/>
                  </a:lnTo>
                  <a:lnTo>
                    <a:pt x="1685" y="304"/>
                  </a:lnTo>
                  <a:lnTo>
                    <a:pt x="1666" y="283"/>
                  </a:lnTo>
                  <a:lnTo>
                    <a:pt x="1645" y="262"/>
                  </a:lnTo>
                  <a:lnTo>
                    <a:pt x="1624" y="241"/>
                  </a:lnTo>
                  <a:lnTo>
                    <a:pt x="1601" y="223"/>
                  </a:lnTo>
                  <a:lnTo>
                    <a:pt x="1578" y="206"/>
                  </a:lnTo>
                  <a:lnTo>
                    <a:pt x="1557" y="191"/>
                  </a:lnTo>
                  <a:lnTo>
                    <a:pt x="1535" y="180"/>
                  </a:lnTo>
                  <a:lnTo>
                    <a:pt x="1514" y="173"/>
                  </a:lnTo>
                  <a:lnTo>
                    <a:pt x="1475" y="164"/>
                  </a:lnTo>
                  <a:lnTo>
                    <a:pt x="1443" y="158"/>
                  </a:lnTo>
                  <a:lnTo>
                    <a:pt x="1416" y="155"/>
                  </a:lnTo>
                  <a:lnTo>
                    <a:pt x="1396" y="155"/>
                  </a:lnTo>
                  <a:lnTo>
                    <a:pt x="1381" y="155"/>
                  </a:lnTo>
                  <a:lnTo>
                    <a:pt x="1371" y="156"/>
                  </a:lnTo>
                  <a:lnTo>
                    <a:pt x="1365" y="158"/>
                  </a:lnTo>
                  <a:lnTo>
                    <a:pt x="1363" y="158"/>
                  </a:lnTo>
                  <a:lnTo>
                    <a:pt x="1362" y="156"/>
                  </a:lnTo>
                  <a:lnTo>
                    <a:pt x="1356" y="152"/>
                  </a:lnTo>
                  <a:lnTo>
                    <a:pt x="1345" y="146"/>
                  </a:lnTo>
                  <a:lnTo>
                    <a:pt x="1329" y="138"/>
                  </a:lnTo>
                  <a:lnTo>
                    <a:pt x="1307" y="129"/>
                  </a:lnTo>
                  <a:lnTo>
                    <a:pt x="1279" y="122"/>
                  </a:lnTo>
                  <a:lnTo>
                    <a:pt x="1243" y="114"/>
                  </a:lnTo>
                  <a:lnTo>
                    <a:pt x="1199" y="108"/>
                  </a:lnTo>
                  <a:lnTo>
                    <a:pt x="1155" y="105"/>
                  </a:lnTo>
                  <a:lnTo>
                    <a:pt x="1116" y="107"/>
                  </a:lnTo>
                  <a:lnTo>
                    <a:pt x="1083" y="111"/>
                  </a:lnTo>
                  <a:lnTo>
                    <a:pt x="1056" y="119"/>
                  </a:lnTo>
                  <a:lnTo>
                    <a:pt x="1033" y="129"/>
                  </a:lnTo>
                  <a:lnTo>
                    <a:pt x="1017" y="140"/>
                  </a:lnTo>
                  <a:lnTo>
                    <a:pt x="1006" y="149"/>
                  </a:lnTo>
                  <a:lnTo>
                    <a:pt x="1000" y="158"/>
                  </a:lnTo>
                  <a:lnTo>
                    <a:pt x="997" y="161"/>
                  </a:lnTo>
                  <a:lnTo>
                    <a:pt x="994" y="159"/>
                  </a:lnTo>
                  <a:lnTo>
                    <a:pt x="987" y="155"/>
                  </a:lnTo>
                  <a:lnTo>
                    <a:pt x="979" y="147"/>
                  </a:lnTo>
                  <a:lnTo>
                    <a:pt x="970" y="137"/>
                  </a:lnTo>
                  <a:lnTo>
                    <a:pt x="958" y="126"/>
                  </a:lnTo>
                  <a:lnTo>
                    <a:pt x="945" y="113"/>
                  </a:lnTo>
                  <a:lnTo>
                    <a:pt x="929" y="99"/>
                  </a:lnTo>
                  <a:lnTo>
                    <a:pt x="913" y="84"/>
                  </a:lnTo>
                  <a:lnTo>
                    <a:pt x="895" y="71"/>
                  </a:lnTo>
                  <a:lnTo>
                    <a:pt x="875" y="56"/>
                  </a:lnTo>
                  <a:lnTo>
                    <a:pt x="854" y="42"/>
                  </a:lnTo>
                  <a:lnTo>
                    <a:pt x="830" y="30"/>
                  </a:lnTo>
                  <a:lnTo>
                    <a:pt x="806" y="19"/>
                  </a:lnTo>
                  <a:lnTo>
                    <a:pt x="780" y="12"/>
                  </a:lnTo>
                  <a:lnTo>
                    <a:pt x="753" y="6"/>
                  </a:lnTo>
                  <a:lnTo>
                    <a:pt x="726" y="3"/>
                  </a:lnTo>
                  <a:lnTo>
                    <a:pt x="699" y="1"/>
                  </a:lnTo>
                  <a:lnTo>
                    <a:pt x="675" y="0"/>
                  </a:lnTo>
                  <a:lnTo>
                    <a:pt x="651" y="0"/>
                  </a:lnTo>
                  <a:lnTo>
                    <a:pt x="628" y="1"/>
                  </a:lnTo>
                  <a:lnTo>
                    <a:pt x="607" y="4"/>
                  </a:lnTo>
                  <a:lnTo>
                    <a:pt x="589" y="6"/>
                  </a:lnTo>
                  <a:lnTo>
                    <a:pt x="571" y="9"/>
                  </a:lnTo>
                  <a:lnTo>
                    <a:pt x="554" y="12"/>
                  </a:lnTo>
                  <a:lnTo>
                    <a:pt x="541" y="16"/>
                  </a:lnTo>
                  <a:lnTo>
                    <a:pt x="529" y="19"/>
                  </a:lnTo>
                  <a:lnTo>
                    <a:pt x="518" y="22"/>
                  </a:lnTo>
                  <a:lnTo>
                    <a:pt x="511" y="24"/>
                  </a:lnTo>
                  <a:lnTo>
                    <a:pt x="505" y="27"/>
                  </a:lnTo>
                  <a:lnTo>
                    <a:pt x="502" y="28"/>
                  </a:lnTo>
                  <a:lnTo>
                    <a:pt x="500" y="28"/>
                  </a:lnTo>
                  <a:lnTo>
                    <a:pt x="494" y="30"/>
                  </a:lnTo>
                  <a:lnTo>
                    <a:pt x="478" y="33"/>
                  </a:lnTo>
                  <a:lnTo>
                    <a:pt x="454" y="40"/>
                  </a:lnTo>
                  <a:lnTo>
                    <a:pt x="425" y="51"/>
                  </a:lnTo>
                  <a:lnTo>
                    <a:pt x="395" y="66"/>
                  </a:lnTo>
                  <a:lnTo>
                    <a:pt x="365" y="86"/>
                  </a:lnTo>
                  <a:lnTo>
                    <a:pt x="339" y="113"/>
                  </a:lnTo>
                  <a:lnTo>
                    <a:pt x="321" y="144"/>
                  </a:lnTo>
                  <a:lnTo>
                    <a:pt x="305" y="200"/>
                  </a:lnTo>
                  <a:lnTo>
                    <a:pt x="308" y="233"/>
                  </a:lnTo>
                  <a:lnTo>
                    <a:pt x="315" y="248"/>
                  </a:lnTo>
                  <a:lnTo>
                    <a:pt x="321" y="253"/>
                  </a:lnTo>
                  <a:lnTo>
                    <a:pt x="317" y="254"/>
                  </a:lnTo>
                  <a:lnTo>
                    <a:pt x="305" y="256"/>
                  </a:lnTo>
                  <a:lnTo>
                    <a:pt x="285" y="260"/>
                  </a:lnTo>
                  <a:lnTo>
                    <a:pt x="262" y="268"/>
                  </a:lnTo>
                  <a:lnTo>
                    <a:pt x="238" y="277"/>
                  </a:lnTo>
                  <a:lnTo>
                    <a:pt x="214" y="289"/>
                  </a:lnTo>
                  <a:lnTo>
                    <a:pt x="192" y="305"/>
                  </a:lnTo>
                  <a:lnTo>
                    <a:pt x="172" y="325"/>
                  </a:lnTo>
                  <a:lnTo>
                    <a:pt x="157" y="348"/>
                  </a:lnTo>
                  <a:lnTo>
                    <a:pt x="145" y="369"/>
                  </a:lnTo>
                  <a:lnTo>
                    <a:pt x="136" y="390"/>
                  </a:lnTo>
                  <a:lnTo>
                    <a:pt x="128" y="409"/>
                  </a:lnTo>
                  <a:lnTo>
                    <a:pt x="124" y="424"/>
                  </a:lnTo>
                  <a:lnTo>
                    <a:pt x="121" y="438"/>
                  </a:lnTo>
                  <a:lnTo>
                    <a:pt x="119" y="445"/>
                  </a:lnTo>
                  <a:lnTo>
                    <a:pt x="119" y="448"/>
                  </a:lnTo>
                  <a:lnTo>
                    <a:pt x="116" y="450"/>
                  </a:lnTo>
                  <a:lnTo>
                    <a:pt x="106" y="451"/>
                  </a:lnTo>
                  <a:lnTo>
                    <a:pt x="92" y="457"/>
                  </a:lnTo>
                  <a:lnTo>
                    <a:pt x="76" y="465"/>
                  </a:lnTo>
                  <a:lnTo>
                    <a:pt x="56" y="477"/>
                  </a:lnTo>
                  <a:lnTo>
                    <a:pt x="38" y="492"/>
                  </a:lnTo>
                  <a:lnTo>
                    <a:pt x="21" y="512"/>
                  </a:lnTo>
                  <a:lnTo>
                    <a:pt x="8" y="536"/>
                  </a:lnTo>
                  <a:lnTo>
                    <a:pt x="0" y="563"/>
                  </a:lnTo>
                  <a:lnTo>
                    <a:pt x="0" y="590"/>
                  </a:lnTo>
                  <a:lnTo>
                    <a:pt x="6" y="615"/>
                  </a:lnTo>
                  <a:lnTo>
                    <a:pt x="15" y="638"/>
                  </a:lnTo>
                  <a:lnTo>
                    <a:pt x="24" y="659"/>
                  </a:lnTo>
                  <a:lnTo>
                    <a:pt x="33" y="674"/>
                  </a:lnTo>
                  <a:lnTo>
                    <a:pt x="41" y="685"/>
                  </a:lnTo>
                  <a:lnTo>
                    <a:pt x="44" y="688"/>
                  </a:lnTo>
                  <a:lnTo>
                    <a:pt x="50" y="697"/>
                  </a:lnTo>
                  <a:lnTo>
                    <a:pt x="64" y="719"/>
                  </a:lnTo>
                  <a:lnTo>
                    <a:pt x="76" y="752"/>
                  </a:lnTo>
                  <a:lnTo>
                    <a:pt x="82" y="789"/>
                  </a:lnTo>
                  <a:lnTo>
                    <a:pt x="88" y="810"/>
                  </a:lnTo>
                  <a:lnTo>
                    <a:pt x="104" y="832"/>
                  </a:lnTo>
                  <a:lnTo>
                    <a:pt x="127" y="855"/>
                  </a:lnTo>
                  <a:lnTo>
                    <a:pt x="152" y="877"/>
                  </a:lnTo>
                  <a:lnTo>
                    <a:pt x="178" y="897"/>
                  </a:lnTo>
                  <a:lnTo>
                    <a:pt x="201" y="912"/>
                  </a:lnTo>
                  <a:lnTo>
                    <a:pt x="217" y="923"/>
                  </a:lnTo>
                  <a:lnTo>
                    <a:pt x="223" y="927"/>
                  </a:lnTo>
                  <a:lnTo>
                    <a:pt x="222" y="935"/>
                  </a:lnTo>
                  <a:lnTo>
                    <a:pt x="220" y="957"/>
                  </a:lnTo>
                  <a:lnTo>
                    <a:pt x="223" y="992"/>
                  </a:lnTo>
                  <a:lnTo>
                    <a:pt x="238" y="1035"/>
                  </a:lnTo>
                  <a:lnTo>
                    <a:pt x="249" y="1057"/>
                  </a:lnTo>
                  <a:lnTo>
                    <a:pt x="256" y="1073"/>
                  </a:lnTo>
                  <a:lnTo>
                    <a:pt x="264" y="1087"/>
                  </a:lnTo>
                  <a:lnTo>
                    <a:pt x="273" y="1096"/>
                  </a:lnTo>
                  <a:lnTo>
                    <a:pt x="283" y="1105"/>
                  </a:lnTo>
                  <a:lnTo>
                    <a:pt x="300" y="1112"/>
                  </a:lnTo>
                  <a:lnTo>
                    <a:pt x="321" y="1120"/>
                  </a:lnTo>
                  <a:lnTo>
                    <a:pt x="351" y="1130"/>
                  </a:lnTo>
                  <a:lnTo>
                    <a:pt x="383" y="1139"/>
                  </a:lnTo>
                  <a:lnTo>
                    <a:pt x="411" y="1144"/>
                  </a:lnTo>
                  <a:lnTo>
                    <a:pt x="437" y="1145"/>
                  </a:lnTo>
                  <a:lnTo>
                    <a:pt x="460" y="1145"/>
                  </a:lnTo>
                  <a:lnTo>
                    <a:pt x="476" y="1142"/>
                  </a:lnTo>
                  <a:lnTo>
                    <a:pt x="490" y="1141"/>
                  </a:lnTo>
                  <a:lnTo>
                    <a:pt x="497" y="1139"/>
                  </a:lnTo>
                  <a:lnTo>
                    <a:pt x="500" y="1138"/>
                  </a:lnTo>
                  <a:lnTo>
                    <a:pt x="499" y="1138"/>
                  </a:lnTo>
                  <a:lnTo>
                    <a:pt x="496" y="1139"/>
                  </a:lnTo>
                  <a:lnTo>
                    <a:pt x="491" y="1141"/>
                  </a:lnTo>
                  <a:lnTo>
                    <a:pt x="490" y="1144"/>
                  </a:lnTo>
                  <a:lnTo>
                    <a:pt x="491" y="1147"/>
                  </a:lnTo>
                  <a:lnTo>
                    <a:pt x="497" y="1153"/>
                  </a:lnTo>
                  <a:lnTo>
                    <a:pt x="509" y="1159"/>
                  </a:lnTo>
                  <a:lnTo>
                    <a:pt x="530" y="1166"/>
                  </a:lnTo>
                  <a:lnTo>
                    <a:pt x="554" y="1172"/>
                  </a:lnTo>
                  <a:lnTo>
                    <a:pt x="579" y="1174"/>
                  </a:lnTo>
                  <a:lnTo>
                    <a:pt x="601" y="1174"/>
                  </a:lnTo>
                  <a:lnTo>
                    <a:pt x="622" y="1171"/>
                  </a:lnTo>
                  <a:lnTo>
                    <a:pt x="639" y="1166"/>
                  </a:lnTo>
                  <a:lnTo>
                    <a:pt x="652" y="1163"/>
                  </a:lnTo>
                  <a:lnTo>
                    <a:pt x="661" y="1160"/>
                  </a:lnTo>
                  <a:lnTo>
                    <a:pt x="664" y="1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095560" y="3735360"/>
              <a:ext cx="458640" cy="2104920"/>
            </a:xfrm>
            <a:custGeom>
              <a:avLst/>
              <a:gdLst/>
              <a:ahLst/>
              <a:rect l="l" t="t" r="r" b="b"/>
              <a:pathLst>
                <a:path w="289" h="1326">
                  <a:moveTo>
                    <a:pt x="155" y="26"/>
                  </a:moveTo>
                  <a:lnTo>
                    <a:pt x="289" y="1274"/>
                  </a:lnTo>
                  <a:lnTo>
                    <a:pt x="31" y="1326"/>
                  </a:lnTo>
                  <a:lnTo>
                    <a:pt x="210" y="1229"/>
                  </a:lnTo>
                  <a:lnTo>
                    <a:pt x="21" y="1223"/>
                  </a:lnTo>
                  <a:lnTo>
                    <a:pt x="180" y="1141"/>
                  </a:lnTo>
                  <a:lnTo>
                    <a:pt x="25" y="1099"/>
                  </a:lnTo>
                  <a:lnTo>
                    <a:pt x="180" y="1027"/>
                  </a:lnTo>
                  <a:lnTo>
                    <a:pt x="21" y="976"/>
                  </a:lnTo>
                  <a:lnTo>
                    <a:pt x="170" y="899"/>
                  </a:lnTo>
                  <a:lnTo>
                    <a:pt x="21" y="827"/>
                  </a:lnTo>
                  <a:lnTo>
                    <a:pt x="149" y="769"/>
                  </a:lnTo>
                  <a:lnTo>
                    <a:pt x="21" y="693"/>
                  </a:lnTo>
                  <a:lnTo>
                    <a:pt x="140" y="631"/>
                  </a:lnTo>
                  <a:lnTo>
                    <a:pt x="31" y="565"/>
                  </a:lnTo>
                  <a:lnTo>
                    <a:pt x="140" y="503"/>
                  </a:lnTo>
                  <a:lnTo>
                    <a:pt x="21" y="450"/>
                  </a:lnTo>
                  <a:lnTo>
                    <a:pt x="119" y="389"/>
                  </a:lnTo>
                  <a:lnTo>
                    <a:pt x="21" y="337"/>
                  </a:lnTo>
                  <a:lnTo>
                    <a:pt x="114" y="286"/>
                  </a:lnTo>
                  <a:lnTo>
                    <a:pt x="25" y="241"/>
                  </a:lnTo>
                  <a:lnTo>
                    <a:pt x="104" y="175"/>
                  </a:lnTo>
                  <a:lnTo>
                    <a:pt x="6" y="133"/>
                  </a:lnTo>
                  <a:lnTo>
                    <a:pt x="98" y="98"/>
                  </a:lnTo>
                  <a:lnTo>
                    <a:pt x="0" y="36"/>
                  </a:lnTo>
                  <a:lnTo>
                    <a:pt x="1" y="35"/>
                  </a:lnTo>
                  <a:lnTo>
                    <a:pt x="7" y="30"/>
                  </a:lnTo>
                  <a:lnTo>
                    <a:pt x="16" y="24"/>
                  </a:lnTo>
                  <a:lnTo>
                    <a:pt x="28" y="18"/>
                  </a:lnTo>
                  <a:lnTo>
                    <a:pt x="42" y="12"/>
                  </a:lnTo>
                  <a:lnTo>
                    <a:pt x="57" y="6"/>
                  </a:lnTo>
                  <a:lnTo>
                    <a:pt x="72" y="2"/>
                  </a:lnTo>
                  <a:lnTo>
                    <a:pt x="87" y="0"/>
                  </a:lnTo>
                  <a:lnTo>
                    <a:pt x="102" y="2"/>
                  </a:lnTo>
                  <a:lnTo>
                    <a:pt x="116" y="5"/>
                  </a:lnTo>
                  <a:lnTo>
                    <a:pt x="128" y="8"/>
                  </a:lnTo>
                  <a:lnTo>
                    <a:pt x="137" y="12"/>
                  </a:lnTo>
                  <a:lnTo>
                    <a:pt x="144" y="18"/>
                  </a:lnTo>
                  <a:lnTo>
                    <a:pt x="150" y="21"/>
                  </a:lnTo>
                  <a:lnTo>
                    <a:pt x="153" y="24"/>
                  </a:lnTo>
                  <a:lnTo>
                    <a:pt x="155" y="26"/>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898720" y="3451320"/>
              <a:ext cx="568440" cy="2095560"/>
            </a:xfrm>
            <a:custGeom>
              <a:avLst/>
              <a:gdLst/>
              <a:ahLst/>
              <a:rect l="l" t="t" r="r" b="b"/>
              <a:pathLst>
                <a:path w="358" h="1320">
                  <a:moveTo>
                    <a:pt x="141" y="65"/>
                  </a:moveTo>
                  <a:lnTo>
                    <a:pt x="358" y="1314"/>
                  </a:lnTo>
                  <a:lnTo>
                    <a:pt x="182" y="1320"/>
                  </a:lnTo>
                  <a:lnTo>
                    <a:pt x="280" y="1253"/>
                  </a:lnTo>
                  <a:lnTo>
                    <a:pt x="111" y="1231"/>
                  </a:lnTo>
                  <a:lnTo>
                    <a:pt x="244" y="1161"/>
                  </a:lnTo>
                  <a:lnTo>
                    <a:pt x="111" y="1104"/>
                  </a:lnTo>
                  <a:lnTo>
                    <a:pt x="235" y="1027"/>
                  </a:lnTo>
                  <a:lnTo>
                    <a:pt x="79" y="955"/>
                  </a:lnTo>
                  <a:lnTo>
                    <a:pt x="213" y="887"/>
                  </a:lnTo>
                  <a:lnTo>
                    <a:pt x="84" y="784"/>
                  </a:lnTo>
                  <a:lnTo>
                    <a:pt x="188" y="733"/>
                  </a:lnTo>
                  <a:lnTo>
                    <a:pt x="28" y="682"/>
                  </a:lnTo>
                  <a:lnTo>
                    <a:pt x="177" y="604"/>
                  </a:lnTo>
                  <a:lnTo>
                    <a:pt x="33" y="486"/>
                  </a:lnTo>
                  <a:lnTo>
                    <a:pt x="141" y="410"/>
                  </a:lnTo>
                  <a:lnTo>
                    <a:pt x="3" y="343"/>
                  </a:lnTo>
                  <a:lnTo>
                    <a:pt x="120" y="292"/>
                  </a:lnTo>
                  <a:lnTo>
                    <a:pt x="7" y="235"/>
                  </a:lnTo>
                  <a:lnTo>
                    <a:pt x="131" y="194"/>
                  </a:lnTo>
                  <a:lnTo>
                    <a:pt x="7" y="122"/>
                  </a:lnTo>
                  <a:lnTo>
                    <a:pt x="94" y="65"/>
                  </a:lnTo>
                  <a:lnTo>
                    <a:pt x="93" y="63"/>
                  </a:lnTo>
                  <a:lnTo>
                    <a:pt x="87" y="59"/>
                  </a:lnTo>
                  <a:lnTo>
                    <a:pt x="79" y="53"/>
                  </a:lnTo>
                  <a:lnTo>
                    <a:pt x="69" y="47"/>
                  </a:lnTo>
                  <a:lnTo>
                    <a:pt x="57" y="41"/>
                  </a:lnTo>
                  <a:lnTo>
                    <a:pt x="43" y="35"/>
                  </a:lnTo>
                  <a:lnTo>
                    <a:pt x="28" y="30"/>
                  </a:lnTo>
                  <a:lnTo>
                    <a:pt x="13" y="29"/>
                  </a:lnTo>
                  <a:lnTo>
                    <a:pt x="3" y="27"/>
                  </a:lnTo>
                  <a:lnTo>
                    <a:pt x="0" y="23"/>
                  </a:lnTo>
                  <a:lnTo>
                    <a:pt x="4" y="17"/>
                  </a:lnTo>
                  <a:lnTo>
                    <a:pt x="13" y="11"/>
                  </a:lnTo>
                  <a:lnTo>
                    <a:pt x="28" y="5"/>
                  </a:lnTo>
                  <a:lnTo>
                    <a:pt x="45" y="0"/>
                  </a:lnTo>
                  <a:lnTo>
                    <a:pt x="64" y="0"/>
                  </a:lnTo>
                  <a:lnTo>
                    <a:pt x="84" y="3"/>
                  </a:lnTo>
                  <a:lnTo>
                    <a:pt x="102" y="11"/>
                  </a:lnTo>
                  <a:lnTo>
                    <a:pt x="116" y="20"/>
                  </a:lnTo>
                  <a:lnTo>
                    <a:pt x="125" y="30"/>
                  </a:lnTo>
                  <a:lnTo>
                    <a:pt x="132" y="41"/>
                  </a:lnTo>
                  <a:lnTo>
                    <a:pt x="137" y="50"/>
                  </a:lnTo>
                  <a:lnTo>
                    <a:pt x="140" y="57"/>
                  </a:lnTo>
                  <a:lnTo>
                    <a:pt x="141" y="63"/>
                  </a:lnTo>
                  <a:lnTo>
                    <a:pt x="141" y="65"/>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613320" y="3138480"/>
              <a:ext cx="222120" cy="2293920"/>
            </a:xfrm>
            <a:custGeom>
              <a:avLst/>
              <a:gdLst/>
              <a:ahLst/>
              <a:rect l="l" t="t" r="r" b="b"/>
              <a:pathLst>
                <a:path w="140" h="1445">
                  <a:moveTo>
                    <a:pt x="123" y="0"/>
                  </a:moveTo>
                  <a:lnTo>
                    <a:pt x="140" y="1445"/>
                  </a:lnTo>
                  <a:lnTo>
                    <a:pt x="108" y="1445"/>
                  </a:lnTo>
                  <a:lnTo>
                    <a:pt x="129" y="1383"/>
                  </a:lnTo>
                  <a:lnTo>
                    <a:pt x="98" y="1305"/>
                  </a:lnTo>
                  <a:lnTo>
                    <a:pt x="129" y="1239"/>
                  </a:lnTo>
                  <a:lnTo>
                    <a:pt x="104" y="1173"/>
                  </a:lnTo>
                  <a:lnTo>
                    <a:pt x="134" y="1039"/>
                  </a:lnTo>
                  <a:lnTo>
                    <a:pt x="78" y="956"/>
                  </a:lnTo>
                  <a:lnTo>
                    <a:pt x="129" y="884"/>
                  </a:lnTo>
                  <a:lnTo>
                    <a:pt x="72" y="817"/>
                  </a:lnTo>
                  <a:lnTo>
                    <a:pt x="129" y="739"/>
                  </a:lnTo>
                  <a:lnTo>
                    <a:pt x="72" y="647"/>
                  </a:lnTo>
                  <a:lnTo>
                    <a:pt x="123" y="570"/>
                  </a:lnTo>
                  <a:lnTo>
                    <a:pt x="68" y="453"/>
                  </a:lnTo>
                  <a:lnTo>
                    <a:pt x="129" y="355"/>
                  </a:lnTo>
                  <a:lnTo>
                    <a:pt x="68" y="272"/>
                  </a:lnTo>
                  <a:lnTo>
                    <a:pt x="113" y="221"/>
                  </a:lnTo>
                  <a:lnTo>
                    <a:pt x="42" y="119"/>
                  </a:lnTo>
                  <a:lnTo>
                    <a:pt x="123" y="66"/>
                  </a:lnTo>
                  <a:lnTo>
                    <a:pt x="0" y="47"/>
                  </a:lnTo>
                  <a:lnTo>
                    <a:pt x="1" y="45"/>
                  </a:lnTo>
                  <a:lnTo>
                    <a:pt x="6" y="41"/>
                  </a:lnTo>
                  <a:lnTo>
                    <a:pt x="13" y="35"/>
                  </a:lnTo>
                  <a:lnTo>
                    <a:pt x="22" y="27"/>
                  </a:lnTo>
                  <a:lnTo>
                    <a:pt x="33" y="21"/>
                  </a:lnTo>
                  <a:lnTo>
                    <a:pt x="45" y="14"/>
                  </a:lnTo>
                  <a:lnTo>
                    <a:pt x="59" y="8"/>
                  </a:lnTo>
                  <a:lnTo>
                    <a:pt x="72" y="5"/>
                  </a:lnTo>
                  <a:lnTo>
                    <a:pt x="84" y="3"/>
                  </a:lnTo>
                  <a:lnTo>
                    <a:pt x="95" y="1"/>
                  </a:lnTo>
                  <a:lnTo>
                    <a:pt x="104" y="1"/>
                  </a:lnTo>
                  <a:lnTo>
                    <a:pt x="111" y="0"/>
                  </a:lnTo>
                  <a:lnTo>
                    <a:pt x="117" y="0"/>
                  </a:lnTo>
                  <a:lnTo>
                    <a:pt x="120" y="0"/>
                  </a:lnTo>
                  <a:lnTo>
                    <a:pt x="123" y="0"/>
                  </a:lnTo>
                  <a:lnTo>
                    <a:pt x="123"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851120" y="5513400"/>
              <a:ext cx="1990800" cy="709560"/>
            </a:xfrm>
            <a:custGeom>
              <a:avLst/>
              <a:gdLst/>
              <a:ahLst/>
              <a:rect l="l" t="t" r="r" b="b"/>
              <a:pathLst>
                <a:path w="1254" h="447">
                  <a:moveTo>
                    <a:pt x="1244" y="0"/>
                  </a:moveTo>
                  <a:lnTo>
                    <a:pt x="1254" y="447"/>
                  </a:lnTo>
                  <a:lnTo>
                    <a:pt x="0" y="438"/>
                  </a:lnTo>
                  <a:lnTo>
                    <a:pt x="1197" y="366"/>
                  </a:lnTo>
                  <a:lnTo>
                    <a:pt x="36" y="396"/>
                  </a:lnTo>
                  <a:lnTo>
                    <a:pt x="1167" y="243"/>
                  </a:lnTo>
                  <a:lnTo>
                    <a:pt x="56" y="345"/>
                  </a:lnTo>
                  <a:lnTo>
                    <a:pt x="1161" y="124"/>
                  </a:lnTo>
                  <a:lnTo>
                    <a:pt x="72" y="283"/>
                  </a:lnTo>
                  <a:lnTo>
                    <a:pt x="1244"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2600" y="1927080"/>
              <a:ext cx="1089000" cy="687600"/>
            </a:xfrm>
            <a:custGeom>
              <a:avLst/>
              <a:gdLst/>
              <a:ahLst/>
              <a:rect l="l" t="t" r="r" b="b"/>
              <a:pathLst>
                <a:path w="686" h="433">
                  <a:moveTo>
                    <a:pt x="31" y="16"/>
                  </a:moveTo>
                  <a:lnTo>
                    <a:pt x="34" y="15"/>
                  </a:lnTo>
                  <a:lnTo>
                    <a:pt x="41" y="12"/>
                  </a:lnTo>
                  <a:lnTo>
                    <a:pt x="55" y="7"/>
                  </a:lnTo>
                  <a:lnTo>
                    <a:pt x="71" y="4"/>
                  </a:lnTo>
                  <a:lnTo>
                    <a:pt x="91" y="1"/>
                  </a:lnTo>
                  <a:lnTo>
                    <a:pt x="115" y="0"/>
                  </a:lnTo>
                  <a:lnTo>
                    <a:pt x="140" y="3"/>
                  </a:lnTo>
                  <a:lnTo>
                    <a:pt x="169" y="9"/>
                  </a:lnTo>
                  <a:lnTo>
                    <a:pt x="196" y="19"/>
                  </a:lnTo>
                  <a:lnTo>
                    <a:pt x="220" y="30"/>
                  </a:lnTo>
                  <a:lnTo>
                    <a:pt x="241" y="42"/>
                  </a:lnTo>
                  <a:lnTo>
                    <a:pt x="259" y="53"/>
                  </a:lnTo>
                  <a:lnTo>
                    <a:pt x="274" y="63"/>
                  </a:lnTo>
                  <a:lnTo>
                    <a:pt x="284" y="71"/>
                  </a:lnTo>
                  <a:lnTo>
                    <a:pt x="291" y="77"/>
                  </a:lnTo>
                  <a:lnTo>
                    <a:pt x="293" y="78"/>
                  </a:lnTo>
                  <a:lnTo>
                    <a:pt x="294" y="77"/>
                  </a:lnTo>
                  <a:lnTo>
                    <a:pt x="299" y="71"/>
                  </a:lnTo>
                  <a:lnTo>
                    <a:pt x="306" y="63"/>
                  </a:lnTo>
                  <a:lnTo>
                    <a:pt x="318" y="56"/>
                  </a:lnTo>
                  <a:lnTo>
                    <a:pt x="336" y="51"/>
                  </a:lnTo>
                  <a:lnTo>
                    <a:pt x="360" y="50"/>
                  </a:lnTo>
                  <a:lnTo>
                    <a:pt x="392" y="53"/>
                  </a:lnTo>
                  <a:lnTo>
                    <a:pt x="431" y="63"/>
                  </a:lnTo>
                  <a:lnTo>
                    <a:pt x="472" y="80"/>
                  </a:lnTo>
                  <a:lnTo>
                    <a:pt x="509" y="99"/>
                  </a:lnTo>
                  <a:lnTo>
                    <a:pt x="543" y="122"/>
                  </a:lnTo>
                  <a:lnTo>
                    <a:pt x="571" y="144"/>
                  </a:lnTo>
                  <a:lnTo>
                    <a:pt x="597" y="167"/>
                  </a:lnTo>
                  <a:lnTo>
                    <a:pt x="616" y="189"/>
                  </a:lnTo>
                  <a:lnTo>
                    <a:pt x="634" y="209"/>
                  </a:lnTo>
                  <a:lnTo>
                    <a:pt x="648" y="226"/>
                  </a:lnTo>
                  <a:lnTo>
                    <a:pt x="666" y="254"/>
                  </a:lnTo>
                  <a:lnTo>
                    <a:pt x="678" y="281"/>
                  </a:lnTo>
                  <a:lnTo>
                    <a:pt x="684" y="302"/>
                  </a:lnTo>
                  <a:lnTo>
                    <a:pt x="686" y="310"/>
                  </a:lnTo>
                  <a:lnTo>
                    <a:pt x="631" y="433"/>
                  </a:lnTo>
                  <a:lnTo>
                    <a:pt x="586" y="310"/>
                  </a:lnTo>
                  <a:lnTo>
                    <a:pt x="500" y="403"/>
                  </a:lnTo>
                  <a:lnTo>
                    <a:pt x="493" y="287"/>
                  </a:lnTo>
                  <a:lnTo>
                    <a:pt x="330" y="317"/>
                  </a:lnTo>
                  <a:lnTo>
                    <a:pt x="369" y="202"/>
                  </a:lnTo>
                  <a:lnTo>
                    <a:pt x="246" y="256"/>
                  </a:lnTo>
                  <a:lnTo>
                    <a:pt x="246" y="179"/>
                  </a:lnTo>
                  <a:lnTo>
                    <a:pt x="92" y="226"/>
                  </a:lnTo>
                  <a:lnTo>
                    <a:pt x="107" y="110"/>
                  </a:lnTo>
                  <a:lnTo>
                    <a:pt x="0" y="125"/>
                  </a:lnTo>
                  <a:lnTo>
                    <a:pt x="31" y="16"/>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604880" y="1819440"/>
              <a:ext cx="771480" cy="196560"/>
            </a:xfrm>
            <a:custGeom>
              <a:avLst/>
              <a:gdLst/>
              <a:ahLst/>
              <a:rect l="l" t="t" r="r" b="b"/>
              <a:pathLst>
                <a:path w="486" h="124">
                  <a:moveTo>
                    <a:pt x="0" y="84"/>
                  </a:moveTo>
                  <a:lnTo>
                    <a:pt x="1" y="83"/>
                  </a:lnTo>
                  <a:lnTo>
                    <a:pt x="3" y="80"/>
                  </a:lnTo>
                  <a:lnTo>
                    <a:pt x="7" y="75"/>
                  </a:lnTo>
                  <a:lnTo>
                    <a:pt x="15" y="71"/>
                  </a:lnTo>
                  <a:lnTo>
                    <a:pt x="23" y="63"/>
                  </a:lnTo>
                  <a:lnTo>
                    <a:pt x="33" y="56"/>
                  </a:lnTo>
                  <a:lnTo>
                    <a:pt x="45" y="48"/>
                  </a:lnTo>
                  <a:lnTo>
                    <a:pt x="60" y="39"/>
                  </a:lnTo>
                  <a:lnTo>
                    <a:pt x="75" y="32"/>
                  </a:lnTo>
                  <a:lnTo>
                    <a:pt x="93" y="24"/>
                  </a:lnTo>
                  <a:lnTo>
                    <a:pt x="114" y="17"/>
                  </a:lnTo>
                  <a:lnTo>
                    <a:pt x="137" y="11"/>
                  </a:lnTo>
                  <a:lnTo>
                    <a:pt x="161" y="5"/>
                  </a:lnTo>
                  <a:lnTo>
                    <a:pt x="188" y="2"/>
                  </a:lnTo>
                  <a:lnTo>
                    <a:pt x="217" y="0"/>
                  </a:lnTo>
                  <a:lnTo>
                    <a:pt x="247" y="0"/>
                  </a:lnTo>
                  <a:lnTo>
                    <a:pt x="306" y="8"/>
                  </a:lnTo>
                  <a:lnTo>
                    <a:pt x="357" y="23"/>
                  </a:lnTo>
                  <a:lnTo>
                    <a:pt x="397" y="42"/>
                  </a:lnTo>
                  <a:lnTo>
                    <a:pt x="431" y="65"/>
                  </a:lnTo>
                  <a:lnTo>
                    <a:pt x="455" y="86"/>
                  </a:lnTo>
                  <a:lnTo>
                    <a:pt x="473" y="105"/>
                  </a:lnTo>
                  <a:lnTo>
                    <a:pt x="483" y="119"/>
                  </a:lnTo>
                  <a:lnTo>
                    <a:pt x="486" y="124"/>
                  </a:lnTo>
                  <a:lnTo>
                    <a:pt x="394" y="84"/>
                  </a:lnTo>
                  <a:lnTo>
                    <a:pt x="325" y="124"/>
                  </a:lnTo>
                  <a:lnTo>
                    <a:pt x="294" y="54"/>
                  </a:lnTo>
                  <a:lnTo>
                    <a:pt x="217" y="116"/>
                  </a:lnTo>
                  <a:lnTo>
                    <a:pt x="185" y="69"/>
                  </a:lnTo>
                  <a:lnTo>
                    <a:pt x="101" y="124"/>
                  </a:lnTo>
                  <a:lnTo>
                    <a:pt x="69" y="69"/>
                  </a:lnTo>
                  <a:lnTo>
                    <a:pt x="0" y="84"/>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714680" y="2349360"/>
              <a:ext cx="982440" cy="559080"/>
            </a:xfrm>
            <a:custGeom>
              <a:avLst/>
              <a:gdLst/>
              <a:ahLst/>
              <a:rect l="l" t="t" r="r" b="b"/>
              <a:pathLst>
                <a:path w="619" h="352">
                  <a:moveTo>
                    <a:pt x="148" y="5"/>
                  </a:moveTo>
                  <a:lnTo>
                    <a:pt x="151" y="5"/>
                  </a:lnTo>
                  <a:lnTo>
                    <a:pt x="157" y="3"/>
                  </a:lnTo>
                  <a:lnTo>
                    <a:pt x="169" y="3"/>
                  </a:lnTo>
                  <a:lnTo>
                    <a:pt x="184" y="2"/>
                  </a:lnTo>
                  <a:lnTo>
                    <a:pt x="202" y="0"/>
                  </a:lnTo>
                  <a:lnTo>
                    <a:pt x="223" y="0"/>
                  </a:lnTo>
                  <a:lnTo>
                    <a:pt x="246" y="0"/>
                  </a:lnTo>
                  <a:lnTo>
                    <a:pt x="271" y="2"/>
                  </a:lnTo>
                  <a:lnTo>
                    <a:pt x="297" y="5"/>
                  </a:lnTo>
                  <a:lnTo>
                    <a:pt x="325" y="9"/>
                  </a:lnTo>
                  <a:lnTo>
                    <a:pt x="353" y="14"/>
                  </a:lnTo>
                  <a:lnTo>
                    <a:pt x="381" y="21"/>
                  </a:lnTo>
                  <a:lnTo>
                    <a:pt x="410" y="32"/>
                  </a:lnTo>
                  <a:lnTo>
                    <a:pt x="437" y="44"/>
                  </a:lnTo>
                  <a:lnTo>
                    <a:pt x="462" y="57"/>
                  </a:lnTo>
                  <a:lnTo>
                    <a:pt x="487" y="76"/>
                  </a:lnTo>
                  <a:lnTo>
                    <a:pt x="527" y="116"/>
                  </a:lnTo>
                  <a:lnTo>
                    <a:pt x="559" y="161"/>
                  </a:lnTo>
                  <a:lnTo>
                    <a:pt x="583" y="206"/>
                  </a:lnTo>
                  <a:lnTo>
                    <a:pt x="600" y="252"/>
                  </a:lnTo>
                  <a:lnTo>
                    <a:pt x="610" y="291"/>
                  </a:lnTo>
                  <a:lnTo>
                    <a:pt x="616" y="324"/>
                  </a:lnTo>
                  <a:lnTo>
                    <a:pt x="619" y="345"/>
                  </a:lnTo>
                  <a:lnTo>
                    <a:pt x="619" y="352"/>
                  </a:lnTo>
                  <a:lnTo>
                    <a:pt x="526" y="268"/>
                  </a:lnTo>
                  <a:lnTo>
                    <a:pt x="441" y="315"/>
                  </a:lnTo>
                  <a:lnTo>
                    <a:pt x="417" y="214"/>
                  </a:lnTo>
                  <a:lnTo>
                    <a:pt x="294" y="244"/>
                  </a:lnTo>
                  <a:lnTo>
                    <a:pt x="325" y="152"/>
                  </a:lnTo>
                  <a:lnTo>
                    <a:pt x="170" y="182"/>
                  </a:lnTo>
                  <a:lnTo>
                    <a:pt x="247" y="68"/>
                  </a:lnTo>
                  <a:lnTo>
                    <a:pt x="0" y="76"/>
                  </a:lnTo>
                  <a:lnTo>
                    <a:pt x="148" y="5"/>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1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lutant Sources Contributing to Global Warming</a:t>
            </a:r>
            <a:endParaRPr b="0" lang="en-US" sz="4400" spc="-1" strike="noStrike">
              <a:solidFill>
                <a:srgbClr val="ffffff"/>
              </a:solidFill>
              <a:latin typeface="Arial"/>
            </a:endParaRPr>
          </a:p>
        </p:txBody>
      </p:sp>
      <p:sp>
        <p:nvSpPr>
          <p:cNvPr id="504" name="PlaceHolder 2"/>
          <p:cNvSpPr>
            <a:spLocks noGrp="1"/>
          </p:cNvSpPr>
          <p:nvPr>
            <p:ph/>
          </p:nvPr>
        </p:nvSpPr>
        <p:spPr>
          <a:xfrm>
            <a:off x="579240" y="2200320"/>
            <a:ext cx="81406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the gases include combustion of fossil fuels, cars, heating homes and businesses, busses, and power factor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S. alone these gases represent 98% CO</a:t>
            </a:r>
            <a:r>
              <a:rPr b="0" lang="en-US" sz="2400" spc="-1" strike="noStrike" baseline="-25000">
                <a:solidFill>
                  <a:srgbClr val="ffffff"/>
                </a:solidFill>
                <a:latin typeface="Arial"/>
              </a:rPr>
              <a:t>2</a:t>
            </a:r>
            <a:r>
              <a:rPr b="0" lang="en-US" sz="2400" spc="-1" strike="noStrike">
                <a:solidFill>
                  <a:srgbClr val="ffffff"/>
                </a:solidFill>
                <a:latin typeface="Arial"/>
              </a:rPr>
              <a:t>, 24% CH</a:t>
            </a:r>
            <a:r>
              <a:rPr b="0" lang="en-US" sz="2400" spc="-1" strike="noStrike" baseline="-25000">
                <a:solidFill>
                  <a:srgbClr val="ffffff"/>
                </a:solidFill>
                <a:latin typeface="Arial"/>
              </a:rPr>
              <a:t>4</a:t>
            </a:r>
            <a:r>
              <a:rPr b="0" lang="en-US" sz="2400" spc="-1" strike="noStrike">
                <a:solidFill>
                  <a:srgbClr val="ffffff"/>
                </a:solidFill>
                <a:latin typeface="Arial"/>
              </a:rPr>
              <a:t>, and 18% N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agricultural practices, deforestation, the creation of landfills, increases in industrial production, and mining also act as point sources for these emiss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global warming, view PEER’s </a:t>
            </a:r>
            <a:br>
              <a:rPr sz="2400"/>
            </a:br>
            <a:r>
              <a:rPr b="0" lang="en-US" sz="2400" spc="-1" strike="noStrike" u="sng">
                <a:solidFill>
                  <a:srgbClr val="009999"/>
                </a:solidFill>
                <a:uFillTx/>
                <a:latin typeface="Arial"/>
                <a:hlinkClick r:id="rId2"/>
              </a:rPr>
              <a:t>web tutorial.</a:t>
            </a:r>
            <a:endParaRPr b="0" lang="en-US" sz="2400" spc="-1" strike="noStrike">
              <a:solidFill>
                <a:srgbClr val="ffffff"/>
              </a:solidFill>
              <a:latin typeface="Arial"/>
            </a:endParaRPr>
          </a:p>
        </p:txBody>
      </p:sp>
      <p:sp>
        <p:nvSpPr>
          <p:cNvPr id="5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48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SA Spacecraft Monitor </a:t>
            </a:r>
            <a:br>
              <a:rPr sz="4400"/>
            </a:b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50" name="PlaceHolder 2"/>
          <p:cNvSpPr>
            <a:spLocks noGrp="1"/>
          </p:cNvSpPr>
          <p:nvPr>
            <p:ph/>
          </p:nvPr>
        </p:nvSpPr>
        <p:spPr>
          <a:xfrm>
            <a:off x="837720" y="2397240"/>
            <a:ext cx="7620120" cy="3450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ft and program allow scientists to view sources of pollution and trace their mov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atterns implicated the top contributors to pollution as Africa, South America, and Southeast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pollutant was found to be carbon monoxide clouds linked directly to crops and natural occurrences.</a:t>
            </a:r>
            <a:endParaRPr b="0" lang="en-US" sz="24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53" name=""/>
          <p:cNvSpPr/>
          <p:nvPr/>
        </p:nvSpPr>
        <p:spPr>
          <a:xfrm rot="20894400">
            <a:off x="2037960" y="3506400"/>
            <a:ext cx="166356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4860360" y="3078360"/>
            <a:ext cx="2693160" cy="2844720"/>
            <a:chOff x="4860360" y="3078360"/>
            <a:chExt cx="2693160" cy="2844720"/>
          </a:xfrm>
        </p:grpSpPr>
        <p:sp>
          <p:nvSpPr>
            <p:cNvPr id="55" name=""/>
            <p:cNvSpPr/>
            <p:nvPr/>
          </p:nvSpPr>
          <p:spPr>
            <a:xfrm rot="21381000">
              <a:off x="7171560" y="496296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1381000">
              <a:off x="4943160" y="3155760"/>
              <a:ext cx="252720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78040" y="1798560"/>
            <a:ext cx="7535880" cy="16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pollution contributors include Africa and South America’s carbon monoxide clouds created from grassland and forest fire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60" name="PlaceHolder 2"/>
          <p:cNvSpPr>
            <a:spLocks noGrp="1"/>
          </p:cNvSpPr>
          <p:nvPr>
            <p:ph/>
          </p:nvPr>
        </p:nvSpPr>
        <p:spPr>
          <a:xfrm>
            <a:off x="423360" y="4503600"/>
            <a:ext cx="4038840" cy="2075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louds slowly travel across the Southern Hemisphere, eventually reaching Australia.</a:t>
            </a:r>
            <a:endParaRPr b="0" lang="en-US" sz="2400" spc="-1" strike="noStrike">
              <a:solidFill>
                <a:srgbClr val="ffffff"/>
              </a:solidFill>
              <a:latin typeface="Arial"/>
            </a:endParaRPr>
          </a:p>
        </p:txBody>
      </p:sp>
      <p:sp>
        <p:nvSpPr>
          <p:cNvPr id="61" name=""/>
          <p:cNvSpPr/>
          <p:nvPr/>
        </p:nvSpPr>
        <p:spPr>
          <a:xfrm rot="20894400">
            <a:off x="577440" y="1547280"/>
            <a:ext cx="166392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2990160" y="1508040"/>
            <a:ext cx="2693520" cy="2844720"/>
            <a:chOff x="2990160" y="1508040"/>
            <a:chExt cx="2693520" cy="2844720"/>
          </a:xfrm>
        </p:grpSpPr>
        <p:sp>
          <p:nvSpPr>
            <p:cNvPr id="63" name=""/>
            <p:cNvSpPr/>
            <p:nvPr/>
          </p:nvSpPr>
          <p:spPr>
            <a:xfrm rot="21381000">
              <a:off x="5301360" y="339264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21381000">
              <a:off x="3072960" y="1585440"/>
              <a:ext cx="252756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7183440" y="4197240"/>
            <a:ext cx="1536840" cy="1427040"/>
            <a:chOff x="7183440" y="4197240"/>
            <a:chExt cx="1536840" cy="1427040"/>
          </a:xfrm>
        </p:grpSpPr>
        <p:sp>
          <p:nvSpPr>
            <p:cNvPr id="66" name=""/>
            <p:cNvSpPr/>
            <p:nvPr/>
          </p:nvSpPr>
          <p:spPr>
            <a:xfrm>
              <a:off x="8322120" y="5490720"/>
              <a:ext cx="114480" cy="133560"/>
            </a:xfrm>
            <a:custGeom>
              <a:avLst/>
              <a:gdLst/>
              <a:ahLst/>
              <a:rect l="l" t="t" r="r" b="b"/>
              <a:pathLst>
                <a:path w="160" h="186">
                  <a:moveTo>
                    <a:pt x="58" y="34"/>
                  </a:moveTo>
                  <a:lnTo>
                    <a:pt x="56" y="33"/>
                  </a:lnTo>
                  <a:lnTo>
                    <a:pt x="50" y="28"/>
                  </a:lnTo>
                  <a:lnTo>
                    <a:pt x="41" y="21"/>
                  </a:lnTo>
                  <a:lnTo>
                    <a:pt x="30" y="14"/>
                  </a:lnTo>
                  <a:lnTo>
                    <a:pt x="18" y="6"/>
                  </a:lnTo>
                  <a:lnTo>
                    <a:pt x="8" y="0"/>
                  </a:lnTo>
                  <a:lnTo>
                    <a:pt x="2" y="2"/>
                  </a:lnTo>
                  <a:lnTo>
                    <a:pt x="0" y="14"/>
                  </a:lnTo>
                  <a:lnTo>
                    <a:pt x="0" y="35"/>
                  </a:lnTo>
                  <a:lnTo>
                    <a:pt x="1" y="56"/>
                  </a:lnTo>
                  <a:lnTo>
                    <a:pt x="3" y="75"/>
                  </a:lnTo>
                  <a:lnTo>
                    <a:pt x="9" y="90"/>
                  </a:lnTo>
                  <a:lnTo>
                    <a:pt x="15" y="99"/>
                  </a:lnTo>
                  <a:lnTo>
                    <a:pt x="17" y="106"/>
                  </a:lnTo>
                  <a:lnTo>
                    <a:pt x="16" y="112"/>
                  </a:lnTo>
                  <a:lnTo>
                    <a:pt x="12" y="120"/>
                  </a:lnTo>
                  <a:lnTo>
                    <a:pt x="12" y="132"/>
                  </a:lnTo>
                  <a:lnTo>
                    <a:pt x="19" y="144"/>
                  </a:lnTo>
                  <a:lnTo>
                    <a:pt x="28" y="159"/>
                  </a:lnTo>
                  <a:lnTo>
                    <a:pt x="35" y="172"/>
                  </a:lnTo>
                  <a:lnTo>
                    <a:pt x="39" y="178"/>
                  </a:lnTo>
                  <a:lnTo>
                    <a:pt x="46" y="182"/>
                  </a:lnTo>
                  <a:lnTo>
                    <a:pt x="53" y="185"/>
                  </a:lnTo>
                  <a:lnTo>
                    <a:pt x="61" y="186"/>
                  </a:lnTo>
                  <a:lnTo>
                    <a:pt x="69" y="186"/>
                  </a:lnTo>
                  <a:lnTo>
                    <a:pt x="76" y="184"/>
                  </a:lnTo>
                  <a:lnTo>
                    <a:pt x="81" y="179"/>
                  </a:lnTo>
                  <a:lnTo>
                    <a:pt x="85" y="172"/>
                  </a:lnTo>
                  <a:lnTo>
                    <a:pt x="92" y="162"/>
                  </a:lnTo>
                  <a:lnTo>
                    <a:pt x="100" y="156"/>
                  </a:lnTo>
                  <a:lnTo>
                    <a:pt x="110" y="151"/>
                  </a:lnTo>
                  <a:lnTo>
                    <a:pt x="118" y="147"/>
                  </a:lnTo>
                  <a:lnTo>
                    <a:pt x="124" y="139"/>
                  </a:lnTo>
                  <a:lnTo>
                    <a:pt x="126" y="131"/>
                  </a:lnTo>
                  <a:lnTo>
                    <a:pt x="130" y="123"/>
                  </a:lnTo>
                  <a:lnTo>
                    <a:pt x="134" y="113"/>
                  </a:lnTo>
                  <a:lnTo>
                    <a:pt x="140" y="106"/>
                  </a:lnTo>
                  <a:lnTo>
                    <a:pt x="145" y="102"/>
                  </a:lnTo>
                  <a:lnTo>
                    <a:pt x="148" y="96"/>
                  </a:lnTo>
                  <a:lnTo>
                    <a:pt x="154" y="83"/>
                  </a:lnTo>
                  <a:lnTo>
                    <a:pt x="160" y="63"/>
                  </a:lnTo>
                  <a:lnTo>
                    <a:pt x="160" y="42"/>
                  </a:lnTo>
                  <a:lnTo>
                    <a:pt x="154" y="27"/>
                  </a:lnTo>
                  <a:lnTo>
                    <a:pt x="145" y="27"/>
                  </a:lnTo>
                  <a:lnTo>
                    <a:pt x="136" y="34"/>
                  </a:lnTo>
                  <a:lnTo>
                    <a:pt x="130" y="36"/>
                  </a:lnTo>
                  <a:lnTo>
                    <a:pt x="123" y="36"/>
                  </a:lnTo>
                  <a:lnTo>
                    <a:pt x="111" y="37"/>
                  </a:lnTo>
                  <a:lnTo>
                    <a:pt x="104" y="38"/>
                  </a:lnTo>
                  <a:lnTo>
                    <a:pt x="98" y="40"/>
                  </a:lnTo>
                  <a:lnTo>
                    <a:pt x="91" y="41"/>
                  </a:lnTo>
                  <a:lnTo>
                    <a:pt x="84" y="41"/>
                  </a:lnTo>
                  <a:lnTo>
                    <a:pt x="78" y="41"/>
                  </a:lnTo>
                  <a:lnTo>
                    <a:pt x="71" y="40"/>
                  </a:lnTo>
                  <a:lnTo>
                    <a:pt x="65" y="37"/>
                  </a:lnTo>
                  <a:lnTo>
                    <a:pt x="58" y="34"/>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83440" y="4197240"/>
              <a:ext cx="1536840" cy="1233360"/>
            </a:xfrm>
            <a:custGeom>
              <a:avLst/>
              <a:gdLst/>
              <a:ahLst/>
              <a:rect l="l" t="t" r="r" b="b"/>
              <a:pathLst>
                <a:path w="2140" h="1717">
                  <a:moveTo>
                    <a:pt x="1866" y="1621"/>
                  </a:moveTo>
                  <a:lnTo>
                    <a:pt x="1866" y="1626"/>
                  </a:lnTo>
                  <a:lnTo>
                    <a:pt x="1863" y="1640"/>
                  </a:lnTo>
                  <a:lnTo>
                    <a:pt x="1855" y="1655"/>
                  </a:lnTo>
                  <a:lnTo>
                    <a:pt x="1837" y="1663"/>
                  </a:lnTo>
                  <a:lnTo>
                    <a:pt x="1824" y="1664"/>
                  </a:lnTo>
                  <a:lnTo>
                    <a:pt x="1811" y="1663"/>
                  </a:lnTo>
                  <a:lnTo>
                    <a:pt x="1798" y="1663"/>
                  </a:lnTo>
                  <a:lnTo>
                    <a:pt x="1785" y="1662"/>
                  </a:lnTo>
                  <a:lnTo>
                    <a:pt x="1773" y="1662"/>
                  </a:lnTo>
                  <a:lnTo>
                    <a:pt x="1762" y="1663"/>
                  </a:lnTo>
                  <a:lnTo>
                    <a:pt x="1752" y="1666"/>
                  </a:lnTo>
                  <a:lnTo>
                    <a:pt x="1743" y="1670"/>
                  </a:lnTo>
                  <a:lnTo>
                    <a:pt x="1735" y="1677"/>
                  </a:lnTo>
                  <a:lnTo>
                    <a:pt x="1727" y="1685"/>
                  </a:lnTo>
                  <a:lnTo>
                    <a:pt x="1718" y="1694"/>
                  </a:lnTo>
                  <a:lnTo>
                    <a:pt x="1709" y="1704"/>
                  </a:lnTo>
                  <a:lnTo>
                    <a:pt x="1700" y="1710"/>
                  </a:lnTo>
                  <a:lnTo>
                    <a:pt x="1690" y="1716"/>
                  </a:lnTo>
                  <a:lnTo>
                    <a:pt x="1682" y="1717"/>
                  </a:lnTo>
                  <a:lnTo>
                    <a:pt x="1674" y="1716"/>
                  </a:lnTo>
                  <a:lnTo>
                    <a:pt x="1667" y="1712"/>
                  </a:lnTo>
                  <a:lnTo>
                    <a:pt x="1662" y="1706"/>
                  </a:lnTo>
                  <a:lnTo>
                    <a:pt x="1657" y="1700"/>
                  </a:lnTo>
                  <a:lnTo>
                    <a:pt x="1652" y="1694"/>
                  </a:lnTo>
                  <a:lnTo>
                    <a:pt x="1648" y="1687"/>
                  </a:lnTo>
                  <a:lnTo>
                    <a:pt x="1644" y="1682"/>
                  </a:lnTo>
                  <a:lnTo>
                    <a:pt x="1640" y="1676"/>
                  </a:lnTo>
                  <a:lnTo>
                    <a:pt x="1635" y="1670"/>
                  </a:lnTo>
                  <a:lnTo>
                    <a:pt x="1631" y="1666"/>
                  </a:lnTo>
                  <a:lnTo>
                    <a:pt x="1626" y="1661"/>
                  </a:lnTo>
                  <a:lnTo>
                    <a:pt x="1623" y="1656"/>
                  </a:lnTo>
                  <a:lnTo>
                    <a:pt x="1619" y="1653"/>
                  </a:lnTo>
                  <a:lnTo>
                    <a:pt x="1614" y="1651"/>
                  </a:lnTo>
                  <a:lnTo>
                    <a:pt x="1610" y="1652"/>
                  </a:lnTo>
                  <a:lnTo>
                    <a:pt x="1605" y="1654"/>
                  </a:lnTo>
                  <a:lnTo>
                    <a:pt x="1598" y="1660"/>
                  </a:lnTo>
                  <a:lnTo>
                    <a:pt x="1591" y="1668"/>
                  </a:lnTo>
                  <a:lnTo>
                    <a:pt x="1584" y="1676"/>
                  </a:lnTo>
                  <a:lnTo>
                    <a:pt x="1578" y="1683"/>
                  </a:lnTo>
                  <a:lnTo>
                    <a:pt x="1571" y="1689"/>
                  </a:lnTo>
                  <a:lnTo>
                    <a:pt x="1564" y="1692"/>
                  </a:lnTo>
                  <a:lnTo>
                    <a:pt x="1556" y="1693"/>
                  </a:lnTo>
                  <a:lnTo>
                    <a:pt x="1546" y="1692"/>
                  </a:lnTo>
                  <a:lnTo>
                    <a:pt x="1536" y="1686"/>
                  </a:lnTo>
                  <a:lnTo>
                    <a:pt x="1526" y="1679"/>
                  </a:lnTo>
                  <a:lnTo>
                    <a:pt x="1518" y="1675"/>
                  </a:lnTo>
                  <a:lnTo>
                    <a:pt x="1510" y="1671"/>
                  </a:lnTo>
                  <a:lnTo>
                    <a:pt x="1504" y="1669"/>
                  </a:lnTo>
                  <a:lnTo>
                    <a:pt x="1497" y="1668"/>
                  </a:lnTo>
                  <a:lnTo>
                    <a:pt x="1491" y="1667"/>
                  </a:lnTo>
                  <a:lnTo>
                    <a:pt x="1484" y="1667"/>
                  </a:lnTo>
                  <a:lnTo>
                    <a:pt x="1476" y="1667"/>
                  </a:lnTo>
                  <a:lnTo>
                    <a:pt x="1467" y="1666"/>
                  </a:lnTo>
                  <a:lnTo>
                    <a:pt x="1455" y="1662"/>
                  </a:lnTo>
                  <a:lnTo>
                    <a:pt x="1444" y="1657"/>
                  </a:lnTo>
                  <a:lnTo>
                    <a:pt x="1432" y="1651"/>
                  </a:lnTo>
                  <a:lnTo>
                    <a:pt x="1421" y="1644"/>
                  </a:lnTo>
                  <a:lnTo>
                    <a:pt x="1411" y="1636"/>
                  </a:lnTo>
                  <a:lnTo>
                    <a:pt x="1402" y="1629"/>
                  </a:lnTo>
                  <a:lnTo>
                    <a:pt x="1398" y="1621"/>
                  </a:lnTo>
                  <a:lnTo>
                    <a:pt x="1392" y="1604"/>
                  </a:lnTo>
                  <a:lnTo>
                    <a:pt x="1389" y="1587"/>
                  </a:lnTo>
                  <a:lnTo>
                    <a:pt x="1387" y="1569"/>
                  </a:lnTo>
                  <a:lnTo>
                    <a:pt x="1387" y="1551"/>
                  </a:lnTo>
                  <a:lnTo>
                    <a:pt x="1385" y="1534"/>
                  </a:lnTo>
                  <a:lnTo>
                    <a:pt x="1379" y="1518"/>
                  </a:lnTo>
                  <a:lnTo>
                    <a:pt x="1370" y="1505"/>
                  </a:lnTo>
                  <a:lnTo>
                    <a:pt x="1358" y="1499"/>
                  </a:lnTo>
                  <a:lnTo>
                    <a:pt x="1351" y="1497"/>
                  </a:lnTo>
                  <a:lnTo>
                    <a:pt x="1344" y="1496"/>
                  </a:lnTo>
                  <a:lnTo>
                    <a:pt x="1337" y="1494"/>
                  </a:lnTo>
                  <a:lnTo>
                    <a:pt x="1331" y="1492"/>
                  </a:lnTo>
                  <a:lnTo>
                    <a:pt x="1328" y="1488"/>
                  </a:lnTo>
                  <a:lnTo>
                    <a:pt x="1324" y="1484"/>
                  </a:lnTo>
                  <a:lnTo>
                    <a:pt x="1324" y="1479"/>
                  </a:lnTo>
                  <a:lnTo>
                    <a:pt x="1325" y="1472"/>
                  </a:lnTo>
                  <a:lnTo>
                    <a:pt x="1329" y="1455"/>
                  </a:lnTo>
                  <a:lnTo>
                    <a:pt x="1329" y="1436"/>
                  </a:lnTo>
                  <a:lnTo>
                    <a:pt x="1324" y="1425"/>
                  </a:lnTo>
                  <a:lnTo>
                    <a:pt x="1315" y="1426"/>
                  </a:lnTo>
                  <a:lnTo>
                    <a:pt x="1303" y="1437"/>
                  </a:lnTo>
                  <a:lnTo>
                    <a:pt x="1295" y="1449"/>
                  </a:lnTo>
                  <a:lnTo>
                    <a:pt x="1287" y="1454"/>
                  </a:lnTo>
                  <a:lnTo>
                    <a:pt x="1281" y="1446"/>
                  </a:lnTo>
                  <a:lnTo>
                    <a:pt x="1279" y="1429"/>
                  </a:lnTo>
                  <a:lnTo>
                    <a:pt x="1281" y="1416"/>
                  </a:lnTo>
                  <a:lnTo>
                    <a:pt x="1286" y="1403"/>
                  </a:lnTo>
                  <a:lnTo>
                    <a:pt x="1292" y="1387"/>
                  </a:lnTo>
                  <a:lnTo>
                    <a:pt x="1299" y="1370"/>
                  </a:lnTo>
                  <a:lnTo>
                    <a:pt x="1306" y="1355"/>
                  </a:lnTo>
                  <a:lnTo>
                    <a:pt x="1313" y="1343"/>
                  </a:lnTo>
                  <a:lnTo>
                    <a:pt x="1315" y="1334"/>
                  </a:lnTo>
                  <a:lnTo>
                    <a:pt x="1313" y="1327"/>
                  </a:lnTo>
                  <a:lnTo>
                    <a:pt x="1309" y="1323"/>
                  </a:lnTo>
                  <a:lnTo>
                    <a:pt x="1302" y="1326"/>
                  </a:lnTo>
                  <a:lnTo>
                    <a:pt x="1295" y="1337"/>
                  </a:lnTo>
                  <a:lnTo>
                    <a:pt x="1292" y="1345"/>
                  </a:lnTo>
                  <a:lnTo>
                    <a:pt x="1287" y="1353"/>
                  </a:lnTo>
                  <a:lnTo>
                    <a:pt x="1283" y="1361"/>
                  </a:lnTo>
                  <a:lnTo>
                    <a:pt x="1278" y="1367"/>
                  </a:lnTo>
                  <a:lnTo>
                    <a:pt x="1272" y="1373"/>
                  </a:lnTo>
                  <a:lnTo>
                    <a:pt x="1268" y="1378"/>
                  </a:lnTo>
                  <a:lnTo>
                    <a:pt x="1261" y="1381"/>
                  </a:lnTo>
                  <a:lnTo>
                    <a:pt x="1255" y="1383"/>
                  </a:lnTo>
                  <a:lnTo>
                    <a:pt x="1249" y="1386"/>
                  </a:lnTo>
                  <a:lnTo>
                    <a:pt x="1243" y="1389"/>
                  </a:lnTo>
                  <a:lnTo>
                    <a:pt x="1238" y="1393"/>
                  </a:lnTo>
                  <a:lnTo>
                    <a:pt x="1232" y="1397"/>
                  </a:lnTo>
                  <a:lnTo>
                    <a:pt x="1227" y="1403"/>
                  </a:lnTo>
                  <a:lnTo>
                    <a:pt x="1223" y="1409"/>
                  </a:lnTo>
                  <a:lnTo>
                    <a:pt x="1219" y="1414"/>
                  </a:lnTo>
                  <a:lnTo>
                    <a:pt x="1216" y="1419"/>
                  </a:lnTo>
                  <a:lnTo>
                    <a:pt x="1212" y="1428"/>
                  </a:lnTo>
                  <a:lnTo>
                    <a:pt x="1210" y="1435"/>
                  </a:lnTo>
                  <a:lnTo>
                    <a:pt x="1208" y="1441"/>
                  </a:lnTo>
                  <a:lnTo>
                    <a:pt x="1203" y="1442"/>
                  </a:lnTo>
                  <a:lnTo>
                    <a:pt x="1197" y="1440"/>
                  </a:lnTo>
                  <a:lnTo>
                    <a:pt x="1195" y="1433"/>
                  </a:lnTo>
                  <a:lnTo>
                    <a:pt x="1190" y="1420"/>
                  </a:lnTo>
                  <a:lnTo>
                    <a:pt x="1180" y="1399"/>
                  </a:lnTo>
                  <a:lnTo>
                    <a:pt x="1172" y="1385"/>
                  </a:lnTo>
                  <a:lnTo>
                    <a:pt x="1162" y="1367"/>
                  </a:lnTo>
                  <a:lnTo>
                    <a:pt x="1150" y="1349"/>
                  </a:lnTo>
                  <a:lnTo>
                    <a:pt x="1136" y="1328"/>
                  </a:lnTo>
                  <a:lnTo>
                    <a:pt x="1120" y="1310"/>
                  </a:lnTo>
                  <a:lnTo>
                    <a:pt x="1102" y="1292"/>
                  </a:lnTo>
                  <a:lnTo>
                    <a:pt x="1081" y="1279"/>
                  </a:lnTo>
                  <a:lnTo>
                    <a:pt x="1058" y="1268"/>
                  </a:lnTo>
                  <a:lnTo>
                    <a:pt x="1045" y="1265"/>
                  </a:lnTo>
                  <a:lnTo>
                    <a:pt x="1033" y="1260"/>
                  </a:lnTo>
                  <a:lnTo>
                    <a:pt x="1020" y="1257"/>
                  </a:lnTo>
                  <a:lnTo>
                    <a:pt x="1006" y="1253"/>
                  </a:lnTo>
                  <a:lnTo>
                    <a:pt x="992" y="1250"/>
                  </a:lnTo>
                  <a:lnTo>
                    <a:pt x="978" y="1247"/>
                  </a:lnTo>
                  <a:lnTo>
                    <a:pt x="965" y="1245"/>
                  </a:lnTo>
                  <a:lnTo>
                    <a:pt x="951" y="1243"/>
                  </a:lnTo>
                  <a:lnTo>
                    <a:pt x="936" y="1242"/>
                  </a:lnTo>
                  <a:lnTo>
                    <a:pt x="921" y="1242"/>
                  </a:lnTo>
                  <a:lnTo>
                    <a:pt x="906" y="1243"/>
                  </a:lnTo>
                  <a:lnTo>
                    <a:pt x="891" y="1244"/>
                  </a:lnTo>
                  <a:lnTo>
                    <a:pt x="876" y="1246"/>
                  </a:lnTo>
                  <a:lnTo>
                    <a:pt x="860" y="1250"/>
                  </a:lnTo>
                  <a:lnTo>
                    <a:pt x="844" y="1256"/>
                  </a:lnTo>
                  <a:lnTo>
                    <a:pt x="828" y="1261"/>
                  </a:lnTo>
                  <a:lnTo>
                    <a:pt x="799" y="1273"/>
                  </a:lnTo>
                  <a:lnTo>
                    <a:pt x="779" y="1281"/>
                  </a:lnTo>
                  <a:lnTo>
                    <a:pt x="766" y="1287"/>
                  </a:lnTo>
                  <a:lnTo>
                    <a:pt x="757" y="1290"/>
                  </a:lnTo>
                  <a:lnTo>
                    <a:pt x="751" y="1290"/>
                  </a:lnTo>
                  <a:lnTo>
                    <a:pt x="746" y="1290"/>
                  </a:lnTo>
                  <a:lnTo>
                    <a:pt x="739" y="1288"/>
                  </a:lnTo>
                  <a:lnTo>
                    <a:pt x="728" y="1284"/>
                  </a:lnTo>
                  <a:lnTo>
                    <a:pt x="717" y="1282"/>
                  </a:lnTo>
                  <a:lnTo>
                    <a:pt x="707" y="1284"/>
                  </a:lnTo>
                  <a:lnTo>
                    <a:pt x="696" y="1289"/>
                  </a:lnTo>
                  <a:lnTo>
                    <a:pt x="688" y="1295"/>
                  </a:lnTo>
                  <a:lnTo>
                    <a:pt x="679" y="1303"/>
                  </a:lnTo>
                  <a:lnTo>
                    <a:pt x="671" y="1311"/>
                  </a:lnTo>
                  <a:lnTo>
                    <a:pt x="662" y="1318"/>
                  </a:lnTo>
                  <a:lnTo>
                    <a:pt x="652" y="1323"/>
                  </a:lnTo>
                  <a:lnTo>
                    <a:pt x="643" y="1329"/>
                  </a:lnTo>
                  <a:lnTo>
                    <a:pt x="636" y="1334"/>
                  </a:lnTo>
                  <a:lnTo>
                    <a:pt x="630" y="1340"/>
                  </a:lnTo>
                  <a:lnTo>
                    <a:pt x="625" y="1346"/>
                  </a:lnTo>
                  <a:lnTo>
                    <a:pt x="621" y="1352"/>
                  </a:lnTo>
                  <a:lnTo>
                    <a:pt x="617" y="1359"/>
                  </a:lnTo>
                  <a:lnTo>
                    <a:pt x="613" y="1366"/>
                  </a:lnTo>
                  <a:lnTo>
                    <a:pt x="610" y="1373"/>
                  </a:lnTo>
                  <a:lnTo>
                    <a:pt x="606" y="1380"/>
                  </a:lnTo>
                  <a:lnTo>
                    <a:pt x="604" y="1386"/>
                  </a:lnTo>
                  <a:lnTo>
                    <a:pt x="601" y="1390"/>
                  </a:lnTo>
                  <a:lnTo>
                    <a:pt x="597" y="1393"/>
                  </a:lnTo>
                  <a:lnTo>
                    <a:pt x="592" y="1395"/>
                  </a:lnTo>
                  <a:lnTo>
                    <a:pt x="586" y="1397"/>
                  </a:lnTo>
                  <a:lnTo>
                    <a:pt x="576" y="1397"/>
                  </a:lnTo>
                  <a:lnTo>
                    <a:pt x="564" y="1396"/>
                  </a:lnTo>
                  <a:lnTo>
                    <a:pt x="546" y="1395"/>
                  </a:lnTo>
                  <a:lnTo>
                    <a:pt x="527" y="1395"/>
                  </a:lnTo>
                  <a:lnTo>
                    <a:pt x="504" y="1395"/>
                  </a:lnTo>
                  <a:lnTo>
                    <a:pt x="481" y="1396"/>
                  </a:lnTo>
                  <a:lnTo>
                    <a:pt x="458" y="1398"/>
                  </a:lnTo>
                  <a:lnTo>
                    <a:pt x="437" y="1402"/>
                  </a:lnTo>
                  <a:lnTo>
                    <a:pt x="418" y="1408"/>
                  </a:lnTo>
                  <a:lnTo>
                    <a:pt x="405" y="1416"/>
                  </a:lnTo>
                  <a:lnTo>
                    <a:pt x="393" y="1425"/>
                  </a:lnTo>
                  <a:lnTo>
                    <a:pt x="382" y="1435"/>
                  </a:lnTo>
                  <a:lnTo>
                    <a:pt x="369" y="1447"/>
                  </a:lnTo>
                  <a:lnTo>
                    <a:pt x="356" y="1457"/>
                  </a:lnTo>
                  <a:lnTo>
                    <a:pt x="344" y="1466"/>
                  </a:lnTo>
                  <a:lnTo>
                    <a:pt x="330" y="1475"/>
                  </a:lnTo>
                  <a:lnTo>
                    <a:pt x="317" y="1481"/>
                  </a:lnTo>
                  <a:lnTo>
                    <a:pt x="303" y="1486"/>
                  </a:lnTo>
                  <a:lnTo>
                    <a:pt x="289" y="1486"/>
                  </a:lnTo>
                  <a:lnTo>
                    <a:pt x="274" y="1484"/>
                  </a:lnTo>
                  <a:lnTo>
                    <a:pt x="259" y="1479"/>
                  </a:lnTo>
                  <a:lnTo>
                    <a:pt x="245" y="1473"/>
                  </a:lnTo>
                  <a:lnTo>
                    <a:pt x="231" y="1467"/>
                  </a:lnTo>
                  <a:lnTo>
                    <a:pt x="217" y="1462"/>
                  </a:lnTo>
                  <a:lnTo>
                    <a:pt x="204" y="1457"/>
                  </a:lnTo>
                  <a:lnTo>
                    <a:pt x="194" y="1456"/>
                  </a:lnTo>
                  <a:lnTo>
                    <a:pt x="178" y="1452"/>
                  </a:lnTo>
                  <a:lnTo>
                    <a:pt x="170" y="1444"/>
                  </a:lnTo>
                  <a:lnTo>
                    <a:pt x="166" y="1432"/>
                  </a:lnTo>
                  <a:lnTo>
                    <a:pt x="167" y="1419"/>
                  </a:lnTo>
                  <a:lnTo>
                    <a:pt x="173" y="1410"/>
                  </a:lnTo>
                  <a:lnTo>
                    <a:pt x="181" y="1402"/>
                  </a:lnTo>
                  <a:lnTo>
                    <a:pt x="189" y="1394"/>
                  </a:lnTo>
                  <a:lnTo>
                    <a:pt x="190" y="1380"/>
                  </a:lnTo>
                  <a:lnTo>
                    <a:pt x="189" y="1364"/>
                  </a:lnTo>
                  <a:lnTo>
                    <a:pt x="190" y="1349"/>
                  </a:lnTo>
                  <a:lnTo>
                    <a:pt x="192" y="1333"/>
                  </a:lnTo>
                  <a:lnTo>
                    <a:pt x="190" y="1314"/>
                  </a:lnTo>
                  <a:lnTo>
                    <a:pt x="188" y="1304"/>
                  </a:lnTo>
                  <a:lnTo>
                    <a:pt x="182" y="1294"/>
                  </a:lnTo>
                  <a:lnTo>
                    <a:pt x="175" y="1283"/>
                  </a:lnTo>
                  <a:lnTo>
                    <a:pt x="168" y="1273"/>
                  </a:lnTo>
                  <a:lnTo>
                    <a:pt x="160" y="1261"/>
                  </a:lnTo>
                  <a:lnTo>
                    <a:pt x="152" y="1250"/>
                  </a:lnTo>
                  <a:lnTo>
                    <a:pt x="145" y="1239"/>
                  </a:lnTo>
                  <a:lnTo>
                    <a:pt x="141" y="1228"/>
                  </a:lnTo>
                  <a:lnTo>
                    <a:pt x="137" y="1215"/>
                  </a:lnTo>
                  <a:lnTo>
                    <a:pt x="135" y="1201"/>
                  </a:lnTo>
                  <a:lnTo>
                    <a:pt x="133" y="1185"/>
                  </a:lnTo>
                  <a:lnTo>
                    <a:pt x="129" y="1169"/>
                  </a:lnTo>
                  <a:lnTo>
                    <a:pt x="126" y="1154"/>
                  </a:lnTo>
                  <a:lnTo>
                    <a:pt x="120" y="1139"/>
                  </a:lnTo>
                  <a:lnTo>
                    <a:pt x="114" y="1127"/>
                  </a:lnTo>
                  <a:lnTo>
                    <a:pt x="105" y="1116"/>
                  </a:lnTo>
                  <a:lnTo>
                    <a:pt x="95" y="1106"/>
                  </a:lnTo>
                  <a:lnTo>
                    <a:pt x="86" y="1093"/>
                  </a:lnTo>
                  <a:lnTo>
                    <a:pt x="75" y="1079"/>
                  </a:lnTo>
                  <a:lnTo>
                    <a:pt x="66" y="1064"/>
                  </a:lnTo>
                  <a:lnTo>
                    <a:pt x="58" y="1048"/>
                  </a:lnTo>
                  <a:lnTo>
                    <a:pt x="51" y="1033"/>
                  </a:lnTo>
                  <a:lnTo>
                    <a:pt x="45" y="1019"/>
                  </a:lnTo>
                  <a:lnTo>
                    <a:pt x="42" y="1008"/>
                  </a:lnTo>
                  <a:lnTo>
                    <a:pt x="42" y="998"/>
                  </a:lnTo>
                  <a:lnTo>
                    <a:pt x="44" y="989"/>
                  </a:lnTo>
                  <a:lnTo>
                    <a:pt x="49" y="983"/>
                  </a:lnTo>
                  <a:lnTo>
                    <a:pt x="53" y="977"/>
                  </a:lnTo>
                  <a:lnTo>
                    <a:pt x="57" y="970"/>
                  </a:lnTo>
                  <a:lnTo>
                    <a:pt x="58" y="962"/>
                  </a:lnTo>
                  <a:lnTo>
                    <a:pt x="56" y="954"/>
                  </a:lnTo>
                  <a:lnTo>
                    <a:pt x="49" y="942"/>
                  </a:lnTo>
                  <a:lnTo>
                    <a:pt x="38" y="928"/>
                  </a:lnTo>
                  <a:lnTo>
                    <a:pt x="29" y="915"/>
                  </a:lnTo>
                  <a:lnTo>
                    <a:pt x="20" y="898"/>
                  </a:lnTo>
                  <a:lnTo>
                    <a:pt x="12" y="884"/>
                  </a:lnTo>
                  <a:lnTo>
                    <a:pt x="6" y="869"/>
                  </a:lnTo>
                  <a:lnTo>
                    <a:pt x="1" y="855"/>
                  </a:lnTo>
                  <a:lnTo>
                    <a:pt x="0" y="843"/>
                  </a:lnTo>
                  <a:lnTo>
                    <a:pt x="3" y="833"/>
                  </a:lnTo>
                  <a:lnTo>
                    <a:pt x="8" y="817"/>
                  </a:lnTo>
                  <a:lnTo>
                    <a:pt x="12" y="801"/>
                  </a:lnTo>
                  <a:lnTo>
                    <a:pt x="12" y="786"/>
                  </a:lnTo>
                  <a:lnTo>
                    <a:pt x="9" y="771"/>
                  </a:lnTo>
                  <a:lnTo>
                    <a:pt x="7" y="752"/>
                  </a:lnTo>
                  <a:lnTo>
                    <a:pt x="9" y="733"/>
                  </a:lnTo>
                  <a:lnTo>
                    <a:pt x="15" y="715"/>
                  </a:lnTo>
                  <a:lnTo>
                    <a:pt x="22" y="708"/>
                  </a:lnTo>
                  <a:lnTo>
                    <a:pt x="27" y="715"/>
                  </a:lnTo>
                  <a:lnTo>
                    <a:pt x="29" y="730"/>
                  </a:lnTo>
                  <a:lnTo>
                    <a:pt x="34" y="740"/>
                  </a:lnTo>
                  <a:lnTo>
                    <a:pt x="45" y="731"/>
                  </a:lnTo>
                  <a:lnTo>
                    <a:pt x="58" y="715"/>
                  </a:lnTo>
                  <a:lnTo>
                    <a:pt x="64" y="704"/>
                  </a:lnTo>
                  <a:lnTo>
                    <a:pt x="68" y="698"/>
                  </a:lnTo>
                  <a:lnTo>
                    <a:pt x="79" y="695"/>
                  </a:lnTo>
                  <a:lnTo>
                    <a:pt x="81" y="692"/>
                  </a:lnTo>
                  <a:lnTo>
                    <a:pt x="87" y="687"/>
                  </a:lnTo>
                  <a:lnTo>
                    <a:pt x="95" y="679"/>
                  </a:lnTo>
                  <a:lnTo>
                    <a:pt x="105" y="668"/>
                  </a:lnTo>
                  <a:lnTo>
                    <a:pt x="114" y="658"/>
                  </a:lnTo>
                  <a:lnTo>
                    <a:pt x="125" y="647"/>
                  </a:lnTo>
                  <a:lnTo>
                    <a:pt x="133" y="638"/>
                  </a:lnTo>
                  <a:lnTo>
                    <a:pt x="137" y="632"/>
                  </a:lnTo>
                  <a:lnTo>
                    <a:pt x="142" y="628"/>
                  </a:lnTo>
                  <a:lnTo>
                    <a:pt x="148" y="623"/>
                  </a:lnTo>
                  <a:lnTo>
                    <a:pt x="156" y="620"/>
                  </a:lnTo>
                  <a:lnTo>
                    <a:pt x="164" y="617"/>
                  </a:lnTo>
                  <a:lnTo>
                    <a:pt x="172" y="616"/>
                  </a:lnTo>
                  <a:lnTo>
                    <a:pt x="180" y="616"/>
                  </a:lnTo>
                  <a:lnTo>
                    <a:pt x="187" y="616"/>
                  </a:lnTo>
                  <a:lnTo>
                    <a:pt x="194" y="619"/>
                  </a:lnTo>
                  <a:lnTo>
                    <a:pt x="200" y="620"/>
                  </a:lnTo>
                  <a:lnTo>
                    <a:pt x="205" y="620"/>
                  </a:lnTo>
                  <a:lnTo>
                    <a:pt x="210" y="617"/>
                  </a:lnTo>
                  <a:lnTo>
                    <a:pt x="215" y="614"/>
                  </a:lnTo>
                  <a:lnTo>
                    <a:pt x="219" y="611"/>
                  </a:lnTo>
                  <a:lnTo>
                    <a:pt x="224" y="606"/>
                  </a:lnTo>
                  <a:lnTo>
                    <a:pt x="228" y="602"/>
                  </a:lnTo>
                  <a:lnTo>
                    <a:pt x="233" y="599"/>
                  </a:lnTo>
                  <a:lnTo>
                    <a:pt x="239" y="597"/>
                  </a:lnTo>
                  <a:lnTo>
                    <a:pt x="246" y="594"/>
                  </a:lnTo>
                  <a:lnTo>
                    <a:pt x="253" y="593"/>
                  </a:lnTo>
                  <a:lnTo>
                    <a:pt x="259" y="592"/>
                  </a:lnTo>
                  <a:lnTo>
                    <a:pt x="266" y="590"/>
                  </a:lnTo>
                  <a:lnTo>
                    <a:pt x="272" y="589"/>
                  </a:lnTo>
                  <a:lnTo>
                    <a:pt x="277" y="586"/>
                  </a:lnTo>
                  <a:lnTo>
                    <a:pt x="280" y="583"/>
                  </a:lnTo>
                  <a:lnTo>
                    <a:pt x="284" y="576"/>
                  </a:lnTo>
                  <a:lnTo>
                    <a:pt x="288" y="573"/>
                  </a:lnTo>
                  <a:lnTo>
                    <a:pt x="294" y="570"/>
                  </a:lnTo>
                  <a:lnTo>
                    <a:pt x="306" y="569"/>
                  </a:lnTo>
                  <a:lnTo>
                    <a:pt x="315" y="569"/>
                  </a:lnTo>
                  <a:lnTo>
                    <a:pt x="326" y="568"/>
                  </a:lnTo>
                  <a:lnTo>
                    <a:pt x="340" y="564"/>
                  </a:lnTo>
                  <a:lnTo>
                    <a:pt x="355" y="560"/>
                  </a:lnTo>
                  <a:lnTo>
                    <a:pt x="370" y="554"/>
                  </a:lnTo>
                  <a:lnTo>
                    <a:pt x="385" y="544"/>
                  </a:lnTo>
                  <a:lnTo>
                    <a:pt x="399" y="532"/>
                  </a:lnTo>
                  <a:lnTo>
                    <a:pt x="412" y="516"/>
                  </a:lnTo>
                  <a:lnTo>
                    <a:pt x="422" y="501"/>
                  </a:lnTo>
                  <a:lnTo>
                    <a:pt x="431" y="488"/>
                  </a:lnTo>
                  <a:lnTo>
                    <a:pt x="438" y="479"/>
                  </a:lnTo>
                  <a:lnTo>
                    <a:pt x="445" y="471"/>
                  </a:lnTo>
                  <a:lnTo>
                    <a:pt x="450" y="465"/>
                  </a:lnTo>
                  <a:lnTo>
                    <a:pt x="453" y="460"/>
                  </a:lnTo>
                  <a:lnTo>
                    <a:pt x="455" y="454"/>
                  </a:lnTo>
                  <a:lnTo>
                    <a:pt x="458" y="447"/>
                  </a:lnTo>
                  <a:lnTo>
                    <a:pt x="458" y="433"/>
                  </a:lnTo>
                  <a:lnTo>
                    <a:pt x="455" y="422"/>
                  </a:lnTo>
                  <a:lnTo>
                    <a:pt x="454" y="408"/>
                  </a:lnTo>
                  <a:lnTo>
                    <a:pt x="458" y="392"/>
                  </a:lnTo>
                  <a:lnTo>
                    <a:pt x="462" y="381"/>
                  </a:lnTo>
                  <a:lnTo>
                    <a:pt x="468" y="370"/>
                  </a:lnTo>
                  <a:lnTo>
                    <a:pt x="474" y="359"/>
                  </a:lnTo>
                  <a:lnTo>
                    <a:pt x="481" y="349"/>
                  </a:lnTo>
                  <a:lnTo>
                    <a:pt x="486" y="342"/>
                  </a:lnTo>
                  <a:lnTo>
                    <a:pt x="492" y="339"/>
                  </a:lnTo>
                  <a:lnTo>
                    <a:pt x="497" y="339"/>
                  </a:lnTo>
                  <a:lnTo>
                    <a:pt x="500" y="345"/>
                  </a:lnTo>
                  <a:lnTo>
                    <a:pt x="507" y="365"/>
                  </a:lnTo>
                  <a:lnTo>
                    <a:pt x="516" y="385"/>
                  </a:lnTo>
                  <a:lnTo>
                    <a:pt x="526" y="394"/>
                  </a:lnTo>
                  <a:lnTo>
                    <a:pt x="530" y="385"/>
                  </a:lnTo>
                  <a:lnTo>
                    <a:pt x="531" y="364"/>
                  </a:lnTo>
                  <a:lnTo>
                    <a:pt x="531" y="349"/>
                  </a:lnTo>
                  <a:lnTo>
                    <a:pt x="530" y="339"/>
                  </a:lnTo>
                  <a:lnTo>
                    <a:pt x="530" y="335"/>
                  </a:lnTo>
                  <a:lnTo>
                    <a:pt x="531" y="336"/>
                  </a:lnTo>
                  <a:lnTo>
                    <a:pt x="536" y="338"/>
                  </a:lnTo>
                  <a:lnTo>
                    <a:pt x="542" y="340"/>
                  </a:lnTo>
                  <a:lnTo>
                    <a:pt x="549" y="341"/>
                  </a:lnTo>
                  <a:lnTo>
                    <a:pt x="556" y="342"/>
                  </a:lnTo>
                  <a:lnTo>
                    <a:pt x="563" y="342"/>
                  </a:lnTo>
                  <a:lnTo>
                    <a:pt x="568" y="340"/>
                  </a:lnTo>
                  <a:lnTo>
                    <a:pt x="573" y="335"/>
                  </a:lnTo>
                  <a:lnTo>
                    <a:pt x="576" y="324"/>
                  </a:lnTo>
                  <a:lnTo>
                    <a:pt x="575" y="313"/>
                  </a:lnTo>
                  <a:lnTo>
                    <a:pt x="572" y="302"/>
                  </a:lnTo>
                  <a:lnTo>
                    <a:pt x="573" y="289"/>
                  </a:lnTo>
                  <a:lnTo>
                    <a:pt x="579" y="279"/>
                  </a:lnTo>
                  <a:lnTo>
                    <a:pt x="587" y="275"/>
                  </a:lnTo>
                  <a:lnTo>
                    <a:pt x="595" y="274"/>
                  </a:lnTo>
                  <a:lnTo>
                    <a:pt x="603" y="270"/>
                  </a:lnTo>
                  <a:lnTo>
                    <a:pt x="610" y="264"/>
                  </a:lnTo>
                  <a:lnTo>
                    <a:pt x="616" y="259"/>
                  </a:lnTo>
                  <a:lnTo>
                    <a:pt x="619" y="254"/>
                  </a:lnTo>
                  <a:lnTo>
                    <a:pt x="620" y="243"/>
                  </a:lnTo>
                  <a:lnTo>
                    <a:pt x="621" y="236"/>
                  </a:lnTo>
                  <a:lnTo>
                    <a:pt x="624" y="229"/>
                  </a:lnTo>
                  <a:lnTo>
                    <a:pt x="627" y="225"/>
                  </a:lnTo>
                  <a:lnTo>
                    <a:pt x="632" y="220"/>
                  </a:lnTo>
                  <a:lnTo>
                    <a:pt x="637" y="217"/>
                  </a:lnTo>
                  <a:lnTo>
                    <a:pt x="643" y="213"/>
                  </a:lnTo>
                  <a:lnTo>
                    <a:pt x="650" y="211"/>
                  </a:lnTo>
                  <a:lnTo>
                    <a:pt x="656" y="210"/>
                  </a:lnTo>
                  <a:lnTo>
                    <a:pt x="662" y="209"/>
                  </a:lnTo>
                  <a:lnTo>
                    <a:pt x="667" y="206"/>
                  </a:lnTo>
                  <a:lnTo>
                    <a:pt x="672" y="204"/>
                  </a:lnTo>
                  <a:lnTo>
                    <a:pt x="677" y="202"/>
                  </a:lnTo>
                  <a:lnTo>
                    <a:pt x="681" y="198"/>
                  </a:lnTo>
                  <a:lnTo>
                    <a:pt x="685" y="195"/>
                  </a:lnTo>
                  <a:lnTo>
                    <a:pt x="689" y="191"/>
                  </a:lnTo>
                  <a:lnTo>
                    <a:pt x="693" y="187"/>
                  </a:lnTo>
                  <a:lnTo>
                    <a:pt x="696" y="181"/>
                  </a:lnTo>
                  <a:lnTo>
                    <a:pt x="701" y="176"/>
                  </a:lnTo>
                  <a:lnTo>
                    <a:pt x="705" y="171"/>
                  </a:lnTo>
                  <a:lnTo>
                    <a:pt x="710" y="166"/>
                  </a:lnTo>
                  <a:lnTo>
                    <a:pt x="715" y="163"/>
                  </a:lnTo>
                  <a:lnTo>
                    <a:pt x="720" y="161"/>
                  </a:lnTo>
                  <a:lnTo>
                    <a:pt x="726" y="163"/>
                  </a:lnTo>
                  <a:lnTo>
                    <a:pt x="732" y="167"/>
                  </a:lnTo>
                  <a:lnTo>
                    <a:pt x="739" y="174"/>
                  </a:lnTo>
                  <a:lnTo>
                    <a:pt x="748" y="181"/>
                  </a:lnTo>
                  <a:lnTo>
                    <a:pt x="758" y="189"/>
                  </a:lnTo>
                  <a:lnTo>
                    <a:pt x="769" y="198"/>
                  </a:lnTo>
                  <a:lnTo>
                    <a:pt x="778" y="206"/>
                  </a:lnTo>
                  <a:lnTo>
                    <a:pt x="786" y="213"/>
                  </a:lnTo>
                  <a:lnTo>
                    <a:pt x="791" y="220"/>
                  </a:lnTo>
                  <a:lnTo>
                    <a:pt x="792" y="226"/>
                  </a:lnTo>
                  <a:lnTo>
                    <a:pt x="791" y="234"/>
                  </a:lnTo>
                  <a:lnTo>
                    <a:pt x="792" y="237"/>
                  </a:lnTo>
                  <a:lnTo>
                    <a:pt x="796" y="236"/>
                  </a:lnTo>
                  <a:lnTo>
                    <a:pt x="804" y="233"/>
                  </a:lnTo>
                  <a:lnTo>
                    <a:pt x="815" y="228"/>
                  </a:lnTo>
                  <a:lnTo>
                    <a:pt x="824" y="225"/>
                  </a:lnTo>
                  <a:lnTo>
                    <a:pt x="831" y="228"/>
                  </a:lnTo>
                  <a:lnTo>
                    <a:pt x="834" y="240"/>
                  </a:lnTo>
                  <a:lnTo>
                    <a:pt x="837" y="249"/>
                  </a:lnTo>
                  <a:lnTo>
                    <a:pt x="844" y="245"/>
                  </a:lnTo>
                  <a:lnTo>
                    <a:pt x="853" y="239"/>
                  </a:lnTo>
                  <a:lnTo>
                    <a:pt x="867" y="236"/>
                  </a:lnTo>
                  <a:lnTo>
                    <a:pt x="877" y="236"/>
                  </a:lnTo>
                  <a:lnTo>
                    <a:pt x="881" y="230"/>
                  </a:lnTo>
                  <a:lnTo>
                    <a:pt x="877" y="222"/>
                  </a:lnTo>
                  <a:lnTo>
                    <a:pt x="870" y="213"/>
                  </a:lnTo>
                  <a:lnTo>
                    <a:pt x="867" y="204"/>
                  </a:lnTo>
                  <a:lnTo>
                    <a:pt x="870" y="197"/>
                  </a:lnTo>
                  <a:lnTo>
                    <a:pt x="876" y="188"/>
                  </a:lnTo>
                  <a:lnTo>
                    <a:pt x="884" y="174"/>
                  </a:lnTo>
                  <a:lnTo>
                    <a:pt x="892" y="159"/>
                  </a:lnTo>
                  <a:lnTo>
                    <a:pt x="900" y="148"/>
                  </a:lnTo>
                  <a:lnTo>
                    <a:pt x="908" y="138"/>
                  </a:lnTo>
                  <a:lnTo>
                    <a:pt x="913" y="127"/>
                  </a:lnTo>
                  <a:lnTo>
                    <a:pt x="915" y="114"/>
                  </a:lnTo>
                  <a:lnTo>
                    <a:pt x="919" y="102"/>
                  </a:lnTo>
                  <a:lnTo>
                    <a:pt x="927" y="90"/>
                  </a:lnTo>
                  <a:lnTo>
                    <a:pt x="938" y="81"/>
                  </a:lnTo>
                  <a:lnTo>
                    <a:pt x="945" y="77"/>
                  </a:lnTo>
                  <a:lnTo>
                    <a:pt x="952" y="75"/>
                  </a:lnTo>
                  <a:lnTo>
                    <a:pt x="959" y="73"/>
                  </a:lnTo>
                  <a:lnTo>
                    <a:pt x="966" y="72"/>
                  </a:lnTo>
                  <a:lnTo>
                    <a:pt x="973" y="70"/>
                  </a:lnTo>
                  <a:lnTo>
                    <a:pt x="982" y="70"/>
                  </a:lnTo>
                  <a:lnTo>
                    <a:pt x="992" y="70"/>
                  </a:lnTo>
                  <a:lnTo>
                    <a:pt x="1005" y="72"/>
                  </a:lnTo>
                  <a:lnTo>
                    <a:pt x="1018" y="73"/>
                  </a:lnTo>
                  <a:lnTo>
                    <a:pt x="1028" y="73"/>
                  </a:lnTo>
                  <a:lnTo>
                    <a:pt x="1037" y="70"/>
                  </a:lnTo>
                  <a:lnTo>
                    <a:pt x="1044" y="68"/>
                  </a:lnTo>
                  <a:lnTo>
                    <a:pt x="1049" y="66"/>
                  </a:lnTo>
                  <a:lnTo>
                    <a:pt x="1051" y="61"/>
                  </a:lnTo>
                  <a:lnTo>
                    <a:pt x="1051" y="55"/>
                  </a:lnTo>
                  <a:lnTo>
                    <a:pt x="1048" y="49"/>
                  </a:lnTo>
                  <a:lnTo>
                    <a:pt x="1042" y="42"/>
                  </a:lnTo>
                  <a:lnTo>
                    <a:pt x="1035" y="37"/>
                  </a:lnTo>
                  <a:lnTo>
                    <a:pt x="1027" y="32"/>
                  </a:lnTo>
                  <a:lnTo>
                    <a:pt x="1020" y="30"/>
                  </a:lnTo>
                  <a:lnTo>
                    <a:pt x="1012" y="29"/>
                  </a:lnTo>
                  <a:lnTo>
                    <a:pt x="1007" y="28"/>
                  </a:lnTo>
                  <a:lnTo>
                    <a:pt x="1003" y="28"/>
                  </a:lnTo>
                  <a:lnTo>
                    <a:pt x="1001" y="28"/>
                  </a:lnTo>
                  <a:lnTo>
                    <a:pt x="1000" y="25"/>
                  </a:lnTo>
                  <a:lnTo>
                    <a:pt x="1001" y="21"/>
                  </a:lnTo>
                  <a:lnTo>
                    <a:pt x="1007" y="17"/>
                  </a:lnTo>
                  <a:lnTo>
                    <a:pt x="1021" y="15"/>
                  </a:lnTo>
                  <a:lnTo>
                    <a:pt x="1030" y="15"/>
                  </a:lnTo>
                  <a:lnTo>
                    <a:pt x="1040" y="15"/>
                  </a:lnTo>
                  <a:lnTo>
                    <a:pt x="1048" y="16"/>
                  </a:lnTo>
                  <a:lnTo>
                    <a:pt x="1056" y="16"/>
                  </a:lnTo>
                  <a:lnTo>
                    <a:pt x="1063" y="19"/>
                  </a:lnTo>
                  <a:lnTo>
                    <a:pt x="1069" y="21"/>
                  </a:lnTo>
                  <a:lnTo>
                    <a:pt x="1075" y="23"/>
                  </a:lnTo>
                  <a:lnTo>
                    <a:pt x="1081" y="28"/>
                  </a:lnTo>
                  <a:lnTo>
                    <a:pt x="1087" y="32"/>
                  </a:lnTo>
                  <a:lnTo>
                    <a:pt x="1093" y="36"/>
                  </a:lnTo>
                  <a:lnTo>
                    <a:pt x="1098" y="37"/>
                  </a:lnTo>
                  <a:lnTo>
                    <a:pt x="1105" y="38"/>
                  </a:lnTo>
                  <a:lnTo>
                    <a:pt x="1112" y="39"/>
                  </a:lnTo>
                  <a:lnTo>
                    <a:pt x="1119" y="40"/>
                  </a:lnTo>
                  <a:lnTo>
                    <a:pt x="1125" y="40"/>
                  </a:lnTo>
                  <a:lnTo>
                    <a:pt x="1131" y="42"/>
                  </a:lnTo>
                  <a:lnTo>
                    <a:pt x="1135" y="44"/>
                  </a:lnTo>
                  <a:lnTo>
                    <a:pt x="1140" y="46"/>
                  </a:lnTo>
                  <a:lnTo>
                    <a:pt x="1144" y="51"/>
                  </a:lnTo>
                  <a:lnTo>
                    <a:pt x="1150" y="54"/>
                  </a:lnTo>
                  <a:lnTo>
                    <a:pt x="1156" y="59"/>
                  </a:lnTo>
                  <a:lnTo>
                    <a:pt x="1163" y="63"/>
                  </a:lnTo>
                  <a:lnTo>
                    <a:pt x="1171" y="66"/>
                  </a:lnTo>
                  <a:lnTo>
                    <a:pt x="1180" y="68"/>
                  </a:lnTo>
                  <a:lnTo>
                    <a:pt x="1189" y="69"/>
                  </a:lnTo>
                  <a:lnTo>
                    <a:pt x="1200" y="68"/>
                  </a:lnTo>
                  <a:lnTo>
                    <a:pt x="1209" y="68"/>
                  </a:lnTo>
                  <a:lnTo>
                    <a:pt x="1218" y="67"/>
                  </a:lnTo>
                  <a:lnTo>
                    <a:pt x="1227" y="67"/>
                  </a:lnTo>
                  <a:lnTo>
                    <a:pt x="1234" y="67"/>
                  </a:lnTo>
                  <a:lnTo>
                    <a:pt x="1241" y="68"/>
                  </a:lnTo>
                  <a:lnTo>
                    <a:pt x="1246" y="72"/>
                  </a:lnTo>
                  <a:lnTo>
                    <a:pt x="1252" y="77"/>
                  </a:lnTo>
                  <a:lnTo>
                    <a:pt x="1257" y="82"/>
                  </a:lnTo>
                  <a:lnTo>
                    <a:pt x="1265" y="82"/>
                  </a:lnTo>
                  <a:lnTo>
                    <a:pt x="1276" y="77"/>
                  </a:lnTo>
                  <a:lnTo>
                    <a:pt x="1287" y="73"/>
                  </a:lnTo>
                  <a:lnTo>
                    <a:pt x="1298" y="72"/>
                  </a:lnTo>
                  <a:lnTo>
                    <a:pt x="1306" y="75"/>
                  </a:lnTo>
                  <a:lnTo>
                    <a:pt x="1308" y="84"/>
                  </a:lnTo>
                  <a:lnTo>
                    <a:pt x="1306" y="95"/>
                  </a:lnTo>
                  <a:lnTo>
                    <a:pt x="1299" y="100"/>
                  </a:lnTo>
                  <a:lnTo>
                    <a:pt x="1292" y="106"/>
                  </a:lnTo>
                  <a:lnTo>
                    <a:pt x="1285" y="114"/>
                  </a:lnTo>
                  <a:lnTo>
                    <a:pt x="1284" y="122"/>
                  </a:lnTo>
                  <a:lnTo>
                    <a:pt x="1285" y="129"/>
                  </a:lnTo>
                  <a:lnTo>
                    <a:pt x="1283" y="134"/>
                  </a:lnTo>
                  <a:lnTo>
                    <a:pt x="1272" y="137"/>
                  </a:lnTo>
                  <a:lnTo>
                    <a:pt x="1258" y="141"/>
                  </a:lnTo>
                  <a:lnTo>
                    <a:pt x="1249" y="148"/>
                  </a:lnTo>
                  <a:lnTo>
                    <a:pt x="1246" y="157"/>
                  </a:lnTo>
                  <a:lnTo>
                    <a:pt x="1246" y="171"/>
                  </a:lnTo>
                  <a:lnTo>
                    <a:pt x="1247" y="186"/>
                  </a:lnTo>
                  <a:lnTo>
                    <a:pt x="1246" y="198"/>
                  </a:lnTo>
                  <a:lnTo>
                    <a:pt x="1240" y="207"/>
                  </a:lnTo>
                  <a:lnTo>
                    <a:pt x="1232" y="213"/>
                  </a:lnTo>
                  <a:lnTo>
                    <a:pt x="1225" y="219"/>
                  </a:lnTo>
                  <a:lnTo>
                    <a:pt x="1223" y="227"/>
                  </a:lnTo>
                  <a:lnTo>
                    <a:pt x="1225" y="239"/>
                  </a:lnTo>
                  <a:lnTo>
                    <a:pt x="1232" y="249"/>
                  </a:lnTo>
                  <a:lnTo>
                    <a:pt x="1239" y="255"/>
                  </a:lnTo>
                  <a:lnTo>
                    <a:pt x="1248" y="260"/>
                  </a:lnTo>
                  <a:lnTo>
                    <a:pt x="1258" y="267"/>
                  </a:lnTo>
                  <a:lnTo>
                    <a:pt x="1271" y="274"/>
                  </a:lnTo>
                  <a:lnTo>
                    <a:pt x="1285" y="282"/>
                  </a:lnTo>
                  <a:lnTo>
                    <a:pt x="1300" y="290"/>
                  </a:lnTo>
                  <a:lnTo>
                    <a:pt x="1314" y="300"/>
                  </a:lnTo>
                  <a:lnTo>
                    <a:pt x="1328" y="309"/>
                  </a:lnTo>
                  <a:lnTo>
                    <a:pt x="1343" y="318"/>
                  </a:lnTo>
                  <a:lnTo>
                    <a:pt x="1358" y="327"/>
                  </a:lnTo>
                  <a:lnTo>
                    <a:pt x="1374" y="336"/>
                  </a:lnTo>
                  <a:lnTo>
                    <a:pt x="1389" y="345"/>
                  </a:lnTo>
                  <a:lnTo>
                    <a:pt x="1402" y="353"/>
                  </a:lnTo>
                  <a:lnTo>
                    <a:pt x="1414" y="359"/>
                  </a:lnTo>
                  <a:lnTo>
                    <a:pt x="1422" y="368"/>
                  </a:lnTo>
                  <a:lnTo>
                    <a:pt x="1427" y="374"/>
                  </a:lnTo>
                  <a:lnTo>
                    <a:pt x="1430" y="381"/>
                  </a:lnTo>
                  <a:lnTo>
                    <a:pt x="1436" y="388"/>
                  </a:lnTo>
                  <a:lnTo>
                    <a:pt x="1444" y="395"/>
                  </a:lnTo>
                  <a:lnTo>
                    <a:pt x="1452" y="400"/>
                  </a:lnTo>
                  <a:lnTo>
                    <a:pt x="1461" y="404"/>
                  </a:lnTo>
                  <a:lnTo>
                    <a:pt x="1472" y="408"/>
                  </a:lnTo>
                  <a:lnTo>
                    <a:pt x="1481" y="410"/>
                  </a:lnTo>
                  <a:lnTo>
                    <a:pt x="1490" y="411"/>
                  </a:lnTo>
                  <a:lnTo>
                    <a:pt x="1499" y="410"/>
                  </a:lnTo>
                  <a:lnTo>
                    <a:pt x="1507" y="407"/>
                  </a:lnTo>
                  <a:lnTo>
                    <a:pt x="1517" y="401"/>
                  </a:lnTo>
                  <a:lnTo>
                    <a:pt x="1525" y="393"/>
                  </a:lnTo>
                  <a:lnTo>
                    <a:pt x="1531" y="385"/>
                  </a:lnTo>
                  <a:lnTo>
                    <a:pt x="1537" y="377"/>
                  </a:lnTo>
                  <a:lnTo>
                    <a:pt x="1542" y="368"/>
                  </a:lnTo>
                  <a:lnTo>
                    <a:pt x="1545" y="358"/>
                  </a:lnTo>
                  <a:lnTo>
                    <a:pt x="1553" y="336"/>
                  </a:lnTo>
                  <a:lnTo>
                    <a:pt x="1563" y="308"/>
                  </a:lnTo>
                  <a:lnTo>
                    <a:pt x="1572" y="277"/>
                  </a:lnTo>
                  <a:lnTo>
                    <a:pt x="1575" y="249"/>
                  </a:lnTo>
                  <a:lnTo>
                    <a:pt x="1573" y="226"/>
                  </a:lnTo>
                  <a:lnTo>
                    <a:pt x="1567" y="206"/>
                  </a:lnTo>
                  <a:lnTo>
                    <a:pt x="1566" y="189"/>
                  </a:lnTo>
                  <a:lnTo>
                    <a:pt x="1572" y="174"/>
                  </a:lnTo>
                  <a:lnTo>
                    <a:pt x="1583" y="158"/>
                  </a:lnTo>
                  <a:lnTo>
                    <a:pt x="1593" y="143"/>
                  </a:lnTo>
                  <a:lnTo>
                    <a:pt x="1596" y="130"/>
                  </a:lnTo>
                  <a:lnTo>
                    <a:pt x="1593" y="121"/>
                  </a:lnTo>
                  <a:lnTo>
                    <a:pt x="1587" y="112"/>
                  </a:lnTo>
                  <a:lnTo>
                    <a:pt x="1587" y="103"/>
                  </a:lnTo>
                  <a:lnTo>
                    <a:pt x="1590" y="91"/>
                  </a:lnTo>
                  <a:lnTo>
                    <a:pt x="1598" y="81"/>
                  </a:lnTo>
                  <a:lnTo>
                    <a:pt x="1606" y="69"/>
                  </a:lnTo>
                  <a:lnTo>
                    <a:pt x="1612" y="57"/>
                  </a:lnTo>
                  <a:lnTo>
                    <a:pt x="1614" y="43"/>
                  </a:lnTo>
                  <a:lnTo>
                    <a:pt x="1616" y="31"/>
                  </a:lnTo>
                  <a:lnTo>
                    <a:pt x="1617" y="24"/>
                  </a:lnTo>
                  <a:lnTo>
                    <a:pt x="1621" y="16"/>
                  </a:lnTo>
                  <a:lnTo>
                    <a:pt x="1627" y="8"/>
                  </a:lnTo>
                  <a:lnTo>
                    <a:pt x="1633" y="2"/>
                  </a:lnTo>
                  <a:lnTo>
                    <a:pt x="1636" y="0"/>
                  </a:lnTo>
                  <a:lnTo>
                    <a:pt x="1640" y="0"/>
                  </a:lnTo>
                  <a:lnTo>
                    <a:pt x="1642" y="1"/>
                  </a:lnTo>
                  <a:lnTo>
                    <a:pt x="1644" y="5"/>
                  </a:lnTo>
                  <a:lnTo>
                    <a:pt x="1649" y="19"/>
                  </a:lnTo>
                  <a:lnTo>
                    <a:pt x="1654" y="32"/>
                  </a:lnTo>
                  <a:lnTo>
                    <a:pt x="1658" y="50"/>
                  </a:lnTo>
                  <a:lnTo>
                    <a:pt x="1665" y="68"/>
                  </a:lnTo>
                  <a:lnTo>
                    <a:pt x="1673" y="90"/>
                  </a:lnTo>
                  <a:lnTo>
                    <a:pt x="1682" y="113"/>
                  </a:lnTo>
                  <a:lnTo>
                    <a:pt x="1689" y="133"/>
                  </a:lnTo>
                  <a:lnTo>
                    <a:pt x="1692" y="148"/>
                  </a:lnTo>
                  <a:lnTo>
                    <a:pt x="1693" y="167"/>
                  </a:lnTo>
                  <a:lnTo>
                    <a:pt x="1695" y="197"/>
                  </a:lnTo>
                  <a:lnTo>
                    <a:pt x="1701" y="225"/>
                  </a:lnTo>
                  <a:lnTo>
                    <a:pt x="1711" y="236"/>
                  </a:lnTo>
                  <a:lnTo>
                    <a:pt x="1717" y="235"/>
                  </a:lnTo>
                  <a:lnTo>
                    <a:pt x="1722" y="234"/>
                  </a:lnTo>
                  <a:lnTo>
                    <a:pt x="1726" y="232"/>
                  </a:lnTo>
                  <a:lnTo>
                    <a:pt x="1731" y="229"/>
                  </a:lnTo>
                  <a:lnTo>
                    <a:pt x="1735" y="228"/>
                  </a:lnTo>
                  <a:lnTo>
                    <a:pt x="1740" y="228"/>
                  </a:lnTo>
                  <a:lnTo>
                    <a:pt x="1745" y="230"/>
                  </a:lnTo>
                  <a:lnTo>
                    <a:pt x="1750" y="236"/>
                  </a:lnTo>
                  <a:lnTo>
                    <a:pt x="1757" y="243"/>
                  </a:lnTo>
                  <a:lnTo>
                    <a:pt x="1764" y="250"/>
                  </a:lnTo>
                  <a:lnTo>
                    <a:pt x="1771" y="257"/>
                  </a:lnTo>
                  <a:lnTo>
                    <a:pt x="1777" y="265"/>
                  </a:lnTo>
                  <a:lnTo>
                    <a:pt x="1783" y="274"/>
                  </a:lnTo>
                  <a:lnTo>
                    <a:pt x="1787" y="283"/>
                  </a:lnTo>
                  <a:lnTo>
                    <a:pt x="1790" y="295"/>
                  </a:lnTo>
                  <a:lnTo>
                    <a:pt x="1790" y="309"/>
                  </a:lnTo>
                  <a:lnTo>
                    <a:pt x="1791" y="336"/>
                  </a:lnTo>
                  <a:lnTo>
                    <a:pt x="1795" y="361"/>
                  </a:lnTo>
                  <a:lnTo>
                    <a:pt x="1803" y="383"/>
                  </a:lnTo>
                  <a:lnTo>
                    <a:pt x="1813" y="401"/>
                  </a:lnTo>
                  <a:lnTo>
                    <a:pt x="1820" y="417"/>
                  </a:lnTo>
                  <a:lnTo>
                    <a:pt x="1822" y="433"/>
                  </a:lnTo>
                  <a:lnTo>
                    <a:pt x="1821" y="449"/>
                  </a:lnTo>
                  <a:lnTo>
                    <a:pt x="1820" y="464"/>
                  </a:lnTo>
                  <a:lnTo>
                    <a:pt x="1823" y="475"/>
                  </a:lnTo>
                  <a:lnTo>
                    <a:pt x="1829" y="482"/>
                  </a:lnTo>
                  <a:lnTo>
                    <a:pt x="1833" y="491"/>
                  </a:lnTo>
                  <a:lnTo>
                    <a:pt x="1833" y="507"/>
                  </a:lnTo>
                  <a:lnTo>
                    <a:pt x="1833" y="517"/>
                  </a:lnTo>
                  <a:lnTo>
                    <a:pt x="1836" y="525"/>
                  </a:lnTo>
                  <a:lnTo>
                    <a:pt x="1841" y="532"/>
                  </a:lnTo>
                  <a:lnTo>
                    <a:pt x="1848" y="538"/>
                  </a:lnTo>
                  <a:lnTo>
                    <a:pt x="1856" y="543"/>
                  </a:lnTo>
                  <a:lnTo>
                    <a:pt x="1866" y="547"/>
                  </a:lnTo>
                  <a:lnTo>
                    <a:pt x="1874" y="552"/>
                  </a:lnTo>
                  <a:lnTo>
                    <a:pt x="1879" y="556"/>
                  </a:lnTo>
                  <a:lnTo>
                    <a:pt x="1886" y="562"/>
                  </a:lnTo>
                  <a:lnTo>
                    <a:pt x="1897" y="570"/>
                  </a:lnTo>
                  <a:lnTo>
                    <a:pt x="1909" y="578"/>
                  </a:lnTo>
                  <a:lnTo>
                    <a:pt x="1922" y="589"/>
                  </a:lnTo>
                  <a:lnTo>
                    <a:pt x="1935" y="598"/>
                  </a:lnTo>
                  <a:lnTo>
                    <a:pt x="1945" y="608"/>
                  </a:lnTo>
                  <a:lnTo>
                    <a:pt x="1953" y="617"/>
                  </a:lnTo>
                  <a:lnTo>
                    <a:pt x="1955" y="626"/>
                  </a:lnTo>
                  <a:lnTo>
                    <a:pt x="1954" y="635"/>
                  </a:lnTo>
                  <a:lnTo>
                    <a:pt x="1952" y="639"/>
                  </a:lnTo>
                  <a:lnTo>
                    <a:pt x="1952" y="644"/>
                  </a:lnTo>
                  <a:lnTo>
                    <a:pt x="1959" y="655"/>
                  </a:lnTo>
                  <a:lnTo>
                    <a:pt x="1967" y="670"/>
                  </a:lnTo>
                  <a:lnTo>
                    <a:pt x="1974" y="683"/>
                  </a:lnTo>
                  <a:lnTo>
                    <a:pt x="1979" y="696"/>
                  </a:lnTo>
                  <a:lnTo>
                    <a:pt x="1982" y="714"/>
                  </a:lnTo>
                  <a:lnTo>
                    <a:pt x="1985" y="733"/>
                  </a:lnTo>
                  <a:lnTo>
                    <a:pt x="1991" y="744"/>
                  </a:lnTo>
                  <a:lnTo>
                    <a:pt x="1998" y="750"/>
                  </a:lnTo>
                  <a:lnTo>
                    <a:pt x="2007" y="748"/>
                  </a:lnTo>
                  <a:lnTo>
                    <a:pt x="2013" y="746"/>
                  </a:lnTo>
                  <a:lnTo>
                    <a:pt x="2020" y="746"/>
                  </a:lnTo>
                  <a:lnTo>
                    <a:pt x="2027" y="748"/>
                  </a:lnTo>
                  <a:lnTo>
                    <a:pt x="2035" y="751"/>
                  </a:lnTo>
                  <a:lnTo>
                    <a:pt x="2041" y="756"/>
                  </a:lnTo>
                  <a:lnTo>
                    <a:pt x="2047" y="760"/>
                  </a:lnTo>
                  <a:lnTo>
                    <a:pt x="2050" y="767"/>
                  </a:lnTo>
                  <a:lnTo>
                    <a:pt x="2051" y="774"/>
                  </a:lnTo>
                  <a:lnTo>
                    <a:pt x="2049" y="788"/>
                  </a:lnTo>
                  <a:lnTo>
                    <a:pt x="2047" y="799"/>
                  </a:lnTo>
                  <a:lnTo>
                    <a:pt x="2045" y="810"/>
                  </a:lnTo>
                  <a:lnTo>
                    <a:pt x="2051" y="820"/>
                  </a:lnTo>
                  <a:lnTo>
                    <a:pt x="2059" y="831"/>
                  </a:lnTo>
                  <a:lnTo>
                    <a:pt x="2065" y="843"/>
                  </a:lnTo>
                  <a:lnTo>
                    <a:pt x="2071" y="854"/>
                  </a:lnTo>
                  <a:lnTo>
                    <a:pt x="2078" y="863"/>
                  </a:lnTo>
                  <a:lnTo>
                    <a:pt x="2083" y="867"/>
                  </a:lnTo>
                  <a:lnTo>
                    <a:pt x="2087" y="870"/>
                  </a:lnTo>
                  <a:lnTo>
                    <a:pt x="2091" y="875"/>
                  </a:lnTo>
                  <a:lnTo>
                    <a:pt x="2097" y="889"/>
                  </a:lnTo>
                  <a:lnTo>
                    <a:pt x="2104" y="907"/>
                  </a:lnTo>
                  <a:lnTo>
                    <a:pt x="2113" y="920"/>
                  </a:lnTo>
                  <a:lnTo>
                    <a:pt x="2121" y="932"/>
                  </a:lnTo>
                  <a:lnTo>
                    <a:pt x="2129" y="946"/>
                  </a:lnTo>
                  <a:lnTo>
                    <a:pt x="2133" y="950"/>
                  </a:lnTo>
                  <a:lnTo>
                    <a:pt x="2136" y="955"/>
                  </a:lnTo>
                  <a:lnTo>
                    <a:pt x="2139" y="960"/>
                  </a:lnTo>
                  <a:lnTo>
                    <a:pt x="2140" y="965"/>
                  </a:lnTo>
                  <a:lnTo>
                    <a:pt x="2140" y="969"/>
                  </a:lnTo>
                  <a:lnTo>
                    <a:pt x="2140" y="972"/>
                  </a:lnTo>
                  <a:lnTo>
                    <a:pt x="2140" y="977"/>
                  </a:lnTo>
                  <a:lnTo>
                    <a:pt x="2140" y="980"/>
                  </a:lnTo>
                  <a:lnTo>
                    <a:pt x="2140" y="989"/>
                  </a:lnTo>
                  <a:lnTo>
                    <a:pt x="2139" y="1000"/>
                  </a:lnTo>
                  <a:lnTo>
                    <a:pt x="2138" y="1009"/>
                  </a:lnTo>
                  <a:lnTo>
                    <a:pt x="2136" y="1017"/>
                  </a:lnTo>
                  <a:lnTo>
                    <a:pt x="2134" y="1032"/>
                  </a:lnTo>
                  <a:lnTo>
                    <a:pt x="2133" y="1051"/>
                  </a:lnTo>
                  <a:lnTo>
                    <a:pt x="2133" y="1071"/>
                  </a:lnTo>
                  <a:lnTo>
                    <a:pt x="2136" y="1090"/>
                  </a:lnTo>
                  <a:lnTo>
                    <a:pt x="2139" y="1099"/>
                  </a:lnTo>
                  <a:lnTo>
                    <a:pt x="2140" y="1110"/>
                  </a:lnTo>
                  <a:lnTo>
                    <a:pt x="2140" y="1122"/>
                  </a:lnTo>
                  <a:lnTo>
                    <a:pt x="2140" y="1135"/>
                  </a:lnTo>
                  <a:lnTo>
                    <a:pt x="2139" y="1148"/>
                  </a:lnTo>
                  <a:lnTo>
                    <a:pt x="2136" y="1161"/>
                  </a:lnTo>
                  <a:lnTo>
                    <a:pt x="2133" y="1175"/>
                  </a:lnTo>
                  <a:lnTo>
                    <a:pt x="2127" y="1189"/>
                  </a:lnTo>
                  <a:lnTo>
                    <a:pt x="2120" y="1200"/>
                  </a:lnTo>
                  <a:lnTo>
                    <a:pt x="2114" y="1213"/>
                  </a:lnTo>
                  <a:lnTo>
                    <a:pt x="2108" y="1226"/>
                  </a:lnTo>
                  <a:lnTo>
                    <a:pt x="2101" y="1239"/>
                  </a:lnTo>
                  <a:lnTo>
                    <a:pt x="2094" y="1254"/>
                  </a:lnTo>
                  <a:lnTo>
                    <a:pt x="2088" y="1270"/>
                  </a:lnTo>
                  <a:lnTo>
                    <a:pt x="2082" y="1290"/>
                  </a:lnTo>
                  <a:lnTo>
                    <a:pt x="2078" y="1311"/>
                  </a:lnTo>
                  <a:lnTo>
                    <a:pt x="2068" y="1338"/>
                  </a:lnTo>
                  <a:lnTo>
                    <a:pt x="2059" y="1345"/>
                  </a:lnTo>
                  <a:lnTo>
                    <a:pt x="2052" y="1348"/>
                  </a:lnTo>
                  <a:lnTo>
                    <a:pt x="2044" y="1364"/>
                  </a:lnTo>
                  <a:lnTo>
                    <a:pt x="2041" y="1374"/>
                  </a:lnTo>
                  <a:lnTo>
                    <a:pt x="2037" y="1379"/>
                  </a:lnTo>
                  <a:lnTo>
                    <a:pt x="2033" y="1381"/>
                  </a:lnTo>
                  <a:lnTo>
                    <a:pt x="2029" y="1381"/>
                  </a:lnTo>
                  <a:lnTo>
                    <a:pt x="2023" y="1380"/>
                  </a:lnTo>
                  <a:lnTo>
                    <a:pt x="2018" y="1381"/>
                  </a:lnTo>
                  <a:lnTo>
                    <a:pt x="2011" y="1385"/>
                  </a:lnTo>
                  <a:lnTo>
                    <a:pt x="2002" y="1393"/>
                  </a:lnTo>
                  <a:lnTo>
                    <a:pt x="1992" y="1404"/>
                  </a:lnTo>
                  <a:lnTo>
                    <a:pt x="1985" y="1414"/>
                  </a:lnTo>
                  <a:lnTo>
                    <a:pt x="1980" y="1425"/>
                  </a:lnTo>
                  <a:lnTo>
                    <a:pt x="1974" y="1435"/>
                  </a:lnTo>
                  <a:lnTo>
                    <a:pt x="1968" y="1446"/>
                  </a:lnTo>
                  <a:lnTo>
                    <a:pt x="1962" y="1456"/>
                  </a:lnTo>
                  <a:lnTo>
                    <a:pt x="1957" y="1465"/>
                  </a:lnTo>
                  <a:lnTo>
                    <a:pt x="1949" y="1475"/>
                  </a:lnTo>
                  <a:lnTo>
                    <a:pt x="1939" y="1487"/>
                  </a:lnTo>
                  <a:lnTo>
                    <a:pt x="1930" y="1500"/>
                  </a:lnTo>
                  <a:lnTo>
                    <a:pt x="1920" y="1515"/>
                  </a:lnTo>
                  <a:lnTo>
                    <a:pt x="1909" y="1532"/>
                  </a:lnTo>
                  <a:lnTo>
                    <a:pt x="1899" y="1551"/>
                  </a:lnTo>
                  <a:lnTo>
                    <a:pt x="1888" y="1572"/>
                  </a:lnTo>
                  <a:lnTo>
                    <a:pt x="1877" y="1595"/>
                  </a:lnTo>
                  <a:lnTo>
                    <a:pt x="1866" y="1621"/>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832880" y="4204080"/>
              <a:ext cx="60120" cy="30240"/>
            </a:xfrm>
            <a:custGeom>
              <a:avLst/>
              <a:gdLst/>
              <a:ahLst/>
              <a:rect l="l" t="t" r="r" b="b"/>
              <a:pathLst>
                <a:path w="84" h="42">
                  <a:moveTo>
                    <a:pt x="70" y="1"/>
                  </a:moveTo>
                  <a:lnTo>
                    <a:pt x="69" y="2"/>
                  </a:lnTo>
                  <a:lnTo>
                    <a:pt x="65" y="4"/>
                  </a:lnTo>
                  <a:lnTo>
                    <a:pt x="58" y="6"/>
                  </a:lnTo>
                  <a:lnTo>
                    <a:pt x="47" y="8"/>
                  </a:lnTo>
                  <a:lnTo>
                    <a:pt x="35" y="8"/>
                  </a:lnTo>
                  <a:lnTo>
                    <a:pt x="30" y="8"/>
                  </a:lnTo>
                  <a:lnTo>
                    <a:pt x="27" y="8"/>
                  </a:lnTo>
                  <a:lnTo>
                    <a:pt x="27" y="8"/>
                  </a:lnTo>
                  <a:lnTo>
                    <a:pt x="17" y="1"/>
                  </a:lnTo>
                  <a:lnTo>
                    <a:pt x="14" y="3"/>
                  </a:lnTo>
                  <a:lnTo>
                    <a:pt x="5" y="11"/>
                  </a:lnTo>
                  <a:lnTo>
                    <a:pt x="0" y="21"/>
                  </a:lnTo>
                  <a:lnTo>
                    <a:pt x="1" y="34"/>
                  </a:lnTo>
                  <a:lnTo>
                    <a:pt x="4" y="39"/>
                  </a:lnTo>
                  <a:lnTo>
                    <a:pt x="8" y="41"/>
                  </a:lnTo>
                  <a:lnTo>
                    <a:pt x="11" y="42"/>
                  </a:lnTo>
                  <a:lnTo>
                    <a:pt x="15" y="42"/>
                  </a:lnTo>
                  <a:lnTo>
                    <a:pt x="19" y="41"/>
                  </a:lnTo>
                  <a:lnTo>
                    <a:pt x="24" y="41"/>
                  </a:lnTo>
                  <a:lnTo>
                    <a:pt x="30" y="40"/>
                  </a:lnTo>
                  <a:lnTo>
                    <a:pt x="37" y="41"/>
                  </a:lnTo>
                  <a:lnTo>
                    <a:pt x="43" y="42"/>
                  </a:lnTo>
                  <a:lnTo>
                    <a:pt x="49" y="42"/>
                  </a:lnTo>
                  <a:lnTo>
                    <a:pt x="54" y="42"/>
                  </a:lnTo>
                  <a:lnTo>
                    <a:pt x="58" y="41"/>
                  </a:lnTo>
                  <a:lnTo>
                    <a:pt x="62" y="39"/>
                  </a:lnTo>
                  <a:lnTo>
                    <a:pt x="67" y="36"/>
                  </a:lnTo>
                  <a:lnTo>
                    <a:pt x="70" y="33"/>
                  </a:lnTo>
                  <a:lnTo>
                    <a:pt x="73" y="27"/>
                  </a:lnTo>
                  <a:lnTo>
                    <a:pt x="80" y="16"/>
                  </a:lnTo>
                  <a:lnTo>
                    <a:pt x="84" y="5"/>
                  </a:lnTo>
                  <a:lnTo>
                    <a:pt x="82" y="0"/>
                  </a:lnTo>
                  <a:lnTo>
                    <a:pt x="70" y="1"/>
                  </a:lnTo>
                  <a:close/>
                </a:path>
              </a:pathLst>
            </a:custGeom>
            <a:solidFill>
              <a:srgbClr val="669900"/>
            </a:solidFill>
            <a:ln w="38160">
              <a:solidFill>
                <a:srgbClr val="99cc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8094960" y="4319280"/>
              <a:ext cx="21240" cy="27360"/>
            </a:xfrm>
            <a:custGeom>
              <a:avLst/>
              <a:gdLst/>
              <a:ahLst/>
              <a:rect l="l" t="t" r="r" b="b"/>
              <a:pathLst>
                <a:path w="29" h="39">
                  <a:moveTo>
                    <a:pt x="2" y="3"/>
                  </a:moveTo>
                  <a:lnTo>
                    <a:pt x="1" y="5"/>
                  </a:lnTo>
                  <a:lnTo>
                    <a:pt x="0" y="12"/>
                  </a:lnTo>
                  <a:lnTo>
                    <a:pt x="1" y="20"/>
                  </a:lnTo>
                  <a:lnTo>
                    <a:pt x="6" y="28"/>
                  </a:lnTo>
                  <a:lnTo>
                    <a:pt x="13" y="34"/>
                  </a:lnTo>
                  <a:lnTo>
                    <a:pt x="20" y="38"/>
                  </a:lnTo>
                  <a:lnTo>
                    <a:pt x="23" y="39"/>
                  </a:lnTo>
                  <a:lnTo>
                    <a:pt x="25" y="39"/>
                  </a:lnTo>
                  <a:lnTo>
                    <a:pt x="26" y="35"/>
                  </a:lnTo>
                  <a:lnTo>
                    <a:pt x="28" y="27"/>
                  </a:lnTo>
                  <a:lnTo>
                    <a:pt x="29" y="18"/>
                  </a:lnTo>
                  <a:lnTo>
                    <a:pt x="25" y="9"/>
                  </a:lnTo>
                  <a:lnTo>
                    <a:pt x="21" y="3"/>
                  </a:lnTo>
                  <a:lnTo>
                    <a:pt x="16" y="0"/>
                  </a:lnTo>
                  <a:lnTo>
                    <a:pt x="10" y="0"/>
                  </a:lnTo>
                  <a:lnTo>
                    <a:pt x="2" y="3"/>
                  </a:lnTo>
                  <a:close/>
                </a:path>
              </a:pathLst>
            </a:custGeom>
            <a:solidFill>
              <a:srgbClr val="669900"/>
            </a:solidFill>
            <a:ln w="38160">
              <a:solidFill>
                <a:srgbClr val="99cc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 name=""/>
            <p:cNvSpPr/>
            <p:nvPr/>
          </p:nvSpPr>
          <p:spPr>
            <a:xfrm>
              <a:off x="8076240" y="5263560"/>
              <a:ext cx="44280" cy="16920"/>
            </a:xfrm>
            <a:custGeom>
              <a:avLst/>
              <a:gdLst/>
              <a:ahLst/>
              <a:rect l="l" t="t" r="r" b="b"/>
              <a:pathLst>
                <a:path w="63" h="24">
                  <a:moveTo>
                    <a:pt x="63" y="10"/>
                  </a:moveTo>
                  <a:lnTo>
                    <a:pt x="61" y="9"/>
                  </a:lnTo>
                  <a:lnTo>
                    <a:pt x="59" y="8"/>
                  </a:lnTo>
                  <a:lnTo>
                    <a:pt x="54" y="5"/>
                  </a:lnTo>
                  <a:lnTo>
                    <a:pt x="49" y="3"/>
                  </a:lnTo>
                  <a:lnTo>
                    <a:pt x="42" y="1"/>
                  </a:lnTo>
                  <a:lnTo>
                    <a:pt x="35" y="0"/>
                  </a:lnTo>
                  <a:lnTo>
                    <a:pt x="27" y="0"/>
                  </a:lnTo>
                  <a:lnTo>
                    <a:pt x="20" y="1"/>
                  </a:lnTo>
                  <a:lnTo>
                    <a:pt x="7" y="7"/>
                  </a:lnTo>
                  <a:lnTo>
                    <a:pt x="0" y="15"/>
                  </a:lnTo>
                  <a:lnTo>
                    <a:pt x="0" y="22"/>
                  </a:lnTo>
                  <a:lnTo>
                    <a:pt x="11" y="24"/>
                  </a:lnTo>
                  <a:lnTo>
                    <a:pt x="19" y="24"/>
                  </a:lnTo>
                  <a:lnTo>
                    <a:pt x="28" y="24"/>
                  </a:lnTo>
                  <a:lnTo>
                    <a:pt x="37" y="24"/>
                  </a:lnTo>
                  <a:lnTo>
                    <a:pt x="46" y="23"/>
                  </a:lnTo>
                  <a:lnTo>
                    <a:pt x="54" y="22"/>
                  </a:lnTo>
                  <a:lnTo>
                    <a:pt x="60" y="19"/>
                  </a:lnTo>
                  <a:lnTo>
                    <a:pt x="63" y="16"/>
                  </a:lnTo>
                  <a:lnTo>
                    <a:pt x="63" y="10"/>
                  </a:lnTo>
                  <a:close/>
                </a:path>
              </a:pathLst>
            </a:custGeom>
            <a:solidFill>
              <a:srgbClr val="669900"/>
            </a:solidFill>
            <a:ln w="38160">
              <a:solidFill>
                <a:srgbClr val="99cc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71" name=""/>
          <p:cNvSpPr/>
          <p:nvPr/>
        </p:nvSpPr>
        <p:spPr>
          <a:xfrm rot="1109400">
            <a:off x="1076040" y="2276640"/>
            <a:ext cx="1612800" cy="645840"/>
          </a:xfrm>
          <a:prstGeom prst="rightArrow">
            <a:avLst>
              <a:gd name="adj1" fmla="val 50000"/>
              <a:gd name="adj2" fmla="val 6243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109400">
            <a:off x="3497040" y="2200320"/>
            <a:ext cx="1612800" cy="646200"/>
          </a:xfrm>
          <a:prstGeom prst="rightArrow">
            <a:avLst>
              <a:gd name="adj1" fmla="val 50000"/>
              <a:gd name="adj2" fmla="val 6239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9400">
            <a:off x="1307880" y="3352680"/>
            <a:ext cx="1612800" cy="646200"/>
          </a:xfrm>
          <a:prstGeom prst="rightArrow">
            <a:avLst>
              <a:gd name="adj1" fmla="val 50000"/>
              <a:gd name="adj2" fmla="val 6239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109400">
            <a:off x="4571640" y="3935520"/>
            <a:ext cx="1612800" cy="645840"/>
          </a:xfrm>
          <a:prstGeom prst="rightArrow">
            <a:avLst>
              <a:gd name="adj1" fmla="val 50000"/>
              <a:gd name="adj2" fmla="val 624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5"/>
                                        </p:tgtEl>
                                        <p:attrNameLst>
                                          <p:attrName>style.visibility</p:attrName>
                                        </p:attrNameLst>
                                      </p:cBhvr>
                                      <p:to>
                                        <p:strVal val="visible"/>
                                      </p:to>
                                    </p:set>
                                    <p:animEffect filter="fade" transition="in">
                                      <p:cBhvr additive="repl">
                                        <p:cTn id="11" dur="1000"/>
                                        <p:tgtEl>
                                          <p:spTgt spid="65"/>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72"/>
                                        </p:tgtEl>
                                        <p:attrNameLst>
                                          <p:attrName>style.visibility</p:attrName>
                                        </p:attrNameLst>
                                      </p:cBhvr>
                                      <p:to>
                                        <p:strVal val="visible"/>
                                      </p:to>
                                    </p:set>
                                    <p:animEffect filter="fade" transition="in">
                                      <p:cBhvr additive="repl">
                                        <p:cTn id="15" dur="1000"/>
                                        <p:tgtEl>
                                          <p:spTgt spid="72"/>
                                        </p:tgtEl>
                                      </p:cBhvr>
                                    </p:animEffect>
                                  </p:childTnLst>
                                </p:cTn>
                              </p:par>
                              <p:par>
                                <p:cTn id="16" nodeType="withEffect" fill="hold" presetClass="entr" presetID="10">
                                  <p:stCondLst>
                                    <p:cond delay="0"/>
                                  </p:stCondLst>
                                  <p:childTnLst>
                                    <p:set>
                                      <p:cBhvr>
                                        <p:cTn id="17" dur="1" fill="hold">
                                          <p:stCondLst>
                                            <p:cond delay="0"/>
                                          </p:stCondLst>
                                        </p:cTn>
                                        <p:tgtEl>
                                          <p:spTgt spid="74"/>
                                        </p:tgtEl>
                                        <p:attrNameLst>
                                          <p:attrName>style.visibility</p:attrName>
                                        </p:attrNameLst>
                                      </p:cBhvr>
                                      <p:to>
                                        <p:strVal val="visible"/>
                                      </p:to>
                                    </p:set>
                                    <p:animEffect filter="fade" transition="in">
                                      <p:cBhvr additive="repl">
                                        <p:cTn id="18" dur="1000"/>
                                        <p:tgtEl>
                                          <p:spTgt spid="74"/>
                                        </p:tgtEl>
                                      </p:cBhvr>
                                    </p:animEffect>
                                  </p:childTnLst>
                                </p:cTn>
                              </p:par>
                              <p:par>
                                <p:cTn id="19" nodeType="withEffect" fill="hold" presetClass="entr" presetID="10">
                                  <p:stCondLst>
                                    <p:cond delay="0"/>
                                  </p:stCondLst>
                                  <p:childTnLst>
                                    <p:set>
                                      <p:cBhvr>
                                        <p:cTn id="20" dur="1" fill="hold">
                                          <p:stCondLst>
                                            <p:cond delay="0"/>
                                          </p:stCondLst>
                                        </p:cTn>
                                        <p:tgtEl>
                                          <p:spTgt spid="73"/>
                                        </p:tgtEl>
                                        <p:attrNameLst>
                                          <p:attrName>style.visibility</p:attrName>
                                        </p:attrNameLst>
                                      </p:cBhvr>
                                      <p:to>
                                        <p:strVal val="visible"/>
                                      </p:to>
                                    </p:set>
                                    <p:animEffect filter="fade" transition="in">
                                      <p:cBhvr additive="repl">
                                        <p:cTn id="21" dur="1000"/>
                                        <p:tgtEl>
                                          <p:spTgt spid="73"/>
                                        </p:tgtEl>
                                      </p:cBhvr>
                                    </p:animEffect>
                                  </p:childTnLst>
                                </p:cTn>
                              </p:par>
                              <p:par>
                                <p:cTn id="22" nodeType="withEffect" fill="hold" presetClass="entr" presetID="10">
                                  <p:stCondLst>
                                    <p:cond delay="0"/>
                                  </p:stCondLst>
                                  <p:childTnLst>
                                    <p:set>
                                      <p:cBhvr>
                                        <p:cTn id="23" dur="1" fill="hold">
                                          <p:stCondLst>
                                            <p:cond delay="0"/>
                                          </p:stCondLst>
                                        </p:cTn>
                                        <p:tgtEl>
                                          <p:spTgt spid="71"/>
                                        </p:tgtEl>
                                        <p:attrNameLst>
                                          <p:attrName>style.visibility</p:attrName>
                                        </p:attrNameLst>
                                      </p:cBhvr>
                                      <p:to>
                                        <p:strVal val="visible"/>
                                      </p:to>
                                    </p:set>
                                    <p:animEffect filter="fade" transition="in">
                                      <p:cBhvr additive="repl">
                                        <p:cTn id="24" dur="1000"/>
                                        <p:tgtEl>
                                          <p:spTgt spid="71"/>
                                        </p:tgtEl>
                                      </p:cBhvr>
                                    </p:animEffect>
                                  </p:childTnLst>
                                </p:cTn>
                              </p:par>
                            </p:childTnLst>
                          </p:cTn>
                        </p:par>
                        <p:par>
                          <p:cTn id="25" fill="hold">
                            <p:stCondLst>
                              <p:cond delay="3000"/>
                            </p:stCondLst>
                            <p:childTnLst>
                              <p:par>
                                <p:cTn id="26" nodeType="afterEffect" fill="hold" presetClass="path" presetID="0">
                                  <p:stCondLst>
                                    <p:cond delay="0"/>
                                  </p:stCondLst>
                                  <p:childTnLst>
                                    <p:animMotion origin="layout" path="M -4.44444E-006 7.40741E-007 L 0.60903 0.28565 E">
                                      <p:cBhvr>
                                        <p:cTn id="27" dur="5000" fill="hold"/>
                                        <p:tgtEl>
                                          <p:spTgt spid="74"/>
                                        </p:tgtEl>
                                      </p:cBhvr>
                                    </p:animMotion>
                                  </p:childTnLst>
                                </p:cTn>
                              </p:par>
                              <p:par>
                                <p:cTn id="28" nodeType="withEffect" fill="hold" presetClass="path" presetID="0">
                                  <p:stCondLst>
                                    <p:cond delay="0"/>
                                  </p:stCondLst>
                                  <p:childTnLst>
                                    <p:animMotion origin="layout" path="M 2.77778E-007 -4.07407E-006 L 0.8441 0.37292 E">
                                      <p:cBhvr>
                                        <p:cTn id="29" dur="5000" fill="hold"/>
                                        <p:tgtEl>
                                          <p:spTgt spid="72"/>
                                        </p:tgtEl>
                                      </p:cBhvr>
                                    </p:animMotion>
                                  </p:childTnLst>
                                </p:cTn>
                              </p:par>
                              <p:par>
                                <p:cTn id="30" nodeType="withEffect" fill="hold" presetClass="path" presetID="0">
                                  <p:stCondLst>
                                    <p:cond delay="0"/>
                                  </p:stCondLst>
                                  <p:childTnLst>
                                    <p:animMotion origin="layout" path="M 6.38889E-006 -6.66667E-006 L 1.02466 0.44791 E">
                                      <p:cBhvr>
                                        <p:cTn id="31" dur="5000" fill="hold"/>
                                        <p:tgtEl>
                                          <p:spTgt spid="71"/>
                                        </p:tgtEl>
                                      </p:cBhvr>
                                    </p:animMotion>
                                  </p:childTnLst>
                                </p:cTn>
                              </p:par>
                              <p:par>
                                <p:cTn id="32" nodeType="withEffect" fill="hold" presetClass="path" presetID="0">
                                  <p:stCondLst>
                                    <p:cond delay="0"/>
                                  </p:stCondLst>
                                  <p:childTnLst>
                                    <p:animMotion origin="layout" path="M 0 -5.18519E-006 L 1.07934 0.50393 E">
                                      <p:cBhvr>
                                        <p:cTn id="33" dur="5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 and Europe</a:t>
            </a:r>
            <a:endParaRPr b="0" lang="en-US" sz="4400" spc="-1" strike="noStrike">
              <a:solidFill>
                <a:srgbClr val="ffffff"/>
              </a:solidFill>
              <a:latin typeface="Arial"/>
            </a:endParaRPr>
          </a:p>
        </p:txBody>
      </p:sp>
      <p:sp>
        <p:nvSpPr>
          <p:cNvPr id="77" name="PlaceHolder 2"/>
          <p:cNvSpPr>
            <a:spLocks noGrp="1"/>
          </p:cNvSpPr>
          <p:nvPr>
            <p:ph/>
          </p:nvPr>
        </p:nvSpPr>
        <p:spPr>
          <a:xfrm>
            <a:off x="4132080" y="1744560"/>
            <a:ext cx="4446360" cy="47865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clouds have been created by wildfires in the western United Sta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ources of air pollution in the Northern Hemisphere include the wintertime burning of fossil fuels for home heating and the burning of fossil fuels for transportation.</a:t>
            </a:r>
            <a:endParaRPr b="0" lang="en-US" sz="2400" spc="-1" strike="noStrike">
              <a:solidFill>
                <a:srgbClr val="ffffff"/>
              </a:solidFill>
              <a:latin typeface="Arial"/>
            </a:endParaRPr>
          </a:p>
        </p:txBody>
      </p:sp>
      <p:pic>
        <p:nvPicPr>
          <p:cNvPr id="78" name="" descr=""/>
          <p:cNvPicPr/>
          <p:nvPr/>
        </p:nvPicPr>
        <p:blipFill>
          <a:blip r:embed="rId2"/>
          <a:stretch/>
        </p:blipFill>
        <p:spPr>
          <a:xfrm>
            <a:off x="808200" y="1846440"/>
            <a:ext cx="2916000" cy="4376520"/>
          </a:xfrm>
          <a:prstGeom prst="rect">
            <a:avLst/>
          </a:prstGeom>
          <a:ln w="28440">
            <a:solidFill>
              <a:srgbClr val="808080"/>
            </a:solidFill>
            <a:miter/>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east Asia</a:t>
            </a:r>
            <a:endParaRPr b="0" lang="en-US" sz="4400" spc="-1" strike="noStrike">
              <a:solidFill>
                <a:srgbClr val="ffffff"/>
              </a:solidFill>
              <a:latin typeface="Arial"/>
            </a:endParaRPr>
          </a:p>
        </p:txBody>
      </p:sp>
      <p:sp>
        <p:nvSpPr>
          <p:cNvPr id="81" name="PlaceHolder 2"/>
          <p:cNvSpPr>
            <a:spLocks noGrp="1"/>
          </p:cNvSpPr>
          <p:nvPr>
            <p:ph/>
          </p:nvPr>
        </p:nvSpPr>
        <p:spPr>
          <a:xfrm>
            <a:off x="4764240" y="1585800"/>
            <a:ext cx="40701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 major contributor to global pollution is Southeast As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gion creates carbon monoxide clouds from fire and industry. Theses clouds travel over the Pacific Ocean and reach North America.</a:t>
            </a:r>
            <a:endParaRPr b="0" lang="en-US" sz="2400" spc="-1" strike="noStrike">
              <a:solidFill>
                <a:srgbClr val="ffffff"/>
              </a:solidFill>
              <a:latin typeface="Arial"/>
            </a:endParaRPr>
          </a:p>
        </p:txBody>
      </p:sp>
      <p:grpSp>
        <p:nvGrpSpPr>
          <p:cNvPr id="82" name=""/>
          <p:cNvGrpSpPr/>
          <p:nvPr/>
        </p:nvGrpSpPr>
        <p:grpSpPr>
          <a:xfrm>
            <a:off x="739800" y="1508040"/>
            <a:ext cx="3485880" cy="4954320"/>
            <a:chOff x="739800" y="1508040"/>
            <a:chExt cx="3485880" cy="4954320"/>
          </a:xfrm>
        </p:grpSpPr>
        <p:grpSp>
          <p:nvGrpSpPr>
            <p:cNvPr id="83" name=""/>
            <p:cNvGrpSpPr/>
            <p:nvPr/>
          </p:nvGrpSpPr>
          <p:grpSpPr>
            <a:xfrm>
              <a:off x="2768400" y="1969920"/>
              <a:ext cx="1188720" cy="1006560"/>
              <a:chOff x="2768400" y="1969920"/>
              <a:chExt cx="1188720" cy="1006560"/>
            </a:xfrm>
          </p:grpSpPr>
          <p:sp>
            <p:nvSpPr>
              <p:cNvPr id="84" name=""/>
              <p:cNvSpPr/>
              <p:nvPr/>
            </p:nvSpPr>
            <p:spPr>
              <a:xfrm>
                <a:off x="3447720" y="2485800"/>
                <a:ext cx="212760" cy="270000"/>
              </a:xfrm>
              <a:custGeom>
                <a:avLst/>
                <a:gdLst/>
                <a:ahLst/>
                <a:rect l="l" t="t" r="r" b="b"/>
                <a:pathLst>
                  <a:path w="674" h="853">
                    <a:moveTo>
                      <a:pt x="504" y="0"/>
                    </a:moveTo>
                    <a:lnTo>
                      <a:pt x="674" y="853"/>
                    </a:lnTo>
                    <a:lnTo>
                      <a:pt x="0" y="644"/>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84240" y="1969920"/>
                <a:ext cx="101520" cy="101520"/>
              </a:xfrm>
              <a:custGeom>
                <a:avLst/>
                <a:gdLst/>
                <a:ahLst/>
                <a:rect l="l" t="t" r="r" b="b"/>
                <a:pathLst>
                  <a:path w="318" h="320">
                    <a:moveTo>
                      <a:pt x="0" y="160"/>
                    </a:moveTo>
                    <a:lnTo>
                      <a:pt x="2" y="126"/>
                    </a:lnTo>
                    <a:lnTo>
                      <a:pt x="12" y="96"/>
                    </a:lnTo>
                    <a:lnTo>
                      <a:pt x="26" y="69"/>
                    </a:lnTo>
                    <a:lnTo>
                      <a:pt x="46" y="46"/>
                    </a:lnTo>
                    <a:lnTo>
                      <a:pt x="69" y="26"/>
                    </a:lnTo>
                    <a:lnTo>
                      <a:pt x="96" y="11"/>
                    </a:lnTo>
                    <a:lnTo>
                      <a:pt x="125" y="2"/>
                    </a:lnTo>
                    <a:lnTo>
                      <a:pt x="159" y="0"/>
                    </a:lnTo>
                    <a:lnTo>
                      <a:pt x="190" y="2"/>
                    </a:lnTo>
                    <a:lnTo>
                      <a:pt x="220" y="11"/>
                    </a:lnTo>
                    <a:lnTo>
                      <a:pt x="247" y="26"/>
                    </a:lnTo>
                    <a:lnTo>
                      <a:pt x="271" y="46"/>
                    </a:lnTo>
                    <a:lnTo>
                      <a:pt x="290" y="69"/>
                    </a:lnTo>
                    <a:lnTo>
                      <a:pt x="305" y="96"/>
                    </a:lnTo>
                    <a:lnTo>
                      <a:pt x="314" y="126"/>
                    </a:lnTo>
                    <a:lnTo>
                      <a:pt x="318" y="160"/>
                    </a:lnTo>
                    <a:lnTo>
                      <a:pt x="314" y="191"/>
                    </a:lnTo>
                    <a:lnTo>
                      <a:pt x="305" y="221"/>
                    </a:lnTo>
                    <a:lnTo>
                      <a:pt x="290" y="247"/>
                    </a:lnTo>
                    <a:lnTo>
                      <a:pt x="271" y="272"/>
                    </a:lnTo>
                    <a:lnTo>
                      <a:pt x="247" y="292"/>
                    </a:lnTo>
                    <a:lnTo>
                      <a:pt x="220" y="306"/>
                    </a:lnTo>
                    <a:lnTo>
                      <a:pt x="190" y="316"/>
                    </a:lnTo>
                    <a:lnTo>
                      <a:pt x="159" y="320"/>
                    </a:lnTo>
                    <a:lnTo>
                      <a:pt x="125" y="316"/>
                    </a:lnTo>
                    <a:lnTo>
                      <a:pt x="96" y="306"/>
                    </a:lnTo>
                    <a:lnTo>
                      <a:pt x="69" y="292"/>
                    </a:lnTo>
                    <a:lnTo>
                      <a:pt x="46" y="272"/>
                    </a:lnTo>
                    <a:lnTo>
                      <a:pt x="26" y="247"/>
                    </a:lnTo>
                    <a:lnTo>
                      <a:pt x="12" y="221"/>
                    </a:lnTo>
                    <a:lnTo>
                      <a:pt x="2" y="191"/>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95040" y="1981080"/>
                <a:ext cx="71640" cy="73080"/>
              </a:xfrm>
              <a:custGeom>
                <a:avLst/>
                <a:gdLst/>
                <a:ahLst/>
                <a:rect l="l" t="t" r="r" b="b"/>
                <a:pathLst>
                  <a:path w="224" h="226">
                    <a:moveTo>
                      <a:pt x="128" y="226"/>
                    </a:moveTo>
                    <a:lnTo>
                      <a:pt x="151" y="220"/>
                    </a:lnTo>
                    <a:lnTo>
                      <a:pt x="172" y="210"/>
                    </a:lnTo>
                    <a:lnTo>
                      <a:pt x="189" y="195"/>
                    </a:lnTo>
                    <a:lnTo>
                      <a:pt x="204" y="181"/>
                    </a:lnTo>
                    <a:lnTo>
                      <a:pt x="215" y="160"/>
                    </a:lnTo>
                    <a:lnTo>
                      <a:pt x="222" y="140"/>
                    </a:lnTo>
                    <a:lnTo>
                      <a:pt x="224" y="117"/>
                    </a:lnTo>
                    <a:lnTo>
                      <a:pt x="223" y="94"/>
                    </a:lnTo>
                    <a:lnTo>
                      <a:pt x="219" y="83"/>
                    </a:lnTo>
                    <a:lnTo>
                      <a:pt x="216" y="72"/>
                    </a:lnTo>
                    <a:lnTo>
                      <a:pt x="211" y="61"/>
                    </a:lnTo>
                    <a:lnTo>
                      <a:pt x="206" y="50"/>
                    </a:lnTo>
                    <a:lnTo>
                      <a:pt x="200" y="40"/>
                    </a:lnTo>
                    <a:lnTo>
                      <a:pt x="195" y="32"/>
                    </a:lnTo>
                    <a:lnTo>
                      <a:pt x="188" y="23"/>
                    </a:lnTo>
                    <a:lnTo>
                      <a:pt x="182" y="16"/>
                    </a:lnTo>
                    <a:lnTo>
                      <a:pt x="175" y="12"/>
                    </a:lnTo>
                    <a:lnTo>
                      <a:pt x="167" y="9"/>
                    </a:lnTo>
                    <a:lnTo>
                      <a:pt x="159" y="5"/>
                    </a:lnTo>
                    <a:lnTo>
                      <a:pt x="153" y="4"/>
                    </a:lnTo>
                    <a:lnTo>
                      <a:pt x="145" y="1"/>
                    </a:lnTo>
                    <a:lnTo>
                      <a:pt x="138" y="0"/>
                    </a:lnTo>
                    <a:lnTo>
                      <a:pt x="129" y="0"/>
                    </a:lnTo>
                    <a:lnTo>
                      <a:pt x="122" y="0"/>
                    </a:lnTo>
                    <a:lnTo>
                      <a:pt x="97" y="1"/>
                    </a:lnTo>
                    <a:lnTo>
                      <a:pt x="74" y="9"/>
                    </a:lnTo>
                    <a:lnTo>
                      <a:pt x="53" y="20"/>
                    </a:lnTo>
                    <a:lnTo>
                      <a:pt x="35" y="35"/>
                    </a:lnTo>
                    <a:lnTo>
                      <a:pt x="21" y="52"/>
                    </a:lnTo>
                    <a:lnTo>
                      <a:pt x="9" y="74"/>
                    </a:lnTo>
                    <a:lnTo>
                      <a:pt x="1" y="96"/>
                    </a:lnTo>
                    <a:lnTo>
                      <a:pt x="0" y="123"/>
                    </a:lnTo>
                    <a:lnTo>
                      <a:pt x="0" y="135"/>
                    </a:lnTo>
                    <a:lnTo>
                      <a:pt x="3" y="149"/>
                    </a:lnTo>
                    <a:lnTo>
                      <a:pt x="4" y="155"/>
                    </a:lnTo>
                    <a:lnTo>
                      <a:pt x="6" y="163"/>
                    </a:lnTo>
                    <a:lnTo>
                      <a:pt x="10" y="169"/>
                    </a:lnTo>
                    <a:lnTo>
                      <a:pt x="15" y="177"/>
                    </a:lnTo>
                    <a:lnTo>
                      <a:pt x="21" y="183"/>
                    </a:lnTo>
                    <a:lnTo>
                      <a:pt x="30" y="190"/>
                    </a:lnTo>
                    <a:lnTo>
                      <a:pt x="41" y="199"/>
                    </a:lnTo>
                    <a:lnTo>
                      <a:pt x="57" y="208"/>
                    </a:lnTo>
                    <a:lnTo>
                      <a:pt x="71" y="215"/>
                    </a:lnTo>
                    <a:lnTo>
                      <a:pt x="88" y="222"/>
                    </a:lnTo>
                    <a:lnTo>
                      <a:pt x="107" y="224"/>
                    </a:lnTo>
                    <a:lnTo>
                      <a:pt x="128" y="226"/>
                    </a:lnTo>
                    <a:lnTo>
                      <a:pt x="128" y="226"/>
                    </a:lnTo>
                    <a:close/>
                    <a:moveTo>
                      <a:pt x="44" y="170"/>
                    </a:moveTo>
                    <a:lnTo>
                      <a:pt x="41" y="166"/>
                    </a:lnTo>
                    <a:lnTo>
                      <a:pt x="38" y="158"/>
                    </a:lnTo>
                    <a:lnTo>
                      <a:pt x="32" y="144"/>
                    </a:lnTo>
                    <a:lnTo>
                      <a:pt x="28" y="128"/>
                    </a:lnTo>
                    <a:lnTo>
                      <a:pt x="25" y="108"/>
                    </a:lnTo>
                    <a:lnTo>
                      <a:pt x="29" y="89"/>
                    </a:lnTo>
                    <a:lnTo>
                      <a:pt x="36" y="70"/>
                    </a:lnTo>
                    <a:lnTo>
                      <a:pt x="53" y="54"/>
                    </a:lnTo>
                    <a:lnTo>
                      <a:pt x="71" y="38"/>
                    </a:lnTo>
                    <a:lnTo>
                      <a:pt x="92" y="30"/>
                    </a:lnTo>
                    <a:lnTo>
                      <a:pt x="109" y="27"/>
                    </a:lnTo>
                    <a:lnTo>
                      <a:pt x="126" y="28"/>
                    </a:lnTo>
                    <a:lnTo>
                      <a:pt x="140" y="30"/>
                    </a:lnTo>
                    <a:lnTo>
                      <a:pt x="151" y="34"/>
                    </a:lnTo>
                    <a:lnTo>
                      <a:pt x="158" y="39"/>
                    </a:lnTo>
                    <a:lnTo>
                      <a:pt x="164" y="44"/>
                    </a:lnTo>
                    <a:lnTo>
                      <a:pt x="161" y="43"/>
                    </a:lnTo>
                    <a:lnTo>
                      <a:pt x="154" y="43"/>
                    </a:lnTo>
                    <a:lnTo>
                      <a:pt x="144" y="41"/>
                    </a:lnTo>
                    <a:lnTo>
                      <a:pt x="129" y="43"/>
                    </a:lnTo>
                    <a:lnTo>
                      <a:pt x="113" y="44"/>
                    </a:lnTo>
                    <a:lnTo>
                      <a:pt x="99" y="50"/>
                    </a:lnTo>
                    <a:lnTo>
                      <a:pt x="81" y="57"/>
                    </a:lnTo>
                    <a:lnTo>
                      <a:pt x="68" y="69"/>
                    </a:lnTo>
                    <a:lnTo>
                      <a:pt x="54" y="83"/>
                    </a:lnTo>
                    <a:lnTo>
                      <a:pt x="45" y="101"/>
                    </a:lnTo>
                    <a:lnTo>
                      <a:pt x="40" y="117"/>
                    </a:lnTo>
                    <a:lnTo>
                      <a:pt x="40" y="132"/>
                    </a:lnTo>
                    <a:lnTo>
                      <a:pt x="39" y="147"/>
                    </a:lnTo>
                    <a:lnTo>
                      <a:pt x="41" y="159"/>
                    </a:lnTo>
                    <a:lnTo>
                      <a:pt x="42" y="166"/>
                    </a:lnTo>
                    <a:lnTo>
                      <a:pt x="44" y="170"/>
                    </a:lnTo>
                    <a:lnTo>
                      <a:pt x="44" y="17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a:off x="2803320" y="1990440"/>
                <a:ext cx="44280" cy="44640"/>
              </a:xfrm>
              <a:custGeom>
                <a:avLst/>
                <a:gdLst/>
                <a:ahLst/>
                <a:rect l="l" t="t" r="r" b="b"/>
                <a:pathLst>
                  <a:path w="139" h="143">
                    <a:moveTo>
                      <a:pt x="139" y="17"/>
                    </a:moveTo>
                    <a:lnTo>
                      <a:pt x="133" y="12"/>
                    </a:lnTo>
                    <a:lnTo>
                      <a:pt x="126" y="7"/>
                    </a:lnTo>
                    <a:lnTo>
                      <a:pt x="115" y="3"/>
                    </a:lnTo>
                    <a:lnTo>
                      <a:pt x="101" y="1"/>
                    </a:lnTo>
                    <a:lnTo>
                      <a:pt x="84" y="0"/>
                    </a:lnTo>
                    <a:lnTo>
                      <a:pt x="67" y="3"/>
                    </a:lnTo>
                    <a:lnTo>
                      <a:pt x="46" y="11"/>
                    </a:lnTo>
                    <a:lnTo>
                      <a:pt x="28" y="27"/>
                    </a:lnTo>
                    <a:lnTo>
                      <a:pt x="11" y="43"/>
                    </a:lnTo>
                    <a:lnTo>
                      <a:pt x="4" y="62"/>
                    </a:lnTo>
                    <a:lnTo>
                      <a:pt x="0" y="81"/>
                    </a:lnTo>
                    <a:lnTo>
                      <a:pt x="3" y="101"/>
                    </a:lnTo>
                    <a:lnTo>
                      <a:pt x="7" y="117"/>
                    </a:lnTo>
                    <a:lnTo>
                      <a:pt x="13" y="131"/>
                    </a:lnTo>
                    <a:lnTo>
                      <a:pt x="16" y="139"/>
                    </a:lnTo>
                    <a:lnTo>
                      <a:pt x="19" y="143"/>
                    </a:lnTo>
                    <a:lnTo>
                      <a:pt x="17" y="139"/>
                    </a:lnTo>
                    <a:lnTo>
                      <a:pt x="16" y="132"/>
                    </a:lnTo>
                    <a:lnTo>
                      <a:pt x="14" y="120"/>
                    </a:lnTo>
                    <a:lnTo>
                      <a:pt x="15" y="105"/>
                    </a:lnTo>
                    <a:lnTo>
                      <a:pt x="15" y="90"/>
                    </a:lnTo>
                    <a:lnTo>
                      <a:pt x="20" y="74"/>
                    </a:lnTo>
                    <a:lnTo>
                      <a:pt x="29" y="56"/>
                    </a:lnTo>
                    <a:lnTo>
                      <a:pt x="43" y="42"/>
                    </a:lnTo>
                    <a:lnTo>
                      <a:pt x="56" y="30"/>
                    </a:lnTo>
                    <a:lnTo>
                      <a:pt x="74" y="23"/>
                    </a:lnTo>
                    <a:lnTo>
                      <a:pt x="88" y="17"/>
                    </a:lnTo>
                    <a:lnTo>
                      <a:pt x="104" y="16"/>
                    </a:lnTo>
                    <a:lnTo>
                      <a:pt x="119" y="14"/>
                    </a:lnTo>
                    <a:lnTo>
                      <a:pt x="129" y="16"/>
                    </a:lnTo>
                    <a:lnTo>
                      <a:pt x="136" y="16"/>
                    </a:lnTo>
                    <a:lnTo>
                      <a:pt x="139" y="17"/>
                    </a:lnTo>
                    <a:lnTo>
                      <a:pt x="139" y="1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 name=""/>
              <p:cNvSpPr/>
              <p:nvPr/>
            </p:nvSpPr>
            <p:spPr>
              <a:xfrm>
                <a:off x="2800080" y="1987200"/>
                <a:ext cx="73080" cy="71640"/>
              </a:xfrm>
              <a:custGeom>
                <a:avLst/>
                <a:gdLst/>
                <a:ahLst/>
                <a:rect l="l" t="t" r="r" b="b"/>
                <a:pathLst>
                  <a:path w="227" h="228">
                    <a:moveTo>
                      <a:pt x="167" y="0"/>
                    </a:moveTo>
                    <a:lnTo>
                      <a:pt x="173" y="7"/>
                    </a:lnTo>
                    <a:lnTo>
                      <a:pt x="180" y="16"/>
                    </a:lnTo>
                    <a:lnTo>
                      <a:pt x="185" y="24"/>
                    </a:lnTo>
                    <a:lnTo>
                      <a:pt x="191" y="34"/>
                    </a:lnTo>
                    <a:lnTo>
                      <a:pt x="196" y="45"/>
                    </a:lnTo>
                    <a:lnTo>
                      <a:pt x="201" y="56"/>
                    </a:lnTo>
                    <a:lnTo>
                      <a:pt x="204" y="67"/>
                    </a:lnTo>
                    <a:lnTo>
                      <a:pt x="208" y="78"/>
                    </a:lnTo>
                    <a:lnTo>
                      <a:pt x="209" y="101"/>
                    </a:lnTo>
                    <a:lnTo>
                      <a:pt x="207" y="124"/>
                    </a:lnTo>
                    <a:lnTo>
                      <a:pt x="200" y="144"/>
                    </a:lnTo>
                    <a:lnTo>
                      <a:pt x="189" y="165"/>
                    </a:lnTo>
                    <a:lnTo>
                      <a:pt x="174" y="179"/>
                    </a:lnTo>
                    <a:lnTo>
                      <a:pt x="157" y="194"/>
                    </a:lnTo>
                    <a:lnTo>
                      <a:pt x="136" y="204"/>
                    </a:lnTo>
                    <a:lnTo>
                      <a:pt x="113" y="210"/>
                    </a:lnTo>
                    <a:lnTo>
                      <a:pt x="92" y="208"/>
                    </a:lnTo>
                    <a:lnTo>
                      <a:pt x="73" y="206"/>
                    </a:lnTo>
                    <a:lnTo>
                      <a:pt x="56" y="199"/>
                    </a:lnTo>
                    <a:lnTo>
                      <a:pt x="42" y="192"/>
                    </a:lnTo>
                    <a:lnTo>
                      <a:pt x="26" y="183"/>
                    </a:lnTo>
                    <a:lnTo>
                      <a:pt x="15" y="174"/>
                    </a:lnTo>
                    <a:lnTo>
                      <a:pt x="6" y="167"/>
                    </a:lnTo>
                    <a:lnTo>
                      <a:pt x="0" y="161"/>
                    </a:lnTo>
                    <a:lnTo>
                      <a:pt x="7" y="174"/>
                    </a:lnTo>
                    <a:lnTo>
                      <a:pt x="17" y="187"/>
                    </a:lnTo>
                    <a:lnTo>
                      <a:pt x="27" y="199"/>
                    </a:lnTo>
                    <a:lnTo>
                      <a:pt x="43" y="210"/>
                    </a:lnTo>
                    <a:lnTo>
                      <a:pt x="56" y="216"/>
                    </a:lnTo>
                    <a:lnTo>
                      <a:pt x="72" y="222"/>
                    </a:lnTo>
                    <a:lnTo>
                      <a:pt x="89" y="225"/>
                    </a:lnTo>
                    <a:lnTo>
                      <a:pt x="107" y="228"/>
                    </a:lnTo>
                    <a:lnTo>
                      <a:pt x="131" y="224"/>
                    </a:lnTo>
                    <a:lnTo>
                      <a:pt x="153" y="218"/>
                    </a:lnTo>
                    <a:lnTo>
                      <a:pt x="173" y="207"/>
                    </a:lnTo>
                    <a:lnTo>
                      <a:pt x="191" y="192"/>
                    </a:lnTo>
                    <a:lnTo>
                      <a:pt x="207" y="173"/>
                    </a:lnTo>
                    <a:lnTo>
                      <a:pt x="218" y="153"/>
                    </a:lnTo>
                    <a:lnTo>
                      <a:pt x="224" y="130"/>
                    </a:lnTo>
                    <a:lnTo>
                      <a:pt x="227" y="107"/>
                    </a:lnTo>
                    <a:lnTo>
                      <a:pt x="225" y="88"/>
                    </a:lnTo>
                    <a:lnTo>
                      <a:pt x="223" y="73"/>
                    </a:lnTo>
                    <a:lnTo>
                      <a:pt x="217" y="57"/>
                    </a:lnTo>
                    <a:lnTo>
                      <a:pt x="211" y="45"/>
                    </a:lnTo>
                    <a:lnTo>
                      <a:pt x="202" y="29"/>
                    </a:lnTo>
                    <a:lnTo>
                      <a:pt x="191" y="18"/>
                    </a:lnTo>
                    <a:lnTo>
                      <a:pt x="179" y="8"/>
                    </a:lnTo>
                    <a:lnTo>
                      <a:pt x="167" y="0"/>
                    </a:lnTo>
                    <a:lnTo>
                      <a:pt x="167" y="0"/>
                    </a:lnTo>
                    <a:close/>
                  </a:path>
                </a:pathLst>
              </a:custGeom>
              <a:solidFill>
                <a:srgbClr val="f7a35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2785680" y="2060280"/>
                <a:ext cx="96840" cy="916200"/>
              </a:xfrm>
              <a:custGeom>
                <a:avLst/>
                <a:gdLst/>
                <a:ahLst/>
                <a:rect l="l" t="t" r="r" b="b"/>
                <a:pathLst>
                  <a:path w="306" h="2884">
                    <a:moveTo>
                      <a:pt x="292" y="51"/>
                    </a:moveTo>
                    <a:lnTo>
                      <a:pt x="287" y="47"/>
                    </a:lnTo>
                    <a:lnTo>
                      <a:pt x="279" y="40"/>
                    </a:lnTo>
                    <a:lnTo>
                      <a:pt x="267" y="32"/>
                    </a:lnTo>
                    <a:lnTo>
                      <a:pt x="252" y="24"/>
                    </a:lnTo>
                    <a:lnTo>
                      <a:pt x="231" y="14"/>
                    </a:lnTo>
                    <a:lnTo>
                      <a:pt x="209" y="7"/>
                    </a:lnTo>
                    <a:lnTo>
                      <a:pt x="181" y="1"/>
                    </a:lnTo>
                    <a:lnTo>
                      <a:pt x="154" y="0"/>
                    </a:lnTo>
                    <a:lnTo>
                      <a:pt x="126" y="0"/>
                    </a:lnTo>
                    <a:lnTo>
                      <a:pt x="99" y="6"/>
                    </a:lnTo>
                    <a:lnTo>
                      <a:pt x="75" y="12"/>
                    </a:lnTo>
                    <a:lnTo>
                      <a:pt x="57" y="19"/>
                    </a:lnTo>
                    <a:lnTo>
                      <a:pt x="39" y="25"/>
                    </a:lnTo>
                    <a:lnTo>
                      <a:pt x="27" y="32"/>
                    </a:lnTo>
                    <a:lnTo>
                      <a:pt x="19" y="36"/>
                    </a:lnTo>
                    <a:lnTo>
                      <a:pt x="16" y="40"/>
                    </a:lnTo>
                    <a:lnTo>
                      <a:pt x="0" y="52"/>
                    </a:lnTo>
                    <a:lnTo>
                      <a:pt x="0" y="72"/>
                    </a:lnTo>
                    <a:lnTo>
                      <a:pt x="1" y="2793"/>
                    </a:lnTo>
                    <a:lnTo>
                      <a:pt x="1" y="2797"/>
                    </a:lnTo>
                    <a:lnTo>
                      <a:pt x="2" y="2800"/>
                    </a:lnTo>
                    <a:lnTo>
                      <a:pt x="2" y="2804"/>
                    </a:lnTo>
                    <a:lnTo>
                      <a:pt x="8" y="2814"/>
                    </a:lnTo>
                    <a:lnTo>
                      <a:pt x="15" y="2827"/>
                    </a:lnTo>
                    <a:lnTo>
                      <a:pt x="27" y="2843"/>
                    </a:lnTo>
                    <a:lnTo>
                      <a:pt x="44" y="2856"/>
                    </a:lnTo>
                    <a:lnTo>
                      <a:pt x="69" y="2870"/>
                    </a:lnTo>
                    <a:lnTo>
                      <a:pt x="103" y="2880"/>
                    </a:lnTo>
                    <a:lnTo>
                      <a:pt x="145" y="2884"/>
                    </a:lnTo>
                    <a:lnTo>
                      <a:pt x="183" y="2880"/>
                    </a:lnTo>
                    <a:lnTo>
                      <a:pt x="216" y="2874"/>
                    </a:lnTo>
                    <a:lnTo>
                      <a:pt x="243" y="2862"/>
                    </a:lnTo>
                    <a:lnTo>
                      <a:pt x="263" y="2852"/>
                    </a:lnTo>
                    <a:lnTo>
                      <a:pt x="278" y="2840"/>
                    </a:lnTo>
                    <a:lnTo>
                      <a:pt x="290" y="2830"/>
                    </a:lnTo>
                    <a:lnTo>
                      <a:pt x="297" y="2822"/>
                    </a:lnTo>
                    <a:lnTo>
                      <a:pt x="301" y="2818"/>
                    </a:lnTo>
                    <a:lnTo>
                      <a:pt x="306" y="2809"/>
                    </a:lnTo>
                    <a:lnTo>
                      <a:pt x="306" y="2799"/>
                    </a:lnTo>
                    <a:lnTo>
                      <a:pt x="304" y="79"/>
                    </a:lnTo>
                    <a:lnTo>
                      <a:pt x="304" y="61"/>
                    </a:lnTo>
                    <a:lnTo>
                      <a:pt x="292" y="51"/>
                    </a:lnTo>
                    <a:lnTo>
                      <a:pt x="29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804760" y="2072880"/>
                <a:ext cx="42840" cy="890640"/>
              </a:xfrm>
              <a:custGeom>
                <a:avLst/>
                <a:gdLst/>
                <a:ahLst/>
                <a:rect l="l" t="t" r="r" b="b"/>
                <a:pathLst>
                  <a:path w="133" h="2806">
                    <a:moveTo>
                      <a:pt x="133" y="2801"/>
                    </a:moveTo>
                    <a:lnTo>
                      <a:pt x="132" y="5"/>
                    </a:lnTo>
                    <a:lnTo>
                      <a:pt x="122" y="2"/>
                    </a:lnTo>
                    <a:lnTo>
                      <a:pt x="112" y="1"/>
                    </a:lnTo>
                    <a:lnTo>
                      <a:pt x="103" y="0"/>
                    </a:lnTo>
                    <a:lnTo>
                      <a:pt x="92" y="0"/>
                    </a:lnTo>
                    <a:lnTo>
                      <a:pt x="77" y="0"/>
                    </a:lnTo>
                    <a:lnTo>
                      <a:pt x="64" y="1"/>
                    </a:lnTo>
                    <a:lnTo>
                      <a:pt x="50" y="2"/>
                    </a:lnTo>
                    <a:lnTo>
                      <a:pt x="39" y="7"/>
                    </a:lnTo>
                    <a:lnTo>
                      <a:pt x="28" y="9"/>
                    </a:lnTo>
                    <a:lnTo>
                      <a:pt x="17" y="13"/>
                    </a:lnTo>
                    <a:lnTo>
                      <a:pt x="8" y="16"/>
                    </a:lnTo>
                    <a:lnTo>
                      <a:pt x="0" y="20"/>
                    </a:lnTo>
                    <a:lnTo>
                      <a:pt x="2" y="2786"/>
                    </a:lnTo>
                    <a:lnTo>
                      <a:pt x="6" y="2789"/>
                    </a:lnTo>
                    <a:lnTo>
                      <a:pt x="14" y="2793"/>
                    </a:lnTo>
                    <a:lnTo>
                      <a:pt x="22" y="2796"/>
                    </a:lnTo>
                    <a:lnTo>
                      <a:pt x="33" y="2800"/>
                    </a:lnTo>
                    <a:lnTo>
                      <a:pt x="43" y="2801"/>
                    </a:lnTo>
                    <a:lnTo>
                      <a:pt x="55" y="2804"/>
                    </a:lnTo>
                    <a:lnTo>
                      <a:pt x="68" y="2805"/>
                    </a:lnTo>
                    <a:lnTo>
                      <a:pt x="82" y="2806"/>
                    </a:lnTo>
                    <a:lnTo>
                      <a:pt x="88" y="2805"/>
                    </a:lnTo>
                    <a:lnTo>
                      <a:pt x="96" y="2805"/>
                    </a:lnTo>
                    <a:lnTo>
                      <a:pt x="103" y="2804"/>
                    </a:lnTo>
                    <a:lnTo>
                      <a:pt x="110" y="2804"/>
                    </a:lnTo>
                    <a:lnTo>
                      <a:pt x="121" y="2802"/>
                    </a:lnTo>
                    <a:lnTo>
                      <a:pt x="133" y="2801"/>
                    </a:lnTo>
                    <a:lnTo>
                      <a:pt x="133" y="2801"/>
                    </a:lnTo>
                    <a:close/>
                    <a:moveTo>
                      <a:pt x="55" y="2760"/>
                    </a:moveTo>
                    <a:lnTo>
                      <a:pt x="22" y="2760"/>
                    </a:lnTo>
                    <a:lnTo>
                      <a:pt x="18" y="26"/>
                    </a:lnTo>
                    <a:lnTo>
                      <a:pt x="52" y="26"/>
                    </a:lnTo>
                    <a:lnTo>
                      <a:pt x="55" y="2760"/>
                    </a:lnTo>
                    <a:lnTo>
                      <a:pt x="55" y="2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811240" y="2080800"/>
                <a:ext cx="10800" cy="868680"/>
              </a:xfrm>
              <a:custGeom>
                <a:avLst/>
                <a:gdLst/>
                <a:ahLst/>
                <a:rect l="l" t="t" r="r" b="b"/>
                <a:pathLst>
                  <a:path w="37" h="2734">
                    <a:moveTo>
                      <a:pt x="4" y="2734"/>
                    </a:moveTo>
                    <a:lnTo>
                      <a:pt x="37" y="2734"/>
                    </a:lnTo>
                    <a:lnTo>
                      <a:pt x="34" y="0"/>
                    </a:lnTo>
                    <a:lnTo>
                      <a:pt x="0" y="0"/>
                    </a:lnTo>
                    <a:lnTo>
                      <a:pt x="4" y="2734"/>
                    </a:lnTo>
                    <a:lnTo>
                      <a:pt x="4" y="2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847600" y="2074680"/>
                <a:ext cx="22320" cy="887400"/>
              </a:xfrm>
              <a:custGeom>
                <a:avLst/>
                <a:gdLst/>
                <a:ahLst/>
                <a:rect l="l" t="t" r="r" b="b"/>
                <a:pathLst>
                  <a:path w="73" h="2796">
                    <a:moveTo>
                      <a:pt x="73" y="2755"/>
                    </a:moveTo>
                    <a:lnTo>
                      <a:pt x="71" y="35"/>
                    </a:lnTo>
                    <a:lnTo>
                      <a:pt x="68" y="32"/>
                    </a:lnTo>
                    <a:lnTo>
                      <a:pt x="65" y="30"/>
                    </a:lnTo>
                    <a:lnTo>
                      <a:pt x="59" y="25"/>
                    </a:lnTo>
                    <a:lnTo>
                      <a:pt x="51" y="21"/>
                    </a:lnTo>
                    <a:lnTo>
                      <a:pt x="40" y="15"/>
                    </a:lnTo>
                    <a:lnTo>
                      <a:pt x="29" y="9"/>
                    </a:lnTo>
                    <a:lnTo>
                      <a:pt x="14" y="4"/>
                    </a:lnTo>
                    <a:lnTo>
                      <a:pt x="0" y="0"/>
                    </a:lnTo>
                    <a:lnTo>
                      <a:pt x="1" y="2796"/>
                    </a:lnTo>
                    <a:lnTo>
                      <a:pt x="20" y="2790"/>
                    </a:lnTo>
                    <a:lnTo>
                      <a:pt x="35" y="2784"/>
                    </a:lnTo>
                    <a:lnTo>
                      <a:pt x="46" y="2776"/>
                    </a:lnTo>
                    <a:lnTo>
                      <a:pt x="57" y="2770"/>
                    </a:lnTo>
                    <a:lnTo>
                      <a:pt x="64" y="2762"/>
                    </a:lnTo>
                    <a:lnTo>
                      <a:pt x="68" y="2759"/>
                    </a:lnTo>
                    <a:lnTo>
                      <a:pt x="72" y="2755"/>
                    </a:lnTo>
                    <a:lnTo>
                      <a:pt x="73" y="2755"/>
                    </a:lnTo>
                    <a:lnTo>
                      <a:pt x="73" y="2755"/>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96840" y="2079360"/>
                <a:ext cx="9360" cy="878040"/>
              </a:xfrm>
              <a:custGeom>
                <a:avLst/>
                <a:gdLst/>
                <a:ahLst/>
                <a:rect l="l" t="t" r="r" b="b"/>
                <a:pathLst>
                  <a:path w="28" h="2766">
                    <a:moveTo>
                      <a:pt x="0" y="13"/>
                    </a:moveTo>
                    <a:lnTo>
                      <a:pt x="2" y="2734"/>
                    </a:lnTo>
                    <a:lnTo>
                      <a:pt x="2" y="2736"/>
                    </a:lnTo>
                    <a:lnTo>
                      <a:pt x="6" y="2744"/>
                    </a:lnTo>
                    <a:lnTo>
                      <a:pt x="9" y="2747"/>
                    </a:lnTo>
                    <a:lnTo>
                      <a:pt x="14" y="2753"/>
                    </a:lnTo>
                    <a:lnTo>
                      <a:pt x="19" y="2759"/>
                    </a:lnTo>
                    <a:lnTo>
                      <a:pt x="28" y="2766"/>
                    </a:lnTo>
                    <a:lnTo>
                      <a:pt x="26" y="0"/>
                    </a:lnTo>
                    <a:lnTo>
                      <a:pt x="14" y="4"/>
                    </a:lnTo>
                    <a:lnTo>
                      <a:pt x="6" y="9"/>
                    </a:lnTo>
                    <a:lnTo>
                      <a:pt x="1" y="11"/>
                    </a:lnTo>
                    <a:lnTo>
                      <a:pt x="0" y="13"/>
                    </a:lnTo>
                    <a:lnTo>
                      <a:pt x="0" y="13"/>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768400" y="2877840"/>
                <a:ext cx="25200" cy="95400"/>
              </a:xfrm>
              <a:custGeom>
                <a:avLst/>
                <a:gdLst/>
                <a:ahLst/>
                <a:rect l="l" t="t" r="r" b="b"/>
                <a:pathLst>
                  <a:path w="80" h="299">
                    <a:moveTo>
                      <a:pt x="33" y="0"/>
                    </a:moveTo>
                    <a:lnTo>
                      <a:pt x="33" y="238"/>
                    </a:lnTo>
                    <a:lnTo>
                      <a:pt x="33" y="240"/>
                    </a:lnTo>
                    <a:lnTo>
                      <a:pt x="35" y="246"/>
                    </a:lnTo>
                    <a:lnTo>
                      <a:pt x="39" y="254"/>
                    </a:lnTo>
                    <a:lnTo>
                      <a:pt x="45" y="265"/>
                    </a:lnTo>
                    <a:lnTo>
                      <a:pt x="51" y="275"/>
                    </a:lnTo>
                    <a:lnTo>
                      <a:pt x="61" y="284"/>
                    </a:lnTo>
                    <a:lnTo>
                      <a:pt x="69" y="293"/>
                    </a:lnTo>
                    <a:lnTo>
                      <a:pt x="80" y="299"/>
                    </a:lnTo>
                    <a:lnTo>
                      <a:pt x="76" y="298"/>
                    </a:lnTo>
                    <a:lnTo>
                      <a:pt x="69" y="295"/>
                    </a:lnTo>
                    <a:lnTo>
                      <a:pt x="56" y="289"/>
                    </a:lnTo>
                    <a:lnTo>
                      <a:pt x="44" y="284"/>
                    </a:lnTo>
                    <a:lnTo>
                      <a:pt x="31" y="276"/>
                    </a:lnTo>
                    <a:lnTo>
                      <a:pt x="17" y="266"/>
                    </a:lnTo>
                    <a:lnTo>
                      <a:pt x="6" y="254"/>
                    </a:lnTo>
                    <a:lnTo>
                      <a:pt x="0" y="238"/>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69840" y="2064960"/>
                <a:ext cx="20520" cy="142920"/>
              </a:xfrm>
              <a:custGeom>
                <a:avLst/>
                <a:gdLst/>
                <a:ahLst/>
                <a:rect l="l" t="t" r="r" b="b"/>
                <a:pathLst>
                  <a:path w="66" h="451">
                    <a:moveTo>
                      <a:pt x="66" y="0"/>
                    </a:moveTo>
                    <a:lnTo>
                      <a:pt x="28" y="26"/>
                    </a:lnTo>
                    <a:lnTo>
                      <a:pt x="28" y="451"/>
                    </a:lnTo>
                    <a:lnTo>
                      <a:pt x="0" y="19"/>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96880" y="2696760"/>
                <a:ext cx="371520" cy="95400"/>
              </a:xfrm>
              <a:custGeom>
                <a:avLst/>
                <a:gdLst/>
                <a:ahLst/>
                <a:rect l="l" t="t" r="r" b="b"/>
                <a:pathLst>
                  <a:path w="1171" h="300">
                    <a:moveTo>
                      <a:pt x="1171" y="297"/>
                    </a:moveTo>
                    <a:lnTo>
                      <a:pt x="1163" y="258"/>
                    </a:lnTo>
                    <a:lnTo>
                      <a:pt x="1069" y="262"/>
                    </a:lnTo>
                    <a:lnTo>
                      <a:pt x="978" y="257"/>
                    </a:lnTo>
                    <a:lnTo>
                      <a:pt x="884" y="241"/>
                    </a:lnTo>
                    <a:lnTo>
                      <a:pt x="790" y="219"/>
                    </a:lnTo>
                    <a:lnTo>
                      <a:pt x="694" y="190"/>
                    </a:lnTo>
                    <a:lnTo>
                      <a:pt x="598" y="157"/>
                    </a:lnTo>
                    <a:lnTo>
                      <a:pt x="500" y="121"/>
                    </a:lnTo>
                    <a:lnTo>
                      <a:pt x="403" y="85"/>
                    </a:lnTo>
                    <a:lnTo>
                      <a:pt x="350" y="65"/>
                    </a:lnTo>
                    <a:lnTo>
                      <a:pt x="298" y="48"/>
                    </a:lnTo>
                    <a:lnTo>
                      <a:pt x="247" y="34"/>
                    </a:lnTo>
                    <a:lnTo>
                      <a:pt x="199" y="24"/>
                    </a:lnTo>
                    <a:lnTo>
                      <a:pt x="147" y="14"/>
                    </a:lnTo>
                    <a:lnTo>
                      <a:pt x="97" y="6"/>
                    </a:lnTo>
                    <a:lnTo>
                      <a:pt x="48" y="1"/>
                    </a:lnTo>
                    <a:lnTo>
                      <a:pt x="0" y="0"/>
                    </a:lnTo>
                    <a:lnTo>
                      <a:pt x="7" y="40"/>
                    </a:lnTo>
                    <a:lnTo>
                      <a:pt x="48" y="40"/>
                    </a:lnTo>
                    <a:lnTo>
                      <a:pt x="93" y="44"/>
                    </a:lnTo>
                    <a:lnTo>
                      <a:pt x="136" y="47"/>
                    </a:lnTo>
                    <a:lnTo>
                      <a:pt x="181" y="57"/>
                    </a:lnTo>
                    <a:lnTo>
                      <a:pt x="224" y="64"/>
                    </a:lnTo>
                    <a:lnTo>
                      <a:pt x="268" y="75"/>
                    </a:lnTo>
                    <a:lnTo>
                      <a:pt x="313" y="89"/>
                    </a:lnTo>
                    <a:lnTo>
                      <a:pt x="360" y="105"/>
                    </a:lnTo>
                    <a:lnTo>
                      <a:pt x="463" y="143"/>
                    </a:lnTo>
                    <a:lnTo>
                      <a:pt x="568" y="182"/>
                    </a:lnTo>
                    <a:lnTo>
                      <a:pt x="669" y="218"/>
                    </a:lnTo>
                    <a:lnTo>
                      <a:pt x="773" y="252"/>
                    </a:lnTo>
                    <a:lnTo>
                      <a:pt x="872" y="276"/>
                    </a:lnTo>
                    <a:lnTo>
                      <a:pt x="973" y="294"/>
                    </a:lnTo>
                    <a:lnTo>
                      <a:pt x="1072" y="300"/>
                    </a:lnTo>
                    <a:lnTo>
                      <a:pt x="1171" y="297"/>
                    </a:lnTo>
                    <a:lnTo>
                      <a:pt x="1171"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66600" y="2695320"/>
                <a:ext cx="247680" cy="95400"/>
              </a:xfrm>
              <a:custGeom>
                <a:avLst/>
                <a:gdLst/>
                <a:ahLst/>
                <a:rect l="l" t="t" r="r" b="b"/>
                <a:pathLst>
                  <a:path w="782" h="302">
                    <a:moveTo>
                      <a:pt x="59" y="253"/>
                    </a:moveTo>
                    <a:lnTo>
                      <a:pt x="52" y="253"/>
                    </a:lnTo>
                    <a:lnTo>
                      <a:pt x="45" y="256"/>
                    </a:lnTo>
                    <a:lnTo>
                      <a:pt x="38" y="256"/>
                    </a:lnTo>
                    <a:lnTo>
                      <a:pt x="30" y="258"/>
                    </a:lnTo>
                    <a:lnTo>
                      <a:pt x="22" y="258"/>
                    </a:lnTo>
                    <a:lnTo>
                      <a:pt x="15" y="261"/>
                    </a:lnTo>
                    <a:lnTo>
                      <a:pt x="8" y="261"/>
                    </a:lnTo>
                    <a:lnTo>
                      <a:pt x="0" y="263"/>
                    </a:lnTo>
                    <a:lnTo>
                      <a:pt x="8" y="302"/>
                    </a:lnTo>
                    <a:lnTo>
                      <a:pt x="15" y="299"/>
                    </a:lnTo>
                    <a:lnTo>
                      <a:pt x="22" y="298"/>
                    </a:lnTo>
                    <a:lnTo>
                      <a:pt x="32" y="297"/>
                    </a:lnTo>
                    <a:lnTo>
                      <a:pt x="40" y="297"/>
                    </a:lnTo>
                    <a:lnTo>
                      <a:pt x="133" y="272"/>
                    </a:lnTo>
                    <a:lnTo>
                      <a:pt x="227" y="240"/>
                    </a:lnTo>
                    <a:lnTo>
                      <a:pt x="317" y="201"/>
                    </a:lnTo>
                    <a:lnTo>
                      <a:pt x="409" y="162"/>
                    </a:lnTo>
                    <a:lnTo>
                      <a:pt x="499" y="122"/>
                    </a:lnTo>
                    <a:lnTo>
                      <a:pt x="592" y="87"/>
                    </a:lnTo>
                    <a:lnTo>
                      <a:pt x="685" y="58"/>
                    </a:lnTo>
                    <a:lnTo>
                      <a:pt x="782" y="39"/>
                    </a:lnTo>
                    <a:lnTo>
                      <a:pt x="775" y="0"/>
                    </a:lnTo>
                    <a:lnTo>
                      <a:pt x="682" y="18"/>
                    </a:lnTo>
                    <a:lnTo>
                      <a:pt x="593" y="46"/>
                    </a:lnTo>
                    <a:lnTo>
                      <a:pt x="504" y="80"/>
                    </a:lnTo>
                    <a:lnTo>
                      <a:pt x="416" y="119"/>
                    </a:lnTo>
                    <a:lnTo>
                      <a:pt x="328" y="156"/>
                    </a:lnTo>
                    <a:lnTo>
                      <a:pt x="240" y="194"/>
                    </a:lnTo>
                    <a:lnTo>
                      <a:pt x="150" y="227"/>
                    </a:lnTo>
                    <a:lnTo>
                      <a:pt x="59" y="253"/>
                    </a:lnTo>
                    <a:lnTo>
                      <a:pt x="5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45880" y="1993680"/>
                <a:ext cx="225720" cy="87120"/>
              </a:xfrm>
              <a:custGeom>
                <a:avLst/>
                <a:gdLst/>
                <a:ahLst/>
                <a:rect l="l" t="t" r="r" b="b"/>
                <a:pathLst>
                  <a:path w="710" h="277">
                    <a:moveTo>
                      <a:pt x="705" y="37"/>
                    </a:moveTo>
                    <a:lnTo>
                      <a:pt x="708" y="37"/>
                    </a:lnTo>
                    <a:lnTo>
                      <a:pt x="710" y="37"/>
                    </a:lnTo>
                    <a:lnTo>
                      <a:pt x="704" y="0"/>
                    </a:lnTo>
                    <a:lnTo>
                      <a:pt x="696" y="0"/>
                    </a:lnTo>
                    <a:lnTo>
                      <a:pt x="688" y="0"/>
                    </a:lnTo>
                    <a:lnTo>
                      <a:pt x="680" y="0"/>
                    </a:lnTo>
                    <a:lnTo>
                      <a:pt x="673" y="1"/>
                    </a:lnTo>
                    <a:lnTo>
                      <a:pt x="664" y="1"/>
                    </a:lnTo>
                    <a:lnTo>
                      <a:pt x="657" y="2"/>
                    </a:lnTo>
                    <a:lnTo>
                      <a:pt x="650" y="3"/>
                    </a:lnTo>
                    <a:lnTo>
                      <a:pt x="642" y="5"/>
                    </a:lnTo>
                    <a:lnTo>
                      <a:pt x="558" y="21"/>
                    </a:lnTo>
                    <a:lnTo>
                      <a:pt x="476" y="45"/>
                    </a:lnTo>
                    <a:lnTo>
                      <a:pt x="396" y="75"/>
                    </a:lnTo>
                    <a:lnTo>
                      <a:pt x="317" y="109"/>
                    </a:lnTo>
                    <a:lnTo>
                      <a:pt x="238" y="143"/>
                    </a:lnTo>
                    <a:lnTo>
                      <a:pt x="160" y="178"/>
                    </a:lnTo>
                    <a:lnTo>
                      <a:pt x="80" y="210"/>
                    </a:lnTo>
                    <a:lnTo>
                      <a:pt x="0" y="239"/>
                    </a:lnTo>
                    <a:lnTo>
                      <a:pt x="4" y="277"/>
                    </a:lnTo>
                    <a:lnTo>
                      <a:pt x="91" y="246"/>
                    </a:lnTo>
                    <a:lnTo>
                      <a:pt x="179" y="212"/>
                    </a:lnTo>
                    <a:lnTo>
                      <a:pt x="264" y="173"/>
                    </a:lnTo>
                    <a:lnTo>
                      <a:pt x="351" y="137"/>
                    </a:lnTo>
                    <a:lnTo>
                      <a:pt x="437" y="102"/>
                    </a:lnTo>
                    <a:lnTo>
                      <a:pt x="524" y="72"/>
                    </a:lnTo>
                    <a:lnTo>
                      <a:pt x="613" y="48"/>
                    </a:lnTo>
                    <a:lnTo>
                      <a:pt x="705" y="37"/>
                    </a:lnTo>
                    <a:lnTo>
                      <a:pt x="705" y="3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 name=""/>
              <p:cNvSpPr/>
              <p:nvPr/>
            </p:nvSpPr>
            <p:spPr>
              <a:xfrm>
                <a:off x="3020760" y="2696760"/>
                <a:ext cx="279360" cy="90720"/>
              </a:xfrm>
              <a:custGeom>
                <a:avLst/>
                <a:gdLst/>
                <a:ahLst/>
                <a:rect l="l" t="t" r="r" b="b"/>
                <a:pathLst>
                  <a:path w="880" h="286">
                    <a:moveTo>
                      <a:pt x="484" y="75"/>
                    </a:moveTo>
                    <a:lnTo>
                      <a:pt x="422" y="100"/>
                    </a:lnTo>
                    <a:lnTo>
                      <a:pt x="362" y="125"/>
                    </a:lnTo>
                    <a:lnTo>
                      <a:pt x="302" y="150"/>
                    </a:lnTo>
                    <a:lnTo>
                      <a:pt x="241" y="175"/>
                    </a:lnTo>
                    <a:lnTo>
                      <a:pt x="181" y="196"/>
                    </a:lnTo>
                    <a:lnTo>
                      <a:pt x="121" y="218"/>
                    </a:lnTo>
                    <a:lnTo>
                      <a:pt x="61" y="235"/>
                    </a:lnTo>
                    <a:lnTo>
                      <a:pt x="0" y="250"/>
                    </a:lnTo>
                    <a:lnTo>
                      <a:pt x="4" y="286"/>
                    </a:lnTo>
                    <a:lnTo>
                      <a:pt x="57" y="272"/>
                    </a:lnTo>
                    <a:lnTo>
                      <a:pt x="109" y="259"/>
                    </a:lnTo>
                    <a:lnTo>
                      <a:pt x="161" y="243"/>
                    </a:lnTo>
                    <a:lnTo>
                      <a:pt x="215" y="226"/>
                    </a:lnTo>
                    <a:lnTo>
                      <a:pt x="267" y="207"/>
                    </a:lnTo>
                    <a:lnTo>
                      <a:pt x="320" y="185"/>
                    </a:lnTo>
                    <a:lnTo>
                      <a:pt x="373" y="162"/>
                    </a:lnTo>
                    <a:lnTo>
                      <a:pt x="426" y="141"/>
                    </a:lnTo>
                    <a:lnTo>
                      <a:pt x="480" y="116"/>
                    </a:lnTo>
                    <a:lnTo>
                      <a:pt x="537" y="97"/>
                    </a:lnTo>
                    <a:lnTo>
                      <a:pt x="592" y="78"/>
                    </a:lnTo>
                    <a:lnTo>
                      <a:pt x="650" y="65"/>
                    </a:lnTo>
                    <a:lnTo>
                      <a:pt x="705" y="53"/>
                    </a:lnTo>
                    <a:lnTo>
                      <a:pt x="763" y="45"/>
                    </a:lnTo>
                    <a:lnTo>
                      <a:pt x="821" y="41"/>
                    </a:lnTo>
                    <a:lnTo>
                      <a:pt x="880" y="41"/>
                    </a:lnTo>
                    <a:lnTo>
                      <a:pt x="873" y="1"/>
                    </a:lnTo>
                    <a:lnTo>
                      <a:pt x="822" y="0"/>
                    </a:lnTo>
                    <a:lnTo>
                      <a:pt x="773" y="3"/>
                    </a:lnTo>
                    <a:lnTo>
                      <a:pt x="724" y="8"/>
                    </a:lnTo>
                    <a:lnTo>
                      <a:pt x="675" y="18"/>
                    </a:lnTo>
                    <a:lnTo>
                      <a:pt x="627" y="26"/>
                    </a:lnTo>
                    <a:lnTo>
                      <a:pt x="579" y="40"/>
                    </a:lnTo>
                    <a:lnTo>
                      <a:pt x="532" y="55"/>
                    </a:lnTo>
                    <a:lnTo>
                      <a:pt x="484" y="75"/>
                    </a:lnTo>
                    <a:lnTo>
                      <a:pt x="484" y="7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
              <p:cNvSpPr/>
              <p:nvPr/>
            </p:nvSpPr>
            <p:spPr>
              <a:xfrm>
                <a:off x="3812760" y="1993680"/>
                <a:ext cx="127080" cy="714240"/>
              </a:xfrm>
              <a:custGeom>
                <a:avLst/>
                <a:gdLst/>
                <a:ahLst/>
                <a:rect l="l" t="t" r="r" b="b"/>
                <a:pathLst>
                  <a:path w="398" h="2246">
                    <a:moveTo>
                      <a:pt x="0" y="8"/>
                    </a:moveTo>
                    <a:lnTo>
                      <a:pt x="6" y="45"/>
                    </a:lnTo>
                    <a:lnTo>
                      <a:pt x="47" y="40"/>
                    </a:lnTo>
                    <a:lnTo>
                      <a:pt x="90" y="38"/>
                    </a:lnTo>
                    <a:lnTo>
                      <a:pt x="133" y="38"/>
                    </a:lnTo>
                    <a:lnTo>
                      <a:pt x="178" y="40"/>
                    </a:lnTo>
                    <a:lnTo>
                      <a:pt x="221" y="44"/>
                    </a:lnTo>
                    <a:lnTo>
                      <a:pt x="266" y="51"/>
                    </a:lnTo>
                    <a:lnTo>
                      <a:pt x="311" y="62"/>
                    </a:lnTo>
                    <a:lnTo>
                      <a:pt x="359" y="74"/>
                    </a:lnTo>
                    <a:lnTo>
                      <a:pt x="357" y="200"/>
                    </a:lnTo>
                    <a:lnTo>
                      <a:pt x="355" y="326"/>
                    </a:lnTo>
                    <a:lnTo>
                      <a:pt x="354" y="452"/>
                    </a:lnTo>
                    <a:lnTo>
                      <a:pt x="354" y="578"/>
                    </a:lnTo>
                    <a:lnTo>
                      <a:pt x="353" y="704"/>
                    </a:lnTo>
                    <a:lnTo>
                      <a:pt x="353" y="833"/>
                    </a:lnTo>
                    <a:lnTo>
                      <a:pt x="353" y="960"/>
                    </a:lnTo>
                    <a:lnTo>
                      <a:pt x="353" y="1091"/>
                    </a:lnTo>
                    <a:lnTo>
                      <a:pt x="353" y="1097"/>
                    </a:lnTo>
                    <a:lnTo>
                      <a:pt x="353" y="1104"/>
                    </a:lnTo>
                    <a:lnTo>
                      <a:pt x="353" y="1111"/>
                    </a:lnTo>
                    <a:lnTo>
                      <a:pt x="353" y="1119"/>
                    </a:lnTo>
                    <a:lnTo>
                      <a:pt x="353" y="1125"/>
                    </a:lnTo>
                    <a:lnTo>
                      <a:pt x="353" y="1132"/>
                    </a:lnTo>
                    <a:lnTo>
                      <a:pt x="353" y="1138"/>
                    </a:lnTo>
                    <a:lnTo>
                      <a:pt x="353" y="1146"/>
                    </a:lnTo>
                    <a:lnTo>
                      <a:pt x="352" y="1276"/>
                    </a:lnTo>
                    <a:lnTo>
                      <a:pt x="352" y="1407"/>
                    </a:lnTo>
                    <a:lnTo>
                      <a:pt x="352" y="1538"/>
                    </a:lnTo>
                    <a:lnTo>
                      <a:pt x="352" y="1669"/>
                    </a:lnTo>
                    <a:lnTo>
                      <a:pt x="352" y="1801"/>
                    </a:lnTo>
                    <a:lnTo>
                      <a:pt x="352" y="1933"/>
                    </a:lnTo>
                    <a:lnTo>
                      <a:pt x="352" y="2067"/>
                    </a:lnTo>
                    <a:lnTo>
                      <a:pt x="353" y="2203"/>
                    </a:lnTo>
                    <a:lnTo>
                      <a:pt x="343" y="2203"/>
                    </a:lnTo>
                    <a:lnTo>
                      <a:pt x="333" y="2205"/>
                    </a:lnTo>
                    <a:lnTo>
                      <a:pt x="324" y="2206"/>
                    </a:lnTo>
                    <a:lnTo>
                      <a:pt x="314" y="2207"/>
                    </a:lnTo>
                    <a:lnTo>
                      <a:pt x="321" y="2246"/>
                    </a:lnTo>
                    <a:lnTo>
                      <a:pt x="329" y="2243"/>
                    </a:lnTo>
                    <a:lnTo>
                      <a:pt x="336" y="2243"/>
                    </a:lnTo>
                    <a:lnTo>
                      <a:pt x="344" y="2242"/>
                    </a:lnTo>
                    <a:lnTo>
                      <a:pt x="353" y="2242"/>
                    </a:lnTo>
                    <a:lnTo>
                      <a:pt x="362" y="2241"/>
                    </a:lnTo>
                    <a:lnTo>
                      <a:pt x="372" y="2240"/>
                    </a:lnTo>
                    <a:lnTo>
                      <a:pt x="381" y="2240"/>
                    </a:lnTo>
                    <a:lnTo>
                      <a:pt x="390" y="2240"/>
                    </a:lnTo>
                    <a:lnTo>
                      <a:pt x="390" y="2229"/>
                    </a:lnTo>
                    <a:lnTo>
                      <a:pt x="390" y="2219"/>
                    </a:lnTo>
                    <a:lnTo>
                      <a:pt x="390" y="2210"/>
                    </a:lnTo>
                    <a:lnTo>
                      <a:pt x="390" y="2201"/>
                    </a:lnTo>
                    <a:lnTo>
                      <a:pt x="390" y="1926"/>
                    </a:lnTo>
                    <a:lnTo>
                      <a:pt x="390" y="1657"/>
                    </a:lnTo>
                    <a:lnTo>
                      <a:pt x="390" y="1391"/>
                    </a:lnTo>
                    <a:lnTo>
                      <a:pt x="391" y="1128"/>
                    </a:lnTo>
                    <a:lnTo>
                      <a:pt x="391" y="866"/>
                    </a:lnTo>
                    <a:lnTo>
                      <a:pt x="393" y="606"/>
                    </a:lnTo>
                    <a:lnTo>
                      <a:pt x="394" y="346"/>
                    </a:lnTo>
                    <a:lnTo>
                      <a:pt x="397" y="85"/>
                    </a:lnTo>
                    <a:lnTo>
                      <a:pt x="397" y="75"/>
                    </a:lnTo>
                    <a:lnTo>
                      <a:pt x="397" y="67"/>
                    </a:lnTo>
                    <a:lnTo>
                      <a:pt x="397" y="57"/>
                    </a:lnTo>
                    <a:lnTo>
                      <a:pt x="398" y="49"/>
                    </a:lnTo>
                    <a:lnTo>
                      <a:pt x="387" y="45"/>
                    </a:lnTo>
                    <a:lnTo>
                      <a:pt x="378" y="43"/>
                    </a:lnTo>
                    <a:lnTo>
                      <a:pt x="367" y="40"/>
                    </a:lnTo>
                    <a:lnTo>
                      <a:pt x="359" y="38"/>
                    </a:lnTo>
                    <a:lnTo>
                      <a:pt x="309" y="24"/>
                    </a:lnTo>
                    <a:lnTo>
                      <a:pt x="264" y="14"/>
                    </a:lnTo>
                    <a:lnTo>
                      <a:pt x="219" y="6"/>
                    </a:lnTo>
                    <a:lnTo>
                      <a:pt x="174" y="3"/>
                    </a:lnTo>
                    <a:lnTo>
                      <a:pt x="130" y="0"/>
                    </a:lnTo>
                    <a:lnTo>
                      <a:pt x="86" y="0"/>
                    </a:lnTo>
                    <a:lnTo>
                      <a:pt x="43"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68360" y="1993680"/>
                <a:ext cx="358560" cy="96840"/>
              </a:xfrm>
              <a:custGeom>
                <a:avLst/>
                <a:gdLst/>
                <a:ahLst/>
                <a:rect l="l" t="t" r="r" b="b"/>
                <a:pathLst>
                  <a:path w="1129" h="304">
                    <a:moveTo>
                      <a:pt x="826" y="262"/>
                    </a:moveTo>
                    <a:lnTo>
                      <a:pt x="865" y="271"/>
                    </a:lnTo>
                    <a:lnTo>
                      <a:pt x="903" y="281"/>
                    </a:lnTo>
                    <a:lnTo>
                      <a:pt x="942" y="288"/>
                    </a:lnTo>
                    <a:lnTo>
                      <a:pt x="980" y="295"/>
                    </a:lnTo>
                    <a:lnTo>
                      <a:pt x="1017" y="299"/>
                    </a:lnTo>
                    <a:lnTo>
                      <a:pt x="1054" y="303"/>
                    </a:lnTo>
                    <a:lnTo>
                      <a:pt x="1091" y="303"/>
                    </a:lnTo>
                    <a:lnTo>
                      <a:pt x="1129" y="304"/>
                    </a:lnTo>
                    <a:lnTo>
                      <a:pt x="1120" y="264"/>
                    </a:lnTo>
                    <a:lnTo>
                      <a:pt x="1078" y="263"/>
                    </a:lnTo>
                    <a:lnTo>
                      <a:pt x="1037" y="260"/>
                    </a:lnTo>
                    <a:lnTo>
                      <a:pt x="995" y="257"/>
                    </a:lnTo>
                    <a:lnTo>
                      <a:pt x="954" y="252"/>
                    </a:lnTo>
                    <a:lnTo>
                      <a:pt x="911" y="243"/>
                    </a:lnTo>
                    <a:lnTo>
                      <a:pt x="868" y="235"/>
                    </a:lnTo>
                    <a:lnTo>
                      <a:pt x="825" y="224"/>
                    </a:lnTo>
                    <a:lnTo>
                      <a:pt x="783" y="211"/>
                    </a:lnTo>
                    <a:lnTo>
                      <a:pt x="682" y="173"/>
                    </a:lnTo>
                    <a:lnTo>
                      <a:pt x="583" y="136"/>
                    </a:lnTo>
                    <a:lnTo>
                      <a:pt x="482" y="98"/>
                    </a:lnTo>
                    <a:lnTo>
                      <a:pt x="386" y="66"/>
                    </a:lnTo>
                    <a:lnTo>
                      <a:pt x="286" y="36"/>
                    </a:lnTo>
                    <a:lnTo>
                      <a:pt x="191" y="13"/>
                    </a:lnTo>
                    <a:lnTo>
                      <a:pt x="93" y="1"/>
                    </a:lnTo>
                    <a:lnTo>
                      <a:pt x="0" y="0"/>
                    </a:lnTo>
                    <a:lnTo>
                      <a:pt x="6" y="37"/>
                    </a:lnTo>
                    <a:lnTo>
                      <a:pt x="105" y="39"/>
                    </a:lnTo>
                    <a:lnTo>
                      <a:pt x="206" y="52"/>
                    </a:lnTo>
                    <a:lnTo>
                      <a:pt x="307" y="77"/>
                    </a:lnTo>
                    <a:lnTo>
                      <a:pt x="410" y="110"/>
                    </a:lnTo>
                    <a:lnTo>
                      <a:pt x="514" y="145"/>
                    </a:lnTo>
                    <a:lnTo>
                      <a:pt x="617" y="185"/>
                    </a:lnTo>
                    <a:lnTo>
                      <a:pt x="720" y="225"/>
                    </a:lnTo>
                    <a:lnTo>
                      <a:pt x="826" y="262"/>
                    </a:lnTo>
                    <a:lnTo>
                      <a:pt x="826"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24040" y="1996920"/>
                <a:ext cx="290520" cy="93600"/>
              </a:xfrm>
              <a:custGeom>
                <a:avLst/>
                <a:gdLst/>
                <a:ahLst/>
                <a:rect l="l" t="t" r="r" b="b"/>
                <a:pathLst>
                  <a:path w="914" h="294">
                    <a:moveTo>
                      <a:pt x="488" y="170"/>
                    </a:moveTo>
                    <a:lnTo>
                      <a:pt x="540" y="145"/>
                    </a:lnTo>
                    <a:lnTo>
                      <a:pt x="592" y="123"/>
                    </a:lnTo>
                    <a:lnTo>
                      <a:pt x="645" y="104"/>
                    </a:lnTo>
                    <a:lnTo>
                      <a:pt x="698" y="86"/>
                    </a:lnTo>
                    <a:lnTo>
                      <a:pt x="750" y="69"/>
                    </a:lnTo>
                    <a:lnTo>
                      <a:pt x="805" y="56"/>
                    </a:lnTo>
                    <a:lnTo>
                      <a:pt x="858" y="44"/>
                    </a:lnTo>
                    <a:lnTo>
                      <a:pt x="914" y="37"/>
                    </a:lnTo>
                    <a:lnTo>
                      <a:pt x="908" y="0"/>
                    </a:lnTo>
                    <a:lnTo>
                      <a:pt x="851" y="7"/>
                    </a:lnTo>
                    <a:lnTo>
                      <a:pt x="795" y="19"/>
                    </a:lnTo>
                    <a:lnTo>
                      <a:pt x="740" y="32"/>
                    </a:lnTo>
                    <a:lnTo>
                      <a:pt x="686" y="49"/>
                    </a:lnTo>
                    <a:lnTo>
                      <a:pt x="629" y="67"/>
                    </a:lnTo>
                    <a:lnTo>
                      <a:pt x="576" y="90"/>
                    </a:lnTo>
                    <a:lnTo>
                      <a:pt x="522" y="111"/>
                    </a:lnTo>
                    <a:lnTo>
                      <a:pt x="468" y="138"/>
                    </a:lnTo>
                    <a:lnTo>
                      <a:pt x="410" y="161"/>
                    </a:lnTo>
                    <a:lnTo>
                      <a:pt x="351" y="184"/>
                    </a:lnTo>
                    <a:lnTo>
                      <a:pt x="293" y="202"/>
                    </a:lnTo>
                    <a:lnTo>
                      <a:pt x="235" y="220"/>
                    </a:lnTo>
                    <a:lnTo>
                      <a:pt x="177" y="232"/>
                    </a:lnTo>
                    <a:lnTo>
                      <a:pt x="118" y="242"/>
                    </a:lnTo>
                    <a:lnTo>
                      <a:pt x="59" y="250"/>
                    </a:lnTo>
                    <a:lnTo>
                      <a:pt x="0" y="254"/>
                    </a:lnTo>
                    <a:lnTo>
                      <a:pt x="9" y="294"/>
                    </a:lnTo>
                    <a:lnTo>
                      <a:pt x="69" y="289"/>
                    </a:lnTo>
                    <a:lnTo>
                      <a:pt x="130" y="281"/>
                    </a:lnTo>
                    <a:lnTo>
                      <a:pt x="189" y="270"/>
                    </a:lnTo>
                    <a:lnTo>
                      <a:pt x="251" y="256"/>
                    </a:lnTo>
                    <a:lnTo>
                      <a:pt x="309" y="237"/>
                    </a:lnTo>
                    <a:lnTo>
                      <a:pt x="369" y="218"/>
                    </a:lnTo>
                    <a:lnTo>
                      <a:pt x="428" y="195"/>
                    </a:lnTo>
                    <a:lnTo>
                      <a:pt x="488" y="170"/>
                    </a:lnTo>
                    <a:lnTo>
                      <a:pt x="488"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90440" y="2070000"/>
                <a:ext cx="130320" cy="722160"/>
              </a:xfrm>
              <a:custGeom>
                <a:avLst/>
                <a:gdLst/>
                <a:ahLst/>
                <a:rect l="l" t="t" r="r" b="b"/>
                <a:pathLst>
                  <a:path w="413" h="2274">
                    <a:moveTo>
                      <a:pt x="126" y="2232"/>
                    </a:moveTo>
                    <a:lnTo>
                      <a:pt x="115" y="2228"/>
                    </a:lnTo>
                    <a:lnTo>
                      <a:pt x="103" y="2227"/>
                    </a:lnTo>
                    <a:lnTo>
                      <a:pt x="92" y="2223"/>
                    </a:lnTo>
                    <a:lnTo>
                      <a:pt x="83" y="2222"/>
                    </a:lnTo>
                    <a:lnTo>
                      <a:pt x="72" y="2217"/>
                    </a:lnTo>
                    <a:lnTo>
                      <a:pt x="61" y="2216"/>
                    </a:lnTo>
                    <a:lnTo>
                      <a:pt x="50" y="2212"/>
                    </a:lnTo>
                    <a:lnTo>
                      <a:pt x="41" y="2211"/>
                    </a:lnTo>
                    <a:lnTo>
                      <a:pt x="41" y="1946"/>
                    </a:lnTo>
                    <a:lnTo>
                      <a:pt x="42" y="1684"/>
                    </a:lnTo>
                    <a:lnTo>
                      <a:pt x="42" y="1420"/>
                    </a:lnTo>
                    <a:lnTo>
                      <a:pt x="43" y="1157"/>
                    </a:lnTo>
                    <a:lnTo>
                      <a:pt x="43" y="889"/>
                    </a:lnTo>
                    <a:lnTo>
                      <a:pt x="43" y="619"/>
                    </a:lnTo>
                    <a:lnTo>
                      <a:pt x="42" y="345"/>
                    </a:lnTo>
                    <a:lnTo>
                      <a:pt x="42" y="69"/>
                    </a:lnTo>
                    <a:lnTo>
                      <a:pt x="51" y="66"/>
                    </a:lnTo>
                    <a:lnTo>
                      <a:pt x="61" y="65"/>
                    </a:lnTo>
                    <a:lnTo>
                      <a:pt x="72" y="62"/>
                    </a:lnTo>
                    <a:lnTo>
                      <a:pt x="83" y="61"/>
                    </a:lnTo>
                    <a:lnTo>
                      <a:pt x="92" y="59"/>
                    </a:lnTo>
                    <a:lnTo>
                      <a:pt x="102" y="58"/>
                    </a:lnTo>
                    <a:lnTo>
                      <a:pt x="113" y="55"/>
                    </a:lnTo>
                    <a:lnTo>
                      <a:pt x="124" y="54"/>
                    </a:lnTo>
                    <a:lnTo>
                      <a:pt x="130" y="51"/>
                    </a:lnTo>
                    <a:lnTo>
                      <a:pt x="137" y="49"/>
                    </a:lnTo>
                    <a:lnTo>
                      <a:pt x="143" y="47"/>
                    </a:lnTo>
                    <a:lnTo>
                      <a:pt x="151" y="46"/>
                    </a:lnTo>
                    <a:lnTo>
                      <a:pt x="157" y="43"/>
                    </a:lnTo>
                    <a:lnTo>
                      <a:pt x="165" y="42"/>
                    </a:lnTo>
                    <a:lnTo>
                      <a:pt x="171" y="40"/>
                    </a:lnTo>
                    <a:lnTo>
                      <a:pt x="178" y="38"/>
                    </a:lnTo>
                    <a:lnTo>
                      <a:pt x="174" y="0"/>
                    </a:lnTo>
                    <a:lnTo>
                      <a:pt x="157" y="3"/>
                    </a:lnTo>
                    <a:lnTo>
                      <a:pt x="141" y="7"/>
                    </a:lnTo>
                    <a:lnTo>
                      <a:pt x="125" y="11"/>
                    </a:lnTo>
                    <a:lnTo>
                      <a:pt x="108" y="16"/>
                    </a:lnTo>
                    <a:lnTo>
                      <a:pt x="91" y="20"/>
                    </a:lnTo>
                    <a:lnTo>
                      <a:pt x="76" y="24"/>
                    </a:lnTo>
                    <a:lnTo>
                      <a:pt x="58" y="26"/>
                    </a:lnTo>
                    <a:lnTo>
                      <a:pt x="42" y="30"/>
                    </a:lnTo>
                    <a:lnTo>
                      <a:pt x="32" y="30"/>
                    </a:lnTo>
                    <a:lnTo>
                      <a:pt x="23" y="31"/>
                    </a:lnTo>
                    <a:lnTo>
                      <a:pt x="13" y="32"/>
                    </a:lnTo>
                    <a:lnTo>
                      <a:pt x="6" y="33"/>
                    </a:lnTo>
                    <a:lnTo>
                      <a:pt x="6" y="42"/>
                    </a:lnTo>
                    <a:lnTo>
                      <a:pt x="6" y="52"/>
                    </a:lnTo>
                    <a:lnTo>
                      <a:pt x="6" y="62"/>
                    </a:lnTo>
                    <a:lnTo>
                      <a:pt x="6" y="72"/>
                    </a:lnTo>
                    <a:lnTo>
                      <a:pt x="4" y="347"/>
                    </a:lnTo>
                    <a:lnTo>
                      <a:pt x="4" y="619"/>
                    </a:lnTo>
                    <a:lnTo>
                      <a:pt x="4" y="887"/>
                    </a:lnTo>
                    <a:lnTo>
                      <a:pt x="4" y="1153"/>
                    </a:lnTo>
                    <a:lnTo>
                      <a:pt x="3" y="1414"/>
                    </a:lnTo>
                    <a:lnTo>
                      <a:pt x="3" y="1676"/>
                    </a:lnTo>
                    <a:lnTo>
                      <a:pt x="2" y="1939"/>
                    </a:lnTo>
                    <a:lnTo>
                      <a:pt x="1" y="2202"/>
                    </a:lnTo>
                    <a:lnTo>
                      <a:pt x="0" y="2210"/>
                    </a:lnTo>
                    <a:lnTo>
                      <a:pt x="0" y="2220"/>
                    </a:lnTo>
                    <a:lnTo>
                      <a:pt x="0" y="2228"/>
                    </a:lnTo>
                    <a:lnTo>
                      <a:pt x="0" y="2238"/>
                    </a:lnTo>
                    <a:lnTo>
                      <a:pt x="9" y="2240"/>
                    </a:lnTo>
                    <a:lnTo>
                      <a:pt x="19" y="2243"/>
                    </a:lnTo>
                    <a:lnTo>
                      <a:pt x="29" y="2245"/>
                    </a:lnTo>
                    <a:lnTo>
                      <a:pt x="41" y="2249"/>
                    </a:lnTo>
                    <a:lnTo>
                      <a:pt x="88" y="2260"/>
                    </a:lnTo>
                    <a:lnTo>
                      <a:pt x="136" y="2267"/>
                    </a:lnTo>
                    <a:lnTo>
                      <a:pt x="183" y="2272"/>
                    </a:lnTo>
                    <a:lnTo>
                      <a:pt x="231" y="2274"/>
                    </a:lnTo>
                    <a:lnTo>
                      <a:pt x="277" y="2273"/>
                    </a:lnTo>
                    <a:lnTo>
                      <a:pt x="323" y="2271"/>
                    </a:lnTo>
                    <a:lnTo>
                      <a:pt x="367" y="2266"/>
                    </a:lnTo>
                    <a:lnTo>
                      <a:pt x="413" y="2260"/>
                    </a:lnTo>
                    <a:lnTo>
                      <a:pt x="409" y="2224"/>
                    </a:lnTo>
                    <a:lnTo>
                      <a:pt x="375" y="2229"/>
                    </a:lnTo>
                    <a:lnTo>
                      <a:pt x="340" y="2234"/>
                    </a:lnTo>
                    <a:lnTo>
                      <a:pt x="305" y="2238"/>
                    </a:lnTo>
                    <a:lnTo>
                      <a:pt x="271" y="2240"/>
                    </a:lnTo>
                    <a:lnTo>
                      <a:pt x="235" y="2239"/>
                    </a:lnTo>
                    <a:lnTo>
                      <a:pt x="198" y="2239"/>
                    </a:lnTo>
                    <a:lnTo>
                      <a:pt x="162" y="2235"/>
                    </a:lnTo>
                    <a:lnTo>
                      <a:pt x="126" y="2232"/>
                    </a:lnTo>
                    <a:lnTo>
                      <a:pt x="126" y="2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91880" y="2784240"/>
                <a:ext cx="130320" cy="19080"/>
              </a:xfrm>
              <a:custGeom>
                <a:avLst/>
                <a:gdLst/>
                <a:ahLst/>
                <a:rect l="l" t="t" r="r" b="b"/>
                <a:pathLst>
                  <a:path w="411" h="57">
                    <a:moveTo>
                      <a:pt x="0" y="0"/>
                    </a:moveTo>
                    <a:lnTo>
                      <a:pt x="3" y="9"/>
                    </a:lnTo>
                    <a:lnTo>
                      <a:pt x="8" y="16"/>
                    </a:lnTo>
                    <a:lnTo>
                      <a:pt x="13" y="23"/>
                    </a:lnTo>
                    <a:lnTo>
                      <a:pt x="19" y="32"/>
                    </a:lnTo>
                    <a:lnTo>
                      <a:pt x="70" y="42"/>
                    </a:lnTo>
                    <a:lnTo>
                      <a:pt x="120" y="50"/>
                    </a:lnTo>
                    <a:lnTo>
                      <a:pt x="168" y="55"/>
                    </a:lnTo>
                    <a:lnTo>
                      <a:pt x="218" y="57"/>
                    </a:lnTo>
                    <a:lnTo>
                      <a:pt x="267" y="56"/>
                    </a:lnTo>
                    <a:lnTo>
                      <a:pt x="315" y="52"/>
                    </a:lnTo>
                    <a:lnTo>
                      <a:pt x="362" y="46"/>
                    </a:lnTo>
                    <a:lnTo>
                      <a:pt x="411" y="38"/>
                    </a:lnTo>
                    <a:lnTo>
                      <a:pt x="408" y="27"/>
                    </a:lnTo>
                    <a:lnTo>
                      <a:pt x="359" y="32"/>
                    </a:lnTo>
                    <a:lnTo>
                      <a:pt x="309" y="37"/>
                    </a:lnTo>
                    <a:lnTo>
                      <a:pt x="258" y="37"/>
                    </a:lnTo>
                    <a:lnTo>
                      <a:pt x="208" y="37"/>
                    </a:lnTo>
                    <a:lnTo>
                      <a:pt x="156" y="32"/>
                    </a:lnTo>
                    <a:lnTo>
                      <a:pt x="104" y="25"/>
                    </a:lnTo>
                    <a:lnTo>
                      <a:pt x="52" y="15"/>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
              <p:cNvSpPr/>
              <p:nvPr/>
            </p:nvSpPr>
            <p:spPr>
              <a:xfrm>
                <a:off x="3022200" y="2765160"/>
                <a:ext cx="90360" cy="31680"/>
              </a:xfrm>
              <a:custGeom>
                <a:avLst/>
                <a:gdLst/>
                <a:ahLst/>
                <a:rect l="l" t="t" r="r" b="b"/>
                <a:pathLst>
                  <a:path w="288" h="99">
                    <a:moveTo>
                      <a:pt x="288" y="0"/>
                    </a:moveTo>
                    <a:lnTo>
                      <a:pt x="251" y="13"/>
                    </a:lnTo>
                    <a:lnTo>
                      <a:pt x="216" y="26"/>
                    </a:lnTo>
                    <a:lnTo>
                      <a:pt x="179" y="40"/>
                    </a:lnTo>
                    <a:lnTo>
                      <a:pt x="144" y="52"/>
                    </a:lnTo>
                    <a:lnTo>
                      <a:pt x="107" y="61"/>
                    </a:lnTo>
                    <a:lnTo>
                      <a:pt x="71" y="72"/>
                    </a:lnTo>
                    <a:lnTo>
                      <a:pt x="35" y="80"/>
                    </a:lnTo>
                    <a:lnTo>
                      <a:pt x="0" y="88"/>
                    </a:lnTo>
                    <a:lnTo>
                      <a:pt x="3" y="99"/>
                    </a:lnTo>
                    <a:lnTo>
                      <a:pt x="38" y="90"/>
                    </a:lnTo>
                    <a:lnTo>
                      <a:pt x="74" y="81"/>
                    </a:lnTo>
                    <a:lnTo>
                      <a:pt x="109" y="70"/>
                    </a:lnTo>
                    <a:lnTo>
                      <a:pt x="145" y="58"/>
                    </a:lnTo>
                    <a:lnTo>
                      <a:pt x="180" y="44"/>
                    </a:lnTo>
                    <a:lnTo>
                      <a:pt x="216" y="31"/>
                    </a:lnTo>
                    <a:lnTo>
                      <a:pt x="252" y="14"/>
                    </a:lnTo>
                    <a:lnTo>
                      <a:pt x="288" y="0"/>
                    </a:lnTo>
                    <a:lnTo>
                      <a:pt x="28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 name=""/>
              <p:cNvSpPr/>
              <p:nvPr/>
            </p:nvSpPr>
            <p:spPr>
              <a:xfrm>
                <a:off x="3916080" y="2712960"/>
                <a:ext cx="12600" cy="4680"/>
              </a:xfrm>
              <a:custGeom>
                <a:avLst/>
                <a:gdLst/>
                <a:ahLst/>
                <a:rect l="l" t="t" r="r" b="b"/>
                <a:pathLst>
                  <a:path w="43" h="13">
                    <a:moveTo>
                      <a:pt x="43" y="0"/>
                    </a:moveTo>
                    <a:lnTo>
                      <a:pt x="31" y="0"/>
                    </a:lnTo>
                    <a:lnTo>
                      <a:pt x="20" y="2"/>
                    </a:lnTo>
                    <a:lnTo>
                      <a:pt x="9" y="2"/>
                    </a:lnTo>
                    <a:lnTo>
                      <a:pt x="0" y="5"/>
                    </a:lnTo>
                    <a:lnTo>
                      <a:pt x="1" y="13"/>
                    </a:lnTo>
                    <a:lnTo>
                      <a:pt x="11" y="9"/>
                    </a:lnTo>
                    <a:lnTo>
                      <a:pt x="20" y="6"/>
                    </a:lnTo>
                    <a:lnTo>
                      <a:pt x="31" y="2"/>
                    </a:lnTo>
                    <a:lnTo>
                      <a:pt x="43" y="0"/>
                    </a:lnTo>
                    <a:lnTo>
                      <a:pt x="4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3669840" y="2714400"/>
                <a:ext cx="246240" cy="88920"/>
              </a:xfrm>
              <a:custGeom>
                <a:avLst/>
                <a:gdLst/>
                <a:ahLst/>
                <a:rect l="l" t="t" r="r" b="b"/>
                <a:pathLst>
                  <a:path w="776" h="280">
                    <a:moveTo>
                      <a:pt x="6" y="280"/>
                    </a:moveTo>
                    <a:lnTo>
                      <a:pt x="30" y="276"/>
                    </a:lnTo>
                    <a:lnTo>
                      <a:pt x="54" y="272"/>
                    </a:lnTo>
                    <a:lnTo>
                      <a:pt x="78" y="266"/>
                    </a:lnTo>
                    <a:lnTo>
                      <a:pt x="103" y="260"/>
                    </a:lnTo>
                    <a:lnTo>
                      <a:pt x="127" y="253"/>
                    </a:lnTo>
                    <a:lnTo>
                      <a:pt x="152" y="247"/>
                    </a:lnTo>
                    <a:lnTo>
                      <a:pt x="175" y="240"/>
                    </a:lnTo>
                    <a:lnTo>
                      <a:pt x="200" y="232"/>
                    </a:lnTo>
                    <a:lnTo>
                      <a:pt x="261" y="206"/>
                    </a:lnTo>
                    <a:lnTo>
                      <a:pt x="323" y="180"/>
                    </a:lnTo>
                    <a:lnTo>
                      <a:pt x="384" y="155"/>
                    </a:lnTo>
                    <a:lnTo>
                      <a:pt x="445" y="128"/>
                    </a:lnTo>
                    <a:lnTo>
                      <a:pt x="506" y="101"/>
                    </a:lnTo>
                    <a:lnTo>
                      <a:pt x="568" y="78"/>
                    </a:lnTo>
                    <a:lnTo>
                      <a:pt x="630" y="57"/>
                    </a:lnTo>
                    <a:lnTo>
                      <a:pt x="695" y="41"/>
                    </a:lnTo>
                    <a:lnTo>
                      <a:pt x="704" y="36"/>
                    </a:lnTo>
                    <a:lnTo>
                      <a:pt x="715" y="30"/>
                    </a:lnTo>
                    <a:lnTo>
                      <a:pt x="723" y="25"/>
                    </a:lnTo>
                    <a:lnTo>
                      <a:pt x="735" y="21"/>
                    </a:lnTo>
                    <a:lnTo>
                      <a:pt x="745" y="18"/>
                    </a:lnTo>
                    <a:lnTo>
                      <a:pt x="754" y="14"/>
                    </a:lnTo>
                    <a:lnTo>
                      <a:pt x="764" y="11"/>
                    </a:lnTo>
                    <a:lnTo>
                      <a:pt x="776" y="8"/>
                    </a:lnTo>
                    <a:lnTo>
                      <a:pt x="775" y="0"/>
                    </a:lnTo>
                    <a:lnTo>
                      <a:pt x="674" y="18"/>
                    </a:lnTo>
                    <a:lnTo>
                      <a:pt x="577" y="47"/>
                    </a:lnTo>
                    <a:lnTo>
                      <a:pt x="480" y="82"/>
                    </a:lnTo>
                    <a:lnTo>
                      <a:pt x="386" y="122"/>
                    </a:lnTo>
                    <a:lnTo>
                      <a:pt x="289" y="161"/>
                    </a:lnTo>
                    <a:lnTo>
                      <a:pt x="194" y="198"/>
                    </a:lnTo>
                    <a:lnTo>
                      <a:pt x="96" y="231"/>
                    </a:lnTo>
                    <a:lnTo>
                      <a:pt x="0" y="255"/>
                    </a:lnTo>
                    <a:lnTo>
                      <a:pt x="6" y="280"/>
                    </a:lnTo>
                    <a:lnTo>
                      <a:pt x="6" y="28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 name=""/>
              <p:cNvSpPr/>
              <p:nvPr/>
            </p:nvSpPr>
            <p:spPr>
              <a:xfrm>
                <a:off x="3300120" y="2715840"/>
                <a:ext cx="371520" cy="88920"/>
              </a:xfrm>
              <a:custGeom>
                <a:avLst/>
                <a:gdLst/>
                <a:ahLst/>
                <a:rect l="l" t="t" r="r" b="b"/>
                <a:pathLst>
                  <a:path w="1168" h="283">
                    <a:moveTo>
                      <a:pt x="908" y="258"/>
                    </a:moveTo>
                    <a:lnTo>
                      <a:pt x="834" y="243"/>
                    </a:lnTo>
                    <a:lnTo>
                      <a:pt x="762" y="222"/>
                    </a:lnTo>
                    <a:lnTo>
                      <a:pt x="688" y="199"/>
                    </a:lnTo>
                    <a:lnTo>
                      <a:pt x="616" y="172"/>
                    </a:lnTo>
                    <a:lnTo>
                      <a:pt x="543" y="143"/>
                    </a:lnTo>
                    <a:lnTo>
                      <a:pt x="469" y="115"/>
                    </a:lnTo>
                    <a:lnTo>
                      <a:pt x="395" y="86"/>
                    </a:lnTo>
                    <a:lnTo>
                      <a:pt x="322" y="61"/>
                    </a:lnTo>
                    <a:lnTo>
                      <a:pt x="280" y="46"/>
                    </a:lnTo>
                    <a:lnTo>
                      <a:pt x="238" y="35"/>
                    </a:lnTo>
                    <a:lnTo>
                      <a:pt x="198" y="25"/>
                    </a:lnTo>
                    <a:lnTo>
                      <a:pt x="159" y="17"/>
                    </a:lnTo>
                    <a:lnTo>
                      <a:pt x="118" y="9"/>
                    </a:lnTo>
                    <a:lnTo>
                      <a:pt x="78" y="5"/>
                    </a:lnTo>
                    <a:lnTo>
                      <a:pt x="37" y="0"/>
                    </a:lnTo>
                    <a:lnTo>
                      <a:pt x="0" y="0"/>
                    </a:lnTo>
                    <a:lnTo>
                      <a:pt x="1" y="3"/>
                    </a:lnTo>
                    <a:lnTo>
                      <a:pt x="34" y="3"/>
                    </a:lnTo>
                    <a:lnTo>
                      <a:pt x="70" y="6"/>
                    </a:lnTo>
                    <a:lnTo>
                      <a:pt x="105" y="11"/>
                    </a:lnTo>
                    <a:lnTo>
                      <a:pt x="142" y="18"/>
                    </a:lnTo>
                    <a:lnTo>
                      <a:pt x="178" y="25"/>
                    </a:lnTo>
                    <a:lnTo>
                      <a:pt x="214" y="34"/>
                    </a:lnTo>
                    <a:lnTo>
                      <a:pt x="251" y="45"/>
                    </a:lnTo>
                    <a:lnTo>
                      <a:pt x="289" y="57"/>
                    </a:lnTo>
                    <a:lnTo>
                      <a:pt x="358" y="80"/>
                    </a:lnTo>
                    <a:lnTo>
                      <a:pt x="427" y="108"/>
                    </a:lnTo>
                    <a:lnTo>
                      <a:pt x="497" y="135"/>
                    </a:lnTo>
                    <a:lnTo>
                      <a:pt x="567" y="164"/>
                    </a:lnTo>
                    <a:lnTo>
                      <a:pt x="635" y="189"/>
                    </a:lnTo>
                    <a:lnTo>
                      <a:pt x="704" y="215"/>
                    </a:lnTo>
                    <a:lnTo>
                      <a:pt x="773" y="238"/>
                    </a:lnTo>
                    <a:lnTo>
                      <a:pt x="843" y="258"/>
                    </a:lnTo>
                    <a:lnTo>
                      <a:pt x="884" y="267"/>
                    </a:lnTo>
                    <a:lnTo>
                      <a:pt x="925" y="274"/>
                    </a:lnTo>
                    <a:lnTo>
                      <a:pt x="966" y="279"/>
                    </a:lnTo>
                    <a:lnTo>
                      <a:pt x="1008" y="283"/>
                    </a:lnTo>
                    <a:lnTo>
                      <a:pt x="1047" y="283"/>
                    </a:lnTo>
                    <a:lnTo>
                      <a:pt x="1087" y="283"/>
                    </a:lnTo>
                    <a:lnTo>
                      <a:pt x="1127" y="280"/>
                    </a:lnTo>
                    <a:lnTo>
                      <a:pt x="1168" y="277"/>
                    </a:lnTo>
                    <a:lnTo>
                      <a:pt x="1162" y="252"/>
                    </a:lnTo>
                    <a:lnTo>
                      <a:pt x="1129" y="256"/>
                    </a:lnTo>
                    <a:lnTo>
                      <a:pt x="1098" y="262"/>
                    </a:lnTo>
                    <a:lnTo>
                      <a:pt x="1068" y="264"/>
                    </a:lnTo>
                    <a:lnTo>
                      <a:pt x="1037" y="267"/>
                    </a:lnTo>
                    <a:lnTo>
                      <a:pt x="1004" y="266"/>
                    </a:lnTo>
                    <a:lnTo>
                      <a:pt x="972" y="266"/>
                    </a:lnTo>
                    <a:lnTo>
                      <a:pt x="939" y="262"/>
                    </a:lnTo>
                    <a:lnTo>
                      <a:pt x="908" y="258"/>
                    </a:lnTo>
                    <a:lnTo>
                      <a:pt x="908" y="25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 name=""/>
              <p:cNvSpPr/>
              <p:nvPr/>
            </p:nvSpPr>
            <p:spPr>
              <a:xfrm>
                <a:off x="3225600" y="2714400"/>
                <a:ext cx="75960" cy="9360"/>
              </a:xfrm>
              <a:custGeom>
                <a:avLst/>
                <a:gdLst/>
                <a:ahLst/>
                <a:rect l="l" t="t" r="r" b="b"/>
                <a:pathLst>
                  <a:path w="238" h="28">
                    <a:moveTo>
                      <a:pt x="0" y="28"/>
                    </a:moveTo>
                    <a:lnTo>
                      <a:pt x="28" y="21"/>
                    </a:lnTo>
                    <a:lnTo>
                      <a:pt x="58" y="15"/>
                    </a:lnTo>
                    <a:lnTo>
                      <a:pt x="87" y="10"/>
                    </a:lnTo>
                    <a:lnTo>
                      <a:pt x="116" y="6"/>
                    </a:lnTo>
                    <a:lnTo>
                      <a:pt x="146" y="2"/>
                    </a:lnTo>
                    <a:lnTo>
                      <a:pt x="177" y="2"/>
                    </a:lnTo>
                    <a:lnTo>
                      <a:pt x="207" y="1"/>
                    </a:lnTo>
                    <a:lnTo>
                      <a:pt x="238" y="4"/>
                    </a:lnTo>
                    <a:lnTo>
                      <a:pt x="237" y="1"/>
                    </a:lnTo>
                    <a:lnTo>
                      <a:pt x="207" y="0"/>
                    </a:lnTo>
                    <a:lnTo>
                      <a:pt x="177" y="1"/>
                    </a:lnTo>
                    <a:lnTo>
                      <a:pt x="146" y="1"/>
                    </a:lnTo>
                    <a:lnTo>
                      <a:pt x="116" y="5"/>
                    </a:lnTo>
                    <a:lnTo>
                      <a:pt x="87" y="9"/>
                    </a:lnTo>
                    <a:lnTo>
                      <a:pt x="58" y="13"/>
                    </a:lnTo>
                    <a:lnTo>
                      <a:pt x="28" y="19"/>
                    </a:lnTo>
                    <a:lnTo>
                      <a:pt x="0" y="28"/>
                    </a:lnTo>
                    <a:lnTo>
                      <a:pt x="0"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 name=""/>
              <p:cNvSpPr/>
              <p:nvPr/>
            </p:nvSpPr>
            <p:spPr>
              <a:xfrm>
                <a:off x="3944520" y="2484360"/>
                <a:ext cx="9720" cy="187200"/>
              </a:xfrm>
              <a:custGeom>
                <a:avLst/>
                <a:gdLst/>
                <a:ahLst/>
                <a:rect l="l" t="t" r="r" b="b"/>
                <a:pathLst>
                  <a:path w="33" h="591">
                    <a:moveTo>
                      <a:pt x="6" y="591"/>
                    </a:moveTo>
                    <a:lnTo>
                      <a:pt x="8" y="584"/>
                    </a:lnTo>
                    <a:lnTo>
                      <a:pt x="12" y="577"/>
                    </a:lnTo>
                    <a:lnTo>
                      <a:pt x="15" y="569"/>
                    </a:lnTo>
                    <a:lnTo>
                      <a:pt x="18" y="561"/>
                    </a:lnTo>
                    <a:lnTo>
                      <a:pt x="21" y="554"/>
                    </a:lnTo>
                    <a:lnTo>
                      <a:pt x="25" y="547"/>
                    </a:lnTo>
                    <a:lnTo>
                      <a:pt x="29" y="539"/>
                    </a:lnTo>
                    <a:lnTo>
                      <a:pt x="33" y="533"/>
                    </a:lnTo>
                    <a:lnTo>
                      <a:pt x="28" y="464"/>
                    </a:lnTo>
                    <a:lnTo>
                      <a:pt x="24" y="398"/>
                    </a:lnTo>
                    <a:lnTo>
                      <a:pt x="19" y="330"/>
                    </a:lnTo>
                    <a:lnTo>
                      <a:pt x="16" y="265"/>
                    </a:lnTo>
                    <a:lnTo>
                      <a:pt x="11" y="199"/>
                    </a:lnTo>
                    <a:lnTo>
                      <a:pt x="7" y="132"/>
                    </a:lnTo>
                    <a:lnTo>
                      <a:pt x="4" y="67"/>
                    </a:lnTo>
                    <a:lnTo>
                      <a:pt x="0" y="0"/>
                    </a:lnTo>
                    <a:lnTo>
                      <a:pt x="0" y="73"/>
                    </a:lnTo>
                    <a:lnTo>
                      <a:pt x="0" y="147"/>
                    </a:lnTo>
                    <a:lnTo>
                      <a:pt x="1" y="220"/>
                    </a:lnTo>
                    <a:lnTo>
                      <a:pt x="2" y="293"/>
                    </a:lnTo>
                    <a:lnTo>
                      <a:pt x="2" y="366"/>
                    </a:lnTo>
                    <a:lnTo>
                      <a:pt x="4" y="441"/>
                    </a:lnTo>
                    <a:lnTo>
                      <a:pt x="5" y="515"/>
                    </a:lnTo>
                    <a:lnTo>
                      <a:pt x="6" y="591"/>
                    </a:lnTo>
                    <a:lnTo>
                      <a:pt x="6"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44520" y="2016000"/>
                <a:ext cx="12600" cy="388800"/>
              </a:xfrm>
              <a:custGeom>
                <a:avLst/>
                <a:gdLst/>
                <a:ahLst/>
                <a:rect l="l" t="t" r="r" b="b"/>
                <a:pathLst>
                  <a:path w="42" h="1221">
                    <a:moveTo>
                      <a:pt x="13" y="0"/>
                    </a:moveTo>
                    <a:lnTo>
                      <a:pt x="11" y="151"/>
                    </a:lnTo>
                    <a:lnTo>
                      <a:pt x="10" y="302"/>
                    </a:lnTo>
                    <a:lnTo>
                      <a:pt x="7" y="454"/>
                    </a:lnTo>
                    <a:lnTo>
                      <a:pt x="6" y="604"/>
                    </a:lnTo>
                    <a:lnTo>
                      <a:pt x="4" y="756"/>
                    </a:lnTo>
                    <a:lnTo>
                      <a:pt x="2" y="909"/>
                    </a:lnTo>
                    <a:lnTo>
                      <a:pt x="0" y="1063"/>
                    </a:lnTo>
                    <a:lnTo>
                      <a:pt x="0" y="1221"/>
                    </a:lnTo>
                    <a:lnTo>
                      <a:pt x="4" y="1069"/>
                    </a:lnTo>
                    <a:lnTo>
                      <a:pt x="8" y="921"/>
                    </a:lnTo>
                    <a:lnTo>
                      <a:pt x="13" y="774"/>
                    </a:lnTo>
                    <a:lnTo>
                      <a:pt x="19" y="628"/>
                    </a:lnTo>
                    <a:lnTo>
                      <a:pt x="25" y="482"/>
                    </a:lnTo>
                    <a:lnTo>
                      <a:pt x="31" y="339"/>
                    </a:lnTo>
                    <a:lnTo>
                      <a:pt x="36" y="193"/>
                    </a:lnTo>
                    <a:lnTo>
                      <a:pt x="42" y="48"/>
                    </a:lnTo>
                    <a:lnTo>
                      <a:pt x="35" y="36"/>
                    </a:lnTo>
                    <a:lnTo>
                      <a:pt x="28" y="24"/>
                    </a:lnTo>
                    <a:lnTo>
                      <a:pt x="19"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944440" y="1979280"/>
                <a:ext cx="222120" cy="79560"/>
              </a:xfrm>
              <a:custGeom>
                <a:avLst/>
                <a:gdLst/>
                <a:ahLst/>
                <a:rect l="l" t="t" r="r" b="b"/>
                <a:pathLst>
                  <a:path w="701" h="246">
                    <a:moveTo>
                      <a:pt x="701" y="9"/>
                    </a:moveTo>
                    <a:lnTo>
                      <a:pt x="699" y="0"/>
                    </a:lnTo>
                    <a:lnTo>
                      <a:pt x="683" y="0"/>
                    </a:lnTo>
                    <a:lnTo>
                      <a:pt x="669" y="0"/>
                    </a:lnTo>
                    <a:lnTo>
                      <a:pt x="654" y="2"/>
                    </a:lnTo>
                    <a:lnTo>
                      <a:pt x="640" y="4"/>
                    </a:lnTo>
                    <a:lnTo>
                      <a:pt x="625" y="5"/>
                    </a:lnTo>
                    <a:lnTo>
                      <a:pt x="611" y="8"/>
                    </a:lnTo>
                    <a:lnTo>
                      <a:pt x="595" y="10"/>
                    </a:lnTo>
                    <a:lnTo>
                      <a:pt x="582" y="14"/>
                    </a:lnTo>
                    <a:lnTo>
                      <a:pt x="519" y="28"/>
                    </a:lnTo>
                    <a:lnTo>
                      <a:pt x="460" y="46"/>
                    </a:lnTo>
                    <a:lnTo>
                      <a:pt x="400" y="67"/>
                    </a:lnTo>
                    <a:lnTo>
                      <a:pt x="342" y="90"/>
                    </a:lnTo>
                    <a:lnTo>
                      <a:pt x="282" y="114"/>
                    </a:lnTo>
                    <a:lnTo>
                      <a:pt x="224" y="140"/>
                    </a:lnTo>
                    <a:lnTo>
                      <a:pt x="164" y="164"/>
                    </a:lnTo>
                    <a:lnTo>
                      <a:pt x="106" y="189"/>
                    </a:lnTo>
                    <a:lnTo>
                      <a:pt x="90" y="195"/>
                    </a:lnTo>
                    <a:lnTo>
                      <a:pt x="78" y="203"/>
                    </a:lnTo>
                    <a:lnTo>
                      <a:pt x="65" y="210"/>
                    </a:lnTo>
                    <a:lnTo>
                      <a:pt x="52" y="217"/>
                    </a:lnTo>
                    <a:lnTo>
                      <a:pt x="38" y="225"/>
                    </a:lnTo>
                    <a:lnTo>
                      <a:pt x="26" y="231"/>
                    </a:lnTo>
                    <a:lnTo>
                      <a:pt x="12" y="237"/>
                    </a:lnTo>
                    <a:lnTo>
                      <a:pt x="0" y="244"/>
                    </a:lnTo>
                    <a:lnTo>
                      <a:pt x="0" y="246"/>
                    </a:lnTo>
                    <a:lnTo>
                      <a:pt x="65" y="223"/>
                    </a:lnTo>
                    <a:lnTo>
                      <a:pt x="130" y="198"/>
                    </a:lnTo>
                    <a:lnTo>
                      <a:pt x="195" y="170"/>
                    </a:lnTo>
                    <a:lnTo>
                      <a:pt x="260" y="143"/>
                    </a:lnTo>
                    <a:lnTo>
                      <a:pt x="323" y="113"/>
                    </a:lnTo>
                    <a:lnTo>
                      <a:pt x="388" y="86"/>
                    </a:lnTo>
                    <a:lnTo>
                      <a:pt x="454" y="61"/>
                    </a:lnTo>
                    <a:lnTo>
                      <a:pt x="520" y="40"/>
                    </a:lnTo>
                    <a:lnTo>
                      <a:pt x="543" y="33"/>
                    </a:lnTo>
                    <a:lnTo>
                      <a:pt x="565" y="28"/>
                    </a:lnTo>
                    <a:lnTo>
                      <a:pt x="588" y="22"/>
                    </a:lnTo>
                    <a:lnTo>
                      <a:pt x="611" y="19"/>
                    </a:lnTo>
                    <a:lnTo>
                      <a:pt x="633" y="15"/>
                    </a:lnTo>
                    <a:lnTo>
                      <a:pt x="655" y="11"/>
                    </a:lnTo>
                    <a:lnTo>
                      <a:pt x="677" y="9"/>
                    </a:lnTo>
                    <a:lnTo>
                      <a:pt x="701" y="9"/>
                    </a:lnTo>
                    <a:lnTo>
                      <a:pt x="70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 name=""/>
              <p:cNvSpPr/>
              <p:nvPr/>
            </p:nvSpPr>
            <p:spPr>
              <a:xfrm>
                <a:off x="3166560" y="1979280"/>
                <a:ext cx="125640" cy="23760"/>
              </a:xfrm>
              <a:custGeom>
                <a:avLst/>
                <a:gdLst/>
                <a:ahLst/>
                <a:rect l="l" t="t" r="r" b="b"/>
                <a:pathLst>
                  <a:path w="394" h="72">
                    <a:moveTo>
                      <a:pt x="394" y="72"/>
                    </a:moveTo>
                    <a:lnTo>
                      <a:pt x="341" y="52"/>
                    </a:lnTo>
                    <a:lnTo>
                      <a:pt x="291" y="38"/>
                    </a:lnTo>
                    <a:lnTo>
                      <a:pt x="241" y="25"/>
                    </a:lnTo>
                    <a:lnTo>
                      <a:pt x="193" y="15"/>
                    </a:lnTo>
                    <a:lnTo>
                      <a:pt x="143" y="6"/>
                    </a:lnTo>
                    <a:lnTo>
                      <a:pt x="95" y="3"/>
                    </a:lnTo>
                    <a:lnTo>
                      <a:pt x="47" y="0"/>
                    </a:lnTo>
                    <a:lnTo>
                      <a:pt x="0" y="1"/>
                    </a:lnTo>
                    <a:lnTo>
                      <a:pt x="2" y="10"/>
                    </a:lnTo>
                    <a:lnTo>
                      <a:pt x="48" y="7"/>
                    </a:lnTo>
                    <a:lnTo>
                      <a:pt x="95" y="9"/>
                    </a:lnTo>
                    <a:lnTo>
                      <a:pt x="143" y="12"/>
                    </a:lnTo>
                    <a:lnTo>
                      <a:pt x="194" y="20"/>
                    </a:lnTo>
                    <a:lnTo>
                      <a:pt x="242" y="29"/>
                    </a:lnTo>
                    <a:lnTo>
                      <a:pt x="291" y="40"/>
                    </a:lnTo>
                    <a:lnTo>
                      <a:pt x="341" y="54"/>
                    </a:lnTo>
                    <a:lnTo>
                      <a:pt x="394" y="72"/>
                    </a:lnTo>
                    <a:lnTo>
                      <a:pt x="394"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 name=""/>
              <p:cNvSpPr/>
              <p:nvPr/>
            </p:nvSpPr>
            <p:spPr>
              <a:xfrm>
                <a:off x="2939760" y="2057040"/>
                <a:ext cx="4680" cy="3240"/>
              </a:xfrm>
              <a:custGeom>
                <a:avLst/>
                <a:gdLst/>
                <a:ahLst/>
                <a:rect l="l" t="t" r="r" b="b"/>
                <a:pathLst>
                  <a:path w="14" h="7">
                    <a:moveTo>
                      <a:pt x="0" y="7"/>
                    </a:moveTo>
                    <a:lnTo>
                      <a:pt x="7" y="5"/>
                    </a:lnTo>
                    <a:lnTo>
                      <a:pt x="14" y="2"/>
                    </a:lnTo>
                    <a:lnTo>
                      <a:pt x="14" y="0"/>
                    </a:lnTo>
                    <a:lnTo>
                      <a:pt x="7" y="4"/>
                    </a:lnTo>
                    <a:lnTo>
                      <a:pt x="0" y="7"/>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 name=""/>
              <p:cNvSpPr/>
              <p:nvPr/>
            </p:nvSpPr>
            <p:spPr>
              <a:xfrm>
                <a:off x="2945880" y="2004840"/>
                <a:ext cx="351000" cy="771480"/>
              </a:xfrm>
              <a:custGeom>
                <a:avLst/>
                <a:gdLst/>
                <a:ahLst/>
                <a:rect l="l" t="t" r="r" b="b"/>
                <a:pathLst>
                  <a:path w="1104" h="2426">
                    <a:moveTo>
                      <a:pt x="604" y="860"/>
                    </a:moveTo>
                    <a:lnTo>
                      <a:pt x="589" y="853"/>
                    </a:lnTo>
                    <a:lnTo>
                      <a:pt x="577" y="847"/>
                    </a:lnTo>
                    <a:lnTo>
                      <a:pt x="565" y="840"/>
                    </a:lnTo>
                    <a:lnTo>
                      <a:pt x="553" y="834"/>
                    </a:lnTo>
                    <a:lnTo>
                      <a:pt x="582" y="781"/>
                    </a:lnTo>
                    <a:lnTo>
                      <a:pt x="611" y="731"/>
                    </a:lnTo>
                    <a:lnTo>
                      <a:pt x="641" y="681"/>
                    </a:lnTo>
                    <a:lnTo>
                      <a:pt x="670" y="634"/>
                    </a:lnTo>
                    <a:lnTo>
                      <a:pt x="700" y="587"/>
                    </a:lnTo>
                    <a:lnTo>
                      <a:pt x="730" y="543"/>
                    </a:lnTo>
                    <a:lnTo>
                      <a:pt x="760" y="500"/>
                    </a:lnTo>
                    <a:lnTo>
                      <a:pt x="791" y="460"/>
                    </a:lnTo>
                    <a:lnTo>
                      <a:pt x="776" y="383"/>
                    </a:lnTo>
                    <a:lnTo>
                      <a:pt x="741" y="429"/>
                    </a:lnTo>
                    <a:lnTo>
                      <a:pt x="707" y="479"/>
                    </a:lnTo>
                    <a:lnTo>
                      <a:pt x="674" y="530"/>
                    </a:lnTo>
                    <a:lnTo>
                      <a:pt x="642" y="583"/>
                    </a:lnTo>
                    <a:lnTo>
                      <a:pt x="609" y="637"/>
                    </a:lnTo>
                    <a:lnTo>
                      <a:pt x="576" y="695"/>
                    </a:lnTo>
                    <a:lnTo>
                      <a:pt x="544" y="752"/>
                    </a:lnTo>
                    <a:lnTo>
                      <a:pt x="511" y="813"/>
                    </a:lnTo>
                    <a:lnTo>
                      <a:pt x="499" y="806"/>
                    </a:lnTo>
                    <a:lnTo>
                      <a:pt x="487" y="801"/>
                    </a:lnTo>
                    <a:lnTo>
                      <a:pt x="474" y="794"/>
                    </a:lnTo>
                    <a:lnTo>
                      <a:pt x="463" y="789"/>
                    </a:lnTo>
                    <a:lnTo>
                      <a:pt x="499" y="721"/>
                    </a:lnTo>
                    <a:lnTo>
                      <a:pt x="535" y="655"/>
                    </a:lnTo>
                    <a:lnTo>
                      <a:pt x="572" y="589"/>
                    </a:lnTo>
                    <a:lnTo>
                      <a:pt x="610" y="527"/>
                    </a:lnTo>
                    <a:lnTo>
                      <a:pt x="646" y="466"/>
                    </a:lnTo>
                    <a:lnTo>
                      <a:pt x="683" y="406"/>
                    </a:lnTo>
                    <a:lnTo>
                      <a:pt x="722" y="351"/>
                    </a:lnTo>
                    <a:lnTo>
                      <a:pt x="762" y="298"/>
                    </a:lnTo>
                    <a:lnTo>
                      <a:pt x="706" y="0"/>
                    </a:lnTo>
                    <a:lnTo>
                      <a:pt x="704" y="0"/>
                    </a:lnTo>
                    <a:lnTo>
                      <a:pt x="701" y="0"/>
                    </a:lnTo>
                    <a:lnTo>
                      <a:pt x="609" y="11"/>
                    </a:lnTo>
                    <a:lnTo>
                      <a:pt x="520" y="35"/>
                    </a:lnTo>
                    <a:lnTo>
                      <a:pt x="433" y="65"/>
                    </a:lnTo>
                    <a:lnTo>
                      <a:pt x="347" y="100"/>
                    </a:lnTo>
                    <a:lnTo>
                      <a:pt x="260" y="136"/>
                    </a:lnTo>
                    <a:lnTo>
                      <a:pt x="175" y="175"/>
                    </a:lnTo>
                    <a:lnTo>
                      <a:pt x="87" y="209"/>
                    </a:lnTo>
                    <a:lnTo>
                      <a:pt x="0" y="240"/>
                    </a:lnTo>
                    <a:lnTo>
                      <a:pt x="231" y="2426"/>
                    </a:lnTo>
                    <a:lnTo>
                      <a:pt x="292" y="2411"/>
                    </a:lnTo>
                    <a:lnTo>
                      <a:pt x="352" y="2394"/>
                    </a:lnTo>
                    <a:lnTo>
                      <a:pt x="412" y="2372"/>
                    </a:lnTo>
                    <a:lnTo>
                      <a:pt x="472" y="2351"/>
                    </a:lnTo>
                    <a:lnTo>
                      <a:pt x="533" y="2326"/>
                    </a:lnTo>
                    <a:lnTo>
                      <a:pt x="593" y="2301"/>
                    </a:lnTo>
                    <a:lnTo>
                      <a:pt x="653" y="2276"/>
                    </a:lnTo>
                    <a:lnTo>
                      <a:pt x="715" y="2251"/>
                    </a:lnTo>
                    <a:lnTo>
                      <a:pt x="763" y="2231"/>
                    </a:lnTo>
                    <a:lnTo>
                      <a:pt x="810" y="2216"/>
                    </a:lnTo>
                    <a:lnTo>
                      <a:pt x="858" y="2202"/>
                    </a:lnTo>
                    <a:lnTo>
                      <a:pt x="906" y="2194"/>
                    </a:lnTo>
                    <a:lnTo>
                      <a:pt x="955" y="2184"/>
                    </a:lnTo>
                    <a:lnTo>
                      <a:pt x="1004" y="2179"/>
                    </a:lnTo>
                    <a:lnTo>
                      <a:pt x="1053" y="2176"/>
                    </a:lnTo>
                    <a:lnTo>
                      <a:pt x="1104" y="2177"/>
                    </a:lnTo>
                    <a:lnTo>
                      <a:pt x="806" y="544"/>
                    </a:lnTo>
                    <a:lnTo>
                      <a:pt x="780" y="578"/>
                    </a:lnTo>
                    <a:lnTo>
                      <a:pt x="753" y="616"/>
                    </a:lnTo>
                    <a:lnTo>
                      <a:pt x="728" y="653"/>
                    </a:lnTo>
                    <a:lnTo>
                      <a:pt x="703" y="692"/>
                    </a:lnTo>
                    <a:lnTo>
                      <a:pt x="676" y="731"/>
                    </a:lnTo>
                    <a:lnTo>
                      <a:pt x="652" y="773"/>
                    </a:lnTo>
                    <a:lnTo>
                      <a:pt x="627" y="815"/>
                    </a:lnTo>
                    <a:lnTo>
                      <a:pt x="604" y="860"/>
                    </a:lnTo>
                    <a:lnTo>
                      <a:pt x="604" y="860"/>
                    </a:lnTo>
                    <a:close/>
                    <a:moveTo>
                      <a:pt x="517" y="1512"/>
                    </a:moveTo>
                    <a:lnTo>
                      <a:pt x="534" y="1527"/>
                    </a:lnTo>
                    <a:lnTo>
                      <a:pt x="552" y="1546"/>
                    </a:lnTo>
                    <a:lnTo>
                      <a:pt x="569" y="1563"/>
                    </a:lnTo>
                    <a:lnTo>
                      <a:pt x="587" y="1581"/>
                    </a:lnTo>
                    <a:lnTo>
                      <a:pt x="604" y="1597"/>
                    </a:lnTo>
                    <a:lnTo>
                      <a:pt x="621" y="1616"/>
                    </a:lnTo>
                    <a:lnTo>
                      <a:pt x="639" y="1633"/>
                    </a:lnTo>
                    <a:lnTo>
                      <a:pt x="658" y="1652"/>
                    </a:lnTo>
                    <a:lnTo>
                      <a:pt x="651" y="1659"/>
                    </a:lnTo>
                    <a:lnTo>
                      <a:pt x="646" y="1667"/>
                    </a:lnTo>
                    <a:lnTo>
                      <a:pt x="639" y="1674"/>
                    </a:lnTo>
                    <a:lnTo>
                      <a:pt x="634" y="1681"/>
                    </a:lnTo>
                    <a:lnTo>
                      <a:pt x="627" y="1690"/>
                    </a:lnTo>
                    <a:lnTo>
                      <a:pt x="622" y="1698"/>
                    </a:lnTo>
                    <a:lnTo>
                      <a:pt x="616" y="1706"/>
                    </a:lnTo>
                    <a:lnTo>
                      <a:pt x="611" y="1714"/>
                    </a:lnTo>
                    <a:lnTo>
                      <a:pt x="592" y="1696"/>
                    </a:lnTo>
                    <a:lnTo>
                      <a:pt x="574" y="1678"/>
                    </a:lnTo>
                    <a:lnTo>
                      <a:pt x="556" y="1661"/>
                    </a:lnTo>
                    <a:lnTo>
                      <a:pt x="540" y="1644"/>
                    </a:lnTo>
                    <a:lnTo>
                      <a:pt x="521" y="1627"/>
                    </a:lnTo>
                    <a:lnTo>
                      <a:pt x="505" y="1611"/>
                    </a:lnTo>
                    <a:lnTo>
                      <a:pt x="487" y="1593"/>
                    </a:lnTo>
                    <a:lnTo>
                      <a:pt x="470" y="1577"/>
                    </a:lnTo>
                    <a:lnTo>
                      <a:pt x="475" y="1567"/>
                    </a:lnTo>
                    <a:lnTo>
                      <a:pt x="481" y="1559"/>
                    </a:lnTo>
                    <a:lnTo>
                      <a:pt x="487" y="1552"/>
                    </a:lnTo>
                    <a:lnTo>
                      <a:pt x="494" y="1544"/>
                    </a:lnTo>
                    <a:lnTo>
                      <a:pt x="499" y="1536"/>
                    </a:lnTo>
                    <a:lnTo>
                      <a:pt x="505" y="1527"/>
                    </a:lnTo>
                    <a:lnTo>
                      <a:pt x="510" y="1519"/>
                    </a:lnTo>
                    <a:lnTo>
                      <a:pt x="517" y="1512"/>
                    </a:lnTo>
                    <a:lnTo>
                      <a:pt x="517" y="1512"/>
                    </a:lnTo>
                    <a:close/>
                    <a:moveTo>
                      <a:pt x="681" y="209"/>
                    </a:moveTo>
                    <a:lnTo>
                      <a:pt x="692" y="218"/>
                    </a:lnTo>
                    <a:lnTo>
                      <a:pt x="704" y="227"/>
                    </a:lnTo>
                    <a:lnTo>
                      <a:pt x="716" y="235"/>
                    </a:lnTo>
                    <a:lnTo>
                      <a:pt x="730" y="245"/>
                    </a:lnTo>
                    <a:lnTo>
                      <a:pt x="689" y="302"/>
                    </a:lnTo>
                    <a:lnTo>
                      <a:pt x="650" y="363"/>
                    </a:lnTo>
                    <a:lnTo>
                      <a:pt x="610" y="426"/>
                    </a:lnTo>
                    <a:lnTo>
                      <a:pt x="572" y="491"/>
                    </a:lnTo>
                    <a:lnTo>
                      <a:pt x="534" y="557"/>
                    </a:lnTo>
                    <a:lnTo>
                      <a:pt x="495" y="626"/>
                    </a:lnTo>
                    <a:lnTo>
                      <a:pt x="457" y="696"/>
                    </a:lnTo>
                    <a:lnTo>
                      <a:pt x="419" y="770"/>
                    </a:lnTo>
                    <a:lnTo>
                      <a:pt x="407" y="764"/>
                    </a:lnTo>
                    <a:lnTo>
                      <a:pt x="395" y="759"/>
                    </a:lnTo>
                    <a:lnTo>
                      <a:pt x="383" y="753"/>
                    </a:lnTo>
                    <a:lnTo>
                      <a:pt x="372" y="748"/>
                    </a:lnTo>
                    <a:lnTo>
                      <a:pt x="410" y="674"/>
                    </a:lnTo>
                    <a:lnTo>
                      <a:pt x="448" y="604"/>
                    </a:lnTo>
                    <a:lnTo>
                      <a:pt x="486" y="532"/>
                    </a:lnTo>
                    <a:lnTo>
                      <a:pt x="524" y="464"/>
                    </a:lnTo>
                    <a:lnTo>
                      <a:pt x="562" y="397"/>
                    </a:lnTo>
                    <a:lnTo>
                      <a:pt x="599" y="331"/>
                    </a:lnTo>
                    <a:lnTo>
                      <a:pt x="639" y="268"/>
                    </a:lnTo>
                    <a:lnTo>
                      <a:pt x="681" y="209"/>
                    </a:lnTo>
                    <a:lnTo>
                      <a:pt x="681" y="209"/>
                    </a:lnTo>
                    <a:close/>
                    <a:moveTo>
                      <a:pt x="692" y="2004"/>
                    </a:moveTo>
                    <a:lnTo>
                      <a:pt x="651" y="1964"/>
                    </a:lnTo>
                    <a:lnTo>
                      <a:pt x="612" y="1926"/>
                    </a:lnTo>
                    <a:lnTo>
                      <a:pt x="574" y="1888"/>
                    </a:lnTo>
                    <a:lnTo>
                      <a:pt x="536" y="1851"/>
                    </a:lnTo>
                    <a:lnTo>
                      <a:pt x="497" y="1812"/>
                    </a:lnTo>
                    <a:lnTo>
                      <a:pt x="458" y="1775"/>
                    </a:lnTo>
                    <a:lnTo>
                      <a:pt x="419" y="1736"/>
                    </a:lnTo>
                    <a:lnTo>
                      <a:pt x="381" y="1698"/>
                    </a:lnTo>
                    <a:lnTo>
                      <a:pt x="386" y="1690"/>
                    </a:lnTo>
                    <a:lnTo>
                      <a:pt x="392" y="1681"/>
                    </a:lnTo>
                    <a:lnTo>
                      <a:pt x="398" y="1673"/>
                    </a:lnTo>
                    <a:lnTo>
                      <a:pt x="405" y="1666"/>
                    </a:lnTo>
                    <a:lnTo>
                      <a:pt x="410" y="1657"/>
                    </a:lnTo>
                    <a:lnTo>
                      <a:pt x="416" y="1650"/>
                    </a:lnTo>
                    <a:lnTo>
                      <a:pt x="422" y="1641"/>
                    </a:lnTo>
                    <a:lnTo>
                      <a:pt x="428" y="1634"/>
                    </a:lnTo>
                    <a:lnTo>
                      <a:pt x="466" y="1672"/>
                    </a:lnTo>
                    <a:lnTo>
                      <a:pt x="505" y="1709"/>
                    </a:lnTo>
                    <a:lnTo>
                      <a:pt x="544" y="1747"/>
                    </a:lnTo>
                    <a:lnTo>
                      <a:pt x="583" y="1786"/>
                    </a:lnTo>
                    <a:lnTo>
                      <a:pt x="621" y="1823"/>
                    </a:lnTo>
                    <a:lnTo>
                      <a:pt x="659" y="1862"/>
                    </a:lnTo>
                    <a:lnTo>
                      <a:pt x="698" y="1901"/>
                    </a:lnTo>
                    <a:lnTo>
                      <a:pt x="739" y="1942"/>
                    </a:lnTo>
                    <a:lnTo>
                      <a:pt x="731" y="1949"/>
                    </a:lnTo>
                    <a:lnTo>
                      <a:pt x="727" y="1957"/>
                    </a:lnTo>
                    <a:lnTo>
                      <a:pt x="721" y="1965"/>
                    </a:lnTo>
                    <a:lnTo>
                      <a:pt x="715" y="1972"/>
                    </a:lnTo>
                    <a:lnTo>
                      <a:pt x="707" y="1979"/>
                    </a:lnTo>
                    <a:lnTo>
                      <a:pt x="703" y="1987"/>
                    </a:lnTo>
                    <a:lnTo>
                      <a:pt x="697" y="1994"/>
                    </a:lnTo>
                    <a:lnTo>
                      <a:pt x="692" y="2004"/>
                    </a:lnTo>
                    <a:lnTo>
                      <a:pt x="692" y="2004"/>
                    </a:lnTo>
                    <a:close/>
                    <a:moveTo>
                      <a:pt x="782" y="1890"/>
                    </a:moveTo>
                    <a:lnTo>
                      <a:pt x="764" y="1869"/>
                    </a:lnTo>
                    <a:lnTo>
                      <a:pt x="745" y="1851"/>
                    </a:lnTo>
                    <a:lnTo>
                      <a:pt x="728" y="1832"/>
                    </a:lnTo>
                    <a:lnTo>
                      <a:pt x="710" y="1815"/>
                    </a:lnTo>
                    <a:lnTo>
                      <a:pt x="692" y="1795"/>
                    </a:lnTo>
                    <a:lnTo>
                      <a:pt x="675" y="1778"/>
                    </a:lnTo>
                    <a:lnTo>
                      <a:pt x="657" y="1760"/>
                    </a:lnTo>
                    <a:lnTo>
                      <a:pt x="641" y="1743"/>
                    </a:lnTo>
                    <a:lnTo>
                      <a:pt x="646" y="1735"/>
                    </a:lnTo>
                    <a:lnTo>
                      <a:pt x="652" y="1727"/>
                    </a:lnTo>
                    <a:lnTo>
                      <a:pt x="657" y="1719"/>
                    </a:lnTo>
                    <a:lnTo>
                      <a:pt x="664" y="1712"/>
                    </a:lnTo>
                    <a:lnTo>
                      <a:pt x="669" y="1704"/>
                    </a:lnTo>
                    <a:lnTo>
                      <a:pt x="675" y="1697"/>
                    </a:lnTo>
                    <a:lnTo>
                      <a:pt x="681" y="1690"/>
                    </a:lnTo>
                    <a:lnTo>
                      <a:pt x="688" y="1681"/>
                    </a:lnTo>
                    <a:lnTo>
                      <a:pt x="705" y="1699"/>
                    </a:lnTo>
                    <a:lnTo>
                      <a:pt x="723" y="1718"/>
                    </a:lnTo>
                    <a:lnTo>
                      <a:pt x="740" y="1737"/>
                    </a:lnTo>
                    <a:lnTo>
                      <a:pt x="758" y="1755"/>
                    </a:lnTo>
                    <a:lnTo>
                      <a:pt x="776" y="1775"/>
                    </a:lnTo>
                    <a:lnTo>
                      <a:pt x="793" y="1793"/>
                    </a:lnTo>
                    <a:lnTo>
                      <a:pt x="812" y="1812"/>
                    </a:lnTo>
                    <a:lnTo>
                      <a:pt x="830" y="1833"/>
                    </a:lnTo>
                    <a:lnTo>
                      <a:pt x="823" y="1839"/>
                    </a:lnTo>
                    <a:lnTo>
                      <a:pt x="818" y="1847"/>
                    </a:lnTo>
                    <a:lnTo>
                      <a:pt x="811" y="1853"/>
                    </a:lnTo>
                    <a:lnTo>
                      <a:pt x="806" y="1861"/>
                    </a:lnTo>
                    <a:lnTo>
                      <a:pt x="800" y="1867"/>
                    </a:lnTo>
                    <a:lnTo>
                      <a:pt x="793" y="1874"/>
                    </a:lnTo>
                    <a:lnTo>
                      <a:pt x="787" y="1882"/>
                    </a:lnTo>
                    <a:lnTo>
                      <a:pt x="782" y="1890"/>
                    </a:lnTo>
                    <a:lnTo>
                      <a:pt x="782" y="1890"/>
                    </a:lnTo>
                    <a:close/>
                    <a:moveTo>
                      <a:pt x="874" y="1787"/>
                    </a:moveTo>
                    <a:lnTo>
                      <a:pt x="833" y="1741"/>
                    </a:lnTo>
                    <a:lnTo>
                      <a:pt x="793" y="1697"/>
                    </a:lnTo>
                    <a:lnTo>
                      <a:pt x="753" y="1655"/>
                    </a:lnTo>
                    <a:lnTo>
                      <a:pt x="715" y="1613"/>
                    </a:lnTo>
                    <a:lnTo>
                      <a:pt x="675" y="1572"/>
                    </a:lnTo>
                    <a:lnTo>
                      <a:pt x="636" y="1533"/>
                    </a:lnTo>
                    <a:lnTo>
                      <a:pt x="598" y="1493"/>
                    </a:lnTo>
                    <a:lnTo>
                      <a:pt x="559" y="1457"/>
                    </a:lnTo>
                    <a:lnTo>
                      <a:pt x="565" y="1447"/>
                    </a:lnTo>
                    <a:lnTo>
                      <a:pt x="571" y="1440"/>
                    </a:lnTo>
                    <a:lnTo>
                      <a:pt x="576" y="1431"/>
                    </a:lnTo>
                    <a:lnTo>
                      <a:pt x="583" y="1424"/>
                    </a:lnTo>
                    <a:lnTo>
                      <a:pt x="588" y="1417"/>
                    </a:lnTo>
                    <a:lnTo>
                      <a:pt x="594" y="1409"/>
                    </a:lnTo>
                    <a:lnTo>
                      <a:pt x="599" y="1401"/>
                    </a:lnTo>
                    <a:lnTo>
                      <a:pt x="607" y="1394"/>
                    </a:lnTo>
                    <a:lnTo>
                      <a:pt x="646" y="1433"/>
                    </a:lnTo>
                    <a:lnTo>
                      <a:pt x="686" y="1473"/>
                    </a:lnTo>
                    <a:lnTo>
                      <a:pt x="724" y="1513"/>
                    </a:lnTo>
                    <a:lnTo>
                      <a:pt x="764" y="1555"/>
                    </a:lnTo>
                    <a:lnTo>
                      <a:pt x="803" y="1598"/>
                    </a:lnTo>
                    <a:lnTo>
                      <a:pt x="842" y="1643"/>
                    </a:lnTo>
                    <a:lnTo>
                      <a:pt x="882" y="1690"/>
                    </a:lnTo>
                    <a:lnTo>
                      <a:pt x="923" y="1738"/>
                    </a:lnTo>
                    <a:lnTo>
                      <a:pt x="910" y="1749"/>
                    </a:lnTo>
                    <a:lnTo>
                      <a:pt x="898" y="1760"/>
                    </a:lnTo>
                    <a:lnTo>
                      <a:pt x="886" y="1773"/>
                    </a:lnTo>
                    <a:lnTo>
                      <a:pt x="874" y="1787"/>
                    </a:lnTo>
                    <a:lnTo>
                      <a:pt x="874" y="178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14560" y="2006280"/>
                <a:ext cx="112680" cy="689040"/>
              </a:xfrm>
              <a:custGeom>
                <a:avLst/>
                <a:gdLst/>
                <a:ahLst/>
                <a:rect l="l" t="t" r="r" b="b"/>
                <a:pathLst>
                  <a:path w="353" h="2169">
                    <a:moveTo>
                      <a:pt x="347" y="2165"/>
                    </a:moveTo>
                    <a:lnTo>
                      <a:pt x="346" y="2029"/>
                    </a:lnTo>
                    <a:lnTo>
                      <a:pt x="346" y="1895"/>
                    </a:lnTo>
                    <a:lnTo>
                      <a:pt x="346" y="1763"/>
                    </a:lnTo>
                    <a:lnTo>
                      <a:pt x="346" y="1631"/>
                    </a:lnTo>
                    <a:lnTo>
                      <a:pt x="346" y="1500"/>
                    </a:lnTo>
                    <a:lnTo>
                      <a:pt x="346" y="1369"/>
                    </a:lnTo>
                    <a:lnTo>
                      <a:pt x="346" y="1238"/>
                    </a:lnTo>
                    <a:lnTo>
                      <a:pt x="347" y="1108"/>
                    </a:lnTo>
                    <a:lnTo>
                      <a:pt x="347" y="1100"/>
                    </a:lnTo>
                    <a:lnTo>
                      <a:pt x="347" y="1094"/>
                    </a:lnTo>
                    <a:lnTo>
                      <a:pt x="347" y="1087"/>
                    </a:lnTo>
                    <a:lnTo>
                      <a:pt x="347" y="1081"/>
                    </a:lnTo>
                    <a:lnTo>
                      <a:pt x="347" y="1073"/>
                    </a:lnTo>
                    <a:lnTo>
                      <a:pt x="347" y="1066"/>
                    </a:lnTo>
                    <a:lnTo>
                      <a:pt x="347" y="1059"/>
                    </a:lnTo>
                    <a:lnTo>
                      <a:pt x="347" y="1053"/>
                    </a:lnTo>
                    <a:lnTo>
                      <a:pt x="347" y="922"/>
                    </a:lnTo>
                    <a:lnTo>
                      <a:pt x="347" y="795"/>
                    </a:lnTo>
                    <a:lnTo>
                      <a:pt x="347" y="666"/>
                    </a:lnTo>
                    <a:lnTo>
                      <a:pt x="348" y="540"/>
                    </a:lnTo>
                    <a:lnTo>
                      <a:pt x="348" y="414"/>
                    </a:lnTo>
                    <a:lnTo>
                      <a:pt x="349" y="288"/>
                    </a:lnTo>
                    <a:lnTo>
                      <a:pt x="351" y="162"/>
                    </a:lnTo>
                    <a:lnTo>
                      <a:pt x="353" y="36"/>
                    </a:lnTo>
                    <a:lnTo>
                      <a:pt x="305" y="24"/>
                    </a:lnTo>
                    <a:lnTo>
                      <a:pt x="260" y="13"/>
                    </a:lnTo>
                    <a:lnTo>
                      <a:pt x="215" y="6"/>
                    </a:lnTo>
                    <a:lnTo>
                      <a:pt x="172" y="2"/>
                    </a:lnTo>
                    <a:lnTo>
                      <a:pt x="127" y="0"/>
                    </a:lnTo>
                    <a:lnTo>
                      <a:pt x="84" y="0"/>
                    </a:lnTo>
                    <a:lnTo>
                      <a:pt x="41" y="2"/>
                    </a:lnTo>
                    <a:lnTo>
                      <a:pt x="0" y="7"/>
                    </a:lnTo>
                    <a:lnTo>
                      <a:pt x="308" y="2169"/>
                    </a:lnTo>
                    <a:lnTo>
                      <a:pt x="318" y="2168"/>
                    </a:lnTo>
                    <a:lnTo>
                      <a:pt x="327" y="2167"/>
                    </a:lnTo>
                    <a:lnTo>
                      <a:pt x="337" y="2165"/>
                    </a:lnTo>
                    <a:lnTo>
                      <a:pt x="347" y="2165"/>
                    </a:lnTo>
                    <a:lnTo>
                      <a:pt x="347" y="2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71600" y="2004840"/>
                <a:ext cx="495000" cy="774720"/>
              </a:xfrm>
              <a:custGeom>
                <a:avLst/>
                <a:gdLst/>
                <a:ahLst/>
                <a:rect l="l" t="t" r="r" b="b"/>
                <a:pathLst>
                  <a:path w="1561" h="2439">
                    <a:moveTo>
                      <a:pt x="1493" y="2178"/>
                    </a:moveTo>
                    <a:lnTo>
                      <a:pt x="1499" y="2168"/>
                    </a:lnTo>
                    <a:lnTo>
                      <a:pt x="1505" y="2160"/>
                    </a:lnTo>
                    <a:lnTo>
                      <a:pt x="1490" y="2087"/>
                    </a:lnTo>
                    <a:lnTo>
                      <a:pt x="1484" y="2095"/>
                    </a:lnTo>
                    <a:lnTo>
                      <a:pt x="1479" y="2102"/>
                    </a:lnTo>
                    <a:lnTo>
                      <a:pt x="1474" y="2109"/>
                    </a:lnTo>
                    <a:lnTo>
                      <a:pt x="1469" y="2117"/>
                    </a:lnTo>
                    <a:lnTo>
                      <a:pt x="1463" y="2125"/>
                    </a:lnTo>
                    <a:lnTo>
                      <a:pt x="1458" y="2132"/>
                    </a:lnTo>
                    <a:lnTo>
                      <a:pt x="1453" y="2139"/>
                    </a:lnTo>
                    <a:lnTo>
                      <a:pt x="1448" y="2147"/>
                    </a:lnTo>
                    <a:lnTo>
                      <a:pt x="1435" y="2136"/>
                    </a:lnTo>
                    <a:lnTo>
                      <a:pt x="1422" y="2127"/>
                    </a:lnTo>
                    <a:lnTo>
                      <a:pt x="1409" y="2116"/>
                    </a:lnTo>
                    <a:lnTo>
                      <a:pt x="1397" y="2107"/>
                    </a:lnTo>
                    <a:lnTo>
                      <a:pt x="1406" y="2093"/>
                    </a:lnTo>
                    <a:lnTo>
                      <a:pt x="1415" y="2081"/>
                    </a:lnTo>
                    <a:lnTo>
                      <a:pt x="1424" y="2068"/>
                    </a:lnTo>
                    <a:lnTo>
                      <a:pt x="1436" y="2056"/>
                    </a:lnTo>
                    <a:lnTo>
                      <a:pt x="1444" y="2042"/>
                    </a:lnTo>
                    <a:lnTo>
                      <a:pt x="1454" y="2029"/>
                    </a:lnTo>
                    <a:lnTo>
                      <a:pt x="1463" y="2016"/>
                    </a:lnTo>
                    <a:lnTo>
                      <a:pt x="1474" y="2004"/>
                    </a:lnTo>
                    <a:lnTo>
                      <a:pt x="1459" y="1930"/>
                    </a:lnTo>
                    <a:lnTo>
                      <a:pt x="1444" y="1947"/>
                    </a:lnTo>
                    <a:lnTo>
                      <a:pt x="1431" y="1966"/>
                    </a:lnTo>
                    <a:lnTo>
                      <a:pt x="1418" y="1983"/>
                    </a:lnTo>
                    <a:lnTo>
                      <a:pt x="1406" y="2002"/>
                    </a:lnTo>
                    <a:lnTo>
                      <a:pt x="1390" y="2018"/>
                    </a:lnTo>
                    <a:lnTo>
                      <a:pt x="1378" y="2036"/>
                    </a:lnTo>
                    <a:lnTo>
                      <a:pt x="1365" y="2053"/>
                    </a:lnTo>
                    <a:lnTo>
                      <a:pt x="1352" y="2070"/>
                    </a:lnTo>
                    <a:lnTo>
                      <a:pt x="1338" y="2059"/>
                    </a:lnTo>
                    <a:lnTo>
                      <a:pt x="1326" y="2048"/>
                    </a:lnTo>
                    <a:lnTo>
                      <a:pt x="1312" y="2037"/>
                    </a:lnTo>
                    <a:lnTo>
                      <a:pt x="1300" y="2025"/>
                    </a:lnTo>
                    <a:lnTo>
                      <a:pt x="1318" y="2005"/>
                    </a:lnTo>
                    <a:lnTo>
                      <a:pt x="1336" y="1983"/>
                    </a:lnTo>
                    <a:lnTo>
                      <a:pt x="1354" y="1961"/>
                    </a:lnTo>
                    <a:lnTo>
                      <a:pt x="1371" y="1939"/>
                    </a:lnTo>
                    <a:lnTo>
                      <a:pt x="1388" y="1916"/>
                    </a:lnTo>
                    <a:lnTo>
                      <a:pt x="1406" y="1895"/>
                    </a:lnTo>
                    <a:lnTo>
                      <a:pt x="1423" y="1869"/>
                    </a:lnTo>
                    <a:lnTo>
                      <a:pt x="1442" y="1846"/>
                    </a:lnTo>
                    <a:lnTo>
                      <a:pt x="1123" y="267"/>
                    </a:lnTo>
                    <a:lnTo>
                      <a:pt x="1085" y="266"/>
                    </a:lnTo>
                    <a:lnTo>
                      <a:pt x="1048" y="266"/>
                    </a:lnTo>
                    <a:lnTo>
                      <a:pt x="1011" y="262"/>
                    </a:lnTo>
                    <a:lnTo>
                      <a:pt x="974" y="258"/>
                    </a:lnTo>
                    <a:lnTo>
                      <a:pt x="936" y="251"/>
                    </a:lnTo>
                    <a:lnTo>
                      <a:pt x="897" y="244"/>
                    </a:lnTo>
                    <a:lnTo>
                      <a:pt x="859" y="234"/>
                    </a:lnTo>
                    <a:lnTo>
                      <a:pt x="820" y="225"/>
                    </a:lnTo>
                    <a:lnTo>
                      <a:pt x="714" y="188"/>
                    </a:lnTo>
                    <a:lnTo>
                      <a:pt x="611" y="148"/>
                    </a:lnTo>
                    <a:lnTo>
                      <a:pt x="508" y="108"/>
                    </a:lnTo>
                    <a:lnTo>
                      <a:pt x="404" y="73"/>
                    </a:lnTo>
                    <a:lnTo>
                      <a:pt x="301" y="40"/>
                    </a:lnTo>
                    <a:lnTo>
                      <a:pt x="200" y="15"/>
                    </a:lnTo>
                    <a:lnTo>
                      <a:pt x="99" y="2"/>
                    </a:lnTo>
                    <a:lnTo>
                      <a:pt x="0" y="0"/>
                    </a:lnTo>
                    <a:lnTo>
                      <a:pt x="56" y="298"/>
                    </a:lnTo>
                    <a:lnTo>
                      <a:pt x="70" y="383"/>
                    </a:lnTo>
                    <a:lnTo>
                      <a:pt x="85" y="460"/>
                    </a:lnTo>
                    <a:lnTo>
                      <a:pt x="94" y="445"/>
                    </a:lnTo>
                    <a:lnTo>
                      <a:pt x="104" y="433"/>
                    </a:lnTo>
                    <a:lnTo>
                      <a:pt x="157" y="471"/>
                    </a:lnTo>
                    <a:lnTo>
                      <a:pt x="142" y="489"/>
                    </a:lnTo>
                    <a:lnTo>
                      <a:pt x="128" y="507"/>
                    </a:lnTo>
                    <a:lnTo>
                      <a:pt x="114" y="525"/>
                    </a:lnTo>
                    <a:lnTo>
                      <a:pt x="100" y="544"/>
                    </a:lnTo>
                    <a:lnTo>
                      <a:pt x="398" y="2177"/>
                    </a:lnTo>
                    <a:lnTo>
                      <a:pt x="446" y="2178"/>
                    </a:lnTo>
                    <a:lnTo>
                      <a:pt x="495" y="2183"/>
                    </a:lnTo>
                    <a:lnTo>
                      <a:pt x="545" y="2191"/>
                    </a:lnTo>
                    <a:lnTo>
                      <a:pt x="597" y="2201"/>
                    </a:lnTo>
                    <a:lnTo>
                      <a:pt x="645" y="2211"/>
                    </a:lnTo>
                    <a:lnTo>
                      <a:pt x="696" y="2225"/>
                    </a:lnTo>
                    <a:lnTo>
                      <a:pt x="748" y="2242"/>
                    </a:lnTo>
                    <a:lnTo>
                      <a:pt x="801" y="2262"/>
                    </a:lnTo>
                    <a:lnTo>
                      <a:pt x="898" y="2298"/>
                    </a:lnTo>
                    <a:lnTo>
                      <a:pt x="996" y="2334"/>
                    </a:lnTo>
                    <a:lnTo>
                      <a:pt x="1092" y="2367"/>
                    </a:lnTo>
                    <a:lnTo>
                      <a:pt x="1188" y="2396"/>
                    </a:lnTo>
                    <a:lnTo>
                      <a:pt x="1282" y="2418"/>
                    </a:lnTo>
                    <a:lnTo>
                      <a:pt x="1376" y="2434"/>
                    </a:lnTo>
                    <a:lnTo>
                      <a:pt x="1467" y="2439"/>
                    </a:lnTo>
                    <a:lnTo>
                      <a:pt x="1561" y="2435"/>
                    </a:lnTo>
                    <a:lnTo>
                      <a:pt x="1513" y="2193"/>
                    </a:lnTo>
                    <a:lnTo>
                      <a:pt x="1501" y="2184"/>
                    </a:lnTo>
                    <a:lnTo>
                      <a:pt x="1493" y="2178"/>
                    </a:lnTo>
                    <a:lnTo>
                      <a:pt x="1493" y="2178"/>
                    </a:lnTo>
                    <a:close/>
                    <a:moveTo>
                      <a:pt x="755" y="1703"/>
                    </a:moveTo>
                    <a:lnTo>
                      <a:pt x="648" y="1653"/>
                    </a:lnTo>
                    <a:lnTo>
                      <a:pt x="552" y="1595"/>
                    </a:lnTo>
                    <a:lnTo>
                      <a:pt x="464" y="1529"/>
                    </a:lnTo>
                    <a:lnTo>
                      <a:pt x="391" y="1458"/>
                    </a:lnTo>
                    <a:lnTo>
                      <a:pt x="328" y="1375"/>
                    </a:lnTo>
                    <a:lnTo>
                      <a:pt x="282" y="1287"/>
                    </a:lnTo>
                    <a:lnTo>
                      <a:pt x="253" y="1193"/>
                    </a:lnTo>
                    <a:lnTo>
                      <a:pt x="243" y="1092"/>
                    </a:lnTo>
                    <a:lnTo>
                      <a:pt x="470" y="746"/>
                    </a:lnTo>
                    <a:lnTo>
                      <a:pt x="559" y="731"/>
                    </a:lnTo>
                    <a:lnTo>
                      <a:pt x="656" y="736"/>
                    </a:lnTo>
                    <a:lnTo>
                      <a:pt x="765" y="766"/>
                    </a:lnTo>
                    <a:lnTo>
                      <a:pt x="870" y="813"/>
                    </a:lnTo>
                    <a:lnTo>
                      <a:pt x="968" y="869"/>
                    </a:lnTo>
                    <a:lnTo>
                      <a:pt x="1054" y="933"/>
                    </a:lnTo>
                    <a:lnTo>
                      <a:pt x="1130" y="1006"/>
                    </a:lnTo>
                    <a:lnTo>
                      <a:pt x="1190" y="1085"/>
                    </a:lnTo>
                    <a:lnTo>
                      <a:pt x="1238" y="1172"/>
                    </a:lnTo>
                    <a:lnTo>
                      <a:pt x="1266" y="1267"/>
                    </a:lnTo>
                    <a:lnTo>
                      <a:pt x="1188" y="1331"/>
                    </a:lnTo>
                    <a:lnTo>
                      <a:pt x="1164" y="1402"/>
                    </a:lnTo>
                    <a:lnTo>
                      <a:pt x="1139" y="1440"/>
                    </a:lnTo>
                    <a:lnTo>
                      <a:pt x="1092" y="1512"/>
                    </a:lnTo>
                    <a:lnTo>
                      <a:pt x="1056" y="1554"/>
                    </a:lnTo>
                    <a:lnTo>
                      <a:pt x="985" y="1607"/>
                    </a:lnTo>
                    <a:lnTo>
                      <a:pt x="939" y="1672"/>
                    </a:lnTo>
                    <a:lnTo>
                      <a:pt x="861" y="1731"/>
                    </a:lnTo>
                    <a:lnTo>
                      <a:pt x="755" y="1703"/>
                    </a:lnTo>
                    <a:lnTo>
                      <a:pt x="755" y="1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3040" y="2080800"/>
                <a:ext cx="117720" cy="700200"/>
              </a:xfrm>
              <a:custGeom>
                <a:avLst/>
                <a:gdLst/>
                <a:ahLst/>
                <a:rect l="l" t="t" r="r" b="b"/>
                <a:pathLst>
                  <a:path w="368" h="2202">
                    <a:moveTo>
                      <a:pt x="83" y="16"/>
                    </a:moveTo>
                    <a:lnTo>
                      <a:pt x="72" y="17"/>
                    </a:lnTo>
                    <a:lnTo>
                      <a:pt x="61" y="20"/>
                    </a:lnTo>
                    <a:lnTo>
                      <a:pt x="51" y="21"/>
                    </a:lnTo>
                    <a:lnTo>
                      <a:pt x="42" y="23"/>
                    </a:lnTo>
                    <a:lnTo>
                      <a:pt x="31" y="24"/>
                    </a:lnTo>
                    <a:lnTo>
                      <a:pt x="20" y="27"/>
                    </a:lnTo>
                    <a:lnTo>
                      <a:pt x="10" y="28"/>
                    </a:lnTo>
                    <a:lnTo>
                      <a:pt x="1" y="31"/>
                    </a:lnTo>
                    <a:lnTo>
                      <a:pt x="1" y="307"/>
                    </a:lnTo>
                    <a:lnTo>
                      <a:pt x="2" y="581"/>
                    </a:lnTo>
                    <a:lnTo>
                      <a:pt x="2" y="851"/>
                    </a:lnTo>
                    <a:lnTo>
                      <a:pt x="2" y="1119"/>
                    </a:lnTo>
                    <a:lnTo>
                      <a:pt x="1" y="1382"/>
                    </a:lnTo>
                    <a:lnTo>
                      <a:pt x="1" y="1646"/>
                    </a:lnTo>
                    <a:lnTo>
                      <a:pt x="0" y="1908"/>
                    </a:lnTo>
                    <a:lnTo>
                      <a:pt x="0" y="2173"/>
                    </a:lnTo>
                    <a:lnTo>
                      <a:pt x="9" y="2174"/>
                    </a:lnTo>
                    <a:lnTo>
                      <a:pt x="20" y="2178"/>
                    </a:lnTo>
                    <a:lnTo>
                      <a:pt x="31" y="2179"/>
                    </a:lnTo>
                    <a:lnTo>
                      <a:pt x="42" y="2184"/>
                    </a:lnTo>
                    <a:lnTo>
                      <a:pt x="51" y="2185"/>
                    </a:lnTo>
                    <a:lnTo>
                      <a:pt x="62" y="2189"/>
                    </a:lnTo>
                    <a:lnTo>
                      <a:pt x="74" y="2190"/>
                    </a:lnTo>
                    <a:lnTo>
                      <a:pt x="85" y="2194"/>
                    </a:lnTo>
                    <a:lnTo>
                      <a:pt x="121" y="2197"/>
                    </a:lnTo>
                    <a:lnTo>
                      <a:pt x="157" y="2201"/>
                    </a:lnTo>
                    <a:lnTo>
                      <a:pt x="194" y="2201"/>
                    </a:lnTo>
                    <a:lnTo>
                      <a:pt x="230" y="2202"/>
                    </a:lnTo>
                    <a:lnTo>
                      <a:pt x="264" y="2200"/>
                    </a:lnTo>
                    <a:lnTo>
                      <a:pt x="299" y="2196"/>
                    </a:lnTo>
                    <a:lnTo>
                      <a:pt x="334" y="2191"/>
                    </a:lnTo>
                    <a:lnTo>
                      <a:pt x="368" y="2186"/>
                    </a:lnTo>
                    <a:lnTo>
                      <a:pt x="137" y="0"/>
                    </a:lnTo>
                    <a:lnTo>
                      <a:pt x="130" y="2"/>
                    </a:lnTo>
                    <a:lnTo>
                      <a:pt x="124" y="4"/>
                    </a:lnTo>
                    <a:lnTo>
                      <a:pt x="116" y="5"/>
                    </a:lnTo>
                    <a:lnTo>
                      <a:pt x="110" y="8"/>
                    </a:lnTo>
                    <a:lnTo>
                      <a:pt x="102" y="9"/>
                    </a:lnTo>
                    <a:lnTo>
                      <a:pt x="96" y="11"/>
                    </a:lnTo>
                    <a:lnTo>
                      <a:pt x="89" y="13"/>
                    </a:lnTo>
                    <a:lnTo>
                      <a:pt x="83" y="16"/>
                    </a:lnTo>
                    <a:lnTo>
                      <a:pt x="8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26920" y="2008080"/>
                <a:ext cx="385920" cy="769680"/>
              </a:xfrm>
              <a:custGeom>
                <a:avLst/>
                <a:gdLst/>
                <a:ahLst/>
                <a:rect l="l" t="t" r="r" b="b"/>
                <a:pathLst>
                  <a:path w="1213" h="2425">
                    <a:moveTo>
                      <a:pt x="0" y="257"/>
                    </a:moveTo>
                    <a:lnTo>
                      <a:pt x="319" y="1836"/>
                    </a:lnTo>
                    <a:lnTo>
                      <a:pt x="321" y="1832"/>
                    </a:lnTo>
                    <a:lnTo>
                      <a:pt x="325" y="1828"/>
                    </a:lnTo>
                    <a:lnTo>
                      <a:pt x="336" y="1836"/>
                    </a:lnTo>
                    <a:lnTo>
                      <a:pt x="350" y="1845"/>
                    </a:lnTo>
                    <a:lnTo>
                      <a:pt x="361" y="1853"/>
                    </a:lnTo>
                    <a:lnTo>
                      <a:pt x="374" y="1862"/>
                    </a:lnTo>
                    <a:lnTo>
                      <a:pt x="368" y="1868"/>
                    </a:lnTo>
                    <a:lnTo>
                      <a:pt x="365" y="1876"/>
                    </a:lnTo>
                    <a:lnTo>
                      <a:pt x="359" y="1883"/>
                    </a:lnTo>
                    <a:lnTo>
                      <a:pt x="355" y="1891"/>
                    </a:lnTo>
                    <a:lnTo>
                      <a:pt x="350" y="1897"/>
                    </a:lnTo>
                    <a:lnTo>
                      <a:pt x="344" y="1904"/>
                    </a:lnTo>
                    <a:lnTo>
                      <a:pt x="340" y="1912"/>
                    </a:lnTo>
                    <a:lnTo>
                      <a:pt x="336" y="1920"/>
                    </a:lnTo>
                    <a:lnTo>
                      <a:pt x="351" y="1994"/>
                    </a:lnTo>
                    <a:lnTo>
                      <a:pt x="359" y="1979"/>
                    </a:lnTo>
                    <a:lnTo>
                      <a:pt x="367" y="1968"/>
                    </a:lnTo>
                    <a:lnTo>
                      <a:pt x="376" y="1955"/>
                    </a:lnTo>
                    <a:lnTo>
                      <a:pt x="384" y="1943"/>
                    </a:lnTo>
                    <a:lnTo>
                      <a:pt x="392" y="1929"/>
                    </a:lnTo>
                    <a:lnTo>
                      <a:pt x="401" y="1916"/>
                    </a:lnTo>
                    <a:lnTo>
                      <a:pt x="409" y="1902"/>
                    </a:lnTo>
                    <a:lnTo>
                      <a:pt x="418" y="1889"/>
                    </a:lnTo>
                    <a:lnTo>
                      <a:pt x="431" y="1897"/>
                    </a:lnTo>
                    <a:lnTo>
                      <a:pt x="443" y="1904"/>
                    </a:lnTo>
                    <a:lnTo>
                      <a:pt x="455" y="1912"/>
                    </a:lnTo>
                    <a:lnTo>
                      <a:pt x="468" y="1920"/>
                    </a:lnTo>
                    <a:lnTo>
                      <a:pt x="454" y="1939"/>
                    </a:lnTo>
                    <a:lnTo>
                      <a:pt x="442" y="1960"/>
                    </a:lnTo>
                    <a:lnTo>
                      <a:pt x="430" y="1979"/>
                    </a:lnTo>
                    <a:lnTo>
                      <a:pt x="417" y="2000"/>
                    </a:lnTo>
                    <a:lnTo>
                      <a:pt x="403" y="2018"/>
                    </a:lnTo>
                    <a:lnTo>
                      <a:pt x="392" y="2038"/>
                    </a:lnTo>
                    <a:lnTo>
                      <a:pt x="378" y="2057"/>
                    </a:lnTo>
                    <a:lnTo>
                      <a:pt x="367" y="2077"/>
                    </a:lnTo>
                    <a:lnTo>
                      <a:pt x="382" y="2150"/>
                    </a:lnTo>
                    <a:lnTo>
                      <a:pt x="398" y="2125"/>
                    </a:lnTo>
                    <a:lnTo>
                      <a:pt x="414" y="2099"/>
                    </a:lnTo>
                    <a:lnTo>
                      <a:pt x="431" y="2075"/>
                    </a:lnTo>
                    <a:lnTo>
                      <a:pt x="447" y="2051"/>
                    </a:lnTo>
                    <a:lnTo>
                      <a:pt x="462" y="2025"/>
                    </a:lnTo>
                    <a:lnTo>
                      <a:pt x="479" y="1998"/>
                    </a:lnTo>
                    <a:lnTo>
                      <a:pt x="495" y="1971"/>
                    </a:lnTo>
                    <a:lnTo>
                      <a:pt x="512" y="1944"/>
                    </a:lnTo>
                    <a:lnTo>
                      <a:pt x="524" y="1951"/>
                    </a:lnTo>
                    <a:lnTo>
                      <a:pt x="536" y="1957"/>
                    </a:lnTo>
                    <a:lnTo>
                      <a:pt x="548" y="1963"/>
                    </a:lnTo>
                    <a:lnTo>
                      <a:pt x="561" y="1971"/>
                    </a:lnTo>
                    <a:lnTo>
                      <a:pt x="542" y="2001"/>
                    </a:lnTo>
                    <a:lnTo>
                      <a:pt x="525" y="2031"/>
                    </a:lnTo>
                    <a:lnTo>
                      <a:pt x="508" y="2060"/>
                    </a:lnTo>
                    <a:lnTo>
                      <a:pt x="490" y="2091"/>
                    </a:lnTo>
                    <a:lnTo>
                      <a:pt x="472" y="2118"/>
                    </a:lnTo>
                    <a:lnTo>
                      <a:pt x="454" y="2147"/>
                    </a:lnTo>
                    <a:lnTo>
                      <a:pt x="437" y="2174"/>
                    </a:lnTo>
                    <a:lnTo>
                      <a:pt x="419" y="2203"/>
                    </a:lnTo>
                    <a:lnTo>
                      <a:pt x="412" y="2197"/>
                    </a:lnTo>
                    <a:lnTo>
                      <a:pt x="405" y="2192"/>
                    </a:lnTo>
                    <a:lnTo>
                      <a:pt x="397" y="2187"/>
                    </a:lnTo>
                    <a:lnTo>
                      <a:pt x="390" y="2183"/>
                    </a:lnTo>
                    <a:lnTo>
                      <a:pt x="438" y="2425"/>
                    </a:lnTo>
                    <a:lnTo>
                      <a:pt x="446" y="2423"/>
                    </a:lnTo>
                    <a:lnTo>
                      <a:pt x="453" y="2423"/>
                    </a:lnTo>
                    <a:lnTo>
                      <a:pt x="460" y="2420"/>
                    </a:lnTo>
                    <a:lnTo>
                      <a:pt x="468" y="2420"/>
                    </a:lnTo>
                    <a:lnTo>
                      <a:pt x="476" y="2418"/>
                    </a:lnTo>
                    <a:lnTo>
                      <a:pt x="483" y="2418"/>
                    </a:lnTo>
                    <a:lnTo>
                      <a:pt x="490" y="2415"/>
                    </a:lnTo>
                    <a:lnTo>
                      <a:pt x="497" y="2415"/>
                    </a:lnTo>
                    <a:lnTo>
                      <a:pt x="588" y="2389"/>
                    </a:lnTo>
                    <a:lnTo>
                      <a:pt x="678" y="2356"/>
                    </a:lnTo>
                    <a:lnTo>
                      <a:pt x="766" y="2318"/>
                    </a:lnTo>
                    <a:lnTo>
                      <a:pt x="854" y="2281"/>
                    </a:lnTo>
                    <a:lnTo>
                      <a:pt x="942" y="2242"/>
                    </a:lnTo>
                    <a:lnTo>
                      <a:pt x="1031" y="2208"/>
                    </a:lnTo>
                    <a:lnTo>
                      <a:pt x="1120" y="2180"/>
                    </a:lnTo>
                    <a:lnTo>
                      <a:pt x="1213" y="2162"/>
                    </a:lnTo>
                    <a:lnTo>
                      <a:pt x="905" y="0"/>
                    </a:lnTo>
                    <a:lnTo>
                      <a:pt x="849" y="7"/>
                    </a:lnTo>
                    <a:lnTo>
                      <a:pt x="796" y="19"/>
                    </a:lnTo>
                    <a:lnTo>
                      <a:pt x="741" y="32"/>
                    </a:lnTo>
                    <a:lnTo>
                      <a:pt x="689" y="49"/>
                    </a:lnTo>
                    <a:lnTo>
                      <a:pt x="636" y="67"/>
                    </a:lnTo>
                    <a:lnTo>
                      <a:pt x="583" y="86"/>
                    </a:lnTo>
                    <a:lnTo>
                      <a:pt x="531" y="108"/>
                    </a:lnTo>
                    <a:lnTo>
                      <a:pt x="479" y="133"/>
                    </a:lnTo>
                    <a:lnTo>
                      <a:pt x="419" y="158"/>
                    </a:lnTo>
                    <a:lnTo>
                      <a:pt x="360" y="181"/>
                    </a:lnTo>
                    <a:lnTo>
                      <a:pt x="300" y="200"/>
                    </a:lnTo>
                    <a:lnTo>
                      <a:pt x="242" y="219"/>
                    </a:lnTo>
                    <a:lnTo>
                      <a:pt x="180" y="233"/>
                    </a:lnTo>
                    <a:lnTo>
                      <a:pt x="121" y="244"/>
                    </a:lnTo>
                    <a:lnTo>
                      <a:pt x="60" y="252"/>
                    </a:lnTo>
                    <a:lnTo>
                      <a:pt x="0" y="257"/>
                    </a:lnTo>
                    <a:lnTo>
                      <a:pt x="0" y="257"/>
                    </a:lnTo>
                    <a:close/>
                    <a:moveTo>
                      <a:pt x="317" y="497"/>
                    </a:moveTo>
                    <a:lnTo>
                      <a:pt x="355" y="537"/>
                    </a:lnTo>
                    <a:lnTo>
                      <a:pt x="395" y="577"/>
                    </a:lnTo>
                    <a:lnTo>
                      <a:pt x="433" y="616"/>
                    </a:lnTo>
                    <a:lnTo>
                      <a:pt x="472" y="656"/>
                    </a:lnTo>
                    <a:lnTo>
                      <a:pt x="511" y="693"/>
                    </a:lnTo>
                    <a:lnTo>
                      <a:pt x="549" y="731"/>
                    </a:lnTo>
                    <a:lnTo>
                      <a:pt x="588" y="768"/>
                    </a:lnTo>
                    <a:lnTo>
                      <a:pt x="629" y="807"/>
                    </a:lnTo>
                    <a:lnTo>
                      <a:pt x="620" y="814"/>
                    </a:lnTo>
                    <a:lnTo>
                      <a:pt x="616" y="823"/>
                    </a:lnTo>
                    <a:lnTo>
                      <a:pt x="609" y="831"/>
                    </a:lnTo>
                    <a:lnTo>
                      <a:pt x="605" y="840"/>
                    </a:lnTo>
                    <a:lnTo>
                      <a:pt x="597" y="847"/>
                    </a:lnTo>
                    <a:lnTo>
                      <a:pt x="592" y="856"/>
                    </a:lnTo>
                    <a:lnTo>
                      <a:pt x="586" y="863"/>
                    </a:lnTo>
                    <a:lnTo>
                      <a:pt x="581" y="872"/>
                    </a:lnTo>
                    <a:lnTo>
                      <a:pt x="540" y="834"/>
                    </a:lnTo>
                    <a:lnTo>
                      <a:pt x="501" y="795"/>
                    </a:lnTo>
                    <a:lnTo>
                      <a:pt x="462" y="756"/>
                    </a:lnTo>
                    <a:lnTo>
                      <a:pt x="424" y="719"/>
                    </a:lnTo>
                    <a:lnTo>
                      <a:pt x="385" y="679"/>
                    </a:lnTo>
                    <a:lnTo>
                      <a:pt x="347" y="639"/>
                    </a:lnTo>
                    <a:lnTo>
                      <a:pt x="307" y="596"/>
                    </a:lnTo>
                    <a:lnTo>
                      <a:pt x="268" y="554"/>
                    </a:lnTo>
                    <a:lnTo>
                      <a:pt x="274" y="547"/>
                    </a:lnTo>
                    <a:lnTo>
                      <a:pt x="280" y="539"/>
                    </a:lnTo>
                    <a:lnTo>
                      <a:pt x="285" y="532"/>
                    </a:lnTo>
                    <a:lnTo>
                      <a:pt x="292" y="526"/>
                    </a:lnTo>
                    <a:lnTo>
                      <a:pt x="297" y="519"/>
                    </a:lnTo>
                    <a:lnTo>
                      <a:pt x="303" y="510"/>
                    </a:lnTo>
                    <a:lnTo>
                      <a:pt x="308" y="503"/>
                    </a:lnTo>
                    <a:lnTo>
                      <a:pt x="317" y="497"/>
                    </a:lnTo>
                    <a:lnTo>
                      <a:pt x="317" y="497"/>
                    </a:lnTo>
                    <a:close/>
                    <a:moveTo>
                      <a:pt x="320" y="816"/>
                    </a:moveTo>
                    <a:lnTo>
                      <a:pt x="301" y="796"/>
                    </a:lnTo>
                    <a:lnTo>
                      <a:pt x="283" y="776"/>
                    </a:lnTo>
                    <a:lnTo>
                      <a:pt x="265" y="756"/>
                    </a:lnTo>
                    <a:lnTo>
                      <a:pt x="248" y="736"/>
                    </a:lnTo>
                    <a:lnTo>
                      <a:pt x="229" y="715"/>
                    </a:lnTo>
                    <a:lnTo>
                      <a:pt x="211" y="694"/>
                    </a:lnTo>
                    <a:lnTo>
                      <a:pt x="194" y="675"/>
                    </a:lnTo>
                    <a:lnTo>
                      <a:pt x="176" y="654"/>
                    </a:lnTo>
                    <a:lnTo>
                      <a:pt x="188" y="642"/>
                    </a:lnTo>
                    <a:lnTo>
                      <a:pt x="201" y="629"/>
                    </a:lnTo>
                    <a:lnTo>
                      <a:pt x="212" y="616"/>
                    </a:lnTo>
                    <a:lnTo>
                      <a:pt x="225" y="603"/>
                    </a:lnTo>
                    <a:lnTo>
                      <a:pt x="243" y="623"/>
                    </a:lnTo>
                    <a:lnTo>
                      <a:pt x="260" y="643"/>
                    </a:lnTo>
                    <a:lnTo>
                      <a:pt x="278" y="662"/>
                    </a:lnTo>
                    <a:lnTo>
                      <a:pt x="296" y="682"/>
                    </a:lnTo>
                    <a:lnTo>
                      <a:pt x="314" y="701"/>
                    </a:lnTo>
                    <a:lnTo>
                      <a:pt x="331" y="720"/>
                    </a:lnTo>
                    <a:lnTo>
                      <a:pt x="350" y="738"/>
                    </a:lnTo>
                    <a:lnTo>
                      <a:pt x="368" y="757"/>
                    </a:lnTo>
                    <a:lnTo>
                      <a:pt x="361" y="763"/>
                    </a:lnTo>
                    <a:lnTo>
                      <a:pt x="356" y="771"/>
                    </a:lnTo>
                    <a:lnTo>
                      <a:pt x="348" y="778"/>
                    </a:lnTo>
                    <a:lnTo>
                      <a:pt x="343" y="785"/>
                    </a:lnTo>
                    <a:lnTo>
                      <a:pt x="337" y="794"/>
                    </a:lnTo>
                    <a:lnTo>
                      <a:pt x="331" y="801"/>
                    </a:lnTo>
                    <a:lnTo>
                      <a:pt x="325" y="808"/>
                    </a:lnTo>
                    <a:lnTo>
                      <a:pt x="320" y="816"/>
                    </a:lnTo>
                    <a:lnTo>
                      <a:pt x="320" y="816"/>
                    </a:lnTo>
                    <a:close/>
                    <a:moveTo>
                      <a:pt x="398" y="789"/>
                    </a:moveTo>
                    <a:lnTo>
                      <a:pt x="414" y="806"/>
                    </a:lnTo>
                    <a:lnTo>
                      <a:pt x="433" y="823"/>
                    </a:lnTo>
                    <a:lnTo>
                      <a:pt x="449" y="841"/>
                    </a:lnTo>
                    <a:lnTo>
                      <a:pt x="468" y="859"/>
                    </a:lnTo>
                    <a:lnTo>
                      <a:pt x="485" y="876"/>
                    </a:lnTo>
                    <a:lnTo>
                      <a:pt x="502" y="894"/>
                    </a:lnTo>
                    <a:lnTo>
                      <a:pt x="520" y="911"/>
                    </a:lnTo>
                    <a:lnTo>
                      <a:pt x="538" y="930"/>
                    </a:lnTo>
                    <a:lnTo>
                      <a:pt x="531" y="937"/>
                    </a:lnTo>
                    <a:lnTo>
                      <a:pt x="526" y="945"/>
                    </a:lnTo>
                    <a:lnTo>
                      <a:pt x="520" y="952"/>
                    </a:lnTo>
                    <a:lnTo>
                      <a:pt x="515" y="961"/>
                    </a:lnTo>
                    <a:lnTo>
                      <a:pt x="508" y="968"/>
                    </a:lnTo>
                    <a:lnTo>
                      <a:pt x="502" y="977"/>
                    </a:lnTo>
                    <a:lnTo>
                      <a:pt x="496" y="985"/>
                    </a:lnTo>
                    <a:lnTo>
                      <a:pt x="491" y="994"/>
                    </a:lnTo>
                    <a:lnTo>
                      <a:pt x="473" y="974"/>
                    </a:lnTo>
                    <a:lnTo>
                      <a:pt x="455" y="957"/>
                    </a:lnTo>
                    <a:lnTo>
                      <a:pt x="438" y="938"/>
                    </a:lnTo>
                    <a:lnTo>
                      <a:pt x="420" y="921"/>
                    </a:lnTo>
                    <a:lnTo>
                      <a:pt x="402" y="903"/>
                    </a:lnTo>
                    <a:lnTo>
                      <a:pt x="384" y="885"/>
                    </a:lnTo>
                    <a:lnTo>
                      <a:pt x="367" y="866"/>
                    </a:lnTo>
                    <a:lnTo>
                      <a:pt x="350" y="848"/>
                    </a:lnTo>
                    <a:lnTo>
                      <a:pt x="355" y="841"/>
                    </a:lnTo>
                    <a:lnTo>
                      <a:pt x="361" y="834"/>
                    </a:lnTo>
                    <a:lnTo>
                      <a:pt x="367" y="826"/>
                    </a:lnTo>
                    <a:lnTo>
                      <a:pt x="373" y="818"/>
                    </a:lnTo>
                    <a:lnTo>
                      <a:pt x="378" y="811"/>
                    </a:lnTo>
                    <a:lnTo>
                      <a:pt x="385" y="803"/>
                    </a:lnTo>
                    <a:lnTo>
                      <a:pt x="391" y="796"/>
                    </a:lnTo>
                    <a:lnTo>
                      <a:pt x="398" y="789"/>
                    </a:lnTo>
                    <a:lnTo>
                      <a:pt x="398" y="789"/>
                    </a:lnTo>
                    <a:close/>
                    <a:moveTo>
                      <a:pt x="409" y="1808"/>
                    </a:moveTo>
                    <a:lnTo>
                      <a:pt x="397" y="1800"/>
                    </a:lnTo>
                    <a:lnTo>
                      <a:pt x="384" y="1791"/>
                    </a:lnTo>
                    <a:lnTo>
                      <a:pt x="372" y="1783"/>
                    </a:lnTo>
                    <a:lnTo>
                      <a:pt x="360" y="1776"/>
                    </a:lnTo>
                    <a:lnTo>
                      <a:pt x="376" y="1748"/>
                    </a:lnTo>
                    <a:lnTo>
                      <a:pt x="394" y="1721"/>
                    </a:lnTo>
                    <a:lnTo>
                      <a:pt x="411" y="1693"/>
                    </a:lnTo>
                    <a:lnTo>
                      <a:pt x="429" y="1667"/>
                    </a:lnTo>
                    <a:lnTo>
                      <a:pt x="444" y="1638"/>
                    </a:lnTo>
                    <a:lnTo>
                      <a:pt x="461" y="1609"/>
                    </a:lnTo>
                    <a:lnTo>
                      <a:pt x="478" y="1579"/>
                    </a:lnTo>
                    <a:lnTo>
                      <a:pt x="496" y="1550"/>
                    </a:lnTo>
                    <a:lnTo>
                      <a:pt x="508" y="1555"/>
                    </a:lnTo>
                    <a:lnTo>
                      <a:pt x="520" y="1562"/>
                    </a:lnTo>
                    <a:lnTo>
                      <a:pt x="532" y="1568"/>
                    </a:lnTo>
                    <a:lnTo>
                      <a:pt x="544" y="1574"/>
                    </a:lnTo>
                    <a:lnTo>
                      <a:pt x="527" y="1605"/>
                    </a:lnTo>
                    <a:lnTo>
                      <a:pt x="511" y="1634"/>
                    </a:lnTo>
                    <a:lnTo>
                      <a:pt x="493" y="1663"/>
                    </a:lnTo>
                    <a:lnTo>
                      <a:pt x="477" y="1693"/>
                    </a:lnTo>
                    <a:lnTo>
                      <a:pt x="459" y="1722"/>
                    </a:lnTo>
                    <a:lnTo>
                      <a:pt x="443" y="1750"/>
                    </a:lnTo>
                    <a:lnTo>
                      <a:pt x="425" y="1779"/>
                    </a:lnTo>
                    <a:lnTo>
                      <a:pt x="409" y="1808"/>
                    </a:lnTo>
                    <a:lnTo>
                      <a:pt x="409" y="1808"/>
                    </a:lnTo>
                    <a:close/>
                    <a:moveTo>
                      <a:pt x="501" y="1862"/>
                    </a:moveTo>
                    <a:lnTo>
                      <a:pt x="489" y="1854"/>
                    </a:lnTo>
                    <a:lnTo>
                      <a:pt x="477" y="1848"/>
                    </a:lnTo>
                    <a:lnTo>
                      <a:pt x="464" y="1841"/>
                    </a:lnTo>
                    <a:lnTo>
                      <a:pt x="453" y="1835"/>
                    </a:lnTo>
                    <a:lnTo>
                      <a:pt x="470" y="1805"/>
                    </a:lnTo>
                    <a:lnTo>
                      <a:pt x="486" y="1776"/>
                    </a:lnTo>
                    <a:lnTo>
                      <a:pt x="502" y="1745"/>
                    </a:lnTo>
                    <a:lnTo>
                      <a:pt x="520" y="1717"/>
                    </a:lnTo>
                    <a:lnTo>
                      <a:pt x="536" y="1687"/>
                    </a:lnTo>
                    <a:lnTo>
                      <a:pt x="554" y="1657"/>
                    </a:lnTo>
                    <a:lnTo>
                      <a:pt x="570" y="1625"/>
                    </a:lnTo>
                    <a:lnTo>
                      <a:pt x="588" y="1595"/>
                    </a:lnTo>
                    <a:lnTo>
                      <a:pt x="599" y="1601"/>
                    </a:lnTo>
                    <a:lnTo>
                      <a:pt x="611" y="1607"/>
                    </a:lnTo>
                    <a:lnTo>
                      <a:pt x="623" y="1612"/>
                    </a:lnTo>
                    <a:lnTo>
                      <a:pt x="636" y="1618"/>
                    </a:lnTo>
                    <a:lnTo>
                      <a:pt x="618" y="1649"/>
                    </a:lnTo>
                    <a:lnTo>
                      <a:pt x="602" y="1681"/>
                    </a:lnTo>
                    <a:lnTo>
                      <a:pt x="584" y="1710"/>
                    </a:lnTo>
                    <a:lnTo>
                      <a:pt x="568" y="1742"/>
                    </a:lnTo>
                    <a:lnTo>
                      <a:pt x="551" y="1772"/>
                    </a:lnTo>
                    <a:lnTo>
                      <a:pt x="535" y="1802"/>
                    </a:lnTo>
                    <a:lnTo>
                      <a:pt x="518" y="1832"/>
                    </a:lnTo>
                    <a:lnTo>
                      <a:pt x="501" y="1862"/>
                    </a:lnTo>
                    <a:lnTo>
                      <a:pt x="501" y="1862"/>
                    </a:lnTo>
                    <a:close/>
                    <a:moveTo>
                      <a:pt x="594" y="1911"/>
                    </a:moveTo>
                    <a:lnTo>
                      <a:pt x="581" y="1903"/>
                    </a:lnTo>
                    <a:lnTo>
                      <a:pt x="568" y="1898"/>
                    </a:lnTo>
                    <a:lnTo>
                      <a:pt x="556" y="1891"/>
                    </a:lnTo>
                    <a:lnTo>
                      <a:pt x="544" y="1886"/>
                    </a:lnTo>
                    <a:lnTo>
                      <a:pt x="561" y="1854"/>
                    </a:lnTo>
                    <a:lnTo>
                      <a:pt x="578" y="1824"/>
                    </a:lnTo>
                    <a:lnTo>
                      <a:pt x="595" y="1794"/>
                    </a:lnTo>
                    <a:lnTo>
                      <a:pt x="612" y="1763"/>
                    </a:lnTo>
                    <a:lnTo>
                      <a:pt x="627" y="1732"/>
                    </a:lnTo>
                    <a:lnTo>
                      <a:pt x="644" y="1700"/>
                    </a:lnTo>
                    <a:lnTo>
                      <a:pt x="660" y="1669"/>
                    </a:lnTo>
                    <a:lnTo>
                      <a:pt x="679" y="1638"/>
                    </a:lnTo>
                    <a:lnTo>
                      <a:pt x="690" y="1642"/>
                    </a:lnTo>
                    <a:lnTo>
                      <a:pt x="702" y="1648"/>
                    </a:lnTo>
                    <a:lnTo>
                      <a:pt x="714" y="1653"/>
                    </a:lnTo>
                    <a:lnTo>
                      <a:pt x="726" y="1659"/>
                    </a:lnTo>
                    <a:lnTo>
                      <a:pt x="709" y="1691"/>
                    </a:lnTo>
                    <a:lnTo>
                      <a:pt x="693" y="1722"/>
                    </a:lnTo>
                    <a:lnTo>
                      <a:pt x="676" y="1754"/>
                    </a:lnTo>
                    <a:lnTo>
                      <a:pt x="659" y="1785"/>
                    </a:lnTo>
                    <a:lnTo>
                      <a:pt x="642" y="1817"/>
                    </a:lnTo>
                    <a:lnTo>
                      <a:pt x="626" y="1848"/>
                    </a:lnTo>
                    <a:lnTo>
                      <a:pt x="609" y="1880"/>
                    </a:lnTo>
                    <a:lnTo>
                      <a:pt x="594" y="1911"/>
                    </a:lnTo>
                    <a:lnTo>
                      <a:pt x="594" y="1911"/>
                    </a:lnTo>
                    <a:close/>
                    <a:moveTo>
                      <a:pt x="718" y="687"/>
                    </a:moveTo>
                    <a:lnTo>
                      <a:pt x="711" y="694"/>
                    </a:lnTo>
                    <a:lnTo>
                      <a:pt x="706" y="702"/>
                    </a:lnTo>
                    <a:lnTo>
                      <a:pt x="697" y="710"/>
                    </a:lnTo>
                    <a:lnTo>
                      <a:pt x="693" y="719"/>
                    </a:lnTo>
                    <a:lnTo>
                      <a:pt x="687" y="726"/>
                    </a:lnTo>
                    <a:lnTo>
                      <a:pt x="682" y="734"/>
                    </a:lnTo>
                    <a:lnTo>
                      <a:pt x="676" y="742"/>
                    </a:lnTo>
                    <a:lnTo>
                      <a:pt x="671" y="751"/>
                    </a:lnTo>
                    <a:lnTo>
                      <a:pt x="652" y="732"/>
                    </a:lnTo>
                    <a:lnTo>
                      <a:pt x="633" y="716"/>
                    </a:lnTo>
                    <a:lnTo>
                      <a:pt x="616" y="698"/>
                    </a:lnTo>
                    <a:lnTo>
                      <a:pt x="600" y="682"/>
                    </a:lnTo>
                    <a:lnTo>
                      <a:pt x="581" y="663"/>
                    </a:lnTo>
                    <a:lnTo>
                      <a:pt x="565" y="647"/>
                    </a:lnTo>
                    <a:lnTo>
                      <a:pt x="547" y="629"/>
                    </a:lnTo>
                    <a:lnTo>
                      <a:pt x="530" y="613"/>
                    </a:lnTo>
                    <a:lnTo>
                      <a:pt x="535" y="605"/>
                    </a:lnTo>
                    <a:lnTo>
                      <a:pt x="541" y="597"/>
                    </a:lnTo>
                    <a:lnTo>
                      <a:pt x="547" y="588"/>
                    </a:lnTo>
                    <a:lnTo>
                      <a:pt x="554" y="581"/>
                    </a:lnTo>
                    <a:lnTo>
                      <a:pt x="559" y="572"/>
                    </a:lnTo>
                    <a:lnTo>
                      <a:pt x="565" y="565"/>
                    </a:lnTo>
                    <a:lnTo>
                      <a:pt x="570" y="557"/>
                    </a:lnTo>
                    <a:lnTo>
                      <a:pt x="577" y="549"/>
                    </a:lnTo>
                    <a:lnTo>
                      <a:pt x="594" y="566"/>
                    </a:lnTo>
                    <a:lnTo>
                      <a:pt x="612" y="583"/>
                    </a:lnTo>
                    <a:lnTo>
                      <a:pt x="629" y="600"/>
                    </a:lnTo>
                    <a:lnTo>
                      <a:pt x="647" y="617"/>
                    </a:lnTo>
                    <a:lnTo>
                      <a:pt x="663" y="634"/>
                    </a:lnTo>
                    <a:lnTo>
                      <a:pt x="681" y="651"/>
                    </a:lnTo>
                    <a:lnTo>
                      <a:pt x="699" y="668"/>
                    </a:lnTo>
                    <a:lnTo>
                      <a:pt x="718" y="687"/>
                    </a:lnTo>
                    <a:lnTo>
                      <a:pt x="718" y="687"/>
                    </a:lnTo>
                    <a:close/>
                    <a:moveTo>
                      <a:pt x="500" y="584"/>
                    </a:moveTo>
                    <a:lnTo>
                      <a:pt x="482" y="566"/>
                    </a:lnTo>
                    <a:lnTo>
                      <a:pt x="464" y="549"/>
                    </a:lnTo>
                    <a:lnTo>
                      <a:pt x="447" y="531"/>
                    </a:lnTo>
                    <a:lnTo>
                      <a:pt x="430" y="514"/>
                    </a:lnTo>
                    <a:lnTo>
                      <a:pt x="411" y="497"/>
                    </a:lnTo>
                    <a:lnTo>
                      <a:pt x="395" y="480"/>
                    </a:lnTo>
                    <a:lnTo>
                      <a:pt x="376" y="461"/>
                    </a:lnTo>
                    <a:lnTo>
                      <a:pt x="360" y="444"/>
                    </a:lnTo>
                    <a:lnTo>
                      <a:pt x="365" y="434"/>
                    </a:lnTo>
                    <a:lnTo>
                      <a:pt x="371" y="427"/>
                    </a:lnTo>
                    <a:lnTo>
                      <a:pt x="376" y="419"/>
                    </a:lnTo>
                    <a:lnTo>
                      <a:pt x="383" y="412"/>
                    </a:lnTo>
                    <a:lnTo>
                      <a:pt x="389" y="405"/>
                    </a:lnTo>
                    <a:lnTo>
                      <a:pt x="395" y="396"/>
                    </a:lnTo>
                    <a:lnTo>
                      <a:pt x="400" y="389"/>
                    </a:lnTo>
                    <a:lnTo>
                      <a:pt x="407" y="382"/>
                    </a:lnTo>
                    <a:lnTo>
                      <a:pt x="423" y="398"/>
                    </a:lnTo>
                    <a:lnTo>
                      <a:pt x="442" y="416"/>
                    </a:lnTo>
                    <a:lnTo>
                      <a:pt x="458" y="433"/>
                    </a:lnTo>
                    <a:lnTo>
                      <a:pt x="477" y="451"/>
                    </a:lnTo>
                    <a:lnTo>
                      <a:pt x="494" y="467"/>
                    </a:lnTo>
                    <a:lnTo>
                      <a:pt x="512" y="485"/>
                    </a:lnTo>
                    <a:lnTo>
                      <a:pt x="529" y="502"/>
                    </a:lnTo>
                    <a:lnTo>
                      <a:pt x="548" y="521"/>
                    </a:lnTo>
                    <a:lnTo>
                      <a:pt x="540" y="528"/>
                    </a:lnTo>
                    <a:lnTo>
                      <a:pt x="535" y="536"/>
                    </a:lnTo>
                    <a:lnTo>
                      <a:pt x="529" y="543"/>
                    </a:lnTo>
                    <a:lnTo>
                      <a:pt x="524" y="552"/>
                    </a:lnTo>
                    <a:lnTo>
                      <a:pt x="517" y="560"/>
                    </a:lnTo>
                    <a:lnTo>
                      <a:pt x="512" y="567"/>
                    </a:lnTo>
                    <a:lnTo>
                      <a:pt x="505" y="576"/>
                    </a:lnTo>
                    <a:lnTo>
                      <a:pt x="500" y="584"/>
                    </a:lnTo>
                    <a:lnTo>
                      <a:pt x="500" y="584"/>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0" y="2039760"/>
                <a:ext cx="152280" cy="271440"/>
              </a:xfrm>
              <a:custGeom>
                <a:avLst/>
                <a:gdLst/>
                <a:ahLst/>
                <a:rect l="l" t="t" r="r" b="b"/>
                <a:pathLst>
                  <a:path w="481" h="858">
                    <a:moveTo>
                      <a:pt x="481" y="447"/>
                    </a:moveTo>
                    <a:lnTo>
                      <a:pt x="402" y="0"/>
                    </a:lnTo>
                    <a:lnTo>
                      <a:pt x="398" y="7"/>
                    </a:lnTo>
                    <a:lnTo>
                      <a:pt x="384" y="27"/>
                    </a:lnTo>
                    <a:lnTo>
                      <a:pt x="365" y="60"/>
                    </a:lnTo>
                    <a:lnTo>
                      <a:pt x="338" y="102"/>
                    </a:lnTo>
                    <a:lnTo>
                      <a:pt x="308" y="152"/>
                    </a:lnTo>
                    <a:lnTo>
                      <a:pt x="273" y="208"/>
                    </a:lnTo>
                    <a:lnTo>
                      <a:pt x="238" y="267"/>
                    </a:lnTo>
                    <a:lnTo>
                      <a:pt x="200" y="328"/>
                    </a:lnTo>
                    <a:lnTo>
                      <a:pt x="163" y="390"/>
                    </a:lnTo>
                    <a:lnTo>
                      <a:pt x="126" y="450"/>
                    </a:lnTo>
                    <a:lnTo>
                      <a:pt x="92" y="506"/>
                    </a:lnTo>
                    <a:lnTo>
                      <a:pt x="62" y="556"/>
                    </a:lnTo>
                    <a:lnTo>
                      <a:pt x="36" y="599"/>
                    </a:lnTo>
                    <a:lnTo>
                      <a:pt x="17" y="632"/>
                    </a:lnTo>
                    <a:lnTo>
                      <a:pt x="5" y="655"/>
                    </a:lnTo>
                    <a:lnTo>
                      <a:pt x="0" y="663"/>
                    </a:lnTo>
                    <a:lnTo>
                      <a:pt x="5" y="666"/>
                    </a:lnTo>
                    <a:lnTo>
                      <a:pt x="15" y="673"/>
                    </a:lnTo>
                    <a:lnTo>
                      <a:pt x="30" y="683"/>
                    </a:lnTo>
                    <a:lnTo>
                      <a:pt x="50" y="697"/>
                    </a:lnTo>
                    <a:lnTo>
                      <a:pt x="73" y="711"/>
                    </a:lnTo>
                    <a:lnTo>
                      <a:pt x="99" y="727"/>
                    </a:lnTo>
                    <a:lnTo>
                      <a:pt x="128" y="745"/>
                    </a:lnTo>
                    <a:lnTo>
                      <a:pt x="156" y="763"/>
                    </a:lnTo>
                    <a:lnTo>
                      <a:pt x="185" y="781"/>
                    </a:lnTo>
                    <a:lnTo>
                      <a:pt x="213" y="798"/>
                    </a:lnTo>
                    <a:lnTo>
                      <a:pt x="239" y="814"/>
                    </a:lnTo>
                    <a:lnTo>
                      <a:pt x="262" y="828"/>
                    </a:lnTo>
                    <a:lnTo>
                      <a:pt x="282" y="840"/>
                    </a:lnTo>
                    <a:lnTo>
                      <a:pt x="297" y="850"/>
                    </a:lnTo>
                    <a:lnTo>
                      <a:pt x="307" y="856"/>
                    </a:lnTo>
                    <a:lnTo>
                      <a:pt x="310" y="858"/>
                    </a:lnTo>
                    <a:lnTo>
                      <a:pt x="481" y="44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5960" y="2436480"/>
                <a:ext cx="203400" cy="225360"/>
              </a:xfrm>
              <a:custGeom>
                <a:avLst/>
                <a:gdLst/>
                <a:ahLst/>
                <a:rect l="l" t="t" r="r" b="b"/>
                <a:pathLst>
                  <a:path w="643" h="707">
                    <a:moveTo>
                      <a:pt x="275" y="0"/>
                    </a:moveTo>
                    <a:lnTo>
                      <a:pt x="0" y="353"/>
                    </a:lnTo>
                    <a:lnTo>
                      <a:pt x="387" y="707"/>
                    </a:lnTo>
                    <a:lnTo>
                      <a:pt x="643" y="358"/>
                    </a:lnTo>
                    <a:lnTo>
                      <a:pt x="27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27000" y="2489040"/>
                <a:ext cx="147600" cy="230040"/>
              </a:xfrm>
              <a:custGeom>
                <a:avLst/>
                <a:gdLst/>
                <a:ahLst/>
                <a:rect l="l" t="t" r="r" b="b"/>
                <a:pathLst>
                  <a:path w="461" h="724">
                    <a:moveTo>
                      <a:pt x="0" y="309"/>
                    </a:moveTo>
                    <a:lnTo>
                      <a:pt x="84" y="724"/>
                    </a:lnTo>
                    <a:lnTo>
                      <a:pt x="461" y="138"/>
                    </a:lnTo>
                    <a:lnTo>
                      <a:pt x="177" y="0"/>
                    </a:lnTo>
                    <a:lnTo>
                      <a:pt x="0" y="309"/>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63640" y="2101680"/>
                <a:ext cx="223920" cy="257040"/>
              </a:xfrm>
              <a:custGeom>
                <a:avLst/>
                <a:gdLst/>
                <a:ahLst/>
                <a:rect l="l" t="t" r="r" b="b"/>
                <a:pathLst>
                  <a:path w="705" h="811">
                    <a:moveTo>
                      <a:pt x="287" y="0"/>
                    </a:moveTo>
                    <a:lnTo>
                      <a:pt x="0" y="368"/>
                    </a:lnTo>
                    <a:lnTo>
                      <a:pt x="359" y="811"/>
                    </a:lnTo>
                    <a:lnTo>
                      <a:pt x="705" y="325"/>
                    </a:lnTo>
                    <a:lnTo>
                      <a:pt x="287"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92120" y="2124000"/>
                <a:ext cx="77760" cy="107640"/>
              </a:xfrm>
              <a:custGeom>
                <a:avLst/>
                <a:gdLst/>
                <a:ahLst/>
                <a:rect l="l" t="t" r="r" b="b"/>
                <a:pathLst>
                  <a:path w="245" h="338">
                    <a:moveTo>
                      <a:pt x="0" y="0"/>
                    </a:moveTo>
                    <a:lnTo>
                      <a:pt x="64" y="338"/>
                    </a:lnTo>
                    <a:lnTo>
                      <a:pt x="245" y="8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15800" y="2153880"/>
                <a:ext cx="127080" cy="157320"/>
              </a:xfrm>
              <a:custGeom>
                <a:avLst/>
                <a:gdLst/>
                <a:ahLst/>
                <a:rect l="l" t="t" r="r" b="b"/>
                <a:pathLst>
                  <a:path w="397" h="494">
                    <a:moveTo>
                      <a:pt x="397" y="53"/>
                    </a:moveTo>
                    <a:lnTo>
                      <a:pt x="323" y="0"/>
                    </a:lnTo>
                    <a:lnTo>
                      <a:pt x="0" y="439"/>
                    </a:lnTo>
                    <a:lnTo>
                      <a:pt x="74" y="494"/>
                    </a:lnTo>
                    <a:lnTo>
                      <a:pt x="39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0880" y="2128680"/>
                <a:ext cx="127080" cy="156960"/>
              </a:xfrm>
              <a:custGeom>
                <a:avLst/>
                <a:gdLst/>
                <a:ahLst/>
                <a:rect l="l" t="t" r="r" b="b"/>
                <a:pathLst>
                  <a:path w="396" h="494">
                    <a:moveTo>
                      <a:pt x="396" y="53"/>
                    </a:moveTo>
                    <a:lnTo>
                      <a:pt x="323" y="0"/>
                    </a:lnTo>
                    <a:lnTo>
                      <a:pt x="0" y="439"/>
                    </a:lnTo>
                    <a:lnTo>
                      <a:pt x="74" y="494"/>
                    </a:lnTo>
                    <a:lnTo>
                      <a:pt x="39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45960" y="2103120"/>
                <a:ext cx="127080" cy="157320"/>
              </a:xfrm>
              <a:custGeom>
                <a:avLst/>
                <a:gdLst/>
                <a:ahLst/>
                <a:rect l="l" t="t" r="r" b="b"/>
                <a:pathLst>
                  <a:path w="396" h="494">
                    <a:moveTo>
                      <a:pt x="396" y="54"/>
                    </a:moveTo>
                    <a:lnTo>
                      <a:pt x="323" y="0"/>
                    </a:lnTo>
                    <a:lnTo>
                      <a:pt x="0" y="440"/>
                    </a:lnTo>
                    <a:lnTo>
                      <a:pt x="74" y="494"/>
                    </a:lnTo>
                    <a:lnTo>
                      <a:pt x="39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20880" y="2145960"/>
                <a:ext cx="115560" cy="163440"/>
              </a:xfrm>
              <a:custGeom>
                <a:avLst/>
                <a:gdLst/>
                <a:ahLst/>
                <a:rect l="l" t="t" r="r" b="b"/>
                <a:pathLst>
                  <a:path w="364" h="513">
                    <a:moveTo>
                      <a:pt x="287" y="513"/>
                    </a:moveTo>
                    <a:lnTo>
                      <a:pt x="364" y="464"/>
                    </a:lnTo>
                    <a:lnTo>
                      <a:pt x="77" y="0"/>
                    </a:lnTo>
                    <a:lnTo>
                      <a:pt x="0" y="49"/>
                    </a:lnTo>
                    <a:lnTo>
                      <a:pt x="287"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06560" y="2203200"/>
                <a:ext cx="66600" cy="82440"/>
              </a:xfrm>
              <a:custGeom>
                <a:avLst/>
                <a:gdLst/>
                <a:ahLst/>
                <a:rect l="l" t="t" r="r" b="b"/>
                <a:pathLst>
                  <a:path w="208" h="261">
                    <a:moveTo>
                      <a:pt x="131" y="261"/>
                    </a:moveTo>
                    <a:lnTo>
                      <a:pt x="208"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3657240" y="2124000"/>
                <a:ext cx="66600" cy="82440"/>
              </a:xfrm>
              <a:custGeom>
                <a:avLst/>
                <a:gdLst/>
                <a:ahLst/>
                <a:rect l="l" t="t" r="r" b="b"/>
                <a:pathLst>
                  <a:path w="209" h="261">
                    <a:moveTo>
                      <a:pt x="131" y="261"/>
                    </a:moveTo>
                    <a:lnTo>
                      <a:pt x="209"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3633480" y="2249280"/>
                <a:ext cx="66600" cy="82440"/>
              </a:xfrm>
              <a:custGeom>
                <a:avLst/>
                <a:gdLst/>
                <a:ahLst/>
                <a:rect l="l" t="t" r="r" b="b"/>
                <a:pathLst>
                  <a:path w="208" h="260">
                    <a:moveTo>
                      <a:pt x="131" y="260"/>
                    </a:moveTo>
                    <a:lnTo>
                      <a:pt x="208" y="212"/>
                    </a:lnTo>
                    <a:lnTo>
                      <a:pt x="77" y="0"/>
                    </a:lnTo>
                    <a:lnTo>
                      <a:pt x="0" y="48"/>
                    </a:lnTo>
                    <a:lnTo>
                      <a:pt x="131" y="26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3584160" y="2168280"/>
                <a:ext cx="66600" cy="84240"/>
              </a:xfrm>
              <a:custGeom>
                <a:avLst/>
                <a:gdLst/>
                <a:ahLst/>
                <a:rect l="l" t="t" r="r" b="b"/>
                <a:pathLst>
                  <a:path w="209" h="261">
                    <a:moveTo>
                      <a:pt x="133" y="261"/>
                    </a:moveTo>
                    <a:lnTo>
                      <a:pt x="209" y="214"/>
                    </a:lnTo>
                    <a:lnTo>
                      <a:pt x="77" y="0"/>
                    </a:lnTo>
                    <a:lnTo>
                      <a:pt x="0" y="48"/>
                    </a:lnTo>
                    <a:lnTo>
                      <a:pt x="133" y="2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 name=""/>
              <p:cNvSpPr/>
              <p:nvPr/>
            </p:nvSpPr>
            <p:spPr>
              <a:xfrm>
                <a:off x="3111120" y="2457360"/>
                <a:ext cx="117360" cy="161640"/>
              </a:xfrm>
              <a:custGeom>
                <a:avLst/>
                <a:gdLst/>
                <a:ahLst/>
                <a:rect l="l" t="t" r="r" b="b"/>
                <a:pathLst>
                  <a:path w="367" h="509">
                    <a:moveTo>
                      <a:pt x="77" y="0"/>
                    </a:moveTo>
                    <a:lnTo>
                      <a:pt x="0" y="48"/>
                    </a:lnTo>
                    <a:lnTo>
                      <a:pt x="290" y="509"/>
                    </a:lnTo>
                    <a:lnTo>
                      <a:pt x="367" y="46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38040" y="2503080"/>
                <a:ext cx="117360" cy="162000"/>
              </a:xfrm>
              <a:custGeom>
                <a:avLst/>
                <a:gdLst/>
                <a:ahLst/>
                <a:rect l="l" t="t" r="r" b="b"/>
                <a:pathLst>
                  <a:path w="367" h="511">
                    <a:moveTo>
                      <a:pt x="77" y="0"/>
                    </a:moveTo>
                    <a:lnTo>
                      <a:pt x="0" y="49"/>
                    </a:lnTo>
                    <a:lnTo>
                      <a:pt x="289" y="511"/>
                    </a:lnTo>
                    <a:lnTo>
                      <a:pt x="367" y="46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74760" y="2479320"/>
                <a:ext cx="66600" cy="82800"/>
              </a:xfrm>
              <a:custGeom>
                <a:avLst/>
                <a:gdLst/>
                <a:ahLst/>
                <a:rect l="l" t="t" r="r" b="b"/>
                <a:pathLst>
                  <a:path w="209" h="259">
                    <a:moveTo>
                      <a:pt x="76" y="0"/>
                    </a:moveTo>
                    <a:lnTo>
                      <a:pt x="0" y="48"/>
                    </a:lnTo>
                    <a:lnTo>
                      <a:pt x="132" y="259"/>
                    </a:lnTo>
                    <a:lnTo>
                      <a:pt x="209" y="211"/>
                    </a:lnTo>
                    <a:lnTo>
                      <a:pt x="7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3125520" y="2558880"/>
                <a:ext cx="66600" cy="82440"/>
              </a:xfrm>
              <a:custGeom>
                <a:avLst/>
                <a:gdLst/>
                <a:ahLst/>
                <a:rect l="l" t="t" r="r" b="b"/>
                <a:pathLst>
                  <a:path w="209" h="260">
                    <a:moveTo>
                      <a:pt x="76" y="0"/>
                    </a:moveTo>
                    <a:lnTo>
                      <a:pt x="0" y="48"/>
                    </a:lnTo>
                    <a:lnTo>
                      <a:pt x="132" y="260"/>
                    </a:lnTo>
                    <a:lnTo>
                      <a:pt x="209" y="211"/>
                    </a:lnTo>
                    <a:lnTo>
                      <a:pt x="7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619080" y="2477880"/>
                <a:ext cx="69840" cy="81000"/>
              </a:xfrm>
              <a:custGeom>
                <a:avLst/>
                <a:gdLst/>
                <a:ahLst/>
                <a:rect l="l" t="t" r="r" b="b"/>
                <a:pathLst>
                  <a:path w="222" h="256">
                    <a:moveTo>
                      <a:pt x="222" y="55"/>
                    </a:moveTo>
                    <a:lnTo>
                      <a:pt x="149" y="0"/>
                    </a:lnTo>
                    <a:lnTo>
                      <a:pt x="0" y="202"/>
                    </a:lnTo>
                    <a:lnTo>
                      <a:pt x="73" y="256"/>
                    </a:lnTo>
                    <a:lnTo>
                      <a:pt x="222" y="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3561840" y="2554200"/>
                <a:ext cx="71640" cy="80640"/>
              </a:xfrm>
              <a:custGeom>
                <a:avLst/>
                <a:gdLst/>
                <a:ahLst/>
                <a:rect l="l" t="t" r="r" b="b"/>
                <a:pathLst>
                  <a:path w="223" h="255">
                    <a:moveTo>
                      <a:pt x="223" y="54"/>
                    </a:moveTo>
                    <a:lnTo>
                      <a:pt x="149" y="0"/>
                    </a:lnTo>
                    <a:lnTo>
                      <a:pt x="0" y="201"/>
                    </a:lnTo>
                    <a:lnTo>
                      <a:pt x="73" y="255"/>
                    </a:lnTo>
                    <a:lnTo>
                      <a:pt x="223" y="5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
              <p:cNvSpPr/>
              <p:nvPr/>
            </p:nvSpPr>
            <p:spPr>
              <a:xfrm>
                <a:off x="3688920" y="2530080"/>
                <a:ext cx="69840" cy="81000"/>
              </a:xfrm>
              <a:custGeom>
                <a:avLst/>
                <a:gdLst/>
                <a:ahLst/>
                <a:rect l="l" t="t" r="r" b="b"/>
                <a:pathLst>
                  <a:path w="221" h="254">
                    <a:moveTo>
                      <a:pt x="221" y="54"/>
                    </a:moveTo>
                    <a:lnTo>
                      <a:pt x="148" y="0"/>
                    </a:lnTo>
                    <a:lnTo>
                      <a:pt x="0" y="200"/>
                    </a:lnTo>
                    <a:lnTo>
                      <a:pt x="72" y="254"/>
                    </a:lnTo>
                    <a:lnTo>
                      <a:pt x="221" y="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631680" y="2604960"/>
                <a:ext cx="71640" cy="81000"/>
              </a:xfrm>
              <a:custGeom>
                <a:avLst/>
                <a:gdLst/>
                <a:ahLst/>
                <a:rect l="l" t="t" r="r" b="b"/>
                <a:pathLst>
                  <a:path w="223" h="254">
                    <a:moveTo>
                      <a:pt x="223" y="53"/>
                    </a:moveTo>
                    <a:lnTo>
                      <a:pt x="150" y="0"/>
                    </a:lnTo>
                    <a:lnTo>
                      <a:pt x="0" y="201"/>
                    </a:lnTo>
                    <a:lnTo>
                      <a:pt x="74" y="254"/>
                    </a:lnTo>
                    <a:lnTo>
                      <a:pt x="22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3654000" y="2504880"/>
                <a:ext cx="69840" cy="79200"/>
              </a:xfrm>
              <a:custGeom>
                <a:avLst/>
                <a:gdLst/>
                <a:ahLst/>
                <a:rect l="l" t="t" r="r" b="b"/>
                <a:pathLst>
                  <a:path w="222" h="254">
                    <a:moveTo>
                      <a:pt x="222" y="53"/>
                    </a:moveTo>
                    <a:lnTo>
                      <a:pt x="148" y="0"/>
                    </a:lnTo>
                    <a:lnTo>
                      <a:pt x="0" y="200"/>
                    </a:lnTo>
                    <a:lnTo>
                      <a:pt x="74" y="254"/>
                    </a:lnTo>
                    <a:lnTo>
                      <a:pt x="222" y="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 name=""/>
              <p:cNvSpPr/>
              <p:nvPr/>
            </p:nvSpPr>
            <p:spPr>
              <a:xfrm>
                <a:off x="3596760" y="2579400"/>
                <a:ext cx="71640" cy="81000"/>
              </a:xfrm>
              <a:custGeom>
                <a:avLst/>
                <a:gdLst/>
                <a:ahLst/>
                <a:rect l="l" t="t" r="r" b="b"/>
                <a:pathLst>
                  <a:path w="222" h="254">
                    <a:moveTo>
                      <a:pt x="222" y="53"/>
                    </a:moveTo>
                    <a:lnTo>
                      <a:pt x="149" y="0"/>
                    </a:lnTo>
                    <a:lnTo>
                      <a:pt x="0" y="200"/>
                    </a:lnTo>
                    <a:lnTo>
                      <a:pt x="73" y="254"/>
                    </a:lnTo>
                    <a:lnTo>
                      <a:pt x="22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
              <p:cNvSpPr/>
              <p:nvPr/>
            </p:nvSpPr>
            <p:spPr>
              <a:xfrm>
                <a:off x="3255480" y="2219040"/>
                <a:ext cx="324000" cy="260280"/>
              </a:xfrm>
              <a:custGeom>
                <a:avLst/>
                <a:gdLst/>
                <a:ahLst/>
                <a:rect l="l" t="t" r="r" b="b"/>
                <a:pathLst>
                  <a:path w="1018" h="821">
                    <a:moveTo>
                      <a:pt x="943" y="821"/>
                    </a:moveTo>
                    <a:lnTo>
                      <a:pt x="951" y="799"/>
                    </a:lnTo>
                    <a:lnTo>
                      <a:pt x="957" y="775"/>
                    </a:lnTo>
                    <a:lnTo>
                      <a:pt x="961" y="752"/>
                    </a:lnTo>
                    <a:lnTo>
                      <a:pt x="963" y="727"/>
                    </a:lnTo>
                    <a:lnTo>
                      <a:pt x="963" y="699"/>
                    </a:lnTo>
                    <a:lnTo>
                      <a:pt x="960" y="673"/>
                    </a:lnTo>
                    <a:lnTo>
                      <a:pt x="954" y="647"/>
                    </a:lnTo>
                    <a:lnTo>
                      <a:pt x="947" y="622"/>
                    </a:lnTo>
                    <a:lnTo>
                      <a:pt x="937" y="598"/>
                    </a:lnTo>
                    <a:lnTo>
                      <a:pt x="924" y="575"/>
                    </a:lnTo>
                    <a:lnTo>
                      <a:pt x="909" y="555"/>
                    </a:lnTo>
                    <a:lnTo>
                      <a:pt x="893" y="534"/>
                    </a:lnTo>
                    <a:lnTo>
                      <a:pt x="874" y="517"/>
                    </a:lnTo>
                    <a:lnTo>
                      <a:pt x="855" y="500"/>
                    </a:lnTo>
                    <a:lnTo>
                      <a:pt x="833" y="486"/>
                    </a:lnTo>
                    <a:lnTo>
                      <a:pt x="810" y="474"/>
                    </a:lnTo>
                    <a:lnTo>
                      <a:pt x="786" y="463"/>
                    </a:lnTo>
                    <a:lnTo>
                      <a:pt x="760" y="456"/>
                    </a:lnTo>
                    <a:lnTo>
                      <a:pt x="735" y="450"/>
                    </a:lnTo>
                    <a:lnTo>
                      <a:pt x="707" y="448"/>
                    </a:lnTo>
                    <a:lnTo>
                      <a:pt x="691" y="448"/>
                    </a:lnTo>
                    <a:lnTo>
                      <a:pt x="677" y="449"/>
                    </a:lnTo>
                    <a:lnTo>
                      <a:pt x="662" y="450"/>
                    </a:lnTo>
                    <a:lnTo>
                      <a:pt x="647" y="452"/>
                    </a:lnTo>
                    <a:lnTo>
                      <a:pt x="633" y="455"/>
                    </a:lnTo>
                    <a:lnTo>
                      <a:pt x="620" y="459"/>
                    </a:lnTo>
                    <a:lnTo>
                      <a:pt x="605" y="463"/>
                    </a:lnTo>
                    <a:lnTo>
                      <a:pt x="592" y="469"/>
                    </a:lnTo>
                    <a:lnTo>
                      <a:pt x="579" y="475"/>
                    </a:lnTo>
                    <a:lnTo>
                      <a:pt x="566" y="482"/>
                    </a:lnTo>
                    <a:lnTo>
                      <a:pt x="554" y="489"/>
                    </a:lnTo>
                    <a:lnTo>
                      <a:pt x="543" y="497"/>
                    </a:lnTo>
                    <a:lnTo>
                      <a:pt x="530" y="505"/>
                    </a:lnTo>
                    <a:lnTo>
                      <a:pt x="520" y="515"/>
                    </a:lnTo>
                    <a:lnTo>
                      <a:pt x="510" y="524"/>
                    </a:lnTo>
                    <a:lnTo>
                      <a:pt x="500" y="534"/>
                    </a:lnTo>
                    <a:lnTo>
                      <a:pt x="477" y="559"/>
                    </a:lnTo>
                    <a:lnTo>
                      <a:pt x="467" y="571"/>
                    </a:lnTo>
                    <a:lnTo>
                      <a:pt x="457" y="582"/>
                    </a:lnTo>
                    <a:lnTo>
                      <a:pt x="445" y="593"/>
                    </a:lnTo>
                    <a:lnTo>
                      <a:pt x="433" y="603"/>
                    </a:lnTo>
                    <a:lnTo>
                      <a:pt x="421" y="612"/>
                    </a:lnTo>
                    <a:lnTo>
                      <a:pt x="408" y="621"/>
                    </a:lnTo>
                    <a:lnTo>
                      <a:pt x="395" y="629"/>
                    </a:lnTo>
                    <a:lnTo>
                      <a:pt x="381" y="636"/>
                    </a:lnTo>
                    <a:lnTo>
                      <a:pt x="366" y="642"/>
                    </a:lnTo>
                    <a:lnTo>
                      <a:pt x="352" y="648"/>
                    </a:lnTo>
                    <a:lnTo>
                      <a:pt x="336" y="652"/>
                    </a:lnTo>
                    <a:lnTo>
                      <a:pt x="321" y="656"/>
                    </a:lnTo>
                    <a:lnTo>
                      <a:pt x="305" y="658"/>
                    </a:lnTo>
                    <a:lnTo>
                      <a:pt x="289" y="660"/>
                    </a:lnTo>
                    <a:lnTo>
                      <a:pt x="273" y="661"/>
                    </a:lnTo>
                    <a:lnTo>
                      <a:pt x="256" y="661"/>
                    </a:lnTo>
                    <a:lnTo>
                      <a:pt x="229" y="659"/>
                    </a:lnTo>
                    <a:lnTo>
                      <a:pt x="203" y="653"/>
                    </a:lnTo>
                    <a:lnTo>
                      <a:pt x="177" y="646"/>
                    </a:lnTo>
                    <a:lnTo>
                      <a:pt x="153" y="636"/>
                    </a:lnTo>
                    <a:lnTo>
                      <a:pt x="130" y="623"/>
                    </a:lnTo>
                    <a:lnTo>
                      <a:pt x="109" y="609"/>
                    </a:lnTo>
                    <a:lnTo>
                      <a:pt x="89" y="593"/>
                    </a:lnTo>
                    <a:lnTo>
                      <a:pt x="71" y="575"/>
                    </a:lnTo>
                    <a:lnTo>
                      <a:pt x="54" y="555"/>
                    </a:lnTo>
                    <a:lnTo>
                      <a:pt x="39" y="534"/>
                    </a:lnTo>
                    <a:lnTo>
                      <a:pt x="27" y="512"/>
                    </a:lnTo>
                    <a:lnTo>
                      <a:pt x="16" y="487"/>
                    </a:lnTo>
                    <a:lnTo>
                      <a:pt x="9" y="462"/>
                    </a:lnTo>
                    <a:lnTo>
                      <a:pt x="3" y="437"/>
                    </a:lnTo>
                    <a:lnTo>
                      <a:pt x="0" y="410"/>
                    </a:lnTo>
                    <a:lnTo>
                      <a:pt x="0" y="382"/>
                    </a:lnTo>
                    <a:lnTo>
                      <a:pt x="1" y="363"/>
                    </a:lnTo>
                    <a:lnTo>
                      <a:pt x="3" y="341"/>
                    </a:lnTo>
                    <a:lnTo>
                      <a:pt x="5" y="321"/>
                    </a:lnTo>
                    <a:lnTo>
                      <a:pt x="9" y="299"/>
                    </a:lnTo>
                    <a:lnTo>
                      <a:pt x="14" y="279"/>
                    </a:lnTo>
                    <a:lnTo>
                      <a:pt x="20" y="258"/>
                    </a:lnTo>
                    <a:lnTo>
                      <a:pt x="28" y="241"/>
                    </a:lnTo>
                    <a:lnTo>
                      <a:pt x="37" y="224"/>
                    </a:lnTo>
                    <a:lnTo>
                      <a:pt x="38" y="219"/>
                    </a:lnTo>
                    <a:lnTo>
                      <a:pt x="58" y="193"/>
                    </a:lnTo>
                    <a:lnTo>
                      <a:pt x="80" y="170"/>
                    </a:lnTo>
                    <a:lnTo>
                      <a:pt x="104" y="147"/>
                    </a:lnTo>
                    <a:lnTo>
                      <a:pt x="127" y="126"/>
                    </a:lnTo>
                    <a:lnTo>
                      <a:pt x="153" y="105"/>
                    </a:lnTo>
                    <a:lnTo>
                      <a:pt x="179" y="87"/>
                    </a:lnTo>
                    <a:lnTo>
                      <a:pt x="208" y="70"/>
                    </a:lnTo>
                    <a:lnTo>
                      <a:pt x="237" y="55"/>
                    </a:lnTo>
                    <a:lnTo>
                      <a:pt x="267" y="41"/>
                    </a:lnTo>
                    <a:lnTo>
                      <a:pt x="297" y="30"/>
                    </a:lnTo>
                    <a:lnTo>
                      <a:pt x="328" y="20"/>
                    </a:lnTo>
                    <a:lnTo>
                      <a:pt x="361" y="12"/>
                    </a:lnTo>
                    <a:lnTo>
                      <a:pt x="394" y="5"/>
                    </a:lnTo>
                    <a:lnTo>
                      <a:pt x="427" y="2"/>
                    </a:lnTo>
                    <a:lnTo>
                      <a:pt x="461" y="0"/>
                    </a:lnTo>
                    <a:lnTo>
                      <a:pt x="496" y="0"/>
                    </a:lnTo>
                    <a:lnTo>
                      <a:pt x="551" y="5"/>
                    </a:lnTo>
                    <a:lnTo>
                      <a:pt x="604" y="16"/>
                    </a:lnTo>
                    <a:lnTo>
                      <a:pt x="657" y="31"/>
                    </a:lnTo>
                    <a:lnTo>
                      <a:pt x="706" y="52"/>
                    </a:lnTo>
                    <a:lnTo>
                      <a:pt x="752" y="77"/>
                    </a:lnTo>
                    <a:lnTo>
                      <a:pt x="796" y="106"/>
                    </a:lnTo>
                    <a:lnTo>
                      <a:pt x="837" y="139"/>
                    </a:lnTo>
                    <a:lnTo>
                      <a:pt x="874" y="176"/>
                    </a:lnTo>
                    <a:lnTo>
                      <a:pt x="908" y="216"/>
                    </a:lnTo>
                    <a:lnTo>
                      <a:pt x="937" y="259"/>
                    </a:lnTo>
                    <a:lnTo>
                      <a:pt x="962" y="305"/>
                    </a:lnTo>
                    <a:lnTo>
                      <a:pt x="984" y="355"/>
                    </a:lnTo>
                    <a:lnTo>
                      <a:pt x="1000" y="405"/>
                    </a:lnTo>
                    <a:lnTo>
                      <a:pt x="1012" y="458"/>
                    </a:lnTo>
                    <a:lnTo>
                      <a:pt x="1017" y="513"/>
                    </a:lnTo>
                    <a:lnTo>
                      <a:pt x="1018" y="568"/>
                    </a:lnTo>
                    <a:lnTo>
                      <a:pt x="1016" y="602"/>
                    </a:lnTo>
                    <a:lnTo>
                      <a:pt x="1012" y="635"/>
                    </a:lnTo>
                    <a:lnTo>
                      <a:pt x="1005" y="668"/>
                    </a:lnTo>
                    <a:lnTo>
                      <a:pt x="997" y="699"/>
                    </a:lnTo>
                    <a:lnTo>
                      <a:pt x="987" y="730"/>
                    </a:lnTo>
                    <a:lnTo>
                      <a:pt x="976" y="760"/>
                    </a:lnTo>
                    <a:lnTo>
                      <a:pt x="962" y="789"/>
                    </a:lnTo>
                    <a:lnTo>
                      <a:pt x="947" y="816"/>
                    </a:lnTo>
                    <a:lnTo>
                      <a:pt x="943" y="8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233520" y="2290680"/>
                <a:ext cx="328320" cy="274320"/>
              </a:xfrm>
              <a:custGeom>
                <a:avLst/>
                <a:gdLst/>
                <a:ahLst/>
                <a:rect l="l" t="t" r="r" b="b"/>
                <a:pathLst>
                  <a:path w="1034" h="867">
                    <a:moveTo>
                      <a:pt x="1010" y="605"/>
                    </a:moveTo>
                    <a:lnTo>
                      <a:pt x="990" y="635"/>
                    </a:lnTo>
                    <a:lnTo>
                      <a:pt x="969" y="663"/>
                    </a:lnTo>
                    <a:lnTo>
                      <a:pt x="945" y="690"/>
                    </a:lnTo>
                    <a:lnTo>
                      <a:pt x="920" y="716"/>
                    </a:lnTo>
                    <a:lnTo>
                      <a:pt x="894" y="739"/>
                    </a:lnTo>
                    <a:lnTo>
                      <a:pt x="866" y="762"/>
                    </a:lnTo>
                    <a:lnTo>
                      <a:pt x="836" y="781"/>
                    </a:lnTo>
                    <a:lnTo>
                      <a:pt x="806" y="800"/>
                    </a:lnTo>
                    <a:lnTo>
                      <a:pt x="774" y="816"/>
                    </a:lnTo>
                    <a:lnTo>
                      <a:pt x="741" y="831"/>
                    </a:lnTo>
                    <a:lnTo>
                      <a:pt x="706" y="842"/>
                    </a:lnTo>
                    <a:lnTo>
                      <a:pt x="671" y="852"/>
                    </a:lnTo>
                    <a:lnTo>
                      <a:pt x="635" y="859"/>
                    </a:lnTo>
                    <a:lnTo>
                      <a:pt x="598" y="864"/>
                    </a:lnTo>
                    <a:lnTo>
                      <a:pt x="560" y="867"/>
                    </a:lnTo>
                    <a:lnTo>
                      <a:pt x="522" y="867"/>
                    </a:lnTo>
                    <a:lnTo>
                      <a:pt x="467" y="861"/>
                    </a:lnTo>
                    <a:lnTo>
                      <a:pt x="414" y="851"/>
                    </a:lnTo>
                    <a:lnTo>
                      <a:pt x="361" y="836"/>
                    </a:lnTo>
                    <a:lnTo>
                      <a:pt x="312" y="815"/>
                    </a:lnTo>
                    <a:lnTo>
                      <a:pt x="266" y="790"/>
                    </a:lnTo>
                    <a:lnTo>
                      <a:pt x="222" y="761"/>
                    </a:lnTo>
                    <a:lnTo>
                      <a:pt x="181" y="728"/>
                    </a:lnTo>
                    <a:lnTo>
                      <a:pt x="144" y="691"/>
                    </a:lnTo>
                    <a:lnTo>
                      <a:pt x="110" y="651"/>
                    </a:lnTo>
                    <a:lnTo>
                      <a:pt x="81" y="608"/>
                    </a:lnTo>
                    <a:lnTo>
                      <a:pt x="56" y="562"/>
                    </a:lnTo>
                    <a:lnTo>
                      <a:pt x="34" y="513"/>
                    </a:lnTo>
                    <a:lnTo>
                      <a:pt x="18" y="462"/>
                    </a:lnTo>
                    <a:lnTo>
                      <a:pt x="6" y="410"/>
                    </a:lnTo>
                    <a:lnTo>
                      <a:pt x="1" y="355"/>
                    </a:lnTo>
                    <a:lnTo>
                      <a:pt x="0" y="300"/>
                    </a:lnTo>
                    <a:lnTo>
                      <a:pt x="3" y="260"/>
                    </a:lnTo>
                    <a:lnTo>
                      <a:pt x="9" y="220"/>
                    </a:lnTo>
                    <a:lnTo>
                      <a:pt x="19" y="182"/>
                    </a:lnTo>
                    <a:lnTo>
                      <a:pt x="30" y="145"/>
                    </a:lnTo>
                    <a:lnTo>
                      <a:pt x="43" y="109"/>
                    </a:lnTo>
                    <a:lnTo>
                      <a:pt x="60" y="74"/>
                    </a:lnTo>
                    <a:lnTo>
                      <a:pt x="78" y="40"/>
                    </a:lnTo>
                    <a:lnTo>
                      <a:pt x="99" y="8"/>
                    </a:lnTo>
                    <a:lnTo>
                      <a:pt x="108" y="0"/>
                    </a:lnTo>
                    <a:lnTo>
                      <a:pt x="99" y="17"/>
                    </a:lnTo>
                    <a:lnTo>
                      <a:pt x="91" y="34"/>
                    </a:lnTo>
                    <a:lnTo>
                      <a:pt x="85" y="55"/>
                    </a:lnTo>
                    <a:lnTo>
                      <a:pt x="80" y="75"/>
                    </a:lnTo>
                    <a:lnTo>
                      <a:pt x="76" y="97"/>
                    </a:lnTo>
                    <a:lnTo>
                      <a:pt x="74" y="117"/>
                    </a:lnTo>
                    <a:lnTo>
                      <a:pt x="72" y="139"/>
                    </a:lnTo>
                    <a:lnTo>
                      <a:pt x="71" y="158"/>
                    </a:lnTo>
                    <a:lnTo>
                      <a:pt x="71" y="186"/>
                    </a:lnTo>
                    <a:lnTo>
                      <a:pt x="74" y="213"/>
                    </a:lnTo>
                    <a:lnTo>
                      <a:pt x="80" y="238"/>
                    </a:lnTo>
                    <a:lnTo>
                      <a:pt x="87" y="263"/>
                    </a:lnTo>
                    <a:lnTo>
                      <a:pt x="98" y="288"/>
                    </a:lnTo>
                    <a:lnTo>
                      <a:pt x="110" y="310"/>
                    </a:lnTo>
                    <a:lnTo>
                      <a:pt x="125" y="331"/>
                    </a:lnTo>
                    <a:lnTo>
                      <a:pt x="142" y="351"/>
                    </a:lnTo>
                    <a:lnTo>
                      <a:pt x="160" y="369"/>
                    </a:lnTo>
                    <a:lnTo>
                      <a:pt x="180" y="385"/>
                    </a:lnTo>
                    <a:lnTo>
                      <a:pt x="201" y="399"/>
                    </a:lnTo>
                    <a:lnTo>
                      <a:pt x="224" y="412"/>
                    </a:lnTo>
                    <a:lnTo>
                      <a:pt x="248" y="422"/>
                    </a:lnTo>
                    <a:lnTo>
                      <a:pt x="274" y="429"/>
                    </a:lnTo>
                    <a:lnTo>
                      <a:pt x="300" y="435"/>
                    </a:lnTo>
                    <a:lnTo>
                      <a:pt x="327" y="437"/>
                    </a:lnTo>
                    <a:lnTo>
                      <a:pt x="344" y="437"/>
                    </a:lnTo>
                    <a:lnTo>
                      <a:pt x="360" y="436"/>
                    </a:lnTo>
                    <a:lnTo>
                      <a:pt x="376" y="434"/>
                    </a:lnTo>
                    <a:lnTo>
                      <a:pt x="392" y="432"/>
                    </a:lnTo>
                    <a:lnTo>
                      <a:pt x="407" y="428"/>
                    </a:lnTo>
                    <a:lnTo>
                      <a:pt x="423" y="424"/>
                    </a:lnTo>
                    <a:lnTo>
                      <a:pt x="437" y="418"/>
                    </a:lnTo>
                    <a:lnTo>
                      <a:pt x="452" y="412"/>
                    </a:lnTo>
                    <a:lnTo>
                      <a:pt x="466" y="405"/>
                    </a:lnTo>
                    <a:lnTo>
                      <a:pt x="479" y="397"/>
                    </a:lnTo>
                    <a:lnTo>
                      <a:pt x="492" y="388"/>
                    </a:lnTo>
                    <a:lnTo>
                      <a:pt x="504" y="379"/>
                    </a:lnTo>
                    <a:lnTo>
                      <a:pt x="516" y="369"/>
                    </a:lnTo>
                    <a:lnTo>
                      <a:pt x="528" y="358"/>
                    </a:lnTo>
                    <a:lnTo>
                      <a:pt x="538" y="347"/>
                    </a:lnTo>
                    <a:lnTo>
                      <a:pt x="548" y="335"/>
                    </a:lnTo>
                    <a:lnTo>
                      <a:pt x="571" y="310"/>
                    </a:lnTo>
                    <a:lnTo>
                      <a:pt x="581" y="300"/>
                    </a:lnTo>
                    <a:lnTo>
                      <a:pt x="591" y="291"/>
                    </a:lnTo>
                    <a:lnTo>
                      <a:pt x="601" y="281"/>
                    </a:lnTo>
                    <a:lnTo>
                      <a:pt x="614" y="273"/>
                    </a:lnTo>
                    <a:lnTo>
                      <a:pt x="625" y="265"/>
                    </a:lnTo>
                    <a:lnTo>
                      <a:pt x="637" y="258"/>
                    </a:lnTo>
                    <a:lnTo>
                      <a:pt x="650" y="251"/>
                    </a:lnTo>
                    <a:lnTo>
                      <a:pt x="663" y="245"/>
                    </a:lnTo>
                    <a:lnTo>
                      <a:pt x="676" y="239"/>
                    </a:lnTo>
                    <a:lnTo>
                      <a:pt x="691" y="235"/>
                    </a:lnTo>
                    <a:lnTo>
                      <a:pt x="704" y="231"/>
                    </a:lnTo>
                    <a:lnTo>
                      <a:pt x="718" y="228"/>
                    </a:lnTo>
                    <a:lnTo>
                      <a:pt x="733" y="226"/>
                    </a:lnTo>
                    <a:lnTo>
                      <a:pt x="748" y="225"/>
                    </a:lnTo>
                    <a:lnTo>
                      <a:pt x="762" y="224"/>
                    </a:lnTo>
                    <a:lnTo>
                      <a:pt x="778" y="224"/>
                    </a:lnTo>
                    <a:lnTo>
                      <a:pt x="806" y="226"/>
                    </a:lnTo>
                    <a:lnTo>
                      <a:pt x="831" y="232"/>
                    </a:lnTo>
                    <a:lnTo>
                      <a:pt x="857" y="239"/>
                    </a:lnTo>
                    <a:lnTo>
                      <a:pt x="881" y="250"/>
                    </a:lnTo>
                    <a:lnTo>
                      <a:pt x="904" y="262"/>
                    </a:lnTo>
                    <a:lnTo>
                      <a:pt x="926" y="276"/>
                    </a:lnTo>
                    <a:lnTo>
                      <a:pt x="945" y="293"/>
                    </a:lnTo>
                    <a:lnTo>
                      <a:pt x="964" y="310"/>
                    </a:lnTo>
                    <a:lnTo>
                      <a:pt x="980" y="331"/>
                    </a:lnTo>
                    <a:lnTo>
                      <a:pt x="995" y="351"/>
                    </a:lnTo>
                    <a:lnTo>
                      <a:pt x="1008" y="374"/>
                    </a:lnTo>
                    <a:lnTo>
                      <a:pt x="1018" y="398"/>
                    </a:lnTo>
                    <a:lnTo>
                      <a:pt x="1025" y="423"/>
                    </a:lnTo>
                    <a:lnTo>
                      <a:pt x="1031" y="449"/>
                    </a:lnTo>
                    <a:lnTo>
                      <a:pt x="1034" y="475"/>
                    </a:lnTo>
                    <a:lnTo>
                      <a:pt x="1034" y="503"/>
                    </a:lnTo>
                    <a:lnTo>
                      <a:pt x="1032" y="528"/>
                    </a:lnTo>
                    <a:lnTo>
                      <a:pt x="1028" y="551"/>
                    </a:lnTo>
                    <a:lnTo>
                      <a:pt x="1022" y="575"/>
                    </a:lnTo>
                    <a:lnTo>
                      <a:pt x="1014" y="597"/>
                    </a:lnTo>
                    <a:lnTo>
                      <a:pt x="1010" y="605"/>
                    </a:lnTo>
                    <a:close/>
                  </a:path>
                </a:pathLst>
              </a:custGeom>
              <a:solidFill>
                <a:srgbClr val="001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230120" y="1508040"/>
              <a:ext cx="1459080" cy="1201680"/>
              <a:chOff x="1230120" y="1508040"/>
              <a:chExt cx="1459080" cy="1201680"/>
            </a:xfrm>
          </p:grpSpPr>
          <p:sp>
            <p:nvSpPr>
              <p:cNvPr id="146" name=""/>
              <p:cNvSpPr/>
              <p:nvPr/>
            </p:nvSpPr>
            <p:spPr>
              <a:xfrm>
                <a:off x="1247400" y="1508040"/>
                <a:ext cx="120960" cy="120600"/>
              </a:xfrm>
              <a:custGeom>
                <a:avLst/>
                <a:gdLst/>
                <a:ahLst/>
                <a:rect l="l" t="t" r="r" b="b"/>
                <a:pathLst>
                  <a:path w="305" h="305">
                    <a:moveTo>
                      <a:pt x="0" y="152"/>
                    </a:moveTo>
                    <a:lnTo>
                      <a:pt x="2" y="120"/>
                    </a:lnTo>
                    <a:lnTo>
                      <a:pt x="10" y="92"/>
                    </a:lnTo>
                    <a:lnTo>
                      <a:pt x="25" y="66"/>
                    </a:lnTo>
                    <a:lnTo>
                      <a:pt x="43" y="44"/>
                    </a:lnTo>
                    <a:lnTo>
                      <a:pt x="65" y="26"/>
                    </a:lnTo>
                    <a:lnTo>
                      <a:pt x="92" y="11"/>
                    </a:lnTo>
                    <a:lnTo>
                      <a:pt x="121" y="2"/>
                    </a:lnTo>
                    <a:lnTo>
                      <a:pt x="153" y="0"/>
                    </a:lnTo>
                    <a:lnTo>
                      <a:pt x="182" y="2"/>
                    </a:lnTo>
                    <a:lnTo>
                      <a:pt x="211" y="11"/>
                    </a:lnTo>
                    <a:lnTo>
                      <a:pt x="237" y="24"/>
                    </a:lnTo>
                    <a:lnTo>
                      <a:pt x="260" y="44"/>
                    </a:lnTo>
                    <a:lnTo>
                      <a:pt x="277" y="66"/>
                    </a:lnTo>
                    <a:lnTo>
                      <a:pt x="291" y="92"/>
                    </a:lnTo>
                    <a:lnTo>
                      <a:pt x="301" y="120"/>
                    </a:lnTo>
                    <a:lnTo>
                      <a:pt x="305" y="152"/>
                    </a:lnTo>
                    <a:lnTo>
                      <a:pt x="301" y="181"/>
                    </a:lnTo>
                    <a:lnTo>
                      <a:pt x="293" y="212"/>
                    </a:lnTo>
                    <a:lnTo>
                      <a:pt x="278" y="237"/>
                    </a:lnTo>
                    <a:lnTo>
                      <a:pt x="260" y="260"/>
                    </a:lnTo>
                    <a:lnTo>
                      <a:pt x="237" y="277"/>
                    </a:lnTo>
                    <a:lnTo>
                      <a:pt x="212" y="292"/>
                    </a:lnTo>
                    <a:lnTo>
                      <a:pt x="183" y="300"/>
                    </a:lnTo>
                    <a:lnTo>
                      <a:pt x="154" y="305"/>
                    </a:lnTo>
                    <a:lnTo>
                      <a:pt x="122" y="302"/>
                    </a:lnTo>
                    <a:lnTo>
                      <a:pt x="93" y="293"/>
                    </a:lnTo>
                    <a:lnTo>
                      <a:pt x="66" y="278"/>
                    </a:lnTo>
                    <a:lnTo>
                      <a:pt x="45" y="260"/>
                    </a:lnTo>
                    <a:lnTo>
                      <a:pt x="25" y="237"/>
                    </a:lnTo>
                    <a:lnTo>
                      <a:pt x="10" y="212"/>
                    </a:lnTo>
                    <a:lnTo>
                      <a:pt x="2" y="181"/>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61800" y="1522440"/>
                <a:ext cx="84240" cy="85680"/>
              </a:xfrm>
              <a:custGeom>
                <a:avLst/>
                <a:gdLst/>
                <a:ahLst/>
                <a:rect l="l" t="t" r="r" b="b"/>
                <a:pathLst>
                  <a:path w="214" h="216">
                    <a:moveTo>
                      <a:pt x="123" y="216"/>
                    </a:moveTo>
                    <a:lnTo>
                      <a:pt x="145" y="209"/>
                    </a:lnTo>
                    <a:lnTo>
                      <a:pt x="164" y="201"/>
                    </a:lnTo>
                    <a:lnTo>
                      <a:pt x="181" y="188"/>
                    </a:lnTo>
                    <a:lnTo>
                      <a:pt x="196" y="172"/>
                    </a:lnTo>
                    <a:lnTo>
                      <a:pt x="205" y="152"/>
                    </a:lnTo>
                    <a:lnTo>
                      <a:pt x="212" y="133"/>
                    </a:lnTo>
                    <a:lnTo>
                      <a:pt x="214" y="111"/>
                    </a:lnTo>
                    <a:lnTo>
                      <a:pt x="213" y="90"/>
                    </a:lnTo>
                    <a:lnTo>
                      <a:pt x="209" y="79"/>
                    </a:lnTo>
                    <a:lnTo>
                      <a:pt x="207" y="68"/>
                    </a:lnTo>
                    <a:lnTo>
                      <a:pt x="202" y="59"/>
                    </a:lnTo>
                    <a:lnTo>
                      <a:pt x="198" y="50"/>
                    </a:lnTo>
                    <a:lnTo>
                      <a:pt x="192" y="38"/>
                    </a:lnTo>
                    <a:lnTo>
                      <a:pt x="187" y="31"/>
                    </a:lnTo>
                    <a:lnTo>
                      <a:pt x="180" y="22"/>
                    </a:lnTo>
                    <a:lnTo>
                      <a:pt x="174" y="16"/>
                    </a:lnTo>
                    <a:lnTo>
                      <a:pt x="167" y="12"/>
                    </a:lnTo>
                    <a:lnTo>
                      <a:pt x="159" y="9"/>
                    </a:lnTo>
                    <a:lnTo>
                      <a:pt x="152" y="5"/>
                    </a:lnTo>
                    <a:lnTo>
                      <a:pt x="146" y="4"/>
                    </a:lnTo>
                    <a:lnTo>
                      <a:pt x="139" y="1"/>
                    </a:lnTo>
                    <a:lnTo>
                      <a:pt x="131" y="0"/>
                    </a:lnTo>
                    <a:lnTo>
                      <a:pt x="124" y="0"/>
                    </a:lnTo>
                    <a:lnTo>
                      <a:pt x="117" y="1"/>
                    </a:lnTo>
                    <a:lnTo>
                      <a:pt x="91" y="3"/>
                    </a:lnTo>
                    <a:lnTo>
                      <a:pt x="71" y="10"/>
                    </a:lnTo>
                    <a:lnTo>
                      <a:pt x="49" y="20"/>
                    </a:lnTo>
                    <a:lnTo>
                      <a:pt x="33" y="34"/>
                    </a:lnTo>
                    <a:lnTo>
                      <a:pt x="18" y="51"/>
                    </a:lnTo>
                    <a:lnTo>
                      <a:pt x="9" y="72"/>
                    </a:lnTo>
                    <a:lnTo>
                      <a:pt x="1" y="93"/>
                    </a:lnTo>
                    <a:lnTo>
                      <a:pt x="0" y="117"/>
                    </a:lnTo>
                    <a:lnTo>
                      <a:pt x="0" y="123"/>
                    </a:lnTo>
                    <a:lnTo>
                      <a:pt x="0" y="130"/>
                    </a:lnTo>
                    <a:lnTo>
                      <a:pt x="1" y="136"/>
                    </a:lnTo>
                    <a:lnTo>
                      <a:pt x="2" y="144"/>
                    </a:lnTo>
                    <a:lnTo>
                      <a:pt x="6" y="156"/>
                    </a:lnTo>
                    <a:lnTo>
                      <a:pt x="12" y="168"/>
                    </a:lnTo>
                    <a:lnTo>
                      <a:pt x="18" y="175"/>
                    </a:lnTo>
                    <a:lnTo>
                      <a:pt x="29" y="183"/>
                    </a:lnTo>
                    <a:lnTo>
                      <a:pt x="39" y="191"/>
                    </a:lnTo>
                    <a:lnTo>
                      <a:pt x="54" y="200"/>
                    </a:lnTo>
                    <a:lnTo>
                      <a:pt x="68" y="206"/>
                    </a:lnTo>
                    <a:lnTo>
                      <a:pt x="86" y="212"/>
                    </a:lnTo>
                    <a:lnTo>
                      <a:pt x="103" y="214"/>
                    </a:lnTo>
                    <a:lnTo>
                      <a:pt x="123" y="216"/>
                    </a:lnTo>
                    <a:lnTo>
                      <a:pt x="123" y="216"/>
                    </a:lnTo>
                    <a:close/>
                    <a:moveTo>
                      <a:pt x="41" y="163"/>
                    </a:moveTo>
                    <a:lnTo>
                      <a:pt x="39" y="160"/>
                    </a:lnTo>
                    <a:lnTo>
                      <a:pt x="35" y="151"/>
                    </a:lnTo>
                    <a:lnTo>
                      <a:pt x="29" y="138"/>
                    </a:lnTo>
                    <a:lnTo>
                      <a:pt x="26" y="123"/>
                    </a:lnTo>
                    <a:lnTo>
                      <a:pt x="23" y="105"/>
                    </a:lnTo>
                    <a:lnTo>
                      <a:pt x="27" y="88"/>
                    </a:lnTo>
                    <a:lnTo>
                      <a:pt x="34" y="70"/>
                    </a:lnTo>
                    <a:lnTo>
                      <a:pt x="50" y="54"/>
                    </a:lnTo>
                    <a:lnTo>
                      <a:pt x="68" y="37"/>
                    </a:lnTo>
                    <a:lnTo>
                      <a:pt x="89" y="29"/>
                    </a:lnTo>
                    <a:lnTo>
                      <a:pt x="105" y="26"/>
                    </a:lnTo>
                    <a:lnTo>
                      <a:pt x="120" y="27"/>
                    </a:lnTo>
                    <a:lnTo>
                      <a:pt x="133" y="29"/>
                    </a:lnTo>
                    <a:lnTo>
                      <a:pt x="145" y="33"/>
                    </a:lnTo>
                    <a:lnTo>
                      <a:pt x="152" y="38"/>
                    </a:lnTo>
                    <a:lnTo>
                      <a:pt x="158" y="43"/>
                    </a:lnTo>
                    <a:lnTo>
                      <a:pt x="154" y="42"/>
                    </a:lnTo>
                    <a:lnTo>
                      <a:pt x="148" y="42"/>
                    </a:lnTo>
                    <a:lnTo>
                      <a:pt x="137" y="40"/>
                    </a:lnTo>
                    <a:lnTo>
                      <a:pt x="124" y="42"/>
                    </a:lnTo>
                    <a:lnTo>
                      <a:pt x="108" y="43"/>
                    </a:lnTo>
                    <a:lnTo>
                      <a:pt x="94" y="49"/>
                    </a:lnTo>
                    <a:lnTo>
                      <a:pt x="79" y="56"/>
                    </a:lnTo>
                    <a:lnTo>
                      <a:pt x="64" y="67"/>
                    </a:lnTo>
                    <a:lnTo>
                      <a:pt x="51" y="81"/>
                    </a:lnTo>
                    <a:lnTo>
                      <a:pt x="43" y="96"/>
                    </a:lnTo>
                    <a:lnTo>
                      <a:pt x="38" y="112"/>
                    </a:lnTo>
                    <a:lnTo>
                      <a:pt x="38" y="128"/>
                    </a:lnTo>
                    <a:lnTo>
                      <a:pt x="36" y="141"/>
                    </a:lnTo>
                    <a:lnTo>
                      <a:pt x="39" y="152"/>
                    </a:lnTo>
                    <a:lnTo>
                      <a:pt x="40" y="160"/>
                    </a:lnTo>
                    <a:lnTo>
                      <a:pt x="41" y="163"/>
                    </a:lnTo>
                    <a:lnTo>
                      <a:pt x="41" y="163"/>
                    </a:lnTo>
                    <a:close/>
                  </a:path>
                </a:pathLst>
              </a:custGeom>
              <a:solidFill>
                <a:srgbClr val="f9dd59"/>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8" name=""/>
              <p:cNvSpPr/>
              <p:nvPr/>
            </p:nvSpPr>
            <p:spPr>
              <a:xfrm>
                <a:off x="1271520" y="1531800"/>
                <a:ext cx="52200" cy="55440"/>
              </a:xfrm>
              <a:custGeom>
                <a:avLst/>
                <a:gdLst/>
                <a:ahLst/>
                <a:rect l="l" t="t" r="r" b="b"/>
                <a:pathLst>
                  <a:path w="135" h="137">
                    <a:moveTo>
                      <a:pt x="135" y="17"/>
                    </a:moveTo>
                    <a:lnTo>
                      <a:pt x="129" y="12"/>
                    </a:lnTo>
                    <a:lnTo>
                      <a:pt x="122" y="7"/>
                    </a:lnTo>
                    <a:lnTo>
                      <a:pt x="110" y="3"/>
                    </a:lnTo>
                    <a:lnTo>
                      <a:pt x="97" y="1"/>
                    </a:lnTo>
                    <a:lnTo>
                      <a:pt x="82" y="0"/>
                    </a:lnTo>
                    <a:lnTo>
                      <a:pt x="66" y="3"/>
                    </a:lnTo>
                    <a:lnTo>
                      <a:pt x="45" y="11"/>
                    </a:lnTo>
                    <a:lnTo>
                      <a:pt x="27" y="28"/>
                    </a:lnTo>
                    <a:lnTo>
                      <a:pt x="11" y="44"/>
                    </a:lnTo>
                    <a:lnTo>
                      <a:pt x="4" y="62"/>
                    </a:lnTo>
                    <a:lnTo>
                      <a:pt x="0" y="79"/>
                    </a:lnTo>
                    <a:lnTo>
                      <a:pt x="3" y="97"/>
                    </a:lnTo>
                    <a:lnTo>
                      <a:pt x="6" y="112"/>
                    </a:lnTo>
                    <a:lnTo>
                      <a:pt x="12" y="125"/>
                    </a:lnTo>
                    <a:lnTo>
                      <a:pt x="16" y="134"/>
                    </a:lnTo>
                    <a:lnTo>
                      <a:pt x="18" y="137"/>
                    </a:lnTo>
                    <a:lnTo>
                      <a:pt x="17" y="134"/>
                    </a:lnTo>
                    <a:lnTo>
                      <a:pt x="16" y="126"/>
                    </a:lnTo>
                    <a:lnTo>
                      <a:pt x="13" y="115"/>
                    </a:lnTo>
                    <a:lnTo>
                      <a:pt x="15" y="102"/>
                    </a:lnTo>
                    <a:lnTo>
                      <a:pt x="15" y="86"/>
                    </a:lnTo>
                    <a:lnTo>
                      <a:pt x="20" y="70"/>
                    </a:lnTo>
                    <a:lnTo>
                      <a:pt x="28" y="55"/>
                    </a:lnTo>
                    <a:lnTo>
                      <a:pt x="41" y="41"/>
                    </a:lnTo>
                    <a:lnTo>
                      <a:pt x="56" y="30"/>
                    </a:lnTo>
                    <a:lnTo>
                      <a:pt x="71" y="23"/>
                    </a:lnTo>
                    <a:lnTo>
                      <a:pt x="85" y="17"/>
                    </a:lnTo>
                    <a:lnTo>
                      <a:pt x="101" y="16"/>
                    </a:lnTo>
                    <a:lnTo>
                      <a:pt x="114" y="14"/>
                    </a:lnTo>
                    <a:lnTo>
                      <a:pt x="125" y="16"/>
                    </a:lnTo>
                    <a:lnTo>
                      <a:pt x="131" y="16"/>
                    </a:lnTo>
                    <a:lnTo>
                      <a:pt x="135" y="17"/>
                    </a:lnTo>
                    <a:lnTo>
                      <a:pt x="135"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
              <p:cNvSpPr/>
              <p:nvPr/>
            </p:nvSpPr>
            <p:spPr>
              <a:xfrm>
                <a:off x="1266480" y="1528560"/>
                <a:ext cx="87480" cy="85680"/>
              </a:xfrm>
              <a:custGeom>
                <a:avLst/>
                <a:gdLst/>
                <a:ahLst/>
                <a:rect l="l" t="t" r="r" b="b"/>
                <a:pathLst>
                  <a:path w="220" h="218">
                    <a:moveTo>
                      <a:pt x="162" y="0"/>
                    </a:moveTo>
                    <a:lnTo>
                      <a:pt x="168" y="6"/>
                    </a:lnTo>
                    <a:lnTo>
                      <a:pt x="175" y="15"/>
                    </a:lnTo>
                    <a:lnTo>
                      <a:pt x="180" y="22"/>
                    </a:lnTo>
                    <a:lnTo>
                      <a:pt x="186" y="34"/>
                    </a:lnTo>
                    <a:lnTo>
                      <a:pt x="190" y="43"/>
                    </a:lnTo>
                    <a:lnTo>
                      <a:pt x="195" y="52"/>
                    </a:lnTo>
                    <a:lnTo>
                      <a:pt x="197" y="63"/>
                    </a:lnTo>
                    <a:lnTo>
                      <a:pt x="201" y="74"/>
                    </a:lnTo>
                    <a:lnTo>
                      <a:pt x="202" y="95"/>
                    </a:lnTo>
                    <a:lnTo>
                      <a:pt x="200" y="117"/>
                    </a:lnTo>
                    <a:lnTo>
                      <a:pt x="193" y="136"/>
                    </a:lnTo>
                    <a:lnTo>
                      <a:pt x="184" y="156"/>
                    </a:lnTo>
                    <a:lnTo>
                      <a:pt x="169" y="172"/>
                    </a:lnTo>
                    <a:lnTo>
                      <a:pt x="152" y="185"/>
                    </a:lnTo>
                    <a:lnTo>
                      <a:pt x="133" y="193"/>
                    </a:lnTo>
                    <a:lnTo>
                      <a:pt x="111" y="200"/>
                    </a:lnTo>
                    <a:lnTo>
                      <a:pt x="91" y="198"/>
                    </a:lnTo>
                    <a:lnTo>
                      <a:pt x="74" y="196"/>
                    </a:lnTo>
                    <a:lnTo>
                      <a:pt x="56" y="190"/>
                    </a:lnTo>
                    <a:lnTo>
                      <a:pt x="42" y="184"/>
                    </a:lnTo>
                    <a:lnTo>
                      <a:pt x="27" y="175"/>
                    </a:lnTo>
                    <a:lnTo>
                      <a:pt x="17" y="167"/>
                    </a:lnTo>
                    <a:lnTo>
                      <a:pt x="6" y="159"/>
                    </a:lnTo>
                    <a:lnTo>
                      <a:pt x="0" y="152"/>
                    </a:lnTo>
                    <a:lnTo>
                      <a:pt x="7" y="167"/>
                    </a:lnTo>
                    <a:lnTo>
                      <a:pt x="17" y="179"/>
                    </a:lnTo>
                    <a:lnTo>
                      <a:pt x="28" y="190"/>
                    </a:lnTo>
                    <a:lnTo>
                      <a:pt x="42" y="200"/>
                    </a:lnTo>
                    <a:lnTo>
                      <a:pt x="55" y="206"/>
                    </a:lnTo>
                    <a:lnTo>
                      <a:pt x="72" y="212"/>
                    </a:lnTo>
                    <a:lnTo>
                      <a:pt x="86" y="215"/>
                    </a:lnTo>
                    <a:lnTo>
                      <a:pt x="105" y="218"/>
                    </a:lnTo>
                    <a:lnTo>
                      <a:pt x="127" y="214"/>
                    </a:lnTo>
                    <a:lnTo>
                      <a:pt x="148" y="208"/>
                    </a:lnTo>
                    <a:lnTo>
                      <a:pt x="168" y="197"/>
                    </a:lnTo>
                    <a:lnTo>
                      <a:pt x="186" y="184"/>
                    </a:lnTo>
                    <a:lnTo>
                      <a:pt x="200" y="165"/>
                    </a:lnTo>
                    <a:lnTo>
                      <a:pt x="210" y="145"/>
                    </a:lnTo>
                    <a:lnTo>
                      <a:pt x="217" y="123"/>
                    </a:lnTo>
                    <a:lnTo>
                      <a:pt x="220" y="101"/>
                    </a:lnTo>
                    <a:lnTo>
                      <a:pt x="218" y="84"/>
                    </a:lnTo>
                    <a:lnTo>
                      <a:pt x="215" y="69"/>
                    </a:lnTo>
                    <a:lnTo>
                      <a:pt x="209" y="55"/>
                    </a:lnTo>
                    <a:lnTo>
                      <a:pt x="203" y="43"/>
                    </a:lnTo>
                    <a:lnTo>
                      <a:pt x="195" y="28"/>
                    </a:lnTo>
                    <a:lnTo>
                      <a:pt x="185" y="17"/>
                    </a:lnTo>
                    <a:lnTo>
                      <a:pt x="173" y="7"/>
                    </a:lnTo>
                    <a:lnTo>
                      <a:pt x="162" y="0"/>
                    </a:lnTo>
                    <a:lnTo>
                      <a:pt x="162" y="0"/>
                    </a:lnTo>
                    <a:close/>
                  </a:path>
                </a:pathLst>
              </a:custGeom>
              <a:solidFill>
                <a:srgbClr val="f9a34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249200" y="1617480"/>
                <a:ext cx="117360" cy="1092240"/>
              </a:xfrm>
              <a:custGeom>
                <a:avLst/>
                <a:gdLst/>
                <a:ahLst/>
                <a:rect l="l" t="t" r="r" b="b"/>
                <a:pathLst>
                  <a:path w="297" h="2753">
                    <a:moveTo>
                      <a:pt x="280" y="46"/>
                    </a:moveTo>
                    <a:lnTo>
                      <a:pt x="276" y="42"/>
                    </a:lnTo>
                    <a:lnTo>
                      <a:pt x="269" y="38"/>
                    </a:lnTo>
                    <a:lnTo>
                      <a:pt x="257" y="29"/>
                    </a:lnTo>
                    <a:lnTo>
                      <a:pt x="242" y="22"/>
                    </a:lnTo>
                    <a:lnTo>
                      <a:pt x="223" y="13"/>
                    </a:lnTo>
                    <a:lnTo>
                      <a:pt x="201" y="6"/>
                    </a:lnTo>
                    <a:lnTo>
                      <a:pt x="175" y="1"/>
                    </a:lnTo>
                    <a:lnTo>
                      <a:pt x="150" y="0"/>
                    </a:lnTo>
                    <a:lnTo>
                      <a:pt x="122" y="0"/>
                    </a:lnTo>
                    <a:lnTo>
                      <a:pt x="96" y="5"/>
                    </a:lnTo>
                    <a:lnTo>
                      <a:pt x="73" y="10"/>
                    </a:lnTo>
                    <a:lnTo>
                      <a:pt x="55" y="17"/>
                    </a:lnTo>
                    <a:lnTo>
                      <a:pt x="39" y="23"/>
                    </a:lnTo>
                    <a:lnTo>
                      <a:pt x="27" y="30"/>
                    </a:lnTo>
                    <a:lnTo>
                      <a:pt x="20" y="34"/>
                    </a:lnTo>
                    <a:lnTo>
                      <a:pt x="17" y="38"/>
                    </a:lnTo>
                    <a:lnTo>
                      <a:pt x="0" y="47"/>
                    </a:lnTo>
                    <a:lnTo>
                      <a:pt x="0" y="68"/>
                    </a:lnTo>
                    <a:lnTo>
                      <a:pt x="6" y="2665"/>
                    </a:lnTo>
                    <a:lnTo>
                      <a:pt x="6" y="2669"/>
                    </a:lnTo>
                    <a:lnTo>
                      <a:pt x="7" y="2673"/>
                    </a:lnTo>
                    <a:lnTo>
                      <a:pt x="7" y="2675"/>
                    </a:lnTo>
                    <a:lnTo>
                      <a:pt x="11" y="2685"/>
                    </a:lnTo>
                    <a:lnTo>
                      <a:pt x="18" y="2698"/>
                    </a:lnTo>
                    <a:lnTo>
                      <a:pt x="31" y="2714"/>
                    </a:lnTo>
                    <a:lnTo>
                      <a:pt x="48" y="2727"/>
                    </a:lnTo>
                    <a:lnTo>
                      <a:pt x="72" y="2741"/>
                    </a:lnTo>
                    <a:lnTo>
                      <a:pt x="104" y="2749"/>
                    </a:lnTo>
                    <a:lnTo>
                      <a:pt x="144" y="2753"/>
                    </a:lnTo>
                    <a:lnTo>
                      <a:pt x="180" y="2749"/>
                    </a:lnTo>
                    <a:lnTo>
                      <a:pt x="210" y="2743"/>
                    </a:lnTo>
                    <a:lnTo>
                      <a:pt x="236" y="2734"/>
                    </a:lnTo>
                    <a:lnTo>
                      <a:pt x="257" y="2724"/>
                    </a:lnTo>
                    <a:lnTo>
                      <a:pt x="270" y="2712"/>
                    </a:lnTo>
                    <a:lnTo>
                      <a:pt x="281" y="2701"/>
                    </a:lnTo>
                    <a:lnTo>
                      <a:pt x="288" y="2693"/>
                    </a:lnTo>
                    <a:lnTo>
                      <a:pt x="292" y="2690"/>
                    </a:lnTo>
                    <a:lnTo>
                      <a:pt x="297" y="2681"/>
                    </a:lnTo>
                    <a:lnTo>
                      <a:pt x="297" y="2670"/>
                    </a:lnTo>
                    <a:lnTo>
                      <a:pt x="292" y="74"/>
                    </a:lnTo>
                    <a:lnTo>
                      <a:pt x="292" y="57"/>
                    </a:lnTo>
                    <a:lnTo>
                      <a:pt x="280" y="46"/>
                    </a:lnTo>
                    <a:lnTo>
                      <a:pt x="28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72960" y="1631880"/>
                <a:ext cx="52560" cy="1063440"/>
              </a:xfrm>
              <a:custGeom>
                <a:avLst/>
                <a:gdLst/>
                <a:ahLst/>
                <a:rect l="l" t="t" r="r" b="b"/>
                <a:pathLst>
                  <a:path w="132" h="2682">
                    <a:moveTo>
                      <a:pt x="132" y="2675"/>
                    </a:moveTo>
                    <a:lnTo>
                      <a:pt x="126" y="5"/>
                    </a:lnTo>
                    <a:lnTo>
                      <a:pt x="117" y="3"/>
                    </a:lnTo>
                    <a:lnTo>
                      <a:pt x="108" y="1"/>
                    </a:lnTo>
                    <a:lnTo>
                      <a:pt x="98" y="0"/>
                    </a:lnTo>
                    <a:lnTo>
                      <a:pt x="89" y="0"/>
                    </a:lnTo>
                    <a:lnTo>
                      <a:pt x="74" y="0"/>
                    </a:lnTo>
                    <a:lnTo>
                      <a:pt x="62" y="1"/>
                    </a:lnTo>
                    <a:lnTo>
                      <a:pt x="50" y="3"/>
                    </a:lnTo>
                    <a:lnTo>
                      <a:pt x="38" y="6"/>
                    </a:lnTo>
                    <a:lnTo>
                      <a:pt x="27" y="9"/>
                    </a:lnTo>
                    <a:lnTo>
                      <a:pt x="17" y="12"/>
                    </a:lnTo>
                    <a:lnTo>
                      <a:pt x="7" y="16"/>
                    </a:lnTo>
                    <a:lnTo>
                      <a:pt x="0" y="20"/>
                    </a:lnTo>
                    <a:lnTo>
                      <a:pt x="5" y="2661"/>
                    </a:lnTo>
                    <a:lnTo>
                      <a:pt x="10" y="2663"/>
                    </a:lnTo>
                    <a:lnTo>
                      <a:pt x="17" y="2667"/>
                    </a:lnTo>
                    <a:lnTo>
                      <a:pt x="24" y="2672"/>
                    </a:lnTo>
                    <a:lnTo>
                      <a:pt x="34" y="2675"/>
                    </a:lnTo>
                    <a:lnTo>
                      <a:pt x="45" y="2677"/>
                    </a:lnTo>
                    <a:lnTo>
                      <a:pt x="56" y="2679"/>
                    </a:lnTo>
                    <a:lnTo>
                      <a:pt x="68" y="2680"/>
                    </a:lnTo>
                    <a:lnTo>
                      <a:pt x="83" y="2682"/>
                    </a:lnTo>
                    <a:lnTo>
                      <a:pt x="89" y="2680"/>
                    </a:lnTo>
                    <a:lnTo>
                      <a:pt x="96" y="2680"/>
                    </a:lnTo>
                    <a:lnTo>
                      <a:pt x="102" y="2679"/>
                    </a:lnTo>
                    <a:lnTo>
                      <a:pt x="109" y="2679"/>
                    </a:lnTo>
                    <a:lnTo>
                      <a:pt x="120" y="2677"/>
                    </a:lnTo>
                    <a:lnTo>
                      <a:pt x="132" y="2675"/>
                    </a:lnTo>
                    <a:lnTo>
                      <a:pt x="132" y="2675"/>
                    </a:lnTo>
                    <a:close/>
                    <a:moveTo>
                      <a:pt x="57" y="2637"/>
                    </a:moveTo>
                    <a:lnTo>
                      <a:pt x="24" y="2637"/>
                    </a:lnTo>
                    <a:lnTo>
                      <a:pt x="19" y="27"/>
                    </a:lnTo>
                    <a:lnTo>
                      <a:pt x="51" y="27"/>
                    </a:lnTo>
                    <a:lnTo>
                      <a:pt x="57" y="2637"/>
                    </a:lnTo>
                    <a:lnTo>
                      <a:pt x="57" y="2637"/>
                    </a:lnTo>
                    <a:close/>
                  </a:path>
                </a:pathLst>
              </a:custGeom>
              <a:solidFill>
                <a:srgbClr val="f9dd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80880" y="1641240"/>
                <a:ext cx="14400" cy="1036800"/>
              </a:xfrm>
              <a:custGeom>
                <a:avLst/>
                <a:gdLst/>
                <a:ahLst/>
                <a:rect l="l" t="t" r="r" b="b"/>
                <a:pathLst>
                  <a:path w="38" h="2610">
                    <a:moveTo>
                      <a:pt x="5" y="2610"/>
                    </a:moveTo>
                    <a:lnTo>
                      <a:pt x="38" y="2610"/>
                    </a:lnTo>
                    <a:lnTo>
                      <a:pt x="32" y="0"/>
                    </a:lnTo>
                    <a:lnTo>
                      <a:pt x="0" y="0"/>
                    </a:lnTo>
                    <a:lnTo>
                      <a:pt x="5" y="2610"/>
                    </a:lnTo>
                    <a:lnTo>
                      <a:pt x="5" y="26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22280" y="1633320"/>
                <a:ext cx="30240" cy="1059120"/>
              </a:xfrm>
              <a:custGeom>
                <a:avLst/>
                <a:gdLst/>
                <a:ahLst/>
                <a:rect l="l" t="t" r="r" b="b"/>
                <a:pathLst>
                  <a:path w="75" h="2670">
                    <a:moveTo>
                      <a:pt x="75" y="2632"/>
                    </a:moveTo>
                    <a:lnTo>
                      <a:pt x="68" y="34"/>
                    </a:lnTo>
                    <a:lnTo>
                      <a:pt x="66" y="32"/>
                    </a:lnTo>
                    <a:lnTo>
                      <a:pt x="62" y="29"/>
                    </a:lnTo>
                    <a:lnTo>
                      <a:pt x="56" y="24"/>
                    </a:lnTo>
                    <a:lnTo>
                      <a:pt x="50" y="21"/>
                    </a:lnTo>
                    <a:lnTo>
                      <a:pt x="39" y="13"/>
                    </a:lnTo>
                    <a:lnTo>
                      <a:pt x="28" y="8"/>
                    </a:lnTo>
                    <a:lnTo>
                      <a:pt x="14" y="4"/>
                    </a:lnTo>
                    <a:lnTo>
                      <a:pt x="0" y="0"/>
                    </a:lnTo>
                    <a:lnTo>
                      <a:pt x="6" y="2670"/>
                    </a:lnTo>
                    <a:lnTo>
                      <a:pt x="23" y="2664"/>
                    </a:lnTo>
                    <a:lnTo>
                      <a:pt x="38" y="2657"/>
                    </a:lnTo>
                    <a:lnTo>
                      <a:pt x="49" y="2651"/>
                    </a:lnTo>
                    <a:lnTo>
                      <a:pt x="59" y="2646"/>
                    </a:lnTo>
                    <a:lnTo>
                      <a:pt x="65" y="2639"/>
                    </a:lnTo>
                    <a:lnTo>
                      <a:pt x="70" y="2635"/>
                    </a:lnTo>
                    <a:lnTo>
                      <a:pt x="73" y="2632"/>
                    </a:lnTo>
                    <a:lnTo>
                      <a:pt x="75" y="2632"/>
                    </a:lnTo>
                    <a:lnTo>
                      <a:pt x="75" y="2632"/>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1638360"/>
                <a:ext cx="10800" cy="1049040"/>
              </a:xfrm>
              <a:custGeom>
                <a:avLst/>
                <a:gdLst/>
                <a:ahLst/>
                <a:rect l="l" t="t" r="r" b="b"/>
                <a:pathLst>
                  <a:path w="29" h="2641">
                    <a:moveTo>
                      <a:pt x="0" y="13"/>
                    </a:moveTo>
                    <a:lnTo>
                      <a:pt x="6" y="2610"/>
                    </a:lnTo>
                    <a:lnTo>
                      <a:pt x="6" y="2613"/>
                    </a:lnTo>
                    <a:lnTo>
                      <a:pt x="9" y="2620"/>
                    </a:lnTo>
                    <a:lnTo>
                      <a:pt x="12" y="2624"/>
                    </a:lnTo>
                    <a:lnTo>
                      <a:pt x="17" y="2630"/>
                    </a:lnTo>
                    <a:lnTo>
                      <a:pt x="22" y="2635"/>
                    </a:lnTo>
                    <a:lnTo>
                      <a:pt x="29" y="2641"/>
                    </a:lnTo>
                    <a:lnTo>
                      <a:pt x="24" y="0"/>
                    </a:lnTo>
                    <a:lnTo>
                      <a:pt x="13" y="3"/>
                    </a:lnTo>
                    <a:lnTo>
                      <a:pt x="6" y="8"/>
                    </a:lnTo>
                    <a:lnTo>
                      <a:pt x="1" y="10"/>
                    </a:lnTo>
                    <a:lnTo>
                      <a:pt x="0" y="13"/>
                    </a:lnTo>
                    <a:lnTo>
                      <a:pt x="0" y="13"/>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30120" y="2592360"/>
                <a:ext cx="30240" cy="112680"/>
              </a:xfrm>
              <a:custGeom>
                <a:avLst/>
                <a:gdLst/>
                <a:ahLst/>
                <a:rect l="l" t="t" r="r" b="b"/>
                <a:pathLst>
                  <a:path w="75" h="286">
                    <a:moveTo>
                      <a:pt x="30" y="0"/>
                    </a:moveTo>
                    <a:lnTo>
                      <a:pt x="30" y="228"/>
                    </a:lnTo>
                    <a:lnTo>
                      <a:pt x="30" y="229"/>
                    </a:lnTo>
                    <a:lnTo>
                      <a:pt x="33" y="235"/>
                    </a:lnTo>
                    <a:lnTo>
                      <a:pt x="36" y="242"/>
                    </a:lnTo>
                    <a:lnTo>
                      <a:pt x="43" y="254"/>
                    </a:lnTo>
                    <a:lnTo>
                      <a:pt x="49" y="264"/>
                    </a:lnTo>
                    <a:lnTo>
                      <a:pt x="57" y="274"/>
                    </a:lnTo>
                    <a:lnTo>
                      <a:pt x="64" y="280"/>
                    </a:lnTo>
                    <a:lnTo>
                      <a:pt x="75" y="286"/>
                    </a:lnTo>
                    <a:lnTo>
                      <a:pt x="72" y="285"/>
                    </a:lnTo>
                    <a:lnTo>
                      <a:pt x="64" y="282"/>
                    </a:lnTo>
                    <a:lnTo>
                      <a:pt x="53" y="279"/>
                    </a:lnTo>
                    <a:lnTo>
                      <a:pt x="41" y="274"/>
                    </a:lnTo>
                    <a:lnTo>
                      <a:pt x="28" y="265"/>
                    </a:lnTo>
                    <a:lnTo>
                      <a:pt x="16" y="256"/>
                    </a:lnTo>
                    <a:lnTo>
                      <a:pt x="6" y="242"/>
                    </a:lnTo>
                    <a:lnTo>
                      <a:pt x="0" y="228"/>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30120" y="1620720"/>
                <a:ext cx="25560" cy="171360"/>
              </a:xfrm>
              <a:custGeom>
                <a:avLst/>
                <a:gdLst/>
                <a:ahLst/>
                <a:rect l="l" t="t" r="r" b="b"/>
                <a:pathLst>
                  <a:path w="63" h="431">
                    <a:moveTo>
                      <a:pt x="63" y="0"/>
                    </a:moveTo>
                    <a:lnTo>
                      <a:pt x="26" y="25"/>
                    </a:lnTo>
                    <a:lnTo>
                      <a:pt x="27" y="431"/>
                    </a:lnTo>
                    <a:lnTo>
                      <a:pt x="0" y="18"/>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68080" y="2473200"/>
                <a:ext cx="443160" cy="154080"/>
              </a:xfrm>
              <a:custGeom>
                <a:avLst/>
                <a:gdLst/>
                <a:ahLst/>
                <a:rect l="l" t="t" r="r" b="b"/>
                <a:pathLst>
                  <a:path w="1120" h="389">
                    <a:moveTo>
                      <a:pt x="701" y="293"/>
                    </a:moveTo>
                    <a:lnTo>
                      <a:pt x="612" y="253"/>
                    </a:lnTo>
                    <a:lnTo>
                      <a:pt x="522" y="211"/>
                    </a:lnTo>
                    <a:lnTo>
                      <a:pt x="433" y="166"/>
                    </a:lnTo>
                    <a:lnTo>
                      <a:pt x="344" y="123"/>
                    </a:lnTo>
                    <a:lnTo>
                      <a:pt x="257" y="82"/>
                    </a:lnTo>
                    <a:lnTo>
                      <a:pt x="169" y="48"/>
                    </a:lnTo>
                    <a:lnTo>
                      <a:pt x="84" y="18"/>
                    </a:lnTo>
                    <a:lnTo>
                      <a:pt x="0" y="0"/>
                    </a:lnTo>
                    <a:lnTo>
                      <a:pt x="3" y="39"/>
                    </a:lnTo>
                    <a:lnTo>
                      <a:pt x="78" y="55"/>
                    </a:lnTo>
                    <a:lnTo>
                      <a:pt x="156" y="79"/>
                    </a:lnTo>
                    <a:lnTo>
                      <a:pt x="233" y="107"/>
                    </a:lnTo>
                    <a:lnTo>
                      <a:pt x="314" y="142"/>
                    </a:lnTo>
                    <a:lnTo>
                      <a:pt x="393" y="179"/>
                    </a:lnTo>
                    <a:lnTo>
                      <a:pt x="473" y="219"/>
                    </a:lnTo>
                    <a:lnTo>
                      <a:pt x="554" y="258"/>
                    </a:lnTo>
                    <a:lnTo>
                      <a:pt x="637" y="299"/>
                    </a:lnTo>
                    <a:lnTo>
                      <a:pt x="699" y="326"/>
                    </a:lnTo>
                    <a:lnTo>
                      <a:pt x="762" y="348"/>
                    </a:lnTo>
                    <a:lnTo>
                      <a:pt x="824" y="365"/>
                    </a:lnTo>
                    <a:lnTo>
                      <a:pt x="885" y="378"/>
                    </a:lnTo>
                    <a:lnTo>
                      <a:pt x="943" y="386"/>
                    </a:lnTo>
                    <a:lnTo>
                      <a:pt x="1003" y="389"/>
                    </a:lnTo>
                    <a:lnTo>
                      <a:pt x="1061" y="387"/>
                    </a:lnTo>
                    <a:lnTo>
                      <a:pt x="1120" y="382"/>
                    </a:lnTo>
                    <a:lnTo>
                      <a:pt x="1112" y="345"/>
                    </a:lnTo>
                    <a:lnTo>
                      <a:pt x="1063" y="352"/>
                    </a:lnTo>
                    <a:lnTo>
                      <a:pt x="1013" y="354"/>
                    </a:lnTo>
                    <a:lnTo>
                      <a:pt x="962" y="354"/>
                    </a:lnTo>
                    <a:lnTo>
                      <a:pt x="912" y="350"/>
                    </a:lnTo>
                    <a:lnTo>
                      <a:pt x="860" y="342"/>
                    </a:lnTo>
                    <a:lnTo>
                      <a:pt x="808" y="330"/>
                    </a:lnTo>
                    <a:lnTo>
                      <a:pt x="754" y="314"/>
                    </a:lnTo>
                    <a:lnTo>
                      <a:pt x="701" y="293"/>
                    </a:lnTo>
                    <a:lnTo>
                      <a:pt x="70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0960" y="1755720"/>
                <a:ext cx="117360" cy="874800"/>
              </a:xfrm>
              <a:custGeom>
                <a:avLst/>
                <a:gdLst/>
                <a:ahLst/>
                <a:rect l="l" t="t" r="r" b="b"/>
                <a:pathLst>
                  <a:path w="296" h="2202">
                    <a:moveTo>
                      <a:pt x="282" y="0"/>
                    </a:moveTo>
                    <a:lnTo>
                      <a:pt x="273" y="2"/>
                    </a:lnTo>
                    <a:lnTo>
                      <a:pt x="265" y="6"/>
                    </a:lnTo>
                    <a:lnTo>
                      <a:pt x="256" y="10"/>
                    </a:lnTo>
                    <a:lnTo>
                      <a:pt x="248" y="13"/>
                    </a:lnTo>
                    <a:lnTo>
                      <a:pt x="217" y="23"/>
                    </a:lnTo>
                    <a:lnTo>
                      <a:pt x="186" y="33"/>
                    </a:lnTo>
                    <a:lnTo>
                      <a:pt x="155" y="40"/>
                    </a:lnTo>
                    <a:lnTo>
                      <a:pt x="124" y="46"/>
                    </a:lnTo>
                    <a:lnTo>
                      <a:pt x="93" y="50"/>
                    </a:lnTo>
                    <a:lnTo>
                      <a:pt x="62" y="52"/>
                    </a:lnTo>
                    <a:lnTo>
                      <a:pt x="31" y="52"/>
                    </a:lnTo>
                    <a:lnTo>
                      <a:pt x="0" y="53"/>
                    </a:lnTo>
                    <a:lnTo>
                      <a:pt x="4" y="91"/>
                    </a:lnTo>
                    <a:lnTo>
                      <a:pt x="34" y="90"/>
                    </a:lnTo>
                    <a:lnTo>
                      <a:pt x="65" y="90"/>
                    </a:lnTo>
                    <a:lnTo>
                      <a:pt x="95" y="86"/>
                    </a:lnTo>
                    <a:lnTo>
                      <a:pt x="127" y="84"/>
                    </a:lnTo>
                    <a:lnTo>
                      <a:pt x="156" y="78"/>
                    </a:lnTo>
                    <a:lnTo>
                      <a:pt x="188" y="70"/>
                    </a:lnTo>
                    <a:lnTo>
                      <a:pt x="218" y="62"/>
                    </a:lnTo>
                    <a:lnTo>
                      <a:pt x="248" y="52"/>
                    </a:lnTo>
                    <a:lnTo>
                      <a:pt x="250" y="185"/>
                    </a:lnTo>
                    <a:lnTo>
                      <a:pt x="251" y="318"/>
                    </a:lnTo>
                    <a:lnTo>
                      <a:pt x="252" y="449"/>
                    </a:lnTo>
                    <a:lnTo>
                      <a:pt x="253" y="580"/>
                    </a:lnTo>
                    <a:lnTo>
                      <a:pt x="254" y="709"/>
                    </a:lnTo>
                    <a:lnTo>
                      <a:pt x="256" y="839"/>
                    </a:lnTo>
                    <a:lnTo>
                      <a:pt x="257" y="968"/>
                    </a:lnTo>
                    <a:lnTo>
                      <a:pt x="258" y="1099"/>
                    </a:lnTo>
                    <a:lnTo>
                      <a:pt x="258" y="1105"/>
                    </a:lnTo>
                    <a:lnTo>
                      <a:pt x="258" y="1113"/>
                    </a:lnTo>
                    <a:lnTo>
                      <a:pt x="258" y="1119"/>
                    </a:lnTo>
                    <a:lnTo>
                      <a:pt x="258" y="1126"/>
                    </a:lnTo>
                    <a:lnTo>
                      <a:pt x="258" y="1132"/>
                    </a:lnTo>
                    <a:lnTo>
                      <a:pt x="258" y="1139"/>
                    </a:lnTo>
                    <a:lnTo>
                      <a:pt x="258" y="1147"/>
                    </a:lnTo>
                    <a:lnTo>
                      <a:pt x="258" y="1154"/>
                    </a:lnTo>
                    <a:lnTo>
                      <a:pt x="258" y="1282"/>
                    </a:lnTo>
                    <a:lnTo>
                      <a:pt x="258" y="1409"/>
                    </a:lnTo>
                    <a:lnTo>
                      <a:pt x="258" y="1536"/>
                    </a:lnTo>
                    <a:lnTo>
                      <a:pt x="258" y="1662"/>
                    </a:lnTo>
                    <a:lnTo>
                      <a:pt x="258" y="1786"/>
                    </a:lnTo>
                    <a:lnTo>
                      <a:pt x="258" y="1911"/>
                    </a:lnTo>
                    <a:lnTo>
                      <a:pt x="258" y="2037"/>
                    </a:lnTo>
                    <a:lnTo>
                      <a:pt x="259" y="2162"/>
                    </a:lnTo>
                    <a:lnTo>
                      <a:pt x="248" y="2160"/>
                    </a:lnTo>
                    <a:lnTo>
                      <a:pt x="240" y="2157"/>
                    </a:lnTo>
                    <a:lnTo>
                      <a:pt x="230" y="2155"/>
                    </a:lnTo>
                    <a:lnTo>
                      <a:pt x="222" y="2153"/>
                    </a:lnTo>
                    <a:lnTo>
                      <a:pt x="225" y="2190"/>
                    </a:lnTo>
                    <a:lnTo>
                      <a:pt x="233" y="2191"/>
                    </a:lnTo>
                    <a:lnTo>
                      <a:pt x="241" y="2192"/>
                    </a:lnTo>
                    <a:lnTo>
                      <a:pt x="250" y="2194"/>
                    </a:lnTo>
                    <a:lnTo>
                      <a:pt x="259" y="2196"/>
                    </a:lnTo>
                    <a:lnTo>
                      <a:pt x="268" y="2197"/>
                    </a:lnTo>
                    <a:lnTo>
                      <a:pt x="277" y="2198"/>
                    </a:lnTo>
                    <a:lnTo>
                      <a:pt x="286" y="2200"/>
                    </a:lnTo>
                    <a:lnTo>
                      <a:pt x="296" y="2202"/>
                    </a:lnTo>
                    <a:lnTo>
                      <a:pt x="296" y="2192"/>
                    </a:lnTo>
                    <a:lnTo>
                      <a:pt x="296" y="2184"/>
                    </a:lnTo>
                    <a:lnTo>
                      <a:pt x="296" y="2175"/>
                    </a:lnTo>
                    <a:lnTo>
                      <a:pt x="296" y="2167"/>
                    </a:lnTo>
                    <a:lnTo>
                      <a:pt x="295" y="1907"/>
                    </a:lnTo>
                    <a:lnTo>
                      <a:pt x="295" y="1648"/>
                    </a:lnTo>
                    <a:lnTo>
                      <a:pt x="293" y="1386"/>
                    </a:lnTo>
                    <a:lnTo>
                      <a:pt x="292" y="1125"/>
                    </a:lnTo>
                    <a:lnTo>
                      <a:pt x="290" y="858"/>
                    </a:lnTo>
                    <a:lnTo>
                      <a:pt x="288" y="588"/>
                    </a:lnTo>
                    <a:lnTo>
                      <a:pt x="285" y="315"/>
                    </a:lnTo>
                    <a:lnTo>
                      <a:pt x="282" y="38"/>
                    </a:lnTo>
                    <a:lnTo>
                      <a:pt x="282" y="27"/>
                    </a:lnTo>
                    <a:lnTo>
                      <a:pt x="282" y="18"/>
                    </a:lnTo>
                    <a:lnTo>
                      <a:pt x="282" y="8"/>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77720" y="1647720"/>
                <a:ext cx="90360" cy="844560"/>
              </a:xfrm>
              <a:custGeom>
                <a:avLst/>
                <a:gdLst/>
                <a:ahLst/>
                <a:rect l="l" t="t" r="r" b="b"/>
                <a:pathLst>
                  <a:path w="229" h="2127">
                    <a:moveTo>
                      <a:pt x="118" y="2072"/>
                    </a:moveTo>
                    <a:lnTo>
                      <a:pt x="107" y="2072"/>
                    </a:lnTo>
                    <a:lnTo>
                      <a:pt x="97" y="2072"/>
                    </a:lnTo>
                    <a:lnTo>
                      <a:pt x="88" y="2073"/>
                    </a:lnTo>
                    <a:lnTo>
                      <a:pt x="78" y="2074"/>
                    </a:lnTo>
                    <a:lnTo>
                      <a:pt x="68" y="2074"/>
                    </a:lnTo>
                    <a:lnTo>
                      <a:pt x="58" y="2077"/>
                    </a:lnTo>
                    <a:lnTo>
                      <a:pt x="49" y="2078"/>
                    </a:lnTo>
                    <a:lnTo>
                      <a:pt x="40" y="2080"/>
                    </a:lnTo>
                    <a:lnTo>
                      <a:pt x="38" y="1812"/>
                    </a:lnTo>
                    <a:lnTo>
                      <a:pt x="36" y="1550"/>
                    </a:lnTo>
                    <a:lnTo>
                      <a:pt x="36" y="1292"/>
                    </a:lnTo>
                    <a:lnTo>
                      <a:pt x="36" y="1039"/>
                    </a:lnTo>
                    <a:lnTo>
                      <a:pt x="36" y="788"/>
                    </a:lnTo>
                    <a:lnTo>
                      <a:pt x="38" y="540"/>
                    </a:lnTo>
                    <a:lnTo>
                      <a:pt x="39" y="292"/>
                    </a:lnTo>
                    <a:lnTo>
                      <a:pt x="41" y="46"/>
                    </a:lnTo>
                    <a:lnTo>
                      <a:pt x="53" y="50"/>
                    </a:lnTo>
                    <a:lnTo>
                      <a:pt x="67" y="54"/>
                    </a:lnTo>
                    <a:lnTo>
                      <a:pt x="79" y="59"/>
                    </a:lnTo>
                    <a:lnTo>
                      <a:pt x="92" y="65"/>
                    </a:lnTo>
                    <a:lnTo>
                      <a:pt x="91" y="31"/>
                    </a:lnTo>
                    <a:lnTo>
                      <a:pt x="78" y="25"/>
                    </a:lnTo>
                    <a:lnTo>
                      <a:pt x="66" y="20"/>
                    </a:lnTo>
                    <a:lnTo>
                      <a:pt x="53" y="15"/>
                    </a:lnTo>
                    <a:lnTo>
                      <a:pt x="43" y="12"/>
                    </a:lnTo>
                    <a:lnTo>
                      <a:pt x="32" y="8"/>
                    </a:lnTo>
                    <a:lnTo>
                      <a:pt x="23" y="5"/>
                    </a:lnTo>
                    <a:lnTo>
                      <a:pt x="12" y="2"/>
                    </a:lnTo>
                    <a:lnTo>
                      <a:pt x="4" y="0"/>
                    </a:lnTo>
                    <a:lnTo>
                      <a:pt x="4" y="7"/>
                    </a:lnTo>
                    <a:lnTo>
                      <a:pt x="4" y="15"/>
                    </a:lnTo>
                    <a:lnTo>
                      <a:pt x="4" y="24"/>
                    </a:lnTo>
                    <a:lnTo>
                      <a:pt x="4" y="34"/>
                    </a:lnTo>
                    <a:lnTo>
                      <a:pt x="1" y="282"/>
                    </a:lnTo>
                    <a:lnTo>
                      <a:pt x="0" y="531"/>
                    </a:lnTo>
                    <a:lnTo>
                      <a:pt x="0" y="782"/>
                    </a:lnTo>
                    <a:lnTo>
                      <a:pt x="0" y="1037"/>
                    </a:lnTo>
                    <a:lnTo>
                      <a:pt x="0" y="1292"/>
                    </a:lnTo>
                    <a:lnTo>
                      <a:pt x="0" y="1553"/>
                    </a:lnTo>
                    <a:lnTo>
                      <a:pt x="1" y="1818"/>
                    </a:lnTo>
                    <a:lnTo>
                      <a:pt x="5" y="2088"/>
                    </a:lnTo>
                    <a:lnTo>
                      <a:pt x="5" y="2096"/>
                    </a:lnTo>
                    <a:lnTo>
                      <a:pt x="5" y="2106"/>
                    </a:lnTo>
                    <a:lnTo>
                      <a:pt x="5" y="2114"/>
                    </a:lnTo>
                    <a:lnTo>
                      <a:pt x="5" y="2127"/>
                    </a:lnTo>
                    <a:lnTo>
                      <a:pt x="13" y="2124"/>
                    </a:lnTo>
                    <a:lnTo>
                      <a:pt x="22" y="2120"/>
                    </a:lnTo>
                    <a:lnTo>
                      <a:pt x="30" y="2118"/>
                    </a:lnTo>
                    <a:lnTo>
                      <a:pt x="40" y="2117"/>
                    </a:lnTo>
                    <a:lnTo>
                      <a:pt x="62" y="2113"/>
                    </a:lnTo>
                    <a:lnTo>
                      <a:pt x="85" y="2111"/>
                    </a:lnTo>
                    <a:lnTo>
                      <a:pt x="108" y="2110"/>
                    </a:lnTo>
                    <a:lnTo>
                      <a:pt x="132" y="2110"/>
                    </a:lnTo>
                    <a:lnTo>
                      <a:pt x="156" y="2110"/>
                    </a:lnTo>
                    <a:lnTo>
                      <a:pt x="180" y="2112"/>
                    </a:lnTo>
                    <a:lnTo>
                      <a:pt x="204" y="2114"/>
                    </a:lnTo>
                    <a:lnTo>
                      <a:pt x="229" y="2118"/>
                    </a:lnTo>
                    <a:lnTo>
                      <a:pt x="226" y="2079"/>
                    </a:lnTo>
                    <a:lnTo>
                      <a:pt x="211" y="2077"/>
                    </a:lnTo>
                    <a:lnTo>
                      <a:pt x="198" y="2075"/>
                    </a:lnTo>
                    <a:lnTo>
                      <a:pt x="184" y="2073"/>
                    </a:lnTo>
                    <a:lnTo>
                      <a:pt x="171" y="2073"/>
                    </a:lnTo>
                    <a:lnTo>
                      <a:pt x="157" y="2072"/>
                    </a:lnTo>
                    <a:lnTo>
                      <a:pt x="143" y="2071"/>
                    </a:lnTo>
                    <a:lnTo>
                      <a:pt x="130" y="2071"/>
                    </a:lnTo>
                    <a:lnTo>
                      <a:pt x="118" y="2072"/>
                    </a:lnTo>
                    <a:lnTo>
                      <a:pt x="118" y="2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9440" y="2471760"/>
                <a:ext cx="355680" cy="152280"/>
              </a:xfrm>
              <a:custGeom>
                <a:avLst/>
                <a:gdLst/>
                <a:ahLst/>
                <a:rect l="l" t="t" r="r" b="b"/>
                <a:pathLst>
                  <a:path w="900" h="388">
                    <a:moveTo>
                      <a:pt x="900" y="35"/>
                    </a:moveTo>
                    <a:lnTo>
                      <a:pt x="894" y="0"/>
                    </a:lnTo>
                    <a:lnTo>
                      <a:pt x="820" y="5"/>
                    </a:lnTo>
                    <a:lnTo>
                      <a:pt x="749" y="18"/>
                    </a:lnTo>
                    <a:lnTo>
                      <a:pt x="677" y="38"/>
                    </a:lnTo>
                    <a:lnTo>
                      <a:pt x="608" y="67"/>
                    </a:lnTo>
                    <a:lnTo>
                      <a:pt x="539" y="99"/>
                    </a:lnTo>
                    <a:lnTo>
                      <a:pt x="471" y="135"/>
                    </a:lnTo>
                    <a:lnTo>
                      <a:pt x="402" y="174"/>
                    </a:lnTo>
                    <a:lnTo>
                      <a:pt x="335" y="219"/>
                    </a:lnTo>
                    <a:lnTo>
                      <a:pt x="292" y="242"/>
                    </a:lnTo>
                    <a:lnTo>
                      <a:pt x="251" y="264"/>
                    </a:lnTo>
                    <a:lnTo>
                      <a:pt x="209" y="283"/>
                    </a:lnTo>
                    <a:lnTo>
                      <a:pt x="168" y="303"/>
                    </a:lnTo>
                    <a:lnTo>
                      <a:pt x="126" y="317"/>
                    </a:lnTo>
                    <a:lnTo>
                      <a:pt x="83" y="332"/>
                    </a:lnTo>
                    <a:lnTo>
                      <a:pt x="40" y="342"/>
                    </a:lnTo>
                    <a:lnTo>
                      <a:pt x="0" y="351"/>
                    </a:lnTo>
                    <a:lnTo>
                      <a:pt x="8" y="388"/>
                    </a:lnTo>
                    <a:lnTo>
                      <a:pt x="43" y="379"/>
                    </a:lnTo>
                    <a:lnTo>
                      <a:pt x="79" y="372"/>
                    </a:lnTo>
                    <a:lnTo>
                      <a:pt x="117" y="360"/>
                    </a:lnTo>
                    <a:lnTo>
                      <a:pt x="155" y="349"/>
                    </a:lnTo>
                    <a:lnTo>
                      <a:pt x="190" y="333"/>
                    </a:lnTo>
                    <a:lnTo>
                      <a:pt x="226" y="319"/>
                    </a:lnTo>
                    <a:lnTo>
                      <a:pt x="262" y="298"/>
                    </a:lnTo>
                    <a:lnTo>
                      <a:pt x="298" y="280"/>
                    </a:lnTo>
                    <a:lnTo>
                      <a:pt x="372" y="235"/>
                    </a:lnTo>
                    <a:lnTo>
                      <a:pt x="445" y="192"/>
                    </a:lnTo>
                    <a:lnTo>
                      <a:pt x="518" y="150"/>
                    </a:lnTo>
                    <a:lnTo>
                      <a:pt x="594" y="114"/>
                    </a:lnTo>
                    <a:lnTo>
                      <a:pt x="667" y="83"/>
                    </a:lnTo>
                    <a:lnTo>
                      <a:pt x="743" y="58"/>
                    </a:lnTo>
                    <a:lnTo>
                      <a:pt x="820" y="40"/>
                    </a:lnTo>
                    <a:lnTo>
                      <a:pt x="900" y="35"/>
                    </a:lnTo>
                    <a:lnTo>
                      <a:pt x="9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14440" y="1660320"/>
                <a:ext cx="330120" cy="135000"/>
              </a:xfrm>
              <a:custGeom>
                <a:avLst/>
                <a:gdLst/>
                <a:ahLst/>
                <a:rect l="l" t="t" r="r" b="b"/>
                <a:pathLst>
                  <a:path w="834" h="342">
                    <a:moveTo>
                      <a:pt x="37" y="48"/>
                    </a:moveTo>
                    <a:lnTo>
                      <a:pt x="139" y="95"/>
                    </a:lnTo>
                    <a:lnTo>
                      <a:pt x="240" y="145"/>
                    </a:lnTo>
                    <a:lnTo>
                      <a:pt x="342" y="194"/>
                    </a:lnTo>
                    <a:lnTo>
                      <a:pt x="443" y="242"/>
                    </a:lnTo>
                    <a:lnTo>
                      <a:pt x="542" y="282"/>
                    </a:lnTo>
                    <a:lnTo>
                      <a:pt x="641" y="315"/>
                    </a:lnTo>
                    <a:lnTo>
                      <a:pt x="738" y="336"/>
                    </a:lnTo>
                    <a:lnTo>
                      <a:pt x="834" y="342"/>
                    </a:lnTo>
                    <a:lnTo>
                      <a:pt x="828" y="304"/>
                    </a:lnTo>
                    <a:lnTo>
                      <a:pt x="817" y="304"/>
                    </a:lnTo>
                    <a:lnTo>
                      <a:pt x="806" y="304"/>
                    </a:lnTo>
                    <a:lnTo>
                      <a:pt x="795" y="304"/>
                    </a:lnTo>
                    <a:lnTo>
                      <a:pt x="784" y="306"/>
                    </a:lnTo>
                    <a:lnTo>
                      <a:pt x="688" y="293"/>
                    </a:lnTo>
                    <a:lnTo>
                      <a:pt x="592" y="269"/>
                    </a:lnTo>
                    <a:lnTo>
                      <a:pt x="494" y="233"/>
                    </a:lnTo>
                    <a:lnTo>
                      <a:pt x="398" y="189"/>
                    </a:lnTo>
                    <a:lnTo>
                      <a:pt x="297" y="140"/>
                    </a:lnTo>
                    <a:lnTo>
                      <a:pt x="198" y="91"/>
                    </a:lnTo>
                    <a:lnTo>
                      <a:pt x="99" y="42"/>
                    </a:lnTo>
                    <a:lnTo>
                      <a:pt x="0" y="0"/>
                    </a:lnTo>
                    <a:lnTo>
                      <a:pt x="1" y="34"/>
                    </a:lnTo>
                    <a:lnTo>
                      <a:pt x="10" y="37"/>
                    </a:lnTo>
                    <a:lnTo>
                      <a:pt x="18" y="40"/>
                    </a:lnTo>
                    <a:lnTo>
                      <a:pt x="27" y="44"/>
                    </a:lnTo>
                    <a:lnTo>
                      <a:pt x="37" y="48"/>
                    </a:lnTo>
                    <a:lnTo>
                      <a:pt x="37"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16080" y="1636560"/>
                <a:ext cx="436320" cy="155520"/>
              </a:xfrm>
              <a:custGeom>
                <a:avLst/>
                <a:gdLst/>
                <a:ahLst/>
                <a:rect l="l" t="t" r="r" b="b"/>
                <a:pathLst>
                  <a:path w="1100" h="393">
                    <a:moveTo>
                      <a:pt x="561" y="213"/>
                    </a:moveTo>
                    <a:lnTo>
                      <a:pt x="631" y="247"/>
                    </a:lnTo>
                    <a:lnTo>
                      <a:pt x="701" y="280"/>
                    </a:lnTo>
                    <a:lnTo>
                      <a:pt x="768" y="309"/>
                    </a:lnTo>
                    <a:lnTo>
                      <a:pt x="836" y="336"/>
                    </a:lnTo>
                    <a:lnTo>
                      <a:pt x="903" y="355"/>
                    </a:lnTo>
                    <a:lnTo>
                      <a:pt x="970" y="372"/>
                    </a:lnTo>
                    <a:lnTo>
                      <a:pt x="1034" y="385"/>
                    </a:lnTo>
                    <a:lnTo>
                      <a:pt x="1100" y="393"/>
                    </a:lnTo>
                    <a:lnTo>
                      <a:pt x="1096" y="355"/>
                    </a:lnTo>
                    <a:lnTo>
                      <a:pt x="1028" y="348"/>
                    </a:lnTo>
                    <a:lnTo>
                      <a:pt x="961" y="336"/>
                    </a:lnTo>
                    <a:lnTo>
                      <a:pt x="893" y="318"/>
                    </a:lnTo>
                    <a:lnTo>
                      <a:pt x="824" y="296"/>
                    </a:lnTo>
                    <a:lnTo>
                      <a:pt x="754" y="268"/>
                    </a:lnTo>
                    <a:lnTo>
                      <a:pt x="684" y="237"/>
                    </a:lnTo>
                    <a:lnTo>
                      <a:pt x="611" y="203"/>
                    </a:lnTo>
                    <a:lnTo>
                      <a:pt x="540" y="168"/>
                    </a:lnTo>
                    <a:lnTo>
                      <a:pt x="468" y="132"/>
                    </a:lnTo>
                    <a:lnTo>
                      <a:pt x="399" y="100"/>
                    </a:lnTo>
                    <a:lnTo>
                      <a:pt x="329" y="71"/>
                    </a:lnTo>
                    <a:lnTo>
                      <a:pt x="262" y="48"/>
                    </a:lnTo>
                    <a:lnTo>
                      <a:pt x="194" y="28"/>
                    </a:lnTo>
                    <a:lnTo>
                      <a:pt x="129" y="14"/>
                    </a:lnTo>
                    <a:lnTo>
                      <a:pt x="63" y="3"/>
                    </a:lnTo>
                    <a:lnTo>
                      <a:pt x="0" y="0"/>
                    </a:lnTo>
                    <a:lnTo>
                      <a:pt x="5" y="36"/>
                    </a:lnTo>
                    <a:lnTo>
                      <a:pt x="72" y="38"/>
                    </a:lnTo>
                    <a:lnTo>
                      <a:pt x="138" y="49"/>
                    </a:lnTo>
                    <a:lnTo>
                      <a:pt x="205" y="65"/>
                    </a:lnTo>
                    <a:lnTo>
                      <a:pt x="276" y="87"/>
                    </a:lnTo>
                    <a:lnTo>
                      <a:pt x="345" y="111"/>
                    </a:lnTo>
                    <a:lnTo>
                      <a:pt x="416" y="143"/>
                    </a:lnTo>
                    <a:lnTo>
                      <a:pt x="489" y="175"/>
                    </a:lnTo>
                    <a:lnTo>
                      <a:pt x="561" y="213"/>
                    </a:lnTo>
                    <a:lnTo>
                      <a:pt x="56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42760" y="1635120"/>
                <a:ext cx="374760" cy="160200"/>
              </a:xfrm>
              <a:custGeom>
                <a:avLst/>
                <a:gdLst/>
                <a:ahLst/>
                <a:rect l="l" t="t" r="r" b="b"/>
                <a:pathLst>
                  <a:path w="946" h="405">
                    <a:moveTo>
                      <a:pt x="17" y="405"/>
                    </a:moveTo>
                    <a:lnTo>
                      <a:pt x="109" y="388"/>
                    </a:lnTo>
                    <a:lnTo>
                      <a:pt x="201" y="359"/>
                    </a:lnTo>
                    <a:lnTo>
                      <a:pt x="287" y="317"/>
                    </a:lnTo>
                    <a:lnTo>
                      <a:pt x="374" y="271"/>
                    </a:lnTo>
                    <a:lnTo>
                      <a:pt x="458" y="218"/>
                    </a:lnTo>
                    <a:lnTo>
                      <a:pt x="545" y="167"/>
                    </a:lnTo>
                    <a:lnTo>
                      <a:pt x="631" y="117"/>
                    </a:lnTo>
                    <a:lnTo>
                      <a:pt x="720" y="77"/>
                    </a:lnTo>
                    <a:lnTo>
                      <a:pt x="748" y="66"/>
                    </a:lnTo>
                    <a:lnTo>
                      <a:pt x="776" y="57"/>
                    </a:lnTo>
                    <a:lnTo>
                      <a:pt x="802" y="50"/>
                    </a:lnTo>
                    <a:lnTo>
                      <a:pt x="831" y="45"/>
                    </a:lnTo>
                    <a:lnTo>
                      <a:pt x="859" y="40"/>
                    </a:lnTo>
                    <a:lnTo>
                      <a:pt x="887" y="37"/>
                    </a:lnTo>
                    <a:lnTo>
                      <a:pt x="917" y="35"/>
                    </a:lnTo>
                    <a:lnTo>
                      <a:pt x="946" y="37"/>
                    </a:lnTo>
                    <a:lnTo>
                      <a:pt x="941" y="1"/>
                    </a:lnTo>
                    <a:lnTo>
                      <a:pt x="907" y="0"/>
                    </a:lnTo>
                    <a:lnTo>
                      <a:pt x="874" y="2"/>
                    </a:lnTo>
                    <a:lnTo>
                      <a:pt x="841" y="6"/>
                    </a:lnTo>
                    <a:lnTo>
                      <a:pt x="810" y="12"/>
                    </a:lnTo>
                    <a:lnTo>
                      <a:pt x="777" y="19"/>
                    </a:lnTo>
                    <a:lnTo>
                      <a:pt x="745" y="29"/>
                    </a:lnTo>
                    <a:lnTo>
                      <a:pt x="712" y="40"/>
                    </a:lnTo>
                    <a:lnTo>
                      <a:pt x="682" y="55"/>
                    </a:lnTo>
                    <a:lnTo>
                      <a:pt x="596" y="96"/>
                    </a:lnTo>
                    <a:lnTo>
                      <a:pt x="511" y="146"/>
                    </a:lnTo>
                    <a:lnTo>
                      <a:pt x="428" y="195"/>
                    </a:lnTo>
                    <a:lnTo>
                      <a:pt x="346" y="244"/>
                    </a:lnTo>
                    <a:lnTo>
                      <a:pt x="260" y="288"/>
                    </a:lnTo>
                    <a:lnTo>
                      <a:pt x="176" y="326"/>
                    </a:lnTo>
                    <a:lnTo>
                      <a:pt x="89" y="353"/>
                    </a:lnTo>
                    <a:lnTo>
                      <a:pt x="0" y="367"/>
                    </a:lnTo>
                    <a:lnTo>
                      <a:pt x="6" y="405"/>
                    </a:lnTo>
                    <a:lnTo>
                      <a:pt x="11" y="405"/>
                    </a:lnTo>
                    <a:lnTo>
                      <a:pt x="17" y="405"/>
                    </a:lnTo>
                    <a:lnTo>
                      <a:pt x="17"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63680" y="2469960"/>
                <a:ext cx="376200" cy="154080"/>
              </a:xfrm>
              <a:custGeom>
                <a:avLst/>
                <a:gdLst/>
                <a:ahLst/>
                <a:rect l="l" t="t" r="r" b="b"/>
                <a:pathLst>
                  <a:path w="949" h="389">
                    <a:moveTo>
                      <a:pt x="168" y="22"/>
                    </a:moveTo>
                    <a:lnTo>
                      <a:pt x="146" y="14"/>
                    </a:lnTo>
                    <a:lnTo>
                      <a:pt x="124" y="11"/>
                    </a:lnTo>
                    <a:lnTo>
                      <a:pt x="103" y="7"/>
                    </a:lnTo>
                    <a:lnTo>
                      <a:pt x="82" y="5"/>
                    </a:lnTo>
                    <a:lnTo>
                      <a:pt x="61" y="1"/>
                    </a:lnTo>
                    <a:lnTo>
                      <a:pt x="40" y="1"/>
                    </a:lnTo>
                    <a:lnTo>
                      <a:pt x="19" y="0"/>
                    </a:lnTo>
                    <a:lnTo>
                      <a:pt x="0" y="1"/>
                    </a:lnTo>
                    <a:lnTo>
                      <a:pt x="6" y="36"/>
                    </a:lnTo>
                    <a:lnTo>
                      <a:pt x="22" y="35"/>
                    </a:lnTo>
                    <a:lnTo>
                      <a:pt x="39" y="35"/>
                    </a:lnTo>
                    <a:lnTo>
                      <a:pt x="57" y="36"/>
                    </a:lnTo>
                    <a:lnTo>
                      <a:pt x="75" y="39"/>
                    </a:lnTo>
                    <a:lnTo>
                      <a:pt x="92" y="40"/>
                    </a:lnTo>
                    <a:lnTo>
                      <a:pt x="109" y="42"/>
                    </a:lnTo>
                    <a:lnTo>
                      <a:pt x="127" y="46"/>
                    </a:lnTo>
                    <a:lnTo>
                      <a:pt x="146" y="52"/>
                    </a:lnTo>
                    <a:lnTo>
                      <a:pt x="244" y="81"/>
                    </a:lnTo>
                    <a:lnTo>
                      <a:pt x="345" y="123"/>
                    </a:lnTo>
                    <a:lnTo>
                      <a:pt x="445" y="170"/>
                    </a:lnTo>
                    <a:lnTo>
                      <a:pt x="548" y="222"/>
                    </a:lnTo>
                    <a:lnTo>
                      <a:pt x="648" y="272"/>
                    </a:lnTo>
                    <a:lnTo>
                      <a:pt x="750" y="320"/>
                    </a:lnTo>
                    <a:lnTo>
                      <a:pt x="848" y="359"/>
                    </a:lnTo>
                    <a:lnTo>
                      <a:pt x="949" y="389"/>
                    </a:lnTo>
                    <a:lnTo>
                      <a:pt x="946" y="352"/>
                    </a:lnTo>
                    <a:lnTo>
                      <a:pt x="848" y="325"/>
                    </a:lnTo>
                    <a:lnTo>
                      <a:pt x="752" y="286"/>
                    </a:lnTo>
                    <a:lnTo>
                      <a:pt x="654" y="241"/>
                    </a:lnTo>
                    <a:lnTo>
                      <a:pt x="558" y="193"/>
                    </a:lnTo>
                    <a:lnTo>
                      <a:pt x="458" y="142"/>
                    </a:lnTo>
                    <a:lnTo>
                      <a:pt x="361" y="96"/>
                    </a:lnTo>
                    <a:lnTo>
                      <a:pt x="262" y="53"/>
                    </a:lnTo>
                    <a:lnTo>
                      <a:pt x="168" y="22"/>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68080" y="2493720"/>
                <a:ext cx="192240" cy="74880"/>
              </a:xfrm>
              <a:custGeom>
                <a:avLst/>
                <a:gdLst/>
                <a:ahLst/>
                <a:rect l="l" t="t" r="r" b="b"/>
                <a:pathLst>
                  <a:path w="484" h="184">
                    <a:moveTo>
                      <a:pt x="484" y="184"/>
                    </a:moveTo>
                    <a:lnTo>
                      <a:pt x="420" y="152"/>
                    </a:lnTo>
                    <a:lnTo>
                      <a:pt x="357" y="121"/>
                    </a:lnTo>
                    <a:lnTo>
                      <a:pt x="296" y="92"/>
                    </a:lnTo>
                    <a:lnTo>
                      <a:pt x="237" y="68"/>
                    </a:lnTo>
                    <a:lnTo>
                      <a:pt x="176" y="43"/>
                    </a:lnTo>
                    <a:lnTo>
                      <a:pt x="115" y="25"/>
                    </a:lnTo>
                    <a:lnTo>
                      <a:pt x="57" y="9"/>
                    </a:lnTo>
                    <a:lnTo>
                      <a:pt x="0" y="0"/>
                    </a:lnTo>
                    <a:lnTo>
                      <a:pt x="1" y="17"/>
                    </a:lnTo>
                    <a:lnTo>
                      <a:pt x="58" y="24"/>
                    </a:lnTo>
                    <a:lnTo>
                      <a:pt x="116" y="37"/>
                    </a:lnTo>
                    <a:lnTo>
                      <a:pt x="176" y="54"/>
                    </a:lnTo>
                    <a:lnTo>
                      <a:pt x="237" y="76"/>
                    </a:lnTo>
                    <a:lnTo>
                      <a:pt x="296" y="98"/>
                    </a:lnTo>
                    <a:lnTo>
                      <a:pt x="357" y="126"/>
                    </a:lnTo>
                    <a:lnTo>
                      <a:pt x="420" y="154"/>
                    </a:lnTo>
                    <a:lnTo>
                      <a:pt x="484" y="184"/>
                    </a:lnTo>
                    <a:lnTo>
                      <a:pt x="484" y="1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
              <p:cNvSpPr/>
              <p:nvPr/>
            </p:nvSpPr>
            <p:spPr>
              <a:xfrm>
                <a:off x="1380960" y="2490840"/>
                <a:ext cx="88920" cy="15840"/>
              </a:xfrm>
              <a:custGeom>
                <a:avLst/>
                <a:gdLst/>
                <a:ahLst/>
                <a:rect l="l" t="t" r="r" b="b"/>
                <a:pathLst>
                  <a:path w="221" h="38">
                    <a:moveTo>
                      <a:pt x="0" y="16"/>
                    </a:moveTo>
                    <a:lnTo>
                      <a:pt x="8" y="27"/>
                    </a:lnTo>
                    <a:lnTo>
                      <a:pt x="18" y="38"/>
                    </a:lnTo>
                    <a:lnTo>
                      <a:pt x="42" y="31"/>
                    </a:lnTo>
                    <a:lnTo>
                      <a:pt x="67" y="27"/>
                    </a:lnTo>
                    <a:lnTo>
                      <a:pt x="92" y="23"/>
                    </a:lnTo>
                    <a:lnTo>
                      <a:pt x="118" y="22"/>
                    </a:lnTo>
                    <a:lnTo>
                      <a:pt x="143" y="21"/>
                    </a:lnTo>
                    <a:lnTo>
                      <a:pt x="169" y="22"/>
                    </a:lnTo>
                    <a:lnTo>
                      <a:pt x="195" y="22"/>
                    </a:lnTo>
                    <a:lnTo>
                      <a:pt x="221" y="26"/>
                    </a:lnTo>
                    <a:lnTo>
                      <a:pt x="220" y="9"/>
                    </a:lnTo>
                    <a:lnTo>
                      <a:pt x="191" y="4"/>
                    </a:lnTo>
                    <a:lnTo>
                      <a:pt x="163" y="1"/>
                    </a:lnTo>
                    <a:lnTo>
                      <a:pt x="135" y="0"/>
                    </a:lnTo>
                    <a:lnTo>
                      <a:pt x="108" y="1"/>
                    </a:lnTo>
                    <a:lnTo>
                      <a:pt x="80" y="1"/>
                    </a:lnTo>
                    <a:lnTo>
                      <a:pt x="53" y="5"/>
                    </a:lnTo>
                    <a:lnTo>
                      <a:pt x="25" y="9"/>
                    </a:lnTo>
                    <a:lnTo>
                      <a:pt x="0" y="16"/>
                    </a:lnTo>
                    <a:lnTo>
                      <a:pt x="0"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 name=""/>
              <p:cNvSpPr/>
              <p:nvPr/>
            </p:nvSpPr>
            <p:spPr>
              <a:xfrm>
                <a:off x="1814400" y="2636640"/>
                <a:ext cx="101520" cy="6480"/>
              </a:xfrm>
              <a:custGeom>
                <a:avLst/>
                <a:gdLst/>
                <a:ahLst/>
                <a:rect l="l" t="t" r="r" b="b"/>
                <a:pathLst>
                  <a:path w="253" h="18">
                    <a:moveTo>
                      <a:pt x="0" y="0"/>
                    </a:moveTo>
                    <a:lnTo>
                      <a:pt x="32" y="6"/>
                    </a:lnTo>
                    <a:lnTo>
                      <a:pt x="65" y="12"/>
                    </a:lnTo>
                    <a:lnTo>
                      <a:pt x="96" y="16"/>
                    </a:lnTo>
                    <a:lnTo>
                      <a:pt x="128" y="18"/>
                    </a:lnTo>
                    <a:lnTo>
                      <a:pt x="160" y="17"/>
                    </a:lnTo>
                    <a:lnTo>
                      <a:pt x="191" y="17"/>
                    </a:lnTo>
                    <a:lnTo>
                      <a:pt x="222" y="14"/>
                    </a:lnTo>
                    <a:lnTo>
                      <a:pt x="253" y="9"/>
                    </a:lnTo>
                    <a:lnTo>
                      <a:pt x="252" y="5"/>
                    </a:lnTo>
                    <a:lnTo>
                      <a:pt x="220" y="9"/>
                    </a:lnTo>
                    <a:lnTo>
                      <a:pt x="190" y="14"/>
                    </a:lnTo>
                    <a:lnTo>
                      <a:pt x="160" y="15"/>
                    </a:lnTo>
                    <a:lnTo>
                      <a:pt x="128" y="16"/>
                    </a:lnTo>
                    <a:lnTo>
                      <a:pt x="96" y="15"/>
                    </a:lnTo>
                    <a:lnTo>
                      <a:pt x="65" y="12"/>
                    </a:lnTo>
                    <a:lnTo>
                      <a:pt x="32"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
              <p:cNvSpPr/>
              <p:nvPr/>
            </p:nvSpPr>
            <p:spPr>
              <a:xfrm>
                <a:off x="2641320" y="2631960"/>
                <a:ext cx="17640" cy="4680"/>
              </a:xfrm>
              <a:custGeom>
                <a:avLst/>
                <a:gdLst/>
                <a:ahLst/>
                <a:rect l="l" t="t" r="r" b="b"/>
                <a:pathLst>
                  <a:path w="43" h="10">
                    <a:moveTo>
                      <a:pt x="43" y="10"/>
                    </a:moveTo>
                    <a:lnTo>
                      <a:pt x="32" y="8"/>
                    </a:lnTo>
                    <a:lnTo>
                      <a:pt x="22" y="5"/>
                    </a:lnTo>
                    <a:lnTo>
                      <a:pt x="11" y="3"/>
                    </a:lnTo>
                    <a:lnTo>
                      <a:pt x="0" y="0"/>
                    </a:lnTo>
                    <a:lnTo>
                      <a:pt x="1" y="10"/>
                    </a:lnTo>
                    <a:lnTo>
                      <a:pt x="11" y="10"/>
                    </a:lnTo>
                    <a:lnTo>
                      <a:pt x="22" y="10"/>
                    </a:lnTo>
                    <a:lnTo>
                      <a:pt x="32" y="10"/>
                    </a:lnTo>
                    <a:lnTo>
                      <a:pt x="43" y="10"/>
                    </a:lnTo>
                    <a:lnTo>
                      <a:pt x="4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
              <p:cNvSpPr/>
              <p:nvPr/>
            </p:nvSpPr>
            <p:spPr>
              <a:xfrm>
                <a:off x="1914480" y="2492280"/>
                <a:ext cx="353880" cy="147600"/>
              </a:xfrm>
              <a:custGeom>
                <a:avLst/>
                <a:gdLst/>
                <a:ahLst/>
                <a:rect l="l" t="t" r="r" b="b"/>
                <a:pathLst>
                  <a:path w="892" h="370">
                    <a:moveTo>
                      <a:pt x="754" y="12"/>
                    </a:moveTo>
                    <a:lnTo>
                      <a:pt x="687" y="29"/>
                    </a:lnTo>
                    <a:lnTo>
                      <a:pt x="625" y="53"/>
                    </a:lnTo>
                    <a:lnTo>
                      <a:pt x="563" y="83"/>
                    </a:lnTo>
                    <a:lnTo>
                      <a:pt x="503" y="116"/>
                    </a:lnTo>
                    <a:lnTo>
                      <a:pt x="442" y="152"/>
                    </a:lnTo>
                    <a:lnTo>
                      <a:pt x="383" y="188"/>
                    </a:lnTo>
                    <a:lnTo>
                      <a:pt x="323" y="225"/>
                    </a:lnTo>
                    <a:lnTo>
                      <a:pt x="263" y="264"/>
                    </a:lnTo>
                    <a:lnTo>
                      <a:pt x="230" y="281"/>
                    </a:lnTo>
                    <a:lnTo>
                      <a:pt x="197" y="298"/>
                    </a:lnTo>
                    <a:lnTo>
                      <a:pt x="164" y="313"/>
                    </a:lnTo>
                    <a:lnTo>
                      <a:pt x="131" y="327"/>
                    </a:lnTo>
                    <a:lnTo>
                      <a:pt x="98" y="338"/>
                    </a:lnTo>
                    <a:lnTo>
                      <a:pt x="64" y="349"/>
                    </a:lnTo>
                    <a:lnTo>
                      <a:pt x="32" y="358"/>
                    </a:lnTo>
                    <a:lnTo>
                      <a:pt x="0" y="366"/>
                    </a:lnTo>
                    <a:lnTo>
                      <a:pt x="1" y="370"/>
                    </a:lnTo>
                    <a:lnTo>
                      <a:pt x="29" y="362"/>
                    </a:lnTo>
                    <a:lnTo>
                      <a:pt x="58" y="355"/>
                    </a:lnTo>
                    <a:lnTo>
                      <a:pt x="87" y="347"/>
                    </a:lnTo>
                    <a:lnTo>
                      <a:pt x="118" y="338"/>
                    </a:lnTo>
                    <a:lnTo>
                      <a:pt x="147" y="326"/>
                    </a:lnTo>
                    <a:lnTo>
                      <a:pt x="176" y="314"/>
                    </a:lnTo>
                    <a:lnTo>
                      <a:pt x="205" y="299"/>
                    </a:lnTo>
                    <a:lnTo>
                      <a:pt x="235" y="286"/>
                    </a:lnTo>
                    <a:lnTo>
                      <a:pt x="292" y="253"/>
                    </a:lnTo>
                    <a:lnTo>
                      <a:pt x="350" y="218"/>
                    </a:lnTo>
                    <a:lnTo>
                      <a:pt x="406" y="184"/>
                    </a:lnTo>
                    <a:lnTo>
                      <a:pt x="463" y="151"/>
                    </a:lnTo>
                    <a:lnTo>
                      <a:pt x="519" y="116"/>
                    </a:lnTo>
                    <a:lnTo>
                      <a:pt x="577" y="86"/>
                    </a:lnTo>
                    <a:lnTo>
                      <a:pt x="634" y="61"/>
                    </a:lnTo>
                    <a:lnTo>
                      <a:pt x="695" y="40"/>
                    </a:lnTo>
                    <a:lnTo>
                      <a:pt x="718" y="33"/>
                    </a:lnTo>
                    <a:lnTo>
                      <a:pt x="744" y="27"/>
                    </a:lnTo>
                    <a:lnTo>
                      <a:pt x="767" y="22"/>
                    </a:lnTo>
                    <a:lnTo>
                      <a:pt x="793" y="19"/>
                    </a:lnTo>
                    <a:lnTo>
                      <a:pt x="817" y="16"/>
                    </a:lnTo>
                    <a:lnTo>
                      <a:pt x="841" y="16"/>
                    </a:lnTo>
                    <a:lnTo>
                      <a:pt x="867" y="15"/>
                    </a:lnTo>
                    <a:lnTo>
                      <a:pt x="892" y="16"/>
                    </a:lnTo>
                    <a:lnTo>
                      <a:pt x="890" y="1"/>
                    </a:lnTo>
                    <a:lnTo>
                      <a:pt x="872" y="0"/>
                    </a:lnTo>
                    <a:lnTo>
                      <a:pt x="855" y="0"/>
                    </a:lnTo>
                    <a:lnTo>
                      <a:pt x="838" y="0"/>
                    </a:lnTo>
                    <a:lnTo>
                      <a:pt x="820" y="1"/>
                    </a:lnTo>
                    <a:lnTo>
                      <a:pt x="803" y="2"/>
                    </a:lnTo>
                    <a:lnTo>
                      <a:pt x="786" y="5"/>
                    </a:lnTo>
                    <a:lnTo>
                      <a:pt x="769" y="8"/>
                    </a:lnTo>
                    <a:lnTo>
                      <a:pt x="754" y="12"/>
                    </a:lnTo>
                    <a:lnTo>
                      <a:pt x="7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68360" y="2493720"/>
                <a:ext cx="372960" cy="142920"/>
              </a:xfrm>
              <a:custGeom>
                <a:avLst/>
                <a:gdLst/>
                <a:ahLst/>
                <a:rect l="l" t="t" r="r" b="b"/>
                <a:pathLst>
                  <a:path w="942" h="360">
                    <a:moveTo>
                      <a:pt x="0" y="0"/>
                    </a:moveTo>
                    <a:lnTo>
                      <a:pt x="2" y="15"/>
                    </a:lnTo>
                    <a:lnTo>
                      <a:pt x="39" y="17"/>
                    </a:lnTo>
                    <a:lnTo>
                      <a:pt x="78" y="22"/>
                    </a:lnTo>
                    <a:lnTo>
                      <a:pt x="115" y="28"/>
                    </a:lnTo>
                    <a:lnTo>
                      <a:pt x="154" y="38"/>
                    </a:lnTo>
                    <a:lnTo>
                      <a:pt x="193" y="48"/>
                    </a:lnTo>
                    <a:lnTo>
                      <a:pt x="233" y="61"/>
                    </a:lnTo>
                    <a:lnTo>
                      <a:pt x="275" y="76"/>
                    </a:lnTo>
                    <a:lnTo>
                      <a:pt x="316" y="94"/>
                    </a:lnTo>
                    <a:lnTo>
                      <a:pt x="383" y="125"/>
                    </a:lnTo>
                    <a:lnTo>
                      <a:pt x="451" y="158"/>
                    </a:lnTo>
                    <a:lnTo>
                      <a:pt x="520" y="194"/>
                    </a:lnTo>
                    <a:lnTo>
                      <a:pt x="588" y="230"/>
                    </a:lnTo>
                    <a:lnTo>
                      <a:pt x="655" y="264"/>
                    </a:lnTo>
                    <a:lnTo>
                      <a:pt x="724" y="297"/>
                    </a:lnTo>
                    <a:lnTo>
                      <a:pt x="791" y="326"/>
                    </a:lnTo>
                    <a:lnTo>
                      <a:pt x="859" y="353"/>
                    </a:lnTo>
                    <a:lnTo>
                      <a:pt x="869" y="353"/>
                    </a:lnTo>
                    <a:lnTo>
                      <a:pt x="879" y="354"/>
                    </a:lnTo>
                    <a:lnTo>
                      <a:pt x="890" y="355"/>
                    </a:lnTo>
                    <a:lnTo>
                      <a:pt x="901" y="357"/>
                    </a:lnTo>
                    <a:lnTo>
                      <a:pt x="910" y="357"/>
                    </a:lnTo>
                    <a:lnTo>
                      <a:pt x="921" y="358"/>
                    </a:lnTo>
                    <a:lnTo>
                      <a:pt x="931" y="359"/>
                    </a:lnTo>
                    <a:lnTo>
                      <a:pt x="942" y="360"/>
                    </a:lnTo>
                    <a:lnTo>
                      <a:pt x="941" y="350"/>
                    </a:lnTo>
                    <a:lnTo>
                      <a:pt x="875" y="332"/>
                    </a:lnTo>
                    <a:lnTo>
                      <a:pt x="811" y="310"/>
                    </a:lnTo>
                    <a:lnTo>
                      <a:pt x="745" y="284"/>
                    </a:lnTo>
                    <a:lnTo>
                      <a:pt x="681" y="256"/>
                    </a:lnTo>
                    <a:lnTo>
                      <a:pt x="612" y="222"/>
                    </a:lnTo>
                    <a:lnTo>
                      <a:pt x="547" y="189"/>
                    </a:lnTo>
                    <a:lnTo>
                      <a:pt x="480" y="155"/>
                    </a:lnTo>
                    <a:lnTo>
                      <a:pt x="413" y="123"/>
                    </a:lnTo>
                    <a:lnTo>
                      <a:pt x="358" y="95"/>
                    </a:lnTo>
                    <a:lnTo>
                      <a:pt x="305" y="73"/>
                    </a:lnTo>
                    <a:lnTo>
                      <a:pt x="251" y="52"/>
                    </a:lnTo>
                    <a:lnTo>
                      <a:pt x="200" y="35"/>
                    </a:lnTo>
                    <a:lnTo>
                      <a:pt x="149" y="21"/>
                    </a:lnTo>
                    <a:lnTo>
                      <a:pt x="98" y="10"/>
                    </a:lnTo>
                    <a:lnTo>
                      <a:pt x="48"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76240" y="2363760"/>
                <a:ext cx="12960" cy="228600"/>
              </a:xfrm>
              <a:custGeom>
                <a:avLst/>
                <a:gdLst/>
                <a:ahLst/>
                <a:rect l="l" t="t" r="r" b="b"/>
                <a:pathLst>
                  <a:path w="33" h="573">
                    <a:moveTo>
                      <a:pt x="0" y="0"/>
                    </a:moveTo>
                    <a:lnTo>
                      <a:pt x="0" y="73"/>
                    </a:lnTo>
                    <a:lnTo>
                      <a:pt x="1" y="145"/>
                    </a:lnTo>
                    <a:lnTo>
                      <a:pt x="3" y="217"/>
                    </a:lnTo>
                    <a:lnTo>
                      <a:pt x="4" y="287"/>
                    </a:lnTo>
                    <a:lnTo>
                      <a:pt x="4" y="359"/>
                    </a:lnTo>
                    <a:lnTo>
                      <a:pt x="5" y="430"/>
                    </a:lnTo>
                    <a:lnTo>
                      <a:pt x="6" y="500"/>
                    </a:lnTo>
                    <a:lnTo>
                      <a:pt x="9" y="573"/>
                    </a:lnTo>
                    <a:lnTo>
                      <a:pt x="11" y="565"/>
                    </a:lnTo>
                    <a:lnTo>
                      <a:pt x="14" y="557"/>
                    </a:lnTo>
                    <a:lnTo>
                      <a:pt x="16" y="550"/>
                    </a:lnTo>
                    <a:lnTo>
                      <a:pt x="20" y="544"/>
                    </a:lnTo>
                    <a:lnTo>
                      <a:pt x="22" y="537"/>
                    </a:lnTo>
                    <a:lnTo>
                      <a:pt x="26" y="529"/>
                    </a:lnTo>
                    <a:lnTo>
                      <a:pt x="29" y="522"/>
                    </a:lnTo>
                    <a:lnTo>
                      <a:pt x="33" y="516"/>
                    </a:lnTo>
                    <a:lnTo>
                      <a:pt x="28" y="450"/>
                    </a:lnTo>
                    <a:lnTo>
                      <a:pt x="24" y="386"/>
                    </a:lnTo>
                    <a:lnTo>
                      <a:pt x="20" y="323"/>
                    </a:lnTo>
                    <a:lnTo>
                      <a:pt x="16" y="258"/>
                    </a:lnTo>
                    <a:lnTo>
                      <a:pt x="11" y="194"/>
                    </a:lnTo>
                    <a:lnTo>
                      <a:pt x="7" y="129"/>
                    </a:lnTo>
                    <a:lnTo>
                      <a:pt x="4"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673000" y="1755720"/>
                <a:ext cx="9720" cy="507960"/>
              </a:xfrm>
              <a:custGeom>
                <a:avLst/>
                <a:gdLst/>
                <a:ahLst/>
                <a:rect l="l" t="t" r="r" b="b"/>
                <a:pathLst>
                  <a:path w="24" h="1280">
                    <a:moveTo>
                      <a:pt x="0" y="0"/>
                    </a:moveTo>
                    <a:lnTo>
                      <a:pt x="0" y="163"/>
                    </a:lnTo>
                    <a:lnTo>
                      <a:pt x="1" y="326"/>
                    </a:lnTo>
                    <a:lnTo>
                      <a:pt x="2" y="486"/>
                    </a:lnTo>
                    <a:lnTo>
                      <a:pt x="3" y="647"/>
                    </a:lnTo>
                    <a:lnTo>
                      <a:pt x="3" y="805"/>
                    </a:lnTo>
                    <a:lnTo>
                      <a:pt x="5" y="963"/>
                    </a:lnTo>
                    <a:lnTo>
                      <a:pt x="6" y="1122"/>
                    </a:lnTo>
                    <a:lnTo>
                      <a:pt x="7" y="1280"/>
                    </a:lnTo>
                    <a:lnTo>
                      <a:pt x="8" y="1126"/>
                    </a:lnTo>
                    <a:lnTo>
                      <a:pt x="11" y="971"/>
                    </a:lnTo>
                    <a:lnTo>
                      <a:pt x="13" y="816"/>
                    </a:lnTo>
                    <a:lnTo>
                      <a:pt x="15" y="663"/>
                    </a:lnTo>
                    <a:lnTo>
                      <a:pt x="17" y="506"/>
                    </a:lnTo>
                    <a:lnTo>
                      <a:pt x="19" y="349"/>
                    </a:lnTo>
                    <a:lnTo>
                      <a:pt x="22" y="188"/>
                    </a:lnTo>
                    <a:lnTo>
                      <a:pt x="24" y="28"/>
                    </a:lnTo>
                    <a:lnTo>
                      <a:pt x="17" y="21"/>
                    </a:lnTo>
                    <a:lnTo>
                      <a:pt x="12" y="13"/>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39520" y="1719000"/>
                <a:ext cx="142920" cy="49320"/>
              </a:xfrm>
              <a:custGeom>
                <a:avLst/>
                <a:gdLst/>
                <a:ahLst/>
                <a:rect l="l" t="t" r="r" b="b"/>
                <a:pathLst>
                  <a:path w="364" h="123">
                    <a:moveTo>
                      <a:pt x="0" y="117"/>
                    </a:moveTo>
                    <a:lnTo>
                      <a:pt x="2" y="123"/>
                    </a:lnTo>
                    <a:lnTo>
                      <a:pt x="47" y="118"/>
                    </a:lnTo>
                    <a:lnTo>
                      <a:pt x="93" y="110"/>
                    </a:lnTo>
                    <a:lnTo>
                      <a:pt x="139" y="99"/>
                    </a:lnTo>
                    <a:lnTo>
                      <a:pt x="185" y="84"/>
                    </a:lnTo>
                    <a:lnTo>
                      <a:pt x="229" y="66"/>
                    </a:lnTo>
                    <a:lnTo>
                      <a:pt x="274" y="47"/>
                    </a:lnTo>
                    <a:lnTo>
                      <a:pt x="318" y="24"/>
                    </a:lnTo>
                    <a:lnTo>
                      <a:pt x="364" y="0"/>
                    </a:lnTo>
                    <a:lnTo>
                      <a:pt x="318" y="24"/>
                    </a:lnTo>
                    <a:lnTo>
                      <a:pt x="274" y="45"/>
                    </a:lnTo>
                    <a:lnTo>
                      <a:pt x="229" y="65"/>
                    </a:lnTo>
                    <a:lnTo>
                      <a:pt x="185" y="82"/>
                    </a:lnTo>
                    <a:lnTo>
                      <a:pt x="139" y="95"/>
                    </a:lnTo>
                    <a:lnTo>
                      <a:pt x="93" y="106"/>
                    </a:lnTo>
                    <a:lnTo>
                      <a:pt x="47" y="114"/>
                    </a:lnTo>
                    <a:lnTo>
                      <a:pt x="0" y="117"/>
                    </a:lnTo>
                    <a:lnTo>
                      <a:pt x="0" y="1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1442880" y="1660320"/>
                <a:ext cx="296640" cy="108000"/>
              </a:xfrm>
              <a:custGeom>
                <a:avLst/>
                <a:gdLst/>
                <a:ahLst/>
                <a:rect l="l" t="t" r="r" b="b"/>
                <a:pathLst>
                  <a:path w="748" h="269">
                    <a:moveTo>
                      <a:pt x="647" y="258"/>
                    </a:moveTo>
                    <a:lnTo>
                      <a:pt x="584" y="245"/>
                    </a:lnTo>
                    <a:lnTo>
                      <a:pt x="522" y="228"/>
                    </a:lnTo>
                    <a:lnTo>
                      <a:pt x="457" y="205"/>
                    </a:lnTo>
                    <a:lnTo>
                      <a:pt x="393" y="178"/>
                    </a:lnTo>
                    <a:lnTo>
                      <a:pt x="328" y="148"/>
                    </a:lnTo>
                    <a:lnTo>
                      <a:pt x="264" y="116"/>
                    </a:lnTo>
                    <a:lnTo>
                      <a:pt x="197" y="82"/>
                    </a:lnTo>
                    <a:lnTo>
                      <a:pt x="131" y="47"/>
                    </a:lnTo>
                    <a:lnTo>
                      <a:pt x="113" y="39"/>
                    </a:lnTo>
                    <a:lnTo>
                      <a:pt x="97" y="32"/>
                    </a:lnTo>
                    <a:lnTo>
                      <a:pt x="80" y="26"/>
                    </a:lnTo>
                    <a:lnTo>
                      <a:pt x="66" y="21"/>
                    </a:lnTo>
                    <a:lnTo>
                      <a:pt x="49" y="15"/>
                    </a:lnTo>
                    <a:lnTo>
                      <a:pt x="33" y="10"/>
                    </a:lnTo>
                    <a:lnTo>
                      <a:pt x="16" y="4"/>
                    </a:lnTo>
                    <a:lnTo>
                      <a:pt x="0" y="0"/>
                    </a:lnTo>
                    <a:lnTo>
                      <a:pt x="74" y="35"/>
                    </a:lnTo>
                    <a:lnTo>
                      <a:pt x="147" y="72"/>
                    </a:lnTo>
                    <a:lnTo>
                      <a:pt x="220" y="110"/>
                    </a:lnTo>
                    <a:lnTo>
                      <a:pt x="295" y="146"/>
                    </a:lnTo>
                    <a:lnTo>
                      <a:pt x="367" y="179"/>
                    </a:lnTo>
                    <a:lnTo>
                      <a:pt x="440" y="212"/>
                    </a:lnTo>
                    <a:lnTo>
                      <a:pt x="513" y="236"/>
                    </a:lnTo>
                    <a:lnTo>
                      <a:pt x="585" y="257"/>
                    </a:lnTo>
                    <a:lnTo>
                      <a:pt x="604" y="261"/>
                    </a:lnTo>
                    <a:lnTo>
                      <a:pt x="625" y="264"/>
                    </a:lnTo>
                    <a:lnTo>
                      <a:pt x="646" y="266"/>
                    </a:lnTo>
                    <a:lnTo>
                      <a:pt x="667" y="268"/>
                    </a:lnTo>
                    <a:lnTo>
                      <a:pt x="687" y="268"/>
                    </a:lnTo>
                    <a:lnTo>
                      <a:pt x="708" y="269"/>
                    </a:lnTo>
                    <a:lnTo>
                      <a:pt x="727" y="269"/>
                    </a:lnTo>
                    <a:lnTo>
                      <a:pt x="748" y="269"/>
                    </a:lnTo>
                    <a:lnTo>
                      <a:pt x="746" y="263"/>
                    </a:lnTo>
                    <a:lnTo>
                      <a:pt x="733" y="262"/>
                    </a:lnTo>
                    <a:lnTo>
                      <a:pt x="721" y="262"/>
                    </a:lnTo>
                    <a:lnTo>
                      <a:pt x="709" y="262"/>
                    </a:lnTo>
                    <a:lnTo>
                      <a:pt x="697" y="262"/>
                    </a:lnTo>
                    <a:lnTo>
                      <a:pt x="684" y="261"/>
                    </a:lnTo>
                    <a:lnTo>
                      <a:pt x="672" y="261"/>
                    </a:lnTo>
                    <a:lnTo>
                      <a:pt x="660" y="260"/>
                    </a:lnTo>
                    <a:lnTo>
                      <a:pt x="647" y="258"/>
                    </a:lnTo>
                    <a:lnTo>
                      <a:pt x="64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744560" y="1649160"/>
                <a:ext cx="433440" cy="481320"/>
              </a:xfrm>
              <a:custGeom>
                <a:avLst/>
                <a:gdLst/>
                <a:ahLst/>
                <a:rect l="l" t="t" r="r" b="b"/>
                <a:pathLst>
                  <a:path w="1089" h="1213">
                    <a:moveTo>
                      <a:pt x="509" y="1069"/>
                    </a:moveTo>
                    <a:lnTo>
                      <a:pt x="526" y="1004"/>
                    </a:lnTo>
                    <a:lnTo>
                      <a:pt x="542" y="937"/>
                    </a:lnTo>
                    <a:lnTo>
                      <a:pt x="557" y="872"/>
                    </a:lnTo>
                    <a:lnTo>
                      <a:pt x="573" y="808"/>
                    </a:lnTo>
                    <a:lnTo>
                      <a:pt x="587" y="742"/>
                    </a:lnTo>
                    <a:lnTo>
                      <a:pt x="603" y="678"/>
                    </a:lnTo>
                    <a:lnTo>
                      <a:pt x="619" y="613"/>
                    </a:lnTo>
                    <a:lnTo>
                      <a:pt x="636" y="549"/>
                    </a:lnTo>
                    <a:lnTo>
                      <a:pt x="637" y="540"/>
                    </a:lnTo>
                    <a:lnTo>
                      <a:pt x="639" y="533"/>
                    </a:lnTo>
                    <a:lnTo>
                      <a:pt x="641" y="526"/>
                    </a:lnTo>
                    <a:lnTo>
                      <a:pt x="643" y="518"/>
                    </a:lnTo>
                    <a:lnTo>
                      <a:pt x="644" y="511"/>
                    </a:lnTo>
                    <a:lnTo>
                      <a:pt x="647" y="504"/>
                    </a:lnTo>
                    <a:lnTo>
                      <a:pt x="648" y="496"/>
                    </a:lnTo>
                    <a:lnTo>
                      <a:pt x="650" y="489"/>
                    </a:lnTo>
                    <a:lnTo>
                      <a:pt x="654" y="499"/>
                    </a:lnTo>
                    <a:lnTo>
                      <a:pt x="659" y="509"/>
                    </a:lnTo>
                    <a:lnTo>
                      <a:pt x="663" y="520"/>
                    </a:lnTo>
                    <a:lnTo>
                      <a:pt x="667" y="531"/>
                    </a:lnTo>
                    <a:lnTo>
                      <a:pt x="683" y="576"/>
                    </a:lnTo>
                    <a:lnTo>
                      <a:pt x="701" y="622"/>
                    </a:lnTo>
                    <a:lnTo>
                      <a:pt x="717" y="667"/>
                    </a:lnTo>
                    <a:lnTo>
                      <a:pt x="737" y="712"/>
                    </a:lnTo>
                    <a:lnTo>
                      <a:pt x="754" y="757"/>
                    </a:lnTo>
                    <a:lnTo>
                      <a:pt x="772" y="802"/>
                    </a:lnTo>
                    <a:lnTo>
                      <a:pt x="790" y="847"/>
                    </a:lnTo>
                    <a:lnTo>
                      <a:pt x="808" y="895"/>
                    </a:lnTo>
                    <a:lnTo>
                      <a:pt x="841" y="881"/>
                    </a:lnTo>
                    <a:lnTo>
                      <a:pt x="877" y="869"/>
                    </a:lnTo>
                    <a:lnTo>
                      <a:pt x="911" y="856"/>
                    </a:lnTo>
                    <a:lnTo>
                      <a:pt x="947" y="849"/>
                    </a:lnTo>
                    <a:lnTo>
                      <a:pt x="981" y="842"/>
                    </a:lnTo>
                    <a:lnTo>
                      <a:pt x="1016" y="838"/>
                    </a:lnTo>
                    <a:lnTo>
                      <a:pt x="1053" y="836"/>
                    </a:lnTo>
                    <a:lnTo>
                      <a:pt x="1089" y="837"/>
                    </a:lnTo>
                    <a:lnTo>
                      <a:pt x="940" y="2"/>
                    </a:lnTo>
                    <a:lnTo>
                      <a:pt x="911" y="0"/>
                    </a:lnTo>
                    <a:lnTo>
                      <a:pt x="881" y="2"/>
                    </a:lnTo>
                    <a:lnTo>
                      <a:pt x="853" y="5"/>
                    </a:lnTo>
                    <a:lnTo>
                      <a:pt x="825" y="10"/>
                    </a:lnTo>
                    <a:lnTo>
                      <a:pt x="796" y="15"/>
                    </a:lnTo>
                    <a:lnTo>
                      <a:pt x="770" y="22"/>
                    </a:lnTo>
                    <a:lnTo>
                      <a:pt x="742" y="31"/>
                    </a:lnTo>
                    <a:lnTo>
                      <a:pt x="714" y="42"/>
                    </a:lnTo>
                    <a:lnTo>
                      <a:pt x="625" y="82"/>
                    </a:lnTo>
                    <a:lnTo>
                      <a:pt x="539" y="132"/>
                    </a:lnTo>
                    <a:lnTo>
                      <a:pt x="452" y="183"/>
                    </a:lnTo>
                    <a:lnTo>
                      <a:pt x="368" y="236"/>
                    </a:lnTo>
                    <a:lnTo>
                      <a:pt x="281" y="282"/>
                    </a:lnTo>
                    <a:lnTo>
                      <a:pt x="195" y="324"/>
                    </a:lnTo>
                    <a:lnTo>
                      <a:pt x="103" y="353"/>
                    </a:lnTo>
                    <a:lnTo>
                      <a:pt x="11" y="370"/>
                    </a:lnTo>
                    <a:lnTo>
                      <a:pt x="5" y="370"/>
                    </a:lnTo>
                    <a:lnTo>
                      <a:pt x="0" y="370"/>
                    </a:lnTo>
                    <a:lnTo>
                      <a:pt x="170" y="1213"/>
                    </a:lnTo>
                    <a:lnTo>
                      <a:pt x="214" y="1204"/>
                    </a:lnTo>
                    <a:lnTo>
                      <a:pt x="258" y="1192"/>
                    </a:lnTo>
                    <a:lnTo>
                      <a:pt x="300" y="1177"/>
                    </a:lnTo>
                    <a:lnTo>
                      <a:pt x="344" y="1162"/>
                    </a:lnTo>
                    <a:lnTo>
                      <a:pt x="385" y="1141"/>
                    </a:lnTo>
                    <a:lnTo>
                      <a:pt x="427" y="1119"/>
                    </a:lnTo>
                    <a:lnTo>
                      <a:pt x="467" y="1094"/>
                    </a:lnTo>
                    <a:lnTo>
                      <a:pt x="509" y="1069"/>
                    </a:lnTo>
                    <a:lnTo>
                      <a:pt x="509" y="106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71640" y="2033640"/>
                <a:ext cx="392040" cy="576000"/>
              </a:xfrm>
              <a:custGeom>
                <a:avLst/>
                <a:gdLst/>
                <a:ahLst/>
                <a:rect l="l" t="t" r="r" b="b"/>
                <a:pathLst>
                  <a:path w="986" h="1453">
                    <a:moveTo>
                      <a:pt x="583" y="217"/>
                    </a:moveTo>
                    <a:lnTo>
                      <a:pt x="597" y="265"/>
                    </a:lnTo>
                    <a:lnTo>
                      <a:pt x="611" y="315"/>
                    </a:lnTo>
                    <a:lnTo>
                      <a:pt x="627" y="364"/>
                    </a:lnTo>
                    <a:lnTo>
                      <a:pt x="642" y="414"/>
                    </a:lnTo>
                    <a:lnTo>
                      <a:pt x="656" y="461"/>
                    </a:lnTo>
                    <a:lnTo>
                      <a:pt x="671" y="510"/>
                    </a:lnTo>
                    <a:lnTo>
                      <a:pt x="686" y="560"/>
                    </a:lnTo>
                    <a:lnTo>
                      <a:pt x="700" y="611"/>
                    </a:lnTo>
                    <a:lnTo>
                      <a:pt x="703" y="622"/>
                    </a:lnTo>
                    <a:lnTo>
                      <a:pt x="706" y="634"/>
                    </a:lnTo>
                    <a:lnTo>
                      <a:pt x="710" y="645"/>
                    </a:lnTo>
                    <a:lnTo>
                      <a:pt x="714" y="658"/>
                    </a:lnTo>
                    <a:lnTo>
                      <a:pt x="703" y="653"/>
                    </a:lnTo>
                    <a:lnTo>
                      <a:pt x="694" y="650"/>
                    </a:lnTo>
                    <a:lnTo>
                      <a:pt x="683" y="645"/>
                    </a:lnTo>
                    <a:lnTo>
                      <a:pt x="675" y="641"/>
                    </a:lnTo>
                    <a:lnTo>
                      <a:pt x="631" y="625"/>
                    </a:lnTo>
                    <a:lnTo>
                      <a:pt x="588" y="612"/>
                    </a:lnTo>
                    <a:lnTo>
                      <a:pt x="548" y="600"/>
                    </a:lnTo>
                    <a:lnTo>
                      <a:pt x="508" y="591"/>
                    </a:lnTo>
                    <a:lnTo>
                      <a:pt x="468" y="582"/>
                    </a:lnTo>
                    <a:lnTo>
                      <a:pt x="428" y="573"/>
                    </a:lnTo>
                    <a:lnTo>
                      <a:pt x="387" y="566"/>
                    </a:lnTo>
                    <a:lnTo>
                      <a:pt x="346" y="560"/>
                    </a:lnTo>
                    <a:lnTo>
                      <a:pt x="306" y="616"/>
                    </a:lnTo>
                    <a:lnTo>
                      <a:pt x="266" y="674"/>
                    </a:lnTo>
                    <a:lnTo>
                      <a:pt x="226" y="728"/>
                    </a:lnTo>
                    <a:lnTo>
                      <a:pt x="186" y="782"/>
                    </a:lnTo>
                    <a:lnTo>
                      <a:pt x="145" y="832"/>
                    </a:lnTo>
                    <a:lnTo>
                      <a:pt x="106" y="880"/>
                    </a:lnTo>
                    <a:lnTo>
                      <a:pt x="63" y="926"/>
                    </a:lnTo>
                    <a:lnTo>
                      <a:pt x="22" y="968"/>
                    </a:lnTo>
                    <a:lnTo>
                      <a:pt x="11" y="977"/>
                    </a:lnTo>
                    <a:lnTo>
                      <a:pt x="0" y="988"/>
                    </a:lnTo>
                    <a:lnTo>
                      <a:pt x="92" y="1453"/>
                    </a:lnTo>
                    <a:lnTo>
                      <a:pt x="132" y="1444"/>
                    </a:lnTo>
                    <a:lnTo>
                      <a:pt x="175" y="1434"/>
                    </a:lnTo>
                    <a:lnTo>
                      <a:pt x="218" y="1419"/>
                    </a:lnTo>
                    <a:lnTo>
                      <a:pt x="260" y="1405"/>
                    </a:lnTo>
                    <a:lnTo>
                      <a:pt x="301" y="1385"/>
                    </a:lnTo>
                    <a:lnTo>
                      <a:pt x="343" y="1366"/>
                    </a:lnTo>
                    <a:lnTo>
                      <a:pt x="384" y="1344"/>
                    </a:lnTo>
                    <a:lnTo>
                      <a:pt x="427" y="1321"/>
                    </a:lnTo>
                    <a:lnTo>
                      <a:pt x="494" y="1276"/>
                    </a:lnTo>
                    <a:lnTo>
                      <a:pt x="563" y="1237"/>
                    </a:lnTo>
                    <a:lnTo>
                      <a:pt x="631" y="1201"/>
                    </a:lnTo>
                    <a:lnTo>
                      <a:pt x="700" y="1169"/>
                    </a:lnTo>
                    <a:lnTo>
                      <a:pt x="769" y="1140"/>
                    </a:lnTo>
                    <a:lnTo>
                      <a:pt x="841" y="1120"/>
                    </a:lnTo>
                    <a:lnTo>
                      <a:pt x="912" y="1107"/>
                    </a:lnTo>
                    <a:lnTo>
                      <a:pt x="986" y="1102"/>
                    </a:lnTo>
                    <a:lnTo>
                      <a:pt x="790" y="0"/>
                    </a:lnTo>
                    <a:lnTo>
                      <a:pt x="763" y="22"/>
                    </a:lnTo>
                    <a:lnTo>
                      <a:pt x="737" y="45"/>
                    </a:lnTo>
                    <a:lnTo>
                      <a:pt x="711" y="70"/>
                    </a:lnTo>
                    <a:lnTo>
                      <a:pt x="686" y="96"/>
                    </a:lnTo>
                    <a:lnTo>
                      <a:pt x="660" y="123"/>
                    </a:lnTo>
                    <a:lnTo>
                      <a:pt x="635" y="154"/>
                    </a:lnTo>
                    <a:lnTo>
                      <a:pt x="608" y="184"/>
                    </a:lnTo>
                    <a:lnTo>
                      <a:pt x="583" y="217"/>
                    </a:lnTo>
                    <a:lnTo>
                      <a:pt x="583" y="217"/>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52400" y="1776240"/>
                <a:ext cx="101520" cy="838440"/>
              </a:xfrm>
              <a:custGeom>
                <a:avLst/>
                <a:gdLst/>
                <a:ahLst/>
                <a:rect l="l" t="t" r="r" b="b"/>
                <a:pathLst>
                  <a:path w="255" h="2110">
                    <a:moveTo>
                      <a:pt x="255" y="2110"/>
                    </a:moveTo>
                    <a:lnTo>
                      <a:pt x="254" y="1985"/>
                    </a:lnTo>
                    <a:lnTo>
                      <a:pt x="254" y="1859"/>
                    </a:lnTo>
                    <a:lnTo>
                      <a:pt x="254" y="1734"/>
                    </a:lnTo>
                    <a:lnTo>
                      <a:pt x="254" y="1610"/>
                    </a:lnTo>
                    <a:lnTo>
                      <a:pt x="254" y="1484"/>
                    </a:lnTo>
                    <a:lnTo>
                      <a:pt x="254" y="1357"/>
                    </a:lnTo>
                    <a:lnTo>
                      <a:pt x="254" y="1230"/>
                    </a:lnTo>
                    <a:lnTo>
                      <a:pt x="254" y="1102"/>
                    </a:lnTo>
                    <a:lnTo>
                      <a:pt x="254" y="1095"/>
                    </a:lnTo>
                    <a:lnTo>
                      <a:pt x="254" y="1087"/>
                    </a:lnTo>
                    <a:lnTo>
                      <a:pt x="254" y="1080"/>
                    </a:lnTo>
                    <a:lnTo>
                      <a:pt x="254" y="1074"/>
                    </a:lnTo>
                    <a:lnTo>
                      <a:pt x="254" y="1067"/>
                    </a:lnTo>
                    <a:lnTo>
                      <a:pt x="254" y="1061"/>
                    </a:lnTo>
                    <a:lnTo>
                      <a:pt x="254" y="1053"/>
                    </a:lnTo>
                    <a:lnTo>
                      <a:pt x="254" y="1047"/>
                    </a:lnTo>
                    <a:lnTo>
                      <a:pt x="253" y="916"/>
                    </a:lnTo>
                    <a:lnTo>
                      <a:pt x="252" y="787"/>
                    </a:lnTo>
                    <a:lnTo>
                      <a:pt x="250" y="657"/>
                    </a:lnTo>
                    <a:lnTo>
                      <a:pt x="249" y="528"/>
                    </a:lnTo>
                    <a:lnTo>
                      <a:pt x="248" y="397"/>
                    </a:lnTo>
                    <a:lnTo>
                      <a:pt x="247" y="266"/>
                    </a:lnTo>
                    <a:lnTo>
                      <a:pt x="246" y="133"/>
                    </a:lnTo>
                    <a:lnTo>
                      <a:pt x="244" y="0"/>
                    </a:lnTo>
                    <a:lnTo>
                      <a:pt x="214" y="10"/>
                    </a:lnTo>
                    <a:lnTo>
                      <a:pt x="184" y="18"/>
                    </a:lnTo>
                    <a:lnTo>
                      <a:pt x="152" y="26"/>
                    </a:lnTo>
                    <a:lnTo>
                      <a:pt x="123" y="32"/>
                    </a:lnTo>
                    <a:lnTo>
                      <a:pt x="91" y="34"/>
                    </a:lnTo>
                    <a:lnTo>
                      <a:pt x="61" y="38"/>
                    </a:lnTo>
                    <a:lnTo>
                      <a:pt x="30" y="38"/>
                    </a:lnTo>
                    <a:lnTo>
                      <a:pt x="0" y="39"/>
                    </a:lnTo>
                    <a:lnTo>
                      <a:pt x="218" y="2101"/>
                    </a:lnTo>
                    <a:lnTo>
                      <a:pt x="226" y="2103"/>
                    </a:lnTo>
                    <a:lnTo>
                      <a:pt x="236" y="2105"/>
                    </a:lnTo>
                    <a:lnTo>
                      <a:pt x="244" y="2108"/>
                    </a:lnTo>
                    <a:lnTo>
                      <a:pt x="255" y="2110"/>
                    </a:lnTo>
                    <a:lnTo>
                      <a:pt x="255" y="211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14440" y="1674720"/>
                <a:ext cx="495000" cy="939960"/>
              </a:xfrm>
              <a:custGeom>
                <a:avLst/>
                <a:gdLst/>
                <a:ahLst/>
                <a:rect l="l" t="t" r="r" b="b"/>
                <a:pathLst>
                  <a:path w="1246" h="2368">
                    <a:moveTo>
                      <a:pt x="1136" y="1908"/>
                    </a:moveTo>
                    <a:lnTo>
                      <a:pt x="1138" y="1897"/>
                    </a:lnTo>
                    <a:lnTo>
                      <a:pt x="1141" y="1886"/>
                    </a:lnTo>
                    <a:lnTo>
                      <a:pt x="1143" y="1875"/>
                    </a:lnTo>
                    <a:lnTo>
                      <a:pt x="1147" y="1866"/>
                    </a:lnTo>
                    <a:lnTo>
                      <a:pt x="1025" y="1260"/>
                    </a:lnTo>
                    <a:lnTo>
                      <a:pt x="1013" y="1252"/>
                    </a:lnTo>
                    <a:lnTo>
                      <a:pt x="1001" y="1243"/>
                    </a:lnTo>
                    <a:lnTo>
                      <a:pt x="989" y="1235"/>
                    </a:lnTo>
                    <a:lnTo>
                      <a:pt x="978" y="1226"/>
                    </a:lnTo>
                    <a:lnTo>
                      <a:pt x="966" y="1216"/>
                    </a:lnTo>
                    <a:lnTo>
                      <a:pt x="953" y="1208"/>
                    </a:lnTo>
                    <a:lnTo>
                      <a:pt x="941" y="1198"/>
                    </a:lnTo>
                    <a:lnTo>
                      <a:pt x="929" y="1190"/>
                    </a:lnTo>
                    <a:lnTo>
                      <a:pt x="919" y="1181"/>
                    </a:lnTo>
                    <a:lnTo>
                      <a:pt x="910" y="1171"/>
                    </a:lnTo>
                    <a:lnTo>
                      <a:pt x="900" y="1163"/>
                    </a:lnTo>
                    <a:lnTo>
                      <a:pt x="890" y="1156"/>
                    </a:lnTo>
                    <a:lnTo>
                      <a:pt x="902" y="1156"/>
                    </a:lnTo>
                    <a:lnTo>
                      <a:pt x="915" y="1156"/>
                    </a:lnTo>
                    <a:lnTo>
                      <a:pt x="927" y="1156"/>
                    </a:lnTo>
                    <a:lnTo>
                      <a:pt x="941" y="1156"/>
                    </a:lnTo>
                    <a:lnTo>
                      <a:pt x="949" y="1154"/>
                    </a:lnTo>
                    <a:lnTo>
                      <a:pt x="956" y="1154"/>
                    </a:lnTo>
                    <a:lnTo>
                      <a:pt x="963" y="1153"/>
                    </a:lnTo>
                    <a:lnTo>
                      <a:pt x="972" y="1153"/>
                    </a:lnTo>
                    <a:lnTo>
                      <a:pt x="979" y="1152"/>
                    </a:lnTo>
                    <a:lnTo>
                      <a:pt x="987" y="1152"/>
                    </a:lnTo>
                    <a:lnTo>
                      <a:pt x="995" y="1151"/>
                    </a:lnTo>
                    <a:lnTo>
                      <a:pt x="1003" y="1151"/>
                    </a:lnTo>
                    <a:lnTo>
                      <a:pt x="833" y="308"/>
                    </a:lnTo>
                    <a:lnTo>
                      <a:pt x="737" y="302"/>
                    </a:lnTo>
                    <a:lnTo>
                      <a:pt x="640" y="281"/>
                    </a:lnTo>
                    <a:lnTo>
                      <a:pt x="541" y="248"/>
                    </a:lnTo>
                    <a:lnTo>
                      <a:pt x="442" y="208"/>
                    </a:lnTo>
                    <a:lnTo>
                      <a:pt x="341" y="160"/>
                    </a:lnTo>
                    <a:lnTo>
                      <a:pt x="239" y="111"/>
                    </a:lnTo>
                    <a:lnTo>
                      <a:pt x="138" y="61"/>
                    </a:lnTo>
                    <a:lnTo>
                      <a:pt x="36" y="14"/>
                    </a:lnTo>
                    <a:lnTo>
                      <a:pt x="26" y="10"/>
                    </a:lnTo>
                    <a:lnTo>
                      <a:pt x="17" y="6"/>
                    </a:lnTo>
                    <a:lnTo>
                      <a:pt x="9" y="3"/>
                    </a:lnTo>
                    <a:lnTo>
                      <a:pt x="0" y="0"/>
                    </a:lnTo>
                    <a:lnTo>
                      <a:pt x="134" y="2014"/>
                    </a:lnTo>
                    <a:lnTo>
                      <a:pt x="218" y="2032"/>
                    </a:lnTo>
                    <a:lnTo>
                      <a:pt x="303" y="2062"/>
                    </a:lnTo>
                    <a:lnTo>
                      <a:pt x="391" y="2096"/>
                    </a:lnTo>
                    <a:lnTo>
                      <a:pt x="478" y="2137"/>
                    </a:lnTo>
                    <a:lnTo>
                      <a:pt x="567" y="2180"/>
                    </a:lnTo>
                    <a:lnTo>
                      <a:pt x="656" y="2225"/>
                    </a:lnTo>
                    <a:lnTo>
                      <a:pt x="746" y="2267"/>
                    </a:lnTo>
                    <a:lnTo>
                      <a:pt x="835" y="2307"/>
                    </a:lnTo>
                    <a:lnTo>
                      <a:pt x="888" y="2328"/>
                    </a:lnTo>
                    <a:lnTo>
                      <a:pt x="942" y="2344"/>
                    </a:lnTo>
                    <a:lnTo>
                      <a:pt x="994" y="2356"/>
                    </a:lnTo>
                    <a:lnTo>
                      <a:pt x="1046" y="2364"/>
                    </a:lnTo>
                    <a:lnTo>
                      <a:pt x="1096" y="2368"/>
                    </a:lnTo>
                    <a:lnTo>
                      <a:pt x="1147" y="2368"/>
                    </a:lnTo>
                    <a:lnTo>
                      <a:pt x="1197" y="2366"/>
                    </a:lnTo>
                    <a:lnTo>
                      <a:pt x="1246" y="2359"/>
                    </a:lnTo>
                    <a:lnTo>
                      <a:pt x="1154" y="1894"/>
                    </a:lnTo>
                    <a:lnTo>
                      <a:pt x="1143" y="1901"/>
                    </a:lnTo>
                    <a:lnTo>
                      <a:pt x="1136" y="1908"/>
                    </a:lnTo>
                    <a:lnTo>
                      <a:pt x="1136" y="1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92120" y="1666800"/>
                <a:ext cx="75960" cy="806400"/>
              </a:xfrm>
              <a:custGeom>
                <a:avLst/>
                <a:gdLst/>
                <a:ahLst/>
                <a:rect l="l" t="t" r="r" b="b"/>
                <a:pathLst>
                  <a:path w="190" h="2034">
                    <a:moveTo>
                      <a:pt x="5" y="0"/>
                    </a:moveTo>
                    <a:lnTo>
                      <a:pt x="3" y="246"/>
                    </a:lnTo>
                    <a:lnTo>
                      <a:pt x="2" y="494"/>
                    </a:lnTo>
                    <a:lnTo>
                      <a:pt x="0" y="742"/>
                    </a:lnTo>
                    <a:lnTo>
                      <a:pt x="0" y="993"/>
                    </a:lnTo>
                    <a:lnTo>
                      <a:pt x="0" y="1246"/>
                    </a:lnTo>
                    <a:lnTo>
                      <a:pt x="0" y="1504"/>
                    </a:lnTo>
                    <a:lnTo>
                      <a:pt x="2" y="1766"/>
                    </a:lnTo>
                    <a:lnTo>
                      <a:pt x="4" y="2034"/>
                    </a:lnTo>
                    <a:lnTo>
                      <a:pt x="13" y="2032"/>
                    </a:lnTo>
                    <a:lnTo>
                      <a:pt x="22" y="2031"/>
                    </a:lnTo>
                    <a:lnTo>
                      <a:pt x="32" y="2028"/>
                    </a:lnTo>
                    <a:lnTo>
                      <a:pt x="42" y="2028"/>
                    </a:lnTo>
                    <a:lnTo>
                      <a:pt x="52" y="2027"/>
                    </a:lnTo>
                    <a:lnTo>
                      <a:pt x="61" y="2026"/>
                    </a:lnTo>
                    <a:lnTo>
                      <a:pt x="71" y="2026"/>
                    </a:lnTo>
                    <a:lnTo>
                      <a:pt x="82" y="2026"/>
                    </a:lnTo>
                    <a:lnTo>
                      <a:pt x="94" y="2025"/>
                    </a:lnTo>
                    <a:lnTo>
                      <a:pt x="107" y="2025"/>
                    </a:lnTo>
                    <a:lnTo>
                      <a:pt x="121" y="2026"/>
                    </a:lnTo>
                    <a:lnTo>
                      <a:pt x="135" y="2027"/>
                    </a:lnTo>
                    <a:lnTo>
                      <a:pt x="148" y="2027"/>
                    </a:lnTo>
                    <a:lnTo>
                      <a:pt x="162" y="2029"/>
                    </a:lnTo>
                    <a:lnTo>
                      <a:pt x="175" y="2031"/>
                    </a:lnTo>
                    <a:lnTo>
                      <a:pt x="190" y="2033"/>
                    </a:lnTo>
                    <a:lnTo>
                      <a:pt x="56" y="19"/>
                    </a:lnTo>
                    <a:lnTo>
                      <a:pt x="43" y="13"/>
                    </a:lnTo>
                    <a:lnTo>
                      <a:pt x="31" y="8"/>
                    </a:lnTo>
                    <a:lnTo>
                      <a:pt x="17" y="4"/>
                    </a:lnTo>
                    <a:lnTo>
                      <a:pt x="5" y="0"/>
                    </a:lnTo>
                    <a:lnTo>
                      <a:pt x="5"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20520" y="2174760"/>
                <a:ext cx="92160" cy="239760"/>
              </a:xfrm>
              <a:custGeom>
                <a:avLst/>
                <a:gdLst/>
                <a:ahLst/>
                <a:rect l="l" t="t" r="r" b="b"/>
                <a:pathLst>
                  <a:path w="232" h="606">
                    <a:moveTo>
                      <a:pt x="232" y="132"/>
                    </a:moveTo>
                    <a:lnTo>
                      <a:pt x="203" y="118"/>
                    </a:lnTo>
                    <a:lnTo>
                      <a:pt x="174" y="105"/>
                    </a:lnTo>
                    <a:lnTo>
                      <a:pt x="145" y="89"/>
                    </a:lnTo>
                    <a:lnTo>
                      <a:pt x="116" y="74"/>
                    </a:lnTo>
                    <a:lnTo>
                      <a:pt x="86" y="56"/>
                    </a:lnTo>
                    <a:lnTo>
                      <a:pt x="57" y="38"/>
                    </a:lnTo>
                    <a:lnTo>
                      <a:pt x="28" y="18"/>
                    </a:lnTo>
                    <a:lnTo>
                      <a:pt x="0" y="0"/>
                    </a:lnTo>
                    <a:lnTo>
                      <a:pt x="122" y="606"/>
                    </a:lnTo>
                    <a:lnTo>
                      <a:pt x="122" y="602"/>
                    </a:lnTo>
                    <a:lnTo>
                      <a:pt x="123" y="598"/>
                    </a:lnTo>
                    <a:lnTo>
                      <a:pt x="137" y="541"/>
                    </a:lnTo>
                    <a:lnTo>
                      <a:pt x="152" y="485"/>
                    </a:lnTo>
                    <a:lnTo>
                      <a:pt x="165" y="428"/>
                    </a:lnTo>
                    <a:lnTo>
                      <a:pt x="179" y="371"/>
                    </a:lnTo>
                    <a:lnTo>
                      <a:pt x="191" y="313"/>
                    </a:lnTo>
                    <a:lnTo>
                      <a:pt x="206" y="253"/>
                    </a:lnTo>
                    <a:lnTo>
                      <a:pt x="218" y="194"/>
                    </a:lnTo>
                    <a:lnTo>
                      <a:pt x="232" y="132"/>
                    </a:lnTo>
                    <a:lnTo>
                      <a:pt x="232" y="13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17520" y="1649160"/>
                <a:ext cx="520560" cy="960480"/>
              </a:xfrm>
              <a:custGeom>
                <a:avLst/>
                <a:gdLst/>
                <a:ahLst/>
                <a:rect l="l" t="t" r="r" b="b"/>
                <a:pathLst>
                  <a:path w="1313" h="2419">
                    <a:moveTo>
                      <a:pt x="0" y="0"/>
                    </a:moveTo>
                    <a:lnTo>
                      <a:pt x="149" y="835"/>
                    </a:lnTo>
                    <a:lnTo>
                      <a:pt x="165" y="835"/>
                    </a:lnTo>
                    <a:lnTo>
                      <a:pt x="182" y="836"/>
                    </a:lnTo>
                    <a:lnTo>
                      <a:pt x="198" y="837"/>
                    </a:lnTo>
                    <a:lnTo>
                      <a:pt x="216" y="840"/>
                    </a:lnTo>
                    <a:lnTo>
                      <a:pt x="233" y="842"/>
                    </a:lnTo>
                    <a:lnTo>
                      <a:pt x="250" y="845"/>
                    </a:lnTo>
                    <a:lnTo>
                      <a:pt x="267" y="848"/>
                    </a:lnTo>
                    <a:lnTo>
                      <a:pt x="285" y="853"/>
                    </a:lnTo>
                    <a:lnTo>
                      <a:pt x="298" y="856"/>
                    </a:lnTo>
                    <a:lnTo>
                      <a:pt x="311" y="860"/>
                    </a:lnTo>
                    <a:lnTo>
                      <a:pt x="323" y="864"/>
                    </a:lnTo>
                    <a:lnTo>
                      <a:pt x="336" y="869"/>
                    </a:lnTo>
                    <a:lnTo>
                      <a:pt x="326" y="873"/>
                    </a:lnTo>
                    <a:lnTo>
                      <a:pt x="316" y="878"/>
                    </a:lnTo>
                    <a:lnTo>
                      <a:pt x="306" y="882"/>
                    </a:lnTo>
                    <a:lnTo>
                      <a:pt x="296" y="888"/>
                    </a:lnTo>
                    <a:lnTo>
                      <a:pt x="279" y="896"/>
                    </a:lnTo>
                    <a:lnTo>
                      <a:pt x="264" y="904"/>
                    </a:lnTo>
                    <a:lnTo>
                      <a:pt x="248" y="913"/>
                    </a:lnTo>
                    <a:lnTo>
                      <a:pt x="233" y="924"/>
                    </a:lnTo>
                    <a:lnTo>
                      <a:pt x="217" y="932"/>
                    </a:lnTo>
                    <a:lnTo>
                      <a:pt x="200" y="943"/>
                    </a:lnTo>
                    <a:lnTo>
                      <a:pt x="186" y="954"/>
                    </a:lnTo>
                    <a:lnTo>
                      <a:pt x="171" y="966"/>
                    </a:lnTo>
                    <a:lnTo>
                      <a:pt x="367" y="2068"/>
                    </a:lnTo>
                    <a:lnTo>
                      <a:pt x="386" y="2067"/>
                    </a:lnTo>
                    <a:lnTo>
                      <a:pt x="407" y="2068"/>
                    </a:lnTo>
                    <a:lnTo>
                      <a:pt x="428" y="2068"/>
                    </a:lnTo>
                    <a:lnTo>
                      <a:pt x="449" y="2072"/>
                    </a:lnTo>
                    <a:lnTo>
                      <a:pt x="470" y="2074"/>
                    </a:lnTo>
                    <a:lnTo>
                      <a:pt x="491" y="2078"/>
                    </a:lnTo>
                    <a:lnTo>
                      <a:pt x="513" y="2081"/>
                    </a:lnTo>
                    <a:lnTo>
                      <a:pt x="535" y="2089"/>
                    </a:lnTo>
                    <a:lnTo>
                      <a:pt x="629" y="2120"/>
                    </a:lnTo>
                    <a:lnTo>
                      <a:pt x="728" y="2163"/>
                    </a:lnTo>
                    <a:lnTo>
                      <a:pt x="825" y="2209"/>
                    </a:lnTo>
                    <a:lnTo>
                      <a:pt x="925" y="2260"/>
                    </a:lnTo>
                    <a:lnTo>
                      <a:pt x="1021" y="2308"/>
                    </a:lnTo>
                    <a:lnTo>
                      <a:pt x="1119" y="2353"/>
                    </a:lnTo>
                    <a:lnTo>
                      <a:pt x="1215" y="2392"/>
                    </a:lnTo>
                    <a:lnTo>
                      <a:pt x="1313" y="2419"/>
                    </a:lnTo>
                    <a:lnTo>
                      <a:pt x="1095" y="357"/>
                    </a:lnTo>
                    <a:lnTo>
                      <a:pt x="1029" y="349"/>
                    </a:lnTo>
                    <a:lnTo>
                      <a:pt x="965" y="336"/>
                    </a:lnTo>
                    <a:lnTo>
                      <a:pt x="898" y="319"/>
                    </a:lnTo>
                    <a:lnTo>
                      <a:pt x="831" y="300"/>
                    </a:lnTo>
                    <a:lnTo>
                      <a:pt x="763" y="273"/>
                    </a:lnTo>
                    <a:lnTo>
                      <a:pt x="696" y="244"/>
                    </a:lnTo>
                    <a:lnTo>
                      <a:pt x="626" y="211"/>
                    </a:lnTo>
                    <a:lnTo>
                      <a:pt x="556" y="177"/>
                    </a:lnTo>
                    <a:lnTo>
                      <a:pt x="484" y="139"/>
                    </a:lnTo>
                    <a:lnTo>
                      <a:pt x="411" y="107"/>
                    </a:lnTo>
                    <a:lnTo>
                      <a:pt x="340" y="75"/>
                    </a:lnTo>
                    <a:lnTo>
                      <a:pt x="271" y="51"/>
                    </a:lnTo>
                    <a:lnTo>
                      <a:pt x="200" y="29"/>
                    </a:lnTo>
                    <a:lnTo>
                      <a:pt x="133" y="13"/>
                    </a:lnTo>
                    <a:lnTo>
                      <a:pt x="67" y="2"/>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19080" y="2025720"/>
                <a:ext cx="366840" cy="399960"/>
              </a:xfrm>
              <a:custGeom>
                <a:avLst/>
                <a:gdLst/>
                <a:ahLst/>
                <a:rect l="l" t="t" r="r" b="b"/>
                <a:pathLst>
                  <a:path w="924" h="1007">
                    <a:moveTo>
                      <a:pt x="698" y="237"/>
                    </a:moveTo>
                    <a:lnTo>
                      <a:pt x="713" y="287"/>
                    </a:lnTo>
                    <a:lnTo>
                      <a:pt x="727" y="338"/>
                    </a:lnTo>
                    <a:lnTo>
                      <a:pt x="742" y="388"/>
                    </a:lnTo>
                    <a:lnTo>
                      <a:pt x="758" y="439"/>
                    </a:lnTo>
                    <a:lnTo>
                      <a:pt x="772" y="487"/>
                    </a:lnTo>
                    <a:lnTo>
                      <a:pt x="787" y="539"/>
                    </a:lnTo>
                    <a:lnTo>
                      <a:pt x="801" y="590"/>
                    </a:lnTo>
                    <a:lnTo>
                      <a:pt x="817" y="641"/>
                    </a:lnTo>
                    <a:lnTo>
                      <a:pt x="773" y="624"/>
                    </a:lnTo>
                    <a:lnTo>
                      <a:pt x="730" y="610"/>
                    </a:lnTo>
                    <a:lnTo>
                      <a:pt x="687" y="597"/>
                    </a:lnTo>
                    <a:lnTo>
                      <a:pt x="646" y="587"/>
                    </a:lnTo>
                    <a:lnTo>
                      <a:pt x="604" y="576"/>
                    </a:lnTo>
                    <a:lnTo>
                      <a:pt x="563" y="569"/>
                    </a:lnTo>
                    <a:lnTo>
                      <a:pt x="521" y="562"/>
                    </a:lnTo>
                    <a:lnTo>
                      <a:pt x="479" y="554"/>
                    </a:lnTo>
                    <a:lnTo>
                      <a:pt x="438" y="613"/>
                    </a:lnTo>
                    <a:lnTo>
                      <a:pt x="398" y="672"/>
                    </a:lnTo>
                    <a:lnTo>
                      <a:pt x="356" y="728"/>
                    </a:lnTo>
                    <a:lnTo>
                      <a:pt x="315" y="783"/>
                    </a:lnTo>
                    <a:lnTo>
                      <a:pt x="273" y="835"/>
                    </a:lnTo>
                    <a:lnTo>
                      <a:pt x="232" y="884"/>
                    </a:lnTo>
                    <a:lnTo>
                      <a:pt x="189" y="931"/>
                    </a:lnTo>
                    <a:lnTo>
                      <a:pt x="146" y="974"/>
                    </a:lnTo>
                    <a:lnTo>
                      <a:pt x="160" y="913"/>
                    </a:lnTo>
                    <a:lnTo>
                      <a:pt x="174" y="855"/>
                    </a:lnTo>
                    <a:lnTo>
                      <a:pt x="187" y="796"/>
                    </a:lnTo>
                    <a:lnTo>
                      <a:pt x="202" y="737"/>
                    </a:lnTo>
                    <a:lnTo>
                      <a:pt x="214" y="676"/>
                    </a:lnTo>
                    <a:lnTo>
                      <a:pt x="229" y="614"/>
                    </a:lnTo>
                    <a:lnTo>
                      <a:pt x="241" y="552"/>
                    </a:lnTo>
                    <a:lnTo>
                      <a:pt x="254" y="489"/>
                    </a:lnTo>
                    <a:lnTo>
                      <a:pt x="223" y="474"/>
                    </a:lnTo>
                    <a:lnTo>
                      <a:pt x="192" y="460"/>
                    </a:lnTo>
                    <a:lnTo>
                      <a:pt x="160" y="444"/>
                    </a:lnTo>
                    <a:lnTo>
                      <a:pt x="128" y="428"/>
                    </a:lnTo>
                    <a:lnTo>
                      <a:pt x="96" y="407"/>
                    </a:lnTo>
                    <a:lnTo>
                      <a:pt x="65" y="389"/>
                    </a:lnTo>
                    <a:lnTo>
                      <a:pt x="32" y="367"/>
                    </a:lnTo>
                    <a:lnTo>
                      <a:pt x="0" y="346"/>
                    </a:lnTo>
                    <a:lnTo>
                      <a:pt x="5" y="373"/>
                    </a:lnTo>
                    <a:lnTo>
                      <a:pt x="33" y="391"/>
                    </a:lnTo>
                    <a:lnTo>
                      <a:pt x="62" y="411"/>
                    </a:lnTo>
                    <a:lnTo>
                      <a:pt x="91" y="429"/>
                    </a:lnTo>
                    <a:lnTo>
                      <a:pt x="121" y="447"/>
                    </a:lnTo>
                    <a:lnTo>
                      <a:pt x="150" y="462"/>
                    </a:lnTo>
                    <a:lnTo>
                      <a:pt x="179" y="478"/>
                    </a:lnTo>
                    <a:lnTo>
                      <a:pt x="208" y="491"/>
                    </a:lnTo>
                    <a:lnTo>
                      <a:pt x="237" y="505"/>
                    </a:lnTo>
                    <a:lnTo>
                      <a:pt x="223" y="567"/>
                    </a:lnTo>
                    <a:lnTo>
                      <a:pt x="211" y="626"/>
                    </a:lnTo>
                    <a:lnTo>
                      <a:pt x="196" y="686"/>
                    </a:lnTo>
                    <a:lnTo>
                      <a:pt x="184" y="744"/>
                    </a:lnTo>
                    <a:lnTo>
                      <a:pt x="170" y="801"/>
                    </a:lnTo>
                    <a:lnTo>
                      <a:pt x="157" y="858"/>
                    </a:lnTo>
                    <a:lnTo>
                      <a:pt x="142" y="914"/>
                    </a:lnTo>
                    <a:lnTo>
                      <a:pt x="128" y="971"/>
                    </a:lnTo>
                    <a:lnTo>
                      <a:pt x="127" y="975"/>
                    </a:lnTo>
                    <a:lnTo>
                      <a:pt x="127" y="979"/>
                    </a:lnTo>
                    <a:lnTo>
                      <a:pt x="134" y="1007"/>
                    </a:lnTo>
                    <a:lnTo>
                      <a:pt x="145" y="996"/>
                    </a:lnTo>
                    <a:lnTo>
                      <a:pt x="156" y="987"/>
                    </a:lnTo>
                    <a:lnTo>
                      <a:pt x="197" y="945"/>
                    </a:lnTo>
                    <a:lnTo>
                      <a:pt x="240" y="899"/>
                    </a:lnTo>
                    <a:lnTo>
                      <a:pt x="279" y="851"/>
                    </a:lnTo>
                    <a:lnTo>
                      <a:pt x="320" y="801"/>
                    </a:lnTo>
                    <a:lnTo>
                      <a:pt x="360" y="747"/>
                    </a:lnTo>
                    <a:lnTo>
                      <a:pt x="400" y="693"/>
                    </a:lnTo>
                    <a:lnTo>
                      <a:pt x="440" y="635"/>
                    </a:lnTo>
                    <a:lnTo>
                      <a:pt x="480" y="579"/>
                    </a:lnTo>
                    <a:lnTo>
                      <a:pt x="521" y="585"/>
                    </a:lnTo>
                    <a:lnTo>
                      <a:pt x="562" y="592"/>
                    </a:lnTo>
                    <a:lnTo>
                      <a:pt x="602" y="601"/>
                    </a:lnTo>
                    <a:lnTo>
                      <a:pt x="642" y="610"/>
                    </a:lnTo>
                    <a:lnTo>
                      <a:pt x="682" y="619"/>
                    </a:lnTo>
                    <a:lnTo>
                      <a:pt x="722" y="631"/>
                    </a:lnTo>
                    <a:lnTo>
                      <a:pt x="765" y="644"/>
                    </a:lnTo>
                    <a:lnTo>
                      <a:pt x="809" y="660"/>
                    </a:lnTo>
                    <a:lnTo>
                      <a:pt x="817" y="664"/>
                    </a:lnTo>
                    <a:lnTo>
                      <a:pt x="828" y="669"/>
                    </a:lnTo>
                    <a:lnTo>
                      <a:pt x="837" y="672"/>
                    </a:lnTo>
                    <a:lnTo>
                      <a:pt x="848" y="677"/>
                    </a:lnTo>
                    <a:lnTo>
                      <a:pt x="844" y="664"/>
                    </a:lnTo>
                    <a:lnTo>
                      <a:pt x="840" y="653"/>
                    </a:lnTo>
                    <a:lnTo>
                      <a:pt x="837" y="641"/>
                    </a:lnTo>
                    <a:lnTo>
                      <a:pt x="834" y="630"/>
                    </a:lnTo>
                    <a:lnTo>
                      <a:pt x="820" y="579"/>
                    </a:lnTo>
                    <a:lnTo>
                      <a:pt x="805" y="529"/>
                    </a:lnTo>
                    <a:lnTo>
                      <a:pt x="790" y="480"/>
                    </a:lnTo>
                    <a:lnTo>
                      <a:pt x="776" y="433"/>
                    </a:lnTo>
                    <a:lnTo>
                      <a:pt x="761" y="383"/>
                    </a:lnTo>
                    <a:lnTo>
                      <a:pt x="745" y="334"/>
                    </a:lnTo>
                    <a:lnTo>
                      <a:pt x="731" y="284"/>
                    </a:lnTo>
                    <a:lnTo>
                      <a:pt x="717" y="236"/>
                    </a:lnTo>
                    <a:lnTo>
                      <a:pt x="742" y="203"/>
                    </a:lnTo>
                    <a:lnTo>
                      <a:pt x="769" y="173"/>
                    </a:lnTo>
                    <a:lnTo>
                      <a:pt x="794" y="142"/>
                    </a:lnTo>
                    <a:lnTo>
                      <a:pt x="820" y="115"/>
                    </a:lnTo>
                    <a:lnTo>
                      <a:pt x="845" y="89"/>
                    </a:lnTo>
                    <a:lnTo>
                      <a:pt x="871" y="64"/>
                    </a:lnTo>
                    <a:lnTo>
                      <a:pt x="897" y="41"/>
                    </a:lnTo>
                    <a:lnTo>
                      <a:pt x="924" y="19"/>
                    </a:lnTo>
                    <a:lnTo>
                      <a:pt x="922" y="0"/>
                    </a:lnTo>
                    <a:lnTo>
                      <a:pt x="893" y="22"/>
                    </a:lnTo>
                    <a:lnTo>
                      <a:pt x="863" y="48"/>
                    </a:lnTo>
                    <a:lnTo>
                      <a:pt x="835" y="75"/>
                    </a:lnTo>
                    <a:lnTo>
                      <a:pt x="809" y="104"/>
                    </a:lnTo>
                    <a:lnTo>
                      <a:pt x="781" y="134"/>
                    </a:lnTo>
                    <a:lnTo>
                      <a:pt x="753" y="168"/>
                    </a:lnTo>
                    <a:lnTo>
                      <a:pt x="725" y="200"/>
                    </a:lnTo>
                    <a:lnTo>
                      <a:pt x="698" y="237"/>
                    </a:lnTo>
                    <a:lnTo>
                      <a:pt x="698"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78000" y="1981080"/>
                <a:ext cx="72720" cy="52560"/>
              </a:xfrm>
              <a:custGeom>
                <a:avLst/>
                <a:gdLst/>
                <a:ahLst/>
                <a:rect l="l" t="t" r="r" b="b"/>
                <a:pathLst>
                  <a:path w="187" h="131">
                    <a:moveTo>
                      <a:pt x="135" y="36"/>
                    </a:moveTo>
                    <a:lnTo>
                      <a:pt x="121" y="44"/>
                    </a:lnTo>
                    <a:lnTo>
                      <a:pt x="106" y="52"/>
                    </a:lnTo>
                    <a:lnTo>
                      <a:pt x="91" y="61"/>
                    </a:lnTo>
                    <a:lnTo>
                      <a:pt x="77" y="70"/>
                    </a:lnTo>
                    <a:lnTo>
                      <a:pt x="61" y="79"/>
                    </a:lnTo>
                    <a:lnTo>
                      <a:pt x="46" y="90"/>
                    </a:lnTo>
                    <a:lnTo>
                      <a:pt x="33" y="101"/>
                    </a:lnTo>
                    <a:lnTo>
                      <a:pt x="20" y="112"/>
                    </a:lnTo>
                    <a:lnTo>
                      <a:pt x="22" y="131"/>
                    </a:lnTo>
                    <a:lnTo>
                      <a:pt x="37" y="119"/>
                    </a:lnTo>
                    <a:lnTo>
                      <a:pt x="51" y="108"/>
                    </a:lnTo>
                    <a:lnTo>
                      <a:pt x="68" y="97"/>
                    </a:lnTo>
                    <a:lnTo>
                      <a:pt x="84" y="89"/>
                    </a:lnTo>
                    <a:lnTo>
                      <a:pt x="99" y="78"/>
                    </a:lnTo>
                    <a:lnTo>
                      <a:pt x="115" y="69"/>
                    </a:lnTo>
                    <a:lnTo>
                      <a:pt x="130" y="61"/>
                    </a:lnTo>
                    <a:lnTo>
                      <a:pt x="147" y="53"/>
                    </a:lnTo>
                    <a:lnTo>
                      <a:pt x="157" y="47"/>
                    </a:lnTo>
                    <a:lnTo>
                      <a:pt x="167" y="43"/>
                    </a:lnTo>
                    <a:lnTo>
                      <a:pt x="177" y="38"/>
                    </a:lnTo>
                    <a:lnTo>
                      <a:pt x="187" y="34"/>
                    </a:lnTo>
                    <a:lnTo>
                      <a:pt x="174" y="29"/>
                    </a:lnTo>
                    <a:lnTo>
                      <a:pt x="162" y="25"/>
                    </a:lnTo>
                    <a:lnTo>
                      <a:pt x="149" y="21"/>
                    </a:lnTo>
                    <a:lnTo>
                      <a:pt x="136" y="18"/>
                    </a:lnTo>
                    <a:lnTo>
                      <a:pt x="118" y="13"/>
                    </a:lnTo>
                    <a:lnTo>
                      <a:pt x="101" y="10"/>
                    </a:lnTo>
                    <a:lnTo>
                      <a:pt x="84" y="7"/>
                    </a:lnTo>
                    <a:lnTo>
                      <a:pt x="67" y="5"/>
                    </a:lnTo>
                    <a:lnTo>
                      <a:pt x="49" y="2"/>
                    </a:lnTo>
                    <a:lnTo>
                      <a:pt x="33" y="1"/>
                    </a:lnTo>
                    <a:lnTo>
                      <a:pt x="16" y="0"/>
                    </a:lnTo>
                    <a:lnTo>
                      <a:pt x="0" y="0"/>
                    </a:lnTo>
                    <a:lnTo>
                      <a:pt x="3" y="18"/>
                    </a:lnTo>
                    <a:lnTo>
                      <a:pt x="18" y="18"/>
                    </a:lnTo>
                    <a:lnTo>
                      <a:pt x="34" y="18"/>
                    </a:lnTo>
                    <a:lnTo>
                      <a:pt x="50" y="19"/>
                    </a:lnTo>
                    <a:lnTo>
                      <a:pt x="68" y="24"/>
                    </a:lnTo>
                    <a:lnTo>
                      <a:pt x="84" y="25"/>
                    </a:lnTo>
                    <a:lnTo>
                      <a:pt x="101" y="28"/>
                    </a:lnTo>
                    <a:lnTo>
                      <a:pt x="117" y="32"/>
                    </a:lnTo>
                    <a:lnTo>
                      <a:pt x="135" y="36"/>
                    </a:lnTo>
                    <a:lnTo>
                      <a:pt x="135"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1865160" y="2414520"/>
                <a:ext cx="6480" cy="17280"/>
              </a:xfrm>
              <a:custGeom>
                <a:avLst/>
                <a:gdLst/>
                <a:ahLst/>
                <a:rect l="l" t="t" r="r" b="b"/>
                <a:pathLst>
                  <a:path w="18" h="42">
                    <a:moveTo>
                      <a:pt x="0" y="42"/>
                    </a:moveTo>
                    <a:lnTo>
                      <a:pt x="7" y="35"/>
                    </a:lnTo>
                    <a:lnTo>
                      <a:pt x="18" y="28"/>
                    </a:lnTo>
                    <a:lnTo>
                      <a:pt x="11" y="0"/>
                    </a:lnTo>
                    <a:lnTo>
                      <a:pt x="7" y="9"/>
                    </a:lnTo>
                    <a:lnTo>
                      <a:pt x="5" y="20"/>
                    </a:lnTo>
                    <a:lnTo>
                      <a:pt x="2" y="31"/>
                    </a:lnTo>
                    <a:lnTo>
                      <a:pt x="0" y="42"/>
                    </a:lnTo>
                    <a:lnTo>
                      <a:pt x="0"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1768320" y="2130480"/>
                <a:ext cx="52200" cy="44280"/>
              </a:xfrm>
              <a:custGeom>
                <a:avLst/>
                <a:gdLst/>
                <a:ahLst/>
                <a:rect l="l" t="t" r="r" b="b"/>
                <a:pathLst>
                  <a:path w="135" h="109">
                    <a:moveTo>
                      <a:pt x="52" y="23"/>
                    </a:moveTo>
                    <a:lnTo>
                      <a:pt x="60" y="22"/>
                    </a:lnTo>
                    <a:lnTo>
                      <a:pt x="68" y="22"/>
                    </a:lnTo>
                    <a:lnTo>
                      <a:pt x="76" y="20"/>
                    </a:lnTo>
                    <a:lnTo>
                      <a:pt x="84" y="20"/>
                    </a:lnTo>
                    <a:lnTo>
                      <a:pt x="91" y="19"/>
                    </a:lnTo>
                    <a:lnTo>
                      <a:pt x="100" y="19"/>
                    </a:lnTo>
                    <a:lnTo>
                      <a:pt x="108" y="18"/>
                    </a:lnTo>
                    <a:lnTo>
                      <a:pt x="117" y="18"/>
                    </a:lnTo>
                    <a:lnTo>
                      <a:pt x="113" y="0"/>
                    </a:lnTo>
                    <a:lnTo>
                      <a:pt x="105" y="0"/>
                    </a:lnTo>
                    <a:lnTo>
                      <a:pt x="97" y="1"/>
                    </a:lnTo>
                    <a:lnTo>
                      <a:pt x="89" y="1"/>
                    </a:lnTo>
                    <a:lnTo>
                      <a:pt x="82" y="2"/>
                    </a:lnTo>
                    <a:lnTo>
                      <a:pt x="73" y="2"/>
                    </a:lnTo>
                    <a:lnTo>
                      <a:pt x="66" y="3"/>
                    </a:lnTo>
                    <a:lnTo>
                      <a:pt x="59" y="3"/>
                    </a:lnTo>
                    <a:lnTo>
                      <a:pt x="51" y="5"/>
                    </a:lnTo>
                    <a:lnTo>
                      <a:pt x="37" y="5"/>
                    </a:lnTo>
                    <a:lnTo>
                      <a:pt x="25" y="5"/>
                    </a:lnTo>
                    <a:lnTo>
                      <a:pt x="12" y="5"/>
                    </a:lnTo>
                    <a:lnTo>
                      <a:pt x="0" y="5"/>
                    </a:lnTo>
                    <a:lnTo>
                      <a:pt x="10" y="12"/>
                    </a:lnTo>
                    <a:lnTo>
                      <a:pt x="20" y="20"/>
                    </a:lnTo>
                    <a:lnTo>
                      <a:pt x="29" y="30"/>
                    </a:lnTo>
                    <a:lnTo>
                      <a:pt x="39" y="39"/>
                    </a:lnTo>
                    <a:lnTo>
                      <a:pt x="51" y="47"/>
                    </a:lnTo>
                    <a:lnTo>
                      <a:pt x="63" y="57"/>
                    </a:lnTo>
                    <a:lnTo>
                      <a:pt x="76" y="65"/>
                    </a:lnTo>
                    <a:lnTo>
                      <a:pt x="88" y="75"/>
                    </a:lnTo>
                    <a:lnTo>
                      <a:pt x="99" y="84"/>
                    </a:lnTo>
                    <a:lnTo>
                      <a:pt x="111" y="92"/>
                    </a:lnTo>
                    <a:lnTo>
                      <a:pt x="123" y="101"/>
                    </a:lnTo>
                    <a:lnTo>
                      <a:pt x="135" y="109"/>
                    </a:lnTo>
                    <a:lnTo>
                      <a:pt x="130" y="82"/>
                    </a:lnTo>
                    <a:lnTo>
                      <a:pt x="119" y="75"/>
                    </a:lnTo>
                    <a:lnTo>
                      <a:pt x="110" y="68"/>
                    </a:lnTo>
                    <a:lnTo>
                      <a:pt x="100" y="61"/>
                    </a:lnTo>
                    <a:lnTo>
                      <a:pt x="91" y="54"/>
                    </a:lnTo>
                    <a:lnTo>
                      <a:pt x="80" y="46"/>
                    </a:lnTo>
                    <a:lnTo>
                      <a:pt x="71" y="39"/>
                    </a:lnTo>
                    <a:lnTo>
                      <a:pt x="61" y="31"/>
                    </a:lnTo>
                    <a:lnTo>
                      <a:pt x="52" y="23"/>
                    </a:lnTo>
                    <a:lnTo>
                      <a:pt x="5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a:off x="1812600" y="1842840"/>
                <a:ext cx="365400" cy="295560"/>
              </a:xfrm>
              <a:custGeom>
                <a:avLst/>
                <a:gdLst/>
                <a:ahLst/>
                <a:rect l="l" t="t" r="r" b="b"/>
                <a:pathLst>
                  <a:path w="922" h="742">
                    <a:moveTo>
                      <a:pt x="638" y="406"/>
                    </a:moveTo>
                    <a:lnTo>
                      <a:pt x="620" y="358"/>
                    </a:lnTo>
                    <a:lnTo>
                      <a:pt x="602" y="313"/>
                    </a:lnTo>
                    <a:lnTo>
                      <a:pt x="584" y="268"/>
                    </a:lnTo>
                    <a:lnTo>
                      <a:pt x="567" y="223"/>
                    </a:lnTo>
                    <a:lnTo>
                      <a:pt x="547" y="178"/>
                    </a:lnTo>
                    <a:lnTo>
                      <a:pt x="531" y="133"/>
                    </a:lnTo>
                    <a:lnTo>
                      <a:pt x="513" y="87"/>
                    </a:lnTo>
                    <a:lnTo>
                      <a:pt x="497" y="42"/>
                    </a:lnTo>
                    <a:lnTo>
                      <a:pt x="493" y="31"/>
                    </a:lnTo>
                    <a:lnTo>
                      <a:pt x="489" y="20"/>
                    </a:lnTo>
                    <a:lnTo>
                      <a:pt x="484" y="10"/>
                    </a:lnTo>
                    <a:lnTo>
                      <a:pt x="480" y="0"/>
                    </a:lnTo>
                    <a:lnTo>
                      <a:pt x="478" y="7"/>
                    </a:lnTo>
                    <a:lnTo>
                      <a:pt x="477" y="15"/>
                    </a:lnTo>
                    <a:lnTo>
                      <a:pt x="474" y="22"/>
                    </a:lnTo>
                    <a:lnTo>
                      <a:pt x="473" y="29"/>
                    </a:lnTo>
                    <a:lnTo>
                      <a:pt x="471" y="37"/>
                    </a:lnTo>
                    <a:lnTo>
                      <a:pt x="469" y="44"/>
                    </a:lnTo>
                    <a:lnTo>
                      <a:pt x="467" y="51"/>
                    </a:lnTo>
                    <a:lnTo>
                      <a:pt x="466" y="60"/>
                    </a:lnTo>
                    <a:lnTo>
                      <a:pt x="449" y="124"/>
                    </a:lnTo>
                    <a:lnTo>
                      <a:pt x="433" y="189"/>
                    </a:lnTo>
                    <a:lnTo>
                      <a:pt x="417" y="253"/>
                    </a:lnTo>
                    <a:lnTo>
                      <a:pt x="403" y="319"/>
                    </a:lnTo>
                    <a:lnTo>
                      <a:pt x="387" y="383"/>
                    </a:lnTo>
                    <a:lnTo>
                      <a:pt x="372" y="448"/>
                    </a:lnTo>
                    <a:lnTo>
                      <a:pt x="356" y="515"/>
                    </a:lnTo>
                    <a:lnTo>
                      <a:pt x="339" y="580"/>
                    </a:lnTo>
                    <a:lnTo>
                      <a:pt x="297" y="605"/>
                    </a:lnTo>
                    <a:lnTo>
                      <a:pt x="257" y="630"/>
                    </a:lnTo>
                    <a:lnTo>
                      <a:pt x="215" y="652"/>
                    </a:lnTo>
                    <a:lnTo>
                      <a:pt x="174" y="673"/>
                    </a:lnTo>
                    <a:lnTo>
                      <a:pt x="130" y="688"/>
                    </a:lnTo>
                    <a:lnTo>
                      <a:pt x="88" y="703"/>
                    </a:lnTo>
                    <a:lnTo>
                      <a:pt x="44" y="715"/>
                    </a:lnTo>
                    <a:lnTo>
                      <a:pt x="0" y="724"/>
                    </a:lnTo>
                    <a:lnTo>
                      <a:pt x="4" y="742"/>
                    </a:lnTo>
                    <a:lnTo>
                      <a:pt x="48" y="732"/>
                    </a:lnTo>
                    <a:lnTo>
                      <a:pt x="93" y="720"/>
                    </a:lnTo>
                    <a:lnTo>
                      <a:pt x="136" y="705"/>
                    </a:lnTo>
                    <a:lnTo>
                      <a:pt x="181" y="688"/>
                    </a:lnTo>
                    <a:lnTo>
                      <a:pt x="224" y="667"/>
                    </a:lnTo>
                    <a:lnTo>
                      <a:pt x="266" y="645"/>
                    </a:lnTo>
                    <a:lnTo>
                      <a:pt x="308" y="618"/>
                    </a:lnTo>
                    <a:lnTo>
                      <a:pt x="352" y="592"/>
                    </a:lnTo>
                    <a:lnTo>
                      <a:pt x="369" y="524"/>
                    </a:lnTo>
                    <a:lnTo>
                      <a:pt x="384" y="457"/>
                    </a:lnTo>
                    <a:lnTo>
                      <a:pt x="400" y="391"/>
                    </a:lnTo>
                    <a:lnTo>
                      <a:pt x="417" y="324"/>
                    </a:lnTo>
                    <a:lnTo>
                      <a:pt x="432" y="257"/>
                    </a:lnTo>
                    <a:lnTo>
                      <a:pt x="449" y="190"/>
                    </a:lnTo>
                    <a:lnTo>
                      <a:pt x="465" y="124"/>
                    </a:lnTo>
                    <a:lnTo>
                      <a:pt x="482" y="57"/>
                    </a:lnTo>
                    <a:lnTo>
                      <a:pt x="499" y="102"/>
                    </a:lnTo>
                    <a:lnTo>
                      <a:pt x="517" y="150"/>
                    </a:lnTo>
                    <a:lnTo>
                      <a:pt x="535" y="196"/>
                    </a:lnTo>
                    <a:lnTo>
                      <a:pt x="553" y="242"/>
                    </a:lnTo>
                    <a:lnTo>
                      <a:pt x="572" y="288"/>
                    </a:lnTo>
                    <a:lnTo>
                      <a:pt x="590" y="335"/>
                    </a:lnTo>
                    <a:lnTo>
                      <a:pt x="608" y="383"/>
                    </a:lnTo>
                    <a:lnTo>
                      <a:pt x="626" y="431"/>
                    </a:lnTo>
                    <a:lnTo>
                      <a:pt x="662" y="415"/>
                    </a:lnTo>
                    <a:lnTo>
                      <a:pt x="698" y="401"/>
                    </a:lnTo>
                    <a:lnTo>
                      <a:pt x="734" y="389"/>
                    </a:lnTo>
                    <a:lnTo>
                      <a:pt x="771" y="381"/>
                    </a:lnTo>
                    <a:lnTo>
                      <a:pt x="809" y="373"/>
                    </a:lnTo>
                    <a:lnTo>
                      <a:pt x="845" y="369"/>
                    </a:lnTo>
                    <a:lnTo>
                      <a:pt x="883" y="365"/>
                    </a:lnTo>
                    <a:lnTo>
                      <a:pt x="922" y="366"/>
                    </a:lnTo>
                    <a:lnTo>
                      <a:pt x="919" y="348"/>
                    </a:lnTo>
                    <a:lnTo>
                      <a:pt x="883" y="347"/>
                    </a:lnTo>
                    <a:lnTo>
                      <a:pt x="846" y="349"/>
                    </a:lnTo>
                    <a:lnTo>
                      <a:pt x="811" y="353"/>
                    </a:lnTo>
                    <a:lnTo>
                      <a:pt x="777" y="360"/>
                    </a:lnTo>
                    <a:lnTo>
                      <a:pt x="741" y="367"/>
                    </a:lnTo>
                    <a:lnTo>
                      <a:pt x="707" y="380"/>
                    </a:lnTo>
                    <a:lnTo>
                      <a:pt x="671" y="392"/>
                    </a:lnTo>
                    <a:lnTo>
                      <a:pt x="638" y="406"/>
                    </a:lnTo>
                    <a:lnTo>
                      <a:pt x="638"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814400" y="1866960"/>
                <a:ext cx="369720" cy="545760"/>
              </a:xfrm>
              <a:custGeom>
                <a:avLst/>
                <a:gdLst/>
                <a:ahLst/>
                <a:rect l="l" t="t" r="r" b="b"/>
                <a:pathLst>
                  <a:path w="935" h="1377">
                    <a:moveTo>
                      <a:pt x="267" y="892"/>
                    </a:moveTo>
                    <a:lnTo>
                      <a:pt x="254" y="955"/>
                    </a:lnTo>
                    <a:lnTo>
                      <a:pt x="242" y="1017"/>
                    </a:lnTo>
                    <a:lnTo>
                      <a:pt x="227" y="1079"/>
                    </a:lnTo>
                    <a:lnTo>
                      <a:pt x="215" y="1140"/>
                    </a:lnTo>
                    <a:lnTo>
                      <a:pt x="200" y="1199"/>
                    </a:lnTo>
                    <a:lnTo>
                      <a:pt x="187" y="1258"/>
                    </a:lnTo>
                    <a:lnTo>
                      <a:pt x="173" y="1316"/>
                    </a:lnTo>
                    <a:lnTo>
                      <a:pt x="159" y="1377"/>
                    </a:lnTo>
                    <a:lnTo>
                      <a:pt x="202" y="1334"/>
                    </a:lnTo>
                    <a:lnTo>
                      <a:pt x="245" y="1287"/>
                    </a:lnTo>
                    <a:lnTo>
                      <a:pt x="286" y="1238"/>
                    </a:lnTo>
                    <a:lnTo>
                      <a:pt x="328" y="1186"/>
                    </a:lnTo>
                    <a:lnTo>
                      <a:pt x="369" y="1131"/>
                    </a:lnTo>
                    <a:lnTo>
                      <a:pt x="411" y="1075"/>
                    </a:lnTo>
                    <a:lnTo>
                      <a:pt x="451" y="1016"/>
                    </a:lnTo>
                    <a:lnTo>
                      <a:pt x="492" y="957"/>
                    </a:lnTo>
                    <a:lnTo>
                      <a:pt x="534" y="965"/>
                    </a:lnTo>
                    <a:lnTo>
                      <a:pt x="576" y="972"/>
                    </a:lnTo>
                    <a:lnTo>
                      <a:pt x="617" y="979"/>
                    </a:lnTo>
                    <a:lnTo>
                      <a:pt x="659" y="990"/>
                    </a:lnTo>
                    <a:lnTo>
                      <a:pt x="700" y="1000"/>
                    </a:lnTo>
                    <a:lnTo>
                      <a:pt x="743" y="1013"/>
                    </a:lnTo>
                    <a:lnTo>
                      <a:pt x="786" y="1027"/>
                    </a:lnTo>
                    <a:lnTo>
                      <a:pt x="830" y="1044"/>
                    </a:lnTo>
                    <a:lnTo>
                      <a:pt x="814" y="993"/>
                    </a:lnTo>
                    <a:lnTo>
                      <a:pt x="800" y="942"/>
                    </a:lnTo>
                    <a:lnTo>
                      <a:pt x="785" y="890"/>
                    </a:lnTo>
                    <a:lnTo>
                      <a:pt x="771" y="842"/>
                    </a:lnTo>
                    <a:lnTo>
                      <a:pt x="755" y="791"/>
                    </a:lnTo>
                    <a:lnTo>
                      <a:pt x="740" y="741"/>
                    </a:lnTo>
                    <a:lnTo>
                      <a:pt x="726" y="690"/>
                    </a:lnTo>
                    <a:lnTo>
                      <a:pt x="711" y="640"/>
                    </a:lnTo>
                    <a:lnTo>
                      <a:pt x="738" y="603"/>
                    </a:lnTo>
                    <a:lnTo>
                      <a:pt x="766" y="571"/>
                    </a:lnTo>
                    <a:lnTo>
                      <a:pt x="794" y="537"/>
                    </a:lnTo>
                    <a:lnTo>
                      <a:pt x="822" y="507"/>
                    </a:lnTo>
                    <a:lnTo>
                      <a:pt x="848" y="478"/>
                    </a:lnTo>
                    <a:lnTo>
                      <a:pt x="876" y="451"/>
                    </a:lnTo>
                    <a:lnTo>
                      <a:pt x="906" y="425"/>
                    </a:lnTo>
                    <a:lnTo>
                      <a:pt x="935" y="403"/>
                    </a:lnTo>
                    <a:lnTo>
                      <a:pt x="918" y="309"/>
                    </a:lnTo>
                    <a:lnTo>
                      <a:pt x="879" y="308"/>
                    </a:lnTo>
                    <a:lnTo>
                      <a:pt x="841" y="312"/>
                    </a:lnTo>
                    <a:lnTo>
                      <a:pt x="805" y="316"/>
                    </a:lnTo>
                    <a:lnTo>
                      <a:pt x="767" y="324"/>
                    </a:lnTo>
                    <a:lnTo>
                      <a:pt x="730" y="332"/>
                    </a:lnTo>
                    <a:lnTo>
                      <a:pt x="694" y="344"/>
                    </a:lnTo>
                    <a:lnTo>
                      <a:pt x="658" y="358"/>
                    </a:lnTo>
                    <a:lnTo>
                      <a:pt x="622" y="374"/>
                    </a:lnTo>
                    <a:lnTo>
                      <a:pt x="604" y="326"/>
                    </a:lnTo>
                    <a:lnTo>
                      <a:pt x="586" y="278"/>
                    </a:lnTo>
                    <a:lnTo>
                      <a:pt x="568" y="231"/>
                    </a:lnTo>
                    <a:lnTo>
                      <a:pt x="549" y="185"/>
                    </a:lnTo>
                    <a:lnTo>
                      <a:pt x="531" y="139"/>
                    </a:lnTo>
                    <a:lnTo>
                      <a:pt x="513" y="93"/>
                    </a:lnTo>
                    <a:lnTo>
                      <a:pt x="495" y="45"/>
                    </a:lnTo>
                    <a:lnTo>
                      <a:pt x="478" y="0"/>
                    </a:lnTo>
                    <a:lnTo>
                      <a:pt x="461" y="67"/>
                    </a:lnTo>
                    <a:lnTo>
                      <a:pt x="445" y="133"/>
                    </a:lnTo>
                    <a:lnTo>
                      <a:pt x="428" y="200"/>
                    </a:lnTo>
                    <a:lnTo>
                      <a:pt x="413" y="267"/>
                    </a:lnTo>
                    <a:lnTo>
                      <a:pt x="396" y="334"/>
                    </a:lnTo>
                    <a:lnTo>
                      <a:pt x="380" y="400"/>
                    </a:lnTo>
                    <a:lnTo>
                      <a:pt x="365" y="467"/>
                    </a:lnTo>
                    <a:lnTo>
                      <a:pt x="348" y="535"/>
                    </a:lnTo>
                    <a:lnTo>
                      <a:pt x="304" y="561"/>
                    </a:lnTo>
                    <a:lnTo>
                      <a:pt x="262" y="588"/>
                    </a:lnTo>
                    <a:lnTo>
                      <a:pt x="220" y="610"/>
                    </a:lnTo>
                    <a:lnTo>
                      <a:pt x="177" y="631"/>
                    </a:lnTo>
                    <a:lnTo>
                      <a:pt x="132" y="648"/>
                    </a:lnTo>
                    <a:lnTo>
                      <a:pt x="89" y="663"/>
                    </a:lnTo>
                    <a:lnTo>
                      <a:pt x="44" y="675"/>
                    </a:lnTo>
                    <a:lnTo>
                      <a:pt x="0" y="685"/>
                    </a:lnTo>
                    <a:lnTo>
                      <a:pt x="13" y="749"/>
                    </a:lnTo>
                    <a:lnTo>
                      <a:pt x="45" y="770"/>
                    </a:lnTo>
                    <a:lnTo>
                      <a:pt x="78" y="792"/>
                    </a:lnTo>
                    <a:lnTo>
                      <a:pt x="109" y="810"/>
                    </a:lnTo>
                    <a:lnTo>
                      <a:pt x="141" y="831"/>
                    </a:lnTo>
                    <a:lnTo>
                      <a:pt x="173" y="847"/>
                    </a:lnTo>
                    <a:lnTo>
                      <a:pt x="205" y="863"/>
                    </a:lnTo>
                    <a:lnTo>
                      <a:pt x="236" y="877"/>
                    </a:lnTo>
                    <a:lnTo>
                      <a:pt x="267" y="892"/>
                    </a:lnTo>
                    <a:lnTo>
                      <a:pt x="267" y="892"/>
                    </a:lnTo>
                    <a:close/>
                  </a:path>
                </a:pathLst>
              </a:custGeom>
              <a:solidFill>
                <a:srgbClr val="f9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178000" y="1989000"/>
                <a:ext cx="52200" cy="36720"/>
              </a:xfrm>
              <a:custGeom>
                <a:avLst/>
                <a:gdLst/>
                <a:ahLst/>
                <a:rect l="l" t="t" r="r" b="b"/>
                <a:pathLst>
                  <a:path w="132" h="94">
                    <a:moveTo>
                      <a:pt x="132" y="18"/>
                    </a:moveTo>
                    <a:lnTo>
                      <a:pt x="114" y="14"/>
                    </a:lnTo>
                    <a:lnTo>
                      <a:pt x="98" y="10"/>
                    </a:lnTo>
                    <a:lnTo>
                      <a:pt x="81" y="7"/>
                    </a:lnTo>
                    <a:lnTo>
                      <a:pt x="65" y="6"/>
                    </a:lnTo>
                    <a:lnTo>
                      <a:pt x="47" y="1"/>
                    </a:lnTo>
                    <a:lnTo>
                      <a:pt x="31" y="0"/>
                    </a:lnTo>
                    <a:lnTo>
                      <a:pt x="15" y="0"/>
                    </a:lnTo>
                    <a:lnTo>
                      <a:pt x="0" y="0"/>
                    </a:lnTo>
                    <a:lnTo>
                      <a:pt x="17" y="94"/>
                    </a:lnTo>
                    <a:lnTo>
                      <a:pt x="30" y="83"/>
                    </a:lnTo>
                    <a:lnTo>
                      <a:pt x="43" y="72"/>
                    </a:lnTo>
                    <a:lnTo>
                      <a:pt x="58" y="61"/>
                    </a:lnTo>
                    <a:lnTo>
                      <a:pt x="74" y="52"/>
                    </a:lnTo>
                    <a:lnTo>
                      <a:pt x="88" y="43"/>
                    </a:lnTo>
                    <a:lnTo>
                      <a:pt x="103" y="34"/>
                    </a:lnTo>
                    <a:lnTo>
                      <a:pt x="118" y="26"/>
                    </a:lnTo>
                    <a:lnTo>
                      <a:pt x="132" y="18"/>
                    </a:lnTo>
                    <a:lnTo>
                      <a:pt x="132" y="18"/>
                    </a:lnTo>
                    <a:close/>
                  </a:path>
                </a:pathLst>
              </a:custGeom>
              <a:solidFill>
                <a:srgbClr val="ffe5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9" name=""/>
              <p:cNvSpPr/>
              <p:nvPr/>
            </p:nvSpPr>
            <p:spPr>
              <a:xfrm>
                <a:off x="1788840" y="2138400"/>
                <a:ext cx="30240" cy="25200"/>
              </a:xfrm>
              <a:custGeom>
                <a:avLst/>
                <a:gdLst/>
                <a:ahLst/>
                <a:rect l="l" t="t" r="r" b="b"/>
                <a:pathLst>
                  <a:path w="78" h="64">
                    <a:moveTo>
                      <a:pt x="78" y="64"/>
                    </a:moveTo>
                    <a:lnTo>
                      <a:pt x="65" y="0"/>
                    </a:lnTo>
                    <a:lnTo>
                      <a:pt x="56" y="0"/>
                    </a:lnTo>
                    <a:lnTo>
                      <a:pt x="48" y="1"/>
                    </a:lnTo>
                    <a:lnTo>
                      <a:pt x="39" y="1"/>
                    </a:lnTo>
                    <a:lnTo>
                      <a:pt x="32" y="2"/>
                    </a:lnTo>
                    <a:lnTo>
                      <a:pt x="24" y="2"/>
                    </a:lnTo>
                    <a:lnTo>
                      <a:pt x="16" y="4"/>
                    </a:lnTo>
                    <a:lnTo>
                      <a:pt x="8" y="4"/>
                    </a:lnTo>
                    <a:lnTo>
                      <a:pt x="0" y="5"/>
                    </a:lnTo>
                    <a:lnTo>
                      <a:pt x="9" y="13"/>
                    </a:lnTo>
                    <a:lnTo>
                      <a:pt x="19" y="21"/>
                    </a:lnTo>
                    <a:lnTo>
                      <a:pt x="28" y="28"/>
                    </a:lnTo>
                    <a:lnTo>
                      <a:pt x="39" y="36"/>
                    </a:lnTo>
                    <a:lnTo>
                      <a:pt x="48" y="43"/>
                    </a:lnTo>
                    <a:lnTo>
                      <a:pt x="58" y="50"/>
                    </a:lnTo>
                    <a:lnTo>
                      <a:pt x="67" y="57"/>
                    </a:lnTo>
                    <a:lnTo>
                      <a:pt x="78" y="64"/>
                    </a:lnTo>
                    <a:lnTo>
                      <a:pt x="78" y="64"/>
                    </a:lnTo>
                    <a:close/>
                  </a:path>
                </a:pathLst>
              </a:custGeom>
              <a:solidFill>
                <a:srgbClr val="ffe5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90" name=""/>
            <p:cNvGrpSpPr/>
            <p:nvPr/>
          </p:nvGrpSpPr>
          <p:grpSpPr>
            <a:xfrm>
              <a:off x="2574720" y="2738520"/>
              <a:ext cx="1650960" cy="1295280"/>
              <a:chOff x="2574720" y="2738520"/>
              <a:chExt cx="1650960" cy="1295280"/>
            </a:xfrm>
          </p:grpSpPr>
          <p:sp>
            <p:nvSpPr>
              <p:cNvPr id="191" name=""/>
              <p:cNvSpPr/>
              <p:nvPr/>
            </p:nvSpPr>
            <p:spPr>
              <a:xfrm>
                <a:off x="2748960" y="2832480"/>
                <a:ext cx="1476720" cy="1110600"/>
              </a:xfrm>
              <a:custGeom>
                <a:avLst/>
                <a:gdLst/>
                <a:ahLst/>
                <a:rect l="l" t="t" r="r" b="b"/>
                <a:pathLst>
                  <a:path w="4636" h="3489">
                    <a:moveTo>
                      <a:pt x="151" y="3196"/>
                    </a:moveTo>
                    <a:lnTo>
                      <a:pt x="198" y="3019"/>
                    </a:lnTo>
                    <a:lnTo>
                      <a:pt x="221" y="2848"/>
                    </a:lnTo>
                    <a:lnTo>
                      <a:pt x="227" y="2681"/>
                    </a:lnTo>
                    <a:lnTo>
                      <a:pt x="218" y="2515"/>
                    </a:lnTo>
                    <a:lnTo>
                      <a:pt x="195" y="2350"/>
                    </a:lnTo>
                    <a:lnTo>
                      <a:pt x="166" y="2186"/>
                    </a:lnTo>
                    <a:lnTo>
                      <a:pt x="132" y="2022"/>
                    </a:lnTo>
                    <a:lnTo>
                      <a:pt x="94" y="1855"/>
                    </a:lnTo>
                    <a:lnTo>
                      <a:pt x="59" y="1684"/>
                    </a:lnTo>
                    <a:lnTo>
                      <a:pt x="29" y="1510"/>
                    </a:lnTo>
                    <a:lnTo>
                      <a:pt x="9" y="1331"/>
                    </a:lnTo>
                    <a:lnTo>
                      <a:pt x="0" y="1147"/>
                    </a:lnTo>
                    <a:lnTo>
                      <a:pt x="6" y="958"/>
                    </a:lnTo>
                    <a:lnTo>
                      <a:pt x="33" y="760"/>
                    </a:lnTo>
                    <a:lnTo>
                      <a:pt x="82" y="555"/>
                    </a:lnTo>
                    <a:lnTo>
                      <a:pt x="155" y="336"/>
                    </a:lnTo>
                    <a:lnTo>
                      <a:pt x="166" y="318"/>
                    </a:lnTo>
                    <a:lnTo>
                      <a:pt x="175" y="295"/>
                    </a:lnTo>
                    <a:lnTo>
                      <a:pt x="187" y="273"/>
                    </a:lnTo>
                    <a:lnTo>
                      <a:pt x="198" y="252"/>
                    </a:lnTo>
                    <a:lnTo>
                      <a:pt x="218" y="239"/>
                    </a:lnTo>
                    <a:lnTo>
                      <a:pt x="238" y="230"/>
                    </a:lnTo>
                    <a:lnTo>
                      <a:pt x="259" y="217"/>
                    </a:lnTo>
                    <a:lnTo>
                      <a:pt x="282" y="204"/>
                    </a:lnTo>
                    <a:lnTo>
                      <a:pt x="439" y="142"/>
                    </a:lnTo>
                    <a:lnTo>
                      <a:pt x="590" y="91"/>
                    </a:lnTo>
                    <a:lnTo>
                      <a:pt x="738" y="52"/>
                    </a:lnTo>
                    <a:lnTo>
                      <a:pt x="883" y="24"/>
                    </a:lnTo>
                    <a:lnTo>
                      <a:pt x="1022" y="9"/>
                    </a:lnTo>
                    <a:lnTo>
                      <a:pt x="1162" y="0"/>
                    </a:lnTo>
                    <a:lnTo>
                      <a:pt x="1296" y="0"/>
                    </a:lnTo>
                    <a:lnTo>
                      <a:pt x="1426" y="5"/>
                    </a:lnTo>
                    <a:lnTo>
                      <a:pt x="1556" y="18"/>
                    </a:lnTo>
                    <a:lnTo>
                      <a:pt x="1684" y="37"/>
                    </a:lnTo>
                    <a:lnTo>
                      <a:pt x="1810" y="62"/>
                    </a:lnTo>
                    <a:lnTo>
                      <a:pt x="1934" y="91"/>
                    </a:lnTo>
                    <a:lnTo>
                      <a:pt x="2055" y="122"/>
                    </a:lnTo>
                    <a:lnTo>
                      <a:pt x="2177" y="157"/>
                    </a:lnTo>
                    <a:lnTo>
                      <a:pt x="2299" y="192"/>
                    </a:lnTo>
                    <a:lnTo>
                      <a:pt x="2421" y="230"/>
                    </a:lnTo>
                    <a:lnTo>
                      <a:pt x="2540" y="267"/>
                    </a:lnTo>
                    <a:lnTo>
                      <a:pt x="2662" y="302"/>
                    </a:lnTo>
                    <a:lnTo>
                      <a:pt x="2784" y="336"/>
                    </a:lnTo>
                    <a:lnTo>
                      <a:pt x="2906" y="372"/>
                    </a:lnTo>
                    <a:lnTo>
                      <a:pt x="3028" y="400"/>
                    </a:lnTo>
                    <a:lnTo>
                      <a:pt x="3153" y="426"/>
                    </a:lnTo>
                    <a:lnTo>
                      <a:pt x="3277" y="447"/>
                    </a:lnTo>
                    <a:lnTo>
                      <a:pt x="3405" y="463"/>
                    </a:lnTo>
                    <a:lnTo>
                      <a:pt x="3536" y="473"/>
                    </a:lnTo>
                    <a:lnTo>
                      <a:pt x="3669" y="476"/>
                    </a:lnTo>
                    <a:lnTo>
                      <a:pt x="3803" y="469"/>
                    </a:lnTo>
                    <a:lnTo>
                      <a:pt x="3942" y="454"/>
                    </a:lnTo>
                    <a:lnTo>
                      <a:pt x="4084" y="432"/>
                    </a:lnTo>
                    <a:lnTo>
                      <a:pt x="4230" y="396"/>
                    </a:lnTo>
                    <a:lnTo>
                      <a:pt x="4378" y="349"/>
                    </a:lnTo>
                    <a:lnTo>
                      <a:pt x="4532" y="293"/>
                    </a:lnTo>
                    <a:lnTo>
                      <a:pt x="4555" y="284"/>
                    </a:lnTo>
                    <a:lnTo>
                      <a:pt x="4575" y="273"/>
                    </a:lnTo>
                    <a:lnTo>
                      <a:pt x="4593" y="264"/>
                    </a:lnTo>
                    <a:lnTo>
                      <a:pt x="4616" y="252"/>
                    </a:lnTo>
                    <a:lnTo>
                      <a:pt x="4604" y="271"/>
                    </a:lnTo>
                    <a:lnTo>
                      <a:pt x="4595" y="293"/>
                    </a:lnTo>
                    <a:lnTo>
                      <a:pt x="4587" y="312"/>
                    </a:lnTo>
                    <a:lnTo>
                      <a:pt x="4578" y="334"/>
                    </a:lnTo>
                    <a:lnTo>
                      <a:pt x="4512" y="536"/>
                    </a:lnTo>
                    <a:lnTo>
                      <a:pt x="4462" y="731"/>
                    </a:lnTo>
                    <a:lnTo>
                      <a:pt x="4433" y="921"/>
                    </a:lnTo>
                    <a:lnTo>
                      <a:pt x="4421" y="1101"/>
                    </a:lnTo>
                    <a:lnTo>
                      <a:pt x="4421" y="1277"/>
                    </a:lnTo>
                    <a:lnTo>
                      <a:pt x="4433" y="1450"/>
                    </a:lnTo>
                    <a:lnTo>
                      <a:pt x="4453" y="1622"/>
                    </a:lnTo>
                    <a:lnTo>
                      <a:pt x="4480" y="1788"/>
                    </a:lnTo>
                    <a:lnTo>
                      <a:pt x="4508" y="1956"/>
                    </a:lnTo>
                    <a:lnTo>
                      <a:pt x="4540" y="2126"/>
                    </a:lnTo>
                    <a:lnTo>
                      <a:pt x="4569" y="2297"/>
                    </a:lnTo>
                    <a:lnTo>
                      <a:pt x="4598" y="2470"/>
                    </a:lnTo>
                    <a:lnTo>
                      <a:pt x="4618" y="2646"/>
                    </a:lnTo>
                    <a:lnTo>
                      <a:pt x="4634" y="2827"/>
                    </a:lnTo>
                    <a:lnTo>
                      <a:pt x="4636" y="3016"/>
                    </a:lnTo>
                    <a:lnTo>
                      <a:pt x="4624" y="3212"/>
                    </a:lnTo>
                    <a:lnTo>
                      <a:pt x="4622" y="3231"/>
                    </a:lnTo>
                    <a:lnTo>
                      <a:pt x="4622" y="3250"/>
                    </a:lnTo>
                    <a:lnTo>
                      <a:pt x="4618" y="3268"/>
                    </a:lnTo>
                    <a:lnTo>
                      <a:pt x="4616" y="3291"/>
                    </a:lnTo>
                    <a:lnTo>
                      <a:pt x="4593" y="3304"/>
                    </a:lnTo>
                    <a:lnTo>
                      <a:pt x="4573" y="3309"/>
                    </a:lnTo>
                    <a:lnTo>
                      <a:pt x="4555" y="3319"/>
                    </a:lnTo>
                    <a:lnTo>
                      <a:pt x="4532" y="3328"/>
                    </a:lnTo>
                    <a:lnTo>
                      <a:pt x="4374" y="3382"/>
                    </a:lnTo>
                    <a:lnTo>
                      <a:pt x="4221" y="3423"/>
                    </a:lnTo>
                    <a:lnTo>
                      <a:pt x="4073" y="3455"/>
                    </a:lnTo>
                    <a:lnTo>
                      <a:pt x="3925" y="3477"/>
                    </a:lnTo>
                    <a:lnTo>
                      <a:pt x="3783" y="3487"/>
                    </a:lnTo>
                    <a:lnTo>
                      <a:pt x="3643" y="3489"/>
                    </a:lnTo>
                    <a:lnTo>
                      <a:pt x="3507" y="3487"/>
                    </a:lnTo>
                    <a:lnTo>
                      <a:pt x="3373" y="3477"/>
                    </a:lnTo>
                    <a:lnTo>
                      <a:pt x="3239" y="3457"/>
                    </a:lnTo>
                    <a:lnTo>
                      <a:pt x="3109" y="3436"/>
                    </a:lnTo>
                    <a:lnTo>
                      <a:pt x="2981" y="3410"/>
                    </a:lnTo>
                    <a:lnTo>
                      <a:pt x="2853" y="3379"/>
                    </a:lnTo>
                    <a:lnTo>
                      <a:pt x="2729" y="3345"/>
                    </a:lnTo>
                    <a:lnTo>
                      <a:pt x="2603" y="3309"/>
                    </a:lnTo>
                    <a:lnTo>
                      <a:pt x="2479" y="3272"/>
                    </a:lnTo>
                    <a:lnTo>
                      <a:pt x="2357" y="3234"/>
                    </a:lnTo>
                    <a:lnTo>
                      <a:pt x="2232" y="3199"/>
                    </a:lnTo>
                    <a:lnTo>
                      <a:pt x="2107" y="3162"/>
                    </a:lnTo>
                    <a:lnTo>
                      <a:pt x="1982" y="3130"/>
                    </a:lnTo>
                    <a:lnTo>
                      <a:pt x="1859" y="3098"/>
                    </a:lnTo>
                    <a:lnTo>
                      <a:pt x="1734" y="3070"/>
                    </a:lnTo>
                    <a:lnTo>
                      <a:pt x="1606" y="3044"/>
                    </a:lnTo>
                    <a:lnTo>
                      <a:pt x="1479" y="3025"/>
                    </a:lnTo>
                    <a:lnTo>
                      <a:pt x="1347" y="3012"/>
                    </a:lnTo>
                    <a:lnTo>
                      <a:pt x="1214" y="3010"/>
                    </a:lnTo>
                    <a:lnTo>
                      <a:pt x="1078" y="3010"/>
                    </a:lnTo>
                    <a:lnTo>
                      <a:pt x="941" y="3019"/>
                    </a:lnTo>
                    <a:lnTo>
                      <a:pt x="802" y="3038"/>
                    </a:lnTo>
                    <a:lnTo>
                      <a:pt x="657" y="3066"/>
                    </a:lnTo>
                    <a:lnTo>
                      <a:pt x="512" y="3104"/>
                    </a:lnTo>
                    <a:lnTo>
                      <a:pt x="360" y="3154"/>
                    </a:lnTo>
                    <a:lnTo>
                      <a:pt x="207" y="3218"/>
                    </a:lnTo>
                    <a:lnTo>
                      <a:pt x="187" y="3231"/>
                    </a:lnTo>
                    <a:lnTo>
                      <a:pt x="166" y="3240"/>
                    </a:lnTo>
                    <a:lnTo>
                      <a:pt x="143" y="3253"/>
                    </a:lnTo>
                    <a:lnTo>
                      <a:pt x="122" y="3265"/>
                    </a:lnTo>
                    <a:lnTo>
                      <a:pt x="132" y="3250"/>
                    </a:lnTo>
                    <a:lnTo>
                      <a:pt x="140" y="3231"/>
                    </a:lnTo>
                    <a:lnTo>
                      <a:pt x="146" y="3212"/>
                    </a:lnTo>
                    <a:lnTo>
                      <a:pt x="151" y="3196"/>
                    </a:lnTo>
                    <a:lnTo>
                      <a:pt x="151" y="3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93600" y="2867040"/>
                <a:ext cx="1389960" cy="1043280"/>
              </a:xfrm>
              <a:custGeom>
                <a:avLst/>
                <a:gdLst/>
                <a:ahLst/>
                <a:rect l="l" t="t" r="r" b="b"/>
                <a:pathLst>
                  <a:path w="4366" h="3276">
                    <a:moveTo>
                      <a:pt x="4360" y="3134"/>
                    </a:moveTo>
                    <a:lnTo>
                      <a:pt x="4366" y="2944"/>
                    </a:lnTo>
                    <a:lnTo>
                      <a:pt x="4362" y="2758"/>
                    </a:lnTo>
                    <a:lnTo>
                      <a:pt x="4348" y="2581"/>
                    </a:lnTo>
                    <a:lnTo>
                      <a:pt x="4331" y="2407"/>
                    </a:lnTo>
                    <a:lnTo>
                      <a:pt x="4305" y="2237"/>
                    </a:lnTo>
                    <a:lnTo>
                      <a:pt x="4279" y="2069"/>
                    </a:lnTo>
                    <a:lnTo>
                      <a:pt x="4250" y="1906"/>
                    </a:lnTo>
                    <a:lnTo>
                      <a:pt x="4224" y="1738"/>
                    </a:lnTo>
                    <a:lnTo>
                      <a:pt x="4200" y="1574"/>
                    </a:lnTo>
                    <a:lnTo>
                      <a:pt x="4179" y="1407"/>
                    </a:lnTo>
                    <a:lnTo>
                      <a:pt x="4171" y="1237"/>
                    </a:lnTo>
                    <a:lnTo>
                      <a:pt x="4171" y="1066"/>
                    </a:lnTo>
                    <a:lnTo>
                      <a:pt x="4179" y="886"/>
                    </a:lnTo>
                    <a:lnTo>
                      <a:pt x="4206" y="703"/>
                    </a:lnTo>
                    <a:lnTo>
                      <a:pt x="4246" y="514"/>
                    </a:lnTo>
                    <a:lnTo>
                      <a:pt x="4305" y="316"/>
                    </a:lnTo>
                    <a:lnTo>
                      <a:pt x="4159" y="368"/>
                    </a:lnTo>
                    <a:lnTo>
                      <a:pt x="4014" y="406"/>
                    </a:lnTo>
                    <a:lnTo>
                      <a:pt x="3877" y="438"/>
                    </a:lnTo>
                    <a:lnTo>
                      <a:pt x="3741" y="460"/>
                    </a:lnTo>
                    <a:lnTo>
                      <a:pt x="3608" y="469"/>
                    </a:lnTo>
                    <a:lnTo>
                      <a:pt x="3477" y="476"/>
                    </a:lnTo>
                    <a:lnTo>
                      <a:pt x="3349" y="469"/>
                    </a:lnTo>
                    <a:lnTo>
                      <a:pt x="3225" y="460"/>
                    </a:lnTo>
                    <a:lnTo>
                      <a:pt x="3099" y="445"/>
                    </a:lnTo>
                    <a:lnTo>
                      <a:pt x="2977" y="422"/>
                    </a:lnTo>
                    <a:lnTo>
                      <a:pt x="2855" y="397"/>
                    </a:lnTo>
                    <a:lnTo>
                      <a:pt x="2737" y="366"/>
                    </a:lnTo>
                    <a:lnTo>
                      <a:pt x="2618" y="334"/>
                    </a:lnTo>
                    <a:lnTo>
                      <a:pt x="2498" y="299"/>
                    </a:lnTo>
                    <a:lnTo>
                      <a:pt x="2380" y="264"/>
                    </a:lnTo>
                    <a:lnTo>
                      <a:pt x="2260" y="226"/>
                    </a:lnTo>
                    <a:lnTo>
                      <a:pt x="2142" y="192"/>
                    </a:lnTo>
                    <a:lnTo>
                      <a:pt x="2022" y="157"/>
                    </a:lnTo>
                    <a:lnTo>
                      <a:pt x="1901" y="123"/>
                    </a:lnTo>
                    <a:lnTo>
                      <a:pt x="1780" y="91"/>
                    </a:lnTo>
                    <a:lnTo>
                      <a:pt x="1658" y="62"/>
                    </a:lnTo>
                    <a:lnTo>
                      <a:pt x="1533" y="41"/>
                    </a:lnTo>
                    <a:lnTo>
                      <a:pt x="1406" y="21"/>
                    </a:lnTo>
                    <a:lnTo>
                      <a:pt x="1278" y="9"/>
                    </a:lnTo>
                    <a:lnTo>
                      <a:pt x="1146" y="0"/>
                    </a:lnTo>
                    <a:lnTo>
                      <a:pt x="1010" y="0"/>
                    </a:lnTo>
                    <a:lnTo>
                      <a:pt x="874" y="9"/>
                    </a:lnTo>
                    <a:lnTo>
                      <a:pt x="732" y="25"/>
                    </a:lnTo>
                    <a:lnTo>
                      <a:pt x="589" y="50"/>
                    </a:lnTo>
                    <a:lnTo>
                      <a:pt x="441" y="88"/>
                    </a:lnTo>
                    <a:lnTo>
                      <a:pt x="287" y="133"/>
                    </a:lnTo>
                    <a:lnTo>
                      <a:pt x="131" y="192"/>
                    </a:lnTo>
                    <a:lnTo>
                      <a:pt x="67" y="400"/>
                    </a:lnTo>
                    <a:lnTo>
                      <a:pt x="26" y="602"/>
                    </a:lnTo>
                    <a:lnTo>
                      <a:pt x="6" y="795"/>
                    </a:lnTo>
                    <a:lnTo>
                      <a:pt x="0" y="981"/>
                    </a:lnTo>
                    <a:lnTo>
                      <a:pt x="9" y="1157"/>
                    </a:lnTo>
                    <a:lnTo>
                      <a:pt x="26" y="1331"/>
                    </a:lnTo>
                    <a:lnTo>
                      <a:pt x="53" y="1502"/>
                    </a:lnTo>
                    <a:lnTo>
                      <a:pt x="84" y="1669"/>
                    </a:lnTo>
                    <a:lnTo>
                      <a:pt x="116" y="1833"/>
                    </a:lnTo>
                    <a:lnTo>
                      <a:pt x="148" y="1998"/>
                    </a:lnTo>
                    <a:lnTo>
                      <a:pt x="175" y="2158"/>
                    </a:lnTo>
                    <a:lnTo>
                      <a:pt x="195" y="2319"/>
                    </a:lnTo>
                    <a:lnTo>
                      <a:pt x="206" y="2483"/>
                    </a:lnTo>
                    <a:lnTo>
                      <a:pt x="200" y="2650"/>
                    </a:lnTo>
                    <a:lnTo>
                      <a:pt x="180" y="2820"/>
                    </a:lnTo>
                    <a:lnTo>
                      <a:pt x="142" y="2994"/>
                    </a:lnTo>
                    <a:lnTo>
                      <a:pt x="291" y="2934"/>
                    </a:lnTo>
                    <a:lnTo>
                      <a:pt x="435" y="2887"/>
                    </a:lnTo>
                    <a:lnTo>
                      <a:pt x="575" y="2852"/>
                    </a:lnTo>
                    <a:lnTo>
                      <a:pt x="715" y="2827"/>
                    </a:lnTo>
                    <a:lnTo>
                      <a:pt x="851" y="2809"/>
                    </a:lnTo>
                    <a:lnTo>
                      <a:pt x="981" y="2799"/>
                    </a:lnTo>
                    <a:lnTo>
                      <a:pt x="1112" y="2799"/>
                    </a:lnTo>
                    <a:lnTo>
                      <a:pt x="1243" y="2805"/>
                    </a:lnTo>
                    <a:lnTo>
                      <a:pt x="1367" y="2818"/>
                    </a:lnTo>
                    <a:lnTo>
                      <a:pt x="1493" y="2837"/>
                    </a:lnTo>
                    <a:lnTo>
                      <a:pt x="1617" y="2859"/>
                    </a:lnTo>
                    <a:lnTo>
                      <a:pt x="1739" y="2887"/>
                    </a:lnTo>
                    <a:lnTo>
                      <a:pt x="1860" y="2919"/>
                    </a:lnTo>
                    <a:lnTo>
                      <a:pt x="1982" y="2951"/>
                    </a:lnTo>
                    <a:lnTo>
                      <a:pt x="2104" y="2985"/>
                    </a:lnTo>
                    <a:lnTo>
                      <a:pt x="2226" y="3020"/>
                    </a:lnTo>
                    <a:lnTo>
                      <a:pt x="2345" y="3057"/>
                    </a:lnTo>
                    <a:lnTo>
                      <a:pt x="2467" y="3093"/>
                    </a:lnTo>
                    <a:lnTo>
                      <a:pt x="2589" y="3127"/>
                    </a:lnTo>
                    <a:lnTo>
                      <a:pt x="2713" y="3162"/>
                    </a:lnTo>
                    <a:lnTo>
                      <a:pt x="2839" y="3190"/>
                    </a:lnTo>
                    <a:lnTo>
                      <a:pt x="2963" y="3218"/>
                    </a:lnTo>
                    <a:lnTo>
                      <a:pt x="3091" y="3240"/>
                    </a:lnTo>
                    <a:lnTo>
                      <a:pt x="3221" y="3259"/>
                    </a:lnTo>
                    <a:lnTo>
                      <a:pt x="3352" y="3269"/>
                    </a:lnTo>
                    <a:lnTo>
                      <a:pt x="3489" y="3276"/>
                    </a:lnTo>
                    <a:lnTo>
                      <a:pt x="3625" y="3276"/>
                    </a:lnTo>
                    <a:lnTo>
                      <a:pt x="3765" y="3266"/>
                    </a:lnTo>
                    <a:lnTo>
                      <a:pt x="3907" y="3246"/>
                    </a:lnTo>
                    <a:lnTo>
                      <a:pt x="4055" y="3218"/>
                    </a:lnTo>
                    <a:lnTo>
                      <a:pt x="4206" y="3181"/>
                    </a:lnTo>
                    <a:lnTo>
                      <a:pt x="4360" y="3134"/>
                    </a:lnTo>
                    <a:lnTo>
                      <a:pt x="4360" y="3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794680" y="2868120"/>
                <a:ext cx="1388880" cy="1038240"/>
              </a:xfrm>
              <a:custGeom>
                <a:avLst/>
                <a:gdLst/>
                <a:ahLst/>
                <a:rect l="l" t="t" r="r" b="b"/>
                <a:pathLst>
                  <a:path w="4360" h="3261">
                    <a:moveTo>
                      <a:pt x="4354" y="3119"/>
                    </a:moveTo>
                    <a:lnTo>
                      <a:pt x="4360" y="2930"/>
                    </a:lnTo>
                    <a:lnTo>
                      <a:pt x="4354" y="2747"/>
                    </a:lnTo>
                    <a:lnTo>
                      <a:pt x="4342" y="2566"/>
                    </a:lnTo>
                    <a:lnTo>
                      <a:pt x="4322" y="2396"/>
                    </a:lnTo>
                    <a:lnTo>
                      <a:pt x="4295" y="2226"/>
                    </a:lnTo>
                    <a:lnTo>
                      <a:pt x="4269" y="2058"/>
                    </a:lnTo>
                    <a:lnTo>
                      <a:pt x="4240" y="1895"/>
                    </a:lnTo>
                    <a:lnTo>
                      <a:pt x="4214" y="1730"/>
                    </a:lnTo>
                    <a:lnTo>
                      <a:pt x="4191" y="1566"/>
                    </a:lnTo>
                    <a:lnTo>
                      <a:pt x="4173" y="1398"/>
                    </a:lnTo>
                    <a:lnTo>
                      <a:pt x="4163" y="1231"/>
                    </a:lnTo>
                    <a:lnTo>
                      <a:pt x="4163" y="1058"/>
                    </a:lnTo>
                    <a:lnTo>
                      <a:pt x="4173" y="881"/>
                    </a:lnTo>
                    <a:lnTo>
                      <a:pt x="4200" y="699"/>
                    </a:lnTo>
                    <a:lnTo>
                      <a:pt x="4240" y="508"/>
                    </a:lnTo>
                    <a:lnTo>
                      <a:pt x="4299" y="314"/>
                    </a:lnTo>
                    <a:lnTo>
                      <a:pt x="4153" y="364"/>
                    </a:lnTo>
                    <a:lnTo>
                      <a:pt x="4011" y="404"/>
                    </a:lnTo>
                    <a:lnTo>
                      <a:pt x="3871" y="436"/>
                    </a:lnTo>
                    <a:lnTo>
                      <a:pt x="3735" y="456"/>
                    </a:lnTo>
                    <a:lnTo>
                      <a:pt x="3605" y="467"/>
                    </a:lnTo>
                    <a:lnTo>
                      <a:pt x="3474" y="471"/>
                    </a:lnTo>
                    <a:lnTo>
                      <a:pt x="3346" y="467"/>
                    </a:lnTo>
                    <a:lnTo>
                      <a:pt x="3221" y="458"/>
                    </a:lnTo>
                    <a:lnTo>
                      <a:pt x="3097" y="443"/>
                    </a:lnTo>
                    <a:lnTo>
                      <a:pt x="2975" y="420"/>
                    </a:lnTo>
                    <a:lnTo>
                      <a:pt x="2853" y="395"/>
                    </a:lnTo>
                    <a:lnTo>
                      <a:pt x="2733" y="364"/>
                    </a:lnTo>
                    <a:lnTo>
                      <a:pt x="2615" y="332"/>
                    </a:lnTo>
                    <a:lnTo>
                      <a:pt x="2496" y="297"/>
                    </a:lnTo>
                    <a:lnTo>
                      <a:pt x="2376" y="262"/>
                    </a:lnTo>
                    <a:lnTo>
                      <a:pt x="2260" y="224"/>
                    </a:lnTo>
                    <a:lnTo>
                      <a:pt x="2142" y="190"/>
                    </a:lnTo>
                    <a:lnTo>
                      <a:pt x="2019" y="155"/>
                    </a:lnTo>
                    <a:lnTo>
                      <a:pt x="1900" y="121"/>
                    </a:lnTo>
                    <a:lnTo>
                      <a:pt x="1780" y="92"/>
                    </a:lnTo>
                    <a:lnTo>
                      <a:pt x="1658" y="64"/>
                    </a:lnTo>
                    <a:lnTo>
                      <a:pt x="1532" y="39"/>
                    </a:lnTo>
                    <a:lnTo>
                      <a:pt x="1404" y="19"/>
                    </a:lnTo>
                    <a:lnTo>
                      <a:pt x="1278" y="7"/>
                    </a:lnTo>
                    <a:lnTo>
                      <a:pt x="1146" y="0"/>
                    </a:lnTo>
                    <a:lnTo>
                      <a:pt x="1010" y="0"/>
                    </a:lnTo>
                    <a:lnTo>
                      <a:pt x="874" y="7"/>
                    </a:lnTo>
                    <a:lnTo>
                      <a:pt x="734" y="23"/>
                    </a:lnTo>
                    <a:lnTo>
                      <a:pt x="589" y="48"/>
                    </a:lnTo>
                    <a:lnTo>
                      <a:pt x="441" y="82"/>
                    </a:lnTo>
                    <a:lnTo>
                      <a:pt x="291" y="131"/>
                    </a:lnTo>
                    <a:lnTo>
                      <a:pt x="133" y="187"/>
                    </a:lnTo>
                    <a:lnTo>
                      <a:pt x="70" y="395"/>
                    </a:lnTo>
                    <a:lnTo>
                      <a:pt x="29" y="594"/>
                    </a:lnTo>
                    <a:lnTo>
                      <a:pt x="5" y="787"/>
                    </a:lnTo>
                    <a:lnTo>
                      <a:pt x="0" y="972"/>
                    </a:lnTo>
                    <a:lnTo>
                      <a:pt x="9" y="1149"/>
                    </a:lnTo>
                    <a:lnTo>
                      <a:pt x="25" y="1323"/>
                    </a:lnTo>
                    <a:lnTo>
                      <a:pt x="52" y="1493"/>
                    </a:lnTo>
                    <a:lnTo>
                      <a:pt x="84" y="1658"/>
                    </a:lnTo>
                    <a:lnTo>
                      <a:pt x="116" y="1822"/>
                    </a:lnTo>
                    <a:lnTo>
                      <a:pt x="148" y="1983"/>
                    </a:lnTo>
                    <a:lnTo>
                      <a:pt x="174" y="2143"/>
                    </a:lnTo>
                    <a:lnTo>
                      <a:pt x="194" y="2304"/>
                    </a:lnTo>
                    <a:lnTo>
                      <a:pt x="206" y="2469"/>
                    </a:lnTo>
                    <a:lnTo>
                      <a:pt x="203" y="2635"/>
                    </a:lnTo>
                    <a:lnTo>
                      <a:pt x="185" y="2803"/>
                    </a:lnTo>
                    <a:lnTo>
                      <a:pt x="148" y="2977"/>
                    </a:lnTo>
                    <a:lnTo>
                      <a:pt x="295" y="2919"/>
                    </a:lnTo>
                    <a:lnTo>
                      <a:pt x="441" y="2872"/>
                    </a:lnTo>
                    <a:lnTo>
                      <a:pt x="581" y="2838"/>
                    </a:lnTo>
                    <a:lnTo>
                      <a:pt x="720" y="2809"/>
                    </a:lnTo>
                    <a:lnTo>
                      <a:pt x="853" y="2794"/>
                    </a:lnTo>
                    <a:lnTo>
                      <a:pt x="987" y="2784"/>
                    </a:lnTo>
                    <a:lnTo>
                      <a:pt x="1115" y="2784"/>
                    </a:lnTo>
                    <a:lnTo>
                      <a:pt x="1245" y="2790"/>
                    </a:lnTo>
                    <a:lnTo>
                      <a:pt x="1370" y="2803"/>
                    </a:lnTo>
                    <a:lnTo>
                      <a:pt x="1495" y="2822"/>
                    </a:lnTo>
                    <a:lnTo>
                      <a:pt x="1617" y="2844"/>
                    </a:lnTo>
                    <a:lnTo>
                      <a:pt x="1741" y="2872"/>
                    </a:lnTo>
                    <a:lnTo>
                      <a:pt x="1860" y="2904"/>
                    </a:lnTo>
                    <a:lnTo>
                      <a:pt x="1982" y="2936"/>
                    </a:lnTo>
                    <a:lnTo>
                      <a:pt x="2104" y="2970"/>
                    </a:lnTo>
                    <a:lnTo>
                      <a:pt x="2223" y="3005"/>
                    </a:lnTo>
                    <a:lnTo>
                      <a:pt x="2345" y="3042"/>
                    </a:lnTo>
                    <a:lnTo>
                      <a:pt x="2463" y="3078"/>
                    </a:lnTo>
                    <a:lnTo>
                      <a:pt x="2589" y="3112"/>
                    </a:lnTo>
                    <a:lnTo>
                      <a:pt x="2711" y="3143"/>
                    </a:lnTo>
                    <a:lnTo>
                      <a:pt x="2835" y="3175"/>
                    </a:lnTo>
                    <a:lnTo>
                      <a:pt x="2960" y="3201"/>
                    </a:lnTo>
                    <a:lnTo>
                      <a:pt x="3087" y="3223"/>
                    </a:lnTo>
                    <a:lnTo>
                      <a:pt x="3215" y="3242"/>
                    </a:lnTo>
                    <a:lnTo>
                      <a:pt x="3349" y="3254"/>
                    </a:lnTo>
                    <a:lnTo>
                      <a:pt x="3483" y="3261"/>
                    </a:lnTo>
                    <a:lnTo>
                      <a:pt x="3619" y="3257"/>
                    </a:lnTo>
                    <a:lnTo>
                      <a:pt x="3759" y="3248"/>
                    </a:lnTo>
                    <a:lnTo>
                      <a:pt x="3903" y="3233"/>
                    </a:lnTo>
                    <a:lnTo>
                      <a:pt x="4049" y="3203"/>
                    </a:lnTo>
                    <a:lnTo>
                      <a:pt x="4200" y="3166"/>
                    </a:lnTo>
                    <a:lnTo>
                      <a:pt x="4354" y="3119"/>
                    </a:lnTo>
                    <a:lnTo>
                      <a:pt x="4354" y="3119"/>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147840" y="2980440"/>
                <a:ext cx="83880" cy="86040"/>
              </a:xfrm>
              <a:custGeom>
                <a:avLst/>
                <a:gdLst/>
                <a:ahLst/>
                <a:rect l="l" t="t" r="r" b="b"/>
                <a:pathLst>
                  <a:path w="264" h="272">
                    <a:moveTo>
                      <a:pt x="180" y="164"/>
                    </a:moveTo>
                    <a:lnTo>
                      <a:pt x="200" y="154"/>
                    </a:lnTo>
                    <a:lnTo>
                      <a:pt x="223" y="142"/>
                    </a:lnTo>
                    <a:lnTo>
                      <a:pt x="243" y="132"/>
                    </a:lnTo>
                    <a:lnTo>
                      <a:pt x="264" y="120"/>
                    </a:lnTo>
                    <a:lnTo>
                      <a:pt x="249" y="117"/>
                    </a:lnTo>
                    <a:lnTo>
                      <a:pt x="239" y="117"/>
                    </a:lnTo>
                    <a:lnTo>
                      <a:pt x="227" y="113"/>
                    </a:lnTo>
                    <a:lnTo>
                      <a:pt x="215" y="113"/>
                    </a:lnTo>
                    <a:lnTo>
                      <a:pt x="203" y="113"/>
                    </a:lnTo>
                    <a:lnTo>
                      <a:pt x="192" y="111"/>
                    </a:lnTo>
                    <a:lnTo>
                      <a:pt x="180" y="111"/>
                    </a:lnTo>
                    <a:lnTo>
                      <a:pt x="166" y="108"/>
                    </a:lnTo>
                    <a:lnTo>
                      <a:pt x="160" y="79"/>
                    </a:lnTo>
                    <a:lnTo>
                      <a:pt x="154" y="54"/>
                    </a:lnTo>
                    <a:lnTo>
                      <a:pt x="148" y="29"/>
                    </a:lnTo>
                    <a:lnTo>
                      <a:pt x="142" y="0"/>
                    </a:lnTo>
                    <a:lnTo>
                      <a:pt x="142" y="0"/>
                    </a:lnTo>
                    <a:lnTo>
                      <a:pt x="142" y="0"/>
                    </a:lnTo>
                    <a:lnTo>
                      <a:pt x="142" y="0"/>
                    </a:lnTo>
                    <a:lnTo>
                      <a:pt x="142" y="0"/>
                    </a:lnTo>
                    <a:lnTo>
                      <a:pt x="133" y="25"/>
                    </a:lnTo>
                    <a:lnTo>
                      <a:pt x="122" y="50"/>
                    </a:lnTo>
                    <a:lnTo>
                      <a:pt x="111" y="76"/>
                    </a:lnTo>
                    <a:lnTo>
                      <a:pt x="99" y="102"/>
                    </a:lnTo>
                    <a:lnTo>
                      <a:pt x="84" y="102"/>
                    </a:lnTo>
                    <a:lnTo>
                      <a:pt x="73" y="98"/>
                    </a:lnTo>
                    <a:lnTo>
                      <a:pt x="61" y="98"/>
                    </a:lnTo>
                    <a:lnTo>
                      <a:pt x="50" y="98"/>
                    </a:lnTo>
                    <a:lnTo>
                      <a:pt x="38" y="98"/>
                    </a:lnTo>
                    <a:lnTo>
                      <a:pt x="26" y="98"/>
                    </a:lnTo>
                    <a:lnTo>
                      <a:pt x="12" y="95"/>
                    </a:lnTo>
                    <a:lnTo>
                      <a:pt x="0" y="95"/>
                    </a:lnTo>
                    <a:lnTo>
                      <a:pt x="20" y="111"/>
                    </a:lnTo>
                    <a:lnTo>
                      <a:pt x="38" y="123"/>
                    </a:lnTo>
                    <a:lnTo>
                      <a:pt x="56" y="139"/>
                    </a:lnTo>
                    <a:lnTo>
                      <a:pt x="75" y="154"/>
                    </a:lnTo>
                    <a:lnTo>
                      <a:pt x="67" y="183"/>
                    </a:lnTo>
                    <a:lnTo>
                      <a:pt x="58" y="205"/>
                    </a:lnTo>
                    <a:lnTo>
                      <a:pt x="52" y="231"/>
                    </a:lnTo>
                    <a:lnTo>
                      <a:pt x="40" y="255"/>
                    </a:lnTo>
                    <a:lnTo>
                      <a:pt x="52" y="250"/>
                    </a:lnTo>
                    <a:lnTo>
                      <a:pt x="64" y="244"/>
                    </a:lnTo>
                    <a:lnTo>
                      <a:pt x="73" y="237"/>
                    </a:lnTo>
                    <a:lnTo>
                      <a:pt x="84" y="227"/>
                    </a:lnTo>
                    <a:lnTo>
                      <a:pt x="93" y="221"/>
                    </a:lnTo>
                    <a:lnTo>
                      <a:pt x="105" y="214"/>
                    </a:lnTo>
                    <a:lnTo>
                      <a:pt x="113" y="208"/>
                    </a:lnTo>
                    <a:lnTo>
                      <a:pt x="128" y="199"/>
                    </a:lnTo>
                    <a:lnTo>
                      <a:pt x="145" y="218"/>
                    </a:lnTo>
                    <a:lnTo>
                      <a:pt x="166" y="233"/>
                    </a:lnTo>
                    <a:lnTo>
                      <a:pt x="186" y="253"/>
                    </a:lnTo>
                    <a:lnTo>
                      <a:pt x="203" y="272"/>
                    </a:lnTo>
                    <a:lnTo>
                      <a:pt x="200" y="244"/>
                    </a:lnTo>
                    <a:lnTo>
                      <a:pt x="194" y="218"/>
                    </a:lnTo>
                    <a:lnTo>
                      <a:pt x="186" y="192"/>
                    </a:lnTo>
                    <a:lnTo>
                      <a:pt x="180" y="164"/>
                    </a:lnTo>
                    <a:lnTo>
                      <a:pt x="180" y="164"/>
                    </a:lnTo>
                    <a:close/>
                  </a:path>
                </a:pathLst>
              </a:custGeom>
              <a:solidFill>
                <a:srgbClr val="f7e81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5" name=""/>
              <p:cNvSpPr/>
              <p:nvPr/>
            </p:nvSpPr>
            <p:spPr>
              <a:xfrm>
                <a:off x="3088080" y="3147120"/>
                <a:ext cx="86400" cy="83880"/>
              </a:xfrm>
              <a:custGeom>
                <a:avLst/>
                <a:gdLst/>
                <a:ahLst/>
                <a:rect l="l" t="t" r="r" b="b"/>
                <a:pathLst>
                  <a:path w="270" h="262">
                    <a:moveTo>
                      <a:pt x="192" y="161"/>
                    </a:moveTo>
                    <a:lnTo>
                      <a:pt x="212" y="145"/>
                    </a:lnTo>
                    <a:lnTo>
                      <a:pt x="232" y="135"/>
                    </a:lnTo>
                    <a:lnTo>
                      <a:pt x="250" y="123"/>
                    </a:lnTo>
                    <a:lnTo>
                      <a:pt x="270" y="111"/>
                    </a:lnTo>
                    <a:lnTo>
                      <a:pt x="256" y="111"/>
                    </a:lnTo>
                    <a:lnTo>
                      <a:pt x="242" y="107"/>
                    </a:lnTo>
                    <a:lnTo>
                      <a:pt x="230" y="107"/>
                    </a:lnTo>
                    <a:lnTo>
                      <a:pt x="218" y="107"/>
                    </a:lnTo>
                    <a:lnTo>
                      <a:pt x="206" y="107"/>
                    </a:lnTo>
                    <a:lnTo>
                      <a:pt x="195" y="107"/>
                    </a:lnTo>
                    <a:lnTo>
                      <a:pt x="183" y="105"/>
                    </a:lnTo>
                    <a:lnTo>
                      <a:pt x="169" y="105"/>
                    </a:lnTo>
                    <a:lnTo>
                      <a:pt x="159" y="75"/>
                    </a:lnTo>
                    <a:lnTo>
                      <a:pt x="151" y="51"/>
                    </a:lnTo>
                    <a:lnTo>
                      <a:pt x="143" y="28"/>
                    </a:lnTo>
                    <a:lnTo>
                      <a:pt x="134" y="0"/>
                    </a:lnTo>
                    <a:lnTo>
                      <a:pt x="134" y="0"/>
                    </a:lnTo>
                    <a:lnTo>
                      <a:pt x="134" y="0"/>
                    </a:lnTo>
                    <a:lnTo>
                      <a:pt x="134" y="0"/>
                    </a:lnTo>
                    <a:lnTo>
                      <a:pt x="134" y="0"/>
                    </a:lnTo>
                    <a:lnTo>
                      <a:pt x="122" y="28"/>
                    </a:lnTo>
                    <a:lnTo>
                      <a:pt x="116" y="51"/>
                    </a:lnTo>
                    <a:lnTo>
                      <a:pt x="110" y="75"/>
                    </a:lnTo>
                    <a:lnTo>
                      <a:pt x="102" y="105"/>
                    </a:lnTo>
                    <a:lnTo>
                      <a:pt x="88" y="105"/>
                    </a:lnTo>
                    <a:lnTo>
                      <a:pt x="76" y="105"/>
                    </a:lnTo>
                    <a:lnTo>
                      <a:pt x="64" y="105"/>
                    </a:lnTo>
                    <a:lnTo>
                      <a:pt x="53" y="105"/>
                    </a:lnTo>
                    <a:lnTo>
                      <a:pt x="38" y="105"/>
                    </a:lnTo>
                    <a:lnTo>
                      <a:pt x="27" y="105"/>
                    </a:lnTo>
                    <a:lnTo>
                      <a:pt x="15" y="107"/>
                    </a:lnTo>
                    <a:lnTo>
                      <a:pt x="0" y="107"/>
                    </a:lnTo>
                    <a:lnTo>
                      <a:pt x="12" y="114"/>
                    </a:lnTo>
                    <a:lnTo>
                      <a:pt x="23" y="120"/>
                    </a:lnTo>
                    <a:lnTo>
                      <a:pt x="35" y="126"/>
                    </a:lnTo>
                    <a:lnTo>
                      <a:pt x="43" y="133"/>
                    </a:lnTo>
                    <a:lnTo>
                      <a:pt x="55" y="139"/>
                    </a:lnTo>
                    <a:lnTo>
                      <a:pt x="64" y="148"/>
                    </a:lnTo>
                    <a:lnTo>
                      <a:pt x="76" y="155"/>
                    </a:lnTo>
                    <a:lnTo>
                      <a:pt x="88" y="161"/>
                    </a:lnTo>
                    <a:lnTo>
                      <a:pt x="82" y="186"/>
                    </a:lnTo>
                    <a:lnTo>
                      <a:pt x="76" y="211"/>
                    </a:lnTo>
                    <a:lnTo>
                      <a:pt x="70" y="234"/>
                    </a:lnTo>
                    <a:lnTo>
                      <a:pt x="64" y="262"/>
                    </a:lnTo>
                    <a:lnTo>
                      <a:pt x="84" y="243"/>
                    </a:lnTo>
                    <a:lnTo>
                      <a:pt x="104" y="227"/>
                    </a:lnTo>
                    <a:lnTo>
                      <a:pt x="122" y="215"/>
                    </a:lnTo>
                    <a:lnTo>
                      <a:pt x="143" y="199"/>
                    </a:lnTo>
                    <a:lnTo>
                      <a:pt x="165" y="215"/>
                    </a:lnTo>
                    <a:lnTo>
                      <a:pt x="183" y="230"/>
                    </a:lnTo>
                    <a:lnTo>
                      <a:pt x="204" y="247"/>
                    </a:lnTo>
                    <a:lnTo>
                      <a:pt x="226" y="262"/>
                    </a:lnTo>
                    <a:lnTo>
                      <a:pt x="218" y="236"/>
                    </a:lnTo>
                    <a:lnTo>
                      <a:pt x="209" y="211"/>
                    </a:lnTo>
                    <a:lnTo>
                      <a:pt x="200" y="186"/>
                    </a:lnTo>
                    <a:lnTo>
                      <a:pt x="192" y="161"/>
                    </a:lnTo>
                    <a:lnTo>
                      <a:pt x="192" y="16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6" name=""/>
              <p:cNvSpPr/>
              <p:nvPr/>
            </p:nvSpPr>
            <p:spPr>
              <a:xfrm>
                <a:off x="3145320" y="3083400"/>
                <a:ext cx="83880" cy="83880"/>
              </a:xfrm>
              <a:custGeom>
                <a:avLst/>
                <a:gdLst/>
                <a:ahLst/>
                <a:rect l="l" t="t" r="r" b="b"/>
                <a:pathLst>
                  <a:path w="264" h="266">
                    <a:moveTo>
                      <a:pt x="181" y="111"/>
                    </a:moveTo>
                    <a:lnTo>
                      <a:pt x="189" y="88"/>
                    </a:lnTo>
                    <a:lnTo>
                      <a:pt x="197" y="66"/>
                    </a:lnTo>
                    <a:lnTo>
                      <a:pt x="207" y="47"/>
                    </a:lnTo>
                    <a:lnTo>
                      <a:pt x="215" y="25"/>
                    </a:lnTo>
                    <a:lnTo>
                      <a:pt x="195" y="38"/>
                    </a:lnTo>
                    <a:lnTo>
                      <a:pt x="177" y="47"/>
                    </a:lnTo>
                    <a:lnTo>
                      <a:pt x="157" y="60"/>
                    </a:lnTo>
                    <a:lnTo>
                      <a:pt x="134" y="73"/>
                    </a:lnTo>
                    <a:lnTo>
                      <a:pt x="122" y="63"/>
                    </a:lnTo>
                    <a:lnTo>
                      <a:pt x="110" y="53"/>
                    </a:lnTo>
                    <a:lnTo>
                      <a:pt x="102" y="44"/>
                    </a:lnTo>
                    <a:lnTo>
                      <a:pt x="93" y="34"/>
                    </a:lnTo>
                    <a:lnTo>
                      <a:pt x="82" y="25"/>
                    </a:lnTo>
                    <a:lnTo>
                      <a:pt x="73" y="19"/>
                    </a:lnTo>
                    <a:lnTo>
                      <a:pt x="61" y="10"/>
                    </a:lnTo>
                    <a:lnTo>
                      <a:pt x="47" y="0"/>
                    </a:lnTo>
                    <a:lnTo>
                      <a:pt x="47" y="0"/>
                    </a:lnTo>
                    <a:lnTo>
                      <a:pt x="47" y="0"/>
                    </a:lnTo>
                    <a:lnTo>
                      <a:pt x="47" y="0"/>
                    </a:lnTo>
                    <a:lnTo>
                      <a:pt x="47" y="0"/>
                    </a:lnTo>
                    <a:lnTo>
                      <a:pt x="55" y="28"/>
                    </a:lnTo>
                    <a:lnTo>
                      <a:pt x="65" y="53"/>
                    </a:lnTo>
                    <a:lnTo>
                      <a:pt x="73" y="79"/>
                    </a:lnTo>
                    <a:lnTo>
                      <a:pt x="82" y="104"/>
                    </a:lnTo>
                    <a:lnTo>
                      <a:pt x="61" y="120"/>
                    </a:lnTo>
                    <a:lnTo>
                      <a:pt x="41" y="133"/>
                    </a:lnTo>
                    <a:lnTo>
                      <a:pt x="21" y="145"/>
                    </a:lnTo>
                    <a:lnTo>
                      <a:pt x="0" y="158"/>
                    </a:lnTo>
                    <a:lnTo>
                      <a:pt x="12" y="158"/>
                    </a:lnTo>
                    <a:lnTo>
                      <a:pt x="27" y="158"/>
                    </a:lnTo>
                    <a:lnTo>
                      <a:pt x="38" y="158"/>
                    </a:lnTo>
                    <a:lnTo>
                      <a:pt x="49" y="158"/>
                    </a:lnTo>
                    <a:lnTo>
                      <a:pt x="59" y="161"/>
                    </a:lnTo>
                    <a:lnTo>
                      <a:pt x="70" y="161"/>
                    </a:lnTo>
                    <a:lnTo>
                      <a:pt x="84" y="161"/>
                    </a:lnTo>
                    <a:lnTo>
                      <a:pt x="96" y="161"/>
                    </a:lnTo>
                    <a:lnTo>
                      <a:pt x="108" y="189"/>
                    </a:lnTo>
                    <a:lnTo>
                      <a:pt x="116" y="212"/>
                    </a:lnTo>
                    <a:lnTo>
                      <a:pt x="126" y="236"/>
                    </a:lnTo>
                    <a:lnTo>
                      <a:pt x="134" y="266"/>
                    </a:lnTo>
                    <a:lnTo>
                      <a:pt x="142" y="240"/>
                    </a:lnTo>
                    <a:lnTo>
                      <a:pt x="148" y="217"/>
                    </a:lnTo>
                    <a:lnTo>
                      <a:pt x="154" y="195"/>
                    </a:lnTo>
                    <a:lnTo>
                      <a:pt x="163" y="170"/>
                    </a:lnTo>
                    <a:lnTo>
                      <a:pt x="177" y="174"/>
                    </a:lnTo>
                    <a:lnTo>
                      <a:pt x="189" y="174"/>
                    </a:lnTo>
                    <a:lnTo>
                      <a:pt x="201" y="176"/>
                    </a:lnTo>
                    <a:lnTo>
                      <a:pt x="215" y="176"/>
                    </a:lnTo>
                    <a:lnTo>
                      <a:pt x="226" y="180"/>
                    </a:lnTo>
                    <a:lnTo>
                      <a:pt x="238" y="183"/>
                    </a:lnTo>
                    <a:lnTo>
                      <a:pt x="250" y="183"/>
                    </a:lnTo>
                    <a:lnTo>
                      <a:pt x="264" y="186"/>
                    </a:lnTo>
                    <a:lnTo>
                      <a:pt x="244" y="167"/>
                    </a:lnTo>
                    <a:lnTo>
                      <a:pt x="224" y="148"/>
                    </a:lnTo>
                    <a:lnTo>
                      <a:pt x="201" y="129"/>
                    </a:lnTo>
                    <a:lnTo>
                      <a:pt x="181" y="111"/>
                    </a:lnTo>
                    <a:lnTo>
                      <a:pt x="181" y="11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
              <p:cNvSpPr/>
              <p:nvPr/>
            </p:nvSpPr>
            <p:spPr>
              <a:xfrm>
                <a:off x="3095640" y="2907720"/>
                <a:ext cx="83880" cy="85320"/>
              </a:xfrm>
              <a:custGeom>
                <a:avLst/>
                <a:gdLst/>
                <a:ahLst/>
                <a:rect l="l" t="t" r="r" b="b"/>
                <a:pathLst>
                  <a:path w="264" h="268">
                    <a:moveTo>
                      <a:pt x="192" y="107"/>
                    </a:moveTo>
                    <a:lnTo>
                      <a:pt x="207" y="82"/>
                    </a:lnTo>
                    <a:lnTo>
                      <a:pt x="219" y="59"/>
                    </a:lnTo>
                    <a:lnTo>
                      <a:pt x="230" y="41"/>
                    </a:lnTo>
                    <a:lnTo>
                      <a:pt x="241" y="18"/>
                    </a:lnTo>
                    <a:lnTo>
                      <a:pt x="230" y="25"/>
                    </a:lnTo>
                    <a:lnTo>
                      <a:pt x="219" y="31"/>
                    </a:lnTo>
                    <a:lnTo>
                      <a:pt x="207" y="37"/>
                    </a:lnTo>
                    <a:lnTo>
                      <a:pt x="197" y="44"/>
                    </a:lnTo>
                    <a:lnTo>
                      <a:pt x="186" y="50"/>
                    </a:lnTo>
                    <a:lnTo>
                      <a:pt x="175" y="57"/>
                    </a:lnTo>
                    <a:lnTo>
                      <a:pt x="163" y="63"/>
                    </a:lnTo>
                    <a:lnTo>
                      <a:pt x="152" y="72"/>
                    </a:lnTo>
                    <a:lnTo>
                      <a:pt x="131" y="53"/>
                    </a:lnTo>
                    <a:lnTo>
                      <a:pt x="114" y="35"/>
                    </a:lnTo>
                    <a:lnTo>
                      <a:pt x="96" y="18"/>
                    </a:lnTo>
                    <a:lnTo>
                      <a:pt x="75" y="0"/>
                    </a:lnTo>
                    <a:lnTo>
                      <a:pt x="75" y="0"/>
                    </a:lnTo>
                    <a:lnTo>
                      <a:pt x="75" y="0"/>
                    </a:lnTo>
                    <a:lnTo>
                      <a:pt x="75" y="0"/>
                    </a:lnTo>
                    <a:lnTo>
                      <a:pt x="75" y="0"/>
                    </a:lnTo>
                    <a:lnTo>
                      <a:pt x="81" y="28"/>
                    </a:lnTo>
                    <a:lnTo>
                      <a:pt x="85" y="53"/>
                    </a:lnTo>
                    <a:lnTo>
                      <a:pt x="85" y="78"/>
                    </a:lnTo>
                    <a:lnTo>
                      <a:pt x="91" y="107"/>
                    </a:lnTo>
                    <a:lnTo>
                      <a:pt x="79" y="113"/>
                    </a:lnTo>
                    <a:lnTo>
                      <a:pt x="67" y="123"/>
                    </a:lnTo>
                    <a:lnTo>
                      <a:pt x="55" y="129"/>
                    </a:lnTo>
                    <a:lnTo>
                      <a:pt x="47" y="136"/>
                    </a:lnTo>
                    <a:lnTo>
                      <a:pt x="35" y="145"/>
                    </a:lnTo>
                    <a:lnTo>
                      <a:pt x="26" y="151"/>
                    </a:lnTo>
                    <a:lnTo>
                      <a:pt x="15" y="160"/>
                    </a:lnTo>
                    <a:lnTo>
                      <a:pt x="0" y="167"/>
                    </a:lnTo>
                    <a:lnTo>
                      <a:pt x="12" y="167"/>
                    </a:lnTo>
                    <a:lnTo>
                      <a:pt x="26" y="167"/>
                    </a:lnTo>
                    <a:lnTo>
                      <a:pt x="38" y="164"/>
                    </a:lnTo>
                    <a:lnTo>
                      <a:pt x="50" y="164"/>
                    </a:lnTo>
                    <a:lnTo>
                      <a:pt x="61" y="164"/>
                    </a:lnTo>
                    <a:lnTo>
                      <a:pt x="73" y="164"/>
                    </a:lnTo>
                    <a:lnTo>
                      <a:pt x="85" y="164"/>
                    </a:lnTo>
                    <a:lnTo>
                      <a:pt x="99" y="164"/>
                    </a:lnTo>
                    <a:lnTo>
                      <a:pt x="105" y="192"/>
                    </a:lnTo>
                    <a:lnTo>
                      <a:pt x="108" y="214"/>
                    </a:lnTo>
                    <a:lnTo>
                      <a:pt x="114" y="240"/>
                    </a:lnTo>
                    <a:lnTo>
                      <a:pt x="122" y="268"/>
                    </a:lnTo>
                    <a:lnTo>
                      <a:pt x="131" y="242"/>
                    </a:lnTo>
                    <a:lnTo>
                      <a:pt x="142" y="218"/>
                    </a:lnTo>
                    <a:lnTo>
                      <a:pt x="152" y="196"/>
                    </a:lnTo>
                    <a:lnTo>
                      <a:pt x="163" y="170"/>
                    </a:lnTo>
                    <a:lnTo>
                      <a:pt x="177" y="170"/>
                    </a:lnTo>
                    <a:lnTo>
                      <a:pt x="189" y="173"/>
                    </a:lnTo>
                    <a:lnTo>
                      <a:pt x="203" y="173"/>
                    </a:lnTo>
                    <a:lnTo>
                      <a:pt x="215" y="177"/>
                    </a:lnTo>
                    <a:lnTo>
                      <a:pt x="227" y="177"/>
                    </a:lnTo>
                    <a:lnTo>
                      <a:pt x="238" y="179"/>
                    </a:lnTo>
                    <a:lnTo>
                      <a:pt x="253" y="179"/>
                    </a:lnTo>
                    <a:lnTo>
                      <a:pt x="264" y="183"/>
                    </a:lnTo>
                    <a:lnTo>
                      <a:pt x="247" y="164"/>
                    </a:lnTo>
                    <a:lnTo>
                      <a:pt x="230" y="145"/>
                    </a:lnTo>
                    <a:lnTo>
                      <a:pt x="213" y="126"/>
                    </a:lnTo>
                    <a:lnTo>
                      <a:pt x="192" y="107"/>
                    </a:lnTo>
                    <a:lnTo>
                      <a:pt x="192" y="107"/>
                    </a:lnTo>
                    <a:close/>
                  </a:path>
                </a:pathLst>
              </a:custGeom>
              <a:solidFill>
                <a:srgbClr val="f7e814"/>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2574720" y="2738520"/>
                <a:ext cx="203400" cy="221400"/>
              </a:xfrm>
              <a:custGeom>
                <a:avLst/>
                <a:gdLst/>
                <a:ahLst/>
                <a:rect l="l" t="t" r="r" b="b"/>
                <a:pathLst>
                  <a:path w="642" h="695">
                    <a:moveTo>
                      <a:pt x="323" y="0"/>
                    </a:moveTo>
                    <a:lnTo>
                      <a:pt x="258" y="7"/>
                    </a:lnTo>
                    <a:lnTo>
                      <a:pt x="197" y="29"/>
                    </a:lnTo>
                    <a:lnTo>
                      <a:pt x="142" y="61"/>
                    </a:lnTo>
                    <a:lnTo>
                      <a:pt x="96" y="102"/>
                    </a:lnTo>
                    <a:lnTo>
                      <a:pt x="55" y="153"/>
                    </a:lnTo>
                    <a:lnTo>
                      <a:pt x="26" y="212"/>
                    </a:lnTo>
                    <a:lnTo>
                      <a:pt x="6" y="278"/>
                    </a:lnTo>
                    <a:lnTo>
                      <a:pt x="0" y="347"/>
                    </a:lnTo>
                    <a:lnTo>
                      <a:pt x="6" y="417"/>
                    </a:lnTo>
                    <a:lnTo>
                      <a:pt x="26" y="484"/>
                    </a:lnTo>
                    <a:lnTo>
                      <a:pt x="55" y="543"/>
                    </a:lnTo>
                    <a:lnTo>
                      <a:pt x="96" y="594"/>
                    </a:lnTo>
                    <a:lnTo>
                      <a:pt x="142" y="635"/>
                    </a:lnTo>
                    <a:lnTo>
                      <a:pt x="197" y="667"/>
                    </a:lnTo>
                    <a:lnTo>
                      <a:pt x="258" y="689"/>
                    </a:lnTo>
                    <a:lnTo>
                      <a:pt x="323" y="695"/>
                    </a:lnTo>
                    <a:lnTo>
                      <a:pt x="386" y="689"/>
                    </a:lnTo>
                    <a:lnTo>
                      <a:pt x="447" y="667"/>
                    </a:lnTo>
                    <a:lnTo>
                      <a:pt x="499" y="635"/>
                    </a:lnTo>
                    <a:lnTo>
                      <a:pt x="548" y="594"/>
                    </a:lnTo>
                    <a:lnTo>
                      <a:pt x="587" y="543"/>
                    </a:lnTo>
                    <a:lnTo>
                      <a:pt x="615" y="484"/>
                    </a:lnTo>
                    <a:lnTo>
                      <a:pt x="636" y="417"/>
                    </a:lnTo>
                    <a:lnTo>
                      <a:pt x="642" y="347"/>
                    </a:lnTo>
                    <a:lnTo>
                      <a:pt x="636" y="278"/>
                    </a:lnTo>
                    <a:lnTo>
                      <a:pt x="615" y="212"/>
                    </a:lnTo>
                    <a:lnTo>
                      <a:pt x="587" y="153"/>
                    </a:lnTo>
                    <a:lnTo>
                      <a:pt x="548" y="102"/>
                    </a:lnTo>
                    <a:lnTo>
                      <a:pt x="499" y="61"/>
                    </a:lnTo>
                    <a:lnTo>
                      <a:pt x="447" y="29"/>
                    </a:lnTo>
                    <a:lnTo>
                      <a:pt x="386" y="7"/>
                    </a:lnTo>
                    <a:lnTo>
                      <a:pt x="323" y="0"/>
                    </a:lnTo>
                    <a:lnTo>
                      <a:pt x="3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96320" y="2789280"/>
                <a:ext cx="140040" cy="146160"/>
              </a:xfrm>
              <a:custGeom>
                <a:avLst/>
                <a:gdLst/>
                <a:ahLst/>
                <a:rect l="l" t="t" r="r" b="b"/>
                <a:pathLst>
                  <a:path w="439" h="457">
                    <a:moveTo>
                      <a:pt x="439" y="369"/>
                    </a:moveTo>
                    <a:lnTo>
                      <a:pt x="402" y="406"/>
                    </a:lnTo>
                    <a:lnTo>
                      <a:pt x="358" y="435"/>
                    </a:lnTo>
                    <a:lnTo>
                      <a:pt x="314" y="451"/>
                    </a:lnTo>
                    <a:lnTo>
                      <a:pt x="264" y="457"/>
                    </a:lnTo>
                    <a:lnTo>
                      <a:pt x="215" y="457"/>
                    </a:lnTo>
                    <a:lnTo>
                      <a:pt x="169" y="445"/>
                    </a:lnTo>
                    <a:lnTo>
                      <a:pt x="122" y="419"/>
                    </a:lnTo>
                    <a:lnTo>
                      <a:pt x="82" y="387"/>
                    </a:lnTo>
                    <a:lnTo>
                      <a:pt x="47" y="346"/>
                    </a:lnTo>
                    <a:lnTo>
                      <a:pt x="24" y="299"/>
                    </a:lnTo>
                    <a:lnTo>
                      <a:pt x="6" y="252"/>
                    </a:lnTo>
                    <a:lnTo>
                      <a:pt x="0" y="198"/>
                    </a:lnTo>
                    <a:lnTo>
                      <a:pt x="4" y="144"/>
                    </a:lnTo>
                    <a:lnTo>
                      <a:pt x="16" y="94"/>
                    </a:lnTo>
                    <a:lnTo>
                      <a:pt x="35" y="43"/>
                    </a:lnTo>
                    <a:lnTo>
                      <a:pt x="65" y="0"/>
                    </a:lnTo>
                    <a:lnTo>
                      <a:pt x="65" y="6"/>
                    </a:lnTo>
                    <a:lnTo>
                      <a:pt x="61" y="21"/>
                    </a:lnTo>
                    <a:lnTo>
                      <a:pt x="65" y="43"/>
                    </a:lnTo>
                    <a:lnTo>
                      <a:pt x="71" y="75"/>
                    </a:lnTo>
                    <a:lnTo>
                      <a:pt x="82" y="113"/>
                    </a:lnTo>
                    <a:lnTo>
                      <a:pt x="102" y="154"/>
                    </a:lnTo>
                    <a:lnTo>
                      <a:pt x="134" y="202"/>
                    </a:lnTo>
                    <a:lnTo>
                      <a:pt x="181" y="249"/>
                    </a:lnTo>
                    <a:lnTo>
                      <a:pt x="233" y="290"/>
                    </a:lnTo>
                    <a:lnTo>
                      <a:pt x="282" y="322"/>
                    </a:lnTo>
                    <a:lnTo>
                      <a:pt x="325" y="344"/>
                    </a:lnTo>
                    <a:lnTo>
                      <a:pt x="364" y="356"/>
                    </a:lnTo>
                    <a:lnTo>
                      <a:pt x="396" y="366"/>
                    </a:lnTo>
                    <a:lnTo>
                      <a:pt x="419" y="369"/>
                    </a:lnTo>
                    <a:lnTo>
                      <a:pt x="433" y="369"/>
                    </a:lnTo>
                    <a:lnTo>
                      <a:pt x="439" y="369"/>
                    </a:lnTo>
                    <a:lnTo>
                      <a:pt x="439"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88840" y="2780280"/>
                <a:ext cx="43200" cy="46800"/>
              </a:xfrm>
              <a:custGeom>
                <a:avLst/>
                <a:gdLst/>
                <a:ahLst/>
                <a:rect l="l" t="t" r="r" b="b"/>
                <a:pathLst>
                  <a:path w="136" h="145">
                    <a:moveTo>
                      <a:pt x="67" y="0"/>
                    </a:moveTo>
                    <a:lnTo>
                      <a:pt x="40" y="7"/>
                    </a:lnTo>
                    <a:lnTo>
                      <a:pt x="20" y="22"/>
                    </a:lnTo>
                    <a:lnTo>
                      <a:pt x="6" y="44"/>
                    </a:lnTo>
                    <a:lnTo>
                      <a:pt x="0" y="72"/>
                    </a:lnTo>
                    <a:lnTo>
                      <a:pt x="6" y="101"/>
                    </a:lnTo>
                    <a:lnTo>
                      <a:pt x="20" y="123"/>
                    </a:lnTo>
                    <a:lnTo>
                      <a:pt x="40" y="139"/>
                    </a:lnTo>
                    <a:lnTo>
                      <a:pt x="67" y="145"/>
                    </a:lnTo>
                    <a:lnTo>
                      <a:pt x="93" y="139"/>
                    </a:lnTo>
                    <a:lnTo>
                      <a:pt x="117" y="123"/>
                    </a:lnTo>
                    <a:lnTo>
                      <a:pt x="131" y="101"/>
                    </a:lnTo>
                    <a:lnTo>
                      <a:pt x="136" y="72"/>
                    </a:lnTo>
                    <a:lnTo>
                      <a:pt x="131" y="44"/>
                    </a:lnTo>
                    <a:lnTo>
                      <a:pt x="117" y="22"/>
                    </a:lnTo>
                    <a:lnTo>
                      <a:pt x="93" y="7"/>
                    </a:lnTo>
                    <a:lnTo>
                      <a:pt x="67" y="0"/>
                    </a:lnTo>
                    <a:lnTo>
                      <a:pt x="67"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3" name=""/>
              <p:cNvSpPr/>
              <p:nvPr/>
            </p:nvSpPr>
            <p:spPr>
              <a:xfrm>
                <a:off x="2620080" y="2931840"/>
                <a:ext cx="109800" cy="52200"/>
              </a:xfrm>
              <a:custGeom>
                <a:avLst/>
                <a:gdLst/>
                <a:ahLst/>
                <a:rect l="l" t="t" r="r" b="b"/>
                <a:pathLst>
                  <a:path w="346" h="166">
                    <a:moveTo>
                      <a:pt x="0" y="12"/>
                    </a:moveTo>
                    <a:lnTo>
                      <a:pt x="4" y="15"/>
                    </a:lnTo>
                    <a:lnTo>
                      <a:pt x="12" y="24"/>
                    </a:lnTo>
                    <a:lnTo>
                      <a:pt x="29" y="37"/>
                    </a:lnTo>
                    <a:lnTo>
                      <a:pt x="49" y="50"/>
                    </a:lnTo>
                    <a:lnTo>
                      <a:pt x="75" y="62"/>
                    </a:lnTo>
                    <a:lnTo>
                      <a:pt x="108" y="75"/>
                    </a:lnTo>
                    <a:lnTo>
                      <a:pt x="142" y="84"/>
                    </a:lnTo>
                    <a:lnTo>
                      <a:pt x="181" y="88"/>
                    </a:lnTo>
                    <a:lnTo>
                      <a:pt x="218" y="84"/>
                    </a:lnTo>
                    <a:lnTo>
                      <a:pt x="250" y="75"/>
                    </a:lnTo>
                    <a:lnTo>
                      <a:pt x="279" y="60"/>
                    </a:lnTo>
                    <a:lnTo>
                      <a:pt x="302" y="43"/>
                    </a:lnTo>
                    <a:lnTo>
                      <a:pt x="319" y="28"/>
                    </a:lnTo>
                    <a:lnTo>
                      <a:pt x="335" y="12"/>
                    </a:lnTo>
                    <a:lnTo>
                      <a:pt x="343" y="2"/>
                    </a:lnTo>
                    <a:lnTo>
                      <a:pt x="346" y="0"/>
                    </a:lnTo>
                    <a:lnTo>
                      <a:pt x="323" y="166"/>
                    </a:lnTo>
                    <a:lnTo>
                      <a:pt x="35" y="142"/>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
              <p:cNvSpPr/>
              <p:nvPr/>
            </p:nvSpPr>
            <p:spPr>
              <a:xfrm>
                <a:off x="2634480" y="2975400"/>
                <a:ext cx="80280" cy="1058400"/>
              </a:xfrm>
              <a:custGeom>
                <a:avLst/>
                <a:gdLst/>
                <a:ahLst/>
                <a:rect l="l" t="t" r="r" b="b"/>
                <a:pathLst>
                  <a:path w="252" h="3325">
                    <a:moveTo>
                      <a:pt x="89" y="0"/>
                    </a:moveTo>
                    <a:lnTo>
                      <a:pt x="211" y="0"/>
                    </a:lnTo>
                    <a:lnTo>
                      <a:pt x="252" y="3325"/>
                    </a:lnTo>
                    <a:lnTo>
                      <a:pt x="0" y="3325"/>
                    </a:lnTo>
                    <a:lnTo>
                      <a:pt x="89" y="21"/>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634480" y="2964960"/>
                <a:ext cx="30600" cy="1068480"/>
              </a:xfrm>
              <a:custGeom>
                <a:avLst/>
                <a:gdLst/>
                <a:ahLst/>
                <a:rect l="l" t="t" r="r" b="b"/>
                <a:pathLst>
                  <a:path w="95" h="3358">
                    <a:moveTo>
                      <a:pt x="38" y="13"/>
                    </a:moveTo>
                    <a:lnTo>
                      <a:pt x="0" y="3358"/>
                    </a:lnTo>
                    <a:lnTo>
                      <a:pt x="95" y="0"/>
                    </a:lnTo>
                    <a:lnTo>
                      <a:pt x="38" y="13"/>
                    </a:lnTo>
                    <a:lnTo>
                      <a:pt x="3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690280" y="2959920"/>
                <a:ext cx="24120" cy="1073520"/>
              </a:xfrm>
              <a:custGeom>
                <a:avLst/>
                <a:gdLst/>
                <a:ahLst/>
                <a:rect l="l" t="t" r="r" b="b"/>
                <a:pathLst>
                  <a:path w="78" h="3373">
                    <a:moveTo>
                      <a:pt x="0" y="15"/>
                    </a:moveTo>
                    <a:lnTo>
                      <a:pt x="78" y="3373"/>
                    </a:lnTo>
                    <a:lnTo>
                      <a:pt x="6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94680" y="2864160"/>
                <a:ext cx="312120" cy="951480"/>
              </a:xfrm>
              <a:custGeom>
                <a:avLst/>
                <a:gdLst/>
                <a:ahLst/>
                <a:rect l="l" t="t" r="r" b="b"/>
                <a:pathLst>
                  <a:path w="978" h="2986">
                    <a:moveTo>
                      <a:pt x="133" y="196"/>
                    </a:moveTo>
                    <a:lnTo>
                      <a:pt x="70" y="404"/>
                    </a:lnTo>
                    <a:lnTo>
                      <a:pt x="29" y="603"/>
                    </a:lnTo>
                    <a:lnTo>
                      <a:pt x="5" y="796"/>
                    </a:lnTo>
                    <a:lnTo>
                      <a:pt x="0" y="981"/>
                    </a:lnTo>
                    <a:lnTo>
                      <a:pt x="9" y="1158"/>
                    </a:lnTo>
                    <a:lnTo>
                      <a:pt x="25" y="1332"/>
                    </a:lnTo>
                    <a:lnTo>
                      <a:pt x="52" y="1502"/>
                    </a:lnTo>
                    <a:lnTo>
                      <a:pt x="84" y="1667"/>
                    </a:lnTo>
                    <a:lnTo>
                      <a:pt x="116" y="1831"/>
                    </a:lnTo>
                    <a:lnTo>
                      <a:pt x="148" y="1992"/>
                    </a:lnTo>
                    <a:lnTo>
                      <a:pt x="174" y="2152"/>
                    </a:lnTo>
                    <a:lnTo>
                      <a:pt x="194" y="2313"/>
                    </a:lnTo>
                    <a:lnTo>
                      <a:pt x="206" y="2478"/>
                    </a:lnTo>
                    <a:lnTo>
                      <a:pt x="203" y="2644"/>
                    </a:lnTo>
                    <a:lnTo>
                      <a:pt x="185" y="2812"/>
                    </a:lnTo>
                    <a:lnTo>
                      <a:pt x="148" y="2986"/>
                    </a:lnTo>
                    <a:lnTo>
                      <a:pt x="203" y="2960"/>
                    </a:lnTo>
                    <a:lnTo>
                      <a:pt x="255" y="2935"/>
                    </a:lnTo>
                    <a:lnTo>
                      <a:pt x="307" y="2916"/>
                    </a:lnTo>
                    <a:lnTo>
                      <a:pt x="356" y="2894"/>
                    </a:lnTo>
                    <a:lnTo>
                      <a:pt x="406" y="2878"/>
                    </a:lnTo>
                    <a:lnTo>
                      <a:pt x="453" y="2863"/>
                    </a:lnTo>
                    <a:lnTo>
                      <a:pt x="502" y="2850"/>
                    </a:lnTo>
                    <a:lnTo>
                      <a:pt x="549" y="2837"/>
                    </a:lnTo>
                    <a:lnTo>
                      <a:pt x="595" y="2827"/>
                    </a:lnTo>
                    <a:lnTo>
                      <a:pt x="642" y="2818"/>
                    </a:lnTo>
                    <a:lnTo>
                      <a:pt x="687" y="2812"/>
                    </a:lnTo>
                    <a:lnTo>
                      <a:pt x="734" y="2803"/>
                    </a:lnTo>
                    <a:lnTo>
                      <a:pt x="784" y="2799"/>
                    </a:lnTo>
                    <a:lnTo>
                      <a:pt x="836" y="2793"/>
                    </a:lnTo>
                    <a:lnTo>
                      <a:pt x="886" y="2790"/>
                    </a:lnTo>
                    <a:lnTo>
                      <a:pt x="941" y="2786"/>
                    </a:lnTo>
                    <a:lnTo>
                      <a:pt x="978" y="2431"/>
                    </a:lnTo>
                    <a:lnTo>
                      <a:pt x="978" y="2089"/>
                    </a:lnTo>
                    <a:lnTo>
                      <a:pt x="953" y="1762"/>
                    </a:lnTo>
                    <a:lnTo>
                      <a:pt x="917" y="1436"/>
                    </a:lnTo>
                    <a:lnTo>
                      <a:pt x="886" y="1104"/>
                    </a:lnTo>
                    <a:lnTo>
                      <a:pt x="874" y="758"/>
                    </a:lnTo>
                    <a:lnTo>
                      <a:pt x="894" y="394"/>
                    </a:lnTo>
                    <a:lnTo>
                      <a:pt x="963" y="0"/>
                    </a:lnTo>
                    <a:lnTo>
                      <a:pt x="908" y="3"/>
                    </a:lnTo>
                    <a:lnTo>
                      <a:pt x="853" y="7"/>
                    </a:lnTo>
                    <a:lnTo>
                      <a:pt x="804" y="9"/>
                    </a:lnTo>
                    <a:lnTo>
                      <a:pt x="752" y="16"/>
                    </a:lnTo>
                    <a:lnTo>
                      <a:pt x="703" y="22"/>
                    </a:lnTo>
                    <a:lnTo>
                      <a:pt x="653" y="28"/>
                    </a:lnTo>
                    <a:lnTo>
                      <a:pt x="606" y="39"/>
                    </a:lnTo>
                    <a:lnTo>
                      <a:pt x="557" y="48"/>
                    </a:lnTo>
                    <a:lnTo>
                      <a:pt x="508" y="60"/>
                    </a:lnTo>
                    <a:lnTo>
                      <a:pt x="459" y="73"/>
                    </a:lnTo>
                    <a:lnTo>
                      <a:pt x="409" y="89"/>
                    </a:lnTo>
                    <a:lnTo>
                      <a:pt x="356" y="104"/>
                    </a:lnTo>
                    <a:lnTo>
                      <a:pt x="305" y="127"/>
                    </a:lnTo>
                    <a:lnTo>
                      <a:pt x="250" y="145"/>
                    </a:lnTo>
                    <a:lnTo>
                      <a:pt x="194" y="170"/>
                    </a:lnTo>
                    <a:lnTo>
                      <a:pt x="133" y="196"/>
                    </a:lnTo>
                    <a:lnTo>
                      <a:pt x="133" y="196"/>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70280" y="2976480"/>
                <a:ext cx="196200" cy="202320"/>
              </a:xfrm>
              <a:custGeom>
                <a:avLst/>
                <a:gdLst/>
                <a:ahLst/>
                <a:rect l="l" t="t" r="r" b="b"/>
                <a:pathLst>
                  <a:path w="619" h="634">
                    <a:moveTo>
                      <a:pt x="308" y="445"/>
                    </a:moveTo>
                    <a:lnTo>
                      <a:pt x="284" y="469"/>
                    </a:lnTo>
                    <a:lnTo>
                      <a:pt x="262" y="492"/>
                    </a:lnTo>
                    <a:lnTo>
                      <a:pt x="238" y="514"/>
                    </a:lnTo>
                    <a:lnTo>
                      <a:pt x="215" y="536"/>
                    </a:lnTo>
                    <a:lnTo>
                      <a:pt x="191" y="558"/>
                    </a:lnTo>
                    <a:lnTo>
                      <a:pt x="169" y="580"/>
                    </a:lnTo>
                    <a:lnTo>
                      <a:pt x="146" y="605"/>
                    </a:lnTo>
                    <a:lnTo>
                      <a:pt x="122" y="634"/>
                    </a:lnTo>
                    <a:lnTo>
                      <a:pt x="140" y="568"/>
                    </a:lnTo>
                    <a:lnTo>
                      <a:pt x="154" y="508"/>
                    </a:lnTo>
                    <a:lnTo>
                      <a:pt x="169" y="448"/>
                    </a:lnTo>
                    <a:lnTo>
                      <a:pt x="185" y="381"/>
                    </a:lnTo>
                    <a:lnTo>
                      <a:pt x="160" y="372"/>
                    </a:lnTo>
                    <a:lnTo>
                      <a:pt x="136" y="362"/>
                    </a:lnTo>
                    <a:lnTo>
                      <a:pt x="114" y="357"/>
                    </a:lnTo>
                    <a:lnTo>
                      <a:pt x="93" y="346"/>
                    </a:lnTo>
                    <a:lnTo>
                      <a:pt x="73" y="340"/>
                    </a:lnTo>
                    <a:lnTo>
                      <a:pt x="49" y="331"/>
                    </a:lnTo>
                    <a:lnTo>
                      <a:pt x="26" y="325"/>
                    </a:lnTo>
                    <a:lnTo>
                      <a:pt x="0" y="316"/>
                    </a:lnTo>
                    <a:lnTo>
                      <a:pt x="32" y="306"/>
                    </a:lnTo>
                    <a:lnTo>
                      <a:pt x="63" y="296"/>
                    </a:lnTo>
                    <a:lnTo>
                      <a:pt x="90" y="286"/>
                    </a:lnTo>
                    <a:lnTo>
                      <a:pt x="119" y="280"/>
                    </a:lnTo>
                    <a:lnTo>
                      <a:pt x="148" y="271"/>
                    </a:lnTo>
                    <a:lnTo>
                      <a:pt x="174" y="265"/>
                    </a:lnTo>
                    <a:lnTo>
                      <a:pt x="207" y="258"/>
                    </a:lnTo>
                    <a:lnTo>
                      <a:pt x="238" y="249"/>
                    </a:lnTo>
                    <a:lnTo>
                      <a:pt x="250" y="215"/>
                    </a:lnTo>
                    <a:lnTo>
                      <a:pt x="264" y="183"/>
                    </a:lnTo>
                    <a:lnTo>
                      <a:pt x="276" y="151"/>
                    </a:lnTo>
                    <a:lnTo>
                      <a:pt x="288" y="123"/>
                    </a:lnTo>
                    <a:lnTo>
                      <a:pt x="299" y="94"/>
                    </a:lnTo>
                    <a:lnTo>
                      <a:pt x="311" y="62"/>
                    </a:lnTo>
                    <a:lnTo>
                      <a:pt x="325" y="32"/>
                    </a:lnTo>
                    <a:lnTo>
                      <a:pt x="339" y="0"/>
                    </a:lnTo>
                    <a:lnTo>
                      <a:pt x="339" y="0"/>
                    </a:lnTo>
                    <a:lnTo>
                      <a:pt x="339" y="0"/>
                    </a:lnTo>
                    <a:lnTo>
                      <a:pt x="351" y="56"/>
                    </a:lnTo>
                    <a:lnTo>
                      <a:pt x="363" y="107"/>
                    </a:lnTo>
                    <a:lnTo>
                      <a:pt x="374" y="161"/>
                    </a:lnTo>
                    <a:lnTo>
                      <a:pt x="392" y="220"/>
                    </a:lnTo>
                    <a:lnTo>
                      <a:pt x="421" y="217"/>
                    </a:lnTo>
                    <a:lnTo>
                      <a:pt x="450" y="211"/>
                    </a:lnTo>
                    <a:lnTo>
                      <a:pt x="479" y="208"/>
                    </a:lnTo>
                    <a:lnTo>
                      <a:pt x="505" y="204"/>
                    </a:lnTo>
                    <a:lnTo>
                      <a:pt x="532" y="202"/>
                    </a:lnTo>
                    <a:lnTo>
                      <a:pt x="560" y="202"/>
                    </a:lnTo>
                    <a:lnTo>
                      <a:pt x="589" y="198"/>
                    </a:lnTo>
                    <a:lnTo>
                      <a:pt x="619" y="195"/>
                    </a:lnTo>
                    <a:lnTo>
                      <a:pt x="593" y="211"/>
                    </a:lnTo>
                    <a:lnTo>
                      <a:pt x="569" y="230"/>
                    </a:lnTo>
                    <a:lnTo>
                      <a:pt x="546" y="245"/>
                    </a:lnTo>
                    <a:lnTo>
                      <a:pt x="522" y="262"/>
                    </a:lnTo>
                    <a:lnTo>
                      <a:pt x="502" y="280"/>
                    </a:lnTo>
                    <a:lnTo>
                      <a:pt x="477" y="296"/>
                    </a:lnTo>
                    <a:lnTo>
                      <a:pt x="453" y="316"/>
                    </a:lnTo>
                    <a:lnTo>
                      <a:pt x="427" y="334"/>
                    </a:lnTo>
                    <a:lnTo>
                      <a:pt x="445" y="394"/>
                    </a:lnTo>
                    <a:lnTo>
                      <a:pt x="461" y="445"/>
                    </a:lnTo>
                    <a:lnTo>
                      <a:pt x="482" y="495"/>
                    </a:lnTo>
                    <a:lnTo>
                      <a:pt x="502" y="555"/>
                    </a:lnTo>
                    <a:lnTo>
                      <a:pt x="477" y="539"/>
                    </a:lnTo>
                    <a:lnTo>
                      <a:pt x="450" y="523"/>
                    </a:lnTo>
                    <a:lnTo>
                      <a:pt x="427" y="510"/>
                    </a:lnTo>
                    <a:lnTo>
                      <a:pt x="406" y="499"/>
                    </a:lnTo>
                    <a:lnTo>
                      <a:pt x="384" y="486"/>
                    </a:lnTo>
                    <a:lnTo>
                      <a:pt x="360" y="473"/>
                    </a:lnTo>
                    <a:lnTo>
                      <a:pt x="334" y="460"/>
                    </a:lnTo>
                    <a:lnTo>
                      <a:pt x="308" y="445"/>
                    </a:lnTo>
                    <a:lnTo>
                      <a:pt x="308" y="445"/>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60560" y="2967480"/>
                <a:ext cx="423000" cy="942840"/>
              </a:xfrm>
              <a:custGeom>
                <a:avLst/>
                <a:gdLst/>
                <a:ahLst/>
                <a:rect l="l" t="t" r="r" b="b"/>
                <a:pathLst>
                  <a:path w="1330" h="2960">
                    <a:moveTo>
                      <a:pt x="1269" y="0"/>
                    </a:moveTo>
                    <a:lnTo>
                      <a:pt x="1184" y="34"/>
                    </a:lnTo>
                    <a:lnTo>
                      <a:pt x="1103" y="65"/>
                    </a:lnTo>
                    <a:lnTo>
                      <a:pt x="1025" y="90"/>
                    </a:lnTo>
                    <a:lnTo>
                      <a:pt x="949" y="112"/>
                    </a:lnTo>
                    <a:lnTo>
                      <a:pt x="873" y="131"/>
                    </a:lnTo>
                    <a:lnTo>
                      <a:pt x="802" y="144"/>
                    </a:lnTo>
                    <a:lnTo>
                      <a:pt x="731" y="157"/>
                    </a:lnTo>
                    <a:lnTo>
                      <a:pt x="658" y="163"/>
                    </a:lnTo>
                    <a:lnTo>
                      <a:pt x="589" y="170"/>
                    </a:lnTo>
                    <a:lnTo>
                      <a:pt x="520" y="170"/>
                    </a:lnTo>
                    <a:lnTo>
                      <a:pt x="447" y="170"/>
                    </a:lnTo>
                    <a:lnTo>
                      <a:pt x="374" y="166"/>
                    </a:lnTo>
                    <a:lnTo>
                      <a:pt x="302" y="160"/>
                    </a:lnTo>
                    <a:lnTo>
                      <a:pt x="226" y="153"/>
                    </a:lnTo>
                    <a:lnTo>
                      <a:pt x="148" y="144"/>
                    </a:lnTo>
                    <a:lnTo>
                      <a:pt x="67" y="131"/>
                    </a:lnTo>
                    <a:lnTo>
                      <a:pt x="20" y="510"/>
                    </a:lnTo>
                    <a:lnTo>
                      <a:pt x="0" y="867"/>
                    </a:lnTo>
                    <a:lnTo>
                      <a:pt x="2" y="1201"/>
                    </a:lnTo>
                    <a:lnTo>
                      <a:pt x="18" y="1530"/>
                    </a:lnTo>
                    <a:lnTo>
                      <a:pt x="38" y="1858"/>
                    </a:lnTo>
                    <a:lnTo>
                      <a:pt x="55" y="2192"/>
                    </a:lnTo>
                    <a:lnTo>
                      <a:pt x="63" y="2543"/>
                    </a:lnTo>
                    <a:lnTo>
                      <a:pt x="57" y="2915"/>
                    </a:lnTo>
                    <a:lnTo>
                      <a:pt x="142" y="2928"/>
                    </a:lnTo>
                    <a:lnTo>
                      <a:pt x="223" y="2937"/>
                    </a:lnTo>
                    <a:lnTo>
                      <a:pt x="305" y="2947"/>
                    </a:lnTo>
                    <a:lnTo>
                      <a:pt x="383" y="2953"/>
                    </a:lnTo>
                    <a:lnTo>
                      <a:pt x="459" y="2956"/>
                    </a:lnTo>
                    <a:lnTo>
                      <a:pt x="534" y="2960"/>
                    </a:lnTo>
                    <a:lnTo>
                      <a:pt x="607" y="2960"/>
                    </a:lnTo>
                    <a:lnTo>
                      <a:pt x="682" y="2953"/>
                    </a:lnTo>
                    <a:lnTo>
                      <a:pt x="755" y="2950"/>
                    </a:lnTo>
                    <a:lnTo>
                      <a:pt x="830" y="2940"/>
                    </a:lnTo>
                    <a:lnTo>
                      <a:pt x="906" y="2924"/>
                    </a:lnTo>
                    <a:lnTo>
                      <a:pt x="983" y="2909"/>
                    </a:lnTo>
                    <a:lnTo>
                      <a:pt x="1066" y="2889"/>
                    </a:lnTo>
                    <a:lnTo>
                      <a:pt x="1149" y="2865"/>
                    </a:lnTo>
                    <a:lnTo>
                      <a:pt x="1233" y="2836"/>
                    </a:lnTo>
                    <a:lnTo>
                      <a:pt x="1324" y="2805"/>
                    </a:lnTo>
                    <a:lnTo>
                      <a:pt x="1330" y="2616"/>
                    </a:lnTo>
                    <a:lnTo>
                      <a:pt x="1324" y="2433"/>
                    </a:lnTo>
                    <a:lnTo>
                      <a:pt x="1312" y="2252"/>
                    </a:lnTo>
                    <a:lnTo>
                      <a:pt x="1292" y="2082"/>
                    </a:lnTo>
                    <a:lnTo>
                      <a:pt x="1265" y="1912"/>
                    </a:lnTo>
                    <a:lnTo>
                      <a:pt x="1239" y="1744"/>
                    </a:lnTo>
                    <a:lnTo>
                      <a:pt x="1210" y="1581"/>
                    </a:lnTo>
                    <a:lnTo>
                      <a:pt x="1184" y="1416"/>
                    </a:lnTo>
                    <a:lnTo>
                      <a:pt x="1161" y="1252"/>
                    </a:lnTo>
                    <a:lnTo>
                      <a:pt x="1143" y="1084"/>
                    </a:lnTo>
                    <a:lnTo>
                      <a:pt x="1133" y="917"/>
                    </a:lnTo>
                    <a:lnTo>
                      <a:pt x="1133" y="744"/>
                    </a:lnTo>
                    <a:lnTo>
                      <a:pt x="1143" y="567"/>
                    </a:lnTo>
                    <a:lnTo>
                      <a:pt x="1170" y="385"/>
                    </a:lnTo>
                    <a:lnTo>
                      <a:pt x="1210" y="194"/>
                    </a:lnTo>
                    <a:lnTo>
                      <a:pt x="1269" y="0"/>
                    </a:lnTo>
                    <a:lnTo>
                      <a:pt x="1269" y="0"/>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870280" y="2976480"/>
                <a:ext cx="196200" cy="202320"/>
              </a:xfrm>
              <a:custGeom>
                <a:avLst/>
                <a:gdLst/>
                <a:ahLst/>
                <a:rect l="l" t="t" r="r" b="b"/>
                <a:pathLst>
                  <a:path w="619" h="634">
                    <a:moveTo>
                      <a:pt x="619" y="195"/>
                    </a:moveTo>
                    <a:lnTo>
                      <a:pt x="589" y="198"/>
                    </a:lnTo>
                    <a:lnTo>
                      <a:pt x="560" y="202"/>
                    </a:lnTo>
                    <a:lnTo>
                      <a:pt x="532" y="202"/>
                    </a:lnTo>
                    <a:lnTo>
                      <a:pt x="505" y="204"/>
                    </a:lnTo>
                    <a:lnTo>
                      <a:pt x="479" y="208"/>
                    </a:lnTo>
                    <a:lnTo>
                      <a:pt x="450" y="211"/>
                    </a:lnTo>
                    <a:lnTo>
                      <a:pt x="421" y="217"/>
                    </a:lnTo>
                    <a:lnTo>
                      <a:pt x="392" y="220"/>
                    </a:lnTo>
                    <a:lnTo>
                      <a:pt x="374" y="164"/>
                    </a:lnTo>
                    <a:lnTo>
                      <a:pt x="363" y="110"/>
                    </a:lnTo>
                    <a:lnTo>
                      <a:pt x="351" y="56"/>
                    </a:lnTo>
                    <a:lnTo>
                      <a:pt x="339" y="0"/>
                    </a:lnTo>
                    <a:lnTo>
                      <a:pt x="325" y="32"/>
                    </a:lnTo>
                    <a:lnTo>
                      <a:pt x="311" y="62"/>
                    </a:lnTo>
                    <a:lnTo>
                      <a:pt x="299" y="91"/>
                    </a:lnTo>
                    <a:lnTo>
                      <a:pt x="284" y="123"/>
                    </a:lnTo>
                    <a:lnTo>
                      <a:pt x="273" y="151"/>
                    </a:lnTo>
                    <a:lnTo>
                      <a:pt x="262" y="183"/>
                    </a:lnTo>
                    <a:lnTo>
                      <a:pt x="250" y="215"/>
                    </a:lnTo>
                    <a:lnTo>
                      <a:pt x="238" y="249"/>
                    </a:lnTo>
                    <a:lnTo>
                      <a:pt x="207" y="258"/>
                    </a:lnTo>
                    <a:lnTo>
                      <a:pt x="174" y="265"/>
                    </a:lnTo>
                    <a:lnTo>
                      <a:pt x="148" y="271"/>
                    </a:lnTo>
                    <a:lnTo>
                      <a:pt x="119" y="280"/>
                    </a:lnTo>
                    <a:lnTo>
                      <a:pt x="90" y="286"/>
                    </a:lnTo>
                    <a:lnTo>
                      <a:pt x="63" y="296"/>
                    </a:lnTo>
                    <a:lnTo>
                      <a:pt x="32" y="306"/>
                    </a:lnTo>
                    <a:lnTo>
                      <a:pt x="0" y="316"/>
                    </a:lnTo>
                    <a:lnTo>
                      <a:pt x="26" y="325"/>
                    </a:lnTo>
                    <a:lnTo>
                      <a:pt x="49" y="331"/>
                    </a:lnTo>
                    <a:lnTo>
                      <a:pt x="73" y="340"/>
                    </a:lnTo>
                    <a:lnTo>
                      <a:pt x="93" y="346"/>
                    </a:lnTo>
                    <a:lnTo>
                      <a:pt x="114" y="357"/>
                    </a:lnTo>
                    <a:lnTo>
                      <a:pt x="136" y="362"/>
                    </a:lnTo>
                    <a:lnTo>
                      <a:pt x="160" y="372"/>
                    </a:lnTo>
                    <a:lnTo>
                      <a:pt x="185" y="381"/>
                    </a:lnTo>
                    <a:lnTo>
                      <a:pt x="169" y="448"/>
                    </a:lnTo>
                    <a:lnTo>
                      <a:pt x="154" y="508"/>
                    </a:lnTo>
                    <a:lnTo>
                      <a:pt x="140" y="568"/>
                    </a:lnTo>
                    <a:lnTo>
                      <a:pt x="122" y="634"/>
                    </a:lnTo>
                    <a:lnTo>
                      <a:pt x="148" y="605"/>
                    </a:lnTo>
                    <a:lnTo>
                      <a:pt x="171" y="583"/>
                    </a:lnTo>
                    <a:lnTo>
                      <a:pt x="191" y="558"/>
                    </a:lnTo>
                    <a:lnTo>
                      <a:pt x="215" y="536"/>
                    </a:lnTo>
                    <a:lnTo>
                      <a:pt x="238" y="514"/>
                    </a:lnTo>
                    <a:lnTo>
                      <a:pt x="258" y="492"/>
                    </a:lnTo>
                    <a:lnTo>
                      <a:pt x="282" y="469"/>
                    </a:lnTo>
                    <a:lnTo>
                      <a:pt x="308" y="445"/>
                    </a:lnTo>
                    <a:lnTo>
                      <a:pt x="334" y="458"/>
                    </a:lnTo>
                    <a:lnTo>
                      <a:pt x="360" y="473"/>
                    </a:lnTo>
                    <a:lnTo>
                      <a:pt x="384" y="486"/>
                    </a:lnTo>
                    <a:lnTo>
                      <a:pt x="406" y="499"/>
                    </a:lnTo>
                    <a:lnTo>
                      <a:pt x="427" y="510"/>
                    </a:lnTo>
                    <a:lnTo>
                      <a:pt x="453" y="523"/>
                    </a:lnTo>
                    <a:lnTo>
                      <a:pt x="477" y="539"/>
                    </a:lnTo>
                    <a:lnTo>
                      <a:pt x="502" y="555"/>
                    </a:lnTo>
                    <a:lnTo>
                      <a:pt x="482" y="499"/>
                    </a:lnTo>
                    <a:lnTo>
                      <a:pt x="465" y="448"/>
                    </a:lnTo>
                    <a:lnTo>
                      <a:pt x="447" y="394"/>
                    </a:lnTo>
                    <a:lnTo>
                      <a:pt x="427" y="334"/>
                    </a:lnTo>
                    <a:lnTo>
                      <a:pt x="453" y="316"/>
                    </a:lnTo>
                    <a:lnTo>
                      <a:pt x="477" y="296"/>
                    </a:lnTo>
                    <a:lnTo>
                      <a:pt x="502" y="280"/>
                    </a:lnTo>
                    <a:lnTo>
                      <a:pt x="522" y="262"/>
                    </a:lnTo>
                    <a:lnTo>
                      <a:pt x="546" y="245"/>
                    </a:lnTo>
                    <a:lnTo>
                      <a:pt x="569" y="230"/>
                    </a:lnTo>
                    <a:lnTo>
                      <a:pt x="593" y="211"/>
                    </a:lnTo>
                    <a:lnTo>
                      <a:pt x="619" y="195"/>
                    </a:lnTo>
                    <a:lnTo>
                      <a:pt x="619" y="195"/>
                    </a:lnTo>
                    <a:close/>
                  </a:path>
                </a:pathLst>
              </a:custGeom>
              <a:solidFill>
                <a:srgbClr val="edd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1042920" y="2468520"/>
              <a:ext cx="1258200" cy="1056960"/>
              <a:chOff x="1042920" y="2468520"/>
              <a:chExt cx="1258200" cy="1056960"/>
            </a:xfrm>
          </p:grpSpPr>
          <p:sp>
            <p:nvSpPr>
              <p:cNvPr id="212" name=""/>
              <p:cNvSpPr/>
              <p:nvPr/>
            </p:nvSpPr>
            <p:spPr>
              <a:xfrm>
                <a:off x="1059840" y="2468520"/>
                <a:ext cx="106920" cy="106920"/>
              </a:xfrm>
              <a:custGeom>
                <a:avLst/>
                <a:gdLst/>
                <a:ahLst/>
                <a:rect l="l" t="t" r="r" b="b"/>
                <a:pathLst>
                  <a:path w="335" h="335">
                    <a:moveTo>
                      <a:pt x="0" y="168"/>
                    </a:moveTo>
                    <a:lnTo>
                      <a:pt x="3" y="132"/>
                    </a:lnTo>
                    <a:lnTo>
                      <a:pt x="12" y="101"/>
                    </a:lnTo>
                    <a:lnTo>
                      <a:pt x="28" y="72"/>
                    </a:lnTo>
                    <a:lnTo>
                      <a:pt x="49" y="49"/>
                    </a:lnTo>
                    <a:lnTo>
                      <a:pt x="72" y="28"/>
                    </a:lnTo>
                    <a:lnTo>
                      <a:pt x="101" y="12"/>
                    </a:lnTo>
                    <a:lnTo>
                      <a:pt x="132" y="3"/>
                    </a:lnTo>
                    <a:lnTo>
                      <a:pt x="168" y="0"/>
                    </a:lnTo>
                    <a:lnTo>
                      <a:pt x="200" y="3"/>
                    </a:lnTo>
                    <a:lnTo>
                      <a:pt x="232" y="12"/>
                    </a:lnTo>
                    <a:lnTo>
                      <a:pt x="259" y="28"/>
                    </a:lnTo>
                    <a:lnTo>
                      <a:pt x="285" y="49"/>
                    </a:lnTo>
                    <a:lnTo>
                      <a:pt x="305" y="72"/>
                    </a:lnTo>
                    <a:lnTo>
                      <a:pt x="321" y="101"/>
                    </a:lnTo>
                    <a:lnTo>
                      <a:pt x="331" y="132"/>
                    </a:lnTo>
                    <a:lnTo>
                      <a:pt x="335" y="168"/>
                    </a:lnTo>
                    <a:lnTo>
                      <a:pt x="331" y="200"/>
                    </a:lnTo>
                    <a:lnTo>
                      <a:pt x="321" y="232"/>
                    </a:lnTo>
                    <a:lnTo>
                      <a:pt x="305" y="259"/>
                    </a:lnTo>
                    <a:lnTo>
                      <a:pt x="285" y="285"/>
                    </a:lnTo>
                    <a:lnTo>
                      <a:pt x="259" y="305"/>
                    </a:lnTo>
                    <a:lnTo>
                      <a:pt x="232" y="320"/>
                    </a:lnTo>
                    <a:lnTo>
                      <a:pt x="200" y="331"/>
                    </a:lnTo>
                    <a:lnTo>
                      <a:pt x="168" y="335"/>
                    </a:lnTo>
                    <a:lnTo>
                      <a:pt x="132" y="331"/>
                    </a:lnTo>
                    <a:lnTo>
                      <a:pt x="101" y="320"/>
                    </a:lnTo>
                    <a:lnTo>
                      <a:pt x="72" y="305"/>
                    </a:lnTo>
                    <a:lnTo>
                      <a:pt x="49" y="285"/>
                    </a:lnTo>
                    <a:lnTo>
                      <a:pt x="28" y="259"/>
                    </a:lnTo>
                    <a:lnTo>
                      <a:pt x="12" y="232"/>
                    </a:lnTo>
                    <a:lnTo>
                      <a:pt x="3" y="20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072440" y="2481120"/>
                <a:ext cx="75240" cy="75240"/>
              </a:xfrm>
              <a:custGeom>
                <a:avLst/>
                <a:gdLst/>
                <a:ahLst/>
                <a:rect l="l" t="t" r="r" b="b"/>
                <a:pathLst>
                  <a:path w="234" h="235">
                    <a:moveTo>
                      <a:pt x="134" y="235"/>
                    </a:moveTo>
                    <a:lnTo>
                      <a:pt x="158" y="228"/>
                    </a:lnTo>
                    <a:lnTo>
                      <a:pt x="180" y="219"/>
                    </a:lnTo>
                    <a:lnTo>
                      <a:pt x="199" y="205"/>
                    </a:lnTo>
                    <a:lnTo>
                      <a:pt x="214" y="188"/>
                    </a:lnTo>
                    <a:lnTo>
                      <a:pt x="225" y="167"/>
                    </a:lnTo>
                    <a:lnTo>
                      <a:pt x="231" y="145"/>
                    </a:lnTo>
                    <a:lnTo>
                      <a:pt x="234" y="121"/>
                    </a:lnTo>
                    <a:lnTo>
                      <a:pt x="233" y="98"/>
                    </a:lnTo>
                    <a:lnTo>
                      <a:pt x="229" y="86"/>
                    </a:lnTo>
                    <a:lnTo>
                      <a:pt x="226" y="74"/>
                    </a:lnTo>
                    <a:lnTo>
                      <a:pt x="221" y="62"/>
                    </a:lnTo>
                    <a:lnTo>
                      <a:pt x="217" y="53"/>
                    </a:lnTo>
                    <a:lnTo>
                      <a:pt x="210" y="41"/>
                    </a:lnTo>
                    <a:lnTo>
                      <a:pt x="204" y="33"/>
                    </a:lnTo>
                    <a:lnTo>
                      <a:pt x="196" y="24"/>
                    </a:lnTo>
                    <a:lnTo>
                      <a:pt x="189" y="18"/>
                    </a:lnTo>
                    <a:lnTo>
                      <a:pt x="182" y="13"/>
                    </a:lnTo>
                    <a:lnTo>
                      <a:pt x="174" y="9"/>
                    </a:lnTo>
                    <a:lnTo>
                      <a:pt x="166" y="6"/>
                    </a:lnTo>
                    <a:lnTo>
                      <a:pt x="159" y="3"/>
                    </a:lnTo>
                    <a:lnTo>
                      <a:pt x="150" y="1"/>
                    </a:lnTo>
                    <a:lnTo>
                      <a:pt x="142" y="0"/>
                    </a:lnTo>
                    <a:lnTo>
                      <a:pt x="134" y="0"/>
                    </a:lnTo>
                    <a:lnTo>
                      <a:pt x="127" y="0"/>
                    </a:lnTo>
                    <a:lnTo>
                      <a:pt x="99" y="1"/>
                    </a:lnTo>
                    <a:lnTo>
                      <a:pt x="76" y="9"/>
                    </a:lnTo>
                    <a:lnTo>
                      <a:pt x="53" y="20"/>
                    </a:lnTo>
                    <a:lnTo>
                      <a:pt x="36" y="36"/>
                    </a:lnTo>
                    <a:lnTo>
                      <a:pt x="21" y="54"/>
                    </a:lnTo>
                    <a:lnTo>
                      <a:pt x="9" y="77"/>
                    </a:lnTo>
                    <a:lnTo>
                      <a:pt x="1" y="100"/>
                    </a:lnTo>
                    <a:lnTo>
                      <a:pt x="0" y="128"/>
                    </a:lnTo>
                    <a:lnTo>
                      <a:pt x="0" y="134"/>
                    </a:lnTo>
                    <a:lnTo>
                      <a:pt x="0" y="142"/>
                    </a:lnTo>
                    <a:lnTo>
                      <a:pt x="1" y="148"/>
                    </a:lnTo>
                    <a:lnTo>
                      <a:pt x="2" y="156"/>
                    </a:lnTo>
                    <a:lnTo>
                      <a:pt x="6" y="169"/>
                    </a:lnTo>
                    <a:lnTo>
                      <a:pt x="13" y="184"/>
                    </a:lnTo>
                    <a:lnTo>
                      <a:pt x="19" y="190"/>
                    </a:lnTo>
                    <a:lnTo>
                      <a:pt x="30" y="198"/>
                    </a:lnTo>
                    <a:lnTo>
                      <a:pt x="43" y="207"/>
                    </a:lnTo>
                    <a:lnTo>
                      <a:pt x="59" y="216"/>
                    </a:lnTo>
                    <a:lnTo>
                      <a:pt x="74" y="223"/>
                    </a:lnTo>
                    <a:lnTo>
                      <a:pt x="93" y="231"/>
                    </a:lnTo>
                    <a:lnTo>
                      <a:pt x="112" y="233"/>
                    </a:lnTo>
                    <a:lnTo>
                      <a:pt x="134" y="235"/>
                    </a:lnTo>
                    <a:close/>
                    <a:moveTo>
                      <a:pt x="46" y="177"/>
                    </a:moveTo>
                    <a:lnTo>
                      <a:pt x="43" y="173"/>
                    </a:lnTo>
                    <a:lnTo>
                      <a:pt x="39" y="164"/>
                    </a:lnTo>
                    <a:lnTo>
                      <a:pt x="33" y="150"/>
                    </a:lnTo>
                    <a:lnTo>
                      <a:pt x="29" y="133"/>
                    </a:lnTo>
                    <a:lnTo>
                      <a:pt x="26" y="112"/>
                    </a:lnTo>
                    <a:lnTo>
                      <a:pt x="29" y="92"/>
                    </a:lnTo>
                    <a:lnTo>
                      <a:pt x="36" y="73"/>
                    </a:lnTo>
                    <a:lnTo>
                      <a:pt x="53" y="56"/>
                    </a:lnTo>
                    <a:lnTo>
                      <a:pt x="73" y="40"/>
                    </a:lnTo>
                    <a:lnTo>
                      <a:pt x="94" y="32"/>
                    </a:lnTo>
                    <a:lnTo>
                      <a:pt x="112" y="28"/>
                    </a:lnTo>
                    <a:lnTo>
                      <a:pt x="131" y="28"/>
                    </a:lnTo>
                    <a:lnTo>
                      <a:pt x="145" y="31"/>
                    </a:lnTo>
                    <a:lnTo>
                      <a:pt x="157" y="36"/>
                    </a:lnTo>
                    <a:lnTo>
                      <a:pt x="166" y="40"/>
                    </a:lnTo>
                    <a:lnTo>
                      <a:pt x="172" y="45"/>
                    </a:lnTo>
                    <a:lnTo>
                      <a:pt x="168" y="44"/>
                    </a:lnTo>
                    <a:lnTo>
                      <a:pt x="162" y="44"/>
                    </a:lnTo>
                    <a:lnTo>
                      <a:pt x="150" y="43"/>
                    </a:lnTo>
                    <a:lnTo>
                      <a:pt x="136" y="44"/>
                    </a:lnTo>
                    <a:lnTo>
                      <a:pt x="119" y="45"/>
                    </a:lnTo>
                    <a:lnTo>
                      <a:pt x="102" y="52"/>
                    </a:lnTo>
                    <a:lnTo>
                      <a:pt x="83" y="60"/>
                    </a:lnTo>
                    <a:lnTo>
                      <a:pt x="69" y="71"/>
                    </a:lnTo>
                    <a:lnTo>
                      <a:pt x="55" y="86"/>
                    </a:lnTo>
                    <a:lnTo>
                      <a:pt x="47" y="104"/>
                    </a:lnTo>
                    <a:lnTo>
                      <a:pt x="42" y="121"/>
                    </a:lnTo>
                    <a:lnTo>
                      <a:pt x="40" y="139"/>
                    </a:lnTo>
                    <a:lnTo>
                      <a:pt x="40" y="154"/>
                    </a:lnTo>
                    <a:lnTo>
                      <a:pt x="43" y="165"/>
                    </a:lnTo>
                    <a:lnTo>
                      <a:pt x="44" y="173"/>
                    </a:lnTo>
                    <a:lnTo>
                      <a:pt x="46" y="177"/>
                    </a:lnTo>
                    <a:close/>
                  </a:path>
                </a:pathLst>
              </a:custGeom>
              <a:solidFill>
                <a:srgbClr val="ffdb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
              <p:cNvSpPr/>
              <p:nvPr/>
            </p:nvSpPr>
            <p:spPr>
              <a:xfrm>
                <a:off x="1081440" y="2490120"/>
                <a:ext cx="47160" cy="48240"/>
              </a:xfrm>
              <a:custGeom>
                <a:avLst/>
                <a:gdLst/>
                <a:ahLst/>
                <a:rect l="l" t="t" r="r" b="b"/>
                <a:pathLst>
                  <a:path w="146" h="149">
                    <a:moveTo>
                      <a:pt x="146" y="17"/>
                    </a:moveTo>
                    <a:lnTo>
                      <a:pt x="140" y="12"/>
                    </a:lnTo>
                    <a:lnTo>
                      <a:pt x="131" y="8"/>
                    </a:lnTo>
                    <a:lnTo>
                      <a:pt x="119" y="3"/>
                    </a:lnTo>
                    <a:lnTo>
                      <a:pt x="105" y="0"/>
                    </a:lnTo>
                    <a:lnTo>
                      <a:pt x="86" y="0"/>
                    </a:lnTo>
                    <a:lnTo>
                      <a:pt x="68" y="4"/>
                    </a:lnTo>
                    <a:lnTo>
                      <a:pt x="47" y="12"/>
                    </a:lnTo>
                    <a:lnTo>
                      <a:pt x="27" y="28"/>
                    </a:lnTo>
                    <a:lnTo>
                      <a:pt x="10" y="45"/>
                    </a:lnTo>
                    <a:lnTo>
                      <a:pt x="3" y="64"/>
                    </a:lnTo>
                    <a:lnTo>
                      <a:pt x="0" y="84"/>
                    </a:lnTo>
                    <a:lnTo>
                      <a:pt x="3" y="105"/>
                    </a:lnTo>
                    <a:lnTo>
                      <a:pt x="7" y="122"/>
                    </a:lnTo>
                    <a:lnTo>
                      <a:pt x="13" y="136"/>
                    </a:lnTo>
                    <a:lnTo>
                      <a:pt x="17" y="145"/>
                    </a:lnTo>
                    <a:lnTo>
                      <a:pt x="20" y="149"/>
                    </a:lnTo>
                    <a:lnTo>
                      <a:pt x="18" y="145"/>
                    </a:lnTo>
                    <a:lnTo>
                      <a:pt x="17" y="137"/>
                    </a:lnTo>
                    <a:lnTo>
                      <a:pt x="14" y="126"/>
                    </a:lnTo>
                    <a:lnTo>
                      <a:pt x="14" y="111"/>
                    </a:lnTo>
                    <a:lnTo>
                      <a:pt x="16" y="93"/>
                    </a:lnTo>
                    <a:lnTo>
                      <a:pt x="21" y="76"/>
                    </a:lnTo>
                    <a:lnTo>
                      <a:pt x="29" y="58"/>
                    </a:lnTo>
                    <a:lnTo>
                      <a:pt x="43" y="43"/>
                    </a:lnTo>
                    <a:lnTo>
                      <a:pt x="57" y="32"/>
                    </a:lnTo>
                    <a:lnTo>
                      <a:pt x="76" y="24"/>
                    </a:lnTo>
                    <a:lnTo>
                      <a:pt x="93" y="17"/>
                    </a:lnTo>
                    <a:lnTo>
                      <a:pt x="110" y="16"/>
                    </a:lnTo>
                    <a:lnTo>
                      <a:pt x="124" y="15"/>
                    </a:lnTo>
                    <a:lnTo>
                      <a:pt x="136" y="16"/>
                    </a:lnTo>
                    <a:lnTo>
                      <a:pt x="142" y="16"/>
                    </a:lnTo>
                    <a:lnTo>
                      <a:pt x="146"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5" name=""/>
              <p:cNvSpPr/>
              <p:nvPr/>
            </p:nvSpPr>
            <p:spPr>
              <a:xfrm>
                <a:off x="1077480" y="2487600"/>
                <a:ext cx="76680" cy="75240"/>
              </a:xfrm>
              <a:custGeom>
                <a:avLst/>
                <a:gdLst/>
                <a:ahLst/>
                <a:rect l="l" t="t" r="r" b="b"/>
                <a:pathLst>
                  <a:path w="242" h="236">
                    <a:moveTo>
                      <a:pt x="176" y="0"/>
                    </a:moveTo>
                    <a:lnTo>
                      <a:pt x="183" y="6"/>
                    </a:lnTo>
                    <a:lnTo>
                      <a:pt x="191" y="15"/>
                    </a:lnTo>
                    <a:lnTo>
                      <a:pt x="197" y="23"/>
                    </a:lnTo>
                    <a:lnTo>
                      <a:pt x="204" y="35"/>
                    </a:lnTo>
                    <a:lnTo>
                      <a:pt x="208" y="44"/>
                    </a:lnTo>
                    <a:lnTo>
                      <a:pt x="213" y="56"/>
                    </a:lnTo>
                    <a:lnTo>
                      <a:pt x="216" y="68"/>
                    </a:lnTo>
                    <a:lnTo>
                      <a:pt x="220" y="80"/>
                    </a:lnTo>
                    <a:lnTo>
                      <a:pt x="221" y="103"/>
                    </a:lnTo>
                    <a:lnTo>
                      <a:pt x="218" y="127"/>
                    </a:lnTo>
                    <a:lnTo>
                      <a:pt x="212" y="149"/>
                    </a:lnTo>
                    <a:lnTo>
                      <a:pt x="201" y="170"/>
                    </a:lnTo>
                    <a:lnTo>
                      <a:pt x="186" y="187"/>
                    </a:lnTo>
                    <a:lnTo>
                      <a:pt x="167" y="201"/>
                    </a:lnTo>
                    <a:lnTo>
                      <a:pt x="145" y="210"/>
                    </a:lnTo>
                    <a:lnTo>
                      <a:pt x="121" y="217"/>
                    </a:lnTo>
                    <a:lnTo>
                      <a:pt x="99" y="215"/>
                    </a:lnTo>
                    <a:lnTo>
                      <a:pt x="80" y="213"/>
                    </a:lnTo>
                    <a:lnTo>
                      <a:pt x="61" y="205"/>
                    </a:lnTo>
                    <a:lnTo>
                      <a:pt x="46" y="198"/>
                    </a:lnTo>
                    <a:lnTo>
                      <a:pt x="30" y="189"/>
                    </a:lnTo>
                    <a:lnTo>
                      <a:pt x="17" y="180"/>
                    </a:lnTo>
                    <a:lnTo>
                      <a:pt x="6" y="172"/>
                    </a:lnTo>
                    <a:lnTo>
                      <a:pt x="0" y="166"/>
                    </a:lnTo>
                    <a:lnTo>
                      <a:pt x="8" y="180"/>
                    </a:lnTo>
                    <a:lnTo>
                      <a:pt x="18" y="193"/>
                    </a:lnTo>
                    <a:lnTo>
                      <a:pt x="30" y="205"/>
                    </a:lnTo>
                    <a:lnTo>
                      <a:pt x="46" y="217"/>
                    </a:lnTo>
                    <a:lnTo>
                      <a:pt x="60" y="223"/>
                    </a:lnTo>
                    <a:lnTo>
                      <a:pt x="77" y="230"/>
                    </a:lnTo>
                    <a:lnTo>
                      <a:pt x="94" y="234"/>
                    </a:lnTo>
                    <a:lnTo>
                      <a:pt x="114" y="236"/>
                    </a:lnTo>
                    <a:lnTo>
                      <a:pt x="138" y="232"/>
                    </a:lnTo>
                    <a:lnTo>
                      <a:pt x="162" y="226"/>
                    </a:lnTo>
                    <a:lnTo>
                      <a:pt x="184" y="214"/>
                    </a:lnTo>
                    <a:lnTo>
                      <a:pt x="204" y="198"/>
                    </a:lnTo>
                    <a:lnTo>
                      <a:pt x="220" y="179"/>
                    </a:lnTo>
                    <a:lnTo>
                      <a:pt x="231" y="158"/>
                    </a:lnTo>
                    <a:lnTo>
                      <a:pt x="238" y="134"/>
                    </a:lnTo>
                    <a:lnTo>
                      <a:pt x="242" y="110"/>
                    </a:lnTo>
                    <a:lnTo>
                      <a:pt x="239" y="91"/>
                    </a:lnTo>
                    <a:lnTo>
                      <a:pt x="237" y="74"/>
                    </a:lnTo>
                    <a:lnTo>
                      <a:pt x="230" y="59"/>
                    </a:lnTo>
                    <a:lnTo>
                      <a:pt x="223" y="44"/>
                    </a:lnTo>
                    <a:lnTo>
                      <a:pt x="213" y="30"/>
                    </a:lnTo>
                    <a:lnTo>
                      <a:pt x="203" y="18"/>
                    </a:lnTo>
                    <a:lnTo>
                      <a:pt x="189" y="8"/>
                    </a:lnTo>
                    <a:lnTo>
                      <a:pt x="176" y="0"/>
                    </a:lnTo>
                    <a:close/>
                  </a:path>
                </a:pathLst>
              </a:custGeom>
              <a:solidFill>
                <a:srgbClr val="ffa14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6" name=""/>
              <p:cNvSpPr/>
              <p:nvPr/>
            </p:nvSpPr>
            <p:spPr>
              <a:xfrm>
                <a:off x="1060920" y="2563920"/>
                <a:ext cx="102240" cy="961560"/>
              </a:xfrm>
              <a:custGeom>
                <a:avLst/>
                <a:gdLst/>
                <a:ahLst/>
                <a:rect l="l" t="t" r="r" b="b"/>
                <a:pathLst>
                  <a:path w="321" h="3012">
                    <a:moveTo>
                      <a:pt x="307" y="51"/>
                    </a:moveTo>
                    <a:lnTo>
                      <a:pt x="302" y="47"/>
                    </a:lnTo>
                    <a:lnTo>
                      <a:pt x="294" y="42"/>
                    </a:lnTo>
                    <a:lnTo>
                      <a:pt x="281" y="32"/>
                    </a:lnTo>
                    <a:lnTo>
                      <a:pt x="266" y="25"/>
                    </a:lnTo>
                    <a:lnTo>
                      <a:pt x="245" y="14"/>
                    </a:lnTo>
                    <a:lnTo>
                      <a:pt x="220" y="6"/>
                    </a:lnTo>
                    <a:lnTo>
                      <a:pt x="192" y="1"/>
                    </a:lnTo>
                    <a:lnTo>
                      <a:pt x="164" y="0"/>
                    </a:lnTo>
                    <a:lnTo>
                      <a:pt x="132" y="0"/>
                    </a:lnTo>
                    <a:lnTo>
                      <a:pt x="106" y="5"/>
                    </a:lnTo>
                    <a:lnTo>
                      <a:pt x="81" y="12"/>
                    </a:lnTo>
                    <a:lnTo>
                      <a:pt x="60" y="19"/>
                    </a:lnTo>
                    <a:lnTo>
                      <a:pt x="42" y="26"/>
                    </a:lnTo>
                    <a:lnTo>
                      <a:pt x="30" y="32"/>
                    </a:lnTo>
                    <a:lnTo>
                      <a:pt x="21" y="36"/>
                    </a:lnTo>
                    <a:lnTo>
                      <a:pt x="19" y="40"/>
                    </a:lnTo>
                    <a:lnTo>
                      <a:pt x="0" y="52"/>
                    </a:lnTo>
                    <a:lnTo>
                      <a:pt x="0" y="2921"/>
                    </a:lnTo>
                    <a:lnTo>
                      <a:pt x="2" y="2925"/>
                    </a:lnTo>
                    <a:lnTo>
                      <a:pt x="2" y="2928"/>
                    </a:lnTo>
                    <a:lnTo>
                      <a:pt x="5" y="2938"/>
                    </a:lnTo>
                    <a:lnTo>
                      <a:pt x="13" y="2953"/>
                    </a:lnTo>
                    <a:lnTo>
                      <a:pt x="28" y="2969"/>
                    </a:lnTo>
                    <a:lnTo>
                      <a:pt x="46" y="2983"/>
                    </a:lnTo>
                    <a:lnTo>
                      <a:pt x="72" y="2997"/>
                    </a:lnTo>
                    <a:lnTo>
                      <a:pt x="107" y="3008"/>
                    </a:lnTo>
                    <a:lnTo>
                      <a:pt x="152" y="3012"/>
                    </a:lnTo>
                    <a:lnTo>
                      <a:pt x="191" y="3008"/>
                    </a:lnTo>
                    <a:lnTo>
                      <a:pt x="225" y="3001"/>
                    </a:lnTo>
                    <a:lnTo>
                      <a:pt x="253" y="2991"/>
                    </a:lnTo>
                    <a:lnTo>
                      <a:pt x="276" y="2980"/>
                    </a:lnTo>
                    <a:lnTo>
                      <a:pt x="290" y="2967"/>
                    </a:lnTo>
                    <a:lnTo>
                      <a:pt x="302" y="2957"/>
                    </a:lnTo>
                    <a:lnTo>
                      <a:pt x="310" y="2948"/>
                    </a:lnTo>
                    <a:lnTo>
                      <a:pt x="314" y="2944"/>
                    </a:lnTo>
                    <a:lnTo>
                      <a:pt x="321" y="2935"/>
                    </a:lnTo>
                    <a:lnTo>
                      <a:pt x="321" y="64"/>
                    </a:lnTo>
                    <a:lnTo>
                      <a:pt x="30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082520" y="2576520"/>
                <a:ext cx="44280" cy="937080"/>
              </a:xfrm>
              <a:custGeom>
                <a:avLst/>
                <a:gdLst/>
                <a:ahLst/>
                <a:rect l="l" t="t" r="r" b="b"/>
                <a:pathLst>
                  <a:path w="138" h="2933">
                    <a:moveTo>
                      <a:pt x="138" y="2927"/>
                    </a:moveTo>
                    <a:lnTo>
                      <a:pt x="138" y="5"/>
                    </a:lnTo>
                    <a:lnTo>
                      <a:pt x="128" y="3"/>
                    </a:lnTo>
                    <a:lnTo>
                      <a:pt x="118" y="1"/>
                    </a:lnTo>
                    <a:lnTo>
                      <a:pt x="107" y="0"/>
                    </a:lnTo>
                    <a:lnTo>
                      <a:pt x="97" y="0"/>
                    </a:lnTo>
                    <a:lnTo>
                      <a:pt x="81" y="0"/>
                    </a:lnTo>
                    <a:lnTo>
                      <a:pt x="67" y="1"/>
                    </a:lnTo>
                    <a:lnTo>
                      <a:pt x="52" y="3"/>
                    </a:lnTo>
                    <a:lnTo>
                      <a:pt x="40" y="7"/>
                    </a:lnTo>
                    <a:lnTo>
                      <a:pt x="29" y="9"/>
                    </a:lnTo>
                    <a:lnTo>
                      <a:pt x="18" y="13"/>
                    </a:lnTo>
                    <a:lnTo>
                      <a:pt x="8" y="17"/>
                    </a:lnTo>
                    <a:lnTo>
                      <a:pt x="0" y="22"/>
                    </a:lnTo>
                    <a:lnTo>
                      <a:pt x="0" y="2911"/>
                    </a:lnTo>
                    <a:lnTo>
                      <a:pt x="5" y="2914"/>
                    </a:lnTo>
                    <a:lnTo>
                      <a:pt x="13" y="2918"/>
                    </a:lnTo>
                    <a:lnTo>
                      <a:pt x="21" y="2922"/>
                    </a:lnTo>
                    <a:lnTo>
                      <a:pt x="31" y="2926"/>
                    </a:lnTo>
                    <a:lnTo>
                      <a:pt x="42" y="2928"/>
                    </a:lnTo>
                    <a:lnTo>
                      <a:pt x="55" y="2931"/>
                    </a:lnTo>
                    <a:lnTo>
                      <a:pt x="68" y="2932"/>
                    </a:lnTo>
                    <a:lnTo>
                      <a:pt x="85" y="2933"/>
                    </a:lnTo>
                    <a:lnTo>
                      <a:pt x="91" y="2932"/>
                    </a:lnTo>
                    <a:lnTo>
                      <a:pt x="99" y="2932"/>
                    </a:lnTo>
                    <a:lnTo>
                      <a:pt x="106" y="2931"/>
                    </a:lnTo>
                    <a:lnTo>
                      <a:pt x="114" y="2931"/>
                    </a:lnTo>
                    <a:lnTo>
                      <a:pt x="125" y="2928"/>
                    </a:lnTo>
                    <a:lnTo>
                      <a:pt x="138" y="2927"/>
                    </a:lnTo>
                    <a:close/>
                    <a:moveTo>
                      <a:pt x="55" y="2885"/>
                    </a:moveTo>
                    <a:lnTo>
                      <a:pt x="21" y="2885"/>
                    </a:lnTo>
                    <a:lnTo>
                      <a:pt x="21" y="29"/>
                    </a:lnTo>
                    <a:lnTo>
                      <a:pt x="55" y="29"/>
                    </a:lnTo>
                    <a:lnTo>
                      <a:pt x="55" y="2885"/>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89000" y="2585520"/>
                <a:ext cx="11520" cy="91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27160" y="2579400"/>
                <a:ext cx="23040" cy="932040"/>
              </a:xfrm>
              <a:custGeom>
                <a:avLst/>
                <a:gdLst/>
                <a:ahLst/>
                <a:rect l="l" t="t" r="r" b="b"/>
                <a:pathLst>
                  <a:path w="75" h="2922">
                    <a:moveTo>
                      <a:pt x="75" y="2880"/>
                    </a:moveTo>
                    <a:lnTo>
                      <a:pt x="75" y="37"/>
                    </a:lnTo>
                    <a:lnTo>
                      <a:pt x="72" y="34"/>
                    </a:lnTo>
                    <a:lnTo>
                      <a:pt x="68" y="32"/>
                    </a:lnTo>
                    <a:lnTo>
                      <a:pt x="62" y="26"/>
                    </a:lnTo>
                    <a:lnTo>
                      <a:pt x="54" y="22"/>
                    </a:lnTo>
                    <a:lnTo>
                      <a:pt x="42" y="16"/>
                    </a:lnTo>
                    <a:lnTo>
                      <a:pt x="31" y="9"/>
                    </a:lnTo>
                    <a:lnTo>
                      <a:pt x="15" y="4"/>
                    </a:lnTo>
                    <a:lnTo>
                      <a:pt x="0" y="0"/>
                    </a:lnTo>
                    <a:lnTo>
                      <a:pt x="0" y="2922"/>
                    </a:lnTo>
                    <a:lnTo>
                      <a:pt x="19" y="2915"/>
                    </a:lnTo>
                    <a:lnTo>
                      <a:pt x="34" y="2909"/>
                    </a:lnTo>
                    <a:lnTo>
                      <a:pt x="46" y="2902"/>
                    </a:lnTo>
                    <a:lnTo>
                      <a:pt x="58" y="2896"/>
                    </a:lnTo>
                    <a:lnTo>
                      <a:pt x="65" y="2888"/>
                    </a:lnTo>
                    <a:lnTo>
                      <a:pt x="70" y="2884"/>
                    </a:lnTo>
                    <a:lnTo>
                      <a:pt x="74" y="2880"/>
                    </a:lnTo>
                    <a:lnTo>
                      <a:pt x="75" y="2880"/>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073520" y="2584440"/>
                <a:ext cx="8640" cy="921600"/>
              </a:xfrm>
              <a:custGeom>
                <a:avLst/>
                <a:gdLst/>
                <a:ahLst/>
                <a:rect l="l" t="t" r="r" b="b"/>
                <a:pathLst>
                  <a:path w="28" h="2889">
                    <a:moveTo>
                      <a:pt x="2" y="13"/>
                    </a:moveTo>
                    <a:lnTo>
                      <a:pt x="0" y="2855"/>
                    </a:lnTo>
                    <a:lnTo>
                      <a:pt x="0" y="2858"/>
                    </a:lnTo>
                    <a:lnTo>
                      <a:pt x="4" y="2866"/>
                    </a:lnTo>
                    <a:lnTo>
                      <a:pt x="7" y="2870"/>
                    </a:lnTo>
                    <a:lnTo>
                      <a:pt x="12" y="2876"/>
                    </a:lnTo>
                    <a:lnTo>
                      <a:pt x="19" y="2883"/>
                    </a:lnTo>
                    <a:lnTo>
                      <a:pt x="28" y="2889"/>
                    </a:lnTo>
                    <a:lnTo>
                      <a:pt x="28" y="0"/>
                    </a:lnTo>
                    <a:lnTo>
                      <a:pt x="16" y="4"/>
                    </a:lnTo>
                    <a:lnTo>
                      <a:pt x="8" y="8"/>
                    </a:lnTo>
                    <a:lnTo>
                      <a:pt x="3" y="11"/>
                    </a:lnTo>
                    <a:lnTo>
                      <a:pt x="2" y="13"/>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42920" y="3422160"/>
                <a:ext cx="26640" cy="99360"/>
              </a:xfrm>
              <a:custGeom>
                <a:avLst/>
                <a:gdLst/>
                <a:ahLst/>
                <a:rect l="l" t="t" r="r" b="b"/>
                <a:pathLst>
                  <a:path w="84" h="312">
                    <a:moveTo>
                      <a:pt x="36" y="0"/>
                    </a:moveTo>
                    <a:lnTo>
                      <a:pt x="36" y="249"/>
                    </a:lnTo>
                    <a:lnTo>
                      <a:pt x="36" y="250"/>
                    </a:lnTo>
                    <a:lnTo>
                      <a:pt x="38" y="257"/>
                    </a:lnTo>
                    <a:lnTo>
                      <a:pt x="42" y="266"/>
                    </a:lnTo>
                    <a:lnTo>
                      <a:pt x="49" y="278"/>
                    </a:lnTo>
                    <a:lnTo>
                      <a:pt x="55" y="288"/>
                    </a:lnTo>
                    <a:lnTo>
                      <a:pt x="64" y="299"/>
                    </a:lnTo>
                    <a:lnTo>
                      <a:pt x="72" y="305"/>
                    </a:lnTo>
                    <a:lnTo>
                      <a:pt x="84" y="312"/>
                    </a:lnTo>
                    <a:lnTo>
                      <a:pt x="80" y="311"/>
                    </a:lnTo>
                    <a:lnTo>
                      <a:pt x="72" y="308"/>
                    </a:lnTo>
                    <a:lnTo>
                      <a:pt x="61" y="303"/>
                    </a:lnTo>
                    <a:lnTo>
                      <a:pt x="47" y="297"/>
                    </a:lnTo>
                    <a:lnTo>
                      <a:pt x="32" y="288"/>
                    </a:lnTo>
                    <a:lnTo>
                      <a:pt x="19" y="278"/>
                    </a:lnTo>
                    <a:lnTo>
                      <a:pt x="7" y="265"/>
                    </a:lnTo>
                    <a:lnTo>
                      <a:pt x="0" y="249"/>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045440" y="2567880"/>
                <a:ext cx="21600" cy="150480"/>
              </a:xfrm>
              <a:custGeom>
                <a:avLst/>
                <a:gdLst/>
                <a:ahLst/>
                <a:rect l="l" t="t" r="r" b="b"/>
                <a:pathLst>
                  <a:path w="70" h="471">
                    <a:moveTo>
                      <a:pt x="70" y="0"/>
                    </a:moveTo>
                    <a:lnTo>
                      <a:pt x="28" y="27"/>
                    </a:lnTo>
                    <a:lnTo>
                      <a:pt x="28" y="471"/>
                    </a:lnTo>
                    <a:lnTo>
                      <a:pt x="0" y="2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189800" y="2946960"/>
                <a:ext cx="61200" cy="5040"/>
              </a:xfrm>
              <a:custGeom>
                <a:avLst/>
                <a:gdLst/>
                <a:ahLst/>
                <a:rect l="l" t="t" r="r" b="b"/>
                <a:pathLst>
                  <a:path w="193" h="16">
                    <a:moveTo>
                      <a:pt x="193" y="16"/>
                    </a:moveTo>
                    <a:lnTo>
                      <a:pt x="168" y="11"/>
                    </a:lnTo>
                    <a:lnTo>
                      <a:pt x="145" y="7"/>
                    </a:lnTo>
                    <a:lnTo>
                      <a:pt x="121" y="4"/>
                    </a:lnTo>
                    <a:lnTo>
                      <a:pt x="98" y="3"/>
                    </a:lnTo>
                    <a:lnTo>
                      <a:pt x="73" y="0"/>
                    </a:lnTo>
                    <a:lnTo>
                      <a:pt x="48" y="0"/>
                    </a:lnTo>
                    <a:lnTo>
                      <a:pt x="23" y="0"/>
                    </a:lnTo>
                    <a:lnTo>
                      <a:pt x="0" y="4"/>
                    </a:lnTo>
                    <a:lnTo>
                      <a:pt x="23" y="0"/>
                    </a:lnTo>
                    <a:lnTo>
                      <a:pt x="48" y="0"/>
                    </a:lnTo>
                    <a:lnTo>
                      <a:pt x="73" y="0"/>
                    </a:lnTo>
                    <a:lnTo>
                      <a:pt x="98" y="3"/>
                    </a:lnTo>
                    <a:lnTo>
                      <a:pt x="121" y="4"/>
                    </a:lnTo>
                    <a:lnTo>
                      <a:pt x="145" y="7"/>
                    </a:lnTo>
                    <a:lnTo>
                      <a:pt x="168" y="11"/>
                    </a:lnTo>
                    <a:lnTo>
                      <a:pt x="19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1586160" y="3026160"/>
                <a:ext cx="141480" cy="38160"/>
              </a:xfrm>
              <a:custGeom>
                <a:avLst/>
                <a:gdLst/>
                <a:ahLst/>
                <a:rect l="l" t="t" r="r" b="b"/>
                <a:pathLst>
                  <a:path w="441" h="118">
                    <a:moveTo>
                      <a:pt x="0" y="118"/>
                    </a:moveTo>
                    <a:lnTo>
                      <a:pt x="52" y="113"/>
                    </a:lnTo>
                    <a:lnTo>
                      <a:pt x="106" y="105"/>
                    </a:lnTo>
                    <a:lnTo>
                      <a:pt x="161" y="94"/>
                    </a:lnTo>
                    <a:lnTo>
                      <a:pt x="216" y="82"/>
                    </a:lnTo>
                    <a:lnTo>
                      <a:pt x="271" y="64"/>
                    </a:lnTo>
                    <a:lnTo>
                      <a:pt x="325" y="45"/>
                    </a:lnTo>
                    <a:lnTo>
                      <a:pt x="382" y="23"/>
                    </a:lnTo>
                    <a:lnTo>
                      <a:pt x="441" y="0"/>
                    </a:lnTo>
                    <a:lnTo>
                      <a:pt x="382" y="23"/>
                    </a:lnTo>
                    <a:lnTo>
                      <a:pt x="325" y="45"/>
                    </a:lnTo>
                    <a:lnTo>
                      <a:pt x="271" y="64"/>
                    </a:lnTo>
                    <a:lnTo>
                      <a:pt x="216" y="82"/>
                    </a:lnTo>
                    <a:lnTo>
                      <a:pt x="161" y="94"/>
                    </a:lnTo>
                    <a:lnTo>
                      <a:pt x="106" y="105"/>
                    </a:lnTo>
                    <a:lnTo>
                      <a:pt x="52" y="113"/>
                    </a:lnTo>
                    <a:lnTo>
                      <a:pt x="0" y="1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2268000" y="3063240"/>
                <a:ext cx="1440" cy="1080"/>
              </a:xfrm>
              <a:custGeom>
                <a:avLst/>
                <a:gdLst/>
                <a:ahLst/>
                <a:rect l="l" t="t" r="r" b="b"/>
                <a:pathLst>
                  <a:path w="4" h="2">
                    <a:moveTo>
                      <a:pt x="0" y="0"/>
                    </a:moveTo>
                    <a:lnTo>
                      <a:pt x="0" y="0"/>
                    </a:lnTo>
                    <a:lnTo>
                      <a:pt x="1" y="0"/>
                    </a:lnTo>
                    <a:lnTo>
                      <a:pt x="4" y="2"/>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2045880" y="2963880"/>
                <a:ext cx="222120" cy="99360"/>
              </a:xfrm>
              <a:custGeom>
                <a:avLst/>
                <a:gdLst/>
                <a:ahLst/>
                <a:rect l="l" t="t" r="r" b="b"/>
                <a:pathLst>
                  <a:path w="696" h="311">
                    <a:moveTo>
                      <a:pt x="0" y="0"/>
                    </a:moveTo>
                    <a:lnTo>
                      <a:pt x="87" y="34"/>
                    </a:lnTo>
                    <a:lnTo>
                      <a:pt x="173" y="76"/>
                    </a:lnTo>
                    <a:lnTo>
                      <a:pt x="259" y="120"/>
                    </a:lnTo>
                    <a:lnTo>
                      <a:pt x="346" y="166"/>
                    </a:lnTo>
                    <a:lnTo>
                      <a:pt x="431" y="209"/>
                    </a:lnTo>
                    <a:lnTo>
                      <a:pt x="517" y="250"/>
                    </a:lnTo>
                    <a:lnTo>
                      <a:pt x="604" y="284"/>
                    </a:lnTo>
                    <a:lnTo>
                      <a:pt x="696" y="311"/>
                    </a:lnTo>
                    <a:lnTo>
                      <a:pt x="604" y="284"/>
                    </a:lnTo>
                    <a:lnTo>
                      <a:pt x="517" y="250"/>
                    </a:lnTo>
                    <a:lnTo>
                      <a:pt x="431" y="209"/>
                    </a:lnTo>
                    <a:lnTo>
                      <a:pt x="346" y="166"/>
                    </a:lnTo>
                    <a:lnTo>
                      <a:pt x="259" y="120"/>
                    </a:lnTo>
                    <a:lnTo>
                      <a:pt x="173" y="76"/>
                    </a:lnTo>
                    <a:lnTo>
                      <a:pt x="87"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88440" y="2577960"/>
                <a:ext cx="343440" cy="124920"/>
              </a:xfrm>
              <a:custGeom>
                <a:avLst/>
                <a:gdLst/>
                <a:ahLst/>
                <a:rect l="l" t="t" r="r" b="b"/>
                <a:pathLst>
                  <a:path w="1075" h="392">
                    <a:moveTo>
                      <a:pt x="584" y="279"/>
                    </a:moveTo>
                    <a:lnTo>
                      <a:pt x="642" y="307"/>
                    </a:lnTo>
                    <a:lnTo>
                      <a:pt x="703" y="330"/>
                    </a:lnTo>
                    <a:lnTo>
                      <a:pt x="763" y="350"/>
                    </a:lnTo>
                    <a:lnTo>
                      <a:pt x="824" y="367"/>
                    </a:lnTo>
                    <a:lnTo>
                      <a:pt x="884" y="379"/>
                    </a:lnTo>
                    <a:lnTo>
                      <a:pt x="946" y="386"/>
                    </a:lnTo>
                    <a:lnTo>
                      <a:pt x="1007" y="390"/>
                    </a:lnTo>
                    <a:lnTo>
                      <a:pt x="1070" y="392"/>
                    </a:lnTo>
                    <a:lnTo>
                      <a:pt x="1075" y="352"/>
                    </a:lnTo>
                    <a:lnTo>
                      <a:pt x="1003" y="351"/>
                    </a:lnTo>
                    <a:lnTo>
                      <a:pt x="933" y="345"/>
                    </a:lnTo>
                    <a:lnTo>
                      <a:pt x="863" y="333"/>
                    </a:lnTo>
                    <a:lnTo>
                      <a:pt x="794" y="317"/>
                    </a:lnTo>
                    <a:lnTo>
                      <a:pt x="725" y="295"/>
                    </a:lnTo>
                    <a:lnTo>
                      <a:pt x="657" y="269"/>
                    </a:lnTo>
                    <a:lnTo>
                      <a:pt x="589" y="239"/>
                    </a:lnTo>
                    <a:lnTo>
                      <a:pt x="522" y="205"/>
                    </a:lnTo>
                    <a:lnTo>
                      <a:pt x="457" y="170"/>
                    </a:lnTo>
                    <a:lnTo>
                      <a:pt x="393" y="137"/>
                    </a:lnTo>
                    <a:lnTo>
                      <a:pt x="327" y="105"/>
                    </a:lnTo>
                    <a:lnTo>
                      <a:pt x="263" y="78"/>
                    </a:lnTo>
                    <a:lnTo>
                      <a:pt x="198" y="52"/>
                    </a:lnTo>
                    <a:lnTo>
                      <a:pt x="132" y="30"/>
                    </a:lnTo>
                    <a:lnTo>
                      <a:pt x="67" y="11"/>
                    </a:lnTo>
                    <a:lnTo>
                      <a:pt x="3" y="0"/>
                    </a:lnTo>
                    <a:lnTo>
                      <a:pt x="0" y="36"/>
                    </a:lnTo>
                    <a:lnTo>
                      <a:pt x="74" y="51"/>
                    </a:lnTo>
                    <a:lnTo>
                      <a:pt x="147" y="74"/>
                    </a:lnTo>
                    <a:lnTo>
                      <a:pt x="220" y="100"/>
                    </a:lnTo>
                    <a:lnTo>
                      <a:pt x="293" y="133"/>
                    </a:lnTo>
                    <a:lnTo>
                      <a:pt x="364" y="167"/>
                    </a:lnTo>
                    <a:lnTo>
                      <a:pt x="437" y="203"/>
                    </a:lnTo>
                    <a:lnTo>
                      <a:pt x="509" y="241"/>
                    </a:lnTo>
                    <a:lnTo>
                      <a:pt x="584"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41160" y="3312000"/>
                <a:ext cx="401040" cy="127440"/>
              </a:xfrm>
              <a:custGeom>
                <a:avLst/>
                <a:gdLst/>
                <a:ahLst/>
                <a:rect l="l" t="t" r="r" b="b"/>
                <a:pathLst>
                  <a:path w="1254" h="401">
                    <a:moveTo>
                      <a:pt x="1251" y="43"/>
                    </a:moveTo>
                    <a:lnTo>
                      <a:pt x="1254" y="4"/>
                    </a:lnTo>
                    <a:lnTo>
                      <a:pt x="1178" y="0"/>
                    </a:lnTo>
                    <a:lnTo>
                      <a:pt x="1103" y="5"/>
                    </a:lnTo>
                    <a:lnTo>
                      <a:pt x="1027" y="16"/>
                    </a:lnTo>
                    <a:lnTo>
                      <a:pt x="952" y="33"/>
                    </a:lnTo>
                    <a:lnTo>
                      <a:pt x="873" y="54"/>
                    </a:lnTo>
                    <a:lnTo>
                      <a:pt x="795" y="81"/>
                    </a:lnTo>
                    <a:lnTo>
                      <a:pt x="715" y="114"/>
                    </a:lnTo>
                    <a:lnTo>
                      <a:pt x="636" y="150"/>
                    </a:lnTo>
                    <a:lnTo>
                      <a:pt x="554" y="187"/>
                    </a:lnTo>
                    <a:lnTo>
                      <a:pt x="473" y="223"/>
                    </a:lnTo>
                    <a:lnTo>
                      <a:pt x="393" y="257"/>
                    </a:lnTo>
                    <a:lnTo>
                      <a:pt x="315" y="289"/>
                    </a:lnTo>
                    <a:lnTo>
                      <a:pt x="236" y="315"/>
                    </a:lnTo>
                    <a:lnTo>
                      <a:pt x="158" y="337"/>
                    </a:lnTo>
                    <a:lnTo>
                      <a:pt x="81" y="353"/>
                    </a:lnTo>
                    <a:lnTo>
                      <a:pt x="5" y="365"/>
                    </a:lnTo>
                    <a:lnTo>
                      <a:pt x="0" y="401"/>
                    </a:lnTo>
                    <a:lnTo>
                      <a:pt x="70" y="392"/>
                    </a:lnTo>
                    <a:lnTo>
                      <a:pt x="144" y="378"/>
                    </a:lnTo>
                    <a:lnTo>
                      <a:pt x="215" y="358"/>
                    </a:lnTo>
                    <a:lnTo>
                      <a:pt x="290" y="336"/>
                    </a:lnTo>
                    <a:lnTo>
                      <a:pt x="363" y="308"/>
                    </a:lnTo>
                    <a:lnTo>
                      <a:pt x="438" y="277"/>
                    </a:lnTo>
                    <a:lnTo>
                      <a:pt x="514" y="243"/>
                    </a:lnTo>
                    <a:lnTo>
                      <a:pt x="591" y="209"/>
                    </a:lnTo>
                    <a:lnTo>
                      <a:pt x="676" y="169"/>
                    </a:lnTo>
                    <a:lnTo>
                      <a:pt x="761" y="133"/>
                    </a:lnTo>
                    <a:lnTo>
                      <a:pt x="843" y="103"/>
                    </a:lnTo>
                    <a:lnTo>
                      <a:pt x="927" y="78"/>
                    </a:lnTo>
                    <a:lnTo>
                      <a:pt x="1008" y="59"/>
                    </a:lnTo>
                    <a:lnTo>
                      <a:pt x="1090" y="47"/>
                    </a:lnTo>
                    <a:lnTo>
                      <a:pt x="1170" y="41"/>
                    </a:lnTo>
                    <a:lnTo>
                      <a:pt x="125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229400" y="3317400"/>
                <a:ext cx="312840" cy="122400"/>
              </a:xfrm>
              <a:custGeom>
                <a:avLst/>
                <a:gdLst/>
                <a:ahLst/>
                <a:rect l="l" t="t" r="r" b="b"/>
                <a:pathLst>
                  <a:path w="983" h="386">
                    <a:moveTo>
                      <a:pt x="757" y="331"/>
                    </a:moveTo>
                    <a:lnTo>
                      <a:pt x="659" y="300"/>
                    </a:lnTo>
                    <a:lnTo>
                      <a:pt x="565" y="260"/>
                    </a:lnTo>
                    <a:lnTo>
                      <a:pt x="470" y="216"/>
                    </a:lnTo>
                    <a:lnTo>
                      <a:pt x="379" y="168"/>
                    </a:lnTo>
                    <a:lnTo>
                      <a:pt x="286" y="118"/>
                    </a:lnTo>
                    <a:lnTo>
                      <a:pt x="193" y="72"/>
                    </a:lnTo>
                    <a:lnTo>
                      <a:pt x="98" y="30"/>
                    </a:lnTo>
                    <a:lnTo>
                      <a:pt x="4" y="0"/>
                    </a:lnTo>
                    <a:lnTo>
                      <a:pt x="0" y="42"/>
                    </a:lnTo>
                    <a:lnTo>
                      <a:pt x="86" y="71"/>
                    </a:lnTo>
                    <a:lnTo>
                      <a:pt x="174" y="107"/>
                    </a:lnTo>
                    <a:lnTo>
                      <a:pt x="259" y="148"/>
                    </a:lnTo>
                    <a:lnTo>
                      <a:pt x="345" y="194"/>
                    </a:lnTo>
                    <a:lnTo>
                      <a:pt x="430" y="238"/>
                    </a:lnTo>
                    <a:lnTo>
                      <a:pt x="516" y="281"/>
                    </a:lnTo>
                    <a:lnTo>
                      <a:pt x="603" y="320"/>
                    </a:lnTo>
                    <a:lnTo>
                      <a:pt x="693" y="354"/>
                    </a:lnTo>
                    <a:lnTo>
                      <a:pt x="728" y="364"/>
                    </a:lnTo>
                    <a:lnTo>
                      <a:pt x="763" y="371"/>
                    </a:lnTo>
                    <a:lnTo>
                      <a:pt x="799" y="377"/>
                    </a:lnTo>
                    <a:lnTo>
                      <a:pt x="834" y="382"/>
                    </a:lnTo>
                    <a:lnTo>
                      <a:pt x="869" y="384"/>
                    </a:lnTo>
                    <a:lnTo>
                      <a:pt x="905" y="386"/>
                    </a:lnTo>
                    <a:lnTo>
                      <a:pt x="941" y="384"/>
                    </a:lnTo>
                    <a:lnTo>
                      <a:pt x="978" y="383"/>
                    </a:lnTo>
                    <a:lnTo>
                      <a:pt x="983" y="347"/>
                    </a:lnTo>
                    <a:lnTo>
                      <a:pt x="953" y="348"/>
                    </a:lnTo>
                    <a:lnTo>
                      <a:pt x="924" y="349"/>
                    </a:lnTo>
                    <a:lnTo>
                      <a:pt x="895" y="348"/>
                    </a:lnTo>
                    <a:lnTo>
                      <a:pt x="868" y="348"/>
                    </a:lnTo>
                    <a:lnTo>
                      <a:pt x="839" y="344"/>
                    </a:lnTo>
                    <a:lnTo>
                      <a:pt x="812" y="341"/>
                    </a:lnTo>
                    <a:lnTo>
                      <a:pt x="784" y="336"/>
                    </a:lnTo>
                    <a:lnTo>
                      <a:pt x="75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29360" y="2572920"/>
                <a:ext cx="365400" cy="129960"/>
              </a:xfrm>
              <a:custGeom>
                <a:avLst/>
                <a:gdLst/>
                <a:ahLst/>
                <a:rect l="l" t="t" r="r" b="b"/>
                <a:pathLst>
                  <a:path w="1143" h="407">
                    <a:moveTo>
                      <a:pt x="344" y="328"/>
                    </a:moveTo>
                    <a:lnTo>
                      <a:pt x="444" y="283"/>
                    </a:lnTo>
                    <a:lnTo>
                      <a:pt x="545" y="237"/>
                    </a:lnTo>
                    <a:lnTo>
                      <a:pt x="644" y="190"/>
                    </a:lnTo>
                    <a:lnTo>
                      <a:pt x="745" y="147"/>
                    </a:lnTo>
                    <a:lnTo>
                      <a:pt x="845" y="107"/>
                    </a:lnTo>
                    <a:lnTo>
                      <a:pt x="944" y="76"/>
                    </a:lnTo>
                    <a:lnTo>
                      <a:pt x="1042" y="53"/>
                    </a:lnTo>
                    <a:lnTo>
                      <a:pt x="1140" y="41"/>
                    </a:lnTo>
                    <a:lnTo>
                      <a:pt x="1143" y="0"/>
                    </a:lnTo>
                    <a:lnTo>
                      <a:pt x="1038" y="13"/>
                    </a:lnTo>
                    <a:lnTo>
                      <a:pt x="935" y="39"/>
                    </a:lnTo>
                    <a:lnTo>
                      <a:pt x="829" y="75"/>
                    </a:lnTo>
                    <a:lnTo>
                      <a:pt x="724" y="118"/>
                    </a:lnTo>
                    <a:lnTo>
                      <a:pt x="617" y="165"/>
                    </a:lnTo>
                    <a:lnTo>
                      <a:pt x="511" y="215"/>
                    </a:lnTo>
                    <a:lnTo>
                      <a:pt x="404" y="263"/>
                    </a:lnTo>
                    <a:lnTo>
                      <a:pt x="298" y="307"/>
                    </a:lnTo>
                    <a:lnTo>
                      <a:pt x="259" y="319"/>
                    </a:lnTo>
                    <a:lnTo>
                      <a:pt x="222" y="331"/>
                    </a:lnTo>
                    <a:lnTo>
                      <a:pt x="184" y="340"/>
                    </a:lnTo>
                    <a:lnTo>
                      <a:pt x="149" y="349"/>
                    </a:lnTo>
                    <a:lnTo>
                      <a:pt x="111" y="356"/>
                    </a:lnTo>
                    <a:lnTo>
                      <a:pt x="76" y="361"/>
                    </a:lnTo>
                    <a:lnTo>
                      <a:pt x="40" y="364"/>
                    </a:lnTo>
                    <a:lnTo>
                      <a:pt x="5" y="367"/>
                    </a:lnTo>
                    <a:lnTo>
                      <a:pt x="0" y="407"/>
                    </a:lnTo>
                    <a:lnTo>
                      <a:pt x="40" y="403"/>
                    </a:lnTo>
                    <a:lnTo>
                      <a:pt x="82" y="399"/>
                    </a:lnTo>
                    <a:lnTo>
                      <a:pt x="125" y="391"/>
                    </a:lnTo>
                    <a:lnTo>
                      <a:pt x="169" y="383"/>
                    </a:lnTo>
                    <a:lnTo>
                      <a:pt x="212" y="371"/>
                    </a:lnTo>
                    <a:lnTo>
                      <a:pt x="255" y="360"/>
                    </a:lnTo>
                    <a:lnTo>
                      <a:pt x="298" y="344"/>
                    </a:lnTo>
                    <a:lnTo>
                      <a:pt x="34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27640" y="2936880"/>
                <a:ext cx="222120" cy="77760"/>
              </a:xfrm>
              <a:custGeom>
                <a:avLst/>
                <a:gdLst/>
                <a:ahLst/>
                <a:rect l="l" t="t" r="r" b="b"/>
                <a:pathLst>
                  <a:path w="698" h="243">
                    <a:moveTo>
                      <a:pt x="0" y="243"/>
                    </a:moveTo>
                    <a:lnTo>
                      <a:pt x="87" y="201"/>
                    </a:lnTo>
                    <a:lnTo>
                      <a:pt x="176" y="160"/>
                    </a:lnTo>
                    <a:lnTo>
                      <a:pt x="264" y="121"/>
                    </a:lnTo>
                    <a:lnTo>
                      <a:pt x="353" y="86"/>
                    </a:lnTo>
                    <a:lnTo>
                      <a:pt x="439" y="55"/>
                    </a:lnTo>
                    <a:lnTo>
                      <a:pt x="525" y="28"/>
                    </a:lnTo>
                    <a:lnTo>
                      <a:pt x="611" y="10"/>
                    </a:lnTo>
                    <a:lnTo>
                      <a:pt x="698" y="0"/>
                    </a:lnTo>
                    <a:lnTo>
                      <a:pt x="611" y="10"/>
                    </a:lnTo>
                    <a:lnTo>
                      <a:pt x="525" y="28"/>
                    </a:lnTo>
                    <a:lnTo>
                      <a:pt x="439" y="55"/>
                    </a:lnTo>
                    <a:lnTo>
                      <a:pt x="353" y="86"/>
                    </a:lnTo>
                    <a:lnTo>
                      <a:pt x="264" y="121"/>
                    </a:lnTo>
                    <a:lnTo>
                      <a:pt x="176" y="160"/>
                    </a:lnTo>
                    <a:lnTo>
                      <a:pt x="87" y="201"/>
                    </a:lnTo>
                    <a:lnTo>
                      <a:pt x="0" y="2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 name=""/>
              <p:cNvSpPr/>
              <p:nvPr/>
            </p:nvSpPr>
            <p:spPr>
              <a:xfrm>
                <a:off x="1175760" y="2574360"/>
                <a:ext cx="113400" cy="757080"/>
              </a:xfrm>
              <a:custGeom>
                <a:avLst/>
                <a:gdLst/>
                <a:ahLst/>
                <a:rect l="l" t="t" r="r" b="b"/>
                <a:pathLst>
                  <a:path w="356" h="2370">
                    <a:moveTo>
                      <a:pt x="130" y="2318"/>
                    </a:moveTo>
                    <a:lnTo>
                      <a:pt x="118" y="2315"/>
                    </a:lnTo>
                    <a:lnTo>
                      <a:pt x="108" y="2314"/>
                    </a:lnTo>
                    <a:lnTo>
                      <a:pt x="97" y="2311"/>
                    </a:lnTo>
                    <a:lnTo>
                      <a:pt x="87" y="2310"/>
                    </a:lnTo>
                    <a:lnTo>
                      <a:pt x="75" y="2307"/>
                    </a:lnTo>
                    <a:lnTo>
                      <a:pt x="65" y="2306"/>
                    </a:lnTo>
                    <a:lnTo>
                      <a:pt x="54" y="2305"/>
                    </a:lnTo>
                    <a:lnTo>
                      <a:pt x="44" y="2305"/>
                    </a:lnTo>
                    <a:lnTo>
                      <a:pt x="44" y="2160"/>
                    </a:lnTo>
                    <a:lnTo>
                      <a:pt x="44" y="2017"/>
                    </a:lnTo>
                    <a:lnTo>
                      <a:pt x="44" y="1876"/>
                    </a:lnTo>
                    <a:lnTo>
                      <a:pt x="44" y="1735"/>
                    </a:lnTo>
                    <a:lnTo>
                      <a:pt x="44" y="1594"/>
                    </a:lnTo>
                    <a:lnTo>
                      <a:pt x="44" y="1454"/>
                    </a:lnTo>
                    <a:lnTo>
                      <a:pt x="44" y="1313"/>
                    </a:lnTo>
                    <a:lnTo>
                      <a:pt x="44" y="1173"/>
                    </a:lnTo>
                    <a:lnTo>
                      <a:pt x="44" y="1163"/>
                    </a:lnTo>
                    <a:lnTo>
                      <a:pt x="44" y="1154"/>
                    </a:lnTo>
                    <a:lnTo>
                      <a:pt x="44" y="1143"/>
                    </a:lnTo>
                    <a:lnTo>
                      <a:pt x="44" y="1134"/>
                    </a:lnTo>
                    <a:lnTo>
                      <a:pt x="42" y="996"/>
                    </a:lnTo>
                    <a:lnTo>
                      <a:pt x="42" y="861"/>
                    </a:lnTo>
                    <a:lnTo>
                      <a:pt x="42" y="728"/>
                    </a:lnTo>
                    <a:lnTo>
                      <a:pt x="42" y="594"/>
                    </a:lnTo>
                    <a:lnTo>
                      <a:pt x="41" y="461"/>
                    </a:lnTo>
                    <a:lnTo>
                      <a:pt x="41" y="329"/>
                    </a:lnTo>
                    <a:lnTo>
                      <a:pt x="41" y="196"/>
                    </a:lnTo>
                    <a:lnTo>
                      <a:pt x="41" y="63"/>
                    </a:lnTo>
                    <a:lnTo>
                      <a:pt x="51" y="59"/>
                    </a:lnTo>
                    <a:lnTo>
                      <a:pt x="63" y="56"/>
                    </a:lnTo>
                    <a:lnTo>
                      <a:pt x="75" y="53"/>
                    </a:lnTo>
                    <a:lnTo>
                      <a:pt x="87" y="52"/>
                    </a:lnTo>
                    <a:lnTo>
                      <a:pt x="97" y="50"/>
                    </a:lnTo>
                    <a:lnTo>
                      <a:pt x="109" y="48"/>
                    </a:lnTo>
                    <a:lnTo>
                      <a:pt x="121" y="46"/>
                    </a:lnTo>
                    <a:lnTo>
                      <a:pt x="132" y="44"/>
                    </a:lnTo>
                    <a:lnTo>
                      <a:pt x="160" y="40"/>
                    </a:lnTo>
                    <a:lnTo>
                      <a:pt x="187" y="38"/>
                    </a:lnTo>
                    <a:lnTo>
                      <a:pt x="215" y="36"/>
                    </a:lnTo>
                    <a:lnTo>
                      <a:pt x="244" y="38"/>
                    </a:lnTo>
                    <a:lnTo>
                      <a:pt x="271" y="38"/>
                    </a:lnTo>
                    <a:lnTo>
                      <a:pt x="299" y="40"/>
                    </a:lnTo>
                    <a:lnTo>
                      <a:pt x="326" y="43"/>
                    </a:lnTo>
                    <a:lnTo>
                      <a:pt x="353" y="48"/>
                    </a:lnTo>
                    <a:lnTo>
                      <a:pt x="356" y="12"/>
                    </a:lnTo>
                    <a:lnTo>
                      <a:pt x="317" y="5"/>
                    </a:lnTo>
                    <a:lnTo>
                      <a:pt x="279" y="2"/>
                    </a:lnTo>
                    <a:lnTo>
                      <a:pt x="240" y="0"/>
                    </a:lnTo>
                    <a:lnTo>
                      <a:pt x="202" y="1"/>
                    </a:lnTo>
                    <a:lnTo>
                      <a:pt x="161" y="2"/>
                    </a:lnTo>
                    <a:lnTo>
                      <a:pt x="122" y="8"/>
                    </a:lnTo>
                    <a:lnTo>
                      <a:pt x="82" y="14"/>
                    </a:lnTo>
                    <a:lnTo>
                      <a:pt x="41" y="25"/>
                    </a:lnTo>
                    <a:lnTo>
                      <a:pt x="29" y="26"/>
                    </a:lnTo>
                    <a:lnTo>
                      <a:pt x="20" y="30"/>
                    </a:lnTo>
                    <a:lnTo>
                      <a:pt x="10" y="33"/>
                    </a:lnTo>
                    <a:lnTo>
                      <a:pt x="0" y="36"/>
                    </a:lnTo>
                    <a:lnTo>
                      <a:pt x="0" y="46"/>
                    </a:lnTo>
                    <a:lnTo>
                      <a:pt x="0" y="55"/>
                    </a:lnTo>
                    <a:lnTo>
                      <a:pt x="0" y="64"/>
                    </a:lnTo>
                    <a:lnTo>
                      <a:pt x="0" y="74"/>
                    </a:lnTo>
                    <a:lnTo>
                      <a:pt x="0" y="350"/>
                    </a:lnTo>
                    <a:lnTo>
                      <a:pt x="2" y="626"/>
                    </a:lnTo>
                    <a:lnTo>
                      <a:pt x="2" y="900"/>
                    </a:lnTo>
                    <a:lnTo>
                      <a:pt x="3" y="1176"/>
                    </a:lnTo>
                    <a:lnTo>
                      <a:pt x="3" y="1452"/>
                    </a:lnTo>
                    <a:lnTo>
                      <a:pt x="3" y="1732"/>
                    </a:lnTo>
                    <a:lnTo>
                      <a:pt x="3" y="2015"/>
                    </a:lnTo>
                    <a:lnTo>
                      <a:pt x="4" y="2302"/>
                    </a:lnTo>
                    <a:lnTo>
                      <a:pt x="4" y="2311"/>
                    </a:lnTo>
                    <a:lnTo>
                      <a:pt x="4" y="2322"/>
                    </a:lnTo>
                    <a:lnTo>
                      <a:pt x="4" y="2332"/>
                    </a:lnTo>
                    <a:lnTo>
                      <a:pt x="4" y="2343"/>
                    </a:lnTo>
                    <a:lnTo>
                      <a:pt x="14" y="2343"/>
                    </a:lnTo>
                    <a:lnTo>
                      <a:pt x="24" y="2344"/>
                    </a:lnTo>
                    <a:lnTo>
                      <a:pt x="33" y="2344"/>
                    </a:lnTo>
                    <a:lnTo>
                      <a:pt x="44" y="2345"/>
                    </a:lnTo>
                    <a:lnTo>
                      <a:pt x="59" y="2345"/>
                    </a:lnTo>
                    <a:lnTo>
                      <a:pt x="75" y="2348"/>
                    </a:lnTo>
                    <a:lnTo>
                      <a:pt x="91" y="2351"/>
                    </a:lnTo>
                    <a:lnTo>
                      <a:pt x="106" y="2354"/>
                    </a:lnTo>
                    <a:lnTo>
                      <a:pt x="121" y="2357"/>
                    </a:lnTo>
                    <a:lnTo>
                      <a:pt x="136" y="2361"/>
                    </a:lnTo>
                    <a:lnTo>
                      <a:pt x="152" y="2365"/>
                    </a:lnTo>
                    <a:lnTo>
                      <a:pt x="168" y="2370"/>
                    </a:lnTo>
                    <a:lnTo>
                      <a:pt x="172" y="2328"/>
                    </a:lnTo>
                    <a:lnTo>
                      <a:pt x="160" y="2324"/>
                    </a:lnTo>
                    <a:lnTo>
                      <a:pt x="151" y="2322"/>
                    </a:lnTo>
                    <a:lnTo>
                      <a:pt x="139" y="2319"/>
                    </a:lnTo>
                    <a:lnTo>
                      <a:pt x="130" y="2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40760" y="3312000"/>
                <a:ext cx="283320" cy="123840"/>
              </a:xfrm>
              <a:custGeom>
                <a:avLst/>
                <a:gdLst/>
                <a:ahLst/>
                <a:rect l="l" t="t" r="r" b="b"/>
                <a:pathLst>
                  <a:path w="889" h="387">
                    <a:moveTo>
                      <a:pt x="230" y="51"/>
                    </a:moveTo>
                    <a:lnTo>
                      <a:pt x="201" y="39"/>
                    </a:lnTo>
                    <a:lnTo>
                      <a:pt x="173" y="30"/>
                    </a:lnTo>
                    <a:lnTo>
                      <a:pt x="144" y="21"/>
                    </a:lnTo>
                    <a:lnTo>
                      <a:pt x="116" y="16"/>
                    </a:lnTo>
                    <a:lnTo>
                      <a:pt x="88" y="9"/>
                    </a:lnTo>
                    <a:lnTo>
                      <a:pt x="59" y="5"/>
                    </a:lnTo>
                    <a:lnTo>
                      <a:pt x="30" y="1"/>
                    </a:lnTo>
                    <a:lnTo>
                      <a:pt x="3" y="0"/>
                    </a:lnTo>
                    <a:lnTo>
                      <a:pt x="0" y="39"/>
                    </a:lnTo>
                    <a:lnTo>
                      <a:pt x="26" y="40"/>
                    </a:lnTo>
                    <a:lnTo>
                      <a:pt x="52" y="44"/>
                    </a:lnTo>
                    <a:lnTo>
                      <a:pt x="78" y="47"/>
                    </a:lnTo>
                    <a:lnTo>
                      <a:pt x="105" y="54"/>
                    </a:lnTo>
                    <a:lnTo>
                      <a:pt x="131" y="59"/>
                    </a:lnTo>
                    <a:lnTo>
                      <a:pt x="157" y="67"/>
                    </a:lnTo>
                    <a:lnTo>
                      <a:pt x="183" y="74"/>
                    </a:lnTo>
                    <a:lnTo>
                      <a:pt x="210" y="85"/>
                    </a:lnTo>
                    <a:lnTo>
                      <a:pt x="295" y="120"/>
                    </a:lnTo>
                    <a:lnTo>
                      <a:pt x="379" y="161"/>
                    </a:lnTo>
                    <a:lnTo>
                      <a:pt x="463" y="204"/>
                    </a:lnTo>
                    <a:lnTo>
                      <a:pt x="546" y="247"/>
                    </a:lnTo>
                    <a:lnTo>
                      <a:pt x="629" y="289"/>
                    </a:lnTo>
                    <a:lnTo>
                      <a:pt x="712" y="327"/>
                    </a:lnTo>
                    <a:lnTo>
                      <a:pt x="797" y="361"/>
                    </a:lnTo>
                    <a:lnTo>
                      <a:pt x="884" y="387"/>
                    </a:lnTo>
                    <a:lnTo>
                      <a:pt x="889" y="348"/>
                    </a:lnTo>
                    <a:lnTo>
                      <a:pt x="804" y="321"/>
                    </a:lnTo>
                    <a:lnTo>
                      <a:pt x="722" y="289"/>
                    </a:lnTo>
                    <a:lnTo>
                      <a:pt x="639" y="251"/>
                    </a:lnTo>
                    <a:lnTo>
                      <a:pt x="558" y="210"/>
                    </a:lnTo>
                    <a:lnTo>
                      <a:pt x="476" y="168"/>
                    </a:lnTo>
                    <a:lnTo>
                      <a:pt x="395" y="127"/>
                    </a:lnTo>
                    <a:lnTo>
                      <a:pt x="312" y="86"/>
                    </a:lnTo>
                    <a:lnTo>
                      <a:pt x="2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93320" y="2572920"/>
                <a:ext cx="291240" cy="474840"/>
              </a:xfrm>
              <a:custGeom>
                <a:avLst/>
                <a:gdLst/>
                <a:ahLst/>
                <a:rect l="l" t="t" r="r" b="b"/>
                <a:pathLst>
                  <a:path w="909" h="1487">
                    <a:moveTo>
                      <a:pt x="72" y="40"/>
                    </a:moveTo>
                    <a:lnTo>
                      <a:pt x="174" y="54"/>
                    </a:lnTo>
                    <a:lnTo>
                      <a:pt x="276" y="82"/>
                    </a:lnTo>
                    <a:lnTo>
                      <a:pt x="374" y="121"/>
                    </a:lnTo>
                    <a:lnTo>
                      <a:pt x="473" y="169"/>
                    </a:lnTo>
                    <a:lnTo>
                      <a:pt x="570" y="218"/>
                    </a:lnTo>
                    <a:lnTo>
                      <a:pt x="668" y="269"/>
                    </a:lnTo>
                    <a:lnTo>
                      <a:pt x="766" y="317"/>
                    </a:lnTo>
                    <a:lnTo>
                      <a:pt x="868" y="362"/>
                    </a:lnTo>
                    <a:lnTo>
                      <a:pt x="869" y="363"/>
                    </a:lnTo>
                    <a:lnTo>
                      <a:pt x="868" y="506"/>
                    </a:lnTo>
                    <a:lnTo>
                      <a:pt x="868" y="647"/>
                    </a:lnTo>
                    <a:lnTo>
                      <a:pt x="867" y="787"/>
                    </a:lnTo>
                    <a:lnTo>
                      <a:pt x="867" y="928"/>
                    </a:lnTo>
                    <a:lnTo>
                      <a:pt x="865" y="1066"/>
                    </a:lnTo>
                    <a:lnTo>
                      <a:pt x="865" y="1206"/>
                    </a:lnTo>
                    <a:lnTo>
                      <a:pt x="865" y="1346"/>
                    </a:lnTo>
                    <a:lnTo>
                      <a:pt x="865" y="1487"/>
                    </a:lnTo>
                    <a:lnTo>
                      <a:pt x="905" y="1155"/>
                    </a:lnTo>
                    <a:lnTo>
                      <a:pt x="905" y="1058"/>
                    </a:lnTo>
                    <a:lnTo>
                      <a:pt x="905" y="962"/>
                    </a:lnTo>
                    <a:lnTo>
                      <a:pt x="905" y="865"/>
                    </a:lnTo>
                    <a:lnTo>
                      <a:pt x="906" y="768"/>
                    </a:lnTo>
                    <a:lnTo>
                      <a:pt x="906" y="670"/>
                    </a:lnTo>
                    <a:lnTo>
                      <a:pt x="907" y="572"/>
                    </a:lnTo>
                    <a:lnTo>
                      <a:pt x="907" y="474"/>
                    </a:lnTo>
                    <a:lnTo>
                      <a:pt x="909" y="376"/>
                    </a:lnTo>
                    <a:lnTo>
                      <a:pt x="909" y="365"/>
                    </a:lnTo>
                    <a:lnTo>
                      <a:pt x="909" y="355"/>
                    </a:lnTo>
                    <a:lnTo>
                      <a:pt x="909" y="345"/>
                    </a:lnTo>
                    <a:lnTo>
                      <a:pt x="909" y="336"/>
                    </a:lnTo>
                    <a:lnTo>
                      <a:pt x="898" y="332"/>
                    </a:lnTo>
                    <a:lnTo>
                      <a:pt x="889" y="328"/>
                    </a:lnTo>
                    <a:lnTo>
                      <a:pt x="879" y="324"/>
                    </a:lnTo>
                    <a:lnTo>
                      <a:pt x="869" y="321"/>
                    </a:lnTo>
                    <a:lnTo>
                      <a:pt x="766" y="276"/>
                    </a:lnTo>
                    <a:lnTo>
                      <a:pt x="664" y="226"/>
                    </a:lnTo>
                    <a:lnTo>
                      <a:pt x="563" y="174"/>
                    </a:lnTo>
                    <a:lnTo>
                      <a:pt x="464" y="123"/>
                    </a:lnTo>
                    <a:lnTo>
                      <a:pt x="362" y="76"/>
                    </a:lnTo>
                    <a:lnTo>
                      <a:pt x="261" y="38"/>
                    </a:lnTo>
                    <a:lnTo>
                      <a:pt x="158" y="10"/>
                    </a:lnTo>
                    <a:lnTo>
                      <a:pt x="52" y="0"/>
                    </a:lnTo>
                    <a:lnTo>
                      <a:pt x="39" y="0"/>
                    </a:lnTo>
                    <a:lnTo>
                      <a:pt x="26" y="0"/>
                    </a:lnTo>
                    <a:lnTo>
                      <a:pt x="14" y="0"/>
                    </a:lnTo>
                    <a:lnTo>
                      <a:pt x="3" y="1"/>
                    </a:lnTo>
                    <a:lnTo>
                      <a:pt x="0" y="42"/>
                    </a:lnTo>
                    <a:lnTo>
                      <a:pt x="8" y="40"/>
                    </a:lnTo>
                    <a:lnTo>
                      <a:pt x="17" y="40"/>
                    </a:lnTo>
                    <a:lnTo>
                      <a:pt x="26" y="39"/>
                    </a:lnTo>
                    <a:lnTo>
                      <a:pt x="35" y="39"/>
                    </a:lnTo>
                    <a:lnTo>
                      <a:pt x="43" y="39"/>
                    </a:lnTo>
                    <a:lnTo>
                      <a:pt x="52" y="39"/>
                    </a:lnTo>
                    <a:lnTo>
                      <a:pt x="61" y="39"/>
                    </a:lnTo>
                    <a:lnTo>
                      <a:pt x="7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66720" y="3064680"/>
                <a:ext cx="19080" cy="1080"/>
              </a:xfrm>
              <a:custGeom>
                <a:avLst/>
                <a:gdLst/>
                <a:ahLst/>
                <a:rect l="l" t="t" r="r" b="b"/>
                <a:pathLst>
                  <a:path w="60" h="2">
                    <a:moveTo>
                      <a:pt x="0" y="2"/>
                    </a:moveTo>
                    <a:lnTo>
                      <a:pt x="6" y="0"/>
                    </a:lnTo>
                    <a:lnTo>
                      <a:pt x="14" y="0"/>
                    </a:lnTo>
                    <a:lnTo>
                      <a:pt x="22" y="0"/>
                    </a:lnTo>
                    <a:lnTo>
                      <a:pt x="30" y="0"/>
                    </a:lnTo>
                    <a:lnTo>
                      <a:pt x="36" y="0"/>
                    </a:lnTo>
                    <a:lnTo>
                      <a:pt x="44" y="0"/>
                    </a:lnTo>
                    <a:lnTo>
                      <a:pt x="52" y="0"/>
                    </a:lnTo>
                    <a:lnTo>
                      <a:pt x="60" y="0"/>
                    </a:lnTo>
                    <a:lnTo>
                      <a:pt x="52" y="0"/>
                    </a:lnTo>
                    <a:lnTo>
                      <a:pt x="44" y="0"/>
                    </a:lnTo>
                    <a:lnTo>
                      <a:pt x="36" y="0"/>
                    </a:lnTo>
                    <a:lnTo>
                      <a:pt x="30" y="0"/>
                    </a:lnTo>
                    <a:lnTo>
                      <a:pt x="22" y="0"/>
                    </a:lnTo>
                    <a:lnTo>
                      <a:pt x="14" y="0"/>
                    </a:lnTo>
                    <a:lnTo>
                      <a:pt x="6"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2223360" y="2941920"/>
                <a:ext cx="59760" cy="500040"/>
              </a:xfrm>
              <a:custGeom>
                <a:avLst/>
                <a:gdLst/>
                <a:ahLst/>
                <a:rect l="l" t="t" r="r" b="b"/>
                <a:pathLst>
                  <a:path w="187" h="1571">
                    <a:moveTo>
                      <a:pt x="147" y="341"/>
                    </a:moveTo>
                    <a:lnTo>
                      <a:pt x="147" y="342"/>
                    </a:lnTo>
                    <a:lnTo>
                      <a:pt x="147" y="346"/>
                    </a:lnTo>
                    <a:lnTo>
                      <a:pt x="147" y="353"/>
                    </a:lnTo>
                    <a:lnTo>
                      <a:pt x="147" y="359"/>
                    </a:lnTo>
                    <a:lnTo>
                      <a:pt x="147" y="367"/>
                    </a:lnTo>
                    <a:lnTo>
                      <a:pt x="147" y="375"/>
                    </a:lnTo>
                    <a:lnTo>
                      <a:pt x="146" y="382"/>
                    </a:lnTo>
                    <a:lnTo>
                      <a:pt x="146" y="389"/>
                    </a:lnTo>
                    <a:lnTo>
                      <a:pt x="146" y="397"/>
                    </a:lnTo>
                    <a:lnTo>
                      <a:pt x="146" y="405"/>
                    </a:lnTo>
                    <a:lnTo>
                      <a:pt x="145" y="548"/>
                    </a:lnTo>
                    <a:lnTo>
                      <a:pt x="145" y="690"/>
                    </a:lnTo>
                    <a:lnTo>
                      <a:pt x="145" y="830"/>
                    </a:lnTo>
                    <a:lnTo>
                      <a:pt x="145" y="971"/>
                    </a:lnTo>
                    <a:lnTo>
                      <a:pt x="145" y="1109"/>
                    </a:lnTo>
                    <a:lnTo>
                      <a:pt x="145" y="1249"/>
                    </a:lnTo>
                    <a:lnTo>
                      <a:pt x="145" y="1389"/>
                    </a:lnTo>
                    <a:lnTo>
                      <a:pt x="145" y="1530"/>
                    </a:lnTo>
                    <a:lnTo>
                      <a:pt x="144" y="1530"/>
                    </a:lnTo>
                    <a:lnTo>
                      <a:pt x="142" y="1530"/>
                    </a:lnTo>
                    <a:lnTo>
                      <a:pt x="124" y="1527"/>
                    </a:lnTo>
                    <a:lnTo>
                      <a:pt x="107" y="1526"/>
                    </a:lnTo>
                    <a:lnTo>
                      <a:pt x="89" y="1525"/>
                    </a:lnTo>
                    <a:lnTo>
                      <a:pt x="73" y="1524"/>
                    </a:lnTo>
                    <a:lnTo>
                      <a:pt x="55" y="1520"/>
                    </a:lnTo>
                    <a:lnTo>
                      <a:pt x="38" y="1517"/>
                    </a:lnTo>
                    <a:lnTo>
                      <a:pt x="21" y="1513"/>
                    </a:lnTo>
                    <a:lnTo>
                      <a:pt x="5" y="1511"/>
                    </a:lnTo>
                    <a:lnTo>
                      <a:pt x="0" y="1550"/>
                    </a:lnTo>
                    <a:lnTo>
                      <a:pt x="17" y="1552"/>
                    </a:lnTo>
                    <a:lnTo>
                      <a:pt x="35" y="1556"/>
                    </a:lnTo>
                    <a:lnTo>
                      <a:pt x="53" y="1560"/>
                    </a:lnTo>
                    <a:lnTo>
                      <a:pt x="72" y="1564"/>
                    </a:lnTo>
                    <a:lnTo>
                      <a:pt x="89" y="1565"/>
                    </a:lnTo>
                    <a:lnTo>
                      <a:pt x="108" y="1567"/>
                    </a:lnTo>
                    <a:lnTo>
                      <a:pt x="125" y="1568"/>
                    </a:lnTo>
                    <a:lnTo>
                      <a:pt x="145" y="1571"/>
                    </a:lnTo>
                    <a:lnTo>
                      <a:pt x="154" y="1571"/>
                    </a:lnTo>
                    <a:lnTo>
                      <a:pt x="164" y="1571"/>
                    </a:lnTo>
                    <a:lnTo>
                      <a:pt x="174" y="1571"/>
                    </a:lnTo>
                    <a:lnTo>
                      <a:pt x="185" y="1571"/>
                    </a:lnTo>
                    <a:lnTo>
                      <a:pt x="185" y="1560"/>
                    </a:lnTo>
                    <a:lnTo>
                      <a:pt x="185" y="1550"/>
                    </a:lnTo>
                    <a:lnTo>
                      <a:pt x="185" y="1539"/>
                    </a:lnTo>
                    <a:lnTo>
                      <a:pt x="185" y="1530"/>
                    </a:lnTo>
                    <a:lnTo>
                      <a:pt x="184" y="1338"/>
                    </a:lnTo>
                    <a:lnTo>
                      <a:pt x="184" y="1147"/>
                    </a:lnTo>
                    <a:lnTo>
                      <a:pt x="184" y="956"/>
                    </a:lnTo>
                    <a:lnTo>
                      <a:pt x="184" y="767"/>
                    </a:lnTo>
                    <a:lnTo>
                      <a:pt x="184" y="575"/>
                    </a:lnTo>
                    <a:lnTo>
                      <a:pt x="185" y="384"/>
                    </a:lnTo>
                    <a:lnTo>
                      <a:pt x="185" y="192"/>
                    </a:lnTo>
                    <a:lnTo>
                      <a:pt x="187" y="0"/>
                    </a:lnTo>
                    <a:lnTo>
                      <a:pt x="147" y="332"/>
                    </a:lnTo>
                    <a:lnTo>
                      <a:pt x="147" y="336"/>
                    </a:lnTo>
                    <a:lnTo>
                      <a:pt x="147"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78640" y="3327480"/>
                <a:ext cx="49680" cy="15120"/>
              </a:xfrm>
              <a:custGeom>
                <a:avLst/>
                <a:gdLst/>
                <a:ahLst/>
                <a:rect l="l" t="t" r="r" b="b"/>
                <a:pathLst>
                  <a:path w="156" h="50">
                    <a:moveTo>
                      <a:pt x="21" y="30"/>
                    </a:moveTo>
                    <a:lnTo>
                      <a:pt x="36" y="30"/>
                    </a:lnTo>
                    <a:lnTo>
                      <a:pt x="53" y="32"/>
                    </a:lnTo>
                    <a:lnTo>
                      <a:pt x="70" y="33"/>
                    </a:lnTo>
                    <a:lnTo>
                      <a:pt x="87" y="36"/>
                    </a:lnTo>
                    <a:lnTo>
                      <a:pt x="104" y="38"/>
                    </a:lnTo>
                    <a:lnTo>
                      <a:pt x="121" y="42"/>
                    </a:lnTo>
                    <a:lnTo>
                      <a:pt x="138" y="46"/>
                    </a:lnTo>
                    <a:lnTo>
                      <a:pt x="155" y="50"/>
                    </a:lnTo>
                    <a:lnTo>
                      <a:pt x="156" y="28"/>
                    </a:lnTo>
                    <a:lnTo>
                      <a:pt x="137" y="21"/>
                    </a:lnTo>
                    <a:lnTo>
                      <a:pt x="117" y="16"/>
                    </a:lnTo>
                    <a:lnTo>
                      <a:pt x="98" y="12"/>
                    </a:lnTo>
                    <a:lnTo>
                      <a:pt x="78" y="10"/>
                    </a:lnTo>
                    <a:lnTo>
                      <a:pt x="58" y="6"/>
                    </a:lnTo>
                    <a:lnTo>
                      <a:pt x="39" y="3"/>
                    </a:lnTo>
                    <a:lnTo>
                      <a:pt x="19" y="0"/>
                    </a:lnTo>
                    <a:lnTo>
                      <a:pt x="0" y="0"/>
                    </a:lnTo>
                    <a:lnTo>
                      <a:pt x="4" y="7"/>
                    </a:lnTo>
                    <a:lnTo>
                      <a:pt x="9" y="15"/>
                    </a:lnTo>
                    <a:lnTo>
                      <a:pt x="14" y="23"/>
                    </a:lnTo>
                    <a:lnTo>
                      <a:pt x="21"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1228320" y="3335400"/>
                <a:ext cx="176040" cy="81360"/>
              </a:xfrm>
              <a:custGeom>
                <a:avLst/>
                <a:gdLst/>
                <a:ahLst/>
                <a:rect l="l" t="t" r="r" b="b"/>
                <a:pathLst>
                  <a:path w="553" h="256">
                    <a:moveTo>
                      <a:pt x="553" y="256"/>
                    </a:moveTo>
                    <a:lnTo>
                      <a:pt x="483" y="221"/>
                    </a:lnTo>
                    <a:lnTo>
                      <a:pt x="413" y="185"/>
                    </a:lnTo>
                    <a:lnTo>
                      <a:pt x="345" y="149"/>
                    </a:lnTo>
                    <a:lnTo>
                      <a:pt x="277" y="113"/>
                    </a:lnTo>
                    <a:lnTo>
                      <a:pt x="208" y="78"/>
                    </a:lnTo>
                    <a:lnTo>
                      <a:pt x="140" y="48"/>
                    </a:lnTo>
                    <a:lnTo>
                      <a:pt x="71" y="22"/>
                    </a:lnTo>
                    <a:lnTo>
                      <a:pt x="1" y="0"/>
                    </a:lnTo>
                    <a:lnTo>
                      <a:pt x="0" y="22"/>
                    </a:lnTo>
                    <a:lnTo>
                      <a:pt x="69" y="40"/>
                    </a:lnTo>
                    <a:lnTo>
                      <a:pt x="139" y="65"/>
                    </a:lnTo>
                    <a:lnTo>
                      <a:pt x="207" y="93"/>
                    </a:lnTo>
                    <a:lnTo>
                      <a:pt x="276" y="125"/>
                    </a:lnTo>
                    <a:lnTo>
                      <a:pt x="344" y="157"/>
                    </a:lnTo>
                    <a:lnTo>
                      <a:pt x="413" y="191"/>
                    </a:lnTo>
                    <a:lnTo>
                      <a:pt x="483" y="223"/>
                    </a:lnTo>
                    <a:lnTo>
                      <a:pt x="553" y="2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1540080" y="3330000"/>
                <a:ext cx="400680" cy="121320"/>
              </a:xfrm>
              <a:custGeom>
                <a:avLst/>
                <a:gdLst/>
                <a:ahLst/>
                <a:rect l="l" t="t" r="r" b="b"/>
                <a:pathLst>
                  <a:path w="1254" h="380">
                    <a:moveTo>
                      <a:pt x="1174" y="0"/>
                    </a:moveTo>
                    <a:lnTo>
                      <a:pt x="1029" y="14"/>
                    </a:lnTo>
                    <a:lnTo>
                      <a:pt x="882" y="56"/>
                    </a:lnTo>
                    <a:lnTo>
                      <a:pt x="735" y="112"/>
                    </a:lnTo>
                    <a:lnTo>
                      <a:pt x="587" y="180"/>
                    </a:lnTo>
                    <a:lnTo>
                      <a:pt x="438" y="247"/>
                    </a:lnTo>
                    <a:lnTo>
                      <a:pt x="291" y="308"/>
                    </a:lnTo>
                    <a:lnTo>
                      <a:pt x="144" y="354"/>
                    </a:lnTo>
                    <a:lnTo>
                      <a:pt x="0" y="380"/>
                    </a:lnTo>
                    <a:lnTo>
                      <a:pt x="0" y="380"/>
                    </a:lnTo>
                    <a:lnTo>
                      <a:pt x="136" y="358"/>
                    </a:lnTo>
                    <a:lnTo>
                      <a:pt x="273" y="317"/>
                    </a:lnTo>
                    <a:lnTo>
                      <a:pt x="412" y="261"/>
                    </a:lnTo>
                    <a:lnTo>
                      <a:pt x="553" y="200"/>
                    </a:lnTo>
                    <a:lnTo>
                      <a:pt x="691" y="136"/>
                    </a:lnTo>
                    <a:lnTo>
                      <a:pt x="831" y="81"/>
                    </a:lnTo>
                    <a:lnTo>
                      <a:pt x="970" y="38"/>
                    </a:lnTo>
                    <a:lnTo>
                      <a:pt x="1109" y="15"/>
                    </a:lnTo>
                    <a:lnTo>
                      <a:pt x="1126" y="14"/>
                    </a:lnTo>
                    <a:lnTo>
                      <a:pt x="1144" y="14"/>
                    </a:lnTo>
                    <a:lnTo>
                      <a:pt x="1162" y="14"/>
                    </a:lnTo>
                    <a:lnTo>
                      <a:pt x="1180" y="14"/>
                    </a:lnTo>
                    <a:lnTo>
                      <a:pt x="1197" y="14"/>
                    </a:lnTo>
                    <a:lnTo>
                      <a:pt x="1216" y="17"/>
                    </a:lnTo>
                    <a:lnTo>
                      <a:pt x="1234" y="18"/>
                    </a:lnTo>
                    <a:lnTo>
                      <a:pt x="1252" y="22"/>
                    </a:lnTo>
                    <a:lnTo>
                      <a:pt x="1254" y="5"/>
                    </a:lnTo>
                    <a:lnTo>
                      <a:pt x="1243" y="2"/>
                    </a:lnTo>
                    <a:lnTo>
                      <a:pt x="1233" y="1"/>
                    </a:lnTo>
                    <a:lnTo>
                      <a:pt x="1222" y="0"/>
                    </a:lnTo>
                    <a:lnTo>
                      <a:pt x="1213" y="0"/>
                    </a:lnTo>
                    <a:lnTo>
                      <a:pt x="1203" y="0"/>
                    </a:lnTo>
                    <a:lnTo>
                      <a:pt x="1193" y="0"/>
                    </a:lnTo>
                    <a:lnTo>
                      <a:pt x="1183" y="0"/>
                    </a:lnTo>
                    <a:lnTo>
                      <a:pt x="1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27120" y="3451320"/>
                <a:ext cx="12600" cy="1080"/>
              </a:xfrm>
              <a:custGeom>
                <a:avLst/>
                <a:gdLst/>
                <a:ahLst/>
                <a:rect l="l" t="t" r="r" b="b"/>
                <a:pathLst>
                  <a:path w="39" h="3">
                    <a:moveTo>
                      <a:pt x="0" y="3"/>
                    </a:moveTo>
                    <a:lnTo>
                      <a:pt x="9" y="1"/>
                    </a:lnTo>
                    <a:lnTo>
                      <a:pt x="19" y="1"/>
                    </a:lnTo>
                    <a:lnTo>
                      <a:pt x="28" y="0"/>
                    </a:lnTo>
                    <a:lnTo>
                      <a:pt x="39" y="0"/>
                    </a:lnTo>
                    <a:lnTo>
                      <a:pt x="39" y="0"/>
                    </a:lnTo>
                    <a:lnTo>
                      <a:pt x="28" y="0"/>
                    </a:lnTo>
                    <a:lnTo>
                      <a:pt x="19" y="1"/>
                    </a:lnTo>
                    <a:lnTo>
                      <a:pt x="9" y="1"/>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1939680" y="3332520"/>
                <a:ext cx="282240" cy="119520"/>
              </a:xfrm>
              <a:custGeom>
                <a:avLst/>
                <a:gdLst/>
                <a:ahLst/>
                <a:rect l="l" t="t" r="r" b="b"/>
                <a:pathLst>
                  <a:path w="884" h="379">
                    <a:moveTo>
                      <a:pt x="0" y="17"/>
                    </a:moveTo>
                    <a:lnTo>
                      <a:pt x="111" y="42"/>
                    </a:lnTo>
                    <a:lnTo>
                      <a:pt x="223" y="82"/>
                    </a:lnTo>
                    <a:lnTo>
                      <a:pt x="331" y="132"/>
                    </a:lnTo>
                    <a:lnTo>
                      <a:pt x="440" y="188"/>
                    </a:lnTo>
                    <a:lnTo>
                      <a:pt x="547" y="243"/>
                    </a:lnTo>
                    <a:lnTo>
                      <a:pt x="657" y="297"/>
                    </a:lnTo>
                    <a:lnTo>
                      <a:pt x="766" y="344"/>
                    </a:lnTo>
                    <a:lnTo>
                      <a:pt x="880" y="379"/>
                    </a:lnTo>
                    <a:lnTo>
                      <a:pt x="884" y="349"/>
                    </a:lnTo>
                    <a:lnTo>
                      <a:pt x="770" y="314"/>
                    </a:lnTo>
                    <a:lnTo>
                      <a:pt x="661" y="268"/>
                    </a:lnTo>
                    <a:lnTo>
                      <a:pt x="552" y="216"/>
                    </a:lnTo>
                    <a:lnTo>
                      <a:pt x="445" y="161"/>
                    </a:lnTo>
                    <a:lnTo>
                      <a:pt x="335" y="106"/>
                    </a:lnTo>
                    <a:lnTo>
                      <a:pt x="225" y="59"/>
                    </a:lnTo>
                    <a:lnTo>
                      <a:pt x="114" y="21"/>
                    </a:lnTo>
                    <a:lnTo>
                      <a:pt x="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20840" y="3443760"/>
                <a:ext cx="53280" cy="11160"/>
              </a:xfrm>
              <a:custGeom>
                <a:avLst/>
                <a:gdLst/>
                <a:ahLst/>
                <a:rect l="l" t="t" r="r" b="b"/>
                <a:pathLst>
                  <a:path w="166" h="38">
                    <a:moveTo>
                      <a:pt x="36" y="38"/>
                    </a:moveTo>
                    <a:lnTo>
                      <a:pt x="51" y="35"/>
                    </a:lnTo>
                    <a:lnTo>
                      <a:pt x="67" y="34"/>
                    </a:lnTo>
                    <a:lnTo>
                      <a:pt x="83" y="33"/>
                    </a:lnTo>
                    <a:lnTo>
                      <a:pt x="100" y="31"/>
                    </a:lnTo>
                    <a:lnTo>
                      <a:pt x="115" y="29"/>
                    </a:lnTo>
                    <a:lnTo>
                      <a:pt x="132" y="26"/>
                    </a:lnTo>
                    <a:lnTo>
                      <a:pt x="149" y="23"/>
                    </a:lnTo>
                    <a:lnTo>
                      <a:pt x="166" y="21"/>
                    </a:lnTo>
                    <a:lnTo>
                      <a:pt x="145" y="20"/>
                    </a:lnTo>
                    <a:lnTo>
                      <a:pt x="124" y="18"/>
                    </a:lnTo>
                    <a:lnTo>
                      <a:pt x="103" y="16"/>
                    </a:lnTo>
                    <a:lnTo>
                      <a:pt x="84" y="14"/>
                    </a:lnTo>
                    <a:lnTo>
                      <a:pt x="63" y="10"/>
                    </a:lnTo>
                    <a:lnTo>
                      <a:pt x="43" y="8"/>
                    </a:lnTo>
                    <a:lnTo>
                      <a:pt x="24" y="4"/>
                    </a:lnTo>
                    <a:lnTo>
                      <a:pt x="4" y="0"/>
                    </a:lnTo>
                    <a:lnTo>
                      <a:pt x="0" y="30"/>
                    </a:lnTo>
                    <a:lnTo>
                      <a:pt x="8" y="31"/>
                    </a:lnTo>
                    <a:lnTo>
                      <a:pt x="17" y="34"/>
                    </a:lnTo>
                    <a:lnTo>
                      <a:pt x="26" y="35"/>
                    </a:lnTo>
                    <a:lnTo>
                      <a:pt x="36"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2289600" y="3208680"/>
                <a:ext cx="11520" cy="199080"/>
              </a:xfrm>
              <a:custGeom>
                <a:avLst/>
                <a:gdLst/>
                <a:ahLst/>
                <a:rect l="l" t="t" r="r" b="b"/>
                <a:pathLst>
                  <a:path w="35" h="625">
                    <a:moveTo>
                      <a:pt x="6" y="625"/>
                    </a:moveTo>
                    <a:lnTo>
                      <a:pt x="9" y="616"/>
                    </a:lnTo>
                    <a:lnTo>
                      <a:pt x="13" y="608"/>
                    </a:lnTo>
                    <a:lnTo>
                      <a:pt x="15" y="600"/>
                    </a:lnTo>
                    <a:lnTo>
                      <a:pt x="19" y="592"/>
                    </a:lnTo>
                    <a:lnTo>
                      <a:pt x="23" y="584"/>
                    </a:lnTo>
                    <a:lnTo>
                      <a:pt x="27" y="577"/>
                    </a:lnTo>
                    <a:lnTo>
                      <a:pt x="31" y="569"/>
                    </a:lnTo>
                    <a:lnTo>
                      <a:pt x="35" y="561"/>
                    </a:lnTo>
                    <a:lnTo>
                      <a:pt x="30" y="490"/>
                    </a:lnTo>
                    <a:lnTo>
                      <a:pt x="24" y="421"/>
                    </a:lnTo>
                    <a:lnTo>
                      <a:pt x="21" y="350"/>
                    </a:lnTo>
                    <a:lnTo>
                      <a:pt x="17" y="283"/>
                    </a:lnTo>
                    <a:lnTo>
                      <a:pt x="11" y="212"/>
                    </a:lnTo>
                    <a:lnTo>
                      <a:pt x="7" y="141"/>
                    </a:lnTo>
                    <a:lnTo>
                      <a:pt x="4" y="71"/>
                    </a:lnTo>
                    <a:lnTo>
                      <a:pt x="0" y="0"/>
                    </a:lnTo>
                    <a:lnTo>
                      <a:pt x="0" y="79"/>
                    </a:lnTo>
                    <a:lnTo>
                      <a:pt x="1" y="157"/>
                    </a:lnTo>
                    <a:lnTo>
                      <a:pt x="1" y="234"/>
                    </a:lnTo>
                    <a:lnTo>
                      <a:pt x="2" y="313"/>
                    </a:lnTo>
                    <a:lnTo>
                      <a:pt x="2" y="390"/>
                    </a:lnTo>
                    <a:lnTo>
                      <a:pt x="4" y="467"/>
                    </a:lnTo>
                    <a:lnTo>
                      <a:pt x="5" y="545"/>
                    </a:lnTo>
                    <a:lnTo>
                      <a:pt x="6" y="6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91040" y="2686680"/>
                <a:ext cx="10080" cy="184680"/>
              </a:xfrm>
              <a:custGeom>
                <a:avLst/>
                <a:gdLst/>
                <a:ahLst/>
                <a:rect l="l" t="t" r="r" b="b"/>
                <a:pathLst>
                  <a:path w="33" h="579">
                    <a:moveTo>
                      <a:pt x="33" y="51"/>
                    </a:moveTo>
                    <a:lnTo>
                      <a:pt x="25" y="38"/>
                    </a:lnTo>
                    <a:lnTo>
                      <a:pt x="18" y="25"/>
                    </a:lnTo>
                    <a:lnTo>
                      <a:pt x="12" y="11"/>
                    </a:lnTo>
                    <a:lnTo>
                      <a:pt x="5" y="0"/>
                    </a:lnTo>
                    <a:lnTo>
                      <a:pt x="4" y="72"/>
                    </a:lnTo>
                    <a:lnTo>
                      <a:pt x="4" y="145"/>
                    </a:lnTo>
                    <a:lnTo>
                      <a:pt x="2" y="218"/>
                    </a:lnTo>
                    <a:lnTo>
                      <a:pt x="2" y="291"/>
                    </a:lnTo>
                    <a:lnTo>
                      <a:pt x="1" y="363"/>
                    </a:lnTo>
                    <a:lnTo>
                      <a:pt x="1" y="435"/>
                    </a:lnTo>
                    <a:lnTo>
                      <a:pt x="0" y="507"/>
                    </a:lnTo>
                    <a:lnTo>
                      <a:pt x="0" y="579"/>
                    </a:lnTo>
                    <a:lnTo>
                      <a:pt x="22" y="401"/>
                    </a:lnTo>
                    <a:lnTo>
                      <a:pt x="22" y="356"/>
                    </a:lnTo>
                    <a:lnTo>
                      <a:pt x="23" y="313"/>
                    </a:lnTo>
                    <a:lnTo>
                      <a:pt x="25" y="269"/>
                    </a:lnTo>
                    <a:lnTo>
                      <a:pt x="26" y="226"/>
                    </a:lnTo>
                    <a:lnTo>
                      <a:pt x="27" y="181"/>
                    </a:lnTo>
                    <a:lnTo>
                      <a:pt x="29" y="138"/>
                    </a:lnTo>
                    <a:lnTo>
                      <a:pt x="30" y="94"/>
                    </a:lnTo>
                    <a:lnTo>
                      <a:pt x="3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89600" y="2814480"/>
                <a:ext cx="8640" cy="307440"/>
              </a:xfrm>
              <a:custGeom>
                <a:avLst/>
                <a:gdLst/>
                <a:ahLst/>
                <a:rect l="l" t="t" r="r" b="b"/>
                <a:pathLst>
                  <a:path w="27" h="960">
                    <a:moveTo>
                      <a:pt x="27" y="0"/>
                    </a:moveTo>
                    <a:lnTo>
                      <a:pt x="5" y="178"/>
                    </a:lnTo>
                    <a:lnTo>
                      <a:pt x="4" y="274"/>
                    </a:lnTo>
                    <a:lnTo>
                      <a:pt x="2" y="372"/>
                    </a:lnTo>
                    <a:lnTo>
                      <a:pt x="2" y="470"/>
                    </a:lnTo>
                    <a:lnTo>
                      <a:pt x="2" y="568"/>
                    </a:lnTo>
                    <a:lnTo>
                      <a:pt x="1" y="665"/>
                    </a:lnTo>
                    <a:lnTo>
                      <a:pt x="0" y="763"/>
                    </a:lnTo>
                    <a:lnTo>
                      <a:pt x="0" y="861"/>
                    </a:lnTo>
                    <a:lnTo>
                      <a:pt x="0" y="960"/>
                    </a:lnTo>
                    <a:lnTo>
                      <a:pt x="2" y="839"/>
                    </a:lnTo>
                    <a:lnTo>
                      <a:pt x="6" y="718"/>
                    </a:lnTo>
                    <a:lnTo>
                      <a:pt x="9" y="598"/>
                    </a:lnTo>
                    <a:lnTo>
                      <a:pt x="13" y="479"/>
                    </a:lnTo>
                    <a:lnTo>
                      <a:pt x="15" y="359"/>
                    </a:lnTo>
                    <a:lnTo>
                      <a:pt x="19" y="239"/>
                    </a:lnTo>
                    <a:lnTo>
                      <a:pt x="23" y="119"/>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29400" y="2554920"/>
                <a:ext cx="61200" cy="10080"/>
              </a:xfrm>
              <a:custGeom>
                <a:avLst/>
                <a:gdLst/>
                <a:ahLst/>
                <a:rect l="l" t="t" r="r" b="b"/>
                <a:pathLst>
                  <a:path w="192" h="32">
                    <a:moveTo>
                      <a:pt x="132" y="0"/>
                    </a:moveTo>
                    <a:lnTo>
                      <a:pt x="115" y="0"/>
                    </a:lnTo>
                    <a:lnTo>
                      <a:pt x="98" y="2"/>
                    </a:lnTo>
                    <a:lnTo>
                      <a:pt x="81" y="5"/>
                    </a:lnTo>
                    <a:lnTo>
                      <a:pt x="65" y="9"/>
                    </a:lnTo>
                    <a:lnTo>
                      <a:pt x="48" y="12"/>
                    </a:lnTo>
                    <a:lnTo>
                      <a:pt x="33" y="15"/>
                    </a:lnTo>
                    <a:lnTo>
                      <a:pt x="16" y="19"/>
                    </a:lnTo>
                    <a:lnTo>
                      <a:pt x="0" y="25"/>
                    </a:lnTo>
                    <a:lnTo>
                      <a:pt x="24" y="21"/>
                    </a:lnTo>
                    <a:lnTo>
                      <a:pt x="47" y="21"/>
                    </a:lnTo>
                    <a:lnTo>
                      <a:pt x="71" y="19"/>
                    </a:lnTo>
                    <a:lnTo>
                      <a:pt x="96" y="21"/>
                    </a:lnTo>
                    <a:lnTo>
                      <a:pt x="119" y="21"/>
                    </a:lnTo>
                    <a:lnTo>
                      <a:pt x="143" y="25"/>
                    </a:lnTo>
                    <a:lnTo>
                      <a:pt x="166" y="27"/>
                    </a:lnTo>
                    <a:lnTo>
                      <a:pt x="191" y="32"/>
                    </a:lnTo>
                    <a:lnTo>
                      <a:pt x="192" y="8"/>
                    </a:lnTo>
                    <a:lnTo>
                      <a:pt x="184" y="5"/>
                    </a:lnTo>
                    <a:lnTo>
                      <a:pt x="177" y="4"/>
                    </a:lnTo>
                    <a:lnTo>
                      <a:pt x="169" y="2"/>
                    </a:lnTo>
                    <a:lnTo>
                      <a:pt x="162" y="2"/>
                    </a:lnTo>
                    <a:lnTo>
                      <a:pt x="154" y="1"/>
                    </a:lnTo>
                    <a:lnTo>
                      <a:pt x="147" y="0"/>
                    </a:lnTo>
                    <a:lnTo>
                      <a:pt x="139" y="0"/>
                    </a:lnTo>
                    <a:lnTo>
                      <a:pt x="13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7" name=""/>
              <p:cNvSpPr/>
              <p:nvPr/>
            </p:nvSpPr>
            <p:spPr>
              <a:xfrm>
                <a:off x="1290960" y="2557440"/>
                <a:ext cx="305280" cy="123840"/>
              </a:xfrm>
              <a:custGeom>
                <a:avLst/>
                <a:gdLst/>
                <a:ahLst/>
                <a:rect l="l" t="t" r="r" b="b"/>
                <a:pathLst>
                  <a:path w="957" h="388">
                    <a:moveTo>
                      <a:pt x="1" y="0"/>
                    </a:moveTo>
                    <a:lnTo>
                      <a:pt x="0" y="24"/>
                    </a:lnTo>
                    <a:lnTo>
                      <a:pt x="120" y="54"/>
                    </a:lnTo>
                    <a:lnTo>
                      <a:pt x="239" y="100"/>
                    </a:lnTo>
                    <a:lnTo>
                      <a:pt x="357" y="155"/>
                    </a:lnTo>
                    <a:lnTo>
                      <a:pt x="476" y="215"/>
                    </a:lnTo>
                    <a:lnTo>
                      <a:pt x="592" y="271"/>
                    </a:lnTo>
                    <a:lnTo>
                      <a:pt x="711" y="324"/>
                    </a:lnTo>
                    <a:lnTo>
                      <a:pt x="832" y="363"/>
                    </a:lnTo>
                    <a:lnTo>
                      <a:pt x="957" y="388"/>
                    </a:lnTo>
                    <a:lnTo>
                      <a:pt x="833" y="360"/>
                    </a:lnTo>
                    <a:lnTo>
                      <a:pt x="713" y="317"/>
                    </a:lnTo>
                    <a:lnTo>
                      <a:pt x="594" y="261"/>
                    </a:lnTo>
                    <a:lnTo>
                      <a:pt x="477" y="200"/>
                    </a:lnTo>
                    <a:lnTo>
                      <a:pt x="360" y="136"/>
                    </a:lnTo>
                    <a:lnTo>
                      <a:pt x="242" y="78"/>
                    </a:lnTo>
                    <a:lnTo>
                      <a:pt x="123" y="31"/>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70520" y="3048120"/>
                <a:ext cx="1440" cy="2160"/>
              </a:xfrm>
              <a:custGeom>
                <a:avLst/>
                <a:gdLst/>
                <a:ahLst/>
                <a:rect l="l" t="t" r="r" b="b"/>
                <a:pathLst>
                  <a:path w="1" h="9">
                    <a:moveTo>
                      <a:pt x="1" y="9"/>
                    </a:moveTo>
                    <a:lnTo>
                      <a:pt x="1" y="4"/>
                    </a:lnTo>
                    <a:lnTo>
                      <a:pt x="1" y="0"/>
                    </a:lnTo>
                    <a:lnTo>
                      <a:pt x="0" y="8"/>
                    </a:lnTo>
                    <a:lnTo>
                      <a:pt x="1"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2269440" y="2687760"/>
                <a:ext cx="2520" cy="362160"/>
              </a:xfrm>
              <a:custGeom>
                <a:avLst/>
                <a:gdLst/>
                <a:ahLst/>
                <a:rect l="l" t="t" r="r" b="b"/>
                <a:pathLst>
                  <a:path w="6" h="1133">
                    <a:moveTo>
                      <a:pt x="1" y="1133"/>
                    </a:moveTo>
                    <a:lnTo>
                      <a:pt x="2" y="1125"/>
                    </a:lnTo>
                    <a:lnTo>
                      <a:pt x="2" y="984"/>
                    </a:lnTo>
                    <a:lnTo>
                      <a:pt x="2" y="844"/>
                    </a:lnTo>
                    <a:lnTo>
                      <a:pt x="2" y="704"/>
                    </a:lnTo>
                    <a:lnTo>
                      <a:pt x="4" y="566"/>
                    </a:lnTo>
                    <a:lnTo>
                      <a:pt x="4" y="425"/>
                    </a:lnTo>
                    <a:lnTo>
                      <a:pt x="5" y="285"/>
                    </a:lnTo>
                    <a:lnTo>
                      <a:pt x="5" y="144"/>
                    </a:lnTo>
                    <a:lnTo>
                      <a:pt x="6" y="1"/>
                    </a:lnTo>
                    <a:lnTo>
                      <a:pt x="5" y="0"/>
                    </a:lnTo>
                    <a:lnTo>
                      <a:pt x="4" y="144"/>
                    </a:lnTo>
                    <a:lnTo>
                      <a:pt x="2" y="286"/>
                    </a:lnTo>
                    <a:lnTo>
                      <a:pt x="1" y="427"/>
                    </a:lnTo>
                    <a:lnTo>
                      <a:pt x="1" y="568"/>
                    </a:lnTo>
                    <a:lnTo>
                      <a:pt x="0" y="708"/>
                    </a:lnTo>
                    <a:lnTo>
                      <a:pt x="0" y="848"/>
                    </a:lnTo>
                    <a:lnTo>
                      <a:pt x="0" y="989"/>
                    </a:lnTo>
                    <a:lnTo>
                      <a:pt x="0" y="1133"/>
                    </a:lnTo>
                    <a:lnTo>
                      <a:pt x="1" y="1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8720" y="2585520"/>
                <a:ext cx="99360" cy="354960"/>
              </a:xfrm>
              <a:custGeom>
                <a:avLst/>
                <a:gdLst/>
                <a:ahLst/>
                <a:rect l="l" t="t" r="r" b="b"/>
                <a:pathLst>
                  <a:path w="312" h="1114">
                    <a:moveTo>
                      <a:pt x="225" y="1114"/>
                    </a:moveTo>
                    <a:lnTo>
                      <a:pt x="312" y="12"/>
                    </a:lnTo>
                    <a:lnTo>
                      <a:pt x="285" y="7"/>
                    </a:lnTo>
                    <a:lnTo>
                      <a:pt x="258" y="4"/>
                    </a:lnTo>
                    <a:lnTo>
                      <a:pt x="230" y="2"/>
                    </a:lnTo>
                    <a:lnTo>
                      <a:pt x="203" y="2"/>
                    </a:lnTo>
                    <a:lnTo>
                      <a:pt x="174" y="0"/>
                    </a:lnTo>
                    <a:lnTo>
                      <a:pt x="146" y="2"/>
                    </a:lnTo>
                    <a:lnTo>
                      <a:pt x="119" y="4"/>
                    </a:lnTo>
                    <a:lnTo>
                      <a:pt x="91" y="8"/>
                    </a:lnTo>
                    <a:lnTo>
                      <a:pt x="80" y="10"/>
                    </a:lnTo>
                    <a:lnTo>
                      <a:pt x="68" y="12"/>
                    </a:lnTo>
                    <a:lnTo>
                      <a:pt x="56" y="14"/>
                    </a:lnTo>
                    <a:lnTo>
                      <a:pt x="46" y="16"/>
                    </a:lnTo>
                    <a:lnTo>
                      <a:pt x="34" y="17"/>
                    </a:lnTo>
                    <a:lnTo>
                      <a:pt x="22" y="20"/>
                    </a:lnTo>
                    <a:lnTo>
                      <a:pt x="10" y="23"/>
                    </a:lnTo>
                    <a:lnTo>
                      <a:pt x="0" y="27"/>
                    </a:lnTo>
                    <a:lnTo>
                      <a:pt x="0" y="160"/>
                    </a:lnTo>
                    <a:lnTo>
                      <a:pt x="0" y="293"/>
                    </a:lnTo>
                    <a:lnTo>
                      <a:pt x="0" y="425"/>
                    </a:lnTo>
                    <a:lnTo>
                      <a:pt x="1" y="558"/>
                    </a:lnTo>
                    <a:lnTo>
                      <a:pt x="1" y="692"/>
                    </a:lnTo>
                    <a:lnTo>
                      <a:pt x="1" y="825"/>
                    </a:lnTo>
                    <a:lnTo>
                      <a:pt x="1" y="960"/>
                    </a:lnTo>
                    <a:lnTo>
                      <a:pt x="3" y="1098"/>
                    </a:lnTo>
                    <a:lnTo>
                      <a:pt x="30" y="1094"/>
                    </a:lnTo>
                    <a:lnTo>
                      <a:pt x="59" y="1094"/>
                    </a:lnTo>
                    <a:lnTo>
                      <a:pt x="86" y="1094"/>
                    </a:lnTo>
                    <a:lnTo>
                      <a:pt x="115" y="1097"/>
                    </a:lnTo>
                    <a:lnTo>
                      <a:pt x="142" y="1098"/>
                    </a:lnTo>
                    <a:lnTo>
                      <a:pt x="170" y="1103"/>
                    </a:lnTo>
                    <a:lnTo>
                      <a:pt x="197" y="1107"/>
                    </a:lnTo>
                    <a:lnTo>
                      <a:pt x="225" y="1114"/>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8320" y="2585520"/>
                <a:ext cx="404640" cy="465840"/>
              </a:xfrm>
              <a:custGeom>
                <a:avLst/>
                <a:gdLst/>
                <a:ahLst/>
                <a:rect l="l" t="t" r="r" b="b"/>
                <a:pathLst>
                  <a:path w="1271" h="1458">
                    <a:moveTo>
                      <a:pt x="436" y="1342"/>
                    </a:moveTo>
                    <a:lnTo>
                      <a:pt x="523" y="1300"/>
                    </a:lnTo>
                    <a:lnTo>
                      <a:pt x="612" y="1259"/>
                    </a:lnTo>
                    <a:lnTo>
                      <a:pt x="700" y="1220"/>
                    </a:lnTo>
                    <a:lnTo>
                      <a:pt x="789" y="1185"/>
                    </a:lnTo>
                    <a:lnTo>
                      <a:pt x="875" y="1154"/>
                    </a:lnTo>
                    <a:lnTo>
                      <a:pt x="961" y="1127"/>
                    </a:lnTo>
                    <a:lnTo>
                      <a:pt x="1047" y="1109"/>
                    </a:lnTo>
                    <a:lnTo>
                      <a:pt x="1134" y="1099"/>
                    </a:lnTo>
                    <a:lnTo>
                      <a:pt x="1140" y="1097"/>
                    </a:lnTo>
                    <a:lnTo>
                      <a:pt x="1148" y="1096"/>
                    </a:lnTo>
                    <a:lnTo>
                      <a:pt x="1155" y="1096"/>
                    </a:lnTo>
                    <a:lnTo>
                      <a:pt x="1162" y="1096"/>
                    </a:lnTo>
                    <a:lnTo>
                      <a:pt x="1169" y="1096"/>
                    </a:lnTo>
                    <a:lnTo>
                      <a:pt x="1177" y="1096"/>
                    </a:lnTo>
                    <a:lnTo>
                      <a:pt x="1185" y="1096"/>
                    </a:lnTo>
                    <a:lnTo>
                      <a:pt x="1193" y="1096"/>
                    </a:lnTo>
                    <a:lnTo>
                      <a:pt x="1271" y="0"/>
                    </a:lnTo>
                    <a:lnTo>
                      <a:pt x="1173" y="12"/>
                    </a:lnTo>
                    <a:lnTo>
                      <a:pt x="1075" y="35"/>
                    </a:lnTo>
                    <a:lnTo>
                      <a:pt x="976" y="66"/>
                    </a:lnTo>
                    <a:lnTo>
                      <a:pt x="876" y="106"/>
                    </a:lnTo>
                    <a:lnTo>
                      <a:pt x="775" y="149"/>
                    </a:lnTo>
                    <a:lnTo>
                      <a:pt x="676" y="196"/>
                    </a:lnTo>
                    <a:lnTo>
                      <a:pt x="575" y="242"/>
                    </a:lnTo>
                    <a:lnTo>
                      <a:pt x="475" y="287"/>
                    </a:lnTo>
                    <a:lnTo>
                      <a:pt x="429" y="303"/>
                    </a:lnTo>
                    <a:lnTo>
                      <a:pt x="386" y="319"/>
                    </a:lnTo>
                    <a:lnTo>
                      <a:pt x="343" y="330"/>
                    </a:lnTo>
                    <a:lnTo>
                      <a:pt x="300" y="342"/>
                    </a:lnTo>
                    <a:lnTo>
                      <a:pt x="256" y="350"/>
                    </a:lnTo>
                    <a:lnTo>
                      <a:pt x="213" y="358"/>
                    </a:lnTo>
                    <a:lnTo>
                      <a:pt x="171" y="362"/>
                    </a:lnTo>
                    <a:lnTo>
                      <a:pt x="131" y="366"/>
                    </a:lnTo>
                    <a:lnTo>
                      <a:pt x="0" y="1458"/>
                    </a:lnTo>
                    <a:lnTo>
                      <a:pt x="51" y="1453"/>
                    </a:lnTo>
                    <a:lnTo>
                      <a:pt x="105" y="1445"/>
                    </a:lnTo>
                    <a:lnTo>
                      <a:pt x="158" y="1433"/>
                    </a:lnTo>
                    <a:lnTo>
                      <a:pt x="213" y="1421"/>
                    </a:lnTo>
                    <a:lnTo>
                      <a:pt x="267" y="1404"/>
                    </a:lnTo>
                    <a:lnTo>
                      <a:pt x="322" y="1386"/>
                    </a:lnTo>
                    <a:lnTo>
                      <a:pt x="378" y="1365"/>
                    </a:lnTo>
                    <a:lnTo>
                      <a:pt x="436" y="1342"/>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68840" y="2585520"/>
                <a:ext cx="302760" cy="464400"/>
              </a:xfrm>
              <a:custGeom>
                <a:avLst/>
                <a:gdLst/>
                <a:ahLst/>
                <a:rect l="l" t="t" r="r" b="b"/>
                <a:pathLst>
                  <a:path w="946" h="1456">
                    <a:moveTo>
                      <a:pt x="126" y="1111"/>
                    </a:moveTo>
                    <a:lnTo>
                      <a:pt x="230" y="1140"/>
                    </a:lnTo>
                    <a:lnTo>
                      <a:pt x="332" y="1180"/>
                    </a:lnTo>
                    <a:lnTo>
                      <a:pt x="432" y="1228"/>
                    </a:lnTo>
                    <a:lnTo>
                      <a:pt x="533" y="1281"/>
                    </a:lnTo>
                    <a:lnTo>
                      <a:pt x="632" y="1333"/>
                    </a:lnTo>
                    <a:lnTo>
                      <a:pt x="733" y="1381"/>
                    </a:lnTo>
                    <a:lnTo>
                      <a:pt x="835" y="1423"/>
                    </a:lnTo>
                    <a:lnTo>
                      <a:pt x="941" y="1456"/>
                    </a:lnTo>
                    <a:lnTo>
                      <a:pt x="941" y="1312"/>
                    </a:lnTo>
                    <a:lnTo>
                      <a:pt x="941" y="1171"/>
                    </a:lnTo>
                    <a:lnTo>
                      <a:pt x="941" y="1031"/>
                    </a:lnTo>
                    <a:lnTo>
                      <a:pt x="942" y="891"/>
                    </a:lnTo>
                    <a:lnTo>
                      <a:pt x="942" y="750"/>
                    </a:lnTo>
                    <a:lnTo>
                      <a:pt x="943" y="609"/>
                    </a:lnTo>
                    <a:lnTo>
                      <a:pt x="945" y="467"/>
                    </a:lnTo>
                    <a:lnTo>
                      <a:pt x="946" y="323"/>
                    </a:lnTo>
                    <a:lnTo>
                      <a:pt x="844" y="278"/>
                    </a:lnTo>
                    <a:lnTo>
                      <a:pt x="746" y="230"/>
                    </a:lnTo>
                    <a:lnTo>
                      <a:pt x="648" y="179"/>
                    </a:lnTo>
                    <a:lnTo>
                      <a:pt x="551" y="130"/>
                    </a:lnTo>
                    <a:lnTo>
                      <a:pt x="452" y="82"/>
                    </a:lnTo>
                    <a:lnTo>
                      <a:pt x="354" y="43"/>
                    </a:lnTo>
                    <a:lnTo>
                      <a:pt x="252" y="15"/>
                    </a:lnTo>
                    <a:lnTo>
                      <a:pt x="150" y="1"/>
                    </a:lnTo>
                    <a:lnTo>
                      <a:pt x="139" y="0"/>
                    </a:lnTo>
                    <a:lnTo>
                      <a:pt x="130" y="0"/>
                    </a:lnTo>
                    <a:lnTo>
                      <a:pt x="121" y="0"/>
                    </a:lnTo>
                    <a:lnTo>
                      <a:pt x="113" y="0"/>
                    </a:lnTo>
                    <a:lnTo>
                      <a:pt x="104" y="0"/>
                    </a:lnTo>
                    <a:lnTo>
                      <a:pt x="95" y="1"/>
                    </a:lnTo>
                    <a:lnTo>
                      <a:pt x="86" y="1"/>
                    </a:lnTo>
                    <a:lnTo>
                      <a:pt x="78" y="3"/>
                    </a:lnTo>
                    <a:lnTo>
                      <a:pt x="0" y="1099"/>
                    </a:lnTo>
                    <a:lnTo>
                      <a:pt x="15" y="1099"/>
                    </a:lnTo>
                    <a:lnTo>
                      <a:pt x="31" y="1099"/>
                    </a:lnTo>
                    <a:lnTo>
                      <a:pt x="47" y="1099"/>
                    </a:lnTo>
                    <a:lnTo>
                      <a:pt x="62" y="1100"/>
                    </a:lnTo>
                    <a:lnTo>
                      <a:pt x="78" y="1102"/>
                    </a:lnTo>
                    <a:lnTo>
                      <a:pt x="94" y="1104"/>
                    </a:lnTo>
                    <a:lnTo>
                      <a:pt x="109" y="1107"/>
                    </a:lnTo>
                    <a:lnTo>
                      <a:pt x="126"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60360" y="2589480"/>
                <a:ext cx="369000" cy="462240"/>
              </a:xfrm>
              <a:custGeom>
                <a:avLst/>
                <a:gdLst/>
                <a:ahLst/>
                <a:rect l="l" t="t" r="r" b="b"/>
                <a:pathLst>
                  <a:path w="1157" h="1448">
                    <a:moveTo>
                      <a:pt x="600" y="1367"/>
                    </a:moveTo>
                    <a:lnTo>
                      <a:pt x="651" y="1389"/>
                    </a:lnTo>
                    <a:lnTo>
                      <a:pt x="705" y="1407"/>
                    </a:lnTo>
                    <a:lnTo>
                      <a:pt x="757" y="1423"/>
                    </a:lnTo>
                    <a:lnTo>
                      <a:pt x="810" y="1435"/>
                    </a:lnTo>
                    <a:lnTo>
                      <a:pt x="863" y="1443"/>
                    </a:lnTo>
                    <a:lnTo>
                      <a:pt x="916" y="1447"/>
                    </a:lnTo>
                    <a:lnTo>
                      <a:pt x="971" y="1448"/>
                    </a:lnTo>
                    <a:lnTo>
                      <a:pt x="1026" y="1448"/>
                    </a:lnTo>
                    <a:lnTo>
                      <a:pt x="1157" y="356"/>
                    </a:lnTo>
                    <a:lnTo>
                      <a:pt x="1094" y="354"/>
                    </a:lnTo>
                    <a:lnTo>
                      <a:pt x="1033" y="350"/>
                    </a:lnTo>
                    <a:lnTo>
                      <a:pt x="971" y="343"/>
                    </a:lnTo>
                    <a:lnTo>
                      <a:pt x="911" y="331"/>
                    </a:lnTo>
                    <a:lnTo>
                      <a:pt x="850" y="314"/>
                    </a:lnTo>
                    <a:lnTo>
                      <a:pt x="790" y="294"/>
                    </a:lnTo>
                    <a:lnTo>
                      <a:pt x="729" y="271"/>
                    </a:lnTo>
                    <a:lnTo>
                      <a:pt x="671" y="243"/>
                    </a:lnTo>
                    <a:lnTo>
                      <a:pt x="596" y="205"/>
                    </a:lnTo>
                    <a:lnTo>
                      <a:pt x="524" y="167"/>
                    </a:lnTo>
                    <a:lnTo>
                      <a:pt x="451" y="131"/>
                    </a:lnTo>
                    <a:lnTo>
                      <a:pt x="380" y="97"/>
                    </a:lnTo>
                    <a:lnTo>
                      <a:pt x="307" y="64"/>
                    </a:lnTo>
                    <a:lnTo>
                      <a:pt x="234" y="38"/>
                    </a:lnTo>
                    <a:lnTo>
                      <a:pt x="161" y="15"/>
                    </a:lnTo>
                    <a:lnTo>
                      <a:pt x="87" y="0"/>
                    </a:lnTo>
                    <a:lnTo>
                      <a:pt x="0" y="1102"/>
                    </a:lnTo>
                    <a:lnTo>
                      <a:pt x="74" y="1121"/>
                    </a:lnTo>
                    <a:lnTo>
                      <a:pt x="150" y="1149"/>
                    </a:lnTo>
                    <a:lnTo>
                      <a:pt x="225" y="1180"/>
                    </a:lnTo>
                    <a:lnTo>
                      <a:pt x="301" y="1215"/>
                    </a:lnTo>
                    <a:lnTo>
                      <a:pt x="374" y="1252"/>
                    </a:lnTo>
                    <a:lnTo>
                      <a:pt x="448" y="1291"/>
                    </a:lnTo>
                    <a:lnTo>
                      <a:pt x="523" y="1329"/>
                    </a:lnTo>
                    <a:lnTo>
                      <a:pt x="600" y="13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67760" y="2936880"/>
                <a:ext cx="302400" cy="126360"/>
              </a:xfrm>
              <a:custGeom>
                <a:avLst/>
                <a:gdLst/>
                <a:ahLst/>
                <a:rect l="l" t="t" r="r" b="b"/>
                <a:pathLst>
                  <a:path w="946" h="397">
                    <a:moveTo>
                      <a:pt x="946" y="357"/>
                    </a:moveTo>
                    <a:lnTo>
                      <a:pt x="945" y="357"/>
                    </a:lnTo>
                    <a:lnTo>
                      <a:pt x="839" y="324"/>
                    </a:lnTo>
                    <a:lnTo>
                      <a:pt x="737" y="282"/>
                    </a:lnTo>
                    <a:lnTo>
                      <a:pt x="636" y="234"/>
                    </a:lnTo>
                    <a:lnTo>
                      <a:pt x="537" y="182"/>
                    </a:lnTo>
                    <a:lnTo>
                      <a:pt x="436" y="129"/>
                    </a:lnTo>
                    <a:lnTo>
                      <a:pt x="336" y="81"/>
                    </a:lnTo>
                    <a:lnTo>
                      <a:pt x="234" y="41"/>
                    </a:lnTo>
                    <a:lnTo>
                      <a:pt x="130" y="12"/>
                    </a:lnTo>
                    <a:lnTo>
                      <a:pt x="113" y="8"/>
                    </a:lnTo>
                    <a:lnTo>
                      <a:pt x="98" y="5"/>
                    </a:lnTo>
                    <a:lnTo>
                      <a:pt x="82" y="3"/>
                    </a:lnTo>
                    <a:lnTo>
                      <a:pt x="66" y="1"/>
                    </a:lnTo>
                    <a:lnTo>
                      <a:pt x="51" y="0"/>
                    </a:lnTo>
                    <a:lnTo>
                      <a:pt x="35" y="0"/>
                    </a:lnTo>
                    <a:lnTo>
                      <a:pt x="19" y="0"/>
                    </a:lnTo>
                    <a:lnTo>
                      <a:pt x="4" y="0"/>
                    </a:lnTo>
                    <a:lnTo>
                      <a:pt x="0" y="39"/>
                    </a:lnTo>
                    <a:lnTo>
                      <a:pt x="15" y="39"/>
                    </a:lnTo>
                    <a:lnTo>
                      <a:pt x="32" y="39"/>
                    </a:lnTo>
                    <a:lnTo>
                      <a:pt x="48" y="39"/>
                    </a:lnTo>
                    <a:lnTo>
                      <a:pt x="65" y="42"/>
                    </a:lnTo>
                    <a:lnTo>
                      <a:pt x="81" y="43"/>
                    </a:lnTo>
                    <a:lnTo>
                      <a:pt x="98" y="46"/>
                    </a:lnTo>
                    <a:lnTo>
                      <a:pt x="113" y="48"/>
                    </a:lnTo>
                    <a:lnTo>
                      <a:pt x="130" y="52"/>
                    </a:lnTo>
                    <a:lnTo>
                      <a:pt x="143" y="55"/>
                    </a:lnTo>
                    <a:lnTo>
                      <a:pt x="158" y="58"/>
                    </a:lnTo>
                    <a:lnTo>
                      <a:pt x="172" y="61"/>
                    </a:lnTo>
                    <a:lnTo>
                      <a:pt x="188" y="67"/>
                    </a:lnTo>
                    <a:lnTo>
                      <a:pt x="201" y="71"/>
                    </a:lnTo>
                    <a:lnTo>
                      <a:pt x="215" y="75"/>
                    </a:lnTo>
                    <a:lnTo>
                      <a:pt x="230" y="80"/>
                    </a:lnTo>
                    <a:lnTo>
                      <a:pt x="245" y="86"/>
                    </a:lnTo>
                    <a:lnTo>
                      <a:pt x="332" y="120"/>
                    </a:lnTo>
                    <a:lnTo>
                      <a:pt x="418" y="162"/>
                    </a:lnTo>
                    <a:lnTo>
                      <a:pt x="504" y="206"/>
                    </a:lnTo>
                    <a:lnTo>
                      <a:pt x="591" y="252"/>
                    </a:lnTo>
                    <a:lnTo>
                      <a:pt x="676" y="295"/>
                    </a:lnTo>
                    <a:lnTo>
                      <a:pt x="762" y="336"/>
                    </a:lnTo>
                    <a:lnTo>
                      <a:pt x="849" y="370"/>
                    </a:lnTo>
                    <a:lnTo>
                      <a:pt x="941" y="397"/>
                    </a:lnTo>
                    <a:lnTo>
                      <a:pt x="946"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68000" y="3050280"/>
                <a:ext cx="2520" cy="379080"/>
              </a:xfrm>
              <a:custGeom>
                <a:avLst/>
                <a:gdLst/>
                <a:ahLst/>
                <a:rect l="l" t="t" r="r" b="b"/>
                <a:pathLst>
                  <a:path w="6" h="1190">
                    <a:moveTo>
                      <a:pt x="0" y="40"/>
                    </a:moveTo>
                    <a:lnTo>
                      <a:pt x="1" y="40"/>
                    </a:lnTo>
                    <a:lnTo>
                      <a:pt x="4" y="42"/>
                    </a:lnTo>
                    <a:lnTo>
                      <a:pt x="3" y="187"/>
                    </a:lnTo>
                    <a:lnTo>
                      <a:pt x="3" y="332"/>
                    </a:lnTo>
                    <a:lnTo>
                      <a:pt x="1" y="474"/>
                    </a:lnTo>
                    <a:lnTo>
                      <a:pt x="1" y="618"/>
                    </a:lnTo>
                    <a:lnTo>
                      <a:pt x="1" y="760"/>
                    </a:lnTo>
                    <a:lnTo>
                      <a:pt x="1" y="903"/>
                    </a:lnTo>
                    <a:lnTo>
                      <a:pt x="1" y="1045"/>
                    </a:lnTo>
                    <a:lnTo>
                      <a:pt x="1" y="1190"/>
                    </a:lnTo>
                    <a:lnTo>
                      <a:pt x="3" y="1190"/>
                    </a:lnTo>
                    <a:lnTo>
                      <a:pt x="4" y="1190"/>
                    </a:lnTo>
                    <a:lnTo>
                      <a:pt x="4" y="1049"/>
                    </a:lnTo>
                    <a:lnTo>
                      <a:pt x="4" y="909"/>
                    </a:lnTo>
                    <a:lnTo>
                      <a:pt x="4" y="769"/>
                    </a:lnTo>
                    <a:lnTo>
                      <a:pt x="4" y="631"/>
                    </a:lnTo>
                    <a:lnTo>
                      <a:pt x="4" y="490"/>
                    </a:lnTo>
                    <a:lnTo>
                      <a:pt x="4" y="350"/>
                    </a:lnTo>
                    <a:lnTo>
                      <a:pt x="4" y="208"/>
                    </a:lnTo>
                    <a:lnTo>
                      <a:pt x="5" y="65"/>
                    </a:lnTo>
                    <a:lnTo>
                      <a:pt x="5" y="57"/>
                    </a:lnTo>
                    <a:lnTo>
                      <a:pt x="5" y="49"/>
                    </a:lnTo>
                    <a:lnTo>
                      <a:pt x="5" y="42"/>
                    </a:lnTo>
                    <a:lnTo>
                      <a:pt x="6" y="35"/>
                    </a:lnTo>
                    <a:lnTo>
                      <a:pt x="6" y="27"/>
                    </a:lnTo>
                    <a:lnTo>
                      <a:pt x="6" y="19"/>
                    </a:lnTo>
                    <a:lnTo>
                      <a:pt x="6" y="13"/>
                    </a:lnTo>
                    <a:lnTo>
                      <a:pt x="6" y="6"/>
                    </a:lnTo>
                    <a:lnTo>
                      <a:pt x="6" y="2"/>
                    </a:lnTo>
                    <a:lnTo>
                      <a:pt x="6" y="1"/>
                    </a:lnTo>
                    <a:lnTo>
                      <a:pt x="5"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58920" y="2940480"/>
                <a:ext cx="329040" cy="123840"/>
              </a:xfrm>
              <a:custGeom>
                <a:avLst/>
                <a:gdLst/>
                <a:ahLst/>
                <a:rect l="l" t="t" r="r" b="b"/>
                <a:pathLst>
                  <a:path w="1030" h="388">
                    <a:moveTo>
                      <a:pt x="1025" y="386"/>
                    </a:moveTo>
                    <a:lnTo>
                      <a:pt x="1030" y="346"/>
                    </a:lnTo>
                    <a:lnTo>
                      <a:pt x="975" y="346"/>
                    </a:lnTo>
                    <a:lnTo>
                      <a:pt x="920" y="345"/>
                    </a:lnTo>
                    <a:lnTo>
                      <a:pt x="867" y="341"/>
                    </a:lnTo>
                    <a:lnTo>
                      <a:pt x="814" y="333"/>
                    </a:lnTo>
                    <a:lnTo>
                      <a:pt x="761" y="321"/>
                    </a:lnTo>
                    <a:lnTo>
                      <a:pt x="709" y="305"/>
                    </a:lnTo>
                    <a:lnTo>
                      <a:pt x="655" y="287"/>
                    </a:lnTo>
                    <a:lnTo>
                      <a:pt x="604" y="265"/>
                    </a:lnTo>
                    <a:lnTo>
                      <a:pt x="527" y="227"/>
                    </a:lnTo>
                    <a:lnTo>
                      <a:pt x="452" y="189"/>
                    </a:lnTo>
                    <a:lnTo>
                      <a:pt x="378" y="150"/>
                    </a:lnTo>
                    <a:lnTo>
                      <a:pt x="305" y="113"/>
                    </a:lnTo>
                    <a:lnTo>
                      <a:pt x="229" y="78"/>
                    </a:lnTo>
                    <a:lnTo>
                      <a:pt x="154" y="47"/>
                    </a:lnTo>
                    <a:lnTo>
                      <a:pt x="78" y="19"/>
                    </a:lnTo>
                    <a:lnTo>
                      <a:pt x="4" y="0"/>
                    </a:lnTo>
                    <a:lnTo>
                      <a:pt x="0" y="40"/>
                    </a:lnTo>
                    <a:lnTo>
                      <a:pt x="76" y="60"/>
                    </a:lnTo>
                    <a:lnTo>
                      <a:pt x="152" y="87"/>
                    </a:lnTo>
                    <a:lnTo>
                      <a:pt x="226" y="119"/>
                    </a:lnTo>
                    <a:lnTo>
                      <a:pt x="302" y="155"/>
                    </a:lnTo>
                    <a:lnTo>
                      <a:pt x="376" y="193"/>
                    </a:lnTo>
                    <a:lnTo>
                      <a:pt x="452" y="231"/>
                    </a:lnTo>
                    <a:lnTo>
                      <a:pt x="527" y="269"/>
                    </a:lnTo>
                    <a:lnTo>
                      <a:pt x="604" y="307"/>
                    </a:lnTo>
                    <a:lnTo>
                      <a:pt x="647" y="325"/>
                    </a:lnTo>
                    <a:lnTo>
                      <a:pt x="693" y="342"/>
                    </a:lnTo>
                    <a:lnTo>
                      <a:pt x="737" y="355"/>
                    </a:lnTo>
                    <a:lnTo>
                      <a:pt x="783" y="367"/>
                    </a:lnTo>
                    <a:lnTo>
                      <a:pt x="828" y="375"/>
                    </a:lnTo>
                    <a:lnTo>
                      <a:pt x="873" y="383"/>
                    </a:lnTo>
                    <a:lnTo>
                      <a:pt x="918" y="385"/>
                    </a:lnTo>
                    <a:lnTo>
                      <a:pt x="965" y="388"/>
                    </a:lnTo>
                    <a:lnTo>
                      <a:pt x="971" y="386"/>
                    </a:lnTo>
                    <a:lnTo>
                      <a:pt x="979" y="386"/>
                    </a:lnTo>
                    <a:lnTo>
                      <a:pt x="987" y="386"/>
                    </a:lnTo>
                    <a:lnTo>
                      <a:pt x="995" y="386"/>
                    </a:lnTo>
                    <a:lnTo>
                      <a:pt x="1001" y="386"/>
                    </a:lnTo>
                    <a:lnTo>
                      <a:pt x="1009" y="386"/>
                    </a:lnTo>
                    <a:lnTo>
                      <a:pt x="1017" y="386"/>
                    </a:lnTo>
                    <a:lnTo>
                      <a:pt x="102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89800" y="2935800"/>
                <a:ext cx="70200" cy="19080"/>
              </a:xfrm>
              <a:custGeom>
                <a:avLst/>
                <a:gdLst/>
                <a:ahLst/>
                <a:rect l="l" t="t" r="r" b="b"/>
                <a:pathLst>
                  <a:path w="222" h="60">
                    <a:moveTo>
                      <a:pt x="193" y="55"/>
                    </a:moveTo>
                    <a:lnTo>
                      <a:pt x="205" y="58"/>
                    </a:lnTo>
                    <a:lnTo>
                      <a:pt x="218" y="60"/>
                    </a:lnTo>
                    <a:lnTo>
                      <a:pt x="222" y="20"/>
                    </a:lnTo>
                    <a:lnTo>
                      <a:pt x="194" y="13"/>
                    </a:lnTo>
                    <a:lnTo>
                      <a:pt x="167" y="9"/>
                    </a:lnTo>
                    <a:lnTo>
                      <a:pt x="139" y="4"/>
                    </a:lnTo>
                    <a:lnTo>
                      <a:pt x="112" y="3"/>
                    </a:lnTo>
                    <a:lnTo>
                      <a:pt x="83" y="0"/>
                    </a:lnTo>
                    <a:lnTo>
                      <a:pt x="56" y="0"/>
                    </a:lnTo>
                    <a:lnTo>
                      <a:pt x="27" y="0"/>
                    </a:lnTo>
                    <a:lnTo>
                      <a:pt x="0" y="4"/>
                    </a:lnTo>
                    <a:lnTo>
                      <a:pt x="0" y="13"/>
                    </a:lnTo>
                    <a:lnTo>
                      <a:pt x="0" y="24"/>
                    </a:lnTo>
                    <a:lnTo>
                      <a:pt x="0" y="33"/>
                    </a:lnTo>
                    <a:lnTo>
                      <a:pt x="0" y="43"/>
                    </a:lnTo>
                    <a:lnTo>
                      <a:pt x="23" y="39"/>
                    </a:lnTo>
                    <a:lnTo>
                      <a:pt x="48" y="39"/>
                    </a:lnTo>
                    <a:lnTo>
                      <a:pt x="73" y="39"/>
                    </a:lnTo>
                    <a:lnTo>
                      <a:pt x="98" y="42"/>
                    </a:lnTo>
                    <a:lnTo>
                      <a:pt x="121" y="43"/>
                    </a:lnTo>
                    <a:lnTo>
                      <a:pt x="145" y="46"/>
                    </a:lnTo>
                    <a:lnTo>
                      <a:pt x="168" y="50"/>
                    </a:lnTo>
                    <a:lnTo>
                      <a:pt x="193" y="5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586160" y="2936880"/>
                <a:ext cx="382680" cy="127440"/>
              </a:xfrm>
              <a:custGeom>
                <a:avLst/>
                <a:gdLst/>
                <a:ahLst/>
                <a:rect l="l" t="t" r="r" b="b"/>
                <a:pathLst>
                  <a:path w="1198" h="402">
                    <a:moveTo>
                      <a:pt x="1198" y="0"/>
                    </a:moveTo>
                    <a:lnTo>
                      <a:pt x="1190" y="0"/>
                    </a:lnTo>
                    <a:lnTo>
                      <a:pt x="1182" y="0"/>
                    </a:lnTo>
                    <a:lnTo>
                      <a:pt x="1174" y="0"/>
                    </a:lnTo>
                    <a:lnTo>
                      <a:pt x="1167" y="0"/>
                    </a:lnTo>
                    <a:lnTo>
                      <a:pt x="1160" y="0"/>
                    </a:lnTo>
                    <a:lnTo>
                      <a:pt x="1153" y="0"/>
                    </a:lnTo>
                    <a:lnTo>
                      <a:pt x="1145" y="1"/>
                    </a:lnTo>
                    <a:lnTo>
                      <a:pt x="1139" y="3"/>
                    </a:lnTo>
                    <a:lnTo>
                      <a:pt x="1052" y="13"/>
                    </a:lnTo>
                    <a:lnTo>
                      <a:pt x="966" y="31"/>
                    </a:lnTo>
                    <a:lnTo>
                      <a:pt x="880" y="58"/>
                    </a:lnTo>
                    <a:lnTo>
                      <a:pt x="794" y="89"/>
                    </a:lnTo>
                    <a:lnTo>
                      <a:pt x="705" y="124"/>
                    </a:lnTo>
                    <a:lnTo>
                      <a:pt x="617" y="163"/>
                    </a:lnTo>
                    <a:lnTo>
                      <a:pt x="528" y="204"/>
                    </a:lnTo>
                    <a:lnTo>
                      <a:pt x="441" y="246"/>
                    </a:lnTo>
                    <a:lnTo>
                      <a:pt x="383" y="269"/>
                    </a:lnTo>
                    <a:lnTo>
                      <a:pt x="327" y="290"/>
                    </a:lnTo>
                    <a:lnTo>
                      <a:pt x="272" y="308"/>
                    </a:lnTo>
                    <a:lnTo>
                      <a:pt x="218" y="325"/>
                    </a:lnTo>
                    <a:lnTo>
                      <a:pt x="163" y="337"/>
                    </a:lnTo>
                    <a:lnTo>
                      <a:pt x="110" y="349"/>
                    </a:lnTo>
                    <a:lnTo>
                      <a:pt x="56" y="357"/>
                    </a:lnTo>
                    <a:lnTo>
                      <a:pt x="5" y="362"/>
                    </a:lnTo>
                    <a:lnTo>
                      <a:pt x="0" y="402"/>
                    </a:lnTo>
                    <a:lnTo>
                      <a:pt x="52" y="397"/>
                    </a:lnTo>
                    <a:lnTo>
                      <a:pt x="106" y="389"/>
                    </a:lnTo>
                    <a:lnTo>
                      <a:pt x="161" y="378"/>
                    </a:lnTo>
                    <a:lnTo>
                      <a:pt x="216" y="366"/>
                    </a:lnTo>
                    <a:lnTo>
                      <a:pt x="271" y="348"/>
                    </a:lnTo>
                    <a:lnTo>
                      <a:pt x="325" y="329"/>
                    </a:lnTo>
                    <a:lnTo>
                      <a:pt x="382" y="307"/>
                    </a:lnTo>
                    <a:lnTo>
                      <a:pt x="441" y="284"/>
                    </a:lnTo>
                    <a:lnTo>
                      <a:pt x="536" y="238"/>
                    </a:lnTo>
                    <a:lnTo>
                      <a:pt x="633" y="193"/>
                    </a:lnTo>
                    <a:lnTo>
                      <a:pt x="728" y="153"/>
                    </a:lnTo>
                    <a:lnTo>
                      <a:pt x="824" y="116"/>
                    </a:lnTo>
                    <a:lnTo>
                      <a:pt x="916" y="84"/>
                    </a:lnTo>
                    <a:lnTo>
                      <a:pt x="1009" y="60"/>
                    </a:lnTo>
                    <a:lnTo>
                      <a:pt x="1101" y="43"/>
                    </a:lnTo>
                    <a:lnTo>
                      <a:pt x="1194" y="39"/>
                    </a:lnTo>
                    <a:lnTo>
                      <a:pt x="1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30840" y="2954880"/>
                <a:ext cx="354960" cy="473400"/>
              </a:xfrm>
              <a:custGeom>
                <a:avLst/>
                <a:gdLst/>
                <a:ahLst/>
                <a:rect l="l" t="t" r="r" b="b"/>
                <a:pathLst>
                  <a:path w="1115" h="1487">
                    <a:moveTo>
                      <a:pt x="1055" y="348"/>
                    </a:moveTo>
                    <a:lnTo>
                      <a:pt x="1008" y="345"/>
                    </a:lnTo>
                    <a:lnTo>
                      <a:pt x="963" y="343"/>
                    </a:lnTo>
                    <a:lnTo>
                      <a:pt x="918" y="335"/>
                    </a:lnTo>
                    <a:lnTo>
                      <a:pt x="873" y="327"/>
                    </a:lnTo>
                    <a:lnTo>
                      <a:pt x="827" y="315"/>
                    </a:lnTo>
                    <a:lnTo>
                      <a:pt x="783" y="302"/>
                    </a:lnTo>
                    <a:lnTo>
                      <a:pt x="737" y="285"/>
                    </a:lnTo>
                    <a:lnTo>
                      <a:pt x="694" y="267"/>
                    </a:lnTo>
                    <a:lnTo>
                      <a:pt x="617" y="229"/>
                    </a:lnTo>
                    <a:lnTo>
                      <a:pt x="542" y="191"/>
                    </a:lnTo>
                    <a:lnTo>
                      <a:pt x="466" y="153"/>
                    </a:lnTo>
                    <a:lnTo>
                      <a:pt x="392" y="115"/>
                    </a:lnTo>
                    <a:lnTo>
                      <a:pt x="316" y="79"/>
                    </a:lnTo>
                    <a:lnTo>
                      <a:pt x="242" y="47"/>
                    </a:lnTo>
                    <a:lnTo>
                      <a:pt x="166" y="20"/>
                    </a:lnTo>
                    <a:lnTo>
                      <a:pt x="90" y="0"/>
                    </a:lnTo>
                    <a:lnTo>
                      <a:pt x="0" y="1138"/>
                    </a:lnTo>
                    <a:lnTo>
                      <a:pt x="94" y="1168"/>
                    </a:lnTo>
                    <a:lnTo>
                      <a:pt x="189" y="1210"/>
                    </a:lnTo>
                    <a:lnTo>
                      <a:pt x="282" y="1256"/>
                    </a:lnTo>
                    <a:lnTo>
                      <a:pt x="375" y="1306"/>
                    </a:lnTo>
                    <a:lnTo>
                      <a:pt x="466" y="1354"/>
                    </a:lnTo>
                    <a:lnTo>
                      <a:pt x="561" y="1398"/>
                    </a:lnTo>
                    <a:lnTo>
                      <a:pt x="655" y="1438"/>
                    </a:lnTo>
                    <a:lnTo>
                      <a:pt x="753" y="1469"/>
                    </a:lnTo>
                    <a:lnTo>
                      <a:pt x="780" y="1474"/>
                    </a:lnTo>
                    <a:lnTo>
                      <a:pt x="808" y="1479"/>
                    </a:lnTo>
                    <a:lnTo>
                      <a:pt x="835" y="1482"/>
                    </a:lnTo>
                    <a:lnTo>
                      <a:pt x="864" y="1486"/>
                    </a:lnTo>
                    <a:lnTo>
                      <a:pt x="891" y="1486"/>
                    </a:lnTo>
                    <a:lnTo>
                      <a:pt x="920" y="1487"/>
                    </a:lnTo>
                    <a:lnTo>
                      <a:pt x="949" y="1486"/>
                    </a:lnTo>
                    <a:lnTo>
                      <a:pt x="979" y="1485"/>
                    </a:lnTo>
                    <a:lnTo>
                      <a:pt x="1115" y="346"/>
                    </a:lnTo>
                    <a:lnTo>
                      <a:pt x="1107" y="346"/>
                    </a:lnTo>
                    <a:lnTo>
                      <a:pt x="1099" y="346"/>
                    </a:lnTo>
                    <a:lnTo>
                      <a:pt x="1091" y="346"/>
                    </a:lnTo>
                    <a:lnTo>
                      <a:pt x="1085" y="346"/>
                    </a:lnTo>
                    <a:lnTo>
                      <a:pt x="1077" y="346"/>
                    </a:lnTo>
                    <a:lnTo>
                      <a:pt x="1069" y="346"/>
                    </a:lnTo>
                    <a:lnTo>
                      <a:pt x="1061" y="346"/>
                    </a:lnTo>
                    <a:lnTo>
                      <a:pt x="1055"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42200" y="2948400"/>
                <a:ext cx="325440" cy="474840"/>
              </a:xfrm>
              <a:custGeom>
                <a:avLst/>
                <a:gdLst/>
                <a:ahLst/>
                <a:rect l="l" t="t" r="r" b="b"/>
                <a:pathLst>
                  <a:path w="1022" h="1489">
                    <a:moveTo>
                      <a:pt x="886" y="1489"/>
                    </a:moveTo>
                    <a:lnTo>
                      <a:pt x="1022" y="358"/>
                    </a:lnTo>
                    <a:lnTo>
                      <a:pt x="930" y="331"/>
                    </a:lnTo>
                    <a:lnTo>
                      <a:pt x="843" y="297"/>
                    </a:lnTo>
                    <a:lnTo>
                      <a:pt x="757" y="256"/>
                    </a:lnTo>
                    <a:lnTo>
                      <a:pt x="672" y="213"/>
                    </a:lnTo>
                    <a:lnTo>
                      <a:pt x="585" y="167"/>
                    </a:lnTo>
                    <a:lnTo>
                      <a:pt x="499" y="123"/>
                    </a:lnTo>
                    <a:lnTo>
                      <a:pt x="413" y="81"/>
                    </a:lnTo>
                    <a:lnTo>
                      <a:pt x="326" y="47"/>
                    </a:lnTo>
                    <a:lnTo>
                      <a:pt x="311" y="41"/>
                    </a:lnTo>
                    <a:lnTo>
                      <a:pt x="296" y="36"/>
                    </a:lnTo>
                    <a:lnTo>
                      <a:pt x="282" y="32"/>
                    </a:lnTo>
                    <a:lnTo>
                      <a:pt x="269" y="28"/>
                    </a:lnTo>
                    <a:lnTo>
                      <a:pt x="253" y="22"/>
                    </a:lnTo>
                    <a:lnTo>
                      <a:pt x="239" y="19"/>
                    </a:lnTo>
                    <a:lnTo>
                      <a:pt x="224" y="16"/>
                    </a:lnTo>
                    <a:lnTo>
                      <a:pt x="211" y="13"/>
                    </a:lnTo>
                    <a:lnTo>
                      <a:pt x="194" y="9"/>
                    </a:lnTo>
                    <a:lnTo>
                      <a:pt x="179" y="7"/>
                    </a:lnTo>
                    <a:lnTo>
                      <a:pt x="162" y="4"/>
                    </a:lnTo>
                    <a:lnTo>
                      <a:pt x="146" y="3"/>
                    </a:lnTo>
                    <a:lnTo>
                      <a:pt x="129" y="0"/>
                    </a:lnTo>
                    <a:lnTo>
                      <a:pt x="113" y="0"/>
                    </a:lnTo>
                    <a:lnTo>
                      <a:pt x="96" y="0"/>
                    </a:lnTo>
                    <a:lnTo>
                      <a:pt x="81" y="0"/>
                    </a:lnTo>
                    <a:lnTo>
                      <a:pt x="0" y="1141"/>
                    </a:lnTo>
                    <a:lnTo>
                      <a:pt x="27" y="1142"/>
                    </a:lnTo>
                    <a:lnTo>
                      <a:pt x="56" y="1146"/>
                    </a:lnTo>
                    <a:lnTo>
                      <a:pt x="85" y="1150"/>
                    </a:lnTo>
                    <a:lnTo>
                      <a:pt x="113" y="1157"/>
                    </a:lnTo>
                    <a:lnTo>
                      <a:pt x="141" y="1162"/>
                    </a:lnTo>
                    <a:lnTo>
                      <a:pt x="170" y="1171"/>
                    </a:lnTo>
                    <a:lnTo>
                      <a:pt x="198" y="1180"/>
                    </a:lnTo>
                    <a:lnTo>
                      <a:pt x="227" y="1192"/>
                    </a:lnTo>
                    <a:lnTo>
                      <a:pt x="309" y="1227"/>
                    </a:lnTo>
                    <a:lnTo>
                      <a:pt x="392" y="1268"/>
                    </a:lnTo>
                    <a:lnTo>
                      <a:pt x="473" y="1309"/>
                    </a:lnTo>
                    <a:lnTo>
                      <a:pt x="555" y="1351"/>
                    </a:lnTo>
                    <a:lnTo>
                      <a:pt x="636" y="1392"/>
                    </a:lnTo>
                    <a:lnTo>
                      <a:pt x="719" y="1430"/>
                    </a:lnTo>
                    <a:lnTo>
                      <a:pt x="801" y="1462"/>
                    </a:lnTo>
                    <a:lnTo>
                      <a:pt x="886" y="1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224440" y="3063240"/>
                <a:ext cx="44640" cy="366120"/>
              </a:xfrm>
              <a:custGeom>
                <a:avLst/>
                <a:gdLst/>
                <a:ahLst/>
                <a:rect l="l" t="t" r="r" b="b"/>
                <a:pathLst>
                  <a:path w="140" h="1150">
                    <a:moveTo>
                      <a:pt x="136" y="0"/>
                    </a:moveTo>
                    <a:lnTo>
                      <a:pt x="0" y="1131"/>
                    </a:lnTo>
                    <a:lnTo>
                      <a:pt x="16" y="1133"/>
                    </a:lnTo>
                    <a:lnTo>
                      <a:pt x="33" y="1137"/>
                    </a:lnTo>
                    <a:lnTo>
                      <a:pt x="50" y="1140"/>
                    </a:lnTo>
                    <a:lnTo>
                      <a:pt x="68" y="1144"/>
                    </a:lnTo>
                    <a:lnTo>
                      <a:pt x="84" y="1145"/>
                    </a:lnTo>
                    <a:lnTo>
                      <a:pt x="102" y="1146"/>
                    </a:lnTo>
                    <a:lnTo>
                      <a:pt x="119" y="1147"/>
                    </a:lnTo>
                    <a:lnTo>
                      <a:pt x="137" y="1150"/>
                    </a:lnTo>
                    <a:lnTo>
                      <a:pt x="137" y="1005"/>
                    </a:lnTo>
                    <a:lnTo>
                      <a:pt x="137" y="863"/>
                    </a:lnTo>
                    <a:lnTo>
                      <a:pt x="137" y="720"/>
                    </a:lnTo>
                    <a:lnTo>
                      <a:pt x="137" y="578"/>
                    </a:lnTo>
                    <a:lnTo>
                      <a:pt x="137" y="434"/>
                    </a:lnTo>
                    <a:lnTo>
                      <a:pt x="139" y="292"/>
                    </a:lnTo>
                    <a:lnTo>
                      <a:pt x="139" y="147"/>
                    </a:lnTo>
                    <a:lnTo>
                      <a:pt x="140" y="2"/>
                    </a:lnTo>
                    <a:lnTo>
                      <a:pt x="137" y="0"/>
                    </a:lnTo>
                    <a:lnTo>
                      <a:pt x="1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89800" y="2946960"/>
                <a:ext cx="69120" cy="370080"/>
              </a:xfrm>
              <a:custGeom>
                <a:avLst/>
                <a:gdLst/>
                <a:ahLst/>
                <a:rect l="l" t="t" r="r" b="b"/>
                <a:pathLst>
                  <a:path w="218" h="1159">
                    <a:moveTo>
                      <a:pt x="218" y="21"/>
                    </a:moveTo>
                    <a:lnTo>
                      <a:pt x="205" y="19"/>
                    </a:lnTo>
                    <a:lnTo>
                      <a:pt x="193" y="16"/>
                    </a:lnTo>
                    <a:lnTo>
                      <a:pt x="168" y="11"/>
                    </a:lnTo>
                    <a:lnTo>
                      <a:pt x="145" y="7"/>
                    </a:lnTo>
                    <a:lnTo>
                      <a:pt x="121" y="4"/>
                    </a:lnTo>
                    <a:lnTo>
                      <a:pt x="98" y="3"/>
                    </a:lnTo>
                    <a:lnTo>
                      <a:pt x="73" y="0"/>
                    </a:lnTo>
                    <a:lnTo>
                      <a:pt x="48" y="0"/>
                    </a:lnTo>
                    <a:lnTo>
                      <a:pt x="23" y="0"/>
                    </a:lnTo>
                    <a:lnTo>
                      <a:pt x="0" y="4"/>
                    </a:lnTo>
                    <a:lnTo>
                      <a:pt x="0" y="144"/>
                    </a:lnTo>
                    <a:lnTo>
                      <a:pt x="0" y="285"/>
                    </a:lnTo>
                    <a:lnTo>
                      <a:pt x="0" y="425"/>
                    </a:lnTo>
                    <a:lnTo>
                      <a:pt x="0" y="566"/>
                    </a:lnTo>
                    <a:lnTo>
                      <a:pt x="0" y="707"/>
                    </a:lnTo>
                    <a:lnTo>
                      <a:pt x="0" y="848"/>
                    </a:lnTo>
                    <a:lnTo>
                      <a:pt x="0" y="991"/>
                    </a:lnTo>
                    <a:lnTo>
                      <a:pt x="0" y="1136"/>
                    </a:lnTo>
                    <a:lnTo>
                      <a:pt x="10" y="1136"/>
                    </a:lnTo>
                    <a:lnTo>
                      <a:pt x="21" y="1137"/>
                    </a:lnTo>
                    <a:lnTo>
                      <a:pt x="31" y="1138"/>
                    </a:lnTo>
                    <a:lnTo>
                      <a:pt x="43" y="1141"/>
                    </a:lnTo>
                    <a:lnTo>
                      <a:pt x="53" y="1142"/>
                    </a:lnTo>
                    <a:lnTo>
                      <a:pt x="64" y="1145"/>
                    </a:lnTo>
                    <a:lnTo>
                      <a:pt x="74" y="1146"/>
                    </a:lnTo>
                    <a:lnTo>
                      <a:pt x="86" y="1149"/>
                    </a:lnTo>
                    <a:lnTo>
                      <a:pt x="95" y="1150"/>
                    </a:lnTo>
                    <a:lnTo>
                      <a:pt x="107" y="1153"/>
                    </a:lnTo>
                    <a:lnTo>
                      <a:pt x="116" y="1155"/>
                    </a:lnTo>
                    <a:lnTo>
                      <a:pt x="128" y="1159"/>
                    </a:lnTo>
                    <a:lnTo>
                      <a:pt x="218" y="2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542600" y="2948400"/>
                <a:ext cx="425160" cy="479880"/>
              </a:xfrm>
              <a:custGeom>
                <a:avLst/>
                <a:gdLst/>
                <a:ahLst/>
                <a:rect l="l" t="t" r="r" b="b"/>
                <a:pathLst>
                  <a:path w="1330" h="1502">
                    <a:moveTo>
                      <a:pt x="1330" y="0"/>
                    </a:moveTo>
                    <a:lnTo>
                      <a:pt x="1237" y="4"/>
                    </a:lnTo>
                    <a:lnTo>
                      <a:pt x="1145" y="21"/>
                    </a:lnTo>
                    <a:lnTo>
                      <a:pt x="1052" y="45"/>
                    </a:lnTo>
                    <a:lnTo>
                      <a:pt x="960" y="77"/>
                    </a:lnTo>
                    <a:lnTo>
                      <a:pt x="864" y="114"/>
                    </a:lnTo>
                    <a:lnTo>
                      <a:pt x="769" y="154"/>
                    </a:lnTo>
                    <a:lnTo>
                      <a:pt x="672" y="199"/>
                    </a:lnTo>
                    <a:lnTo>
                      <a:pt x="577" y="245"/>
                    </a:lnTo>
                    <a:lnTo>
                      <a:pt x="518" y="268"/>
                    </a:lnTo>
                    <a:lnTo>
                      <a:pt x="461" y="290"/>
                    </a:lnTo>
                    <a:lnTo>
                      <a:pt x="407" y="309"/>
                    </a:lnTo>
                    <a:lnTo>
                      <a:pt x="352" y="327"/>
                    </a:lnTo>
                    <a:lnTo>
                      <a:pt x="297" y="339"/>
                    </a:lnTo>
                    <a:lnTo>
                      <a:pt x="242" y="350"/>
                    </a:lnTo>
                    <a:lnTo>
                      <a:pt x="188" y="358"/>
                    </a:lnTo>
                    <a:lnTo>
                      <a:pt x="136" y="363"/>
                    </a:lnTo>
                    <a:lnTo>
                      <a:pt x="0" y="1502"/>
                    </a:lnTo>
                    <a:lnTo>
                      <a:pt x="76" y="1490"/>
                    </a:lnTo>
                    <a:lnTo>
                      <a:pt x="153" y="1474"/>
                    </a:lnTo>
                    <a:lnTo>
                      <a:pt x="231" y="1452"/>
                    </a:lnTo>
                    <a:lnTo>
                      <a:pt x="310" y="1426"/>
                    </a:lnTo>
                    <a:lnTo>
                      <a:pt x="388" y="1394"/>
                    </a:lnTo>
                    <a:lnTo>
                      <a:pt x="468" y="1360"/>
                    </a:lnTo>
                    <a:lnTo>
                      <a:pt x="549" y="1324"/>
                    </a:lnTo>
                    <a:lnTo>
                      <a:pt x="631" y="1287"/>
                    </a:lnTo>
                    <a:lnTo>
                      <a:pt x="710" y="1251"/>
                    </a:lnTo>
                    <a:lnTo>
                      <a:pt x="790" y="1218"/>
                    </a:lnTo>
                    <a:lnTo>
                      <a:pt x="868" y="1191"/>
                    </a:lnTo>
                    <a:lnTo>
                      <a:pt x="947" y="1170"/>
                    </a:lnTo>
                    <a:lnTo>
                      <a:pt x="1022" y="1153"/>
                    </a:lnTo>
                    <a:lnTo>
                      <a:pt x="1098" y="1142"/>
                    </a:lnTo>
                    <a:lnTo>
                      <a:pt x="1173" y="1137"/>
                    </a:lnTo>
                    <a:lnTo>
                      <a:pt x="1249" y="1141"/>
                    </a:lnTo>
                    <a:lnTo>
                      <a:pt x="133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39800" y="3352680"/>
              <a:ext cx="1680480" cy="1355400"/>
              <a:chOff x="739800" y="3352680"/>
              <a:chExt cx="1680480" cy="1355400"/>
            </a:xfrm>
          </p:grpSpPr>
          <p:sp>
            <p:nvSpPr>
              <p:cNvPr id="265" name=""/>
              <p:cNvSpPr/>
              <p:nvPr/>
            </p:nvSpPr>
            <p:spPr>
              <a:xfrm>
                <a:off x="801360" y="3590280"/>
                <a:ext cx="81720" cy="1117800"/>
              </a:xfrm>
              <a:custGeom>
                <a:avLst/>
                <a:gdLst/>
                <a:ahLst/>
                <a:rect l="l" t="t" r="r" b="b"/>
                <a:pathLst>
                  <a:path w="166" h="2241">
                    <a:moveTo>
                      <a:pt x="49" y="0"/>
                    </a:moveTo>
                    <a:lnTo>
                      <a:pt x="132" y="16"/>
                    </a:lnTo>
                    <a:lnTo>
                      <a:pt x="166" y="2241"/>
                    </a:lnTo>
                    <a:lnTo>
                      <a:pt x="0" y="2241"/>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800" y="3352680"/>
                <a:ext cx="207360" cy="231120"/>
              </a:xfrm>
              <a:custGeom>
                <a:avLst/>
                <a:gdLst/>
                <a:ahLst/>
                <a:rect l="l" t="t" r="r" b="b"/>
                <a:pathLst>
                  <a:path w="418" h="464">
                    <a:moveTo>
                      <a:pt x="210" y="0"/>
                    </a:moveTo>
                    <a:lnTo>
                      <a:pt x="168" y="5"/>
                    </a:lnTo>
                    <a:lnTo>
                      <a:pt x="129" y="20"/>
                    </a:lnTo>
                    <a:lnTo>
                      <a:pt x="92" y="40"/>
                    </a:lnTo>
                    <a:lnTo>
                      <a:pt x="62" y="68"/>
                    </a:lnTo>
                    <a:lnTo>
                      <a:pt x="36" y="102"/>
                    </a:lnTo>
                    <a:lnTo>
                      <a:pt x="17" y="142"/>
                    </a:lnTo>
                    <a:lnTo>
                      <a:pt x="4" y="186"/>
                    </a:lnTo>
                    <a:lnTo>
                      <a:pt x="0" y="232"/>
                    </a:lnTo>
                    <a:lnTo>
                      <a:pt x="4" y="279"/>
                    </a:lnTo>
                    <a:lnTo>
                      <a:pt x="17" y="323"/>
                    </a:lnTo>
                    <a:lnTo>
                      <a:pt x="36" y="362"/>
                    </a:lnTo>
                    <a:lnTo>
                      <a:pt x="62" y="396"/>
                    </a:lnTo>
                    <a:lnTo>
                      <a:pt x="92" y="423"/>
                    </a:lnTo>
                    <a:lnTo>
                      <a:pt x="129" y="445"/>
                    </a:lnTo>
                    <a:lnTo>
                      <a:pt x="168" y="460"/>
                    </a:lnTo>
                    <a:lnTo>
                      <a:pt x="210" y="464"/>
                    </a:lnTo>
                    <a:lnTo>
                      <a:pt x="251" y="460"/>
                    </a:lnTo>
                    <a:lnTo>
                      <a:pt x="292" y="445"/>
                    </a:lnTo>
                    <a:lnTo>
                      <a:pt x="325" y="423"/>
                    </a:lnTo>
                    <a:lnTo>
                      <a:pt x="357" y="396"/>
                    </a:lnTo>
                    <a:lnTo>
                      <a:pt x="381" y="362"/>
                    </a:lnTo>
                    <a:lnTo>
                      <a:pt x="401" y="323"/>
                    </a:lnTo>
                    <a:lnTo>
                      <a:pt x="414" y="279"/>
                    </a:lnTo>
                    <a:lnTo>
                      <a:pt x="418" y="232"/>
                    </a:lnTo>
                    <a:lnTo>
                      <a:pt x="414" y="186"/>
                    </a:lnTo>
                    <a:lnTo>
                      <a:pt x="401" y="142"/>
                    </a:lnTo>
                    <a:lnTo>
                      <a:pt x="381" y="102"/>
                    </a:lnTo>
                    <a:lnTo>
                      <a:pt x="357" y="68"/>
                    </a:lnTo>
                    <a:lnTo>
                      <a:pt x="325" y="40"/>
                    </a:lnTo>
                    <a:lnTo>
                      <a:pt x="292" y="20"/>
                    </a:lnTo>
                    <a:lnTo>
                      <a:pt x="251" y="5"/>
                    </a:lnTo>
                    <a:lnTo>
                      <a:pt x="210" y="0"/>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1400" y="3406320"/>
                <a:ext cx="143640" cy="153360"/>
              </a:xfrm>
              <a:custGeom>
                <a:avLst/>
                <a:gdLst/>
                <a:ahLst/>
                <a:rect l="l" t="t" r="r" b="b"/>
                <a:pathLst>
                  <a:path w="285" h="306">
                    <a:moveTo>
                      <a:pt x="285" y="245"/>
                    </a:moveTo>
                    <a:lnTo>
                      <a:pt x="260" y="270"/>
                    </a:lnTo>
                    <a:lnTo>
                      <a:pt x="231" y="289"/>
                    </a:lnTo>
                    <a:lnTo>
                      <a:pt x="204" y="300"/>
                    </a:lnTo>
                    <a:lnTo>
                      <a:pt x="171" y="306"/>
                    </a:lnTo>
                    <a:lnTo>
                      <a:pt x="139" y="304"/>
                    </a:lnTo>
                    <a:lnTo>
                      <a:pt x="109" y="296"/>
                    </a:lnTo>
                    <a:lnTo>
                      <a:pt x="79" y="280"/>
                    </a:lnTo>
                    <a:lnTo>
                      <a:pt x="53" y="258"/>
                    </a:lnTo>
                    <a:lnTo>
                      <a:pt x="30" y="231"/>
                    </a:lnTo>
                    <a:lnTo>
                      <a:pt x="15" y="198"/>
                    </a:lnTo>
                    <a:lnTo>
                      <a:pt x="3" y="167"/>
                    </a:lnTo>
                    <a:lnTo>
                      <a:pt x="0" y="132"/>
                    </a:lnTo>
                    <a:lnTo>
                      <a:pt x="1" y="98"/>
                    </a:lnTo>
                    <a:lnTo>
                      <a:pt x="9" y="62"/>
                    </a:lnTo>
                    <a:lnTo>
                      <a:pt x="22" y="30"/>
                    </a:lnTo>
                    <a:lnTo>
                      <a:pt x="41" y="0"/>
                    </a:lnTo>
                    <a:lnTo>
                      <a:pt x="41" y="6"/>
                    </a:lnTo>
                    <a:lnTo>
                      <a:pt x="39" y="13"/>
                    </a:lnTo>
                    <a:lnTo>
                      <a:pt x="41" y="30"/>
                    </a:lnTo>
                    <a:lnTo>
                      <a:pt x="45" y="51"/>
                    </a:lnTo>
                    <a:lnTo>
                      <a:pt x="53" y="75"/>
                    </a:lnTo>
                    <a:lnTo>
                      <a:pt x="66" y="105"/>
                    </a:lnTo>
                    <a:lnTo>
                      <a:pt x="87" y="133"/>
                    </a:lnTo>
                    <a:lnTo>
                      <a:pt x="117" y="166"/>
                    </a:lnTo>
                    <a:lnTo>
                      <a:pt x="151" y="193"/>
                    </a:lnTo>
                    <a:lnTo>
                      <a:pt x="183" y="214"/>
                    </a:lnTo>
                    <a:lnTo>
                      <a:pt x="210" y="228"/>
                    </a:lnTo>
                    <a:lnTo>
                      <a:pt x="235" y="237"/>
                    </a:lnTo>
                    <a:lnTo>
                      <a:pt x="256" y="243"/>
                    </a:lnTo>
                    <a:lnTo>
                      <a:pt x="272" y="245"/>
                    </a:lnTo>
                    <a:lnTo>
                      <a:pt x="281" y="245"/>
                    </a:lnTo>
                    <a:lnTo>
                      <a:pt x="285" y="245"/>
                    </a:lnTo>
                    <a:lnTo>
                      <a:pt x="285"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7160" y="3396600"/>
                <a:ext cx="43560" cy="49680"/>
              </a:xfrm>
              <a:custGeom>
                <a:avLst/>
                <a:gdLst/>
                <a:ahLst/>
                <a:rect l="l" t="t" r="r" b="b"/>
                <a:pathLst>
                  <a:path w="89" h="97">
                    <a:moveTo>
                      <a:pt x="43" y="0"/>
                    </a:moveTo>
                    <a:lnTo>
                      <a:pt x="26" y="5"/>
                    </a:lnTo>
                    <a:lnTo>
                      <a:pt x="13" y="15"/>
                    </a:lnTo>
                    <a:lnTo>
                      <a:pt x="4" y="29"/>
                    </a:lnTo>
                    <a:lnTo>
                      <a:pt x="0" y="48"/>
                    </a:lnTo>
                    <a:lnTo>
                      <a:pt x="4" y="67"/>
                    </a:lnTo>
                    <a:lnTo>
                      <a:pt x="13" y="82"/>
                    </a:lnTo>
                    <a:lnTo>
                      <a:pt x="26" y="92"/>
                    </a:lnTo>
                    <a:lnTo>
                      <a:pt x="43" y="97"/>
                    </a:lnTo>
                    <a:lnTo>
                      <a:pt x="60" y="92"/>
                    </a:lnTo>
                    <a:lnTo>
                      <a:pt x="76" y="82"/>
                    </a:lnTo>
                    <a:lnTo>
                      <a:pt x="85" y="67"/>
                    </a:lnTo>
                    <a:lnTo>
                      <a:pt x="89" y="48"/>
                    </a:lnTo>
                    <a:lnTo>
                      <a:pt x="85" y="29"/>
                    </a:lnTo>
                    <a:lnTo>
                      <a:pt x="76" y="15"/>
                    </a:lnTo>
                    <a:lnTo>
                      <a:pt x="60" y="5"/>
                    </a:lnTo>
                    <a:lnTo>
                      <a:pt x="43" y="0"/>
                    </a:lnTo>
                    <a:lnTo>
                      <a:pt x="4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71" name=""/>
              <p:cNvSpPr/>
              <p:nvPr/>
            </p:nvSpPr>
            <p:spPr>
              <a:xfrm>
                <a:off x="785520" y="3553920"/>
                <a:ext cx="111600" cy="55800"/>
              </a:xfrm>
              <a:custGeom>
                <a:avLst/>
                <a:gdLst/>
                <a:ahLst/>
                <a:rect l="l" t="t" r="r" b="b"/>
                <a:pathLst>
                  <a:path w="226" h="111">
                    <a:moveTo>
                      <a:pt x="0" y="8"/>
                    </a:moveTo>
                    <a:lnTo>
                      <a:pt x="3" y="10"/>
                    </a:lnTo>
                    <a:lnTo>
                      <a:pt x="8" y="17"/>
                    </a:lnTo>
                    <a:lnTo>
                      <a:pt x="20" y="25"/>
                    </a:lnTo>
                    <a:lnTo>
                      <a:pt x="33" y="34"/>
                    </a:lnTo>
                    <a:lnTo>
                      <a:pt x="50" y="42"/>
                    </a:lnTo>
                    <a:lnTo>
                      <a:pt x="71" y="51"/>
                    </a:lnTo>
                    <a:lnTo>
                      <a:pt x="93" y="56"/>
                    </a:lnTo>
                    <a:lnTo>
                      <a:pt x="118" y="59"/>
                    </a:lnTo>
                    <a:lnTo>
                      <a:pt x="142" y="56"/>
                    </a:lnTo>
                    <a:lnTo>
                      <a:pt x="163" y="51"/>
                    </a:lnTo>
                    <a:lnTo>
                      <a:pt x="183" y="40"/>
                    </a:lnTo>
                    <a:lnTo>
                      <a:pt x="197" y="29"/>
                    </a:lnTo>
                    <a:lnTo>
                      <a:pt x="209" y="18"/>
                    </a:lnTo>
                    <a:lnTo>
                      <a:pt x="218" y="8"/>
                    </a:lnTo>
                    <a:lnTo>
                      <a:pt x="223" y="1"/>
                    </a:lnTo>
                    <a:lnTo>
                      <a:pt x="226" y="0"/>
                    </a:lnTo>
                    <a:lnTo>
                      <a:pt x="210" y="111"/>
                    </a:lnTo>
                    <a:lnTo>
                      <a:pt x="24" y="95"/>
                    </a:lnTo>
                    <a:lnTo>
                      <a:pt x="0" y="8"/>
                    </a:lnTo>
                    <a:lnTo>
                      <a:pt x="0" y="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801360" y="3588120"/>
                <a:ext cx="30240" cy="1119960"/>
              </a:xfrm>
              <a:custGeom>
                <a:avLst/>
                <a:gdLst/>
                <a:ahLst/>
                <a:rect l="l" t="t" r="r" b="b"/>
                <a:pathLst>
                  <a:path w="63" h="2242">
                    <a:moveTo>
                      <a:pt x="25" y="9"/>
                    </a:moveTo>
                    <a:lnTo>
                      <a:pt x="0" y="2242"/>
                    </a:lnTo>
                    <a:lnTo>
                      <a:pt x="63"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7160" y="3586320"/>
                <a:ext cx="25560" cy="1121760"/>
              </a:xfrm>
              <a:custGeom>
                <a:avLst/>
                <a:gdLst/>
                <a:ahLst/>
                <a:rect l="l" t="t" r="r" b="b"/>
                <a:pathLst>
                  <a:path w="51" h="2250">
                    <a:moveTo>
                      <a:pt x="0" y="8"/>
                    </a:moveTo>
                    <a:lnTo>
                      <a:pt x="51" y="2250"/>
                    </a:lnTo>
                    <a:lnTo>
                      <a:pt x="3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5120" y="3450240"/>
                <a:ext cx="1505160" cy="1165680"/>
              </a:xfrm>
              <a:custGeom>
                <a:avLst/>
                <a:gdLst/>
                <a:ahLst/>
                <a:rect l="l" t="t" r="r" b="b"/>
                <a:pathLst>
                  <a:path w="3016" h="2333">
                    <a:moveTo>
                      <a:pt x="128" y="169"/>
                    </a:moveTo>
                    <a:lnTo>
                      <a:pt x="70" y="320"/>
                    </a:lnTo>
                    <a:lnTo>
                      <a:pt x="29" y="466"/>
                    </a:lnTo>
                    <a:lnTo>
                      <a:pt x="7" y="607"/>
                    </a:lnTo>
                    <a:lnTo>
                      <a:pt x="0" y="741"/>
                    </a:lnTo>
                    <a:lnTo>
                      <a:pt x="3" y="870"/>
                    </a:lnTo>
                    <a:lnTo>
                      <a:pt x="16" y="996"/>
                    </a:lnTo>
                    <a:lnTo>
                      <a:pt x="37" y="1120"/>
                    </a:lnTo>
                    <a:lnTo>
                      <a:pt x="59" y="1241"/>
                    </a:lnTo>
                    <a:lnTo>
                      <a:pt x="87" y="1358"/>
                    </a:lnTo>
                    <a:lnTo>
                      <a:pt x="109" y="1474"/>
                    </a:lnTo>
                    <a:lnTo>
                      <a:pt x="130" y="1590"/>
                    </a:lnTo>
                    <a:lnTo>
                      <a:pt x="143" y="1706"/>
                    </a:lnTo>
                    <a:lnTo>
                      <a:pt x="149" y="1823"/>
                    </a:lnTo>
                    <a:lnTo>
                      <a:pt x="141" y="1941"/>
                    </a:lnTo>
                    <a:lnTo>
                      <a:pt x="118" y="2060"/>
                    </a:lnTo>
                    <a:lnTo>
                      <a:pt x="80" y="2181"/>
                    </a:lnTo>
                    <a:lnTo>
                      <a:pt x="184" y="2133"/>
                    </a:lnTo>
                    <a:lnTo>
                      <a:pt x="287" y="2092"/>
                    </a:lnTo>
                    <a:lnTo>
                      <a:pt x="385" y="2061"/>
                    </a:lnTo>
                    <a:lnTo>
                      <a:pt x="481" y="2040"/>
                    </a:lnTo>
                    <a:lnTo>
                      <a:pt x="576" y="2023"/>
                    </a:lnTo>
                    <a:lnTo>
                      <a:pt x="669" y="2015"/>
                    </a:lnTo>
                    <a:lnTo>
                      <a:pt x="760" y="2010"/>
                    </a:lnTo>
                    <a:lnTo>
                      <a:pt x="850" y="2015"/>
                    </a:lnTo>
                    <a:lnTo>
                      <a:pt x="937" y="2021"/>
                    </a:lnTo>
                    <a:lnTo>
                      <a:pt x="1024" y="2034"/>
                    </a:lnTo>
                    <a:lnTo>
                      <a:pt x="1110" y="2048"/>
                    </a:lnTo>
                    <a:lnTo>
                      <a:pt x="1196" y="2068"/>
                    </a:lnTo>
                    <a:lnTo>
                      <a:pt x="1279" y="2088"/>
                    </a:lnTo>
                    <a:lnTo>
                      <a:pt x="1364" y="2112"/>
                    </a:lnTo>
                    <a:lnTo>
                      <a:pt x="1447" y="2137"/>
                    </a:lnTo>
                    <a:lnTo>
                      <a:pt x="1532" y="2163"/>
                    </a:lnTo>
                    <a:lnTo>
                      <a:pt x="1614" y="2190"/>
                    </a:lnTo>
                    <a:lnTo>
                      <a:pt x="1697" y="2215"/>
                    </a:lnTo>
                    <a:lnTo>
                      <a:pt x="1782" y="2238"/>
                    </a:lnTo>
                    <a:lnTo>
                      <a:pt x="1866" y="2262"/>
                    </a:lnTo>
                    <a:lnTo>
                      <a:pt x="1954" y="2282"/>
                    </a:lnTo>
                    <a:lnTo>
                      <a:pt x="2041" y="2301"/>
                    </a:lnTo>
                    <a:lnTo>
                      <a:pt x="2128" y="2316"/>
                    </a:lnTo>
                    <a:lnTo>
                      <a:pt x="2217" y="2327"/>
                    </a:lnTo>
                    <a:lnTo>
                      <a:pt x="2309" y="2333"/>
                    </a:lnTo>
                    <a:lnTo>
                      <a:pt x="2402" y="2333"/>
                    </a:lnTo>
                    <a:lnTo>
                      <a:pt x="2497" y="2328"/>
                    </a:lnTo>
                    <a:lnTo>
                      <a:pt x="2593" y="2317"/>
                    </a:lnTo>
                    <a:lnTo>
                      <a:pt x="2691" y="2301"/>
                    </a:lnTo>
                    <a:lnTo>
                      <a:pt x="2793" y="2276"/>
                    </a:lnTo>
                    <a:lnTo>
                      <a:pt x="2898" y="2242"/>
                    </a:lnTo>
                    <a:lnTo>
                      <a:pt x="3003" y="2200"/>
                    </a:lnTo>
                    <a:lnTo>
                      <a:pt x="3013" y="2064"/>
                    </a:lnTo>
                    <a:lnTo>
                      <a:pt x="3016" y="1931"/>
                    </a:lnTo>
                    <a:lnTo>
                      <a:pt x="3008" y="1802"/>
                    </a:lnTo>
                    <a:lnTo>
                      <a:pt x="2995" y="1678"/>
                    </a:lnTo>
                    <a:lnTo>
                      <a:pt x="2976" y="1556"/>
                    </a:lnTo>
                    <a:lnTo>
                      <a:pt x="2956" y="1436"/>
                    </a:lnTo>
                    <a:lnTo>
                      <a:pt x="2935" y="1316"/>
                    </a:lnTo>
                    <a:lnTo>
                      <a:pt x="2914" y="1198"/>
                    </a:lnTo>
                    <a:lnTo>
                      <a:pt x="2898" y="1078"/>
                    </a:lnTo>
                    <a:lnTo>
                      <a:pt x="2883" y="958"/>
                    </a:lnTo>
                    <a:lnTo>
                      <a:pt x="2877" y="836"/>
                    </a:lnTo>
                    <a:lnTo>
                      <a:pt x="2878" y="712"/>
                    </a:lnTo>
                    <a:lnTo>
                      <a:pt x="2890" y="582"/>
                    </a:lnTo>
                    <a:lnTo>
                      <a:pt x="2912" y="449"/>
                    </a:lnTo>
                    <a:lnTo>
                      <a:pt x="2950" y="312"/>
                    </a:lnTo>
                    <a:lnTo>
                      <a:pt x="3003" y="169"/>
                    </a:lnTo>
                    <a:lnTo>
                      <a:pt x="2899" y="213"/>
                    </a:lnTo>
                    <a:lnTo>
                      <a:pt x="2799" y="251"/>
                    </a:lnTo>
                    <a:lnTo>
                      <a:pt x="2698" y="279"/>
                    </a:lnTo>
                    <a:lnTo>
                      <a:pt x="2605" y="299"/>
                    </a:lnTo>
                    <a:lnTo>
                      <a:pt x="2510" y="312"/>
                    </a:lnTo>
                    <a:lnTo>
                      <a:pt x="2418" y="318"/>
                    </a:lnTo>
                    <a:lnTo>
                      <a:pt x="2329" y="318"/>
                    </a:lnTo>
                    <a:lnTo>
                      <a:pt x="2241" y="314"/>
                    </a:lnTo>
                    <a:lnTo>
                      <a:pt x="2154" y="303"/>
                    </a:lnTo>
                    <a:lnTo>
                      <a:pt x="2070" y="290"/>
                    </a:lnTo>
                    <a:lnTo>
                      <a:pt x="1984" y="275"/>
                    </a:lnTo>
                    <a:lnTo>
                      <a:pt x="1902" y="252"/>
                    </a:lnTo>
                    <a:lnTo>
                      <a:pt x="1818" y="230"/>
                    </a:lnTo>
                    <a:lnTo>
                      <a:pt x="1736" y="207"/>
                    </a:lnTo>
                    <a:lnTo>
                      <a:pt x="1656" y="181"/>
                    </a:lnTo>
                    <a:lnTo>
                      <a:pt x="1575" y="156"/>
                    </a:lnTo>
                    <a:lnTo>
                      <a:pt x="1493" y="129"/>
                    </a:lnTo>
                    <a:lnTo>
                      <a:pt x="1411" y="105"/>
                    </a:lnTo>
                    <a:lnTo>
                      <a:pt x="1327" y="81"/>
                    </a:lnTo>
                    <a:lnTo>
                      <a:pt x="1245" y="60"/>
                    </a:lnTo>
                    <a:lnTo>
                      <a:pt x="1162" y="40"/>
                    </a:lnTo>
                    <a:lnTo>
                      <a:pt x="1076" y="23"/>
                    </a:lnTo>
                    <a:lnTo>
                      <a:pt x="992" y="10"/>
                    </a:lnTo>
                    <a:lnTo>
                      <a:pt x="903" y="5"/>
                    </a:lnTo>
                    <a:lnTo>
                      <a:pt x="814" y="0"/>
                    </a:lnTo>
                    <a:lnTo>
                      <a:pt x="723" y="3"/>
                    </a:lnTo>
                    <a:lnTo>
                      <a:pt x="631" y="13"/>
                    </a:lnTo>
                    <a:lnTo>
                      <a:pt x="535" y="27"/>
                    </a:lnTo>
                    <a:lnTo>
                      <a:pt x="438" y="51"/>
                    </a:lnTo>
                    <a:lnTo>
                      <a:pt x="338" y="81"/>
                    </a:lnTo>
                    <a:lnTo>
                      <a:pt x="234" y="120"/>
                    </a:lnTo>
                    <a:lnTo>
                      <a:pt x="128" y="169"/>
                    </a:lnTo>
                    <a:lnTo>
                      <a:pt x="12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959040" y="3490200"/>
                <a:ext cx="1399320" cy="627120"/>
              </a:xfrm>
              <a:custGeom>
                <a:avLst/>
                <a:gdLst/>
                <a:ahLst/>
                <a:rect l="l" t="t" r="r" b="b"/>
                <a:pathLst>
                  <a:path w="2804" h="1257">
                    <a:moveTo>
                      <a:pt x="2804" y="209"/>
                    </a:moveTo>
                    <a:lnTo>
                      <a:pt x="2710" y="243"/>
                    </a:lnTo>
                    <a:lnTo>
                      <a:pt x="2617" y="271"/>
                    </a:lnTo>
                    <a:lnTo>
                      <a:pt x="2527" y="291"/>
                    </a:lnTo>
                    <a:lnTo>
                      <a:pt x="2438" y="304"/>
                    </a:lnTo>
                    <a:lnTo>
                      <a:pt x="2352" y="312"/>
                    </a:lnTo>
                    <a:lnTo>
                      <a:pt x="2268" y="315"/>
                    </a:lnTo>
                    <a:lnTo>
                      <a:pt x="2184" y="312"/>
                    </a:lnTo>
                    <a:lnTo>
                      <a:pt x="2101" y="307"/>
                    </a:lnTo>
                    <a:lnTo>
                      <a:pt x="2022" y="294"/>
                    </a:lnTo>
                    <a:lnTo>
                      <a:pt x="1942" y="280"/>
                    </a:lnTo>
                    <a:lnTo>
                      <a:pt x="1863" y="263"/>
                    </a:lnTo>
                    <a:lnTo>
                      <a:pt x="1783" y="243"/>
                    </a:lnTo>
                    <a:lnTo>
                      <a:pt x="1707" y="222"/>
                    </a:lnTo>
                    <a:lnTo>
                      <a:pt x="1628" y="199"/>
                    </a:lnTo>
                    <a:lnTo>
                      <a:pt x="1552" y="174"/>
                    </a:lnTo>
                    <a:lnTo>
                      <a:pt x="1476" y="151"/>
                    </a:lnTo>
                    <a:lnTo>
                      <a:pt x="1398" y="126"/>
                    </a:lnTo>
                    <a:lnTo>
                      <a:pt x="1320" y="103"/>
                    </a:lnTo>
                    <a:lnTo>
                      <a:pt x="1243" y="82"/>
                    </a:lnTo>
                    <a:lnTo>
                      <a:pt x="1164" y="60"/>
                    </a:lnTo>
                    <a:lnTo>
                      <a:pt x="1082" y="41"/>
                    </a:lnTo>
                    <a:lnTo>
                      <a:pt x="1001" y="27"/>
                    </a:lnTo>
                    <a:lnTo>
                      <a:pt x="920" y="14"/>
                    </a:lnTo>
                    <a:lnTo>
                      <a:pt x="834" y="5"/>
                    </a:lnTo>
                    <a:lnTo>
                      <a:pt x="750" y="0"/>
                    </a:lnTo>
                    <a:lnTo>
                      <a:pt x="662" y="0"/>
                    </a:lnTo>
                    <a:lnTo>
                      <a:pt x="573" y="5"/>
                    </a:lnTo>
                    <a:lnTo>
                      <a:pt x="481" y="15"/>
                    </a:lnTo>
                    <a:lnTo>
                      <a:pt x="386" y="32"/>
                    </a:lnTo>
                    <a:lnTo>
                      <a:pt x="290" y="58"/>
                    </a:lnTo>
                    <a:lnTo>
                      <a:pt x="192" y="87"/>
                    </a:lnTo>
                    <a:lnTo>
                      <a:pt x="90" y="127"/>
                    </a:lnTo>
                    <a:lnTo>
                      <a:pt x="47" y="264"/>
                    </a:lnTo>
                    <a:lnTo>
                      <a:pt x="18" y="393"/>
                    </a:lnTo>
                    <a:lnTo>
                      <a:pt x="4" y="515"/>
                    </a:lnTo>
                    <a:lnTo>
                      <a:pt x="0" y="631"/>
                    </a:lnTo>
                    <a:lnTo>
                      <a:pt x="5" y="747"/>
                    </a:lnTo>
                    <a:lnTo>
                      <a:pt x="21" y="864"/>
                    </a:lnTo>
                    <a:lnTo>
                      <a:pt x="37" y="987"/>
                    </a:lnTo>
                    <a:lnTo>
                      <a:pt x="60" y="1114"/>
                    </a:lnTo>
                    <a:lnTo>
                      <a:pt x="162" y="1070"/>
                    </a:lnTo>
                    <a:lnTo>
                      <a:pt x="260" y="1035"/>
                    </a:lnTo>
                    <a:lnTo>
                      <a:pt x="356" y="1007"/>
                    </a:lnTo>
                    <a:lnTo>
                      <a:pt x="451" y="987"/>
                    </a:lnTo>
                    <a:lnTo>
                      <a:pt x="541" y="971"/>
                    </a:lnTo>
                    <a:lnTo>
                      <a:pt x="632" y="963"/>
                    </a:lnTo>
                    <a:lnTo>
                      <a:pt x="720" y="961"/>
                    </a:lnTo>
                    <a:lnTo>
                      <a:pt x="807" y="961"/>
                    </a:lnTo>
                    <a:lnTo>
                      <a:pt x="889" y="967"/>
                    </a:lnTo>
                    <a:lnTo>
                      <a:pt x="972" y="978"/>
                    </a:lnTo>
                    <a:lnTo>
                      <a:pt x="1054" y="993"/>
                    </a:lnTo>
                    <a:lnTo>
                      <a:pt x="1135" y="1007"/>
                    </a:lnTo>
                    <a:lnTo>
                      <a:pt x="1214" y="1027"/>
                    </a:lnTo>
                    <a:lnTo>
                      <a:pt x="1293" y="1048"/>
                    </a:lnTo>
                    <a:lnTo>
                      <a:pt x="1369" y="1070"/>
                    </a:lnTo>
                    <a:lnTo>
                      <a:pt x="1447" y="1093"/>
                    </a:lnTo>
                    <a:lnTo>
                      <a:pt x="1523" y="1117"/>
                    </a:lnTo>
                    <a:lnTo>
                      <a:pt x="1601" y="1140"/>
                    </a:lnTo>
                    <a:lnTo>
                      <a:pt x="1678" y="1161"/>
                    </a:lnTo>
                    <a:lnTo>
                      <a:pt x="1756" y="1185"/>
                    </a:lnTo>
                    <a:lnTo>
                      <a:pt x="1833" y="1203"/>
                    </a:lnTo>
                    <a:lnTo>
                      <a:pt x="1911" y="1220"/>
                    </a:lnTo>
                    <a:lnTo>
                      <a:pt x="1988" y="1235"/>
                    </a:lnTo>
                    <a:lnTo>
                      <a:pt x="2070" y="1247"/>
                    </a:lnTo>
                    <a:lnTo>
                      <a:pt x="2149" y="1254"/>
                    </a:lnTo>
                    <a:lnTo>
                      <a:pt x="2230" y="1257"/>
                    </a:lnTo>
                    <a:lnTo>
                      <a:pt x="2313" y="1256"/>
                    </a:lnTo>
                    <a:lnTo>
                      <a:pt x="2398" y="1250"/>
                    </a:lnTo>
                    <a:lnTo>
                      <a:pt x="2482" y="1237"/>
                    </a:lnTo>
                    <a:lnTo>
                      <a:pt x="2572" y="1220"/>
                    </a:lnTo>
                    <a:lnTo>
                      <a:pt x="2661" y="1195"/>
                    </a:lnTo>
                    <a:lnTo>
                      <a:pt x="2753" y="1161"/>
                    </a:lnTo>
                    <a:lnTo>
                      <a:pt x="2736" y="1032"/>
                    </a:lnTo>
                    <a:lnTo>
                      <a:pt x="2723" y="912"/>
                    </a:lnTo>
                    <a:lnTo>
                      <a:pt x="2715" y="799"/>
                    </a:lnTo>
                    <a:lnTo>
                      <a:pt x="2714" y="687"/>
                    </a:lnTo>
                    <a:lnTo>
                      <a:pt x="2719" y="574"/>
                    </a:lnTo>
                    <a:lnTo>
                      <a:pt x="2736" y="461"/>
                    </a:lnTo>
                    <a:lnTo>
                      <a:pt x="2765" y="338"/>
                    </a:lnTo>
                    <a:lnTo>
                      <a:pt x="2804" y="209"/>
                    </a:lnTo>
                    <a:lnTo>
                      <a:pt x="2804" y="2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988920" y="3969360"/>
                <a:ext cx="1389240" cy="610920"/>
              </a:xfrm>
              <a:custGeom>
                <a:avLst/>
                <a:gdLst/>
                <a:ahLst/>
                <a:rect l="l" t="t" r="r" b="b"/>
                <a:pathLst>
                  <a:path w="2786" h="1225">
                    <a:moveTo>
                      <a:pt x="0" y="153"/>
                    </a:moveTo>
                    <a:lnTo>
                      <a:pt x="23" y="280"/>
                    </a:lnTo>
                    <a:lnTo>
                      <a:pt x="45" y="395"/>
                    </a:lnTo>
                    <a:lnTo>
                      <a:pt x="62" y="505"/>
                    </a:lnTo>
                    <a:lnTo>
                      <a:pt x="75" y="610"/>
                    </a:lnTo>
                    <a:lnTo>
                      <a:pt x="79" y="713"/>
                    </a:lnTo>
                    <a:lnTo>
                      <a:pt x="78" y="817"/>
                    </a:lnTo>
                    <a:lnTo>
                      <a:pt x="62" y="924"/>
                    </a:lnTo>
                    <a:lnTo>
                      <a:pt x="37" y="1037"/>
                    </a:lnTo>
                    <a:lnTo>
                      <a:pt x="134" y="998"/>
                    </a:lnTo>
                    <a:lnTo>
                      <a:pt x="226" y="967"/>
                    </a:lnTo>
                    <a:lnTo>
                      <a:pt x="320" y="944"/>
                    </a:lnTo>
                    <a:lnTo>
                      <a:pt x="408" y="924"/>
                    </a:lnTo>
                    <a:lnTo>
                      <a:pt x="497" y="914"/>
                    </a:lnTo>
                    <a:lnTo>
                      <a:pt x="584" y="907"/>
                    </a:lnTo>
                    <a:lnTo>
                      <a:pt x="667" y="907"/>
                    </a:lnTo>
                    <a:lnTo>
                      <a:pt x="752" y="911"/>
                    </a:lnTo>
                    <a:lnTo>
                      <a:pt x="833" y="920"/>
                    </a:lnTo>
                    <a:lnTo>
                      <a:pt x="915" y="933"/>
                    </a:lnTo>
                    <a:lnTo>
                      <a:pt x="996" y="947"/>
                    </a:lnTo>
                    <a:lnTo>
                      <a:pt x="1075" y="967"/>
                    </a:lnTo>
                    <a:lnTo>
                      <a:pt x="1154" y="985"/>
                    </a:lnTo>
                    <a:lnTo>
                      <a:pt x="1234" y="1009"/>
                    </a:lnTo>
                    <a:lnTo>
                      <a:pt x="1313" y="1032"/>
                    </a:lnTo>
                    <a:lnTo>
                      <a:pt x="1390" y="1054"/>
                    </a:lnTo>
                    <a:lnTo>
                      <a:pt x="1468" y="1080"/>
                    </a:lnTo>
                    <a:lnTo>
                      <a:pt x="1548" y="1104"/>
                    </a:lnTo>
                    <a:lnTo>
                      <a:pt x="1627" y="1126"/>
                    </a:lnTo>
                    <a:lnTo>
                      <a:pt x="1709" y="1148"/>
                    </a:lnTo>
                    <a:lnTo>
                      <a:pt x="1790" y="1169"/>
                    </a:lnTo>
                    <a:lnTo>
                      <a:pt x="1872" y="1186"/>
                    </a:lnTo>
                    <a:lnTo>
                      <a:pt x="1954" y="1200"/>
                    </a:lnTo>
                    <a:lnTo>
                      <a:pt x="2040" y="1213"/>
                    </a:lnTo>
                    <a:lnTo>
                      <a:pt x="2124" y="1221"/>
                    </a:lnTo>
                    <a:lnTo>
                      <a:pt x="2213" y="1225"/>
                    </a:lnTo>
                    <a:lnTo>
                      <a:pt x="2303" y="1224"/>
                    </a:lnTo>
                    <a:lnTo>
                      <a:pt x="2393" y="1217"/>
                    </a:lnTo>
                    <a:lnTo>
                      <a:pt x="2485" y="1207"/>
                    </a:lnTo>
                    <a:lnTo>
                      <a:pt x="2581" y="1187"/>
                    </a:lnTo>
                    <a:lnTo>
                      <a:pt x="2680" y="1162"/>
                    </a:lnTo>
                    <a:lnTo>
                      <a:pt x="2780" y="1131"/>
                    </a:lnTo>
                    <a:lnTo>
                      <a:pt x="2786" y="1006"/>
                    </a:lnTo>
                    <a:lnTo>
                      <a:pt x="2784" y="889"/>
                    </a:lnTo>
                    <a:lnTo>
                      <a:pt x="2777" y="777"/>
                    </a:lnTo>
                    <a:lnTo>
                      <a:pt x="2765" y="668"/>
                    </a:lnTo>
                    <a:lnTo>
                      <a:pt x="2751" y="559"/>
                    </a:lnTo>
                    <a:lnTo>
                      <a:pt x="2731" y="446"/>
                    </a:lnTo>
                    <a:lnTo>
                      <a:pt x="2711" y="329"/>
                    </a:lnTo>
                    <a:lnTo>
                      <a:pt x="2693" y="200"/>
                    </a:lnTo>
                    <a:lnTo>
                      <a:pt x="2601" y="234"/>
                    </a:lnTo>
                    <a:lnTo>
                      <a:pt x="2512" y="259"/>
                    </a:lnTo>
                    <a:lnTo>
                      <a:pt x="2425" y="276"/>
                    </a:lnTo>
                    <a:lnTo>
                      <a:pt x="2338" y="289"/>
                    </a:lnTo>
                    <a:lnTo>
                      <a:pt x="2255" y="295"/>
                    </a:lnTo>
                    <a:lnTo>
                      <a:pt x="2171" y="296"/>
                    </a:lnTo>
                    <a:lnTo>
                      <a:pt x="2090" y="293"/>
                    </a:lnTo>
                    <a:lnTo>
                      <a:pt x="2010" y="286"/>
                    </a:lnTo>
                    <a:lnTo>
                      <a:pt x="1930" y="274"/>
                    </a:lnTo>
                    <a:lnTo>
                      <a:pt x="1851" y="259"/>
                    </a:lnTo>
                    <a:lnTo>
                      <a:pt x="1773" y="242"/>
                    </a:lnTo>
                    <a:lnTo>
                      <a:pt x="1696" y="224"/>
                    </a:lnTo>
                    <a:lnTo>
                      <a:pt x="1618" y="200"/>
                    </a:lnTo>
                    <a:lnTo>
                      <a:pt x="1542" y="179"/>
                    </a:lnTo>
                    <a:lnTo>
                      <a:pt x="1466" y="156"/>
                    </a:lnTo>
                    <a:lnTo>
                      <a:pt x="1389" y="132"/>
                    </a:lnTo>
                    <a:lnTo>
                      <a:pt x="1312" y="109"/>
                    </a:lnTo>
                    <a:lnTo>
                      <a:pt x="1234" y="87"/>
                    </a:lnTo>
                    <a:lnTo>
                      <a:pt x="1154" y="66"/>
                    </a:lnTo>
                    <a:lnTo>
                      <a:pt x="1075" y="46"/>
                    </a:lnTo>
                    <a:lnTo>
                      <a:pt x="996" y="32"/>
                    </a:lnTo>
                    <a:lnTo>
                      <a:pt x="915" y="17"/>
                    </a:lnTo>
                    <a:lnTo>
                      <a:pt x="832" y="6"/>
                    </a:lnTo>
                    <a:lnTo>
                      <a:pt x="747" y="0"/>
                    </a:lnTo>
                    <a:lnTo>
                      <a:pt x="661" y="0"/>
                    </a:lnTo>
                    <a:lnTo>
                      <a:pt x="572" y="2"/>
                    </a:lnTo>
                    <a:lnTo>
                      <a:pt x="484" y="10"/>
                    </a:lnTo>
                    <a:lnTo>
                      <a:pt x="391" y="26"/>
                    </a:lnTo>
                    <a:lnTo>
                      <a:pt x="296" y="46"/>
                    </a:lnTo>
                    <a:lnTo>
                      <a:pt x="200" y="74"/>
                    </a:lnTo>
                    <a:lnTo>
                      <a:pt x="102" y="109"/>
                    </a:lnTo>
                    <a:lnTo>
                      <a:pt x="0" y="153"/>
                    </a:lnTo>
                    <a:lnTo>
                      <a:pt x="0"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270800" y="3648240"/>
                <a:ext cx="89640" cy="89640"/>
              </a:xfrm>
              <a:custGeom>
                <a:avLst/>
                <a:gdLst/>
                <a:ahLst/>
                <a:rect l="l" t="t" r="r" b="b"/>
                <a:pathLst>
                  <a:path w="178" h="177">
                    <a:moveTo>
                      <a:pt x="92" y="0"/>
                    </a:moveTo>
                    <a:lnTo>
                      <a:pt x="96" y="19"/>
                    </a:lnTo>
                    <a:lnTo>
                      <a:pt x="102" y="34"/>
                    </a:lnTo>
                    <a:lnTo>
                      <a:pt x="106" y="50"/>
                    </a:lnTo>
                    <a:lnTo>
                      <a:pt x="109" y="67"/>
                    </a:lnTo>
                    <a:lnTo>
                      <a:pt x="117" y="67"/>
                    </a:lnTo>
                    <a:lnTo>
                      <a:pt x="126" y="70"/>
                    </a:lnTo>
                    <a:lnTo>
                      <a:pt x="134" y="70"/>
                    </a:lnTo>
                    <a:lnTo>
                      <a:pt x="144" y="70"/>
                    </a:lnTo>
                    <a:lnTo>
                      <a:pt x="151" y="70"/>
                    </a:lnTo>
                    <a:lnTo>
                      <a:pt x="161" y="71"/>
                    </a:lnTo>
                    <a:lnTo>
                      <a:pt x="168" y="71"/>
                    </a:lnTo>
                    <a:lnTo>
                      <a:pt x="178" y="74"/>
                    </a:lnTo>
                    <a:lnTo>
                      <a:pt x="170" y="78"/>
                    </a:lnTo>
                    <a:lnTo>
                      <a:pt x="162" y="82"/>
                    </a:lnTo>
                    <a:lnTo>
                      <a:pt x="157" y="87"/>
                    </a:lnTo>
                    <a:lnTo>
                      <a:pt x="149" y="91"/>
                    </a:lnTo>
                    <a:lnTo>
                      <a:pt x="142" y="95"/>
                    </a:lnTo>
                    <a:lnTo>
                      <a:pt x="136" y="99"/>
                    </a:lnTo>
                    <a:lnTo>
                      <a:pt x="129" y="104"/>
                    </a:lnTo>
                    <a:lnTo>
                      <a:pt x="121" y="109"/>
                    </a:lnTo>
                    <a:lnTo>
                      <a:pt x="126" y="126"/>
                    </a:lnTo>
                    <a:lnTo>
                      <a:pt x="132" y="143"/>
                    </a:lnTo>
                    <a:lnTo>
                      <a:pt x="136" y="160"/>
                    </a:lnTo>
                    <a:lnTo>
                      <a:pt x="142" y="177"/>
                    </a:lnTo>
                    <a:lnTo>
                      <a:pt x="129" y="164"/>
                    </a:lnTo>
                    <a:lnTo>
                      <a:pt x="116" y="153"/>
                    </a:lnTo>
                    <a:lnTo>
                      <a:pt x="102" y="143"/>
                    </a:lnTo>
                    <a:lnTo>
                      <a:pt x="87" y="133"/>
                    </a:lnTo>
                    <a:lnTo>
                      <a:pt x="71" y="142"/>
                    </a:lnTo>
                    <a:lnTo>
                      <a:pt x="58" y="152"/>
                    </a:lnTo>
                    <a:lnTo>
                      <a:pt x="45" y="160"/>
                    </a:lnTo>
                    <a:lnTo>
                      <a:pt x="32" y="173"/>
                    </a:lnTo>
                    <a:lnTo>
                      <a:pt x="36" y="156"/>
                    </a:lnTo>
                    <a:lnTo>
                      <a:pt x="44" y="139"/>
                    </a:lnTo>
                    <a:lnTo>
                      <a:pt x="49" y="122"/>
                    </a:lnTo>
                    <a:lnTo>
                      <a:pt x="53" y="105"/>
                    </a:lnTo>
                    <a:lnTo>
                      <a:pt x="40" y="95"/>
                    </a:lnTo>
                    <a:lnTo>
                      <a:pt x="27" y="87"/>
                    </a:lnTo>
                    <a:lnTo>
                      <a:pt x="13" y="77"/>
                    </a:lnTo>
                    <a:lnTo>
                      <a:pt x="0" y="65"/>
                    </a:lnTo>
                    <a:lnTo>
                      <a:pt x="7" y="65"/>
                    </a:lnTo>
                    <a:lnTo>
                      <a:pt x="17" y="65"/>
                    </a:lnTo>
                    <a:lnTo>
                      <a:pt x="24" y="65"/>
                    </a:lnTo>
                    <a:lnTo>
                      <a:pt x="33" y="65"/>
                    </a:lnTo>
                    <a:lnTo>
                      <a:pt x="41" y="65"/>
                    </a:lnTo>
                    <a:lnTo>
                      <a:pt x="50" y="65"/>
                    </a:lnTo>
                    <a:lnTo>
                      <a:pt x="58" y="65"/>
                    </a:lnTo>
                    <a:lnTo>
                      <a:pt x="67" y="65"/>
                    </a:lnTo>
                    <a:lnTo>
                      <a:pt x="75" y="48"/>
                    </a:lnTo>
                    <a:lnTo>
                      <a:pt x="79" y="34"/>
                    </a:lnTo>
                    <a:lnTo>
                      <a:pt x="86" y="19"/>
                    </a:lnTo>
                    <a:lnTo>
                      <a:pt x="92" y="0"/>
                    </a:lnTo>
                    <a:lnTo>
                      <a:pt x="9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78" name=""/>
              <p:cNvSpPr/>
              <p:nvPr/>
            </p:nvSpPr>
            <p:spPr>
              <a:xfrm>
                <a:off x="1390320" y="3574080"/>
                <a:ext cx="85680" cy="91800"/>
              </a:xfrm>
              <a:custGeom>
                <a:avLst/>
                <a:gdLst/>
                <a:ahLst/>
                <a:rect l="l" t="t" r="r" b="b"/>
                <a:pathLst>
                  <a:path w="172" h="181">
                    <a:moveTo>
                      <a:pt x="94" y="0"/>
                    </a:moveTo>
                    <a:lnTo>
                      <a:pt x="98" y="16"/>
                    </a:lnTo>
                    <a:lnTo>
                      <a:pt x="99" y="33"/>
                    </a:lnTo>
                    <a:lnTo>
                      <a:pt x="102" y="50"/>
                    </a:lnTo>
                    <a:lnTo>
                      <a:pt x="107" y="67"/>
                    </a:lnTo>
                    <a:lnTo>
                      <a:pt x="118" y="69"/>
                    </a:lnTo>
                    <a:lnTo>
                      <a:pt x="124" y="69"/>
                    </a:lnTo>
                    <a:lnTo>
                      <a:pt x="132" y="71"/>
                    </a:lnTo>
                    <a:lnTo>
                      <a:pt x="140" y="73"/>
                    </a:lnTo>
                    <a:lnTo>
                      <a:pt x="148" y="76"/>
                    </a:lnTo>
                    <a:lnTo>
                      <a:pt x="155" y="76"/>
                    </a:lnTo>
                    <a:lnTo>
                      <a:pt x="162" y="77"/>
                    </a:lnTo>
                    <a:lnTo>
                      <a:pt x="172" y="80"/>
                    </a:lnTo>
                    <a:lnTo>
                      <a:pt x="165" y="84"/>
                    </a:lnTo>
                    <a:lnTo>
                      <a:pt x="158" y="88"/>
                    </a:lnTo>
                    <a:lnTo>
                      <a:pt x="152" y="90"/>
                    </a:lnTo>
                    <a:lnTo>
                      <a:pt x="144" y="94"/>
                    </a:lnTo>
                    <a:lnTo>
                      <a:pt x="138" y="98"/>
                    </a:lnTo>
                    <a:lnTo>
                      <a:pt x="131" y="103"/>
                    </a:lnTo>
                    <a:lnTo>
                      <a:pt x="123" y="107"/>
                    </a:lnTo>
                    <a:lnTo>
                      <a:pt x="115" y="111"/>
                    </a:lnTo>
                    <a:lnTo>
                      <a:pt x="119" y="130"/>
                    </a:lnTo>
                    <a:lnTo>
                      <a:pt x="123" y="145"/>
                    </a:lnTo>
                    <a:lnTo>
                      <a:pt x="127" y="162"/>
                    </a:lnTo>
                    <a:lnTo>
                      <a:pt x="132" y="181"/>
                    </a:lnTo>
                    <a:lnTo>
                      <a:pt x="118" y="166"/>
                    </a:lnTo>
                    <a:lnTo>
                      <a:pt x="106" y="155"/>
                    </a:lnTo>
                    <a:lnTo>
                      <a:pt x="94" y="145"/>
                    </a:lnTo>
                    <a:lnTo>
                      <a:pt x="81" y="130"/>
                    </a:lnTo>
                    <a:lnTo>
                      <a:pt x="73" y="134"/>
                    </a:lnTo>
                    <a:lnTo>
                      <a:pt x="66" y="138"/>
                    </a:lnTo>
                    <a:lnTo>
                      <a:pt x="60" y="142"/>
                    </a:lnTo>
                    <a:lnTo>
                      <a:pt x="53" y="145"/>
                    </a:lnTo>
                    <a:lnTo>
                      <a:pt x="45" y="149"/>
                    </a:lnTo>
                    <a:lnTo>
                      <a:pt x="40" y="154"/>
                    </a:lnTo>
                    <a:lnTo>
                      <a:pt x="32" y="158"/>
                    </a:lnTo>
                    <a:lnTo>
                      <a:pt x="24" y="162"/>
                    </a:lnTo>
                    <a:lnTo>
                      <a:pt x="32" y="145"/>
                    </a:lnTo>
                    <a:lnTo>
                      <a:pt x="38" y="130"/>
                    </a:lnTo>
                    <a:lnTo>
                      <a:pt x="43" y="115"/>
                    </a:lnTo>
                    <a:lnTo>
                      <a:pt x="51" y="101"/>
                    </a:lnTo>
                    <a:lnTo>
                      <a:pt x="38" y="88"/>
                    </a:lnTo>
                    <a:lnTo>
                      <a:pt x="27" y="76"/>
                    </a:lnTo>
                    <a:lnTo>
                      <a:pt x="14" y="65"/>
                    </a:lnTo>
                    <a:lnTo>
                      <a:pt x="0" y="52"/>
                    </a:lnTo>
                    <a:lnTo>
                      <a:pt x="10" y="55"/>
                    </a:lnTo>
                    <a:lnTo>
                      <a:pt x="17" y="55"/>
                    </a:lnTo>
                    <a:lnTo>
                      <a:pt x="24" y="56"/>
                    </a:lnTo>
                    <a:lnTo>
                      <a:pt x="32" y="56"/>
                    </a:lnTo>
                    <a:lnTo>
                      <a:pt x="40" y="56"/>
                    </a:lnTo>
                    <a:lnTo>
                      <a:pt x="47" y="59"/>
                    </a:lnTo>
                    <a:lnTo>
                      <a:pt x="56" y="59"/>
                    </a:lnTo>
                    <a:lnTo>
                      <a:pt x="66" y="60"/>
                    </a:lnTo>
                    <a:lnTo>
                      <a:pt x="73" y="43"/>
                    </a:lnTo>
                    <a:lnTo>
                      <a:pt x="81" y="29"/>
                    </a:lnTo>
                    <a:lnTo>
                      <a:pt x="86" y="15"/>
                    </a:lnTo>
                    <a:lnTo>
                      <a:pt x="94" y="0"/>
                    </a:lnTo>
                    <a:lnTo>
                      <a:pt x="9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494360" y="3679920"/>
                <a:ext cx="83520" cy="91800"/>
              </a:xfrm>
              <a:custGeom>
                <a:avLst/>
                <a:gdLst/>
                <a:ahLst/>
                <a:rect l="l" t="t" r="r" b="b"/>
                <a:pathLst>
                  <a:path w="168" h="182">
                    <a:moveTo>
                      <a:pt x="87" y="0"/>
                    </a:moveTo>
                    <a:lnTo>
                      <a:pt x="93" y="18"/>
                    </a:lnTo>
                    <a:lnTo>
                      <a:pt x="97" y="35"/>
                    </a:lnTo>
                    <a:lnTo>
                      <a:pt x="100" y="52"/>
                    </a:lnTo>
                    <a:lnTo>
                      <a:pt x="104" y="69"/>
                    </a:lnTo>
                    <a:lnTo>
                      <a:pt x="113" y="71"/>
                    </a:lnTo>
                    <a:lnTo>
                      <a:pt x="121" y="72"/>
                    </a:lnTo>
                    <a:lnTo>
                      <a:pt x="128" y="75"/>
                    </a:lnTo>
                    <a:lnTo>
                      <a:pt x="136" y="78"/>
                    </a:lnTo>
                    <a:lnTo>
                      <a:pt x="143" y="79"/>
                    </a:lnTo>
                    <a:lnTo>
                      <a:pt x="151" y="82"/>
                    </a:lnTo>
                    <a:lnTo>
                      <a:pt x="159" y="83"/>
                    </a:lnTo>
                    <a:lnTo>
                      <a:pt x="168" y="85"/>
                    </a:lnTo>
                    <a:lnTo>
                      <a:pt x="155" y="95"/>
                    </a:lnTo>
                    <a:lnTo>
                      <a:pt x="142" y="100"/>
                    </a:lnTo>
                    <a:lnTo>
                      <a:pt x="128" y="106"/>
                    </a:lnTo>
                    <a:lnTo>
                      <a:pt x="115" y="113"/>
                    </a:lnTo>
                    <a:lnTo>
                      <a:pt x="121" y="132"/>
                    </a:lnTo>
                    <a:lnTo>
                      <a:pt x="125" y="147"/>
                    </a:lnTo>
                    <a:lnTo>
                      <a:pt x="128" y="164"/>
                    </a:lnTo>
                    <a:lnTo>
                      <a:pt x="134" y="182"/>
                    </a:lnTo>
                    <a:lnTo>
                      <a:pt x="121" y="170"/>
                    </a:lnTo>
                    <a:lnTo>
                      <a:pt x="107" y="157"/>
                    </a:lnTo>
                    <a:lnTo>
                      <a:pt x="97" y="144"/>
                    </a:lnTo>
                    <a:lnTo>
                      <a:pt x="81" y="130"/>
                    </a:lnTo>
                    <a:lnTo>
                      <a:pt x="68" y="139"/>
                    </a:lnTo>
                    <a:lnTo>
                      <a:pt x="55" y="144"/>
                    </a:lnTo>
                    <a:lnTo>
                      <a:pt x="43" y="151"/>
                    </a:lnTo>
                    <a:lnTo>
                      <a:pt x="29" y="157"/>
                    </a:lnTo>
                    <a:lnTo>
                      <a:pt x="35" y="140"/>
                    </a:lnTo>
                    <a:lnTo>
                      <a:pt x="39" y="127"/>
                    </a:lnTo>
                    <a:lnTo>
                      <a:pt x="46" y="113"/>
                    </a:lnTo>
                    <a:lnTo>
                      <a:pt x="51" y="98"/>
                    </a:lnTo>
                    <a:lnTo>
                      <a:pt x="38" y="85"/>
                    </a:lnTo>
                    <a:lnTo>
                      <a:pt x="25" y="71"/>
                    </a:lnTo>
                    <a:lnTo>
                      <a:pt x="13" y="58"/>
                    </a:lnTo>
                    <a:lnTo>
                      <a:pt x="0" y="45"/>
                    </a:lnTo>
                    <a:lnTo>
                      <a:pt x="8" y="48"/>
                    </a:lnTo>
                    <a:lnTo>
                      <a:pt x="17" y="50"/>
                    </a:lnTo>
                    <a:lnTo>
                      <a:pt x="25" y="50"/>
                    </a:lnTo>
                    <a:lnTo>
                      <a:pt x="31" y="52"/>
                    </a:lnTo>
                    <a:lnTo>
                      <a:pt x="39" y="54"/>
                    </a:lnTo>
                    <a:lnTo>
                      <a:pt x="47" y="56"/>
                    </a:lnTo>
                    <a:lnTo>
                      <a:pt x="55" y="58"/>
                    </a:lnTo>
                    <a:lnTo>
                      <a:pt x="64" y="61"/>
                    </a:lnTo>
                    <a:lnTo>
                      <a:pt x="69" y="44"/>
                    </a:lnTo>
                    <a:lnTo>
                      <a:pt x="76" y="28"/>
                    </a:lnTo>
                    <a:lnTo>
                      <a:pt x="81" y="16"/>
                    </a:lnTo>
                    <a:lnTo>
                      <a:pt x="87" y="0"/>
                    </a:lnTo>
                    <a:lnTo>
                      <a:pt x="87"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450440" y="3803400"/>
                <a:ext cx="83520" cy="90000"/>
              </a:xfrm>
              <a:custGeom>
                <a:avLst/>
                <a:gdLst/>
                <a:ahLst/>
                <a:rect l="l" t="t" r="r" b="b"/>
                <a:pathLst>
                  <a:path w="170" h="181">
                    <a:moveTo>
                      <a:pt x="84" y="0"/>
                    </a:moveTo>
                    <a:lnTo>
                      <a:pt x="91" y="19"/>
                    </a:lnTo>
                    <a:lnTo>
                      <a:pt x="95" y="35"/>
                    </a:lnTo>
                    <a:lnTo>
                      <a:pt x="99" y="52"/>
                    </a:lnTo>
                    <a:lnTo>
                      <a:pt x="104" y="69"/>
                    </a:lnTo>
                    <a:lnTo>
                      <a:pt x="115" y="71"/>
                    </a:lnTo>
                    <a:lnTo>
                      <a:pt x="121" y="74"/>
                    </a:lnTo>
                    <a:lnTo>
                      <a:pt x="129" y="74"/>
                    </a:lnTo>
                    <a:lnTo>
                      <a:pt x="137" y="75"/>
                    </a:lnTo>
                    <a:lnTo>
                      <a:pt x="145" y="78"/>
                    </a:lnTo>
                    <a:lnTo>
                      <a:pt x="153" y="79"/>
                    </a:lnTo>
                    <a:lnTo>
                      <a:pt x="159" y="82"/>
                    </a:lnTo>
                    <a:lnTo>
                      <a:pt x="170" y="84"/>
                    </a:lnTo>
                    <a:lnTo>
                      <a:pt x="155" y="89"/>
                    </a:lnTo>
                    <a:lnTo>
                      <a:pt x="145" y="96"/>
                    </a:lnTo>
                    <a:lnTo>
                      <a:pt x="133" y="102"/>
                    </a:lnTo>
                    <a:lnTo>
                      <a:pt x="120" y="112"/>
                    </a:lnTo>
                    <a:lnTo>
                      <a:pt x="125" y="130"/>
                    </a:lnTo>
                    <a:lnTo>
                      <a:pt x="132" y="145"/>
                    </a:lnTo>
                    <a:lnTo>
                      <a:pt x="137" y="161"/>
                    </a:lnTo>
                    <a:lnTo>
                      <a:pt x="141" y="181"/>
                    </a:lnTo>
                    <a:lnTo>
                      <a:pt x="128" y="166"/>
                    </a:lnTo>
                    <a:lnTo>
                      <a:pt x="115" y="156"/>
                    </a:lnTo>
                    <a:lnTo>
                      <a:pt x="101" y="145"/>
                    </a:lnTo>
                    <a:lnTo>
                      <a:pt x="87" y="130"/>
                    </a:lnTo>
                    <a:lnTo>
                      <a:pt x="74" y="136"/>
                    </a:lnTo>
                    <a:lnTo>
                      <a:pt x="63" y="143"/>
                    </a:lnTo>
                    <a:lnTo>
                      <a:pt x="50" y="151"/>
                    </a:lnTo>
                    <a:lnTo>
                      <a:pt x="37" y="157"/>
                    </a:lnTo>
                    <a:lnTo>
                      <a:pt x="41" y="143"/>
                    </a:lnTo>
                    <a:lnTo>
                      <a:pt x="46" y="128"/>
                    </a:lnTo>
                    <a:lnTo>
                      <a:pt x="50" y="113"/>
                    </a:lnTo>
                    <a:lnTo>
                      <a:pt x="54" y="99"/>
                    </a:lnTo>
                    <a:lnTo>
                      <a:pt x="41" y="86"/>
                    </a:lnTo>
                    <a:lnTo>
                      <a:pt x="28" y="74"/>
                    </a:lnTo>
                    <a:lnTo>
                      <a:pt x="15" y="61"/>
                    </a:lnTo>
                    <a:lnTo>
                      <a:pt x="0" y="48"/>
                    </a:lnTo>
                    <a:lnTo>
                      <a:pt x="8" y="50"/>
                    </a:lnTo>
                    <a:lnTo>
                      <a:pt x="18" y="50"/>
                    </a:lnTo>
                    <a:lnTo>
                      <a:pt x="25" y="52"/>
                    </a:lnTo>
                    <a:lnTo>
                      <a:pt x="33" y="54"/>
                    </a:lnTo>
                    <a:lnTo>
                      <a:pt x="41" y="57"/>
                    </a:lnTo>
                    <a:lnTo>
                      <a:pt x="48" y="57"/>
                    </a:lnTo>
                    <a:lnTo>
                      <a:pt x="56" y="58"/>
                    </a:lnTo>
                    <a:lnTo>
                      <a:pt x="65" y="61"/>
                    </a:lnTo>
                    <a:lnTo>
                      <a:pt x="71" y="44"/>
                    </a:lnTo>
                    <a:lnTo>
                      <a:pt x="74" y="30"/>
                    </a:lnTo>
                    <a:lnTo>
                      <a:pt x="78" y="17"/>
                    </a:lnTo>
                    <a:lnTo>
                      <a:pt x="84" y="0"/>
                    </a:lnTo>
                    <a:lnTo>
                      <a:pt x="84"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1" name=""/>
              <p:cNvSpPr/>
              <p:nvPr/>
            </p:nvSpPr>
            <p:spPr>
              <a:xfrm>
                <a:off x="1314720" y="3783600"/>
                <a:ext cx="85320" cy="85680"/>
              </a:xfrm>
              <a:custGeom>
                <a:avLst/>
                <a:gdLst/>
                <a:ahLst/>
                <a:rect l="l" t="t" r="r" b="b"/>
                <a:pathLst>
                  <a:path w="172" h="175">
                    <a:moveTo>
                      <a:pt x="84" y="0"/>
                    </a:moveTo>
                    <a:lnTo>
                      <a:pt x="91" y="17"/>
                    </a:lnTo>
                    <a:lnTo>
                      <a:pt x="96" y="31"/>
                    </a:lnTo>
                    <a:lnTo>
                      <a:pt x="101" y="48"/>
                    </a:lnTo>
                    <a:lnTo>
                      <a:pt x="108" y="65"/>
                    </a:lnTo>
                    <a:lnTo>
                      <a:pt x="117" y="68"/>
                    </a:lnTo>
                    <a:lnTo>
                      <a:pt x="125" y="68"/>
                    </a:lnTo>
                    <a:lnTo>
                      <a:pt x="133" y="71"/>
                    </a:lnTo>
                    <a:lnTo>
                      <a:pt x="139" y="71"/>
                    </a:lnTo>
                    <a:lnTo>
                      <a:pt x="147" y="71"/>
                    </a:lnTo>
                    <a:lnTo>
                      <a:pt x="155" y="72"/>
                    </a:lnTo>
                    <a:lnTo>
                      <a:pt x="163" y="72"/>
                    </a:lnTo>
                    <a:lnTo>
                      <a:pt x="172" y="74"/>
                    </a:lnTo>
                    <a:lnTo>
                      <a:pt x="160" y="82"/>
                    </a:lnTo>
                    <a:lnTo>
                      <a:pt x="147" y="91"/>
                    </a:lnTo>
                    <a:lnTo>
                      <a:pt x="135" y="99"/>
                    </a:lnTo>
                    <a:lnTo>
                      <a:pt x="122" y="108"/>
                    </a:lnTo>
                    <a:lnTo>
                      <a:pt x="130" y="125"/>
                    </a:lnTo>
                    <a:lnTo>
                      <a:pt x="135" y="142"/>
                    </a:lnTo>
                    <a:lnTo>
                      <a:pt x="139" y="159"/>
                    </a:lnTo>
                    <a:lnTo>
                      <a:pt x="146" y="175"/>
                    </a:lnTo>
                    <a:lnTo>
                      <a:pt x="133" y="163"/>
                    </a:lnTo>
                    <a:lnTo>
                      <a:pt x="118" y="153"/>
                    </a:lnTo>
                    <a:lnTo>
                      <a:pt x="105" y="142"/>
                    </a:lnTo>
                    <a:lnTo>
                      <a:pt x="91" y="129"/>
                    </a:lnTo>
                    <a:lnTo>
                      <a:pt x="77" y="137"/>
                    </a:lnTo>
                    <a:lnTo>
                      <a:pt x="66" y="147"/>
                    </a:lnTo>
                    <a:lnTo>
                      <a:pt x="53" y="156"/>
                    </a:lnTo>
                    <a:lnTo>
                      <a:pt x="39" y="164"/>
                    </a:lnTo>
                    <a:lnTo>
                      <a:pt x="45" y="147"/>
                    </a:lnTo>
                    <a:lnTo>
                      <a:pt x="49" y="133"/>
                    </a:lnTo>
                    <a:lnTo>
                      <a:pt x="53" y="119"/>
                    </a:lnTo>
                    <a:lnTo>
                      <a:pt x="57" y="102"/>
                    </a:lnTo>
                    <a:lnTo>
                      <a:pt x="49" y="95"/>
                    </a:lnTo>
                    <a:lnTo>
                      <a:pt x="43" y="91"/>
                    </a:lnTo>
                    <a:lnTo>
                      <a:pt x="36" y="87"/>
                    </a:lnTo>
                    <a:lnTo>
                      <a:pt x="29" y="81"/>
                    </a:lnTo>
                    <a:lnTo>
                      <a:pt x="22" y="76"/>
                    </a:lnTo>
                    <a:lnTo>
                      <a:pt x="15" y="72"/>
                    </a:lnTo>
                    <a:lnTo>
                      <a:pt x="8" y="65"/>
                    </a:lnTo>
                    <a:lnTo>
                      <a:pt x="0" y="60"/>
                    </a:lnTo>
                    <a:lnTo>
                      <a:pt x="9" y="60"/>
                    </a:lnTo>
                    <a:lnTo>
                      <a:pt x="19" y="61"/>
                    </a:lnTo>
                    <a:lnTo>
                      <a:pt x="26" y="61"/>
                    </a:lnTo>
                    <a:lnTo>
                      <a:pt x="34" y="61"/>
                    </a:lnTo>
                    <a:lnTo>
                      <a:pt x="42" y="61"/>
                    </a:lnTo>
                    <a:lnTo>
                      <a:pt x="49" y="61"/>
                    </a:lnTo>
                    <a:lnTo>
                      <a:pt x="58" y="64"/>
                    </a:lnTo>
                    <a:lnTo>
                      <a:pt x="68" y="64"/>
                    </a:lnTo>
                    <a:lnTo>
                      <a:pt x="71" y="47"/>
                    </a:lnTo>
                    <a:lnTo>
                      <a:pt x="77" y="31"/>
                    </a:lnTo>
                    <a:lnTo>
                      <a:pt x="81" y="16"/>
                    </a:lnTo>
                    <a:lnTo>
                      <a:pt x="84" y="0"/>
                    </a:lnTo>
                    <a:lnTo>
                      <a:pt x="8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2" name=""/>
              <p:cNvSpPr/>
              <p:nvPr/>
            </p:nvSpPr>
            <p:spPr>
              <a:xfrm>
                <a:off x="1078560" y="3516120"/>
                <a:ext cx="291240" cy="419400"/>
              </a:xfrm>
              <a:custGeom>
                <a:avLst/>
                <a:gdLst/>
                <a:ahLst/>
                <a:rect l="l" t="t" r="r" b="b"/>
                <a:pathLst>
                  <a:path w="582" h="842">
                    <a:moveTo>
                      <a:pt x="185" y="448"/>
                    </a:moveTo>
                    <a:lnTo>
                      <a:pt x="186" y="409"/>
                    </a:lnTo>
                    <a:lnTo>
                      <a:pt x="193" y="368"/>
                    </a:lnTo>
                    <a:lnTo>
                      <a:pt x="203" y="331"/>
                    </a:lnTo>
                    <a:lnTo>
                      <a:pt x="216" y="293"/>
                    </a:lnTo>
                    <a:lnTo>
                      <a:pt x="236" y="256"/>
                    </a:lnTo>
                    <a:lnTo>
                      <a:pt x="256" y="221"/>
                    </a:lnTo>
                    <a:lnTo>
                      <a:pt x="281" y="189"/>
                    </a:lnTo>
                    <a:lnTo>
                      <a:pt x="310" y="157"/>
                    </a:lnTo>
                    <a:lnTo>
                      <a:pt x="337" y="130"/>
                    </a:lnTo>
                    <a:lnTo>
                      <a:pt x="370" y="105"/>
                    </a:lnTo>
                    <a:lnTo>
                      <a:pt x="402" y="82"/>
                    </a:lnTo>
                    <a:lnTo>
                      <a:pt x="436" y="62"/>
                    </a:lnTo>
                    <a:lnTo>
                      <a:pt x="471" y="48"/>
                    </a:lnTo>
                    <a:lnTo>
                      <a:pt x="508" y="35"/>
                    </a:lnTo>
                    <a:lnTo>
                      <a:pt x="545" y="27"/>
                    </a:lnTo>
                    <a:lnTo>
                      <a:pt x="582" y="25"/>
                    </a:lnTo>
                    <a:lnTo>
                      <a:pt x="568" y="21"/>
                    </a:lnTo>
                    <a:lnTo>
                      <a:pt x="554" y="14"/>
                    </a:lnTo>
                    <a:lnTo>
                      <a:pt x="541" y="10"/>
                    </a:lnTo>
                    <a:lnTo>
                      <a:pt x="528" y="8"/>
                    </a:lnTo>
                    <a:lnTo>
                      <a:pt x="513" y="4"/>
                    </a:lnTo>
                    <a:lnTo>
                      <a:pt x="500" y="2"/>
                    </a:lnTo>
                    <a:lnTo>
                      <a:pt x="485" y="2"/>
                    </a:lnTo>
                    <a:lnTo>
                      <a:pt x="470" y="0"/>
                    </a:lnTo>
                    <a:lnTo>
                      <a:pt x="428" y="2"/>
                    </a:lnTo>
                    <a:lnTo>
                      <a:pt x="387" y="8"/>
                    </a:lnTo>
                    <a:lnTo>
                      <a:pt x="345" y="21"/>
                    </a:lnTo>
                    <a:lnTo>
                      <a:pt x="303" y="38"/>
                    </a:lnTo>
                    <a:lnTo>
                      <a:pt x="264" y="58"/>
                    </a:lnTo>
                    <a:lnTo>
                      <a:pt x="224" y="86"/>
                    </a:lnTo>
                    <a:lnTo>
                      <a:pt x="186" y="116"/>
                    </a:lnTo>
                    <a:lnTo>
                      <a:pt x="152" y="150"/>
                    </a:lnTo>
                    <a:lnTo>
                      <a:pt x="118" y="185"/>
                    </a:lnTo>
                    <a:lnTo>
                      <a:pt x="90" y="222"/>
                    </a:lnTo>
                    <a:lnTo>
                      <a:pt x="64" y="263"/>
                    </a:lnTo>
                    <a:lnTo>
                      <a:pt x="42" y="304"/>
                    </a:lnTo>
                    <a:lnTo>
                      <a:pt x="23" y="349"/>
                    </a:lnTo>
                    <a:lnTo>
                      <a:pt x="10" y="393"/>
                    </a:lnTo>
                    <a:lnTo>
                      <a:pt x="1" y="437"/>
                    </a:lnTo>
                    <a:lnTo>
                      <a:pt x="0" y="482"/>
                    </a:lnTo>
                    <a:lnTo>
                      <a:pt x="2" y="526"/>
                    </a:lnTo>
                    <a:lnTo>
                      <a:pt x="13" y="566"/>
                    </a:lnTo>
                    <a:lnTo>
                      <a:pt x="26" y="604"/>
                    </a:lnTo>
                    <a:lnTo>
                      <a:pt x="43" y="638"/>
                    </a:lnTo>
                    <a:lnTo>
                      <a:pt x="64" y="672"/>
                    </a:lnTo>
                    <a:lnTo>
                      <a:pt x="88" y="699"/>
                    </a:lnTo>
                    <a:lnTo>
                      <a:pt x="114" y="726"/>
                    </a:lnTo>
                    <a:lnTo>
                      <a:pt x="144" y="750"/>
                    </a:lnTo>
                    <a:lnTo>
                      <a:pt x="178" y="772"/>
                    </a:lnTo>
                    <a:lnTo>
                      <a:pt x="213" y="789"/>
                    </a:lnTo>
                    <a:lnTo>
                      <a:pt x="249" y="806"/>
                    </a:lnTo>
                    <a:lnTo>
                      <a:pt x="286" y="819"/>
                    </a:lnTo>
                    <a:lnTo>
                      <a:pt x="327" y="829"/>
                    </a:lnTo>
                    <a:lnTo>
                      <a:pt x="366" y="836"/>
                    </a:lnTo>
                    <a:lnTo>
                      <a:pt x="407" y="840"/>
                    </a:lnTo>
                    <a:lnTo>
                      <a:pt x="448" y="842"/>
                    </a:lnTo>
                    <a:lnTo>
                      <a:pt x="458" y="842"/>
                    </a:lnTo>
                    <a:lnTo>
                      <a:pt x="471" y="840"/>
                    </a:lnTo>
                    <a:lnTo>
                      <a:pt x="483" y="840"/>
                    </a:lnTo>
                    <a:lnTo>
                      <a:pt x="495" y="840"/>
                    </a:lnTo>
                    <a:lnTo>
                      <a:pt x="506" y="837"/>
                    </a:lnTo>
                    <a:lnTo>
                      <a:pt x="517" y="837"/>
                    </a:lnTo>
                    <a:lnTo>
                      <a:pt x="528" y="836"/>
                    </a:lnTo>
                    <a:lnTo>
                      <a:pt x="540" y="833"/>
                    </a:lnTo>
                    <a:lnTo>
                      <a:pt x="506" y="825"/>
                    </a:lnTo>
                    <a:lnTo>
                      <a:pt x="471" y="812"/>
                    </a:lnTo>
                    <a:lnTo>
                      <a:pt x="440" y="799"/>
                    </a:lnTo>
                    <a:lnTo>
                      <a:pt x="407" y="782"/>
                    </a:lnTo>
                    <a:lnTo>
                      <a:pt x="377" y="765"/>
                    </a:lnTo>
                    <a:lnTo>
                      <a:pt x="349" y="745"/>
                    </a:lnTo>
                    <a:lnTo>
                      <a:pt x="320" y="724"/>
                    </a:lnTo>
                    <a:lnTo>
                      <a:pt x="294" y="700"/>
                    </a:lnTo>
                    <a:lnTo>
                      <a:pt x="272" y="676"/>
                    </a:lnTo>
                    <a:lnTo>
                      <a:pt x="251" y="648"/>
                    </a:lnTo>
                    <a:lnTo>
                      <a:pt x="232" y="618"/>
                    </a:lnTo>
                    <a:lnTo>
                      <a:pt x="215" y="587"/>
                    </a:lnTo>
                    <a:lnTo>
                      <a:pt x="202" y="556"/>
                    </a:lnTo>
                    <a:lnTo>
                      <a:pt x="193" y="522"/>
                    </a:lnTo>
                    <a:lnTo>
                      <a:pt x="186" y="485"/>
                    </a:lnTo>
                    <a:lnTo>
                      <a:pt x="185" y="448"/>
                    </a:lnTo>
                    <a:lnTo>
                      <a:pt x="185"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88920" y="3967560"/>
                <a:ext cx="291240" cy="519120"/>
              </a:xfrm>
              <a:custGeom>
                <a:avLst/>
                <a:gdLst/>
                <a:ahLst/>
                <a:rect l="l" t="t" r="r" b="b"/>
                <a:pathLst>
                  <a:path w="585" h="1041">
                    <a:moveTo>
                      <a:pt x="0" y="157"/>
                    </a:moveTo>
                    <a:lnTo>
                      <a:pt x="23" y="284"/>
                    </a:lnTo>
                    <a:lnTo>
                      <a:pt x="45" y="399"/>
                    </a:lnTo>
                    <a:lnTo>
                      <a:pt x="62" y="509"/>
                    </a:lnTo>
                    <a:lnTo>
                      <a:pt x="75" y="614"/>
                    </a:lnTo>
                    <a:lnTo>
                      <a:pt x="79" y="717"/>
                    </a:lnTo>
                    <a:lnTo>
                      <a:pt x="78" y="821"/>
                    </a:lnTo>
                    <a:lnTo>
                      <a:pt x="62" y="928"/>
                    </a:lnTo>
                    <a:lnTo>
                      <a:pt x="37" y="1041"/>
                    </a:lnTo>
                    <a:lnTo>
                      <a:pt x="74" y="1026"/>
                    </a:lnTo>
                    <a:lnTo>
                      <a:pt x="109" y="1009"/>
                    </a:lnTo>
                    <a:lnTo>
                      <a:pt x="144" y="993"/>
                    </a:lnTo>
                    <a:lnTo>
                      <a:pt x="175" y="981"/>
                    </a:lnTo>
                    <a:lnTo>
                      <a:pt x="208" y="968"/>
                    </a:lnTo>
                    <a:lnTo>
                      <a:pt x="238" y="958"/>
                    </a:lnTo>
                    <a:lnTo>
                      <a:pt x="270" y="949"/>
                    </a:lnTo>
                    <a:lnTo>
                      <a:pt x="300" y="941"/>
                    </a:lnTo>
                    <a:lnTo>
                      <a:pt x="330" y="932"/>
                    </a:lnTo>
                    <a:lnTo>
                      <a:pt x="360" y="927"/>
                    </a:lnTo>
                    <a:lnTo>
                      <a:pt x="391" y="922"/>
                    </a:lnTo>
                    <a:lnTo>
                      <a:pt x="423" y="918"/>
                    </a:lnTo>
                    <a:lnTo>
                      <a:pt x="455" y="914"/>
                    </a:lnTo>
                    <a:lnTo>
                      <a:pt x="488" y="910"/>
                    </a:lnTo>
                    <a:lnTo>
                      <a:pt x="522" y="907"/>
                    </a:lnTo>
                    <a:lnTo>
                      <a:pt x="557" y="905"/>
                    </a:lnTo>
                    <a:lnTo>
                      <a:pt x="572" y="787"/>
                    </a:lnTo>
                    <a:lnTo>
                      <a:pt x="582" y="674"/>
                    </a:lnTo>
                    <a:lnTo>
                      <a:pt x="585" y="566"/>
                    </a:lnTo>
                    <a:lnTo>
                      <a:pt x="584" y="461"/>
                    </a:lnTo>
                    <a:lnTo>
                      <a:pt x="578" y="354"/>
                    </a:lnTo>
                    <a:lnTo>
                      <a:pt x="569" y="244"/>
                    </a:lnTo>
                    <a:lnTo>
                      <a:pt x="557" y="126"/>
                    </a:lnTo>
                    <a:lnTo>
                      <a:pt x="544" y="0"/>
                    </a:lnTo>
                    <a:lnTo>
                      <a:pt x="509" y="4"/>
                    </a:lnTo>
                    <a:lnTo>
                      <a:pt x="472" y="9"/>
                    </a:lnTo>
                    <a:lnTo>
                      <a:pt x="438" y="13"/>
                    </a:lnTo>
                    <a:lnTo>
                      <a:pt x="406" y="17"/>
                    </a:lnTo>
                    <a:lnTo>
                      <a:pt x="372" y="23"/>
                    </a:lnTo>
                    <a:lnTo>
                      <a:pt x="341" y="30"/>
                    </a:lnTo>
                    <a:lnTo>
                      <a:pt x="309" y="37"/>
                    </a:lnTo>
                    <a:lnTo>
                      <a:pt x="278" y="47"/>
                    </a:lnTo>
                    <a:lnTo>
                      <a:pt x="246" y="54"/>
                    </a:lnTo>
                    <a:lnTo>
                      <a:pt x="212" y="65"/>
                    </a:lnTo>
                    <a:lnTo>
                      <a:pt x="179" y="78"/>
                    </a:lnTo>
                    <a:lnTo>
                      <a:pt x="145" y="91"/>
                    </a:lnTo>
                    <a:lnTo>
                      <a:pt x="112" y="105"/>
                    </a:lnTo>
                    <a:lnTo>
                      <a:pt x="75" y="122"/>
                    </a:lnTo>
                    <a:lnTo>
                      <a:pt x="37" y="139"/>
                    </a:lnTo>
                    <a:lnTo>
                      <a:pt x="0" y="157"/>
                    </a:lnTo>
                    <a:lnTo>
                      <a:pt x="0"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78560" y="3522240"/>
                <a:ext cx="187560" cy="409320"/>
              </a:xfrm>
              <a:custGeom>
                <a:avLst/>
                <a:gdLst/>
                <a:ahLst/>
                <a:rect l="l" t="t" r="r" b="b"/>
                <a:pathLst>
                  <a:path w="375" h="820">
                    <a:moveTo>
                      <a:pt x="185" y="435"/>
                    </a:moveTo>
                    <a:lnTo>
                      <a:pt x="189" y="387"/>
                    </a:lnTo>
                    <a:lnTo>
                      <a:pt x="198" y="341"/>
                    </a:lnTo>
                    <a:lnTo>
                      <a:pt x="213" y="294"/>
                    </a:lnTo>
                    <a:lnTo>
                      <a:pt x="232" y="250"/>
                    </a:lnTo>
                    <a:lnTo>
                      <a:pt x="256" y="208"/>
                    </a:lnTo>
                    <a:lnTo>
                      <a:pt x="286" y="168"/>
                    </a:lnTo>
                    <a:lnTo>
                      <a:pt x="320" y="133"/>
                    </a:lnTo>
                    <a:lnTo>
                      <a:pt x="357" y="100"/>
                    </a:lnTo>
                    <a:lnTo>
                      <a:pt x="361" y="73"/>
                    </a:lnTo>
                    <a:lnTo>
                      <a:pt x="366" y="49"/>
                    </a:lnTo>
                    <a:lnTo>
                      <a:pt x="370" y="25"/>
                    </a:lnTo>
                    <a:lnTo>
                      <a:pt x="375" y="0"/>
                    </a:lnTo>
                    <a:lnTo>
                      <a:pt x="340" y="10"/>
                    </a:lnTo>
                    <a:lnTo>
                      <a:pt x="306" y="25"/>
                    </a:lnTo>
                    <a:lnTo>
                      <a:pt x="269" y="44"/>
                    </a:lnTo>
                    <a:lnTo>
                      <a:pt x="237" y="65"/>
                    </a:lnTo>
                    <a:lnTo>
                      <a:pt x="203" y="88"/>
                    </a:lnTo>
                    <a:lnTo>
                      <a:pt x="173" y="116"/>
                    </a:lnTo>
                    <a:lnTo>
                      <a:pt x="143" y="144"/>
                    </a:lnTo>
                    <a:lnTo>
                      <a:pt x="117" y="176"/>
                    </a:lnTo>
                    <a:lnTo>
                      <a:pt x="90" y="208"/>
                    </a:lnTo>
                    <a:lnTo>
                      <a:pt x="68" y="243"/>
                    </a:lnTo>
                    <a:lnTo>
                      <a:pt x="48" y="280"/>
                    </a:lnTo>
                    <a:lnTo>
                      <a:pt x="31" y="315"/>
                    </a:lnTo>
                    <a:lnTo>
                      <a:pt x="17" y="353"/>
                    </a:lnTo>
                    <a:lnTo>
                      <a:pt x="6" y="393"/>
                    </a:lnTo>
                    <a:lnTo>
                      <a:pt x="1" y="431"/>
                    </a:lnTo>
                    <a:lnTo>
                      <a:pt x="0" y="469"/>
                    </a:lnTo>
                    <a:lnTo>
                      <a:pt x="2" y="506"/>
                    </a:lnTo>
                    <a:lnTo>
                      <a:pt x="9" y="540"/>
                    </a:lnTo>
                    <a:lnTo>
                      <a:pt x="18" y="574"/>
                    </a:lnTo>
                    <a:lnTo>
                      <a:pt x="31" y="605"/>
                    </a:lnTo>
                    <a:lnTo>
                      <a:pt x="48" y="635"/>
                    </a:lnTo>
                    <a:lnTo>
                      <a:pt x="68" y="663"/>
                    </a:lnTo>
                    <a:lnTo>
                      <a:pt x="88" y="686"/>
                    </a:lnTo>
                    <a:lnTo>
                      <a:pt x="111" y="709"/>
                    </a:lnTo>
                    <a:lnTo>
                      <a:pt x="138" y="730"/>
                    </a:lnTo>
                    <a:lnTo>
                      <a:pt x="164" y="748"/>
                    </a:lnTo>
                    <a:lnTo>
                      <a:pt x="194" y="765"/>
                    </a:lnTo>
                    <a:lnTo>
                      <a:pt x="224" y="780"/>
                    </a:lnTo>
                    <a:lnTo>
                      <a:pt x="256" y="793"/>
                    </a:lnTo>
                    <a:lnTo>
                      <a:pt x="289" y="803"/>
                    </a:lnTo>
                    <a:lnTo>
                      <a:pt x="323" y="814"/>
                    </a:lnTo>
                    <a:lnTo>
                      <a:pt x="357" y="820"/>
                    </a:lnTo>
                    <a:lnTo>
                      <a:pt x="354" y="797"/>
                    </a:lnTo>
                    <a:lnTo>
                      <a:pt x="351" y="776"/>
                    </a:lnTo>
                    <a:lnTo>
                      <a:pt x="349" y="755"/>
                    </a:lnTo>
                    <a:lnTo>
                      <a:pt x="349" y="732"/>
                    </a:lnTo>
                    <a:lnTo>
                      <a:pt x="314" y="704"/>
                    </a:lnTo>
                    <a:lnTo>
                      <a:pt x="282" y="673"/>
                    </a:lnTo>
                    <a:lnTo>
                      <a:pt x="255" y="642"/>
                    </a:lnTo>
                    <a:lnTo>
                      <a:pt x="232" y="605"/>
                    </a:lnTo>
                    <a:lnTo>
                      <a:pt x="213" y="566"/>
                    </a:lnTo>
                    <a:lnTo>
                      <a:pt x="198" y="526"/>
                    </a:lnTo>
                    <a:lnTo>
                      <a:pt x="189" y="482"/>
                    </a:lnTo>
                    <a:lnTo>
                      <a:pt x="185" y="435"/>
                    </a:lnTo>
                    <a:lnTo>
                      <a:pt x="185" y="435"/>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70720" y="3572280"/>
                <a:ext cx="85680" cy="315360"/>
              </a:xfrm>
              <a:custGeom>
                <a:avLst/>
                <a:gdLst/>
                <a:ahLst/>
                <a:rect l="l" t="t" r="r" b="b"/>
                <a:pathLst>
                  <a:path w="172" h="632">
                    <a:moveTo>
                      <a:pt x="0" y="335"/>
                    </a:moveTo>
                    <a:lnTo>
                      <a:pt x="4" y="382"/>
                    </a:lnTo>
                    <a:lnTo>
                      <a:pt x="13" y="426"/>
                    </a:lnTo>
                    <a:lnTo>
                      <a:pt x="28" y="466"/>
                    </a:lnTo>
                    <a:lnTo>
                      <a:pt x="47" y="505"/>
                    </a:lnTo>
                    <a:lnTo>
                      <a:pt x="70" y="542"/>
                    </a:lnTo>
                    <a:lnTo>
                      <a:pt x="97" y="573"/>
                    </a:lnTo>
                    <a:lnTo>
                      <a:pt x="129" y="604"/>
                    </a:lnTo>
                    <a:lnTo>
                      <a:pt x="164" y="632"/>
                    </a:lnTo>
                    <a:lnTo>
                      <a:pt x="151" y="468"/>
                    </a:lnTo>
                    <a:lnTo>
                      <a:pt x="147" y="318"/>
                    </a:lnTo>
                    <a:lnTo>
                      <a:pt x="152" y="167"/>
                    </a:lnTo>
                    <a:lnTo>
                      <a:pt x="172" y="0"/>
                    </a:lnTo>
                    <a:lnTo>
                      <a:pt x="135" y="33"/>
                    </a:lnTo>
                    <a:lnTo>
                      <a:pt x="101" y="68"/>
                    </a:lnTo>
                    <a:lnTo>
                      <a:pt x="71" y="108"/>
                    </a:lnTo>
                    <a:lnTo>
                      <a:pt x="47" y="150"/>
                    </a:lnTo>
                    <a:lnTo>
                      <a:pt x="28" y="194"/>
                    </a:lnTo>
                    <a:lnTo>
                      <a:pt x="13" y="241"/>
                    </a:lnTo>
                    <a:lnTo>
                      <a:pt x="4" y="287"/>
                    </a:lnTo>
                    <a:lnTo>
                      <a:pt x="0" y="335"/>
                    </a:lnTo>
                    <a:lnTo>
                      <a:pt x="0" y="335"/>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59040" y="3486240"/>
                <a:ext cx="315360" cy="559080"/>
              </a:xfrm>
              <a:custGeom>
                <a:avLst/>
                <a:gdLst/>
                <a:ahLst/>
                <a:rect l="l" t="t" r="r" b="b"/>
                <a:pathLst>
                  <a:path w="634" h="1119">
                    <a:moveTo>
                      <a:pt x="60" y="1119"/>
                    </a:moveTo>
                    <a:lnTo>
                      <a:pt x="100" y="1101"/>
                    </a:lnTo>
                    <a:lnTo>
                      <a:pt x="135" y="1084"/>
                    </a:lnTo>
                    <a:lnTo>
                      <a:pt x="172" y="1067"/>
                    </a:lnTo>
                    <a:lnTo>
                      <a:pt x="205" y="1053"/>
                    </a:lnTo>
                    <a:lnTo>
                      <a:pt x="239" y="1040"/>
                    </a:lnTo>
                    <a:lnTo>
                      <a:pt x="273" y="1027"/>
                    </a:lnTo>
                    <a:lnTo>
                      <a:pt x="306" y="1016"/>
                    </a:lnTo>
                    <a:lnTo>
                      <a:pt x="338" y="1009"/>
                    </a:lnTo>
                    <a:lnTo>
                      <a:pt x="368" y="999"/>
                    </a:lnTo>
                    <a:lnTo>
                      <a:pt x="401" y="992"/>
                    </a:lnTo>
                    <a:lnTo>
                      <a:pt x="432" y="985"/>
                    </a:lnTo>
                    <a:lnTo>
                      <a:pt x="465" y="979"/>
                    </a:lnTo>
                    <a:lnTo>
                      <a:pt x="498" y="975"/>
                    </a:lnTo>
                    <a:lnTo>
                      <a:pt x="532" y="971"/>
                    </a:lnTo>
                    <a:lnTo>
                      <a:pt x="569" y="966"/>
                    </a:lnTo>
                    <a:lnTo>
                      <a:pt x="604" y="962"/>
                    </a:lnTo>
                    <a:lnTo>
                      <a:pt x="603" y="943"/>
                    </a:lnTo>
                    <a:lnTo>
                      <a:pt x="603" y="927"/>
                    </a:lnTo>
                    <a:lnTo>
                      <a:pt x="600" y="910"/>
                    </a:lnTo>
                    <a:lnTo>
                      <a:pt x="599" y="890"/>
                    </a:lnTo>
                    <a:lnTo>
                      <a:pt x="565" y="884"/>
                    </a:lnTo>
                    <a:lnTo>
                      <a:pt x="531" y="873"/>
                    </a:lnTo>
                    <a:lnTo>
                      <a:pt x="498" y="863"/>
                    </a:lnTo>
                    <a:lnTo>
                      <a:pt x="466" y="850"/>
                    </a:lnTo>
                    <a:lnTo>
                      <a:pt x="436" y="835"/>
                    </a:lnTo>
                    <a:lnTo>
                      <a:pt x="406" y="818"/>
                    </a:lnTo>
                    <a:lnTo>
                      <a:pt x="380" y="800"/>
                    </a:lnTo>
                    <a:lnTo>
                      <a:pt x="353" y="779"/>
                    </a:lnTo>
                    <a:lnTo>
                      <a:pt x="330" y="756"/>
                    </a:lnTo>
                    <a:lnTo>
                      <a:pt x="310" y="733"/>
                    </a:lnTo>
                    <a:lnTo>
                      <a:pt x="290" y="705"/>
                    </a:lnTo>
                    <a:lnTo>
                      <a:pt x="273" y="675"/>
                    </a:lnTo>
                    <a:lnTo>
                      <a:pt x="260" y="644"/>
                    </a:lnTo>
                    <a:lnTo>
                      <a:pt x="251" y="610"/>
                    </a:lnTo>
                    <a:lnTo>
                      <a:pt x="244" y="576"/>
                    </a:lnTo>
                    <a:lnTo>
                      <a:pt x="242" y="539"/>
                    </a:lnTo>
                    <a:lnTo>
                      <a:pt x="243" y="501"/>
                    </a:lnTo>
                    <a:lnTo>
                      <a:pt x="248" y="463"/>
                    </a:lnTo>
                    <a:lnTo>
                      <a:pt x="259" y="423"/>
                    </a:lnTo>
                    <a:lnTo>
                      <a:pt x="273" y="385"/>
                    </a:lnTo>
                    <a:lnTo>
                      <a:pt x="290" y="350"/>
                    </a:lnTo>
                    <a:lnTo>
                      <a:pt x="310" y="313"/>
                    </a:lnTo>
                    <a:lnTo>
                      <a:pt x="332" y="278"/>
                    </a:lnTo>
                    <a:lnTo>
                      <a:pt x="359" y="246"/>
                    </a:lnTo>
                    <a:lnTo>
                      <a:pt x="385" y="214"/>
                    </a:lnTo>
                    <a:lnTo>
                      <a:pt x="415" y="186"/>
                    </a:lnTo>
                    <a:lnTo>
                      <a:pt x="445" y="158"/>
                    </a:lnTo>
                    <a:lnTo>
                      <a:pt x="479" y="135"/>
                    </a:lnTo>
                    <a:lnTo>
                      <a:pt x="511" y="114"/>
                    </a:lnTo>
                    <a:lnTo>
                      <a:pt x="548" y="95"/>
                    </a:lnTo>
                    <a:lnTo>
                      <a:pt x="582" y="80"/>
                    </a:lnTo>
                    <a:lnTo>
                      <a:pt x="617" y="70"/>
                    </a:lnTo>
                    <a:lnTo>
                      <a:pt x="623" y="50"/>
                    </a:lnTo>
                    <a:lnTo>
                      <a:pt x="627" y="33"/>
                    </a:lnTo>
                    <a:lnTo>
                      <a:pt x="629" y="16"/>
                    </a:lnTo>
                    <a:lnTo>
                      <a:pt x="634" y="0"/>
                    </a:lnTo>
                    <a:lnTo>
                      <a:pt x="599" y="2"/>
                    </a:lnTo>
                    <a:lnTo>
                      <a:pt x="562" y="5"/>
                    </a:lnTo>
                    <a:lnTo>
                      <a:pt x="528" y="6"/>
                    </a:lnTo>
                    <a:lnTo>
                      <a:pt x="497" y="10"/>
                    </a:lnTo>
                    <a:lnTo>
                      <a:pt x="462" y="15"/>
                    </a:lnTo>
                    <a:lnTo>
                      <a:pt x="431" y="19"/>
                    </a:lnTo>
                    <a:lnTo>
                      <a:pt x="398" y="26"/>
                    </a:lnTo>
                    <a:lnTo>
                      <a:pt x="366" y="32"/>
                    </a:lnTo>
                    <a:lnTo>
                      <a:pt x="334" y="40"/>
                    </a:lnTo>
                    <a:lnTo>
                      <a:pt x="302" y="50"/>
                    </a:lnTo>
                    <a:lnTo>
                      <a:pt x="269" y="61"/>
                    </a:lnTo>
                    <a:lnTo>
                      <a:pt x="235" y="71"/>
                    </a:lnTo>
                    <a:lnTo>
                      <a:pt x="202" y="84"/>
                    </a:lnTo>
                    <a:lnTo>
                      <a:pt x="166" y="98"/>
                    </a:lnTo>
                    <a:lnTo>
                      <a:pt x="127" y="115"/>
                    </a:lnTo>
                    <a:lnTo>
                      <a:pt x="90" y="132"/>
                    </a:lnTo>
                    <a:lnTo>
                      <a:pt x="47" y="269"/>
                    </a:lnTo>
                    <a:lnTo>
                      <a:pt x="18" y="398"/>
                    </a:lnTo>
                    <a:lnTo>
                      <a:pt x="4" y="520"/>
                    </a:lnTo>
                    <a:lnTo>
                      <a:pt x="0" y="636"/>
                    </a:lnTo>
                    <a:lnTo>
                      <a:pt x="5" y="752"/>
                    </a:lnTo>
                    <a:lnTo>
                      <a:pt x="21" y="869"/>
                    </a:lnTo>
                    <a:lnTo>
                      <a:pt x="37" y="992"/>
                    </a:lnTo>
                    <a:lnTo>
                      <a:pt x="60" y="1119"/>
                    </a:lnTo>
                    <a:lnTo>
                      <a:pt x="60" y="111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947600" y="3593880"/>
                <a:ext cx="410760" cy="527400"/>
              </a:xfrm>
              <a:custGeom>
                <a:avLst/>
                <a:gdLst/>
                <a:ahLst/>
                <a:rect l="l" t="t" r="r" b="b"/>
                <a:pathLst>
                  <a:path w="821" h="1058">
                    <a:moveTo>
                      <a:pt x="770" y="952"/>
                    </a:moveTo>
                    <a:lnTo>
                      <a:pt x="753" y="823"/>
                    </a:lnTo>
                    <a:lnTo>
                      <a:pt x="740" y="703"/>
                    </a:lnTo>
                    <a:lnTo>
                      <a:pt x="732" y="590"/>
                    </a:lnTo>
                    <a:lnTo>
                      <a:pt x="731" y="478"/>
                    </a:lnTo>
                    <a:lnTo>
                      <a:pt x="736" y="365"/>
                    </a:lnTo>
                    <a:lnTo>
                      <a:pt x="753" y="252"/>
                    </a:lnTo>
                    <a:lnTo>
                      <a:pt x="782" y="129"/>
                    </a:lnTo>
                    <a:lnTo>
                      <a:pt x="821" y="0"/>
                    </a:lnTo>
                    <a:lnTo>
                      <a:pt x="766" y="24"/>
                    </a:lnTo>
                    <a:lnTo>
                      <a:pt x="713" y="43"/>
                    </a:lnTo>
                    <a:lnTo>
                      <a:pt x="665" y="62"/>
                    </a:lnTo>
                    <a:lnTo>
                      <a:pt x="615" y="75"/>
                    </a:lnTo>
                    <a:lnTo>
                      <a:pt x="568" y="88"/>
                    </a:lnTo>
                    <a:lnTo>
                      <a:pt x="520" y="98"/>
                    </a:lnTo>
                    <a:lnTo>
                      <a:pt x="473" y="103"/>
                    </a:lnTo>
                    <a:lnTo>
                      <a:pt x="428" y="108"/>
                    </a:lnTo>
                    <a:lnTo>
                      <a:pt x="382" y="112"/>
                    </a:lnTo>
                    <a:lnTo>
                      <a:pt x="338" y="112"/>
                    </a:lnTo>
                    <a:lnTo>
                      <a:pt x="292" y="112"/>
                    </a:lnTo>
                    <a:lnTo>
                      <a:pt x="244" y="110"/>
                    </a:lnTo>
                    <a:lnTo>
                      <a:pt x="197" y="106"/>
                    </a:lnTo>
                    <a:lnTo>
                      <a:pt x="148" y="102"/>
                    </a:lnTo>
                    <a:lnTo>
                      <a:pt x="97" y="95"/>
                    </a:lnTo>
                    <a:lnTo>
                      <a:pt x="45" y="89"/>
                    </a:lnTo>
                    <a:lnTo>
                      <a:pt x="24" y="218"/>
                    </a:lnTo>
                    <a:lnTo>
                      <a:pt x="11" y="338"/>
                    </a:lnTo>
                    <a:lnTo>
                      <a:pt x="3" y="451"/>
                    </a:lnTo>
                    <a:lnTo>
                      <a:pt x="0" y="560"/>
                    </a:lnTo>
                    <a:lnTo>
                      <a:pt x="0" y="672"/>
                    </a:lnTo>
                    <a:lnTo>
                      <a:pt x="3" y="784"/>
                    </a:lnTo>
                    <a:lnTo>
                      <a:pt x="7" y="904"/>
                    </a:lnTo>
                    <a:lnTo>
                      <a:pt x="13" y="1030"/>
                    </a:lnTo>
                    <a:lnTo>
                      <a:pt x="66" y="1038"/>
                    </a:lnTo>
                    <a:lnTo>
                      <a:pt x="114" y="1045"/>
                    </a:lnTo>
                    <a:lnTo>
                      <a:pt x="164" y="1048"/>
                    </a:lnTo>
                    <a:lnTo>
                      <a:pt x="210" y="1054"/>
                    </a:lnTo>
                    <a:lnTo>
                      <a:pt x="256" y="1055"/>
                    </a:lnTo>
                    <a:lnTo>
                      <a:pt x="302" y="1058"/>
                    </a:lnTo>
                    <a:lnTo>
                      <a:pt x="345" y="1058"/>
                    </a:lnTo>
                    <a:lnTo>
                      <a:pt x="390" y="1054"/>
                    </a:lnTo>
                    <a:lnTo>
                      <a:pt x="434" y="1048"/>
                    </a:lnTo>
                    <a:lnTo>
                      <a:pt x="479" y="1043"/>
                    </a:lnTo>
                    <a:lnTo>
                      <a:pt x="524" y="1034"/>
                    </a:lnTo>
                    <a:lnTo>
                      <a:pt x="570" y="1024"/>
                    </a:lnTo>
                    <a:lnTo>
                      <a:pt x="617" y="1009"/>
                    </a:lnTo>
                    <a:lnTo>
                      <a:pt x="666" y="994"/>
                    </a:lnTo>
                    <a:lnTo>
                      <a:pt x="717" y="976"/>
                    </a:lnTo>
                    <a:lnTo>
                      <a:pt x="770" y="952"/>
                    </a:lnTo>
                    <a:lnTo>
                      <a:pt x="770" y="95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5160" y="4069440"/>
                <a:ext cx="423000" cy="515160"/>
              </a:xfrm>
              <a:custGeom>
                <a:avLst/>
                <a:gdLst/>
                <a:ahLst/>
                <a:rect l="l" t="t" r="r" b="b"/>
                <a:pathLst>
                  <a:path w="850" h="1031">
                    <a:moveTo>
                      <a:pt x="757" y="0"/>
                    </a:moveTo>
                    <a:lnTo>
                      <a:pt x="704" y="21"/>
                    </a:lnTo>
                    <a:lnTo>
                      <a:pt x="653" y="40"/>
                    </a:lnTo>
                    <a:lnTo>
                      <a:pt x="604" y="57"/>
                    </a:lnTo>
                    <a:lnTo>
                      <a:pt x="557" y="72"/>
                    </a:lnTo>
                    <a:lnTo>
                      <a:pt x="511" y="82"/>
                    </a:lnTo>
                    <a:lnTo>
                      <a:pt x="466" y="91"/>
                    </a:lnTo>
                    <a:lnTo>
                      <a:pt x="421" y="96"/>
                    </a:lnTo>
                    <a:lnTo>
                      <a:pt x="377" y="102"/>
                    </a:lnTo>
                    <a:lnTo>
                      <a:pt x="332" y="106"/>
                    </a:lnTo>
                    <a:lnTo>
                      <a:pt x="289" y="106"/>
                    </a:lnTo>
                    <a:lnTo>
                      <a:pt x="243" y="106"/>
                    </a:lnTo>
                    <a:lnTo>
                      <a:pt x="197" y="102"/>
                    </a:lnTo>
                    <a:lnTo>
                      <a:pt x="151" y="96"/>
                    </a:lnTo>
                    <a:lnTo>
                      <a:pt x="101" y="93"/>
                    </a:lnTo>
                    <a:lnTo>
                      <a:pt x="53" y="86"/>
                    </a:lnTo>
                    <a:lnTo>
                      <a:pt x="0" y="78"/>
                    </a:lnTo>
                    <a:lnTo>
                      <a:pt x="15" y="322"/>
                    </a:lnTo>
                    <a:lnTo>
                      <a:pt x="26" y="543"/>
                    </a:lnTo>
                    <a:lnTo>
                      <a:pt x="29" y="762"/>
                    </a:lnTo>
                    <a:lnTo>
                      <a:pt x="26" y="1004"/>
                    </a:lnTo>
                    <a:lnTo>
                      <a:pt x="80" y="1013"/>
                    </a:lnTo>
                    <a:lnTo>
                      <a:pt x="135" y="1020"/>
                    </a:lnTo>
                    <a:lnTo>
                      <a:pt x="187" y="1025"/>
                    </a:lnTo>
                    <a:lnTo>
                      <a:pt x="235" y="1030"/>
                    </a:lnTo>
                    <a:lnTo>
                      <a:pt x="285" y="1031"/>
                    </a:lnTo>
                    <a:lnTo>
                      <a:pt x="334" y="1031"/>
                    </a:lnTo>
                    <a:lnTo>
                      <a:pt x="381" y="1031"/>
                    </a:lnTo>
                    <a:lnTo>
                      <a:pt x="428" y="1030"/>
                    </a:lnTo>
                    <a:lnTo>
                      <a:pt x="476" y="1025"/>
                    </a:lnTo>
                    <a:lnTo>
                      <a:pt x="524" y="1020"/>
                    </a:lnTo>
                    <a:lnTo>
                      <a:pt x="574" y="1010"/>
                    </a:lnTo>
                    <a:lnTo>
                      <a:pt x="624" y="1000"/>
                    </a:lnTo>
                    <a:lnTo>
                      <a:pt x="677" y="987"/>
                    </a:lnTo>
                    <a:lnTo>
                      <a:pt x="729" y="970"/>
                    </a:lnTo>
                    <a:lnTo>
                      <a:pt x="786" y="952"/>
                    </a:lnTo>
                    <a:lnTo>
                      <a:pt x="844" y="931"/>
                    </a:lnTo>
                    <a:lnTo>
                      <a:pt x="850" y="806"/>
                    </a:lnTo>
                    <a:lnTo>
                      <a:pt x="848" y="689"/>
                    </a:lnTo>
                    <a:lnTo>
                      <a:pt x="841" y="577"/>
                    </a:lnTo>
                    <a:lnTo>
                      <a:pt x="829" y="468"/>
                    </a:lnTo>
                    <a:lnTo>
                      <a:pt x="815" y="359"/>
                    </a:lnTo>
                    <a:lnTo>
                      <a:pt x="795" y="246"/>
                    </a:lnTo>
                    <a:lnTo>
                      <a:pt x="775" y="129"/>
                    </a:lnTo>
                    <a:lnTo>
                      <a:pt x="757" y="0"/>
                    </a:lnTo>
                    <a:lnTo>
                      <a:pt x="757"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1844640" y="3505320"/>
              <a:ext cx="1996560" cy="1609200"/>
              <a:chOff x="1844640" y="3505320"/>
              <a:chExt cx="1996560" cy="1609200"/>
            </a:xfrm>
          </p:grpSpPr>
          <p:sp>
            <p:nvSpPr>
              <p:cNvPr id="290" name=""/>
              <p:cNvSpPr/>
              <p:nvPr/>
            </p:nvSpPr>
            <p:spPr>
              <a:xfrm>
                <a:off x="1916280" y="3788640"/>
                <a:ext cx="96480" cy="1325880"/>
              </a:xfrm>
              <a:custGeom>
                <a:avLst/>
                <a:gdLst/>
                <a:ahLst/>
                <a:rect l="l" t="t" r="r" b="b"/>
                <a:pathLst>
                  <a:path w="191" h="2639">
                    <a:moveTo>
                      <a:pt x="70" y="0"/>
                    </a:moveTo>
                    <a:lnTo>
                      <a:pt x="157" y="13"/>
                    </a:lnTo>
                    <a:lnTo>
                      <a:pt x="191" y="2639"/>
                    </a:lnTo>
                    <a:lnTo>
                      <a:pt x="0" y="2639"/>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844640" y="3505320"/>
                <a:ext cx="246600" cy="275040"/>
              </a:xfrm>
              <a:custGeom>
                <a:avLst/>
                <a:gdLst/>
                <a:ahLst/>
                <a:rect l="l" t="t" r="r" b="b"/>
                <a:pathLst>
                  <a:path w="491" h="546">
                    <a:moveTo>
                      <a:pt x="245" y="0"/>
                    </a:moveTo>
                    <a:lnTo>
                      <a:pt x="197" y="5"/>
                    </a:lnTo>
                    <a:lnTo>
                      <a:pt x="149" y="22"/>
                    </a:lnTo>
                    <a:lnTo>
                      <a:pt x="107" y="47"/>
                    </a:lnTo>
                    <a:lnTo>
                      <a:pt x="71" y="79"/>
                    </a:lnTo>
                    <a:lnTo>
                      <a:pt x="42" y="119"/>
                    </a:lnTo>
                    <a:lnTo>
                      <a:pt x="20" y="166"/>
                    </a:lnTo>
                    <a:lnTo>
                      <a:pt x="4" y="218"/>
                    </a:lnTo>
                    <a:lnTo>
                      <a:pt x="0" y="273"/>
                    </a:lnTo>
                    <a:lnTo>
                      <a:pt x="4" y="328"/>
                    </a:lnTo>
                    <a:lnTo>
                      <a:pt x="20" y="380"/>
                    </a:lnTo>
                    <a:lnTo>
                      <a:pt x="42" y="428"/>
                    </a:lnTo>
                    <a:lnTo>
                      <a:pt x="71" y="467"/>
                    </a:lnTo>
                    <a:lnTo>
                      <a:pt x="107" y="499"/>
                    </a:lnTo>
                    <a:lnTo>
                      <a:pt x="149" y="525"/>
                    </a:lnTo>
                    <a:lnTo>
                      <a:pt x="197" y="541"/>
                    </a:lnTo>
                    <a:lnTo>
                      <a:pt x="245" y="546"/>
                    </a:lnTo>
                    <a:lnTo>
                      <a:pt x="295" y="541"/>
                    </a:lnTo>
                    <a:lnTo>
                      <a:pt x="341" y="525"/>
                    </a:lnTo>
                    <a:lnTo>
                      <a:pt x="384" y="499"/>
                    </a:lnTo>
                    <a:lnTo>
                      <a:pt x="420" y="467"/>
                    </a:lnTo>
                    <a:lnTo>
                      <a:pt x="448" y="428"/>
                    </a:lnTo>
                    <a:lnTo>
                      <a:pt x="471" y="380"/>
                    </a:lnTo>
                    <a:lnTo>
                      <a:pt x="486" y="328"/>
                    </a:lnTo>
                    <a:lnTo>
                      <a:pt x="491" y="273"/>
                    </a:lnTo>
                    <a:lnTo>
                      <a:pt x="486" y="218"/>
                    </a:lnTo>
                    <a:lnTo>
                      <a:pt x="471" y="166"/>
                    </a:lnTo>
                    <a:lnTo>
                      <a:pt x="448" y="119"/>
                    </a:lnTo>
                    <a:lnTo>
                      <a:pt x="420" y="79"/>
                    </a:lnTo>
                    <a:lnTo>
                      <a:pt x="384" y="47"/>
                    </a:lnTo>
                    <a:lnTo>
                      <a:pt x="341" y="22"/>
                    </a:lnTo>
                    <a:lnTo>
                      <a:pt x="295" y="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70560" y="3569400"/>
                <a:ext cx="168480" cy="180720"/>
              </a:xfrm>
              <a:custGeom>
                <a:avLst/>
                <a:gdLst/>
                <a:ahLst/>
                <a:rect l="l" t="t" r="r" b="b"/>
                <a:pathLst>
                  <a:path w="337" h="360">
                    <a:moveTo>
                      <a:pt x="337" y="291"/>
                    </a:moveTo>
                    <a:lnTo>
                      <a:pt x="308" y="321"/>
                    </a:lnTo>
                    <a:lnTo>
                      <a:pt x="274" y="344"/>
                    </a:lnTo>
                    <a:lnTo>
                      <a:pt x="241" y="357"/>
                    </a:lnTo>
                    <a:lnTo>
                      <a:pt x="203" y="360"/>
                    </a:lnTo>
                    <a:lnTo>
                      <a:pt x="166" y="360"/>
                    </a:lnTo>
                    <a:lnTo>
                      <a:pt x="130" y="351"/>
                    </a:lnTo>
                    <a:lnTo>
                      <a:pt x="95" y="331"/>
                    </a:lnTo>
                    <a:lnTo>
                      <a:pt x="63" y="307"/>
                    </a:lnTo>
                    <a:lnTo>
                      <a:pt x="36" y="274"/>
                    </a:lnTo>
                    <a:lnTo>
                      <a:pt x="18" y="237"/>
                    </a:lnTo>
                    <a:lnTo>
                      <a:pt x="5" y="200"/>
                    </a:lnTo>
                    <a:lnTo>
                      <a:pt x="0" y="157"/>
                    </a:lnTo>
                    <a:lnTo>
                      <a:pt x="3" y="115"/>
                    </a:lnTo>
                    <a:lnTo>
                      <a:pt x="12" y="76"/>
                    </a:lnTo>
                    <a:lnTo>
                      <a:pt x="27" y="35"/>
                    </a:lnTo>
                    <a:lnTo>
                      <a:pt x="50" y="0"/>
                    </a:lnTo>
                    <a:lnTo>
                      <a:pt x="50" y="5"/>
                    </a:lnTo>
                    <a:lnTo>
                      <a:pt x="47" y="18"/>
                    </a:lnTo>
                    <a:lnTo>
                      <a:pt x="50" y="35"/>
                    </a:lnTo>
                    <a:lnTo>
                      <a:pt x="54" y="60"/>
                    </a:lnTo>
                    <a:lnTo>
                      <a:pt x="63" y="90"/>
                    </a:lnTo>
                    <a:lnTo>
                      <a:pt x="78" y="123"/>
                    </a:lnTo>
                    <a:lnTo>
                      <a:pt x="103" y="160"/>
                    </a:lnTo>
                    <a:lnTo>
                      <a:pt x="139" y="197"/>
                    </a:lnTo>
                    <a:lnTo>
                      <a:pt x="179" y="229"/>
                    </a:lnTo>
                    <a:lnTo>
                      <a:pt x="217" y="254"/>
                    </a:lnTo>
                    <a:lnTo>
                      <a:pt x="250" y="271"/>
                    </a:lnTo>
                    <a:lnTo>
                      <a:pt x="280" y="281"/>
                    </a:lnTo>
                    <a:lnTo>
                      <a:pt x="304" y="289"/>
                    </a:lnTo>
                    <a:lnTo>
                      <a:pt x="322" y="291"/>
                    </a:lnTo>
                    <a:lnTo>
                      <a:pt x="333" y="291"/>
                    </a:lnTo>
                    <a:lnTo>
                      <a:pt x="337" y="291"/>
                    </a:lnTo>
                    <a:lnTo>
                      <a:pt x="337" y="2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82880" y="3557520"/>
                <a:ext cx="52200" cy="57600"/>
              </a:xfrm>
              <a:custGeom>
                <a:avLst/>
                <a:gdLst/>
                <a:ahLst/>
                <a:rect l="l" t="t" r="r" b="b"/>
                <a:pathLst>
                  <a:path w="105" h="116">
                    <a:moveTo>
                      <a:pt x="54" y="0"/>
                    </a:moveTo>
                    <a:lnTo>
                      <a:pt x="34" y="5"/>
                    </a:lnTo>
                    <a:lnTo>
                      <a:pt x="16" y="17"/>
                    </a:lnTo>
                    <a:lnTo>
                      <a:pt x="4" y="37"/>
                    </a:lnTo>
                    <a:lnTo>
                      <a:pt x="0" y="59"/>
                    </a:lnTo>
                    <a:lnTo>
                      <a:pt x="4" y="82"/>
                    </a:lnTo>
                    <a:lnTo>
                      <a:pt x="16" y="100"/>
                    </a:lnTo>
                    <a:lnTo>
                      <a:pt x="34" y="111"/>
                    </a:lnTo>
                    <a:lnTo>
                      <a:pt x="54" y="116"/>
                    </a:lnTo>
                    <a:lnTo>
                      <a:pt x="74" y="111"/>
                    </a:lnTo>
                    <a:lnTo>
                      <a:pt x="90" y="100"/>
                    </a:lnTo>
                    <a:lnTo>
                      <a:pt x="101" y="82"/>
                    </a:lnTo>
                    <a:lnTo>
                      <a:pt x="105" y="59"/>
                    </a:lnTo>
                    <a:lnTo>
                      <a:pt x="101" y="37"/>
                    </a:lnTo>
                    <a:lnTo>
                      <a:pt x="90" y="17"/>
                    </a:lnTo>
                    <a:lnTo>
                      <a:pt x="74" y="5"/>
                    </a:lnTo>
                    <a:lnTo>
                      <a:pt x="54" y="0"/>
                    </a:lnTo>
                    <a:lnTo>
                      <a:pt x="5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6" name=""/>
              <p:cNvSpPr/>
              <p:nvPr/>
            </p:nvSpPr>
            <p:spPr>
              <a:xfrm>
                <a:off x="1898640" y="3744360"/>
                <a:ext cx="132480" cy="65880"/>
              </a:xfrm>
              <a:custGeom>
                <a:avLst/>
                <a:gdLst/>
                <a:ahLst/>
                <a:rect l="l" t="t" r="r" b="b"/>
                <a:pathLst>
                  <a:path w="266" h="132">
                    <a:moveTo>
                      <a:pt x="0" y="9"/>
                    </a:moveTo>
                    <a:lnTo>
                      <a:pt x="3" y="12"/>
                    </a:lnTo>
                    <a:lnTo>
                      <a:pt x="9" y="20"/>
                    </a:lnTo>
                    <a:lnTo>
                      <a:pt x="22" y="30"/>
                    </a:lnTo>
                    <a:lnTo>
                      <a:pt x="39" y="40"/>
                    </a:lnTo>
                    <a:lnTo>
                      <a:pt x="58" y="50"/>
                    </a:lnTo>
                    <a:lnTo>
                      <a:pt x="83" y="59"/>
                    </a:lnTo>
                    <a:lnTo>
                      <a:pt x="110" y="67"/>
                    </a:lnTo>
                    <a:lnTo>
                      <a:pt x="138" y="69"/>
                    </a:lnTo>
                    <a:lnTo>
                      <a:pt x="167" y="67"/>
                    </a:lnTo>
                    <a:lnTo>
                      <a:pt x="194" y="59"/>
                    </a:lnTo>
                    <a:lnTo>
                      <a:pt x="215" y="48"/>
                    </a:lnTo>
                    <a:lnTo>
                      <a:pt x="233" y="35"/>
                    </a:lnTo>
                    <a:lnTo>
                      <a:pt x="248" y="22"/>
                    </a:lnTo>
                    <a:lnTo>
                      <a:pt x="257" y="9"/>
                    </a:lnTo>
                    <a:lnTo>
                      <a:pt x="263" y="3"/>
                    </a:lnTo>
                    <a:lnTo>
                      <a:pt x="266" y="0"/>
                    </a:lnTo>
                    <a:lnTo>
                      <a:pt x="248" y="132"/>
                    </a:lnTo>
                    <a:lnTo>
                      <a:pt x="30" y="111"/>
                    </a:lnTo>
                    <a:lnTo>
                      <a:pt x="0" y="9"/>
                    </a:lnTo>
                    <a:lnTo>
                      <a:pt x="0" y="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a:off x="1916280" y="3784320"/>
                <a:ext cx="36360" cy="1329840"/>
              </a:xfrm>
              <a:custGeom>
                <a:avLst/>
                <a:gdLst/>
                <a:ahLst/>
                <a:rect l="l" t="t" r="r" b="b"/>
                <a:pathLst>
                  <a:path w="71" h="2647">
                    <a:moveTo>
                      <a:pt x="26" y="12"/>
                    </a:moveTo>
                    <a:lnTo>
                      <a:pt x="0" y="2647"/>
                    </a:lnTo>
                    <a:lnTo>
                      <a:pt x="71" y="0"/>
                    </a:lnTo>
                    <a:lnTo>
                      <a:pt x="26" y="12"/>
                    </a:lnTo>
                    <a:lnTo>
                      <a:pt x="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84680" y="3780360"/>
                <a:ext cx="28080" cy="1334160"/>
              </a:xfrm>
              <a:custGeom>
                <a:avLst/>
                <a:gdLst/>
                <a:ahLst/>
                <a:rect l="l" t="t" r="r" b="b"/>
                <a:pathLst>
                  <a:path w="59" h="2658">
                    <a:moveTo>
                      <a:pt x="0" y="11"/>
                    </a:moveTo>
                    <a:lnTo>
                      <a:pt x="59" y="2658"/>
                    </a:lnTo>
                    <a:lnTo>
                      <a:pt x="45"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053080" y="3621960"/>
                <a:ext cx="1788120" cy="1380240"/>
              </a:xfrm>
              <a:custGeom>
                <a:avLst/>
                <a:gdLst/>
                <a:ahLst/>
                <a:rect l="l" t="t" r="r" b="b"/>
                <a:pathLst>
                  <a:path w="3561" h="2748">
                    <a:moveTo>
                      <a:pt x="149" y="199"/>
                    </a:moveTo>
                    <a:lnTo>
                      <a:pt x="80" y="377"/>
                    </a:lnTo>
                    <a:lnTo>
                      <a:pt x="33" y="548"/>
                    </a:lnTo>
                    <a:lnTo>
                      <a:pt x="9" y="714"/>
                    </a:lnTo>
                    <a:lnTo>
                      <a:pt x="0" y="874"/>
                    </a:lnTo>
                    <a:lnTo>
                      <a:pt x="5" y="1026"/>
                    </a:lnTo>
                    <a:lnTo>
                      <a:pt x="20" y="1174"/>
                    </a:lnTo>
                    <a:lnTo>
                      <a:pt x="42" y="1318"/>
                    </a:lnTo>
                    <a:lnTo>
                      <a:pt x="71" y="1460"/>
                    </a:lnTo>
                    <a:lnTo>
                      <a:pt x="101" y="1599"/>
                    </a:lnTo>
                    <a:lnTo>
                      <a:pt x="130" y="1738"/>
                    </a:lnTo>
                    <a:lnTo>
                      <a:pt x="154" y="1875"/>
                    </a:lnTo>
                    <a:lnTo>
                      <a:pt x="170" y="2011"/>
                    </a:lnTo>
                    <a:lnTo>
                      <a:pt x="175" y="2148"/>
                    </a:lnTo>
                    <a:lnTo>
                      <a:pt x="166" y="2287"/>
                    </a:lnTo>
                    <a:lnTo>
                      <a:pt x="140" y="2429"/>
                    </a:lnTo>
                    <a:lnTo>
                      <a:pt x="94" y="2572"/>
                    </a:lnTo>
                    <a:lnTo>
                      <a:pt x="217" y="2516"/>
                    </a:lnTo>
                    <a:lnTo>
                      <a:pt x="337" y="2470"/>
                    </a:lnTo>
                    <a:lnTo>
                      <a:pt x="453" y="2431"/>
                    </a:lnTo>
                    <a:lnTo>
                      <a:pt x="567" y="2405"/>
                    </a:lnTo>
                    <a:lnTo>
                      <a:pt x="679" y="2387"/>
                    </a:lnTo>
                    <a:lnTo>
                      <a:pt x="787" y="2376"/>
                    </a:lnTo>
                    <a:lnTo>
                      <a:pt x="897" y="2373"/>
                    </a:lnTo>
                    <a:lnTo>
                      <a:pt x="1002" y="2375"/>
                    </a:lnTo>
                    <a:lnTo>
                      <a:pt x="1106" y="2384"/>
                    </a:lnTo>
                    <a:lnTo>
                      <a:pt x="1210" y="2399"/>
                    </a:lnTo>
                    <a:lnTo>
                      <a:pt x="1309" y="2417"/>
                    </a:lnTo>
                    <a:lnTo>
                      <a:pt x="1410" y="2439"/>
                    </a:lnTo>
                    <a:lnTo>
                      <a:pt x="1511" y="2465"/>
                    </a:lnTo>
                    <a:lnTo>
                      <a:pt x="1609" y="2491"/>
                    </a:lnTo>
                    <a:lnTo>
                      <a:pt x="1709" y="2521"/>
                    </a:lnTo>
                    <a:lnTo>
                      <a:pt x="1807" y="2550"/>
                    </a:lnTo>
                    <a:lnTo>
                      <a:pt x="1906" y="2579"/>
                    </a:lnTo>
                    <a:lnTo>
                      <a:pt x="2006" y="2609"/>
                    </a:lnTo>
                    <a:lnTo>
                      <a:pt x="2105" y="2639"/>
                    </a:lnTo>
                    <a:lnTo>
                      <a:pt x="2204" y="2666"/>
                    </a:lnTo>
                    <a:lnTo>
                      <a:pt x="2306" y="2689"/>
                    </a:lnTo>
                    <a:lnTo>
                      <a:pt x="2408" y="2711"/>
                    </a:lnTo>
                    <a:lnTo>
                      <a:pt x="2512" y="2729"/>
                    </a:lnTo>
                    <a:lnTo>
                      <a:pt x="2619" y="2742"/>
                    </a:lnTo>
                    <a:lnTo>
                      <a:pt x="2726" y="2748"/>
                    </a:lnTo>
                    <a:lnTo>
                      <a:pt x="2835" y="2748"/>
                    </a:lnTo>
                    <a:lnTo>
                      <a:pt x="2947" y="2744"/>
                    </a:lnTo>
                    <a:lnTo>
                      <a:pt x="3061" y="2731"/>
                    </a:lnTo>
                    <a:lnTo>
                      <a:pt x="3177" y="2711"/>
                    </a:lnTo>
                    <a:lnTo>
                      <a:pt x="3297" y="2682"/>
                    </a:lnTo>
                    <a:lnTo>
                      <a:pt x="3419" y="2642"/>
                    </a:lnTo>
                    <a:lnTo>
                      <a:pt x="3544" y="2592"/>
                    </a:lnTo>
                    <a:lnTo>
                      <a:pt x="3558" y="2431"/>
                    </a:lnTo>
                    <a:lnTo>
                      <a:pt x="3561" y="2276"/>
                    </a:lnTo>
                    <a:lnTo>
                      <a:pt x="3552" y="2126"/>
                    </a:lnTo>
                    <a:lnTo>
                      <a:pt x="3535" y="1979"/>
                    </a:lnTo>
                    <a:lnTo>
                      <a:pt x="3514" y="1835"/>
                    </a:lnTo>
                    <a:lnTo>
                      <a:pt x="3490" y="1694"/>
                    </a:lnTo>
                    <a:lnTo>
                      <a:pt x="3464" y="1552"/>
                    </a:lnTo>
                    <a:lnTo>
                      <a:pt x="3440" y="1413"/>
                    </a:lnTo>
                    <a:lnTo>
                      <a:pt x="3419" y="1271"/>
                    </a:lnTo>
                    <a:lnTo>
                      <a:pt x="3404" y="1129"/>
                    </a:lnTo>
                    <a:lnTo>
                      <a:pt x="3395" y="986"/>
                    </a:lnTo>
                    <a:lnTo>
                      <a:pt x="3398" y="837"/>
                    </a:lnTo>
                    <a:lnTo>
                      <a:pt x="3410" y="685"/>
                    </a:lnTo>
                    <a:lnTo>
                      <a:pt x="3437" y="528"/>
                    </a:lnTo>
                    <a:lnTo>
                      <a:pt x="3482" y="367"/>
                    </a:lnTo>
                    <a:lnTo>
                      <a:pt x="3544" y="199"/>
                    </a:lnTo>
                    <a:lnTo>
                      <a:pt x="3422" y="250"/>
                    </a:lnTo>
                    <a:lnTo>
                      <a:pt x="3304" y="296"/>
                    </a:lnTo>
                    <a:lnTo>
                      <a:pt x="3188" y="328"/>
                    </a:lnTo>
                    <a:lnTo>
                      <a:pt x="3073" y="352"/>
                    </a:lnTo>
                    <a:lnTo>
                      <a:pt x="2962" y="367"/>
                    </a:lnTo>
                    <a:lnTo>
                      <a:pt x="2855" y="375"/>
                    </a:lnTo>
                    <a:lnTo>
                      <a:pt x="2750" y="375"/>
                    </a:lnTo>
                    <a:lnTo>
                      <a:pt x="2646" y="370"/>
                    </a:lnTo>
                    <a:lnTo>
                      <a:pt x="2542" y="357"/>
                    </a:lnTo>
                    <a:lnTo>
                      <a:pt x="2443" y="342"/>
                    </a:lnTo>
                    <a:lnTo>
                      <a:pt x="2345" y="323"/>
                    </a:lnTo>
                    <a:lnTo>
                      <a:pt x="2246" y="297"/>
                    </a:lnTo>
                    <a:lnTo>
                      <a:pt x="2149" y="270"/>
                    </a:lnTo>
                    <a:lnTo>
                      <a:pt x="2054" y="243"/>
                    </a:lnTo>
                    <a:lnTo>
                      <a:pt x="1955" y="213"/>
                    </a:lnTo>
                    <a:lnTo>
                      <a:pt x="1860" y="183"/>
                    </a:lnTo>
                    <a:lnTo>
                      <a:pt x="1763" y="152"/>
                    </a:lnTo>
                    <a:lnTo>
                      <a:pt x="1667" y="123"/>
                    </a:lnTo>
                    <a:lnTo>
                      <a:pt x="1569" y="94"/>
                    </a:lnTo>
                    <a:lnTo>
                      <a:pt x="1470" y="69"/>
                    </a:lnTo>
                    <a:lnTo>
                      <a:pt x="1372" y="47"/>
                    </a:lnTo>
                    <a:lnTo>
                      <a:pt x="1272" y="26"/>
                    </a:lnTo>
                    <a:lnTo>
                      <a:pt x="1169" y="12"/>
                    </a:lnTo>
                    <a:lnTo>
                      <a:pt x="1067" y="5"/>
                    </a:lnTo>
                    <a:lnTo>
                      <a:pt x="962" y="0"/>
                    </a:lnTo>
                    <a:lnTo>
                      <a:pt x="852" y="2"/>
                    </a:lnTo>
                    <a:lnTo>
                      <a:pt x="743" y="15"/>
                    </a:lnTo>
                    <a:lnTo>
                      <a:pt x="632" y="32"/>
                    </a:lnTo>
                    <a:lnTo>
                      <a:pt x="515" y="60"/>
                    </a:lnTo>
                    <a:lnTo>
                      <a:pt x="397" y="94"/>
                    </a:lnTo>
                    <a:lnTo>
                      <a:pt x="274" y="141"/>
                    </a:lnTo>
                    <a:lnTo>
                      <a:pt x="149" y="199"/>
                    </a:lnTo>
                    <a:lnTo>
                      <a:pt x="149"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161440" y="4592520"/>
                <a:ext cx="1629360" cy="371160"/>
              </a:xfrm>
              <a:custGeom>
                <a:avLst/>
                <a:gdLst/>
                <a:ahLst/>
                <a:rect l="l" t="t" r="r" b="b"/>
                <a:pathLst>
                  <a:path w="3246" h="739">
                    <a:moveTo>
                      <a:pt x="0" y="519"/>
                    </a:moveTo>
                    <a:lnTo>
                      <a:pt x="113" y="472"/>
                    </a:lnTo>
                    <a:lnTo>
                      <a:pt x="223" y="435"/>
                    </a:lnTo>
                    <a:lnTo>
                      <a:pt x="332" y="407"/>
                    </a:lnTo>
                    <a:lnTo>
                      <a:pt x="436" y="385"/>
                    </a:lnTo>
                    <a:lnTo>
                      <a:pt x="542" y="372"/>
                    </a:lnTo>
                    <a:lnTo>
                      <a:pt x="644" y="365"/>
                    </a:lnTo>
                    <a:lnTo>
                      <a:pt x="745" y="365"/>
                    </a:lnTo>
                    <a:lnTo>
                      <a:pt x="844" y="370"/>
                    </a:lnTo>
                    <a:lnTo>
                      <a:pt x="939" y="380"/>
                    </a:lnTo>
                    <a:lnTo>
                      <a:pt x="1035" y="395"/>
                    </a:lnTo>
                    <a:lnTo>
                      <a:pt x="1131" y="412"/>
                    </a:lnTo>
                    <a:lnTo>
                      <a:pt x="1225" y="435"/>
                    </a:lnTo>
                    <a:lnTo>
                      <a:pt x="1318" y="457"/>
                    </a:lnTo>
                    <a:lnTo>
                      <a:pt x="1413" y="485"/>
                    </a:lnTo>
                    <a:lnTo>
                      <a:pt x="1506" y="512"/>
                    </a:lnTo>
                    <a:lnTo>
                      <a:pt x="1599" y="540"/>
                    </a:lnTo>
                    <a:lnTo>
                      <a:pt x="1691" y="569"/>
                    </a:lnTo>
                    <a:lnTo>
                      <a:pt x="1786" y="596"/>
                    </a:lnTo>
                    <a:lnTo>
                      <a:pt x="1881" y="623"/>
                    </a:lnTo>
                    <a:lnTo>
                      <a:pt x="1973" y="647"/>
                    </a:lnTo>
                    <a:lnTo>
                      <a:pt x="2069" y="672"/>
                    </a:lnTo>
                    <a:lnTo>
                      <a:pt x="2165" y="692"/>
                    </a:lnTo>
                    <a:lnTo>
                      <a:pt x="2263" y="709"/>
                    </a:lnTo>
                    <a:lnTo>
                      <a:pt x="2364" y="723"/>
                    </a:lnTo>
                    <a:lnTo>
                      <a:pt x="2466" y="734"/>
                    </a:lnTo>
                    <a:lnTo>
                      <a:pt x="2569" y="739"/>
                    </a:lnTo>
                    <a:lnTo>
                      <a:pt x="2674" y="736"/>
                    </a:lnTo>
                    <a:lnTo>
                      <a:pt x="2781" y="729"/>
                    </a:lnTo>
                    <a:lnTo>
                      <a:pt x="2892" y="717"/>
                    </a:lnTo>
                    <a:lnTo>
                      <a:pt x="3004" y="694"/>
                    </a:lnTo>
                    <a:lnTo>
                      <a:pt x="3121" y="665"/>
                    </a:lnTo>
                    <a:lnTo>
                      <a:pt x="3238" y="628"/>
                    </a:lnTo>
                    <a:lnTo>
                      <a:pt x="3243" y="527"/>
                    </a:lnTo>
                    <a:lnTo>
                      <a:pt x="3246" y="437"/>
                    </a:lnTo>
                    <a:lnTo>
                      <a:pt x="3243" y="348"/>
                    </a:lnTo>
                    <a:lnTo>
                      <a:pt x="3238" y="249"/>
                    </a:lnTo>
                    <a:lnTo>
                      <a:pt x="3121" y="286"/>
                    </a:lnTo>
                    <a:lnTo>
                      <a:pt x="3007" y="315"/>
                    </a:lnTo>
                    <a:lnTo>
                      <a:pt x="2892" y="338"/>
                    </a:lnTo>
                    <a:lnTo>
                      <a:pt x="2784" y="351"/>
                    </a:lnTo>
                    <a:lnTo>
                      <a:pt x="2676" y="357"/>
                    </a:lnTo>
                    <a:lnTo>
                      <a:pt x="2572" y="360"/>
                    </a:lnTo>
                    <a:lnTo>
                      <a:pt x="2468" y="355"/>
                    </a:lnTo>
                    <a:lnTo>
                      <a:pt x="2369" y="346"/>
                    </a:lnTo>
                    <a:lnTo>
                      <a:pt x="2271" y="333"/>
                    </a:lnTo>
                    <a:lnTo>
                      <a:pt x="2172" y="315"/>
                    </a:lnTo>
                    <a:lnTo>
                      <a:pt x="2077" y="293"/>
                    </a:lnTo>
                    <a:lnTo>
                      <a:pt x="1982" y="270"/>
                    </a:lnTo>
                    <a:lnTo>
                      <a:pt x="1890" y="246"/>
                    </a:lnTo>
                    <a:lnTo>
                      <a:pt x="1796" y="218"/>
                    </a:lnTo>
                    <a:lnTo>
                      <a:pt x="1705" y="191"/>
                    </a:lnTo>
                    <a:lnTo>
                      <a:pt x="1613" y="164"/>
                    </a:lnTo>
                    <a:lnTo>
                      <a:pt x="1519" y="136"/>
                    </a:lnTo>
                    <a:lnTo>
                      <a:pt x="1428" y="109"/>
                    </a:lnTo>
                    <a:lnTo>
                      <a:pt x="1336" y="84"/>
                    </a:lnTo>
                    <a:lnTo>
                      <a:pt x="1244" y="62"/>
                    </a:lnTo>
                    <a:lnTo>
                      <a:pt x="1154" y="42"/>
                    </a:lnTo>
                    <a:lnTo>
                      <a:pt x="1059" y="25"/>
                    </a:lnTo>
                    <a:lnTo>
                      <a:pt x="966" y="12"/>
                    </a:lnTo>
                    <a:lnTo>
                      <a:pt x="870" y="5"/>
                    </a:lnTo>
                    <a:lnTo>
                      <a:pt x="773" y="0"/>
                    </a:lnTo>
                    <a:lnTo>
                      <a:pt x="676" y="2"/>
                    </a:lnTo>
                    <a:lnTo>
                      <a:pt x="578" y="12"/>
                    </a:lnTo>
                    <a:lnTo>
                      <a:pt x="477" y="28"/>
                    </a:lnTo>
                    <a:lnTo>
                      <a:pt x="374" y="52"/>
                    </a:lnTo>
                    <a:lnTo>
                      <a:pt x="268" y="81"/>
                    </a:lnTo>
                    <a:lnTo>
                      <a:pt x="161" y="122"/>
                    </a:lnTo>
                    <a:lnTo>
                      <a:pt x="51" y="171"/>
                    </a:lnTo>
                    <a:lnTo>
                      <a:pt x="46" y="265"/>
                    </a:lnTo>
                    <a:lnTo>
                      <a:pt x="39" y="348"/>
                    </a:lnTo>
                    <a:lnTo>
                      <a:pt x="24" y="427"/>
                    </a:lnTo>
                    <a:lnTo>
                      <a:pt x="0" y="519"/>
                    </a:lnTo>
                    <a:lnTo>
                      <a:pt x="0" y="5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107440" y="3667680"/>
                <a:ext cx="1659600" cy="371520"/>
              </a:xfrm>
              <a:custGeom>
                <a:avLst/>
                <a:gdLst/>
                <a:ahLst/>
                <a:rect l="l" t="t" r="r" b="b"/>
                <a:pathLst>
                  <a:path w="3303" h="740">
                    <a:moveTo>
                      <a:pt x="3303" y="246"/>
                    </a:moveTo>
                    <a:lnTo>
                      <a:pt x="3192" y="288"/>
                    </a:lnTo>
                    <a:lnTo>
                      <a:pt x="3082" y="318"/>
                    </a:lnTo>
                    <a:lnTo>
                      <a:pt x="2975" y="343"/>
                    </a:lnTo>
                    <a:lnTo>
                      <a:pt x="2870" y="360"/>
                    </a:lnTo>
                    <a:lnTo>
                      <a:pt x="2768" y="368"/>
                    </a:lnTo>
                    <a:lnTo>
                      <a:pt x="2667" y="373"/>
                    </a:lnTo>
                    <a:lnTo>
                      <a:pt x="2569" y="368"/>
                    </a:lnTo>
                    <a:lnTo>
                      <a:pt x="2473" y="360"/>
                    </a:lnTo>
                    <a:lnTo>
                      <a:pt x="2378" y="347"/>
                    </a:lnTo>
                    <a:lnTo>
                      <a:pt x="2283" y="331"/>
                    </a:lnTo>
                    <a:lnTo>
                      <a:pt x="2192" y="310"/>
                    </a:lnTo>
                    <a:lnTo>
                      <a:pt x="2098" y="288"/>
                    </a:lnTo>
                    <a:lnTo>
                      <a:pt x="2007" y="260"/>
                    </a:lnTo>
                    <a:lnTo>
                      <a:pt x="1917" y="236"/>
                    </a:lnTo>
                    <a:lnTo>
                      <a:pt x="1825" y="207"/>
                    </a:lnTo>
                    <a:lnTo>
                      <a:pt x="1736" y="179"/>
                    </a:lnTo>
                    <a:lnTo>
                      <a:pt x="1644" y="149"/>
                    </a:lnTo>
                    <a:lnTo>
                      <a:pt x="1550" y="121"/>
                    </a:lnTo>
                    <a:lnTo>
                      <a:pt x="1459" y="97"/>
                    </a:lnTo>
                    <a:lnTo>
                      <a:pt x="1365" y="71"/>
                    </a:lnTo>
                    <a:lnTo>
                      <a:pt x="1270" y="50"/>
                    </a:lnTo>
                    <a:lnTo>
                      <a:pt x="1174" y="32"/>
                    </a:lnTo>
                    <a:lnTo>
                      <a:pt x="1077" y="18"/>
                    </a:lnTo>
                    <a:lnTo>
                      <a:pt x="977" y="8"/>
                    </a:lnTo>
                    <a:lnTo>
                      <a:pt x="876" y="0"/>
                    </a:lnTo>
                    <a:lnTo>
                      <a:pt x="774" y="0"/>
                    </a:lnTo>
                    <a:lnTo>
                      <a:pt x="668" y="8"/>
                    </a:lnTo>
                    <a:lnTo>
                      <a:pt x="560" y="20"/>
                    </a:lnTo>
                    <a:lnTo>
                      <a:pt x="448" y="40"/>
                    </a:lnTo>
                    <a:lnTo>
                      <a:pt x="334" y="69"/>
                    </a:lnTo>
                    <a:lnTo>
                      <a:pt x="218" y="105"/>
                    </a:lnTo>
                    <a:lnTo>
                      <a:pt x="98" y="152"/>
                    </a:lnTo>
                    <a:lnTo>
                      <a:pt x="77" y="204"/>
                    </a:lnTo>
                    <a:lnTo>
                      <a:pt x="60" y="253"/>
                    </a:lnTo>
                    <a:lnTo>
                      <a:pt x="47" y="302"/>
                    </a:lnTo>
                    <a:lnTo>
                      <a:pt x="35" y="347"/>
                    </a:lnTo>
                    <a:lnTo>
                      <a:pt x="24" y="394"/>
                    </a:lnTo>
                    <a:lnTo>
                      <a:pt x="15" y="442"/>
                    </a:lnTo>
                    <a:lnTo>
                      <a:pt x="9" y="491"/>
                    </a:lnTo>
                    <a:lnTo>
                      <a:pt x="0" y="544"/>
                    </a:lnTo>
                    <a:lnTo>
                      <a:pt x="126" y="494"/>
                    </a:lnTo>
                    <a:lnTo>
                      <a:pt x="250" y="457"/>
                    </a:lnTo>
                    <a:lnTo>
                      <a:pt x="367" y="425"/>
                    </a:lnTo>
                    <a:lnTo>
                      <a:pt x="483" y="402"/>
                    </a:lnTo>
                    <a:lnTo>
                      <a:pt x="597" y="388"/>
                    </a:lnTo>
                    <a:lnTo>
                      <a:pt x="707" y="380"/>
                    </a:lnTo>
                    <a:lnTo>
                      <a:pt x="814" y="378"/>
                    </a:lnTo>
                    <a:lnTo>
                      <a:pt x="919" y="383"/>
                    </a:lnTo>
                    <a:lnTo>
                      <a:pt x="1022" y="392"/>
                    </a:lnTo>
                    <a:lnTo>
                      <a:pt x="1122" y="405"/>
                    </a:lnTo>
                    <a:lnTo>
                      <a:pt x="1222" y="422"/>
                    </a:lnTo>
                    <a:lnTo>
                      <a:pt x="1318" y="442"/>
                    </a:lnTo>
                    <a:lnTo>
                      <a:pt x="1414" y="467"/>
                    </a:lnTo>
                    <a:lnTo>
                      <a:pt x="1511" y="491"/>
                    </a:lnTo>
                    <a:lnTo>
                      <a:pt x="1601" y="519"/>
                    </a:lnTo>
                    <a:lnTo>
                      <a:pt x="1696" y="546"/>
                    </a:lnTo>
                    <a:lnTo>
                      <a:pt x="1787" y="574"/>
                    </a:lnTo>
                    <a:lnTo>
                      <a:pt x="1878" y="601"/>
                    </a:lnTo>
                    <a:lnTo>
                      <a:pt x="1968" y="628"/>
                    </a:lnTo>
                    <a:lnTo>
                      <a:pt x="2060" y="654"/>
                    </a:lnTo>
                    <a:lnTo>
                      <a:pt x="2149" y="675"/>
                    </a:lnTo>
                    <a:lnTo>
                      <a:pt x="2241" y="698"/>
                    </a:lnTo>
                    <a:lnTo>
                      <a:pt x="2333" y="714"/>
                    </a:lnTo>
                    <a:lnTo>
                      <a:pt x="2423" y="728"/>
                    </a:lnTo>
                    <a:lnTo>
                      <a:pt x="2518" y="735"/>
                    </a:lnTo>
                    <a:lnTo>
                      <a:pt x="2611" y="740"/>
                    </a:lnTo>
                    <a:lnTo>
                      <a:pt x="2707" y="738"/>
                    </a:lnTo>
                    <a:lnTo>
                      <a:pt x="2805" y="728"/>
                    </a:lnTo>
                    <a:lnTo>
                      <a:pt x="2903" y="714"/>
                    </a:lnTo>
                    <a:lnTo>
                      <a:pt x="3004" y="691"/>
                    </a:lnTo>
                    <a:lnTo>
                      <a:pt x="3106" y="659"/>
                    </a:lnTo>
                    <a:lnTo>
                      <a:pt x="3212" y="619"/>
                    </a:lnTo>
                    <a:lnTo>
                      <a:pt x="3219" y="569"/>
                    </a:lnTo>
                    <a:lnTo>
                      <a:pt x="3228" y="522"/>
                    </a:lnTo>
                    <a:lnTo>
                      <a:pt x="3237" y="477"/>
                    </a:lnTo>
                    <a:lnTo>
                      <a:pt x="3245" y="433"/>
                    </a:lnTo>
                    <a:lnTo>
                      <a:pt x="3257" y="391"/>
                    </a:lnTo>
                    <a:lnTo>
                      <a:pt x="3270" y="346"/>
                    </a:lnTo>
                    <a:lnTo>
                      <a:pt x="3285" y="299"/>
                    </a:lnTo>
                    <a:lnTo>
                      <a:pt x="3303" y="246"/>
                    </a:lnTo>
                    <a:lnTo>
                      <a:pt x="3303" y="24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171880" y="4413240"/>
                <a:ext cx="1616760" cy="359280"/>
              </a:xfrm>
              <a:custGeom>
                <a:avLst/>
                <a:gdLst/>
                <a:ahLst/>
                <a:rect l="l" t="t" r="r" b="b"/>
                <a:pathLst>
                  <a:path w="3219" h="715">
                    <a:moveTo>
                      <a:pt x="32" y="526"/>
                    </a:moveTo>
                    <a:lnTo>
                      <a:pt x="142" y="477"/>
                    </a:lnTo>
                    <a:lnTo>
                      <a:pt x="249" y="436"/>
                    </a:lnTo>
                    <a:lnTo>
                      <a:pt x="355" y="407"/>
                    </a:lnTo>
                    <a:lnTo>
                      <a:pt x="458" y="383"/>
                    </a:lnTo>
                    <a:lnTo>
                      <a:pt x="559" y="367"/>
                    </a:lnTo>
                    <a:lnTo>
                      <a:pt x="657" y="357"/>
                    </a:lnTo>
                    <a:lnTo>
                      <a:pt x="754" y="355"/>
                    </a:lnTo>
                    <a:lnTo>
                      <a:pt x="851" y="360"/>
                    </a:lnTo>
                    <a:lnTo>
                      <a:pt x="947" y="367"/>
                    </a:lnTo>
                    <a:lnTo>
                      <a:pt x="1040" y="380"/>
                    </a:lnTo>
                    <a:lnTo>
                      <a:pt x="1135" y="397"/>
                    </a:lnTo>
                    <a:lnTo>
                      <a:pt x="1225" y="417"/>
                    </a:lnTo>
                    <a:lnTo>
                      <a:pt x="1317" y="439"/>
                    </a:lnTo>
                    <a:lnTo>
                      <a:pt x="1409" y="464"/>
                    </a:lnTo>
                    <a:lnTo>
                      <a:pt x="1500" y="491"/>
                    </a:lnTo>
                    <a:lnTo>
                      <a:pt x="1594" y="519"/>
                    </a:lnTo>
                    <a:lnTo>
                      <a:pt x="1686" y="546"/>
                    </a:lnTo>
                    <a:lnTo>
                      <a:pt x="1777" y="573"/>
                    </a:lnTo>
                    <a:lnTo>
                      <a:pt x="1871" y="601"/>
                    </a:lnTo>
                    <a:lnTo>
                      <a:pt x="1963" y="625"/>
                    </a:lnTo>
                    <a:lnTo>
                      <a:pt x="2058" y="648"/>
                    </a:lnTo>
                    <a:lnTo>
                      <a:pt x="2153" y="670"/>
                    </a:lnTo>
                    <a:lnTo>
                      <a:pt x="2252" y="688"/>
                    </a:lnTo>
                    <a:lnTo>
                      <a:pt x="2350" y="701"/>
                    </a:lnTo>
                    <a:lnTo>
                      <a:pt x="2449" y="710"/>
                    </a:lnTo>
                    <a:lnTo>
                      <a:pt x="2553" y="715"/>
                    </a:lnTo>
                    <a:lnTo>
                      <a:pt x="2657" y="712"/>
                    </a:lnTo>
                    <a:lnTo>
                      <a:pt x="2765" y="706"/>
                    </a:lnTo>
                    <a:lnTo>
                      <a:pt x="2873" y="693"/>
                    </a:lnTo>
                    <a:lnTo>
                      <a:pt x="2988" y="670"/>
                    </a:lnTo>
                    <a:lnTo>
                      <a:pt x="3102" y="641"/>
                    </a:lnTo>
                    <a:lnTo>
                      <a:pt x="3219" y="604"/>
                    </a:lnTo>
                    <a:lnTo>
                      <a:pt x="3210" y="509"/>
                    </a:lnTo>
                    <a:lnTo>
                      <a:pt x="3200" y="425"/>
                    </a:lnTo>
                    <a:lnTo>
                      <a:pt x="3186" y="338"/>
                    </a:lnTo>
                    <a:lnTo>
                      <a:pt x="3173" y="241"/>
                    </a:lnTo>
                    <a:lnTo>
                      <a:pt x="3060" y="278"/>
                    </a:lnTo>
                    <a:lnTo>
                      <a:pt x="2950" y="307"/>
                    </a:lnTo>
                    <a:lnTo>
                      <a:pt x="2840" y="330"/>
                    </a:lnTo>
                    <a:lnTo>
                      <a:pt x="2735" y="342"/>
                    </a:lnTo>
                    <a:lnTo>
                      <a:pt x="2633" y="350"/>
                    </a:lnTo>
                    <a:lnTo>
                      <a:pt x="2530" y="352"/>
                    </a:lnTo>
                    <a:lnTo>
                      <a:pt x="2432" y="347"/>
                    </a:lnTo>
                    <a:lnTo>
                      <a:pt x="2333" y="338"/>
                    </a:lnTo>
                    <a:lnTo>
                      <a:pt x="2238" y="325"/>
                    </a:lnTo>
                    <a:lnTo>
                      <a:pt x="2142" y="307"/>
                    </a:lnTo>
                    <a:lnTo>
                      <a:pt x="2049" y="286"/>
                    </a:lnTo>
                    <a:lnTo>
                      <a:pt x="1954" y="263"/>
                    </a:lnTo>
                    <a:lnTo>
                      <a:pt x="1864" y="238"/>
                    </a:lnTo>
                    <a:lnTo>
                      <a:pt x="1773" y="210"/>
                    </a:lnTo>
                    <a:lnTo>
                      <a:pt x="1681" y="184"/>
                    </a:lnTo>
                    <a:lnTo>
                      <a:pt x="1589" y="156"/>
                    </a:lnTo>
                    <a:lnTo>
                      <a:pt x="1498" y="129"/>
                    </a:lnTo>
                    <a:lnTo>
                      <a:pt x="1407" y="104"/>
                    </a:lnTo>
                    <a:lnTo>
                      <a:pt x="1315" y="79"/>
                    </a:lnTo>
                    <a:lnTo>
                      <a:pt x="1221" y="57"/>
                    </a:lnTo>
                    <a:lnTo>
                      <a:pt x="1130" y="37"/>
                    </a:lnTo>
                    <a:lnTo>
                      <a:pt x="1034" y="21"/>
                    </a:lnTo>
                    <a:lnTo>
                      <a:pt x="941" y="10"/>
                    </a:lnTo>
                    <a:lnTo>
                      <a:pt x="842" y="2"/>
                    </a:lnTo>
                    <a:lnTo>
                      <a:pt x="744" y="0"/>
                    </a:lnTo>
                    <a:lnTo>
                      <a:pt x="646" y="5"/>
                    </a:lnTo>
                    <a:lnTo>
                      <a:pt x="542" y="15"/>
                    </a:lnTo>
                    <a:lnTo>
                      <a:pt x="440" y="32"/>
                    </a:lnTo>
                    <a:lnTo>
                      <a:pt x="333" y="57"/>
                    </a:lnTo>
                    <a:lnTo>
                      <a:pt x="226" y="89"/>
                    </a:lnTo>
                    <a:lnTo>
                      <a:pt x="115" y="129"/>
                    </a:lnTo>
                    <a:lnTo>
                      <a:pt x="0" y="181"/>
                    </a:lnTo>
                    <a:lnTo>
                      <a:pt x="14" y="273"/>
                    </a:lnTo>
                    <a:lnTo>
                      <a:pt x="23" y="355"/>
                    </a:lnTo>
                    <a:lnTo>
                      <a:pt x="27" y="436"/>
                    </a:lnTo>
                    <a:lnTo>
                      <a:pt x="32" y="526"/>
                    </a:lnTo>
                    <a:lnTo>
                      <a:pt x="32"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5640" y="3857040"/>
                <a:ext cx="1614960" cy="367560"/>
              </a:xfrm>
              <a:custGeom>
                <a:avLst/>
                <a:gdLst/>
                <a:ahLst/>
                <a:rect l="l" t="t" r="r" b="b"/>
                <a:pathLst>
                  <a:path w="3219" h="730">
                    <a:moveTo>
                      <a:pt x="3219" y="241"/>
                    </a:moveTo>
                    <a:lnTo>
                      <a:pt x="3113" y="281"/>
                    </a:lnTo>
                    <a:lnTo>
                      <a:pt x="3011" y="313"/>
                    </a:lnTo>
                    <a:lnTo>
                      <a:pt x="2910" y="336"/>
                    </a:lnTo>
                    <a:lnTo>
                      <a:pt x="2812" y="350"/>
                    </a:lnTo>
                    <a:lnTo>
                      <a:pt x="2714" y="360"/>
                    </a:lnTo>
                    <a:lnTo>
                      <a:pt x="2618" y="362"/>
                    </a:lnTo>
                    <a:lnTo>
                      <a:pt x="2525" y="357"/>
                    </a:lnTo>
                    <a:lnTo>
                      <a:pt x="2430" y="350"/>
                    </a:lnTo>
                    <a:lnTo>
                      <a:pt x="2340" y="336"/>
                    </a:lnTo>
                    <a:lnTo>
                      <a:pt x="2248" y="320"/>
                    </a:lnTo>
                    <a:lnTo>
                      <a:pt x="2156" y="297"/>
                    </a:lnTo>
                    <a:lnTo>
                      <a:pt x="2067" y="276"/>
                    </a:lnTo>
                    <a:lnTo>
                      <a:pt x="1975" y="250"/>
                    </a:lnTo>
                    <a:lnTo>
                      <a:pt x="1885" y="223"/>
                    </a:lnTo>
                    <a:lnTo>
                      <a:pt x="1794" y="196"/>
                    </a:lnTo>
                    <a:lnTo>
                      <a:pt x="1703" y="168"/>
                    </a:lnTo>
                    <a:lnTo>
                      <a:pt x="1608" y="141"/>
                    </a:lnTo>
                    <a:lnTo>
                      <a:pt x="1518" y="113"/>
                    </a:lnTo>
                    <a:lnTo>
                      <a:pt x="1421" y="89"/>
                    </a:lnTo>
                    <a:lnTo>
                      <a:pt x="1325" y="64"/>
                    </a:lnTo>
                    <a:lnTo>
                      <a:pt x="1229" y="44"/>
                    </a:lnTo>
                    <a:lnTo>
                      <a:pt x="1129" y="27"/>
                    </a:lnTo>
                    <a:lnTo>
                      <a:pt x="1029" y="14"/>
                    </a:lnTo>
                    <a:lnTo>
                      <a:pt x="926" y="5"/>
                    </a:lnTo>
                    <a:lnTo>
                      <a:pt x="821" y="0"/>
                    </a:lnTo>
                    <a:lnTo>
                      <a:pt x="714" y="2"/>
                    </a:lnTo>
                    <a:lnTo>
                      <a:pt x="604" y="10"/>
                    </a:lnTo>
                    <a:lnTo>
                      <a:pt x="490" y="24"/>
                    </a:lnTo>
                    <a:lnTo>
                      <a:pt x="374" y="47"/>
                    </a:lnTo>
                    <a:lnTo>
                      <a:pt x="257" y="79"/>
                    </a:lnTo>
                    <a:lnTo>
                      <a:pt x="133" y="116"/>
                    </a:lnTo>
                    <a:lnTo>
                      <a:pt x="7" y="166"/>
                    </a:lnTo>
                    <a:lnTo>
                      <a:pt x="0" y="268"/>
                    </a:lnTo>
                    <a:lnTo>
                      <a:pt x="0" y="360"/>
                    </a:lnTo>
                    <a:lnTo>
                      <a:pt x="1" y="454"/>
                    </a:lnTo>
                    <a:lnTo>
                      <a:pt x="10" y="554"/>
                    </a:lnTo>
                    <a:lnTo>
                      <a:pt x="136" y="504"/>
                    </a:lnTo>
                    <a:lnTo>
                      <a:pt x="257" y="462"/>
                    </a:lnTo>
                    <a:lnTo>
                      <a:pt x="374" y="430"/>
                    </a:lnTo>
                    <a:lnTo>
                      <a:pt x="490" y="404"/>
                    </a:lnTo>
                    <a:lnTo>
                      <a:pt x="603" y="389"/>
                    </a:lnTo>
                    <a:lnTo>
                      <a:pt x="711" y="380"/>
                    </a:lnTo>
                    <a:lnTo>
                      <a:pt x="818" y="378"/>
                    </a:lnTo>
                    <a:lnTo>
                      <a:pt x="923" y="380"/>
                    </a:lnTo>
                    <a:lnTo>
                      <a:pt x="1026" y="387"/>
                    </a:lnTo>
                    <a:lnTo>
                      <a:pt x="1127" y="399"/>
                    </a:lnTo>
                    <a:lnTo>
                      <a:pt x="1224" y="415"/>
                    </a:lnTo>
                    <a:lnTo>
                      <a:pt x="1321" y="434"/>
                    </a:lnTo>
                    <a:lnTo>
                      <a:pt x="1417" y="457"/>
                    </a:lnTo>
                    <a:lnTo>
                      <a:pt x="1510" y="481"/>
                    </a:lnTo>
                    <a:lnTo>
                      <a:pt x="1605" y="509"/>
                    </a:lnTo>
                    <a:lnTo>
                      <a:pt x="1698" y="536"/>
                    </a:lnTo>
                    <a:lnTo>
                      <a:pt x="1790" y="564"/>
                    </a:lnTo>
                    <a:lnTo>
                      <a:pt x="1879" y="591"/>
                    </a:lnTo>
                    <a:lnTo>
                      <a:pt x="1970" y="618"/>
                    </a:lnTo>
                    <a:lnTo>
                      <a:pt x="2062" y="643"/>
                    </a:lnTo>
                    <a:lnTo>
                      <a:pt x="2150" y="665"/>
                    </a:lnTo>
                    <a:lnTo>
                      <a:pt x="2242" y="685"/>
                    </a:lnTo>
                    <a:lnTo>
                      <a:pt x="2332" y="703"/>
                    </a:lnTo>
                    <a:lnTo>
                      <a:pt x="2427" y="717"/>
                    </a:lnTo>
                    <a:lnTo>
                      <a:pt x="2519" y="725"/>
                    </a:lnTo>
                    <a:lnTo>
                      <a:pt x="2612" y="730"/>
                    </a:lnTo>
                    <a:lnTo>
                      <a:pt x="2707" y="727"/>
                    </a:lnTo>
                    <a:lnTo>
                      <a:pt x="2803" y="720"/>
                    </a:lnTo>
                    <a:lnTo>
                      <a:pt x="2901" y="706"/>
                    </a:lnTo>
                    <a:lnTo>
                      <a:pt x="3002" y="683"/>
                    </a:lnTo>
                    <a:lnTo>
                      <a:pt x="3103" y="653"/>
                    </a:lnTo>
                    <a:lnTo>
                      <a:pt x="3208" y="614"/>
                    </a:lnTo>
                    <a:lnTo>
                      <a:pt x="3205" y="517"/>
                    </a:lnTo>
                    <a:lnTo>
                      <a:pt x="3205" y="427"/>
                    </a:lnTo>
                    <a:lnTo>
                      <a:pt x="3210" y="339"/>
                    </a:lnTo>
                    <a:lnTo>
                      <a:pt x="3219" y="241"/>
                    </a:lnTo>
                    <a:lnTo>
                      <a:pt x="3219"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09600" y="4047840"/>
                <a:ext cx="1654920" cy="542160"/>
              </a:xfrm>
              <a:custGeom>
                <a:avLst/>
                <a:gdLst/>
                <a:ahLst/>
                <a:rect l="l" t="t" r="r" b="b"/>
                <a:pathLst>
                  <a:path w="3296" h="1082">
                    <a:moveTo>
                      <a:pt x="0" y="176"/>
                    </a:moveTo>
                    <a:lnTo>
                      <a:pt x="12" y="278"/>
                    </a:lnTo>
                    <a:lnTo>
                      <a:pt x="26" y="372"/>
                    </a:lnTo>
                    <a:lnTo>
                      <a:pt x="41" y="462"/>
                    </a:lnTo>
                    <a:lnTo>
                      <a:pt x="57" y="549"/>
                    </a:lnTo>
                    <a:lnTo>
                      <a:pt x="74" y="635"/>
                    </a:lnTo>
                    <a:lnTo>
                      <a:pt x="90" y="722"/>
                    </a:lnTo>
                    <a:lnTo>
                      <a:pt x="108" y="814"/>
                    </a:lnTo>
                    <a:lnTo>
                      <a:pt x="123" y="911"/>
                    </a:lnTo>
                    <a:lnTo>
                      <a:pt x="238" y="859"/>
                    </a:lnTo>
                    <a:lnTo>
                      <a:pt x="349" y="819"/>
                    </a:lnTo>
                    <a:lnTo>
                      <a:pt x="456" y="787"/>
                    </a:lnTo>
                    <a:lnTo>
                      <a:pt x="563" y="762"/>
                    </a:lnTo>
                    <a:lnTo>
                      <a:pt x="665" y="745"/>
                    </a:lnTo>
                    <a:lnTo>
                      <a:pt x="769" y="735"/>
                    </a:lnTo>
                    <a:lnTo>
                      <a:pt x="867" y="730"/>
                    </a:lnTo>
                    <a:lnTo>
                      <a:pt x="965" y="732"/>
                    </a:lnTo>
                    <a:lnTo>
                      <a:pt x="1064" y="740"/>
                    </a:lnTo>
                    <a:lnTo>
                      <a:pt x="1157" y="751"/>
                    </a:lnTo>
                    <a:lnTo>
                      <a:pt x="1253" y="767"/>
                    </a:lnTo>
                    <a:lnTo>
                      <a:pt x="1344" y="787"/>
                    </a:lnTo>
                    <a:lnTo>
                      <a:pt x="1438" y="809"/>
                    </a:lnTo>
                    <a:lnTo>
                      <a:pt x="1530" y="834"/>
                    </a:lnTo>
                    <a:lnTo>
                      <a:pt x="1621" y="859"/>
                    </a:lnTo>
                    <a:lnTo>
                      <a:pt x="1712" y="886"/>
                    </a:lnTo>
                    <a:lnTo>
                      <a:pt x="1804" y="914"/>
                    </a:lnTo>
                    <a:lnTo>
                      <a:pt x="1896" y="940"/>
                    </a:lnTo>
                    <a:lnTo>
                      <a:pt x="1987" y="968"/>
                    </a:lnTo>
                    <a:lnTo>
                      <a:pt x="2077" y="993"/>
                    </a:lnTo>
                    <a:lnTo>
                      <a:pt x="2172" y="1016"/>
                    </a:lnTo>
                    <a:lnTo>
                      <a:pt x="2265" y="1037"/>
                    </a:lnTo>
                    <a:lnTo>
                      <a:pt x="2361" y="1055"/>
                    </a:lnTo>
                    <a:lnTo>
                      <a:pt x="2456" y="1068"/>
                    </a:lnTo>
                    <a:lnTo>
                      <a:pt x="2555" y="1077"/>
                    </a:lnTo>
                    <a:lnTo>
                      <a:pt x="2653" y="1082"/>
                    </a:lnTo>
                    <a:lnTo>
                      <a:pt x="2756" y="1080"/>
                    </a:lnTo>
                    <a:lnTo>
                      <a:pt x="2858" y="1072"/>
                    </a:lnTo>
                    <a:lnTo>
                      <a:pt x="2963" y="1060"/>
                    </a:lnTo>
                    <a:lnTo>
                      <a:pt x="3073" y="1037"/>
                    </a:lnTo>
                    <a:lnTo>
                      <a:pt x="3183" y="1008"/>
                    </a:lnTo>
                    <a:lnTo>
                      <a:pt x="3296" y="971"/>
                    </a:lnTo>
                    <a:lnTo>
                      <a:pt x="3280" y="871"/>
                    </a:lnTo>
                    <a:lnTo>
                      <a:pt x="3264" y="780"/>
                    </a:lnTo>
                    <a:lnTo>
                      <a:pt x="3249" y="690"/>
                    </a:lnTo>
                    <a:lnTo>
                      <a:pt x="3236" y="603"/>
                    </a:lnTo>
                    <a:lnTo>
                      <a:pt x="3225" y="515"/>
                    </a:lnTo>
                    <a:lnTo>
                      <a:pt x="3213" y="429"/>
                    </a:lnTo>
                    <a:lnTo>
                      <a:pt x="3204" y="334"/>
                    </a:lnTo>
                    <a:lnTo>
                      <a:pt x="3198" y="236"/>
                    </a:lnTo>
                    <a:lnTo>
                      <a:pt x="3093" y="275"/>
                    </a:lnTo>
                    <a:lnTo>
                      <a:pt x="2992" y="305"/>
                    </a:lnTo>
                    <a:lnTo>
                      <a:pt x="2891" y="328"/>
                    </a:lnTo>
                    <a:lnTo>
                      <a:pt x="2793" y="342"/>
                    </a:lnTo>
                    <a:lnTo>
                      <a:pt x="2697" y="349"/>
                    </a:lnTo>
                    <a:lnTo>
                      <a:pt x="2602" y="352"/>
                    </a:lnTo>
                    <a:lnTo>
                      <a:pt x="2509" y="347"/>
                    </a:lnTo>
                    <a:lnTo>
                      <a:pt x="2417" y="339"/>
                    </a:lnTo>
                    <a:lnTo>
                      <a:pt x="2322" y="325"/>
                    </a:lnTo>
                    <a:lnTo>
                      <a:pt x="2232" y="307"/>
                    </a:lnTo>
                    <a:lnTo>
                      <a:pt x="2140" y="287"/>
                    </a:lnTo>
                    <a:lnTo>
                      <a:pt x="2052" y="265"/>
                    </a:lnTo>
                    <a:lnTo>
                      <a:pt x="1960" y="240"/>
                    </a:lnTo>
                    <a:lnTo>
                      <a:pt x="1869" y="213"/>
                    </a:lnTo>
                    <a:lnTo>
                      <a:pt x="1780" y="186"/>
                    </a:lnTo>
                    <a:lnTo>
                      <a:pt x="1688" y="158"/>
                    </a:lnTo>
                    <a:lnTo>
                      <a:pt x="1595" y="131"/>
                    </a:lnTo>
                    <a:lnTo>
                      <a:pt x="1500" y="103"/>
                    </a:lnTo>
                    <a:lnTo>
                      <a:pt x="1407" y="79"/>
                    </a:lnTo>
                    <a:lnTo>
                      <a:pt x="1311" y="56"/>
                    </a:lnTo>
                    <a:lnTo>
                      <a:pt x="1214" y="37"/>
                    </a:lnTo>
                    <a:lnTo>
                      <a:pt x="1117" y="21"/>
                    </a:lnTo>
                    <a:lnTo>
                      <a:pt x="1016" y="9"/>
                    </a:lnTo>
                    <a:lnTo>
                      <a:pt x="913" y="2"/>
                    </a:lnTo>
                    <a:lnTo>
                      <a:pt x="808" y="0"/>
                    </a:lnTo>
                    <a:lnTo>
                      <a:pt x="701" y="2"/>
                    </a:lnTo>
                    <a:lnTo>
                      <a:pt x="593" y="11"/>
                    </a:lnTo>
                    <a:lnTo>
                      <a:pt x="480" y="26"/>
                    </a:lnTo>
                    <a:lnTo>
                      <a:pt x="364" y="52"/>
                    </a:lnTo>
                    <a:lnTo>
                      <a:pt x="247" y="84"/>
                    </a:lnTo>
                    <a:lnTo>
                      <a:pt x="126" y="126"/>
                    </a:lnTo>
                    <a:lnTo>
                      <a:pt x="0" y="176"/>
                    </a:lnTo>
                    <a:lnTo>
                      <a:pt x="0" y="176"/>
                    </a:lnTo>
                    <a:close/>
                  </a:path>
                </a:pathLst>
              </a:custGeom>
              <a:solidFill>
                <a:srgbClr val="000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161440" y="4590000"/>
                <a:ext cx="325440" cy="263160"/>
              </a:xfrm>
              <a:custGeom>
                <a:avLst/>
                <a:gdLst/>
                <a:ahLst/>
                <a:rect l="l" t="t" r="r" b="b"/>
                <a:pathLst>
                  <a:path w="647" h="524">
                    <a:moveTo>
                      <a:pt x="51" y="176"/>
                    </a:moveTo>
                    <a:lnTo>
                      <a:pt x="46" y="270"/>
                    </a:lnTo>
                    <a:lnTo>
                      <a:pt x="39" y="353"/>
                    </a:lnTo>
                    <a:lnTo>
                      <a:pt x="24" y="432"/>
                    </a:lnTo>
                    <a:lnTo>
                      <a:pt x="0" y="524"/>
                    </a:lnTo>
                    <a:lnTo>
                      <a:pt x="42" y="504"/>
                    </a:lnTo>
                    <a:lnTo>
                      <a:pt x="84" y="485"/>
                    </a:lnTo>
                    <a:lnTo>
                      <a:pt x="125" y="467"/>
                    </a:lnTo>
                    <a:lnTo>
                      <a:pt x="162" y="451"/>
                    </a:lnTo>
                    <a:lnTo>
                      <a:pt x="200" y="437"/>
                    </a:lnTo>
                    <a:lnTo>
                      <a:pt x="239" y="425"/>
                    </a:lnTo>
                    <a:lnTo>
                      <a:pt x="274" y="414"/>
                    </a:lnTo>
                    <a:lnTo>
                      <a:pt x="310" y="405"/>
                    </a:lnTo>
                    <a:lnTo>
                      <a:pt x="346" y="395"/>
                    </a:lnTo>
                    <a:lnTo>
                      <a:pt x="381" y="388"/>
                    </a:lnTo>
                    <a:lnTo>
                      <a:pt x="417" y="382"/>
                    </a:lnTo>
                    <a:lnTo>
                      <a:pt x="454" y="377"/>
                    </a:lnTo>
                    <a:lnTo>
                      <a:pt x="493" y="372"/>
                    </a:lnTo>
                    <a:lnTo>
                      <a:pt x="531" y="367"/>
                    </a:lnTo>
                    <a:lnTo>
                      <a:pt x="570" y="365"/>
                    </a:lnTo>
                    <a:lnTo>
                      <a:pt x="614" y="362"/>
                    </a:lnTo>
                    <a:lnTo>
                      <a:pt x="627" y="268"/>
                    </a:lnTo>
                    <a:lnTo>
                      <a:pt x="638" y="181"/>
                    </a:lnTo>
                    <a:lnTo>
                      <a:pt x="644" y="97"/>
                    </a:lnTo>
                    <a:lnTo>
                      <a:pt x="647" y="0"/>
                    </a:lnTo>
                    <a:lnTo>
                      <a:pt x="606" y="5"/>
                    </a:lnTo>
                    <a:lnTo>
                      <a:pt x="567" y="7"/>
                    </a:lnTo>
                    <a:lnTo>
                      <a:pt x="531" y="12"/>
                    </a:lnTo>
                    <a:lnTo>
                      <a:pt x="493" y="20"/>
                    </a:lnTo>
                    <a:lnTo>
                      <a:pt x="457" y="25"/>
                    </a:lnTo>
                    <a:lnTo>
                      <a:pt x="421" y="33"/>
                    </a:lnTo>
                    <a:lnTo>
                      <a:pt x="385" y="39"/>
                    </a:lnTo>
                    <a:lnTo>
                      <a:pt x="350" y="49"/>
                    </a:lnTo>
                    <a:lnTo>
                      <a:pt x="314" y="60"/>
                    </a:lnTo>
                    <a:lnTo>
                      <a:pt x="281" y="72"/>
                    </a:lnTo>
                    <a:lnTo>
                      <a:pt x="242" y="84"/>
                    </a:lnTo>
                    <a:lnTo>
                      <a:pt x="207" y="99"/>
                    </a:lnTo>
                    <a:lnTo>
                      <a:pt x="170" y="117"/>
                    </a:lnTo>
                    <a:lnTo>
                      <a:pt x="131" y="134"/>
                    </a:lnTo>
                    <a:lnTo>
                      <a:pt x="90" y="154"/>
                    </a:lnTo>
                    <a:lnTo>
                      <a:pt x="51" y="176"/>
                    </a:lnTo>
                    <a:lnTo>
                      <a:pt x="51" y="1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07440" y="3663720"/>
                <a:ext cx="371520" cy="277200"/>
              </a:xfrm>
              <a:custGeom>
                <a:avLst/>
                <a:gdLst/>
                <a:ahLst/>
                <a:rect l="l" t="t" r="r" b="b"/>
                <a:pathLst>
                  <a:path w="740" h="552">
                    <a:moveTo>
                      <a:pt x="0" y="552"/>
                    </a:moveTo>
                    <a:lnTo>
                      <a:pt x="48" y="530"/>
                    </a:lnTo>
                    <a:lnTo>
                      <a:pt x="93" y="510"/>
                    </a:lnTo>
                    <a:lnTo>
                      <a:pt x="137" y="492"/>
                    </a:lnTo>
                    <a:lnTo>
                      <a:pt x="182" y="475"/>
                    </a:lnTo>
                    <a:lnTo>
                      <a:pt x="223" y="460"/>
                    </a:lnTo>
                    <a:lnTo>
                      <a:pt x="265" y="447"/>
                    </a:lnTo>
                    <a:lnTo>
                      <a:pt x="305" y="438"/>
                    </a:lnTo>
                    <a:lnTo>
                      <a:pt x="346" y="425"/>
                    </a:lnTo>
                    <a:lnTo>
                      <a:pt x="384" y="418"/>
                    </a:lnTo>
                    <a:lnTo>
                      <a:pt x="423" y="410"/>
                    </a:lnTo>
                    <a:lnTo>
                      <a:pt x="463" y="402"/>
                    </a:lnTo>
                    <a:lnTo>
                      <a:pt x="504" y="396"/>
                    </a:lnTo>
                    <a:lnTo>
                      <a:pt x="543" y="391"/>
                    </a:lnTo>
                    <a:lnTo>
                      <a:pt x="587" y="388"/>
                    </a:lnTo>
                    <a:lnTo>
                      <a:pt x="631" y="383"/>
                    </a:lnTo>
                    <a:lnTo>
                      <a:pt x="676" y="381"/>
                    </a:lnTo>
                    <a:lnTo>
                      <a:pt x="686" y="281"/>
                    </a:lnTo>
                    <a:lnTo>
                      <a:pt x="700" y="192"/>
                    </a:lnTo>
                    <a:lnTo>
                      <a:pt x="718" y="100"/>
                    </a:lnTo>
                    <a:lnTo>
                      <a:pt x="740" y="0"/>
                    </a:lnTo>
                    <a:lnTo>
                      <a:pt x="698" y="3"/>
                    </a:lnTo>
                    <a:lnTo>
                      <a:pt x="656" y="5"/>
                    </a:lnTo>
                    <a:lnTo>
                      <a:pt x="615" y="8"/>
                    </a:lnTo>
                    <a:lnTo>
                      <a:pt x="578" y="13"/>
                    </a:lnTo>
                    <a:lnTo>
                      <a:pt x="537" y="18"/>
                    </a:lnTo>
                    <a:lnTo>
                      <a:pt x="499" y="26"/>
                    </a:lnTo>
                    <a:lnTo>
                      <a:pt x="462" y="32"/>
                    </a:lnTo>
                    <a:lnTo>
                      <a:pt x="423" y="40"/>
                    </a:lnTo>
                    <a:lnTo>
                      <a:pt x="385" y="50"/>
                    </a:lnTo>
                    <a:lnTo>
                      <a:pt x="348" y="63"/>
                    </a:lnTo>
                    <a:lnTo>
                      <a:pt x="310" y="76"/>
                    </a:lnTo>
                    <a:lnTo>
                      <a:pt x="269" y="87"/>
                    </a:lnTo>
                    <a:lnTo>
                      <a:pt x="229" y="102"/>
                    </a:lnTo>
                    <a:lnTo>
                      <a:pt x="187" y="120"/>
                    </a:lnTo>
                    <a:lnTo>
                      <a:pt x="143" y="139"/>
                    </a:lnTo>
                    <a:lnTo>
                      <a:pt x="98" y="160"/>
                    </a:lnTo>
                    <a:lnTo>
                      <a:pt x="77" y="212"/>
                    </a:lnTo>
                    <a:lnTo>
                      <a:pt x="60" y="261"/>
                    </a:lnTo>
                    <a:lnTo>
                      <a:pt x="47" y="310"/>
                    </a:lnTo>
                    <a:lnTo>
                      <a:pt x="35" y="355"/>
                    </a:lnTo>
                    <a:lnTo>
                      <a:pt x="24" y="402"/>
                    </a:lnTo>
                    <a:lnTo>
                      <a:pt x="15" y="450"/>
                    </a:lnTo>
                    <a:lnTo>
                      <a:pt x="9" y="499"/>
                    </a:lnTo>
                    <a:lnTo>
                      <a:pt x="0" y="552"/>
                    </a:lnTo>
                    <a:lnTo>
                      <a:pt x="0" y="55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71880" y="4411440"/>
                <a:ext cx="315000" cy="266760"/>
              </a:xfrm>
              <a:custGeom>
                <a:avLst/>
                <a:gdLst/>
                <a:ahLst/>
                <a:rect l="l" t="t" r="r" b="b"/>
                <a:pathLst>
                  <a:path w="628" h="531">
                    <a:moveTo>
                      <a:pt x="0" y="186"/>
                    </a:moveTo>
                    <a:lnTo>
                      <a:pt x="14" y="278"/>
                    </a:lnTo>
                    <a:lnTo>
                      <a:pt x="23" y="360"/>
                    </a:lnTo>
                    <a:lnTo>
                      <a:pt x="27" y="441"/>
                    </a:lnTo>
                    <a:lnTo>
                      <a:pt x="32" y="531"/>
                    </a:lnTo>
                    <a:lnTo>
                      <a:pt x="74" y="509"/>
                    </a:lnTo>
                    <a:lnTo>
                      <a:pt x="115" y="489"/>
                    </a:lnTo>
                    <a:lnTo>
                      <a:pt x="152" y="472"/>
                    </a:lnTo>
                    <a:lnTo>
                      <a:pt x="190" y="454"/>
                    </a:lnTo>
                    <a:lnTo>
                      <a:pt x="226" y="439"/>
                    </a:lnTo>
                    <a:lnTo>
                      <a:pt x="262" y="427"/>
                    </a:lnTo>
                    <a:lnTo>
                      <a:pt x="297" y="415"/>
                    </a:lnTo>
                    <a:lnTo>
                      <a:pt x="333" y="404"/>
                    </a:lnTo>
                    <a:lnTo>
                      <a:pt x="366" y="394"/>
                    </a:lnTo>
                    <a:lnTo>
                      <a:pt x="402" y="388"/>
                    </a:lnTo>
                    <a:lnTo>
                      <a:pt x="438" y="380"/>
                    </a:lnTo>
                    <a:lnTo>
                      <a:pt x="474" y="372"/>
                    </a:lnTo>
                    <a:lnTo>
                      <a:pt x="509" y="367"/>
                    </a:lnTo>
                    <a:lnTo>
                      <a:pt x="548" y="362"/>
                    </a:lnTo>
                    <a:lnTo>
                      <a:pt x="587" y="360"/>
                    </a:lnTo>
                    <a:lnTo>
                      <a:pt x="628" y="355"/>
                    </a:lnTo>
                    <a:lnTo>
                      <a:pt x="628" y="263"/>
                    </a:lnTo>
                    <a:lnTo>
                      <a:pt x="625" y="181"/>
                    </a:lnTo>
                    <a:lnTo>
                      <a:pt x="619" y="94"/>
                    </a:lnTo>
                    <a:lnTo>
                      <a:pt x="614" y="0"/>
                    </a:lnTo>
                    <a:lnTo>
                      <a:pt x="572" y="5"/>
                    </a:lnTo>
                    <a:lnTo>
                      <a:pt x="532" y="7"/>
                    </a:lnTo>
                    <a:lnTo>
                      <a:pt x="494" y="15"/>
                    </a:lnTo>
                    <a:lnTo>
                      <a:pt x="456" y="20"/>
                    </a:lnTo>
                    <a:lnTo>
                      <a:pt x="420" y="26"/>
                    </a:lnTo>
                    <a:lnTo>
                      <a:pt x="382" y="34"/>
                    </a:lnTo>
                    <a:lnTo>
                      <a:pt x="346" y="42"/>
                    </a:lnTo>
                    <a:lnTo>
                      <a:pt x="311" y="52"/>
                    </a:lnTo>
                    <a:lnTo>
                      <a:pt x="276" y="65"/>
                    </a:lnTo>
                    <a:lnTo>
                      <a:pt x="240" y="76"/>
                    </a:lnTo>
                    <a:lnTo>
                      <a:pt x="202" y="92"/>
                    </a:lnTo>
                    <a:lnTo>
                      <a:pt x="163" y="107"/>
                    </a:lnTo>
                    <a:lnTo>
                      <a:pt x="125" y="124"/>
                    </a:lnTo>
                    <a:lnTo>
                      <a:pt x="85" y="141"/>
                    </a:lnTo>
                    <a:lnTo>
                      <a:pt x="43" y="163"/>
                    </a:lnTo>
                    <a:lnTo>
                      <a:pt x="0" y="186"/>
                    </a:lnTo>
                    <a:lnTo>
                      <a:pt x="0" y="18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05640" y="3854520"/>
                <a:ext cx="341640" cy="281520"/>
              </a:xfrm>
              <a:custGeom>
                <a:avLst/>
                <a:gdLst/>
                <a:ahLst/>
                <a:rect l="l" t="t" r="r" b="b"/>
                <a:pathLst>
                  <a:path w="683" h="559">
                    <a:moveTo>
                      <a:pt x="683" y="0"/>
                    </a:moveTo>
                    <a:lnTo>
                      <a:pt x="638" y="2"/>
                    </a:lnTo>
                    <a:lnTo>
                      <a:pt x="594" y="7"/>
                    </a:lnTo>
                    <a:lnTo>
                      <a:pt x="553" y="10"/>
                    </a:lnTo>
                    <a:lnTo>
                      <a:pt x="511" y="15"/>
                    </a:lnTo>
                    <a:lnTo>
                      <a:pt x="470" y="21"/>
                    </a:lnTo>
                    <a:lnTo>
                      <a:pt x="430" y="29"/>
                    </a:lnTo>
                    <a:lnTo>
                      <a:pt x="391" y="37"/>
                    </a:lnTo>
                    <a:lnTo>
                      <a:pt x="353" y="44"/>
                    </a:lnTo>
                    <a:lnTo>
                      <a:pt x="312" y="57"/>
                    </a:lnTo>
                    <a:lnTo>
                      <a:pt x="272" y="66"/>
                    </a:lnTo>
                    <a:lnTo>
                      <a:pt x="230" y="79"/>
                    </a:lnTo>
                    <a:lnTo>
                      <a:pt x="187" y="94"/>
                    </a:lnTo>
                    <a:lnTo>
                      <a:pt x="144" y="111"/>
                    </a:lnTo>
                    <a:lnTo>
                      <a:pt x="100" y="129"/>
                    </a:lnTo>
                    <a:lnTo>
                      <a:pt x="54" y="149"/>
                    </a:lnTo>
                    <a:lnTo>
                      <a:pt x="7" y="171"/>
                    </a:lnTo>
                    <a:lnTo>
                      <a:pt x="0" y="273"/>
                    </a:lnTo>
                    <a:lnTo>
                      <a:pt x="0" y="365"/>
                    </a:lnTo>
                    <a:lnTo>
                      <a:pt x="1" y="459"/>
                    </a:lnTo>
                    <a:lnTo>
                      <a:pt x="10" y="559"/>
                    </a:lnTo>
                    <a:lnTo>
                      <a:pt x="58" y="536"/>
                    </a:lnTo>
                    <a:lnTo>
                      <a:pt x="105" y="514"/>
                    </a:lnTo>
                    <a:lnTo>
                      <a:pt x="150" y="496"/>
                    </a:lnTo>
                    <a:lnTo>
                      <a:pt x="192" y="480"/>
                    </a:lnTo>
                    <a:lnTo>
                      <a:pt x="231" y="464"/>
                    </a:lnTo>
                    <a:lnTo>
                      <a:pt x="272" y="449"/>
                    </a:lnTo>
                    <a:lnTo>
                      <a:pt x="312" y="436"/>
                    </a:lnTo>
                    <a:lnTo>
                      <a:pt x="353" y="427"/>
                    </a:lnTo>
                    <a:lnTo>
                      <a:pt x="391" y="417"/>
                    </a:lnTo>
                    <a:lnTo>
                      <a:pt x="430" y="409"/>
                    </a:lnTo>
                    <a:lnTo>
                      <a:pt x="469" y="402"/>
                    </a:lnTo>
                    <a:lnTo>
                      <a:pt x="508" y="394"/>
                    </a:lnTo>
                    <a:lnTo>
                      <a:pt x="549" y="389"/>
                    </a:lnTo>
                    <a:lnTo>
                      <a:pt x="591" y="385"/>
                    </a:lnTo>
                    <a:lnTo>
                      <a:pt x="636" y="380"/>
                    </a:lnTo>
                    <a:lnTo>
                      <a:pt x="681" y="375"/>
                    </a:lnTo>
                    <a:lnTo>
                      <a:pt x="678" y="278"/>
                    </a:lnTo>
                    <a:lnTo>
                      <a:pt x="675" y="189"/>
                    </a:lnTo>
                    <a:lnTo>
                      <a:pt x="675" y="99"/>
                    </a:lnTo>
                    <a:lnTo>
                      <a:pt x="683" y="0"/>
                    </a:lnTo>
                    <a:lnTo>
                      <a:pt x="683"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09600" y="4043880"/>
                <a:ext cx="369360" cy="461880"/>
              </a:xfrm>
              <a:custGeom>
                <a:avLst/>
                <a:gdLst/>
                <a:ahLst/>
                <a:rect l="l" t="t" r="r" b="b"/>
                <a:pathLst>
                  <a:path w="737" h="919">
                    <a:moveTo>
                      <a:pt x="671" y="0"/>
                    </a:moveTo>
                    <a:lnTo>
                      <a:pt x="626" y="5"/>
                    </a:lnTo>
                    <a:lnTo>
                      <a:pt x="584" y="8"/>
                    </a:lnTo>
                    <a:lnTo>
                      <a:pt x="540" y="14"/>
                    </a:lnTo>
                    <a:lnTo>
                      <a:pt x="498" y="19"/>
                    </a:lnTo>
                    <a:lnTo>
                      <a:pt x="459" y="27"/>
                    </a:lnTo>
                    <a:lnTo>
                      <a:pt x="420" y="34"/>
                    </a:lnTo>
                    <a:lnTo>
                      <a:pt x="381" y="42"/>
                    </a:lnTo>
                    <a:lnTo>
                      <a:pt x="343" y="52"/>
                    </a:lnTo>
                    <a:lnTo>
                      <a:pt x="302" y="64"/>
                    </a:lnTo>
                    <a:lnTo>
                      <a:pt x="262" y="77"/>
                    </a:lnTo>
                    <a:lnTo>
                      <a:pt x="221" y="89"/>
                    </a:lnTo>
                    <a:lnTo>
                      <a:pt x="179" y="105"/>
                    </a:lnTo>
                    <a:lnTo>
                      <a:pt x="137" y="121"/>
                    </a:lnTo>
                    <a:lnTo>
                      <a:pt x="95" y="142"/>
                    </a:lnTo>
                    <a:lnTo>
                      <a:pt x="48" y="161"/>
                    </a:lnTo>
                    <a:lnTo>
                      <a:pt x="0" y="184"/>
                    </a:lnTo>
                    <a:lnTo>
                      <a:pt x="12" y="286"/>
                    </a:lnTo>
                    <a:lnTo>
                      <a:pt x="26" y="380"/>
                    </a:lnTo>
                    <a:lnTo>
                      <a:pt x="41" y="470"/>
                    </a:lnTo>
                    <a:lnTo>
                      <a:pt x="57" y="557"/>
                    </a:lnTo>
                    <a:lnTo>
                      <a:pt x="74" y="643"/>
                    </a:lnTo>
                    <a:lnTo>
                      <a:pt x="90" y="730"/>
                    </a:lnTo>
                    <a:lnTo>
                      <a:pt x="108" y="822"/>
                    </a:lnTo>
                    <a:lnTo>
                      <a:pt x="123" y="919"/>
                    </a:lnTo>
                    <a:lnTo>
                      <a:pt x="166" y="896"/>
                    </a:lnTo>
                    <a:lnTo>
                      <a:pt x="208" y="874"/>
                    </a:lnTo>
                    <a:lnTo>
                      <a:pt x="248" y="857"/>
                    </a:lnTo>
                    <a:lnTo>
                      <a:pt x="286" y="840"/>
                    </a:lnTo>
                    <a:lnTo>
                      <a:pt x="325" y="825"/>
                    </a:lnTo>
                    <a:lnTo>
                      <a:pt x="363" y="809"/>
                    </a:lnTo>
                    <a:lnTo>
                      <a:pt x="399" y="798"/>
                    </a:lnTo>
                    <a:lnTo>
                      <a:pt x="434" y="785"/>
                    </a:lnTo>
                    <a:lnTo>
                      <a:pt x="469" y="775"/>
                    </a:lnTo>
                    <a:lnTo>
                      <a:pt x="507" y="767"/>
                    </a:lnTo>
                    <a:lnTo>
                      <a:pt x="543" y="759"/>
                    </a:lnTo>
                    <a:lnTo>
                      <a:pt x="579" y="753"/>
                    </a:lnTo>
                    <a:lnTo>
                      <a:pt x="617" y="748"/>
                    </a:lnTo>
                    <a:lnTo>
                      <a:pt x="657" y="740"/>
                    </a:lnTo>
                    <a:lnTo>
                      <a:pt x="695" y="738"/>
                    </a:lnTo>
                    <a:lnTo>
                      <a:pt x="737" y="733"/>
                    </a:lnTo>
                    <a:lnTo>
                      <a:pt x="728" y="636"/>
                    </a:lnTo>
                    <a:lnTo>
                      <a:pt x="719" y="544"/>
                    </a:lnTo>
                    <a:lnTo>
                      <a:pt x="710" y="457"/>
                    </a:lnTo>
                    <a:lnTo>
                      <a:pt x="701" y="370"/>
                    </a:lnTo>
                    <a:lnTo>
                      <a:pt x="692" y="286"/>
                    </a:lnTo>
                    <a:lnTo>
                      <a:pt x="686" y="197"/>
                    </a:lnTo>
                    <a:lnTo>
                      <a:pt x="677" y="102"/>
                    </a:lnTo>
                    <a:lnTo>
                      <a:pt x="671" y="0"/>
                    </a:lnTo>
                    <a:lnTo>
                      <a:pt x="67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302640" y="4716720"/>
                <a:ext cx="488160" cy="250920"/>
              </a:xfrm>
              <a:custGeom>
                <a:avLst/>
                <a:gdLst/>
                <a:ahLst/>
                <a:rect l="l" t="t" r="r" b="b"/>
                <a:pathLst>
                  <a:path w="974" h="497">
                    <a:moveTo>
                      <a:pt x="966" y="0"/>
                    </a:moveTo>
                    <a:lnTo>
                      <a:pt x="897" y="26"/>
                    </a:lnTo>
                    <a:lnTo>
                      <a:pt x="833" y="49"/>
                    </a:lnTo>
                    <a:lnTo>
                      <a:pt x="771" y="66"/>
                    </a:lnTo>
                    <a:lnTo>
                      <a:pt x="708" y="84"/>
                    </a:lnTo>
                    <a:lnTo>
                      <a:pt x="650" y="97"/>
                    </a:lnTo>
                    <a:lnTo>
                      <a:pt x="592" y="106"/>
                    </a:lnTo>
                    <a:lnTo>
                      <a:pt x="533" y="113"/>
                    </a:lnTo>
                    <a:lnTo>
                      <a:pt x="478" y="118"/>
                    </a:lnTo>
                    <a:lnTo>
                      <a:pt x="422" y="121"/>
                    </a:lnTo>
                    <a:lnTo>
                      <a:pt x="366" y="121"/>
                    </a:lnTo>
                    <a:lnTo>
                      <a:pt x="309" y="121"/>
                    </a:lnTo>
                    <a:lnTo>
                      <a:pt x="253" y="116"/>
                    </a:lnTo>
                    <a:lnTo>
                      <a:pt x="193" y="111"/>
                    </a:lnTo>
                    <a:lnTo>
                      <a:pt x="133" y="106"/>
                    </a:lnTo>
                    <a:lnTo>
                      <a:pt x="70" y="99"/>
                    </a:lnTo>
                    <a:lnTo>
                      <a:pt x="5" y="89"/>
                    </a:lnTo>
                    <a:lnTo>
                      <a:pt x="7" y="188"/>
                    </a:lnTo>
                    <a:lnTo>
                      <a:pt x="7" y="278"/>
                    </a:lnTo>
                    <a:lnTo>
                      <a:pt x="5" y="366"/>
                    </a:lnTo>
                    <a:lnTo>
                      <a:pt x="0" y="465"/>
                    </a:lnTo>
                    <a:lnTo>
                      <a:pt x="65" y="474"/>
                    </a:lnTo>
                    <a:lnTo>
                      <a:pt x="130" y="482"/>
                    </a:lnTo>
                    <a:lnTo>
                      <a:pt x="190" y="490"/>
                    </a:lnTo>
                    <a:lnTo>
                      <a:pt x="247" y="495"/>
                    </a:lnTo>
                    <a:lnTo>
                      <a:pt x="306" y="497"/>
                    </a:lnTo>
                    <a:lnTo>
                      <a:pt x="364" y="497"/>
                    </a:lnTo>
                    <a:lnTo>
                      <a:pt x="420" y="497"/>
                    </a:lnTo>
                    <a:lnTo>
                      <a:pt x="476" y="495"/>
                    </a:lnTo>
                    <a:lnTo>
                      <a:pt x="532" y="490"/>
                    </a:lnTo>
                    <a:lnTo>
                      <a:pt x="590" y="482"/>
                    </a:lnTo>
                    <a:lnTo>
                      <a:pt x="647" y="473"/>
                    </a:lnTo>
                    <a:lnTo>
                      <a:pt x="708" y="460"/>
                    </a:lnTo>
                    <a:lnTo>
                      <a:pt x="768" y="445"/>
                    </a:lnTo>
                    <a:lnTo>
                      <a:pt x="831" y="426"/>
                    </a:lnTo>
                    <a:lnTo>
                      <a:pt x="897" y="403"/>
                    </a:lnTo>
                    <a:lnTo>
                      <a:pt x="966" y="379"/>
                    </a:lnTo>
                    <a:lnTo>
                      <a:pt x="971" y="278"/>
                    </a:lnTo>
                    <a:lnTo>
                      <a:pt x="974" y="188"/>
                    </a:lnTo>
                    <a:lnTo>
                      <a:pt x="971" y="99"/>
                    </a:lnTo>
                    <a:lnTo>
                      <a:pt x="966" y="0"/>
                    </a:lnTo>
                    <a:lnTo>
                      <a:pt x="966"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85000" y="3790440"/>
                <a:ext cx="481680" cy="253080"/>
              </a:xfrm>
              <a:custGeom>
                <a:avLst/>
                <a:gdLst/>
                <a:ahLst/>
                <a:rect l="l" t="t" r="r" b="b"/>
                <a:pathLst>
                  <a:path w="961" h="502">
                    <a:moveTo>
                      <a:pt x="870" y="373"/>
                    </a:moveTo>
                    <a:lnTo>
                      <a:pt x="877" y="323"/>
                    </a:lnTo>
                    <a:lnTo>
                      <a:pt x="886" y="276"/>
                    </a:lnTo>
                    <a:lnTo>
                      <a:pt x="895" y="231"/>
                    </a:lnTo>
                    <a:lnTo>
                      <a:pt x="903" y="187"/>
                    </a:lnTo>
                    <a:lnTo>
                      <a:pt x="915" y="145"/>
                    </a:lnTo>
                    <a:lnTo>
                      <a:pt x="928" y="100"/>
                    </a:lnTo>
                    <a:lnTo>
                      <a:pt x="943" y="53"/>
                    </a:lnTo>
                    <a:lnTo>
                      <a:pt x="961" y="0"/>
                    </a:lnTo>
                    <a:lnTo>
                      <a:pt x="897" y="27"/>
                    </a:lnTo>
                    <a:lnTo>
                      <a:pt x="835" y="53"/>
                    </a:lnTo>
                    <a:lnTo>
                      <a:pt x="773" y="72"/>
                    </a:lnTo>
                    <a:lnTo>
                      <a:pt x="718" y="90"/>
                    </a:lnTo>
                    <a:lnTo>
                      <a:pt x="660" y="104"/>
                    </a:lnTo>
                    <a:lnTo>
                      <a:pt x="606" y="114"/>
                    </a:lnTo>
                    <a:lnTo>
                      <a:pt x="551" y="124"/>
                    </a:lnTo>
                    <a:lnTo>
                      <a:pt x="498" y="129"/>
                    </a:lnTo>
                    <a:lnTo>
                      <a:pt x="444" y="134"/>
                    </a:lnTo>
                    <a:lnTo>
                      <a:pt x="390" y="134"/>
                    </a:lnTo>
                    <a:lnTo>
                      <a:pt x="337" y="134"/>
                    </a:lnTo>
                    <a:lnTo>
                      <a:pt x="281" y="132"/>
                    </a:lnTo>
                    <a:lnTo>
                      <a:pt x="224" y="127"/>
                    </a:lnTo>
                    <a:lnTo>
                      <a:pt x="167" y="122"/>
                    </a:lnTo>
                    <a:lnTo>
                      <a:pt x="107" y="114"/>
                    </a:lnTo>
                    <a:lnTo>
                      <a:pt x="44" y="106"/>
                    </a:lnTo>
                    <a:lnTo>
                      <a:pt x="28" y="201"/>
                    </a:lnTo>
                    <a:lnTo>
                      <a:pt x="15" y="288"/>
                    </a:lnTo>
                    <a:lnTo>
                      <a:pt x="6" y="376"/>
                    </a:lnTo>
                    <a:lnTo>
                      <a:pt x="0" y="471"/>
                    </a:lnTo>
                    <a:lnTo>
                      <a:pt x="60" y="482"/>
                    </a:lnTo>
                    <a:lnTo>
                      <a:pt x="117" y="489"/>
                    </a:lnTo>
                    <a:lnTo>
                      <a:pt x="173" y="494"/>
                    </a:lnTo>
                    <a:lnTo>
                      <a:pt x="230" y="499"/>
                    </a:lnTo>
                    <a:lnTo>
                      <a:pt x="281" y="502"/>
                    </a:lnTo>
                    <a:lnTo>
                      <a:pt x="334" y="502"/>
                    </a:lnTo>
                    <a:lnTo>
                      <a:pt x="385" y="502"/>
                    </a:lnTo>
                    <a:lnTo>
                      <a:pt x="435" y="499"/>
                    </a:lnTo>
                    <a:lnTo>
                      <a:pt x="486" y="492"/>
                    </a:lnTo>
                    <a:lnTo>
                      <a:pt x="537" y="484"/>
                    </a:lnTo>
                    <a:lnTo>
                      <a:pt x="588" y="474"/>
                    </a:lnTo>
                    <a:lnTo>
                      <a:pt x="642" y="460"/>
                    </a:lnTo>
                    <a:lnTo>
                      <a:pt x="695" y="442"/>
                    </a:lnTo>
                    <a:lnTo>
                      <a:pt x="752" y="423"/>
                    </a:lnTo>
                    <a:lnTo>
                      <a:pt x="809" y="400"/>
                    </a:lnTo>
                    <a:lnTo>
                      <a:pt x="870" y="373"/>
                    </a:lnTo>
                    <a:lnTo>
                      <a:pt x="870" y="373"/>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96880" y="4536000"/>
                <a:ext cx="491760" cy="240840"/>
              </a:xfrm>
              <a:custGeom>
                <a:avLst/>
                <a:gdLst/>
                <a:ahLst/>
                <a:rect l="l" t="t" r="r" b="b"/>
                <a:pathLst>
                  <a:path w="976" h="484">
                    <a:moveTo>
                      <a:pt x="15" y="452"/>
                    </a:moveTo>
                    <a:lnTo>
                      <a:pt x="80" y="462"/>
                    </a:lnTo>
                    <a:lnTo>
                      <a:pt x="143" y="469"/>
                    </a:lnTo>
                    <a:lnTo>
                      <a:pt x="203" y="474"/>
                    </a:lnTo>
                    <a:lnTo>
                      <a:pt x="263" y="479"/>
                    </a:lnTo>
                    <a:lnTo>
                      <a:pt x="319" y="484"/>
                    </a:lnTo>
                    <a:lnTo>
                      <a:pt x="376" y="484"/>
                    </a:lnTo>
                    <a:lnTo>
                      <a:pt x="432" y="484"/>
                    </a:lnTo>
                    <a:lnTo>
                      <a:pt x="488" y="481"/>
                    </a:lnTo>
                    <a:lnTo>
                      <a:pt x="543" y="476"/>
                    </a:lnTo>
                    <a:lnTo>
                      <a:pt x="602" y="469"/>
                    </a:lnTo>
                    <a:lnTo>
                      <a:pt x="660" y="460"/>
                    </a:lnTo>
                    <a:lnTo>
                      <a:pt x="718" y="447"/>
                    </a:lnTo>
                    <a:lnTo>
                      <a:pt x="781" y="429"/>
                    </a:lnTo>
                    <a:lnTo>
                      <a:pt x="843" y="412"/>
                    </a:lnTo>
                    <a:lnTo>
                      <a:pt x="907" y="389"/>
                    </a:lnTo>
                    <a:lnTo>
                      <a:pt x="976" y="363"/>
                    </a:lnTo>
                    <a:lnTo>
                      <a:pt x="967" y="268"/>
                    </a:lnTo>
                    <a:lnTo>
                      <a:pt x="957" y="184"/>
                    </a:lnTo>
                    <a:lnTo>
                      <a:pt x="943" y="97"/>
                    </a:lnTo>
                    <a:lnTo>
                      <a:pt x="930" y="0"/>
                    </a:lnTo>
                    <a:lnTo>
                      <a:pt x="865" y="24"/>
                    </a:lnTo>
                    <a:lnTo>
                      <a:pt x="800" y="47"/>
                    </a:lnTo>
                    <a:lnTo>
                      <a:pt x="740" y="66"/>
                    </a:lnTo>
                    <a:lnTo>
                      <a:pt x="682" y="82"/>
                    </a:lnTo>
                    <a:lnTo>
                      <a:pt x="624" y="95"/>
                    </a:lnTo>
                    <a:lnTo>
                      <a:pt x="569" y="106"/>
                    </a:lnTo>
                    <a:lnTo>
                      <a:pt x="515" y="114"/>
                    </a:lnTo>
                    <a:lnTo>
                      <a:pt x="459" y="116"/>
                    </a:lnTo>
                    <a:lnTo>
                      <a:pt x="406" y="121"/>
                    </a:lnTo>
                    <a:lnTo>
                      <a:pt x="349" y="121"/>
                    </a:lnTo>
                    <a:lnTo>
                      <a:pt x="296" y="119"/>
                    </a:lnTo>
                    <a:lnTo>
                      <a:pt x="240" y="116"/>
                    </a:lnTo>
                    <a:lnTo>
                      <a:pt x="182" y="111"/>
                    </a:lnTo>
                    <a:lnTo>
                      <a:pt x="125" y="103"/>
                    </a:lnTo>
                    <a:lnTo>
                      <a:pt x="62" y="97"/>
                    </a:lnTo>
                    <a:lnTo>
                      <a:pt x="0" y="87"/>
                    </a:lnTo>
                    <a:lnTo>
                      <a:pt x="6" y="184"/>
                    </a:lnTo>
                    <a:lnTo>
                      <a:pt x="9" y="271"/>
                    </a:lnTo>
                    <a:lnTo>
                      <a:pt x="12" y="357"/>
                    </a:lnTo>
                    <a:lnTo>
                      <a:pt x="15" y="452"/>
                    </a:lnTo>
                    <a:lnTo>
                      <a:pt x="15" y="452"/>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8520" y="3979440"/>
                <a:ext cx="441720" cy="248760"/>
              </a:xfrm>
              <a:custGeom>
                <a:avLst/>
                <a:gdLst/>
                <a:ahLst/>
                <a:rect l="l" t="t" r="r" b="b"/>
                <a:pathLst>
                  <a:path w="879" h="499">
                    <a:moveTo>
                      <a:pt x="1" y="466"/>
                    </a:moveTo>
                    <a:lnTo>
                      <a:pt x="62" y="476"/>
                    </a:lnTo>
                    <a:lnTo>
                      <a:pt x="120" y="484"/>
                    </a:lnTo>
                    <a:lnTo>
                      <a:pt x="176" y="489"/>
                    </a:lnTo>
                    <a:lnTo>
                      <a:pt x="230" y="494"/>
                    </a:lnTo>
                    <a:lnTo>
                      <a:pt x="281" y="497"/>
                    </a:lnTo>
                    <a:lnTo>
                      <a:pt x="334" y="499"/>
                    </a:lnTo>
                    <a:lnTo>
                      <a:pt x="385" y="499"/>
                    </a:lnTo>
                    <a:lnTo>
                      <a:pt x="435" y="494"/>
                    </a:lnTo>
                    <a:lnTo>
                      <a:pt x="486" y="489"/>
                    </a:lnTo>
                    <a:lnTo>
                      <a:pt x="537" y="481"/>
                    </a:lnTo>
                    <a:lnTo>
                      <a:pt x="588" y="471"/>
                    </a:lnTo>
                    <a:lnTo>
                      <a:pt x="642" y="457"/>
                    </a:lnTo>
                    <a:lnTo>
                      <a:pt x="696" y="442"/>
                    </a:lnTo>
                    <a:lnTo>
                      <a:pt x="752" y="421"/>
                    </a:lnTo>
                    <a:lnTo>
                      <a:pt x="808" y="400"/>
                    </a:lnTo>
                    <a:lnTo>
                      <a:pt x="868" y="373"/>
                    </a:lnTo>
                    <a:lnTo>
                      <a:pt x="865" y="276"/>
                    </a:lnTo>
                    <a:lnTo>
                      <a:pt x="865" y="186"/>
                    </a:lnTo>
                    <a:lnTo>
                      <a:pt x="870" y="98"/>
                    </a:lnTo>
                    <a:lnTo>
                      <a:pt x="879" y="0"/>
                    </a:lnTo>
                    <a:lnTo>
                      <a:pt x="818" y="27"/>
                    </a:lnTo>
                    <a:lnTo>
                      <a:pt x="761" y="50"/>
                    </a:lnTo>
                    <a:lnTo>
                      <a:pt x="704" y="69"/>
                    </a:lnTo>
                    <a:lnTo>
                      <a:pt x="651" y="87"/>
                    </a:lnTo>
                    <a:lnTo>
                      <a:pt x="597" y="101"/>
                    </a:lnTo>
                    <a:lnTo>
                      <a:pt x="546" y="111"/>
                    </a:lnTo>
                    <a:lnTo>
                      <a:pt x="495" y="119"/>
                    </a:lnTo>
                    <a:lnTo>
                      <a:pt x="444" y="126"/>
                    </a:lnTo>
                    <a:lnTo>
                      <a:pt x="394" y="129"/>
                    </a:lnTo>
                    <a:lnTo>
                      <a:pt x="343" y="129"/>
                    </a:lnTo>
                    <a:lnTo>
                      <a:pt x="290" y="129"/>
                    </a:lnTo>
                    <a:lnTo>
                      <a:pt x="239" y="126"/>
                    </a:lnTo>
                    <a:lnTo>
                      <a:pt x="182" y="121"/>
                    </a:lnTo>
                    <a:lnTo>
                      <a:pt x="126" y="116"/>
                    </a:lnTo>
                    <a:lnTo>
                      <a:pt x="69" y="109"/>
                    </a:lnTo>
                    <a:lnTo>
                      <a:pt x="9" y="98"/>
                    </a:lnTo>
                    <a:lnTo>
                      <a:pt x="4" y="193"/>
                    </a:lnTo>
                    <a:lnTo>
                      <a:pt x="1" y="282"/>
                    </a:lnTo>
                    <a:lnTo>
                      <a:pt x="0" y="370"/>
                    </a:lnTo>
                    <a:lnTo>
                      <a:pt x="1" y="466"/>
                    </a:lnTo>
                    <a:lnTo>
                      <a:pt x="1" y="46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81040" y="4166280"/>
                <a:ext cx="483480" cy="429480"/>
              </a:xfrm>
              <a:custGeom>
                <a:avLst/>
                <a:gdLst/>
                <a:ahLst/>
                <a:rect l="l" t="t" r="r" b="b"/>
                <a:pathLst>
                  <a:path w="965" h="856">
                    <a:moveTo>
                      <a:pt x="35" y="822"/>
                    </a:moveTo>
                    <a:lnTo>
                      <a:pt x="97" y="832"/>
                    </a:lnTo>
                    <a:lnTo>
                      <a:pt x="160" y="838"/>
                    </a:lnTo>
                    <a:lnTo>
                      <a:pt x="217" y="846"/>
                    </a:lnTo>
                    <a:lnTo>
                      <a:pt x="275" y="851"/>
                    </a:lnTo>
                    <a:lnTo>
                      <a:pt x="331" y="854"/>
                    </a:lnTo>
                    <a:lnTo>
                      <a:pt x="384" y="856"/>
                    </a:lnTo>
                    <a:lnTo>
                      <a:pt x="441" y="856"/>
                    </a:lnTo>
                    <a:lnTo>
                      <a:pt x="494" y="851"/>
                    </a:lnTo>
                    <a:lnTo>
                      <a:pt x="550" y="849"/>
                    </a:lnTo>
                    <a:lnTo>
                      <a:pt x="604" y="841"/>
                    </a:lnTo>
                    <a:lnTo>
                      <a:pt x="659" y="830"/>
                    </a:lnTo>
                    <a:lnTo>
                      <a:pt x="717" y="817"/>
                    </a:lnTo>
                    <a:lnTo>
                      <a:pt x="775" y="801"/>
                    </a:lnTo>
                    <a:lnTo>
                      <a:pt x="835" y="782"/>
                    </a:lnTo>
                    <a:lnTo>
                      <a:pt x="900" y="759"/>
                    </a:lnTo>
                    <a:lnTo>
                      <a:pt x="965" y="735"/>
                    </a:lnTo>
                    <a:lnTo>
                      <a:pt x="949" y="635"/>
                    </a:lnTo>
                    <a:lnTo>
                      <a:pt x="933" y="544"/>
                    </a:lnTo>
                    <a:lnTo>
                      <a:pt x="918" y="454"/>
                    </a:lnTo>
                    <a:lnTo>
                      <a:pt x="905" y="367"/>
                    </a:lnTo>
                    <a:lnTo>
                      <a:pt x="894" y="279"/>
                    </a:lnTo>
                    <a:lnTo>
                      <a:pt x="882" y="193"/>
                    </a:lnTo>
                    <a:lnTo>
                      <a:pt x="873" y="98"/>
                    </a:lnTo>
                    <a:lnTo>
                      <a:pt x="867" y="0"/>
                    </a:lnTo>
                    <a:lnTo>
                      <a:pt x="807" y="27"/>
                    </a:lnTo>
                    <a:lnTo>
                      <a:pt x="751" y="48"/>
                    </a:lnTo>
                    <a:lnTo>
                      <a:pt x="695" y="69"/>
                    </a:lnTo>
                    <a:lnTo>
                      <a:pt x="641" y="84"/>
                    </a:lnTo>
                    <a:lnTo>
                      <a:pt x="587" y="98"/>
                    </a:lnTo>
                    <a:lnTo>
                      <a:pt x="536" y="108"/>
                    </a:lnTo>
                    <a:lnTo>
                      <a:pt x="485" y="116"/>
                    </a:lnTo>
                    <a:lnTo>
                      <a:pt x="434" y="121"/>
                    </a:lnTo>
                    <a:lnTo>
                      <a:pt x="384" y="126"/>
                    </a:lnTo>
                    <a:lnTo>
                      <a:pt x="333" y="126"/>
                    </a:lnTo>
                    <a:lnTo>
                      <a:pt x="280" y="124"/>
                    </a:lnTo>
                    <a:lnTo>
                      <a:pt x="229" y="121"/>
                    </a:lnTo>
                    <a:lnTo>
                      <a:pt x="175" y="116"/>
                    </a:lnTo>
                    <a:lnTo>
                      <a:pt x="119" y="111"/>
                    </a:lnTo>
                    <a:lnTo>
                      <a:pt x="61" y="103"/>
                    </a:lnTo>
                    <a:lnTo>
                      <a:pt x="0" y="93"/>
                    </a:lnTo>
                    <a:lnTo>
                      <a:pt x="5" y="284"/>
                    </a:lnTo>
                    <a:lnTo>
                      <a:pt x="14" y="459"/>
                    </a:lnTo>
                    <a:lnTo>
                      <a:pt x="23" y="633"/>
                    </a:lnTo>
                    <a:lnTo>
                      <a:pt x="35" y="822"/>
                    </a:lnTo>
                    <a:lnTo>
                      <a:pt x="35" y="82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1077840" y="4583160"/>
              <a:ext cx="2342880" cy="1879200"/>
              <a:chOff x="1077840" y="4583160"/>
              <a:chExt cx="2342880" cy="1879200"/>
            </a:xfrm>
          </p:grpSpPr>
          <p:sp>
            <p:nvSpPr>
              <p:cNvPr id="316" name=""/>
              <p:cNvSpPr/>
              <p:nvPr/>
            </p:nvSpPr>
            <p:spPr>
              <a:xfrm>
                <a:off x="1361520" y="4759920"/>
                <a:ext cx="2059200" cy="1483200"/>
              </a:xfrm>
              <a:custGeom>
                <a:avLst/>
                <a:gdLst/>
                <a:ahLst/>
                <a:rect l="l" t="t" r="r" b="b"/>
                <a:pathLst>
                  <a:path w="4704" h="3393">
                    <a:moveTo>
                      <a:pt x="0" y="292"/>
                    </a:moveTo>
                    <a:lnTo>
                      <a:pt x="1444" y="17"/>
                    </a:lnTo>
                    <a:lnTo>
                      <a:pt x="1893" y="0"/>
                    </a:lnTo>
                    <a:lnTo>
                      <a:pt x="2159" y="23"/>
                    </a:lnTo>
                    <a:lnTo>
                      <a:pt x="2338" y="53"/>
                    </a:lnTo>
                    <a:lnTo>
                      <a:pt x="2632" y="148"/>
                    </a:lnTo>
                    <a:lnTo>
                      <a:pt x="3650" y="716"/>
                    </a:lnTo>
                    <a:lnTo>
                      <a:pt x="3816" y="778"/>
                    </a:lnTo>
                    <a:lnTo>
                      <a:pt x="3910" y="793"/>
                    </a:lnTo>
                    <a:lnTo>
                      <a:pt x="4223" y="2012"/>
                    </a:lnTo>
                    <a:lnTo>
                      <a:pt x="4243" y="2222"/>
                    </a:lnTo>
                    <a:lnTo>
                      <a:pt x="4273" y="2444"/>
                    </a:lnTo>
                    <a:lnTo>
                      <a:pt x="4351" y="2734"/>
                    </a:lnTo>
                    <a:lnTo>
                      <a:pt x="4496" y="3063"/>
                    </a:lnTo>
                    <a:lnTo>
                      <a:pt x="4704" y="3393"/>
                    </a:lnTo>
                    <a:lnTo>
                      <a:pt x="3234" y="2900"/>
                    </a:lnTo>
                    <a:lnTo>
                      <a:pt x="2924" y="2849"/>
                    </a:lnTo>
                    <a:lnTo>
                      <a:pt x="2717" y="2835"/>
                    </a:lnTo>
                    <a:lnTo>
                      <a:pt x="1895" y="2917"/>
                    </a:lnTo>
                    <a:lnTo>
                      <a:pt x="207" y="3253"/>
                    </a:lnTo>
                    <a:lnTo>
                      <a:pt x="57" y="3253"/>
                    </a:lnTo>
                    <a:lnTo>
                      <a:pt x="253" y="2374"/>
                    </a:lnTo>
                    <a:lnTo>
                      <a:pt x="275" y="2109"/>
                    </a:lnTo>
                    <a:lnTo>
                      <a:pt x="267" y="1935"/>
                    </a:lnTo>
                    <a:lnTo>
                      <a:pt x="229" y="1677"/>
                    </a:lnTo>
                    <a:lnTo>
                      <a:pt x="11" y="621"/>
                    </a:lnTo>
                    <a:lnTo>
                      <a:pt x="9" y="33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079640" y="4583160"/>
                <a:ext cx="127440" cy="1879200"/>
              </a:xfrm>
              <a:custGeom>
                <a:avLst/>
                <a:gdLst/>
                <a:ahLst/>
                <a:rect l="l" t="t" r="r" b="b"/>
                <a:pathLst>
                  <a:path w="290" h="4296">
                    <a:moveTo>
                      <a:pt x="172" y="0"/>
                    </a:moveTo>
                    <a:lnTo>
                      <a:pt x="102" y="15"/>
                    </a:lnTo>
                    <a:lnTo>
                      <a:pt x="65" y="62"/>
                    </a:lnTo>
                    <a:lnTo>
                      <a:pt x="44" y="169"/>
                    </a:lnTo>
                    <a:lnTo>
                      <a:pt x="44" y="233"/>
                    </a:lnTo>
                    <a:lnTo>
                      <a:pt x="8" y="245"/>
                    </a:lnTo>
                    <a:lnTo>
                      <a:pt x="0" y="450"/>
                    </a:lnTo>
                    <a:lnTo>
                      <a:pt x="65" y="464"/>
                    </a:lnTo>
                    <a:lnTo>
                      <a:pt x="65" y="4296"/>
                    </a:lnTo>
                    <a:lnTo>
                      <a:pt x="290" y="4296"/>
                    </a:lnTo>
                    <a:lnTo>
                      <a:pt x="277" y="91"/>
                    </a:lnTo>
                    <a:lnTo>
                      <a:pt x="222" y="15"/>
                    </a:lnTo>
                    <a:lnTo>
                      <a:pt x="172" y="0"/>
                    </a:lnTo>
                    <a:lnTo>
                      <a:pt x="172" y="0"/>
                    </a:lnTo>
                    <a:lnTo>
                      <a:pt x="172" y="0"/>
                    </a:lnTo>
                    <a:close/>
                  </a:path>
                </a:pathLst>
              </a:custGeom>
              <a:solidFill>
                <a:srgbClr val="b2c6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05920" y="4604040"/>
                <a:ext cx="48600" cy="1858320"/>
              </a:xfrm>
              <a:custGeom>
                <a:avLst/>
                <a:gdLst/>
                <a:ahLst/>
                <a:rect l="l" t="t" r="r" b="b"/>
                <a:pathLst>
                  <a:path w="116" h="4248">
                    <a:moveTo>
                      <a:pt x="68" y="0"/>
                    </a:moveTo>
                    <a:lnTo>
                      <a:pt x="37" y="43"/>
                    </a:lnTo>
                    <a:lnTo>
                      <a:pt x="21" y="197"/>
                    </a:lnTo>
                    <a:lnTo>
                      <a:pt x="0" y="197"/>
                    </a:lnTo>
                    <a:lnTo>
                      <a:pt x="0" y="402"/>
                    </a:lnTo>
                    <a:lnTo>
                      <a:pt x="68" y="416"/>
                    </a:lnTo>
                    <a:lnTo>
                      <a:pt x="68" y="4248"/>
                    </a:lnTo>
                    <a:lnTo>
                      <a:pt x="116" y="4248"/>
                    </a:lnTo>
                    <a:lnTo>
                      <a:pt x="116" y="416"/>
                    </a:lnTo>
                    <a:lnTo>
                      <a:pt x="46" y="385"/>
                    </a:lnTo>
                    <a:lnTo>
                      <a:pt x="57" y="197"/>
                    </a:lnTo>
                    <a:lnTo>
                      <a:pt x="68" y="121"/>
                    </a:lnTo>
                    <a:lnTo>
                      <a:pt x="68" y="43"/>
                    </a:lnTo>
                    <a:lnTo>
                      <a:pt x="94" y="0"/>
                    </a:lnTo>
                    <a:lnTo>
                      <a:pt x="68" y="0"/>
                    </a:lnTo>
                    <a:lnTo>
                      <a:pt x="68" y="0"/>
                    </a:lnTo>
                    <a:lnTo>
                      <a:pt x="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00160" y="4583160"/>
                <a:ext cx="120960" cy="76680"/>
              </a:xfrm>
              <a:custGeom>
                <a:avLst/>
                <a:gdLst/>
                <a:ahLst/>
                <a:rect l="l" t="t" r="r" b="b"/>
                <a:pathLst>
                  <a:path w="274" h="174">
                    <a:moveTo>
                      <a:pt x="0" y="174"/>
                    </a:moveTo>
                    <a:lnTo>
                      <a:pt x="0" y="121"/>
                    </a:lnTo>
                    <a:lnTo>
                      <a:pt x="9" y="91"/>
                    </a:lnTo>
                    <a:lnTo>
                      <a:pt x="26" y="59"/>
                    </a:lnTo>
                    <a:lnTo>
                      <a:pt x="49" y="32"/>
                    </a:lnTo>
                    <a:lnTo>
                      <a:pt x="72" y="15"/>
                    </a:lnTo>
                    <a:lnTo>
                      <a:pt x="103" y="2"/>
                    </a:lnTo>
                    <a:lnTo>
                      <a:pt x="139" y="0"/>
                    </a:lnTo>
                    <a:lnTo>
                      <a:pt x="175" y="2"/>
                    </a:lnTo>
                    <a:lnTo>
                      <a:pt x="202" y="15"/>
                    </a:lnTo>
                    <a:lnTo>
                      <a:pt x="230" y="36"/>
                    </a:lnTo>
                    <a:lnTo>
                      <a:pt x="256" y="55"/>
                    </a:lnTo>
                    <a:lnTo>
                      <a:pt x="271" y="91"/>
                    </a:lnTo>
                    <a:lnTo>
                      <a:pt x="274" y="131"/>
                    </a:lnTo>
                    <a:lnTo>
                      <a:pt x="274" y="174"/>
                    </a:lnTo>
                    <a:lnTo>
                      <a:pt x="125" y="171"/>
                    </a:lnTo>
                    <a:lnTo>
                      <a:pt x="171" y="160"/>
                    </a:lnTo>
                    <a:lnTo>
                      <a:pt x="128" y="144"/>
                    </a:lnTo>
                    <a:lnTo>
                      <a:pt x="171" y="140"/>
                    </a:lnTo>
                    <a:lnTo>
                      <a:pt x="128" y="127"/>
                    </a:lnTo>
                    <a:lnTo>
                      <a:pt x="177" y="118"/>
                    </a:lnTo>
                    <a:lnTo>
                      <a:pt x="125" y="106"/>
                    </a:lnTo>
                    <a:lnTo>
                      <a:pt x="177" y="91"/>
                    </a:lnTo>
                    <a:lnTo>
                      <a:pt x="128" y="84"/>
                    </a:lnTo>
                    <a:lnTo>
                      <a:pt x="177" y="68"/>
                    </a:lnTo>
                    <a:lnTo>
                      <a:pt x="125" y="53"/>
                    </a:lnTo>
                    <a:lnTo>
                      <a:pt x="169" y="43"/>
                    </a:lnTo>
                    <a:lnTo>
                      <a:pt x="128" y="32"/>
                    </a:lnTo>
                    <a:lnTo>
                      <a:pt x="163" y="17"/>
                    </a:lnTo>
                    <a:lnTo>
                      <a:pt x="129" y="15"/>
                    </a:lnTo>
                    <a:lnTo>
                      <a:pt x="151" y="2"/>
                    </a:lnTo>
                    <a:lnTo>
                      <a:pt x="111" y="9"/>
                    </a:lnTo>
                    <a:lnTo>
                      <a:pt x="72" y="26"/>
                    </a:lnTo>
                    <a:lnTo>
                      <a:pt x="43" y="50"/>
                    </a:lnTo>
                    <a:lnTo>
                      <a:pt x="23" y="91"/>
                    </a:lnTo>
                    <a:lnTo>
                      <a:pt x="9" y="127"/>
                    </a:lnTo>
                    <a:lnTo>
                      <a:pt x="13" y="171"/>
                    </a:lnTo>
                    <a:lnTo>
                      <a:pt x="0" y="174"/>
                    </a:lnTo>
                    <a:lnTo>
                      <a:pt x="0" y="174"/>
                    </a:lnTo>
                    <a:lnTo>
                      <a:pt x="0" y="1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0" name=""/>
              <p:cNvSpPr/>
              <p:nvPr/>
            </p:nvSpPr>
            <p:spPr>
              <a:xfrm>
                <a:off x="1077840" y="4662000"/>
                <a:ext cx="168120" cy="172800"/>
              </a:xfrm>
              <a:custGeom>
                <a:avLst/>
                <a:gdLst/>
                <a:ahLst/>
                <a:rect l="l" t="t" r="r" b="b"/>
                <a:pathLst>
                  <a:path w="383" h="394">
                    <a:moveTo>
                      <a:pt x="62" y="0"/>
                    </a:moveTo>
                    <a:lnTo>
                      <a:pt x="329" y="0"/>
                    </a:lnTo>
                    <a:lnTo>
                      <a:pt x="327" y="51"/>
                    </a:lnTo>
                    <a:lnTo>
                      <a:pt x="383" y="51"/>
                    </a:lnTo>
                    <a:lnTo>
                      <a:pt x="383" y="279"/>
                    </a:lnTo>
                    <a:lnTo>
                      <a:pt x="327" y="279"/>
                    </a:lnTo>
                    <a:lnTo>
                      <a:pt x="327" y="394"/>
                    </a:lnTo>
                    <a:lnTo>
                      <a:pt x="156" y="394"/>
                    </a:lnTo>
                    <a:lnTo>
                      <a:pt x="204" y="382"/>
                    </a:lnTo>
                    <a:lnTo>
                      <a:pt x="156" y="368"/>
                    </a:lnTo>
                    <a:lnTo>
                      <a:pt x="204" y="359"/>
                    </a:lnTo>
                    <a:lnTo>
                      <a:pt x="156" y="343"/>
                    </a:lnTo>
                    <a:lnTo>
                      <a:pt x="204" y="326"/>
                    </a:lnTo>
                    <a:lnTo>
                      <a:pt x="170" y="306"/>
                    </a:lnTo>
                    <a:lnTo>
                      <a:pt x="130" y="287"/>
                    </a:lnTo>
                    <a:lnTo>
                      <a:pt x="62" y="287"/>
                    </a:lnTo>
                    <a:lnTo>
                      <a:pt x="62" y="279"/>
                    </a:lnTo>
                    <a:lnTo>
                      <a:pt x="0" y="279"/>
                    </a:lnTo>
                    <a:lnTo>
                      <a:pt x="0" y="51"/>
                    </a:lnTo>
                    <a:lnTo>
                      <a:pt x="53" y="51"/>
                    </a:lnTo>
                    <a:lnTo>
                      <a:pt x="53" y="0"/>
                    </a:lnTo>
                    <a:lnTo>
                      <a:pt x="62" y="0"/>
                    </a:lnTo>
                    <a:lnTo>
                      <a:pt x="62" y="51"/>
                    </a:lnTo>
                    <a:lnTo>
                      <a:pt x="144" y="51"/>
                    </a:lnTo>
                    <a:lnTo>
                      <a:pt x="144" y="59"/>
                    </a:lnTo>
                    <a:lnTo>
                      <a:pt x="10" y="59"/>
                    </a:lnTo>
                    <a:lnTo>
                      <a:pt x="10" y="266"/>
                    </a:lnTo>
                    <a:lnTo>
                      <a:pt x="250" y="266"/>
                    </a:lnTo>
                    <a:lnTo>
                      <a:pt x="71" y="247"/>
                    </a:lnTo>
                    <a:lnTo>
                      <a:pt x="303" y="233"/>
                    </a:lnTo>
                    <a:lnTo>
                      <a:pt x="71" y="220"/>
                    </a:lnTo>
                    <a:lnTo>
                      <a:pt x="303" y="207"/>
                    </a:lnTo>
                    <a:lnTo>
                      <a:pt x="70" y="190"/>
                    </a:lnTo>
                    <a:lnTo>
                      <a:pt x="303" y="175"/>
                    </a:lnTo>
                    <a:lnTo>
                      <a:pt x="70" y="161"/>
                    </a:lnTo>
                    <a:lnTo>
                      <a:pt x="303" y="148"/>
                    </a:lnTo>
                    <a:lnTo>
                      <a:pt x="66" y="137"/>
                    </a:lnTo>
                    <a:lnTo>
                      <a:pt x="303" y="120"/>
                    </a:lnTo>
                    <a:lnTo>
                      <a:pt x="62" y="110"/>
                    </a:lnTo>
                    <a:lnTo>
                      <a:pt x="303" y="95"/>
                    </a:lnTo>
                    <a:lnTo>
                      <a:pt x="62" y="79"/>
                    </a:lnTo>
                    <a:lnTo>
                      <a:pt x="250" y="65"/>
                    </a:lnTo>
                    <a:lnTo>
                      <a:pt x="250" y="51"/>
                    </a:lnTo>
                    <a:lnTo>
                      <a:pt x="175" y="53"/>
                    </a:lnTo>
                    <a:lnTo>
                      <a:pt x="202" y="42"/>
                    </a:lnTo>
                    <a:lnTo>
                      <a:pt x="175" y="33"/>
                    </a:lnTo>
                    <a:lnTo>
                      <a:pt x="196" y="23"/>
                    </a:lnTo>
                    <a:lnTo>
                      <a:pt x="125" y="9"/>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102320" y="4799880"/>
                <a:ext cx="10080" cy="1662480"/>
              </a:xfrm>
              <a:custGeom>
                <a:avLst/>
                <a:gdLst/>
                <a:ahLst/>
                <a:rect l="l" t="t" r="r" b="b"/>
                <a:pathLst>
                  <a:path w="25" h="3799">
                    <a:moveTo>
                      <a:pt x="0" y="0"/>
                    </a:moveTo>
                    <a:lnTo>
                      <a:pt x="0" y="3799"/>
                    </a:lnTo>
                    <a:lnTo>
                      <a:pt x="25" y="3799"/>
                    </a:lnTo>
                    <a:lnTo>
                      <a:pt x="25"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84400" y="4863240"/>
                <a:ext cx="36720" cy="1599120"/>
              </a:xfrm>
              <a:custGeom>
                <a:avLst/>
                <a:gdLst/>
                <a:ahLst/>
                <a:rect l="l" t="t" r="r" b="b"/>
                <a:pathLst>
                  <a:path w="82" h="3657">
                    <a:moveTo>
                      <a:pt x="82" y="24"/>
                    </a:moveTo>
                    <a:lnTo>
                      <a:pt x="82" y="3657"/>
                    </a:lnTo>
                    <a:lnTo>
                      <a:pt x="0" y="3657"/>
                    </a:lnTo>
                    <a:lnTo>
                      <a:pt x="0" y="0"/>
                    </a:lnTo>
                    <a:lnTo>
                      <a:pt x="82" y="24"/>
                    </a:lnTo>
                    <a:lnTo>
                      <a:pt x="82" y="24"/>
                    </a:lnTo>
                    <a:lnTo>
                      <a:pt x="8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14560" y="4840560"/>
                <a:ext cx="316800" cy="1621800"/>
              </a:xfrm>
              <a:custGeom>
                <a:avLst/>
                <a:gdLst/>
                <a:ahLst/>
                <a:rect l="l" t="t" r="r" b="b"/>
                <a:pathLst>
                  <a:path w="723" h="3708">
                    <a:moveTo>
                      <a:pt x="0" y="0"/>
                    </a:moveTo>
                    <a:lnTo>
                      <a:pt x="213" y="45"/>
                    </a:lnTo>
                    <a:lnTo>
                      <a:pt x="400" y="165"/>
                    </a:lnTo>
                    <a:lnTo>
                      <a:pt x="354" y="188"/>
                    </a:lnTo>
                    <a:lnTo>
                      <a:pt x="371" y="256"/>
                    </a:lnTo>
                    <a:lnTo>
                      <a:pt x="433" y="266"/>
                    </a:lnTo>
                    <a:lnTo>
                      <a:pt x="523" y="869"/>
                    </a:lnTo>
                    <a:lnTo>
                      <a:pt x="582" y="1413"/>
                    </a:lnTo>
                    <a:lnTo>
                      <a:pt x="607" y="2362"/>
                    </a:lnTo>
                    <a:lnTo>
                      <a:pt x="573" y="2922"/>
                    </a:lnTo>
                    <a:lnTo>
                      <a:pt x="497" y="2975"/>
                    </a:lnTo>
                    <a:lnTo>
                      <a:pt x="491" y="3053"/>
                    </a:lnTo>
                    <a:lnTo>
                      <a:pt x="556" y="3053"/>
                    </a:lnTo>
                    <a:lnTo>
                      <a:pt x="497" y="3708"/>
                    </a:lnTo>
                    <a:lnTo>
                      <a:pt x="533" y="3708"/>
                    </a:lnTo>
                    <a:lnTo>
                      <a:pt x="622" y="3053"/>
                    </a:lnTo>
                    <a:lnTo>
                      <a:pt x="723" y="2975"/>
                    </a:lnTo>
                    <a:lnTo>
                      <a:pt x="633" y="2932"/>
                    </a:lnTo>
                    <a:lnTo>
                      <a:pt x="659" y="2099"/>
                    </a:lnTo>
                    <a:lnTo>
                      <a:pt x="625" y="1457"/>
                    </a:lnTo>
                    <a:lnTo>
                      <a:pt x="533" y="620"/>
                    </a:lnTo>
                    <a:lnTo>
                      <a:pt x="491" y="256"/>
                    </a:lnTo>
                    <a:lnTo>
                      <a:pt x="585" y="194"/>
                    </a:lnTo>
                    <a:lnTo>
                      <a:pt x="585" y="131"/>
                    </a:lnTo>
                    <a:lnTo>
                      <a:pt x="442" y="131"/>
                    </a:lnTo>
                    <a:lnTo>
                      <a:pt x="25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66920" y="4761360"/>
                <a:ext cx="2038320" cy="1466280"/>
              </a:xfrm>
              <a:custGeom>
                <a:avLst/>
                <a:gdLst/>
                <a:ahLst/>
                <a:rect l="l" t="t" r="r" b="b"/>
                <a:pathLst>
                  <a:path w="4655" h="3351">
                    <a:moveTo>
                      <a:pt x="0" y="290"/>
                    </a:moveTo>
                    <a:lnTo>
                      <a:pt x="1443" y="19"/>
                    </a:lnTo>
                    <a:lnTo>
                      <a:pt x="1871" y="0"/>
                    </a:lnTo>
                    <a:lnTo>
                      <a:pt x="2157" y="25"/>
                    </a:lnTo>
                    <a:lnTo>
                      <a:pt x="2303" y="51"/>
                    </a:lnTo>
                    <a:lnTo>
                      <a:pt x="2621" y="152"/>
                    </a:lnTo>
                    <a:lnTo>
                      <a:pt x="3647" y="721"/>
                    </a:lnTo>
                    <a:lnTo>
                      <a:pt x="3837" y="789"/>
                    </a:lnTo>
                    <a:lnTo>
                      <a:pt x="3893" y="800"/>
                    </a:lnTo>
                    <a:lnTo>
                      <a:pt x="4174" y="1972"/>
                    </a:lnTo>
                    <a:lnTo>
                      <a:pt x="4194" y="2180"/>
                    </a:lnTo>
                    <a:lnTo>
                      <a:pt x="4225" y="2404"/>
                    </a:lnTo>
                    <a:lnTo>
                      <a:pt x="4304" y="2692"/>
                    </a:lnTo>
                    <a:lnTo>
                      <a:pt x="4449" y="3023"/>
                    </a:lnTo>
                    <a:lnTo>
                      <a:pt x="4655" y="3351"/>
                    </a:lnTo>
                    <a:lnTo>
                      <a:pt x="3186" y="2860"/>
                    </a:lnTo>
                    <a:lnTo>
                      <a:pt x="2875" y="2806"/>
                    </a:lnTo>
                    <a:lnTo>
                      <a:pt x="2670" y="2795"/>
                    </a:lnTo>
                    <a:lnTo>
                      <a:pt x="1846" y="2874"/>
                    </a:lnTo>
                    <a:lnTo>
                      <a:pt x="160" y="3212"/>
                    </a:lnTo>
                    <a:lnTo>
                      <a:pt x="73" y="3223"/>
                    </a:lnTo>
                    <a:lnTo>
                      <a:pt x="254" y="2349"/>
                    </a:lnTo>
                    <a:lnTo>
                      <a:pt x="274" y="2078"/>
                    </a:lnTo>
                    <a:lnTo>
                      <a:pt x="271" y="1938"/>
                    </a:lnTo>
                    <a:lnTo>
                      <a:pt x="250" y="1764"/>
                    </a:lnTo>
                    <a:lnTo>
                      <a:pt x="13" y="610"/>
                    </a:lnTo>
                    <a:lnTo>
                      <a:pt x="0" y="290"/>
                    </a:lnTo>
                    <a:lnTo>
                      <a:pt x="0" y="290"/>
                    </a:lnTo>
                    <a:lnTo>
                      <a:pt x="0" y="290"/>
                    </a:lnTo>
                    <a:lnTo>
                      <a:pt x="0"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30400" y="4989240"/>
                <a:ext cx="816120" cy="760680"/>
              </a:xfrm>
              <a:custGeom>
                <a:avLst/>
                <a:gdLst/>
                <a:ahLst/>
                <a:rect l="l" t="t" r="r" b="b"/>
                <a:pathLst>
                  <a:path w="1865" h="1740">
                    <a:moveTo>
                      <a:pt x="1865" y="1194"/>
                    </a:moveTo>
                    <a:lnTo>
                      <a:pt x="1865" y="1158"/>
                    </a:lnTo>
                    <a:lnTo>
                      <a:pt x="1865" y="1140"/>
                    </a:lnTo>
                    <a:lnTo>
                      <a:pt x="1865" y="1091"/>
                    </a:lnTo>
                    <a:lnTo>
                      <a:pt x="1852" y="1035"/>
                    </a:lnTo>
                    <a:lnTo>
                      <a:pt x="1838" y="970"/>
                    </a:lnTo>
                    <a:lnTo>
                      <a:pt x="1833" y="941"/>
                    </a:lnTo>
                    <a:lnTo>
                      <a:pt x="1804" y="857"/>
                    </a:lnTo>
                    <a:lnTo>
                      <a:pt x="1791" y="830"/>
                    </a:lnTo>
                    <a:lnTo>
                      <a:pt x="1765" y="773"/>
                    </a:lnTo>
                    <a:lnTo>
                      <a:pt x="1738" y="714"/>
                    </a:lnTo>
                    <a:lnTo>
                      <a:pt x="1687" y="613"/>
                    </a:lnTo>
                    <a:lnTo>
                      <a:pt x="1641" y="535"/>
                    </a:lnTo>
                    <a:lnTo>
                      <a:pt x="1592" y="481"/>
                    </a:lnTo>
                    <a:lnTo>
                      <a:pt x="1548" y="424"/>
                    </a:lnTo>
                    <a:lnTo>
                      <a:pt x="1477" y="338"/>
                    </a:lnTo>
                    <a:lnTo>
                      <a:pt x="1460" y="326"/>
                    </a:lnTo>
                    <a:lnTo>
                      <a:pt x="1430" y="298"/>
                    </a:lnTo>
                    <a:lnTo>
                      <a:pt x="1340" y="227"/>
                    </a:lnTo>
                    <a:lnTo>
                      <a:pt x="1289" y="185"/>
                    </a:lnTo>
                    <a:lnTo>
                      <a:pt x="1265" y="165"/>
                    </a:lnTo>
                    <a:lnTo>
                      <a:pt x="1179" y="126"/>
                    </a:lnTo>
                    <a:lnTo>
                      <a:pt x="1126" y="104"/>
                    </a:lnTo>
                    <a:lnTo>
                      <a:pt x="1109" y="93"/>
                    </a:lnTo>
                    <a:lnTo>
                      <a:pt x="1096" y="87"/>
                    </a:lnTo>
                    <a:lnTo>
                      <a:pt x="972" y="42"/>
                    </a:lnTo>
                    <a:lnTo>
                      <a:pt x="900" y="28"/>
                    </a:lnTo>
                    <a:lnTo>
                      <a:pt x="893" y="22"/>
                    </a:lnTo>
                    <a:lnTo>
                      <a:pt x="805" y="7"/>
                    </a:lnTo>
                    <a:lnTo>
                      <a:pt x="788" y="7"/>
                    </a:lnTo>
                    <a:lnTo>
                      <a:pt x="735" y="0"/>
                    </a:lnTo>
                    <a:lnTo>
                      <a:pt x="668" y="0"/>
                    </a:lnTo>
                    <a:lnTo>
                      <a:pt x="647" y="0"/>
                    </a:lnTo>
                    <a:lnTo>
                      <a:pt x="592" y="3"/>
                    </a:lnTo>
                    <a:lnTo>
                      <a:pt x="579" y="7"/>
                    </a:lnTo>
                    <a:lnTo>
                      <a:pt x="552" y="7"/>
                    </a:lnTo>
                    <a:lnTo>
                      <a:pt x="529" y="7"/>
                    </a:lnTo>
                    <a:lnTo>
                      <a:pt x="456" y="22"/>
                    </a:lnTo>
                    <a:lnTo>
                      <a:pt x="395" y="45"/>
                    </a:lnTo>
                    <a:lnTo>
                      <a:pt x="343" y="72"/>
                    </a:lnTo>
                    <a:lnTo>
                      <a:pt x="293" y="104"/>
                    </a:lnTo>
                    <a:lnTo>
                      <a:pt x="198" y="185"/>
                    </a:lnTo>
                    <a:lnTo>
                      <a:pt x="164" y="221"/>
                    </a:lnTo>
                    <a:lnTo>
                      <a:pt x="137" y="256"/>
                    </a:lnTo>
                    <a:lnTo>
                      <a:pt x="101" y="335"/>
                    </a:lnTo>
                    <a:lnTo>
                      <a:pt x="88" y="353"/>
                    </a:lnTo>
                    <a:lnTo>
                      <a:pt x="47" y="448"/>
                    </a:lnTo>
                    <a:lnTo>
                      <a:pt x="21" y="569"/>
                    </a:lnTo>
                    <a:lnTo>
                      <a:pt x="13" y="630"/>
                    </a:lnTo>
                    <a:lnTo>
                      <a:pt x="8" y="693"/>
                    </a:lnTo>
                    <a:lnTo>
                      <a:pt x="6" y="749"/>
                    </a:lnTo>
                    <a:lnTo>
                      <a:pt x="0" y="833"/>
                    </a:lnTo>
                    <a:lnTo>
                      <a:pt x="8" y="892"/>
                    </a:lnTo>
                    <a:lnTo>
                      <a:pt x="15" y="955"/>
                    </a:lnTo>
                    <a:lnTo>
                      <a:pt x="40" y="1045"/>
                    </a:lnTo>
                    <a:lnTo>
                      <a:pt x="59" y="1113"/>
                    </a:lnTo>
                    <a:lnTo>
                      <a:pt x="76" y="1180"/>
                    </a:lnTo>
                    <a:lnTo>
                      <a:pt x="101" y="1226"/>
                    </a:lnTo>
                    <a:lnTo>
                      <a:pt x="116" y="1263"/>
                    </a:lnTo>
                    <a:lnTo>
                      <a:pt x="125" y="1286"/>
                    </a:lnTo>
                    <a:lnTo>
                      <a:pt x="135" y="1303"/>
                    </a:lnTo>
                    <a:lnTo>
                      <a:pt x="154" y="1332"/>
                    </a:lnTo>
                    <a:lnTo>
                      <a:pt x="164" y="1357"/>
                    </a:lnTo>
                    <a:lnTo>
                      <a:pt x="205" y="1411"/>
                    </a:lnTo>
                    <a:lnTo>
                      <a:pt x="218" y="1428"/>
                    </a:lnTo>
                    <a:lnTo>
                      <a:pt x="238" y="1451"/>
                    </a:lnTo>
                    <a:lnTo>
                      <a:pt x="247" y="1467"/>
                    </a:lnTo>
                    <a:lnTo>
                      <a:pt x="319" y="1528"/>
                    </a:lnTo>
                    <a:lnTo>
                      <a:pt x="368" y="1568"/>
                    </a:lnTo>
                    <a:lnTo>
                      <a:pt x="539" y="1652"/>
                    </a:lnTo>
                    <a:lnTo>
                      <a:pt x="579" y="1663"/>
                    </a:lnTo>
                    <a:lnTo>
                      <a:pt x="613" y="1673"/>
                    </a:lnTo>
                    <a:lnTo>
                      <a:pt x="700" y="1694"/>
                    </a:lnTo>
                    <a:lnTo>
                      <a:pt x="729" y="1705"/>
                    </a:lnTo>
                    <a:lnTo>
                      <a:pt x="749" y="1705"/>
                    </a:lnTo>
                    <a:lnTo>
                      <a:pt x="795" y="1708"/>
                    </a:lnTo>
                    <a:lnTo>
                      <a:pt x="830" y="1715"/>
                    </a:lnTo>
                    <a:lnTo>
                      <a:pt x="864" y="1720"/>
                    </a:lnTo>
                    <a:lnTo>
                      <a:pt x="883" y="1725"/>
                    </a:lnTo>
                    <a:lnTo>
                      <a:pt x="900" y="1725"/>
                    </a:lnTo>
                    <a:lnTo>
                      <a:pt x="938" y="1728"/>
                    </a:lnTo>
                    <a:lnTo>
                      <a:pt x="966" y="1730"/>
                    </a:lnTo>
                    <a:lnTo>
                      <a:pt x="1012" y="1730"/>
                    </a:lnTo>
                    <a:lnTo>
                      <a:pt x="1042" y="1738"/>
                    </a:lnTo>
                    <a:lnTo>
                      <a:pt x="1267" y="1740"/>
                    </a:lnTo>
                    <a:lnTo>
                      <a:pt x="1375" y="1730"/>
                    </a:lnTo>
                    <a:lnTo>
                      <a:pt x="1404" y="1728"/>
                    </a:lnTo>
                    <a:lnTo>
                      <a:pt x="1464" y="1715"/>
                    </a:lnTo>
                    <a:lnTo>
                      <a:pt x="1525" y="1705"/>
                    </a:lnTo>
                    <a:lnTo>
                      <a:pt x="1582" y="1679"/>
                    </a:lnTo>
                    <a:lnTo>
                      <a:pt x="1641" y="1654"/>
                    </a:lnTo>
                    <a:lnTo>
                      <a:pt x="1662" y="1644"/>
                    </a:lnTo>
                    <a:lnTo>
                      <a:pt x="1738" y="1568"/>
                    </a:lnTo>
                    <a:lnTo>
                      <a:pt x="1755" y="1543"/>
                    </a:lnTo>
                    <a:lnTo>
                      <a:pt x="1772" y="1508"/>
                    </a:lnTo>
                    <a:lnTo>
                      <a:pt x="1780" y="1493"/>
                    </a:lnTo>
                    <a:lnTo>
                      <a:pt x="1816" y="1428"/>
                    </a:lnTo>
                    <a:lnTo>
                      <a:pt x="1831" y="1374"/>
                    </a:lnTo>
                    <a:lnTo>
                      <a:pt x="1838" y="1330"/>
                    </a:lnTo>
                    <a:lnTo>
                      <a:pt x="1865" y="1194"/>
                    </a:lnTo>
                    <a:lnTo>
                      <a:pt x="1865" y="1194"/>
                    </a:lnTo>
                    <a:lnTo>
                      <a:pt x="1865" y="11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a:t>
            </a:r>
            <a:endParaRPr b="0" lang="en-US" sz="4400" spc="-1" strike="noStrike">
              <a:solidFill>
                <a:srgbClr val="ffffff"/>
              </a:solidFill>
              <a:latin typeface="Arial"/>
            </a:endParaRPr>
          </a:p>
        </p:txBody>
      </p:sp>
      <p:sp>
        <p:nvSpPr>
          <p:cNvPr id="328" name="PlaceHolder 2"/>
          <p:cNvSpPr>
            <a:spLocks noGrp="1"/>
          </p:cNvSpPr>
          <p:nvPr>
            <p:ph/>
          </p:nvPr>
        </p:nvSpPr>
        <p:spPr>
          <a:xfrm>
            <a:off x="2953800" y="1668600"/>
            <a:ext cx="568836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in Russia have three times the levels of kidney and urinary tract infections as children in the United States.  </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ny as 60 million people live in places where pollution exceeds five times health standard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Russia have this proble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ia’s industry, its military testing and its rising number of automobiles all add to the difficulty in managing its pollution problem.</a:t>
            </a:r>
            <a:endParaRPr b="0" lang="en-US" sz="2400" spc="-1" strike="noStrike">
              <a:solidFill>
                <a:srgbClr val="ffffff"/>
              </a:solidFill>
              <a:latin typeface="Arial"/>
            </a:endParaRPr>
          </a:p>
        </p:txBody>
      </p:sp>
      <p:pic>
        <p:nvPicPr>
          <p:cNvPr id="329" name="" descr=""/>
          <p:cNvPicPr/>
          <p:nvPr/>
        </p:nvPicPr>
        <p:blipFill>
          <a:blip r:embed="rId2"/>
          <a:stretch/>
        </p:blipFill>
        <p:spPr>
          <a:xfrm>
            <a:off x="423720" y="1739880"/>
            <a:ext cx="2287800" cy="3341880"/>
          </a:xfrm>
          <a:prstGeom prst="rect">
            <a:avLst/>
          </a:prstGeom>
          <a:ln w="38160">
            <a:solidFill>
              <a:srgbClr val="808080"/>
            </a:solidFill>
            <a:miter/>
          </a:ln>
        </p:spPr>
      </p:pic>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a</a:t>
            </a:r>
            <a:endParaRPr b="0" lang="en-US" sz="4400" spc="-1" strike="noStrike">
              <a:solidFill>
                <a:srgbClr val="ffffff"/>
              </a:solidFill>
              <a:latin typeface="Arial"/>
            </a:endParaRPr>
          </a:p>
        </p:txBody>
      </p:sp>
      <p:sp>
        <p:nvSpPr>
          <p:cNvPr id="332"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y of Beijing is one of the ten most populous cities in the wor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main pollutant is sulfur dioxide; it produces 21 million tons yearly.</a:t>
            </a:r>
            <a:endParaRPr b="0" lang="en-US" sz="2400" spc="-1" strike="noStrike">
              <a:solidFill>
                <a:srgbClr val="ffffff"/>
              </a:solidFill>
              <a:latin typeface="Arial"/>
            </a:endParaRPr>
          </a:p>
        </p:txBody>
      </p:sp>
      <p:pic>
        <p:nvPicPr>
          <p:cNvPr id="333" name="" descr=""/>
          <p:cNvPicPr/>
          <p:nvPr/>
        </p:nvPicPr>
        <p:blipFill>
          <a:blip r:embed="rId2"/>
          <a:stretch/>
        </p:blipFill>
        <p:spPr>
          <a:xfrm>
            <a:off x="1200240" y="4273560"/>
            <a:ext cx="3295440" cy="2185920"/>
          </a:xfrm>
          <a:prstGeom prst="rect">
            <a:avLst/>
          </a:prstGeom>
          <a:ln w="38160">
            <a:solidFill>
              <a:srgbClr val="808080"/>
            </a:solidFill>
            <a:miter/>
          </a:ln>
        </p:spPr>
      </p:pic>
      <p:pic>
        <p:nvPicPr>
          <p:cNvPr id="334" name="" descr=""/>
          <p:cNvPicPr/>
          <p:nvPr/>
        </p:nvPicPr>
        <p:blipFill>
          <a:blip r:embed="rId3"/>
          <a:stretch/>
        </p:blipFill>
        <p:spPr>
          <a:xfrm>
            <a:off x="5380200" y="1662120"/>
            <a:ext cx="3031920" cy="4800600"/>
          </a:xfrm>
          <a:prstGeom prst="rect">
            <a:avLst/>
          </a:prstGeom>
          <a:ln w="38160">
            <a:solidFill>
              <a:srgbClr val="808080"/>
            </a:solidFill>
            <a:miter/>
          </a:ln>
        </p:spPr>
      </p:pic>
      <p:sp>
        <p:nvSpPr>
          <p:cNvPr id="3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1000"/>
                                  </p:stCondLst>
                                  <p:childTnLst>
                                    <p:set>
                                      <p:cBhvr>
                                        <p:cTn id="39" dur="1" fill="hold">
                                          <p:stCondLst>
                                            <p:cond delay="0"/>
                                          </p:stCondLst>
                                        </p:cTn>
                                        <p:tgtEl>
                                          <p:spTgt spid="333"/>
                                        </p:tgtEl>
                                        <p:attrNameLst>
                                          <p:attrName>style.visibility</p:attrName>
                                        </p:attrNameLst>
                                      </p:cBhvr>
                                      <p:to>
                                        <p:strVal val="visible"/>
                                      </p:to>
                                    </p:set>
                                    <p:animEffect filter="fade" transition="in">
                                      <p:cBhvr additive="repl">
                                        <p:cTn id="40" dur="1000"/>
                                        <p:tgtEl>
                                          <p:spTgt spid="333"/>
                                        </p:tgtEl>
                                      </p:cBhvr>
                                    </p:animEffect>
                                  </p:childTnLst>
                                </p:cTn>
                              </p:par>
                            </p:childTnLst>
                          </p:cTn>
                        </p:par>
                        <p:par>
                          <p:cTn id="41" fill="hold">
                            <p:stCondLst>
                              <p:cond delay="2000"/>
                            </p:stCondLst>
                            <p:childTnLst>
                              <p:par>
                                <p:cTn id="42" nodeType="afterEffect" fill="hold" presetClass="entr" presetID="10">
                                  <p:stCondLst>
                                    <p:cond delay="1000"/>
                                  </p:stCondLst>
                                  <p:childTnLst>
                                    <p:set>
                                      <p:cBhvr>
                                        <p:cTn id="43" dur="1" fill="hold">
                                          <p:stCondLst>
                                            <p:cond delay="0"/>
                                          </p:stCondLst>
                                        </p:cTn>
                                        <p:tgtEl>
                                          <p:spTgt spid="334"/>
                                        </p:tgtEl>
                                        <p:attrNameLst>
                                          <p:attrName>style.visibility</p:attrName>
                                        </p:attrNameLst>
                                      </p:cBhvr>
                                      <p:to>
                                        <p:strVal val="visible"/>
                                      </p:to>
                                    </p:set>
                                    <p:animEffect filter="fade" transition="in">
                                      <p:cBhvr additive="repl">
                                        <p:cTn id="4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a:t>
            </a:r>
            <a:endParaRPr b="0" lang="en-US" sz="4400" spc="-1" strike="noStrike">
              <a:solidFill>
                <a:srgbClr val="ffffff"/>
              </a:solidFill>
              <a:latin typeface="Arial"/>
            </a:endParaRPr>
          </a:p>
        </p:txBody>
      </p:sp>
      <p:sp>
        <p:nvSpPr>
          <p:cNvPr id="337" name="PlaceHolder 2"/>
          <p:cNvSpPr>
            <a:spLocks noGrp="1"/>
          </p:cNvSpPr>
          <p:nvPr>
            <p:ph/>
          </p:nvPr>
        </p:nvSpPr>
        <p:spPr>
          <a:xfrm>
            <a:off x="628560" y="4076280"/>
            <a:ext cx="8229600" cy="191628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United States stand in comparison to the other major global sources of pollution?</a:t>
            </a:r>
            <a:endParaRPr b="0" lang="en-US" sz="2400" spc="-1" strike="noStrike">
              <a:solidFill>
                <a:srgbClr val="ffffff"/>
              </a:solidFill>
              <a:latin typeface="Arial"/>
            </a:endParaRPr>
          </a:p>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produces more greenhouse gases from fuel combustion than any other single country in the world. It produces almost twice as much as the second largest producer of greenhouse gases-China.</a:t>
            </a:r>
            <a:endParaRPr b="0" lang="en-US" sz="2400" spc="-1" strike="noStrike">
              <a:solidFill>
                <a:srgbClr val="ffffff"/>
              </a:solidFill>
              <a:latin typeface="Arial"/>
            </a:endParaRPr>
          </a:p>
        </p:txBody>
      </p:sp>
      <p:sp>
        <p:nvSpPr>
          <p:cNvPr id="338" name=""/>
          <p:cNvSpPr/>
          <p:nvPr/>
        </p:nvSpPr>
        <p:spPr>
          <a:xfrm>
            <a:off x="2554200" y="1106640"/>
            <a:ext cx="4456080" cy="280008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51" dur="500"/>
                                        <p:tgtEl>
                                          <p:spTgt spid="33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6" dur="10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1:49Z</dcterms:created>
  <dc:creator>wklemm</dc:creator>
  <dc:description/>
  <dc:language>en-US</dc:language>
  <cp:lastModifiedBy>Texas A&amp;M Veterinary Medicine</cp:lastModifiedBy>
  <dcterms:modified xsi:type="dcterms:W3CDTF">2006-12-05T15:35:33Z</dcterms:modified>
  <cp:revision>18</cp:revision>
  <dc:subject/>
  <dc:title>Air Pollution</dc:title>
</cp:coreProperties>
</file>