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F625-7E65-4B49-A5B7-232851744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F280F-19F4-4FD2-847A-C0DB99016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000FC-6142-45A3-B73A-21AB2A564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A2F6B-301D-4263-AB68-98F5044F8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6D86D-891D-4E8A-92A4-F6B487164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3D59D-3208-463F-80D4-C08C8357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72262-CBA0-4F23-8C32-1755188F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DC192-23AC-48DC-96E7-5ED2EE7FF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6DBDB-97A1-4508-9A98-CB34E560B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B02E-5F21-4E84-9877-F4F6AD441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D500-B65A-4706-B3E1-F978A65F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2961-3CB8-4DBB-AB44-751FED03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143D-5383-4974-8A9E-F7730E16A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7408-7AC4-4C9C-A436-371694EF2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4-23T15:32:11Z</dcterms:modified>
  <cp:revision>156</cp:revision>
  <dc:subject/>
  <dc:title>PowerPoint Presentation</dc:title>
</cp:coreProperties>
</file>