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B0D2-FE35-4371-8035-F24D401C3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4366B-7005-4E4A-8219-4B4CC1634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33C1-06BD-4D44-BD24-FF0F7A63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DF882-4883-4796-A6DE-E32BFF537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47D92-E1CC-4BE1-A397-E89F75243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9884-8232-4D0A-BFF5-09AFF22B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2B27F-8CD3-4E5A-9E9C-03E8E5A7E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D84BB-72BE-422B-9548-DB367B47E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BAE0C-79E6-4922-A5D2-B9ADD136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AE35-59B1-4885-9A78-4B46C597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A0DE-0B04-468D-9D5C-3773216F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3E80-1B5F-4DAE-B715-41539DD3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707B-A32C-4435-A1F7-4939CEBAE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77F5-4BA6-40EF-A934-F8A2BEDF7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Vince Hardy</cp:lastModifiedBy>
  <dcterms:modified xsi:type="dcterms:W3CDTF">2007-05-08T01:51:11Z</dcterms:modified>
  <cp:revision>116</cp:revision>
  <dc:subject/>
  <dc:title>PowerPoint Presentation</dc:title>
</cp:coreProperties>
</file>