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8E420-4164-4066-A360-8400A39FCA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 6.9B: The student is expected to: draw on experiences to bring meanings to words in context such as interpreting idioms, multiple-meaning words, and analogies (6-8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: use multiple reference aid, including a thesaurus, a synonym finder, a dictionary, and software, to clarify meanings and usage (4-8)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CD5D6-1480-4A64-B06C-3A72E3A52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C8D87-0750-431F-8548-D44389FCF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14EAD-C520-4729-AD07-4F6DBA417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6FD2C-7C9B-4CDF-8907-5A8354256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6A7B5-985D-4477-BA5D-9D2F3731F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12027-B555-46D2-AE16-B92529971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88EB8-6365-4B10-B90A-22F712361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4B681-CFDA-4C97-8A4D-7845FECEB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C9E14-6E3F-4C45-B8C1-9EEBB678C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452E5-8175-4E3F-B325-AC64218C0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56FF6-FC47-4510-B71C-B26214112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78C0B-D4E5-4665-8491-1E660D881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8E2B6-C1AE-42F1-B796-79629DE1E8D8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76440" y="2205000"/>
            <a:ext cx="81421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549360" indent="-549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“ ‘Isn’t it about time to head back?’ 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queried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K.T. breaking the silence.  She set down her rod and began doing jumping jacks, shaking the weathered planks and bouncing all five of her friends.  ‘I need to move!’ 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9360" indent="-549360">
              <a:spcBef>
                <a:spcPts val="2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1680" indent="-44208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Question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1680" indent="-442080">
              <a:spcBef>
                <a:spcPts val="700"/>
              </a:spcBef>
              <a:buClr>
                <a:srgbClr val="000000"/>
              </a:buClr>
              <a:buFont typeface="Times New Roman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ta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1680" indent="-442080">
              <a:spcBef>
                <a:spcPts val="700"/>
              </a:spcBef>
              <a:buClr>
                <a:srgbClr val="000000"/>
              </a:buClr>
              <a:buFont typeface="Times New Roman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nsis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66760" y="1225440"/>
            <a:ext cx="8610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Times New Roman"/>
              </a:rPr>
              <a:t>Read each passage carefully and then indicate the meaning of each underlined word by clicking A, B, or C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14440" y="4929120"/>
            <a:ext cx="304920" cy="38124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00">
                <a:moveTo>
                  <a:pt x="0" y="0"/>
                </a:moveTo>
                <a:lnTo>
                  <a:pt x="21600" y="0"/>
                </a:lnTo>
                <a:lnTo>
                  <a:pt x="21600" y="27000"/>
                </a:lnTo>
                <a:lnTo>
                  <a:pt x="0" y="27000"/>
                </a:lnTo>
                <a:close/>
              </a:path>
              <a:path fill="lightenLess" w="21600" h="270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0">
                <a:moveTo>
                  <a:pt x="21600" y="0"/>
                </a:moveTo>
                <a:lnTo>
                  <a:pt x="21600" y="27000"/>
                </a:lnTo>
                <a:lnTo>
                  <a:pt x="20200" y="25600"/>
                </a:lnTo>
                <a:lnTo>
                  <a:pt x="20200" y="1400"/>
                </a:lnTo>
                <a:close/>
              </a:path>
              <a:path fill="darkenLess" w="21600" h="27000">
                <a:moveTo>
                  <a:pt x="21600" y="27000"/>
                </a:moveTo>
                <a:lnTo>
                  <a:pt x="0" y="27000"/>
                </a:lnTo>
                <a:lnTo>
                  <a:pt x="1400" y="25600"/>
                </a:lnTo>
                <a:lnTo>
                  <a:pt x="20200" y="25600"/>
                </a:lnTo>
                <a:close/>
              </a:path>
              <a:path fill="lighten" w="21600" h="27000">
                <a:moveTo>
                  <a:pt x="0" y="270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0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414440" y="5462640"/>
            <a:ext cx="304920" cy="3808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6975">
                <a:moveTo>
                  <a:pt x="0" y="0"/>
                </a:moveTo>
                <a:lnTo>
                  <a:pt x="21600" y="0"/>
                </a:lnTo>
                <a:lnTo>
                  <a:pt x="21600" y="26975"/>
                </a:lnTo>
                <a:lnTo>
                  <a:pt x="0" y="26975"/>
                </a:lnTo>
                <a:close/>
              </a:path>
              <a:path fill="lightenLess" w="21600" h="269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75">
                <a:moveTo>
                  <a:pt x="21600" y="0"/>
                </a:moveTo>
                <a:lnTo>
                  <a:pt x="21600" y="26975"/>
                </a:lnTo>
                <a:lnTo>
                  <a:pt x="20200" y="25575"/>
                </a:lnTo>
                <a:lnTo>
                  <a:pt x="20200" y="1400"/>
                </a:lnTo>
                <a:close/>
              </a:path>
              <a:path fill="darkenLess" w="21600" h="26975">
                <a:moveTo>
                  <a:pt x="21600" y="26975"/>
                </a:moveTo>
                <a:lnTo>
                  <a:pt x="0" y="26975"/>
                </a:lnTo>
                <a:lnTo>
                  <a:pt x="1400" y="25575"/>
                </a:lnTo>
                <a:lnTo>
                  <a:pt x="20200" y="25575"/>
                </a:lnTo>
                <a:close/>
              </a:path>
              <a:path fill="lighten" w="21600" h="26975">
                <a:moveTo>
                  <a:pt x="0" y="269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75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14440" y="5981760"/>
            <a:ext cx="304920" cy="3808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6975">
                <a:moveTo>
                  <a:pt x="0" y="0"/>
                </a:moveTo>
                <a:lnTo>
                  <a:pt x="21600" y="0"/>
                </a:lnTo>
                <a:lnTo>
                  <a:pt x="21600" y="26975"/>
                </a:lnTo>
                <a:lnTo>
                  <a:pt x="0" y="26975"/>
                </a:lnTo>
                <a:close/>
              </a:path>
              <a:path fill="lightenLess" w="21600" h="269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75">
                <a:moveTo>
                  <a:pt x="21600" y="0"/>
                </a:moveTo>
                <a:lnTo>
                  <a:pt x="21600" y="26975"/>
                </a:lnTo>
                <a:lnTo>
                  <a:pt x="20200" y="25575"/>
                </a:lnTo>
                <a:lnTo>
                  <a:pt x="20200" y="1400"/>
                </a:lnTo>
                <a:close/>
              </a:path>
              <a:path fill="darkenLess" w="21600" h="26975">
                <a:moveTo>
                  <a:pt x="21600" y="26975"/>
                </a:moveTo>
                <a:lnTo>
                  <a:pt x="0" y="26975"/>
                </a:lnTo>
                <a:lnTo>
                  <a:pt x="1400" y="25575"/>
                </a:lnTo>
                <a:lnTo>
                  <a:pt x="20200" y="25575"/>
                </a:lnTo>
                <a:close/>
              </a:path>
              <a:path fill="lighten" w="21600" h="26975">
                <a:moveTo>
                  <a:pt x="0" y="269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75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IN-15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6640" indent="0">
              <a:spcBef>
                <a:spcPts val="799"/>
              </a:spcBef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10. “Their journey through the park and the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 notoriou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alley shortcut had taken only about twenty minutes, but it seemed like a lifetime.”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spcBef>
                <a:spcPts val="201"/>
              </a:spcBef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Extremely bitte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idely, but unfavorably known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inding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414440" y="4116240"/>
            <a:ext cx="304920" cy="38124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00">
                <a:moveTo>
                  <a:pt x="0" y="0"/>
                </a:moveTo>
                <a:lnTo>
                  <a:pt x="21600" y="0"/>
                </a:lnTo>
                <a:lnTo>
                  <a:pt x="21600" y="27000"/>
                </a:lnTo>
                <a:lnTo>
                  <a:pt x="0" y="27000"/>
                </a:lnTo>
                <a:close/>
              </a:path>
              <a:path fill="lightenLess" w="21600" h="270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0">
                <a:moveTo>
                  <a:pt x="21600" y="0"/>
                </a:moveTo>
                <a:lnTo>
                  <a:pt x="21600" y="27000"/>
                </a:lnTo>
                <a:lnTo>
                  <a:pt x="20200" y="25600"/>
                </a:lnTo>
                <a:lnTo>
                  <a:pt x="20200" y="1400"/>
                </a:lnTo>
                <a:close/>
              </a:path>
              <a:path fill="darkenLess" w="21600" h="27000">
                <a:moveTo>
                  <a:pt x="21600" y="27000"/>
                </a:moveTo>
                <a:lnTo>
                  <a:pt x="0" y="27000"/>
                </a:lnTo>
                <a:lnTo>
                  <a:pt x="1400" y="25600"/>
                </a:lnTo>
                <a:lnTo>
                  <a:pt x="20200" y="25600"/>
                </a:lnTo>
                <a:close/>
              </a:path>
              <a:path fill="lighten" w="21600" h="27000">
                <a:moveTo>
                  <a:pt x="0" y="270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0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414440" y="4678200"/>
            <a:ext cx="304920" cy="38124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00">
                <a:moveTo>
                  <a:pt x="0" y="0"/>
                </a:moveTo>
                <a:lnTo>
                  <a:pt x="21600" y="0"/>
                </a:lnTo>
                <a:lnTo>
                  <a:pt x="21600" y="27000"/>
                </a:lnTo>
                <a:lnTo>
                  <a:pt x="0" y="27000"/>
                </a:lnTo>
                <a:close/>
              </a:path>
              <a:path fill="lightenLess" w="21600" h="270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0">
                <a:moveTo>
                  <a:pt x="21600" y="0"/>
                </a:moveTo>
                <a:lnTo>
                  <a:pt x="21600" y="27000"/>
                </a:lnTo>
                <a:lnTo>
                  <a:pt x="20200" y="25600"/>
                </a:lnTo>
                <a:lnTo>
                  <a:pt x="20200" y="1400"/>
                </a:lnTo>
                <a:close/>
              </a:path>
              <a:path fill="darkenLess" w="21600" h="27000">
                <a:moveTo>
                  <a:pt x="21600" y="27000"/>
                </a:moveTo>
                <a:lnTo>
                  <a:pt x="0" y="27000"/>
                </a:lnTo>
                <a:lnTo>
                  <a:pt x="1400" y="25600"/>
                </a:lnTo>
                <a:lnTo>
                  <a:pt x="20200" y="25600"/>
                </a:lnTo>
                <a:close/>
              </a:path>
              <a:path fill="lighten" w="21600" h="27000">
                <a:moveTo>
                  <a:pt x="0" y="270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0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414440" y="5226120"/>
            <a:ext cx="304920" cy="3808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6975">
                <a:moveTo>
                  <a:pt x="0" y="0"/>
                </a:moveTo>
                <a:lnTo>
                  <a:pt x="21600" y="0"/>
                </a:lnTo>
                <a:lnTo>
                  <a:pt x="21600" y="26975"/>
                </a:lnTo>
                <a:lnTo>
                  <a:pt x="0" y="26975"/>
                </a:lnTo>
                <a:close/>
              </a:path>
              <a:path fill="lightenLess" w="21600" h="269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75">
                <a:moveTo>
                  <a:pt x="21600" y="0"/>
                </a:moveTo>
                <a:lnTo>
                  <a:pt x="21600" y="26975"/>
                </a:lnTo>
                <a:lnTo>
                  <a:pt x="20200" y="25575"/>
                </a:lnTo>
                <a:lnTo>
                  <a:pt x="20200" y="1400"/>
                </a:lnTo>
                <a:close/>
              </a:path>
              <a:path fill="darkenLess" w="21600" h="26975">
                <a:moveTo>
                  <a:pt x="21600" y="26975"/>
                </a:moveTo>
                <a:lnTo>
                  <a:pt x="0" y="26975"/>
                </a:lnTo>
                <a:lnTo>
                  <a:pt x="1400" y="25575"/>
                </a:lnTo>
                <a:lnTo>
                  <a:pt x="20200" y="25575"/>
                </a:lnTo>
                <a:close/>
              </a:path>
              <a:path fill="lighten" w="21600" h="26975">
                <a:moveTo>
                  <a:pt x="0" y="269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75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IN-16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E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848720" y="228600"/>
            <a:ext cx="990360" cy="380880"/>
          </a:xfrm>
          <a:custGeom>
            <a:avLst/>
            <a:gdLst>
              <a:gd name="textAreaLeft" fmla="*/ 24480 w 990360"/>
              <a:gd name="textAreaRight" fmla="*/ 965880 w 99036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56131" h="21600">
                <a:moveTo>
                  <a:pt x="0" y="0"/>
                </a:moveTo>
                <a:lnTo>
                  <a:pt x="56131" y="0"/>
                </a:lnTo>
                <a:lnTo>
                  <a:pt x="56131" y="21600"/>
                </a:lnTo>
                <a:lnTo>
                  <a:pt x="0" y="21600"/>
                </a:lnTo>
                <a:close/>
              </a:path>
              <a:path fill="lightenLess" w="56131" h="21600">
                <a:moveTo>
                  <a:pt x="0" y="0"/>
                </a:moveTo>
                <a:lnTo>
                  <a:pt x="56131" y="0"/>
                </a:lnTo>
                <a:lnTo>
                  <a:pt x="54732" y="1400"/>
                </a:lnTo>
                <a:lnTo>
                  <a:pt x="1400" y="1400"/>
                </a:lnTo>
                <a:close/>
              </a:path>
              <a:path fill="darken" w="56131" h="21600">
                <a:moveTo>
                  <a:pt x="56131" y="0"/>
                </a:moveTo>
                <a:lnTo>
                  <a:pt x="56131" y="21600"/>
                </a:lnTo>
                <a:lnTo>
                  <a:pt x="54732" y="20200"/>
                </a:lnTo>
                <a:lnTo>
                  <a:pt x="54732" y="1400"/>
                </a:lnTo>
                <a:close/>
              </a:path>
              <a:path fill="darkenLess" w="56131" h="21600">
                <a:moveTo>
                  <a:pt x="561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732" y="20200"/>
                </a:lnTo>
                <a:close/>
              </a:path>
              <a:path fill="lighten" w="561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SCO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IN-16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47640" y="1905120"/>
            <a:ext cx="802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6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“A chorus of ‘be still’ and ‘stop that’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assailed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K.T. and she reluctantly stopped jumping.”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lvl="1" marL="1146240" indent="-3459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ebebeb"/>
              </a:buClr>
              <a:buFont typeface="Times New Roman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almed, reassure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1146240" indent="-3459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ebebeb"/>
              </a:buClr>
              <a:buFont typeface="Times New Roman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ttacked with argument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1146240" indent="-3459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ebebeb"/>
              </a:buClr>
              <a:buFont typeface="Times New Roman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rept slowly aroun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414440" y="3629160"/>
            <a:ext cx="314280" cy="380880"/>
          </a:xfrm>
          <a:custGeom>
            <a:avLst/>
            <a:gdLst>
              <a:gd name="textAreaLeft" fmla="*/ 20160 w 314280"/>
              <a:gd name="textAreaRight" fmla="*/ 294120 w 314280"/>
              <a:gd name="textAreaTop" fmla="*/ 20160 h 380880"/>
              <a:gd name="textAreaBottom" fmla="*/ 360720 h 380880"/>
            </a:gdLst>
            <a:ahLst/>
            <a:rect l="textAreaLeft" t="textAreaTop" r="textAreaRight" b="textAreaBottom"/>
            <a:pathLst>
              <a:path w="21600" h="26172">
                <a:moveTo>
                  <a:pt x="0" y="0"/>
                </a:moveTo>
                <a:lnTo>
                  <a:pt x="21600" y="0"/>
                </a:lnTo>
                <a:lnTo>
                  <a:pt x="21600" y="26172"/>
                </a:lnTo>
                <a:lnTo>
                  <a:pt x="0" y="26172"/>
                </a:lnTo>
                <a:close/>
              </a:path>
              <a:path fill="lightenLess" w="21600" h="2617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172">
                <a:moveTo>
                  <a:pt x="21600" y="0"/>
                </a:moveTo>
                <a:lnTo>
                  <a:pt x="21600" y="26172"/>
                </a:lnTo>
                <a:lnTo>
                  <a:pt x="20200" y="24772"/>
                </a:lnTo>
                <a:lnTo>
                  <a:pt x="20200" y="1400"/>
                </a:lnTo>
                <a:close/>
              </a:path>
              <a:path fill="darkenLess" w="21600" h="26172">
                <a:moveTo>
                  <a:pt x="21600" y="26172"/>
                </a:moveTo>
                <a:lnTo>
                  <a:pt x="0" y="26172"/>
                </a:lnTo>
                <a:lnTo>
                  <a:pt x="1400" y="24772"/>
                </a:lnTo>
                <a:lnTo>
                  <a:pt x="20200" y="24772"/>
                </a:lnTo>
                <a:close/>
              </a:path>
              <a:path fill="lighten" w="21600" h="26172">
                <a:moveTo>
                  <a:pt x="0" y="26172"/>
                </a:moveTo>
                <a:lnTo>
                  <a:pt x="0" y="0"/>
                </a:lnTo>
                <a:lnTo>
                  <a:pt x="1400" y="1400"/>
                </a:lnTo>
                <a:lnTo>
                  <a:pt x="1400" y="24772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414440" y="4191120"/>
            <a:ext cx="314280" cy="380880"/>
          </a:xfrm>
          <a:custGeom>
            <a:avLst/>
            <a:gdLst>
              <a:gd name="textAreaLeft" fmla="*/ 20160 w 314280"/>
              <a:gd name="textAreaRight" fmla="*/ 294120 w 314280"/>
              <a:gd name="textAreaTop" fmla="*/ 20160 h 380880"/>
              <a:gd name="textAreaBottom" fmla="*/ 360720 h 380880"/>
            </a:gdLst>
            <a:ahLst/>
            <a:rect l="textAreaLeft" t="textAreaTop" r="textAreaRight" b="textAreaBottom"/>
            <a:pathLst>
              <a:path w="21600" h="26172">
                <a:moveTo>
                  <a:pt x="0" y="0"/>
                </a:moveTo>
                <a:lnTo>
                  <a:pt x="21600" y="0"/>
                </a:lnTo>
                <a:lnTo>
                  <a:pt x="21600" y="26172"/>
                </a:lnTo>
                <a:lnTo>
                  <a:pt x="0" y="26172"/>
                </a:lnTo>
                <a:close/>
              </a:path>
              <a:path fill="lightenLess" w="21600" h="2617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172">
                <a:moveTo>
                  <a:pt x="21600" y="0"/>
                </a:moveTo>
                <a:lnTo>
                  <a:pt x="21600" y="26172"/>
                </a:lnTo>
                <a:lnTo>
                  <a:pt x="20200" y="24772"/>
                </a:lnTo>
                <a:lnTo>
                  <a:pt x="20200" y="1400"/>
                </a:lnTo>
                <a:close/>
              </a:path>
              <a:path fill="darkenLess" w="21600" h="26172">
                <a:moveTo>
                  <a:pt x="21600" y="26172"/>
                </a:moveTo>
                <a:lnTo>
                  <a:pt x="0" y="26172"/>
                </a:lnTo>
                <a:lnTo>
                  <a:pt x="1400" y="24772"/>
                </a:lnTo>
                <a:lnTo>
                  <a:pt x="20200" y="24772"/>
                </a:lnTo>
                <a:close/>
              </a:path>
              <a:path fill="lighten" w="21600" h="26172">
                <a:moveTo>
                  <a:pt x="0" y="26172"/>
                </a:moveTo>
                <a:lnTo>
                  <a:pt x="0" y="0"/>
                </a:lnTo>
                <a:lnTo>
                  <a:pt x="1400" y="1400"/>
                </a:lnTo>
                <a:lnTo>
                  <a:pt x="1400" y="24772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414440" y="4724280"/>
            <a:ext cx="314280" cy="381240"/>
          </a:xfrm>
          <a:custGeom>
            <a:avLst/>
            <a:gdLst>
              <a:gd name="textAreaLeft" fmla="*/ 20160 w 314280"/>
              <a:gd name="textAreaRight" fmla="*/ 294120 w 314280"/>
              <a:gd name="textAreaTop" fmla="*/ 20160 h 381240"/>
              <a:gd name="textAreaBottom" fmla="*/ 361080 h 381240"/>
            </a:gdLst>
            <a:ahLst/>
            <a:rect l="textAreaLeft" t="textAreaTop" r="textAreaRight" b="textAreaBottom"/>
            <a:pathLst>
              <a:path w="21600" h="26197">
                <a:moveTo>
                  <a:pt x="0" y="0"/>
                </a:moveTo>
                <a:lnTo>
                  <a:pt x="21600" y="0"/>
                </a:lnTo>
                <a:lnTo>
                  <a:pt x="21600" y="26197"/>
                </a:lnTo>
                <a:lnTo>
                  <a:pt x="0" y="26197"/>
                </a:lnTo>
                <a:close/>
              </a:path>
              <a:path fill="lightenLess" w="21600" h="2619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197">
                <a:moveTo>
                  <a:pt x="21600" y="0"/>
                </a:moveTo>
                <a:lnTo>
                  <a:pt x="21600" y="26197"/>
                </a:lnTo>
                <a:lnTo>
                  <a:pt x="20200" y="24797"/>
                </a:lnTo>
                <a:lnTo>
                  <a:pt x="20200" y="1400"/>
                </a:lnTo>
                <a:close/>
              </a:path>
              <a:path fill="darkenLess" w="21600" h="26197">
                <a:moveTo>
                  <a:pt x="21600" y="26197"/>
                </a:moveTo>
                <a:lnTo>
                  <a:pt x="0" y="26197"/>
                </a:lnTo>
                <a:lnTo>
                  <a:pt x="1400" y="24797"/>
                </a:lnTo>
                <a:lnTo>
                  <a:pt x="20200" y="24797"/>
                </a:lnTo>
                <a:close/>
              </a:path>
              <a:path fill="lighten" w="21600" h="26197">
                <a:moveTo>
                  <a:pt x="0" y="26197"/>
                </a:moveTo>
                <a:lnTo>
                  <a:pt x="0" y="0"/>
                </a:lnTo>
                <a:lnTo>
                  <a:pt x="1400" y="1400"/>
                </a:lnTo>
                <a:lnTo>
                  <a:pt x="1400" y="2479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IN-15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6764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6640" indent="0">
              <a:spcBef>
                <a:spcPts val="799"/>
              </a:spcBef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3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“ ‘The lines got tangled, and the keypad must have activated when it crashed into my rod,’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surmised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Summer.”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spcBef>
                <a:spcPts val="201"/>
              </a:spcBef>
              <a:buNone/>
              <a:tabLst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urprise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Guessed; thought without strong evidenc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plie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419120" y="3638520"/>
            <a:ext cx="304920" cy="3808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6975">
                <a:moveTo>
                  <a:pt x="0" y="0"/>
                </a:moveTo>
                <a:lnTo>
                  <a:pt x="21600" y="0"/>
                </a:lnTo>
                <a:lnTo>
                  <a:pt x="21600" y="26975"/>
                </a:lnTo>
                <a:lnTo>
                  <a:pt x="0" y="26975"/>
                </a:lnTo>
                <a:close/>
              </a:path>
              <a:path fill="lightenLess" w="21600" h="269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75">
                <a:moveTo>
                  <a:pt x="21600" y="0"/>
                </a:moveTo>
                <a:lnTo>
                  <a:pt x="21600" y="26975"/>
                </a:lnTo>
                <a:lnTo>
                  <a:pt x="20200" y="25575"/>
                </a:lnTo>
                <a:lnTo>
                  <a:pt x="20200" y="1400"/>
                </a:lnTo>
                <a:close/>
              </a:path>
              <a:path fill="darkenLess" w="21600" h="26975">
                <a:moveTo>
                  <a:pt x="21600" y="26975"/>
                </a:moveTo>
                <a:lnTo>
                  <a:pt x="0" y="26975"/>
                </a:lnTo>
                <a:lnTo>
                  <a:pt x="1400" y="25575"/>
                </a:lnTo>
                <a:lnTo>
                  <a:pt x="20200" y="25575"/>
                </a:lnTo>
                <a:close/>
              </a:path>
              <a:path fill="lighten" w="21600" h="26975">
                <a:moveTo>
                  <a:pt x="0" y="269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75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19120" y="4200480"/>
            <a:ext cx="304920" cy="3808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6975">
                <a:moveTo>
                  <a:pt x="0" y="0"/>
                </a:moveTo>
                <a:lnTo>
                  <a:pt x="21600" y="0"/>
                </a:lnTo>
                <a:lnTo>
                  <a:pt x="21600" y="26975"/>
                </a:lnTo>
                <a:lnTo>
                  <a:pt x="0" y="26975"/>
                </a:lnTo>
                <a:close/>
              </a:path>
              <a:path fill="lightenLess" w="21600" h="269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75">
                <a:moveTo>
                  <a:pt x="21600" y="0"/>
                </a:moveTo>
                <a:lnTo>
                  <a:pt x="21600" y="26975"/>
                </a:lnTo>
                <a:lnTo>
                  <a:pt x="20200" y="25575"/>
                </a:lnTo>
                <a:lnTo>
                  <a:pt x="20200" y="1400"/>
                </a:lnTo>
                <a:close/>
              </a:path>
              <a:path fill="darkenLess" w="21600" h="26975">
                <a:moveTo>
                  <a:pt x="21600" y="26975"/>
                </a:moveTo>
                <a:lnTo>
                  <a:pt x="0" y="26975"/>
                </a:lnTo>
                <a:lnTo>
                  <a:pt x="1400" y="25575"/>
                </a:lnTo>
                <a:lnTo>
                  <a:pt x="20200" y="25575"/>
                </a:lnTo>
                <a:close/>
              </a:path>
              <a:path fill="lighten" w="21600" h="26975">
                <a:moveTo>
                  <a:pt x="0" y="269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75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419120" y="4748040"/>
            <a:ext cx="304920" cy="38124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00">
                <a:moveTo>
                  <a:pt x="0" y="0"/>
                </a:moveTo>
                <a:lnTo>
                  <a:pt x="21600" y="0"/>
                </a:lnTo>
                <a:lnTo>
                  <a:pt x="21600" y="27000"/>
                </a:lnTo>
                <a:lnTo>
                  <a:pt x="0" y="27000"/>
                </a:lnTo>
                <a:close/>
              </a:path>
              <a:path fill="lightenLess" w="21600" h="270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0">
                <a:moveTo>
                  <a:pt x="21600" y="0"/>
                </a:moveTo>
                <a:lnTo>
                  <a:pt x="21600" y="27000"/>
                </a:lnTo>
                <a:lnTo>
                  <a:pt x="20200" y="25600"/>
                </a:lnTo>
                <a:lnTo>
                  <a:pt x="20200" y="1400"/>
                </a:lnTo>
                <a:close/>
              </a:path>
              <a:path fill="darkenLess" w="21600" h="27000">
                <a:moveTo>
                  <a:pt x="21600" y="27000"/>
                </a:moveTo>
                <a:lnTo>
                  <a:pt x="0" y="27000"/>
                </a:lnTo>
                <a:lnTo>
                  <a:pt x="1400" y="25600"/>
                </a:lnTo>
                <a:lnTo>
                  <a:pt x="20200" y="25600"/>
                </a:lnTo>
                <a:close/>
              </a:path>
              <a:path fill="lighten" w="21600" h="27000">
                <a:moveTo>
                  <a:pt x="0" y="270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0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IN-15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6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4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“ ‘The way it looks around here, you could never get lonely in India,’ Summer commented as another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horde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of tourists approached them along the shadowy walkway.”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lvl="1" marL="1146240" indent="-4557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ebebeb"/>
              </a:buClr>
              <a:buFont typeface="Times New Roman"/>
              <a:buChar char=" 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mass or crow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1146240" indent="-4557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ebebeb"/>
              </a:buClr>
              <a:buFont typeface="Times New Roman"/>
              <a:buChar char=" 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large fiel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1146240" indent="-4557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ebebeb"/>
              </a:buClr>
              <a:buFont typeface="Times New Roman"/>
              <a:buChar char=" 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street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5305320" y="4043520"/>
            <a:ext cx="3176640" cy="2382840"/>
          </a:xfrm>
          <a:prstGeom prst="rect">
            <a:avLst/>
          </a:prstGeom>
          <a:ln w="88920">
            <a:solidFill>
              <a:srgbClr val="3b5323"/>
            </a:solidFill>
            <a:miter/>
          </a:ln>
        </p:spPr>
      </p:pic>
      <p:sp>
        <p:nvSpPr>
          <p:cNvPr id="7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19120" y="4367160"/>
            <a:ext cx="304920" cy="3808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6975">
                <a:moveTo>
                  <a:pt x="0" y="0"/>
                </a:moveTo>
                <a:lnTo>
                  <a:pt x="21600" y="0"/>
                </a:lnTo>
                <a:lnTo>
                  <a:pt x="21600" y="26975"/>
                </a:lnTo>
                <a:lnTo>
                  <a:pt x="0" y="26975"/>
                </a:lnTo>
                <a:close/>
              </a:path>
              <a:path fill="lightenLess" w="21600" h="269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75">
                <a:moveTo>
                  <a:pt x="21600" y="0"/>
                </a:moveTo>
                <a:lnTo>
                  <a:pt x="21600" y="26975"/>
                </a:lnTo>
                <a:lnTo>
                  <a:pt x="20200" y="25575"/>
                </a:lnTo>
                <a:lnTo>
                  <a:pt x="20200" y="1400"/>
                </a:lnTo>
                <a:close/>
              </a:path>
              <a:path fill="darkenLess" w="21600" h="26975">
                <a:moveTo>
                  <a:pt x="21600" y="26975"/>
                </a:moveTo>
                <a:lnTo>
                  <a:pt x="0" y="26975"/>
                </a:lnTo>
                <a:lnTo>
                  <a:pt x="1400" y="25575"/>
                </a:lnTo>
                <a:lnTo>
                  <a:pt x="20200" y="25575"/>
                </a:lnTo>
                <a:close/>
              </a:path>
              <a:path fill="lighten" w="21600" h="26975">
                <a:moveTo>
                  <a:pt x="0" y="269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75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419120" y="4915080"/>
            <a:ext cx="304920" cy="3808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6975">
                <a:moveTo>
                  <a:pt x="0" y="0"/>
                </a:moveTo>
                <a:lnTo>
                  <a:pt x="21600" y="0"/>
                </a:lnTo>
                <a:lnTo>
                  <a:pt x="21600" y="26975"/>
                </a:lnTo>
                <a:lnTo>
                  <a:pt x="0" y="26975"/>
                </a:lnTo>
                <a:close/>
              </a:path>
              <a:path fill="lightenLess" w="21600" h="269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75">
                <a:moveTo>
                  <a:pt x="21600" y="0"/>
                </a:moveTo>
                <a:lnTo>
                  <a:pt x="21600" y="26975"/>
                </a:lnTo>
                <a:lnTo>
                  <a:pt x="20200" y="25575"/>
                </a:lnTo>
                <a:lnTo>
                  <a:pt x="20200" y="1400"/>
                </a:lnTo>
                <a:close/>
              </a:path>
              <a:path fill="darkenLess" w="21600" h="26975">
                <a:moveTo>
                  <a:pt x="21600" y="26975"/>
                </a:moveTo>
                <a:lnTo>
                  <a:pt x="0" y="26975"/>
                </a:lnTo>
                <a:lnTo>
                  <a:pt x="1400" y="25575"/>
                </a:lnTo>
                <a:lnTo>
                  <a:pt x="20200" y="25575"/>
                </a:lnTo>
                <a:close/>
              </a:path>
              <a:path fill="lighten" w="21600" h="26975">
                <a:moveTo>
                  <a:pt x="0" y="269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75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419120" y="5477040"/>
            <a:ext cx="304920" cy="3808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6975">
                <a:moveTo>
                  <a:pt x="0" y="0"/>
                </a:moveTo>
                <a:lnTo>
                  <a:pt x="21600" y="0"/>
                </a:lnTo>
                <a:lnTo>
                  <a:pt x="21600" y="26975"/>
                </a:lnTo>
                <a:lnTo>
                  <a:pt x="0" y="26975"/>
                </a:lnTo>
                <a:close/>
              </a:path>
              <a:path fill="lightenLess" w="21600" h="269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75">
                <a:moveTo>
                  <a:pt x="21600" y="0"/>
                </a:moveTo>
                <a:lnTo>
                  <a:pt x="21600" y="26975"/>
                </a:lnTo>
                <a:lnTo>
                  <a:pt x="20200" y="25575"/>
                </a:lnTo>
                <a:lnTo>
                  <a:pt x="20200" y="1400"/>
                </a:lnTo>
                <a:close/>
              </a:path>
              <a:path fill="darkenLess" w="21600" h="26975">
                <a:moveTo>
                  <a:pt x="21600" y="26975"/>
                </a:moveTo>
                <a:lnTo>
                  <a:pt x="0" y="26975"/>
                </a:lnTo>
                <a:lnTo>
                  <a:pt x="1400" y="25575"/>
                </a:lnTo>
                <a:lnTo>
                  <a:pt x="20200" y="25575"/>
                </a:lnTo>
                <a:close/>
              </a:path>
              <a:path fill="lighten" w="21600" h="26975">
                <a:moveTo>
                  <a:pt x="0" y="269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75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IN-15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647280" y="1895400"/>
            <a:ext cx="7854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6640" indent="0">
              <a:spcBef>
                <a:spcPts val="799"/>
              </a:spcBef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5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“Four long, reflecting pools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bisected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manicured, formal gardens that lined broad, stone walkways.”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spcBef>
                <a:spcPts val="201"/>
              </a:spcBef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spcBef>
                <a:spcPts val="700"/>
              </a:spcBef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 mold something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spcBef>
                <a:spcPts val="700"/>
              </a:spcBef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 perform an operation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spcBef>
                <a:spcPts val="601"/>
              </a:spcBef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 cut or divide into equal or nearly equal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arts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405080" y="3657600"/>
            <a:ext cx="304560" cy="38088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7006">
                <a:moveTo>
                  <a:pt x="0" y="0"/>
                </a:moveTo>
                <a:lnTo>
                  <a:pt x="21600" y="0"/>
                </a:lnTo>
                <a:lnTo>
                  <a:pt x="21600" y="27006"/>
                </a:lnTo>
                <a:lnTo>
                  <a:pt x="0" y="27006"/>
                </a:lnTo>
                <a:close/>
              </a:path>
              <a:path fill="lightenLess" w="21600" h="2700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6">
                <a:moveTo>
                  <a:pt x="21600" y="0"/>
                </a:moveTo>
                <a:lnTo>
                  <a:pt x="21600" y="27006"/>
                </a:lnTo>
                <a:lnTo>
                  <a:pt x="20200" y="25606"/>
                </a:lnTo>
                <a:lnTo>
                  <a:pt x="20200" y="1400"/>
                </a:lnTo>
                <a:close/>
              </a:path>
              <a:path fill="darkenLess" w="21600" h="27006">
                <a:moveTo>
                  <a:pt x="21600" y="27006"/>
                </a:moveTo>
                <a:lnTo>
                  <a:pt x="0" y="27006"/>
                </a:lnTo>
                <a:lnTo>
                  <a:pt x="1400" y="25606"/>
                </a:lnTo>
                <a:lnTo>
                  <a:pt x="20200" y="25606"/>
                </a:lnTo>
                <a:close/>
              </a:path>
              <a:path fill="lighten" w="21600" h="27006">
                <a:moveTo>
                  <a:pt x="0" y="2700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6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05080" y="4162320"/>
            <a:ext cx="304560" cy="38124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32">
                <a:moveTo>
                  <a:pt x="0" y="0"/>
                </a:moveTo>
                <a:lnTo>
                  <a:pt x="21600" y="0"/>
                </a:lnTo>
                <a:lnTo>
                  <a:pt x="21600" y="27032"/>
                </a:lnTo>
                <a:lnTo>
                  <a:pt x="0" y="27032"/>
                </a:lnTo>
                <a:close/>
              </a:path>
              <a:path fill="lightenLess" w="21600" h="2703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32">
                <a:moveTo>
                  <a:pt x="21600" y="0"/>
                </a:moveTo>
                <a:lnTo>
                  <a:pt x="21600" y="27032"/>
                </a:lnTo>
                <a:lnTo>
                  <a:pt x="20200" y="25632"/>
                </a:lnTo>
                <a:lnTo>
                  <a:pt x="20200" y="1400"/>
                </a:lnTo>
                <a:close/>
              </a:path>
              <a:path fill="darkenLess" w="21600" h="27032">
                <a:moveTo>
                  <a:pt x="21600" y="27032"/>
                </a:moveTo>
                <a:lnTo>
                  <a:pt x="0" y="27032"/>
                </a:lnTo>
                <a:lnTo>
                  <a:pt x="1400" y="25632"/>
                </a:lnTo>
                <a:lnTo>
                  <a:pt x="20200" y="25632"/>
                </a:lnTo>
                <a:close/>
              </a:path>
              <a:path fill="lighten" w="21600" h="27032">
                <a:moveTo>
                  <a:pt x="0" y="27032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32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405080" y="4667400"/>
            <a:ext cx="304560" cy="38088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7006">
                <a:moveTo>
                  <a:pt x="0" y="0"/>
                </a:moveTo>
                <a:lnTo>
                  <a:pt x="21600" y="0"/>
                </a:lnTo>
                <a:lnTo>
                  <a:pt x="21600" y="27006"/>
                </a:lnTo>
                <a:lnTo>
                  <a:pt x="0" y="27006"/>
                </a:lnTo>
                <a:close/>
              </a:path>
              <a:path fill="lightenLess" w="21600" h="2700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6">
                <a:moveTo>
                  <a:pt x="21600" y="0"/>
                </a:moveTo>
                <a:lnTo>
                  <a:pt x="21600" y="27006"/>
                </a:lnTo>
                <a:lnTo>
                  <a:pt x="20200" y="25606"/>
                </a:lnTo>
                <a:lnTo>
                  <a:pt x="20200" y="1400"/>
                </a:lnTo>
                <a:close/>
              </a:path>
              <a:path fill="darkenLess" w="21600" h="27006">
                <a:moveTo>
                  <a:pt x="21600" y="27006"/>
                </a:moveTo>
                <a:lnTo>
                  <a:pt x="0" y="27006"/>
                </a:lnTo>
                <a:lnTo>
                  <a:pt x="1400" y="25606"/>
                </a:lnTo>
                <a:lnTo>
                  <a:pt x="20200" y="25606"/>
                </a:lnTo>
                <a:close/>
              </a:path>
              <a:path fill="lighten" w="21600" h="27006">
                <a:moveTo>
                  <a:pt x="0" y="2700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6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IN-16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685800" y="18954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66640" indent="-566640">
              <a:spcBef>
                <a:spcPts val="799"/>
              </a:spcBef>
              <a:tabLst>
                <a:tab algn="l" pos="0"/>
                <a:tab algn="l" pos="114624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  <a:tab algn="l" pos="880128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6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“It was so massive and yet so perfectly proportioned that it seemed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surreal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>
              <a:spcBef>
                <a:spcPts val="201"/>
              </a:spcBef>
              <a:tabLst>
                <a:tab algn="l" pos="0"/>
                <a:tab algn="l" pos="114624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  <a:tab algn="l" pos="88012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114624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  <a:tab algn="l" pos="880128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haracterized by a blurry out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114624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  <a:tab algn="l" pos="880128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iction, not re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114624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  <a:tab algn="l" pos="880128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Extremely lar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414440" y="3152880"/>
            <a:ext cx="304920" cy="3808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6975">
                <a:moveTo>
                  <a:pt x="0" y="0"/>
                </a:moveTo>
                <a:lnTo>
                  <a:pt x="21600" y="0"/>
                </a:lnTo>
                <a:lnTo>
                  <a:pt x="21600" y="26975"/>
                </a:lnTo>
                <a:lnTo>
                  <a:pt x="0" y="26975"/>
                </a:lnTo>
                <a:close/>
              </a:path>
              <a:path fill="lightenLess" w="21600" h="269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75">
                <a:moveTo>
                  <a:pt x="21600" y="0"/>
                </a:moveTo>
                <a:lnTo>
                  <a:pt x="21600" y="26975"/>
                </a:lnTo>
                <a:lnTo>
                  <a:pt x="20200" y="25575"/>
                </a:lnTo>
                <a:lnTo>
                  <a:pt x="20200" y="1400"/>
                </a:lnTo>
                <a:close/>
              </a:path>
              <a:path fill="darkenLess" w="21600" h="26975">
                <a:moveTo>
                  <a:pt x="21600" y="26975"/>
                </a:moveTo>
                <a:lnTo>
                  <a:pt x="0" y="26975"/>
                </a:lnTo>
                <a:lnTo>
                  <a:pt x="1400" y="25575"/>
                </a:lnTo>
                <a:lnTo>
                  <a:pt x="20200" y="25575"/>
                </a:lnTo>
                <a:close/>
              </a:path>
              <a:path fill="lighten" w="21600" h="26975">
                <a:moveTo>
                  <a:pt x="0" y="269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75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414440" y="3705120"/>
            <a:ext cx="304920" cy="38124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00">
                <a:moveTo>
                  <a:pt x="0" y="0"/>
                </a:moveTo>
                <a:lnTo>
                  <a:pt x="21600" y="0"/>
                </a:lnTo>
                <a:lnTo>
                  <a:pt x="21600" y="27000"/>
                </a:lnTo>
                <a:lnTo>
                  <a:pt x="0" y="27000"/>
                </a:lnTo>
                <a:close/>
              </a:path>
              <a:path fill="lightenLess" w="21600" h="270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0">
                <a:moveTo>
                  <a:pt x="21600" y="0"/>
                </a:moveTo>
                <a:lnTo>
                  <a:pt x="21600" y="27000"/>
                </a:lnTo>
                <a:lnTo>
                  <a:pt x="20200" y="25600"/>
                </a:lnTo>
                <a:lnTo>
                  <a:pt x="20200" y="1400"/>
                </a:lnTo>
                <a:close/>
              </a:path>
              <a:path fill="darkenLess" w="21600" h="27000">
                <a:moveTo>
                  <a:pt x="21600" y="27000"/>
                </a:moveTo>
                <a:lnTo>
                  <a:pt x="0" y="27000"/>
                </a:lnTo>
                <a:lnTo>
                  <a:pt x="1400" y="25600"/>
                </a:lnTo>
                <a:lnTo>
                  <a:pt x="20200" y="25600"/>
                </a:lnTo>
                <a:close/>
              </a:path>
              <a:path fill="lighten" w="21600" h="27000">
                <a:moveTo>
                  <a:pt x="0" y="270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0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414440" y="4253040"/>
            <a:ext cx="304920" cy="3808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6975">
                <a:moveTo>
                  <a:pt x="0" y="0"/>
                </a:moveTo>
                <a:lnTo>
                  <a:pt x="21600" y="0"/>
                </a:lnTo>
                <a:lnTo>
                  <a:pt x="21600" y="26975"/>
                </a:lnTo>
                <a:lnTo>
                  <a:pt x="0" y="26975"/>
                </a:lnTo>
                <a:close/>
              </a:path>
              <a:path fill="lightenLess" w="21600" h="269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75">
                <a:moveTo>
                  <a:pt x="21600" y="0"/>
                </a:moveTo>
                <a:lnTo>
                  <a:pt x="21600" y="26975"/>
                </a:lnTo>
                <a:lnTo>
                  <a:pt x="20200" y="25575"/>
                </a:lnTo>
                <a:lnTo>
                  <a:pt x="20200" y="1400"/>
                </a:lnTo>
                <a:close/>
              </a:path>
              <a:path fill="darkenLess" w="21600" h="26975">
                <a:moveTo>
                  <a:pt x="21600" y="26975"/>
                </a:moveTo>
                <a:lnTo>
                  <a:pt x="0" y="26975"/>
                </a:lnTo>
                <a:lnTo>
                  <a:pt x="1400" y="25575"/>
                </a:lnTo>
                <a:lnTo>
                  <a:pt x="20200" y="25575"/>
                </a:lnTo>
                <a:close/>
              </a:path>
              <a:path fill="lighten" w="21600" h="26975">
                <a:moveTo>
                  <a:pt x="0" y="269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75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IN-16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18954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66640" indent="-566640">
              <a:spcBef>
                <a:spcPts val="2001"/>
              </a:spcBef>
              <a:tabLst>
                <a:tab algn="l" pos="0"/>
                <a:tab algn="l" pos="114624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7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“On and on the recording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droned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in various languages as more police led an ever-increasing number of visitors away from the doorways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>
              <a:spcBef>
                <a:spcPts val="201"/>
              </a:spcBef>
              <a:buClr>
                <a:srgbClr val="000000"/>
              </a:buClr>
              <a:buFont typeface="Times New Roman"/>
              <a:buAutoNum type="alphaUcParenR"/>
              <a:tabLst>
                <a:tab algn="l" pos="114624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114624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poke in a flat, continuous t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114624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poke very loud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114624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peated itsel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409760" y="4114800"/>
            <a:ext cx="304920" cy="3808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6975">
                <a:moveTo>
                  <a:pt x="0" y="0"/>
                </a:moveTo>
                <a:lnTo>
                  <a:pt x="21600" y="0"/>
                </a:lnTo>
                <a:lnTo>
                  <a:pt x="21600" y="26975"/>
                </a:lnTo>
                <a:lnTo>
                  <a:pt x="0" y="26975"/>
                </a:lnTo>
                <a:close/>
              </a:path>
              <a:path fill="lightenLess" w="21600" h="269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75">
                <a:moveTo>
                  <a:pt x="21600" y="0"/>
                </a:moveTo>
                <a:lnTo>
                  <a:pt x="21600" y="26975"/>
                </a:lnTo>
                <a:lnTo>
                  <a:pt x="20200" y="25575"/>
                </a:lnTo>
                <a:lnTo>
                  <a:pt x="20200" y="1400"/>
                </a:lnTo>
                <a:close/>
              </a:path>
              <a:path fill="darkenLess" w="21600" h="26975">
                <a:moveTo>
                  <a:pt x="21600" y="26975"/>
                </a:moveTo>
                <a:lnTo>
                  <a:pt x="0" y="26975"/>
                </a:lnTo>
                <a:lnTo>
                  <a:pt x="1400" y="25575"/>
                </a:lnTo>
                <a:lnTo>
                  <a:pt x="20200" y="25575"/>
                </a:lnTo>
                <a:close/>
              </a:path>
              <a:path fill="lighten" w="21600" h="26975">
                <a:moveTo>
                  <a:pt x="0" y="269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75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09760" y="4676760"/>
            <a:ext cx="304920" cy="3808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6975">
                <a:moveTo>
                  <a:pt x="0" y="0"/>
                </a:moveTo>
                <a:lnTo>
                  <a:pt x="21600" y="0"/>
                </a:lnTo>
                <a:lnTo>
                  <a:pt x="21600" y="26975"/>
                </a:lnTo>
                <a:lnTo>
                  <a:pt x="0" y="26975"/>
                </a:lnTo>
                <a:close/>
              </a:path>
              <a:path fill="lightenLess" w="21600" h="269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75">
                <a:moveTo>
                  <a:pt x="21600" y="0"/>
                </a:moveTo>
                <a:lnTo>
                  <a:pt x="21600" y="26975"/>
                </a:lnTo>
                <a:lnTo>
                  <a:pt x="20200" y="25575"/>
                </a:lnTo>
                <a:lnTo>
                  <a:pt x="20200" y="1400"/>
                </a:lnTo>
                <a:close/>
              </a:path>
              <a:path fill="darkenLess" w="21600" h="26975">
                <a:moveTo>
                  <a:pt x="21600" y="26975"/>
                </a:moveTo>
                <a:lnTo>
                  <a:pt x="0" y="26975"/>
                </a:lnTo>
                <a:lnTo>
                  <a:pt x="1400" y="25575"/>
                </a:lnTo>
                <a:lnTo>
                  <a:pt x="20200" y="25575"/>
                </a:lnTo>
                <a:close/>
              </a:path>
              <a:path fill="lighten" w="21600" h="26975">
                <a:moveTo>
                  <a:pt x="0" y="269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75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409760" y="5224320"/>
            <a:ext cx="304920" cy="38124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00">
                <a:moveTo>
                  <a:pt x="0" y="0"/>
                </a:moveTo>
                <a:lnTo>
                  <a:pt x="21600" y="0"/>
                </a:lnTo>
                <a:lnTo>
                  <a:pt x="21600" y="27000"/>
                </a:lnTo>
                <a:lnTo>
                  <a:pt x="0" y="27000"/>
                </a:lnTo>
                <a:close/>
              </a:path>
              <a:path fill="lightenLess" w="21600" h="270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0">
                <a:moveTo>
                  <a:pt x="21600" y="0"/>
                </a:moveTo>
                <a:lnTo>
                  <a:pt x="21600" y="27000"/>
                </a:lnTo>
                <a:lnTo>
                  <a:pt x="20200" y="25600"/>
                </a:lnTo>
                <a:lnTo>
                  <a:pt x="20200" y="1400"/>
                </a:lnTo>
                <a:close/>
              </a:path>
              <a:path fill="darkenLess" w="21600" h="27000">
                <a:moveTo>
                  <a:pt x="21600" y="27000"/>
                </a:moveTo>
                <a:lnTo>
                  <a:pt x="0" y="27000"/>
                </a:lnTo>
                <a:lnTo>
                  <a:pt x="1400" y="25600"/>
                </a:lnTo>
                <a:lnTo>
                  <a:pt x="20200" y="25600"/>
                </a:lnTo>
                <a:close/>
              </a:path>
              <a:path fill="lighten" w="21600" h="27000">
                <a:moveTo>
                  <a:pt x="0" y="270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0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IN-16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701640" y="1927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6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8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“Across from the butcher, the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acrid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smell of shrimp, mussels, and other shellfish permeated the night air as the fish vendor stirred a thick, iron pot over the tiny flame of a dung fire.”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ppealing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ysteriou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Extremely bitter or stinging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414440" y="4357800"/>
            <a:ext cx="304920" cy="3808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6975">
                <a:moveTo>
                  <a:pt x="0" y="0"/>
                </a:moveTo>
                <a:lnTo>
                  <a:pt x="21600" y="0"/>
                </a:lnTo>
                <a:lnTo>
                  <a:pt x="21600" y="26975"/>
                </a:lnTo>
                <a:lnTo>
                  <a:pt x="0" y="26975"/>
                </a:lnTo>
                <a:close/>
              </a:path>
              <a:path fill="lightenLess" w="21600" h="269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75">
                <a:moveTo>
                  <a:pt x="21600" y="0"/>
                </a:moveTo>
                <a:lnTo>
                  <a:pt x="21600" y="26975"/>
                </a:lnTo>
                <a:lnTo>
                  <a:pt x="20200" y="25575"/>
                </a:lnTo>
                <a:lnTo>
                  <a:pt x="20200" y="1400"/>
                </a:lnTo>
                <a:close/>
              </a:path>
              <a:path fill="darkenLess" w="21600" h="26975">
                <a:moveTo>
                  <a:pt x="21600" y="26975"/>
                </a:moveTo>
                <a:lnTo>
                  <a:pt x="0" y="26975"/>
                </a:lnTo>
                <a:lnTo>
                  <a:pt x="1400" y="25575"/>
                </a:lnTo>
                <a:lnTo>
                  <a:pt x="20200" y="25575"/>
                </a:lnTo>
                <a:close/>
              </a:path>
              <a:path fill="lighten" w="21600" h="26975">
                <a:moveTo>
                  <a:pt x="0" y="269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75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414440" y="4905360"/>
            <a:ext cx="304920" cy="3808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6975">
                <a:moveTo>
                  <a:pt x="0" y="0"/>
                </a:moveTo>
                <a:lnTo>
                  <a:pt x="21600" y="0"/>
                </a:lnTo>
                <a:lnTo>
                  <a:pt x="21600" y="26975"/>
                </a:lnTo>
                <a:lnTo>
                  <a:pt x="0" y="26975"/>
                </a:lnTo>
                <a:close/>
              </a:path>
              <a:path fill="lightenLess" w="21600" h="269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75">
                <a:moveTo>
                  <a:pt x="21600" y="0"/>
                </a:moveTo>
                <a:lnTo>
                  <a:pt x="21600" y="26975"/>
                </a:lnTo>
                <a:lnTo>
                  <a:pt x="20200" y="25575"/>
                </a:lnTo>
                <a:lnTo>
                  <a:pt x="20200" y="1400"/>
                </a:lnTo>
                <a:close/>
              </a:path>
              <a:path fill="darkenLess" w="21600" h="26975">
                <a:moveTo>
                  <a:pt x="21600" y="26975"/>
                </a:moveTo>
                <a:lnTo>
                  <a:pt x="0" y="26975"/>
                </a:lnTo>
                <a:lnTo>
                  <a:pt x="1400" y="25575"/>
                </a:lnTo>
                <a:lnTo>
                  <a:pt x="20200" y="25575"/>
                </a:lnTo>
                <a:close/>
              </a:path>
              <a:path fill="lighten" w="21600" h="26975">
                <a:moveTo>
                  <a:pt x="0" y="269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75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414440" y="5467320"/>
            <a:ext cx="304920" cy="3808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6975">
                <a:moveTo>
                  <a:pt x="0" y="0"/>
                </a:moveTo>
                <a:lnTo>
                  <a:pt x="21600" y="0"/>
                </a:lnTo>
                <a:lnTo>
                  <a:pt x="21600" y="26975"/>
                </a:lnTo>
                <a:lnTo>
                  <a:pt x="0" y="26975"/>
                </a:lnTo>
                <a:close/>
              </a:path>
              <a:path fill="lightenLess" w="21600" h="269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75">
                <a:moveTo>
                  <a:pt x="21600" y="0"/>
                </a:moveTo>
                <a:lnTo>
                  <a:pt x="21600" y="26975"/>
                </a:lnTo>
                <a:lnTo>
                  <a:pt x="20200" y="25575"/>
                </a:lnTo>
                <a:lnTo>
                  <a:pt x="20200" y="1400"/>
                </a:lnTo>
                <a:close/>
              </a:path>
              <a:path fill="darkenLess" w="21600" h="26975">
                <a:moveTo>
                  <a:pt x="21600" y="26975"/>
                </a:moveTo>
                <a:lnTo>
                  <a:pt x="0" y="26975"/>
                </a:lnTo>
                <a:lnTo>
                  <a:pt x="1400" y="25575"/>
                </a:lnTo>
                <a:lnTo>
                  <a:pt x="20200" y="25575"/>
                </a:lnTo>
                <a:close/>
              </a:path>
              <a:path fill="lighten" w="21600" h="26975">
                <a:moveTo>
                  <a:pt x="0" y="269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75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IN-16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712800" y="1916280"/>
            <a:ext cx="7648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6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9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“Across from the butcher, the acrid smell of shrimp, mussels, and other shellfish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permeated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the night air as the fish vendor stirred a thick, iron pot over the tiny flame of a dung fire.”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estroye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amouflage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enetrated or passed through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414440" y="4334040"/>
            <a:ext cx="309600" cy="380880"/>
          </a:xfrm>
          <a:custGeom>
            <a:avLst/>
            <a:gdLst>
              <a:gd name="textAreaLeft" fmla="*/ 19800 w 309600"/>
              <a:gd name="textAreaRight" fmla="*/ 289800 w 309600"/>
              <a:gd name="textAreaTop" fmla="*/ 19800 h 380880"/>
              <a:gd name="textAreaBottom" fmla="*/ 361080 h 380880"/>
            </a:gdLst>
            <a:ahLst/>
            <a:rect l="textAreaLeft" t="textAreaTop" r="textAreaRight" b="textAreaBottom"/>
            <a:pathLst>
              <a:path w="21600" h="26567">
                <a:moveTo>
                  <a:pt x="0" y="0"/>
                </a:moveTo>
                <a:lnTo>
                  <a:pt x="21600" y="0"/>
                </a:lnTo>
                <a:lnTo>
                  <a:pt x="21600" y="26567"/>
                </a:lnTo>
                <a:lnTo>
                  <a:pt x="0" y="26567"/>
                </a:lnTo>
                <a:close/>
              </a:path>
              <a:path fill="lightenLess" w="21600" h="2656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567">
                <a:moveTo>
                  <a:pt x="21600" y="0"/>
                </a:moveTo>
                <a:lnTo>
                  <a:pt x="21600" y="26567"/>
                </a:lnTo>
                <a:lnTo>
                  <a:pt x="20200" y="25167"/>
                </a:lnTo>
                <a:lnTo>
                  <a:pt x="20200" y="1400"/>
                </a:lnTo>
                <a:close/>
              </a:path>
              <a:path fill="darkenLess" w="21600" h="26567">
                <a:moveTo>
                  <a:pt x="21600" y="26567"/>
                </a:moveTo>
                <a:lnTo>
                  <a:pt x="0" y="26567"/>
                </a:lnTo>
                <a:lnTo>
                  <a:pt x="1400" y="25167"/>
                </a:lnTo>
                <a:lnTo>
                  <a:pt x="20200" y="25167"/>
                </a:lnTo>
                <a:close/>
              </a:path>
              <a:path fill="lighten" w="21600" h="26567">
                <a:moveTo>
                  <a:pt x="0" y="26567"/>
                </a:moveTo>
                <a:lnTo>
                  <a:pt x="0" y="0"/>
                </a:lnTo>
                <a:lnTo>
                  <a:pt x="1400" y="1400"/>
                </a:lnTo>
                <a:lnTo>
                  <a:pt x="1400" y="2516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414440" y="4896000"/>
            <a:ext cx="309600" cy="380880"/>
          </a:xfrm>
          <a:custGeom>
            <a:avLst/>
            <a:gdLst>
              <a:gd name="textAreaLeft" fmla="*/ 19800 w 309600"/>
              <a:gd name="textAreaRight" fmla="*/ 289800 w 309600"/>
              <a:gd name="textAreaTop" fmla="*/ 19800 h 380880"/>
              <a:gd name="textAreaBottom" fmla="*/ 361080 h 380880"/>
            </a:gdLst>
            <a:ahLst/>
            <a:rect l="textAreaLeft" t="textAreaTop" r="textAreaRight" b="textAreaBottom"/>
            <a:pathLst>
              <a:path w="21600" h="26567">
                <a:moveTo>
                  <a:pt x="0" y="0"/>
                </a:moveTo>
                <a:lnTo>
                  <a:pt x="21600" y="0"/>
                </a:lnTo>
                <a:lnTo>
                  <a:pt x="21600" y="26567"/>
                </a:lnTo>
                <a:lnTo>
                  <a:pt x="0" y="26567"/>
                </a:lnTo>
                <a:close/>
              </a:path>
              <a:path fill="lightenLess" w="21600" h="2656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567">
                <a:moveTo>
                  <a:pt x="21600" y="0"/>
                </a:moveTo>
                <a:lnTo>
                  <a:pt x="21600" y="26567"/>
                </a:lnTo>
                <a:lnTo>
                  <a:pt x="20200" y="25167"/>
                </a:lnTo>
                <a:lnTo>
                  <a:pt x="20200" y="1400"/>
                </a:lnTo>
                <a:close/>
              </a:path>
              <a:path fill="darkenLess" w="21600" h="26567">
                <a:moveTo>
                  <a:pt x="21600" y="26567"/>
                </a:moveTo>
                <a:lnTo>
                  <a:pt x="0" y="26567"/>
                </a:lnTo>
                <a:lnTo>
                  <a:pt x="1400" y="25167"/>
                </a:lnTo>
                <a:lnTo>
                  <a:pt x="20200" y="25167"/>
                </a:lnTo>
                <a:close/>
              </a:path>
              <a:path fill="lighten" w="21600" h="26567">
                <a:moveTo>
                  <a:pt x="0" y="26567"/>
                </a:moveTo>
                <a:lnTo>
                  <a:pt x="0" y="0"/>
                </a:lnTo>
                <a:lnTo>
                  <a:pt x="1400" y="1400"/>
                </a:lnTo>
                <a:lnTo>
                  <a:pt x="1400" y="2516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414440" y="5472000"/>
            <a:ext cx="309600" cy="381240"/>
          </a:xfrm>
          <a:custGeom>
            <a:avLst/>
            <a:gdLst>
              <a:gd name="textAreaLeft" fmla="*/ 19800 w 309600"/>
              <a:gd name="textAreaRight" fmla="*/ 289800 w 309600"/>
              <a:gd name="textAreaTop" fmla="*/ 19800 h 381240"/>
              <a:gd name="textAreaBottom" fmla="*/ 361440 h 381240"/>
            </a:gdLst>
            <a:ahLst/>
            <a:rect l="textAreaLeft" t="textAreaTop" r="textAreaRight" b="textAreaBottom"/>
            <a:pathLst>
              <a:path w="21600" h="26592">
                <a:moveTo>
                  <a:pt x="0" y="0"/>
                </a:moveTo>
                <a:lnTo>
                  <a:pt x="21600" y="0"/>
                </a:lnTo>
                <a:lnTo>
                  <a:pt x="21600" y="26592"/>
                </a:lnTo>
                <a:lnTo>
                  <a:pt x="0" y="26592"/>
                </a:lnTo>
                <a:close/>
              </a:path>
              <a:path fill="lightenLess" w="21600" h="2659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592">
                <a:moveTo>
                  <a:pt x="21600" y="0"/>
                </a:moveTo>
                <a:lnTo>
                  <a:pt x="21600" y="26592"/>
                </a:lnTo>
                <a:lnTo>
                  <a:pt x="20200" y="25192"/>
                </a:lnTo>
                <a:lnTo>
                  <a:pt x="20200" y="1400"/>
                </a:lnTo>
                <a:close/>
              </a:path>
              <a:path fill="darkenLess" w="21600" h="26592">
                <a:moveTo>
                  <a:pt x="21600" y="26592"/>
                </a:moveTo>
                <a:lnTo>
                  <a:pt x="0" y="26592"/>
                </a:lnTo>
                <a:lnTo>
                  <a:pt x="1400" y="25192"/>
                </a:lnTo>
                <a:lnTo>
                  <a:pt x="20200" y="25192"/>
                </a:lnTo>
                <a:close/>
              </a:path>
              <a:path fill="lighten" w="21600" h="26592">
                <a:moveTo>
                  <a:pt x="0" y="26592"/>
                </a:moveTo>
                <a:lnTo>
                  <a:pt x="0" y="0"/>
                </a:lnTo>
                <a:lnTo>
                  <a:pt x="1400" y="1400"/>
                </a:lnTo>
                <a:lnTo>
                  <a:pt x="1400" y="25192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IN-16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8T02:22:02Z</dcterms:created>
  <dc:creator>Gina Balducci</dc:creator>
  <dc:description/>
  <dc:language>en-US</dc:language>
  <cp:lastModifiedBy>Texas A&amp;M Veterinary Medicine</cp:lastModifiedBy>
  <dcterms:modified xsi:type="dcterms:W3CDTF">2005-05-18T14:22:21Z</dcterms:modified>
  <cp:revision>70</cp:revision>
  <dc:subject/>
  <dc:title>Vocab Challenge</dc:title>
</cp:coreProperties>
</file>