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DE05-B3FD-4133-BD33-C6F15C9A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B93E-31FD-470C-963C-D747B52E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4944-25F2-4116-844F-0DFDF7F3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B0DA-15A9-4361-A5AA-0932AEFE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4CD5-6518-41E8-B237-6C409DBC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3C17-0907-4C77-AE55-65C29D08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A8ED-AAB0-4FEC-8424-C0BDEF7B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55ED-C945-4A74-8D47-11745B9A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A6A9-6635-4996-9BA6-A5B402A6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1F2F-9C85-45FC-8751-97A42B5A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AB1C-8BFC-493B-95E1-4FD192FA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79F3-6DDC-4D93-9FCA-32CE25DB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940D-9332-423D-B5C5-972619385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You Have A Hypothes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24280" y="187956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possible causes of the sicknesse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state a hypo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kind of evidence would you need to confirm that your hypothesis is corre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58720" y="2792520"/>
            <a:ext cx="3810240" cy="252720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7:41:43Z</dcterms:created>
  <dc:creator>ljlab</dc:creator>
  <dc:description/>
  <dc:language>en-US</dc:language>
  <cp:lastModifiedBy>ljlab</cp:lastModifiedBy>
  <dcterms:modified xsi:type="dcterms:W3CDTF">2004-06-04T18:31:45Z</dcterms:modified>
  <cp:revision>3</cp:revision>
  <dc:subject/>
  <dc:title>Do You Have A Hypothesis?</dc:title>
</cp:coreProperties>
</file>