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BBD5-F99C-413D-9F13-7C05CF8BE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DA7-DBBF-4067-B51E-24882AAB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93F1-0053-4A6D-9A5D-24669503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0BB-0CF3-44EB-9FB6-6B4EFCBD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813-C247-4FA5-B75D-5434F303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B2D-BB74-456F-B249-793B3E26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93CB-43D5-4B7F-863F-55E599CD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0A62-4C25-489C-91AB-E15B2368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250-9138-472F-851A-270FCC64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2DA3-031B-4E92-AE74-98D030A6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1B7D-867A-44A7-9E2F-983BAA58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8616-7BD6-4075-AB96-0235EA8A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FD4-83AD-4F9F-913A-A6045EAB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D510-64D5-4472-B71B-85FBADACC9B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OrganSystems/Module_3/index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pnet.com/hepa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cidod/diseases/hepatitis/b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da.gov/fdac/features/1999/299_hepc.html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00" y="5054400"/>
            <a:ext cx="8916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World-Wide Scourg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89224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:</a:t>
            </a:r>
            <a:br>
              <a:rPr sz="4400"/>
            </a:b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Is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3240" y="20430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Hepatitis is a disease of the liver caused by a family of viruses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ommon virus types are: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19840" y="2000160"/>
            <a:ext cx="2778120" cy="4400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08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Does – Destroys the Liv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1040" y="26636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ubation period: a week or two to several mon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ver cells are killed and replaced with connective tissue (“hardening of the liver”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toxification capabilities of the liver are impaired.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here for review of how the liver work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disease may trigger liver canc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9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A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440" y="1419120"/>
            <a:ext cx="458172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ating/drinking substances contaminated with feces (fruits, vegetables, raw seafood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lu-li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, cooking foods thorough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19640" y="1905120"/>
            <a:ext cx="1714680" cy="115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3265560"/>
            <a:ext cx="2057400" cy="92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61040" y="446076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6240" y="1241280"/>
            <a:ext cx="644220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ver 500 million people are chronic carrier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ure to contaminated bloo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 or 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ries from a few symptoms to relatively sudden death or death from chronic liver disease (15-25% of infected people die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ry condition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210440" y="750960"/>
            <a:ext cx="15206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02320" y="2587680"/>
            <a:ext cx="1463760" cy="1622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59680" y="459900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20840"/>
            <a:ext cx="838188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% or more of the population is infected in Africa, S. E. Asia, Middle East (except Israel), Haiti, and the Dominican Republic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-7% is infected in India, the rest of Asia, Israel, Japan, Russia, Amazon River basin, Honduras, and Guatemal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87720" y="2241720"/>
            <a:ext cx="4946400" cy="3431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628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1184040"/>
            <a:ext cx="777240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/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(80%) have no symptom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atigue, loss of appetite, nause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ark uri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, cirrhosi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vaccinat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(drug treatment is under development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350040" y="3054240"/>
            <a:ext cx="1876320" cy="207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4320" y="175896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7-26% of all people in Egypt are infec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-5% are infected in Middle East, eastern Europe, Central America, parts of Africa, and Austral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U.S., 4 million are infected -- 10,000 die each yea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0000" y="1530360"/>
            <a:ext cx="4065480" cy="496872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49:54Z</dcterms:created>
  <dc:creator>Unknown User</dc:creator>
  <dc:description/>
  <dc:language>en-US</dc:language>
  <cp:lastModifiedBy>Jeremiah McNichols</cp:lastModifiedBy>
  <dcterms:modified xsi:type="dcterms:W3CDTF">2005-05-26T17:06:30Z</dcterms:modified>
  <cp:revision>90</cp:revision>
  <dc:subject/>
  <dc:title>Tour of the Ukraine</dc:title>
</cp:coreProperties>
</file>