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1A8-959F-48D1-B109-510EEAB2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08E-1FC5-4F4F-965D-3C597C4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D2C-0466-414E-8F71-E374F25F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324-2132-4D27-83ED-873DAB68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65C-3A85-40B7-A6ED-71BF8A2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826-16CF-4E9D-B138-A401D2D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4B0-09CE-4819-94E9-730B3444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453-5DC1-49D9-B607-01A0DA0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9E6-A02A-4200-BE5E-F5774F66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1E0-9E43-4DCF-BC06-5048C06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1A3-19E0-4C5B-8EB3-C7D327B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AA4-C37F-4469-9EE8-A898698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5DD8-FB86-4B3A-9116-FDE2E235A0E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../Appendices/Social%20Studies/AbsoLoca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16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17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5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5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6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6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7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7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81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82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88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89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95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96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02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03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09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10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5-05-18T14:19:51Z</dcterms:modified>
  <cp:revision>333</cp:revision>
  <dc:subject/>
  <dc:title>Hard River Escape</dc:title>
</cp:coreProperties>
</file>