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C4D-ADD8-4C11-90E5-9DBA0A9B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3E2-9EC3-45CC-B6E2-A622DA88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240-429D-4651-8725-EF3FE7A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838-CFA4-4337-AB36-C4B8D15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C5C-44A9-4D43-A117-2680E11D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B40-80F6-4A1D-A995-428EFE59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ED5-40D5-4D5F-845A-401E264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E29-0937-40D1-B235-4FF6534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570-C981-4C41-9DA3-2975410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C47-3091-42C7-AA2F-779AB8DD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F78-B41E-456C-9277-39778B7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45D-AA2B-4C7E-A57D-D8B49F5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E58-6C40-47FE-8F25-8A05AC4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8D8-DD91-438A-9072-86BED896E6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20840" y="3378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2084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50418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084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71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12840" y="0"/>
            <a:ext cx="7031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7525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17600" y="3705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17600" y="4276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7600" y="4809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1120" y="5345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882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0840" y="3427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0840" y="43797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0840" y="530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8240" y="2394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08240" y="2965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8240" y="3524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08240" y="4083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084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0840" y="410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2084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084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2730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0840" y="4229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20840" y="4788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0840" y="5346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2084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3759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0840" y="4317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20840" y="4863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0840" y="5423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8240" y="32130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8240" y="37591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8240" y="4295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08240" y="4851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8240" y="3340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8240" y="39117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8240" y="4470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8240" y="50418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33717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08240" y="3943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08240" y="45147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08240" y="5073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Texas A&amp;M Veterinary Medicine</cp:lastModifiedBy>
  <dcterms:modified xsi:type="dcterms:W3CDTF">2005-05-18T14:15:54Z</dcterms:modified>
  <cp:revision>66</cp:revision>
  <dc:subject/>
  <dc:title>Investigator Challenge Quiz</dc:title>
</cp:coreProperties>
</file>