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D7D3-64D4-48E9-99A1-221A0D552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632-3962-4DCD-9F6E-319C4D91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AA1-2432-4C87-BE62-31FBA016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C33-6740-4361-9440-6331774D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AB1-9D29-4BCF-A7F1-03E535B5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B60-A1E8-4377-9764-79A54236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77D-CE29-4A47-B4DF-11E5605F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1A3-6330-4DA0-9F56-C44626A1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F69E-6D3E-466E-9E75-37D7E6AA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3C8-3A72-4FD4-94F9-4AF568DD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8C5A-F748-44E9-89F8-3C6D19BD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CBE-7869-46B9-A4CA-5552E764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62B0-4B76-4E58-BEA3-FF7DC777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67AF-168F-492C-83C3-9295505BBD8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OrganSystems/Module_3/index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pnet.com/hepa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c.gov/ncidod/diseases/hepatitis/b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da.gov/fdac/features/1999/299_hepc.html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6800" y="5054400"/>
            <a:ext cx="8916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World-Wide Scourg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89224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:</a:t>
            </a:r>
            <a:br>
              <a:rPr sz="4400"/>
            </a:b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Is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3240" y="20430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Hepatitis is a disease of the liver caused by a family of viruses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ommon virus types are: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19840" y="2000160"/>
            <a:ext cx="2778120" cy="44006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108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Does – Destroys the Liv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1040" y="26636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ubation period: a week or two to several mon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ver cells are killed and replaced with connective tissue (“hardening of the liver”)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toxification capabilities of the liver are impaired.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here for review of how the liver work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disease may trigger liver canc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9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A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440" y="1419120"/>
            <a:ext cx="458172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ating/drinking substances contaminated with feces (fruits, vegetables, raw seafood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lu-li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, cooking foods thorough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19640" y="1905120"/>
            <a:ext cx="1714680" cy="115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3265560"/>
            <a:ext cx="2057400" cy="925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61040" y="446076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6240" y="1241280"/>
            <a:ext cx="644220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ver 500 million people are chronic carrier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ure to contaminated bloo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 or 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ries from a few symptoms to relatively sudden death or death from chronic liver disease (15-25% of infected people die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ry condition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210440" y="750960"/>
            <a:ext cx="152064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502320" y="2587680"/>
            <a:ext cx="1463760" cy="1622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159680" y="459900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20840"/>
            <a:ext cx="838188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% or more of the population is infected in Africa, S. E. Asia, Middle East (except Israel), Haiti, and the Dominican Republic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-7% is infected in India, the rest of Asia, Israel, Japan, Russia, Amazon River basin, Honduras, and Guatemala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87720" y="2241720"/>
            <a:ext cx="4946400" cy="3431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628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1184040"/>
            <a:ext cx="7772400" cy="54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/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ost (80%) have no symptom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atigue, loss of appetite, nause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ark uri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, cirrhosi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vaccinat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(drug treatment is under development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350040" y="3054240"/>
            <a:ext cx="1876320" cy="207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4320" y="175896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7-26% of all people in Egypt are infec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-5% are infected in Middle East, eastern Europe, Central America, parts of Africa, and Austral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U.S., 4 million are infected -- 10,000 die each yea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0000" y="1530360"/>
            <a:ext cx="4065480" cy="496872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6T22:49:54Z</dcterms:created>
  <dc:creator>Unknown User</dc:creator>
  <dc:description/>
  <dc:language>en-US</dc:language>
  <cp:lastModifiedBy>Jeremiah McNichols</cp:lastModifiedBy>
  <dcterms:modified xsi:type="dcterms:W3CDTF">2005-05-26T17:06:30Z</dcterms:modified>
  <cp:revision>90</cp:revision>
  <dc:subject/>
  <dc:title>Tour of the Ukraine</dc:title>
</cp:coreProperties>
</file>