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8D85-198A-4D08-9E13-A468163A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760-76D5-47A8-AFFC-30597E61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867-BFBC-46C8-B3F0-DFC253D6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7F1-F0C0-461F-8D45-8378280B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29D-2F47-429A-BA13-BD3FDEF3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963-7A70-4153-9C02-66F8E461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45D-F256-4BBA-93CE-A89EC7B7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806D-3D1D-428B-9283-1F6F8371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1759-A78B-4C16-B6A4-09A40237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3B4F-C9A7-446E-A31E-47EBEEF4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742-16FF-4E56-A349-E3A56E2B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688-FECA-4C3C-BC2B-8010CFEA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FE2C-6083-4D6A-9EF6-358A5FD0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3250-639D-4464-9C04-EC911180B78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20840" y="33782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20840" y="44956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20840" y="504180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20840" y="39369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71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714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12840" y="0"/>
            <a:ext cx="70311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17600" y="27525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17600" y="37051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17600" y="42768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7600" y="4809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11120" y="5345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48720" y="2286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S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20840" y="28828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0840" y="34275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20840" y="43797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20840" y="53071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08240" y="23940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08240" y="29653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08240" y="352440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08240" y="4083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20840" y="316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20840" y="410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20840" y="46735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20840" y="52322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20840" y="27306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20840" y="368316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0840" y="422928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20840" y="47880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20840" y="53467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20840" y="3174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375912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20840" y="431784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20840" y="486396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20840" y="542304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8240" y="32130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08240" y="375912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08240" y="42958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08240" y="48513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8240" y="33400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08240" y="391176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08240" y="447048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08240" y="504180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33717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08240" y="394344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08240" y="451476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08240" y="50734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</a:pathLst>
          </a:custGeom>
          <a:solidFill>
            <a:srgbClr val="3b5323"/>
          </a:solidFill>
          <a:ln w="9360">
            <a:solidFill>
              <a:srgbClr val="3b5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Texas A&amp;M Veterinary Medicine</cp:lastModifiedBy>
  <dcterms:modified xsi:type="dcterms:W3CDTF">2005-05-18T14:15:54Z</dcterms:modified>
  <cp:revision>66</cp:revision>
  <dc:subject/>
  <dc:title>Investigator Challenge Quiz</dc:title>
</cp:coreProperties>
</file>