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C94BB-4A76-4091-8C49-A5BFFDF6A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62080" y="679320"/>
            <a:ext cx="4533840" cy="3400560"/>
          </a:xfrm>
          <a:prstGeom prst="rect">
            <a:avLst/>
          </a:prstGeom>
          <a:ln w="0">
            <a:noFill/>
          </a:ln>
        </p:spPr>
      </p:sp>
      <p:sp>
        <p:nvSpPr>
          <p:cNvPr id="13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62080" y="679320"/>
            <a:ext cx="4533840" cy="3400560"/>
          </a:xfrm>
          <a:prstGeom prst="rect">
            <a:avLst/>
          </a:prstGeom>
          <a:ln w="0">
            <a:noFill/>
          </a:ln>
        </p:spPr>
      </p:sp>
      <p:sp>
        <p:nvSpPr>
          <p:cNvPr id="16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62080" y="679320"/>
            <a:ext cx="4533840" cy="3400560"/>
          </a:xfrm>
          <a:prstGeom prst="rect">
            <a:avLst/>
          </a:prstGeom>
          <a:ln w="0">
            <a:noFill/>
          </a:ln>
        </p:spPr>
      </p:sp>
      <p:sp>
        <p:nvSpPr>
          <p:cNvPr id="14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79320"/>
            <a:ext cx="4533840" cy="3400560"/>
          </a:xfrm>
          <a:prstGeom prst="rect">
            <a:avLst/>
          </a:prstGeom>
          <a:ln w="0">
            <a:noFill/>
          </a:ln>
        </p:spPr>
      </p:sp>
      <p:sp>
        <p:nvSpPr>
          <p:cNvPr id="142"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753EF-8A3D-4609-A52D-8D3760703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091E6-4FBE-4850-BDC7-CED3F538D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A8E56-CB6D-43D5-8240-721611FB8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1C82C-F1F6-49ED-B8A1-4EC842170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FFD0C-FDF0-4872-9AFB-EE175C5DE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279C9-1A55-41E9-A1B8-F4281F829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CD2D4-C5DB-4EBC-8BCB-BAC97BB4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CECF6-1656-4E5B-BD76-CB7D36DDD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B5798-CAAC-4769-8C7E-3D01E5A9B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E6549-60C2-4FFD-B341-5B9F02437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65DA-8F78-4B4B-A648-62363EBEC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2898-CE44-4BCA-996F-570B8FC63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4FAA-F1B4-415D-A113-35195DE166F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9"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90"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93"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94"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7"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8"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1"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102" name="" descr=""/>
          <p:cNvPicPr/>
          <p:nvPr/>
        </p:nvPicPr>
        <p:blipFill>
          <a:blip r:embed="rId2"/>
          <a:stretch/>
        </p:blipFill>
        <p:spPr>
          <a:xfrm>
            <a:off x="714240" y="1508040"/>
            <a:ext cx="3184560" cy="4710240"/>
          </a:xfrm>
          <a:prstGeom prst="rect">
            <a:avLst/>
          </a:prstGeom>
          <a:ln w="88920">
            <a:solidFill>
              <a:srgbClr val="547052"/>
            </a:solidFill>
            <a:miter/>
          </a:ln>
        </p:spPr>
      </p:pic>
      <p:sp>
        <p:nvSpPr>
          <p:cNvPr id="10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5"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6"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9"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10"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14"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8"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9"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21"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2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4"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5"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8"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9"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32"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33"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3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sp>
        <p:nvSpPr>
          <p:cNvPr id="72"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4"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7"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sp>
        <p:nvSpPr>
          <p:cNvPr id="78"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9"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81" name="" descr=""/>
          <p:cNvPicPr/>
          <p:nvPr/>
        </p:nvPicPr>
        <p:blipFill>
          <a:blip r:embed="rId3"/>
          <a:stretch/>
        </p:blipFill>
        <p:spPr>
          <a:xfrm>
            <a:off x="434880" y="1509840"/>
            <a:ext cx="4967280" cy="372564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4"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sp>
        <p:nvSpPr>
          <p:cNvPr id="85" name=""/>
          <p:cNvSpPr/>
          <p:nvPr/>
        </p:nvSpPr>
        <p:spPr>
          <a:xfrm>
            <a:off x="-1062000" y="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Ljlab</cp:lastModifiedBy>
  <dcterms:modified xsi:type="dcterms:W3CDTF">2005-05-16T17:37:05Z</dcterms:modified>
  <cp:revision>121</cp:revision>
  <dc:subject/>
  <dc:title>Tour of the Ukraine</dc:title>
</cp:coreProperties>
</file>