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2CE6-1ACB-4AF9-9730-D3A922A07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9B: The student is expected to: draw on experiences to bring meanings to words in context such as interpreting idioms, multiple-meaning words, and analogies (6-8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B9AE-AF66-40AC-B79C-65F75E5AB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CCB1-A13C-4257-BE8E-E6DC57F7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E1E6-F06F-4C13-AC85-DD1E90F62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B9DE-7504-48BC-9587-6334F29C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A04A-3913-43D7-9A53-B1E483A2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39C4-C328-4865-A366-0D1B4571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51BC-1DBB-488A-9FFD-A5E37803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667A-160A-4483-8842-49C12EAA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5165-9556-47AD-9D58-FCA5CE67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69A7-B93B-40DF-B2BB-35BB27F6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0F12-DA6F-40E5-B6BE-B775F7E9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CD6A-8E78-44C2-B2F8-7CE5973E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BAA1-A7CF-4208-9628-6E4582B3DBA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76440" y="2205000"/>
            <a:ext cx="8142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49360" indent="-549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Isn’t it about time to head back?’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queri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K.T. breaking the silence.  She set down her rod and began doing jumping jacks, shaking the weathered planks and bouncing all five of her friends.  ‘I need to move!’ 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9360" indent="-549360">
              <a:spcBef>
                <a:spcPts val="2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4420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estio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44208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t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44208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i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760" y="12254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14440" y="492912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14440" y="54626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14440" y="59817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“Their journey through the park and the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 notoriou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alley shortcut had taken only about twenty minutes, but it seemed like a lifetim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bit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ely, but unfavorably know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nd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14440" y="41162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14440" y="467820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14440" y="5226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848720" y="228600"/>
            <a:ext cx="990360" cy="380880"/>
          </a:xfrm>
          <a:custGeom>
            <a:avLst/>
            <a:gdLst>
              <a:gd name="textAreaLeft" fmla="*/ 24480 w 990360"/>
              <a:gd name="textAreaRight" fmla="*/ 965880 w 9903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31" h="21600">
                <a:moveTo>
                  <a:pt x="0" y="0"/>
                </a:moveTo>
                <a:lnTo>
                  <a:pt x="56131" y="0"/>
                </a:lnTo>
                <a:lnTo>
                  <a:pt x="56131" y="21600"/>
                </a:lnTo>
                <a:lnTo>
                  <a:pt x="0" y="21600"/>
                </a:lnTo>
                <a:close/>
              </a:path>
              <a:path fill="lightenLess" w="56131" h="21600">
                <a:moveTo>
                  <a:pt x="0" y="0"/>
                </a:moveTo>
                <a:lnTo>
                  <a:pt x="56131" y="0"/>
                </a:lnTo>
                <a:lnTo>
                  <a:pt x="54732" y="1400"/>
                </a:lnTo>
                <a:lnTo>
                  <a:pt x="1400" y="1400"/>
                </a:lnTo>
                <a:close/>
              </a:path>
              <a:path fill="darken" w="56131" h="21600">
                <a:moveTo>
                  <a:pt x="56131" y="0"/>
                </a:moveTo>
                <a:lnTo>
                  <a:pt x="56131" y="21600"/>
                </a:lnTo>
                <a:lnTo>
                  <a:pt x="54732" y="20200"/>
                </a:lnTo>
                <a:lnTo>
                  <a:pt x="54732" y="1400"/>
                </a:lnTo>
                <a:close/>
              </a:path>
              <a:path fill="darkenLess" w="56131" h="21600">
                <a:moveTo>
                  <a:pt x="56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32" y="20200"/>
                </a:lnTo>
                <a:close/>
              </a:path>
              <a:path fill="lighten" w="56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S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7640" y="1905120"/>
            <a:ext cx="802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 chorus of ‘be still’ and ‘stop that’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assail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K.T. and she reluctantly stopped jumping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lmed, reassur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acked with arg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rept slowly arou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14440" y="3629160"/>
            <a:ext cx="314280" cy="380880"/>
          </a:xfrm>
          <a:custGeom>
            <a:avLst/>
            <a:gdLst>
              <a:gd name="textAreaLeft" fmla="*/ 20160 w 314280"/>
              <a:gd name="textAreaRight" fmla="*/ 294120 w 314280"/>
              <a:gd name="textAreaTop" fmla="*/ 20160 h 380880"/>
              <a:gd name="textAreaBottom" fmla="*/ 360720 h 380880"/>
            </a:gdLst>
            <a:ahLst/>
            <a:rect l="textAreaLeft" t="textAreaTop" r="textAreaRight" b="textAreaBottom"/>
            <a:pathLst>
              <a:path w="21600" h="26172">
                <a:moveTo>
                  <a:pt x="0" y="0"/>
                </a:moveTo>
                <a:lnTo>
                  <a:pt x="21600" y="0"/>
                </a:lnTo>
                <a:lnTo>
                  <a:pt x="21600" y="26172"/>
                </a:lnTo>
                <a:lnTo>
                  <a:pt x="0" y="26172"/>
                </a:lnTo>
                <a:close/>
              </a:path>
              <a:path fill="lightenLess" w="21600" h="261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172">
                <a:moveTo>
                  <a:pt x="21600" y="0"/>
                </a:moveTo>
                <a:lnTo>
                  <a:pt x="21600" y="26172"/>
                </a:lnTo>
                <a:lnTo>
                  <a:pt x="20200" y="24772"/>
                </a:lnTo>
                <a:lnTo>
                  <a:pt x="20200" y="1400"/>
                </a:lnTo>
                <a:close/>
              </a:path>
              <a:path fill="darkenLess" w="21600" h="26172">
                <a:moveTo>
                  <a:pt x="21600" y="26172"/>
                </a:moveTo>
                <a:lnTo>
                  <a:pt x="0" y="26172"/>
                </a:lnTo>
                <a:lnTo>
                  <a:pt x="1400" y="24772"/>
                </a:lnTo>
                <a:lnTo>
                  <a:pt x="20200" y="24772"/>
                </a:lnTo>
                <a:close/>
              </a:path>
              <a:path fill="lighten" w="21600" h="26172">
                <a:moveTo>
                  <a:pt x="0" y="261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77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14440" y="4191120"/>
            <a:ext cx="314280" cy="380880"/>
          </a:xfrm>
          <a:custGeom>
            <a:avLst/>
            <a:gdLst>
              <a:gd name="textAreaLeft" fmla="*/ 20160 w 314280"/>
              <a:gd name="textAreaRight" fmla="*/ 294120 w 314280"/>
              <a:gd name="textAreaTop" fmla="*/ 20160 h 380880"/>
              <a:gd name="textAreaBottom" fmla="*/ 360720 h 380880"/>
            </a:gdLst>
            <a:ahLst/>
            <a:rect l="textAreaLeft" t="textAreaTop" r="textAreaRight" b="textAreaBottom"/>
            <a:pathLst>
              <a:path w="21600" h="26172">
                <a:moveTo>
                  <a:pt x="0" y="0"/>
                </a:moveTo>
                <a:lnTo>
                  <a:pt x="21600" y="0"/>
                </a:lnTo>
                <a:lnTo>
                  <a:pt x="21600" y="26172"/>
                </a:lnTo>
                <a:lnTo>
                  <a:pt x="0" y="26172"/>
                </a:lnTo>
                <a:close/>
              </a:path>
              <a:path fill="lightenLess" w="21600" h="261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172">
                <a:moveTo>
                  <a:pt x="21600" y="0"/>
                </a:moveTo>
                <a:lnTo>
                  <a:pt x="21600" y="26172"/>
                </a:lnTo>
                <a:lnTo>
                  <a:pt x="20200" y="24772"/>
                </a:lnTo>
                <a:lnTo>
                  <a:pt x="20200" y="1400"/>
                </a:lnTo>
                <a:close/>
              </a:path>
              <a:path fill="darkenLess" w="21600" h="26172">
                <a:moveTo>
                  <a:pt x="21600" y="26172"/>
                </a:moveTo>
                <a:lnTo>
                  <a:pt x="0" y="26172"/>
                </a:lnTo>
                <a:lnTo>
                  <a:pt x="1400" y="24772"/>
                </a:lnTo>
                <a:lnTo>
                  <a:pt x="20200" y="24772"/>
                </a:lnTo>
                <a:close/>
              </a:path>
              <a:path fill="lighten" w="21600" h="26172">
                <a:moveTo>
                  <a:pt x="0" y="261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77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14440" y="4724280"/>
            <a:ext cx="314280" cy="381240"/>
          </a:xfrm>
          <a:custGeom>
            <a:avLst/>
            <a:gdLst>
              <a:gd name="textAreaLeft" fmla="*/ 20160 w 314280"/>
              <a:gd name="textAreaRight" fmla="*/ 294120 w 314280"/>
              <a:gd name="textAreaTop" fmla="*/ 20160 h 381240"/>
              <a:gd name="textAreaBottom" fmla="*/ 361080 h 381240"/>
            </a:gdLst>
            <a:ahLst/>
            <a:rect l="textAreaLeft" t="textAreaTop" r="textAreaRight" b="textAreaBottom"/>
            <a:pathLst>
              <a:path w="21600" h="26197">
                <a:moveTo>
                  <a:pt x="0" y="0"/>
                </a:moveTo>
                <a:lnTo>
                  <a:pt x="21600" y="0"/>
                </a:lnTo>
                <a:lnTo>
                  <a:pt x="21600" y="26197"/>
                </a:lnTo>
                <a:lnTo>
                  <a:pt x="0" y="26197"/>
                </a:lnTo>
                <a:close/>
              </a:path>
              <a:path fill="lightenLess" w="21600" h="261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197">
                <a:moveTo>
                  <a:pt x="21600" y="0"/>
                </a:moveTo>
                <a:lnTo>
                  <a:pt x="21600" y="26197"/>
                </a:lnTo>
                <a:lnTo>
                  <a:pt x="20200" y="24797"/>
                </a:lnTo>
                <a:lnTo>
                  <a:pt x="20200" y="1400"/>
                </a:lnTo>
                <a:close/>
              </a:path>
              <a:path fill="darkenLess" w="21600" h="26197">
                <a:moveTo>
                  <a:pt x="21600" y="26197"/>
                </a:moveTo>
                <a:lnTo>
                  <a:pt x="0" y="26197"/>
                </a:lnTo>
                <a:lnTo>
                  <a:pt x="1400" y="24797"/>
                </a:lnTo>
                <a:lnTo>
                  <a:pt x="20200" y="24797"/>
                </a:lnTo>
                <a:close/>
              </a:path>
              <a:path fill="lighten" w="21600" h="26197">
                <a:moveTo>
                  <a:pt x="0" y="261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79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764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The lines got tangled, and the keypad must have activated when it crashed into my rod,’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surmis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Summer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uessed; thought without strong evid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pli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19120" y="363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19120" y="42004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19120" y="47480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The way it looks around here, you could never get lonely in India,’ Summer commented as another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hord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of tourists approached them along the shadowy walkway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mass or crow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large fiel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tree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305320" y="4043520"/>
            <a:ext cx="3176640" cy="238284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19120" y="43671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19120" y="49150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19120" y="54770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47280" y="1895400"/>
            <a:ext cx="785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Four long, reflecting pools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bisec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icured, formal gardens that lined broad, stone walkways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mold someth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erform an operation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cut or divide into equal or nearly equa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05080" y="365760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05080" y="416232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5080" y="466740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566640">
              <a:spcBef>
                <a:spcPts val="799"/>
              </a:spcBef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It was so massive and yet so perfectly proportioned that it seeme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surreal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spcBef>
                <a:spcPts val="201"/>
              </a:spcBef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racterized by a blurry 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ction, not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l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14440" y="31528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14440" y="370512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14440" y="42530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566640">
              <a:spcBef>
                <a:spcPts val="2001"/>
              </a:spcBef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On and on the recording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dron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in various languages as more police led an ever-increasing number of visitors away from the doorway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spcBef>
                <a:spcPts val="201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oke in a flat, continuous 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oke very lou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peated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09760" y="41148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09760" y="46767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09760" y="522432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01640" y="1927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cross from the butcher,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acri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smell of shrimp, mussels, and other shellfish permeated the night air as the fish vendor stirred a thick, iron pot over the tiny flame of a dung fir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ppeal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ysterio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bitter or sting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14440" y="43578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14440" y="49053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14440" y="54673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12800" y="1916280"/>
            <a:ext cx="764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cross from the butcher, the acrid smell of shrimp, mussels, and other shellfish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ermea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night air as the fish vendor stirred a thick, iron pot over the tiny flame of a dung fir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troy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mouflag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etrated or passed throug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14440" y="4334040"/>
            <a:ext cx="309600" cy="380880"/>
          </a:xfrm>
          <a:custGeom>
            <a:avLst/>
            <a:gdLst>
              <a:gd name="textAreaLeft" fmla="*/ 19800 w 309600"/>
              <a:gd name="textAreaRight" fmla="*/ 289800 w 309600"/>
              <a:gd name="textAreaTop" fmla="*/ 19800 h 380880"/>
              <a:gd name="textAreaBottom" fmla="*/ 361080 h 380880"/>
            </a:gdLst>
            <a:ahLst/>
            <a:rect l="textAreaLeft" t="textAreaTop" r="textAreaRight" b="textAreaBottom"/>
            <a:pathLst>
              <a:path w="21600" h="26567">
                <a:moveTo>
                  <a:pt x="0" y="0"/>
                </a:moveTo>
                <a:lnTo>
                  <a:pt x="21600" y="0"/>
                </a:lnTo>
                <a:lnTo>
                  <a:pt x="21600" y="26567"/>
                </a:lnTo>
                <a:lnTo>
                  <a:pt x="0" y="26567"/>
                </a:lnTo>
                <a:close/>
              </a:path>
              <a:path fill="lightenLess" w="21600" h="265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67">
                <a:moveTo>
                  <a:pt x="21600" y="0"/>
                </a:moveTo>
                <a:lnTo>
                  <a:pt x="21600" y="26567"/>
                </a:lnTo>
                <a:lnTo>
                  <a:pt x="20200" y="25167"/>
                </a:lnTo>
                <a:lnTo>
                  <a:pt x="20200" y="1400"/>
                </a:lnTo>
                <a:close/>
              </a:path>
              <a:path fill="darkenLess" w="21600" h="26567">
                <a:moveTo>
                  <a:pt x="21600" y="26567"/>
                </a:moveTo>
                <a:lnTo>
                  <a:pt x="0" y="26567"/>
                </a:lnTo>
                <a:lnTo>
                  <a:pt x="1400" y="25167"/>
                </a:lnTo>
                <a:lnTo>
                  <a:pt x="20200" y="25167"/>
                </a:lnTo>
                <a:close/>
              </a:path>
              <a:path fill="lighten" w="21600" h="26567">
                <a:moveTo>
                  <a:pt x="0" y="265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6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14440" y="4896000"/>
            <a:ext cx="309600" cy="380880"/>
          </a:xfrm>
          <a:custGeom>
            <a:avLst/>
            <a:gdLst>
              <a:gd name="textAreaLeft" fmla="*/ 19800 w 309600"/>
              <a:gd name="textAreaRight" fmla="*/ 289800 w 309600"/>
              <a:gd name="textAreaTop" fmla="*/ 19800 h 380880"/>
              <a:gd name="textAreaBottom" fmla="*/ 361080 h 380880"/>
            </a:gdLst>
            <a:ahLst/>
            <a:rect l="textAreaLeft" t="textAreaTop" r="textAreaRight" b="textAreaBottom"/>
            <a:pathLst>
              <a:path w="21600" h="26567">
                <a:moveTo>
                  <a:pt x="0" y="0"/>
                </a:moveTo>
                <a:lnTo>
                  <a:pt x="21600" y="0"/>
                </a:lnTo>
                <a:lnTo>
                  <a:pt x="21600" y="26567"/>
                </a:lnTo>
                <a:lnTo>
                  <a:pt x="0" y="26567"/>
                </a:lnTo>
                <a:close/>
              </a:path>
              <a:path fill="lightenLess" w="21600" h="265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67">
                <a:moveTo>
                  <a:pt x="21600" y="0"/>
                </a:moveTo>
                <a:lnTo>
                  <a:pt x="21600" y="26567"/>
                </a:lnTo>
                <a:lnTo>
                  <a:pt x="20200" y="25167"/>
                </a:lnTo>
                <a:lnTo>
                  <a:pt x="20200" y="1400"/>
                </a:lnTo>
                <a:close/>
              </a:path>
              <a:path fill="darkenLess" w="21600" h="26567">
                <a:moveTo>
                  <a:pt x="21600" y="26567"/>
                </a:moveTo>
                <a:lnTo>
                  <a:pt x="0" y="26567"/>
                </a:lnTo>
                <a:lnTo>
                  <a:pt x="1400" y="25167"/>
                </a:lnTo>
                <a:lnTo>
                  <a:pt x="20200" y="25167"/>
                </a:lnTo>
                <a:close/>
              </a:path>
              <a:path fill="lighten" w="21600" h="26567">
                <a:moveTo>
                  <a:pt x="0" y="265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67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14440" y="5472000"/>
            <a:ext cx="309600" cy="381240"/>
          </a:xfrm>
          <a:custGeom>
            <a:avLst/>
            <a:gdLst>
              <a:gd name="textAreaLeft" fmla="*/ 19800 w 309600"/>
              <a:gd name="textAreaRight" fmla="*/ 289800 w 309600"/>
              <a:gd name="textAreaTop" fmla="*/ 19800 h 381240"/>
              <a:gd name="textAreaBottom" fmla="*/ 361440 h 381240"/>
            </a:gdLst>
            <a:ahLst/>
            <a:rect l="textAreaLeft" t="textAreaTop" r="textAreaRight" b="textAreaBottom"/>
            <a:pathLst>
              <a:path w="21600" h="26592">
                <a:moveTo>
                  <a:pt x="0" y="0"/>
                </a:moveTo>
                <a:lnTo>
                  <a:pt x="21600" y="0"/>
                </a:lnTo>
                <a:lnTo>
                  <a:pt x="21600" y="26592"/>
                </a:lnTo>
                <a:lnTo>
                  <a:pt x="0" y="26592"/>
                </a:lnTo>
                <a:close/>
              </a:path>
              <a:path fill="lightenLess" w="21600" h="265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92">
                <a:moveTo>
                  <a:pt x="21600" y="0"/>
                </a:moveTo>
                <a:lnTo>
                  <a:pt x="21600" y="26592"/>
                </a:lnTo>
                <a:lnTo>
                  <a:pt x="20200" y="25192"/>
                </a:lnTo>
                <a:lnTo>
                  <a:pt x="20200" y="1400"/>
                </a:lnTo>
                <a:close/>
              </a:path>
              <a:path fill="darkenLess" w="21600" h="26592">
                <a:moveTo>
                  <a:pt x="21600" y="26592"/>
                </a:moveTo>
                <a:lnTo>
                  <a:pt x="0" y="26592"/>
                </a:lnTo>
                <a:lnTo>
                  <a:pt x="1400" y="25192"/>
                </a:lnTo>
                <a:lnTo>
                  <a:pt x="20200" y="25192"/>
                </a:lnTo>
                <a:close/>
              </a:path>
              <a:path fill="lighten" w="21600" h="26592">
                <a:moveTo>
                  <a:pt x="0" y="265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9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2:22:02Z</dcterms:created>
  <dc:creator>Gina Balducci</dc:creator>
  <dc:description/>
  <dc:language>en-US</dc:language>
  <cp:lastModifiedBy>Texas A&amp;M Veterinary Medicine</cp:lastModifiedBy>
  <dcterms:modified xsi:type="dcterms:W3CDTF">2005-05-18T14:22:21Z</dcterms:modified>
  <cp:revision>70</cp:revision>
  <dc:subject/>
  <dc:title>Vocab Challenge</dc:title>
</cp:coreProperties>
</file>