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9BD0-97DF-494A-8D56-1FE2672D1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E7939-6074-4BEE-9D1F-8855E195F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77AC-B285-4505-8BA4-18691C346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BB7D2-0389-4458-A9A1-D075F0A6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19137-0B5C-4E1C-9794-E15298D62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355B1-CE5D-47A0-BD16-C00294EF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1077-EC09-480F-8750-D598E5A2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48A9-480B-4C23-B234-84B676C4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2D3A-405F-4F80-8F77-3A8373DD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2BCD1-42F1-47C3-A0A6-B65F7B79C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87C4-A830-48CB-AC08-0068EB2F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0E92-0050-4457-96E1-CD45689F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1675-881B-46FE-9F64-251CBC831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1227-EDEB-485F-AC1D-4B13AABD01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38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Grammar</a:t>
            </a:r>
            <a:endParaRPr b="0" lang="en-US" sz="5400" spc="-1" strike="noStrike">
              <a:solidFill>
                <a:srgbClr val="ebebeb"/>
              </a:solidFill>
              <a:latin typeface="Times New Roman"/>
            </a:endParaRPr>
          </a:p>
        </p:txBody>
      </p:sp>
      <p:sp>
        <p:nvSpPr>
          <p:cNvPr id="59" name="PlaceHolder 2"/>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cccc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60" name=""/>
          <p:cNvGrpSpPr/>
          <p:nvPr/>
        </p:nvGrpSpPr>
        <p:grpSpPr>
          <a:xfrm>
            <a:off x="5189400" y="1981080"/>
            <a:ext cx="2727360" cy="4114800"/>
            <a:chOff x="5189400" y="1981080"/>
            <a:chExt cx="2727360" cy="4114800"/>
          </a:xfrm>
        </p:grpSpPr>
        <p:pic>
          <p:nvPicPr>
            <p:cNvPr id="61"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2"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68580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 </a:t>
            </a:r>
            <a:r>
              <a:rPr b="0" lang="en-US" sz="2400" spc="-1" strike="noStrike" u="sng">
                <a:solidFill>
                  <a:srgbClr val="ffffff"/>
                </a:solidFill>
                <a:uFillTx/>
                <a:latin typeface="Times New Roman"/>
              </a:rPr>
              <a:t>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Ljlab</cp:lastModifiedBy>
  <dcterms:modified xsi:type="dcterms:W3CDTF">2005-05-16T17:38:35Z</dcterms:modified>
  <cp:revision>39</cp:revision>
  <dc:subject/>
  <dc:title>PowerPoint Presentation</dc:title>
</cp:coreProperties>
</file>