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922-524B-4977-BF72-DDA7E30B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EF7-001F-4C36-9A33-EF640F9A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83C-A2EE-4F31-99D1-47DA7291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553-DBB7-4F10-9132-098E9A75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06D-164D-405E-9D06-C7629934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E9E-F5A7-4B61-BDD0-C4184B30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51F-FDBC-495F-BA7E-EAF5718E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A0E-0FEE-441A-AFB7-E73D9633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358-9D86-47E1-B4A7-4C460AC2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4D1-189D-4713-AC02-09E33BD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D64-1AE9-4ABD-B2F5-F5102F6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D42-DC14-4580-A3CE-FD8D6633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D3BF-0A58-4B52-9E20-A4C8B06C2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Have A Hypothe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24280" y="18795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ssible causes of the sickness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tate a hypo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 of evidence would you need to confirm that your hypothesis is corr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8720" y="2792520"/>
            <a:ext cx="3810240" cy="252720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7:41:43Z</dcterms:created>
  <dc:creator>ljlab</dc:creator>
  <dc:description/>
  <dc:language>en-US</dc:language>
  <cp:lastModifiedBy>ljlab</cp:lastModifiedBy>
  <dcterms:modified xsi:type="dcterms:W3CDTF">2004-06-04T18:31:45Z</dcterms:modified>
  <cp:revision>3</cp:revision>
  <dc:subject/>
  <dc:title>Do You Have A Hypothesis?</dc:title>
</cp:coreProperties>
</file>