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949-60C5-47F7-AFCD-B313FD39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B) use a decision-making process to identify a situation that requires a decision, gather information, identify options, predict consequences, and take action to implement a deci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appl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bsolute and relative chronolo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the sequencing of significant individuals, events, and time peri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d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D) identify points of view from the historical context surrounding an event and the frame of reference that influenced the participa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D) identify points of view from the historical context surrounding an event and the frame of reference that influenced the participa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E63-A9F9-463F-A821-5C54D579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A73-C254-4EC4-89DE-0C53CE2B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E09-2D80-4AB8-B144-27D8789F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619-082B-455B-A86F-C4C2FE07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EA6-CB34-4BE9-A47B-4C5A2443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122-101C-433C-88D4-A1BFA954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4AB-E3BA-4AB0-AF3D-62FD737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F7A-F5D9-488D-A72A-208CE7F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8B6-5244-4333-B9D0-6A054E7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B6D-BF70-4E59-A2CF-F471DE6E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C80-3405-4829-B413-73376F76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542-087A-4BD8-8AA5-249B99A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5B78-BD2F-4F19-AE11-F1D7A043A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archives.gov/research_room/arc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archives.gov/research_room/arc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archives.gov/research_room/arc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archives.gov/research_room/arc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archives.gov/research_room/arc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480" y="244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xas and World War 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erving F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6520" y="1420560"/>
            <a:ext cx="483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nited States supplied food to the Allied soldiers oversea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were encouraged to substitute other foods for wheat, oils and me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Texans helped out by volunteering to eat no meat or wheat on certain days of the we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s reminded civilians of the need to conserve f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ere trying to conserve food for the war, what type of food would you miss the most?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19600" y="1600200"/>
            <a:ext cx="294984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24280" y="65372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rchives.gov/research_room/arc/index.html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 (Picture 51249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ctory Gard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in the city and in the country started to grow their own vegetabl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growing their own vegetables, more food was available for the Allied troo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had a Victory Garden, what types of vegetables would you gr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43680" y="1676520"/>
            <a:ext cx="31320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24280" y="65372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http://www.archives.gov/research_room/arc/index.html (Picture 51249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ey and the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5600" y="1309680"/>
            <a:ext cx="854892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 is expensive and the govern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ed more money to keep up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h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ns bought Liberty Bonds to hel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omeone bought a Liberty Bon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were loaning money to the U.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at a certain interest rat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loan was paid back,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 received the amount they pai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 bond plus money they earn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interest on the bo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would people want to loan the government money?  What was the benef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35520" y="1319040"/>
            <a:ext cx="3071880" cy="4246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65372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http://www.archives.gov/research_room/arc/index.html (Picture 51261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on the Home Fro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76680" y="1375920"/>
            <a:ext cx="3525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exas, as a great agricultural state, was needed to produce cotton during the wa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osters advertised for men to quit their desk jobs and join others in harvesting cotton for the war effort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orkers also built military equipment and produced oil for ships and plan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one was encouraged to do their best at war work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2355840" cy="342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38880" y="1828800"/>
            <a:ext cx="2530440" cy="353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29400" y="623268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http://www.archives.gov/research_room/arc/index.html (Picture 51248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23268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http://www.archives.gov/research_room/arc/index.html (Picture 5125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1443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men during WW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53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 were not the only people that worked during the wa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 war, most women stayed at home.  In fact, some jobs were reserved for men on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men gone to war, women had the opportunity to fill positions that had never before been open to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ere the benefits of women being able to work for the first time during the war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386160" cy="4648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652464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http://www.archives.gov/research_room/arc/index.html (Picture 51261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51760" y="64152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men Vo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3400" y="141876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omen went to work, they were able to prove that they were responsible and could make deci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1918, women won the right to vote in primary ele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1920, the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endment to the U. S. Constitution gave women the right to vote in all ele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mpact do you think World War I had on women being able to vo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2913120" cy="4267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14400" y="57913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is is a picture of the 19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mend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thing to Think Ab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ould your life be different if you lived in Texas during World War 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life different for men and women during World War 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mpact did World War I have on life in Texas today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meline of 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low is a timeline of events leading up to and during World War I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event preceded the United States joining in World War 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7080" y="2514600"/>
            <a:ext cx="7629840" cy="3876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.S. Feels the Effects of the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057400"/>
            <a:ext cx="335268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n war broke out in 1914, the U.S. remained neutral. We did not want to get involved in the war “over there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1915, a German submarine sank the British ship Lusitania, killing 128 Americans on board.  This outraged the U.S., but we still did not enter the w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647960" cy="4114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.S. Moves Toward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97180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86200" y="1508040"/>
            <a:ext cx="49528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anuary 1917, a secret telegram sent by the German government to the German Ambassador to Mexico was intercept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he telegram, the German government asked the Mexican government for help in attacking the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return, the German government promised Mexico that they would help them recover Texas, New Mexico, and Ariz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ecret telegram convinced President Woodrow Wilson to ask Congress to join the war on the side of the Al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y do you think the telegram is a page full of numb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.S. Declares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5640" y="1523880"/>
            <a:ext cx="47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on April 6, 1917, the U.S. declared war on Germany, joining the Allies in World War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py of the Declaration of War is at the lef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countries were members of the All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countries were the Allies fight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600" y="1295280"/>
            <a:ext cx="3338280" cy="5181840"/>
            <a:chOff x="471600" y="1295280"/>
            <a:chExt cx="3338280" cy="518184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71600" y="1295280"/>
              <a:ext cx="333828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471600" y="1295280"/>
              <a:ext cx="3338280" cy="51818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52280" y="655308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rchives.gov/research_room/arc/index.html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 (Picture 2999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5960" y="64483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xans Go to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Texans felt great American pride and wanted to serve their country in any way they could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out 200,000 Texas men registered for the war draf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men could not register for the draft, but nearly 500 Texas women registered as nurs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t was over, 5,170 Texans had lost their lives in World War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61476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655308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rchives.gov/research_room/arc/index.html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 (Picture 51247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59760" y="63723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ining Cam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ning camps were s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 to train soldiers a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the United St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icture to the righ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soldiers arriv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Camp Travis in S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onio, Tex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of these camp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tent cities or sma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en buildings th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very crowd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rowded conditions increased the spread of diseases within the cam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419720" cy="3484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238640" y="475308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rchives.gov/research_room/arc/index.html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 (Picture 5337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ench Warf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5520" y="1536840"/>
            <a:ext cx="8293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soldiers made it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ope, they often fough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very harsh condi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diers in World War I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w advances in ammun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ion that made the battle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elds dangerous and un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dictabl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diers took shelter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ght from trenches dug into the ground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nches flooded and often filled with mud.  The tight, unsanitary conditions encouraged the spread of diseas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29000" y="1536840"/>
            <a:ext cx="4419720" cy="2971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363920" y="4262400"/>
            <a:ext cx="358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cture from http://www.greycounty.on.ca/museum/ww1mud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ar Effort at Ho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who could not fight in the war joined the war effort at h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think people at home in Texas helped with the war in Europ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10212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24280" y="65372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rchives.gov/research_room/arc/index.html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 (Picture 5125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4:14:57Z</dcterms:created>
  <dc:creator>itstudent</dc:creator>
  <dc:description/>
  <dc:language>en-US</dc:language>
  <cp:lastModifiedBy>Vince Hardy</cp:lastModifiedBy>
  <dcterms:modified xsi:type="dcterms:W3CDTF">2007-01-11T21:09:58Z</dcterms:modified>
  <cp:revision>14</cp:revision>
  <dc:subject/>
  <dc:title>Texas and World War I</dc:title>
</cp:coreProperties>
</file>