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7351-FD33-486E-B0DC-7F2EC09BA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3FED2-C612-41FB-8C65-DE6A007E3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607BA-0991-4499-BF47-97248A203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636ED-60D4-4BE8-B180-9259D1DDD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02F4A-44B5-4BC3-975B-D104AB65F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36CD-27ED-47A9-AF74-C4A3AA9B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6C38-6F59-43EE-819A-4BF05750A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E830A-6592-4762-88A6-C5295A86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38CF6-2E9B-4572-8288-83C97203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F2E8-2F1A-4E15-A9AC-44BEC0AD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45F7-73B6-4967-BD27-B5D186AD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4E0C-C9C9-4C49-B102-07E336CA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51E2-DC1A-4738-A20F-0C972D48C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D6DA-A581-4AA7-B79A-361055DFB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Vince Hardy</cp:lastModifiedBy>
  <dcterms:modified xsi:type="dcterms:W3CDTF">2007-05-17T02:24:20Z</dcterms:modified>
  <cp:revision>62</cp:revision>
  <dc:subject/>
  <dc:title>PowerPoint Presentation</dc:title>
</cp:coreProperties>
</file>