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2FD-42AA-436A-A037-A5222A0A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E3A-CF2A-4C5C-863C-CF126119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6B0-239A-45AB-B4AA-1BB5CD53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A0B-9C41-45AC-9405-450D410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5A5-2F3A-4E51-9F8B-DC8B03A9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770-0B58-4004-B7F7-E4BDAD8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CE1-BFDD-4485-B0C4-58B6E27B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0DC-050B-4978-A2C6-467E2F85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8A7-3BE5-4B0D-B7EA-034D0E3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179-56F1-4E93-B01A-F293F7AC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6BB-80E2-45C3-9DEA-00F16C49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B29-7DA2-44A3-92F2-5D2056C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F5F-5238-42DA-B80C-05F4253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33C-31AB-47B8-A0E2-4D088DE13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MM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8:00:30Z</dcterms:modified>
  <cp:revision>78</cp:revision>
  <dc:subject/>
  <dc:title>PowerPoint Presentation</dc:title>
</cp:coreProperties>
</file>