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C48F7-6203-435E-B299-533F2E414C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slide should be part of the main presentation and link out to the quiz itself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 Write in complete sentences, varying the types such as compound and complex sentences, and use appropriately punctuated independent and dependent claus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)  Use conjunctions to connect ideas meaningful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 Write in complete sentences, varying the types such as compound and complex sentences, and use appropriately punctuated independent and dependent claus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)  Use conjunctions to connect ideas meaningful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estions 1-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7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)  Use verb tenses appropriately and consisten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)  Use adjectives (comparative and superlative forms) and adverbs appropriate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)  Use adjectives (comparative and superlative forms) and adverbs appropriate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)  Use verb tenses appropriately and consisten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)  Write with increasing accuracy when using pronoun c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)  Use verb tenses appropriately and consisten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)  Write with increasing accuracy when using pronoun c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)  Write with increasing accuracy when using apostrophes in contra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)  Write with increasing accuracy when using pronoun c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)  Write with increasing accuracy when using apostrophes in contra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)  Write with increasing accuracy when using pronoun c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 Write in complete sentences, varying the types such as compound and complex sentences, and use appropriately punctuated independent and dependent claus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)  Use conjunctions to connect ideas meaningfull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0F60-A253-4EAB-A822-049F5289F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85E3-6157-4679-BEFA-E4D42BBA9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A62C-8AEC-4501-A817-6EC632B2C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0425-994B-4202-A906-D491CBE8C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FDC1-F566-40BD-AA87-80D026BC5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FA78-D29C-4032-934E-25F30C253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33A4-7897-429F-9947-78A50AD03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EA50-042E-44B4-82AE-C4BD7B7C6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5DFD-A7BE-4D02-850A-44997CF98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0A16-9CBA-4737-9498-8EAEF4AB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42B6-D0BF-45B1-9651-9E31D3EA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3FA3-0183-494B-A244-362C96A5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cc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24F98-FF8A-4F5B-8483-437654694D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hyperlink" Target="file:///LetterFromJace.pdf" TargetMode="Externa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eaea"/>
                </a:solidFill>
                <a:latin typeface="Times New Roman"/>
              </a:rPr>
              <a:t>Unlocking  Language Quiz</a:t>
            </a:r>
            <a:endParaRPr b="0" lang="en-US" sz="72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1920" y="4054320"/>
            <a:ext cx="85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Times New Roman"/>
              </a:rPr>
              <a:t>Answer each  question by clicking A, B, C, or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27040" indent="-5270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aeaea"/>
              </a:buClr>
              <a:buFont typeface="Times New Roman"/>
              <a:buAutoNum type="arabicPeriod" startAt="9"/>
              <a:tabLst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d Arrow wanted Jace to carry the deer Jace could not lift it.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  <a:p>
            <a:pPr marL="527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d Arrow wanted Jace to carry the deer,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Jace could not lift it.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  <a:p>
            <a:pPr marL="527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d Arrow wanted Jace to carry the deer, but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Jace could not lift it.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  <a:p>
            <a:pPr marL="527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d Arrow wanted Jace to carry. The deer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d Jace could not lift it.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  <a:p>
            <a:pPr marL="527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 changes needed.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143000" y="5892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143000" y="3062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1143000" y="4051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1143000" y="50198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27040" indent="-5270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aeaea"/>
              </a:buClr>
              <a:buFont typeface="Times New Roman"/>
              <a:buAutoNum type="arabicPeriod" startAt="10"/>
              <a:tabLst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d Arrow and Jace went to the village most of the people were gone.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  <a:p>
            <a:pPr marL="527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d Arrow and Jace went to the village, but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st of the people were gone.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  <a:p>
            <a:pPr marL="527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d Arrow and Jace went to the village, most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f the people were gone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  <a:p>
            <a:pPr marL="527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d Arrow and Jace went to the village and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st of the people were gone.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  <a:p>
            <a:pPr marL="527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 changes needed.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6095160" y="0"/>
            <a:ext cx="3048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143000" y="5896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1143000" y="3067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1143000" y="40575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1143000" y="50133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76280" y="2523960"/>
            <a:ext cx="6367320" cy="358776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Sending a Mess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0666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fter Jace returned home, he tried to send Red Arrow a message with his BPC’s keypad.  Edit his message and correct the errors you find.  Hint: keep looking until you find at least seven error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96880" y="2679840"/>
            <a:ext cx="6248520" cy="33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89"/>
              </a:spcBef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i Red Arrow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89"/>
              </a:spcBef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ow are you?  I hope the people of you’re villige are getting better.  Dejay and me won our soccer game last weekend.  I couldnt play the first half becuse I forgot my cleats but my mom went home and got them for me so I could play.  I hope you are well.  Keep in touch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89"/>
              </a:spcBef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Your freind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89"/>
              </a:spcBef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048440" y="2819520"/>
            <a:ext cx="1727280" cy="2209680"/>
          </a:xfrm>
          <a:prstGeom prst="rect">
            <a:avLst/>
          </a:prstGeom>
          <a:ln w="57240">
            <a:solidFill>
              <a:srgbClr val="545068"/>
            </a:solidFill>
            <a:miter/>
          </a:ln>
        </p:spPr>
      </p:pic>
      <p:sp>
        <p:nvSpPr>
          <p:cNvPr id="14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14600" y="6248520"/>
            <a:ext cx="6400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 to print a hard copy of the l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11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091040" y="4476600"/>
            <a:ext cx="961920" cy="5050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800600" y="3411360"/>
            <a:ext cx="3581280" cy="2684520"/>
          </a:xfrm>
          <a:prstGeom prst="rect">
            <a:avLst/>
          </a:prstGeom>
          <a:ln w="76320">
            <a:solidFill>
              <a:srgbClr val="545068"/>
            </a:solidFill>
            <a:miter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3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Jace ________ from the sky after he accidentally hit the keypad of his BPC.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  <a:p>
            <a:pPr marL="573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ell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  <a:p>
            <a:pPr marL="573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all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  <a:p>
            <a:pPr marL="573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ill fall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  <a:p>
            <a:pPr marL="573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alls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3240" y="0"/>
            <a:ext cx="60800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05280" y="1486080"/>
            <a:ext cx="654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ll in the blank with the best word to complete each sente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10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155600" y="4767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1155600" y="2971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1155600" y="357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1155600" y="41688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3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2.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jay shoved Jay ______ as he raced down the stairs.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  <a:p>
            <a:pPr marL="573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ough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  <a:p>
            <a:pPr marL="573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oughly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  <a:p>
            <a:pPr marL="573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ougher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  <a:p>
            <a:pPr marL="573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re rough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150920" y="4767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150920" y="2971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1150920" y="357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1150920" y="41688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3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3.    Travis is ______ than Jace.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  <a:p>
            <a:pPr marL="573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re old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  <a:p>
            <a:pPr marL="573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ld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  <a:p>
            <a:pPr marL="573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lder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  <a:p>
            <a:pPr marL="573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ldest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155600" y="2616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155600" y="3205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155600" y="3800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155600" y="43988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191120" y="3200400"/>
            <a:ext cx="4114800" cy="3086280"/>
          </a:xfrm>
          <a:prstGeom prst="rect">
            <a:avLst/>
          </a:prstGeom>
          <a:ln w="76320">
            <a:solidFill>
              <a:srgbClr val="545068"/>
            </a:solidFill>
            <a:miter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3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4.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d Arrow _____ Jace that his bird was named Black Beak.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  <a:p>
            <a:pPr marL="573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ell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  <a:p>
            <a:pPr marL="573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ill tell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  <a:p>
            <a:pPr marL="573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elled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  <a:p>
            <a:pPr marL="573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ld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155600" y="4767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1155600" y="2971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155600" y="357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1155600" y="41688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3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5.    Red Arrow took Jace to his village and introduced him to _______ mother.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  <a:p>
            <a:pPr marL="573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ir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  <a:p>
            <a:pPr marL="573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is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  <a:p>
            <a:pPr marL="573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er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  <a:p>
            <a:pPr marL="573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im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155600" y="4767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155600" y="2971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155600" y="357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155600" y="41688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3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6.    Jace suggested that _______ and Red Arrow “fly” to the village using the BPC.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  <a:p>
            <a:pPr marL="573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e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  <a:p>
            <a:pPr marL="573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im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  <a:p>
            <a:pPr marL="573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y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  <a:p>
            <a:pPr marL="573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155600" y="4767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155600" y="2971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155600" y="357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1155600" y="41688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3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7.   At first, Red Arrow _____ believe that Jace could travel using the BPC.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  <a:p>
            <a:pPr marL="573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idnt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  <a:p>
            <a:pPr marL="573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id’nt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  <a:p>
            <a:pPr marL="573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i’dnt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  <a:p>
            <a:pPr marL="573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idn’t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155600" y="4767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155600" y="2971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1155600" y="357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1155600" y="41688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89400" y="1508040"/>
            <a:ext cx="586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Choose the best way to rewrite the following senten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3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8.    Jace studies a lot.  He makes good grades.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  <a:p>
            <a:pPr marL="573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Jace studies a lot and he makes good grades. 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  <a:p>
            <a:pPr marL="573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Jace studies a lot, he makes good grades.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  <a:p>
            <a:pPr marL="573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Jace studies a lot, and he makes good grades.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  <a:p>
            <a:pPr marL="573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 changes needed.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  <a:p>
            <a:pPr marL="573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155600" y="43815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155600" y="2611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1155600" y="3189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1155600" y="37828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Vince Hardy</cp:lastModifiedBy>
  <dcterms:modified xsi:type="dcterms:W3CDTF">2007-05-07T18:39:51Z</dcterms:modified>
  <cp:revision>53</cp:revision>
  <dc:subject/>
  <dc:title>PowerPoint Presentation</dc:title>
</cp:coreProperties>
</file>