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BB47-12BA-4D24-BA8E-1FC0EA5FC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A168-82FD-429E-A690-A1E6AA5E9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1742-9280-43B3-A339-C1613CD6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BF51-F164-48CC-AD61-B8AB16BE5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004D-1542-4F34-8C23-EACF9191B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E396-BFAF-4501-B37B-7E5D5C62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D543-FDB5-4CED-B22F-D1E4C381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84B2-8088-4E04-B305-729DB45B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E7C3-CEE2-4A4B-9283-46466D63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377A-65E3-4F58-BD94-46CBD602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A9E7-E6DE-4C96-A001-F600D507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1AD3-C7DA-4B6A-AD8D-D56A8FD9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F6EC-8BDD-4141-AEAC-8DFC8672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D85D-6613-4A2B-BD9C-279CD9879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is true of the illness suffered by the India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trongest young warriors usually surviv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lln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ildren of the village died fastest if the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me 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fected patients felt sick but showed 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rnal signs of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individuals were not affected equally b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143000" y="583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43000" y="3025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43000" y="3970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43000" y="4921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did Red Arrow threaten Jace with a knif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refused to provide medicine for the sic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llager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 was angry because his pet cr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 lost when they were transported to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ll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nted to force Jace into taking him t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t Pit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bloodthirsty and did not like whit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143000" y="585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143000" y="2644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143000" y="3594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143000" y="4911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9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171960" y="279576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075200" y="45165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wo main characters in the story “Three Rivers, Three Nations” 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jay and J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and Red Ar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Red Ar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 Cloud and Dej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43000" y="47480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143000" y="29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14300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143000" y="4152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aracter, Dejay, is best characterized in the story by which one of the following adjectiv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gres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i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43000" y="474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143000" y="296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143000" y="356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143000" y="4151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ainbow Rider acquired this name for which one of the following reas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eautiful rainbow appeared on the horiz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ever he was pres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 clothes were multi-colored, like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inb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 backpack had a distinctive rainbow logo 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i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arrived on the scene in a multi-color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inbow clou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43000" y="56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43000" y="3068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143000" y="393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143000" y="464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relationship between Pontiac’s Rebellion and the events in this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ates and geographical location of bot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approximately the sa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ntiac is the name of a runaway Indian wh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nd Jace in the for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 was looking for his lost crow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ntiac, when he found Jace in the for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enape village in the story was at wa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a Pontiac Indian village located nearb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143000" y="5673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3000" y="2978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143000" y="38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143000" y="478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was the Indian village in the story so quiet and stil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late in the afternoon and everyone wa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ing a na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in the tribe were sick or had di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en and older boys were out hun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village was always quiet because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idents disliked loud noi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43000" y="541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143000" y="3106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143000" y="4032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143000" y="4664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significance of the Ohio, Allegheny and Monogahela Rivers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marked a boundary of the state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nnsylvan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shing in the Monogahela River was strict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bidden to the India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enape village was located at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section of these three riv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minated water from the Ohio River wa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ing the soldiers si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143000" y="5878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143000" y="3025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14300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143000" y="4940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best describes the dwellings in the Indian vill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epees decorated with colorful desig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quare adobe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unded huts woven from prairie gr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rk-covered longhou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43000" y="4626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143000" y="2935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143000" y="3489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143000" y="4049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’s response to seeing his mother and hearing her story is best characterized as which one of the followin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143000" y="4968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143000" y="3321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143000" y="38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143000" y="4421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4-27T04:56:12Z</dcterms:modified>
  <cp:revision>58</cp:revision>
  <dc:subject/>
  <dc:title>PowerPoint Presentation</dc:title>
</cp:coreProperties>
</file>