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F7BF-06C1-43D6-8CB8-B5DA91FD8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BC4D-1A2B-42C5-A2F2-D8AEB313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6B91-91D0-4FBD-8654-7AFC7AE1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71F-4C8B-4BA9-9C75-20FAC370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7C2E-385C-4B12-A868-35806C28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3D6-2377-4062-8883-9CE70931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4B5-6DE3-4D15-97DB-94DF8B73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FEB3-BBD3-42CE-B4A2-CDF2C77E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7B7-2D84-4523-A571-A4AAF567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A49-2B3A-4CDB-B664-1B0449E9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7359-0DEE-4EC7-A690-61F61BC5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A7B9-17A6-41D1-AACA-FFDDC6E5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423B-760B-4572-8059-05BF198B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876E-1588-4E3F-A932-55D504155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09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  “ ‘That’s my friend, ’ Red Arrow said with a smile as he pointed to the large, black crow that eyed Jac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ri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icably, in a friendly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tiously, with distr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y to start a f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kingly, teasin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71440" y="515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171440" y="3381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171440" y="396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171440" y="455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09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“Red Arrow ran quickly toward the forest, and Jac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esit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ly a moment before running after him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rned a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ed 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sed, wa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ped forw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71440" y="515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171440" y="3381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171440" y="396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171440" y="455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3768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0952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 body feels a lot older than thirteen, he though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oggi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Where am I?  What happened?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ly, cheer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zzily, sluggish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ily, with 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if imitating a frog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71440" y="515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71440" y="3381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71440" y="396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171440" y="455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0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  “A large black bird perched on a rotting branch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trud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rom the trunk like a withered, outstretched arm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ck outw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d, m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g loos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umpled, br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71440" y="5154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71440" y="338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71440" y="3963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714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2009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  “ ‘Hey, Dejay,’ Jace said, keeping his body between Dejay and the bed.  Didn’t know you were going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scor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 to the game.’ 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ster, anno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se, purs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 with, accomp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use, enter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71440" y="515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71440" y="3381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71440" y="396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171440" y="455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09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  “ ‘Dark Cloud intended to go right back to the powwow, but he was overcome wit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lai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oo tired to travel.’ 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t, humid we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ngry, violent e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evere head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ense of illness or physical discomf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71440" y="515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171440" y="3381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171440" y="396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171440" y="455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09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  “The teen deftly flicked a tiny piece of dried meat into the crow’s beak.  Jace stoo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wk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t the pai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ying with c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ing in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ing, gestu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auding, c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171440" y="515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171440" y="3381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171440" y="396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171440" y="455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09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  “Jace took a deep breath and tried a dari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au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‘ I rode the rainbow light, but perhaps you’re too frightened.’ 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tched t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p into the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ise, a compl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ornful, teasing remar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171440" y="515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171440" y="3381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171440" y="396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171440" y="455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06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 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pprehens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louded Red Arrow’s face as he viewed his village.  It was early evening – a time for preparing food and visiting, yet no one was visibl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y, che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gust, dista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, un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ness, un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71440" y="555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171440" y="375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171440" y="4359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171440" y="4962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09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  “The English captain, Ecuyer, had presented them with woven blankets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ke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pea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gns, symb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m cove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l pieces used in place of co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anim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71440" y="478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171440" y="2994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71440" y="359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171440" y="4200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7T19:54:54Z</dcterms:modified>
  <cp:revision>50</cp:revision>
  <dc:subject/>
  <dc:title>PowerPoint Presentation</dc:title>
</cp:coreProperties>
</file>