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9A38-A779-48FF-901F-103C765B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ade Science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E) Connect science concepts with the history of science and scienti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EC0-89B9-4612-B663-A190AFF6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DE6-6B7A-4F62-9F86-1201FCA0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45D-9C7E-4646-B9A6-DF0A5D91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C0D-0C17-4F23-BB04-5C7FB507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D04-B97B-4CDA-A298-94557B54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061-6B8F-46D6-A9D8-01A7C25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EC1-013F-42CE-8CE4-671F8A79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E61-217A-4506-8530-3E1C148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DB9-71E8-46B3-9C93-310369B2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295-4687-4783-AC3F-3B47A40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80E-1BA9-4B2F-A17C-4BC06C2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1EB-5595-4218-AD64-540EB82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6A6B-5B6D-4F6E-A996-42DE7DD866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and War in the 1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entu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disease used as an agent of warfare in America’s p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Jeffrey Amherst was the commander-in-chief of British forces in America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herst was respected for his role in the French and India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d Amherst accomplished during the w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54849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blupe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05520" y="1647720"/>
            <a:ext cx="2911320" cy="3791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73120"/>
            <a:ext cx="81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Amherst s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el Bouquet to Ft. Pit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t down an uprising b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 Pontia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had sided with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during the Frenc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ndian War and w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et with the British victo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Britain’s pol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as Ft. Pitt locat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large American city is found today at the location of Ft. Pit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676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showing location of Ft. P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27600" y="1701720"/>
            <a:ext cx="2880000" cy="351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15880" y="1600200"/>
            <a:ext cx="64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nd Colonel Henry Bouquet wrote to each other about infecting the Native Americans with smallpox by giving them infected blan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historical evidence we have are letters between Amherst and his offi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el Bouque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4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from Colonel Henry Bouquet to General Jeffrey Amherst, dated July 13, 176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.S. I will try to inoculate the Indians by means of blankets that may fall in their hands, taking care however not to get the disease mysel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el Bouque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60160" y="1600200"/>
            <a:ext cx="631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 Colonel Bouquet meant when he wrote that he would “try to inoculate” the India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sease do you think Colonel Bouquet wanted to avoid g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lonel Bouquet’s letter a primary sour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clear from the letter exactly what Colonel Bouquet was intending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mhers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4920" y="1600200"/>
            <a:ext cx="635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from General Jeffrey Amherst to Colonel Henry Bouquet, dated July 16, 176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.S. You will do well to try to inoculate the Indians by means of blankets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mhers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17680" y="1523880"/>
            <a:ext cx="641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you learn from General Amherst’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clear that the British were trying to infect the Indians with smallpo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clear that the British actually used infected blankets to give smallpox to the American India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 way that historians can actually know what happen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44160" y="1523880"/>
            <a:ext cx="6999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hard evidence that proves Amherst and his officers were successful in infecting the Indians with smallp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Captain Simeon Ecuyer, an officer at Ft. Pitt,  gave one Indian Chief two blankets and a handkerchief from the smallpox hospital in his f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have easily spread the dis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4267080"/>
            <a:ext cx="10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rawing of soldier giving blankets to Am. 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57280" y="1600200"/>
            <a:ext cx="639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time later, the American Indians in the area were struck by a smallpox epidem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pidemic greatly weakened American Indian fo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be coincidence, but some historians have concluded that it was a deliberate attack by the Brit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historians disagree and say there is not enough evidence to reach this conclu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3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a historian studying this event, what types of evidence would you w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historians ever know for sure what happened in the p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historians reac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 about pas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87880" y="3586320"/>
            <a:ext cx="1702080" cy="2361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170080"/>
            <a:ext cx="3343320" cy="2517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81120"/>
            <a:ext cx="82296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Europe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rs and settl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e to the America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rought m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s with them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smallpox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pox, measl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f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se disea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 to travel with the sett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logical Warf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66880" y="1510920"/>
            <a:ext cx="7718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, the U.S. Government is taking steps to prevent an outbreak of disease if terrorists should try to use biological weap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ax is one biological weapon that has been used.  It can be sent through the mail and, if untreated, can be extremely dead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experts have also suggested that smallpox could be used as a weapon by terror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?  How much of a threat is biological warfare to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305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Europeans had built up some resistance to these diseases over time, Native Americans had almost no resi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Europeans had built up resistance to these disea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anto Domingo, for example, the native population shrank from one million people to 500 people in less than 50 years because of dis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re European diseases so deadly among the nativ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of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4324320"/>
            <a:ext cx="3962520" cy="222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pox and other diseases killed great numbers of Aztecs and Incas, which helped the Spanish Conquistadors win many battles against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34080" y="1728720"/>
            <a:ext cx="3809880" cy="219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7428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mics, so m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ere sick a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that th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not care f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ther. So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ho migh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survived di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tarvation becau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no on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 or care for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38560" y="1828800"/>
            <a:ext cx="3571920" cy="2590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036400" y="449568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 www.worldtre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98520" y="1536840"/>
            <a:ext cx="682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, there have been fears that terrorists might use biological weapons and deliberately spread dangerous dis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seases might terrorists try to spre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logical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18680" y="1397160"/>
            <a:ext cx="5108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evidence suggests that American and British soldiers deliberately gave smallpox to Native Americans after the end of the French and India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ypes of evidence would historians use to reach this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uld be easy or difficult for historians to support this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1752480"/>
            <a:ext cx="914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of old document on parchment. Should not be able to rea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91320" y="1625760"/>
            <a:ext cx="2736720" cy="4419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949720" y="612144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www.archive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logical Warfare in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summer of 1763, the British in North America were fighting against the Indians led by Chief Pontiac in a war called Pontiac’s Rebe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Pontiac’s Rebellion before or after the French and Indian W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2120" y="4363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rtrait of Pont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16560" y="1638360"/>
            <a:ext cx="2401920" cy="264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0:33:50Z</dcterms:created>
  <dc:creator>jkracht</dc:creator>
  <dc:description/>
  <dc:language>en-US</dc:language>
  <cp:lastModifiedBy>Texas A&amp;M Veterinary Medicine</cp:lastModifiedBy>
  <dcterms:modified xsi:type="dcterms:W3CDTF">2005-05-17T14:37:29Z</dcterms:modified>
  <cp:revision>31</cp:revision>
  <dc:subject/>
  <dc:title>Slide 1</dc:title>
</cp:coreProperties>
</file>