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A416-01F2-4D4D-A156-11857CE11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77E-14C8-4F8E-A968-131FB934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ADD-8F5F-451E-A1EC-EDD223F2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7431-79B4-4B67-A85D-3AF01388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1EE-5D2F-49BD-88B1-43616B67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7A4-4300-4A75-98FB-8C283DAE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C6C-48D7-4B5D-A186-8EF088E5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2BE-76FE-42CE-A949-02BAB662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989-86C4-4BE8-BD1C-36EDECCC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355-A865-420D-BFCE-B13C1818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B93-1819-4763-8BA1-751D475E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3DB-83B9-4599-A26E-C49974C1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20F-D576-4B9D-A075-E153D377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194E-0F8B-4DE9-B5B8-90BE69FD315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672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6720" y="1598760"/>
            <a:ext cx="73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ad the following passages from the story and choose the correct meaning of each underlined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5200" y="46148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5200" y="53276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3400" y="60469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36640" y="40053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36640" y="44910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36640" y="4952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36640" y="39765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36640" y="46339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6640" y="5205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30520" y="46688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30520" y="52563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28720" y="41068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600" y="1999800"/>
            <a:ext cx="8001000" cy="33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6640" y="36432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6640" y="4110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6640" y="45720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36640" y="36147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36640" y="41004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36640" y="45626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36640" y="40244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36640" y="45100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36640" y="49719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36640" y="4745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36640" y="52308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6640" y="56926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28720" y="44467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28720" y="4908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28720" y="39607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36640" y="39387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36640" y="44244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36640" y="48862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Texas A&amp;M Veterinary Medicine</cp:lastModifiedBy>
  <cp:lastPrinted>2002-05-23T02:09:08Z</cp:lastPrinted>
  <dcterms:modified xsi:type="dcterms:W3CDTF">2005-05-17T17:20:05Z</dcterms:modified>
  <cp:revision>31</cp:revision>
  <dc:subject/>
  <dc:title>Vocabulary Challenge</dc:title>
</cp:coreProperties>
</file>