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56A6-471B-4060-BA68-AF6022EC4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n American girl and a Russian boy who becomes her 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nuclear accid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ack in time to the Ukrai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rprise her pen pal by attending her birthday par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to limit their exposure to radi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her backpack contained a suspicious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 b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all of the above were encounte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pollution on the river had gotten wor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not to give up his fight for the riv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28A-A6BF-41E0-A263-781C010A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1AA-F9F2-464A-A966-851D4DFD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32D-3F3A-4CF1-BFF9-9FEE7F2F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67A-5763-4093-BD74-E0432D31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56D-15FE-4345-B820-36B62FAB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1EA-43F9-423C-B27E-83CDCACA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37A-FD44-46B7-A9BE-4EF67373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F9E-3CE9-4C72-AC68-957FC073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829-6F52-40B7-B4A1-40AF5AB1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185-334A-48FA-9EB2-2297F411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974-5702-40E7-A06A-41BA27C4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03A-5144-4DE7-B857-9FD61C13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E9B8-F499-4B11-A855-D71C8347C3B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17474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Hard River Escape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Underline or highlight the important detail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280" y="528012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2680" y="469584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82680" y="41004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2680" y="349092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2680" y="26416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8240" y="30067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8240" y="35463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4073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08240" y="501984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08240" y="6035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244440"/>
            <a:ext cx="990360" cy="406440"/>
          </a:xfrm>
          <a:custGeom>
            <a:avLst/>
            <a:gdLst>
              <a:gd name="textAreaLeft" fmla="*/ 26280 w 990360"/>
              <a:gd name="textAreaRight" fmla="*/ 964080 w 99036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2605" h="21600">
                <a:moveTo>
                  <a:pt x="0" y="0"/>
                </a:moveTo>
                <a:lnTo>
                  <a:pt x="52605" y="0"/>
                </a:lnTo>
                <a:lnTo>
                  <a:pt x="52605" y="21600"/>
                </a:lnTo>
                <a:lnTo>
                  <a:pt x="0" y="21600"/>
                </a:lnTo>
                <a:close/>
              </a:path>
              <a:path fill="lightenLess" w="52605" h="21600">
                <a:moveTo>
                  <a:pt x="0" y="0"/>
                </a:moveTo>
                <a:lnTo>
                  <a:pt x="52605" y="0"/>
                </a:lnTo>
                <a:lnTo>
                  <a:pt x="51205" y="1400"/>
                </a:lnTo>
                <a:lnTo>
                  <a:pt x="1400" y="1400"/>
                </a:lnTo>
                <a:close/>
              </a:path>
              <a:path fill="darken" w="52605" h="21600">
                <a:moveTo>
                  <a:pt x="52605" y="0"/>
                </a:moveTo>
                <a:lnTo>
                  <a:pt x="52605" y="21600"/>
                </a:lnTo>
                <a:lnTo>
                  <a:pt x="51205" y="20200"/>
                </a:lnTo>
                <a:lnTo>
                  <a:pt x="51205" y="1400"/>
                </a:lnTo>
                <a:close/>
              </a:path>
              <a:path fill="darkenLess" w="52605" h="21600">
                <a:moveTo>
                  <a:pt x="52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05" y="20200"/>
                </a:lnTo>
                <a:close/>
              </a:path>
              <a:path fill="lighten" w="52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08240" y="29527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8240" y="39416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3840" y="47512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08240" y="560088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08240" y="62816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125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2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125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8240" y="31021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8240" y="36990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08240" y="42814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8240" y="48909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8240" y="5486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08240" y="48038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08240" y="2530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08240" y="31129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08240" y="3668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4237200"/>
            <a:ext cx="304920" cy="4060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58">
                <a:moveTo>
                  <a:pt x="0" y="0"/>
                </a:moveTo>
                <a:lnTo>
                  <a:pt x="21600" y="0"/>
                </a:lnTo>
                <a:lnTo>
                  <a:pt x="21600" y="28758"/>
                </a:lnTo>
                <a:lnTo>
                  <a:pt x="0" y="28758"/>
                </a:lnTo>
                <a:close/>
              </a:path>
              <a:path fill="lightenLess" w="21600" h="28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8">
                <a:moveTo>
                  <a:pt x="21600" y="0"/>
                </a:moveTo>
                <a:lnTo>
                  <a:pt x="21600" y="28758"/>
                </a:lnTo>
                <a:lnTo>
                  <a:pt x="20200" y="27358"/>
                </a:lnTo>
                <a:lnTo>
                  <a:pt x="20200" y="1400"/>
                </a:lnTo>
                <a:close/>
              </a:path>
              <a:path fill="darkenLess" w="21600" h="28758">
                <a:moveTo>
                  <a:pt x="21600" y="28758"/>
                </a:moveTo>
                <a:lnTo>
                  <a:pt x="0" y="28758"/>
                </a:lnTo>
                <a:lnTo>
                  <a:pt x="1400" y="27358"/>
                </a:lnTo>
                <a:lnTo>
                  <a:pt x="20200" y="27358"/>
                </a:lnTo>
                <a:close/>
              </a:path>
              <a:path fill="lighten" w="21600" h="28758">
                <a:moveTo>
                  <a:pt x="0" y="28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8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08240" y="4978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240" y="24890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8240" y="30574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8240" y="40323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08240" y="55753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6520" y="17744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08240" y="63198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08240" y="5468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8240" y="45608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368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29541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8240" y="29908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3840" y="36003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3840" y="41832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8240" y="5086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8240" y="5711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8240" y="56707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8240" y="511668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8240" y="4559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8240" y="3992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08240" y="33829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68520"/>
            <a:ext cx="304920" cy="406440"/>
          </a:xfrm>
          <a:custGeom>
            <a:avLst/>
            <a:gdLst>
              <a:gd name="textAreaLeft" fmla="*/ 0 w 304920"/>
              <a:gd name="textAreaRight" fmla="*/ 305280 w 304920"/>
              <a:gd name="textAreaTop" fmla="*/ 0 h 406440"/>
              <a:gd name="textAreaBottom" fmla="*/ 40644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1600" y="28783"/>
                </a:lnTo>
                <a:lnTo>
                  <a:pt x="21600" y="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0" y="28783"/>
                </a:lnTo>
                <a:lnTo>
                  <a:pt x="21600" y="287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0" y="0"/>
                </a:lnTo>
                <a:lnTo>
                  <a:pt x="0" y="287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9513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5324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1022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7080" y="56437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Texas A&amp;M Veterinary Medicine</cp:lastModifiedBy>
  <dcterms:modified xsi:type="dcterms:W3CDTF">2005-05-17T17:13:22Z</dcterms:modified>
  <cp:revision>64</cp:revision>
  <dc:subject/>
  <dc:title>Investigator’s Challenge Quiz</dc:title>
</cp:coreProperties>
</file>