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09D0E-73F7-4F83-A1A6-0ADFB7352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41750-EBBE-4598-8CEE-5BB02094F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490E6-C176-45A9-829A-F93E4ADAE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05865-23D6-486A-B603-A15A1A34C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6CAB6-1FB9-4228-B09A-98143D485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15955-5730-4D08-912C-5F5E1EF62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FB018-5908-4BEB-A28E-BFC32C2B4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5238A-3239-47B4-BB52-41E5AF98C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9D2F5-936B-4020-A528-16FFD20E2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2BED0-4C38-4D3E-865B-EC2ECC3AE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C2EA1-9AE0-43BB-B444-9953D3820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7B973-3A04-4C1E-9798-FB87401FD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C0E2A-499A-4F10-8162-44400ED52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E8A79-DF90-4F79-A1D2-22D823ACA25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JMcNichols</cp:lastModifiedBy>
  <dcterms:modified xsi:type="dcterms:W3CDTF">2006-05-27T17:08:00Z</dcterms:modified>
  <cp:revision>11</cp:revision>
  <dc:subject/>
  <dc:title>Design An Experiment </dc:title>
</cp:coreProperties>
</file>