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A930-6B9B-402A-856F-E445970E8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C74-F6B9-42E9-80A5-BACEC7C4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B029-9F22-444A-9B92-3292DCAC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78D-0598-4F1F-B5DD-86714D05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E79-C245-4B53-B433-E27A6FC2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12F-B61C-4985-AC2A-32E3A99B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854-9C52-4FE9-B4AF-B5C14E4D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826A-9471-4C9E-8555-0BF519A9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1E6-7D1C-44FF-940D-816085C8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3D7-8E35-43A7-87E2-A66EC771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596-12BE-4471-8704-05519620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7EE-25BF-488B-B2CE-6EED3014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6A3-A8FA-4B8A-B380-06A28FF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A824-A8A4-429F-8AB2-BF2372179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istorybuff.com/library/reftype.html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here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03200" indent="-403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3200" indent="-403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      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7-05-04T23:48:13Z</dcterms:modified>
  <cp:revision>60</cp:revision>
  <dc:subject/>
  <dc:title>Slide 1</dc:title>
</cp:coreProperties>
</file>