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wmf" ContentType="image/x-wmf"/>
  <Override PartName="/ppt/media/image22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30.png" ContentType="image/png"/>
  <Override PartName="/ppt/media/image37.jpeg" ContentType="image/jpeg"/>
  <Override PartName="/ppt/media/image41.jpeg" ContentType="image/jpeg"/>
  <Override PartName="/ppt/media/image8.jpeg" ContentType="image/jpeg"/>
  <Override PartName="/ppt/media/image39.jpeg" ContentType="image/jpeg"/>
  <Override PartName="/ppt/media/image31.png" ContentType="image/png"/>
  <Override PartName="/ppt/media/image43.png" ContentType="image/pn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20D3-AD29-47A8-85C4-6251E8AE6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39C2-8D50-43C1-8F34-1892C001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7A84-E4B3-40CF-A42A-4217F0F7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F470-B913-4B3D-B49B-1BB51F51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404F-A4BC-4DEC-9E45-8ABD539E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4F57-2416-41AB-9FE4-22CD76F2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15DD-F6EE-4CD0-81CA-0363E60C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B5DD-54CC-4E6A-875D-9C83535E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FC3A-0868-4325-969D-25F74D27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C3E9-6EC8-4966-B101-2058084D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7C28-4538-4DA2-A337-DF92BEAE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59A7-7A27-46D7-A9EE-C0747D8D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2153-134F-4A6C-973E-F7D276D9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F385-D9E4-462B-83CA-BFE1CA0E5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hyperlink" Target="http://www.webelements.com/webelements/elements/text/Cr/key.html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ia.doe.gov/kids/energyfacts/sources/non-renewable/nuclear.html" TargetMode="External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83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periodic table"/>
            <p:cNvPicPr/>
            <p:nvPr/>
          </p:nvPicPr>
          <p:blipFill>
            <a:blip r:embed="rId3"/>
            <a:srcRect l="2022" t="0" r="92792" b="24549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295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5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26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27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29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47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56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13680" y="2567160"/>
            <a:ext cx="2760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lick on the “     “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65600" y="2639880"/>
            <a:ext cx="257400" cy="257400"/>
          </a:xfrm>
          <a:custGeom>
            <a:avLst/>
            <a:gdLst>
              <a:gd name="textAreaLeft" fmla="*/ 16560 w 257400"/>
              <a:gd name="textAreaRight" fmla="*/ 240840 w 257400"/>
              <a:gd name="textAreaTop" fmla="*/ 16560 h 257400"/>
              <a:gd name="textAreaBottom" fmla="*/ 240840 h 2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395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396" name="" descr=""/>
            <p:cNvPicPr/>
            <p:nvPr/>
          </p:nvPicPr>
          <p:blipFill>
            <a:blip r:embed="rId3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4"/>
            <a:srcRect l="6450" t="14625" r="88720" b="29732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" descr=""/>
            <p:cNvPicPr/>
            <p:nvPr/>
          </p:nvPicPr>
          <p:blipFill>
            <a:blip r:embed="rId3"/>
            <a:srcRect l="11312" t="15150" r="83530" b="30037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rcRect l="16096" t="33102" r="33045" b="29659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26" name="" descr=""/>
            <p:cNvPicPr/>
            <p:nvPr/>
          </p:nvPicPr>
          <p:blipFill>
            <a:blip r:embed="rId2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3"/>
            <a:srcRect l="16043" t="77743" r="13130" b="13564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30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31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rcRect l="16096" t="77249" r="13793" b="4367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68961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cc00"/>
                </a:solidFill>
                <a:uFillTx/>
                <a:latin typeface="Arial"/>
                <a:hlinkClick r:id="rId4"/>
              </a:rPr>
              <a:t>Click her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498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0.26007 1.48148E-006 E">
                                      <p:cBhvr>
                                        <p:cTn id="22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48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80" name="" descr=""/>
            <p:cNvPicPr/>
            <p:nvPr/>
          </p:nvPicPr>
          <p:blipFill>
            <a:blip r:embed="rId2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3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84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25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00" name="" descr=""/>
            <p:cNvPicPr/>
            <p:nvPr/>
          </p:nvPicPr>
          <p:blipFill>
            <a:blip r:embed="rId2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" descr=""/>
            <p:cNvPicPr/>
            <p:nvPr/>
          </p:nvPicPr>
          <p:blipFill>
            <a:blip r:embed="rId3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4" name="" descr=""/>
          <p:cNvPicPr/>
          <p:nvPr/>
        </p:nvPicPr>
        <p:blipFill>
          <a:blip r:embed="rId4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5"/>
          <a:srcRect l="0" t="0" r="0" b="-2003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13" name="" descr=""/>
            <p:cNvPicPr/>
            <p:nvPr/>
          </p:nvPicPr>
          <p:blipFill>
            <a:blip r:embed="rId2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3"/>
            <a:srcRect l="91955" t="5512" r="2743" b="39318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7" name="" descr="photograph"/>
          <p:cNvPicPr/>
          <p:nvPr/>
        </p:nvPicPr>
        <p:blipFill>
          <a:blip r:embed="rId5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8" name="" descr=""/>
          <p:cNvPicPr/>
          <p:nvPr/>
        </p:nvPicPr>
        <p:blipFill>
          <a:blip r:embed="rId6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9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25" name="" descr=""/>
            <p:cNvPicPr/>
            <p:nvPr/>
          </p:nvPicPr>
          <p:blipFill>
            <a:blip r:embed="rId3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7" name="" descr=""/>
            <p:cNvPicPr/>
            <p:nvPr/>
          </p:nvPicPr>
          <p:blipFill>
            <a:blip r:embed="rId4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3" name="" descr=""/>
            <p:cNvPicPr/>
            <p:nvPr/>
          </p:nvPicPr>
          <p:blipFill>
            <a:blip r:embed="rId2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5" name="" descr=""/>
            <p:cNvPicPr/>
            <p:nvPr/>
          </p:nvPicPr>
          <p:blipFill>
            <a:blip r:embed="rId3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42" name="" descr=""/>
            <p:cNvPicPr/>
            <p:nvPr/>
          </p:nvPicPr>
          <p:blipFill>
            <a:blip r:embed="rId2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0" name="" descr=""/>
            <p:cNvPicPr/>
            <p:nvPr/>
          </p:nvPicPr>
          <p:blipFill>
            <a:blip r:embed="rId2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3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>
            <a:hlinkClick r:id="" action="ppaction://hlinkshowjump?jump=nextslide"/>
          </p:cNvPr>
          <p:cNvSpPr/>
          <p:nvPr/>
        </p:nvSpPr>
        <p:spPr>
          <a:xfrm flipH="1">
            <a:off x="818136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lead’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424400" y="2654280"/>
            <a:ext cx="4468320" cy="3876840"/>
            <a:chOff x="4424400" y="2654280"/>
            <a:chExt cx="4468320" cy="3876840"/>
          </a:xfrm>
        </p:grpSpPr>
        <p:pic>
          <p:nvPicPr>
            <p:cNvPr id="658" name="" descr=""/>
            <p:cNvPicPr/>
            <p:nvPr/>
          </p:nvPicPr>
          <p:blipFill>
            <a:blip r:embed="rId2"/>
            <a:stretch/>
          </p:blipFill>
          <p:spPr>
            <a:xfrm>
              <a:off x="442440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"/>
            <p:cNvSpPr/>
            <p:nvPr/>
          </p:nvSpPr>
          <p:spPr>
            <a:xfrm>
              <a:off x="620208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" descr=""/>
            <p:cNvPicPr/>
            <p:nvPr/>
          </p:nvPicPr>
          <p:blipFill>
            <a:blip r:embed="rId3"/>
            <a:stretch/>
          </p:blipFill>
          <p:spPr>
            <a:xfrm>
              <a:off x="663408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1" name=""/>
          <p:cNvSpPr/>
          <p:nvPr/>
        </p:nvSpPr>
        <p:spPr>
          <a:xfrm>
            <a:off x="8182080" y="5867280"/>
            <a:ext cx="625320" cy="669960"/>
          </a:xfrm>
          <a:custGeom>
            <a:avLst/>
            <a:gdLst>
              <a:gd name="textAreaLeft" fmla="*/ 40320 w 625320"/>
              <a:gd name="textAreaRight" fmla="*/ 585000 w 625320"/>
              <a:gd name="textAreaTop" fmla="*/ 40320 h 669960"/>
              <a:gd name="textAreaBottom" fmla="*/ 629640 h 669960"/>
            </a:gdLst>
            <a:ahLst/>
            <a:rect l="textAreaLeft" t="textAreaTop" r="textAreaRight" b="textAreaBottom"/>
            <a:pathLst>
              <a:path w="21600" h="23141">
                <a:moveTo>
                  <a:pt x="0" y="0"/>
                </a:moveTo>
                <a:lnTo>
                  <a:pt x="21600" y="0"/>
                </a:lnTo>
                <a:lnTo>
                  <a:pt x="21600" y="23141"/>
                </a:lnTo>
                <a:lnTo>
                  <a:pt x="0" y="23141"/>
                </a:lnTo>
                <a:close/>
              </a:path>
              <a:path fill="lightenLess" w="21600" h="2314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1">
                <a:moveTo>
                  <a:pt x="21600" y="0"/>
                </a:moveTo>
                <a:lnTo>
                  <a:pt x="21600" y="23141"/>
                </a:lnTo>
                <a:lnTo>
                  <a:pt x="20200" y="21741"/>
                </a:lnTo>
                <a:lnTo>
                  <a:pt x="20200" y="1400"/>
                </a:lnTo>
                <a:close/>
              </a:path>
              <a:path fill="darkenLess" w="21600" h="23141">
                <a:moveTo>
                  <a:pt x="21600" y="23141"/>
                </a:moveTo>
                <a:lnTo>
                  <a:pt x="0" y="23141"/>
                </a:lnTo>
                <a:lnTo>
                  <a:pt x="1400" y="21741"/>
                </a:lnTo>
                <a:lnTo>
                  <a:pt x="20200" y="21741"/>
                </a:lnTo>
                <a:close/>
              </a:path>
              <a:path fill="lighten" w="21600" h="23141">
                <a:moveTo>
                  <a:pt x="0" y="23141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1"/>
                </a:lnTo>
                <a:close/>
              </a:path>
              <a:path fill="darken" w="21600" h="23141">
                <a:moveTo>
                  <a:pt x="3794" y="11571"/>
                </a:moveTo>
                <a:lnTo>
                  <a:pt x="17806" y="4564"/>
                </a:lnTo>
                <a:lnTo>
                  <a:pt x="17806" y="18577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rcRect l="2765" t="34856" r="91924" b="55071"/>
          <a:stretch/>
        </p:blipFill>
        <p:spPr>
          <a:xfrm>
            <a:off x="304812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4191120" y="2209680"/>
            <a:ext cx="380880" cy="209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27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224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765" t="34856" r="91924" b="55071"/>
          <a:stretch/>
        </p:blipFill>
        <p:spPr>
          <a:xfrm>
            <a:off x="754200" y="175248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187920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886680" indent="-38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  <a:tab algn="l" pos="4089240"/>
                <a:tab algn="l" pos="4267080"/>
                <a:tab algn="l" pos="4444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81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11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39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Texas A&amp;M Veterinary Medicine</cp:lastModifiedBy>
  <dcterms:modified xsi:type="dcterms:W3CDTF">2006-05-02T20:10:12Z</dcterms:modified>
  <cp:revision>68</cp:revision>
  <dc:subject/>
  <dc:title>Slide 1</dc:title>
</cp:coreProperties>
</file>