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A032F-296F-4C5F-921B-6CDE72A39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DA420-9914-4E6E-BF3E-C68880E29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BBF85-6B9B-4A6B-825D-8F36B4514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7541E-52E2-427F-9E2D-0DDCA4C5D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CB804-9C04-4FAE-AFD6-532D28142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87460-7765-4D0D-ACD1-718081A3E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6AC83-23CE-43EF-B02A-FC80D6BF4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01B1-487A-4E34-A43C-568189071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4FEB7-D9B6-499B-95A6-2495605FC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0BC0-CF1B-4B43-AB8D-294417CB2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850D7-1684-40BE-BAC2-04EB0A026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6F99A-065B-4BC1-8ABE-224036C68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9DF7D-6B96-47A4-B925-AB88ACCBE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57B6-CAD4-494B-A375-48C9E3ADE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3"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4"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7"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4000"/>
          </a:bodyPr>
          <a:p>
            <a:pPr marL="253800" indent="-253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marL="253800" indent="-253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marL="253800" indent="-253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marL="253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8" name=""/>
          <p:cNvGrpSpPr/>
          <p:nvPr/>
        </p:nvGrpSpPr>
        <p:grpSpPr>
          <a:xfrm>
            <a:off x="1481040" y="1763280"/>
            <a:ext cx="3003120" cy="2371320"/>
            <a:chOff x="1481040" y="1763280"/>
            <a:chExt cx="3003120" cy="2371320"/>
          </a:xfrm>
        </p:grpSpPr>
        <p:sp>
          <p:nvSpPr>
            <p:cNvPr id="289"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2"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2"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3"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4"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2"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3"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4"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28"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29" name="" descr=""/>
          <p:cNvPicPr/>
          <p:nvPr/>
        </p:nvPicPr>
        <p:blipFill>
          <a:blip r:embed="rId2"/>
          <a:stretch/>
        </p:blipFill>
        <p:spPr>
          <a:xfrm>
            <a:off x="1035000" y="3581280"/>
            <a:ext cx="4114800" cy="2895840"/>
          </a:xfrm>
          <a:prstGeom prst="rect">
            <a:avLst/>
          </a:prstGeom>
          <a:ln w="0">
            <a:noFill/>
          </a:ln>
        </p:spPr>
      </p:pic>
      <p:sp>
        <p:nvSpPr>
          <p:cNvPr id="330"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1"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2"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3"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4"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5"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8"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39" name="" descr=""/>
          <p:cNvPicPr/>
          <p:nvPr/>
        </p:nvPicPr>
        <p:blipFill>
          <a:blip r:embed="rId2"/>
          <a:stretch/>
        </p:blipFill>
        <p:spPr>
          <a:xfrm>
            <a:off x="1035000" y="3581280"/>
            <a:ext cx="4114800" cy="2895840"/>
          </a:xfrm>
          <a:prstGeom prst="rect">
            <a:avLst/>
          </a:prstGeom>
          <a:ln w="0">
            <a:noFill/>
          </a:ln>
        </p:spPr>
      </p:pic>
      <p:sp>
        <p:nvSpPr>
          <p:cNvPr id="340"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1"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2"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3"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4"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5"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48" name="PlaceHolder 2"/>
          <p:cNvSpPr>
            <a:spLocks noGrp="1"/>
          </p:cNvSpPr>
          <p:nvPr>
            <p:ph/>
          </p:nvPr>
        </p:nvSpPr>
        <p:spPr>
          <a:xfrm>
            <a:off x="287280" y="1703520"/>
            <a:ext cx="4284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49" name="" descr=""/>
          <p:cNvPicPr/>
          <p:nvPr/>
        </p:nvPicPr>
        <p:blipFill>
          <a:blip r:embed="rId2"/>
          <a:stretch/>
        </p:blipFill>
        <p:spPr>
          <a:xfrm>
            <a:off x="4876920" y="1801800"/>
            <a:ext cx="3990960" cy="3862440"/>
          </a:xfrm>
          <a:prstGeom prst="rect">
            <a:avLst/>
          </a:prstGeom>
          <a:ln w="0">
            <a:noFill/>
          </a:ln>
        </p:spPr>
      </p:pic>
      <p:sp>
        <p:nvSpPr>
          <p:cNvPr id="350"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3" name="PlaceHolder 2"/>
          <p:cNvSpPr>
            <a:spLocks noGrp="1"/>
          </p:cNvSpPr>
          <p:nvPr>
            <p:ph/>
          </p:nvPr>
        </p:nvSpPr>
        <p:spPr>
          <a:xfrm>
            <a:off x="557280" y="1676520"/>
            <a:ext cx="80596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766800" y="1568160"/>
            <a:ext cx="7772400" cy="4755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6"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59"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3" name="" descr=""/>
          <p:cNvPicPr/>
          <p:nvPr/>
        </p:nvPicPr>
        <p:blipFill>
          <a:blip r:embed="rId2"/>
          <a:stretch/>
        </p:blipFill>
        <p:spPr>
          <a:xfrm>
            <a:off x="5688000" y="4281480"/>
            <a:ext cx="2529000" cy="2351160"/>
          </a:xfrm>
          <a:prstGeom prst="rect">
            <a:avLst/>
          </a:prstGeom>
          <a:ln w="0">
            <a:noFill/>
          </a:ln>
        </p:spPr>
      </p:pic>
      <p:sp>
        <p:nvSpPr>
          <p:cNvPr id="3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6"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67"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68"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69"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0"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1"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2" name=""/>
          <p:cNvGrpSpPr/>
          <p:nvPr/>
        </p:nvGrpSpPr>
        <p:grpSpPr>
          <a:xfrm>
            <a:off x="2898720" y="2708280"/>
            <a:ext cx="454320" cy="720720"/>
            <a:chOff x="2898720" y="2708280"/>
            <a:chExt cx="454320" cy="720720"/>
          </a:xfrm>
        </p:grpSpPr>
        <p:sp>
          <p:nvSpPr>
            <p:cNvPr id="373"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5"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79"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0"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3"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4"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7"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8"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89"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0"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7"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98"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4" name="" descr=""/>
          <p:cNvPicPr/>
          <p:nvPr/>
        </p:nvPicPr>
        <p:blipFill>
          <a:blip r:embed="rId2"/>
          <a:stretch/>
        </p:blipFill>
        <p:spPr>
          <a:xfrm rot="19483800">
            <a:off x="4013280" y="1294920"/>
            <a:ext cx="914400" cy="914400"/>
          </a:xfrm>
          <a:prstGeom prst="rect">
            <a:avLst/>
          </a:prstGeom>
          <a:ln w="0">
            <a:noFill/>
          </a:ln>
        </p:spPr>
      </p:pic>
      <p:sp>
        <p:nvSpPr>
          <p:cNvPr id="405"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07"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08"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0"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0"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2"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4" name="" descr=""/>
          <p:cNvPicPr/>
          <p:nvPr/>
        </p:nvPicPr>
        <p:blipFill>
          <a:blip r:embed="rId3"/>
          <a:stretch/>
        </p:blipFill>
        <p:spPr>
          <a:xfrm>
            <a:off x="3200400" y="4356000"/>
            <a:ext cx="436680" cy="432000"/>
          </a:xfrm>
          <a:prstGeom prst="rect">
            <a:avLst/>
          </a:prstGeom>
          <a:ln w="0">
            <a:noFill/>
          </a:ln>
        </p:spPr>
      </p:pic>
      <p:sp>
        <p:nvSpPr>
          <p:cNvPr id="425"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28"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2"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marL="322200" indent="-322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5"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6"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3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is made up of a negatively charged oxygen atom and two positively charged hydrogen atoms.  The atoms are held together by strong hydrogen bonds.</a:t>
            </a:r>
            <a:endParaRPr b="0" lang="en-US" sz="24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4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4000"/>
          </a:bodyPr>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ould cost a lot of energy for two water molecules to break their strong bonds with each oth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fore, water bonds with itself and not with oil, and they do not mix.</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basis of the chemical principle that “like dissolves like.”</a:t>
            </a:r>
            <a:endParaRPr b="0" lang="en-US" sz="24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marL="312120" indent="-3121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Texas A&amp;M Veterinary Medicine</cp:lastModifiedBy>
  <dcterms:modified xsi:type="dcterms:W3CDTF">2006-05-02T19:12:14Z</dcterms:modified>
  <cp:revision>64</cp:revision>
  <dc:subject/>
  <dc:title>Slide 1</dc:title>
</cp:coreProperties>
</file>