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3A85-CDED-4ACD-BE3A-5F7B43CC3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59E31-5C40-42CA-BC22-C768CFF9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65E37-046E-498C-883A-D34218409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2219-4C5B-4578-88E4-47D3672CF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31A1B-F4C8-4679-81E9-9CEF9B81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71EA9-27F1-41A6-A582-0A683EE7C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DA369-A129-4110-B4E1-821060D4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8078B-900D-41B2-932D-E0C8B5AB9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2F576-8627-4D57-9988-810174F0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E139-0C8F-4C61-92B5-49AFE5109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4FDC6-0EE0-4A12-99C2-AFC152CFD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BF83-6497-4B42-9AF2-2CA03B6EF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8F79-8DA7-4C82-ACA0-023373C8B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C4D9-39F0-44B7-83CC-585F32C04B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marL="339480" indent="-3394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6-05-02T20:44:32Z</dcterms:modified>
  <cp:revision>19</cp:revision>
  <dc:subject/>
  <dc:title>Air Pollution Supplement</dc:title>
</cp:coreProperties>
</file>