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B9EC-DD99-4AAB-BA21-10BE06870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ystal can also act an a transducer to convert mechanical energy into electrical energy. Molecules of the crystal align themselves with the direction of a mechanical force, forming an electric dipole. If the crystal is connected to a conductive metal, a current will run through th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insulators like plastic, cloth, and dry air do not like to lose electrons. But if they do give up electrons, they will have a positive charge. If a conductor such as metal is present, then the negative charges (electrons) move toward the positive charges, forming electrical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2 (c)(12) The student identifies the factors that influence the evolution of manufacturing, construction, communication, energy, power, transportation, and bio-related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uman hair is 70 microns in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 (c)(5) The student describes quality and how it is measured in computer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rs use film resistors that have carbon or metal film deposited on a thin ceramic r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istive coating, such as epoxy or silicone, is then spiraled onto the rod.  The amount of spiraling applied depends on the amount of resistanc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s are labeled with colors that represent properties of the resistor. For more information, visit http://www.doctronics.co.uk/resistor.htm#col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94B7-F149-41DE-BC71-07EE4D6D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38AB-CE75-42E6-B763-57481D9F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FBDC-586C-4C3D-B921-F7E328EA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E336-136E-4134-8AF2-6C15F06E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CA1-EF1C-4869-96A7-CDEE59A6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58F2-8AFB-497E-8634-033B1494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9EA6-68B0-4EE6-B876-A238A239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3E4-7C20-4216-8245-B726D0CA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0776-657F-4E9A-B7C4-C5FCAE60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280-2631-47E4-B392-6877F749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D52D-96A1-48FF-B0A2-1E590896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A08-2EBE-4514-B72A-497B9041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8508-3CF3-4394-83EF-531CD8D43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sciencemadesimple.com/stat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mputer.howstuffworks.com/inkjet-printer3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We Print Today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 Comp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2:  Piezoelectric or “vibrating cryst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stals are at the back of the ink reservoir of each nozz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rystal receives an electrical charge, it will vibrate, pushing a small amount of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889280" y="3097080"/>
            <a:ext cx="2933640" cy="3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ezoelectri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6320" y="1828800"/>
            <a:ext cx="575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ezoelectric refers to a type of crystal that becomes electrically charged when it is acted on by a mechanical fo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posite occurs when a charge is put into the crystal. The crystal converts the electrical energy into mechanical energy and vib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600" y="363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es piezoelectric me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82" b="-23"/>
          <a:stretch/>
        </p:blipFill>
        <p:spPr>
          <a:xfrm>
            <a:off x="709560" y="1963800"/>
            <a:ext cx="2103480" cy="217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14520" y="42480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rtz is an example of piezoelectric crys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30440" y="18511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aser Printers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 printers utilize the principle of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in component of laser printers is a revolving drum made of electrically charged, light-sensitive mate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27000" y="2293920"/>
            <a:ext cx="33958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atic electric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3600" y="1557000"/>
            <a:ext cx="3754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electricity is when a charge, positive or negative, builds up on an isolated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with opposite electric charges will pull towards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79880" y="1616040"/>
            <a:ext cx="3505320" cy="2120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static electricit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75360" y="3932280"/>
            <a:ext cx="29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to learn how to create static electr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has a positive electric ch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drum revolves, the printer shines a laser across the surface to reverse the charge wherever material is to be pri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is then coated with a positive toner, a fine powder that sticks only to the negative parts of the dr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m, continu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drum is coated with a positive toner, a piece of paper is given a negative char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then rolls over the paper. The charge of the paper is stronger than the drum, so the paper pulls the toner from the drum to it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S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per is then passed through the fuser, a pair of heated roll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ttracting the toner, the paper is heated while the drum is dischar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ted paper causes the toner powder to melt and fuse with the fibers of the paper. The paper is kept from burning by the speed of the rolle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 of Dif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7760" y="16765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            La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2316240"/>
          <a:ext cx="8229600" cy="2768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of pr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sp. for col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Qu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el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Sp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Home Pri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and Laserjet printers are the most common types of printers used with home compu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rinters are only a fraction of the size of commercial presses and work very differe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nkjet and laserjet technologies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6040" y="2095560"/>
            <a:ext cx="4083120" cy="318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880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jet printers place small droplets of ink onto paper to create an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inters became available in the 1980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smear before it’s d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be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ing is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20055000">
            <a:off x="4866840" y="2312640"/>
            <a:ext cx="4006800" cy="247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8800" y="239220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 droplets of ink are 50-60 microns in diameter. That’s smaller than a human hai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013360" y="1724040"/>
            <a:ext cx="3521160" cy="2766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:                                             This contains nozzles that are used to spray drops of ink of various colors to create a photo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RTRIDGE:                                   These hold the different colored ink in separate cartrid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 STEPPER MOTOR:            This motor moves the print head assembly (print head + ink cartridges) back and forth across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0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253836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T:                   The belt attaches the print head to the print head stepper mo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921200" y="2111400"/>
            <a:ext cx="3352680" cy="335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18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1:  Thermal bubble or “Bubble Jet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heat, allowing the ink to vaporiz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reates a bubble that pushes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905120" y="3164040"/>
            <a:ext cx="2666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sisto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6600" y="5484960"/>
            <a:ext cx="7605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ee an animation of Bubble Jet technolog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Resist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57280" y="1600200"/>
            <a:ext cx="439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sistor is an electrical component designed to limit the flow of current in an electric circuit.  This keeps high currents from damaging electronics or ligh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ors limit the flow by converting the current’s energy into h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72120" y="1676520"/>
            <a:ext cx="3362400" cy="1823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Texas A&amp;M Veterinary Medicine</cp:lastModifiedBy>
  <dcterms:modified xsi:type="dcterms:W3CDTF">2006-05-02T19:16:01Z</dcterms:modified>
  <cp:revision>61</cp:revision>
  <dc:subject/>
  <dc:title>Slide 1</dc:title>
</cp:coreProperties>
</file>