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0B0E-1910-4BBE-BAE1-D597E43F4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22478-4C7A-4C23-9C5C-3CBE20DC5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A9AE8-A4BC-4957-9C0B-4180E23F9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7A738-6F3B-447A-9345-96E2A2D0B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2B156-2353-4D4F-860B-AE79C6A36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7668-8C06-426E-BB2E-EFACA7C1B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0F64B-1266-41D4-A26F-AE1F56C22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E19F-66CA-4B36-A8AE-E0595F76C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53012-B4FA-4B2E-A5CE-A1E1A97F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74B99-D098-4E2E-B92D-A8CE99D3A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6B6E0-A293-4A15-96B6-6110A3C0E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CD888-4100-4A4E-8C9F-C3C9923DD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C9B4-2097-4625-916F-45026C882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0E16-B986-4710-B2F8-76C0F30D6C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  </a:t>
            </a:r>
            <a:br>
              <a:rPr sz="2800"/>
            </a:b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Ljlab</cp:lastModifiedBy>
  <dcterms:modified xsi:type="dcterms:W3CDTF">2006-11-29T15:51:31Z</dcterms:modified>
  <cp:revision>9</cp:revision>
  <dc:subject/>
  <dc:title>Math Supplement</dc:title>
</cp:coreProperties>
</file>