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A477-5219-4609-B616-1BDF3134F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DB18A-13B8-45C6-B270-7BC283611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20C97-8601-4F5E-8AA8-4AB49A51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49464-A3EE-45BE-9F49-DCBBBB28F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5A125-09D5-4025-96F3-47104CAE0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8F1CA-C0F0-4A30-A9B6-652AED39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82874-54C0-4E4A-BFDB-B053DE9A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872F7-E328-4EDB-95EE-709B10E3F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722D2-E1E7-4C39-98B8-69F9D7A0E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8ED94-57D2-459A-BFC9-16720389C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0227-564F-4E7D-B605-450D1B89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772F-4312-479A-90A7-77725112C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9522-E229-450D-9BB4-78A7E405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0983-C450-401E-9CE7-0767B86CA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su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4114800"/>
            <a:ext cx="8458200" cy="2286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7000"/>
          </a:bodyPr>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6-05-02T19:09:26Z</dcterms:modified>
  <cp:revision>87</cp:revision>
  <dc:subject/>
  <dc:title>Slide 1</dc:title>
</cp:coreProperties>
</file>