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250D-DA09-4C19-BD69-7BC97850C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D65-0819-4CA5-BF81-CA0D117E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71B-BE46-4FA8-B48D-F678FCE7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6CE-D3D6-4D6C-B9EF-318DA9D7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EB5-D0F0-41BB-B27D-6523093A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03A-EFB0-4C45-8278-ADA1CCD2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52E-F003-450D-A921-2A8A8600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DA9-BAF4-4516-AF6C-6718594C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572-389B-4DB0-BA52-43B2D150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4DF-8257-4548-9473-6C5D4A20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25A-1FC7-4C15-94C2-A56BAEB5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004-37BB-45EB-BFF4-74DE4FC1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4C0-6D54-49A6-9340-44AE5461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C322-0039-4818-A7F6-5040E4219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buff.com/library/reftype.html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here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03200" indent="-403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      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4T23:48:13Z</dcterms:modified>
  <cp:revision>60</cp:revision>
  <dc:subject/>
  <dc:title>Slide 1</dc:title>
</cp:coreProperties>
</file>