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5EE7-7D37-4129-BCE2-DAE0D5529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6D23D-106B-4A04-8DDA-20A5AA2AE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1976-35AE-48BF-9BB9-197C5C45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51006-68CC-44CF-A9DD-8C4343C9E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45A0A-F0C3-41A4-BB96-1453B0EC3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4D087-ACC9-451C-B020-F6DDB87D5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6074-5466-422A-A885-BB61EFEBD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6C13C-28CE-47E4-A70F-CB875E7A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D38B-C163-4410-94FF-956F7EEF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AB29-6229-4793-B456-5F4051C6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E649-24D4-4077-9730-53E83F58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C8C0-1A31-444A-BBEB-263A0F1A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7D32-3FF0-4F00-AA3F-9A99F303E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D1BC-3DC1-46AE-94E0-3A3B79813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6-05-02T20:44:32Z</dcterms:modified>
  <cp:revision>19</cp:revision>
  <dc:subject/>
  <dc:title>Air Pollution Supplement</dc:title>
</cp:coreProperties>
</file>