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77F0-0974-4C74-8115-ECEA854F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0A6-D83A-4749-9074-4FF01915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1DD-E084-43F2-81B8-F4F31A2D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A45-8412-4FC0-85B4-706A6337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898-1351-4350-9975-2690297A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527-D783-4D42-81CE-6023B4BC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D37-0C66-49D3-AC6D-E8E043C9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237-F575-4F94-94AD-6DA791B0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30F-A806-4C5A-8744-45AFA16E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81F-070A-42D8-A643-AB698A8A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B17-3453-435E-899D-994190B3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866-51BD-4AD1-87A5-E263B2E3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E1F-9D09-4105-B7EE-B455F937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8E57-A380-42A5-8C0D-0BA740ECA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2" b="-23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                                           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                                 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          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0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6-05-02T19:16:01Z</dcterms:modified>
  <cp:revision>61</cp:revision>
  <dc:subject/>
  <dc:title>Slide 1</dc:title>
</cp:coreProperties>
</file>