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wmf" ContentType="image/x-wmf"/>
  <Override PartName="/ppt/media/image22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31.png" ContentType="image/png"/>
  <Override PartName="/ppt/media/image43.png" ContentType="image/pn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3C44-42C7-47B2-8A05-F8C36F3A9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267-E669-4AD3-9954-EA64FE7E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566-4FB6-4556-9BF0-6EC7C0B4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2D2-2B2C-4DC4-BF2A-A30CCA29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067-CEBD-4574-8B16-572F6D19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FF7-0ACA-4319-BE03-94EE3073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EEC-6246-4134-90B6-3E6E49BC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51A-AA17-4856-8274-D9DBC2B9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A32-52C2-4FD8-8DAE-D972B3F4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FBE-FD2D-486B-88FB-E13DF220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DDA-7D8F-4EE1-941D-F37AFA7F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A42-0AC5-45DE-B34F-2451BC7A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03B-73CE-4544-960D-D323400A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3AEE-70AC-46A2-8353-D98FBD6AA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6-05-02T20:10:12Z</dcterms:modified>
  <cp:revision>68</cp:revision>
  <dc:subject/>
  <dc:title>Slide 1</dc:title>
</cp:coreProperties>
</file>