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9.jpeg" ContentType="image/jpeg"/>
  <Override PartName="/ppt/media/image10.jpeg" ContentType="image/jpeg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F13BE-A569-476B-816E-456858FF9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12 inches in a foot and the waste would be located 1,000 feet underground.  Therefore, rainwater would take 24,000 years to reach the depositor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bout 24,000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0m is about 1,000 ft, which is why this and the previous math problem are so simil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DEDC-012C-4705-89B8-C5625B9BA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4961-0935-4916-B2C3-41ADBBD92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B680-7A57-4137-BD19-C224D8575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4A0E-6CFA-43E8-A033-9DE162643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153F-3CB2-49EB-B11C-BC6A528FF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02C0-5EFC-429E-8993-CA8A44E2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5B82-C1A6-41C9-AFA7-5997F7F88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5414-3E1C-45FE-B517-E630F8C0D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98DC-4584-4C90-81DF-6081F2ADC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2F1A-BE07-42BB-91D3-E2F9B5B1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DA29-E52F-4645-B4C7-50849083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ABED-157E-445B-8397-3096D521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27556-691E-485A-9001-B4839EDB0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79400" y="1020240"/>
            <a:ext cx="790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Yucca Mountain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ational Storage Sit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Nuclear Was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348160" y="2841480"/>
            <a:ext cx="2857680" cy="3810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776160" y="3106800"/>
            <a:ext cx="403380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stricted Acc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ir Force strictly controls the airways around Yucca Mount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also no important natural resources in the are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us, the waste could be kept safe from terrorists or sabot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435640" y="1692360"/>
            <a:ext cx="2968560" cy="41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king It All SAFE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11480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ountain itself adds a lot of protection, but federal requirements are also in place to keep the radioactive waste in its pla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tective barriers include emplacement tunnels, drip shields, waste packages, and tunnel inver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09480" y="1905120"/>
            <a:ext cx="31845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mplacement Tunne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4217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than fifty steel enforced tunnels will be dug one thousand feet below the surfa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tunnels will be over two thousand feet long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rcRect l="0" t="0" r="8" b="0"/>
          <a:stretch/>
        </p:blipFill>
        <p:spPr>
          <a:xfrm>
            <a:off x="4745160" y="1828800"/>
            <a:ext cx="4043160" cy="28288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281560" y="459576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Source: Yucca Mountain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178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ngineered Desig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37760" y="1579680"/>
            <a:ext cx="37083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adioactive waste will be held in waste packages (tubes) that are made of thick, corrosive-resistant me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ip shields will protect the container from fallen rocks or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286160" y="1701720"/>
            <a:ext cx="4419720" cy="28479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178600" y="461016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Source: Yucca Mountain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178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ngineered Desig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37760" y="1591920"/>
            <a:ext cx="3667320" cy="42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ts support the waste packages and are made of volcanic roc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volcanic rock would slow the movement of any particles if they leaked from the contain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286160" y="1701720"/>
            <a:ext cx="4419720" cy="28479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178600" y="461016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Source: Yucca Mountain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itic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ry Reid, a senator from Nevada, is trying to cancel the Yucca Mountain proje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other storage facility has been plann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nwhile, waste piles up around the country in poorly secured storage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20680" y="108000"/>
            <a:ext cx="8737560" cy="66070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44640" y="1180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is Yucca Mount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est Optio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-82440" y="2519280"/>
            <a:ext cx="309852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rcRect l="0" t="0" r="-32" b="0"/>
          <a:stretch/>
        </p:blipFill>
        <p:spPr>
          <a:xfrm>
            <a:off x="1346040" y="1343160"/>
            <a:ext cx="6270840" cy="484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81640" y="4759200"/>
            <a:ext cx="1301760" cy="54000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66920" y="6237360"/>
            <a:ext cx="626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Source: http://www.yuccamountain.org/mapnv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moten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ucca Mountain is located on the edge of an old nuclear weapons test si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urrounding area has been set aside for wildlife refuge and weapons operations. There are over 5,470 square miles of uninhabited land surrounding the mount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nearest population is 15 miles away and the entire site is surrounded by a U.S. Air Force ba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ble Ge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478040" y="1600200"/>
            <a:ext cx="4243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ucca Mountain is composed of volcanic rock that rarely shif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fact, the area has changed very little over the last million yea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the waste will be located 1,000 ft below the surface and 1,000 ft above a water table, earthquakes will not impact the deposito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Photo of precariously balanced rocks. These untoppled rock formations near Yucca Mountain suggest little ground movement in the area for many millennia."/>
          <p:cNvPicPr/>
          <p:nvPr/>
        </p:nvPicPr>
        <p:blipFill>
          <a:blip r:embed="rId2"/>
          <a:stretch/>
        </p:blipFill>
        <p:spPr>
          <a:xfrm>
            <a:off x="519120" y="1633680"/>
            <a:ext cx="3767040" cy="4095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220040" y="5734080"/>
            <a:ext cx="249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Source: Yucca Mountain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ry Clim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4600" y="1366560"/>
            <a:ext cx="50720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ce water is the primary way that radioactive waste could enter the environment, a dry climate is critic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ucca Mountain is located in a desert and receives less than 8 inches of rain a ye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of the water runs off the mountain. Only 5% of the rain would reach depository depth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57760" y="614196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Source: Yucca Mountain Project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491080" y="1492200"/>
            <a:ext cx="323208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ry Clim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average, water only moves ½ inch per year.  How long will it take for rain water to reach the depository 1,000 feet dow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6531120" y="3083040"/>
            <a:ext cx="367920" cy="3279600"/>
            <a:chOff x="6531120" y="3083040"/>
            <a:chExt cx="367920" cy="3279600"/>
          </a:xfrm>
        </p:grpSpPr>
        <p:sp>
          <p:nvSpPr>
            <p:cNvPr id="71" name=""/>
            <p:cNvSpPr/>
            <p:nvPr/>
          </p:nvSpPr>
          <p:spPr>
            <a:xfrm flipV="1">
              <a:off x="6712200" y="3093840"/>
              <a:ext cx="0" cy="326196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540480" y="3083040"/>
              <a:ext cx="358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531120" y="6362640"/>
              <a:ext cx="358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6568920" y="3576600"/>
            <a:ext cx="2297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0 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12,000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1033920" y="2984400"/>
            <a:ext cx="4555080" cy="1106640"/>
            <a:chOff x="1033920" y="2984400"/>
            <a:chExt cx="4555080" cy="1106640"/>
          </a:xfrm>
        </p:grpSpPr>
        <p:sp>
          <p:nvSpPr>
            <p:cNvPr id="76" name=""/>
            <p:cNvSpPr/>
            <p:nvPr/>
          </p:nvSpPr>
          <p:spPr>
            <a:xfrm>
              <a:off x="1033920" y="3381120"/>
              <a:ext cx="455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000 ft x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12,000 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"/>
            <p:cNvGrpSpPr/>
            <p:nvPr/>
          </p:nvGrpSpPr>
          <p:grpSpPr>
            <a:xfrm>
              <a:off x="2046960" y="2984400"/>
              <a:ext cx="2124360" cy="1106640"/>
              <a:chOff x="2046960" y="2984400"/>
              <a:chExt cx="2124360" cy="1106640"/>
            </a:xfrm>
          </p:grpSpPr>
          <p:sp>
            <p:nvSpPr>
              <p:cNvPr id="78" name=""/>
              <p:cNvSpPr/>
              <p:nvPr/>
            </p:nvSpPr>
            <p:spPr>
              <a:xfrm>
                <a:off x="2046960" y="2984400"/>
                <a:ext cx="212436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spcBef>
                    <a:spcPts val="16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600" spc="-1" strike="noStrike">
                    <a:solidFill>
                      <a:srgbClr val="ffffff"/>
                    </a:solidFill>
                    <a:latin typeface="Arial"/>
                  </a:rPr>
                  <a:t>(   )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328480" y="3189240"/>
                <a:ext cx="1526760" cy="90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12 i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1 f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727360" y="3628800"/>
                <a:ext cx="757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" name=""/>
          <p:cNvSpPr/>
          <p:nvPr/>
        </p:nvSpPr>
        <p:spPr>
          <a:xfrm rot="19380600">
            <a:off x="6094080" y="2898360"/>
            <a:ext cx="345960" cy="352440"/>
          </a:xfrm>
          <a:custGeom>
            <a:avLst/>
            <a:gdLst/>
            <a:ahLst/>
            <a:rect l="l" t="t" r="r" b="b"/>
            <a:pathLst>
              <a:path w="82" h="113">
                <a:moveTo>
                  <a:pt x="77" y="92"/>
                </a:moveTo>
                <a:lnTo>
                  <a:pt x="79" y="86"/>
                </a:lnTo>
                <a:lnTo>
                  <a:pt x="82" y="80"/>
                </a:lnTo>
                <a:lnTo>
                  <a:pt x="82" y="73"/>
                </a:lnTo>
                <a:lnTo>
                  <a:pt x="82" y="67"/>
                </a:lnTo>
                <a:lnTo>
                  <a:pt x="82" y="0"/>
                </a:lnTo>
                <a:lnTo>
                  <a:pt x="23" y="35"/>
                </a:lnTo>
                <a:lnTo>
                  <a:pt x="18" y="39"/>
                </a:lnTo>
                <a:lnTo>
                  <a:pt x="14" y="43"/>
                </a:lnTo>
                <a:lnTo>
                  <a:pt x="9" y="47"/>
                </a:lnTo>
                <a:lnTo>
                  <a:pt x="5" y="53"/>
                </a:lnTo>
                <a:lnTo>
                  <a:pt x="0" y="69"/>
                </a:lnTo>
                <a:lnTo>
                  <a:pt x="2" y="85"/>
                </a:lnTo>
                <a:lnTo>
                  <a:pt x="9" y="98"/>
                </a:lnTo>
                <a:lnTo>
                  <a:pt x="22" y="108"/>
                </a:lnTo>
                <a:lnTo>
                  <a:pt x="29" y="112"/>
                </a:lnTo>
                <a:lnTo>
                  <a:pt x="37" y="113"/>
                </a:lnTo>
                <a:lnTo>
                  <a:pt x="45" y="113"/>
                </a:lnTo>
                <a:lnTo>
                  <a:pt x="53" y="112"/>
                </a:lnTo>
                <a:lnTo>
                  <a:pt x="60" y="108"/>
                </a:lnTo>
                <a:lnTo>
                  <a:pt x="66" y="105"/>
                </a:lnTo>
                <a:lnTo>
                  <a:pt x="72" y="99"/>
                </a:lnTo>
                <a:lnTo>
                  <a:pt x="77" y="92"/>
                </a:lnTo>
                <a:close/>
              </a:path>
            </a:pathLst>
          </a:custGeom>
          <a:solidFill>
            <a:srgbClr val="003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187280" y="4664160"/>
            <a:ext cx="4353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,000 in / (0.5 in/ year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4,000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.47595 L 3.33333E-006 -4.84736E-006 E">
                                      <p:cBhvr>
                                        <p:cTn id="89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ep Water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15440" y="1541160"/>
            <a:ext cx="4496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radiation did leak into the water table, it would flow to the Death Valley are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ly populated areas, such as Las Vegas, would not be affec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The water table at Yucca Mountain is about 2,000 feet below the mountain's surface."/>
          <p:cNvPicPr/>
          <p:nvPr/>
        </p:nvPicPr>
        <p:blipFill>
          <a:blip r:embed="rId2"/>
          <a:stretch/>
        </p:blipFill>
        <p:spPr>
          <a:xfrm>
            <a:off x="5334120" y="1614600"/>
            <a:ext cx="3105000" cy="42670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257800" y="5910120"/>
            <a:ext cx="34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Source: Yucca Mountain Project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ep Water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rain water reached the depository, how long would it take to reach the water tabl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6531120" y="3083040"/>
            <a:ext cx="367920" cy="3279600"/>
            <a:chOff x="6531120" y="3083040"/>
            <a:chExt cx="367920" cy="3279600"/>
          </a:xfrm>
        </p:grpSpPr>
        <p:sp>
          <p:nvSpPr>
            <p:cNvPr id="90" name=""/>
            <p:cNvSpPr/>
            <p:nvPr/>
          </p:nvSpPr>
          <p:spPr>
            <a:xfrm flipV="1">
              <a:off x="6712200" y="3093840"/>
              <a:ext cx="0" cy="326196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540480" y="3083040"/>
              <a:ext cx="358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31120" y="6362640"/>
              <a:ext cx="358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6929280" y="3822840"/>
            <a:ext cx="187992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984 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11,812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132920" y="2746440"/>
            <a:ext cx="5204520" cy="1195200"/>
            <a:chOff x="1132920" y="2746440"/>
            <a:chExt cx="5204520" cy="1195200"/>
          </a:xfrm>
        </p:grpSpPr>
        <p:sp>
          <p:nvSpPr>
            <p:cNvPr id="95" name=""/>
            <p:cNvSpPr/>
            <p:nvPr/>
          </p:nvSpPr>
          <p:spPr>
            <a:xfrm>
              <a:off x="2263680" y="2746440"/>
              <a:ext cx="20098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Arial"/>
                </a:rPr>
                <a:t>(     )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327560" y="2768760"/>
              <a:ext cx="20098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Arial"/>
                </a:rPr>
                <a:t>(   )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132920" y="3200400"/>
              <a:ext cx="403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00 m x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x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544840" y="2925720"/>
              <a:ext cx="12999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.281 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 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52920" y="2914560"/>
              <a:ext cx="9828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2 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 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612880" y="3429000"/>
              <a:ext cx="1140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643280" y="3429000"/>
              <a:ext cx="835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535120" y="4051440"/>
            <a:ext cx="24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11,812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97320" y="4873680"/>
            <a:ext cx="43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,812 in / (0.5 in / year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81680" y="5378400"/>
            <a:ext cx="302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= 23,623 yea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9380600">
            <a:off x="6094080" y="2898360"/>
            <a:ext cx="345960" cy="352440"/>
          </a:xfrm>
          <a:custGeom>
            <a:avLst/>
            <a:gdLst/>
            <a:ahLst/>
            <a:rect l="l" t="t" r="r" b="b"/>
            <a:pathLst>
              <a:path w="82" h="113">
                <a:moveTo>
                  <a:pt x="77" y="92"/>
                </a:moveTo>
                <a:lnTo>
                  <a:pt x="79" y="86"/>
                </a:lnTo>
                <a:lnTo>
                  <a:pt x="82" y="80"/>
                </a:lnTo>
                <a:lnTo>
                  <a:pt x="82" y="73"/>
                </a:lnTo>
                <a:lnTo>
                  <a:pt x="82" y="67"/>
                </a:lnTo>
                <a:lnTo>
                  <a:pt x="82" y="0"/>
                </a:lnTo>
                <a:lnTo>
                  <a:pt x="23" y="35"/>
                </a:lnTo>
                <a:lnTo>
                  <a:pt x="18" y="39"/>
                </a:lnTo>
                <a:lnTo>
                  <a:pt x="14" y="43"/>
                </a:lnTo>
                <a:lnTo>
                  <a:pt x="9" y="47"/>
                </a:lnTo>
                <a:lnTo>
                  <a:pt x="5" y="53"/>
                </a:lnTo>
                <a:lnTo>
                  <a:pt x="0" y="69"/>
                </a:lnTo>
                <a:lnTo>
                  <a:pt x="2" y="85"/>
                </a:lnTo>
                <a:lnTo>
                  <a:pt x="9" y="98"/>
                </a:lnTo>
                <a:lnTo>
                  <a:pt x="22" y="108"/>
                </a:lnTo>
                <a:lnTo>
                  <a:pt x="29" y="112"/>
                </a:lnTo>
                <a:lnTo>
                  <a:pt x="37" y="113"/>
                </a:lnTo>
                <a:lnTo>
                  <a:pt x="45" y="113"/>
                </a:lnTo>
                <a:lnTo>
                  <a:pt x="53" y="112"/>
                </a:lnTo>
                <a:lnTo>
                  <a:pt x="60" y="108"/>
                </a:lnTo>
                <a:lnTo>
                  <a:pt x="66" y="105"/>
                </a:lnTo>
                <a:lnTo>
                  <a:pt x="72" y="99"/>
                </a:lnTo>
                <a:lnTo>
                  <a:pt x="77" y="92"/>
                </a:lnTo>
                <a:close/>
              </a:path>
            </a:pathLst>
          </a:custGeom>
          <a:solidFill>
            <a:srgbClr val="003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.47595 L 3.33333E-006 -4.84736E-006 E">
                                      <p:cBhvr>
                                        <p:cTn id="149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9T18:57:01Z</dcterms:created>
  <dc:creator>Texas A&amp;M Veterinary Medicine</dc:creator>
  <dc:description/>
  <dc:language>en-US</dc:language>
  <cp:lastModifiedBy>ljlab</cp:lastModifiedBy>
  <dcterms:modified xsi:type="dcterms:W3CDTF">2007-06-26T15:46:18Z</dcterms:modified>
  <cp:revision>29</cp:revision>
  <dc:subject/>
  <dc:title>Hazmat Teams</dc:title>
</cp:coreProperties>
</file>