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69CA-9547-4E49-9ADC-70D2E349E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C7FF-5BD4-4F86-809E-B9D75A35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C9E-3216-4454-9A5C-2F5BA1AC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602F-F725-4285-9BE3-08E577A5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18A-49E4-4A12-AD0D-379EFAEE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F50-0912-4C11-995F-32EA0E61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0D6-8ADC-4424-BA8A-A2DCB804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BD1-F7C1-4E4A-9082-EA304CD6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79A-4BC9-4286-97D0-7136A1A8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474-3E0E-4941-85E0-CA26EE66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BA25-B752-483B-A778-4B2BC9EE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604E-EFB5-4338-AAC6-1AF10E94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F175-3E17-4CB9-87B5-54EC1B9E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4D2E-6850-4D7D-AA83-477337D1FC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ould you describe the environment of the long, concrete passage way Jace was transported to through the BP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co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c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min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3560" y="5040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90680" y="3486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96800" y="4003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88880" y="4514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’ mood towards Jace went from _____ in the beginning of the story, to _____ at the end of the 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oyed; frien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tful; play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pathetic; arrog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ving; m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93560" y="5078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90680" y="3514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968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88880" y="455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59000" y="2797200"/>
            <a:ext cx="2791080" cy="1257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078440" y="4772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Why was Jace staying with Summer and Travis’ fami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parents kicked him out of the ho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parents died in a plane crash several years a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parents were out of the country on va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Summer had to work on a school assignmen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3560" y="47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90680" y="2933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96800" y="345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8888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What was strange about the afternoon Jace and Travis went hunt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unusually win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ere no squirrels in s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irrel Creek was completely d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ak trees all seemed to be dy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-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35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90680" y="3019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9680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88880" y="40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Why was Travis anxious to get off of the embankment once he felt a storm was com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afraid of being struck by light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dn’t want to slip and fall in the mu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worried about  getting caught trespassing on private proper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dn’t want anyone on the oncoming train to see hi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3560" y="509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90680" y="3095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96800" y="3632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88880" y="4172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oise Travis thought was a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in approaching from the south was actually 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attle h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orn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tru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plo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93560" y="465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90680" y="3105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96800" y="36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88880" y="413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id all of the de-railed train cars have in comm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l were marked with the same number co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l were  marked with a letter code: STN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l were marked with the same fan-shaped symb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l were carrying medical suppl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3560" y="502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90680" y="3105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96800" y="36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88880" y="4143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oes the symbol on the train cars and the debris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ontain live animal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ontain radioactive mate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have been banned by the U.S. gover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imported from Mex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3560" y="4668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90680" y="305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96800" y="360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88880" y="413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oes “listing precariously” over the rails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ning unsteadi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mping foolish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ying skillful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ing quick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3560" y="465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0680" y="3095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96800" y="36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88880" y="41241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Travis’s Grandpa feel responsible for Travis and Jace getting caught in the stor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ent them out for groceries that afternoon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sked them to go fishing in the creek to catch something for di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ent them “hunting” for squirrels to relieve their bored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ccidentally locked them out of the ho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93560" y="544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90680" y="3124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96800" y="36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88880" y="455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1:48:27Z</dcterms:created>
  <dc:creator>Ljlab</dc:creator>
  <dc:description/>
  <dc:language>en-US</dc:language>
  <cp:lastModifiedBy>Texas A&amp;M Veterinary Medicine</cp:lastModifiedBy>
  <dcterms:modified xsi:type="dcterms:W3CDTF">2007-04-10T18:16:30Z</dcterms:modified>
  <cp:revision>26</cp:revision>
  <dc:subject/>
  <dc:title>Investigator’s Challenge Quiz</dc:title>
</cp:coreProperties>
</file>