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sion2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787-3D9D-4B98-8EF0-0F63EF48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083-B14C-458F-8F87-533E58CD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59E-F2BA-42B9-833D-5F920546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B8F-F698-4AD1-A370-C38A15D0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E42-13A3-43C6-B48E-D8790A1B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19D-D941-421C-B204-71672AD3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05D-788C-4F7D-A489-696F98E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265-0A0C-4558-B719-8BB0AA19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111-98D1-4295-9ABA-E5957B7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4C4-3C46-4B55-ACB6-E428EE6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CC8-F07E-4E89-A424-9C5981E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2D4-A513-421A-9753-598970FA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BCB-8A71-4976-B005-BB64BCC97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sion2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26560" y="1539720"/>
            <a:ext cx="4176360" cy="4482360"/>
            <a:chOff x="5326560" y="1539720"/>
            <a:chExt cx="4176360" cy="4482360"/>
          </a:xfrm>
        </p:grpSpPr>
        <p:grpSp>
          <p:nvGrpSpPr>
            <p:cNvPr id="42" name=""/>
            <p:cNvGrpSpPr/>
            <p:nvPr/>
          </p:nvGrpSpPr>
          <p:grpSpPr>
            <a:xfrm>
              <a:off x="5326560" y="1590840"/>
              <a:ext cx="2793960" cy="4431240"/>
              <a:chOff x="5326560" y="1590840"/>
              <a:chExt cx="2793960" cy="44312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5872320" y="1590840"/>
                <a:ext cx="1704960" cy="1704960"/>
                <a:chOff x="5872320" y="1590840"/>
                <a:chExt cx="1704960" cy="170496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5872320" y="1590840"/>
                  <a:ext cx="1704960" cy="170496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934960" y="1650600"/>
                  <a:ext cx="1558440" cy="1597680"/>
                  <a:chOff x="5934960" y="1650600"/>
                  <a:chExt cx="1558440" cy="15976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rot="13552200">
                    <a:off x="6212520" y="1916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3552200">
                    <a:off x="6383880" y="18648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3552200">
                    <a:off x="5985360" y="2173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3552200">
                    <a:off x="6150960" y="2069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3552200">
                    <a:off x="6220440" y="1892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rot="13552200">
                    <a:off x="6816240" y="19443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3552200">
                    <a:off x="5987880" y="2502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3552200">
                    <a:off x="6067080" y="23533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3552200">
                    <a:off x="6249960" y="2250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3552200">
                    <a:off x="6481800" y="1701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3321800">
                    <a:off x="6461280" y="2212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rot="13321800">
                    <a:off x="6138720" y="270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13321800">
                    <a:off x="6205680" y="24818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rot="13321800">
                    <a:off x="6596640" y="1941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rot="13552200">
                    <a:off x="6447240" y="236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3552200">
                    <a:off x="6262560" y="2846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3552200">
                    <a:off x="6327000" y="2614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3552200">
                    <a:off x="6540120" y="2526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3552200">
                    <a:off x="6695280" y="2321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rot="13552200">
                    <a:off x="6444000" y="27482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rot="13552200">
                    <a:off x="6723000" y="25304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3807200">
                    <a:off x="6896880" y="2385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rot="13807200">
                    <a:off x="6615720" y="27936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13807200">
                    <a:off x="6845760" y="2715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13807200">
                    <a:off x="7139880" y="20934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14500200">
                    <a:off x="7189920" y="2245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4500200">
                    <a:off x="6717600" y="29610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14500200">
                    <a:off x="6896880" y="288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4500200">
                    <a:off x="7004520" y="2539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14500200">
                    <a:off x="7205760" y="248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14500200">
                    <a:off x="7056360" y="2759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3552200">
                    <a:off x="6643440" y="2126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rot="13552200">
                    <a:off x="6875280" y="2146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rot="13552200">
                    <a:off x="6356160" y="2043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rot="11200200">
                    <a:off x="6058800" y="21783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11200200">
                    <a:off x="6159240" y="20289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1200200">
                    <a:off x="6045120" y="2521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11200200">
                    <a:off x="6107760" y="2336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rot="11200200">
                    <a:off x="6050520" y="21546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1200200">
                    <a:off x="6708960" y="17355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11200200">
                    <a:off x="6255720" y="2774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11200200">
                    <a:off x="6222240" y="260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1200200">
                    <a:off x="6298560" y="2413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rot="11200200">
                    <a:off x="6203880" y="1825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10969200">
                    <a:off x="6438600" y="2249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0969200">
                    <a:off x="6500160" y="2836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0969200">
                    <a:off x="6410880" y="2621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0969200">
                    <a:off x="6372000" y="19555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1200200">
                    <a:off x="6525000" y="237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1200200">
                    <a:off x="6685200" y="28666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1200200">
                    <a:off x="6589080" y="2646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1200200">
                    <a:off x="6697800" y="2443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1200200">
                    <a:off x="6688080" y="218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1200200">
                    <a:off x="6460920" y="29419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1200200">
                    <a:off x="6763680" y="2677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1200200">
                    <a:off x="7007400" y="2231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1454600">
                    <a:off x="6886800" y="2108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1454600">
                    <a:off x="7193520" y="26031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1454600">
                    <a:off x="7053840" y="2396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2148200">
                    <a:off x="7067880" y="1911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1200200">
                    <a:off x="6526080" y="206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1200200">
                    <a:off x="6883560" y="1756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1200200">
                    <a:off x="6249960" y="2185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4914800">
                    <a:off x="6405120" y="178812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4914800">
                    <a:off x="6583680" y="18061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4914800">
                    <a:off x="6096600" y="1937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4914800">
                    <a:off x="6288840" y="19051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4914800">
                    <a:off x="6423120" y="1768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4914800">
                    <a:off x="6951600" y="2045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4914800">
                    <a:off x="5972760" y="224208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4914800">
                    <a:off x="6103440" y="2134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4914800">
                    <a:off x="6311520" y="2110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4914800">
                    <a:off x="6737040" y="1693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4684400">
                    <a:off x="6521040" y="21567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4684400">
                    <a:off x="6032520" y="2485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4684400">
                    <a:off x="6180480" y="23061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14684400">
                    <a:off x="6749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4914800">
                    <a:off x="6447960" y="2294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4914800">
                    <a:off x="6092640" y="266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4914800">
                    <a:off x="6241680" y="2476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4914800">
                    <a:off x="6471720" y="24775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14914800">
                    <a:off x="6695280" y="234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4914800">
                    <a:off x="6297480" y="2644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4914800">
                    <a:off x="6639480" y="255204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5169800">
                    <a:off x="6856920" y="248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5169800">
                    <a:off x="6440040" y="275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5169800">
                    <a:off x="6681240" y="2769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169800">
                    <a:off x="7193160" y="2310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5862800">
                    <a:off x="7180920" y="2468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5862800">
                    <a:off x="6469200" y="29469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5862800">
                    <a:off x="6663240" y="294804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5862800">
                    <a:off x="6896520" y="26679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5862800">
                    <a:off x="7102800" y="2693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5862800">
                    <a:off x="6858360" y="2890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4914800">
                    <a:off x="6721560" y="21477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4914800">
                    <a:off x="6928200" y="225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4914800">
                    <a:off x="6488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2562800">
                    <a:off x="6162480" y="1970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2562800">
                    <a:off x="6312960" y="18712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2562800">
                    <a:off x="6018840" y="2280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2562800">
                    <a:off x="6147360" y="21340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2562800">
                    <a:off x="6163920" y="1945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2562800">
                    <a:off x="6933960" y="1812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2562800">
                    <a:off x="6114600" y="259632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2562800">
                    <a:off x="6147360" y="2430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2562800">
                    <a:off x="6293520" y="2279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2562800">
                    <a:off x="6432840" y="1700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2331800">
                    <a:off x="6486120" y="2182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2331800">
                    <a:off x="6315840" y="27471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2331800">
                    <a:off x="6315840" y="251424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2331800">
                    <a:off x="6537600" y="188532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2562800">
                    <a:off x="6515640" y="2334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2562800">
                    <a:off x="6474960" y="2847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2562800">
                    <a:off x="6471720" y="26064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2562800">
                    <a:off x="6649200" y="24620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2562800">
                    <a:off x="6739920" y="22212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2562800">
                    <a:off x="6239160" y="282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2562800">
                    <a:off x="6620400" y="2702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2562800">
                    <a:off x="7017480" y="2385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2817200">
                    <a:off x="6953400" y="22258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2817200">
                    <a:off x="7045920" y="2800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2817200">
                    <a:off x="6996600" y="2555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3510800">
                    <a:off x="7195680" y="2114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2562800">
                    <a:off x="6636600" y="20484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2562800">
                    <a:off x="7085880" y="1899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2562800">
                    <a:off x="6336360" y="2050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5326560" y="3228120"/>
                <a:ext cx="2793960" cy="2793960"/>
                <a:chOff x="5326560" y="3228120"/>
                <a:chExt cx="2793960" cy="2793960"/>
              </a:xfrm>
            </p:grpSpPr>
            <p:sp>
              <p:nvSpPr>
                <p:cNvPr id="173" name=""/>
                <p:cNvSpPr/>
                <p:nvPr/>
              </p:nvSpPr>
              <p:spPr>
                <a:xfrm rot="8803200">
                  <a:off x="5714640" y="3616200"/>
                  <a:ext cx="2017800" cy="201744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756000">
                  <a:off x="6325920" y="5202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756000">
                  <a:off x="6040080" y="4970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756000">
                  <a:off x="707184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756000">
                  <a:off x="6953040" y="477000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756000">
                  <a:off x="7199280" y="4052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756000">
                  <a:off x="7288200" y="4306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756000">
                  <a:off x="7262640" y="4552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756000">
                  <a:off x="7211880" y="4790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756000">
                  <a:off x="68529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756000">
                  <a:off x="7030440" y="38840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756000">
                  <a:off x="7121520" y="42728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756000">
                  <a:off x="7037280" y="44589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756000">
                  <a:off x="7113600" y="498744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756000">
                  <a:off x="7076880" y="465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756000">
                  <a:off x="6530760" y="495072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756000">
                  <a:off x="6932520" y="39891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756000">
                  <a:off x="6948360" y="4163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756000">
                  <a:off x="6848280" y="4358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756000">
                  <a:off x="6883200" y="49791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756000">
                  <a:off x="6952680" y="5147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525000">
                  <a:off x="6688080" y="45129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25000">
                  <a:off x="6582960" y="3713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25000">
                  <a:off x="6683040" y="38980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525000">
                  <a:off x="675324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25000">
                  <a:off x="6722640" y="48236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525000">
                  <a:off x="6730920" y="50745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756000">
                  <a:off x="6609960" y="4370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756000">
                  <a:off x="6497280" y="3847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756000">
                  <a:off x="6573240" y="4085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756000">
                  <a:off x="6435720" y="42825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756000">
                  <a:off x="6673680" y="5249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756000">
                  <a:off x="6419520" y="4552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756000">
                  <a:off x="6308640" y="37839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756000">
                  <a:off x="6395760" y="403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756000">
                  <a:off x="6275160" y="43844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756000">
                  <a:off x="6253200" y="504936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10400">
                  <a:off x="6206760" y="46108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10400">
                  <a:off x="6152760" y="3836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010400">
                  <a:off x="6217920" y="409500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010400">
                  <a:off x="6063840" y="42955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010400">
                  <a:off x="6129000" y="48603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04000">
                  <a:off x="5933520" y="47779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704000">
                  <a:off x="6032160" y="40082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704000">
                  <a:off x="5919480" y="4174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704000">
                  <a:off x="6022800" y="45385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704000">
                  <a:off x="5820840" y="46400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704000">
                  <a:off x="5851440" y="43747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756000">
                  <a:off x="6575040" y="4690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756000">
                  <a:off x="6362640" y="48067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756000">
                  <a:off x="6872040" y="4598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756000">
                  <a:off x="6495840" y="51256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003400">
                  <a:off x="6840000" y="5225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003400">
                  <a:off x="6470280" y="52300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003400">
                  <a:off x="7056000" y="43128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003400">
                  <a:off x="6792480" y="37843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003400">
                  <a:off x="7016760" y="39254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0003400">
                  <a:off x="715752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0003400">
                  <a:off x="7267320" y="43491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003400">
                  <a:off x="6332400" y="3773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003400">
                  <a:off x="6552720" y="37620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003400">
                  <a:off x="6871680" y="400644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0003400">
                  <a:off x="6924600" y="42015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003400">
                  <a:off x="7315200" y="456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003400">
                  <a:off x="7075440" y="4327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0003400">
                  <a:off x="6838920" y="4903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003400">
                  <a:off x="6541920" y="39034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003400">
                  <a:off x="6665760" y="40287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003400">
                  <a:off x="6712920" y="42462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003400">
                  <a:off x="7129440" y="47019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003400">
                  <a:off x="7289640" y="4790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9773000">
                  <a:off x="6099120" y="3914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9773000">
                  <a:off x="6497640" y="412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9773000">
                  <a:off x="6908400" y="46843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9773000">
                  <a:off x="7073640" y="4871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003400">
                  <a:off x="6114600" y="407124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003400">
                  <a:off x="6346440" y="4444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003400">
                  <a:off x="7143840" y="5042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003400">
                  <a:off x="5927760" y="4138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003400">
                  <a:off x="6690960" y="51541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258400">
                  <a:off x="5843160" y="4277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258400">
                  <a:off x="6475320" y="50893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0951400">
                  <a:off x="5859000" y="448920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951400">
                  <a:off x="5876640" y="46886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951400">
                  <a:off x="6094440" y="51109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951400">
                  <a:off x="5954400" y="4888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003400">
                  <a:off x="6711840" y="467460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003400">
                  <a:off x="6619680" y="489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003400">
                  <a:off x="6882840" y="44157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003400">
                  <a:off x="6926040" y="50619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003400">
                  <a:off x="6156000" y="4279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58400">
                  <a:off x="6056280" y="4438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58400">
                  <a:off x="6062400" y="46918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951400">
                  <a:off x="6269040" y="5147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951400">
                  <a:off x="6189480" y="49035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003400">
                  <a:off x="628632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258400">
                  <a:off x="6372000" y="48448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003400">
                  <a:off x="7054920" y="450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9773000">
                  <a:off x="6296040" y="39920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03400">
                  <a:off x="6324480" y="420948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9773000">
                  <a:off x="6683400" y="44683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003400">
                  <a:off x="6535800" y="4403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003400">
                  <a:off x="6500520" y="46648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9144000" y="1539720"/>
              <a:ext cx="358920" cy="76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65840" y="2014560"/>
            <a:ext cx="4549680" cy="3414600"/>
            <a:chOff x="4965840" y="2014560"/>
            <a:chExt cx="4549680" cy="3414600"/>
          </a:xfrm>
        </p:grpSpPr>
        <p:sp>
          <p:nvSpPr>
            <p:cNvPr id="278" name=""/>
            <p:cNvSpPr/>
            <p:nvPr/>
          </p:nvSpPr>
          <p:spPr>
            <a:xfrm>
              <a:off x="4965840" y="2014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062680" y="2147760"/>
              <a:ext cx="3181320" cy="3152520"/>
              <a:chOff x="5062680" y="2147760"/>
              <a:chExt cx="3181320" cy="3152520"/>
            </a:xfrm>
          </p:grpSpPr>
          <p:sp>
            <p:nvSpPr>
              <p:cNvPr id="280" name=""/>
              <p:cNvSpPr/>
              <p:nvPr/>
            </p:nvSpPr>
            <p:spPr>
              <a:xfrm>
                <a:off x="5224680" y="227304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10600" y="248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66440" y="3479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740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02720" y="219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5320" y="214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0800" y="214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56640" y="2185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23400" y="230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5668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64760" y="26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17040" y="293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9720" y="320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66440" y="376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09200" y="405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95080" y="4317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3360" y="4546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13840" y="475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66160" y="4908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80680" y="498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4840" y="5003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09000" y="502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42240" y="4965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75480" y="48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688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66160" y="447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21440" y="422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5240" y="3965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62680" y="369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65920" y="3414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45480" y="3139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59600" y="28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2240" y="264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3552200">
                <a:off x="5543280" y="274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3552200">
                <a:off x="5488200" y="459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3552200">
                <a:off x="5316840" y="4368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3552200">
                <a:off x="5213520" y="4097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552200">
                <a:off x="5177160" y="3808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3552200">
                <a:off x="5185080" y="351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3552200">
                <a:off x="5257800" y="3228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3552200">
                <a:off x="5370840" y="296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552200">
                <a:off x="574848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552200">
                <a:off x="59929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552200">
                <a:off x="6264360" y="2282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552200">
                <a:off x="6546960" y="2246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552200">
                <a:off x="6843960" y="225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552200">
                <a:off x="7126560" y="2321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552200">
                <a:off x="7378920" y="247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552200">
                <a:off x="75916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552200">
                <a:off x="5677200" y="2839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3552200">
                <a:off x="5621400" y="4696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3552200">
                <a:off x="5450040" y="446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3552200">
                <a:off x="5346360" y="4194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3552200">
                <a:off x="531036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3552200">
                <a:off x="5318280" y="3607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3552200">
                <a:off x="53913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3552200">
                <a:off x="5504040" y="305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552200">
                <a:off x="5881320" y="264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552200">
                <a:off x="6126480" y="248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552200">
                <a:off x="6397920" y="2378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552200">
                <a:off x="6680520" y="234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552200">
                <a:off x="6976800" y="2347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552200">
                <a:off x="7259760" y="241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3552200">
                <a:off x="7511760" y="2571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3552200">
                <a:off x="7724880" y="2763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3552200">
                <a:off x="5793120" y="30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3552200">
                <a:off x="5462280" y="43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3552200">
                <a:off x="5426280" y="407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3552200">
                <a:off x="5434200" y="37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552200">
                <a:off x="5507280" y="349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552200">
                <a:off x="5619960" y="32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3552200">
                <a:off x="5997600" y="2805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3552200">
                <a:off x="6242400" y="2647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552200">
                <a:off x="651384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3552200">
                <a:off x="6796080" y="2507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3552200">
                <a:off x="709308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3552200">
                <a:off x="7375680" y="25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552200">
                <a:off x="7628040" y="273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552200">
                <a:off x="5923080" y="313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3552200">
                <a:off x="5592960" y="448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3552200">
                <a:off x="5556600" y="4196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3552200">
                <a:off x="5564520" y="390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3552200">
                <a:off x="5636880" y="361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552200">
                <a:off x="5749560" y="335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552200">
                <a:off x="6127920" y="293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552200">
                <a:off x="6372360" y="277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3552200">
                <a:off x="6643800" y="2671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3552200">
                <a:off x="6926400" y="2634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3552200">
                <a:off x="7223400" y="2639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3552200">
                <a:off x="7506000" y="271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3552200">
                <a:off x="6073920" y="3317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552200">
                <a:off x="5707080" y="438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3552200">
                <a:off x="5714640" y="4086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552200">
                <a:off x="5787720" y="3803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3552200">
                <a:off x="5900400" y="353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3552200">
                <a:off x="6278760" y="3119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3552200">
                <a:off x="65232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3552200">
                <a:off x="6794640" y="285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3552200">
                <a:off x="7077240" y="2820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3552200">
                <a:off x="7374240" y="2824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3321800">
                <a:off x="6159240" y="350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3321800">
                <a:off x="5921640" y="4882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3321800">
                <a:off x="5865840" y="4596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3321800">
                <a:off x="5852880" y="42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3321800">
                <a:off x="5906880" y="401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321800">
                <a:off x="6002640" y="373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3321800">
                <a:off x="6351480" y="329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3321800">
                <a:off x="6584760" y="3121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3321800">
                <a:off x="6848280" y="300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3321800">
                <a:off x="7128000" y="294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3321800">
                <a:off x="7424640" y="293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3321800">
                <a:off x="7710480" y="298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3552200">
                <a:off x="63122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552200">
                <a:off x="594540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552200">
                <a:off x="5953320" y="4382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3552200">
                <a:off x="602640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552200">
                <a:off x="6139080" y="383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552200">
                <a:off x="67608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3552200">
                <a:off x="7032960" y="3153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3552200">
                <a:off x="7314840" y="3117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3552200">
                <a:off x="7612200" y="3122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3552200">
                <a:off x="6445440" y="378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3552200">
                <a:off x="6078240" y="485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3552200">
                <a:off x="6086160" y="4554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552200">
                <a:off x="6159600" y="427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552200">
                <a:off x="6271920" y="4005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552200">
                <a:off x="68947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3552200">
                <a:off x="71661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3552200">
                <a:off x="7448760" y="3288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3552200">
                <a:off x="7745760" y="3293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3807200">
                <a:off x="6231240" y="489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3807200">
                <a:off x="6675480" y="38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3807200">
                <a:off x="6261120" y="4598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3807200">
                <a:off x="6354720" y="432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3807200">
                <a:off x="6486840" y="4064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3807200">
                <a:off x="6894360" y="3676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3807200">
                <a:off x="7149960" y="353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3807200">
                <a:off x="7429320" y="34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3807200">
                <a:off x="7713720" y="3437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4500200">
                <a:off x="7024680" y="386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4500200">
                <a:off x="6383160" y="479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500200">
                <a:off x="6470640" y="4512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500200">
                <a:off x="6618600" y="42584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500200">
                <a:off x="6797520" y="40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4500200">
                <a:off x="7275600" y="373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4500200">
                <a:off x="7554960" y="3648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4500200">
                <a:off x="7844040" y="362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4500200">
                <a:off x="7140600" y="406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4500200">
                <a:off x="6586560" y="4706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4500200">
                <a:off x="6734520" y="4452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500200">
                <a:off x="6913440" y="4227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4500200">
                <a:off x="7391160" y="392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4500200">
                <a:off x="7670880" y="384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4500200">
                <a:off x="7294320" y="419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4500200">
                <a:off x="6740280" y="4841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4500200">
                <a:off x="6888240" y="4587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500200">
                <a:off x="7067520" y="436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500200">
                <a:off x="7545240" y="4063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4500200">
                <a:off x="7824600" y="3978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4820600">
                <a:off x="7607160" y="41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4820600">
                <a:off x="6994440" y="478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4820600">
                <a:off x="7165800" y="4542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4820600">
                <a:off x="7365960" y="4334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769800">
                <a:off x="7286400" y="4644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5769800">
                <a:off x="7516800" y="44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3552200">
                <a:off x="6516360" y="3416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3552200">
                <a:off x="6650280" y="35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9144000" y="2303640"/>
              <a:ext cx="371520" cy="760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06560" y="3262320"/>
            <a:ext cx="414360" cy="414360"/>
            <a:chOff x="1006560" y="3262320"/>
            <a:chExt cx="414360" cy="414360"/>
          </a:xfrm>
        </p:grpSpPr>
        <p:sp>
          <p:nvSpPr>
            <p:cNvPr id="450" name=""/>
            <p:cNvSpPr/>
            <p:nvPr/>
          </p:nvSpPr>
          <p:spPr>
            <a:xfrm>
              <a:off x="1006560" y="3262320"/>
              <a:ext cx="414360" cy="41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3300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9240" y="3376440"/>
              <a:ext cx="206280" cy="206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85640" y="2668680"/>
            <a:ext cx="428760" cy="1641240"/>
          </a:xfrm>
          <a:custGeom>
            <a:avLst/>
            <a:gdLst/>
            <a:ahLst/>
            <a:rect l="l" t="t" r="r" b="b"/>
            <a:pathLst>
              <a:path w="246" h="846">
                <a:moveTo>
                  <a:pt x="199" y="0"/>
                </a:moveTo>
                <a:lnTo>
                  <a:pt x="0" y="353"/>
                </a:lnTo>
                <a:lnTo>
                  <a:pt x="246" y="8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95160" y="3787920"/>
            <a:ext cx="1903680" cy="428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99840" y="3022560"/>
            <a:ext cx="149400" cy="85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2760840"/>
            <a:ext cx="2052720" cy="35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3094200"/>
            <a:ext cx="2903760" cy="745920"/>
          </a:xfrm>
          <a:custGeom>
            <a:avLst/>
            <a:gdLst>
              <a:gd name="textAreaLeft" fmla="*/ 453600 w 2903760"/>
              <a:gd name="textAreaRight" fmla="*/ 2710440 w 2903760"/>
              <a:gd name="textAreaTop" fmla="*/ 212040 h 745920"/>
              <a:gd name="textAreaBottom" fmla="*/ 533880 h 745920"/>
            </a:gdLst>
            <a:ahLst/>
            <a:rect l="textAreaLeft" t="textAreaTop" r="textAreaRight" b="textAreaBottom"/>
            <a:pathLst>
              <a:path w="21600" h="21600">
                <a:moveTo>
                  <a:pt x="3375" y="6144"/>
                </a:moveTo>
                <a:lnTo>
                  <a:pt x="18263" y="6144"/>
                </a:lnTo>
                <a:lnTo>
                  <a:pt x="18263" y="0"/>
                </a:lnTo>
                <a:lnTo>
                  <a:pt x="21600" y="10800"/>
                </a:lnTo>
                <a:lnTo>
                  <a:pt x="18263" y="21600"/>
                </a:lnTo>
                <a:lnTo>
                  <a:pt x="18263" y="15456"/>
                </a:lnTo>
                <a:lnTo>
                  <a:pt x="3375" y="15456"/>
                </a:lnTo>
                <a:close/>
              </a:path>
              <a:path w="21600" h="21600">
                <a:moveTo>
                  <a:pt x="0" y="6144"/>
                </a:moveTo>
                <a:lnTo>
                  <a:pt x="675" y="6144"/>
                </a:lnTo>
                <a:lnTo>
                  <a:pt x="675" y="15456"/>
                </a:lnTo>
                <a:lnTo>
                  <a:pt x="0" y="15456"/>
                </a:lnTo>
                <a:close/>
              </a:path>
              <a:path w="21600" h="21600">
                <a:moveTo>
                  <a:pt x="1350" y="6144"/>
                </a:moveTo>
                <a:lnTo>
                  <a:pt x="2700" y="6144"/>
                </a:lnTo>
                <a:lnTo>
                  <a:pt x="2700" y="15456"/>
                </a:lnTo>
                <a:lnTo>
                  <a:pt x="1350" y="1545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43560" y="-642960"/>
            <a:ext cx="7691760" cy="8444520"/>
            <a:chOff x="1843560" y="-642960"/>
            <a:chExt cx="7691760" cy="8444520"/>
          </a:xfrm>
        </p:grpSpPr>
        <p:grpSp>
          <p:nvGrpSpPr>
            <p:cNvPr id="458" name=""/>
            <p:cNvGrpSpPr/>
            <p:nvPr/>
          </p:nvGrpSpPr>
          <p:grpSpPr>
            <a:xfrm>
              <a:off x="1843560" y="-642960"/>
              <a:ext cx="7691760" cy="8444520"/>
              <a:chOff x="1843560" y="-642960"/>
              <a:chExt cx="7691760" cy="8444520"/>
            </a:xfrm>
          </p:grpSpPr>
          <p:sp>
            <p:nvSpPr>
              <p:cNvPr id="459" name=""/>
              <p:cNvSpPr/>
              <p:nvPr/>
            </p:nvSpPr>
            <p:spPr>
              <a:xfrm rot="1080000">
                <a:off x="3132000" y="80640"/>
                <a:ext cx="5624640" cy="59310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0800000">
                <a:off x="3620880" y="926640"/>
                <a:ext cx="5856120" cy="61722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2340200">
                <a:off x="2771280" y="1292040"/>
                <a:ext cx="5624640" cy="55656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144000" y="0"/>
              <a:ext cx="358920" cy="766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59560" y="322920"/>
            <a:ext cx="6543360" cy="6523200"/>
            <a:chOff x="2959560" y="322920"/>
            <a:chExt cx="6543360" cy="6523200"/>
          </a:xfrm>
        </p:grpSpPr>
        <p:grpSp>
          <p:nvGrpSpPr>
            <p:cNvPr id="464" name=""/>
            <p:cNvGrpSpPr/>
            <p:nvPr/>
          </p:nvGrpSpPr>
          <p:grpSpPr>
            <a:xfrm>
              <a:off x="2959560" y="322920"/>
              <a:ext cx="6316920" cy="6523200"/>
              <a:chOff x="2959560" y="322920"/>
              <a:chExt cx="6316920" cy="6523200"/>
            </a:xfrm>
          </p:grpSpPr>
          <p:sp>
            <p:nvSpPr>
              <p:cNvPr id="465" name=""/>
              <p:cNvSpPr/>
              <p:nvPr/>
            </p:nvSpPr>
            <p:spPr>
              <a:xfrm rot="16553400">
                <a:off x="3267720" y="1476360"/>
                <a:ext cx="4703040" cy="4862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673400">
                <a:off x="3839760" y="716760"/>
                <a:ext cx="4896360" cy="5060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6213600">
                <a:off x="4155480" y="1743120"/>
                <a:ext cx="4703040" cy="456336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144000" y="770040"/>
              <a:ext cx="358920" cy="766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0.43073 2.96296E-006 E">
                                      <p:cBhvr>
                                        <p:cTn id="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872320" y="1590840"/>
            <a:ext cx="1704960" cy="1704960"/>
            <a:chOff x="5872320" y="1590840"/>
            <a:chExt cx="1704960" cy="1704960"/>
          </a:xfrm>
        </p:grpSpPr>
        <p:sp>
          <p:nvSpPr>
            <p:cNvPr id="471" name=""/>
            <p:cNvSpPr/>
            <p:nvPr/>
          </p:nvSpPr>
          <p:spPr>
            <a:xfrm>
              <a:off x="5872320" y="1590840"/>
              <a:ext cx="1704960" cy="17049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934960" y="1650600"/>
              <a:ext cx="1558440" cy="1597680"/>
              <a:chOff x="5934960" y="1650600"/>
              <a:chExt cx="1558440" cy="1597680"/>
            </a:xfrm>
          </p:grpSpPr>
          <p:sp>
            <p:nvSpPr>
              <p:cNvPr id="473" name=""/>
              <p:cNvSpPr/>
              <p:nvPr/>
            </p:nvSpPr>
            <p:spPr>
              <a:xfrm rot="13552200">
                <a:off x="6212520" y="1916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552200">
                <a:off x="6383880" y="18648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3552200">
                <a:off x="5985360" y="2173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3552200">
                <a:off x="6150960" y="2069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552200">
                <a:off x="6220440" y="1892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552200">
                <a:off x="6816240" y="19443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3552200">
                <a:off x="5987880" y="2502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3552200">
                <a:off x="6067080" y="23533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3552200">
                <a:off x="6249960" y="2250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3552200">
                <a:off x="6481800" y="1701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3321800">
                <a:off x="6461280" y="2212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3321800">
                <a:off x="6138720" y="270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3321800">
                <a:off x="6205680" y="24818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3321800">
                <a:off x="6596640" y="1941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3552200">
                <a:off x="6447240" y="236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552200">
                <a:off x="6262560" y="2846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552200">
                <a:off x="6327000" y="2614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3552200">
                <a:off x="6540120" y="2526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3552200">
                <a:off x="6695280" y="2321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3552200">
                <a:off x="6444000" y="27482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3552200">
                <a:off x="6723000" y="25304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3807200">
                <a:off x="6896880" y="2385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3807200">
                <a:off x="6615720" y="27936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3807200">
                <a:off x="6845760" y="2715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3807200">
                <a:off x="7139880" y="20934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4500200">
                <a:off x="7189920" y="2245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4500200">
                <a:off x="6717600" y="29610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500200">
                <a:off x="6896880" y="288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500200">
                <a:off x="7004520" y="2539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500200">
                <a:off x="7205760" y="248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500200">
                <a:off x="7056360" y="2759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3552200">
                <a:off x="6643440" y="2126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3552200">
                <a:off x="6875280" y="2146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3552200">
                <a:off x="6356160" y="2043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1200200">
                <a:off x="6058800" y="21783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1200200">
                <a:off x="6159240" y="20289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1200200">
                <a:off x="6045120" y="2521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1200200">
                <a:off x="6107760" y="2336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1200200">
                <a:off x="6050520" y="21546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1200200">
                <a:off x="6708960" y="17355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1200200">
                <a:off x="6255720" y="2774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1200200">
                <a:off x="6222240" y="260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1200200">
                <a:off x="6298560" y="2413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1200200">
                <a:off x="6203880" y="1825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0969200">
                <a:off x="6438600" y="2249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969200">
                <a:off x="6500160" y="2836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969200">
                <a:off x="6410880" y="2621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0969200">
                <a:off x="6372000" y="19555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200200">
                <a:off x="6525000" y="237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1200200">
                <a:off x="6685200" y="28666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1200200">
                <a:off x="6589080" y="2646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200200">
                <a:off x="6697800" y="2443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1200200">
                <a:off x="6688080" y="218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200200">
                <a:off x="6460920" y="29419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200200">
                <a:off x="6763680" y="2677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200200">
                <a:off x="7007400" y="2231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1454600">
                <a:off x="6886800" y="2108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1454600">
                <a:off x="7193520" y="26031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1454600">
                <a:off x="7053840" y="2396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2148200">
                <a:off x="7067880" y="1911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1200200">
                <a:off x="6526080" y="206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200200">
                <a:off x="6883560" y="1756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200200">
                <a:off x="6249960" y="2185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914800">
                <a:off x="6405120" y="178812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914800">
                <a:off x="6583680" y="18061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4914800">
                <a:off x="6096600" y="1937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4914800">
                <a:off x="6288840" y="19051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14800">
                <a:off x="6423120" y="1768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4914800">
                <a:off x="6951600" y="2045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4914800">
                <a:off x="5972760" y="224208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4914800">
                <a:off x="6103440" y="2134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4914800">
                <a:off x="6311520" y="2110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914800">
                <a:off x="6737040" y="1693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684400">
                <a:off x="6521040" y="21567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684400">
                <a:off x="6032520" y="2485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684400">
                <a:off x="6180480" y="23061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4684400">
                <a:off x="6749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914800">
                <a:off x="6447960" y="2294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4914800">
                <a:off x="6092640" y="266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4914800">
                <a:off x="6241680" y="2476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4914800">
                <a:off x="6471720" y="24775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4914800">
                <a:off x="6695280" y="234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4914800">
                <a:off x="6297480" y="2644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4914800">
                <a:off x="6639480" y="255204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5169800">
                <a:off x="6856920" y="248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5169800">
                <a:off x="6440040" y="275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5169800">
                <a:off x="6681240" y="2769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5169800">
                <a:off x="7193160" y="2310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5862800">
                <a:off x="7180920" y="2468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862800">
                <a:off x="6469200" y="29469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862800">
                <a:off x="6663240" y="294804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5862800">
                <a:off x="6896520" y="26679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5862800">
                <a:off x="7102800" y="2693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5862800">
                <a:off x="6858360" y="2890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4914800">
                <a:off x="6721560" y="21477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4914800">
                <a:off x="6928200" y="225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4914800">
                <a:off x="6488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2562800">
                <a:off x="6162480" y="1970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2562800">
                <a:off x="6312960" y="18712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2562800">
                <a:off x="6018840" y="2280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2562800">
                <a:off x="6147360" y="21340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2562800">
                <a:off x="6163920" y="1945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2562800">
                <a:off x="6933960" y="1812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2562800">
                <a:off x="6114600" y="259632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2562800">
                <a:off x="6147360" y="2430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2562800">
                <a:off x="6293520" y="2279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2562800">
                <a:off x="6432840" y="1700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2331800">
                <a:off x="6486120" y="2182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2331800">
                <a:off x="6315840" y="27471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2331800">
                <a:off x="6315840" y="251424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2331800">
                <a:off x="6537600" y="188532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2562800">
                <a:off x="6515640" y="2334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2562800">
                <a:off x="6474960" y="2847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2562800">
                <a:off x="6471720" y="26064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2562800">
                <a:off x="6649200" y="24620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2562800">
                <a:off x="6739920" y="22212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2562800">
                <a:off x="6239160" y="282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2562800">
                <a:off x="6620400" y="2702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2562800">
                <a:off x="7017480" y="2385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2817200">
                <a:off x="6953400" y="22258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2817200">
                <a:off x="7045920" y="2800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2817200">
                <a:off x="6996600" y="2555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3510800">
                <a:off x="7195680" y="2114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2562800">
                <a:off x="6636600" y="20484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2562800">
                <a:off x="7085880" y="1899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2562800">
                <a:off x="6336360" y="2050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10120320" y="1230480"/>
            <a:ext cx="1638000" cy="3633120"/>
            <a:chOff x="10120320" y="1230480"/>
            <a:chExt cx="1638000" cy="3633120"/>
          </a:xfrm>
        </p:grpSpPr>
        <p:sp>
          <p:nvSpPr>
            <p:cNvPr id="600" name=""/>
            <p:cNvSpPr/>
            <p:nvPr/>
          </p:nvSpPr>
          <p:spPr>
            <a:xfrm>
              <a:off x="10120320" y="1928520"/>
              <a:ext cx="1638000" cy="293508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239120" y="2474280"/>
              <a:ext cx="1247760" cy="212832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337760" y="2653920"/>
              <a:ext cx="1045440" cy="184464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446480" y="283716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467360" y="285984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88240" y="28803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260000" y="196308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123560" y="21477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16320" y="2107800"/>
              <a:ext cx="303840" cy="268308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192680" y="20286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609200" y="1874880"/>
              <a:ext cx="590760" cy="28800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565640" y="159876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565640" y="157572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02360" y="182664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1040" y="186264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737000" y="188856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833840" y="189900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918440" y="190584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010240" y="188856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093040" y="185256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155320" y="18108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198520" y="176580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62760" y="178524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695600" y="158436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731960" y="123048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842480" y="124236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837440" y="163296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806120" y="123876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0589040" y="3010680"/>
              <a:ext cx="517320" cy="511560"/>
              <a:chOff x="10589040" y="3010680"/>
              <a:chExt cx="517320" cy="511560"/>
            </a:xfrm>
          </p:grpSpPr>
          <p:sp>
            <p:nvSpPr>
              <p:cNvPr id="629" name=""/>
              <p:cNvSpPr/>
              <p:nvPr/>
            </p:nvSpPr>
            <p:spPr>
              <a:xfrm rot="2607000">
                <a:off x="10616040" y="313416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029000">
                <a:off x="10616040" y="31381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400000">
                <a:off x="10603800" y="314892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0800000">
                <a:off x="10623600" y="313416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63560" y="1992240"/>
            <a:ext cx="3181320" cy="3152520"/>
            <a:chOff x="763560" y="1992240"/>
            <a:chExt cx="3181320" cy="3152520"/>
          </a:xfrm>
        </p:grpSpPr>
        <p:sp>
          <p:nvSpPr>
            <p:cNvPr id="635" name=""/>
            <p:cNvSpPr/>
            <p:nvPr/>
          </p:nvSpPr>
          <p:spPr>
            <a:xfrm>
              <a:off x="925560" y="2117520"/>
              <a:ext cx="2894040" cy="28940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1480" y="2331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67320" y="3323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8280" y="21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3600" y="20430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86200" y="19922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1680" y="19922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57520" y="20304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24280" y="2144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57560" y="2320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65640" y="25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17920" y="278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0600" y="304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67320" y="3609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10080" y="3895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5960" y="4162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24240" y="43909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14720" y="460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67040" y="4752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81560" y="482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5720" y="4848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9880" y="48672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43120" y="4809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76360" y="4695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4776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4322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2320" y="406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6120" y="3809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560" y="353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800" y="3259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6360" y="29844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0480" y="27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13120" y="248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3552200">
              <a:off x="1244160" y="2587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3552200">
              <a:off x="1189080" y="4444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3552200">
              <a:off x="1017720" y="4213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3552200">
              <a:off x="914400" y="3941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3552200">
              <a:off x="878040" y="3652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3552200">
              <a:off x="885960" y="3355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3552200">
              <a:off x="958680" y="30726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3552200">
              <a:off x="1071720" y="2806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3552200">
              <a:off x="144936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3552200">
              <a:off x="1693800" y="2230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3552200">
              <a:off x="1965240" y="2126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3552200">
              <a:off x="2247840" y="2090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3552200">
              <a:off x="2544840" y="209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3552200">
              <a:off x="2827440" y="21661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3552200">
              <a:off x="3079800" y="2319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3552200">
              <a:off x="3292560" y="2510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552200">
              <a:off x="1378080" y="2684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3552200">
              <a:off x="1322280" y="45410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3552200">
              <a:off x="1150920" y="4309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3552200">
              <a:off x="1047240" y="4038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552200">
              <a:off x="1011240" y="37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552200">
              <a:off x="1019160" y="3452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3552200">
              <a:off x="10922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3552200">
              <a:off x="1204920" y="2903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552200">
              <a:off x="1582200" y="2485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3552200">
              <a:off x="1827360" y="232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3552200">
              <a:off x="2098800" y="22233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3552200">
              <a:off x="2381400" y="21873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3552200">
              <a:off x="2677680" y="21920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3552200">
              <a:off x="2960640" y="2262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3552200">
              <a:off x="3212640" y="24159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3552200">
              <a:off x="3425760" y="2607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3552200">
              <a:off x="1494000" y="28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3552200">
              <a:off x="1163160" y="4203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3552200">
              <a:off x="1127160" y="3914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3552200">
              <a:off x="1135080" y="36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3552200">
              <a:off x="1208160" y="3335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3552200">
              <a:off x="1320840" y="30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3552200">
              <a:off x="1698480" y="2650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3552200">
              <a:off x="1943280" y="24915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552200">
              <a:off x="221472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3552200">
              <a:off x="2496960" y="235188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3552200">
              <a:off x="2793960" y="2357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552200">
              <a:off x="3076560" y="2428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3552200">
              <a:off x="3328920" y="2580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3552200">
              <a:off x="1623960" y="2975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3552200">
              <a:off x="1293840" y="433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3552200">
              <a:off x="1257480" y="40410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3552200">
              <a:off x="1265400" y="3744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3552200">
              <a:off x="1337760" y="3462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3552200">
              <a:off x="1450440" y="3195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3552200">
              <a:off x="1828800" y="277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3552200">
              <a:off x="2073240" y="2618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3552200">
              <a:off x="2344680" y="2516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3552200">
              <a:off x="2627280" y="2479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3552200">
              <a:off x="2924280" y="2483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3552200">
              <a:off x="3206880" y="2555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3552200">
              <a:off x="1774800" y="3161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3552200">
              <a:off x="1407960" y="422676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3552200">
              <a:off x="1415520" y="3930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3552200">
              <a:off x="1488600" y="36478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3552200">
              <a:off x="1601280" y="3381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3552200">
              <a:off x="1979640" y="2963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3552200">
              <a:off x="2224080" y="2804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3552200">
              <a:off x="2495520" y="2701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3552200">
              <a:off x="2778120" y="2665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552200">
              <a:off x="3075120" y="26694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3321800">
              <a:off x="1860120" y="3353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3321800">
              <a:off x="1622520" y="4726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3321800">
              <a:off x="1566720" y="44413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3321800">
              <a:off x="1553760" y="4144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3321800">
              <a:off x="1607760" y="385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3321800">
              <a:off x="1703520" y="3583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3321800">
              <a:off x="2052360" y="314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321800">
              <a:off x="2285640" y="2966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3321800">
              <a:off x="2549160" y="2845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3321800">
              <a:off x="2828880" y="27900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321800">
              <a:off x="3125520" y="2775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3321800">
              <a:off x="3411360" y="2828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3552200">
              <a:off x="2013120" y="3458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552200">
              <a:off x="164628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3552200">
              <a:off x="1654200" y="4226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3552200">
              <a:off x="1727280" y="39441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3552200">
              <a:off x="1839960" y="367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3552200">
              <a:off x="2461680" y="3101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3552200">
              <a:off x="2733840" y="2998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3552200">
              <a:off x="3015720" y="2962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3552200">
              <a:off x="3313080" y="2966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3552200">
              <a:off x="2146320" y="3629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3552200">
              <a:off x="1779120" y="469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3552200">
              <a:off x="1787040" y="43988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3552200">
              <a:off x="1860480" y="4116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3552200">
              <a:off x="1972800" y="3849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3552200">
              <a:off x="2595600" y="3273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3552200">
              <a:off x="28670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552200">
              <a:off x="3149640" y="3133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3552200">
              <a:off x="3446640" y="3137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3807200">
              <a:off x="1932120" y="4737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807200">
              <a:off x="2376360" y="3703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3807200">
              <a:off x="1962000" y="4443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3807200">
              <a:off x="2055600" y="4167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807200">
              <a:off x="2187720" y="39092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3807200">
              <a:off x="2595240" y="3520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807200">
              <a:off x="2850840" y="3381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3807200">
              <a:off x="3130200" y="32986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807200">
              <a:off x="3414600" y="3282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4500200">
              <a:off x="2725560" y="3714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4500200">
              <a:off x="2084040" y="4640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4500200">
              <a:off x="2171520" y="4357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4500200">
              <a:off x="2319480" y="41029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4500200">
              <a:off x="2498400" y="3877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4500200">
              <a:off x="2976480" y="3579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4500200">
              <a:off x="3255840" y="34934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4500200">
              <a:off x="3544920" y="3467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4500200">
              <a:off x="2841480" y="3907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4500200">
              <a:off x="2287440" y="4550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4500200">
              <a:off x="2435400" y="42966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4500200">
              <a:off x="2614320" y="4071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4500200">
              <a:off x="3092040" y="377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4500200">
              <a:off x="3371760" y="3687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4500200">
              <a:off x="2995200" y="404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4500200">
              <a:off x="2441160" y="4686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4500200">
              <a:off x="2589120" y="44316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4500200">
              <a:off x="2768400" y="4206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4500200">
              <a:off x="3246120" y="3908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4500200">
              <a:off x="3525480" y="3822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4820600">
              <a:off x="3308040" y="403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4820600">
              <a:off x="2695320" y="4625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4820600">
              <a:off x="2866680" y="4387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4820600">
              <a:off x="3066840" y="4179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5769800">
              <a:off x="2987280" y="44888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5769800">
              <a:off x="3217680" y="4306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3552200">
              <a:off x="2217240" y="32605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552200">
              <a:off x="2351160" y="34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75480" y="3695040"/>
            <a:ext cx="1839240" cy="1835280"/>
            <a:chOff x="5775480" y="3695040"/>
            <a:chExt cx="1839240" cy="1835280"/>
          </a:xfrm>
        </p:grpSpPr>
        <p:sp>
          <p:nvSpPr>
            <p:cNvPr id="804" name=""/>
            <p:cNvSpPr/>
            <p:nvPr/>
          </p:nvSpPr>
          <p:spPr>
            <a:xfrm rot="756000">
              <a:off x="6325920" y="5202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756000">
              <a:off x="6040080" y="49701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756000">
              <a:off x="7071840" y="4628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756000">
              <a:off x="6953400" y="47703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756000">
              <a:off x="7199280" y="405252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756000">
              <a:off x="7288200" y="43070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56000">
              <a:off x="7262640" y="455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56000">
              <a:off x="7211880" y="4791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756000">
              <a:off x="6852960" y="37576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756000">
              <a:off x="7030800" y="38847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756000">
              <a:off x="7121520" y="42732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56000">
              <a:off x="7037280" y="44593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56000">
              <a:off x="7113600" y="4987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56000">
              <a:off x="7077240" y="465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756000">
              <a:off x="6530760" y="49514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56000">
              <a:off x="6932520" y="39895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756000">
              <a:off x="6948360" y="4164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56000">
              <a:off x="6848640" y="43592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56000">
              <a:off x="6883200" y="497988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756000">
              <a:off x="6953040" y="5148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525000">
              <a:off x="6688080" y="4512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25000">
              <a:off x="6582960" y="3712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25000">
              <a:off x="6683040" y="3898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25000">
              <a:off x="675324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525000">
              <a:off x="6722640" y="48240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525000">
              <a:off x="6730920" y="50749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756000">
              <a:off x="6610320" y="43700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756000">
              <a:off x="6497640" y="38476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756000">
              <a:off x="6573600" y="4086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756000">
              <a:off x="6435720" y="428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756000">
              <a:off x="6673680" y="5249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756000">
              <a:off x="6419520" y="45529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756000">
              <a:off x="6308280" y="37843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756000">
              <a:off x="6395760" y="40370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756000">
              <a:off x="6275520" y="438480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756000">
              <a:off x="6253200" y="50493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10400">
              <a:off x="6206760" y="46116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10400">
              <a:off x="6152760" y="38368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10400">
              <a:off x="6217920" y="409536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10400">
              <a:off x="6063840" y="42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10400">
              <a:off x="6129000" y="48607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704000">
              <a:off x="5933880" y="477792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704000">
              <a:off x="6032160" y="4008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04000">
              <a:off x="5919480" y="41752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704000">
              <a:off x="6022800" y="4538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04000">
              <a:off x="5820840" y="46404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704000">
              <a:off x="5851440" y="43750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756000">
              <a:off x="6575040" y="4690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756000">
              <a:off x="6362640" y="48070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756000">
              <a:off x="6872400" y="4598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756000">
              <a:off x="6496200" y="51260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003400">
              <a:off x="6840000" y="5226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003400">
              <a:off x="6470280" y="52304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003400">
              <a:off x="7056000" y="43131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003400">
              <a:off x="6792480" y="3784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003400">
              <a:off x="7016760" y="39258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003400">
              <a:off x="715788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003400">
              <a:off x="7267680" y="4349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003400">
              <a:off x="6332400" y="3773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003400">
              <a:off x="6552720" y="37623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003400">
              <a:off x="6872040" y="400644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003400">
              <a:off x="6924600" y="42019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003400">
              <a:off x="7315200" y="456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003400">
              <a:off x="7075440" y="4327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003400">
              <a:off x="6838920" y="49035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003400">
              <a:off x="6541920" y="3903840"/>
              <a:ext cx="255600" cy="2552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003400">
              <a:off x="6665760" y="40291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003400">
              <a:off x="6713280" y="42462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003400">
              <a:off x="7129440" y="47023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003400">
              <a:off x="7289640" y="479088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9773000">
              <a:off x="6099120" y="39146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9773000">
              <a:off x="6497640" y="4127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9773000">
              <a:off x="6908400" y="46846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773000">
              <a:off x="7073640" y="48718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003400">
              <a:off x="6114960" y="4071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003400">
              <a:off x="6346440" y="44449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003400">
              <a:off x="7143840" y="50432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003400">
              <a:off x="5927760" y="4138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003400">
              <a:off x="6690960" y="51544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58400">
              <a:off x="5843160" y="4278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58400">
              <a:off x="6475320" y="5089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951400">
              <a:off x="5859000" y="448956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951400">
              <a:off x="5876640" y="46890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20951400">
              <a:off x="6094440" y="51112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0951400">
              <a:off x="5954400" y="488916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003400">
              <a:off x="6711840" y="4674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003400">
              <a:off x="6619680" y="48985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003400">
              <a:off x="6883560" y="44161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003400">
              <a:off x="6926400" y="50623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003400">
              <a:off x="6156000" y="42796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58400">
              <a:off x="6056280" y="4438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58400">
              <a:off x="6062400" y="469260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951400">
              <a:off x="6269040" y="514836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951400">
              <a:off x="6189840" y="49035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003400">
              <a:off x="6286680" y="46288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58400">
              <a:off x="6372360" y="48448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003400">
              <a:off x="7054920" y="4500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9773000">
              <a:off x="6296040" y="3992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003400">
              <a:off x="6324480" y="420984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9773000">
              <a:off x="6683040" y="44686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003400">
              <a:off x="6535800" y="4403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003400">
              <a:off x="6500520" y="46652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69480" y="2833560"/>
            <a:ext cx="71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binding for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-2455920" y="1539720"/>
            <a:ext cx="1638000" cy="3633480"/>
            <a:chOff x="-2455920" y="1539720"/>
            <a:chExt cx="1638000" cy="3633480"/>
          </a:xfrm>
        </p:grpSpPr>
        <p:sp>
          <p:nvSpPr>
            <p:cNvPr id="912" name=""/>
            <p:cNvSpPr/>
            <p:nvPr/>
          </p:nvSpPr>
          <p:spPr>
            <a:xfrm>
              <a:off x="-2455920" y="2237760"/>
              <a:ext cx="1638000" cy="293544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-2336760" y="2783520"/>
              <a:ext cx="1247760" cy="212868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2238120" y="2963520"/>
              <a:ext cx="1045440" cy="184500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2129400" y="314640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2108520" y="316908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2087640" y="31899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2315880" y="227232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2452320" y="24573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159560" y="2417400"/>
              <a:ext cx="303840" cy="268344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2383200" y="23382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-1966680" y="2184120"/>
              <a:ext cx="590760" cy="28836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-2010240" y="190800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2010240" y="188496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1973520" y="213588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1914840" y="217188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-1838880" y="219780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-1742040" y="220824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1657440" y="221508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1565640" y="219780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1482840" y="216180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-1420560" y="21204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377360" y="207504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2013120" y="209448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880280" y="189360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843920" y="153972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-1733400" y="155160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738440" y="194220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1769760" y="154800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-1986840" y="3319920"/>
              <a:ext cx="517320" cy="511920"/>
              <a:chOff x="-1986840" y="3319920"/>
              <a:chExt cx="517320" cy="511920"/>
            </a:xfrm>
          </p:grpSpPr>
          <p:sp>
            <p:nvSpPr>
              <p:cNvPr id="941" name=""/>
              <p:cNvSpPr/>
              <p:nvPr/>
            </p:nvSpPr>
            <p:spPr>
              <a:xfrm rot="2607000">
                <a:off x="-1959480" y="344340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9029000">
                <a:off x="-1959480" y="34477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5400000">
                <a:off x="-1971000" y="345780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800000">
                <a:off x="-1951920" y="344340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1.40034 0.01065 E">
                                      <p:cBhvr>
                                        <p:cTn id="33" dur="6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" dur="7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41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684800" y="4575240"/>
            <a:ext cx="58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leash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43520" y="3419640"/>
            <a:ext cx="4200480" cy="343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941720" y="0"/>
            <a:ext cx="4202280" cy="342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0"/>
            <a:ext cx="4948200" cy="6858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18720" y="26146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60640" y="2881440"/>
            <a:ext cx="414360" cy="10173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64720" y="26128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45720" y="2620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12240" y="26226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77280" y="1469880"/>
            <a:ext cx="1665000" cy="3868920"/>
          </a:xfrm>
          <a:custGeom>
            <a:avLst/>
            <a:gdLst/>
            <a:ahLst/>
            <a:rect l="l" t="t" r="r" b="b"/>
            <a:pathLst>
              <a:path w="1049" h="2437">
                <a:moveTo>
                  <a:pt x="1049" y="0"/>
                </a:moveTo>
                <a:lnTo>
                  <a:pt x="0" y="1224"/>
                </a:lnTo>
                <a:lnTo>
                  <a:pt x="1038" y="2437"/>
                </a:lnTo>
                <a:lnTo>
                  <a:pt x="1049" y="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905600" y="3154320"/>
            <a:ext cx="567000" cy="56664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3.05556E-006 0.06828 E">
                                      <p:cBhvr>
                                        <p:cTn id="53" dur="1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-0.06898 E">
                                      <p:cBhvr>
                                        <p:cTn id="55" dur="1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-0.39462 -2.59259E-006 E">
                                      <p:cBhvr>
                                        <p:cTn id="12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-3429000" y="-3747960"/>
            <a:ext cx="15882840" cy="15209640"/>
            <a:chOff x="-3429000" y="-3747960"/>
            <a:chExt cx="15882840" cy="15209640"/>
          </a:xfrm>
        </p:grpSpPr>
        <p:sp>
          <p:nvSpPr>
            <p:cNvPr id="961" name=""/>
            <p:cNvSpPr/>
            <p:nvPr/>
          </p:nvSpPr>
          <p:spPr>
            <a:xfrm>
              <a:off x="-3429000" y="-3747960"/>
              <a:ext cx="15882840" cy="15209640"/>
            </a:xfrm>
            <a:prstGeom prst="irregularSeal1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145440" y="4975200"/>
              <a:ext cx="341640" cy="1003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549160" y="0"/>
            <a:ext cx="6936120" cy="5524560"/>
            <a:chOff x="2549160" y="0"/>
            <a:chExt cx="6936120" cy="5524560"/>
          </a:xfrm>
        </p:grpSpPr>
        <p:grpSp>
          <p:nvGrpSpPr>
            <p:cNvPr id="964" name=""/>
            <p:cNvGrpSpPr/>
            <p:nvPr/>
          </p:nvGrpSpPr>
          <p:grpSpPr>
            <a:xfrm>
              <a:off x="2549160" y="1380960"/>
              <a:ext cx="4143600" cy="4143600"/>
              <a:chOff x="2549160" y="1380960"/>
              <a:chExt cx="4143600" cy="4143600"/>
            </a:xfrm>
          </p:grpSpPr>
          <p:sp>
            <p:nvSpPr>
              <p:cNvPr id="965" name=""/>
              <p:cNvSpPr/>
              <p:nvPr/>
            </p:nvSpPr>
            <p:spPr>
              <a:xfrm>
                <a:off x="3024360" y="1908000"/>
                <a:ext cx="2993760" cy="299412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720 h 2994120"/>
                  <a:gd name="textAreaBottom" fmla="*/ 1760400 h 299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89000">
                <a:off x="3123720" y="1955520"/>
                <a:ext cx="2993760" cy="299376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360 h 2993760"/>
                  <a:gd name="textAreaBottom" fmla="*/ 1760400 h 299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9144000" y="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5400" y="-479520"/>
            <a:ext cx="8759880" cy="7337520"/>
            <a:chOff x="725400" y="-479520"/>
            <a:chExt cx="8759880" cy="7337520"/>
          </a:xfrm>
        </p:grpSpPr>
        <p:sp>
          <p:nvSpPr>
            <p:cNvPr id="969" name=""/>
            <p:cNvSpPr/>
            <p:nvPr/>
          </p:nvSpPr>
          <p:spPr>
            <a:xfrm>
              <a:off x="725400" y="-479520"/>
              <a:ext cx="8418600" cy="7337520"/>
            </a:xfrm>
            <a:prstGeom prst="irregularSeal1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144000" y="998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-771480" y="-878040"/>
            <a:ext cx="11082240" cy="10095120"/>
            <a:chOff x="-771480" y="-878040"/>
            <a:chExt cx="11082240" cy="10095120"/>
          </a:xfrm>
        </p:grpSpPr>
        <p:sp>
          <p:nvSpPr>
            <p:cNvPr id="972" name=""/>
            <p:cNvSpPr/>
            <p:nvPr/>
          </p:nvSpPr>
          <p:spPr>
            <a:xfrm>
              <a:off x="9144000" y="1979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-771480" y="-878040"/>
              <a:ext cx="11082240" cy="10095120"/>
              <a:chOff x="-771480" y="-878040"/>
              <a:chExt cx="11082240" cy="100951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-771480" y="-878040"/>
                <a:ext cx="11082240" cy="10095120"/>
              </a:xfrm>
              <a:prstGeom prst="irregularSeal1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2431080" y="1994760"/>
                <a:ext cx="4177800" cy="4130280"/>
                <a:chOff x="2431080" y="1994760"/>
                <a:chExt cx="4177800" cy="413028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2431080" y="1994760"/>
                  <a:ext cx="4172040" cy="4130280"/>
                  <a:chOff x="2431080" y="1994760"/>
                  <a:chExt cx="4172040" cy="4130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19181400">
                    <a:off x="2953800" y="2677320"/>
                    <a:ext cx="3125880" cy="276444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440"/>
                      <a:gd name="textAreaBottom" fmla="*/ 1625400 h 2764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21170400">
                    <a:off x="3062160" y="264312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2643120" y="2269800"/>
                  <a:ext cx="3965760" cy="3777120"/>
                  <a:chOff x="2643120" y="2269800"/>
                  <a:chExt cx="3965760" cy="37771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013800">
                    <a:off x="2952720" y="275076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1402800">
                    <a:off x="3062880" y="2776320"/>
                    <a:ext cx="3125880" cy="276372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8680 h 2763720"/>
                      <a:gd name="textAreaBottom" fmla="*/ 1625040 h 276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3" name=""/>
          <p:cNvGrpSpPr/>
          <p:nvPr/>
        </p:nvGrpSpPr>
        <p:grpSpPr>
          <a:xfrm>
            <a:off x="0" y="0"/>
            <a:ext cx="9485280" cy="7300440"/>
            <a:chOff x="0" y="0"/>
            <a:chExt cx="9485280" cy="7300440"/>
          </a:xfrm>
        </p:grpSpPr>
        <p:grpSp>
          <p:nvGrpSpPr>
            <p:cNvPr id="984" name=""/>
            <p:cNvGrpSpPr/>
            <p:nvPr/>
          </p:nvGrpSpPr>
          <p:grpSpPr>
            <a:xfrm>
              <a:off x="0" y="0"/>
              <a:ext cx="9144000" cy="7300440"/>
              <a:chOff x="0" y="0"/>
              <a:chExt cx="9144000" cy="730044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0614000">
                <a:off x="254880" y="420840"/>
                <a:ext cx="7800840" cy="6016320"/>
              </a:xfrm>
              <a:prstGeom prst="irregularSeal1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448200">
                <a:off x="922320" y="865080"/>
                <a:ext cx="7243920" cy="5989680"/>
              </a:xfrm>
              <a:prstGeom prst="irregularSeal1">
                <a:avLst/>
              </a:prstGeom>
              <a:solidFill>
                <a:srgbClr val="33333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3109320" y="2288160"/>
                <a:ext cx="2810520" cy="2825280"/>
                <a:chOff x="3109320" y="2288160"/>
                <a:chExt cx="2810520" cy="2825280"/>
              </a:xfrm>
            </p:grpSpPr>
            <p:sp>
              <p:nvSpPr>
                <p:cNvPr id="989" name=""/>
                <p:cNvSpPr/>
                <p:nvPr/>
              </p:nvSpPr>
              <p:spPr>
                <a:xfrm rot="19936800">
                  <a:off x="3575520" y="2607120"/>
                  <a:ext cx="1864800" cy="1990800"/>
                </a:xfrm>
                <a:prstGeom prst="star5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0859000">
                  <a:off x="3728160" y="2831040"/>
                  <a:ext cx="1990440" cy="2093760"/>
                </a:xfrm>
                <a:custGeom>
                  <a:avLst/>
                  <a:gdLst>
                    <a:gd name="textAreaLeft" fmla="*/ 820080 w 1990440"/>
                    <a:gd name="textAreaRight" fmla="*/ 1170360 w 199044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93200">
                  <a:off x="3485880" y="2670480"/>
                  <a:ext cx="1990800" cy="2093760"/>
                </a:xfrm>
                <a:custGeom>
                  <a:avLst/>
                  <a:gdLst>
                    <a:gd name="textAreaLeft" fmla="*/ 820080 w 1990800"/>
                    <a:gd name="textAreaRight" fmla="*/ 1170720 w 199080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"/>
            <p:cNvSpPr/>
            <p:nvPr/>
          </p:nvSpPr>
          <p:spPr>
            <a:xfrm>
              <a:off x="9144000" y="297972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-1969920" y="-2228760"/>
            <a:ext cx="13196880" cy="11723760"/>
            <a:chOff x="-1969920" y="-2228760"/>
            <a:chExt cx="13196880" cy="11723760"/>
          </a:xfrm>
        </p:grpSpPr>
        <p:sp>
          <p:nvSpPr>
            <p:cNvPr id="9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1969920" y="-2228760"/>
              <a:ext cx="13196880" cy="11723760"/>
            </a:xfrm>
            <a:prstGeom prst="irregularSeal1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259640" y="5040"/>
              <a:ext cx="6187320" cy="6116400"/>
              <a:chOff x="1259640" y="5040"/>
              <a:chExt cx="6187320" cy="611640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1259640" y="5040"/>
                <a:ext cx="6178320" cy="6116400"/>
                <a:chOff x="1259640" y="5040"/>
                <a:chExt cx="6178320" cy="6116400"/>
              </a:xfrm>
            </p:grpSpPr>
            <p:sp>
              <p:nvSpPr>
                <p:cNvPr id="998" name=""/>
                <p:cNvSpPr/>
                <p:nvPr/>
              </p:nvSpPr>
              <p:spPr>
                <a:xfrm rot="19181400">
                  <a:off x="2034000" y="1016280"/>
                  <a:ext cx="4629240" cy="409356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560"/>
                    <a:gd name="textAreaBottom" fmla="*/ 2406960 h 40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170400">
                  <a:off x="2193840" y="966600"/>
                  <a:ext cx="4629240" cy="409284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840"/>
                    <a:gd name="textAreaBottom" fmla="*/ 2406600 h 409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573920" y="412920"/>
                <a:ext cx="5873040" cy="5593320"/>
                <a:chOff x="1573920" y="412920"/>
                <a:chExt cx="5873040" cy="5593320"/>
              </a:xfrm>
            </p:grpSpPr>
            <p:sp>
              <p:nvSpPr>
                <p:cNvPr id="1001" name=""/>
                <p:cNvSpPr/>
                <p:nvPr/>
              </p:nvSpPr>
              <p:spPr>
                <a:xfrm rot="21013800">
                  <a:off x="2032200" y="1125000"/>
                  <a:ext cx="4629240" cy="409320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200"/>
                    <a:gd name="textAreaBottom" fmla="*/ 2406600 h 409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402800">
                  <a:off x="2195640" y="1163160"/>
                  <a:ext cx="4629240" cy="409248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480"/>
                    <a:gd name="textAreaBottom" fmla="*/ 2406240 h 409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9144000" y="397836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si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493200" cy="6858000"/>
            <a:chOff x="0" y="0"/>
            <a:chExt cx="9493200" cy="6858000"/>
          </a:xfrm>
        </p:grpSpPr>
        <p:sp>
          <p:nvSpPr>
            <p:cNvPr id="10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0" y="5330880"/>
              <a:ext cx="349200" cy="662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11340000">
            <a:off x="-390600" y="41400"/>
            <a:ext cx="8842320" cy="6929280"/>
          </a:xfrm>
          <a:custGeom>
            <a:avLst/>
            <a:gdLst/>
            <a:ahLst/>
            <a:rect l="l" t="t" r="r" b="b"/>
            <a:pathLst>
              <a:path w="4416" h="3080">
                <a:moveTo>
                  <a:pt x="979" y="2204"/>
                </a:moveTo>
                <a:lnTo>
                  <a:pt x="527" y="2330"/>
                </a:lnTo>
                <a:lnTo>
                  <a:pt x="767" y="2204"/>
                </a:lnTo>
                <a:lnTo>
                  <a:pt x="593" y="2207"/>
                </a:lnTo>
                <a:lnTo>
                  <a:pt x="762" y="2158"/>
                </a:lnTo>
                <a:lnTo>
                  <a:pt x="551" y="2157"/>
                </a:lnTo>
                <a:lnTo>
                  <a:pt x="819" y="2025"/>
                </a:lnTo>
                <a:lnTo>
                  <a:pt x="680" y="2050"/>
                </a:lnTo>
                <a:lnTo>
                  <a:pt x="787" y="1967"/>
                </a:lnTo>
                <a:lnTo>
                  <a:pt x="247" y="2058"/>
                </a:lnTo>
                <a:lnTo>
                  <a:pt x="783" y="1911"/>
                </a:lnTo>
                <a:lnTo>
                  <a:pt x="164" y="1858"/>
                </a:lnTo>
                <a:lnTo>
                  <a:pt x="714" y="1860"/>
                </a:lnTo>
                <a:lnTo>
                  <a:pt x="168" y="1694"/>
                </a:lnTo>
                <a:lnTo>
                  <a:pt x="451" y="1718"/>
                </a:lnTo>
                <a:lnTo>
                  <a:pt x="0" y="1633"/>
                </a:lnTo>
                <a:lnTo>
                  <a:pt x="494" y="1639"/>
                </a:lnTo>
                <a:lnTo>
                  <a:pt x="198" y="1467"/>
                </a:lnTo>
                <a:lnTo>
                  <a:pt x="609" y="1484"/>
                </a:lnTo>
                <a:lnTo>
                  <a:pt x="178" y="1374"/>
                </a:lnTo>
                <a:lnTo>
                  <a:pt x="483" y="1345"/>
                </a:lnTo>
                <a:lnTo>
                  <a:pt x="229" y="1212"/>
                </a:lnTo>
                <a:lnTo>
                  <a:pt x="685" y="1141"/>
                </a:lnTo>
                <a:lnTo>
                  <a:pt x="423" y="872"/>
                </a:lnTo>
                <a:lnTo>
                  <a:pt x="661" y="984"/>
                </a:lnTo>
                <a:lnTo>
                  <a:pt x="497" y="547"/>
                </a:lnTo>
                <a:lnTo>
                  <a:pt x="706" y="896"/>
                </a:lnTo>
                <a:lnTo>
                  <a:pt x="603" y="373"/>
                </a:lnTo>
                <a:lnTo>
                  <a:pt x="924" y="804"/>
                </a:lnTo>
                <a:lnTo>
                  <a:pt x="891" y="343"/>
                </a:lnTo>
                <a:lnTo>
                  <a:pt x="1125" y="922"/>
                </a:lnTo>
                <a:lnTo>
                  <a:pt x="1067" y="0"/>
                </a:lnTo>
                <a:lnTo>
                  <a:pt x="1188" y="515"/>
                </a:lnTo>
                <a:lnTo>
                  <a:pt x="1354" y="181"/>
                </a:lnTo>
                <a:lnTo>
                  <a:pt x="1454" y="722"/>
                </a:lnTo>
                <a:lnTo>
                  <a:pt x="1786" y="282"/>
                </a:lnTo>
                <a:lnTo>
                  <a:pt x="1728" y="736"/>
                </a:lnTo>
                <a:lnTo>
                  <a:pt x="2044" y="267"/>
                </a:lnTo>
                <a:lnTo>
                  <a:pt x="1950" y="727"/>
                </a:lnTo>
                <a:lnTo>
                  <a:pt x="2279" y="196"/>
                </a:lnTo>
                <a:lnTo>
                  <a:pt x="2078" y="940"/>
                </a:lnTo>
                <a:lnTo>
                  <a:pt x="2645" y="7"/>
                </a:lnTo>
                <a:lnTo>
                  <a:pt x="2253" y="826"/>
                </a:lnTo>
                <a:lnTo>
                  <a:pt x="3100" y="257"/>
                </a:lnTo>
                <a:lnTo>
                  <a:pt x="2409" y="932"/>
                </a:lnTo>
                <a:lnTo>
                  <a:pt x="3749" y="505"/>
                </a:lnTo>
                <a:lnTo>
                  <a:pt x="2791" y="974"/>
                </a:lnTo>
                <a:lnTo>
                  <a:pt x="4052" y="936"/>
                </a:lnTo>
                <a:lnTo>
                  <a:pt x="3020" y="1085"/>
                </a:lnTo>
                <a:lnTo>
                  <a:pt x="4062" y="1230"/>
                </a:lnTo>
                <a:lnTo>
                  <a:pt x="3756" y="1277"/>
                </a:lnTo>
                <a:lnTo>
                  <a:pt x="4416" y="1499"/>
                </a:lnTo>
                <a:lnTo>
                  <a:pt x="3683" y="1381"/>
                </a:lnTo>
                <a:lnTo>
                  <a:pt x="3910" y="1511"/>
                </a:lnTo>
                <a:lnTo>
                  <a:pt x="3375" y="1437"/>
                </a:lnTo>
                <a:lnTo>
                  <a:pt x="3786" y="1675"/>
                </a:lnTo>
                <a:lnTo>
                  <a:pt x="3209" y="1661"/>
                </a:lnTo>
                <a:lnTo>
                  <a:pt x="3728" y="1715"/>
                </a:lnTo>
                <a:lnTo>
                  <a:pt x="3301" y="1762"/>
                </a:lnTo>
                <a:lnTo>
                  <a:pt x="4204" y="1940"/>
                </a:lnTo>
                <a:lnTo>
                  <a:pt x="3300" y="1880"/>
                </a:lnTo>
                <a:lnTo>
                  <a:pt x="3939" y="2459"/>
                </a:lnTo>
                <a:lnTo>
                  <a:pt x="3251" y="2023"/>
                </a:lnTo>
                <a:lnTo>
                  <a:pt x="4025" y="2640"/>
                </a:lnTo>
                <a:lnTo>
                  <a:pt x="3178" y="2136"/>
                </a:lnTo>
                <a:lnTo>
                  <a:pt x="3622" y="2514"/>
                </a:lnTo>
                <a:lnTo>
                  <a:pt x="3127" y="2186"/>
                </a:lnTo>
                <a:lnTo>
                  <a:pt x="3363" y="2868"/>
                </a:lnTo>
                <a:lnTo>
                  <a:pt x="3045" y="2290"/>
                </a:lnTo>
                <a:lnTo>
                  <a:pt x="3059" y="3080"/>
                </a:lnTo>
                <a:lnTo>
                  <a:pt x="2943" y="2299"/>
                </a:lnTo>
                <a:lnTo>
                  <a:pt x="2789" y="3029"/>
                </a:lnTo>
                <a:lnTo>
                  <a:pt x="2775" y="2441"/>
                </a:lnTo>
                <a:lnTo>
                  <a:pt x="2671" y="2698"/>
                </a:lnTo>
                <a:lnTo>
                  <a:pt x="2674" y="2441"/>
                </a:lnTo>
                <a:lnTo>
                  <a:pt x="2609" y="2987"/>
                </a:lnTo>
                <a:lnTo>
                  <a:pt x="2580" y="2470"/>
                </a:lnTo>
                <a:lnTo>
                  <a:pt x="2535" y="2778"/>
                </a:lnTo>
                <a:lnTo>
                  <a:pt x="2466" y="2506"/>
                </a:lnTo>
                <a:lnTo>
                  <a:pt x="2360" y="2993"/>
                </a:lnTo>
                <a:lnTo>
                  <a:pt x="2347" y="2505"/>
                </a:lnTo>
                <a:lnTo>
                  <a:pt x="2089" y="2707"/>
                </a:lnTo>
                <a:lnTo>
                  <a:pt x="2190" y="2418"/>
                </a:lnTo>
                <a:lnTo>
                  <a:pt x="1805" y="2612"/>
                </a:lnTo>
                <a:lnTo>
                  <a:pt x="2138" y="2377"/>
                </a:lnTo>
                <a:lnTo>
                  <a:pt x="2445" y="1797"/>
                </a:lnTo>
                <a:cubicBezTo>
                  <a:pt x="2477" y="1671"/>
                  <a:pt x="2513" y="1624"/>
                  <a:pt x="2431" y="1530"/>
                </a:cubicBezTo>
                <a:cubicBezTo>
                  <a:pt x="2418" y="1477"/>
                  <a:pt x="2375" y="1427"/>
                  <a:pt x="2333" y="1393"/>
                </a:cubicBezTo>
                <a:cubicBezTo>
                  <a:pt x="2317" y="1330"/>
                  <a:pt x="2209" y="1273"/>
                  <a:pt x="2153" y="1249"/>
                </a:cubicBezTo>
                <a:cubicBezTo>
                  <a:pt x="2126" y="1238"/>
                  <a:pt x="2100" y="1227"/>
                  <a:pt x="2072" y="1215"/>
                </a:cubicBezTo>
                <a:cubicBezTo>
                  <a:pt x="2064" y="1212"/>
                  <a:pt x="2133" y="1216"/>
                  <a:pt x="2046" y="1204"/>
                </a:cubicBezTo>
                <a:cubicBezTo>
                  <a:pt x="1852" y="1161"/>
                  <a:pt x="1786" y="1148"/>
                  <a:pt x="1608" y="1175"/>
                </a:cubicBezTo>
                <a:cubicBezTo>
                  <a:pt x="1582" y="1190"/>
                  <a:pt x="1562" y="1205"/>
                  <a:pt x="1540" y="1225"/>
                </a:cubicBezTo>
                <a:cubicBezTo>
                  <a:pt x="1517" y="1278"/>
                  <a:pt x="1511" y="1278"/>
                  <a:pt x="1476" y="1320"/>
                </a:cubicBezTo>
                <a:cubicBezTo>
                  <a:pt x="1448" y="1386"/>
                  <a:pt x="1487" y="1309"/>
                  <a:pt x="1436" y="1362"/>
                </a:cubicBezTo>
                <a:cubicBezTo>
                  <a:pt x="1430" y="1369"/>
                  <a:pt x="1431" y="1381"/>
                  <a:pt x="1425" y="1389"/>
                </a:cubicBezTo>
                <a:cubicBezTo>
                  <a:pt x="1419" y="1396"/>
                  <a:pt x="1411" y="1400"/>
                  <a:pt x="1405" y="1406"/>
                </a:cubicBezTo>
                <a:cubicBezTo>
                  <a:pt x="1401" y="1415"/>
                  <a:pt x="1398" y="1424"/>
                  <a:pt x="1393" y="1432"/>
                </a:cubicBezTo>
                <a:cubicBezTo>
                  <a:pt x="1387" y="1441"/>
                  <a:pt x="1378" y="1448"/>
                  <a:pt x="1373" y="1457"/>
                </a:cubicBezTo>
                <a:cubicBezTo>
                  <a:pt x="1361" y="1479"/>
                  <a:pt x="1347" y="1521"/>
                  <a:pt x="1337" y="1547"/>
                </a:cubicBezTo>
                <a:cubicBezTo>
                  <a:pt x="1338" y="1574"/>
                  <a:pt x="1343" y="1601"/>
                  <a:pt x="1340" y="1629"/>
                </a:cubicBezTo>
                <a:cubicBezTo>
                  <a:pt x="1334" y="1703"/>
                  <a:pt x="1262" y="1721"/>
                  <a:pt x="1203" y="1728"/>
                </a:cubicBezTo>
                <a:cubicBezTo>
                  <a:pt x="1191" y="1737"/>
                  <a:pt x="1100" y="1760"/>
                  <a:pt x="1090" y="1764"/>
                </a:cubicBezTo>
                <a:cubicBezTo>
                  <a:pt x="1060" y="1792"/>
                  <a:pt x="1043" y="1833"/>
                  <a:pt x="1023" y="1896"/>
                </a:cubicBezTo>
                <a:cubicBezTo>
                  <a:pt x="1004" y="1982"/>
                  <a:pt x="1000" y="2066"/>
                  <a:pt x="1019" y="2153"/>
                </a:cubicBezTo>
                <a:cubicBezTo>
                  <a:pt x="1012" y="2170"/>
                  <a:pt x="1003" y="2206"/>
                  <a:pt x="979" y="2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565280" y="216000"/>
            <a:ext cx="7918560" cy="6624360"/>
            <a:chOff x="1565280" y="216000"/>
            <a:chExt cx="7918560" cy="6624360"/>
          </a:xfrm>
        </p:grpSpPr>
        <p:sp>
          <p:nvSpPr>
            <p:cNvPr id="1010" name=""/>
            <p:cNvSpPr/>
            <p:nvPr/>
          </p:nvSpPr>
          <p:spPr>
            <a:xfrm>
              <a:off x="9144000" y="5977080"/>
              <a:ext cx="339840" cy="863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65280" y="216000"/>
              <a:ext cx="7010280" cy="4889520"/>
            </a:xfrm>
            <a:custGeom>
              <a:avLst/>
              <a:gdLst/>
              <a:ahLst/>
              <a:rect l="l" t="t" r="r" b="b"/>
              <a:pathLst>
                <a:path w="4416" h="3080">
                  <a:moveTo>
                    <a:pt x="979" y="2204"/>
                  </a:moveTo>
                  <a:lnTo>
                    <a:pt x="527" y="2330"/>
                  </a:lnTo>
                  <a:lnTo>
                    <a:pt x="767" y="2204"/>
                  </a:lnTo>
                  <a:lnTo>
                    <a:pt x="593" y="2207"/>
                  </a:lnTo>
                  <a:lnTo>
                    <a:pt x="762" y="2158"/>
                  </a:lnTo>
                  <a:lnTo>
                    <a:pt x="551" y="2157"/>
                  </a:lnTo>
                  <a:lnTo>
                    <a:pt x="819" y="2025"/>
                  </a:lnTo>
                  <a:lnTo>
                    <a:pt x="680" y="2050"/>
                  </a:lnTo>
                  <a:lnTo>
                    <a:pt x="787" y="1967"/>
                  </a:lnTo>
                  <a:lnTo>
                    <a:pt x="247" y="2058"/>
                  </a:lnTo>
                  <a:lnTo>
                    <a:pt x="783" y="1911"/>
                  </a:lnTo>
                  <a:lnTo>
                    <a:pt x="164" y="1858"/>
                  </a:lnTo>
                  <a:lnTo>
                    <a:pt x="714" y="1860"/>
                  </a:lnTo>
                  <a:lnTo>
                    <a:pt x="168" y="1694"/>
                  </a:lnTo>
                  <a:lnTo>
                    <a:pt x="451" y="1718"/>
                  </a:lnTo>
                  <a:lnTo>
                    <a:pt x="0" y="1633"/>
                  </a:lnTo>
                  <a:lnTo>
                    <a:pt x="494" y="1639"/>
                  </a:lnTo>
                  <a:lnTo>
                    <a:pt x="198" y="1467"/>
                  </a:lnTo>
                  <a:lnTo>
                    <a:pt x="609" y="1484"/>
                  </a:lnTo>
                  <a:lnTo>
                    <a:pt x="178" y="1374"/>
                  </a:lnTo>
                  <a:lnTo>
                    <a:pt x="483" y="1345"/>
                  </a:lnTo>
                  <a:lnTo>
                    <a:pt x="229" y="1212"/>
                  </a:lnTo>
                  <a:lnTo>
                    <a:pt x="685" y="1141"/>
                  </a:lnTo>
                  <a:lnTo>
                    <a:pt x="423" y="872"/>
                  </a:lnTo>
                  <a:lnTo>
                    <a:pt x="661" y="984"/>
                  </a:lnTo>
                  <a:lnTo>
                    <a:pt x="497" y="547"/>
                  </a:lnTo>
                  <a:lnTo>
                    <a:pt x="706" y="896"/>
                  </a:lnTo>
                  <a:lnTo>
                    <a:pt x="603" y="373"/>
                  </a:lnTo>
                  <a:lnTo>
                    <a:pt x="924" y="804"/>
                  </a:lnTo>
                  <a:lnTo>
                    <a:pt x="891" y="343"/>
                  </a:lnTo>
                  <a:lnTo>
                    <a:pt x="1125" y="922"/>
                  </a:lnTo>
                  <a:lnTo>
                    <a:pt x="1067" y="0"/>
                  </a:lnTo>
                  <a:lnTo>
                    <a:pt x="1188" y="515"/>
                  </a:lnTo>
                  <a:lnTo>
                    <a:pt x="1354" y="181"/>
                  </a:lnTo>
                  <a:lnTo>
                    <a:pt x="1454" y="722"/>
                  </a:lnTo>
                  <a:lnTo>
                    <a:pt x="1786" y="282"/>
                  </a:lnTo>
                  <a:lnTo>
                    <a:pt x="1728" y="736"/>
                  </a:lnTo>
                  <a:lnTo>
                    <a:pt x="2044" y="267"/>
                  </a:lnTo>
                  <a:lnTo>
                    <a:pt x="1950" y="727"/>
                  </a:lnTo>
                  <a:lnTo>
                    <a:pt x="2279" y="196"/>
                  </a:lnTo>
                  <a:lnTo>
                    <a:pt x="2078" y="940"/>
                  </a:lnTo>
                  <a:lnTo>
                    <a:pt x="2645" y="7"/>
                  </a:lnTo>
                  <a:lnTo>
                    <a:pt x="2253" y="826"/>
                  </a:lnTo>
                  <a:lnTo>
                    <a:pt x="3100" y="257"/>
                  </a:lnTo>
                  <a:lnTo>
                    <a:pt x="2409" y="932"/>
                  </a:lnTo>
                  <a:lnTo>
                    <a:pt x="3749" y="505"/>
                  </a:lnTo>
                  <a:lnTo>
                    <a:pt x="2791" y="974"/>
                  </a:lnTo>
                  <a:lnTo>
                    <a:pt x="4052" y="936"/>
                  </a:lnTo>
                  <a:lnTo>
                    <a:pt x="3020" y="1085"/>
                  </a:lnTo>
                  <a:lnTo>
                    <a:pt x="4062" y="1230"/>
                  </a:lnTo>
                  <a:lnTo>
                    <a:pt x="3756" y="1277"/>
                  </a:lnTo>
                  <a:lnTo>
                    <a:pt x="4416" y="1499"/>
                  </a:lnTo>
                  <a:lnTo>
                    <a:pt x="3683" y="1381"/>
                  </a:lnTo>
                  <a:lnTo>
                    <a:pt x="3910" y="1511"/>
                  </a:lnTo>
                  <a:lnTo>
                    <a:pt x="3375" y="1437"/>
                  </a:lnTo>
                  <a:lnTo>
                    <a:pt x="3786" y="1675"/>
                  </a:lnTo>
                  <a:lnTo>
                    <a:pt x="3209" y="1661"/>
                  </a:lnTo>
                  <a:lnTo>
                    <a:pt x="3728" y="1715"/>
                  </a:lnTo>
                  <a:lnTo>
                    <a:pt x="3301" y="1762"/>
                  </a:lnTo>
                  <a:lnTo>
                    <a:pt x="4204" y="1940"/>
                  </a:lnTo>
                  <a:lnTo>
                    <a:pt x="3300" y="1880"/>
                  </a:lnTo>
                  <a:lnTo>
                    <a:pt x="3939" y="2459"/>
                  </a:lnTo>
                  <a:lnTo>
                    <a:pt x="3251" y="2023"/>
                  </a:lnTo>
                  <a:lnTo>
                    <a:pt x="4025" y="2640"/>
                  </a:lnTo>
                  <a:lnTo>
                    <a:pt x="3178" y="2136"/>
                  </a:lnTo>
                  <a:lnTo>
                    <a:pt x="3622" y="2514"/>
                  </a:lnTo>
                  <a:lnTo>
                    <a:pt x="3127" y="2186"/>
                  </a:lnTo>
                  <a:lnTo>
                    <a:pt x="3363" y="2868"/>
                  </a:lnTo>
                  <a:lnTo>
                    <a:pt x="3045" y="2290"/>
                  </a:lnTo>
                  <a:lnTo>
                    <a:pt x="3059" y="3080"/>
                  </a:lnTo>
                  <a:lnTo>
                    <a:pt x="2943" y="2299"/>
                  </a:lnTo>
                  <a:lnTo>
                    <a:pt x="2789" y="3029"/>
                  </a:lnTo>
                  <a:lnTo>
                    <a:pt x="2775" y="2441"/>
                  </a:lnTo>
                  <a:lnTo>
                    <a:pt x="2671" y="2698"/>
                  </a:lnTo>
                  <a:lnTo>
                    <a:pt x="2674" y="2441"/>
                  </a:lnTo>
                  <a:lnTo>
                    <a:pt x="2609" y="2987"/>
                  </a:lnTo>
                  <a:lnTo>
                    <a:pt x="2580" y="2470"/>
                  </a:lnTo>
                  <a:lnTo>
                    <a:pt x="2535" y="2778"/>
                  </a:lnTo>
                  <a:lnTo>
                    <a:pt x="2466" y="2506"/>
                  </a:lnTo>
                  <a:lnTo>
                    <a:pt x="2360" y="2993"/>
                  </a:lnTo>
                  <a:lnTo>
                    <a:pt x="2347" y="2505"/>
                  </a:lnTo>
                  <a:lnTo>
                    <a:pt x="2089" y="2707"/>
                  </a:lnTo>
                  <a:lnTo>
                    <a:pt x="2190" y="2418"/>
                  </a:lnTo>
                  <a:lnTo>
                    <a:pt x="1805" y="2612"/>
                  </a:lnTo>
                  <a:lnTo>
                    <a:pt x="2138" y="2377"/>
                  </a:lnTo>
                  <a:lnTo>
                    <a:pt x="2445" y="1797"/>
                  </a:lnTo>
                  <a:cubicBezTo>
                    <a:pt x="2477" y="1671"/>
                    <a:pt x="2513" y="1624"/>
                    <a:pt x="2431" y="1530"/>
                  </a:cubicBezTo>
                  <a:cubicBezTo>
                    <a:pt x="2418" y="1477"/>
                    <a:pt x="2375" y="1427"/>
                    <a:pt x="2333" y="1393"/>
                  </a:cubicBezTo>
                  <a:cubicBezTo>
                    <a:pt x="2317" y="1330"/>
                    <a:pt x="2209" y="1273"/>
                    <a:pt x="2153" y="1249"/>
                  </a:cubicBezTo>
                  <a:cubicBezTo>
                    <a:pt x="2126" y="1238"/>
                    <a:pt x="2100" y="1227"/>
                    <a:pt x="2072" y="1215"/>
                  </a:cubicBezTo>
                  <a:cubicBezTo>
                    <a:pt x="2064" y="1212"/>
                    <a:pt x="2133" y="1216"/>
                    <a:pt x="2046" y="1204"/>
                  </a:cubicBezTo>
                  <a:cubicBezTo>
                    <a:pt x="1852" y="1161"/>
                    <a:pt x="1786" y="1148"/>
                    <a:pt x="1608" y="1175"/>
                  </a:cubicBezTo>
                  <a:cubicBezTo>
                    <a:pt x="1582" y="1190"/>
                    <a:pt x="1562" y="1205"/>
                    <a:pt x="1540" y="1225"/>
                  </a:cubicBezTo>
                  <a:cubicBezTo>
                    <a:pt x="1517" y="1278"/>
                    <a:pt x="1511" y="1278"/>
                    <a:pt x="1476" y="1320"/>
                  </a:cubicBezTo>
                  <a:cubicBezTo>
                    <a:pt x="1448" y="1386"/>
                    <a:pt x="1487" y="1309"/>
                    <a:pt x="1436" y="1362"/>
                  </a:cubicBezTo>
                  <a:cubicBezTo>
                    <a:pt x="1430" y="1369"/>
                    <a:pt x="1431" y="1381"/>
                    <a:pt x="1425" y="1389"/>
                  </a:cubicBezTo>
                  <a:cubicBezTo>
                    <a:pt x="1419" y="1396"/>
                    <a:pt x="1411" y="1400"/>
                    <a:pt x="1405" y="1406"/>
                  </a:cubicBezTo>
                  <a:cubicBezTo>
                    <a:pt x="1401" y="1415"/>
                    <a:pt x="1398" y="1424"/>
                    <a:pt x="1393" y="1432"/>
                  </a:cubicBezTo>
                  <a:cubicBezTo>
                    <a:pt x="1387" y="1441"/>
                    <a:pt x="1378" y="1448"/>
                    <a:pt x="1373" y="1457"/>
                  </a:cubicBezTo>
                  <a:cubicBezTo>
                    <a:pt x="1361" y="1479"/>
                    <a:pt x="1347" y="1521"/>
                    <a:pt x="1337" y="1547"/>
                  </a:cubicBezTo>
                  <a:cubicBezTo>
                    <a:pt x="1338" y="1574"/>
                    <a:pt x="1343" y="1601"/>
                    <a:pt x="1340" y="1629"/>
                  </a:cubicBezTo>
                  <a:cubicBezTo>
                    <a:pt x="1334" y="1703"/>
                    <a:pt x="1262" y="1721"/>
                    <a:pt x="1203" y="1728"/>
                  </a:cubicBezTo>
                  <a:cubicBezTo>
                    <a:pt x="1191" y="1737"/>
                    <a:pt x="1100" y="1760"/>
                    <a:pt x="1090" y="1764"/>
                  </a:cubicBezTo>
                  <a:cubicBezTo>
                    <a:pt x="1060" y="1792"/>
                    <a:pt x="1043" y="1833"/>
                    <a:pt x="1023" y="1896"/>
                  </a:cubicBezTo>
                  <a:cubicBezTo>
                    <a:pt x="1004" y="1982"/>
                    <a:pt x="1000" y="2066"/>
                    <a:pt x="1019" y="2153"/>
                  </a:cubicBezTo>
                  <a:cubicBezTo>
                    <a:pt x="1012" y="2170"/>
                    <a:pt x="1003" y="2206"/>
                    <a:pt x="979" y="2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068640" y="2331720"/>
            <a:ext cx="6762600" cy="4508640"/>
            <a:chOff x="3068640" y="2331720"/>
            <a:chExt cx="6762600" cy="4508640"/>
          </a:xfrm>
        </p:grpSpPr>
        <p:grpSp>
          <p:nvGrpSpPr>
            <p:cNvPr id="1013" name=""/>
            <p:cNvGrpSpPr/>
            <p:nvPr/>
          </p:nvGrpSpPr>
          <p:grpSpPr>
            <a:xfrm>
              <a:off x="3068640" y="2331720"/>
              <a:ext cx="2040480" cy="1818000"/>
              <a:chOff x="3068640" y="2331720"/>
              <a:chExt cx="2040480" cy="1818000"/>
            </a:xfrm>
          </p:grpSpPr>
          <p:sp>
            <p:nvSpPr>
              <p:cNvPr id="101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9491760" y="5977080"/>
              <a:ext cx="339480" cy="863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 rot="2235600">
            <a:off x="2370240" y="488880"/>
            <a:ext cx="5065560" cy="60516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2214360" y="1473840"/>
            <a:ext cx="3809160" cy="3290040"/>
            <a:chOff x="2214360" y="1473840"/>
            <a:chExt cx="3809160" cy="3290040"/>
          </a:xfrm>
        </p:grpSpPr>
        <p:grpSp>
          <p:nvGrpSpPr>
            <p:cNvPr id="1020" name=""/>
            <p:cNvGrpSpPr/>
            <p:nvPr/>
          </p:nvGrpSpPr>
          <p:grpSpPr>
            <a:xfrm>
              <a:off x="2682720" y="1473840"/>
              <a:ext cx="3340800" cy="3175200"/>
              <a:chOff x="2682720" y="1473840"/>
              <a:chExt cx="3340800" cy="3175200"/>
            </a:xfrm>
          </p:grpSpPr>
          <p:sp>
            <p:nvSpPr>
              <p:cNvPr id="1021" name=""/>
              <p:cNvSpPr/>
              <p:nvPr/>
            </p:nvSpPr>
            <p:spPr>
              <a:xfrm rot="19639800">
                <a:off x="3036960" y="2018880"/>
                <a:ext cx="2631960" cy="208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036000">
                <a:off x="3000240" y="3200400"/>
                <a:ext cx="2176560" cy="118584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2214360" y="3641040"/>
              <a:ext cx="1450800" cy="1122840"/>
              <a:chOff x="2214360" y="3641040"/>
              <a:chExt cx="1450800" cy="1122840"/>
            </a:xfrm>
          </p:grpSpPr>
          <p:sp>
            <p:nvSpPr>
              <p:cNvPr id="1024" name=""/>
              <p:cNvSpPr/>
              <p:nvPr/>
            </p:nvSpPr>
            <p:spPr>
              <a:xfrm flipH="1" rot="580200">
                <a:off x="3535200" y="384804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211" h="116">
                    <a:moveTo>
                      <a:pt x="106" y="116"/>
                    </a:moveTo>
                    <a:lnTo>
                      <a:pt x="116" y="116"/>
                    </a:lnTo>
                    <a:lnTo>
                      <a:pt x="125" y="114"/>
                    </a:lnTo>
                    <a:lnTo>
                      <a:pt x="135" y="112"/>
                    </a:lnTo>
                    <a:lnTo>
                      <a:pt x="146" y="110"/>
                    </a:lnTo>
                    <a:lnTo>
                      <a:pt x="154" y="108"/>
                    </a:lnTo>
                    <a:lnTo>
                      <a:pt x="163" y="105"/>
                    </a:lnTo>
                    <a:lnTo>
                      <a:pt x="171" y="101"/>
                    </a:lnTo>
                    <a:lnTo>
                      <a:pt x="179" y="99"/>
                    </a:lnTo>
                    <a:lnTo>
                      <a:pt x="184" y="93"/>
                    </a:lnTo>
                    <a:lnTo>
                      <a:pt x="192" y="89"/>
                    </a:lnTo>
                    <a:lnTo>
                      <a:pt x="196" y="84"/>
                    </a:lnTo>
                    <a:lnTo>
                      <a:pt x="202" y="80"/>
                    </a:lnTo>
                    <a:lnTo>
                      <a:pt x="203" y="74"/>
                    </a:lnTo>
                    <a:lnTo>
                      <a:pt x="207" y="68"/>
                    </a:lnTo>
                    <a:lnTo>
                      <a:pt x="209" y="63"/>
                    </a:lnTo>
                    <a:lnTo>
                      <a:pt x="211" y="57"/>
                    </a:lnTo>
                    <a:lnTo>
                      <a:pt x="209" y="51"/>
                    </a:lnTo>
                    <a:lnTo>
                      <a:pt x="207" y="44"/>
                    </a:lnTo>
                    <a:lnTo>
                      <a:pt x="203" y="38"/>
                    </a:lnTo>
                    <a:lnTo>
                      <a:pt x="202" y="34"/>
                    </a:lnTo>
                    <a:lnTo>
                      <a:pt x="196" y="29"/>
                    </a:lnTo>
                    <a:lnTo>
                      <a:pt x="192" y="25"/>
                    </a:lnTo>
                    <a:lnTo>
                      <a:pt x="184" y="19"/>
                    </a:lnTo>
                    <a:lnTo>
                      <a:pt x="179" y="15"/>
                    </a:lnTo>
                    <a:lnTo>
                      <a:pt x="171" y="11"/>
                    </a:lnTo>
                    <a:lnTo>
                      <a:pt x="163" y="10"/>
                    </a:lnTo>
                    <a:lnTo>
                      <a:pt x="154" y="6"/>
                    </a:lnTo>
                    <a:lnTo>
                      <a:pt x="146" y="4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4"/>
                    </a:lnTo>
                    <a:lnTo>
                      <a:pt x="55" y="6"/>
                    </a:lnTo>
                    <a:lnTo>
                      <a:pt x="46" y="10"/>
                    </a:lnTo>
                    <a:lnTo>
                      <a:pt x="38" y="11"/>
                    </a:lnTo>
                    <a:lnTo>
                      <a:pt x="30" y="15"/>
                    </a:lnTo>
                    <a:lnTo>
                      <a:pt x="25" y="19"/>
                    </a:lnTo>
                    <a:lnTo>
                      <a:pt x="17" y="25"/>
                    </a:lnTo>
                    <a:lnTo>
                      <a:pt x="11" y="29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2" y="68"/>
                    </a:lnTo>
                    <a:lnTo>
                      <a:pt x="4" y="74"/>
                    </a:lnTo>
                    <a:lnTo>
                      <a:pt x="8" y="80"/>
                    </a:lnTo>
                    <a:lnTo>
                      <a:pt x="11" y="84"/>
                    </a:lnTo>
                    <a:lnTo>
                      <a:pt x="17" y="89"/>
                    </a:lnTo>
                    <a:lnTo>
                      <a:pt x="25" y="93"/>
                    </a:lnTo>
                    <a:lnTo>
                      <a:pt x="30" y="99"/>
                    </a:lnTo>
                    <a:lnTo>
                      <a:pt x="38" y="101"/>
                    </a:lnTo>
                    <a:lnTo>
                      <a:pt x="46" y="105"/>
                    </a:lnTo>
                    <a:lnTo>
                      <a:pt x="55" y="108"/>
                    </a:lnTo>
                    <a:lnTo>
                      <a:pt x="65" y="110"/>
                    </a:lnTo>
                    <a:lnTo>
                      <a:pt x="74" y="112"/>
                    </a:lnTo>
                    <a:lnTo>
                      <a:pt x="84" y="114"/>
                    </a:lnTo>
                    <a:lnTo>
                      <a:pt x="95" y="116"/>
                    </a:lnTo>
                    <a:lnTo>
                      <a:pt x="106" y="116"/>
                    </a:lnTo>
                    <a:lnTo>
                      <a:pt x="106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rot="580200">
                <a:off x="2282400" y="3740400"/>
                <a:ext cx="1264320" cy="923760"/>
              </a:xfrm>
              <a:custGeom>
                <a:avLst/>
                <a:gdLst/>
                <a:ahLst/>
                <a:rect l="l" t="t" r="r" b="b"/>
                <a:pathLst>
                  <a:path w="2140" h="1564">
                    <a:moveTo>
                      <a:pt x="7" y="97"/>
                    </a:moveTo>
                    <a:lnTo>
                      <a:pt x="9" y="97"/>
                    </a:lnTo>
                    <a:lnTo>
                      <a:pt x="15" y="97"/>
                    </a:lnTo>
                    <a:lnTo>
                      <a:pt x="19" y="97"/>
                    </a:lnTo>
                    <a:lnTo>
                      <a:pt x="24" y="101"/>
                    </a:lnTo>
                    <a:lnTo>
                      <a:pt x="30" y="101"/>
                    </a:lnTo>
                    <a:lnTo>
                      <a:pt x="40" y="102"/>
                    </a:lnTo>
                    <a:lnTo>
                      <a:pt x="45" y="104"/>
                    </a:lnTo>
                    <a:lnTo>
                      <a:pt x="55" y="106"/>
                    </a:lnTo>
                    <a:lnTo>
                      <a:pt x="64" y="108"/>
                    </a:lnTo>
                    <a:lnTo>
                      <a:pt x="76" y="112"/>
                    </a:lnTo>
                    <a:lnTo>
                      <a:pt x="85" y="116"/>
                    </a:lnTo>
                    <a:lnTo>
                      <a:pt x="99" y="120"/>
                    </a:lnTo>
                    <a:lnTo>
                      <a:pt x="110" y="123"/>
                    </a:lnTo>
                    <a:lnTo>
                      <a:pt x="125" y="129"/>
                    </a:lnTo>
                    <a:lnTo>
                      <a:pt x="138" y="131"/>
                    </a:lnTo>
                    <a:lnTo>
                      <a:pt x="152" y="137"/>
                    </a:lnTo>
                    <a:lnTo>
                      <a:pt x="167" y="142"/>
                    </a:lnTo>
                    <a:lnTo>
                      <a:pt x="182" y="148"/>
                    </a:lnTo>
                    <a:lnTo>
                      <a:pt x="197" y="154"/>
                    </a:lnTo>
                    <a:lnTo>
                      <a:pt x="214" y="159"/>
                    </a:lnTo>
                    <a:lnTo>
                      <a:pt x="232" y="167"/>
                    </a:lnTo>
                    <a:lnTo>
                      <a:pt x="249" y="175"/>
                    </a:lnTo>
                    <a:lnTo>
                      <a:pt x="266" y="180"/>
                    </a:lnTo>
                    <a:lnTo>
                      <a:pt x="283" y="190"/>
                    </a:lnTo>
                    <a:lnTo>
                      <a:pt x="300" y="197"/>
                    </a:lnTo>
                    <a:lnTo>
                      <a:pt x="319" y="207"/>
                    </a:lnTo>
                    <a:lnTo>
                      <a:pt x="338" y="216"/>
                    </a:lnTo>
                    <a:lnTo>
                      <a:pt x="357" y="226"/>
                    </a:lnTo>
                    <a:lnTo>
                      <a:pt x="376" y="235"/>
                    </a:lnTo>
                    <a:lnTo>
                      <a:pt x="395" y="247"/>
                    </a:lnTo>
                    <a:lnTo>
                      <a:pt x="414" y="256"/>
                    </a:lnTo>
                    <a:lnTo>
                      <a:pt x="433" y="268"/>
                    </a:lnTo>
                    <a:lnTo>
                      <a:pt x="452" y="281"/>
                    </a:lnTo>
                    <a:lnTo>
                      <a:pt x="471" y="293"/>
                    </a:lnTo>
                    <a:lnTo>
                      <a:pt x="490" y="306"/>
                    </a:lnTo>
                    <a:lnTo>
                      <a:pt x="509" y="319"/>
                    </a:lnTo>
                    <a:lnTo>
                      <a:pt x="528" y="332"/>
                    </a:lnTo>
                    <a:lnTo>
                      <a:pt x="547" y="348"/>
                    </a:lnTo>
                    <a:lnTo>
                      <a:pt x="566" y="363"/>
                    </a:lnTo>
                    <a:lnTo>
                      <a:pt x="583" y="378"/>
                    </a:lnTo>
                    <a:lnTo>
                      <a:pt x="602" y="395"/>
                    </a:lnTo>
                    <a:lnTo>
                      <a:pt x="621" y="410"/>
                    </a:lnTo>
                    <a:lnTo>
                      <a:pt x="636" y="427"/>
                    </a:lnTo>
                    <a:lnTo>
                      <a:pt x="655" y="445"/>
                    </a:lnTo>
                    <a:lnTo>
                      <a:pt x="673" y="464"/>
                    </a:lnTo>
                    <a:lnTo>
                      <a:pt x="690" y="484"/>
                    </a:lnTo>
                    <a:lnTo>
                      <a:pt x="705" y="503"/>
                    </a:lnTo>
                    <a:lnTo>
                      <a:pt x="722" y="522"/>
                    </a:lnTo>
                    <a:lnTo>
                      <a:pt x="737" y="541"/>
                    </a:lnTo>
                    <a:lnTo>
                      <a:pt x="752" y="564"/>
                    </a:lnTo>
                    <a:lnTo>
                      <a:pt x="766" y="585"/>
                    </a:lnTo>
                    <a:lnTo>
                      <a:pt x="781" y="608"/>
                    </a:lnTo>
                    <a:lnTo>
                      <a:pt x="794" y="629"/>
                    </a:lnTo>
                    <a:lnTo>
                      <a:pt x="808" y="656"/>
                    </a:lnTo>
                    <a:lnTo>
                      <a:pt x="819" y="678"/>
                    </a:lnTo>
                    <a:lnTo>
                      <a:pt x="830" y="703"/>
                    </a:lnTo>
                    <a:lnTo>
                      <a:pt x="842" y="728"/>
                    </a:lnTo>
                    <a:lnTo>
                      <a:pt x="851" y="754"/>
                    </a:lnTo>
                    <a:lnTo>
                      <a:pt x="859" y="781"/>
                    </a:lnTo>
                    <a:lnTo>
                      <a:pt x="868" y="809"/>
                    </a:lnTo>
                    <a:lnTo>
                      <a:pt x="876" y="838"/>
                    </a:lnTo>
                    <a:lnTo>
                      <a:pt x="885" y="866"/>
                    </a:lnTo>
                    <a:lnTo>
                      <a:pt x="889" y="889"/>
                    </a:lnTo>
                    <a:lnTo>
                      <a:pt x="895" y="914"/>
                    </a:lnTo>
                    <a:lnTo>
                      <a:pt x="901" y="937"/>
                    </a:lnTo>
                    <a:lnTo>
                      <a:pt x="906" y="960"/>
                    </a:lnTo>
                    <a:lnTo>
                      <a:pt x="912" y="981"/>
                    </a:lnTo>
                    <a:lnTo>
                      <a:pt x="920" y="1003"/>
                    </a:lnTo>
                    <a:lnTo>
                      <a:pt x="925" y="1024"/>
                    </a:lnTo>
                    <a:lnTo>
                      <a:pt x="935" y="1045"/>
                    </a:lnTo>
                    <a:lnTo>
                      <a:pt x="943" y="1066"/>
                    </a:lnTo>
                    <a:lnTo>
                      <a:pt x="950" y="1085"/>
                    </a:lnTo>
                    <a:lnTo>
                      <a:pt x="958" y="1104"/>
                    </a:lnTo>
                    <a:lnTo>
                      <a:pt x="967" y="1123"/>
                    </a:lnTo>
                    <a:lnTo>
                      <a:pt x="975" y="1140"/>
                    </a:lnTo>
                    <a:lnTo>
                      <a:pt x="984" y="1159"/>
                    </a:lnTo>
                    <a:lnTo>
                      <a:pt x="994" y="1176"/>
                    </a:lnTo>
                    <a:lnTo>
                      <a:pt x="1005" y="1193"/>
                    </a:lnTo>
                    <a:lnTo>
                      <a:pt x="1015" y="1210"/>
                    </a:lnTo>
                    <a:lnTo>
                      <a:pt x="1022" y="1226"/>
                    </a:lnTo>
                    <a:lnTo>
                      <a:pt x="1034" y="1241"/>
                    </a:lnTo>
                    <a:lnTo>
                      <a:pt x="1045" y="1258"/>
                    </a:lnTo>
                    <a:lnTo>
                      <a:pt x="1055" y="1271"/>
                    </a:lnTo>
                    <a:lnTo>
                      <a:pt x="1066" y="1287"/>
                    </a:lnTo>
                    <a:lnTo>
                      <a:pt x="1076" y="1300"/>
                    </a:lnTo>
                    <a:lnTo>
                      <a:pt x="1089" y="1315"/>
                    </a:lnTo>
                    <a:lnTo>
                      <a:pt x="1098" y="1328"/>
                    </a:lnTo>
                    <a:lnTo>
                      <a:pt x="1110" y="1340"/>
                    </a:lnTo>
                    <a:lnTo>
                      <a:pt x="1123" y="1353"/>
                    </a:lnTo>
                    <a:lnTo>
                      <a:pt x="1136" y="1366"/>
                    </a:lnTo>
                    <a:lnTo>
                      <a:pt x="1148" y="1376"/>
                    </a:lnTo>
                    <a:lnTo>
                      <a:pt x="1159" y="1387"/>
                    </a:lnTo>
                    <a:lnTo>
                      <a:pt x="1173" y="1399"/>
                    </a:lnTo>
                    <a:lnTo>
                      <a:pt x="1186" y="1410"/>
                    </a:lnTo>
                    <a:lnTo>
                      <a:pt x="1197" y="1420"/>
                    </a:lnTo>
                    <a:lnTo>
                      <a:pt x="1211" y="1429"/>
                    </a:lnTo>
                    <a:lnTo>
                      <a:pt x="1224" y="1439"/>
                    </a:lnTo>
                    <a:lnTo>
                      <a:pt x="1235" y="1448"/>
                    </a:lnTo>
                    <a:lnTo>
                      <a:pt x="1249" y="1458"/>
                    </a:lnTo>
                    <a:lnTo>
                      <a:pt x="1262" y="1465"/>
                    </a:lnTo>
                    <a:lnTo>
                      <a:pt x="1275" y="1473"/>
                    </a:lnTo>
                    <a:lnTo>
                      <a:pt x="1288" y="1480"/>
                    </a:lnTo>
                    <a:lnTo>
                      <a:pt x="1302" y="1488"/>
                    </a:lnTo>
                    <a:lnTo>
                      <a:pt x="1315" y="1494"/>
                    </a:lnTo>
                    <a:lnTo>
                      <a:pt x="1328" y="1501"/>
                    </a:lnTo>
                    <a:lnTo>
                      <a:pt x="1342" y="1507"/>
                    </a:lnTo>
                    <a:lnTo>
                      <a:pt x="1355" y="1513"/>
                    </a:lnTo>
                    <a:lnTo>
                      <a:pt x="1368" y="1520"/>
                    </a:lnTo>
                    <a:lnTo>
                      <a:pt x="1382" y="1524"/>
                    </a:lnTo>
                    <a:lnTo>
                      <a:pt x="1397" y="1530"/>
                    </a:lnTo>
                    <a:lnTo>
                      <a:pt x="1410" y="1534"/>
                    </a:lnTo>
                    <a:lnTo>
                      <a:pt x="1423" y="1537"/>
                    </a:lnTo>
                    <a:lnTo>
                      <a:pt x="1437" y="1539"/>
                    </a:lnTo>
                    <a:lnTo>
                      <a:pt x="1450" y="1545"/>
                    </a:lnTo>
                    <a:lnTo>
                      <a:pt x="1463" y="1547"/>
                    </a:lnTo>
                    <a:lnTo>
                      <a:pt x="1479" y="1551"/>
                    </a:lnTo>
                    <a:lnTo>
                      <a:pt x="1490" y="1553"/>
                    </a:lnTo>
                    <a:lnTo>
                      <a:pt x="1505" y="1556"/>
                    </a:lnTo>
                    <a:lnTo>
                      <a:pt x="1517" y="1556"/>
                    </a:lnTo>
                    <a:lnTo>
                      <a:pt x="1532" y="1558"/>
                    </a:lnTo>
                    <a:lnTo>
                      <a:pt x="1545" y="1560"/>
                    </a:lnTo>
                    <a:lnTo>
                      <a:pt x="1558" y="1562"/>
                    </a:lnTo>
                    <a:lnTo>
                      <a:pt x="1572" y="1562"/>
                    </a:lnTo>
                    <a:lnTo>
                      <a:pt x="1585" y="1564"/>
                    </a:lnTo>
                    <a:lnTo>
                      <a:pt x="1598" y="1564"/>
                    </a:lnTo>
                    <a:lnTo>
                      <a:pt x="1612" y="1564"/>
                    </a:lnTo>
                    <a:lnTo>
                      <a:pt x="1629" y="1564"/>
                    </a:lnTo>
                    <a:lnTo>
                      <a:pt x="1644" y="1564"/>
                    </a:lnTo>
                    <a:lnTo>
                      <a:pt x="1659" y="1564"/>
                    </a:lnTo>
                    <a:lnTo>
                      <a:pt x="1676" y="1562"/>
                    </a:lnTo>
                    <a:lnTo>
                      <a:pt x="1691" y="1560"/>
                    </a:lnTo>
                    <a:lnTo>
                      <a:pt x="1707" y="1558"/>
                    </a:lnTo>
                    <a:lnTo>
                      <a:pt x="1722" y="1556"/>
                    </a:lnTo>
                    <a:lnTo>
                      <a:pt x="1737" y="1554"/>
                    </a:lnTo>
                    <a:lnTo>
                      <a:pt x="1752" y="1549"/>
                    </a:lnTo>
                    <a:lnTo>
                      <a:pt x="1766" y="1547"/>
                    </a:lnTo>
                    <a:lnTo>
                      <a:pt x="1779" y="1543"/>
                    </a:lnTo>
                    <a:lnTo>
                      <a:pt x="1792" y="1539"/>
                    </a:lnTo>
                    <a:lnTo>
                      <a:pt x="1806" y="1534"/>
                    </a:lnTo>
                    <a:lnTo>
                      <a:pt x="1819" y="1528"/>
                    </a:lnTo>
                    <a:lnTo>
                      <a:pt x="1832" y="1524"/>
                    </a:lnTo>
                    <a:lnTo>
                      <a:pt x="1845" y="1520"/>
                    </a:lnTo>
                    <a:lnTo>
                      <a:pt x="1857" y="1513"/>
                    </a:lnTo>
                    <a:lnTo>
                      <a:pt x="1868" y="1507"/>
                    </a:lnTo>
                    <a:lnTo>
                      <a:pt x="1880" y="1501"/>
                    </a:lnTo>
                    <a:lnTo>
                      <a:pt x="1891" y="1494"/>
                    </a:lnTo>
                    <a:lnTo>
                      <a:pt x="1901" y="1488"/>
                    </a:lnTo>
                    <a:lnTo>
                      <a:pt x="1912" y="1480"/>
                    </a:lnTo>
                    <a:lnTo>
                      <a:pt x="1921" y="1473"/>
                    </a:lnTo>
                    <a:lnTo>
                      <a:pt x="1933" y="1467"/>
                    </a:lnTo>
                    <a:lnTo>
                      <a:pt x="1942" y="1458"/>
                    </a:lnTo>
                    <a:lnTo>
                      <a:pt x="1952" y="1450"/>
                    </a:lnTo>
                    <a:lnTo>
                      <a:pt x="1961" y="1442"/>
                    </a:lnTo>
                    <a:lnTo>
                      <a:pt x="1971" y="1435"/>
                    </a:lnTo>
                    <a:lnTo>
                      <a:pt x="1978" y="1427"/>
                    </a:lnTo>
                    <a:lnTo>
                      <a:pt x="1988" y="1418"/>
                    </a:lnTo>
                    <a:lnTo>
                      <a:pt x="1996" y="1410"/>
                    </a:lnTo>
                    <a:lnTo>
                      <a:pt x="2005" y="1402"/>
                    </a:lnTo>
                    <a:lnTo>
                      <a:pt x="2013" y="1393"/>
                    </a:lnTo>
                    <a:lnTo>
                      <a:pt x="2020" y="1385"/>
                    </a:lnTo>
                    <a:lnTo>
                      <a:pt x="2026" y="1376"/>
                    </a:lnTo>
                    <a:lnTo>
                      <a:pt x="2034" y="1368"/>
                    </a:lnTo>
                    <a:lnTo>
                      <a:pt x="2039" y="1359"/>
                    </a:lnTo>
                    <a:lnTo>
                      <a:pt x="2047" y="1351"/>
                    </a:lnTo>
                    <a:lnTo>
                      <a:pt x="2053" y="1342"/>
                    </a:lnTo>
                    <a:lnTo>
                      <a:pt x="2060" y="1336"/>
                    </a:lnTo>
                    <a:lnTo>
                      <a:pt x="2064" y="1326"/>
                    </a:lnTo>
                    <a:lnTo>
                      <a:pt x="2070" y="1317"/>
                    </a:lnTo>
                    <a:lnTo>
                      <a:pt x="2075" y="1309"/>
                    </a:lnTo>
                    <a:lnTo>
                      <a:pt x="2081" y="1302"/>
                    </a:lnTo>
                    <a:lnTo>
                      <a:pt x="2085" y="1294"/>
                    </a:lnTo>
                    <a:lnTo>
                      <a:pt x="2091" y="1287"/>
                    </a:lnTo>
                    <a:lnTo>
                      <a:pt x="2094" y="1277"/>
                    </a:lnTo>
                    <a:lnTo>
                      <a:pt x="2098" y="1271"/>
                    </a:lnTo>
                    <a:lnTo>
                      <a:pt x="2102" y="1264"/>
                    </a:lnTo>
                    <a:lnTo>
                      <a:pt x="2106" y="1256"/>
                    </a:lnTo>
                    <a:lnTo>
                      <a:pt x="2110" y="1250"/>
                    </a:lnTo>
                    <a:lnTo>
                      <a:pt x="2113" y="1243"/>
                    </a:lnTo>
                    <a:lnTo>
                      <a:pt x="2115" y="1237"/>
                    </a:lnTo>
                    <a:lnTo>
                      <a:pt x="2119" y="1231"/>
                    </a:lnTo>
                    <a:lnTo>
                      <a:pt x="2123" y="1226"/>
                    </a:lnTo>
                    <a:lnTo>
                      <a:pt x="2125" y="1220"/>
                    </a:lnTo>
                    <a:lnTo>
                      <a:pt x="2129" y="1210"/>
                    </a:lnTo>
                    <a:lnTo>
                      <a:pt x="2134" y="1201"/>
                    </a:lnTo>
                    <a:lnTo>
                      <a:pt x="2136" y="1195"/>
                    </a:lnTo>
                    <a:lnTo>
                      <a:pt x="2140" y="1190"/>
                    </a:lnTo>
                    <a:lnTo>
                      <a:pt x="2138" y="758"/>
                    </a:lnTo>
                    <a:lnTo>
                      <a:pt x="1513" y="737"/>
                    </a:lnTo>
                    <a:lnTo>
                      <a:pt x="1513" y="1007"/>
                    </a:lnTo>
                    <a:lnTo>
                      <a:pt x="1511" y="1007"/>
                    </a:lnTo>
                    <a:lnTo>
                      <a:pt x="1505" y="1009"/>
                    </a:lnTo>
                    <a:lnTo>
                      <a:pt x="1499" y="1011"/>
                    </a:lnTo>
                    <a:lnTo>
                      <a:pt x="1496" y="1013"/>
                    </a:lnTo>
                    <a:lnTo>
                      <a:pt x="1490" y="1015"/>
                    </a:lnTo>
                    <a:lnTo>
                      <a:pt x="1482" y="1017"/>
                    </a:lnTo>
                    <a:lnTo>
                      <a:pt x="1475" y="1017"/>
                    </a:lnTo>
                    <a:lnTo>
                      <a:pt x="1467" y="1017"/>
                    </a:lnTo>
                    <a:lnTo>
                      <a:pt x="1460" y="1017"/>
                    </a:lnTo>
                    <a:lnTo>
                      <a:pt x="1450" y="1017"/>
                    </a:lnTo>
                    <a:lnTo>
                      <a:pt x="1441" y="1015"/>
                    </a:lnTo>
                    <a:lnTo>
                      <a:pt x="1431" y="1015"/>
                    </a:lnTo>
                    <a:lnTo>
                      <a:pt x="1422" y="1013"/>
                    </a:lnTo>
                    <a:lnTo>
                      <a:pt x="1410" y="1009"/>
                    </a:lnTo>
                    <a:lnTo>
                      <a:pt x="1404" y="1007"/>
                    </a:lnTo>
                    <a:lnTo>
                      <a:pt x="1399" y="1005"/>
                    </a:lnTo>
                    <a:lnTo>
                      <a:pt x="1391" y="1001"/>
                    </a:lnTo>
                    <a:lnTo>
                      <a:pt x="1387" y="1000"/>
                    </a:lnTo>
                    <a:lnTo>
                      <a:pt x="1380" y="996"/>
                    </a:lnTo>
                    <a:lnTo>
                      <a:pt x="1374" y="994"/>
                    </a:lnTo>
                    <a:lnTo>
                      <a:pt x="1368" y="990"/>
                    </a:lnTo>
                    <a:lnTo>
                      <a:pt x="1363" y="986"/>
                    </a:lnTo>
                    <a:lnTo>
                      <a:pt x="1355" y="982"/>
                    </a:lnTo>
                    <a:lnTo>
                      <a:pt x="1349" y="977"/>
                    </a:lnTo>
                    <a:lnTo>
                      <a:pt x="1342" y="971"/>
                    </a:lnTo>
                    <a:lnTo>
                      <a:pt x="1336" y="967"/>
                    </a:lnTo>
                    <a:lnTo>
                      <a:pt x="1330" y="962"/>
                    </a:lnTo>
                    <a:lnTo>
                      <a:pt x="1325" y="956"/>
                    </a:lnTo>
                    <a:lnTo>
                      <a:pt x="1317" y="950"/>
                    </a:lnTo>
                    <a:lnTo>
                      <a:pt x="1311" y="942"/>
                    </a:lnTo>
                    <a:lnTo>
                      <a:pt x="1304" y="935"/>
                    </a:lnTo>
                    <a:lnTo>
                      <a:pt x="1298" y="927"/>
                    </a:lnTo>
                    <a:lnTo>
                      <a:pt x="1290" y="920"/>
                    </a:lnTo>
                    <a:lnTo>
                      <a:pt x="1285" y="910"/>
                    </a:lnTo>
                    <a:lnTo>
                      <a:pt x="1279" y="901"/>
                    </a:lnTo>
                    <a:lnTo>
                      <a:pt x="1271" y="891"/>
                    </a:lnTo>
                    <a:lnTo>
                      <a:pt x="1266" y="882"/>
                    </a:lnTo>
                    <a:lnTo>
                      <a:pt x="1260" y="872"/>
                    </a:lnTo>
                    <a:lnTo>
                      <a:pt x="1252" y="861"/>
                    </a:lnTo>
                    <a:lnTo>
                      <a:pt x="1247" y="849"/>
                    </a:lnTo>
                    <a:lnTo>
                      <a:pt x="1239" y="836"/>
                    </a:lnTo>
                    <a:lnTo>
                      <a:pt x="1233" y="825"/>
                    </a:lnTo>
                    <a:lnTo>
                      <a:pt x="1228" y="809"/>
                    </a:lnTo>
                    <a:lnTo>
                      <a:pt x="1220" y="796"/>
                    </a:lnTo>
                    <a:lnTo>
                      <a:pt x="1214" y="781"/>
                    </a:lnTo>
                    <a:lnTo>
                      <a:pt x="1209" y="768"/>
                    </a:lnTo>
                    <a:lnTo>
                      <a:pt x="1205" y="760"/>
                    </a:lnTo>
                    <a:lnTo>
                      <a:pt x="1201" y="752"/>
                    </a:lnTo>
                    <a:lnTo>
                      <a:pt x="1197" y="745"/>
                    </a:lnTo>
                    <a:lnTo>
                      <a:pt x="1193" y="737"/>
                    </a:lnTo>
                    <a:lnTo>
                      <a:pt x="1190" y="728"/>
                    </a:lnTo>
                    <a:lnTo>
                      <a:pt x="1186" y="722"/>
                    </a:lnTo>
                    <a:lnTo>
                      <a:pt x="1182" y="714"/>
                    </a:lnTo>
                    <a:lnTo>
                      <a:pt x="1178" y="709"/>
                    </a:lnTo>
                    <a:lnTo>
                      <a:pt x="1173" y="701"/>
                    </a:lnTo>
                    <a:lnTo>
                      <a:pt x="1169" y="694"/>
                    </a:lnTo>
                    <a:lnTo>
                      <a:pt x="1165" y="686"/>
                    </a:lnTo>
                    <a:lnTo>
                      <a:pt x="1161" y="680"/>
                    </a:lnTo>
                    <a:lnTo>
                      <a:pt x="1155" y="673"/>
                    </a:lnTo>
                    <a:lnTo>
                      <a:pt x="1152" y="665"/>
                    </a:lnTo>
                    <a:lnTo>
                      <a:pt x="1146" y="657"/>
                    </a:lnTo>
                    <a:lnTo>
                      <a:pt x="1142" y="652"/>
                    </a:lnTo>
                    <a:lnTo>
                      <a:pt x="1136" y="644"/>
                    </a:lnTo>
                    <a:lnTo>
                      <a:pt x="1131" y="637"/>
                    </a:lnTo>
                    <a:lnTo>
                      <a:pt x="1125" y="629"/>
                    </a:lnTo>
                    <a:lnTo>
                      <a:pt x="1119" y="623"/>
                    </a:lnTo>
                    <a:lnTo>
                      <a:pt x="1114" y="616"/>
                    </a:lnTo>
                    <a:lnTo>
                      <a:pt x="1108" y="610"/>
                    </a:lnTo>
                    <a:lnTo>
                      <a:pt x="1104" y="604"/>
                    </a:lnTo>
                    <a:lnTo>
                      <a:pt x="1098" y="597"/>
                    </a:lnTo>
                    <a:lnTo>
                      <a:pt x="1093" y="591"/>
                    </a:lnTo>
                    <a:lnTo>
                      <a:pt x="1087" y="583"/>
                    </a:lnTo>
                    <a:lnTo>
                      <a:pt x="1081" y="576"/>
                    </a:lnTo>
                    <a:lnTo>
                      <a:pt x="1076" y="570"/>
                    </a:lnTo>
                    <a:lnTo>
                      <a:pt x="1070" y="562"/>
                    </a:lnTo>
                    <a:lnTo>
                      <a:pt x="1062" y="557"/>
                    </a:lnTo>
                    <a:lnTo>
                      <a:pt x="1057" y="549"/>
                    </a:lnTo>
                    <a:lnTo>
                      <a:pt x="1051" y="543"/>
                    </a:lnTo>
                    <a:lnTo>
                      <a:pt x="1038" y="528"/>
                    </a:lnTo>
                    <a:lnTo>
                      <a:pt x="1022" y="513"/>
                    </a:lnTo>
                    <a:lnTo>
                      <a:pt x="1007" y="498"/>
                    </a:lnTo>
                    <a:lnTo>
                      <a:pt x="994" y="483"/>
                    </a:lnTo>
                    <a:lnTo>
                      <a:pt x="977" y="467"/>
                    </a:lnTo>
                    <a:lnTo>
                      <a:pt x="962" y="454"/>
                    </a:lnTo>
                    <a:lnTo>
                      <a:pt x="944" y="439"/>
                    </a:lnTo>
                    <a:lnTo>
                      <a:pt x="929" y="427"/>
                    </a:lnTo>
                    <a:lnTo>
                      <a:pt x="910" y="412"/>
                    </a:lnTo>
                    <a:lnTo>
                      <a:pt x="893" y="399"/>
                    </a:lnTo>
                    <a:lnTo>
                      <a:pt x="876" y="386"/>
                    </a:lnTo>
                    <a:lnTo>
                      <a:pt x="857" y="372"/>
                    </a:lnTo>
                    <a:lnTo>
                      <a:pt x="840" y="359"/>
                    </a:lnTo>
                    <a:lnTo>
                      <a:pt x="821" y="346"/>
                    </a:lnTo>
                    <a:lnTo>
                      <a:pt x="802" y="334"/>
                    </a:lnTo>
                    <a:lnTo>
                      <a:pt x="785" y="321"/>
                    </a:lnTo>
                    <a:lnTo>
                      <a:pt x="764" y="310"/>
                    </a:lnTo>
                    <a:lnTo>
                      <a:pt x="745" y="296"/>
                    </a:lnTo>
                    <a:lnTo>
                      <a:pt x="724" y="285"/>
                    </a:lnTo>
                    <a:lnTo>
                      <a:pt x="705" y="273"/>
                    </a:lnTo>
                    <a:lnTo>
                      <a:pt x="684" y="260"/>
                    </a:lnTo>
                    <a:lnTo>
                      <a:pt x="665" y="251"/>
                    </a:lnTo>
                    <a:lnTo>
                      <a:pt x="644" y="239"/>
                    </a:lnTo>
                    <a:lnTo>
                      <a:pt x="625" y="228"/>
                    </a:lnTo>
                    <a:lnTo>
                      <a:pt x="604" y="216"/>
                    </a:lnTo>
                    <a:lnTo>
                      <a:pt x="583" y="207"/>
                    </a:lnTo>
                    <a:lnTo>
                      <a:pt x="564" y="197"/>
                    </a:lnTo>
                    <a:lnTo>
                      <a:pt x="545" y="188"/>
                    </a:lnTo>
                    <a:lnTo>
                      <a:pt x="524" y="178"/>
                    </a:lnTo>
                    <a:lnTo>
                      <a:pt x="503" y="169"/>
                    </a:lnTo>
                    <a:lnTo>
                      <a:pt x="482" y="159"/>
                    </a:lnTo>
                    <a:lnTo>
                      <a:pt x="463" y="150"/>
                    </a:lnTo>
                    <a:lnTo>
                      <a:pt x="444" y="140"/>
                    </a:lnTo>
                    <a:lnTo>
                      <a:pt x="424" y="131"/>
                    </a:lnTo>
                    <a:lnTo>
                      <a:pt x="405" y="123"/>
                    </a:lnTo>
                    <a:lnTo>
                      <a:pt x="386" y="116"/>
                    </a:lnTo>
                    <a:lnTo>
                      <a:pt x="365" y="106"/>
                    </a:lnTo>
                    <a:lnTo>
                      <a:pt x="348" y="101"/>
                    </a:lnTo>
                    <a:lnTo>
                      <a:pt x="329" y="93"/>
                    </a:lnTo>
                    <a:lnTo>
                      <a:pt x="310" y="85"/>
                    </a:lnTo>
                    <a:lnTo>
                      <a:pt x="292" y="78"/>
                    </a:lnTo>
                    <a:lnTo>
                      <a:pt x="273" y="72"/>
                    </a:lnTo>
                    <a:lnTo>
                      <a:pt x="256" y="64"/>
                    </a:lnTo>
                    <a:lnTo>
                      <a:pt x="239" y="61"/>
                    </a:lnTo>
                    <a:lnTo>
                      <a:pt x="222" y="53"/>
                    </a:lnTo>
                    <a:lnTo>
                      <a:pt x="207" y="49"/>
                    </a:lnTo>
                    <a:lnTo>
                      <a:pt x="192" y="44"/>
                    </a:lnTo>
                    <a:lnTo>
                      <a:pt x="176" y="40"/>
                    </a:lnTo>
                    <a:lnTo>
                      <a:pt x="161" y="34"/>
                    </a:lnTo>
                    <a:lnTo>
                      <a:pt x="144" y="30"/>
                    </a:lnTo>
                    <a:lnTo>
                      <a:pt x="131" y="25"/>
                    </a:lnTo>
                    <a:lnTo>
                      <a:pt x="118" y="21"/>
                    </a:lnTo>
                    <a:lnTo>
                      <a:pt x="102" y="19"/>
                    </a:lnTo>
                    <a:lnTo>
                      <a:pt x="91" y="15"/>
                    </a:lnTo>
                    <a:lnTo>
                      <a:pt x="78" y="11"/>
                    </a:lnTo>
                    <a:lnTo>
                      <a:pt x="68" y="9"/>
                    </a:lnTo>
                    <a:lnTo>
                      <a:pt x="57" y="7"/>
                    </a:lnTo>
                    <a:lnTo>
                      <a:pt x="45" y="6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97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rot="580200">
                <a:off x="2433600" y="4131360"/>
                <a:ext cx="144000" cy="337320"/>
              </a:xfrm>
              <a:custGeom>
                <a:avLst/>
                <a:gdLst/>
                <a:ahLst/>
                <a:rect l="l" t="t" r="r" b="b"/>
                <a:pathLst>
                  <a:path w="243" h="572">
                    <a:moveTo>
                      <a:pt x="0" y="0"/>
                    </a:moveTo>
                    <a:lnTo>
                      <a:pt x="6" y="8"/>
                    </a:lnTo>
                    <a:lnTo>
                      <a:pt x="13" y="17"/>
                    </a:lnTo>
                    <a:lnTo>
                      <a:pt x="19" y="21"/>
                    </a:lnTo>
                    <a:lnTo>
                      <a:pt x="23" y="25"/>
                    </a:lnTo>
                    <a:lnTo>
                      <a:pt x="29" y="31"/>
                    </a:lnTo>
                    <a:lnTo>
                      <a:pt x="34" y="34"/>
                    </a:lnTo>
                    <a:lnTo>
                      <a:pt x="40" y="38"/>
                    </a:lnTo>
                    <a:lnTo>
                      <a:pt x="46" y="42"/>
                    </a:lnTo>
                    <a:lnTo>
                      <a:pt x="53" y="46"/>
                    </a:lnTo>
                    <a:lnTo>
                      <a:pt x="59" y="50"/>
                    </a:lnTo>
                    <a:lnTo>
                      <a:pt x="65" y="53"/>
                    </a:lnTo>
                    <a:lnTo>
                      <a:pt x="74" y="57"/>
                    </a:lnTo>
                    <a:lnTo>
                      <a:pt x="82" y="59"/>
                    </a:lnTo>
                    <a:lnTo>
                      <a:pt x="89" y="65"/>
                    </a:lnTo>
                    <a:lnTo>
                      <a:pt x="97" y="67"/>
                    </a:lnTo>
                    <a:lnTo>
                      <a:pt x="105" y="69"/>
                    </a:lnTo>
                    <a:lnTo>
                      <a:pt x="112" y="71"/>
                    </a:lnTo>
                    <a:lnTo>
                      <a:pt x="122" y="74"/>
                    </a:lnTo>
                    <a:lnTo>
                      <a:pt x="129" y="76"/>
                    </a:lnTo>
                    <a:lnTo>
                      <a:pt x="139" y="78"/>
                    </a:lnTo>
                    <a:lnTo>
                      <a:pt x="148" y="80"/>
                    </a:lnTo>
                    <a:lnTo>
                      <a:pt x="160" y="82"/>
                    </a:lnTo>
                    <a:lnTo>
                      <a:pt x="167" y="84"/>
                    </a:lnTo>
                    <a:lnTo>
                      <a:pt x="177" y="86"/>
                    </a:lnTo>
                    <a:lnTo>
                      <a:pt x="188" y="86"/>
                    </a:lnTo>
                    <a:lnTo>
                      <a:pt x="200" y="88"/>
                    </a:lnTo>
                    <a:lnTo>
                      <a:pt x="209" y="88"/>
                    </a:lnTo>
                    <a:lnTo>
                      <a:pt x="221" y="90"/>
                    </a:lnTo>
                    <a:lnTo>
                      <a:pt x="226" y="90"/>
                    </a:lnTo>
                    <a:lnTo>
                      <a:pt x="230" y="90"/>
                    </a:lnTo>
                    <a:lnTo>
                      <a:pt x="238" y="90"/>
                    </a:lnTo>
                    <a:lnTo>
                      <a:pt x="243" y="90"/>
                    </a:lnTo>
                    <a:lnTo>
                      <a:pt x="242" y="95"/>
                    </a:lnTo>
                    <a:lnTo>
                      <a:pt x="242" y="101"/>
                    </a:lnTo>
                    <a:lnTo>
                      <a:pt x="242" y="109"/>
                    </a:lnTo>
                    <a:lnTo>
                      <a:pt x="242" y="116"/>
                    </a:lnTo>
                    <a:lnTo>
                      <a:pt x="242" y="122"/>
                    </a:lnTo>
                    <a:lnTo>
                      <a:pt x="242" y="131"/>
                    </a:lnTo>
                    <a:lnTo>
                      <a:pt x="242" y="137"/>
                    </a:lnTo>
                    <a:lnTo>
                      <a:pt x="242" y="147"/>
                    </a:lnTo>
                    <a:lnTo>
                      <a:pt x="242" y="154"/>
                    </a:lnTo>
                    <a:lnTo>
                      <a:pt x="242" y="164"/>
                    </a:lnTo>
                    <a:lnTo>
                      <a:pt x="242" y="173"/>
                    </a:lnTo>
                    <a:lnTo>
                      <a:pt x="242" y="183"/>
                    </a:lnTo>
                    <a:lnTo>
                      <a:pt x="242" y="190"/>
                    </a:lnTo>
                    <a:lnTo>
                      <a:pt x="242" y="200"/>
                    </a:lnTo>
                    <a:lnTo>
                      <a:pt x="242" y="209"/>
                    </a:lnTo>
                    <a:lnTo>
                      <a:pt x="242" y="219"/>
                    </a:lnTo>
                    <a:lnTo>
                      <a:pt x="242" y="228"/>
                    </a:lnTo>
                    <a:lnTo>
                      <a:pt x="242" y="238"/>
                    </a:lnTo>
                    <a:lnTo>
                      <a:pt x="242" y="247"/>
                    </a:lnTo>
                    <a:lnTo>
                      <a:pt x="242" y="259"/>
                    </a:lnTo>
                    <a:lnTo>
                      <a:pt x="242" y="266"/>
                    </a:lnTo>
                    <a:lnTo>
                      <a:pt x="242" y="278"/>
                    </a:lnTo>
                    <a:lnTo>
                      <a:pt x="242" y="287"/>
                    </a:lnTo>
                    <a:lnTo>
                      <a:pt x="242" y="299"/>
                    </a:lnTo>
                    <a:lnTo>
                      <a:pt x="242" y="308"/>
                    </a:lnTo>
                    <a:lnTo>
                      <a:pt x="242" y="318"/>
                    </a:lnTo>
                    <a:lnTo>
                      <a:pt x="242" y="327"/>
                    </a:lnTo>
                    <a:lnTo>
                      <a:pt x="242" y="339"/>
                    </a:lnTo>
                    <a:lnTo>
                      <a:pt x="242" y="348"/>
                    </a:lnTo>
                    <a:lnTo>
                      <a:pt x="242" y="358"/>
                    </a:lnTo>
                    <a:lnTo>
                      <a:pt x="242" y="369"/>
                    </a:lnTo>
                    <a:lnTo>
                      <a:pt x="242" y="378"/>
                    </a:lnTo>
                    <a:lnTo>
                      <a:pt x="242" y="388"/>
                    </a:lnTo>
                    <a:lnTo>
                      <a:pt x="242" y="397"/>
                    </a:lnTo>
                    <a:lnTo>
                      <a:pt x="242" y="407"/>
                    </a:lnTo>
                    <a:lnTo>
                      <a:pt x="242" y="416"/>
                    </a:lnTo>
                    <a:lnTo>
                      <a:pt x="242" y="424"/>
                    </a:lnTo>
                    <a:lnTo>
                      <a:pt x="242" y="434"/>
                    </a:lnTo>
                    <a:lnTo>
                      <a:pt x="242" y="443"/>
                    </a:lnTo>
                    <a:lnTo>
                      <a:pt x="242" y="453"/>
                    </a:lnTo>
                    <a:lnTo>
                      <a:pt x="242" y="460"/>
                    </a:lnTo>
                    <a:lnTo>
                      <a:pt x="242" y="468"/>
                    </a:lnTo>
                    <a:lnTo>
                      <a:pt x="242" y="477"/>
                    </a:lnTo>
                    <a:lnTo>
                      <a:pt x="242" y="485"/>
                    </a:lnTo>
                    <a:lnTo>
                      <a:pt x="242" y="492"/>
                    </a:lnTo>
                    <a:lnTo>
                      <a:pt x="242" y="500"/>
                    </a:lnTo>
                    <a:lnTo>
                      <a:pt x="242" y="508"/>
                    </a:lnTo>
                    <a:lnTo>
                      <a:pt x="242" y="513"/>
                    </a:lnTo>
                    <a:lnTo>
                      <a:pt x="242" y="519"/>
                    </a:lnTo>
                    <a:lnTo>
                      <a:pt x="242" y="525"/>
                    </a:lnTo>
                    <a:lnTo>
                      <a:pt x="242" y="531"/>
                    </a:lnTo>
                    <a:lnTo>
                      <a:pt x="242" y="536"/>
                    </a:lnTo>
                    <a:lnTo>
                      <a:pt x="242" y="546"/>
                    </a:lnTo>
                    <a:lnTo>
                      <a:pt x="242" y="555"/>
                    </a:lnTo>
                    <a:lnTo>
                      <a:pt x="242" y="561"/>
                    </a:lnTo>
                    <a:lnTo>
                      <a:pt x="242" y="567"/>
                    </a:lnTo>
                    <a:lnTo>
                      <a:pt x="242" y="569"/>
                    </a:lnTo>
                    <a:lnTo>
                      <a:pt x="242" y="572"/>
                    </a:lnTo>
                    <a:lnTo>
                      <a:pt x="238" y="570"/>
                    </a:lnTo>
                    <a:lnTo>
                      <a:pt x="232" y="569"/>
                    </a:lnTo>
                    <a:lnTo>
                      <a:pt x="226" y="567"/>
                    </a:lnTo>
                    <a:lnTo>
                      <a:pt x="221" y="567"/>
                    </a:lnTo>
                    <a:lnTo>
                      <a:pt x="215" y="565"/>
                    </a:lnTo>
                    <a:lnTo>
                      <a:pt x="207" y="563"/>
                    </a:lnTo>
                    <a:lnTo>
                      <a:pt x="200" y="561"/>
                    </a:lnTo>
                    <a:lnTo>
                      <a:pt x="192" y="557"/>
                    </a:lnTo>
                    <a:lnTo>
                      <a:pt x="183" y="553"/>
                    </a:lnTo>
                    <a:lnTo>
                      <a:pt x="175" y="550"/>
                    </a:lnTo>
                    <a:lnTo>
                      <a:pt x="164" y="544"/>
                    </a:lnTo>
                    <a:lnTo>
                      <a:pt x="154" y="540"/>
                    </a:lnTo>
                    <a:lnTo>
                      <a:pt x="145" y="534"/>
                    </a:lnTo>
                    <a:lnTo>
                      <a:pt x="135" y="531"/>
                    </a:lnTo>
                    <a:lnTo>
                      <a:pt x="124" y="523"/>
                    </a:lnTo>
                    <a:lnTo>
                      <a:pt x="112" y="517"/>
                    </a:lnTo>
                    <a:lnTo>
                      <a:pt x="101" y="508"/>
                    </a:lnTo>
                    <a:lnTo>
                      <a:pt x="93" y="500"/>
                    </a:lnTo>
                    <a:lnTo>
                      <a:pt x="82" y="491"/>
                    </a:lnTo>
                    <a:lnTo>
                      <a:pt x="72" y="481"/>
                    </a:lnTo>
                    <a:lnTo>
                      <a:pt x="63" y="470"/>
                    </a:lnTo>
                    <a:lnTo>
                      <a:pt x="53" y="458"/>
                    </a:lnTo>
                    <a:lnTo>
                      <a:pt x="50" y="451"/>
                    </a:lnTo>
                    <a:lnTo>
                      <a:pt x="44" y="445"/>
                    </a:lnTo>
                    <a:lnTo>
                      <a:pt x="40" y="439"/>
                    </a:lnTo>
                    <a:lnTo>
                      <a:pt x="34" y="434"/>
                    </a:lnTo>
                    <a:lnTo>
                      <a:pt x="31" y="426"/>
                    </a:lnTo>
                    <a:lnTo>
                      <a:pt x="27" y="418"/>
                    </a:lnTo>
                    <a:lnTo>
                      <a:pt x="23" y="413"/>
                    </a:lnTo>
                    <a:lnTo>
                      <a:pt x="21" y="405"/>
                    </a:lnTo>
                    <a:lnTo>
                      <a:pt x="17" y="396"/>
                    </a:lnTo>
                    <a:lnTo>
                      <a:pt x="13" y="388"/>
                    </a:lnTo>
                    <a:lnTo>
                      <a:pt x="10" y="380"/>
                    </a:lnTo>
                    <a:lnTo>
                      <a:pt x="8" y="373"/>
                    </a:lnTo>
                    <a:lnTo>
                      <a:pt x="6" y="363"/>
                    </a:lnTo>
                    <a:lnTo>
                      <a:pt x="2" y="356"/>
                    </a:lnTo>
                    <a:lnTo>
                      <a:pt x="0" y="346"/>
                    </a:lnTo>
                    <a:lnTo>
                      <a:pt x="0" y="339"/>
                    </a:lnTo>
                    <a:lnTo>
                      <a:pt x="0" y="335"/>
                    </a:lnTo>
                    <a:lnTo>
                      <a:pt x="0" y="327"/>
                    </a:lnTo>
                    <a:lnTo>
                      <a:pt x="0" y="321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301"/>
                    </a:lnTo>
                    <a:lnTo>
                      <a:pt x="0" y="291"/>
                    </a:lnTo>
                    <a:lnTo>
                      <a:pt x="0" y="282"/>
                    </a:lnTo>
                    <a:lnTo>
                      <a:pt x="0" y="270"/>
                    </a:lnTo>
                    <a:lnTo>
                      <a:pt x="0" y="261"/>
                    </a:lnTo>
                    <a:lnTo>
                      <a:pt x="0" y="253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3"/>
                    </a:lnTo>
                    <a:lnTo>
                      <a:pt x="0" y="217"/>
                    </a:lnTo>
                    <a:lnTo>
                      <a:pt x="0" y="211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rot="580200">
                <a:off x="2426040" y="4235400"/>
                <a:ext cx="95400" cy="8892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0"/>
                    </a:lnTo>
                    <a:lnTo>
                      <a:pt x="2" y="91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rot="580200">
                <a:off x="2407680" y="4343040"/>
                <a:ext cx="95400" cy="900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2"/>
                    </a:lnTo>
                    <a:lnTo>
                      <a:pt x="0" y="93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rot="580200">
                <a:off x="2268720" y="3991680"/>
                <a:ext cx="428040" cy="226440"/>
              </a:xfrm>
              <a:custGeom>
                <a:avLst/>
                <a:gdLst/>
                <a:ahLst/>
                <a:rect l="l" t="t" r="r" b="b"/>
                <a:pathLst>
                  <a:path w="724" h="386">
                    <a:moveTo>
                      <a:pt x="361" y="386"/>
                    </a:moveTo>
                    <a:lnTo>
                      <a:pt x="370" y="386"/>
                    </a:lnTo>
                    <a:lnTo>
                      <a:pt x="378" y="386"/>
                    </a:lnTo>
                    <a:lnTo>
                      <a:pt x="388" y="384"/>
                    </a:lnTo>
                    <a:lnTo>
                      <a:pt x="397" y="384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0"/>
                    </a:lnTo>
                    <a:lnTo>
                      <a:pt x="433" y="380"/>
                    </a:lnTo>
                    <a:lnTo>
                      <a:pt x="441" y="378"/>
                    </a:lnTo>
                    <a:lnTo>
                      <a:pt x="450" y="378"/>
                    </a:lnTo>
                    <a:lnTo>
                      <a:pt x="458" y="376"/>
                    </a:lnTo>
                    <a:lnTo>
                      <a:pt x="467" y="376"/>
                    </a:lnTo>
                    <a:lnTo>
                      <a:pt x="475" y="373"/>
                    </a:lnTo>
                    <a:lnTo>
                      <a:pt x="484" y="373"/>
                    </a:lnTo>
                    <a:lnTo>
                      <a:pt x="492" y="371"/>
                    </a:lnTo>
                    <a:lnTo>
                      <a:pt x="502" y="371"/>
                    </a:lnTo>
                    <a:lnTo>
                      <a:pt x="509" y="367"/>
                    </a:lnTo>
                    <a:lnTo>
                      <a:pt x="517" y="365"/>
                    </a:lnTo>
                    <a:lnTo>
                      <a:pt x="524" y="363"/>
                    </a:lnTo>
                    <a:lnTo>
                      <a:pt x="532" y="361"/>
                    </a:lnTo>
                    <a:lnTo>
                      <a:pt x="540" y="357"/>
                    </a:lnTo>
                    <a:lnTo>
                      <a:pt x="547" y="355"/>
                    </a:lnTo>
                    <a:lnTo>
                      <a:pt x="555" y="354"/>
                    </a:lnTo>
                    <a:lnTo>
                      <a:pt x="562" y="352"/>
                    </a:lnTo>
                    <a:lnTo>
                      <a:pt x="570" y="348"/>
                    </a:lnTo>
                    <a:lnTo>
                      <a:pt x="576" y="346"/>
                    </a:lnTo>
                    <a:lnTo>
                      <a:pt x="583" y="342"/>
                    </a:lnTo>
                    <a:lnTo>
                      <a:pt x="591" y="340"/>
                    </a:lnTo>
                    <a:lnTo>
                      <a:pt x="597" y="336"/>
                    </a:lnTo>
                    <a:lnTo>
                      <a:pt x="604" y="335"/>
                    </a:lnTo>
                    <a:lnTo>
                      <a:pt x="610" y="331"/>
                    </a:lnTo>
                    <a:lnTo>
                      <a:pt x="618" y="329"/>
                    </a:lnTo>
                    <a:lnTo>
                      <a:pt x="627" y="321"/>
                    </a:lnTo>
                    <a:lnTo>
                      <a:pt x="638" y="314"/>
                    </a:lnTo>
                    <a:lnTo>
                      <a:pt x="650" y="306"/>
                    </a:lnTo>
                    <a:lnTo>
                      <a:pt x="661" y="300"/>
                    </a:lnTo>
                    <a:lnTo>
                      <a:pt x="669" y="291"/>
                    </a:lnTo>
                    <a:lnTo>
                      <a:pt x="678" y="283"/>
                    </a:lnTo>
                    <a:lnTo>
                      <a:pt x="686" y="274"/>
                    </a:lnTo>
                    <a:lnTo>
                      <a:pt x="694" y="268"/>
                    </a:lnTo>
                    <a:lnTo>
                      <a:pt x="699" y="259"/>
                    </a:lnTo>
                    <a:lnTo>
                      <a:pt x="705" y="249"/>
                    </a:lnTo>
                    <a:lnTo>
                      <a:pt x="711" y="240"/>
                    </a:lnTo>
                    <a:lnTo>
                      <a:pt x="714" y="232"/>
                    </a:lnTo>
                    <a:lnTo>
                      <a:pt x="716" y="222"/>
                    </a:lnTo>
                    <a:lnTo>
                      <a:pt x="720" y="213"/>
                    </a:lnTo>
                    <a:lnTo>
                      <a:pt x="722" y="203"/>
                    </a:lnTo>
                    <a:lnTo>
                      <a:pt x="724" y="194"/>
                    </a:lnTo>
                    <a:lnTo>
                      <a:pt x="722" y="184"/>
                    </a:lnTo>
                    <a:lnTo>
                      <a:pt x="720" y="173"/>
                    </a:lnTo>
                    <a:lnTo>
                      <a:pt x="716" y="164"/>
                    </a:lnTo>
                    <a:lnTo>
                      <a:pt x="714" y="154"/>
                    </a:lnTo>
                    <a:lnTo>
                      <a:pt x="711" y="145"/>
                    </a:lnTo>
                    <a:lnTo>
                      <a:pt x="705" y="135"/>
                    </a:lnTo>
                    <a:lnTo>
                      <a:pt x="699" y="127"/>
                    </a:lnTo>
                    <a:lnTo>
                      <a:pt x="694" y="118"/>
                    </a:lnTo>
                    <a:lnTo>
                      <a:pt x="686" y="108"/>
                    </a:lnTo>
                    <a:lnTo>
                      <a:pt x="678" y="101"/>
                    </a:lnTo>
                    <a:lnTo>
                      <a:pt x="669" y="91"/>
                    </a:lnTo>
                    <a:lnTo>
                      <a:pt x="661" y="86"/>
                    </a:lnTo>
                    <a:lnTo>
                      <a:pt x="650" y="76"/>
                    </a:lnTo>
                    <a:lnTo>
                      <a:pt x="638" y="69"/>
                    </a:lnTo>
                    <a:lnTo>
                      <a:pt x="627" y="63"/>
                    </a:lnTo>
                    <a:lnTo>
                      <a:pt x="618" y="57"/>
                    </a:lnTo>
                    <a:lnTo>
                      <a:pt x="610" y="53"/>
                    </a:lnTo>
                    <a:lnTo>
                      <a:pt x="604" y="49"/>
                    </a:lnTo>
                    <a:lnTo>
                      <a:pt x="597" y="46"/>
                    </a:lnTo>
                    <a:lnTo>
                      <a:pt x="591" y="44"/>
                    </a:lnTo>
                    <a:lnTo>
                      <a:pt x="583" y="40"/>
                    </a:lnTo>
                    <a:lnTo>
                      <a:pt x="576" y="36"/>
                    </a:lnTo>
                    <a:lnTo>
                      <a:pt x="570" y="34"/>
                    </a:lnTo>
                    <a:lnTo>
                      <a:pt x="562" y="32"/>
                    </a:lnTo>
                    <a:lnTo>
                      <a:pt x="555" y="30"/>
                    </a:lnTo>
                    <a:lnTo>
                      <a:pt x="547" y="27"/>
                    </a:lnTo>
                    <a:lnTo>
                      <a:pt x="540" y="25"/>
                    </a:lnTo>
                    <a:lnTo>
                      <a:pt x="532" y="23"/>
                    </a:lnTo>
                    <a:lnTo>
                      <a:pt x="524" y="19"/>
                    </a:lnTo>
                    <a:lnTo>
                      <a:pt x="517" y="19"/>
                    </a:lnTo>
                    <a:lnTo>
                      <a:pt x="509" y="15"/>
                    </a:lnTo>
                    <a:lnTo>
                      <a:pt x="502" y="15"/>
                    </a:lnTo>
                    <a:lnTo>
                      <a:pt x="492" y="11"/>
                    </a:lnTo>
                    <a:lnTo>
                      <a:pt x="484" y="11"/>
                    </a:lnTo>
                    <a:lnTo>
                      <a:pt x="475" y="10"/>
                    </a:lnTo>
                    <a:lnTo>
                      <a:pt x="467" y="8"/>
                    </a:lnTo>
                    <a:lnTo>
                      <a:pt x="458" y="6"/>
                    </a:lnTo>
                    <a:lnTo>
                      <a:pt x="450" y="6"/>
                    </a:lnTo>
                    <a:lnTo>
                      <a:pt x="441" y="4"/>
                    </a:lnTo>
                    <a:lnTo>
                      <a:pt x="433" y="4"/>
                    </a:lnTo>
                    <a:lnTo>
                      <a:pt x="424" y="2"/>
                    </a:lnTo>
                    <a:lnTo>
                      <a:pt x="416" y="2"/>
                    </a:lnTo>
                    <a:lnTo>
                      <a:pt x="407" y="0"/>
                    </a:lnTo>
                    <a:lnTo>
                      <a:pt x="397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70" y="0"/>
                    </a:lnTo>
                    <a:lnTo>
                      <a:pt x="361" y="0"/>
                    </a:lnTo>
                    <a:lnTo>
                      <a:pt x="351" y="0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3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87" y="4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6"/>
                    </a:lnTo>
                    <a:lnTo>
                      <a:pt x="253" y="8"/>
                    </a:lnTo>
                    <a:lnTo>
                      <a:pt x="243" y="10"/>
                    </a:lnTo>
                    <a:lnTo>
                      <a:pt x="235" y="11"/>
                    </a:lnTo>
                    <a:lnTo>
                      <a:pt x="228" y="11"/>
                    </a:lnTo>
                    <a:lnTo>
                      <a:pt x="220" y="15"/>
                    </a:lnTo>
                    <a:lnTo>
                      <a:pt x="211" y="15"/>
                    </a:lnTo>
                    <a:lnTo>
                      <a:pt x="203" y="19"/>
                    </a:lnTo>
                    <a:lnTo>
                      <a:pt x="196" y="19"/>
                    </a:lnTo>
                    <a:lnTo>
                      <a:pt x="188" y="23"/>
                    </a:lnTo>
                    <a:lnTo>
                      <a:pt x="178" y="25"/>
                    </a:lnTo>
                    <a:lnTo>
                      <a:pt x="173" y="27"/>
                    </a:lnTo>
                    <a:lnTo>
                      <a:pt x="165" y="30"/>
                    </a:lnTo>
                    <a:lnTo>
                      <a:pt x="158" y="32"/>
                    </a:lnTo>
                    <a:lnTo>
                      <a:pt x="150" y="34"/>
                    </a:lnTo>
                    <a:lnTo>
                      <a:pt x="142" y="36"/>
                    </a:lnTo>
                    <a:lnTo>
                      <a:pt x="137" y="40"/>
                    </a:lnTo>
                    <a:lnTo>
                      <a:pt x="131" y="44"/>
                    </a:lnTo>
                    <a:lnTo>
                      <a:pt x="123" y="46"/>
                    </a:lnTo>
                    <a:lnTo>
                      <a:pt x="118" y="49"/>
                    </a:lnTo>
                    <a:lnTo>
                      <a:pt x="110" y="53"/>
                    </a:lnTo>
                    <a:lnTo>
                      <a:pt x="104" y="57"/>
                    </a:lnTo>
                    <a:lnTo>
                      <a:pt x="99" y="61"/>
                    </a:lnTo>
                    <a:lnTo>
                      <a:pt x="93" y="63"/>
                    </a:lnTo>
                    <a:lnTo>
                      <a:pt x="87" y="67"/>
                    </a:lnTo>
                    <a:lnTo>
                      <a:pt x="81" y="69"/>
                    </a:lnTo>
                    <a:lnTo>
                      <a:pt x="70" y="76"/>
                    </a:lnTo>
                    <a:lnTo>
                      <a:pt x="61" y="86"/>
                    </a:lnTo>
                    <a:lnTo>
                      <a:pt x="51" y="91"/>
                    </a:lnTo>
                    <a:lnTo>
                      <a:pt x="43" y="101"/>
                    </a:lnTo>
                    <a:lnTo>
                      <a:pt x="34" y="108"/>
                    </a:lnTo>
                    <a:lnTo>
                      <a:pt x="28" y="118"/>
                    </a:lnTo>
                    <a:lnTo>
                      <a:pt x="21" y="127"/>
                    </a:lnTo>
                    <a:lnTo>
                      <a:pt x="15" y="135"/>
                    </a:lnTo>
                    <a:lnTo>
                      <a:pt x="9" y="145"/>
                    </a:lnTo>
                    <a:lnTo>
                      <a:pt x="5" y="154"/>
                    </a:lnTo>
                    <a:lnTo>
                      <a:pt x="4" y="164"/>
                    </a:lnTo>
                    <a:lnTo>
                      <a:pt x="2" y="173"/>
                    </a:lnTo>
                    <a:lnTo>
                      <a:pt x="0" y="184"/>
                    </a:lnTo>
                    <a:lnTo>
                      <a:pt x="0" y="194"/>
                    </a:lnTo>
                    <a:lnTo>
                      <a:pt x="0" y="203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5" y="232"/>
                    </a:lnTo>
                    <a:lnTo>
                      <a:pt x="9" y="240"/>
                    </a:lnTo>
                    <a:lnTo>
                      <a:pt x="15" y="249"/>
                    </a:lnTo>
                    <a:lnTo>
                      <a:pt x="21" y="259"/>
                    </a:lnTo>
                    <a:lnTo>
                      <a:pt x="28" y="268"/>
                    </a:lnTo>
                    <a:lnTo>
                      <a:pt x="34" y="274"/>
                    </a:lnTo>
                    <a:lnTo>
                      <a:pt x="43" y="283"/>
                    </a:lnTo>
                    <a:lnTo>
                      <a:pt x="51" y="291"/>
                    </a:lnTo>
                    <a:lnTo>
                      <a:pt x="61" y="300"/>
                    </a:lnTo>
                    <a:lnTo>
                      <a:pt x="70" y="306"/>
                    </a:lnTo>
                    <a:lnTo>
                      <a:pt x="81" y="314"/>
                    </a:lnTo>
                    <a:lnTo>
                      <a:pt x="87" y="317"/>
                    </a:lnTo>
                    <a:lnTo>
                      <a:pt x="93" y="321"/>
                    </a:lnTo>
                    <a:lnTo>
                      <a:pt x="99" y="325"/>
                    </a:lnTo>
                    <a:lnTo>
                      <a:pt x="104" y="329"/>
                    </a:lnTo>
                    <a:lnTo>
                      <a:pt x="110" y="331"/>
                    </a:lnTo>
                    <a:lnTo>
                      <a:pt x="118" y="335"/>
                    </a:lnTo>
                    <a:lnTo>
                      <a:pt x="123" y="336"/>
                    </a:lnTo>
                    <a:lnTo>
                      <a:pt x="131" y="340"/>
                    </a:lnTo>
                    <a:lnTo>
                      <a:pt x="137" y="342"/>
                    </a:lnTo>
                    <a:lnTo>
                      <a:pt x="142" y="346"/>
                    </a:lnTo>
                    <a:lnTo>
                      <a:pt x="150" y="348"/>
                    </a:lnTo>
                    <a:lnTo>
                      <a:pt x="158" y="352"/>
                    </a:lnTo>
                    <a:lnTo>
                      <a:pt x="165" y="354"/>
                    </a:lnTo>
                    <a:lnTo>
                      <a:pt x="173" y="355"/>
                    </a:lnTo>
                    <a:lnTo>
                      <a:pt x="178" y="357"/>
                    </a:lnTo>
                    <a:lnTo>
                      <a:pt x="188" y="361"/>
                    </a:lnTo>
                    <a:lnTo>
                      <a:pt x="196" y="363"/>
                    </a:lnTo>
                    <a:lnTo>
                      <a:pt x="203" y="365"/>
                    </a:lnTo>
                    <a:lnTo>
                      <a:pt x="211" y="367"/>
                    </a:lnTo>
                    <a:lnTo>
                      <a:pt x="220" y="371"/>
                    </a:lnTo>
                    <a:lnTo>
                      <a:pt x="228" y="371"/>
                    </a:lnTo>
                    <a:lnTo>
                      <a:pt x="235" y="373"/>
                    </a:lnTo>
                    <a:lnTo>
                      <a:pt x="243" y="373"/>
                    </a:lnTo>
                    <a:lnTo>
                      <a:pt x="253" y="376"/>
                    </a:lnTo>
                    <a:lnTo>
                      <a:pt x="262" y="376"/>
                    </a:lnTo>
                    <a:lnTo>
                      <a:pt x="270" y="378"/>
                    </a:lnTo>
                    <a:lnTo>
                      <a:pt x="277" y="378"/>
                    </a:lnTo>
                    <a:lnTo>
                      <a:pt x="287" y="380"/>
                    </a:lnTo>
                    <a:lnTo>
                      <a:pt x="296" y="380"/>
                    </a:lnTo>
                    <a:lnTo>
                      <a:pt x="306" y="382"/>
                    </a:lnTo>
                    <a:lnTo>
                      <a:pt x="313" y="382"/>
                    </a:lnTo>
                    <a:lnTo>
                      <a:pt x="323" y="384"/>
                    </a:lnTo>
                    <a:lnTo>
                      <a:pt x="332" y="384"/>
                    </a:lnTo>
                    <a:lnTo>
                      <a:pt x="342" y="386"/>
                    </a:lnTo>
                    <a:lnTo>
                      <a:pt x="351" y="386"/>
                    </a:lnTo>
                    <a:lnTo>
                      <a:pt x="361" y="386"/>
                    </a:lnTo>
                    <a:lnTo>
                      <a:pt x="361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rot="580200">
                <a:off x="2368800" y="4045320"/>
                <a:ext cx="110880" cy="89640"/>
              </a:xfrm>
              <a:custGeom>
                <a:avLst/>
                <a:gdLst/>
                <a:ahLst/>
                <a:rect l="l" t="t" r="r" b="b"/>
                <a:pathLst>
                  <a:path w="189" h="152">
                    <a:moveTo>
                      <a:pt x="0" y="152"/>
                    </a:moveTo>
                    <a:lnTo>
                      <a:pt x="0" y="14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3"/>
                    </a:lnTo>
                    <a:lnTo>
                      <a:pt x="0" y="63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3" y="4"/>
                    </a:lnTo>
                    <a:lnTo>
                      <a:pt x="73" y="6"/>
                    </a:lnTo>
                    <a:lnTo>
                      <a:pt x="80" y="8"/>
                    </a:lnTo>
                    <a:lnTo>
                      <a:pt x="88" y="10"/>
                    </a:lnTo>
                    <a:lnTo>
                      <a:pt x="95" y="10"/>
                    </a:lnTo>
                    <a:lnTo>
                      <a:pt x="105" y="12"/>
                    </a:lnTo>
                    <a:lnTo>
                      <a:pt x="113" y="14"/>
                    </a:lnTo>
                    <a:lnTo>
                      <a:pt x="118" y="16"/>
                    </a:lnTo>
                    <a:lnTo>
                      <a:pt x="126" y="19"/>
                    </a:lnTo>
                    <a:lnTo>
                      <a:pt x="133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9" y="31"/>
                    </a:lnTo>
                    <a:lnTo>
                      <a:pt x="156" y="33"/>
                    </a:lnTo>
                    <a:lnTo>
                      <a:pt x="164" y="40"/>
                    </a:lnTo>
                    <a:lnTo>
                      <a:pt x="173" y="46"/>
                    </a:lnTo>
                    <a:lnTo>
                      <a:pt x="179" y="52"/>
                    </a:lnTo>
                    <a:lnTo>
                      <a:pt x="183" y="59"/>
                    </a:lnTo>
                    <a:lnTo>
                      <a:pt x="187" y="67"/>
                    </a:lnTo>
                    <a:lnTo>
                      <a:pt x="189" y="76"/>
                    </a:lnTo>
                    <a:lnTo>
                      <a:pt x="187" y="84"/>
                    </a:lnTo>
                    <a:lnTo>
                      <a:pt x="183" y="90"/>
                    </a:lnTo>
                    <a:lnTo>
                      <a:pt x="179" y="97"/>
                    </a:lnTo>
                    <a:lnTo>
                      <a:pt x="173" y="105"/>
                    </a:lnTo>
                    <a:lnTo>
                      <a:pt x="164" y="111"/>
                    </a:lnTo>
                    <a:lnTo>
                      <a:pt x="156" y="116"/>
                    </a:lnTo>
                    <a:lnTo>
                      <a:pt x="149" y="120"/>
                    </a:lnTo>
                    <a:lnTo>
                      <a:pt x="145" y="122"/>
                    </a:lnTo>
                    <a:lnTo>
                      <a:pt x="137" y="126"/>
                    </a:lnTo>
                    <a:lnTo>
                      <a:pt x="133" y="130"/>
                    </a:lnTo>
                    <a:lnTo>
                      <a:pt x="126" y="132"/>
                    </a:lnTo>
                    <a:lnTo>
                      <a:pt x="118" y="133"/>
                    </a:lnTo>
                    <a:lnTo>
                      <a:pt x="113" y="135"/>
                    </a:lnTo>
                    <a:lnTo>
                      <a:pt x="105" y="137"/>
                    </a:lnTo>
                    <a:lnTo>
                      <a:pt x="95" y="139"/>
                    </a:lnTo>
                    <a:lnTo>
                      <a:pt x="88" y="141"/>
                    </a:lnTo>
                    <a:lnTo>
                      <a:pt x="80" y="143"/>
                    </a:lnTo>
                    <a:lnTo>
                      <a:pt x="73" y="145"/>
                    </a:lnTo>
                    <a:lnTo>
                      <a:pt x="63" y="147"/>
                    </a:lnTo>
                    <a:lnTo>
                      <a:pt x="56" y="149"/>
                    </a:lnTo>
                    <a:lnTo>
                      <a:pt x="46" y="149"/>
                    </a:lnTo>
                    <a:lnTo>
                      <a:pt x="37" y="151"/>
                    </a:lnTo>
                    <a:lnTo>
                      <a:pt x="27" y="151"/>
                    </a:lnTo>
                    <a:lnTo>
                      <a:pt x="18" y="151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1565280" y="216000"/>
            <a:ext cx="7908840" cy="6199200"/>
            <a:chOff x="1565280" y="216000"/>
            <a:chExt cx="7908840" cy="6199200"/>
          </a:xfrm>
        </p:grpSpPr>
        <p:grpSp>
          <p:nvGrpSpPr>
            <p:cNvPr id="1032" name=""/>
            <p:cNvGrpSpPr/>
            <p:nvPr/>
          </p:nvGrpSpPr>
          <p:grpSpPr>
            <a:xfrm>
              <a:off x="1565280" y="216000"/>
              <a:ext cx="7010280" cy="4889520"/>
              <a:chOff x="1565280" y="216000"/>
              <a:chExt cx="7010280" cy="4889520"/>
            </a:xfrm>
          </p:grpSpPr>
          <p:sp>
            <p:nvSpPr>
              <p:cNvPr id="1033" name=""/>
              <p:cNvSpPr/>
              <p:nvPr/>
            </p:nvSpPr>
            <p:spPr>
              <a:xfrm>
                <a:off x="1565280" y="216000"/>
                <a:ext cx="7010280" cy="4889520"/>
              </a:xfrm>
              <a:custGeom>
                <a:avLst/>
                <a:gdLst/>
                <a:ahLst/>
                <a:rect l="l" t="t" r="r" b="b"/>
                <a:pathLst>
                  <a:path w="4416" h="3080">
                    <a:moveTo>
                      <a:pt x="979" y="2204"/>
                    </a:moveTo>
                    <a:lnTo>
                      <a:pt x="527" y="2330"/>
                    </a:lnTo>
                    <a:lnTo>
                      <a:pt x="767" y="2204"/>
                    </a:lnTo>
                    <a:lnTo>
                      <a:pt x="593" y="2207"/>
                    </a:lnTo>
                    <a:lnTo>
                      <a:pt x="762" y="2158"/>
                    </a:lnTo>
                    <a:lnTo>
                      <a:pt x="551" y="2157"/>
                    </a:lnTo>
                    <a:lnTo>
                      <a:pt x="819" y="2025"/>
                    </a:lnTo>
                    <a:lnTo>
                      <a:pt x="680" y="2050"/>
                    </a:lnTo>
                    <a:lnTo>
                      <a:pt x="787" y="1967"/>
                    </a:lnTo>
                    <a:lnTo>
                      <a:pt x="247" y="2058"/>
                    </a:lnTo>
                    <a:lnTo>
                      <a:pt x="783" y="1911"/>
                    </a:lnTo>
                    <a:lnTo>
                      <a:pt x="164" y="1858"/>
                    </a:lnTo>
                    <a:lnTo>
                      <a:pt x="714" y="1860"/>
                    </a:lnTo>
                    <a:lnTo>
                      <a:pt x="168" y="1694"/>
                    </a:lnTo>
                    <a:lnTo>
                      <a:pt x="451" y="1718"/>
                    </a:lnTo>
                    <a:lnTo>
                      <a:pt x="0" y="1633"/>
                    </a:lnTo>
                    <a:lnTo>
                      <a:pt x="494" y="1639"/>
                    </a:lnTo>
                    <a:lnTo>
                      <a:pt x="198" y="1467"/>
                    </a:lnTo>
                    <a:lnTo>
                      <a:pt x="609" y="1484"/>
                    </a:lnTo>
                    <a:lnTo>
                      <a:pt x="178" y="1374"/>
                    </a:lnTo>
                    <a:lnTo>
                      <a:pt x="483" y="1345"/>
                    </a:lnTo>
                    <a:lnTo>
                      <a:pt x="229" y="1212"/>
                    </a:lnTo>
                    <a:lnTo>
                      <a:pt x="685" y="1141"/>
                    </a:lnTo>
                    <a:lnTo>
                      <a:pt x="423" y="872"/>
                    </a:lnTo>
                    <a:lnTo>
                      <a:pt x="661" y="984"/>
                    </a:lnTo>
                    <a:lnTo>
                      <a:pt x="497" y="547"/>
                    </a:lnTo>
                    <a:lnTo>
                      <a:pt x="706" y="896"/>
                    </a:lnTo>
                    <a:lnTo>
                      <a:pt x="603" y="373"/>
                    </a:lnTo>
                    <a:lnTo>
                      <a:pt x="924" y="804"/>
                    </a:lnTo>
                    <a:lnTo>
                      <a:pt x="891" y="343"/>
                    </a:lnTo>
                    <a:lnTo>
                      <a:pt x="1125" y="922"/>
                    </a:lnTo>
                    <a:lnTo>
                      <a:pt x="1067" y="0"/>
                    </a:lnTo>
                    <a:lnTo>
                      <a:pt x="1188" y="515"/>
                    </a:lnTo>
                    <a:lnTo>
                      <a:pt x="1354" y="181"/>
                    </a:lnTo>
                    <a:lnTo>
                      <a:pt x="1454" y="722"/>
                    </a:lnTo>
                    <a:lnTo>
                      <a:pt x="1786" y="282"/>
                    </a:lnTo>
                    <a:lnTo>
                      <a:pt x="1728" y="736"/>
                    </a:lnTo>
                    <a:lnTo>
                      <a:pt x="2044" y="267"/>
                    </a:lnTo>
                    <a:lnTo>
                      <a:pt x="1950" y="727"/>
                    </a:lnTo>
                    <a:lnTo>
                      <a:pt x="2279" y="196"/>
                    </a:lnTo>
                    <a:lnTo>
                      <a:pt x="2078" y="940"/>
                    </a:lnTo>
                    <a:lnTo>
                      <a:pt x="2645" y="7"/>
                    </a:lnTo>
                    <a:lnTo>
                      <a:pt x="2253" y="826"/>
                    </a:lnTo>
                    <a:lnTo>
                      <a:pt x="3100" y="257"/>
                    </a:lnTo>
                    <a:lnTo>
                      <a:pt x="2409" y="932"/>
                    </a:lnTo>
                    <a:lnTo>
                      <a:pt x="3749" y="505"/>
                    </a:lnTo>
                    <a:lnTo>
                      <a:pt x="2791" y="974"/>
                    </a:lnTo>
                    <a:lnTo>
                      <a:pt x="4052" y="936"/>
                    </a:lnTo>
                    <a:lnTo>
                      <a:pt x="3020" y="1085"/>
                    </a:lnTo>
                    <a:lnTo>
                      <a:pt x="4062" y="1230"/>
                    </a:lnTo>
                    <a:lnTo>
                      <a:pt x="3756" y="1277"/>
                    </a:lnTo>
                    <a:lnTo>
                      <a:pt x="4416" y="1499"/>
                    </a:lnTo>
                    <a:lnTo>
                      <a:pt x="3683" y="1381"/>
                    </a:lnTo>
                    <a:lnTo>
                      <a:pt x="3910" y="1511"/>
                    </a:lnTo>
                    <a:lnTo>
                      <a:pt x="3375" y="1437"/>
                    </a:lnTo>
                    <a:lnTo>
                      <a:pt x="3786" y="1675"/>
                    </a:lnTo>
                    <a:lnTo>
                      <a:pt x="3209" y="1661"/>
                    </a:lnTo>
                    <a:lnTo>
                      <a:pt x="3728" y="1715"/>
                    </a:lnTo>
                    <a:lnTo>
                      <a:pt x="3301" y="1762"/>
                    </a:lnTo>
                    <a:lnTo>
                      <a:pt x="4204" y="1940"/>
                    </a:lnTo>
                    <a:lnTo>
                      <a:pt x="3300" y="1880"/>
                    </a:lnTo>
                    <a:lnTo>
                      <a:pt x="3939" y="2459"/>
                    </a:lnTo>
                    <a:lnTo>
                      <a:pt x="3251" y="2023"/>
                    </a:lnTo>
                    <a:lnTo>
                      <a:pt x="4025" y="2640"/>
                    </a:lnTo>
                    <a:lnTo>
                      <a:pt x="3178" y="2136"/>
                    </a:lnTo>
                    <a:lnTo>
                      <a:pt x="3622" y="2514"/>
                    </a:lnTo>
                    <a:lnTo>
                      <a:pt x="3127" y="2186"/>
                    </a:lnTo>
                    <a:lnTo>
                      <a:pt x="3363" y="2868"/>
                    </a:lnTo>
                    <a:lnTo>
                      <a:pt x="3045" y="2290"/>
                    </a:lnTo>
                    <a:lnTo>
                      <a:pt x="3059" y="3080"/>
                    </a:lnTo>
                    <a:lnTo>
                      <a:pt x="2943" y="2299"/>
                    </a:lnTo>
                    <a:lnTo>
                      <a:pt x="2789" y="3029"/>
                    </a:lnTo>
                    <a:lnTo>
                      <a:pt x="2775" y="2441"/>
                    </a:lnTo>
                    <a:lnTo>
                      <a:pt x="2671" y="2698"/>
                    </a:lnTo>
                    <a:lnTo>
                      <a:pt x="2674" y="2441"/>
                    </a:lnTo>
                    <a:lnTo>
                      <a:pt x="2609" y="2987"/>
                    </a:lnTo>
                    <a:lnTo>
                      <a:pt x="2580" y="2470"/>
                    </a:lnTo>
                    <a:lnTo>
                      <a:pt x="2535" y="2778"/>
                    </a:lnTo>
                    <a:lnTo>
                      <a:pt x="2466" y="2506"/>
                    </a:lnTo>
                    <a:lnTo>
                      <a:pt x="2360" y="2993"/>
                    </a:lnTo>
                    <a:lnTo>
                      <a:pt x="2347" y="2505"/>
                    </a:lnTo>
                    <a:lnTo>
                      <a:pt x="2089" y="2707"/>
                    </a:lnTo>
                    <a:lnTo>
                      <a:pt x="2190" y="2418"/>
                    </a:lnTo>
                    <a:lnTo>
                      <a:pt x="1805" y="2612"/>
                    </a:lnTo>
                    <a:lnTo>
                      <a:pt x="2138" y="2377"/>
                    </a:lnTo>
                    <a:lnTo>
                      <a:pt x="2445" y="1797"/>
                    </a:lnTo>
                    <a:cubicBezTo>
                      <a:pt x="2477" y="1671"/>
                      <a:pt x="2513" y="1624"/>
                      <a:pt x="2431" y="1530"/>
                    </a:cubicBezTo>
                    <a:cubicBezTo>
                      <a:pt x="2418" y="1477"/>
                      <a:pt x="2375" y="1427"/>
                      <a:pt x="2333" y="1393"/>
                    </a:cubicBezTo>
                    <a:cubicBezTo>
                      <a:pt x="2317" y="1330"/>
                      <a:pt x="2209" y="1273"/>
                      <a:pt x="2153" y="1249"/>
                    </a:cubicBezTo>
                    <a:cubicBezTo>
                      <a:pt x="2126" y="1238"/>
                      <a:pt x="2100" y="1227"/>
                      <a:pt x="2072" y="1215"/>
                    </a:cubicBezTo>
                    <a:cubicBezTo>
                      <a:pt x="2064" y="1212"/>
                      <a:pt x="2133" y="1216"/>
                      <a:pt x="2046" y="1204"/>
                    </a:cubicBezTo>
                    <a:cubicBezTo>
                      <a:pt x="1852" y="1161"/>
                      <a:pt x="1786" y="1148"/>
                      <a:pt x="1608" y="1175"/>
                    </a:cubicBezTo>
                    <a:cubicBezTo>
                      <a:pt x="1582" y="1190"/>
                      <a:pt x="1562" y="1205"/>
                      <a:pt x="1540" y="1225"/>
                    </a:cubicBezTo>
                    <a:cubicBezTo>
                      <a:pt x="1517" y="1278"/>
                      <a:pt x="1511" y="1278"/>
                      <a:pt x="1476" y="1320"/>
                    </a:cubicBezTo>
                    <a:cubicBezTo>
                      <a:pt x="1448" y="1386"/>
                      <a:pt x="1487" y="1309"/>
                      <a:pt x="1436" y="1362"/>
                    </a:cubicBezTo>
                    <a:cubicBezTo>
                      <a:pt x="1430" y="1369"/>
                      <a:pt x="1431" y="1381"/>
                      <a:pt x="1425" y="1389"/>
                    </a:cubicBezTo>
                    <a:cubicBezTo>
                      <a:pt x="1419" y="1396"/>
                      <a:pt x="1411" y="1400"/>
                      <a:pt x="1405" y="1406"/>
                    </a:cubicBezTo>
                    <a:cubicBezTo>
                      <a:pt x="1401" y="1415"/>
                      <a:pt x="1398" y="1424"/>
                      <a:pt x="1393" y="1432"/>
                    </a:cubicBezTo>
                    <a:cubicBezTo>
                      <a:pt x="1387" y="1441"/>
                      <a:pt x="1378" y="1448"/>
                      <a:pt x="1373" y="1457"/>
                    </a:cubicBezTo>
                    <a:cubicBezTo>
                      <a:pt x="1361" y="1479"/>
                      <a:pt x="1347" y="1521"/>
                      <a:pt x="1337" y="1547"/>
                    </a:cubicBezTo>
                    <a:cubicBezTo>
                      <a:pt x="1338" y="1574"/>
                      <a:pt x="1343" y="1601"/>
                      <a:pt x="1340" y="1629"/>
                    </a:cubicBezTo>
                    <a:cubicBezTo>
                      <a:pt x="1334" y="1703"/>
                      <a:pt x="1262" y="1721"/>
                      <a:pt x="1203" y="1728"/>
                    </a:cubicBezTo>
                    <a:cubicBezTo>
                      <a:pt x="1191" y="1737"/>
                      <a:pt x="1100" y="1760"/>
                      <a:pt x="1090" y="1764"/>
                    </a:cubicBezTo>
                    <a:cubicBezTo>
                      <a:pt x="1060" y="1792"/>
                      <a:pt x="1043" y="1833"/>
                      <a:pt x="1023" y="1896"/>
                    </a:cubicBezTo>
                    <a:cubicBezTo>
                      <a:pt x="1004" y="1982"/>
                      <a:pt x="1000" y="2066"/>
                      <a:pt x="1019" y="2153"/>
                    </a:cubicBezTo>
                    <a:cubicBezTo>
                      <a:pt x="1012" y="2170"/>
                      <a:pt x="1003" y="2206"/>
                      <a:pt x="979" y="22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  <a:effectLst>
                <a:outerShdw dist="38160" dir="108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9144000" y="601020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43760" y="2733480"/>
            <a:ext cx="6030360" cy="4081680"/>
            <a:chOff x="3443760" y="2733480"/>
            <a:chExt cx="6030360" cy="4081680"/>
          </a:xfrm>
        </p:grpSpPr>
        <p:grpSp>
          <p:nvGrpSpPr>
            <p:cNvPr id="1039" name=""/>
            <p:cNvGrpSpPr/>
            <p:nvPr/>
          </p:nvGrpSpPr>
          <p:grpSpPr>
            <a:xfrm>
              <a:off x="3443760" y="2733480"/>
              <a:ext cx="1430640" cy="931680"/>
              <a:chOff x="3443760" y="2733480"/>
              <a:chExt cx="1430640" cy="931680"/>
            </a:xfrm>
          </p:grpSpPr>
          <p:sp>
            <p:nvSpPr>
              <p:cNvPr id="1040" name=""/>
              <p:cNvSpPr/>
              <p:nvPr/>
            </p:nvSpPr>
            <p:spPr>
              <a:xfrm rot="294600">
                <a:off x="4493880" y="3088800"/>
                <a:ext cx="366840" cy="33048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298400">
                <a:off x="3760920" y="2789280"/>
                <a:ext cx="366480" cy="33012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94600">
                <a:off x="3472920" y="2906280"/>
                <a:ext cx="803520" cy="725400"/>
              </a:xfrm>
              <a:custGeom>
                <a:avLst/>
                <a:gdLst/>
                <a:ahLst/>
                <a:rect l="l" t="t" r="r" b="b"/>
                <a:pathLst>
                  <a:path w="506" h="457">
                    <a:moveTo>
                      <a:pt x="506" y="0"/>
                    </a:moveTo>
                    <a:cubicBezTo>
                      <a:pt x="493" y="46"/>
                      <a:pt x="480" y="93"/>
                      <a:pt x="424" y="128"/>
                    </a:cubicBezTo>
                    <a:cubicBezTo>
                      <a:pt x="368" y="163"/>
                      <a:pt x="224" y="190"/>
                      <a:pt x="168" y="210"/>
                    </a:cubicBezTo>
                    <a:cubicBezTo>
                      <a:pt x="112" y="230"/>
                      <a:pt x="110" y="230"/>
                      <a:pt x="85" y="247"/>
                    </a:cubicBezTo>
                    <a:cubicBezTo>
                      <a:pt x="60" y="264"/>
                      <a:pt x="28" y="279"/>
                      <a:pt x="21" y="311"/>
                    </a:cubicBezTo>
                    <a:cubicBezTo>
                      <a:pt x="14" y="343"/>
                      <a:pt x="0" y="421"/>
                      <a:pt x="40" y="439"/>
                    </a:cubicBezTo>
                    <a:cubicBezTo>
                      <a:pt x="80" y="457"/>
                      <a:pt x="209" y="421"/>
                      <a:pt x="259" y="421"/>
                    </a:cubicBezTo>
                    <a:cubicBezTo>
                      <a:pt x="309" y="421"/>
                      <a:pt x="317" y="437"/>
                      <a:pt x="341" y="439"/>
                    </a:cubicBezTo>
                    <a:cubicBezTo>
                      <a:pt x="365" y="441"/>
                      <a:pt x="399" y="444"/>
                      <a:pt x="405" y="430"/>
                    </a:cubicBezTo>
                    <a:cubicBezTo>
                      <a:pt x="411" y="416"/>
                      <a:pt x="394" y="386"/>
                      <a:pt x="378" y="357"/>
                    </a:cubicBezTo>
                  </a:path>
                </a:pathLst>
              </a:custGeom>
              <a:noFill/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94600">
                <a:off x="3973320" y="289512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94600">
                <a:off x="4584240" y="318420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144000" y="641016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168560" y="4976640"/>
            <a:ext cx="6281640" cy="1706760"/>
            <a:chOff x="1168560" y="4976640"/>
            <a:chExt cx="6281640" cy="1706760"/>
          </a:xfrm>
        </p:grpSpPr>
        <p:sp>
          <p:nvSpPr>
            <p:cNvPr id="1047" name=""/>
            <p:cNvSpPr/>
            <p:nvPr/>
          </p:nvSpPr>
          <p:spPr>
            <a:xfrm>
              <a:off x="1168560" y="4976640"/>
              <a:ext cx="6281640" cy="1706760"/>
            </a:xfrm>
            <a:custGeom>
              <a:avLst/>
              <a:gdLst/>
              <a:ahLst/>
              <a:rect l="l" t="t" r="r" b="b"/>
              <a:pathLst>
                <a:path w="3957" h="1075">
                  <a:moveTo>
                    <a:pt x="624" y="142"/>
                  </a:moveTo>
                  <a:cubicBezTo>
                    <a:pt x="858" y="80"/>
                    <a:pt x="1101" y="80"/>
                    <a:pt x="1341" y="66"/>
                  </a:cubicBezTo>
                  <a:cubicBezTo>
                    <a:pt x="1432" y="49"/>
                    <a:pt x="1497" y="35"/>
                    <a:pt x="1596" y="28"/>
                  </a:cubicBezTo>
                  <a:cubicBezTo>
                    <a:pt x="1656" y="14"/>
                    <a:pt x="1715" y="7"/>
                    <a:pt x="1776" y="0"/>
                  </a:cubicBezTo>
                  <a:cubicBezTo>
                    <a:pt x="2286" y="7"/>
                    <a:pt x="2795" y="16"/>
                    <a:pt x="3305" y="28"/>
                  </a:cubicBezTo>
                  <a:cubicBezTo>
                    <a:pt x="3418" y="43"/>
                    <a:pt x="3526" y="97"/>
                    <a:pt x="3636" y="132"/>
                  </a:cubicBezTo>
                  <a:cubicBezTo>
                    <a:pt x="3682" y="164"/>
                    <a:pt x="3719" y="206"/>
                    <a:pt x="3759" y="245"/>
                  </a:cubicBezTo>
                  <a:cubicBezTo>
                    <a:pt x="3812" y="297"/>
                    <a:pt x="3887" y="319"/>
                    <a:pt x="3957" y="330"/>
                  </a:cubicBezTo>
                  <a:cubicBezTo>
                    <a:pt x="3916" y="462"/>
                    <a:pt x="3710" y="284"/>
                    <a:pt x="3636" y="397"/>
                  </a:cubicBezTo>
                  <a:cubicBezTo>
                    <a:pt x="3667" y="489"/>
                    <a:pt x="3636" y="450"/>
                    <a:pt x="3768" y="472"/>
                  </a:cubicBezTo>
                  <a:cubicBezTo>
                    <a:pt x="3802" y="484"/>
                    <a:pt x="3831" y="503"/>
                    <a:pt x="3863" y="519"/>
                  </a:cubicBezTo>
                  <a:cubicBezTo>
                    <a:pt x="3866" y="529"/>
                    <a:pt x="3877" y="539"/>
                    <a:pt x="3872" y="548"/>
                  </a:cubicBezTo>
                  <a:cubicBezTo>
                    <a:pt x="3868" y="557"/>
                    <a:pt x="3854" y="556"/>
                    <a:pt x="3844" y="557"/>
                  </a:cubicBezTo>
                  <a:cubicBezTo>
                    <a:pt x="3771" y="563"/>
                    <a:pt x="3699" y="564"/>
                    <a:pt x="3626" y="567"/>
                  </a:cubicBezTo>
                  <a:cubicBezTo>
                    <a:pt x="3559" y="610"/>
                    <a:pt x="3590" y="631"/>
                    <a:pt x="3636" y="670"/>
                  </a:cubicBezTo>
                  <a:cubicBezTo>
                    <a:pt x="3646" y="679"/>
                    <a:pt x="3653" y="692"/>
                    <a:pt x="3664" y="699"/>
                  </a:cubicBezTo>
                  <a:cubicBezTo>
                    <a:pt x="3688" y="714"/>
                    <a:pt x="3740" y="736"/>
                    <a:pt x="3740" y="736"/>
                  </a:cubicBezTo>
                  <a:cubicBezTo>
                    <a:pt x="3743" y="749"/>
                    <a:pt x="3749" y="761"/>
                    <a:pt x="3749" y="774"/>
                  </a:cubicBezTo>
                  <a:cubicBezTo>
                    <a:pt x="3749" y="873"/>
                    <a:pt x="3741" y="840"/>
                    <a:pt x="3636" y="850"/>
                  </a:cubicBezTo>
                  <a:cubicBezTo>
                    <a:pt x="3620" y="895"/>
                    <a:pt x="3631" y="911"/>
                    <a:pt x="3664" y="944"/>
                  </a:cubicBezTo>
                  <a:cubicBezTo>
                    <a:pt x="3595" y="991"/>
                    <a:pt x="3508" y="967"/>
                    <a:pt x="3428" y="982"/>
                  </a:cubicBezTo>
                  <a:cubicBezTo>
                    <a:pt x="3400" y="1010"/>
                    <a:pt x="3371" y="1030"/>
                    <a:pt x="3343" y="1058"/>
                  </a:cubicBezTo>
                  <a:cubicBezTo>
                    <a:pt x="2437" y="1036"/>
                    <a:pt x="2812" y="1075"/>
                    <a:pt x="2465" y="1020"/>
                  </a:cubicBezTo>
                  <a:cubicBezTo>
                    <a:pt x="2411" y="1001"/>
                    <a:pt x="2360" y="978"/>
                    <a:pt x="2305" y="963"/>
                  </a:cubicBezTo>
                  <a:cubicBezTo>
                    <a:pt x="1921" y="967"/>
                    <a:pt x="1519" y="873"/>
                    <a:pt x="1153" y="991"/>
                  </a:cubicBezTo>
                  <a:cubicBezTo>
                    <a:pt x="1002" y="988"/>
                    <a:pt x="850" y="985"/>
                    <a:pt x="699" y="982"/>
                  </a:cubicBezTo>
                  <a:cubicBezTo>
                    <a:pt x="548" y="979"/>
                    <a:pt x="356" y="1016"/>
                    <a:pt x="237" y="897"/>
                  </a:cubicBezTo>
                  <a:cubicBezTo>
                    <a:pt x="234" y="888"/>
                    <a:pt x="223" y="878"/>
                    <a:pt x="227" y="869"/>
                  </a:cubicBezTo>
                  <a:cubicBezTo>
                    <a:pt x="231" y="858"/>
                    <a:pt x="247" y="858"/>
                    <a:pt x="255" y="850"/>
                  </a:cubicBezTo>
                  <a:cubicBezTo>
                    <a:pt x="331" y="782"/>
                    <a:pt x="282" y="803"/>
                    <a:pt x="340" y="784"/>
                  </a:cubicBezTo>
                  <a:cubicBezTo>
                    <a:pt x="389" y="735"/>
                    <a:pt x="401" y="719"/>
                    <a:pt x="463" y="699"/>
                  </a:cubicBezTo>
                  <a:cubicBezTo>
                    <a:pt x="381" y="643"/>
                    <a:pt x="332" y="658"/>
                    <a:pt x="218" y="651"/>
                  </a:cubicBezTo>
                  <a:cubicBezTo>
                    <a:pt x="229" y="630"/>
                    <a:pt x="241" y="597"/>
                    <a:pt x="265" y="585"/>
                  </a:cubicBezTo>
                  <a:cubicBezTo>
                    <a:pt x="279" y="578"/>
                    <a:pt x="297" y="580"/>
                    <a:pt x="312" y="576"/>
                  </a:cubicBezTo>
                  <a:cubicBezTo>
                    <a:pt x="350" y="566"/>
                    <a:pt x="388" y="551"/>
                    <a:pt x="425" y="538"/>
                  </a:cubicBezTo>
                  <a:cubicBezTo>
                    <a:pt x="406" y="479"/>
                    <a:pt x="350" y="485"/>
                    <a:pt x="303" y="453"/>
                  </a:cubicBezTo>
                  <a:cubicBezTo>
                    <a:pt x="231" y="456"/>
                    <a:pt x="156" y="445"/>
                    <a:pt x="86" y="463"/>
                  </a:cubicBezTo>
                  <a:cubicBezTo>
                    <a:pt x="64" y="469"/>
                    <a:pt x="61" y="500"/>
                    <a:pt x="48" y="519"/>
                  </a:cubicBezTo>
                  <a:cubicBezTo>
                    <a:pt x="42" y="527"/>
                    <a:pt x="29" y="526"/>
                    <a:pt x="19" y="529"/>
                  </a:cubicBezTo>
                  <a:cubicBezTo>
                    <a:pt x="12" y="507"/>
                    <a:pt x="0" y="486"/>
                    <a:pt x="19" y="463"/>
                  </a:cubicBezTo>
                  <a:cubicBezTo>
                    <a:pt x="34" y="444"/>
                    <a:pt x="64" y="444"/>
                    <a:pt x="86" y="434"/>
                  </a:cubicBezTo>
                  <a:cubicBezTo>
                    <a:pt x="154" y="405"/>
                    <a:pt x="286" y="417"/>
                    <a:pt x="322" y="415"/>
                  </a:cubicBezTo>
                  <a:cubicBezTo>
                    <a:pt x="335" y="411"/>
                    <a:pt x="371" y="408"/>
                    <a:pt x="359" y="378"/>
                  </a:cubicBezTo>
                  <a:cubicBezTo>
                    <a:pt x="344" y="340"/>
                    <a:pt x="228" y="344"/>
                    <a:pt x="180" y="340"/>
                  </a:cubicBezTo>
                  <a:cubicBezTo>
                    <a:pt x="237" y="301"/>
                    <a:pt x="174" y="339"/>
                    <a:pt x="255" y="312"/>
                  </a:cubicBezTo>
                  <a:cubicBezTo>
                    <a:pt x="288" y="301"/>
                    <a:pt x="290" y="289"/>
                    <a:pt x="322" y="283"/>
                  </a:cubicBezTo>
                  <a:cubicBezTo>
                    <a:pt x="402" y="269"/>
                    <a:pt x="470" y="261"/>
                    <a:pt x="548" y="245"/>
                  </a:cubicBezTo>
                  <a:cubicBezTo>
                    <a:pt x="558" y="236"/>
                    <a:pt x="565" y="224"/>
                    <a:pt x="577" y="217"/>
                  </a:cubicBezTo>
                  <a:cubicBezTo>
                    <a:pt x="620" y="193"/>
                    <a:pt x="621" y="230"/>
                    <a:pt x="605" y="179"/>
                  </a:cubicBezTo>
                  <a:cubicBezTo>
                    <a:pt x="642" y="154"/>
                    <a:pt x="721" y="142"/>
                    <a:pt x="624" y="142"/>
                  </a:cubicBezTo>
                  <a:close/>
                </a:path>
              </a:pathLst>
            </a:custGeom>
            <a:solidFill>
              <a:srgbClr val="000000">
                <a:alpha val="9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194920" y="5187600"/>
              <a:ext cx="4520520" cy="1177560"/>
              <a:chOff x="2194920" y="5187600"/>
              <a:chExt cx="4520520" cy="1177560"/>
            </a:xfrm>
          </p:grpSpPr>
          <p:sp>
            <p:nvSpPr>
              <p:cNvPr id="1049" name=""/>
              <p:cNvSpPr/>
              <p:nvPr/>
            </p:nvSpPr>
            <p:spPr>
              <a:xfrm rot="328800">
                <a:off x="2242800" y="5231520"/>
                <a:ext cx="971280" cy="1055880"/>
              </a:xfrm>
              <a:custGeom>
                <a:avLst/>
                <a:gdLst/>
                <a:ahLst/>
                <a:rect l="l" t="t" r="r" b="b"/>
                <a:pathLst>
                  <a:path w="612" h="665">
                    <a:moveTo>
                      <a:pt x="132" y="665"/>
                    </a:moveTo>
                    <a:lnTo>
                      <a:pt x="612" y="560"/>
                    </a:lnTo>
                    <a:lnTo>
                      <a:pt x="599" y="448"/>
                    </a:lnTo>
                    <a:lnTo>
                      <a:pt x="566" y="507"/>
                    </a:lnTo>
                    <a:lnTo>
                      <a:pt x="237" y="573"/>
                    </a:lnTo>
                    <a:lnTo>
                      <a:pt x="211" y="388"/>
                    </a:lnTo>
                    <a:lnTo>
                      <a:pt x="400" y="340"/>
                    </a:lnTo>
                    <a:lnTo>
                      <a:pt x="436" y="368"/>
                    </a:lnTo>
                    <a:lnTo>
                      <a:pt x="415" y="230"/>
                    </a:lnTo>
                    <a:lnTo>
                      <a:pt x="401" y="277"/>
                    </a:lnTo>
                    <a:lnTo>
                      <a:pt x="184" y="323"/>
                    </a:lnTo>
                    <a:lnTo>
                      <a:pt x="158" y="145"/>
                    </a:lnTo>
                    <a:lnTo>
                      <a:pt x="441" y="92"/>
                    </a:lnTo>
                    <a:lnTo>
                      <a:pt x="480" y="86"/>
                    </a:lnTo>
                    <a:lnTo>
                      <a:pt x="513" y="125"/>
                    </a:lnTo>
                    <a:lnTo>
                      <a:pt x="494" y="0"/>
                    </a:lnTo>
                    <a:lnTo>
                      <a:pt x="0" y="112"/>
                    </a:lnTo>
                    <a:lnTo>
                      <a:pt x="86" y="138"/>
                    </a:lnTo>
                    <a:lnTo>
                      <a:pt x="171" y="619"/>
                    </a:lnTo>
                    <a:lnTo>
                      <a:pt x="132" y="6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328800">
                <a:off x="4038840" y="5268240"/>
                <a:ext cx="985680" cy="935280"/>
              </a:xfrm>
              <a:custGeom>
                <a:avLst/>
                <a:gdLst/>
                <a:ahLst/>
                <a:rect l="l" t="t" r="r" b="b"/>
                <a:pathLst>
                  <a:path w="392" h="372">
                    <a:moveTo>
                      <a:pt x="32" y="372"/>
                    </a:moveTo>
                    <a:lnTo>
                      <a:pt x="108" y="372"/>
                    </a:lnTo>
                    <a:lnTo>
                      <a:pt x="88" y="352"/>
                    </a:lnTo>
                    <a:lnTo>
                      <a:pt x="72" y="88"/>
                    </a:lnTo>
                    <a:lnTo>
                      <a:pt x="200" y="348"/>
                    </a:lnTo>
                    <a:lnTo>
                      <a:pt x="316" y="80"/>
                    </a:lnTo>
                    <a:lnTo>
                      <a:pt x="324" y="344"/>
                    </a:lnTo>
                    <a:lnTo>
                      <a:pt x="308" y="364"/>
                    </a:lnTo>
                    <a:lnTo>
                      <a:pt x="388" y="360"/>
                    </a:lnTo>
                    <a:lnTo>
                      <a:pt x="364" y="336"/>
                    </a:lnTo>
                    <a:lnTo>
                      <a:pt x="352" y="24"/>
                    </a:lnTo>
                    <a:lnTo>
                      <a:pt x="392" y="0"/>
                    </a:lnTo>
                    <a:lnTo>
                      <a:pt x="288" y="4"/>
                    </a:lnTo>
                    <a:lnTo>
                      <a:pt x="204" y="260"/>
                    </a:lnTo>
                    <a:lnTo>
                      <a:pt x="100" y="24"/>
                    </a:lnTo>
                    <a:lnTo>
                      <a:pt x="0" y="24"/>
                    </a:lnTo>
                    <a:lnTo>
                      <a:pt x="28" y="48"/>
                    </a:lnTo>
                    <a:lnTo>
                      <a:pt x="44" y="344"/>
                    </a:lnTo>
                    <a:lnTo>
                      <a:pt x="32" y="37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328800">
                <a:off x="5185440" y="5380560"/>
                <a:ext cx="823320" cy="947520"/>
              </a:xfrm>
              <a:custGeom>
                <a:avLst/>
                <a:gdLst/>
                <a:ahLst/>
                <a:rect l="l" t="t" r="r" b="b"/>
                <a:pathLst>
                  <a:path w="319" h="367">
                    <a:moveTo>
                      <a:pt x="312" y="129"/>
                    </a:moveTo>
                    <a:cubicBezTo>
                      <a:pt x="319" y="118"/>
                      <a:pt x="293" y="76"/>
                      <a:pt x="280" y="57"/>
                    </a:cubicBezTo>
                    <a:cubicBezTo>
                      <a:pt x="267" y="38"/>
                      <a:pt x="251" y="26"/>
                      <a:pt x="236" y="17"/>
                    </a:cubicBezTo>
                    <a:cubicBezTo>
                      <a:pt x="221" y="8"/>
                      <a:pt x="211" y="6"/>
                      <a:pt x="188" y="5"/>
                    </a:cubicBezTo>
                    <a:cubicBezTo>
                      <a:pt x="165" y="4"/>
                      <a:pt x="122" y="0"/>
                      <a:pt x="96" y="9"/>
                    </a:cubicBezTo>
                    <a:cubicBezTo>
                      <a:pt x="70" y="18"/>
                      <a:pt x="47" y="40"/>
                      <a:pt x="32" y="61"/>
                    </a:cubicBezTo>
                    <a:cubicBezTo>
                      <a:pt x="17" y="82"/>
                      <a:pt x="13" y="112"/>
                      <a:pt x="8" y="137"/>
                    </a:cubicBezTo>
                    <a:cubicBezTo>
                      <a:pt x="3" y="162"/>
                      <a:pt x="3" y="186"/>
                      <a:pt x="4" y="209"/>
                    </a:cubicBezTo>
                    <a:cubicBezTo>
                      <a:pt x="5" y="232"/>
                      <a:pt x="0" y="251"/>
                      <a:pt x="12" y="273"/>
                    </a:cubicBezTo>
                    <a:cubicBezTo>
                      <a:pt x="24" y="295"/>
                      <a:pt x="43" y="327"/>
                      <a:pt x="76" y="341"/>
                    </a:cubicBezTo>
                    <a:cubicBezTo>
                      <a:pt x="109" y="355"/>
                      <a:pt x="175" y="367"/>
                      <a:pt x="212" y="357"/>
                    </a:cubicBezTo>
                    <a:cubicBezTo>
                      <a:pt x="249" y="347"/>
                      <a:pt x="294" y="301"/>
                      <a:pt x="300" y="281"/>
                    </a:cubicBezTo>
                    <a:cubicBezTo>
                      <a:pt x="306" y="261"/>
                      <a:pt x="256" y="240"/>
                      <a:pt x="248" y="237"/>
                    </a:cubicBezTo>
                    <a:cubicBezTo>
                      <a:pt x="240" y="234"/>
                      <a:pt x="261" y="249"/>
                      <a:pt x="252" y="261"/>
                    </a:cubicBezTo>
                    <a:cubicBezTo>
                      <a:pt x="243" y="273"/>
                      <a:pt x="222" y="304"/>
                      <a:pt x="192" y="309"/>
                    </a:cubicBezTo>
                    <a:cubicBezTo>
                      <a:pt x="162" y="314"/>
                      <a:pt x="97" y="314"/>
                      <a:pt x="72" y="289"/>
                    </a:cubicBezTo>
                    <a:cubicBezTo>
                      <a:pt x="47" y="264"/>
                      <a:pt x="42" y="196"/>
                      <a:pt x="44" y="161"/>
                    </a:cubicBezTo>
                    <a:cubicBezTo>
                      <a:pt x="46" y="126"/>
                      <a:pt x="62" y="96"/>
                      <a:pt x="84" y="77"/>
                    </a:cubicBezTo>
                    <a:cubicBezTo>
                      <a:pt x="106" y="58"/>
                      <a:pt x="147" y="44"/>
                      <a:pt x="176" y="45"/>
                    </a:cubicBezTo>
                    <a:cubicBezTo>
                      <a:pt x="205" y="46"/>
                      <a:pt x="242" y="69"/>
                      <a:pt x="256" y="81"/>
                    </a:cubicBezTo>
                    <a:cubicBezTo>
                      <a:pt x="270" y="93"/>
                      <a:pt x="263" y="110"/>
                      <a:pt x="260" y="117"/>
                    </a:cubicBezTo>
                    <a:cubicBezTo>
                      <a:pt x="257" y="124"/>
                      <a:pt x="227" y="124"/>
                      <a:pt x="236" y="125"/>
                    </a:cubicBezTo>
                    <a:cubicBezTo>
                      <a:pt x="245" y="126"/>
                      <a:pt x="305" y="140"/>
                      <a:pt x="312" y="12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3328920" y="5508000"/>
                <a:ext cx="543960" cy="390240"/>
                <a:chOff x="3328920" y="5508000"/>
                <a:chExt cx="543960" cy="390240"/>
              </a:xfrm>
            </p:grpSpPr>
            <p:sp>
              <p:nvSpPr>
                <p:cNvPr id="1053" name=""/>
                <p:cNvSpPr/>
                <p:nvPr/>
              </p:nvSpPr>
              <p:spPr>
                <a:xfrm rot="328800">
                  <a:off x="3352320" y="5532120"/>
                  <a:ext cx="513720" cy="17100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328800">
                  <a:off x="3335760" y="5702400"/>
                  <a:ext cx="513720" cy="17172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rot="1006800">
                <a:off x="6256080" y="5284080"/>
                <a:ext cx="390240" cy="53352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20" y="69"/>
                    </a:moveTo>
                    <a:cubicBezTo>
                      <a:pt x="28" y="57"/>
                      <a:pt x="40" y="26"/>
                      <a:pt x="59" y="15"/>
                    </a:cubicBezTo>
                    <a:cubicBezTo>
                      <a:pt x="78" y="4"/>
                      <a:pt x="107" y="0"/>
                      <a:pt x="131" y="3"/>
                    </a:cubicBezTo>
                    <a:cubicBezTo>
                      <a:pt x="155" y="6"/>
                      <a:pt x="189" y="19"/>
                      <a:pt x="203" y="36"/>
                    </a:cubicBezTo>
                    <a:cubicBezTo>
                      <a:pt x="217" y="53"/>
                      <a:pt x="218" y="85"/>
                      <a:pt x="218" y="105"/>
                    </a:cubicBezTo>
                    <a:cubicBezTo>
                      <a:pt x="218" y="125"/>
                      <a:pt x="213" y="138"/>
                      <a:pt x="200" y="156"/>
                    </a:cubicBezTo>
                    <a:cubicBezTo>
                      <a:pt x="187" y="174"/>
                      <a:pt x="158" y="197"/>
                      <a:pt x="137" y="216"/>
                    </a:cubicBezTo>
                    <a:cubicBezTo>
                      <a:pt x="116" y="235"/>
                      <a:pt x="88" y="256"/>
                      <a:pt x="77" y="267"/>
                    </a:cubicBezTo>
                    <a:cubicBezTo>
                      <a:pt x="66" y="278"/>
                      <a:pt x="44" y="283"/>
                      <a:pt x="68" y="285"/>
                    </a:cubicBezTo>
                    <a:cubicBezTo>
                      <a:pt x="92" y="287"/>
                      <a:pt x="196" y="271"/>
                      <a:pt x="221" y="276"/>
                    </a:cubicBezTo>
                    <a:cubicBezTo>
                      <a:pt x="246" y="281"/>
                      <a:pt x="220" y="306"/>
                      <a:pt x="218" y="315"/>
                    </a:cubicBezTo>
                    <a:cubicBezTo>
                      <a:pt x="216" y="324"/>
                      <a:pt x="210" y="333"/>
                      <a:pt x="206" y="333"/>
                    </a:cubicBezTo>
                    <a:cubicBezTo>
                      <a:pt x="202" y="333"/>
                      <a:pt x="220" y="317"/>
                      <a:pt x="191" y="315"/>
                    </a:cubicBezTo>
                    <a:cubicBezTo>
                      <a:pt x="162" y="313"/>
                      <a:pt x="62" y="323"/>
                      <a:pt x="32" y="324"/>
                    </a:cubicBezTo>
                    <a:cubicBezTo>
                      <a:pt x="2" y="325"/>
                      <a:pt x="7" y="336"/>
                      <a:pt x="8" y="324"/>
                    </a:cubicBezTo>
                    <a:cubicBezTo>
                      <a:pt x="9" y="312"/>
                      <a:pt x="14" y="280"/>
                      <a:pt x="41" y="249"/>
                    </a:cubicBezTo>
                    <a:cubicBezTo>
                      <a:pt x="68" y="218"/>
                      <a:pt x="147" y="169"/>
                      <a:pt x="167" y="138"/>
                    </a:cubicBezTo>
                    <a:cubicBezTo>
                      <a:pt x="187" y="107"/>
                      <a:pt x="174" y="75"/>
                      <a:pt x="164" y="60"/>
                    </a:cubicBezTo>
                    <a:cubicBezTo>
                      <a:pt x="154" y="45"/>
                      <a:pt x="124" y="42"/>
                      <a:pt x="107" y="45"/>
                    </a:cubicBezTo>
                    <a:cubicBezTo>
                      <a:pt x="90" y="48"/>
                      <a:pt x="67" y="68"/>
                      <a:pt x="62" y="78"/>
                    </a:cubicBezTo>
                    <a:cubicBezTo>
                      <a:pt x="57" y="88"/>
                      <a:pt x="83" y="103"/>
                      <a:pt x="74" y="105"/>
                    </a:cubicBezTo>
                    <a:cubicBezTo>
                      <a:pt x="65" y="107"/>
                      <a:pt x="16" y="96"/>
                      <a:pt x="8" y="90"/>
                    </a:cubicBezTo>
                    <a:cubicBezTo>
                      <a:pt x="0" y="84"/>
                      <a:pt x="12" y="81"/>
                      <a:pt x="20" y="6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-1652760" y="53496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76760" y="-554040"/>
            <a:ext cx="5786280" cy="5786280"/>
          </a:xfrm>
          <a:custGeom>
            <a:avLst/>
            <a:gdLst>
              <a:gd name="textAreaLeft" fmla="*/ 1320840 w 5786280"/>
              <a:gd name="textAreaRight" fmla="*/ 4465440 w 578628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-1076400" y="4246560"/>
            <a:ext cx="5786640" cy="578628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329080" y="422100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i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809880" y="1587600"/>
            <a:ext cx="13209480" cy="4431600"/>
            <a:chOff x="3809880" y="1587600"/>
            <a:chExt cx="13209480" cy="4431600"/>
          </a:xfrm>
        </p:grpSpPr>
        <p:sp>
          <p:nvSpPr>
            <p:cNvPr id="1062" name=""/>
            <p:cNvSpPr/>
            <p:nvPr/>
          </p:nvSpPr>
          <p:spPr>
            <a:xfrm>
              <a:off x="10567800" y="2494080"/>
              <a:ext cx="3741840" cy="1861920"/>
            </a:xfrm>
            <a:prstGeom prst="rightArrow">
              <a:avLst>
                <a:gd name="adj1" fmla="val 50000"/>
                <a:gd name="adj2" fmla="val 5024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452720" y="3246480"/>
              <a:ext cx="566640" cy="5666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4482440" y="1587600"/>
              <a:ext cx="1704960" cy="1704960"/>
              <a:chOff x="14482440" y="1587600"/>
              <a:chExt cx="1704960" cy="1704960"/>
            </a:xfrm>
          </p:grpSpPr>
          <p:sp>
            <p:nvSpPr>
              <p:cNvPr id="1065" name=""/>
              <p:cNvSpPr/>
              <p:nvPr/>
            </p:nvSpPr>
            <p:spPr>
              <a:xfrm>
                <a:off x="14482440" y="15876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14545080" y="1647360"/>
                <a:ext cx="1558440" cy="1597680"/>
                <a:chOff x="14545080" y="1647360"/>
                <a:chExt cx="1558440" cy="1597680"/>
              </a:xfrm>
            </p:grpSpPr>
            <p:sp>
              <p:nvSpPr>
                <p:cNvPr id="1067" name=""/>
                <p:cNvSpPr/>
                <p:nvPr/>
              </p:nvSpPr>
              <p:spPr>
                <a:xfrm rot="13552200">
                  <a:off x="14822640" y="1913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13552200">
                  <a:off x="14994000" y="18615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3552200">
                  <a:off x="14595480" y="217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3552200">
                  <a:off x="14761080" y="2066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3552200">
                  <a:off x="14830560" y="1889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3552200">
                  <a:off x="15426360" y="19411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13552200">
                  <a:off x="14598000" y="2499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13552200">
                  <a:off x="14677200" y="235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13552200">
                  <a:off x="14860080" y="2246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13552200">
                  <a:off x="15091920" y="169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13321800">
                  <a:off x="15071400" y="2208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13321800">
                  <a:off x="14748840" y="27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3321800">
                  <a:off x="14815800" y="247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13321800">
                  <a:off x="15206760" y="1938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3552200">
                  <a:off x="15057360" y="236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3552200">
                  <a:off x="14872680" y="2842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3552200">
                  <a:off x="14937120" y="261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3552200">
                  <a:off x="15150240" y="25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3552200">
                  <a:off x="15305400" y="2318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3552200">
                  <a:off x="15054120" y="2745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3552200">
                  <a:off x="15333120" y="2527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3807200">
                  <a:off x="15507000" y="238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3807200">
                  <a:off x="15225840" y="27903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13807200">
                  <a:off x="15455880" y="2712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3807200">
                  <a:off x="15750000" y="2090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4500200">
                  <a:off x="15800040" y="224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14500200">
                  <a:off x="15327720" y="2957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4500200">
                  <a:off x="15507000" y="288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14500200">
                  <a:off x="15614640" y="25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4500200">
                  <a:off x="15815880" y="248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4500200">
                  <a:off x="15666480" y="2756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3552200">
                  <a:off x="15253560" y="2123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3552200">
                  <a:off x="15485400" y="214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3552200">
                  <a:off x="14966280" y="2039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11200200">
                  <a:off x="14668920" y="2175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1200200">
                  <a:off x="14769360" y="20257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1200200">
                  <a:off x="14655240" y="2517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1200200">
                  <a:off x="14717880" y="2333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1200200">
                  <a:off x="14660640" y="2151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1200200">
                  <a:off x="15319080" y="1732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1200200">
                  <a:off x="14865840" y="277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1200200">
                  <a:off x="14832360" y="260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1200200">
                  <a:off x="14908680" y="2409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1200200">
                  <a:off x="14814000" y="1822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0969200">
                  <a:off x="15048720" y="2246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969200">
                  <a:off x="15110280" y="2832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969200">
                  <a:off x="15021000" y="261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0969200">
                  <a:off x="14982120" y="195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1200200">
                  <a:off x="15135120" y="237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1200200">
                  <a:off x="15295320" y="2863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1200200">
                  <a:off x="15199200" y="264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1200200">
                  <a:off x="15307920" y="2440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11200200">
                  <a:off x="15298200" y="218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1200200">
                  <a:off x="15071040" y="2938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1200200">
                  <a:off x="15373800" y="2674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1200200">
                  <a:off x="15617520" y="2228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1454600">
                  <a:off x="15496920" y="2105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1454600">
                  <a:off x="15803640" y="259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11454600">
                  <a:off x="15663960" y="2392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12148200">
                  <a:off x="15678000" y="190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1200200">
                  <a:off x="15136200" y="206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rot="11200200">
                  <a:off x="15493680" y="1753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11200200">
                  <a:off x="14860080" y="2181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4914800">
                  <a:off x="15015240" y="17848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4914800">
                  <a:off x="15193800" y="180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4914800">
                  <a:off x="14706720" y="1933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4914800">
                  <a:off x="14898960" y="1901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rot="14914800">
                  <a:off x="15033240" y="176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4914800">
                  <a:off x="15561720" y="2042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4914800">
                  <a:off x="14582880" y="2238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4914800">
                  <a:off x="14713560" y="213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4914800">
                  <a:off x="14921640" y="2107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14914800">
                  <a:off x="15347160" y="1689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4684400">
                  <a:off x="15131160" y="2153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4684400">
                  <a:off x="14642640" y="2482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14684400">
                  <a:off x="14790600" y="2302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4684400">
                  <a:off x="15359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4914800">
                  <a:off x="15058080" y="2291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4914800">
                  <a:off x="14702760" y="266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4914800">
                  <a:off x="14851800" y="247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4914800">
                  <a:off x="15081840" y="24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4914800">
                  <a:off x="15305400" y="234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4914800">
                  <a:off x="14907600" y="264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4914800">
                  <a:off x="15249600" y="25488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15169800">
                  <a:off x="15467040" y="248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15169800">
                  <a:off x="15050160" y="275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5169800">
                  <a:off x="15291360" y="2766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5169800">
                  <a:off x="15803280" y="2307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15862800">
                  <a:off x="15791040" y="2465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15862800">
                  <a:off x="15079320" y="294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15862800">
                  <a:off x="15273360" y="2944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15862800">
                  <a:off x="15506640" y="266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15862800">
                  <a:off x="15712920" y="2690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15862800">
                  <a:off x="15468480" y="2887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4914800">
                  <a:off x="15331680" y="2144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4914800">
                  <a:off x="15538320" y="225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4914800">
                  <a:off x="15098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2562800">
                  <a:off x="14772600" y="1967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12562800">
                  <a:off x="14923080" y="186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2562800">
                  <a:off x="14628960" y="2277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rot="12562800">
                  <a:off x="14757480" y="2130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2562800">
                  <a:off x="14774040" y="1942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2562800">
                  <a:off x="15544080" y="1809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2562800">
                  <a:off x="14724720" y="2593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2562800">
                  <a:off x="14757480" y="242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2562800">
                  <a:off x="14903640" y="2276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2562800">
                  <a:off x="15042960" y="1697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2331800">
                  <a:off x="15096240" y="2179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2331800">
                  <a:off x="14925960" y="274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12331800">
                  <a:off x="14925960" y="25110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2331800">
                  <a:off x="15147720" y="18820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12562800">
                  <a:off x="15125760" y="2331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rot="12562800">
                  <a:off x="15085080" y="2844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12562800">
                  <a:off x="15081840" y="2603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rot="12562800">
                  <a:off x="15259320" y="2458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12562800">
                  <a:off x="15350040" y="2217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2562800">
                  <a:off x="14849280" y="282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rot="12562800">
                  <a:off x="15230520" y="2699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rot="12562800">
                  <a:off x="15627600" y="2381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2817200">
                  <a:off x="15563520" y="2222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12817200">
                  <a:off x="15656040" y="2797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12817200">
                  <a:off x="15606720" y="2552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13510800">
                  <a:off x="15805800" y="2111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rot="12562800">
                  <a:off x="15246720" y="204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rot="12562800">
                  <a:off x="15696000" y="1895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2562800">
                  <a:off x="14946480" y="2047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 rot="8803200">
              <a:off x="14325120" y="3613320"/>
              <a:ext cx="2017800" cy="20174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4386320" y="3692160"/>
              <a:ext cx="1838520" cy="1834560"/>
              <a:chOff x="14386320" y="3692160"/>
              <a:chExt cx="1838520" cy="1834560"/>
            </a:xfrm>
          </p:grpSpPr>
          <p:sp>
            <p:nvSpPr>
              <p:cNvPr id="1195" name=""/>
              <p:cNvSpPr/>
              <p:nvPr/>
            </p:nvSpPr>
            <p:spPr>
              <a:xfrm rot="756000">
                <a:off x="14936400" y="5199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756000">
                <a:off x="14650560" y="49669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756000">
                <a:off x="15682320" y="4625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756000">
                <a:off x="15563880" y="47671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756000">
                <a:off x="15809400" y="4049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756000">
                <a:off x="15898680" y="4303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756000">
                <a:off x="15873120" y="454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756000">
                <a:off x="15822360" y="4788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756000">
                <a:off x="15463440" y="37544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756000">
                <a:off x="15641280" y="38815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756000">
                <a:off x="15732000" y="42699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756000">
                <a:off x="15647760" y="44560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756000">
                <a:off x="15724080" y="4984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756000">
                <a:off x="15687720" y="464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756000">
                <a:off x="15141240" y="49482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756000">
                <a:off x="15543000" y="39862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756000">
                <a:off x="15558840" y="4160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756000">
                <a:off x="15459120" y="43560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756000">
                <a:off x="15493680" y="497664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756000">
                <a:off x="15563520" y="5145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525000">
                <a:off x="15298560" y="4509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525000">
                <a:off x="15193440" y="3709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525000">
                <a:off x="15293520" y="3895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525000">
                <a:off x="1536372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525000">
                <a:off x="15333120" y="4820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525000">
                <a:off x="15341400" y="50716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756000">
                <a:off x="15220440" y="4366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756000">
                <a:off x="15107760" y="38444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756000">
                <a:off x="15184080" y="4083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756000">
                <a:off x="15046200" y="427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756000">
                <a:off x="15284160" y="5246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756000">
                <a:off x="15030000" y="45496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56000">
                <a:off x="14918760" y="37810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56000">
                <a:off x="15006240" y="40338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756000">
                <a:off x="14886000" y="438156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756000">
                <a:off x="14863680" y="50461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010400">
                <a:off x="14817240" y="46083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10400">
                <a:off x="14763240" y="38336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010400">
                <a:off x="14828400" y="409212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10400">
                <a:off x="14674320" y="4292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10400">
                <a:off x="14739840" y="48574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04000">
                <a:off x="14544360" y="477468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04000">
                <a:off x="14642640" y="4005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04000">
                <a:off x="14530320" y="41720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04000">
                <a:off x="14632920" y="4535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04000">
                <a:off x="14431320" y="46371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04000">
                <a:off x="14461560" y="43718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756000">
                <a:off x="15185520" y="4687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756000">
                <a:off x="14973120" y="48038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756000">
                <a:off x="15482880" y="4595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756000">
                <a:off x="15106680" y="51228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20003400">
                <a:off x="15450840" y="5222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20003400">
                <a:off x="15081120" y="52272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20003400">
                <a:off x="15666840" y="43095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20003400">
                <a:off x="15403320" y="37814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20003400">
                <a:off x="15627240" y="39225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20003400">
                <a:off x="1576836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20003400">
                <a:off x="15878160" y="4346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0003400">
                <a:off x="14942880" y="3770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0003400">
                <a:off x="15163560" y="37587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0003400">
                <a:off x="15482880" y="400320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20003400">
                <a:off x="15535080" y="41986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0003400">
                <a:off x="15925680" y="455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20003400">
                <a:off x="15685920" y="4324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20003400">
                <a:off x="15449400" y="49003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003400">
                <a:off x="15152040" y="3900600"/>
                <a:ext cx="255600" cy="2548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003400">
                <a:off x="15276240" y="40258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003400">
                <a:off x="15324120" y="42429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003400">
                <a:off x="15739920" y="46990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003400">
                <a:off x="15900120" y="478764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9773000">
                <a:off x="14709240" y="39110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9773000">
                <a:off x="15107760" y="4123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9773000">
                <a:off x="15519240" y="46814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9773000">
                <a:off x="15684480" y="4868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20003400">
                <a:off x="14725440" y="4068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20003400">
                <a:off x="14957280" y="44416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20003400">
                <a:off x="15754320" y="50400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20003400">
                <a:off x="14538240" y="4135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20003400">
                <a:off x="15301800" y="51512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20258400">
                <a:off x="14454000" y="4275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20258400">
                <a:off x="15085800" y="50864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20951400">
                <a:off x="14469480" y="448632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0951400">
                <a:off x="14487120" y="46857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951400">
                <a:off x="14704920" y="51080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0951400">
                <a:off x="14564880" y="488592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0003400">
                <a:off x="15322320" y="4671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20003400">
                <a:off x="15230520" y="48952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20003400">
                <a:off x="15494040" y="44128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003400">
                <a:off x="15536880" y="50590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003400">
                <a:off x="14766840" y="42764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258400">
                <a:off x="14666760" y="4435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258400">
                <a:off x="14673240" y="468936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951400">
                <a:off x="14879520" y="5144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951400">
                <a:off x="14800320" y="49003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003400">
                <a:off x="14897160" y="46256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20258400">
                <a:off x="14982840" y="48416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20003400">
                <a:off x="15665400" y="4497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9773000">
                <a:off x="14906160" y="3988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0003400">
                <a:off x="14934960" y="420660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9773000">
                <a:off x="15293880" y="44650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003400">
                <a:off x="15146280" y="4400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0003400">
                <a:off x="15111360" y="46620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8664480" y="1855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8761320" y="1989000"/>
              <a:ext cx="3181320" cy="3152520"/>
              <a:chOff x="8761320" y="1989000"/>
              <a:chExt cx="3181320" cy="3152520"/>
            </a:xfrm>
          </p:grpSpPr>
          <p:sp>
            <p:nvSpPr>
              <p:cNvPr id="1299" name=""/>
              <p:cNvSpPr/>
              <p:nvPr/>
            </p:nvSpPr>
            <p:spPr>
              <a:xfrm>
                <a:off x="8923320" y="2114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309240" y="232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665080" y="332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9536040" y="21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01360" y="2039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083960" y="198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369440" y="1989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655280" y="2027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922040" y="2141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155320" y="231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363400" y="25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515680" y="277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28360" y="304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665080" y="360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07840" y="3892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493720" y="4159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322000" y="43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12480" y="459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864800" y="474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579320" y="482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293480" y="4844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007640" y="486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740880" y="4806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474120" y="4692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24552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064800" y="4319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920080" y="406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13880" y="380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761320" y="353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764560" y="32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844120" y="298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958240" y="27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110880" y="248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3552200">
                <a:off x="9241920" y="2584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3552200">
                <a:off x="9186840" y="4440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3552200">
                <a:off x="9015480" y="420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3552200">
                <a:off x="8912160" y="3938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3552200">
                <a:off x="8875800" y="3649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3552200">
                <a:off x="8883720" y="3351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3552200">
                <a:off x="8956440" y="3069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3552200">
                <a:off x="9069480" y="280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3552200">
                <a:off x="94471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3552200">
                <a:off x="9691560" y="2226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3552200">
                <a:off x="9963000" y="212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3552200">
                <a:off x="10245600" y="2087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3552200">
                <a:off x="10542600" y="209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3552200">
                <a:off x="10825200" y="2162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3552200">
                <a:off x="1107756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3552200">
                <a:off x="11290320" y="2507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3552200">
                <a:off x="9375840" y="2680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3552200">
                <a:off x="9320040" y="4537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3552200">
                <a:off x="9148680" y="4306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3552200">
                <a:off x="9045000" y="403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3552200">
                <a:off x="9009000" y="37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3552200">
                <a:off x="9016920" y="3448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3552200">
                <a:off x="90900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3552200">
                <a:off x="9202680" y="290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3552200">
                <a:off x="9579960" y="248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3552200">
                <a:off x="982512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3552200">
                <a:off x="10096560" y="2220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3552200">
                <a:off x="10379160" y="2184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3552200">
                <a:off x="10675440" y="2188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3552200">
                <a:off x="10958400" y="225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3552200">
                <a:off x="11210400" y="241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3552200">
                <a:off x="11423520" y="2604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3552200">
                <a:off x="9491760" y="28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3552200">
                <a:off x="9160920" y="420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3552200">
                <a:off x="9124920" y="3911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3552200">
                <a:off x="91328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3552200">
                <a:off x="9205920" y="333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3552200">
                <a:off x="9318600" y="30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3552200">
                <a:off x="9696240" y="264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552200">
                <a:off x="9941040" y="2488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552200">
                <a:off x="1021248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3552200">
                <a:off x="10494720" y="2348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3552200">
                <a:off x="10791720" y="2354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3552200">
                <a:off x="11074320" y="242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3552200">
                <a:off x="11326680" y="257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3552200">
                <a:off x="9621720" y="29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3552200">
                <a:off x="9291600" y="432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3552200">
                <a:off x="9255240" y="4037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3552200">
                <a:off x="9263160" y="374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3552200">
                <a:off x="9335520" y="34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3552200">
                <a:off x="9448200" y="3192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3552200">
                <a:off x="9826560" y="277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3552200">
                <a:off x="10071000" y="261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3552200">
                <a:off x="1034244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3552200">
                <a:off x="1062504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3552200">
                <a:off x="10922040" y="2480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3552200">
                <a:off x="1120464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3552200">
                <a:off x="9772560" y="3158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3552200">
                <a:off x="9405720" y="4223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3552200">
                <a:off x="9413280" y="3927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3552200">
                <a:off x="9486360" y="364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3552200">
                <a:off x="959904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3552200">
                <a:off x="99774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3552200">
                <a:off x="10221840" y="28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3552200">
                <a:off x="10493280" y="2698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3552200">
                <a:off x="10775880" y="26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3552200">
                <a:off x="110728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3321800">
                <a:off x="9857880" y="3350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3321800">
                <a:off x="9620280" y="472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3321800">
                <a:off x="9564480" y="4438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3321800">
                <a:off x="9551520" y="41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3321800">
                <a:off x="9605520" y="385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3321800">
                <a:off x="9701280" y="358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3321800">
                <a:off x="10050120" y="313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3321800">
                <a:off x="10283400" y="296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3321800">
                <a:off x="10546920" y="284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3321800">
                <a:off x="10826640" y="2786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3321800">
                <a:off x="11123280" y="2772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3321800">
                <a:off x="11409120" y="2825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3552200">
                <a:off x="10010880" y="3455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3552200">
                <a:off x="964404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3552200">
                <a:off x="9651960" y="4223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3552200">
                <a:off x="9725040" y="3940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3552200">
                <a:off x="9837720" y="367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3552200">
                <a:off x="10459440" y="309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3552200">
                <a:off x="10731600" y="299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3552200">
                <a:off x="11013480" y="29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3552200">
                <a:off x="11310840" y="2963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3552200">
                <a:off x="10144080" y="3626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3552200">
                <a:off x="9776880" y="469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3552200">
                <a:off x="9784800" y="4395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3552200">
                <a:off x="9858240" y="4113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3552200">
                <a:off x="9970560" y="3846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3552200">
                <a:off x="10593360" y="3269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3552200">
                <a:off x="108648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3552200">
                <a:off x="11147400" y="3130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3552200">
                <a:off x="11444400" y="313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3807200">
                <a:off x="9929880" y="4734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3807200">
                <a:off x="10374120" y="370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3807200">
                <a:off x="9959760" y="443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3807200">
                <a:off x="10053360" y="4163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3807200">
                <a:off x="10185480" y="390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3807200">
                <a:off x="10593000" y="3517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13807200">
                <a:off x="10848600" y="337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807200">
                <a:off x="11127960" y="329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807200">
                <a:off x="11412360" y="3278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14500200">
                <a:off x="10723320" y="371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4500200">
                <a:off x="10081800" y="4636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4500200">
                <a:off x="10169280" y="43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4500200">
                <a:off x="1031724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4500200">
                <a:off x="10496160" y="387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14500200">
                <a:off x="10974240" y="357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500200">
                <a:off x="11253600" y="349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4500200">
                <a:off x="11542680" y="34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4500200">
                <a:off x="10839240" y="3904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4500200">
                <a:off x="10285200" y="454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4500200">
                <a:off x="10433160" y="4293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4500200">
                <a:off x="10612080" y="4068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4500200">
                <a:off x="11089800" y="376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4500200">
                <a:off x="11369520" y="368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4500200">
                <a:off x="10992960" y="403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4500200">
                <a:off x="10438920" y="468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4500200">
                <a:off x="10586880" y="4428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4500200">
                <a:off x="10766160" y="4203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4500200">
                <a:off x="1124388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4500200">
                <a:off x="11523240" y="3819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4820600">
                <a:off x="11305800" y="403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4820600">
                <a:off x="10693080" y="462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4820600">
                <a:off x="10864440" y="43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4820600">
                <a:off x="11064600" y="4176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5769800">
                <a:off x="10985040" y="4485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5769800">
                <a:off x="11215440" y="4303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3552200">
                <a:off x="102150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3552200">
                <a:off x="103489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36840" y="2496960"/>
              <a:ext cx="4013280" cy="1862280"/>
            </a:xfrm>
            <a:prstGeom prst="rightArrow">
              <a:avLst>
                <a:gd name="adj1" fmla="val 50000"/>
                <a:gd name="adj2" fmla="val 53876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3809880" y="2608200"/>
              <a:ext cx="2238480" cy="1641600"/>
              <a:chOff x="3809880" y="2608200"/>
              <a:chExt cx="2238480" cy="164160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4330440" y="3201840"/>
                <a:ext cx="414360" cy="414360"/>
                <a:chOff x="4330440" y="3201840"/>
                <a:chExt cx="414360" cy="4143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4330440" y="3201840"/>
                  <a:ext cx="414360" cy="4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3300">
                        <a:alpha val="65098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443120" y="3315960"/>
                  <a:ext cx="206280" cy="206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"/>
              <p:cNvSpPr/>
              <p:nvPr/>
            </p:nvSpPr>
            <p:spPr>
              <a:xfrm>
                <a:off x="3809880" y="2608200"/>
                <a:ext cx="428760" cy="1641600"/>
              </a:xfrm>
              <a:custGeom>
                <a:avLst/>
                <a:gdLst/>
                <a:ahLst/>
                <a:rect l="l" t="t" r="r" b="b"/>
                <a:pathLst>
                  <a:path w="246" h="846">
                    <a:moveTo>
                      <a:pt x="199" y="0"/>
                    </a:moveTo>
                    <a:lnTo>
                      <a:pt x="0" y="353"/>
                    </a:lnTo>
                    <a:lnTo>
                      <a:pt x="246" y="846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4019400" y="3727440"/>
                <a:ext cx="1903320" cy="428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5824440" y="2962080"/>
                <a:ext cx="149040" cy="85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995640" y="2700360"/>
                <a:ext cx="2052720" cy="353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-63000" y="1585800"/>
            <a:ext cx="2793960" cy="4431600"/>
            <a:chOff x="-63000" y="1585800"/>
            <a:chExt cx="2793960" cy="4431600"/>
          </a:xfrm>
        </p:grpSpPr>
        <p:grpSp>
          <p:nvGrpSpPr>
            <p:cNvPr id="1476" name=""/>
            <p:cNvGrpSpPr/>
            <p:nvPr/>
          </p:nvGrpSpPr>
          <p:grpSpPr>
            <a:xfrm>
              <a:off x="482760" y="1585800"/>
              <a:ext cx="1704960" cy="1704960"/>
              <a:chOff x="482760" y="1585800"/>
              <a:chExt cx="1704960" cy="1704960"/>
            </a:xfrm>
          </p:grpSpPr>
          <p:sp>
            <p:nvSpPr>
              <p:cNvPr id="1477" name=""/>
              <p:cNvSpPr/>
              <p:nvPr/>
            </p:nvSpPr>
            <p:spPr>
              <a:xfrm>
                <a:off x="482760" y="15858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545400" y="1645560"/>
                <a:ext cx="1558440" cy="1597680"/>
                <a:chOff x="545400" y="1645560"/>
                <a:chExt cx="1558440" cy="1597680"/>
              </a:xfrm>
            </p:grpSpPr>
            <p:sp>
              <p:nvSpPr>
                <p:cNvPr id="1479" name=""/>
                <p:cNvSpPr/>
                <p:nvPr/>
              </p:nvSpPr>
              <p:spPr>
                <a:xfrm rot="13552200">
                  <a:off x="822960" y="1911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13552200">
                  <a:off x="994320" y="1859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13552200">
                  <a:off x="595800" y="2168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13552200">
                  <a:off x="761400" y="2064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13552200">
                  <a:off x="830880" y="1887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rot="13552200">
                  <a:off x="1426680" y="1939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rot="13552200">
                  <a:off x="598320" y="2497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rot="13552200">
                  <a:off x="677520" y="23482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3552200">
                  <a:off x="860400" y="2244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rot="13552200">
                  <a:off x="1092240" y="169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3321800">
                  <a:off x="1071720" y="220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3321800">
                  <a:off x="749160" y="270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3321800">
                  <a:off x="816120" y="2476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3321800">
                  <a:off x="1207080" y="1936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3552200">
                  <a:off x="1057680" y="236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3552200">
                  <a:off x="873000" y="2841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3552200">
                  <a:off x="937440" y="2609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3552200">
                  <a:off x="1150560" y="2521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3552200">
                  <a:off x="1305720" y="231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3552200">
                  <a:off x="1054440" y="274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3552200">
                  <a:off x="1333440" y="252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3807200">
                  <a:off x="1507320" y="2380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3807200">
                  <a:off x="1226160" y="27885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3807200">
                  <a:off x="1456200" y="271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3807200">
                  <a:off x="1750320" y="20883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4500200">
                  <a:off x="1800360" y="224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4500200">
                  <a:off x="1328040" y="2955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4500200">
                  <a:off x="1507320" y="288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4500200">
                  <a:off x="1614960" y="2534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4500200">
                  <a:off x="1816200" y="247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4500200">
                  <a:off x="1666800" y="275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3552200">
                  <a:off x="1253880" y="212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3552200">
                  <a:off x="1485720" y="2141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3552200">
                  <a:off x="966600" y="203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1200200">
                  <a:off x="669240" y="2173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1200200">
                  <a:off x="769680" y="202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1200200">
                  <a:off x="655560" y="2516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rot="11200200">
                  <a:off x="718200" y="2331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rot="11200200">
                  <a:off x="660960" y="2149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rot="11200200">
                  <a:off x="1319400" y="173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rot="11200200">
                  <a:off x="866160" y="2769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rot="11200200">
                  <a:off x="832680" y="260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rot="11200200">
                  <a:off x="909000" y="240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rot="11200200">
                  <a:off x="814320" y="1820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rot="10969200">
                  <a:off x="1049040" y="2244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rot="10969200">
                  <a:off x="1110600" y="2831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rot="10969200">
                  <a:off x="1021320" y="2616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rot="10969200">
                  <a:off x="982440" y="1950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1200200">
                  <a:off x="1135440" y="237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rot="11200200">
                  <a:off x="1295640" y="2861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rot="11200200">
                  <a:off x="1199520" y="2640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rot="11200200">
                  <a:off x="1308240" y="2438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rot="11200200">
                  <a:off x="1298520" y="218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rot="11200200">
                  <a:off x="1071360" y="2936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rot="11200200">
                  <a:off x="1374120" y="267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rot="11200200">
                  <a:off x="1617840" y="2226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rot="11454600">
                  <a:off x="1497240" y="210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rot="11454600">
                  <a:off x="1803960" y="2598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rot="11454600">
                  <a:off x="1664280" y="2391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12148200">
                  <a:off x="1678320" y="190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11200200">
                  <a:off x="1136520" y="206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11200200">
                  <a:off x="1494000" y="1751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1200200">
                  <a:off x="860400" y="2180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14914800">
                  <a:off x="1015560" y="17830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rot="14914800">
                  <a:off x="1194120" y="180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rot="14914800">
                  <a:off x="707040" y="193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rot="14914800">
                  <a:off x="899280" y="190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rot="14914800">
                  <a:off x="1033560" y="1763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rot="14914800">
                  <a:off x="1562040" y="204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rot="14914800">
                  <a:off x="583200" y="223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4914800">
                  <a:off x="713880" y="2129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4914800">
                  <a:off x="921960" y="2105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4914800">
                  <a:off x="1347480" y="1688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4684400">
                  <a:off x="1131480" y="2151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4684400">
                  <a:off x="642960" y="248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4684400">
                  <a:off x="790920" y="23011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4684400">
                  <a:off x="1360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4914800">
                  <a:off x="1058400" y="22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4914800">
                  <a:off x="703080" y="26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4914800">
                  <a:off x="852120" y="2471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14914800">
                  <a:off x="1082160" y="247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4914800">
                  <a:off x="1305720" y="234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rot="14914800">
                  <a:off x="907920" y="26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rot="14914800">
                  <a:off x="1249920" y="254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rot="15169800">
                  <a:off x="1467360" y="247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5169800">
                  <a:off x="1050480" y="274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rot="15169800">
                  <a:off x="1291680" y="276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rot="15169800">
                  <a:off x="1803600" y="2305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5862800">
                  <a:off x="1791360" y="2463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rot="15862800">
                  <a:off x="1079640" y="2941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rot="15862800">
                  <a:off x="1273680" y="294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15862800">
                  <a:off x="1506960" y="2662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15862800">
                  <a:off x="1713240" y="2688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5862800">
                  <a:off x="1468800" y="288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4914800">
                  <a:off x="1332000" y="21427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4914800">
                  <a:off x="1538640" y="225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4914800">
                  <a:off x="1099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2562800">
                  <a:off x="772920" y="1965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2562800">
                  <a:off x="923400" y="1866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2562800">
                  <a:off x="629280" y="2275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2562800">
                  <a:off x="757800" y="2129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2562800">
                  <a:off x="774360" y="1940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2562800">
                  <a:off x="1544400" y="180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12562800">
                  <a:off x="725040" y="25912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12562800">
                  <a:off x="757800" y="242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12562800">
                  <a:off x="903960" y="227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rot="12562800">
                  <a:off x="1043280" y="169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rot="12331800">
                  <a:off x="1096560" y="2177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rot="12331800">
                  <a:off x="926280" y="27421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rot="12331800">
                  <a:off x="926280" y="2509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12331800">
                  <a:off x="1148040" y="18802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2562800">
                  <a:off x="1126080" y="2329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2562800">
                  <a:off x="1085400" y="2842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2562800">
                  <a:off x="1082160" y="2601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rot="12562800">
                  <a:off x="1259640" y="245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rot="12562800">
                  <a:off x="1350360" y="2216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2562800">
                  <a:off x="849600" y="282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rot="12562800">
                  <a:off x="1230840" y="2697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2562800">
                  <a:off x="1627920" y="237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rot="12817200">
                  <a:off x="1563840" y="2220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rot="12817200">
                  <a:off x="1656360" y="279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rot="12817200">
                  <a:off x="1607040" y="255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3510800">
                  <a:off x="1806120" y="2109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rot="12562800">
                  <a:off x="1247040" y="2043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2562800">
                  <a:off x="1696320" y="1893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rot="12562800">
                  <a:off x="946800" y="2045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5" name=""/>
            <p:cNvGrpSpPr/>
            <p:nvPr/>
          </p:nvGrpSpPr>
          <p:grpSpPr>
            <a:xfrm>
              <a:off x="-63000" y="3223080"/>
              <a:ext cx="2793960" cy="2794320"/>
              <a:chOff x="-63000" y="3223080"/>
              <a:chExt cx="2793960" cy="2794320"/>
            </a:xfrm>
          </p:grpSpPr>
          <p:sp>
            <p:nvSpPr>
              <p:cNvPr id="1606" name=""/>
              <p:cNvSpPr/>
              <p:nvPr/>
            </p:nvSpPr>
            <p:spPr>
              <a:xfrm rot="8803200">
                <a:off x="324720" y="36111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386280" y="3690720"/>
                <a:ext cx="1838160" cy="1834920"/>
                <a:chOff x="386280" y="3690720"/>
                <a:chExt cx="1838160" cy="1834920"/>
              </a:xfrm>
            </p:grpSpPr>
            <p:sp>
              <p:nvSpPr>
                <p:cNvPr id="1608" name=""/>
                <p:cNvSpPr/>
                <p:nvPr/>
              </p:nvSpPr>
              <p:spPr>
                <a:xfrm rot="756000">
                  <a:off x="936360" y="5197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756000">
                  <a:off x="650520" y="49658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756000">
                  <a:off x="1682280" y="46245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756000">
                  <a:off x="1563840" y="47656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756000">
                  <a:off x="1809720" y="4047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756000">
                  <a:off x="1898640" y="4302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756000">
                  <a:off x="1873080" y="454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756000">
                  <a:off x="1822320" y="4786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756000">
                  <a:off x="1463400" y="3753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756000">
                  <a:off x="1641240" y="38800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756000">
                  <a:off x="1731960" y="4268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756000">
                  <a:off x="1647720" y="4454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756000">
                  <a:off x="1724040" y="4982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756000">
                  <a:off x="1687680" y="4647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756000">
                  <a:off x="1141200" y="4946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756000">
                  <a:off x="1542960" y="3984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756000">
                  <a:off x="1558800" y="415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756000">
                  <a:off x="1459080" y="43545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756000">
                  <a:off x="1493640" y="49752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rot="756000">
                  <a:off x="1563480" y="5143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rot="525000">
                  <a:off x="1298520" y="4508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rot="525000">
                  <a:off x="1193400" y="3708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525000">
                  <a:off x="1293480" y="389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rot="525000">
                  <a:off x="136368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525000">
                  <a:off x="1333080" y="4819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rot="525000">
                  <a:off x="1341360" y="50702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756000">
                  <a:off x="1220400" y="43657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756000">
                  <a:off x="1107720" y="3843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756000">
                  <a:off x="1184040" y="4081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rot="756000">
                  <a:off x="1046160" y="427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rot="756000">
                  <a:off x="1284120" y="5244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rot="756000">
                  <a:off x="1029960" y="4548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rot="756000">
                  <a:off x="918720" y="378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rot="756000">
                  <a:off x="1006200" y="40323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rot="756000">
                  <a:off x="885960" y="43801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756000">
                  <a:off x="863640" y="50446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010400">
                  <a:off x="817200" y="4606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010400">
                  <a:off x="763200" y="3831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1010400">
                  <a:off x="828360" y="40910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010400">
                  <a:off x="674280" y="4291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rot="1010400">
                  <a:off x="739440" y="4856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704000">
                  <a:off x="544320" y="47732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rot="1704000">
                  <a:off x="642600" y="4003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rot="1704000">
                  <a:off x="529920" y="41702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1704000">
                  <a:off x="632880" y="4533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rot="1704000">
                  <a:off x="431640" y="4635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rot="1704000">
                  <a:off x="461520" y="43700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756000">
                  <a:off x="1185480" y="4686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rot="756000">
                  <a:off x="973080" y="48024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756000">
                  <a:off x="1482840" y="4593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756000">
                  <a:off x="1106640" y="51213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20003400">
                  <a:off x="1450440" y="52210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rot="20003400">
                  <a:off x="1080720" y="52257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rot="20003400">
                  <a:off x="1666440" y="43081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rot="20003400">
                  <a:off x="1402920" y="3779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0003400">
                  <a:off x="1626840" y="3920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rot="20003400">
                  <a:off x="176832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20003400">
                  <a:off x="1878120" y="4344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rot="20003400">
                  <a:off x="942480" y="3768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rot="20003400">
                  <a:off x="11631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20003400">
                  <a:off x="1482480" y="4001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rot="20003400">
                  <a:off x="1535040" y="4197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rot="20003400">
                  <a:off x="1925280" y="45576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20003400">
                  <a:off x="1685520" y="4322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20003400">
                  <a:off x="1449360" y="4898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rot="20003400">
                  <a:off x="1152360" y="3898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20003400">
                  <a:off x="1275840" y="402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rot="20003400">
                  <a:off x="1323720" y="42415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rot="20003400">
                  <a:off x="1739520" y="46972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20003400">
                  <a:off x="1900080" y="4786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rot="19773000">
                  <a:off x="709560" y="39096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rot="19773000">
                  <a:off x="1108080" y="4122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19773000">
                  <a:off x="1519200" y="46796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rot="19773000">
                  <a:off x="1684080" y="4866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rot="20003400">
                  <a:off x="725400" y="4066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20003400">
                  <a:off x="956880" y="4439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rot="20003400">
                  <a:off x="1754280" y="503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20003400">
                  <a:off x="537840" y="4133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rot="20003400">
                  <a:off x="1301400" y="514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20258400">
                  <a:off x="453600" y="4273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rot="20258400">
                  <a:off x="1085760" y="5084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rot="20951400">
                  <a:off x="469440" y="4484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rot="20951400">
                  <a:off x="487080" y="46843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20951400">
                  <a:off x="704880" y="51066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20951400">
                  <a:off x="564840" y="488448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20003400">
                  <a:off x="1322280" y="4670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0003400">
                  <a:off x="1230120" y="48938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20003400">
                  <a:off x="1494000" y="4411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20003400">
                  <a:off x="1536840" y="5057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20003400">
                  <a:off x="766440" y="4275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rot="20258400">
                  <a:off x="666720" y="4433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rot="20258400">
                  <a:off x="672840" y="4687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20951400">
                  <a:off x="879480" y="5143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rot="20951400">
                  <a:off x="800280" y="4898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rot="20003400">
                  <a:off x="897120" y="4624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rot="20258400">
                  <a:off x="982800" y="4839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rot="20003400">
                  <a:off x="1665360" y="449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rot="19773000">
                  <a:off x="906480" y="3987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rot="20003400">
                  <a:off x="934920" y="42051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rot="19773000">
                  <a:off x="1293480" y="44636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rot="20003400">
                  <a:off x="1146240" y="4398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rot="20003400">
                  <a:off x="1110960" y="4660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0" name=""/>
          <p:cNvGrpSpPr/>
          <p:nvPr/>
        </p:nvGrpSpPr>
        <p:grpSpPr>
          <a:xfrm>
            <a:off x="5332320" y="793800"/>
            <a:ext cx="3414960" cy="3414600"/>
            <a:chOff x="5332320" y="793800"/>
            <a:chExt cx="3414960" cy="3414600"/>
          </a:xfrm>
        </p:grpSpPr>
        <p:sp>
          <p:nvSpPr>
            <p:cNvPr id="1711" name=""/>
            <p:cNvSpPr/>
            <p:nvPr/>
          </p:nvSpPr>
          <p:spPr>
            <a:xfrm>
              <a:off x="5332320" y="793800"/>
              <a:ext cx="341496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29160" y="927000"/>
              <a:ext cx="3181320" cy="3152520"/>
              <a:chOff x="5429160" y="927000"/>
              <a:chExt cx="3181320" cy="31525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591160" y="1052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977080" y="126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332920" y="2258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03880" y="11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69200" y="97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51800" y="927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037280" y="92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323120" y="96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589880" y="107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823160" y="125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31240" y="14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83520" y="171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296200" y="198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32920" y="2544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275680" y="2830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61560" y="309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89840" y="3325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80320" y="353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32640" y="3687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376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61320" y="3782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75480" y="38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8720" y="3744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41960" y="363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1336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32640" y="32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587920" y="300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81720" y="274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429160" y="246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32400" y="219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1960" y="1919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626080" y="16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78720" y="142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3552200">
                <a:off x="5909760" y="152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3552200">
                <a:off x="5854680" y="3378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552200">
                <a:off x="5683320" y="3147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3552200">
                <a:off x="5580000" y="2876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3552200">
                <a:off x="5543640" y="258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552200">
                <a:off x="5551560" y="2289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3552200">
                <a:off x="5624280" y="2007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3552200">
                <a:off x="5737320" y="174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3552200">
                <a:off x="611496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3552200">
                <a:off x="6359400" y="1164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3552200">
                <a:off x="6630840" y="106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3552200">
                <a:off x="6913440" y="1025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3552200">
                <a:off x="7210440" y="102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3552200">
                <a:off x="7493040" y="1100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3552200">
                <a:off x="7745400" y="1253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13552200">
                <a:off x="7958160" y="144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3552200">
                <a:off x="6043680" y="161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13552200">
                <a:off x="5987880" y="3475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3552200">
                <a:off x="5816520" y="324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13552200">
                <a:off x="5712840" y="2973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13552200">
                <a:off x="5676840" y="26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3552200">
                <a:off x="5684760" y="2386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3552200">
                <a:off x="57578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3552200">
                <a:off x="5870520" y="1838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3552200">
                <a:off x="6247800" y="142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3552200">
                <a:off x="6492960" y="126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3552200">
                <a:off x="6764400" y="1158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3552200">
                <a:off x="7047000" y="112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3552200">
                <a:off x="7343280" y="112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3552200">
                <a:off x="7626240" y="1197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13552200">
                <a:off x="7878240" y="1350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3552200">
                <a:off x="8091360" y="1542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3552200">
                <a:off x="6159600" y="17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3552200">
                <a:off x="5828760" y="313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3552200">
                <a:off x="5792760" y="2849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13552200">
                <a:off x="580068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13552200">
                <a:off x="5873760" y="2269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13552200">
                <a:off x="5986440" y="20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3552200">
                <a:off x="6364080" y="158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3552200">
                <a:off x="6608880" y="142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3552200">
                <a:off x="688032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3552200">
                <a:off x="7162560" y="1286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3552200">
                <a:off x="7459560" y="129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3552200">
                <a:off x="7742160" y="136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3552200">
                <a:off x="7994520" y="151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3552200">
                <a:off x="6289560" y="1910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3552200">
                <a:off x="5959440" y="326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3552200">
                <a:off x="5923080" y="2975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3552200">
                <a:off x="5931000" y="267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3552200">
                <a:off x="6003360" y="2396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3552200">
                <a:off x="6116040" y="213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3552200">
                <a:off x="6494400" y="171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3552200">
                <a:off x="6738840" y="155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3552200">
                <a:off x="7010280" y="145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3552200">
                <a:off x="7292880" y="141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3552200">
                <a:off x="7589880" y="141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3552200">
                <a:off x="7872480" y="1490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3552200">
                <a:off x="6440400" y="2096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3552200">
                <a:off x="6073560" y="3161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3552200">
                <a:off x="6081120" y="286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3552200">
                <a:off x="6154200" y="258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3552200">
                <a:off x="6266880" y="231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3552200">
                <a:off x="6645240" y="1898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13552200">
                <a:off x="6889680" y="1739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552200">
                <a:off x="7161120" y="1636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552200">
                <a:off x="7443720" y="15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3552200">
                <a:off x="7740720" y="160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13321800">
                <a:off x="6525720" y="2288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13321800">
                <a:off x="6288120" y="366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13321800">
                <a:off x="6232320" y="3376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3321800">
                <a:off x="6219360" y="3079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13321800">
                <a:off x="6273360" y="279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3321800">
                <a:off x="6369120" y="251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3321800">
                <a:off x="6717960" y="207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3321800">
                <a:off x="6951240" y="190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13321800">
                <a:off x="7214760" y="178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3321800">
                <a:off x="7494480" y="172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3321800">
                <a:off x="7791120" y="171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3321800">
                <a:off x="8076960" y="176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3552200">
                <a:off x="6678720" y="23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3552200">
                <a:off x="631188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3552200">
                <a:off x="6319800" y="3161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3552200">
                <a:off x="6392880" y="2878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3552200">
                <a:off x="6505560" y="261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3552200">
                <a:off x="7127280" y="203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3552200">
                <a:off x="7399440" y="1933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3552200">
                <a:off x="7681320" y="1896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3552200">
                <a:off x="7978680" y="19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3552200">
                <a:off x="6811920" y="25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3552200">
                <a:off x="6444720" y="363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3552200">
                <a:off x="6452640" y="3333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3552200">
                <a:off x="6526080" y="30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3552200">
                <a:off x="6638400" y="2784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3552200">
                <a:off x="7261200" y="220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3552200">
                <a:off x="75326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3552200">
                <a:off x="7815240" y="2068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3552200">
                <a:off x="8112240" y="20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3807200">
                <a:off x="6597720" y="3672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3807200">
                <a:off x="7041960" y="2638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3807200">
                <a:off x="662760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3807200">
                <a:off x="6721200" y="310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3807200">
                <a:off x="6853320" y="2844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3807200">
                <a:off x="7260840" y="245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3807200">
                <a:off x="751644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3807200">
                <a:off x="7795800" y="22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3807200">
                <a:off x="8080200" y="221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4500200">
                <a:off x="7391160" y="264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4500200">
                <a:off x="6749640" y="3574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4500200">
                <a:off x="6837120" y="3292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4500200">
                <a:off x="6985080" y="3037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4500200">
                <a:off x="7164000" y="2812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4500200">
                <a:off x="7642080" y="251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4500200">
                <a:off x="7921440" y="2428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4500200">
                <a:off x="8210520" y="240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4500200">
                <a:off x="7507080" y="284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4500200">
                <a:off x="6953040" y="348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4500200">
                <a:off x="7101000" y="3231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4500200">
                <a:off x="7279920" y="3006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4500200">
                <a:off x="7757640" y="270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4500200">
                <a:off x="8037360" y="262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4500200">
                <a:off x="7660800" y="297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500200">
                <a:off x="7106760" y="36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500200">
                <a:off x="7254720" y="3366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500200">
                <a:off x="7434000" y="3141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500200">
                <a:off x="7911720" y="2842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4500200">
                <a:off x="8191080" y="2757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4820600">
                <a:off x="7973640" y="297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14820600">
                <a:off x="7360920" y="356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14820600">
                <a:off x="7532280" y="332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4820600">
                <a:off x="7732440" y="3114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5769800">
                <a:off x="7652880" y="3423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15769800">
                <a:off x="7883280" y="32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13552200">
                <a:off x="6882840" y="2195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13552200">
                <a:off x="7016760" y="23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0" y="5149800"/>
            <a:ext cx="3414600" cy="3414600"/>
            <a:chOff x="0" y="5149800"/>
            <a:chExt cx="3414600" cy="3414600"/>
          </a:xfrm>
        </p:grpSpPr>
        <p:sp>
          <p:nvSpPr>
            <p:cNvPr id="1881" name=""/>
            <p:cNvSpPr/>
            <p:nvPr/>
          </p:nvSpPr>
          <p:spPr>
            <a:xfrm>
              <a:off x="0" y="5149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96480" y="5283000"/>
              <a:ext cx="3180600" cy="3152520"/>
              <a:chOff x="96480" y="5283000"/>
              <a:chExt cx="3180600" cy="3152520"/>
            </a:xfrm>
          </p:grpSpPr>
          <p:sp>
            <p:nvSpPr>
              <p:cNvPr id="1883" name=""/>
              <p:cNvSpPr/>
              <p:nvPr/>
            </p:nvSpPr>
            <p:spPr>
              <a:xfrm>
                <a:off x="258120" y="540828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40" y="5622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999880" y="66146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70840" y="5459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36160" y="5333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418760" y="528300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704240" y="5283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990080" y="532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256840" y="5435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490120" y="5611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698200" y="582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850480" y="607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3160" y="6338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99880" y="6900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42640" y="718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28520" y="74530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656800" y="7681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447280" y="7891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199600" y="804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914120" y="811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28280" y="81388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342440" y="8157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75680" y="810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08920" y="798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0320" y="7814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99600" y="76132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54880" y="7356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8680" y="710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480" y="6825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99360" y="6549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78920" y="62751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3040" y="600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45680" y="577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3552200">
                <a:off x="576720" y="5878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3552200">
                <a:off x="521280" y="7734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3552200">
                <a:off x="349560" y="750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3552200">
                <a:off x="246240" y="723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3552200">
                <a:off x="209880" y="694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3552200">
                <a:off x="218160" y="6645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3552200">
                <a:off x="291240" y="63637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3552200">
                <a:off x="403560" y="6097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3552200">
                <a:off x="78120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3552200">
                <a:off x="1025640" y="5520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3552200">
                <a:off x="1297800" y="5417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3552200">
                <a:off x="1579680" y="53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3552200">
                <a:off x="1876680" y="5385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3552200">
                <a:off x="2159640" y="545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3552200">
                <a:off x="2411640" y="560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3552200">
                <a:off x="2624760" y="5801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3552200">
                <a:off x="709920" y="5974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3552200">
                <a:off x="654840" y="78321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3552200">
                <a:off x="482760" y="7600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3552200">
                <a:off x="379800" y="7329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13552200">
                <a:off x="343080" y="70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13552200">
                <a:off x="351360" y="6742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3552200">
                <a:off x="4244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13552200">
                <a:off x="536760" y="6194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3552200">
                <a:off x="914760" y="5776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13552200">
                <a:off x="1159200" y="5617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13552200">
                <a:off x="1431000" y="5514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3552200">
                <a:off x="1713240" y="547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3552200">
                <a:off x="2010240" y="54828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3552200">
                <a:off x="2292840" y="5553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3552200">
                <a:off x="2545200" y="5706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3552200">
                <a:off x="2757960" y="5898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3552200">
                <a:off x="825840" y="61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3552200">
                <a:off x="495720" y="7494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3552200">
                <a:off x="459000" y="720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3552200">
                <a:off x="466920" y="6908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3552200">
                <a:off x="540000" y="6625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3552200">
                <a:off x="652680" y="6359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3552200">
                <a:off x="1031040" y="59414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13552200">
                <a:off x="1275480" y="57823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3552200">
                <a:off x="154656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3552200">
                <a:off x="1829520" y="5643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3552200">
                <a:off x="2125800" y="5648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3552200">
                <a:off x="2408400" y="571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3552200">
                <a:off x="2661120" y="5871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3552200">
                <a:off x="956160" y="6266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3552200">
                <a:off x="625680" y="762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3552200">
                <a:off x="589680" y="733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3552200">
                <a:off x="597240" y="7035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3552200">
                <a:off x="670320" y="6752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3552200">
                <a:off x="783000" y="6486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3552200">
                <a:off x="1160640" y="606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13552200">
                <a:off x="1405440" y="5909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3552200">
                <a:off x="1676520" y="580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3552200">
                <a:off x="1959120" y="577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3552200">
                <a:off x="2256480" y="5774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3552200">
                <a:off x="2538720" y="584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13552200">
                <a:off x="1107000" y="645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13552200">
                <a:off x="740520" y="75178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13552200">
                <a:off x="748080" y="7221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3552200">
                <a:off x="821160" y="6938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13552200">
                <a:off x="933840" y="667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13552200">
                <a:off x="1311480" y="6254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13552200">
                <a:off x="1555920" y="609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13552200">
                <a:off x="1827360" y="599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3552200">
                <a:off x="2109960" y="59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3552200">
                <a:off x="2407320" y="5960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3321800">
                <a:off x="11926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3321800">
                <a:off x="954720" y="8017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3321800">
                <a:off x="899640" y="77320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3321800">
                <a:off x="886320" y="7435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13321800">
                <a:off x="940320" y="7147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3321800">
                <a:off x="1035720" y="687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13321800">
                <a:off x="1384920" y="643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13321800">
                <a:off x="1618200" y="6257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13321800">
                <a:off x="1881720" y="6136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13321800">
                <a:off x="2161080" y="6081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3321800">
                <a:off x="2458080" y="6066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3321800">
                <a:off x="2744280" y="61192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3552200">
                <a:off x="1344960" y="674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3552200">
                <a:off x="978120" y="7814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3552200">
                <a:off x="986400" y="7517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3552200">
                <a:off x="1059480" y="723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3552200">
                <a:off x="1171800" y="696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3552200">
                <a:off x="1794240" y="63925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3552200">
                <a:off x="2065680" y="6289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552200">
                <a:off x="2348280" y="6252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552200">
                <a:off x="2644920" y="625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3552200">
                <a:off x="1478520" y="6920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3552200">
                <a:off x="1111680" y="7986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3552200">
                <a:off x="1119600" y="7689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3552200">
                <a:off x="1192320" y="740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3552200">
                <a:off x="1305360" y="714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3552200">
                <a:off x="1927440" y="656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3552200">
                <a:off x="21992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3552200">
                <a:off x="2481480" y="6424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3552200">
                <a:off x="2778840" y="642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3807200">
                <a:off x="1264320" y="802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13807200">
                <a:off x="1708560" y="6994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13807200">
                <a:off x="1294200" y="7733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13807200">
                <a:off x="1388160" y="745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3807200">
                <a:off x="1519920" y="7200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3807200">
                <a:off x="1927800" y="681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3807200">
                <a:off x="2183400" y="667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3807200">
                <a:off x="2462760" y="6589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3807200">
                <a:off x="2746800" y="65732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4500200">
                <a:off x="2057760" y="7005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4500200">
                <a:off x="1416600" y="7930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4500200">
                <a:off x="1504080" y="7647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4500200">
                <a:off x="1651680" y="739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4500200">
                <a:off x="1830960" y="7168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4500200">
                <a:off x="2308680" y="687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4500200">
                <a:off x="2588040" y="6784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4500200">
                <a:off x="2877120" y="675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4500200">
                <a:off x="2173680" y="71989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4500200">
                <a:off x="1619640" y="784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4500200">
                <a:off x="1767600" y="758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14500200">
                <a:off x="1946880" y="736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4500200">
                <a:off x="2424600" y="706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4500200">
                <a:off x="2703960" y="6978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4500200">
                <a:off x="2327760" y="733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4500200">
                <a:off x="1773720" y="797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4500200">
                <a:off x="1921320" y="7722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4500200">
                <a:off x="2100960" y="749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4500200">
                <a:off x="2578680" y="719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4500200">
                <a:off x="2858040" y="7112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4820600">
                <a:off x="2640600" y="7329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4820600">
                <a:off x="2027880" y="791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4820600">
                <a:off x="2199240" y="7678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4820600">
                <a:off x="2399400" y="7470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5769800">
                <a:off x="2319840" y="7779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5769800">
                <a:off x="2550240" y="7597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3552200">
                <a:off x="1549800" y="6551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3552200">
                <a:off x="1683000" y="67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6815160" y="5362560"/>
            <a:ext cx="3414600" cy="3414600"/>
            <a:chOff x="6815160" y="5362560"/>
            <a:chExt cx="3414600" cy="3414600"/>
          </a:xfrm>
        </p:grpSpPr>
        <p:sp>
          <p:nvSpPr>
            <p:cNvPr id="2051" name=""/>
            <p:cNvSpPr/>
            <p:nvPr/>
          </p:nvSpPr>
          <p:spPr>
            <a:xfrm>
              <a:off x="6815160" y="5362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6911640" y="5495760"/>
              <a:ext cx="3180600" cy="3152520"/>
              <a:chOff x="6911640" y="5495760"/>
              <a:chExt cx="3180600" cy="3152520"/>
            </a:xfrm>
          </p:grpSpPr>
          <p:sp>
            <p:nvSpPr>
              <p:cNvPr id="2053" name=""/>
              <p:cNvSpPr/>
              <p:nvPr/>
            </p:nvSpPr>
            <p:spPr>
              <a:xfrm>
                <a:off x="7073280" y="562104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459200" y="5835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9815040" y="68274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686000" y="5671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51320" y="55465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8233920" y="5495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519400" y="5495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805240" y="5533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072000" y="564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9305280" y="5824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513360" y="603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665640" y="628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9778320" y="655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9815040" y="7113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757800" y="7399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643680" y="76658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9471960" y="78944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9262440" y="8103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9014760" y="825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8729280" y="833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8443440" y="83516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8157600" y="8370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890840" y="831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24080" y="8199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395480" y="8027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14760" y="78260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70040" y="756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963840" y="731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11640" y="7038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4520" y="67626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994080" y="64879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108200" y="6221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260840" y="599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13552200">
                <a:off x="7391880" y="6090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3552200">
                <a:off x="7336440" y="794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3552200">
                <a:off x="7164720" y="7716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3552200">
                <a:off x="7061400" y="744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3552200">
                <a:off x="7025040" y="7156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3552200">
                <a:off x="7033320" y="685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3552200">
                <a:off x="7106400" y="65764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13552200">
                <a:off x="7218720" y="631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13552200">
                <a:off x="759636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13552200">
                <a:off x="7840800" y="5733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3552200">
                <a:off x="8112960" y="56304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13552200">
                <a:off x="8394840" y="5594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13552200">
                <a:off x="8691840" y="5598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3552200">
                <a:off x="8974800" y="5669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3552200">
                <a:off x="9226800" y="58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3552200">
                <a:off x="9439920" y="6014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13552200">
                <a:off x="7525080" y="61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3552200">
                <a:off x="7470000" y="80449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3552200">
                <a:off x="7297920" y="7813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3552200">
                <a:off x="7194960" y="7542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3552200">
                <a:off x="7158240" y="72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3552200">
                <a:off x="7166520" y="6955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3552200">
                <a:off x="72396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3552200">
                <a:off x="7351920" y="6406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13552200">
                <a:off x="7729920" y="5989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3552200">
                <a:off x="7974360" y="583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3552200">
                <a:off x="8246160" y="572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13552200">
                <a:off x="8528400" y="569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13552200">
                <a:off x="8825400" y="5695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13552200">
                <a:off x="9108000" y="5766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13552200">
                <a:off x="9360360" y="5919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13552200">
                <a:off x="9573120" y="6111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13552200">
                <a:off x="7641000" y="63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552200">
                <a:off x="7310880" y="7706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3552200">
                <a:off x="7274160" y="7418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13552200">
                <a:off x="7282080" y="7121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3552200">
                <a:off x="7355160" y="683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3552200">
                <a:off x="7467840" y="6571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3552200">
                <a:off x="7846200" y="61542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3552200">
                <a:off x="8090640" y="599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3552200">
                <a:off x="836172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3552200">
                <a:off x="8644680" y="58557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3552200">
                <a:off x="8940960" y="5860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3552200">
                <a:off x="9223560" y="593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3552200">
                <a:off x="9476280" y="6084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3552200">
                <a:off x="7771320" y="6479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3552200">
                <a:off x="7440840" y="783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rot="13552200">
                <a:off x="7404840" y="7544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13552200">
                <a:off x="7412400" y="7248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3552200">
                <a:off x="7485480" y="6965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3552200">
                <a:off x="7598160" y="6698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3552200">
                <a:off x="7975800" y="62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3552200">
                <a:off x="8220600" y="6122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3552200">
                <a:off x="8491680" y="6019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13552200">
                <a:off x="8774280" y="598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13552200">
                <a:off x="9071640" y="5987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13552200">
                <a:off x="9353880" y="605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13552200">
                <a:off x="7922160" y="6665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3552200">
                <a:off x="7555680" y="7730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13552200">
                <a:off x="7563240" y="7434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13552200">
                <a:off x="7636320" y="71514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3552200">
                <a:off x="7749000" y="688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3552200">
                <a:off x="8126640" y="6467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3552200">
                <a:off x="8371080" y="6308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3552200">
                <a:off x="8642520" y="6205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3552200">
                <a:off x="8925120" y="6168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3552200">
                <a:off x="9222480" y="6172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3321800">
                <a:off x="8007840" y="68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3321800">
                <a:off x="7769880" y="8230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3321800">
                <a:off x="7714800" y="79448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3321800">
                <a:off x="7701480" y="7647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13321800">
                <a:off x="7755480" y="7360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13321800">
                <a:off x="7850880" y="708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13321800">
                <a:off x="82000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13321800">
                <a:off x="8433360" y="6469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13321800">
                <a:off x="8696880" y="6349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3321800">
                <a:off x="8976240" y="6293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3321800">
                <a:off x="9273240" y="6279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321800">
                <a:off x="9559440" y="63320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rot="13552200">
                <a:off x="8160120" y="696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13552200">
                <a:off x="7793280" y="802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13552200">
                <a:off x="7801560" y="7730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3552200">
                <a:off x="7874640" y="744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3552200">
                <a:off x="7986960" y="7181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3552200">
                <a:off x="8609400" y="6605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3552200">
                <a:off x="8880840" y="65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rot="13552200">
                <a:off x="9163440" y="6465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rot="13552200">
                <a:off x="9460080" y="6470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3552200">
                <a:off x="8293680" y="7133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3552200">
                <a:off x="7926840" y="8199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3552200">
                <a:off x="7934760" y="79023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3552200">
                <a:off x="8007480" y="761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3552200">
                <a:off x="8120520" y="735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13552200">
                <a:off x="8742600" y="677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3552200">
                <a:off x="90144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3552200">
                <a:off x="9296640" y="6636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13552200">
                <a:off x="9594000" y="664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3807200">
                <a:off x="8079480" y="8241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13807200">
                <a:off x="8523720" y="7206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3807200">
                <a:off x="8109360" y="7946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13807200">
                <a:off x="8203320" y="7670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13807200">
                <a:off x="8335080" y="7412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3807200">
                <a:off x="8742960" y="7024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3807200">
                <a:off x="8998560" y="688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3807200">
                <a:off x="9277920" y="6802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13807200">
                <a:off x="9561960" y="6786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4500200">
                <a:off x="8872920" y="7218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4500200">
                <a:off x="8231760" y="8143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4500200">
                <a:off x="8319240" y="7860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4500200">
                <a:off x="8466840" y="7606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4500200">
                <a:off x="8646120" y="7381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4500200">
                <a:off x="9123840" y="708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4500200">
                <a:off x="9403200" y="6997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4500200">
                <a:off x="9692280" y="697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4500200">
                <a:off x="8988840" y="74116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4500200">
                <a:off x="8434800" y="805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4500200">
                <a:off x="8582760" y="7800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4500200">
                <a:off x="8762040" y="757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4500200">
                <a:off x="9239760" y="727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rot="14500200">
                <a:off x="9519120" y="7191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14500200">
                <a:off x="9142920" y="754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14500200">
                <a:off x="8588880" y="8189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14500200">
                <a:off x="8736480" y="7935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4500200">
                <a:off x="8916120" y="770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rot="14500200">
                <a:off x="9393840" y="741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4500200">
                <a:off x="9673200" y="7325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4820600">
                <a:off x="9455760" y="754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4820600">
                <a:off x="8843040" y="812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4820600">
                <a:off x="9014400" y="789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4820600">
                <a:off x="9214560" y="7683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5769800">
                <a:off x="9135000" y="799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5769800">
                <a:off x="9365400" y="781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3552200">
                <a:off x="8364960" y="67640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3552200">
                <a:off x="8498160" y="693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"/>
          <p:cNvGrpSpPr/>
          <p:nvPr/>
        </p:nvGrpSpPr>
        <p:grpSpPr>
          <a:xfrm>
            <a:off x="4183920" y="638640"/>
            <a:ext cx="4431600" cy="2793960"/>
            <a:chOff x="4183920" y="638640"/>
            <a:chExt cx="4431600" cy="2793960"/>
          </a:xfrm>
        </p:grpSpPr>
        <p:grpSp>
          <p:nvGrpSpPr>
            <p:cNvPr id="2221" name=""/>
            <p:cNvGrpSpPr/>
            <p:nvPr/>
          </p:nvGrpSpPr>
          <p:grpSpPr>
            <a:xfrm>
              <a:off x="6910560" y="1184040"/>
              <a:ext cx="1704960" cy="1704960"/>
              <a:chOff x="6910560" y="1184040"/>
              <a:chExt cx="1704960" cy="1704960"/>
            </a:xfrm>
          </p:grpSpPr>
          <p:sp>
            <p:nvSpPr>
              <p:cNvPr id="2222" name=""/>
              <p:cNvSpPr/>
              <p:nvPr/>
            </p:nvSpPr>
            <p:spPr>
              <a:xfrm rot="5400000">
                <a:off x="6910560" y="118368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3" name=""/>
              <p:cNvGrpSpPr/>
              <p:nvPr/>
            </p:nvGrpSpPr>
            <p:grpSpPr>
              <a:xfrm>
                <a:off x="6958080" y="1246680"/>
                <a:ext cx="1597680" cy="1558440"/>
                <a:chOff x="6958080" y="1246680"/>
                <a:chExt cx="1597680" cy="1558440"/>
              </a:xfrm>
            </p:grpSpPr>
            <p:sp>
              <p:nvSpPr>
                <p:cNvPr id="2224" name=""/>
                <p:cNvSpPr/>
                <p:nvPr/>
              </p:nvSpPr>
              <p:spPr>
                <a:xfrm rot="18952200">
                  <a:off x="8045640" y="152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52200">
                  <a:off x="8097120" y="1695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8952200">
                  <a:off x="7788600" y="129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8952200">
                  <a:off x="7892280" y="1462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8952200">
                  <a:off x="8069040" y="1532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52200">
                  <a:off x="8017560" y="2128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8952200">
                  <a:off x="7459200" y="129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8952200">
                  <a:off x="7608600" y="1379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52200">
                  <a:off x="7711920" y="156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52200">
                  <a:off x="8260920" y="1793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8721800">
                  <a:off x="774972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8721800">
                  <a:off x="7256160" y="145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8721800">
                  <a:off x="7480080" y="1517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721800">
                  <a:off x="8020080" y="1908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8952200">
                  <a:off x="7594560" y="1758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8952200">
                  <a:off x="7115760" y="15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rot="18952200">
                  <a:off x="7347600" y="1638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rot="18952200">
                  <a:off x="7435440" y="185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8952200">
                  <a:off x="764064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8952200">
                  <a:off x="7213680" y="175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8952200">
                  <a:off x="7431480" y="203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9207800">
                  <a:off x="75762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rot="19207800">
                  <a:off x="7168680" y="19274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rot="19207800">
                  <a:off x="7246440" y="215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rot="19207800">
                  <a:off x="7868520" y="2451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9900800">
                  <a:off x="7716240" y="2502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9900800">
                  <a:off x="7001280" y="2029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rot="19900800">
                  <a:off x="70740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rot="19900800">
                  <a:off x="7422840" y="2316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9900800">
                  <a:off x="7478640" y="251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rot="19900800">
                  <a:off x="7202160" y="2368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rot="18952200">
                  <a:off x="7835040" y="195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rot="18952200">
                  <a:off x="7815240" y="218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8952200">
                  <a:off x="7918920" y="1667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6600200">
                  <a:off x="7783200" y="137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6600200">
                  <a:off x="7932960" y="1470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6600200">
                  <a:off x="7440840" y="1356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rot="16600200">
                  <a:off x="7625160" y="1419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rot="16600200">
                  <a:off x="7807320" y="136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rot="16600200">
                  <a:off x="8226000" y="20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6600200">
                  <a:off x="7187040" y="1567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6600200">
                  <a:off x="7353360" y="1533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rot="16600200">
                  <a:off x="7548840" y="160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rot="16600200">
                  <a:off x="8136360" y="15156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rot="16369200">
                  <a:off x="7712280" y="174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rot="16369200">
                  <a:off x="7125840" y="1811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rot="16369200">
                  <a:off x="7340400" y="1722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rot="16369200">
                  <a:off x="8006400" y="1683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600200">
                  <a:off x="7582320" y="1836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rot="16600200">
                  <a:off x="7094880" y="199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rot="16600200">
                  <a:off x="7315560" y="1900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600200">
                  <a:off x="7518240" y="2009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rot="16600200">
                  <a:off x="7774560" y="1999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rot="16600200">
                  <a:off x="701964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600200">
                  <a:off x="7284600" y="207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600200">
                  <a:off x="7730280" y="2318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854600">
                  <a:off x="7853040" y="2198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854600">
                  <a:off x="7358760" y="25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854600">
                  <a:off x="7565400" y="236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7548800">
                  <a:off x="8049960" y="2379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600200">
                  <a:off x="7893360" y="183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rot="16600200">
                  <a:off x="8205120" y="219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rot="16600200">
                  <a:off x="7776360" y="1561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rot="20314800">
                  <a:off x="8174160" y="1716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rot="20314800">
                  <a:off x="8155800" y="189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rot="20314800">
                  <a:off x="8024760" y="1408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rot="20314800">
                  <a:off x="8056800" y="1600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rot="20314800">
                  <a:off x="8193600" y="173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rot="20314800">
                  <a:off x="7916040" y="2263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20314800">
                  <a:off x="7720200" y="1284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20314800">
                  <a:off x="7827840" y="141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20314800">
                  <a:off x="7851600" y="16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20314800">
                  <a:off x="8268840" y="204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20085000">
                  <a:off x="7805520" y="1832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20085000">
                  <a:off x="7476120" y="134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20085000">
                  <a:off x="7656120" y="1492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20085000">
                  <a:off x="8002440" y="2061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20314800">
                  <a:off x="7667280" y="17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rot="20314800">
                  <a:off x="7297200" y="1404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rot="20314800">
                  <a:off x="7485480" y="1553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rot="20314800">
                  <a:off x="7484400" y="178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rot="20314800">
                  <a:off x="761400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rot="20314800">
                  <a:off x="7317000" y="1609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20314800">
                  <a:off x="7410240" y="195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20569800">
                  <a:off x="7476840" y="2168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rot="20569800">
                  <a:off x="7208640" y="175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20569800">
                  <a:off x="7192080" y="1992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rot="20569800">
                  <a:off x="7651440" y="2504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21262800">
                  <a:off x="7493040" y="249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rot="21262800">
                  <a:off x="7014960" y="17812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rot="21262800">
                  <a:off x="7013880" y="1975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21262800">
                  <a:off x="7293960" y="220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21262800">
                  <a:off x="7268040" y="2414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rot="21262800">
                  <a:off x="7070760" y="217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rot="20314800">
                  <a:off x="7814160" y="2033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20314800">
                  <a:off x="7706160" y="223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rot="20314800">
                  <a:off x="8002440" y="1800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7962800">
                  <a:off x="7991280" y="1473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7962800">
                  <a:off x="8090640" y="1624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7962800">
                  <a:off x="7681320" y="1330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7962800">
                  <a:off x="782784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7962800">
                  <a:off x="8016480" y="147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7962800">
                  <a:off x="8148960" y="2245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rot="17962800">
                  <a:off x="7365600" y="1426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rot="17962800">
                  <a:off x="753192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7962800">
                  <a:off x="7682040" y="16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7962800">
                  <a:off x="8261640" y="1744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7731800">
                  <a:off x="7779240" y="1797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rot="17731800">
                  <a:off x="7214760" y="16272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rot="17731800">
                  <a:off x="7448040" y="1627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31800">
                  <a:off x="8076600" y="1848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rot="17962800">
                  <a:off x="7626960" y="182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7962800">
                  <a:off x="7114320" y="1786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rot="17962800">
                  <a:off x="7355520" y="1783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962800">
                  <a:off x="7499880" y="196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962800">
                  <a:off x="7740720" y="2051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962800">
                  <a:off x="7132680" y="155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962800">
                  <a:off x="7259400" y="1931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rot="17962800">
                  <a:off x="7576920" y="2328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8217200">
                  <a:off x="7736040" y="2264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rot="18217200">
                  <a:off x="7161480" y="2357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8217200">
                  <a:off x="7406280" y="2308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8911400">
                  <a:off x="7847640" y="250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rot="17962800">
                  <a:off x="7913520" y="1947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rot="17962800">
                  <a:off x="8062920" y="2397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rot="17962800">
                  <a:off x="7911360" y="1648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0" name=""/>
            <p:cNvGrpSpPr/>
            <p:nvPr/>
          </p:nvGrpSpPr>
          <p:grpSpPr>
            <a:xfrm>
              <a:off x="4183920" y="638640"/>
              <a:ext cx="2794320" cy="2793960"/>
              <a:chOff x="4183920" y="638640"/>
              <a:chExt cx="2794320" cy="2793960"/>
            </a:xfrm>
          </p:grpSpPr>
          <p:sp>
            <p:nvSpPr>
              <p:cNvPr id="2351" name=""/>
              <p:cNvSpPr/>
              <p:nvPr/>
            </p:nvSpPr>
            <p:spPr>
              <a:xfrm rot="14203800">
                <a:off x="4572000" y="10263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4675680" y="1087920"/>
                <a:ext cx="1834920" cy="1838160"/>
                <a:chOff x="4675680" y="1087920"/>
                <a:chExt cx="1834920" cy="1838160"/>
              </a:xfrm>
            </p:grpSpPr>
            <p:sp>
              <p:nvSpPr>
                <p:cNvPr id="2353" name=""/>
                <p:cNvSpPr/>
                <p:nvPr/>
              </p:nvSpPr>
              <p:spPr>
                <a:xfrm rot="6156600">
                  <a:off x="4749840" y="1638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rot="6156600">
                  <a:off x="4981320" y="1352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rot="6156600">
                  <a:off x="5322600" y="238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6156600">
                  <a:off x="5180760" y="22644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6156600">
                  <a:off x="5898240" y="2511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6156600">
                  <a:off x="5644080" y="2599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6156600">
                  <a:off x="5397480" y="25743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6156600">
                  <a:off x="5159880" y="2522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6156600">
                  <a:off x="6194520" y="2165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6156600">
                  <a:off x="6067440" y="2342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rot="6156600">
                  <a:off x="5676840" y="24332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rot="6156600">
                  <a:off x="5491800" y="23482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rot="6156600">
                  <a:off x="4962600" y="24253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rot="6156600">
                  <a:off x="5297400" y="2388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rot="6156600">
                  <a:off x="5000760" y="1842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rot="6156600">
                  <a:off x="5961600" y="2243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rot="6156600">
                  <a:off x="5787000" y="2259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rot="6156600">
                  <a:off x="5591880" y="21596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6156600">
                  <a:off x="4971960" y="21949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rot="6156600">
                  <a:off x="4803840" y="22651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5925000">
                  <a:off x="5438520" y="2000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5925000">
                  <a:off x="6238080" y="1894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5925000">
                  <a:off x="6051600" y="1995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5925000">
                  <a:off x="5817600" y="20660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5925000">
                  <a:off x="5126760" y="20340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5925000">
                  <a:off x="4876200" y="2043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6156600">
                  <a:off x="5581440" y="1922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rot="6156600">
                  <a:off x="610380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rot="6156600">
                  <a:off x="5865840" y="188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rot="6156600">
                  <a:off x="5667480" y="17474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6156600">
                  <a:off x="4700520" y="1985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rot="6156600">
                  <a:off x="5398920" y="1731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rot="6156600">
                  <a:off x="6167160" y="1620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rot="6156600">
                  <a:off x="5915160" y="1707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rot="6156600">
                  <a:off x="5566320" y="15865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rot="6156600">
                  <a:off x="4900680" y="15649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rot="6410400">
                  <a:off x="5340240" y="1518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6410400">
                  <a:off x="6114960" y="1464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6410400">
                  <a:off x="5855040" y="1530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rot="6410400">
                  <a:off x="5655960" y="1375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rot="6410400">
                  <a:off x="5089320" y="1441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7104000">
                  <a:off x="5173200" y="1244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rot="7104000">
                  <a:off x="5942520" y="1344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rot="7104000">
                  <a:off x="5776920" y="1231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7104000">
                  <a:off x="5411880" y="13341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rot="7104000">
                  <a:off x="5310720" y="1132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rot="7104000">
                  <a:off x="5575320" y="1162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6156600">
                  <a:off x="5260320" y="1887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6156600">
                  <a:off x="5144040" y="1673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6156600">
                  <a:off x="5351400" y="2184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6156600">
                  <a:off x="4825080" y="18072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3803400">
                  <a:off x="4725000" y="2151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rot="3803400">
                  <a:off x="4720320" y="17830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rot="3803400">
                  <a:off x="5638680" y="23680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3803400">
                  <a:off x="6166440" y="2103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3803400">
                  <a:off x="6024600" y="2328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3803400">
                  <a:off x="5817600" y="24706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rot="3803400">
                  <a:off x="5602320" y="2579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3803400">
                  <a:off x="6176880" y="164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3803400">
                  <a:off x="6189480" y="1864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rot="3803400">
                  <a:off x="5945400" y="2183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rot="3803400">
                  <a:off x="5749920" y="22366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rot="3803400">
                  <a:off x="5387760" y="26265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3803400">
                  <a:off x="5622840" y="2386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3803400">
                  <a:off x="5048280" y="2151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3803400">
                  <a:off x="6046920" y="1854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3803400">
                  <a:off x="5921280" y="1977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rot="3803400">
                  <a:off x="5705640" y="20250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rot="3803400">
                  <a:off x="5248080" y="2440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rot="3803400">
                  <a:off x="5160240" y="2602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3573000">
                  <a:off x="6037200" y="1410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3573000">
                  <a:off x="582444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rot="3573000">
                  <a:off x="5266080" y="2220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rot="3573000">
                  <a:off x="5079240" y="23864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rot="3803400">
                  <a:off x="5879520" y="1427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rot="3803400">
                  <a:off x="5506200" y="16578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rot="3803400">
                  <a:off x="4908600" y="24559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rot="3803400">
                  <a:off x="5811840" y="1239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rot="3803400">
                  <a:off x="4796640" y="2002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rot="4058400">
                  <a:off x="5672880" y="1154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rot="4058400">
                  <a:off x="4862520" y="1787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rot="4751400">
                  <a:off x="5461560" y="11718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rot="4751400">
                  <a:off x="5262840" y="11883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rot="4751400">
                  <a:off x="4839840" y="14054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rot="4751400">
                  <a:off x="5062680" y="12661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rot="3803400">
                  <a:off x="5276880" y="202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rot="3803400">
                  <a:off x="5053320" y="19314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rot="3803400">
                  <a:off x="5535000" y="2196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rot="3803400">
                  <a:off x="4889520" y="223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rot="3803400">
                  <a:off x="5671440" y="1467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rot="4058400">
                  <a:off x="5512680" y="136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rot="4058400">
                  <a:off x="5258520" y="137520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rot="4751400">
                  <a:off x="4802760" y="15800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rot="4751400">
                  <a:off x="5047560" y="15008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rot="3803400">
                  <a:off x="5322960" y="1598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rot="4058400">
                  <a:off x="5105880" y="168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rot="3803400">
                  <a:off x="5451480" y="2367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rot="3573000">
                  <a:off x="5959440" y="16077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rot="3803400">
                  <a:off x="5741280" y="16372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rot="3573000">
                  <a:off x="5482440" y="1995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rot="3803400">
                  <a:off x="5548320" y="1847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rot="3803400">
                  <a:off x="5285520" y="18133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5" name=""/>
          <p:cNvGrpSpPr/>
          <p:nvPr/>
        </p:nvGrpSpPr>
        <p:grpSpPr>
          <a:xfrm>
            <a:off x="-770400" y="5570280"/>
            <a:ext cx="4317840" cy="3116880"/>
            <a:chOff x="-770400" y="5570280"/>
            <a:chExt cx="4317840" cy="3116880"/>
          </a:xfrm>
        </p:grpSpPr>
        <p:grpSp>
          <p:nvGrpSpPr>
            <p:cNvPr id="2456" name=""/>
            <p:cNvGrpSpPr/>
            <p:nvPr/>
          </p:nvGrpSpPr>
          <p:grpSpPr>
            <a:xfrm>
              <a:off x="-770400" y="5570280"/>
              <a:ext cx="2220480" cy="2220480"/>
              <a:chOff x="-770400" y="5570280"/>
              <a:chExt cx="2220480" cy="2220480"/>
            </a:xfrm>
          </p:grpSpPr>
          <p:sp>
            <p:nvSpPr>
              <p:cNvPr id="2457" name=""/>
              <p:cNvSpPr/>
              <p:nvPr/>
            </p:nvSpPr>
            <p:spPr>
              <a:xfrm rot="17524200">
                <a:off x="-512640" y="582804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8" name=""/>
              <p:cNvGrpSpPr/>
              <p:nvPr/>
            </p:nvGrpSpPr>
            <p:grpSpPr>
              <a:xfrm>
                <a:off x="-470520" y="5893200"/>
                <a:ext cx="1590840" cy="1584000"/>
                <a:chOff x="-470520" y="5893200"/>
                <a:chExt cx="1590840" cy="1584000"/>
              </a:xfrm>
            </p:grpSpPr>
            <p:sp>
              <p:nvSpPr>
                <p:cNvPr id="2459" name=""/>
                <p:cNvSpPr/>
                <p:nvPr/>
              </p:nvSpPr>
              <p:spPr>
                <a:xfrm rot="9476400">
                  <a:off x="-303840" y="6767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9476400">
                  <a:off x="-287280" y="6589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9476400">
                  <a:off x="-150480" y="707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9476400">
                  <a:off x="-184680" y="688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9476400">
                  <a:off x="-322920" y="6751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9476400">
                  <a:off x="-51120" y="6219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9476400">
                  <a:off x="155160" y="719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9476400">
                  <a:off x="46080" y="7066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9476400">
                  <a:off x="19440" y="685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9476400">
                  <a:off x="-402120" y="6437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9246000">
                  <a:off x="63720" y="664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9246000">
                  <a:off x="399600" y="7133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9246000">
                  <a:off x="217800" y="6986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9246000">
                  <a:off x="-135720" y="6421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9476400">
                  <a:off x="202320" y="6719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9476400">
                  <a:off x="576360" y="707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9476400">
                  <a:off x="385920" y="6923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9476400">
                  <a:off x="384480" y="6693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rot="9476400">
                  <a:off x="252720" y="647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rot="9476400">
                  <a:off x="554040" y="6865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rot="9476400">
                  <a:off x="456840" y="6525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rot="9731400">
                  <a:off x="388080" y="6309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9731400">
                  <a:off x="660240" y="672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9731400">
                  <a:off x="674640" y="648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9731400">
                  <a:off x="208440" y="5974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10424400">
                  <a:off x="368640" y="598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10424400">
                  <a:off x="853920" y="6692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rot="10424400">
                  <a:off x="853920" y="649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rot="10424400">
                  <a:off x="570960" y="6267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rot="10424400">
                  <a:off x="595080" y="6060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10424400">
                  <a:off x="795240" y="63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9476400">
                  <a:off x="52920" y="644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9476400">
                  <a:off x="158400" y="62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9476400">
                  <a:off x="-132120" y="6681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7124400">
                  <a:off x="-118080" y="700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rot="7124400">
                  <a:off x="-218520" y="6859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rot="7124400">
                  <a:off x="193680" y="7150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rot="7124400">
                  <a:off x="46440" y="7022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7124400">
                  <a:off x="-142920" y="700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7124400">
                  <a:off x="-284040" y="6239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7124400">
                  <a:off x="507960" y="7049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7124400">
                  <a:off x="341280" y="701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7124400">
                  <a:off x="189360" y="6874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7124400">
                  <a:off x="-390600" y="67417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6893400">
                  <a:off x="90360" y="6683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6893400">
                  <a:off x="657000" y="6846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6893400">
                  <a:off x="424080" y="6849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6893400">
                  <a:off x="-207360" y="663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7124400">
                  <a:off x="243000" y="6652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7124400">
                  <a:off x="754920" y="6686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7124400">
                  <a:off x="514440" y="669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7124400">
                  <a:off x="367920" y="6516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7124400">
                  <a:off x="126000" y="6428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7124400">
                  <a:off x="740520" y="6922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7124400">
                  <a:off x="608760" y="65430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7124400">
                  <a:off x="287640" y="6149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7378800">
                  <a:off x="128160" y="621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7378800">
                  <a:off x="701640" y="611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7378800">
                  <a:off x="457200" y="616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8072400">
                  <a:off x="13680" y="5973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7124400">
                  <a:off x="-44640" y="6534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7124400">
                  <a:off x="-199080" y="6085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7124400">
                  <a:off x="-39960" y="6833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rot="10839000">
                  <a:off x="-350280" y="654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rot="10839000">
                  <a:off x="-266400" y="638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0839000">
                  <a:off x="-327960" y="688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0839000">
                  <a:off x="-285480" y="6692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0839000">
                  <a:off x="-361440" y="651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839000">
                  <a:off x="93600" y="6131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839000">
                  <a:off x="-92160" y="7112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rot="10839000">
                  <a:off x="-142920" y="6950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rot="10839000">
                  <a:off x="-86760" y="6748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0839000">
                  <a:off x="-313200" y="6197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0608600">
                  <a:off x="34560" y="657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0608600">
                  <a:off x="155880" y="7148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0608600">
                  <a:off x="45000" y="6944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0608600">
                  <a:off x="-61920" y="628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0839000">
                  <a:off x="135000" y="669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0839000">
                  <a:off x="344160" y="7160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rot="10839000">
                  <a:off x="226080" y="6951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rot="10839000">
                  <a:off x="313200" y="6738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0839000">
                  <a:off x="277200" y="648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0839000">
                  <a:off x="402840" y="696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10839000">
                  <a:off x="445320" y="6611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11094000">
                  <a:off x="465120" y="638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11094000">
                  <a:off x="557280" y="6871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1094000">
                  <a:off x="663120" y="6653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1094000">
                  <a:off x="429840" y="6006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1787000">
                  <a:off x="571680" y="607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1787000">
                  <a:off x="747720" y="691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1787000">
                  <a:off x="821160" y="6737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1787000">
                  <a:off x="649440" y="6416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1787000">
                  <a:off x="750960" y="6234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1787000">
                  <a:off x="841680" y="6535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0839000">
                  <a:off x="101520" y="6383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rot="10839000">
                  <a:off x="279720" y="6231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rot="10839000">
                  <a:off x="-160200" y="6528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8487000">
                  <a:off x="-271800" y="6834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8487000">
                  <a:off x="-307080" y="6657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8487000">
                  <a:off x="-38520" y="7084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8487000">
                  <a:off x="-126000" y="6909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8487000">
                  <a:off x="-294480" y="6823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8487000">
                  <a:off x="-128160" y="6060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8487000">
                  <a:off x="289800" y="71139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8487000">
                  <a:off x="147960" y="7021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8487000">
                  <a:off x="63360" y="6829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8487000">
                  <a:off x="-420840" y="648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8256000">
                  <a:off x="46080" y="6614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8256000">
                  <a:off x="505080" y="6984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rot="8256000">
                  <a:off x="289080" y="68968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rot="8256000">
                  <a:off x="-209880" y="645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8487000">
                  <a:off x="198360" y="6644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8487000">
                  <a:off x="658080" y="6874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8487000">
                  <a:off x="433080" y="6786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8487000">
                  <a:off x="366120" y="6568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8487000">
                  <a:off x="176760" y="6393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8487000">
                  <a:off x="552240" y="7086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8487000">
                  <a:off x="578160" y="668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8487000">
                  <a:off x="433440" y="619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8741400">
                  <a:off x="261720" y="6197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8741400">
                  <a:off x="828360" y="6327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8741400">
                  <a:off x="583200" y="628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9435000">
                  <a:off x="248760" y="593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8487000">
                  <a:off x="-21240" y="6424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rot="8487000">
                  <a:off x="8640" y="595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8487000">
                  <a:off x="-132480" y="6703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"/>
            <p:cNvGrpSpPr/>
            <p:nvPr/>
          </p:nvGrpSpPr>
          <p:grpSpPr>
            <a:xfrm>
              <a:off x="1176120" y="6315480"/>
              <a:ext cx="2371320" cy="2371680"/>
              <a:chOff x="1176120" y="6315480"/>
              <a:chExt cx="2371320" cy="2371680"/>
            </a:xfrm>
          </p:grpSpPr>
          <p:sp>
            <p:nvSpPr>
              <p:cNvPr id="2586" name=""/>
              <p:cNvSpPr/>
              <p:nvPr/>
            </p:nvSpPr>
            <p:spPr>
              <a:xfrm rot="4727400">
                <a:off x="1352520" y="649224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7" name=""/>
              <p:cNvGrpSpPr/>
              <p:nvPr/>
            </p:nvGrpSpPr>
            <p:grpSpPr>
              <a:xfrm>
                <a:off x="1402920" y="6597360"/>
                <a:ext cx="1870560" cy="1854720"/>
                <a:chOff x="1402920" y="6597360"/>
                <a:chExt cx="1870560" cy="1854720"/>
              </a:xfrm>
            </p:grpSpPr>
            <p:sp>
              <p:nvSpPr>
                <p:cNvPr id="2588" name=""/>
                <p:cNvSpPr/>
                <p:nvPr/>
              </p:nvSpPr>
              <p:spPr>
                <a:xfrm rot="18280800">
                  <a:off x="2784960" y="78894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8280800">
                  <a:off x="2462400" y="80672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8280800">
                  <a:off x="2534040" y="698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rot="18280800">
                  <a:off x="2620800" y="71452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rot="18280800">
                  <a:off x="2047320" y="66474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rot="18280800">
                  <a:off x="2317320" y="66607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rot="18280800">
                  <a:off x="2535120" y="6775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rot="18280800">
                  <a:off x="2737440" y="6913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rot="18280800">
                  <a:off x="1644120" y="6858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8280800">
                  <a:off x="1828440" y="6741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8280800">
                  <a:off x="2223000" y="6801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8280800">
                  <a:off x="2364120" y="6950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8280800">
                  <a:off x="2881800" y="7077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8280800">
                  <a:off x="2558160" y="698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8280800">
                  <a:off x="2629080" y="7605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8280800">
                  <a:off x="1889640" y="68709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18280800">
                  <a:off x="2057400" y="69220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18280800">
                  <a:off x="2200680" y="7087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18280800">
                  <a:off x="2788560" y="72892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rot="18280800">
                  <a:off x="2970360" y="7287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rot="18049200">
                  <a:off x="2282400" y="729468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18049200">
                  <a:off x="1502280" y="7090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8049200">
                  <a:off x="1711080" y="706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8049200">
                  <a:off x="1954440" y="7090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8049200">
                  <a:off x="2584440" y="7378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8049200">
                  <a:off x="281844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8280800">
                  <a:off x="2120400" y="7313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8280800">
                  <a:off x="1594080" y="72216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8280800">
                  <a:off x="1843560" y="7240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rot="18280800">
                  <a:off x="1973880" y="744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rot="18280800">
                  <a:off x="2959560" y="75837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rot="18280800">
                  <a:off x="2218320" y="755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rot="18280800">
                  <a:off x="1464480" y="737280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rot="18280800">
                  <a:off x="1731240" y="7386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rot="18280800">
                  <a:off x="2008800" y="7628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8280800">
                  <a:off x="2616120" y="789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8534600">
                  <a:off x="2192760" y="7777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8534600">
                  <a:off x="1454400" y="7536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8534600">
                  <a:off x="1718640" y="7572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8534600">
                  <a:off x="1846080" y="779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8534600">
                  <a:off x="2395080" y="794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228200">
                  <a:off x="2245320" y="8092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rot="19228200">
                  <a:off x="1567440" y="7711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rot="19228200">
                  <a:off x="1680480" y="78800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rot="19228200">
                  <a:off x="2055960" y="79196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rot="19228200">
                  <a:off x="2075400" y="8145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rot="19228200">
                  <a:off x="1839960" y="8017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rot="18280800">
                  <a:off x="240408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rot="18280800">
                  <a:off x="2432880" y="7706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rot="18280800">
                  <a:off x="2431080" y="7155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18280800">
                  <a:off x="2778840" y="77025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15927600">
                  <a:off x="3000600" y="7421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15927600">
                  <a:off x="2864880" y="7765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15927600">
                  <a:off x="2234880" y="6878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15927600">
                  <a:off x="1646640" y="6923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15927600">
                  <a:off x="1861200" y="6768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15927600">
                  <a:off x="2106720" y="6716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15927600">
                  <a:off x="2348640" y="6696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rot="15927600">
                  <a:off x="1463040" y="734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rot="15927600">
                  <a:off x="1535400" y="7137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rot="15927600">
                  <a:off x="1882440" y="69336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rot="15927600">
                  <a:off x="2082600" y="69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rot="15927600">
                  <a:off x="2563560" y="6730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rot="15927600">
                  <a:off x="2255760" y="6864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rot="15927600">
                  <a:off x="2700720" y="73015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rot="15927600">
                  <a:off x="1662480" y="720000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rot="15927600">
                  <a:off x="1825200" y="713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rot="15927600">
                  <a:off x="2044800" y="7170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rot="15927600">
                  <a:off x="2623320" y="6955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rot="15927600">
                  <a:off x="2765160" y="6841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rot="15697200">
                  <a:off x="1505880" y="76158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rot="15697200">
                  <a:off x="1852920" y="7326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rot="15697200">
                  <a:off x="2523960" y="7153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rot="15697200">
                  <a:off x="2759040" y="7071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rot="15927600">
                  <a:off x="1657440" y="76593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rot="15927600">
                  <a:off x="2091240" y="7584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rot="15927600">
                  <a:off x="2945160" y="7071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rot="15927600">
                  <a:off x="1649160" y="785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rot="15927600">
                  <a:off x="2878200" y="7532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rot="16182600">
                  <a:off x="1748160" y="79887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rot="16182600">
                  <a:off x="2736000" y="77083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rot="16875600">
                  <a:off x="1948320" y="8053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rot="16875600">
                  <a:off x="2140560" y="81129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6875600">
                  <a:off x="2614320" y="8069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rot="16875600">
                  <a:off x="2355480" y="8116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rot="15927600">
                  <a:off x="2441160" y="7333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15927600">
                  <a:off x="2614320" y="7502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15927600">
                  <a:off x="2265480" y="70765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rot="15927600">
                  <a:off x="2881080" y="72806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rot="15927600">
                  <a:off x="1866960" y="76993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rot="16182600">
                  <a:off x="1974960" y="78516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rot="16182600">
                  <a:off x="2212920" y="7940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rot="16875600">
                  <a:off x="2714040" y="7921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16875600">
                  <a:off x="2457720" y="79027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15927600">
                  <a:off x="2239200" y="7710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rot="16182600">
                  <a:off x="2471040" y="771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rot="15927600">
                  <a:off x="2408760" y="69501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rot="15697200">
                  <a:off x="1652040" y="7462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15927600">
                  <a:off x="1864080" y="7517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15697200">
                  <a:off x="2238480" y="7281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rot="15927600">
                  <a:off x="2124000" y="73951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rot="15927600">
                  <a:off x="2352600" y="7524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0" name=""/>
          <p:cNvGrpSpPr/>
          <p:nvPr/>
        </p:nvGrpSpPr>
        <p:grpSpPr>
          <a:xfrm>
            <a:off x="5732280" y="4970880"/>
            <a:ext cx="4314960" cy="3720960"/>
            <a:chOff x="5732280" y="4970880"/>
            <a:chExt cx="4314960" cy="3720960"/>
          </a:xfrm>
        </p:grpSpPr>
        <p:grpSp>
          <p:nvGrpSpPr>
            <p:cNvPr id="2691" name=""/>
            <p:cNvGrpSpPr/>
            <p:nvPr/>
          </p:nvGrpSpPr>
          <p:grpSpPr>
            <a:xfrm>
              <a:off x="5732280" y="6325920"/>
              <a:ext cx="2365920" cy="2365920"/>
              <a:chOff x="5732280" y="6325920"/>
              <a:chExt cx="2365920" cy="2365920"/>
            </a:xfrm>
          </p:grpSpPr>
          <p:sp>
            <p:nvSpPr>
              <p:cNvPr id="2692" name=""/>
              <p:cNvSpPr/>
              <p:nvPr/>
            </p:nvSpPr>
            <p:spPr>
              <a:xfrm rot="14164800">
                <a:off x="6062760" y="665640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6125760" y="6700680"/>
                <a:ext cx="1559520" cy="1612080"/>
                <a:chOff x="6125760" y="6700680"/>
                <a:chExt cx="1559520" cy="1612080"/>
              </a:xfrm>
            </p:grpSpPr>
            <p:sp>
              <p:nvSpPr>
                <p:cNvPr id="2694" name=""/>
                <p:cNvSpPr/>
                <p:nvPr/>
              </p:nvSpPr>
              <p:spPr>
                <a:xfrm rot="6117000">
                  <a:off x="6674400" y="79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rot="6117000">
                  <a:off x="6536160" y="7822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rot="6117000">
                  <a:off x="7015320" y="7981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rot="6117000">
                  <a:off x="6836040" y="790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6117000">
                  <a:off x="6650640" y="7942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6117000">
                  <a:off x="6361200" y="74196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rot="6117000">
                  <a:off x="7286400" y="779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rot="6117000">
                  <a:off x="7118640" y="7813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rot="6117000">
                  <a:off x="6930720" y="7718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rot="6117000">
                  <a:off x="6345720" y="783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rot="5886600">
                  <a:off x="6782040" y="7564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rot="5886600">
                  <a:off x="7371360" y="755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rot="5886600">
                  <a:off x="7148160" y="7625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rot="5886600">
                  <a:off x="6481800" y="760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rot="6117000">
                  <a:off x="6918480" y="7489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rot="6117000">
                  <a:off x="7418160" y="7375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rot="6117000">
                  <a:off x="7189920" y="745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rot="6117000">
                  <a:off x="6998040" y="7323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rot="6117000">
                  <a:off x="6741360" y="7309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rot="6117000">
                  <a:off x="7235640" y="727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rot="6117000">
                  <a:off x="6899400" y="716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rot="6372000">
                  <a:off x="6682320" y="710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rot="6372000">
                  <a:off x="7177680" y="711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rot="6372000">
                  <a:off x="6984720" y="6964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rot="6372000">
                  <a:off x="6303960" y="706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rot="7065000">
                  <a:off x="6402600" y="69408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rot="7065000">
                  <a:off x="7259760" y="6933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rot="7065000">
                  <a:off x="7098840" y="6825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rot="7065000">
                  <a:off x="6749280" y="693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rot="7065000">
                  <a:off x="6591240" y="6795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rot="7065000">
                  <a:off x="6904080" y="6765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rot="6117000">
                  <a:off x="6608880" y="746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rot="6117000">
                  <a:off x="6495840" y="725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rot="6117000">
                  <a:off x="669960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rot="3765000">
                  <a:off x="6978600" y="791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rot="3765000">
                  <a:off x="6798600" y="7916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rot="3765000">
                  <a:off x="7270200" y="7737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rot="3765000">
                  <a:off x="7082280" y="778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rot="3765000">
                  <a:off x="6963480" y="7936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rot="3765000">
                  <a:off x="6248160" y="7624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rot="3765000">
                  <a:off x="7363440" y="74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rot="3765000">
                  <a:off x="7243920" y="754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rot="3765000">
                  <a:off x="7039800" y="7587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rot="3765000">
                  <a:off x="6604920" y="7993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rot="3534000">
                  <a:off x="6825960" y="7562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rot="3534000">
                  <a:off x="7278120" y="7183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rot="3534000">
                  <a:off x="7149600" y="737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rot="3534000">
                  <a:off x="6618600" y="778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rot="3765000">
                  <a:off x="6885000" y="741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rot="3765000">
                  <a:off x="7200000" y="701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rot="3765000">
                  <a:off x="7070760" y="7215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3765000">
                  <a:off x="6842160" y="7238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3765000">
                  <a:off x="6634440" y="739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rot="3765000">
                  <a:off x="7387560" y="715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rot="3765000">
                  <a:off x="6998760" y="705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rot="3765000">
                  <a:off x="6493680" y="709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rot="4019400">
                  <a:off x="6458760" y="726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4019400">
                  <a:off x="6697800" y="6738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rot="4019400">
                  <a:off x="6604200" y="696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rot="4713000">
                  <a:off x="6194160" y="7228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rot="3765000">
                  <a:off x="6626160" y="759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rot="3765000">
                  <a:off x="6168240" y="746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rot="3765000">
                  <a:off x="6877440" y="7754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rot="7479600">
                  <a:off x="6460920" y="7848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rot="7479600">
                  <a:off x="6375960" y="76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rot="7479600">
                  <a:off x="6756480" y="802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rot="7479600">
                  <a:off x="6622560" y="7878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rot="7479600">
                  <a:off x="6434640" y="7843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rot="7479600">
                  <a:off x="6369840" y="7250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rot="7479600">
                  <a:off x="7078680" y="7953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rot="7479600">
                  <a:off x="6916320" y="7904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rot="7479600">
                  <a:off x="678024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rot="7479600">
                  <a:off x="6197040" y="7625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rot="7249200">
                  <a:off x="6702120" y="7546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rot="7249200">
                  <a:off x="7247880" y="7767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rot="7249200">
                  <a:off x="7016040" y="7745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rot="7249200">
                  <a:off x="6410880" y="746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7479600">
                  <a:off x="6857280" y="752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rot="7479600">
                  <a:off x="7362720" y="761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rot="7479600">
                  <a:off x="7123680" y="7599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rot="7479600">
                  <a:off x="6995520" y="7407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rot="7479600">
                  <a:off x="6763320" y="729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rot="7479600">
                  <a:off x="7231680" y="7458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rot="7479600">
                  <a:off x="6963840" y="722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rot="7734600">
                  <a:off x="6786720" y="7084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rot="7734600">
                  <a:off x="7242480" y="727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rot="7734600">
                  <a:off x="7121520" y="7070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rot="7734600">
                  <a:off x="6454800" y="690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rot="8427600">
                  <a:off x="6592680" y="6824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rot="8427600">
                  <a:off x="7387200" y="7148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rot="8427600">
                  <a:off x="7279200" y="6986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rot="8427600">
                  <a:off x="6917040" y="6949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rot="8427600">
                  <a:off x="6823080" y="6763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rot="8427600">
                  <a:off x="7122960" y="685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rot="7479600">
                  <a:off x="6582240" y="7384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rot="7479600">
                  <a:off x="6557400" y="7152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rot="7479600">
                  <a:off x="6556320" y="768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rot="5127600">
                  <a:off x="6748200" y="794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rot="5127600">
                  <a:off x="6581880" y="7877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5127600">
                  <a:off x="7085520" y="7893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5127600">
                  <a:off x="6892200" y="7868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rot="5127600">
                  <a:off x="6726600" y="795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rot="5127600">
                  <a:off x="6186960" y="7394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rot="5127600">
                  <a:off x="7294320" y="76377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rot="5127600">
                  <a:off x="7137720" y="7703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rot="5127600">
                  <a:off x="6931080" y="7665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rot="5127600">
                  <a:off x="6372360" y="7873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rot="4896600">
                  <a:off x="6743880" y="7560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rot="4896600">
                  <a:off x="7307280" y="7386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rot="4896600">
                  <a:off x="7113600" y="7516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rot="4896600">
                  <a:off x="6468480" y="7683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rot="5127600">
                  <a:off x="6853320" y="745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rot="5127600">
                  <a:off x="7301520" y="719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rot="5127600">
                  <a:off x="7102800" y="7335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rot="5127600">
                  <a:off x="6884280" y="7269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rot="5127600">
                  <a:off x="6633360" y="7328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rot="5127600">
                  <a:off x="7417800" y="7404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rot="5127600">
                  <a:off x="7099920" y="715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rot="5127600">
                  <a:off x="6615000" y="7006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rot="5382000">
                  <a:off x="6518520" y="7148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rot="5382000">
                  <a:off x="6943320" y="675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rot="5382000">
                  <a:off x="6768000" y="692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rot="6075600">
                  <a:off x="6290280" y="700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rot="5127600">
                  <a:off x="6548400" y="7510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rot="5127600">
                  <a:off x="6173640" y="7220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rot="5127600">
                  <a:off x="6717600" y="77583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0" name=""/>
            <p:cNvGrpSpPr/>
            <p:nvPr/>
          </p:nvGrpSpPr>
          <p:grpSpPr>
            <a:xfrm>
              <a:off x="7405200" y="4970880"/>
              <a:ext cx="2642040" cy="2641680"/>
              <a:chOff x="7405200" y="4970880"/>
              <a:chExt cx="2642040" cy="2641680"/>
            </a:xfrm>
          </p:grpSpPr>
          <p:sp>
            <p:nvSpPr>
              <p:cNvPr id="2821" name=""/>
              <p:cNvSpPr/>
              <p:nvPr/>
            </p:nvSpPr>
            <p:spPr>
              <a:xfrm rot="1368000">
                <a:off x="7717320" y="528300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2" name=""/>
              <p:cNvGrpSpPr/>
              <p:nvPr/>
            </p:nvGrpSpPr>
            <p:grpSpPr>
              <a:xfrm>
                <a:off x="7804080" y="5361480"/>
                <a:ext cx="1891440" cy="1859400"/>
                <a:chOff x="7804080" y="5361480"/>
                <a:chExt cx="1891440" cy="1859400"/>
              </a:xfrm>
            </p:grpSpPr>
            <p:sp>
              <p:nvSpPr>
                <p:cNvPr id="2823" name=""/>
                <p:cNvSpPr/>
                <p:nvPr/>
              </p:nvSpPr>
              <p:spPr>
                <a:xfrm rot="14920800">
                  <a:off x="9334080" y="59972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rot="14920800">
                  <a:off x="9301320" y="63633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rot="14920800">
                  <a:off x="8442360" y="56977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14920800">
                  <a:off x="8626320" y="57160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rot="14920800">
                  <a:off x="7891560" y="5913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rot="14920800">
                  <a:off x="8054640" y="569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4920800">
                  <a:off x="8271720" y="5580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rot="14920800">
                  <a:off x="8499240" y="5490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rot="14920800">
                  <a:off x="7841160" y="63658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rot="14920800">
                  <a:off x="7847280" y="614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rot="14920800">
                  <a:off x="8118720" y="58532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rot="14920800">
                  <a:off x="8321040" y="58201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rot="14920800">
                  <a:off x="8715600" y="5461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rot="14920800">
                  <a:off x="8458200" y="56782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rot="14920800">
                  <a:off x="9011520" y="596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rot="14920800">
                  <a:off x="7989840" y="616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rot="14920800">
                  <a:off x="8125920" y="6058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rot="14920800">
                  <a:off x="8343720" y="60325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rot="14920800">
                  <a:off x="8838720" y="565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rot="14920800">
                  <a:off x="8939160" y="55069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rot="14689800">
                  <a:off x="8560440" y="608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rot="14689800">
                  <a:off x="7955640" y="6612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rot="14689800">
                  <a:off x="8052480" y="642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rot="14689800">
                  <a:off x="8207640" y="6238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rot="14689800">
                  <a:off x="8799480" y="587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rot="14689800">
                  <a:off x="9001440" y="57312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rot="14920800">
                  <a:off x="8485200" y="6225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rot="14920800">
                  <a:off x="8114400" y="66099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rot="14920800">
                  <a:off x="8269560" y="6414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rot="14920800">
                  <a:off x="8508960" y="6417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rot="14920800">
                  <a:off x="9178560" y="5680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rot="14920800">
                  <a:off x="8743320" y="6281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rot="14920800">
                  <a:off x="8167320" y="680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rot="14920800">
                  <a:off x="8327880" y="65894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rot="14920800">
                  <a:off x="8684640" y="6493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rot="14920800">
                  <a:off x="9247320" y="61408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rot="15175200">
                  <a:off x="8910000" y="6425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rot="15175200">
                  <a:off x="8297280" y="6902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rot="15175200">
                  <a:off x="8475120" y="6703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rot="15175200">
                  <a:off x="8727840" y="6720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rot="15175200">
                  <a:off x="9160200" y="6348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5868800">
                  <a:off x="9201240" y="65577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5868800">
                  <a:off x="8506080" y="69062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5868800">
                  <a:off x="8708400" y="6907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5868800">
                  <a:off x="8952120" y="661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rot="15868800">
                  <a:off x="9149760" y="6728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rot="15868800">
                  <a:off x="8912160" y="6850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rot="14920800">
                  <a:off x="8769600" y="60750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rot="14920800">
                  <a:off x="8986320" y="61858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rot="14920800">
                  <a:off x="8527680" y="5878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rot="14920800">
                  <a:off x="9176760" y="5897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2568200">
                  <a:off x="9067320" y="5555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rot="12568200">
                  <a:off x="9275760" y="5860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rot="12568200">
                  <a:off x="8188560" y="588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rot="12568200">
                  <a:off x="7897680" y="63993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2568200">
                  <a:off x="7888680" y="6134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2568200">
                  <a:off x="7981920" y="59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2568200">
                  <a:off x="8101080" y="56916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2568200">
                  <a:off x="8144280" y="6787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rot="12568200">
                  <a:off x="8012520" y="6612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rot="12568200">
                  <a:off x="8037000" y="62107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rot="12568200">
                  <a:off x="8169840" y="60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rot="12568200">
                  <a:off x="8250480" y="5531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rot="12568200">
                  <a:off x="8189280" y="58615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rot="12568200">
                  <a:off x="8799840" y="5738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rot="12568200">
                  <a:off x="8135280" y="654084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rot="12568200">
                  <a:off x="8170200" y="636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rot="12568200">
                  <a:off x="8324640" y="620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rot="12568200">
                  <a:off x="8470080" y="560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rot="12568200">
                  <a:off x="8453880" y="54262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rot="12337800">
                  <a:off x="8391960" y="6903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rot="12337800">
                  <a:off x="8346240" y="6454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rot="12337800">
                  <a:off x="8578800" y="58006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rot="12337800">
                  <a:off x="8641440" y="5560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rot="12568200">
                  <a:off x="8512560" y="68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rot="12568200">
                  <a:off x="8694360" y="64011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rot="12568200">
                  <a:off x="8745840" y="54072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rot="12568200">
                  <a:off x="8673120" y="6919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rot="12568200">
                  <a:off x="9091080" y="571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rot="12823200">
                  <a:off x="8837280" y="6911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rot="12823200">
                  <a:off x="9156600" y="5936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rot="13516800">
                  <a:off x="9002160" y="67816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rot="13516800">
                  <a:off x="9159120" y="6656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rot="13516800">
                  <a:off x="9388800" y="6238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3516800">
                  <a:off x="9281880" y="6479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2568200">
                  <a:off x="8681040" y="59709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2568200">
                  <a:off x="8918280" y="5922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2568200">
                  <a:off x="8369640" y="59724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rot="12568200">
                  <a:off x="8883000" y="5576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rot="12568200">
                  <a:off x="8663760" y="66510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rot="12823200">
                  <a:off x="8849880" y="6646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rot="12823200">
                  <a:off x="9056520" y="649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rot="13516800">
                  <a:off x="9321480" y="60732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rot="13516800">
                  <a:off x="9163440" y="6275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rot="12568200">
                  <a:off x="8880480" y="6349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rot="12823200">
                  <a:off x="9010800" y="615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rot="12568200">
                  <a:off x="8345160" y="5783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rot="12337800">
                  <a:off x="8346600" y="669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2568200">
                  <a:off x="8510400" y="65516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2337800">
                  <a:off x="8524800" y="6109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2568200">
                  <a:off x="8554320" y="6268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2568200">
                  <a:off x="8789760" y="61506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5" name=""/>
          <p:cNvSpPr/>
          <p:nvPr/>
        </p:nvSpPr>
        <p:spPr>
          <a:xfrm>
            <a:off x="2490840" y="2486160"/>
            <a:ext cx="243000" cy="24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525760" y="418788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7472520" y="5742000"/>
            <a:ext cx="242640" cy="243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7005600" y="632772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158920" y="3193920"/>
            <a:ext cx="974880" cy="82404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1.52969 2.59259E-006 E">
                                      <p:cBhvr>
                                        <p:cTn id="208" dur="5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16E-006 L 0.35017 0.08206 E">
                                      <p:cBhvr>
                                        <p:cTn id="238" dur="2000" fill="hold"/>
                                        <p:tgtEl>
                                          <p:spTgt spid="2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7841E-007 L 0.51892 0.24202 E">
                                      <p:cBhvr>
                                        <p:cTn id="240" dur="2000" fill="hold"/>
                                        <p:tgtEl>
                                          <p:spTgt spid="2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3908 4.07407E-006 E">
                                      <p:cBhvr>
                                        <p:cTn id="248" dur="1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2342 -0.52292 E">
                                      <p:cBhvr>
                                        <p:cTn id="279" dur="10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45399 0.03472 E">
                                      <p:cBhvr>
                                        <p:cTn id="281" dur="1000" fill="hold"/>
                                        <p:tgtEl>
                                          <p:spTgt spid="2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"/>
          <p:cNvSpPr/>
          <p:nvPr/>
        </p:nvSpPr>
        <p:spPr>
          <a:xfrm rot="13552200">
            <a:off x="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rot="13552200">
            <a:off x="0" y="874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rot="13552200">
            <a:off x="8712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rot="13552200">
            <a:off x="0" y="1742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rot="13552200">
            <a:off x="871200" y="86796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rot="13552200">
            <a:off x="17442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rot="13552200">
            <a:off x="0" y="26121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rot="13552200">
            <a:off x="871200" y="173808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rot="13552200">
            <a:off x="1744560" y="869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3552200">
            <a:off x="26175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rot="13552200">
            <a:off x="0" y="34837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rot="13552200">
            <a:off x="871200" y="2609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rot="13552200">
            <a:off x="1744200" y="174060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rot="13552200">
            <a:off x="2617560" y="8712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rot="13552200">
            <a:off x="348912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rot="13552200">
            <a:off x="0" y="4357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rot="13552200">
            <a:off x="871200" y="348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rot="13552200">
            <a:off x="1744560" y="26139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rot="13552200">
            <a:off x="2617560" y="17442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13552200">
            <a:off x="3489120" y="872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rot="13552200">
            <a:off x="437796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rot="13552200">
            <a:off x="0" y="52300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rot="13552200">
            <a:off x="871200" y="4355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rot="13552200">
            <a:off x="1744200" y="34869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rot="13552200">
            <a:off x="2617560" y="261756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rot="13552200">
            <a:off x="3489120" y="17460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rot="13552200">
            <a:off x="4377960" y="8722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3552200">
            <a:off x="52668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rot="13552200">
            <a:off x="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rot="13552200">
            <a:off x="87120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rot="13552200">
            <a:off x="174456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3552200">
            <a:off x="261756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rot="13552200">
            <a:off x="3489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rot="13552200">
            <a:off x="4378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rot="13552200">
            <a:off x="526680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rot="13552200">
            <a:off x="61560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rot="13552200">
            <a:off x="87300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rot="13552200">
            <a:off x="174456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rot="13552200">
            <a:off x="261756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rot="13552200">
            <a:off x="3490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rot="13552200">
            <a:off x="4362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rot="13552200">
            <a:off x="5251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rot="13552200">
            <a:off x="614016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rot="13552200">
            <a:off x="70290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rot="13552200">
            <a:off x="174600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rot="13552200">
            <a:off x="261756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rot="13552200">
            <a:off x="3490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rot="13552200">
            <a:off x="4363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rot="13552200">
            <a:off x="5235120" y="26074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rot="13552200">
            <a:off x="6124320" y="1734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rot="13552200">
            <a:off x="701316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rot="13552200">
            <a:off x="7902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rot="13552200">
            <a:off x="261936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rot="13552200">
            <a:off x="349092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rot="13552200">
            <a:off x="4363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rot="13552200">
            <a:off x="523692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rot="13552200">
            <a:off x="610848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rot="13552200">
            <a:off x="699768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rot="13552200">
            <a:off x="788652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rot="13552200">
            <a:off x="8775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rot="13552200">
            <a:off x="3490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rot="13552200">
            <a:off x="436212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rot="13552200">
            <a:off x="52354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rot="13552200">
            <a:off x="6108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rot="13552200">
            <a:off x="6980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rot="13552200">
            <a:off x="7869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rot="13552200">
            <a:off x="875772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rot="13552200">
            <a:off x="4363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rot="13552200">
            <a:off x="52354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rot="13552200">
            <a:off x="610848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rot="13552200">
            <a:off x="6981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3552200">
            <a:off x="7853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rot="13552200">
            <a:off x="8742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rot="13552200">
            <a:off x="52387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rot="13552200">
            <a:off x="61102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rot="13552200">
            <a:off x="69832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rot="13552200">
            <a:off x="78562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rot="13552200">
            <a:off x="87278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rot="13552200">
            <a:off x="6110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3552200">
            <a:off x="698148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rot="13552200">
            <a:off x="785484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rot="13552200">
            <a:off x="872784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rot="13552200">
            <a:off x="6983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rot="13552200">
            <a:off x="78548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rot="13552200">
            <a:off x="872784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rot="13552200">
            <a:off x="78580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13552200">
            <a:off x="87296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rot="13552200">
            <a:off x="874368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" descr=""/>
          <p:cNvPicPr/>
          <p:nvPr/>
        </p:nvPicPr>
        <p:blipFill>
          <a:blip r:embed="rId1"/>
          <a:stretch/>
        </p:blipFill>
        <p:spPr>
          <a:xfrm>
            <a:off x="6337440" y="3054240"/>
            <a:ext cx="2011320" cy="1492200"/>
          </a:xfrm>
          <a:prstGeom prst="rect">
            <a:avLst/>
          </a:prstGeom>
          <a:ln w="0">
            <a:noFill/>
          </a:ln>
        </p:spPr>
      </p:pic>
      <p:pic>
        <p:nvPicPr>
          <p:cNvPr id="3019" name="" descr=""/>
          <p:cNvPicPr/>
          <p:nvPr/>
        </p:nvPicPr>
        <p:blipFill>
          <a:blip r:embed="rId2"/>
          <a:stretch/>
        </p:blipFill>
        <p:spPr>
          <a:xfrm>
            <a:off x="6330960" y="4705200"/>
            <a:ext cx="20113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04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9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"/>
                            </p:stCondLst>
                            <p:childTnLst>
                              <p:par>
                                <p:cTn id="309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1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9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6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29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"/>
                            </p:stCondLst>
                            <p:childTnLst>
                              <p:par>
                                <p:cTn id="32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2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" fill="hold"/>
                                        <p:tgtEl>
                                          <p:spTgt spid="29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7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" fill="hold"/>
                                        <p:tgtEl>
                                          <p:spTgt spid="29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2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" fill="hold"/>
                                        <p:tgtEl>
                                          <p:spTgt spid="29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8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29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3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" fill="hold"/>
                                        <p:tgtEl>
                                          <p:spTgt spid="29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8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" fill="hold"/>
                                        <p:tgtEl>
                                          <p:spTgt spid="2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3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" fill="hold"/>
                                        <p:tgtEl>
                                          <p:spTgt spid="29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9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9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4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29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9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" fill="hold"/>
                                        <p:tgtEl>
                                          <p:spTgt spid="29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9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29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85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0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5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29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" fill="hold"/>
                                        <p:tgtEl>
                                          <p:spTgt spid="29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" fill="hold"/>
                                        <p:tgtEl>
                                          <p:spTgt spid="29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0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29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"/>
                            </p:stCondLst>
                            <p:childTnLst>
                              <p:par>
                                <p:cTn id="4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" fill="hold"/>
                                        <p:tgtEl>
                                          <p:spTgt spid="29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9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6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" fill="hold"/>
                                        <p:tgtEl>
                                          <p:spTgt spid="2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1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" fill="hold"/>
                                        <p:tgtEl>
                                          <p:spTgt spid="29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2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1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" fill="hold"/>
                                        <p:tgtEl>
                                          <p:spTgt spid="2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6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" fill="hold"/>
                                        <p:tgtEl>
                                          <p:spTgt spid="29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" fill="hold"/>
                                        <p:tgtEl>
                                          <p:spTgt spid="2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200" fill="hold"/>
                                        <p:tgtEl>
                                          <p:spTgt spid="29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2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29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7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" fill="hold"/>
                                        <p:tgtEl>
                                          <p:spTgt spid="29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2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7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" fill="hold"/>
                                        <p:tgtEl>
                                          <p:spTgt spid="29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2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" fill="hold"/>
                                        <p:tgtEl>
                                          <p:spTgt spid="29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" fill="hold"/>
                                        <p:tgtEl>
                                          <p:spTgt spid="29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800"/>
                            </p:stCondLst>
                            <p:childTnLst>
                              <p:par>
                                <p:cTn id="49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3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200" fill="hold"/>
                                        <p:tgtEl>
                                          <p:spTgt spid="29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" fill="hold"/>
                                        <p:tgtEl>
                                          <p:spTgt spid="29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3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" fill="hold"/>
                                        <p:tgtEl>
                                          <p:spTgt spid="29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8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" fill="hold"/>
                                        <p:tgtEl>
                                          <p:spTgt spid="29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3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9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8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200" fill="hold"/>
                                        <p:tgtEl>
                                          <p:spTgt spid="29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" fill="hold"/>
                                        <p:tgtEl>
                                          <p:spTgt spid="29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8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4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9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9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29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4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50" fill="hold"/>
                                        <p:tgtEl>
                                          <p:spTgt spid="29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9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5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4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50" fill="hold"/>
                                        <p:tgtEl>
                                          <p:spTgt spid="29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9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150" fill="hold"/>
                                        <p:tgtEl>
                                          <p:spTgt spid="29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50" fill="hold"/>
                                        <p:tgtEl>
                                          <p:spTgt spid="29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9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50" fill="hold"/>
                                        <p:tgtEl>
                                          <p:spTgt spid="29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200"/>
                            </p:stCondLst>
                            <p:childTnLst>
                              <p:par>
                                <p:cTn id="57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5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50" fill="hold"/>
                                        <p:tgtEl>
                                          <p:spTgt spid="29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50" fill="hold"/>
                                        <p:tgtEl>
                                          <p:spTgt spid="29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5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150" fill="hold"/>
                                        <p:tgtEl>
                                          <p:spTgt spid="29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0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50" fill="hold"/>
                                        <p:tgtEl>
                                          <p:spTgt spid="29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7" dur="150" fill="hold"/>
                                        <p:tgtEl>
                                          <p:spTgt spid="29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150" fill="hold"/>
                                        <p:tgtEl>
                                          <p:spTgt spid="29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150" fill="hold"/>
                                        <p:tgtEl>
                                          <p:spTgt spid="2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350"/>
                            </p:stCondLst>
                            <p:childTnLst>
                              <p:par>
                                <p:cTn id="6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15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1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5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150" fill="hold"/>
                                        <p:tgtEl>
                                          <p:spTgt spid="29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1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5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6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29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50" fill="hold"/>
                                        <p:tgtEl>
                                          <p:spTgt spid="29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150" fill="hold"/>
                                        <p:tgtEl>
                                          <p:spTgt spid="29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150" fill="hold"/>
                                        <p:tgtEl>
                                          <p:spTgt spid="29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29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100" fill="hold"/>
                                        <p:tgtEl>
                                          <p:spTgt spid="2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100" fill="hold"/>
                                        <p:tgtEl>
                                          <p:spTgt spid="30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30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7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100" fill="hold"/>
                                        <p:tgtEl>
                                          <p:spTgt spid="30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650"/>
                            </p:stCondLst>
                            <p:childTnLst>
                              <p:par>
                                <p:cTn id="68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" fill="hold"/>
                                        <p:tgtEl>
                                          <p:spTgt spid="30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8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" fill="hold"/>
                                        <p:tgtEl>
                                          <p:spTgt spid="3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8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" fill="hold"/>
                                        <p:tgtEl>
                                          <p:spTgt spid="3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" fill="hold"/>
                                        <p:tgtEl>
                                          <p:spTgt spid="3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750"/>
                            </p:stCondLst>
                            <p:childTnLst>
                              <p:par>
                                <p:cTn id="70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9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3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100" fill="hold"/>
                                        <p:tgtEl>
                                          <p:spTgt spid="30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30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4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100" fill="hold"/>
                                        <p:tgtEl>
                                          <p:spTgt spid="30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850"/>
                            </p:stCondLst>
                            <p:childTnLst>
                              <p:par>
                                <p:cTn id="728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100" fill="hold"/>
                                        <p:tgtEl>
                                          <p:spTgt spid="30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7" dur="100" fill="hold"/>
                                        <p:tgtEl>
                                          <p:spTgt spid="30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0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950"/>
                            </p:stCondLst>
                            <p:childTnLst>
                              <p:par>
                                <p:cTn id="74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6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100" fill="hold"/>
                                        <p:tgtEl>
                                          <p:spTgt spid="30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100" fill="hold"/>
                                        <p:tgtEl>
                                          <p:spTgt spid="30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50"/>
                            </p:stCondLst>
                            <p:childTnLst>
                              <p:par>
                                <p:cTn id="75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30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15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15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College of Veterinary Medicine</cp:lastModifiedBy>
  <dcterms:modified xsi:type="dcterms:W3CDTF">2006-07-14T16:41:23Z</dcterms:modified>
  <cp:revision>20</cp:revision>
  <dc:subject/>
  <dc:title>Slide 1</dc:title>
</cp:coreProperties>
</file>