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75257-B47D-4F45-8E5D-C3A906217E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BF6AA-1A27-4C8C-8E25-38E8F6A0BF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, D)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Locating societies on maps and globes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and explaining geographic factors responsible for location of economic activities in pla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5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xplaining factors that influence economic development and foreign polici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C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alyzing effects of physical processes and the physical environment on human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and analyzing ways people adapt to the physical environmen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8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mparing ways societies organize production and distribu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A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ifferentiating between, locating, and using primary and secondary sources to acquire about world cul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DB14C-D8D1-47E0-80D3-BFA650BC64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, D)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Locating societies on maps and globes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and explaining geographic factors responsible for location of economic activities in pla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5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xplaining factors that influence economic development and foreign polici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and analyzing ways people adapt to the physical environmen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A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ifferentiating between, locating, and using primary and secondary sources to acquire about world cult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B447-9EEE-40FC-B638-E35E5BA66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3A1C-B673-4FE0-AAEB-F26A96A1A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E81A-0628-4143-BBC7-F3F283680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136A-A0FE-44D3-825C-A99B3B6B2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CD8A-DDEA-47D2-9D20-834D359CC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897C-7CB1-4CC5-BB8A-B22DB6F54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CAA8-4DB3-4609-A9F6-16FFB6B8B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44FD-731F-4FA8-9176-B9F5D84AB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884D-EB71-4400-B13B-F76B54155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53B2-730A-4688-B911-9FACFB236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D9E7-F16E-4D26-8214-3A50CF02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307E-2A7D-4EFA-8E0E-05BFC494C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9e4c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9e4c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9e4c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9e4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9e4c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9e4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9e4c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9e4c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13CAC-0D38-4675-8086-F4147D671EFE}" type="slidenum">
              <a:rPr b="0" lang="en-US" sz="1400" spc="-1" strike="noStrike">
                <a:solidFill>
                  <a:srgbClr val="f9e4c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Egypt and the Nile River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spcAft>
                <a:spcPts val="1500"/>
              </a:spcAft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The Nile River is Egypt’s most important natural resource. 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-343080"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The river provides irrigation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water for agriculture.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-343080"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Each year, the river floods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and brings a new layer of 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rich, fertile soil to the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surrounding farmland.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The people have depended on the river for water, food, and transportation since ancient times.  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Most of the people of Egypt live along the Nile. The rest of the country is very thinly settled.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572000" y="1752480"/>
            <a:ext cx="4172040" cy="2444760"/>
          </a:xfrm>
          <a:prstGeom prst="rect">
            <a:avLst/>
          </a:prstGeom>
          <a:ln w="88920">
            <a:solidFill>
              <a:srgbClr val="f9e4c9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3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The Landscape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5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Much of Egypt is a desert.  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5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There are mountains to the west of the Nile River. 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5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The Nile River runs through Egypt, watering the land and feeding its people.  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5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The land along the Nile is green and fertile. Nearly all of Egypt’s farms are located along the Nile.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495680" y="1905120"/>
            <a:ext cx="4216680" cy="3657600"/>
          </a:xfrm>
          <a:prstGeom prst="rect">
            <a:avLst/>
          </a:prstGeom>
          <a:ln w="88920">
            <a:solidFill>
              <a:srgbClr val="f9e4c9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4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20:38:38Z</dcterms:created>
  <dc:creator>Charles C. Farnsworth, Ph.D. - Instructional Design</dc:creator>
  <dc:description/>
  <dc:language>en-US</dc:language>
  <cp:lastModifiedBy>Texas A&amp;M Veterinary Medicine</cp:lastModifiedBy>
  <dcterms:modified xsi:type="dcterms:W3CDTF">2005-05-06T15:09:52Z</dcterms:modified>
  <cp:revision>27</cp:revision>
  <dc:subject/>
  <dc:title>People along the Nile River</dc:title>
</cp:coreProperties>
</file>