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A92E-6AAD-4773-BF16-BDED19165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E0AA-6481-4751-A631-3D8F03186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8302-733E-4CA0-B828-EC770536A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778-D395-458F-9B27-66896641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B7E-8749-4327-BAC1-19FCC8E9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A11-2E3E-45F4-81C6-884B2AC1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D0E-8CCC-4C91-BC13-93FFB006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34D-272F-4012-A23A-62F67AEA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8F0-4E44-4439-95B5-04D6FB23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656-2BDC-473C-94FD-B6B65962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FA8-B9A5-43B7-81EE-460D8FC1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305-228F-412A-AA83-5DDED46F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47E5-470F-4D73-819C-0377552F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436-B4F2-45E2-A930-74BB6C25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60B-9D79-4A4A-A0BF-C696AD8D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855C-A396-46E8-90B0-1563888A39E5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br>
              <a:rPr sz="2400"/>
            </a:br>
            <a:endParaRPr b="0" lang="en-US" sz="41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9458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gyptians ate mostly fish, poultry, and bread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y also enjoyed fruits and vegetables grown locally by farmer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se farmers depended on a yearly flood from the Nile River to restore nutrients to the soi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79132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17220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520" y="15238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Nile River was the source of nearly  all food in ancient Egypt. It provided water for irrigation and for daily 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main food crops, barley and emmer, were used to make bread, the main diet of Egyptian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Grains were harvested and stored in granaries until ready to be processed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amount of grain harvested often was more than the needs of the country.  Grain was exported to neighboring countries, providing a source of income for the Egyptian treasury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971800" cy="19875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46:28Z</dcterms:created>
  <dc:creator>Charles C. Farnsworth, Ph.D. - Instructional Design</dc:creator>
  <dc:description/>
  <dc:language>en-US</dc:language>
  <cp:lastModifiedBy>Texas A&amp;M Veterinary Medicine</cp:lastModifiedBy>
  <dcterms:modified xsi:type="dcterms:W3CDTF">2005-05-06T15:08:51Z</dcterms:modified>
  <cp:revision>21</cp:revision>
  <dc:subject/>
  <dc:title>No Slide Title</dc:title>
</cp:coreProperties>
</file>