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9B3-52CD-4C4C-B96D-77D174FB1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1E90-7A9F-4A34-A66B-68DD5B444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and measuring levels of economic develop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examples of governments with rule by one, few, or m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Explaining aspects that link or separate cultures and socie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Explaining the impact of political boundaries that cut across culture reg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17F-4C30-4D78-B0AE-225E68B4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C31-3CB5-4727-8FE2-BBF0E144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3A8-C2B4-46EA-9BCE-27E1B74E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BF6-70EE-4305-9778-2972FA69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0B5-2760-43D9-9660-4E90A3FC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92F-3040-4106-B75F-5BEC585C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936-B73D-4474-B6B1-66DF1AA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E90-63F6-4353-971C-D6FDEF2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5FC-D832-42CD-B97C-2698E28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E94-C923-4999-9A15-14752A0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B21-2F4D-48E4-833E-13F914A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0F3-F5C2-44EE-8435-C20963D0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D5F1-5276-4C14-8E65-43B8658E2E8B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Work and Social Class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n ancient Egypt, a person’s job determined his or her social classification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Most people in ancient Egypt were soldiers, farmers, and tomb builders.  These people were at the bottom of the social pyrami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Priests, scribes, and other skilled workers held a higher social classification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highest position on the social pyramid was held by the pharaoh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13:39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11:08Z</dcterms:modified>
  <cp:revision>15</cp:revision>
  <dc:subject/>
  <dc:title>Work</dc:title>
</cp:coreProperties>
</file>