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0DCB-3AAC-4825-AB68-F09F8EAEC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5BFFD-437B-467B-AC1A-0D2DAD52F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4983-3F13-46C1-972F-BA552677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56BEE-1EE5-4594-9FFE-104B9B2CD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7B57-044B-4E84-B9DB-212A5E187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12EC1-2F6F-4C97-AA8A-66A9847D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5DC12-5E44-4075-AE9D-A429C83F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83B9F-6E02-447F-8D1E-FF352313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11D1-1072-4AE6-B329-4174ADA6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9002-AD2A-4DDA-986E-70E2E14B4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4EBBD-2AAC-4E34-8290-CE82A7CB9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375B-85B0-4A0D-93FB-E204691C1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0BB0-B49D-4EDD-8548-AEE4EF79B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EF0E-BE3A-421A-BF9E-4174F1B54B70}"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5-05-17T17:06:37Z</dcterms:modified>
  <cp:revision>32</cp:revision>
  <dc:subject/>
  <dc:title>When the children _____ in Egypt, they found a girl ______.</dc:title>
</cp:coreProperties>
</file>