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F67-AC9E-4DA9-A3F4-04FB79C74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foreig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E7C-54D2-4A64-A73E-66980CB0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915-5089-4423-881A-4E0E612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F21-19CA-4FFB-997D-3E224983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1DB-E866-4597-8C47-8DABAB16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BD2-BF7E-4E45-ADA3-6E5511E5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68E-0D41-4477-9EFC-21A63392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179-09B9-4A4C-9A11-FBEAB00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D0C-751D-4E1E-8975-AE3B949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96D-7D74-4515-AE60-24E1479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699-B943-4B93-B946-B05D1C1D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F0-31F8-4AA6-A36C-CA675CB2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A86-9C36-4FF3-B5ED-6C4039E8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F4E7-20B5-41E6-A6FB-5125A7D33D66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Read “Tut’s Revenge” carefully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9e4c9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60520" y="3124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40514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60520" y="4991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60520" y="594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60520" y="3378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0520" y="4317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052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0520" y="5816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d5d5d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0520" y="37339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60520" y="4699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6052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60520" y="27176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60520" y="3289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0520" y="4241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60520" y="51814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60520" y="313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0520" y="3720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60520" y="4280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60520" y="4851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3120" y="3594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73120" y="41781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3120" y="4737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3120" y="5283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312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3120" y="3746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3120" y="43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0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6.  Select the best definition for "monarch" in the context of the sentence below.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3120" y="3873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3120" y="44449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73120" y="4991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3120" y="55497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12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73120" y="3746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3120" y="4305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3120" y="4863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0520" y="4470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60520" y="5016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60520" y="5969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60520" y="3530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Texas A&amp;M Veterinary Medicine</cp:lastModifiedBy>
  <dcterms:modified xsi:type="dcterms:W3CDTF">2005-05-17T17:05:44Z</dcterms:modified>
  <cp:revision>87</cp:revision>
  <dc:subject/>
  <dc:title>Investigator’s Challenge Quiz</dc:title>
</cp:coreProperties>
</file>