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0D69-98C8-4940-8238-D0C28B5F0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DCF0-76A4-40B7-8E98-E67BFC6E7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A85F-2966-4E3A-A55D-8115671AE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1B57-663B-4AD2-9BE7-B15DF8DA6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4FB0-16EE-4ECA-8102-53C7ECD1B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3DE3-A0AA-4F35-9335-9EC5C0C9B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8965-1400-400C-97C2-397BE19BC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2D54-40A7-4713-9EEB-9A292666D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D701-DD74-4D82-BB01-C1719A16F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2132-8C07-4A3C-A0FD-0842997BC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68200-8259-4478-A30F-A2025B9E1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9DA25-0013-48E2-B2E9-A036D9E95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4182B-86A9-465F-93FF-517787352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2EED0-99F6-4BF8-914C-8120F3D9B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AFA94-BA6B-4F73-B1CA-3E0CF1805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63FF6-E2C9-4934-89BC-74514E21D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C782A-968B-4C5E-BD5A-9BEE34457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CB11-A0EE-4B1E-8AE2-908F438CB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2AD81-593C-46D6-B10D-5AC5D876C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9CCFA-041D-4E12-B52D-FFD2E45FE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87F44-1863-4F83-9FB0-9A997EC8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4C4D6-1937-4A67-A6CB-CDB74AF0B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486A-98E3-48CF-8026-849E5AFB917F}"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Texas A&amp;M Veterinary Medicine</cp:lastModifiedBy>
  <cp:lastPrinted>2002-01-24T23:01:28Z</cp:lastPrinted>
  <dcterms:modified xsi:type="dcterms:W3CDTF">2005-05-06T15:10:46Z</dcterms:modified>
  <cp:revision>52</cp:revision>
  <dc:subject/>
  <dc:title>Where in the world is Luxor?</dc:title>
</cp:coreProperties>
</file>