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D53-A064-4E89-84B5-BBB6B4B0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EB2-A72E-479D-8623-0E81A606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3C4-F421-45E7-B831-2B91F874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6DD-2FB6-413A-B89D-3A8F2FDA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C1E-5EB9-42A9-BBB6-AE8C39EF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DB8-7103-4253-B861-9F335A4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E26-5738-4D2C-B71C-4909A18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C3D8-B005-4264-A606-CFE3149F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BE2-6D3E-447B-9A08-155CFF0F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E5E-3757-4C61-8F79-55C8B9D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BDB-3902-48FA-9092-A818826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8EF-E7D3-4D48-9CCD-2FB5BA1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433-2C78-4C2B-A80A-1EF0593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A806-3494-43B7-B9A4-EA586B656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17:05:33Z</dcterms:modified>
  <cp:revision>86</cp:revision>
  <dc:subject/>
  <dc:title>PowerPoint Presentation</dc:title>
</cp:coreProperties>
</file>