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30F-2436-4BFC-B3E1-0ED3B51D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B: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B: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043-CA96-4FB2-BB9D-796E0CDD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305-1224-4AB1-9F8C-B4886C41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6F6-42D9-4561-B47F-E3604DCD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4BD-3527-4914-A5A0-D927DCD1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957-F835-432B-A3E7-1F6A79C5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459-7995-4AA3-949B-00F1D77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521-59D2-4AB8-8BC5-B878963D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FF3-925A-4C0D-A548-41F51B75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D3E-F186-4048-9B5F-C66CA0E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88A-735F-41E8-A6FE-85E6ECDD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264-8C90-41F4-8877-E99891C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34B-6DD3-49F7-BB37-3C274500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A233-0EC6-4D5E-93A9-A9D126AE16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 (see the next slide)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4721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 She helped me get to the train so I could come to california. Summer couldnt come with me.  I will arrive at the train station in San Francisco on Wednesday. 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Vince Hardy</cp:lastModifiedBy>
  <dcterms:modified xsi:type="dcterms:W3CDTF">2007-05-07T21:50:08Z</dcterms:modified>
  <cp:revision>20</cp:revision>
  <dc:subject/>
  <dc:title>Unlocking Language</dc:title>
</cp:coreProperties>
</file>