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993-E366-4A65-B2C6-07A7C532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A0C-37B2-41A3-90C6-8C340605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5AF-488C-4CF6-AE5B-D75954F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633-FCB6-456B-B2DC-2A4D09B7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24B-1D45-4FB0-B963-726C5AA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CC9-7465-41E6-9303-7EA4591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282-9BA8-40C7-8543-777202B6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371-A85A-4876-A0BE-C8DD805E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A5E-709E-42C1-A144-D2319173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BF7-F3CC-4C66-9753-6ABABF4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E12-1501-484A-8137-ED1C314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ED8-BDEB-41CE-8B86-FBB1D40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2A8-CED0-4D94-BAF6-5F0DAADC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3DD-B9F4-404D-A0D5-727EB714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7:19Z</dcterms:modified>
  <cp:revision>65</cp:revision>
  <dc:subject/>
  <dc:title>PowerPoint Presentation</dc:title>
</cp:coreProperties>
</file>