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FBD2-DB6C-4CAA-86B4-6F8413F04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ED6-FF8B-4EFE-8A56-687CB672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EF0-9DF1-49C6-81EE-E5090D31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27B-F3E5-4177-92E1-927087C2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270-E34F-4D20-AF12-DBE27522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17E-1CB5-4898-BC90-E465401F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64B-FCC4-49F0-AE5D-D8108268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A33-61BB-4771-B8A3-60D4C46B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236-3212-480E-9FC1-8C659163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11A-BB14-4932-9163-43925927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293-674C-4BE8-9C65-A657FC03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913-8338-453F-B5A1-B52986D4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0A4-6903-4785-A449-932885A8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6CCB-4F8A-469F-9534-CA5E3D53E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16:04Z</dcterms:modified>
  <cp:revision>59</cp:revision>
  <dc:subject/>
  <dc:title>PowerPoint Presentation</dc:title>
</cp:coreProperties>
</file>