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6772-6850-45CE-85E7-2675E8192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C49-EC57-4273-8332-D1615CA2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F3A1-E32A-4DD9-B83B-8349348B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954-A3CF-4CF1-AC3A-1F877365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772-1A21-4EBB-B2C3-F1A5691A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BE1-E9A9-4ACE-B806-84349CCD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F81-F68F-4A27-BDE9-A4384B81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7E0-31BD-4D44-8D8C-2C65E3FC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A0B-AB2A-4453-B83C-C02BC67B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930-40A5-4AAF-8177-B70BA037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B1C-E250-48D8-A96D-2662D380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EDD9-8BC1-44EF-9114-E6AB44FC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546-B665-4CB1-81CA-351FA312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97BE-1735-4D9C-B41C-B87BD8260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true of the illness suffered by the India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est young warriors usually surviv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ll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ldren of the village died fastest if th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me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ed patients felt sick but showed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signs of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individuals were not affected equally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43000" y="583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43000" y="397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43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Red Arrow threaten Jace with a kn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refused to provide medicine for the si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angry because his pet cr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lost when they were transported 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nted to force Jace into taking him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 Pi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loodthirsty and did not like whi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585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43000" y="2644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359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43000" y="4911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71960" y="2795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75200" y="45165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e story “Three Rivers, Three Nations”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j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 Cloud and Dej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47480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29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4300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143000" y="415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racter, Dejay, is best characterized in the story by which one of the following adjecti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47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43000" y="356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43000" y="415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inbow Rider acquired this name for which one of the following reas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utiful rainbow appeared on the horiz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ever he wa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clothes were multi-colored, like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backpack had a distinctive rainbow logo 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rrived on the scene in a multi-color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 clo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43000" y="56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306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43000" y="393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43000" y="464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relationship between Pontiac’s Rebellion and the events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tes and geographical location of bo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pproximately the s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 is the name of a runaway Indian wh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looking for his lost crow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, when he 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in the story was at w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Pontiac Indian village located near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56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3000" y="29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1430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143000" y="478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the Indian village in the story so quiet and sti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late in the afternoon and everyone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a n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in the tribe were sick or had d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n and older boys were out hu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llage was always quiet becaus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nts disliked loud no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41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310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430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43000" y="4664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significance of the Ohio, Allegheny and Monogahela River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marked a boundary of the stat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nsylv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in the Monogahela River was strict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bidden to the Indi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was located at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ection of these three riv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minated water from the Ohio River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ing the soldier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5878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4300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143000" y="49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dwellings in the Indian vill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epees decorated with colorful de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are adobe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nded huts woven from prairie gr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k-covered longho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626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43000" y="29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143000" y="348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143000" y="4049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’s response to seeing his mother and hearing her story is best characterized as which one of the follow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43000" y="3321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43000" y="38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43000" y="442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Ljlab</cp:lastModifiedBy>
  <dcterms:modified xsi:type="dcterms:W3CDTF">2007-06-26T14:16:04Z</dcterms:modified>
  <cp:revision>59</cp:revision>
  <dc:subject/>
  <dc:title>PowerPoint Presentation</dc:title>
</cp:coreProperties>
</file>