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E5B2A-52B2-4EC1-B6A8-9B4041E232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0BF7D-23E3-4294-9B89-9F656BD9C4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91116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-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A, 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Model Fractions in Addition/Subtraction as Pictures, Words,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) Estimation and Roun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B), 7.2 (B), 8.2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B3338-7916-4AE2-994C-A05B885F48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91116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A, 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Model Fractions in Addition/Subtraction as Pictures, Words,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) Estimation and Roun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B), 7.2 (B), 8.2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6E4C1-A0DE-4046-BF14-13214F7DA7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79704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F0511-8A36-4C4E-A611-264F1309C6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91116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A) Model Fractions in Addition/Subtraction as Pictures, Words,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1 (A) Identify/Apply Mathematics to Everyday Experi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B), 7.2 (A)(B)(D), 7.13 (A), 8.1 (A)(B), 8.2 (A), 8.14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A7247-E95F-49D3-9A0F-FFB63D65F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E5941-21B9-45A0-9734-C2391A904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87DD2-8F63-48E7-A400-55B74C2DA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F4727-F207-4904-951D-A1AD0D6A4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B9C37-1138-4032-94FB-0A56B40B6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9B07D-F188-474B-AA64-C6369B27C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10E9E-CB9D-4149-A535-8D86B18D0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6C575-7FEC-4901-BF86-8948A543E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53C82-F9BD-46CD-AA73-30AB1325D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3C9D3-349E-4B63-A763-BEC5B9981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A6DE0-1AA0-45F6-97A4-BC11A7496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760B0-7621-4543-BFE6-3C6833143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743C6-BF7C-4AFC-87F7-3B4EA213A76C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Fractions to Decimal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848720" cy="55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Remember that a decimal is a fractional number: it is a part of something whol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Do the following steps to convert a fraction to a decimal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or example: Convert 4/9 to a decimal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1) Divide the numerator of the fraction by the denominator (e.g. 4 ÷ 9=0.44444).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2) Then round the number to the 10th, 100th or       1000th place. (e.g. .4, .44, .444).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1.00 (whole in blue)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.4444 (part in green)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DecToPer2" descr=""/>
          <p:cNvPicPr/>
          <p:nvPr/>
        </p:nvPicPr>
        <p:blipFill>
          <a:blip r:embed="rId2"/>
          <a:stretch/>
        </p:blipFill>
        <p:spPr>
          <a:xfrm>
            <a:off x="3124080" y="5315040"/>
            <a:ext cx="2982960" cy="200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724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Decimals to Percent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7240" y="1523520"/>
            <a:ext cx="81518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emember that a decimal is a fractional number.  When it is written as a percent, the decimal number is the part and 100 is always the whole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o the following steps to convert a decimal to a percent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r example: Convert 0.83 to a percent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) Multiply the decimal by 100 (e.g., 0.83 x 100 = 83)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2) Add a percent sign after the answer (e.g., 83%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1.00 or 100% 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.83 or 83% (part in 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( whole in blue)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green)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3" name="DecToPer" descr=""/>
          <p:cNvPicPr/>
          <p:nvPr/>
        </p:nvPicPr>
        <p:blipFill>
          <a:blip r:embed="rId2"/>
          <a:stretch/>
        </p:blipFill>
        <p:spPr>
          <a:xfrm>
            <a:off x="2666880" y="4800600"/>
            <a:ext cx="3451320" cy="1463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09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Fractions to Percent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8140680" cy="53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Decimals can take you from fractions to percents because decimals are fractional numbers!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raction 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     Decimal  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   Percent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(6/8 =         6 ÷ 8 =         .75 =      .75 * 100=     75%)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        </a:t>
            </a: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     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 part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25 part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6 part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     75 part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le=8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le=100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476440" y="2654280"/>
            <a:ext cx="129564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829480" y="2654280"/>
            <a:ext cx="129528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749160" y="4254480"/>
            <a:ext cx="7238880" cy="2133720"/>
            <a:chOff x="749160" y="4254480"/>
            <a:chExt cx="7238880" cy="2133720"/>
          </a:xfrm>
        </p:grpSpPr>
        <p:sp>
          <p:nvSpPr>
            <p:cNvPr id="59" name=""/>
            <p:cNvSpPr/>
            <p:nvPr/>
          </p:nvSpPr>
          <p:spPr>
            <a:xfrm>
              <a:off x="1892160" y="5168880"/>
              <a:ext cx="45720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206360" y="4483080"/>
              <a:ext cx="106668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397120" y="4559400"/>
              <a:ext cx="106704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006960" y="5092920"/>
              <a:ext cx="45720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425320" y="4254480"/>
              <a:ext cx="1219320" cy="533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425320" y="4864320"/>
              <a:ext cx="1219320" cy="5331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130040" y="6007320"/>
              <a:ext cx="1523880" cy="380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244840" y="6007320"/>
              <a:ext cx="1828800" cy="380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616440" y="4254480"/>
              <a:ext cx="1371600" cy="533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616440" y="4864320"/>
              <a:ext cx="1371600" cy="4572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9" name="Cutout25%25" descr=""/>
            <p:cNvPicPr/>
            <p:nvPr/>
          </p:nvPicPr>
          <p:blipFill>
            <a:blip r:embed="rId2"/>
            <a:stretch/>
          </p:blipFill>
          <p:spPr>
            <a:xfrm>
              <a:off x="749160" y="4399200"/>
              <a:ext cx="1211040" cy="116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" name="Cutout25%25" descr=""/>
            <p:cNvPicPr/>
            <p:nvPr/>
          </p:nvPicPr>
          <p:blipFill>
            <a:blip r:embed="rId3"/>
            <a:stretch/>
          </p:blipFill>
          <p:spPr>
            <a:xfrm>
              <a:off x="4863960" y="4483080"/>
              <a:ext cx="1211040" cy="116532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ercentage Per$pective!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hat else has a whole = 100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ow about 100 pennies in one dollar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ample: What is 25% of one dollar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25/100  = .25  = a quarter!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ample: What percentage of one dollar is a dime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en cents = .10 = .10 x 100 = 10%  of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ne dollar!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ample: What coins would you use to represent 17% of a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ollar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7/100 = .17 = .10 + .05 + .02   (a dime, nickel and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ennies!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ee how you can always cash in on percentages!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73" name="MoneyGraph" descr=""/>
          <p:cNvPicPr/>
          <p:nvPr/>
        </p:nvPicPr>
        <p:blipFill>
          <a:blip r:embed="rId2"/>
          <a:stretch/>
        </p:blipFill>
        <p:spPr>
          <a:xfrm>
            <a:off x="6248520" y="1447920"/>
            <a:ext cx="2422440" cy="18399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5T17:01:10Z</dcterms:created>
  <dc:creator>Charles C. Farnsworth, Ph.D. - Instructional Design</dc:creator>
  <dc:description/>
  <dc:language>en-US</dc:language>
  <cp:lastModifiedBy>ljlab</cp:lastModifiedBy>
  <dcterms:modified xsi:type="dcterms:W3CDTF">2003-09-11T17:19:20Z</dcterms:modified>
  <cp:revision>32</cp:revision>
  <dc:subject/>
  <dc:title>Fractions to Decimals</dc:title>
</cp:coreProperties>
</file>