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9202-380D-4A54-B5A6-D36B081EA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AC8-A2B5-4952-A5F8-1A3C88A2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C57-5718-4214-BA12-990F0AC9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ABB-E6EB-4AE3-9E97-BC8978E6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ECC-9FB4-4848-95DF-18D906E5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48F-545C-42D2-9E02-FAE248EE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359-C473-46EC-8A59-6B27BF5B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FFE-18D7-4E6F-BD24-1B80B6C2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E9D-962E-4E56-8274-9E552E2F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2A4-E842-4639-920A-B23E3086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09C-0C67-4E48-B0D8-C245F7EC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1B4-90E7-4F62-8CB8-36FB052E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B12-76F3-4BC3-B2D0-581DABD7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4A16-2D1B-4402-B067-6621F78B7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16:04Z</dcterms:modified>
  <cp:revision>59</cp:revision>
  <dc:subject/>
  <dc:title>PowerPoint Presentation</dc:title>
</cp:coreProperties>
</file>