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9 (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9 (A, B)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Construct Sample Spaces using Lists, Tree Diagrams, Combin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9 (A, B)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Construct Sample Spaces using Lists, Tree Diagrams, Combin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E6CC79-BE5C-49AC-AA9B-F881D5BCE0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0E9F97-4B11-4ECC-BCC5-FE57B604FA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252BAA-B067-468F-9E91-6D39454F1D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1CA229-41EE-4854-A709-7AD685C039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A0E3EA-3A61-456A-877D-92871699CEE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F7EA11-C870-4AE6-A6F4-7401904035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2CBA1B-541B-400C-A20B-CB7E880EBB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8516B8-C8E6-4E38-AECC-7D9E3D81AC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95746-3AC7-4350-8393-F50DD6A1EA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7ADA47-0BA8-486E-98CE-27D7E7FAE9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7208A5-6F93-4DFC-A4DD-8207C772CF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B9D44D-EE6D-4ED5-875C-AE68E57A02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438FB-393B-4A21-8F61-0682873AB853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22960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Theoretical Probability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- the ratio of the number of ways the event can occur to the number of possible outcomes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P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(event)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umber of ways the event can occu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umber of possible outcome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590920" y="4191120"/>
            <a:ext cx="60195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2E012F-3EAE-4E86-81CA-8155E366A509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63560" y="1213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	</a:t>
            </a: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Probability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Occurrenc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0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Cannot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Not likely to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2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50-50 chanc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/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Very likely to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Always occurs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83849-854A-4B4E-98DA-7C97D94A58DF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815328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40080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43828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14400" y="2514600"/>
            <a:ext cx="7315200" cy="0"/>
          </a:xfrm>
          <a:prstGeom prst="line">
            <a:avLst/>
          </a:prstGeom>
          <a:ln w="5724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839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annot      Not Likely     50-50      Very Likely      Certain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ccur        to Occur       Chance      to Occur         to Occu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 = 0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P = 1/4          P = 1/2           P = 3/4         P = 1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= 0 %      = 25%         = 50%         = 75%     = 100%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ote: The closer the probability is to 1, the more likely the event is to occur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9092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57200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55308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30592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04920" y="1295280"/>
            <a:ext cx="121896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828800" y="1295280"/>
            <a:ext cx="175248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809880" y="1295280"/>
            <a:ext cx="121932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81480" y="1295280"/>
            <a:ext cx="198144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391520" y="1295280"/>
            <a:ext cx="144756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AD8FA8-6717-4694-8810-82348D984D48}" type="slidenum">
              <a:t>3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9:50Z</dcterms:modified>
  <cp:revision>207</cp:revision>
  <dc:subject/>
  <dc:title>VTPP 423 - PHYSIOLOGY</dc:title>
</cp:coreProperties>
</file>