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E4D-91B9-47B1-8909-7B1F59B2D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AB6-645D-4ACC-B5D6-DE4C73C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EE3-B490-474C-81CB-ADE4602F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CC8-0DC2-4A98-9E83-DE197432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886-E33E-498B-ADEA-A841F8A5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A48-DD5F-41FA-9174-E8D3153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DFA-1FB3-4525-8FA9-552FA8D4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3F8-2891-47F4-A7BB-84F5595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D87-1806-42E1-84FA-7D3726C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E46-9B52-4325-A849-028A37FF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721-5580-43D7-BB15-03F2BA5F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582-DE39-4C47-BE71-24B5C00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293-CAB8-4AFB-AFC3-91D84FE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7C39-62EC-4B9C-A49D-6D350031C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6:04Z</dcterms:modified>
  <cp:revision>59</cp:revision>
  <dc:subject/>
  <dc:title>PowerPoint Presentation</dc:title>
</cp:coreProperties>
</file>