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26C8-C534-46CB-A426-EEFD38525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Grade Science T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E) Connect science concepts with the history of science and scien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lan and implement investigative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nalyze and interpret information to construct reasonable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(B) Collect and analyze information to recognize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changes due to in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Identify responses in organisms to external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Scientific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Organize, analyze, evaluate, make inferences, and predict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Communicate valid conclu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nalyze, review, and critique scientific explanations us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Connect 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science concepts with history or science and 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AF4-4B56-4A92-9916-DCEC6F6D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765-3492-42F2-A83E-CA88B9E5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10A-FEE3-4563-B526-9A5C8127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653-89F4-4D6A-88DB-13452C4F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5EF-AD56-4087-8E19-990B02DD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11A-0BF5-4627-A35F-6C0C6E51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720E-9C3D-46C8-8C57-9A17569A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D41-F1D1-44C4-8EA2-966BA6EA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2008-C2A7-4749-9826-7566C02B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76B-6A71-40F9-BC34-0D742F83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A23-1E9D-468A-AEEA-36C53109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685-F111-4BC3-B265-984E5612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C8FA-783E-4636-938E-96278C62C2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hyperlink" Target="http://peer.tamu.edu/" TargetMode="External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77840" y="1069920"/>
            <a:ext cx="8229240" cy="2197080"/>
            <a:chOff x="177840" y="1069920"/>
            <a:chExt cx="8229240" cy="219708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998640" y="1069920"/>
              <a:ext cx="6573960" cy="210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177840" y="1511280"/>
              <a:ext cx="8229240" cy="1755720"/>
              <a:chOff x="177840" y="1511280"/>
              <a:chExt cx="8229240" cy="175572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6991200" y="2069640"/>
                <a:ext cx="1265040" cy="1197360"/>
                <a:chOff x="6991200" y="2069640"/>
                <a:chExt cx="1265040" cy="1197360"/>
              </a:xfrm>
            </p:grpSpPr>
            <p:pic>
              <p:nvPicPr>
                <p:cNvPr id="52" name="" descr=""/>
                <p:cNvPicPr/>
                <p:nvPr/>
              </p:nvPicPr>
              <p:blipFill>
                <a:blip r:embed="rId3">
                  <a:biLevel thresh="50000"/>
                </a:blip>
                <a:srcRect l="9945" t="0" r="0" b="15887"/>
                <a:stretch/>
              </p:blipFill>
              <p:spPr>
                <a:xfrm rot="10569600">
                  <a:off x="7019640" y="2098800"/>
                  <a:ext cx="906480" cy="882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" descr=""/>
                <p:cNvPicPr/>
                <p:nvPr/>
              </p:nvPicPr>
              <p:blipFill>
                <a:blip r:embed="rId4">
                  <a:biLevel thresh="50000"/>
                </a:blip>
                <a:srcRect l="6223" t="0" r="0" b="10762"/>
                <a:stretch/>
              </p:blipFill>
              <p:spPr>
                <a:xfrm rot="9054000">
                  <a:off x="7240680" y="2256120"/>
                  <a:ext cx="861840" cy="855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4" name=""/>
              <p:cNvGrpSpPr/>
              <p:nvPr/>
            </p:nvGrpSpPr>
            <p:grpSpPr>
              <a:xfrm>
                <a:off x="177840" y="1511280"/>
                <a:ext cx="8229240" cy="1143000"/>
                <a:chOff x="177840" y="1511280"/>
                <a:chExt cx="8229240" cy="114300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177840" y="1511280"/>
                  <a:ext cx="8229240" cy="1143000"/>
                  <a:chOff x="177840" y="1511280"/>
                  <a:chExt cx="8229240" cy="11430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177840" y="1511280"/>
                    <a:ext cx="784548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" name=""/>
                  <p:cNvGrpSpPr/>
                  <p:nvPr/>
                </p:nvGrpSpPr>
                <p:grpSpPr>
                  <a:xfrm>
                    <a:off x="940680" y="2044800"/>
                    <a:ext cx="7466400" cy="227520"/>
                    <a:chOff x="940680" y="2044800"/>
                    <a:chExt cx="7466400" cy="227520"/>
                  </a:xfrm>
                </p:grpSpPr>
                <p:sp>
                  <p:nvSpPr>
                    <p:cNvPr id="58" name=""/>
                    <p:cNvSpPr/>
                    <p:nvPr/>
                  </p:nvSpPr>
                  <p:spPr>
                    <a:xfrm flipH="1">
                      <a:off x="940680" y="2096280"/>
                      <a:ext cx="6786720" cy="90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 flipH="1">
                      <a:off x="7685640" y="2044800"/>
                      <a:ext cx="72144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7" h="81">
                          <a:moveTo>
                            <a:pt x="372" y="25"/>
                          </a:moveTo>
                          <a:lnTo>
                            <a:pt x="279" y="0"/>
                          </a:lnTo>
                          <a:lnTo>
                            <a:pt x="0" y="43"/>
                          </a:lnTo>
                          <a:lnTo>
                            <a:pt x="293" y="81"/>
                          </a:lnTo>
                          <a:lnTo>
                            <a:pt x="377" y="51"/>
                          </a:lnTo>
                          <a:lnTo>
                            <a:pt x="372" y="25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0" name=""/>
                <p:cNvSpPr/>
                <p:nvPr/>
              </p:nvSpPr>
              <p:spPr>
                <a:xfrm rot="5659200">
                  <a:off x="7620120" y="2066400"/>
                  <a:ext cx="228600" cy="182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" name=""/>
          <p:cNvSpPr/>
          <p:nvPr/>
        </p:nvSpPr>
        <p:spPr>
          <a:xfrm>
            <a:off x="609480" y="382104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99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2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– Scienc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how a population becomes resistant to dis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why Europeans and Native Americans responded differently to disease outbreaks in the New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4120" y="2170080"/>
            <a:ext cx="3343320" cy="2517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63400" y="1581120"/>
            <a:ext cx="82296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urope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rers and settl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e to the America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brought man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with them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ing smallpox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cken pox, measl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f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id these diseas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 to travel with the settl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83059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Europeans had built up some resistance to these diseases over time, Native Americans had almost no re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you think Europeans had built up resistance to these disea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7464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anto Domingo, for example, the native population shrank from one million people to 500 people in less than 50 years because of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were Europe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ases so deadl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ng the nativ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ion of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367160" y="3471840"/>
            <a:ext cx="4532400" cy="2549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428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pox and other diseases killed great numbers of Aztecs and Incas, which helped the Spanish Conquistadors win many battles agains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834080" y="1728720"/>
            <a:ext cx="3809880" cy="2190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97960" y="157428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se epidemics, so man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ere sick 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hat th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not care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other.  So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who migh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urvived di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starvation becau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as no one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 or care for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10120" y="2284560"/>
            <a:ext cx="3571920" cy="2590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5022360" y="4938840"/>
            <a:ext cx="20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www.worldtrek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ease in the New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71320" y="1889280"/>
            <a:ext cx="81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, there have been fears that terrorists might use biological weapons and deliberately spread dangerous dis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seases might terrorists try to spre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Warf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2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ical Warfare To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6720" y="1468440"/>
            <a:ext cx="77184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, the U.S. Government is taking steps to prevent an outbreak of disease if terrorists should try to use biological weap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hrax is one biological weapon that has been used.  It can be sent through the mail and, if untreated, can be dead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xperts have also suggested that smallpox could be used as a weapon by terror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think?  How much of a threat is biological warfare to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TR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3:50:17Z</dcterms:created>
  <dc:creator>Vince Hardy</dc:creator>
  <dc:description/>
  <dc:language>en-US</dc:language>
  <cp:lastModifiedBy>Texas A&amp;M Veterinary Medicine</cp:lastModifiedBy>
  <dcterms:modified xsi:type="dcterms:W3CDTF">2007-10-02T21:02:44Z</dcterms:modified>
  <cp:revision>10</cp:revision>
  <dc:subject/>
  <dc:title>Slide 1</dc:title>
</cp:coreProperties>
</file>