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11.wmf" ContentType="image/x-wmf"/>
  <Override PartName="/ppt/media/image17.jpeg" ContentType="image/jpeg"/>
  <Override PartName="/ppt/media/image7.png" ContentType="image/png"/>
  <Override PartName="/ppt/media/image1.jpeg" ContentType="image/jpeg"/>
  <Override PartName="/ppt/media/image8.png" ContentType="image/png"/>
  <Override PartName="/ppt/media/image6.jpeg" ContentType="image/jpeg"/>
  <Override PartName="/ppt/media/image10.jpeg" ContentType="image/jpeg"/>
  <Override PartName="/ppt/media/image5.jpeg" ContentType="image/jpeg"/>
  <Override PartName="/ppt/media/image19.jpeg" ContentType="image/jpeg"/>
  <Override PartName="/ppt/media/image4.wmf" ContentType="image/x-wmf"/>
  <Override PartName="/ppt/media/image22.png" ContentType="image/png"/>
  <Override PartName="/ppt/media/image21.jpeg" ContentType="image/jpeg"/>
  <Override PartName="/ppt/media/image16.jpeg" ContentType="image/jpeg"/>
  <Override PartName="/ppt/media/image20.png" ContentType="image/png"/>
  <Override PartName="/ppt/media/image18.jpeg" ContentType="image/jpeg"/>
  <Override PartName="/ppt/media/image15.png" ContentType="image/png"/>
  <Override PartName="/ppt/media/image14.gif" ContentType="image/gif"/>
  <Override PartName="/ppt/media/image2.png" ContentType="image/png"/>
  <Override PartName="/ppt/media/image3.wmf" ContentType="image/x-wmf"/>
  <Override PartName="/ppt/media/image13.jpeg" ContentType="image/jpe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7DF1-19FC-4622-82CE-36D359766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has all of its frequency components absorbed by the pigments in the eye and appears clear or white to u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ght visible light frequency absorption pigments rainb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i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shlights emit the frequencies for red, green, and blue light.  When these three colors are mixed, they form white light.  The white light for the sun actually consists of all the colors of the visible spectrum.  However, the cones of the human eye can only perceive red, green, and blue colors and any combinations of those three.  These three colors, known as the primary colors, can be mixed to make any other color in the visible spectrum by varying their inten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white light sun visible spectrum primary col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ig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shlights emit the frequencies for red, green, and blue light.  When these three colors are mixed, they form white light.  The white light for the sun actually consists of all the colors of the visible spectrum.  However, the cones of the human eye can only perceive red, green, and blue colors and any combinations of those three.  These three colors, known as the primary colors, can be mixed to make any other color in the visible spectrum by varying their intens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white light sun visible spectrum primary col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igat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shlights emit the frequencies for red, green, and blue light.  When these three colors are mixed, they form white light.  The white light for the sun actually consists of all the colors of the visible spectrum.  However, the cones of the human eye can only perceive red, green, and blue colors and any combinations of those three.  These three colors, known as the primary colors, can be mixed to make any other color in the visible spectrum by varying their intensit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white light sun visible spectrum primary color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kids go on the Internet or read in a book or an encyclopedia about Newton.  See what other things Newton discovered and the amazing impact he made on the scientific world.  Inspire them to investigate things they do not understand and encourage them to learn and visit the librar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D) Evaluate research’s impact on science, society, and the environ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E) Connect science concepts with the history of science and scientis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r Isaac Newton light 1666 prism rainbow sunlight electromagnetic spectru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of a wave is the number of waves that pass a given point per time period (Units: Hertz).  Notice the light hits the prism, bends, and breaks into its various colors.  Also notice that the light bends again when it leaves the prism.  Notice that high frequency violet bends the most but red bends the least.  Presumably, the higher frequency components have more energy and that higher energy allows the light to bend more.  Remember that violet is the fastest wave of the visible color spectrum and red is the slowest wave.  Also notice that the light is coming at an angle to the prism, not straight 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requency wave Hertz light prism visible color spectr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nding of light is a phenomenon known as refraction.  Humans also change speed when moving from one medium to another.  You cannot run as fast in water as you can on land.  If you have a large prism or piece of glass, you might be able to show the bending of light by laying the glass flat and shining a light at an angle to the glass/prism.  Within the glass/prism, you should be able to see the bend in the ligh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refraction bending light prism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r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that move faster through water bend more when they hit the water droplet than those that move more slowly through wa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parates the different color frequencies into their order from fastest to slowest: Violet, Indigo, Blue, Green, Yellow, Orange, and 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henomenon is known as </a:t>
            </a:r>
            <a:r>
              <a:rPr b="1" lang="en-US" sz="1200" spc="-1" strike="noStrike">
                <a:solidFill>
                  <a:srgbClr val="000000"/>
                </a:solidFill>
                <a:latin typeface="Arial"/>
              </a:rPr>
              <a:t>dispers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ending light color dispersion violet indigo blue green yellow orange red rainbow wave frequenc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lass makes the list of questions about rainbows, the teacher can help assure that five good research questions are included on the list. Some good questions to consider:</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y is a rainbow shaped like an arc?  You see a rainbow as an arc when the sun is behind you and the sky in front of you is filled with moisture.  Each band of color in a rainbow occurs at a certain angle.  The raindrops in each band lie in an arc.</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determines the colors that we see in a rainbow?  Each color is formed by rays that reach the eye of the observer at a certain angle, and the angle for a particular color never chang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determines the width of the color bands in a rainbow?  The width of each color band depends upon the size of the raindrops in which a rainbow for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determines the height of a rainbow?  The higher the sun is in the sky, the lower the rainbow will be.  If the sun is higher than 40degrees , no bow will be seen.</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ative to the sun, in what part of the sky does the rainbow form?  The rainbow forms in that part of the sky opposite the su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questions can be answered by referencing a standard encyclopedia or other general resour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A) Form and revise questions for investiga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Frame questions to direct researc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inbow research raindrops sun sky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D) Summarize and organize ideas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research rainbows investig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including an editing exercise for all of the writing assignments in this adventure.  Students can trade papers with a partner or between groups and edit for grammar, spelling, sentence structur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that occur after editing may include tips on how to give and receive constructive criti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3 (F) Produce research projects and reports in effectiv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E) Present information in various forms using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G) Follow accepted formats for writing research pa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A) Select, organize, or produce visuals to complement and extend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diagram rainbow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r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nbows are formed when sunlight hits water droplets.  Although the air was humid, the story said nothing about any rain.  Also, the woods formed a thick canopy of leaves which only let in a small amount of sunlight.  A rainbow is an array of colors from the visible color spectrum that is formed when sunlight hits water droplets in rain.  A more thorough definition will be given later when we have learned more about light and rainb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inbows sunlight color spectrum fore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eri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notice that no matter where the rainbow is, the colors are always in the same order.  This is a pattern that will help them later figure out how light bends to make a rainbow.  Have them write down the order in which the colors appear.  See which color is farthest from a horizontal plane (or the plane parallel to the pr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light prism science process hypothesi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white light shines into the prism, it exits the prism and is broken up into different colors. But what does that imply?  Some students may say that white light must be made up of all the colors that appear on the wall or sheet of paper.  Without the prism, the light remains intact.  Think of it like a mixture of different ingredients that makes a whole new substance.  All of the colors mix to make white l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is not technically correct!  Light is not color nor is it made up of col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Have students explore the question “What is color?”  One definition is that color is the absorption of a certain frequency component of light by a pigment that is chemically coupled to signal to a cell or organism that that frequency of light has been absorbed.  Critique the definitions created by the stud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hite light prism pigment chemic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very complex topic that has been simplified for the students.  In reality, light consists of waves and packets of particles called photons.  Physicists are still baffled by light and cannot fully explain this natural phenomenon.  We have models to illustrate how light works and what we believe light to be, but no one really knows.  Science has not been able to fully explain the light phenomenon.  The important concept for the students to understand about light is its wave property, because that is the property that we use to explain how rainbows wo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ght waves particles photons light phenomenon rainbows electric energy magnetic energy electromagnetic wav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e students thoroughly understand the definition of frequency.  Notice that the color red has a slow wave, low energy, and low frequency.  Violet is the opposite with a fast wave, high energy, and high frequency.  You might pull out a copy of the entire electromagentic spectrum and show them where x-ray waves and microwaves fit into the scheme of things.  Test them to make sure they understand which waves are fast and which are slow wa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ight frequency color red wave low energy frequency electromagentic spectrum x-ray waves microwaves Hert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 (A) Illustrate interactions between matter and energ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DE3CE-46E9-47DF-B5B9-A4E330A3E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D6089-45F2-4E0D-B112-A1E604C18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9D18A-3887-421E-96B3-B2E26658A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D78A6-BEA5-4BC5-AB98-EC0E0826D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73EF0-ACD3-492A-AAAD-0895FFB34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1427C-F964-434D-83D8-7908D64EF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757CD-E045-433D-8D93-F6C9F3E5E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2C89B-3566-43B8-A67D-74A516824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93709-48E2-4505-A702-7A312774C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5D9DC-A31C-409F-BC9D-E8EB0F2B9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94523-BA91-4033-9081-AF35A7A86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CE4AE-1C81-434E-8A33-FC3936C4E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14D0-FE65-4C39-9268-30268D0DDA2A}"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gif"/><Relationship Id="rId3" Type="http://schemas.openxmlformats.org/officeDocument/2006/relationships/hyperlink" Target="file:///Appendices/TR%20Science%206%20Refraction.doc"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oleObject" Target="../embeddings/oleObject1.bin"/><Relationship Id="rId8" Type="http://schemas.openxmlformats.org/officeDocument/2006/relationships/image" Target="../media/image2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st.gsfc.nasa.gov/Intro/Prism.JPG"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4952880" y="2475000"/>
            <a:ext cx="3657600" cy="2401920"/>
          </a:xfrm>
          <a:prstGeom prst="rect">
            <a:avLst/>
          </a:prstGeom>
          <a:ln w="88920">
            <a:solidFill>
              <a:srgbClr val="545068"/>
            </a:solidFill>
            <a:miter/>
          </a:ln>
        </p:spPr>
      </p:pic>
      <p:sp>
        <p:nvSpPr>
          <p:cNvPr id="19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light look white?</a:t>
            </a:r>
            <a:endParaRPr b="0" lang="en-US" sz="4400" spc="-1" strike="noStrike">
              <a:solidFill>
                <a:srgbClr val="000000"/>
              </a:solidFill>
              <a:latin typeface="Times New Roman"/>
            </a:endParaRPr>
          </a:p>
        </p:txBody>
      </p:sp>
      <p:sp>
        <p:nvSpPr>
          <p:cNvPr id="19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light is made of color, then why does it look whit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esn’t white show up as one of the bands of color when you see a rainbow?</a:t>
            </a:r>
            <a:endParaRPr b="0" lang="en-US" sz="2800" spc="-1" strike="noStrike">
              <a:solidFill>
                <a:srgbClr val="000000"/>
              </a:solidFill>
              <a:latin typeface="Times New Roman"/>
            </a:endParaRPr>
          </a:p>
        </p:txBody>
      </p:sp>
      <p:sp>
        <p:nvSpPr>
          <p:cNvPr id="194" name=""/>
          <p:cNvSpPr/>
          <p:nvPr/>
        </p:nvSpPr>
        <p:spPr>
          <a:xfrm>
            <a:off x="4876920" y="5175360"/>
            <a:ext cx="387180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s important to never look directly into the sun since its rays can injure your eyes.</a:t>
            </a:r>
            <a:endParaRPr b="0" lang="en-US" sz="2400" spc="-1" strike="noStrike">
              <a:solidFill>
                <a:srgbClr val="000000"/>
              </a:solidFill>
              <a:latin typeface="Arial"/>
            </a:endParaRPr>
          </a:p>
        </p:txBody>
      </p:sp>
      <p:sp>
        <p:nvSpPr>
          <p:cNvPr id="1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342720"/>
            <a:ext cx="585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Figure It Out!</a:t>
            </a:r>
            <a:endParaRPr b="0" lang="en-US" sz="4400" spc="-1" strike="noStrike">
              <a:solidFill>
                <a:srgbClr val="000000"/>
              </a:solidFill>
              <a:latin typeface="Times New Roman"/>
            </a:endParaRPr>
          </a:p>
        </p:txBody>
      </p:sp>
      <p:grpSp>
        <p:nvGrpSpPr>
          <p:cNvPr id="197" name=""/>
          <p:cNvGrpSpPr/>
          <p:nvPr/>
        </p:nvGrpSpPr>
        <p:grpSpPr>
          <a:xfrm>
            <a:off x="6365160" y="303480"/>
            <a:ext cx="1940760" cy="1462320"/>
            <a:chOff x="6365160" y="303480"/>
            <a:chExt cx="1940760" cy="1462320"/>
          </a:xfrm>
        </p:grpSpPr>
        <p:sp>
          <p:nvSpPr>
            <p:cNvPr id="198" name=""/>
            <p:cNvSpPr/>
            <p:nvPr/>
          </p:nvSpPr>
          <p:spPr>
            <a:xfrm rot="442200">
              <a:off x="7861320" y="36936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rot="442200">
              <a:off x="7390080" y="46476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rot="442200">
              <a:off x="7197840" y="80136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rot="442200">
              <a:off x="6747120" y="87264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rot="442200">
              <a:off x="6847200" y="90468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442200">
              <a:off x="6683400" y="97452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442200">
              <a:off x="6744960" y="105552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442200">
              <a:off x="6740280" y="86508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rot="442200">
              <a:off x="6986520" y="85716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rot="442200">
              <a:off x="7191000" y="77724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442200">
              <a:off x="7309080" y="44280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rot="442200">
              <a:off x="7508520" y="65700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442200">
              <a:off x="7605720" y="62820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rot="442200">
              <a:off x="7835760" y="45828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rot="442200">
              <a:off x="7827840" y="32976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rot="442200">
              <a:off x="6373800" y="120924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rot="442200">
              <a:off x="6481800" y="143172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rot="442200">
              <a:off x="6680520" y="158724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442200">
              <a:off x="6862680" y="108720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442200">
              <a:off x="6818400" y="103968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rot="442200">
              <a:off x="7527960" y="89172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442200">
              <a:off x="7608960" y="84096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rot="442200">
              <a:off x="7693200" y="79164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rot="442200">
              <a:off x="7777080" y="73764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rot="442200">
              <a:off x="7863120" y="68724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rot="442200">
              <a:off x="7943760" y="63432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442200">
              <a:off x="8110440" y="56196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rot="442200">
              <a:off x="7387920" y="97308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rot="442200">
              <a:off x="7121520" y="122652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6563520" y="1100520"/>
            <a:ext cx="1940760" cy="1462320"/>
            <a:chOff x="6563520" y="1100520"/>
            <a:chExt cx="1940760" cy="1462320"/>
          </a:xfrm>
        </p:grpSpPr>
        <p:sp>
          <p:nvSpPr>
            <p:cNvPr id="228" name=""/>
            <p:cNvSpPr/>
            <p:nvPr/>
          </p:nvSpPr>
          <p:spPr>
            <a:xfrm rot="442200">
              <a:off x="8059680" y="116640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rot="442200">
              <a:off x="7588440" y="126180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rot="442200">
              <a:off x="7396200" y="15984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rot="442200">
              <a:off x="6945480" y="166968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rot="442200">
              <a:off x="7045560" y="170172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rot="442200">
              <a:off x="6881760" y="177156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rot="442200">
              <a:off x="6943320" y="185256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rot="442200">
              <a:off x="6938640" y="166212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rot="442200">
              <a:off x="7184880" y="165420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rot="442200">
              <a:off x="7389360" y="157428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rot="442200">
              <a:off x="7507440" y="12398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rot="442200">
              <a:off x="7706880" y="14540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rot="442200">
              <a:off x="7804080" y="142524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442200">
              <a:off x="8034120" y="12553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442200">
              <a:off x="8026200" y="112680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rot="442200">
              <a:off x="6572160" y="200628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rot="442200">
              <a:off x="6680160" y="22287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442200">
              <a:off x="6878880" y="238428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rot="442200">
              <a:off x="7061040" y="188424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rot="442200">
              <a:off x="7016760" y="183672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rot="442200">
              <a:off x="7726320" y="168876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rot="442200">
              <a:off x="7807320" y="163800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442200">
              <a:off x="7891560" y="158868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rot="442200">
              <a:off x="7975440" y="153468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442200">
              <a:off x="8061480" y="148428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rot="442200">
              <a:off x="8142120" y="143136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442200">
              <a:off x="8308800" y="135900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rot="442200">
              <a:off x="7586280" y="177012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442200">
              <a:off x="7319880" y="202356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
          <p:cNvGrpSpPr/>
          <p:nvPr/>
        </p:nvGrpSpPr>
        <p:grpSpPr>
          <a:xfrm>
            <a:off x="6877800" y="1827720"/>
            <a:ext cx="1940760" cy="1462320"/>
            <a:chOff x="6877800" y="1827720"/>
            <a:chExt cx="1940760" cy="1462320"/>
          </a:xfrm>
        </p:grpSpPr>
        <p:sp>
          <p:nvSpPr>
            <p:cNvPr id="258" name=""/>
            <p:cNvSpPr/>
            <p:nvPr/>
          </p:nvSpPr>
          <p:spPr>
            <a:xfrm rot="442200">
              <a:off x="8373960" y="189360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rot="442200">
              <a:off x="7902720" y="198900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442200">
              <a:off x="7710480" y="23256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rot="442200">
              <a:off x="7259760" y="239688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442200">
              <a:off x="7359840" y="242892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442200">
              <a:off x="7196040" y="249876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rot="442200">
              <a:off x="7257600" y="257976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442200">
              <a:off x="7252920" y="238932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rot="442200">
              <a:off x="7499160" y="238140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rot="442200">
              <a:off x="7703640" y="230148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rot="442200">
              <a:off x="7821720" y="19670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442200">
              <a:off x="8021160" y="21812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442200">
              <a:off x="8118360" y="215244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rot="442200">
              <a:off x="8348400" y="19825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442200">
              <a:off x="8340480" y="185400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442200">
              <a:off x="6886440" y="273348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rot="442200">
              <a:off x="6994440" y="29559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442200">
              <a:off x="7193160" y="311148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rot="442200">
              <a:off x="7375320" y="261144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rot="442200">
              <a:off x="7331040" y="256392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rot="442200">
              <a:off x="8040600" y="241596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442200">
              <a:off x="8121600" y="236520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rot="442200">
              <a:off x="8205840" y="231588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rot="442200">
              <a:off x="8289720" y="226188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442200">
              <a:off x="8375760" y="221148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rot="442200">
              <a:off x="8456400" y="215856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rot="442200">
              <a:off x="8623080" y="208620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rot="442200">
              <a:off x="7900560" y="249732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442200">
              <a:off x="7634160" y="275076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2"/>
          <p:cNvSpPr>
            <a:spLocks noGrp="1"/>
          </p:cNvSpPr>
          <p:nvPr>
            <p:ph/>
          </p:nvPr>
        </p:nvSpPr>
        <p:spPr>
          <a:xfrm>
            <a:off x="380520" y="1711440"/>
            <a:ext cx="630396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We will be creating different colors by shining flashlights with colored filters together. </a:t>
            </a:r>
            <a:endParaRPr b="0" lang="en-US" sz="2800" spc="-1" strike="noStrike">
              <a:solidFill>
                <a:srgbClr val="000000"/>
              </a:solidFill>
              <a:latin typeface="Times New Roman"/>
            </a:endParaRPr>
          </a:p>
          <a:p>
            <a:pPr marL="329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we mix the different colors, notice what happens to the colors. </a:t>
            </a:r>
            <a:endParaRPr b="0" lang="en-US" sz="2800" spc="-1" strike="noStrike">
              <a:solidFill>
                <a:srgbClr val="000000"/>
              </a:solidFill>
              <a:latin typeface="Times New Roman"/>
            </a:endParaRPr>
          </a:p>
          <a:p>
            <a:pPr marL="329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lor shows up on the wall when all three lights are mixed together?</a:t>
            </a:r>
            <a:endParaRPr b="0" lang="en-US" sz="2800" spc="-1" strike="noStrike">
              <a:solidFill>
                <a:srgbClr val="000000"/>
              </a:solidFill>
              <a:latin typeface="Times New Roman"/>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5.1</a:t>
            </a:r>
            <a:endParaRPr b="0" lang="en-US" sz="1000" spc="-1" strike="noStrike">
              <a:solidFill>
                <a:srgbClr val="000000"/>
              </a:solidFill>
              <a:latin typeface="Arial"/>
            </a:endParaRPr>
          </a:p>
        </p:txBody>
      </p:sp>
      <p:grpSp>
        <p:nvGrpSpPr>
          <p:cNvPr id="289" name=""/>
          <p:cNvGrpSpPr/>
          <p:nvPr/>
        </p:nvGrpSpPr>
        <p:grpSpPr>
          <a:xfrm>
            <a:off x="7632720" y="5394240"/>
            <a:ext cx="1203120" cy="1203480"/>
            <a:chOff x="7632720" y="5394240"/>
            <a:chExt cx="1203120" cy="1203480"/>
          </a:xfrm>
        </p:grpSpPr>
        <p:sp>
          <p:nvSpPr>
            <p:cNvPr id="290" name=""/>
            <p:cNvSpPr/>
            <p:nvPr/>
          </p:nvSpPr>
          <p:spPr>
            <a:xfrm>
              <a:off x="7632720" y="5394240"/>
              <a:ext cx="1203120" cy="1203480"/>
            </a:xfrm>
            <a:prstGeom prst="octagon">
              <a:avLst>
                <a:gd name="adj" fmla="val 2928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669080" y="5426280"/>
              <a:ext cx="1135080" cy="1135080"/>
            </a:xfrm>
            <a:prstGeom prst="octagon">
              <a:avLst>
                <a:gd name="adj" fmla="val 2928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P</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2" name=""/>
          <p:cNvGrpSpPr/>
          <p:nvPr/>
        </p:nvGrpSpPr>
        <p:grpSpPr>
          <a:xfrm>
            <a:off x="434520" y="4855680"/>
            <a:ext cx="2174760" cy="1039680"/>
            <a:chOff x="434520" y="4855680"/>
            <a:chExt cx="2174760" cy="1039680"/>
          </a:xfrm>
        </p:grpSpPr>
        <p:sp>
          <p:nvSpPr>
            <p:cNvPr id="293" name=""/>
            <p:cNvSpPr/>
            <p:nvPr/>
          </p:nvSpPr>
          <p:spPr>
            <a:xfrm rot="13113600">
              <a:off x="565200" y="5174640"/>
              <a:ext cx="383400" cy="41796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rot="13113600">
              <a:off x="801720" y="5069520"/>
              <a:ext cx="665280" cy="62280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13113600">
              <a:off x="1386360" y="5195160"/>
              <a:ext cx="328680" cy="37656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rot="13113600">
              <a:off x="1610640" y="5026680"/>
              <a:ext cx="613800" cy="65952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rot="13113600">
              <a:off x="1710720" y="5092200"/>
              <a:ext cx="406080" cy="56232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rot="13113600">
              <a:off x="1866960" y="5074200"/>
              <a:ext cx="434880" cy="59940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13113600">
              <a:off x="1941120" y="5158800"/>
              <a:ext cx="299160" cy="43704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rot="13113600">
              <a:off x="1679400" y="5019120"/>
              <a:ext cx="551520" cy="69588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13113600">
              <a:off x="1545480" y="5094000"/>
              <a:ext cx="420480" cy="52416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3113600">
              <a:off x="1363320" y="5152320"/>
              <a:ext cx="363240" cy="43848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3113600">
              <a:off x="867600" y="5302440"/>
              <a:ext cx="607680" cy="45288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3113600">
              <a:off x="897480" y="4965120"/>
              <a:ext cx="536040" cy="52920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rot="13113600">
              <a:off x="1010520" y="5369040"/>
              <a:ext cx="20736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3113600">
              <a:off x="727560" y="5202000"/>
              <a:ext cx="263160" cy="35424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3113600">
              <a:off x="542880" y="5133240"/>
              <a:ext cx="439200" cy="50184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3113600">
              <a:off x="2328840" y="5503680"/>
              <a:ext cx="22284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3113600">
              <a:off x="2389680" y="5251320"/>
              <a:ext cx="1886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3113600">
              <a:off x="2347200" y="5024160"/>
              <a:ext cx="14292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3113600">
              <a:off x="1927440" y="5263200"/>
              <a:ext cx="1771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3113600">
              <a:off x="1909440" y="5184000"/>
              <a:ext cx="247680" cy="39888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3113600">
              <a:off x="1316880" y="5254920"/>
              <a:ext cx="824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3113600">
              <a:off x="1221120" y="5255640"/>
              <a:ext cx="838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13113600">
              <a:off x="1126440" y="5256720"/>
              <a:ext cx="824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13113600">
              <a:off x="1028880" y="5257440"/>
              <a:ext cx="820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3113600">
              <a:off x="930600" y="5260680"/>
              <a:ext cx="806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13113600">
              <a:off x="835560" y="5261400"/>
              <a:ext cx="820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13113600">
              <a:off x="672120" y="5203440"/>
              <a:ext cx="774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13113600">
              <a:off x="1474560" y="5251680"/>
              <a:ext cx="856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13113600">
              <a:off x="1846440" y="5127840"/>
              <a:ext cx="810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PlaceHolder 1"/>
          <p:cNvSpPr>
            <a:spLocks noGrp="1"/>
          </p:cNvSpPr>
          <p:nvPr>
            <p:ph/>
          </p:nvPr>
        </p:nvSpPr>
        <p:spPr>
          <a:xfrm>
            <a:off x="380520" y="1711440"/>
            <a:ext cx="7853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wo colors of mixed, the results is a lighter color.  This is the </a:t>
            </a:r>
            <a:r>
              <a:rPr b="0" i="1" lang="en-US" sz="2800" spc="-1" strike="noStrike">
                <a:solidFill>
                  <a:srgbClr val="000000"/>
                </a:solidFill>
                <a:latin typeface="Times New Roman"/>
              </a:rPr>
              <a:t>additive</a:t>
            </a:r>
            <a:r>
              <a:rPr b="0" lang="en-US" sz="2800" spc="-1" strike="noStrike">
                <a:solidFill>
                  <a:srgbClr val="000000"/>
                </a:solidFill>
                <a:latin typeface="Times New Roman"/>
              </a:rPr>
              <a:t> property of light.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velengths of both colors are seen by the eye at the same time so together they appear lighter and brighter than separately. </a:t>
            </a:r>
            <a:endParaRPr b="0" lang="en-US" sz="2800" spc="-1" strike="noStrike">
              <a:solidFill>
                <a:srgbClr val="000000"/>
              </a:solidFill>
              <a:latin typeface="Times New Roman"/>
            </a:endParaRPr>
          </a:p>
        </p:txBody>
      </p:sp>
      <p:sp>
        <p:nvSpPr>
          <p:cNvPr id="32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LithographLight"/>
              </a:rPr>
              <a:t>TR-45.2</a:t>
            </a:r>
            <a:endParaRPr b="0" lang="en-US" sz="1000" spc="-1" strike="noStrike">
              <a:solidFill>
                <a:srgbClr val="000000"/>
              </a:solidFill>
              <a:latin typeface="Arial"/>
            </a:endParaRPr>
          </a:p>
        </p:txBody>
      </p:sp>
      <p:grpSp>
        <p:nvGrpSpPr>
          <p:cNvPr id="324" name=""/>
          <p:cNvGrpSpPr/>
          <p:nvPr/>
        </p:nvGrpSpPr>
        <p:grpSpPr>
          <a:xfrm>
            <a:off x="478800" y="4144320"/>
            <a:ext cx="2201760" cy="1046880"/>
            <a:chOff x="478800" y="4144320"/>
            <a:chExt cx="2201760" cy="1046880"/>
          </a:xfrm>
        </p:grpSpPr>
        <p:sp>
          <p:nvSpPr>
            <p:cNvPr id="325" name=""/>
            <p:cNvSpPr/>
            <p:nvPr/>
          </p:nvSpPr>
          <p:spPr>
            <a:xfrm rot="13104600">
              <a:off x="608760" y="446436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3104600">
              <a:off x="847800" y="436176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13104600">
              <a:off x="1440720" y="44892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13104600">
              <a:off x="1667160" y="432324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13104600">
              <a:off x="1769400" y="438876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13104600">
              <a:off x="1927800" y="437184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13104600">
              <a:off x="2003400" y="445680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13104600">
              <a:off x="1737000" y="431604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13104600">
              <a:off x="1602000" y="438912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13104600">
              <a:off x="1417680" y="444672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13104600">
              <a:off x="916560" y="45950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13104600">
              <a:off x="943560" y="42566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13104600">
              <a:off x="1060920" y="466092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13104600">
              <a:off x="773280" y="44917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13104600">
              <a:off x="586080" y="442296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13104600">
              <a:off x="2398680" y="480456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13104600">
              <a:off x="2457720" y="45507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3104600">
              <a:off x="2412000" y="432324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13104600">
              <a:off x="1990080" y="455976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13104600">
              <a:off x="1971360" y="448164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13104600">
              <a:off x="1370520" y="454788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13104600">
              <a:off x="1274040" y="454788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13104600">
              <a:off x="1177200" y="454860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13104600">
              <a:off x="1078560" y="454824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13104600">
              <a:off x="979200" y="455076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13104600">
              <a:off x="882720" y="455112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13104600">
              <a:off x="716760" y="449208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13104600">
              <a:off x="1530360" y="454500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13104600">
              <a:off x="1905480" y="442368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4" name=""/>
          <p:cNvSpPr/>
          <p:nvPr/>
        </p:nvSpPr>
        <p:spPr>
          <a:xfrm>
            <a:off x="2911320" y="4379760"/>
            <a:ext cx="3975120" cy="99720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192480" y="4586400"/>
            <a:ext cx="3551400" cy="996840"/>
          </a:xfrm>
          <a:custGeom>
            <a:avLst/>
            <a:gdLst/>
            <a:ahLst/>
            <a:rect l="l" t="t" r="r" b="b"/>
            <a:pathLst>
              <a:path w="2237" h="628">
                <a:moveTo>
                  <a:pt x="0" y="6"/>
                </a:moveTo>
                <a:cubicBezTo>
                  <a:pt x="29" y="102"/>
                  <a:pt x="124" y="584"/>
                  <a:pt x="173" y="584"/>
                </a:cubicBezTo>
                <a:cubicBezTo>
                  <a:pt x="222" y="584"/>
                  <a:pt x="246" y="3"/>
                  <a:pt x="296" y="3"/>
                </a:cubicBezTo>
                <a:cubicBezTo>
                  <a:pt x="346" y="3"/>
                  <a:pt x="424" y="584"/>
                  <a:pt x="471" y="584"/>
                </a:cubicBezTo>
                <a:cubicBezTo>
                  <a:pt x="518" y="584"/>
                  <a:pt x="534" y="3"/>
                  <a:pt x="581" y="3"/>
                </a:cubicBezTo>
                <a:cubicBezTo>
                  <a:pt x="628" y="3"/>
                  <a:pt x="706" y="584"/>
                  <a:pt x="754" y="584"/>
                </a:cubicBezTo>
                <a:cubicBezTo>
                  <a:pt x="802" y="584"/>
                  <a:pt x="824" y="6"/>
                  <a:pt x="872" y="6"/>
                </a:cubicBezTo>
                <a:cubicBezTo>
                  <a:pt x="920" y="6"/>
                  <a:pt x="996" y="584"/>
                  <a:pt x="1042" y="584"/>
                </a:cubicBezTo>
                <a:cubicBezTo>
                  <a:pt x="1088" y="584"/>
                  <a:pt x="1100" y="4"/>
                  <a:pt x="1148" y="3"/>
                </a:cubicBezTo>
                <a:cubicBezTo>
                  <a:pt x="1196" y="2"/>
                  <a:pt x="1280" y="579"/>
                  <a:pt x="1330" y="579"/>
                </a:cubicBezTo>
                <a:cubicBezTo>
                  <a:pt x="1380" y="579"/>
                  <a:pt x="1400" y="0"/>
                  <a:pt x="1448" y="1"/>
                </a:cubicBezTo>
                <a:cubicBezTo>
                  <a:pt x="1496" y="2"/>
                  <a:pt x="1569" y="584"/>
                  <a:pt x="1620" y="584"/>
                </a:cubicBezTo>
                <a:cubicBezTo>
                  <a:pt x="1671" y="584"/>
                  <a:pt x="1705" y="4"/>
                  <a:pt x="1752" y="3"/>
                </a:cubicBezTo>
                <a:cubicBezTo>
                  <a:pt x="1799" y="2"/>
                  <a:pt x="1857" y="579"/>
                  <a:pt x="1901" y="579"/>
                </a:cubicBezTo>
                <a:cubicBezTo>
                  <a:pt x="1945" y="579"/>
                  <a:pt x="1966" y="1"/>
                  <a:pt x="2014" y="1"/>
                </a:cubicBezTo>
                <a:cubicBezTo>
                  <a:pt x="2062" y="1"/>
                  <a:pt x="2152" y="530"/>
                  <a:pt x="2189" y="579"/>
                </a:cubicBezTo>
                <a:cubicBezTo>
                  <a:pt x="2226" y="628"/>
                  <a:pt x="2227" y="353"/>
                  <a:pt x="2237" y="294"/>
                </a:cubicBezTo>
              </a:path>
            </a:pathLst>
          </a:custGeom>
          <a:noFill/>
          <a:ln w="255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6" name=""/>
          <p:cNvGrpSpPr/>
          <p:nvPr/>
        </p:nvGrpSpPr>
        <p:grpSpPr>
          <a:xfrm>
            <a:off x="483480" y="4142520"/>
            <a:ext cx="2201760" cy="1046880"/>
            <a:chOff x="483480" y="4142520"/>
            <a:chExt cx="2201760" cy="1046880"/>
          </a:xfrm>
        </p:grpSpPr>
        <p:sp>
          <p:nvSpPr>
            <p:cNvPr id="357" name=""/>
            <p:cNvSpPr/>
            <p:nvPr/>
          </p:nvSpPr>
          <p:spPr>
            <a:xfrm rot="13104600">
              <a:off x="613440" y="4462560"/>
              <a:ext cx="390600" cy="41760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13104600">
              <a:off x="852480" y="4359960"/>
              <a:ext cx="677880" cy="62208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13104600">
              <a:off x="1445400" y="4487400"/>
              <a:ext cx="335160" cy="37620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13104600">
              <a:off x="1671840" y="4321440"/>
              <a:ext cx="625320" cy="65880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13104600">
              <a:off x="1774080" y="4386960"/>
              <a:ext cx="414000" cy="56196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13104600">
              <a:off x="1932480" y="4370040"/>
              <a:ext cx="443160" cy="5986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13104600">
              <a:off x="2008080" y="4455000"/>
              <a:ext cx="304920" cy="4366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13104600">
              <a:off x="1741680" y="4314240"/>
              <a:ext cx="561960" cy="6951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3104600">
              <a:off x="1606680" y="4387320"/>
              <a:ext cx="428400" cy="52380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13104600">
              <a:off x="1422360" y="4444920"/>
              <a:ext cx="370080" cy="43812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13104600">
              <a:off x="921240" y="4593240"/>
              <a:ext cx="619200" cy="4525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rot="13104600">
              <a:off x="948240" y="4254840"/>
              <a:ext cx="546120" cy="52884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rot="13104600">
              <a:off x="1065600" y="4659120"/>
              <a:ext cx="211320" cy="1587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rot="13104600">
              <a:off x="777960" y="4489920"/>
              <a:ext cx="268200" cy="35388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rot="13104600">
              <a:off x="590760" y="4421160"/>
              <a:ext cx="447480" cy="50148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rot="13104600">
              <a:off x="2403360" y="4802760"/>
              <a:ext cx="227160" cy="14760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rot="13104600">
              <a:off x="2462400" y="4548960"/>
              <a:ext cx="192240" cy="16524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rot="13104600">
              <a:off x="2416680" y="4321440"/>
              <a:ext cx="145800" cy="169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13104600">
              <a:off x="1994760" y="4557960"/>
              <a:ext cx="180720" cy="26532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rot="13104600">
              <a:off x="1976040" y="4479840"/>
              <a:ext cx="252360" cy="39852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rot="13104600">
              <a:off x="1375200" y="4546080"/>
              <a:ext cx="84240" cy="11592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13104600">
              <a:off x="1278720" y="4546080"/>
              <a:ext cx="85680" cy="1173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rot="13104600">
              <a:off x="1181880" y="4546800"/>
              <a:ext cx="84240" cy="11592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rot="13104600">
              <a:off x="1083240" y="4546440"/>
              <a:ext cx="83880" cy="11916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rot="13104600">
              <a:off x="983880" y="4548960"/>
              <a:ext cx="82440" cy="11592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rot="13104600">
              <a:off x="887400" y="4549320"/>
              <a:ext cx="83880" cy="11916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3104600">
              <a:off x="721440" y="4490280"/>
              <a:ext cx="79200" cy="15840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rot="13104600">
              <a:off x="1535040" y="4543200"/>
              <a:ext cx="87480" cy="12060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rot="13104600">
              <a:off x="1910160" y="4421880"/>
              <a:ext cx="82800" cy="16668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6" name=""/>
          <p:cNvSpPr/>
          <p:nvPr/>
        </p:nvSpPr>
        <p:spPr>
          <a:xfrm>
            <a:off x="2908440" y="4357800"/>
            <a:ext cx="3975120" cy="99684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7" name=""/>
          <p:cNvGrpSpPr/>
          <p:nvPr/>
        </p:nvGrpSpPr>
        <p:grpSpPr>
          <a:xfrm>
            <a:off x="6654960" y="4323600"/>
            <a:ext cx="1580400" cy="1191960"/>
            <a:chOff x="6654960" y="4323600"/>
            <a:chExt cx="1580400" cy="1191960"/>
          </a:xfrm>
        </p:grpSpPr>
        <p:sp>
          <p:nvSpPr>
            <p:cNvPr id="388" name=""/>
            <p:cNvSpPr/>
            <p:nvPr/>
          </p:nvSpPr>
          <p:spPr>
            <a:xfrm>
              <a:off x="6705720" y="4647960"/>
              <a:ext cx="1458720" cy="867600"/>
            </a:xfrm>
            <a:custGeom>
              <a:avLst/>
              <a:gdLst/>
              <a:ahLst/>
              <a:rect l="l" t="t" r="r" b="b"/>
              <a:pathLst>
                <a:path w="1301" h="805">
                  <a:moveTo>
                    <a:pt x="1278" y="347"/>
                  </a:moveTo>
                  <a:lnTo>
                    <a:pt x="1257" y="316"/>
                  </a:lnTo>
                  <a:lnTo>
                    <a:pt x="1235" y="285"/>
                  </a:lnTo>
                  <a:lnTo>
                    <a:pt x="1208" y="254"/>
                  </a:lnTo>
                  <a:lnTo>
                    <a:pt x="1180" y="223"/>
                  </a:lnTo>
                  <a:lnTo>
                    <a:pt x="1147" y="193"/>
                  </a:lnTo>
                  <a:lnTo>
                    <a:pt x="1112" y="164"/>
                  </a:lnTo>
                  <a:lnTo>
                    <a:pt x="1076" y="136"/>
                  </a:lnTo>
                  <a:lnTo>
                    <a:pt x="1037" y="111"/>
                  </a:lnTo>
                  <a:lnTo>
                    <a:pt x="995" y="87"/>
                  </a:lnTo>
                  <a:lnTo>
                    <a:pt x="951" y="67"/>
                  </a:lnTo>
                  <a:lnTo>
                    <a:pt x="905" y="48"/>
                  </a:lnTo>
                  <a:lnTo>
                    <a:pt x="857" y="32"/>
                  </a:lnTo>
                  <a:lnTo>
                    <a:pt x="809" y="19"/>
                  </a:lnTo>
                  <a:lnTo>
                    <a:pt x="758" y="8"/>
                  </a:lnTo>
                  <a:lnTo>
                    <a:pt x="705" y="2"/>
                  </a:lnTo>
                  <a:lnTo>
                    <a:pt x="651" y="0"/>
                  </a:lnTo>
                  <a:lnTo>
                    <a:pt x="598" y="2"/>
                  </a:lnTo>
                  <a:lnTo>
                    <a:pt x="545" y="8"/>
                  </a:lnTo>
                  <a:lnTo>
                    <a:pt x="493" y="19"/>
                  </a:lnTo>
                  <a:lnTo>
                    <a:pt x="444" y="32"/>
                  </a:lnTo>
                  <a:lnTo>
                    <a:pt x="396" y="48"/>
                  </a:lnTo>
                  <a:lnTo>
                    <a:pt x="350" y="67"/>
                  </a:lnTo>
                  <a:lnTo>
                    <a:pt x="306" y="87"/>
                  </a:lnTo>
                  <a:lnTo>
                    <a:pt x="264" y="111"/>
                  </a:lnTo>
                  <a:lnTo>
                    <a:pt x="225" y="136"/>
                  </a:lnTo>
                  <a:lnTo>
                    <a:pt x="187" y="164"/>
                  </a:lnTo>
                  <a:lnTo>
                    <a:pt x="152" y="193"/>
                  </a:lnTo>
                  <a:lnTo>
                    <a:pt x="121" y="223"/>
                  </a:lnTo>
                  <a:lnTo>
                    <a:pt x="91" y="254"/>
                  </a:lnTo>
                  <a:lnTo>
                    <a:pt x="66" y="285"/>
                  </a:lnTo>
                  <a:lnTo>
                    <a:pt x="42" y="316"/>
                  </a:lnTo>
                  <a:lnTo>
                    <a:pt x="22" y="347"/>
                  </a:lnTo>
                  <a:lnTo>
                    <a:pt x="14" y="358"/>
                  </a:lnTo>
                  <a:lnTo>
                    <a:pt x="9" y="369"/>
                  </a:lnTo>
                  <a:lnTo>
                    <a:pt x="3" y="381"/>
                  </a:lnTo>
                  <a:lnTo>
                    <a:pt x="1" y="390"/>
                  </a:lnTo>
                  <a:lnTo>
                    <a:pt x="0" y="393"/>
                  </a:lnTo>
                  <a:lnTo>
                    <a:pt x="22" y="436"/>
                  </a:lnTo>
                  <a:lnTo>
                    <a:pt x="42" y="469"/>
                  </a:lnTo>
                  <a:lnTo>
                    <a:pt x="66" y="502"/>
                  </a:lnTo>
                  <a:lnTo>
                    <a:pt x="93" y="535"/>
                  </a:lnTo>
                  <a:lnTo>
                    <a:pt x="123" y="568"/>
                  </a:lnTo>
                  <a:lnTo>
                    <a:pt x="156" y="599"/>
                  </a:lnTo>
                  <a:lnTo>
                    <a:pt x="191" y="630"/>
                  </a:lnTo>
                  <a:lnTo>
                    <a:pt x="229" y="660"/>
                  </a:lnTo>
                  <a:lnTo>
                    <a:pt x="268" y="685"/>
                  </a:lnTo>
                  <a:lnTo>
                    <a:pt x="310" y="711"/>
                  </a:lnTo>
                  <a:lnTo>
                    <a:pt x="354" y="735"/>
                  </a:lnTo>
                  <a:lnTo>
                    <a:pt x="400" y="755"/>
                  </a:lnTo>
                  <a:lnTo>
                    <a:pt x="448" y="772"/>
                  </a:lnTo>
                  <a:lnTo>
                    <a:pt x="497" y="786"/>
                  </a:lnTo>
                  <a:lnTo>
                    <a:pt x="547" y="795"/>
                  </a:lnTo>
                  <a:lnTo>
                    <a:pt x="598" y="803"/>
                  </a:lnTo>
                  <a:lnTo>
                    <a:pt x="651" y="805"/>
                  </a:lnTo>
                  <a:lnTo>
                    <a:pt x="705" y="803"/>
                  </a:lnTo>
                  <a:lnTo>
                    <a:pt x="756" y="795"/>
                  </a:lnTo>
                  <a:lnTo>
                    <a:pt x="806" y="786"/>
                  </a:lnTo>
                  <a:lnTo>
                    <a:pt x="853" y="772"/>
                  </a:lnTo>
                  <a:lnTo>
                    <a:pt x="901" y="755"/>
                  </a:lnTo>
                  <a:lnTo>
                    <a:pt x="947" y="735"/>
                  </a:lnTo>
                  <a:lnTo>
                    <a:pt x="991" y="711"/>
                  </a:lnTo>
                  <a:lnTo>
                    <a:pt x="1032" y="685"/>
                  </a:lnTo>
                  <a:lnTo>
                    <a:pt x="1072" y="660"/>
                  </a:lnTo>
                  <a:lnTo>
                    <a:pt x="1109" y="630"/>
                  </a:lnTo>
                  <a:lnTo>
                    <a:pt x="1144" y="599"/>
                  </a:lnTo>
                  <a:lnTo>
                    <a:pt x="1177" y="568"/>
                  </a:lnTo>
                  <a:lnTo>
                    <a:pt x="1206" y="535"/>
                  </a:lnTo>
                  <a:lnTo>
                    <a:pt x="1233" y="502"/>
                  </a:lnTo>
                  <a:lnTo>
                    <a:pt x="1257" y="469"/>
                  </a:lnTo>
                  <a:lnTo>
                    <a:pt x="1278" y="436"/>
                  </a:lnTo>
                  <a:lnTo>
                    <a:pt x="1290" y="414"/>
                  </a:lnTo>
                  <a:lnTo>
                    <a:pt x="1298" y="401"/>
                  </a:lnTo>
                  <a:lnTo>
                    <a:pt x="1300" y="395"/>
                  </a:lnTo>
                  <a:lnTo>
                    <a:pt x="1300" y="393"/>
                  </a:lnTo>
                  <a:lnTo>
                    <a:pt x="1301" y="390"/>
                  </a:lnTo>
                  <a:lnTo>
                    <a:pt x="1278"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814440" y="4744080"/>
              <a:ext cx="1241280" cy="677520"/>
            </a:xfrm>
            <a:custGeom>
              <a:avLst/>
              <a:gdLst/>
              <a:ahLst/>
              <a:rect l="l" t="t" r="r" b="b"/>
              <a:pathLst>
                <a:path w="1107" h="629">
                  <a:moveTo>
                    <a:pt x="554" y="629"/>
                  </a:moveTo>
                  <a:lnTo>
                    <a:pt x="510" y="628"/>
                  </a:lnTo>
                  <a:lnTo>
                    <a:pt x="466" y="622"/>
                  </a:lnTo>
                  <a:lnTo>
                    <a:pt x="422" y="613"/>
                  </a:lnTo>
                  <a:lnTo>
                    <a:pt x="380" y="602"/>
                  </a:lnTo>
                  <a:lnTo>
                    <a:pt x="338" y="585"/>
                  </a:lnTo>
                  <a:lnTo>
                    <a:pt x="297" y="569"/>
                  </a:lnTo>
                  <a:lnTo>
                    <a:pt x="259" y="549"/>
                  </a:lnTo>
                  <a:lnTo>
                    <a:pt x="222" y="527"/>
                  </a:lnTo>
                  <a:lnTo>
                    <a:pt x="187" y="503"/>
                  </a:lnTo>
                  <a:lnTo>
                    <a:pt x="152" y="477"/>
                  </a:lnTo>
                  <a:lnTo>
                    <a:pt x="121" y="449"/>
                  </a:lnTo>
                  <a:lnTo>
                    <a:pt x="92" y="422"/>
                  </a:lnTo>
                  <a:lnTo>
                    <a:pt x="66" y="393"/>
                  </a:lnTo>
                  <a:lnTo>
                    <a:pt x="40" y="363"/>
                  </a:lnTo>
                  <a:lnTo>
                    <a:pt x="18" y="334"/>
                  </a:lnTo>
                  <a:lnTo>
                    <a:pt x="0" y="303"/>
                  </a:lnTo>
                  <a:lnTo>
                    <a:pt x="18" y="273"/>
                  </a:lnTo>
                  <a:lnTo>
                    <a:pt x="38" y="246"/>
                  </a:lnTo>
                  <a:lnTo>
                    <a:pt x="62" y="218"/>
                  </a:lnTo>
                  <a:lnTo>
                    <a:pt x="90" y="191"/>
                  </a:lnTo>
                  <a:lnTo>
                    <a:pt x="117" y="165"/>
                  </a:lnTo>
                  <a:lnTo>
                    <a:pt x="149" y="139"/>
                  </a:lnTo>
                  <a:lnTo>
                    <a:pt x="182" y="115"/>
                  </a:lnTo>
                  <a:lnTo>
                    <a:pt x="217" y="93"/>
                  </a:lnTo>
                  <a:lnTo>
                    <a:pt x="253" y="73"/>
                  </a:lnTo>
                  <a:lnTo>
                    <a:pt x="292" y="55"/>
                  </a:lnTo>
                  <a:lnTo>
                    <a:pt x="332" y="38"/>
                  </a:lnTo>
                  <a:lnTo>
                    <a:pt x="374" y="25"/>
                  </a:lnTo>
                  <a:lnTo>
                    <a:pt x="417" y="14"/>
                  </a:lnTo>
                  <a:lnTo>
                    <a:pt x="463" y="7"/>
                  </a:lnTo>
                  <a:lnTo>
                    <a:pt x="509" y="1"/>
                  </a:lnTo>
                  <a:lnTo>
                    <a:pt x="554" y="0"/>
                  </a:lnTo>
                  <a:lnTo>
                    <a:pt x="600" y="1"/>
                  </a:lnTo>
                  <a:lnTo>
                    <a:pt x="646" y="7"/>
                  </a:lnTo>
                  <a:lnTo>
                    <a:pt x="690" y="14"/>
                  </a:lnTo>
                  <a:lnTo>
                    <a:pt x="733" y="25"/>
                  </a:lnTo>
                  <a:lnTo>
                    <a:pt x="775" y="38"/>
                  </a:lnTo>
                  <a:lnTo>
                    <a:pt x="815" y="55"/>
                  </a:lnTo>
                  <a:lnTo>
                    <a:pt x="854" y="73"/>
                  </a:lnTo>
                  <a:lnTo>
                    <a:pt x="890" y="93"/>
                  </a:lnTo>
                  <a:lnTo>
                    <a:pt x="925" y="115"/>
                  </a:lnTo>
                  <a:lnTo>
                    <a:pt x="958" y="139"/>
                  </a:lnTo>
                  <a:lnTo>
                    <a:pt x="990" y="165"/>
                  </a:lnTo>
                  <a:lnTo>
                    <a:pt x="1017" y="191"/>
                  </a:lnTo>
                  <a:lnTo>
                    <a:pt x="1045" y="218"/>
                  </a:lnTo>
                  <a:lnTo>
                    <a:pt x="1069" y="246"/>
                  </a:lnTo>
                  <a:lnTo>
                    <a:pt x="1089" y="273"/>
                  </a:lnTo>
                  <a:lnTo>
                    <a:pt x="1107" y="303"/>
                  </a:lnTo>
                  <a:lnTo>
                    <a:pt x="1089" y="334"/>
                  </a:lnTo>
                  <a:lnTo>
                    <a:pt x="1067" y="363"/>
                  </a:lnTo>
                  <a:lnTo>
                    <a:pt x="1041" y="393"/>
                  </a:lnTo>
                  <a:lnTo>
                    <a:pt x="1015" y="422"/>
                  </a:lnTo>
                  <a:lnTo>
                    <a:pt x="986" y="449"/>
                  </a:lnTo>
                  <a:lnTo>
                    <a:pt x="955" y="477"/>
                  </a:lnTo>
                  <a:lnTo>
                    <a:pt x="920" y="503"/>
                  </a:lnTo>
                  <a:lnTo>
                    <a:pt x="885" y="527"/>
                  </a:lnTo>
                  <a:lnTo>
                    <a:pt x="848" y="549"/>
                  </a:lnTo>
                  <a:lnTo>
                    <a:pt x="810" y="569"/>
                  </a:lnTo>
                  <a:lnTo>
                    <a:pt x="769" y="585"/>
                  </a:lnTo>
                  <a:lnTo>
                    <a:pt x="729" y="602"/>
                  </a:lnTo>
                  <a:lnTo>
                    <a:pt x="687" y="613"/>
                  </a:lnTo>
                  <a:lnTo>
                    <a:pt x="643" y="622"/>
                  </a:lnTo>
                  <a:lnTo>
                    <a:pt x="598" y="628"/>
                  </a:lnTo>
                  <a:lnTo>
                    <a:pt x="554"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125120" y="4794480"/>
              <a:ext cx="598680" cy="576360"/>
            </a:xfrm>
            <a:custGeom>
              <a:avLst/>
              <a:gdLst/>
              <a:ahLst/>
              <a:rect l="l" t="t" r="r" b="b"/>
              <a:pathLst>
                <a:path w="534" h="535">
                  <a:moveTo>
                    <a:pt x="268" y="535"/>
                  </a:moveTo>
                  <a:lnTo>
                    <a:pt x="321" y="529"/>
                  </a:lnTo>
                  <a:lnTo>
                    <a:pt x="371" y="514"/>
                  </a:lnTo>
                  <a:lnTo>
                    <a:pt x="417" y="489"/>
                  </a:lnTo>
                  <a:lnTo>
                    <a:pt x="456" y="456"/>
                  </a:lnTo>
                  <a:lnTo>
                    <a:pt x="489" y="417"/>
                  </a:lnTo>
                  <a:lnTo>
                    <a:pt x="512" y="371"/>
                  </a:lnTo>
                  <a:lnTo>
                    <a:pt x="529" y="322"/>
                  </a:lnTo>
                  <a:lnTo>
                    <a:pt x="534" y="268"/>
                  </a:lnTo>
                  <a:lnTo>
                    <a:pt x="529" y="213"/>
                  </a:lnTo>
                  <a:lnTo>
                    <a:pt x="512" y="164"/>
                  </a:lnTo>
                  <a:lnTo>
                    <a:pt x="489" y="118"/>
                  </a:lnTo>
                  <a:lnTo>
                    <a:pt x="456" y="79"/>
                  </a:lnTo>
                  <a:lnTo>
                    <a:pt x="417" y="46"/>
                  </a:lnTo>
                  <a:lnTo>
                    <a:pt x="371" y="20"/>
                  </a:lnTo>
                  <a:lnTo>
                    <a:pt x="321" y="6"/>
                  </a:lnTo>
                  <a:lnTo>
                    <a:pt x="268" y="0"/>
                  </a:lnTo>
                  <a:lnTo>
                    <a:pt x="213" y="6"/>
                  </a:lnTo>
                  <a:lnTo>
                    <a:pt x="164" y="20"/>
                  </a:lnTo>
                  <a:lnTo>
                    <a:pt x="118" y="46"/>
                  </a:lnTo>
                  <a:lnTo>
                    <a:pt x="79" y="79"/>
                  </a:lnTo>
                  <a:lnTo>
                    <a:pt x="46" y="118"/>
                  </a:lnTo>
                  <a:lnTo>
                    <a:pt x="20" y="164"/>
                  </a:lnTo>
                  <a:lnTo>
                    <a:pt x="6" y="213"/>
                  </a:lnTo>
                  <a:lnTo>
                    <a:pt x="0" y="268"/>
                  </a:lnTo>
                  <a:lnTo>
                    <a:pt x="6" y="322"/>
                  </a:lnTo>
                  <a:lnTo>
                    <a:pt x="20" y="371"/>
                  </a:lnTo>
                  <a:lnTo>
                    <a:pt x="46" y="417"/>
                  </a:lnTo>
                  <a:lnTo>
                    <a:pt x="79" y="456"/>
                  </a:lnTo>
                  <a:lnTo>
                    <a:pt x="118" y="489"/>
                  </a:lnTo>
                  <a:lnTo>
                    <a:pt x="164" y="514"/>
                  </a:lnTo>
                  <a:lnTo>
                    <a:pt x="213" y="529"/>
                  </a:lnTo>
                  <a:lnTo>
                    <a:pt x="268" y="5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471440" y="4969080"/>
              <a:ext cx="96480" cy="94680"/>
            </a:xfrm>
            <a:custGeom>
              <a:avLst/>
              <a:gdLst/>
              <a:ahLst/>
              <a:rect l="l" t="t" r="r" b="b"/>
              <a:pathLst>
                <a:path w="86" h="88">
                  <a:moveTo>
                    <a:pt x="44" y="88"/>
                  </a:moveTo>
                  <a:lnTo>
                    <a:pt x="60" y="84"/>
                  </a:lnTo>
                  <a:lnTo>
                    <a:pt x="73" y="75"/>
                  </a:lnTo>
                  <a:lnTo>
                    <a:pt x="82" y="60"/>
                  </a:lnTo>
                  <a:lnTo>
                    <a:pt x="86" y="44"/>
                  </a:lnTo>
                  <a:lnTo>
                    <a:pt x="82" y="27"/>
                  </a:lnTo>
                  <a:lnTo>
                    <a:pt x="73" y="13"/>
                  </a:lnTo>
                  <a:lnTo>
                    <a:pt x="60" y="4"/>
                  </a:lnTo>
                  <a:lnTo>
                    <a:pt x="44" y="0"/>
                  </a:lnTo>
                  <a:lnTo>
                    <a:pt x="27" y="4"/>
                  </a:lnTo>
                  <a:lnTo>
                    <a:pt x="12" y="13"/>
                  </a:lnTo>
                  <a:lnTo>
                    <a:pt x="3" y="27"/>
                  </a:lnTo>
                  <a:lnTo>
                    <a:pt x="0" y="44"/>
                  </a:lnTo>
                  <a:lnTo>
                    <a:pt x="3" y="60"/>
                  </a:lnTo>
                  <a:lnTo>
                    <a:pt x="12" y="75"/>
                  </a:lnTo>
                  <a:lnTo>
                    <a:pt x="27" y="84"/>
                  </a:lnTo>
                  <a:lnTo>
                    <a:pt x="44"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654960" y="4592880"/>
              <a:ext cx="206280" cy="222120"/>
            </a:xfrm>
            <a:custGeom>
              <a:avLst/>
              <a:gdLst/>
              <a:ahLst/>
              <a:rect l="l" t="t" r="r" b="b"/>
              <a:pathLst>
                <a:path w="184" h="206">
                  <a:moveTo>
                    <a:pt x="184" y="152"/>
                  </a:moveTo>
                  <a:lnTo>
                    <a:pt x="0" y="0"/>
                  </a:lnTo>
                  <a:lnTo>
                    <a:pt x="122" y="206"/>
                  </a:lnTo>
                  <a:lnTo>
                    <a:pt x="129" y="198"/>
                  </a:lnTo>
                  <a:lnTo>
                    <a:pt x="136" y="193"/>
                  </a:lnTo>
                  <a:lnTo>
                    <a:pt x="144" y="185"/>
                  </a:lnTo>
                  <a:lnTo>
                    <a:pt x="151" y="178"/>
                  </a:lnTo>
                  <a:lnTo>
                    <a:pt x="160" y="171"/>
                  </a:lnTo>
                  <a:lnTo>
                    <a:pt x="168" y="165"/>
                  </a:lnTo>
                  <a:lnTo>
                    <a:pt x="177" y="158"/>
                  </a:lnTo>
                  <a:lnTo>
                    <a:pt x="18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886440" y="4448520"/>
              <a:ext cx="160200" cy="239040"/>
            </a:xfrm>
            <a:custGeom>
              <a:avLst/>
              <a:gdLst/>
              <a:ahLst/>
              <a:rect l="l" t="t" r="r" b="b"/>
              <a:pathLst>
                <a:path w="143" h="222">
                  <a:moveTo>
                    <a:pt x="0" y="0"/>
                  </a:moveTo>
                  <a:lnTo>
                    <a:pt x="72" y="222"/>
                  </a:lnTo>
                  <a:lnTo>
                    <a:pt x="81" y="217"/>
                  </a:lnTo>
                  <a:lnTo>
                    <a:pt x="88" y="213"/>
                  </a:lnTo>
                  <a:lnTo>
                    <a:pt x="97" y="207"/>
                  </a:lnTo>
                  <a:lnTo>
                    <a:pt x="107" y="204"/>
                  </a:lnTo>
                  <a:lnTo>
                    <a:pt x="116" y="198"/>
                  </a:lnTo>
                  <a:lnTo>
                    <a:pt x="125" y="195"/>
                  </a:lnTo>
                  <a:lnTo>
                    <a:pt x="134" y="189"/>
                  </a:lnTo>
                  <a:lnTo>
                    <a:pt x="143" y="1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144200" y="4358880"/>
              <a:ext cx="104040" cy="245880"/>
            </a:xfrm>
            <a:custGeom>
              <a:avLst/>
              <a:gdLst/>
              <a:ahLst/>
              <a:rect l="l" t="t" r="r" b="b"/>
              <a:pathLst>
                <a:path w="93" h="228">
                  <a:moveTo>
                    <a:pt x="0" y="0"/>
                  </a:moveTo>
                  <a:lnTo>
                    <a:pt x="16" y="228"/>
                  </a:lnTo>
                  <a:lnTo>
                    <a:pt x="25" y="226"/>
                  </a:lnTo>
                  <a:lnTo>
                    <a:pt x="36" y="223"/>
                  </a:lnTo>
                  <a:lnTo>
                    <a:pt x="46" y="221"/>
                  </a:lnTo>
                  <a:lnTo>
                    <a:pt x="55" y="217"/>
                  </a:lnTo>
                  <a:lnTo>
                    <a:pt x="64" y="215"/>
                  </a:lnTo>
                  <a:lnTo>
                    <a:pt x="75" y="211"/>
                  </a:lnTo>
                  <a:lnTo>
                    <a:pt x="84" y="210"/>
                  </a:lnTo>
                  <a:lnTo>
                    <a:pt x="93" y="20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025840" y="4612320"/>
              <a:ext cx="209520" cy="217440"/>
            </a:xfrm>
            <a:custGeom>
              <a:avLst/>
              <a:gdLst/>
              <a:ahLst/>
              <a:rect l="l" t="t" r="r" b="b"/>
              <a:pathLst>
                <a:path w="187" h="202">
                  <a:moveTo>
                    <a:pt x="0" y="147"/>
                  </a:moveTo>
                  <a:lnTo>
                    <a:pt x="187" y="0"/>
                  </a:lnTo>
                  <a:lnTo>
                    <a:pt x="62" y="202"/>
                  </a:lnTo>
                  <a:lnTo>
                    <a:pt x="55" y="195"/>
                  </a:lnTo>
                  <a:lnTo>
                    <a:pt x="47" y="188"/>
                  </a:lnTo>
                  <a:lnTo>
                    <a:pt x="40" y="182"/>
                  </a:lnTo>
                  <a:lnTo>
                    <a:pt x="31" y="175"/>
                  </a:lnTo>
                  <a:lnTo>
                    <a:pt x="23" y="167"/>
                  </a:lnTo>
                  <a:lnTo>
                    <a:pt x="16" y="160"/>
                  </a:lnTo>
                  <a:lnTo>
                    <a:pt x="7" y="155"/>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843680" y="4464720"/>
              <a:ext cx="164880" cy="234720"/>
            </a:xfrm>
            <a:custGeom>
              <a:avLst/>
              <a:gdLst/>
              <a:ahLst/>
              <a:rect l="l" t="t" r="r" b="b"/>
              <a:pathLst>
                <a:path w="147" h="218">
                  <a:moveTo>
                    <a:pt x="147" y="0"/>
                  </a:moveTo>
                  <a:lnTo>
                    <a:pt x="72" y="218"/>
                  </a:lnTo>
                  <a:lnTo>
                    <a:pt x="62" y="213"/>
                  </a:lnTo>
                  <a:lnTo>
                    <a:pt x="53" y="209"/>
                  </a:lnTo>
                  <a:lnTo>
                    <a:pt x="44" y="203"/>
                  </a:lnTo>
                  <a:lnTo>
                    <a:pt x="37" y="198"/>
                  </a:lnTo>
                  <a:lnTo>
                    <a:pt x="28" y="194"/>
                  </a:lnTo>
                  <a:lnTo>
                    <a:pt x="18" y="189"/>
                  </a:lnTo>
                  <a:lnTo>
                    <a:pt x="9" y="185"/>
                  </a:lnTo>
                  <a:lnTo>
                    <a:pt x="0" y="180"/>
                  </a:lnTo>
                  <a:lnTo>
                    <a:pt x="1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642080" y="4367880"/>
              <a:ext cx="110880" cy="244440"/>
            </a:xfrm>
            <a:custGeom>
              <a:avLst/>
              <a:gdLst/>
              <a:ahLst/>
              <a:rect l="l" t="t" r="r" b="b"/>
              <a:pathLst>
                <a:path w="99" h="227">
                  <a:moveTo>
                    <a:pt x="99" y="0"/>
                  </a:moveTo>
                  <a:lnTo>
                    <a:pt x="77" y="227"/>
                  </a:lnTo>
                  <a:lnTo>
                    <a:pt x="68" y="224"/>
                  </a:lnTo>
                  <a:lnTo>
                    <a:pt x="59" y="220"/>
                  </a:lnTo>
                  <a:lnTo>
                    <a:pt x="50" y="218"/>
                  </a:lnTo>
                  <a:lnTo>
                    <a:pt x="39" y="215"/>
                  </a:lnTo>
                  <a:lnTo>
                    <a:pt x="29" y="213"/>
                  </a:lnTo>
                  <a:lnTo>
                    <a:pt x="20" y="209"/>
                  </a:lnTo>
                  <a:lnTo>
                    <a:pt x="11" y="207"/>
                  </a:lnTo>
                  <a:lnTo>
                    <a:pt x="0" y="205"/>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390800" y="4323600"/>
              <a:ext cx="90720" cy="245520"/>
            </a:xfrm>
            <a:custGeom>
              <a:avLst/>
              <a:gdLst/>
              <a:ahLst/>
              <a:rect l="l" t="t" r="r" b="b"/>
              <a:pathLst>
                <a:path w="81" h="228">
                  <a:moveTo>
                    <a:pt x="81" y="228"/>
                  </a:moveTo>
                  <a:lnTo>
                    <a:pt x="35" y="0"/>
                  </a:lnTo>
                  <a:lnTo>
                    <a:pt x="0" y="226"/>
                  </a:lnTo>
                  <a:lnTo>
                    <a:pt x="9" y="226"/>
                  </a:lnTo>
                  <a:lnTo>
                    <a:pt x="20" y="224"/>
                  </a:lnTo>
                  <a:lnTo>
                    <a:pt x="31" y="224"/>
                  </a:lnTo>
                  <a:lnTo>
                    <a:pt x="40" y="224"/>
                  </a:lnTo>
                  <a:lnTo>
                    <a:pt x="50" y="226"/>
                  </a:lnTo>
                  <a:lnTo>
                    <a:pt x="61" y="226"/>
                  </a:lnTo>
                  <a:lnTo>
                    <a:pt x="70" y="226"/>
                  </a:lnTo>
                  <a:lnTo>
                    <a:pt x="81"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or Math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55"/>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92"/>
                                        </p:tgtEl>
                                        <p:attrNameLst>
                                          <p:attrName>style.visibility</p:attrName>
                                        </p:attrNameLst>
                                      </p:cBhvr>
                                      <p:to>
                                        <p:strVal val="visible"/>
                                      </p:to>
                                    </p:set>
                                  </p:childTnLst>
                                </p:cTn>
                              </p:par>
                              <p:par>
                                <p:cTn id="45" nodeType="withEffect" fill="hold" presetClass="exit" presetID="1">
                                  <p:stCondLst>
                                    <p:cond delay="0"/>
                                  </p:stCondLst>
                                  <p:childTnLst>
                                    <p:set>
                                      <p:cBhvr>
                                        <p:cTn id="46" dur="1" fill="hold">
                                          <p:stCondLst>
                                            <p:cond delay="0"/>
                                          </p:stCondLst>
                                        </p:cTn>
                                        <p:tgtEl>
                                          <p:spTgt spid="354"/>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324"/>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356"/>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56"/>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0" name=""/>
          <p:cNvGrpSpPr/>
          <p:nvPr/>
        </p:nvGrpSpPr>
        <p:grpSpPr>
          <a:xfrm>
            <a:off x="4699080" y="2620080"/>
            <a:ext cx="1559520" cy="1508040"/>
            <a:chOff x="4699080" y="2620080"/>
            <a:chExt cx="1559520" cy="1508040"/>
          </a:xfrm>
        </p:grpSpPr>
        <p:sp>
          <p:nvSpPr>
            <p:cNvPr id="401" name=""/>
            <p:cNvSpPr/>
            <p:nvPr/>
          </p:nvSpPr>
          <p:spPr>
            <a:xfrm rot="21366600">
              <a:off x="4716000" y="3548520"/>
              <a:ext cx="1144440" cy="541080"/>
            </a:xfrm>
            <a:custGeom>
              <a:avLst/>
              <a:gdLst/>
              <a:ahLst/>
              <a:rect l="l" t="t" r="r" b="b"/>
              <a:pathLst>
                <a:path w="1701" h="801">
                  <a:moveTo>
                    <a:pt x="1148" y="0"/>
                  </a:moveTo>
                  <a:lnTo>
                    <a:pt x="1145" y="0"/>
                  </a:lnTo>
                  <a:lnTo>
                    <a:pt x="1142" y="1"/>
                  </a:lnTo>
                  <a:lnTo>
                    <a:pt x="1139" y="1"/>
                  </a:lnTo>
                  <a:lnTo>
                    <a:pt x="1136" y="3"/>
                  </a:lnTo>
                  <a:lnTo>
                    <a:pt x="1131" y="4"/>
                  </a:lnTo>
                  <a:lnTo>
                    <a:pt x="1126" y="7"/>
                  </a:lnTo>
                  <a:lnTo>
                    <a:pt x="1118" y="9"/>
                  </a:lnTo>
                  <a:lnTo>
                    <a:pt x="1112" y="11"/>
                  </a:lnTo>
                  <a:lnTo>
                    <a:pt x="1106" y="12"/>
                  </a:lnTo>
                  <a:lnTo>
                    <a:pt x="1098" y="15"/>
                  </a:lnTo>
                  <a:lnTo>
                    <a:pt x="1090" y="19"/>
                  </a:lnTo>
                  <a:lnTo>
                    <a:pt x="1080" y="22"/>
                  </a:lnTo>
                  <a:lnTo>
                    <a:pt x="1071" y="25"/>
                  </a:lnTo>
                  <a:lnTo>
                    <a:pt x="1061" y="28"/>
                  </a:lnTo>
                  <a:lnTo>
                    <a:pt x="1050" y="31"/>
                  </a:lnTo>
                  <a:lnTo>
                    <a:pt x="1038" y="36"/>
                  </a:lnTo>
                  <a:lnTo>
                    <a:pt x="1027" y="39"/>
                  </a:lnTo>
                  <a:lnTo>
                    <a:pt x="1014" y="42"/>
                  </a:lnTo>
                  <a:lnTo>
                    <a:pt x="1000" y="47"/>
                  </a:lnTo>
                  <a:lnTo>
                    <a:pt x="987" y="50"/>
                  </a:lnTo>
                  <a:lnTo>
                    <a:pt x="973" y="55"/>
                  </a:lnTo>
                  <a:lnTo>
                    <a:pt x="959" y="60"/>
                  </a:lnTo>
                  <a:lnTo>
                    <a:pt x="943" y="63"/>
                  </a:lnTo>
                  <a:lnTo>
                    <a:pt x="927" y="68"/>
                  </a:lnTo>
                  <a:lnTo>
                    <a:pt x="910" y="72"/>
                  </a:lnTo>
                  <a:lnTo>
                    <a:pt x="894" y="77"/>
                  </a:lnTo>
                  <a:lnTo>
                    <a:pt x="875" y="82"/>
                  </a:lnTo>
                  <a:lnTo>
                    <a:pt x="859" y="87"/>
                  </a:lnTo>
                  <a:lnTo>
                    <a:pt x="840" y="91"/>
                  </a:lnTo>
                  <a:lnTo>
                    <a:pt x="821" y="96"/>
                  </a:lnTo>
                  <a:lnTo>
                    <a:pt x="802" y="99"/>
                  </a:lnTo>
                  <a:lnTo>
                    <a:pt x="781" y="104"/>
                  </a:lnTo>
                  <a:lnTo>
                    <a:pt x="759" y="109"/>
                  </a:lnTo>
                  <a:lnTo>
                    <a:pt x="740" y="113"/>
                  </a:lnTo>
                  <a:lnTo>
                    <a:pt x="718" y="118"/>
                  </a:lnTo>
                  <a:lnTo>
                    <a:pt x="696" y="123"/>
                  </a:lnTo>
                  <a:lnTo>
                    <a:pt x="674" y="128"/>
                  </a:lnTo>
                  <a:lnTo>
                    <a:pt x="652" y="132"/>
                  </a:lnTo>
                  <a:lnTo>
                    <a:pt x="628" y="136"/>
                  </a:lnTo>
                  <a:lnTo>
                    <a:pt x="604" y="140"/>
                  </a:lnTo>
                  <a:lnTo>
                    <a:pt x="581" y="143"/>
                  </a:lnTo>
                  <a:lnTo>
                    <a:pt x="557" y="148"/>
                  </a:lnTo>
                  <a:lnTo>
                    <a:pt x="532" y="153"/>
                  </a:lnTo>
                  <a:lnTo>
                    <a:pt x="506" y="156"/>
                  </a:lnTo>
                  <a:lnTo>
                    <a:pt x="481" y="161"/>
                  </a:lnTo>
                  <a:lnTo>
                    <a:pt x="456" y="164"/>
                  </a:lnTo>
                  <a:lnTo>
                    <a:pt x="429" y="167"/>
                  </a:lnTo>
                  <a:lnTo>
                    <a:pt x="402" y="170"/>
                  </a:lnTo>
                  <a:lnTo>
                    <a:pt x="375" y="174"/>
                  </a:lnTo>
                  <a:lnTo>
                    <a:pt x="348" y="177"/>
                  </a:lnTo>
                  <a:lnTo>
                    <a:pt x="320" y="178"/>
                  </a:lnTo>
                  <a:lnTo>
                    <a:pt x="291" y="181"/>
                  </a:lnTo>
                  <a:lnTo>
                    <a:pt x="263" y="183"/>
                  </a:lnTo>
                  <a:lnTo>
                    <a:pt x="234" y="186"/>
                  </a:lnTo>
                  <a:lnTo>
                    <a:pt x="206" y="188"/>
                  </a:lnTo>
                  <a:lnTo>
                    <a:pt x="176" y="191"/>
                  </a:lnTo>
                  <a:lnTo>
                    <a:pt x="146" y="193"/>
                  </a:lnTo>
                  <a:lnTo>
                    <a:pt x="117" y="194"/>
                  </a:lnTo>
                  <a:lnTo>
                    <a:pt x="87" y="194"/>
                  </a:lnTo>
                  <a:lnTo>
                    <a:pt x="57" y="196"/>
                  </a:lnTo>
                  <a:lnTo>
                    <a:pt x="25" y="197"/>
                  </a:lnTo>
                  <a:lnTo>
                    <a:pt x="0" y="197"/>
                  </a:lnTo>
                  <a:lnTo>
                    <a:pt x="87" y="267"/>
                  </a:lnTo>
                  <a:lnTo>
                    <a:pt x="62" y="333"/>
                  </a:lnTo>
                  <a:lnTo>
                    <a:pt x="218" y="406"/>
                  </a:lnTo>
                  <a:lnTo>
                    <a:pt x="183" y="601"/>
                  </a:lnTo>
                  <a:lnTo>
                    <a:pt x="392" y="634"/>
                  </a:lnTo>
                  <a:lnTo>
                    <a:pt x="367" y="741"/>
                  </a:lnTo>
                  <a:lnTo>
                    <a:pt x="443" y="801"/>
                  </a:lnTo>
                  <a:lnTo>
                    <a:pt x="443" y="801"/>
                  </a:lnTo>
                  <a:lnTo>
                    <a:pt x="445" y="801"/>
                  </a:lnTo>
                  <a:lnTo>
                    <a:pt x="446" y="800"/>
                  </a:lnTo>
                  <a:lnTo>
                    <a:pt x="451" y="800"/>
                  </a:lnTo>
                  <a:lnTo>
                    <a:pt x="456" y="800"/>
                  </a:lnTo>
                  <a:lnTo>
                    <a:pt x="463" y="798"/>
                  </a:lnTo>
                  <a:lnTo>
                    <a:pt x="467" y="798"/>
                  </a:lnTo>
                  <a:lnTo>
                    <a:pt x="471" y="798"/>
                  </a:lnTo>
                  <a:lnTo>
                    <a:pt x="476" y="797"/>
                  </a:lnTo>
                  <a:lnTo>
                    <a:pt x="481" y="797"/>
                  </a:lnTo>
                  <a:lnTo>
                    <a:pt x="486" y="795"/>
                  </a:lnTo>
                  <a:lnTo>
                    <a:pt x="492" y="795"/>
                  </a:lnTo>
                  <a:lnTo>
                    <a:pt x="497" y="793"/>
                  </a:lnTo>
                  <a:lnTo>
                    <a:pt x="503" y="793"/>
                  </a:lnTo>
                  <a:lnTo>
                    <a:pt x="509" y="792"/>
                  </a:lnTo>
                  <a:lnTo>
                    <a:pt x="517" y="790"/>
                  </a:lnTo>
                  <a:lnTo>
                    <a:pt x="524" y="789"/>
                  </a:lnTo>
                  <a:lnTo>
                    <a:pt x="532" y="789"/>
                  </a:lnTo>
                  <a:lnTo>
                    <a:pt x="539" y="787"/>
                  </a:lnTo>
                  <a:lnTo>
                    <a:pt x="547" y="786"/>
                  </a:lnTo>
                  <a:lnTo>
                    <a:pt x="552" y="784"/>
                  </a:lnTo>
                  <a:lnTo>
                    <a:pt x="557" y="784"/>
                  </a:lnTo>
                  <a:lnTo>
                    <a:pt x="562" y="782"/>
                  </a:lnTo>
                  <a:lnTo>
                    <a:pt x="566" y="782"/>
                  </a:lnTo>
                  <a:lnTo>
                    <a:pt x="571" y="781"/>
                  </a:lnTo>
                  <a:lnTo>
                    <a:pt x="576" y="781"/>
                  </a:lnTo>
                  <a:lnTo>
                    <a:pt x="581" y="779"/>
                  </a:lnTo>
                  <a:lnTo>
                    <a:pt x="585" y="779"/>
                  </a:lnTo>
                  <a:lnTo>
                    <a:pt x="590" y="778"/>
                  </a:lnTo>
                  <a:lnTo>
                    <a:pt x="596" y="778"/>
                  </a:lnTo>
                  <a:lnTo>
                    <a:pt x="601" y="776"/>
                  </a:lnTo>
                  <a:lnTo>
                    <a:pt x="607" y="776"/>
                  </a:lnTo>
                  <a:lnTo>
                    <a:pt x="612" y="774"/>
                  </a:lnTo>
                  <a:lnTo>
                    <a:pt x="619" y="773"/>
                  </a:lnTo>
                  <a:lnTo>
                    <a:pt x="626" y="770"/>
                  </a:lnTo>
                  <a:lnTo>
                    <a:pt x="634" y="768"/>
                  </a:lnTo>
                  <a:lnTo>
                    <a:pt x="644" y="767"/>
                  </a:lnTo>
                  <a:lnTo>
                    <a:pt x="653" y="763"/>
                  </a:lnTo>
                  <a:lnTo>
                    <a:pt x="664" y="762"/>
                  </a:lnTo>
                  <a:lnTo>
                    <a:pt x="675" y="760"/>
                  </a:lnTo>
                  <a:lnTo>
                    <a:pt x="687" y="757"/>
                  </a:lnTo>
                  <a:lnTo>
                    <a:pt x="699" y="754"/>
                  </a:lnTo>
                  <a:lnTo>
                    <a:pt x="712" y="751"/>
                  </a:lnTo>
                  <a:lnTo>
                    <a:pt x="726" y="748"/>
                  </a:lnTo>
                  <a:lnTo>
                    <a:pt x="740" y="744"/>
                  </a:lnTo>
                  <a:lnTo>
                    <a:pt x="756" y="741"/>
                  </a:lnTo>
                  <a:lnTo>
                    <a:pt x="770" y="738"/>
                  </a:lnTo>
                  <a:lnTo>
                    <a:pt x="788" y="735"/>
                  </a:lnTo>
                  <a:lnTo>
                    <a:pt x="802" y="730"/>
                  </a:lnTo>
                  <a:lnTo>
                    <a:pt x="819" y="725"/>
                  </a:lnTo>
                  <a:lnTo>
                    <a:pt x="837" y="721"/>
                  </a:lnTo>
                  <a:lnTo>
                    <a:pt x="854" y="716"/>
                  </a:lnTo>
                  <a:lnTo>
                    <a:pt x="873" y="711"/>
                  </a:lnTo>
                  <a:lnTo>
                    <a:pt x="891" y="706"/>
                  </a:lnTo>
                  <a:lnTo>
                    <a:pt x="910" y="702"/>
                  </a:lnTo>
                  <a:lnTo>
                    <a:pt x="929" y="697"/>
                  </a:lnTo>
                  <a:lnTo>
                    <a:pt x="948" y="691"/>
                  </a:lnTo>
                  <a:lnTo>
                    <a:pt x="968" y="686"/>
                  </a:lnTo>
                  <a:lnTo>
                    <a:pt x="987" y="680"/>
                  </a:lnTo>
                  <a:lnTo>
                    <a:pt x="1008" y="675"/>
                  </a:lnTo>
                  <a:lnTo>
                    <a:pt x="1028" y="669"/>
                  </a:lnTo>
                  <a:lnTo>
                    <a:pt x="1049" y="662"/>
                  </a:lnTo>
                  <a:lnTo>
                    <a:pt x="1069" y="656"/>
                  </a:lnTo>
                  <a:lnTo>
                    <a:pt x="1091" y="651"/>
                  </a:lnTo>
                  <a:lnTo>
                    <a:pt x="1112" y="643"/>
                  </a:lnTo>
                  <a:lnTo>
                    <a:pt x="1133" y="637"/>
                  </a:lnTo>
                  <a:lnTo>
                    <a:pt x="1153" y="629"/>
                  </a:lnTo>
                  <a:lnTo>
                    <a:pt x="1175" y="623"/>
                  </a:lnTo>
                  <a:lnTo>
                    <a:pt x="1196" y="615"/>
                  </a:lnTo>
                  <a:lnTo>
                    <a:pt x="1218" y="607"/>
                  </a:lnTo>
                  <a:lnTo>
                    <a:pt x="1239" y="599"/>
                  </a:lnTo>
                  <a:lnTo>
                    <a:pt x="1261" y="593"/>
                  </a:lnTo>
                  <a:lnTo>
                    <a:pt x="1281" y="583"/>
                  </a:lnTo>
                  <a:lnTo>
                    <a:pt x="1302" y="577"/>
                  </a:lnTo>
                  <a:lnTo>
                    <a:pt x="1322" y="567"/>
                  </a:lnTo>
                  <a:lnTo>
                    <a:pt x="1343" y="559"/>
                  </a:lnTo>
                  <a:lnTo>
                    <a:pt x="1364" y="552"/>
                  </a:lnTo>
                  <a:lnTo>
                    <a:pt x="1384" y="542"/>
                  </a:lnTo>
                  <a:lnTo>
                    <a:pt x="1405" y="534"/>
                  </a:lnTo>
                  <a:lnTo>
                    <a:pt x="1425" y="526"/>
                  </a:lnTo>
                  <a:lnTo>
                    <a:pt x="1446" y="517"/>
                  </a:lnTo>
                  <a:lnTo>
                    <a:pt x="1465" y="507"/>
                  </a:lnTo>
                  <a:lnTo>
                    <a:pt x="1484" y="498"/>
                  </a:lnTo>
                  <a:lnTo>
                    <a:pt x="1503" y="488"/>
                  </a:lnTo>
                  <a:lnTo>
                    <a:pt x="1522" y="479"/>
                  </a:lnTo>
                  <a:lnTo>
                    <a:pt x="1539" y="468"/>
                  </a:lnTo>
                  <a:lnTo>
                    <a:pt x="1558" y="458"/>
                  </a:lnTo>
                  <a:lnTo>
                    <a:pt x="1576" y="449"/>
                  </a:lnTo>
                  <a:lnTo>
                    <a:pt x="1593" y="438"/>
                  </a:lnTo>
                  <a:lnTo>
                    <a:pt x="1609" y="428"/>
                  </a:lnTo>
                  <a:lnTo>
                    <a:pt x="1626" y="417"/>
                  </a:lnTo>
                  <a:lnTo>
                    <a:pt x="1642" y="408"/>
                  </a:lnTo>
                  <a:lnTo>
                    <a:pt x="1656" y="395"/>
                  </a:lnTo>
                  <a:lnTo>
                    <a:pt x="1672" y="384"/>
                  </a:lnTo>
                  <a:lnTo>
                    <a:pt x="1686" y="374"/>
                  </a:lnTo>
                  <a:lnTo>
                    <a:pt x="1701" y="363"/>
                  </a:lnTo>
                  <a:lnTo>
                    <a:pt x="1425" y="0"/>
                  </a:lnTo>
                  <a:lnTo>
                    <a:pt x="1148" y="0"/>
                  </a:lnTo>
                  <a:lnTo>
                    <a:pt x="114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rot="21366600">
              <a:off x="5720040" y="2654280"/>
              <a:ext cx="501480" cy="713880"/>
            </a:xfrm>
            <a:custGeom>
              <a:avLst/>
              <a:gdLst/>
              <a:ahLst/>
              <a:rect l="l" t="t" r="r" b="b"/>
              <a:pathLst>
                <a:path w="745" h="1058">
                  <a:moveTo>
                    <a:pt x="0" y="786"/>
                  </a:moveTo>
                  <a:lnTo>
                    <a:pt x="0" y="784"/>
                  </a:lnTo>
                  <a:lnTo>
                    <a:pt x="0" y="781"/>
                  </a:lnTo>
                  <a:lnTo>
                    <a:pt x="1" y="775"/>
                  </a:lnTo>
                  <a:lnTo>
                    <a:pt x="4" y="769"/>
                  </a:lnTo>
                  <a:lnTo>
                    <a:pt x="6" y="764"/>
                  </a:lnTo>
                  <a:lnTo>
                    <a:pt x="8" y="759"/>
                  </a:lnTo>
                  <a:lnTo>
                    <a:pt x="9" y="754"/>
                  </a:lnTo>
                  <a:lnTo>
                    <a:pt x="11" y="750"/>
                  </a:lnTo>
                  <a:lnTo>
                    <a:pt x="12" y="745"/>
                  </a:lnTo>
                  <a:lnTo>
                    <a:pt x="16" y="739"/>
                  </a:lnTo>
                  <a:lnTo>
                    <a:pt x="17" y="734"/>
                  </a:lnTo>
                  <a:lnTo>
                    <a:pt x="20" y="729"/>
                  </a:lnTo>
                  <a:lnTo>
                    <a:pt x="22" y="723"/>
                  </a:lnTo>
                  <a:lnTo>
                    <a:pt x="23" y="716"/>
                  </a:lnTo>
                  <a:lnTo>
                    <a:pt x="25" y="710"/>
                  </a:lnTo>
                  <a:lnTo>
                    <a:pt x="28" y="705"/>
                  </a:lnTo>
                  <a:lnTo>
                    <a:pt x="30" y="699"/>
                  </a:lnTo>
                  <a:lnTo>
                    <a:pt x="33" y="693"/>
                  </a:lnTo>
                  <a:lnTo>
                    <a:pt x="36" y="688"/>
                  </a:lnTo>
                  <a:lnTo>
                    <a:pt x="39" y="683"/>
                  </a:lnTo>
                  <a:lnTo>
                    <a:pt x="42" y="679"/>
                  </a:lnTo>
                  <a:lnTo>
                    <a:pt x="46" y="672"/>
                  </a:lnTo>
                  <a:lnTo>
                    <a:pt x="49" y="667"/>
                  </a:lnTo>
                  <a:lnTo>
                    <a:pt x="52" y="664"/>
                  </a:lnTo>
                  <a:lnTo>
                    <a:pt x="58" y="656"/>
                  </a:lnTo>
                  <a:lnTo>
                    <a:pt x="65" y="650"/>
                  </a:lnTo>
                  <a:lnTo>
                    <a:pt x="71" y="645"/>
                  </a:lnTo>
                  <a:lnTo>
                    <a:pt x="79" y="644"/>
                  </a:lnTo>
                  <a:lnTo>
                    <a:pt x="87" y="641"/>
                  </a:lnTo>
                  <a:lnTo>
                    <a:pt x="95" y="641"/>
                  </a:lnTo>
                  <a:lnTo>
                    <a:pt x="103" y="641"/>
                  </a:lnTo>
                  <a:lnTo>
                    <a:pt x="110" y="642"/>
                  </a:lnTo>
                  <a:lnTo>
                    <a:pt x="118" y="644"/>
                  </a:lnTo>
                  <a:lnTo>
                    <a:pt x="128" y="647"/>
                  </a:lnTo>
                  <a:lnTo>
                    <a:pt x="134" y="648"/>
                  </a:lnTo>
                  <a:lnTo>
                    <a:pt x="141" y="650"/>
                  </a:lnTo>
                  <a:lnTo>
                    <a:pt x="147" y="653"/>
                  </a:lnTo>
                  <a:lnTo>
                    <a:pt x="153" y="656"/>
                  </a:lnTo>
                  <a:lnTo>
                    <a:pt x="158" y="658"/>
                  </a:lnTo>
                  <a:lnTo>
                    <a:pt x="161" y="660"/>
                  </a:lnTo>
                  <a:lnTo>
                    <a:pt x="163" y="661"/>
                  </a:lnTo>
                  <a:lnTo>
                    <a:pt x="164" y="663"/>
                  </a:lnTo>
                  <a:lnTo>
                    <a:pt x="283" y="688"/>
                  </a:lnTo>
                  <a:lnTo>
                    <a:pt x="284" y="686"/>
                  </a:lnTo>
                  <a:lnTo>
                    <a:pt x="291" y="683"/>
                  </a:lnTo>
                  <a:lnTo>
                    <a:pt x="294" y="680"/>
                  </a:lnTo>
                  <a:lnTo>
                    <a:pt x="299" y="677"/>
                  </a:lnTo>
                  <a:lnTo>
                    <a:pt x="303" y="674"/>
                  </a:lnTo>
                  <a:lnTo>
                    <a:pt x="308" y="671"/>
                  </a:lnTo>
                  <a:lnTo>
                    <a:pt x="313" y="667"/>
                  </a:lnTo>
                  <a:lnTo>
                    <a:pt x="319" y="663"/>
                  </a:lnTo>
                  <a:lnTo>
                    <a:pt x="324" y="660"/>
                  </a:lnTo>
                  <a:lnTo>
                    <a:pt x="329" y="655"/>
                  </a:lnTo>
                  <a:lnTo>
                    <a:pt x="335" y="647"/>
                  </a:lnTo>
                  <a:lnTo>
                    <a:pt x="340" y="639"/>
                  </a:lnTo>
                  <a:lnTo>
                    <a:pt x="340" y="636"/>
                  </a:lnTo>
                  <a:lnTo>
                    <a:pt x="341" y="629"/>
                  </a:lnTo>
                  <a:lnTo>
                    <a:pt x="341" y="626"/>
                  </a:lnTo>
                  <a:lnTo>
                    <a:pt x="343" y="622"/>
                  </a:lnTo>
                  <a:lnTo>
                    <a:pt x="343" y="617"/>
                  </a:lnTo>
                  <a:lnTo>
                    <a:pt x="345" y="612"/>
                  </a:lnTo>
                  <a:lnTo>
                    <a:pt x="346" y="607"/>
                  </a:lnTo>
                  <a:lnTo>
                    <a:pt x="348" y="601"/>
                  </a:lnTo>
                  <a:lnTo>
                    <a:pt x="349" y="595"/>
                  </a:lnTo>
                  <a:lnTo>
                    <a:pt x="351" y="590"/>
                  </a:lnTo>
                  <a:lnTo>
                    <a:pt x="354" y="582"/>
                  </a:lnTo>
                  <a:lnTo>
                    <a:pt x="356" y="576"/>
                  </a:lnTo>
                  <a:lnTo>
                    <a:pt x="359" y="568"/>
                  </a:lnTo>
                  <a:lnTo>
                    <a:pt x="360" y="561"/>
                  </a:lnTo>
                  <a:lnTo>
                    <a:pt x="362" y="552"/>
                  </a:lnTo>
                  <a:lnTo>
                    <a:pt x="365" y="544"/>
                  </a:lnTo>
                  <a:lnTo>
                    <a:pt x="367" y="535"/>
                  </a:lnTo>
                  <a:lnTo>
                    <a:pt x="368" y="527"/>
                  </a:lnTo>
                  <a:lnTo>
                    <a:pt x="371" y="517"/>
                  </a:lnTo>
                  <a:lnTo>
                    <a:pt x="375" y="508"/>
                  </a:lnTo>
                  <a:lnTo>
                    <a:pt x="378" y="498"/>
                  </a:lnTo>
                  <a:lnTo>
                    <a:pt x="381" y="490"/>
                  </a:lnTo>
                  <a:lnTo>
                    <a:pt x="383" y="481"/>
                  </a:lnTo>
                  <a:lnTo>
                    <a:pt x="386" y="470"/>
                  </a:lnTo>
                  <a:lnTo>
                    <a:pt x="389" y="460"/>
                  </a:lnTo>
                  <a:lnTo>
                    <a:pt x="392" y="451"/>
                  </a:lnTo>
                  <a:lnTo>
                    <a:pt x="394" y="441"/>
                  </a:lnTo>
                  <a:lnTo>
                    <a:pt x="398" y="432"/>
                  </a:lnTo>
                  <a:lnTo>
                    <a:pt x="400" y="421"/>
                  </a:lnTo>
                  <a:lnTo>
                    <a:pt x="405" y="411"/>
                  </a:lnTo>
                  <a:lnTo>
                    <a:pt x="406" y="402"/>
                  </a:lnTo>
                  <a:lnTo>
                    <a:pt x="409" y="391"/>
                  </a:lnTo>
                  <a:lnTo>
                    <a:pt x="411" y="381"/>
                  </a:lnTo>
                  <a:lnTo>
                    <a:pt x="414" y="372"/>
                  </a:lnTo>
                  <a:lnTo>
                    <a:pt x="417" y="362"/>
                  </a:lnTo>
                  <a:lnTo>
                    <a:pt x="421" y="353"/>
                  </a:lnTo>
                  <a:lnTo>
                    <a:pt x="424" y="343"/>
                  </a:lnTo>
                  <a:lnTo>
                    <a:pt x="427" y="334"/>
                  </a:lnTo>
                  <a:lnTo>
                    <a:pt x="428" y="324"/>
                  </a:lnTo>
                  <a:lnTo>
                    <a:pt x="432" y="315"/>
                  </a:lnTo>
                  <a:lnTo>
                    <a:pt x="433" y="307"/>
                  </a:lnTo>
                  <a:lnTo>
                    <a:pt x="436" y="297"/>
                  </a:lnTo>
                  <a:lnTo>
                    <a:pt x="439" y="289"/>
                  </a:lnTo>
                  <a:lnTo>
                    <a:pt x="441" y="282"/>
                  </a:lnTo>
                  <a:lnTo>
                    <a:pt x="444" y="274"/>
                  </a:lnTo>
                  <a:lnTo>
                    <a:pt x="446" y="267"/>
                  </a:lnTo>
                  <a:lnTo>
                    <a:pt x="449" y="259"/>
                  </a:lnTo>
                  <a:lnTo>
                    <a:pt x="449" y="252"/>
                  </a:lnTo>
                  <a:lnTo>
                    <a:pt x="451" y="245"/>
                  </a:lnTo>
                  <a:lnTo>
                    <a:pt x="454" y="240"/>
                  </a:lnTo>
                  <a:lnTo>
                    <a:pt x="455" y="234"/>
                  </a:lnTo>
                  <a:lnTo>
                    <a:pt x="457" y="228"/>
                  </a:lnTo>
                  <a:lnTo>
                    <a:pt x="458" y="223"/>
                  </a:lnTo>
                  <a:lnTo>
                    <a:pt x="460" y="220"/>
                  </a:lnTo>
                  <a:lnTo>
                    <a:pt x="462" y="212"/>
                  </a:lnTo>
                  <a:lnTo>
                    <a:pt x="465" y="206"/>
                  </a:lnTo>
                  <a:lnTo>
                    <a:pt x="465" y="204"/>
                  </a:lnTo>
                  <a:lnTo>
                    <a:pt x="466" y="202"/>
                  </a:lnTo>
                  <a:lnTo>
                    <a:pt x="582" y="55"/>
                  </a:lnTo>
                  <a:lnTo>
                    <a:pt x="666" y="0"/>
                  </a:lnTo>
                  <a:lnTo>
                    <a:pt x="719" y="3"/>
                  </a:lnTo>
                  <a:lnTo>
                    <a:pt x="745" y="74"/>
                  </a:lnTo>
                  <a:lnTo>
                    <a:pt x="723" y="240"/>
                  </a:lnTo>
                  <a:lnTo>
                    <a:pt x="672" y="367"/>
                  </a:lnTo>
                  <a:lnTo>
                    <a:pt x="610" y="481"/>
                  </a:lnTo>
                  <a:lnTo>
                    <a:pt x="533" y="590"/>
                  </a:lnTo>
                  <a:lnTo>
                    <a:pt x="481" y="667"/>
                  </a:lnTo>
                  <a:lnTo>
                    <a:pt x="479" y="669"/>
                  </a:lnTo>
                  <a:lnTo>
                    <a:pt x="477" y="672"/>
                  </a:lnTo>
                  <a:lnTo>
                    <a:pt x="474" y="675"/>
                  </a:lnTo>
                  <a:lnTo>
                    <a:pt x="473" y="683"/>
                  </a:lnTo>
                  <a:lnTo>
                    <a:pt x="468" y="690"/>
                  </a:lnTo>
                  <a:lnTo>
                    <a:pt x="465" y="697"/>
                  </a:lnTo>
                  <a:lnTo>
                    <a:pt x="462" y="702"/>
                  </a:lnTo>
                  <a:lnTo>
                    <a:pt x="460" y="707"/>
                  </a:lnTo>
                  <a:lnTo>
                    <a:pt x="458" y="712"/>
                  </a:lnTo>
                  <a:lnTo>
                    <a:pt x="458" y="718"/>
                  </a:lnTo>
                  <a:lnTo>
                    <a:pt x="455" y="723"/>
                  </a:lnTo>
                  <a:lnTo>
                    <a:pt x="454" y="728"/>
                  </a:lnTo>
                  <a:lnTo>
                    <a:pt x="452" y="731"/>
                  </a:lnTo>
                  <a:lnTo>
                    <a:pt x="452" y="737"/>
                  </a:lnTo>
                  <a:lnTo>
                    <a:pt x="451" y="742"/>
                  </a:lnTo>
                  <a:lnTo>
                    <a:pt x="451" y="747"/>
                  </a:lnTo>
                  <a:lnTo>
                    <a:pt x="451" y="751"/>
                  </a:lnTo>
                  <a:lnTo>
                    <a:pt x="451" y="758"/>
                  </a:lnTo>
                  <a:lnTo>
                    <a:pt x="451" y="761"/>
                  </a:lnTo>
                  <a:lnTo>
                    <a:pt x="452" y="765"/>
                  </a:lnTo>
                  <a:lnTo>
                    <a:pt x="452" y="770"/>
                  </a:lnTo>
                  <a:lnTo>
                    <a:pt x="455" y="773"/>
                  </a:lnTo>
                  <a:lnTo>
                    <a:pt x="460" y="780"/>
                  </a:lnTo>
                  <a:lnTo>
                    <a:pt x="468" y="786"/>
                  </a:lnTo>
                  <a:lnTo>
                    <a:pt x="471" y="789"/>
                  </a:lnTo>
                  <a:lnTo>
                    <a:pt x="476" y="791"/>
                  </a:lnTo>
                  <a:lnTo>
                    <a:pt x="481" y="794"/>
                  </a:lnTo>
                  <a:lnTo>
                    <a:pt x="487" y="796"/>
                  </a:lnTo>
                  <a:lnTo>
                    <a:pt x="490" y="799"/>
                  </a:lnTo>
                  <a:lnTo>
                    <a:pt x="496" y="802"/>
                  </a:lnTo>
                  <a:lnTo>
                    <a:pt x="503" y="805"/>
                  </a:lnTo>
                  <a:lnTo>
                    <a:pt x="509" y="808"/>
                  </a:lnTo>
                  <a:lnTo>
                    <a:pt x="515" y="810"/>
                  </a:lnTo>
                  <a:lnTo>
                    <a:pt x="522" y="813"/>
                  </a:lnTo>
                  <a:lnTo>
                    <a:pt x="528" y="816"/>
                  </a:lnTo>
                  <a:lnTo>
                    <a:pt x="536" y="818"/>
                  </a:lnTo>
                  <a:lnTo>
                    <a:pt x="542" y="821"/>
                  </a:lnTo>
                  <a:lnTo>
                    <a:pt x="549" y="824"/>
                  </a:lnTo>
                  <a:lnTo>
                    <a:pt x="555" y="827"/>
                  </a:lnTo>
                  <a:lnTo>
                    <a:pt x="561" y="830"/>
                  </a:lnTo>
                  <a:lnTo>
                    <a:pt x="568" y="832"/>
                  </a:lnTo>
                  <a:lnTo>
                    <a:pt x="574" y="835"/>
                  </a:lnTo>
                  <a:lnTo>
                    <a:pt x="580" y="837"/>
                  </a:lnTo>
                  <a:lnTo>
                    <a:pt x="587" y="840"/>
                  </a:lnTo>
                  <a:lnTo>
                    <a:pt x="591" y="841"/>
                  </a:lnTo>
                  <a:lnTo>
                    <a:pt x="596" y="843"/>
                  </a:lnTo>
                  <a:lnTo>
                    <a:pt x="601" y="845"/>
                  </a:lnTo>
                  <a:lnTo>
                    <a:pt x="606" y="848"/>
                  </a:lnTo>
                  <a:lnTo>
                    <a:pt x="614" y="849"/>
                  </a:lnTo>
                  <a:lnTo>
                    <a:pt x="620" y="852"/>
                  </a:lnTo>
                  <a:lnTo>
                    <a:pt x="625" y="854"/>
                  </a:lnTo>
                  <a:lnTo>
                    <a:pt x="626" y="854"/>
                  </a:lnTo>
                  <a:lnTo>
                    <a:pt x="648" y="962"/>
                  </a:lnTo>
                  <a:lnTo>
                    <a:pt x="588" y="1058"/>
                  </a:lnTo>
                  <a:lnTo>
                    <a:pt x="213" y="962"/>
                  </a:lnTo>
                  <a:lnTo>
                    <a:pt x="0" y="786"/>
                  </a:lnTo>
                  <a:lnTo>
                    <a:pt x="0" y="786"/>
                  </a:lnTo>
                  <a:close/>
                </a:path>
              </a:pathLst>
            </a:custGeom>
            <a:solidFill>
              <a:srgbClr val="ffb0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rot="21366600">
              <a:off x="5690880" y="3173040"/>
              <a:ext cx="446040" cy="321840"/>
            </a:xfrm>
            <a:custGeom>
              <a:avLst/>
              <a:gdLst/>
              <a:ahLst/>
              <a:rect l="l" t="t" r="r" b="b"/>
              <a:pathLst>
                <a:path w="662" h="478">
                  <a:moveTo>
                    <a:pt x="0" y="196"/>
                  </a:moveTo>
                  <a:lnTo>
                    <a:pt x="89" y="0"/>
                  </a:lnTo>
                  <a:lnTo>
                    <a:pt x="371" y="174"/>
                  </a:lnTo>
                  <a:lnTo>
                    <a:pt x="662" y="283"/>
                  </a:lnTo>
                  <a:lnTo>
                    <a:pt x="583" y="478"/>
                  </a:lnTo>
                  <a:lnTo>
                    <a:pt x="344" y="381"/>
                  </a:lnTo>
                  <a:lnTo>
                    <a:pt x="94" y="242"/>
                  </a:lnTo>
                  <a:lnTo>
                    <a:pt x="0" y="196"/>
                  </a:lnTo>
                  <a:lnTo>
                    <a:pt x="0" y="196"/>
                  </a:lnTo>
                  <a:close/>
                </a:path>
              </a:pathLst>
            </a:custGeom>
            <a:solidFill>
              <a:srgbClr val="e3d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rot="21366600">
              <a:off x="5460120" y="3308040"/>
              <a:ext cx="635040" cy="406080"/>
            </a:xfrm>
            <a:custGeom>
              <a:avLst/>
              <a:gdLst/>
              <a:ahLst/>
              <a:rect l="l" t="t" r="r" b="b"/>
              <a:pathLst>
                <a:path w="945" h="601">
                  <a:moveTo>
                    <a:pt x="0" y="294"/>
                  </a:moveTo>
                  <a:lnTo>
                    <a:pt x="168" y="220"/>
                  </a:lnTo>
                  <a:lnTo>
                    <a:pt x="290" y="112"/>
                  </a:lnTo>
                  <a:lnTo>
                    <a:pt x="373" y="0"/>
                  </a:lnTo>
                  <a:lnTo>
                    <a:pt x="693" y="193"/>
                  </a:lnTo>
                  <a:lnTo>
                    <a:pt x="945" y="291"/>
                  </a:lnTo>
                  <a:lnTo>
                    <a:pt x="883" y="452"/>
                  </a:lnTo>
                  <a:lnTo>
                    <a:pt x="720" y="601"/>
                  </a:lnTo>
                  <a:lnTo>
                    <a:pt x="0" y="294"/>
                  </a:lnTo>
                  <a:lnTo>
                    <a:pt x="0" y="294"/>
                  </a:lnTo>
                  <a:close/>
                </a:path>
              </a:pathLst>
            </a:custGeom>
            <a:solidFill>
              <a:srgbClr val="c2b3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rot="21366600">
              <a:off x="5224320" y="3640680"/>
              <a:ext cx="552600" cy="218520"/>
            </a:xfrm>
            <a:custGeom>
              <a:avLst/>
              <a:gdLst/>
              <a:ahLst/>
              <a:rect l="l" t="t" r="r" b="b"/>
              <a:pathLst>
                <a:path w="820" h="323">
                  <a:moveTo>
                    <a:pt x="0" y="294"/>
                  </a:moveTo>
                  <a:lnTo>
                    <a:pt x="0" y="294"/>
                  </a:lnTo>
                  <a:lnTo>
                    <a:pt x="7" y="293"/>
                  </a:lnTo>
                  <a:lnTo>
                    <a:pt x="8" y="293"/>
                  </a:lnTo>
                  <a:lnTo>
                    <a:pt x="13" y="291"/>
                  </a:lnTo>
                  <a:lnTo>
                    <a:pt x="18" y="291"/>
                  </a:lnTo>
                  <a:lnTo>
                    <a:pt x="24" y="290"/>
                  </a:lnTo>
                  <a:lnTo>
                    <a:pt x="30" y="288"/>
                  </a:lnTo>
                  <a:lnTo>
                    <a:pt x="37" y="287"/>
                  </a:lnTo>
                  <a:lnTo>
                    <a:pt x="43" y="285"/>
                  </a:lnTo>
                  <a:lnTo>
                    <a:pt x="53" y="283"/>
                  </a:lnTo>
                  <a:lnTo>
                    <a:pt x="61" y="282"/>
                  </a:lnTo>
                  <a:lnTo>
                    <a:pt x="70" y="280"/>
                  </a:lnTo>
                  <a:lnTo>
                    <a:pt x="79" y="277"/>
                  </a:lnTo>
                  <a:lnTo>
                    <a:pt x="91" y="275"/>
                  </a:lnTo>
                  <a:lnTo>
                    <a:pt x="102" y="272"/>
                  </a:lnTo>
                  <a:lnTo>
                    <a:pt x="113" y="271"/>
                  </a:lnTo>
                  <a:lnTo>
                    <a:pt x="124" y="268"/>
                  </a:lnTo>
                  <a:lnTo>
                    <a:pt x="136" y="264"/>
                  </a:lnTo>
                  <a:lnTo>
                    <a:pt x="149" y="261"/>
                  </a:lnTo>
                  <a:lnTo>
                    <a:pt x="162" y="260"/>
                  </a:lnTo>
                  <a:lnTo>
                    <a:pt x="176" y="255"/>
                  </a:lnTo>
                  <a:lnTo>
                    <a:pt x="190" y="253"/>
                  </a:lnTo>
                  <a:lnTo>
                    <a:pt x="204" y="249"/>
                  </a:lnTo>
                  <a:lnTo>
                    <a:pt x="219" y="245"/>
                  </a:lnTo>
                  <a:lnTo>
                    <a:pt x="233" y="241"/>
                  </a:lnTo>
                  <a:lnTo>
                    <a:pt x="249" y="238"/>
                  </a:lnTo>
                  <a:lnTo>
                    <a:pt x="263" y="233"/>
                  </a:lnTo>
                  <a:lnTo>
                    <a:pt x="279" y="228"/>
                  </a:lnTo>
                  <a:lnTo>
                    <a:pt x="296" y="225"/>
                  </a:lnTo>
                  <a:lnTo>
                    <a:pt x="312" y="220"/>
                  </a:lnTo>
                  <a:lnTo>
                    <a:pt x="328" y="215"/>
                  </a:lnTo>
                  <a:lnTo>
                    <a:pt x="344" y="211"/>
                  </a:lnTo>
                  <a:lnTo>
                    <a:pt x="359" y="206"/>
                  </a:lnTo>
                  <a:lnTo>
                    <a:pt x="377" y="201"/>
                  </a:lnTo>
                  <a:lnTo>
                    <a:pt x="393" y="195"/>
                  </a:lnTo>
                  <a:lnTo>
                    <a:pt x="410" y="190"/>
                  </a:lnTo>
                  <a:lnTo>
                    <a:pt x="428" y="184"/>
                  </a:lnTo>
                  <a:lnTo>
                    <a:pt x="445" y="179"/>
                  </a:lnTo>
                  <a:lnTo>
                    <a:pt x="461" y="173"/>
                  </a:lnTo>
                  <a:lnTo>
                    <a:pt x="478" y="166"/>
                  </a:lnTo>
                  <a:lnTo>
                    <a:pt x="496" y="160"/>
                  </a:lnTo>
                  <a:lnTo>
                    <a:pt x="513" y="155"/>
                  </a:lnTo>
                  <a:lnTo>
                    <a:pt x="529" y="147"/>
                  </a:lnTo>
                  <a:lnTo>
                    <a:pt x="546" y="141"/>
                  </a:lnTo>
                  <a:lnTo>
                    <a:pt x="564" y="135"/>
                  </a:lnTo>
                  <a:lnTo>
                    <a:pt x="581" y="128"/>
                  </a:lnTo>
                  <a:lnTo>
                    <a:pt x="597" y="120"/>
                  </a:lnTo>
                  <a:lnTo>
                    <a:pt x="613" y="114"/>
                  </a:lnTo>
                  <a:lnTo>
                    <a:pt x="628" y="106"/>
                  </a:lnTo>
                  <a:lnTo>
                    <a:pt x="644" y="100"/>
                  </a:lnTo>
                  <a:lnTo>
                    <a:pt x="660" y="92"/>
                  </a:lnTo>
                  <a:lnTo>
                    <a:pt x="677" y="84"/>
                  </a:lnTo>
                  <a:lnTo>
                    <a:pt x="692" y="76"/>
                  </a:lnTo>
                  <a:lnTo>
                    <a:pt x="707" y="68"/>
                  </a:lnTo>
                  <a:lnTo>
                    <a:pt x="722" y="60"/>
                  </a:lnTo>
                  <a:lnTo>
                    <a:pt x="738" y="51"/>
                  </a:lnTo>
                  <a:lnTo>
                    <a:pt x="752" y="43"/>
                  </a:lnTo>
                  <a:lnTo>
                    <a:pt x="764" y="35"/>
                  </a:lnTo>
                  <a:lnTo>
                    <a:pt x="779" y="26"/>
                  </a:lnTo>
                  <a:lnTo>
                    <a:pt x="793" y="18"/>
                  </a:lnTo>
                  <a:lnTo>
                    <a:pt x="804" y="10"/>
                  </a:lnTo>
                  <a:lnTo>
                    <a:pt x="818" y="0"/>
                  </a:lnTo>
                  <a:lnTo>
                    <a:pt x="820" y="43"/>
                  </a:lnTo>
                  <a:lnTo>
                    <a:pt x="818" y="43"/>
                  </a:lnTo>
                  <a:lnTo>
                    <a:pt x="817" y="45"/>
                  </a:lnTo>
                  <a:lnTo>
                    <a:pt x="813" y="46"/>
                  </a:lnTo>
                  <a:lnTo>
                    <a:pt x="810" y="49"/>
                  </a:lnTo>
                  <a:lnTo>
                    <a:pt x="804" y="51"/>
                  </a:lnTo>
                  <a:lnTo>
                    <a:pt x="799" y="57"/>
                  </a:lnTo>
                  <a:lnTo>
                    <a:pt x="795" y="59"/>
                  </a:lnTo>
                  <a:lnTo>
                    <a:pt x="791" y="62"/>
                  </a:lnTo>
                  <a:lnTo>
                    <a:pt x="787" y="65"/>
                  </a:lnTo>
                  <a:lnTo>
                    <a:pt x="782" y="68"/>
                  </a:lnTo>
                  <a:lnTo>
                    <a:pt x="776" y="71"/>
                  </a:lnTo>
                  <a:lnTo>
                    <a:pt x="771" y="75"/>
                  </a:lnTo>
                  <a:lnTo>
                    <a:pt x="764" y="78"/>
                  </a:lnTo>
                  <a:lnTo>
                    <a:pt x="760" y="83"/>
                  </a:lnTo>
                  <a:lnTo>
                    <a:pt x="752" y="86"/>
                  </a:lnTo>
                  <a:lnTo>
                    <a:pt x="745" y="89"/>
                  </a:lnTo>
                  <a:lnTo>
                    <a:pt x="738" y="94"/>
                  </a:lnTo>
                  <a:lnTo>
                    <a:pt x="731" y="98"/>
                  </a:lnTo>
                  <a:lnTo>
                    <a:pt x="722" y="102"/>
                  </a:lnTo>
                  <a:lnTo>
                    <a:pt x="714" y="106"/>
                  </a:lnTo>
                  <a:lnTo>
                    <a:pt x="704" y="111"/>
                  </a:lnTo>
                  <a:lnTo>
                    <a:pt x="695" y="116"/>
                  </a:lnTo>
                  <a:lnTo>
                    <a:pt x="685" y="120"/>
                  </a:lnTo>
                  <a:lnTo>
                    <a:pt x="676" y="125"/>
                  </a:lnTo>
                  <a:lnTo>
                    <a:pt x="665" y="132"/>
                  </a:lnTo>
                  <a:lnTo>
                    <a:pt x="654" y="136"/>
                  </a:lnTo>
                  <a:lnTo>
                    <a:pt x="641" y="141"/>
                  </a:lnTo>
                  <a:lnTo>
                    <a:pt x="630" y="146"/>
                  </a:lnTo>
                  <a:lnTo>
                    <a:pt x="616" y="151"/>
                  </a:lnTo>
                  <a:lnTo>
                    <a:pt x="605" y="157"/>
                  </a:lnTo>
                  <a:lnTo>
                    <a:pt x="590" y="162"/>
                  </a:lnTo>
                  <a:lnTo>
                    <a:pt x="576" y="168"/>
                  </a:lnTo>
                  <a:lnTo>
                    <a:pt x="562" y="173"/>
                  </a:lnTo>
                  <a:lnTo>
                    <a:pt x="548" y="179"/>
                  </a:lnTo>
                  <a:lnTo>
                    <a:pt x="530" y="184"/>
                  </a:lnTo>
                  <a:lnTo>
                    <a:pt x="516" y="190"/>
                  </a:lnTo>
                  <a:lnTo>
                    <a:pt x="499" y="196"/>
                  </a:lnTo>
                  <a:lnTo>
                    <a:pt x="483" y="203"/>
                  </a:lnTo>
                  <a:lnTo>
                    <a:pt x="464" y="207"/>
                  </a:lnTo>
                  <a:lnTo>
                    <a:pt x="446" y="215"/>
                  </a:lnTo>
                  <a:lnTo>
                    <a:pt x="428" y="220"/>
                  </a:lnTo>
                  <a:lnTo>
                    <a:pt x="409" y="226"/>
                  </a:lnTo>
                  <a:lnTo>
                    <a:pt x="388" y="233"/>
                  </a:lnTo>
                  <a:lnTo>
                    <a:pt x="369" y="239"/>
                  </a:lnTo>
                  <a:lnTo>
                    <a:pt x="347" y="244"/>
                  </a:lnTo>
                  <a:lnTo>
                    <a:pt x="326" y="250"/>
                  </a:lnTo>
                  <a:lnTo>
                    <a:pt x="303" y="255"/>
                  </a:lnTo>
                  <a:lnTo>
                    <a:pt x="280" y="261"/>
                  </a:lnTo>
                  <a:lnTo>
                    <a:pt x="258" y="268"/>
                  </a:lnTo>
                  <a:lnTo>
                    <a:pt x="235" y="274"/>
                  </a:lnTo>
                  <a:lnTo>
                    <a:pt x="209" y="280"/>
                  </a:lnTo>
                  <a:lnTo>
                    <a:pt x="184" y="287"/>
                  </a:lnTo>
                  <a:lnTo>
                    <a:pt x="157" y="293"/>
                  </a:lnTo>
                  <a:lnTo>
                    <a:pt x="132" y="298"/>
                  </a:lnTo>
                  <a:lnTo>
                    <a:pt x="105" y="304"/>
                  </a:lnTo>
                  <a:lnTo>
                    <a:pt x="78" y="310"/>
                  </a:lnTo>
                  <a:lnTo>
                    <a:pt x="49" y="317"/>
                  </a:lnTo>
                  <a:lnTo>
                    <a:pt x="21" y="323"/>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rot="21366600">
              <a:off x="5243400" y="3736440"/>
              <a:ext cx="551160" cy="217080"/>
            </a:xfrm>
            <a:custGeom>
              <a:avLst/>
              <a:gdLst/>
              <a:ahLst/>
              <a:rect l="l" t="t" r="r" b="b"/>
              <a:pathLst>
                <a:path w="818" h="321">
                  <a:moveTo>
                    <a:pt x="0" y="294"/>
                  </a:moveTo>
                  <a:lnTo>
                    <a:pt x="0" y="292"/>
                  </a:lnTo>
                  <a:lnTo>
                    <a:pt x="6" y="292"/>
                  </a:lnTo>
                  <a:lnTo>
                    <a:pt x="8" y="291"/>
                  </a:lnTo>
                  <a:lnTo>
                    <a:pt x="12" y="291"/>
                  </a:lnTo>
                  <a:lnTo>
                    <a:pt x="17" y="289"/>
                  </a:lnTo>
                  <a:lnTo>
                    <a:pt x="24" y="289"/>
                  </a:lnTo>
                  <a:lnTo>
                    <a:pt x="28" y="287"/>
                  </a:lnTo>
                  <a:lnTo>
                    <a:pt x="36" y="286"/>
                  </a:lnTo>
                  <a:lnTo>
                    <a:pt x="43" y="284"/>
                  </a:lnTo>
                  <a:lnTo>
                    <a:pt x="52" y="283"/>
                  </a:lnTo>
                  <a:lnTo>
                    <a:pt x="60" y="280"/>
                  </a:lnTo>
                  <a:lnTo>
                    <a:pt x="69" y="278"/>
                  </a:lnTo>
                  <a:lnTo>
                    <a:pt x="79" y="276"/>
                  </a:lnTo>
                  <a:lnTo>
                    <a:pt x="90" y="275"/>
                  </a:lnTo>
                  <a:lnTo>
                    <a:pt x="99" y="272"/>
                  </a:lnTo>
                  <a:lnTo>
                    <a:pt x="112" y="270"/>
                  </a:lnTo>
                  <a:lnTo>
                    <a:pt x="123" y="267"/>
                  </a:lnTo>
                  <a:lnTo>
                    <a:pt x="136" y="264"/>
                  </a:lnTo>
                  <a:lnTo>
                    <a:pt x="149" y="261"/>
                  </a:lnTo>
                  <a:lnTo>
                    <a:pt x="161" y="257"/>
                  </a:lnTo>
                  <a:lnTo>
                    <a:pt x="175" y="254"/>
                  </a:lnTo>
                  <a:lnTo>
                    <a:pt x="190" y="251"/>
                  </a:lnTo>
                  <a:lnTo>
                    <a:pt x="202" y="248"/>
                  </a:lnTo>
                  <a:lnTo>
                    <a:pt x="217" y="243"/>
                  </a:lnTo>
                  <a:lnTo>
                    <a:pt x="232" y="240"/>
                  </a:lnTo>
                  <a:lnTo>
                    <a:pt x="247" y="235"/>
                  </a:lnTo>
                  <a:lnTo>
                    <a:pt x="262" y="232"/>
                  </a:lnTo>
                  <a:lnTo>
                    <a:pt x="278" y="227"/>
                  </a:lnTo>
                  <a:lnTo>
                    <a:pt x="294" y="224"/>
                  </a:lnTo>
                  <a:lnTo>
                    <a:pt x="311" y="219"/>
                  </a:lnTo>
                  <a:lnTo>
                    <a:pt x="326" y="215"/>
                  </a:lnTo>
                  <a:lnTo>
                    <a:pt x="343" y="210"/>
                  </a:lnTo>
                  <a:lnTo>
                    <a:pt x="359" y="204"/>
                  </a:lnTo>
                  <a:lnTo>
                    <a:pt x="376" y="199"/>
                  </a:lnTo>
                  <a:lnTo>
                    <a:pt x="392" y="194"/>
                  </a:lnTo>
                  <a:lnTo>
                    <a:pt x="410" y="189"/>
                  </a:lnTo>
                  <a:lnTo>
                    <a:pt x="427" y="183"/>
                  </a:lnTo>
                  <a:lnTo>
                    <a:pt x="443" y="178"/>
                  </a:lnTo>
                  <a:lnTo>
                    <a:pt x="460" y="172"/>
                  </a:lnTo>
                  <a:lnTo>
                    <a:pt x="478" y="166"/>
                  </a:lnTo>
                  <a:lnTo>
                    <a:pt x="493" y="159"/>
                  </a:lnTo>
                  <a:lnTo>
                    <a:pt x="511" y="155"/>
                  </a:lnTo>
                  <a:lnTo>
                    <a:pt x="528" y="147"/>
                  </a:lnTo>
                  <a:lnTo>
                    <a:pt x="546" y="140"/>
                  </a:lnTo>
                  <a:lnTo>
                    <a:pt x="561" y="134"/>
                  </a:lnTo>
                  <a:lnTo>
                    <a:pt x="579" y="128"/>
                  </a:lnTo>
                  <a:lnTo>
                    <a:pt x="595" y="120"/>
                  </a:lnTo>
                  <a:lnTo>
                    <a:pt x="612" y="113"/>
                  </a:lnTo>
                  <a:lnTo>
                    <a:pt x="628" y="107"/>
                  </a:lnTo>
                  <a:lnTo>
                    <a:pt x="644" y="99"/>
                  </a:lnTo>
                  <a:lnTo>
                    <a:pt x="659" y="91"/>
                  </a:lnTo>
                  <a:lnTo>
                    <a:pt x="675" y="83"/>
                  </a:lnTo>
                  <a:lnTo>
                    <a:pt x="691" y="76"/>
                  </a:lnTo>
                  <a:lnTo>
                    <a:pt x="705" y="69"/>
                  </a:lnTo>
                  <a:lnTo>
                    <a:pt x="721" y="60"/>
                  </a:lnTo>
                  <a:lnTo>
                    <a:pt x="735" y="52"/>
                  </a:lnTo>
                  <a:lnTo>
                    <a:pt x="750" y="42"/>
                  </a:lnTo>
                  <a:lnTo>
                    <a:pt x="764" y="34"/>
                  </a:lnTo>
                  <a:lnTo>
                    <a:pt x="777" y="27"/>
                  </a:lnTo>
                  <a:lnTo>
                    <a:pt x="791" y="17"/>
                  </a:lnTo>
                  <a:lnTo>
                    <a:pt x="803" y="9"/>
                  </a:lnTo>
                  <a:lnTo>
                    <a:pt x="816" y="0"/>
                  </a:lnTo>
                  <a:lnTo>
                    <a:pt x="818" y="42"/>
                  </a:lnTo>
                  <a:lnTo>
                    <a:pt x="818" y="42"/>
                  </a:lnTo>
                  <a:lnTo>
                    <a:pt x="816" y="44"/>
                  </a:lnTo>
                  <a:lnTo>
                    <a:pt x="813" y="45"/>
                  </a:lnTo>
                  <a:lnTo>
                    <a:pt x="810" y="49"/>
                  </a:lnTo>
                  <a:lnTo>
                    <a:pt x="803" y="52"/>
                  </a:lnTo>
                  <a:lnTo>
                    <a:pt x="797" y="57"/>
                  </a:lnTo>
                  <a:lnTo>
                    <a:pt x="792" y="60"/>
                  </a:lnTo>
                  <a:lnTo>
                    <a:pt x="789" y="61"/>
                  </a:lnTo>
                  <a:lnTo>
                    <a:pt x="784" y="64"/>
                  </a:lnTo>
                  <a:lnTo>
                    <a:pt x="781" y="69"/>
                  </a:lnTo>
                  <a:lnTo>
                    <a:pt x="775" y="71"/>
                  </a:lnTo>
                  <a:lnTo>
                    <a:pt x="769" y="74"/>
                  </a:lnTo>
                  <a:lnTo>
                    <a:pt x="762" y="77"/>
                  </a:lnTo>
                  <a:lnTo>
                    <a:pt x="758" y="82"/>
                  </a:lnTo>
                  <a:lnTo>
                    <a:pt x="750" y="85"/>
                  </a:lnTo>
                  <a:lnTo>
                    <a:pt x="743" y="90"/>
                  </a:lnTo>
                  <a:lnTo>
                    <a:pt x="737" y="93"/>
                  </a:lnTo>
                  <a:lnTo>
                    <a:pt x="729" y="98"/>
                  </a:lnTo>
                  <a:lnTo>
                    <a:pt x="721" y="102"/>
                  </a:lnTo>
                  <a:lnTo>
                    <a:pt x="712" y="107"/>
                  </a:lnTo>
                  <a:lnTo>
                    <a:pt x="704" y="112"/>
                  </a:lnTo>
                  <a:lnTo>
                    <a:pt x="694" y="117"/>
                  </a:lnTo>
                  <a:lnTo>
                    <a:pt x="683" y="120"/>
                  </a:lnTo>
                  <a:lnTo>
                    <a:pt x="674" y="126"/>
                  </a:lnTo>
                  <a:lnTo>
                    <a:pt x="663" y="131"/>
                  </a:lnTo>
                  <a:lnTo>
                    <a:pt x="653" y="137"/>
                  </a:lnTo>
                  <a:lnTo>
                    <a:pt x="640" y="142"/>
                  </a:lnTo>
                  <a:lnTo>
                    <a:pt x="628" y="147"/>
                  </a:lnTo>
                  <a:lnTo>
                    <a:pt x="615" y="151"/>
                  </a:lnTo>
                  <a:lnTo>
                    <a:pt x="602" y="158"/>
                  </a:lnTo>
                  <a:lnTo>
                    <a:pt x="588" y="163"/>
                  </a:lnTo>
                  <a:lnTo>
                    <a:pt x="576" y="167"/>
                  </a:lnTo>
                  <a:lnTo>
                    <a:pt x="560" y="174"/>
                  </a:lnTo>
                  <a:lnTo>
                    <a:pt x="546" y="180"/>
                  </a:lnTo>
                  <a:lnTo>
                    <a:pt x="530" y="185"/>
                  </a:lnTo>
                  <a:lnTo>
                    <a:pt x="514" y="191"/>
                  </a:lnTo>
                  <a:lnTo>
                    <a:pt x="497" y="197"/>
                  </a:lnTo>
                  <a:lnTo>
                    <a:pt x="481" y="202"/>
                  </a:lnTo>
                  <a:lnTo>
                    <a:pt x="462" y="208"/>
                  </a:lnTo>
                  <a:lnTo>
                    <a:pt x="444" y="215"/>
                  </a:lnTo>
                  <a:lnTo>
                    <a:pt x="425" y="219"/>
                  </a:lnTo>
                  <a:lnTo>
                    <a:pt x="406" y="227"/>
                  </a:lnTo>
                  <a:lnTo>
                    <a:pt x="387" y="232"/>
                  </a:lnTo>
                  <a:lnTo>
                    <a:pt x="367" y="238"/>
                  </a:lnTo>
                  <a:lnTo>
                    <a:pt x="345" y="243"/>
                  </a:lnTo>
                  <a:lnTo>
                    <a:pt x="324" y="250"/>
                  </a:lnTo>
                  <a:lnTo>
                    <a:pt x="302" y="256"/>
                  </a:lnTo>
                  <a:lnTo>
                    <a:pt x="280" y="262"/>
                  </a:lnTo>
                  <a:lnTo>
                    <a:pt x="256" y="268"/>
                  </a:lnTo>
                  <a:lnTo>
                    <a:pt x="232" y="275"/>
                  </a:lnTo>
                  <a:lnTo>
                    <a:pt x="207" y="280"/>
                  </a:lnTo>
                  <a:lnTo>
                    <a:pt x="183" y="286"/>
                  </a:lnTo>
                  <a:lnTo>
                    <a:pt x="156" y="291"/>
                  </a:lnTo>
                  <a:lnTo>
                    <a:pt x="131" y="297"/>
                  </a:lnTo>
                  <a:lnTo>
                    <a:pt x="104" y="303"/>
                  </a:lnTo>
                  <a:lnTo>
                    <a:pt x="77" y="310"/>
                  </a:lnTo>
                  <a:lnTo>
                    <a:pt x="49" y="316"/>
                  </a:lnTo>
                  <a:lnTo>
                    <a:pt x="20" y="321"/>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rot="21366600">
              <a:off x="5466600" y="3400560"/>
              <a:ext cx="532080" cy="380520"/>
            </a:xfrm>
            <a:custGeom>
              <a:avLst/>
              <a:gdLst/>
              <a:ahLst/>
              <a:rect l="l" t="t" r="r" b="b"/>
              <a:pathLst>
                <a:path w="790" h="565">
                  <a:moveTo>
                    <a:pt x="258" y="0"/>
                  </a:moveTo>
                  <a:lnTo>
                    <a:pt x="339" y="16"/>
                  </a:lnTo>
                  <a:lnTo>
                    <a:pt x="359" y="76"/>
                  </a:lnTo>
                  <a:lnTo>
                    <a:pt x="437" y="97"/>
                  </a:lnTo>
                  <a:lnTo>
                    <a:pt x="470" y="195"/>
                  </a:lnTo>
                  <a:lnTo>
                    <a:pt x="518" y="204"/>
                  </a:lnTo>
                  <a:lnTo>
                    <a:pt x="552" y="335"/>
                  </a:lnTo>
                  <a:lnTo>
                    <a:pt x="723" y="305"/>
                  </a:lnTo>
                  <a:lnTo>
                    <a:pt x="790" y="402"/>
                  </a:lnTo>
                  <a:lnTo>
                    <a:pt x="601" y="528"/>
                  </a:lnTo>
                  <a:lnTo>
                    <a:pt x="478" y="565"/>
                  </a:lnTo>
                  <a:lnTo>
                    <a:pt x="456" y="468"/>
                  </a:lnTo>
                  <a:lnTo>
                    <a:pt x="344" y="479"/>
                  </a:lnTo>
                  <a:lnTo>
                    <a:pt x="315" y="446"/>
                  </a:lnTo>
                  <a:lnTo>
                    <a:pt x="337" y="396"/>
                  </a:lnTo>
                  <a:lnTo>
                    <a:pt x="187" y="351"/>
                  </a:lnTo>
                  <a:lnTo>
                    <a:pt x="215" y="305"/>
                  </a:lnTo>
                  <a:lnTo>
                    <a:pt x="87" y="252"/>
                  </a:lnTo>
                  <a:lnTo>
                    <a:pt x="97" y="209"/>
                  </a:lnTo>
                  <a:lnTo>
                    <a:pt x="16" y="198"/>
                  </a:lnTo>
                  <a:lnTo>
                    <a:pt x="0" y="169"/>
                  </a:lnTo>
                  <a:lnTo>
                    <a:pt x="152" y="90"/>
                  </a:lnTo>
                  <a:lnTo>
                    <a:pt x="258" y="0"/>
                  </a:lnTo>
                  <a:lnTo>
                    <a:pt x="25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rot="21366600">
              <a:off x="4959360" y="3586320"/>
              <a:ext cx="567000" cy="163080"/>
            </a:xfrm>
            <a:custGeom>
              <a:avLst/>
              <a:gdLst/>
              <a:ahLst/>
              <a:rect l="l" t="t" r="r" b="b"/>
              <a:pathLst>
                <a:path w="842" h="243">
                  <a:moveTo>
                    <a:pt x="0" y="213"/>
                  </a:moveTo>
                  <a:lnTo>
                    <a:pt x="0" y="212"/>
                  </a:lnTo>
                  <a:lnTo>
                    <a:pt x="6" y="212"/>
                  </a:lnTo>
                  <a:lnTo>
                    <a:pt x="8" y="212"/>
                  </a:lnTo>
                  <a:lnTo>
                    <a:pt x="13" y="210"/>
                  </a:lnTo>
                  <a:lnTo>
                    <a:pt x="17" y="210"/>
                  </a:lnTo>
                  <a:lnTo>
                    <a:pt x="24" y="210"/>
                  </a:lnTo>
                  <a:lnTo>
                    <a:pt x="30" y="209"/>
                  </a:lnTo>
                  <a:lnTo>
                    <a:pt x="36" y="209"/>
                  </a:lnTo>
                  <a:lnTo>
                    <a:pt x="44" y="207"/>
                  </a:lnTo>
                  <a:lnTo>
                    <a:pt x="54" y="207"/>
                  </a:lnTo>
                  <a:lnTo>
                    <a:pt x="62" y="205"/>
                  </a:lnTo>
                  <a:lnTo>
                    <a:pt x="71" y="204"/>
                  </a:lnTo>
                  <a:lnTo>
                    <a:pt x="81" y="204"/>
                  </a:lnTo>
                  <a:lnTo>
                    <a:pt x="92" y="204"/>
                  </a:lnTo>
                  <a:lnTo>
                    <a:pt x="103" y="201"/>
                  </a:lnTo>
                  <a:lnTo>
                    <a:pt x="114" y="201"/>
                  </a:lnTo>
                  <a:lnTo>
                    <a:pt x="125" y="199"/>
                  </a:lnTo>
                  <a:lnTo>
                    <a:pt x="139" y="197"/>
                  </a:lnTo>
                  <a:lnTo>
                    <a:pt x="150" y="194"/>
                  </a:lnTo>
                  <a:lnTo>
                    <a:pt x="165" y="193"/>
                  </a:lnTo>
                  <a:lnTo>
                    <a:pt x="179" y="191"/>
                  </a:lnTo>
                  <a:lnTo>
                    <a:pt x="193" y="190"/>
                  </a:lnTo>
                  <a:lnTo>
                    <a:pt x="207" y="188"/>
                  </a:lnTo>
                  <a:lnTo>
                    <a:pt x="221" y="185"/>
                  </a:lnTo>
                  <a:lnTo>
                    <a:pt x="236" y="183"/>
                  </a:lnTo>
                  <a:lnTo>
                    <a:pt x="253" y="180"/>
                  </a:lnTo>
                  <a:lnTo>
                    <a:pt x="267" y="177"/>
                  </a:lnTo>
                  <a:lnTo>
                    <a:pt x="283" y="175"/>
                  </a:lnTo>
                  <a:lnTo>
                    <a:pt x="299" y="172"/>
                  </a:lnTo>
                  <a:lnTo>
                    <a:pt x="316" y="171"/>
                  </a:lnTo>
                  <a:lnTo>
                    <a:pt x="334" y="166"/>
                  </a:lnTo>
                  <a:lnTo>
                    <a:pt x="350" y="163"/>
                  </a:lnTo>
                  <a:lnTo>
                    <a:pt x="367" y="159"/>
                  </a:lnTo>
                  <a:lnTo>
                    <a:pt x="383" y="156"/>
                  </a:lnTo>
                  <a:lnTo>
                    <a:pt x="400" y="153"/>
                  </a:lnTo>
                  <a:lnTo>
                    <a:pt x="418" y="148"/>
                  </a:lnTo>
                  <a:lnTo>
                    <a:pt x="435" y="145"/>
                  </a:lnTo>
                  <a:lnTo>
                    <a:pt x="454" y="142"/>
                  </a:lnTo>
                  <a:lnTo>
                    <a:pt x="470" y="137"/>
                  </a:lnTo>
                  <a:lnTo>
                    <a:pt x="489" y="133"/>
                  </a:lnTo>
                  <a:lnTo>
                    <a:pt x="505" y="128"/>
                  </a:lnTo>
                  <a:lnTo>
                    <a:pt x="524" y="125"/>
                  </a:lnTo>
                  <a:lnTo>
                    <a:pt x="539" y="120"/>
                  </a:lnTo>
                  <a:lnTo>
                    <a:pt x="558" y="115"/>
                  </a:lnTo>
                  <a:lnTo>
                    <a:pt x="574" y="110"/>
                  </a:lnTo>
                  <a:lnTo>
                    <a:pt x="593" y="106"/>
                  </a:lnTo>
                  <a:lnTo>
                    <a:pt x="609" y="99"/>
                  </a:lnTo>
                  <a:lnTo>
                    <a:pt x="626" y="93"/>
                  </a:lnTo>
                  <a:lnTo>
                    <a:pt x="644" y="88"/>
                  </a:lnTo>
                  <a:lnTo>
                    <a:pt x="660" y="82"/>
                  </a:lnTo>
                  <a:lnTo>
                    <a:pt x="677" y="77"/>
                  </a:lnTo>
                  <a:lnTo>
                    <a:pt x="693" y="71"/>
                  </a:lnTo>
                  <a:lnTo>
                    <a:pt x="709" y="65"/>
                  </a:lnTo>
                  <a:lnTo>
                    <a:pt x="725" y="58"/>
                  </a:lnTo>
                  <a:lnTo>
                    <a:pt x="740" y="50"/>
                  </a:lnTo>
                  <a:lnTo>
                    <a:pt x="756" y="44"/>
                  </a:lnTo>
                  <a:lnTo>
                    <a:pt x="770" y="38"/>
                  </a:lnTo>
                  <a:lnTo>
                    <a:pt x="786" y="30"/>
                  </a:lnTo>
                  <a:lnTo>
                    <a:pt x="799" y="22"/>
                  </a:lnTo>
                  <a:lnTo>
                    <a:pt x="813" y="16"/>
                  </a:lnTo>
                  <a:lnTo>
                    <a:pt x="827" y="8"/>
                  </a:lnTo>
                  <a:lnTo>
                    <a:pt x="842" y="0"/>
                  </a:lnTo>
                  <a:lnTo>
                    <a:pt x="838" y="44"/>
                  </a:lnTo>
                  <a:lnTo>
                    <a:pt x="837" y="44"/>
                  </a:lnTo>
                  <a:lnTo>
                    <a:pt x="835" y="44"/>
                  </a:lnTo>
                  <a:lnTo>
                    <a:pt x="832" y="46"/>
                  </a:lnTo>
                  <a:lnTo>
                    <a:pt x="829" y="49"/>
                  </a:lnTo>
                  <a:lnTo>
                    <a:pt x="823" y="52"/>
                  </a:lnTo>
                  <a:lnTo>
                    <a:pt x="816" y="57"/>
                  </a:lnTo>
                  <a:lnTo>
                    <a:pt x="812" y="58"/>
                  </a:lnTo>
                  <a:lnTo>
                    <a:pt x="807" y="61"/>
                  </a:lnTo>
                  <a:lnTo>
                    <a:pt x="802" y="63"/>
                  </a:lnTo>
                  <a:lnTo>
                    <a:pt x="799" y="66"/>
                  </a:lnTo>
                  <a:lnTo>
                    <a:pt x="793" y="69"/>
                  </a:lnTo>
                  <a:lnTo>
                    <a:pt x="788" y="71"/>
                  </a:lnTo>
                  <a:lnTo>
                    <a:pt x="781" y="74"/>
                  </a:lnTo>
                  <a:lnTo>
                    <a:pt x="775" y="77"/>
                  </a:lnTo>
                  <a:lnTo>
                    <a:pt x="767" y="80"/>
                  </a:lnTo>
                  <a:lnTo>
                    <a:pt x="759" y="84"/>
                  </a:lnTo>
                  <a:lnTo>
                    <a:pt x="753" y="87"/>
                  </a:lnTo>
                  <a:lnTo>
                    <a:pt x="745" y="90"/>
                  </a:lnTo>
                  <a:lnTo>
                    <a:pt x="736" y="93"/>
                  </a:lnTo>
                  <a:lnTo>
                    <a:pt x="726" y="98"/>
                  </a:lnTo>
                  <a:lnTo>
                    <a:pt x="717" y="101"/>
                  </a:lnTo>
                  <a:lnTo>
                    <a:pt x="707" y="106"/>
                  </a:lnTo>
                  <a:lnTo>
                    <a:pt x="696" y="109"/>
                  </a:lnTo>
                  <a:lnTo>
                    <a:pt x="687" y="114"/>
                  </a:lnTo>
                  <a:lnTo>
                    <a:pt x="675" y="117"/>
                  </a:lnTo>
                  <a:lnTo>
                    <a:pt x="664" y="122"/>
                  </a:lnTo>
                  <a:lnTo>
                    <a:pt x="652" y="125"/>
                  </a:lnTo>
                  <a:lnTo>
                    <a:pt x="639" y="128"/>
                  </a:lnTo>
                  <a:lnTo>
                    <a:pt x="626" y="133"/>
                  </a:lnTo>
                  <a:lnTo>
                    <a:pt x="612" y="137"/>
                  </a:lnTo>
                  <a:lnTo>
                    <a:pt x="600" y="141"/>
                  </a:lnTo>
                  <a:lnTo>
                    <a:pt x="585" y="145"/>
                  </a:lnTo>
                  <a:lnTo>
                    <a:pt x="569" y="148"/>
                  </a:lnTo>
                  <a:lnTo>
                    <a:pt x="555" y="153"/>
                  </a:lnTo>
                  <a:lnTo>
                    <a:pt x="538" y="158"/>
                  </a:lnTo>
                  <a:lnTo>
                    <a:pt x="522" y="161"/>
                  </a:lnTo>
                  <a:lnTo>
                    <a:pt x="505" y="164"/>
                  </a:lnTo>
                  <a:lnTo>
                    <a:pt x="487" y="169"/>
                  </a:lnTo>
                  <a:lnTo>
                    <a:pt x="468" y="174"/>
                  </a:lnTo>
                  <a:lnTo>
                    <a:pt x="451" y="178"/>
                  </a:lnTo>
                  <a:lnTo>
                    <a:pt x="432" y="182"/>
                  </a:lnTo>
                  <a:lnTo>
                    <a:pt x="411" y="186"/>
                  </a:lnTo>
                  <a:lnTo>
                    <a:pt x="391" y="190"/>
                  </a:lnTo>
                  <a:lnTo>
                    <a:pt x="370" y="194"/>
                  </a:lnTo>
                  <a:lnTo>
                    <a:pt x="348" y="197"/>
                  </a:lnTo>
                  <a:lnTo>
                    <a:pt x="327" y="202"/>
                  </a:lnTo>
                  <a:lnTo>
                    <a:pt x="304" y="205"/>
                  </a:lnTo>
                  <a:lnTo>
                    <a:pt x="282" y="209"/>
                  </a:lnTo>
                  <a:lnTo>
                    <a:pt x="258" y="213"/>
                  </a:lnTo>
                  <a:lnTo>
                    <a:pt x="234" y="216"/>
                  </a:lnTo>
                  <a:lnTo>
                    <a:pt x="209" y="220"/>
                  </a:lnTo>
                  <a:lnTo>
                    <a:pt x="184" y="224"/>
                  </a:lnTo>
                  <a:lnTo>
                    <a:pt x="157" y="227"/>
                  </a:lnTo>
                  <a:lnTo>
                    <a:pt x="131" y="231"/>
                  </a:lnTo>
                  <a:lnTo>
                    <a:pt x="103" y="234"/>
                  </a:lnTo>
                  <a:lnTo>
                    <a:pt x="76" y="237"/>
                  </a:lnTo>
                  <a:lnTo>
                    <a:pt x="47" y="240"/>
                  </a:lnTo>
                  <a:lnTo>
                    <a:pt x="19" y="243"/>
                  </a:lnTo>
                  <a:lnTo>
                    <a:pt x="0" y="213"/>
                  </a:lnTo>
                  <a:lnTo>
                    <a:pt x="0" y="213"/>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rot="21366600">
              <a:off x="5684760" y="3156840"/>
              <a:ext cx="482400" cy="360000"/>
            </a:xfrm>
            <a:custGeom>
              <a:avLst/>
              <a:gdLst/>
              <a:ahLst/>
              <a:rect l="l" t="t" r="r" b="b"/>
              <a:pathLst>
                <a:path w="716" h="533">
                  <a:moveTo>
                    <a:pt x="20" y="172"/>
                  </a:moveTo>
                  <a:lnTo>
                    <a:pt x="22" y="172"/>
                  </a:lnTo>
                  <a:lnTo>
                    <a:pt x="25" y="175"/>
                  </a:lnTo>
                  <a:lnTo>
                    <a:pt x="27" y="177"/>
                  </a:lnTo>
                  <a:lnTo>
                    <a:pt x="30" y="180"/>
                  </a:lnTo>
                  <a:lnTo>
                    <a:pt x="33" y="183"/>
                  </a:lnTo>
                  <a:lnTo>
                    <a:pt x="38" y="188"/>
                  </a:lnTo>
                  <a:lnTo>
                    <a:pt x="41" y="191"/>
                  </a:lnTo>
                  <a:lnTo>
                    <a:pt x="47" y="196"/>
                  </a:lnTo>
                  <a:lnTo>
                    <a:pt x="52" y="200"/>
                  </a:lnTo>
                  <a:lnTo>
                    <a:pt x="58" y="205"/>
                  </a:lnTo>
                  <a:lnTo>
                    <a:pt x="66" y="210"/>
                  </a:lnTo>
                  <a:lnTo>
                    <a:pt x="73" y="216"/>
                  </a:lnTo>
                  <a:lnTo>
                    <a:pt x="76" y="218"/>
                  </a:lnTo>
                  <a:lnTo>
                    <a:pt x="81" y="223"/>
                  </a:lnTo>
                  <a:lnTo>
                    <a:pt x="85" y="226"/>
                  </a:lnTo>
                  <a:lnTo>
                    <a:pt x="90" y="229"/>
                  </a:lnTo>
                  <a:lnTo>
                    <a:pt x="93" y="232"/>
                  </a:lnTo>
                  <a:lnTo>
                    <a:pt x="98" y="235"/>
                  </a:lnTo>
                  <a:lnTo>
                    <a:pt x="103" y="238"/>
                  </a:lnTo>
                  <a:lnTo>
                    <a:pt x="107" y="242"/>
                  </a:lnTo>
                  <a:lnTo>
                    <a:pt x="112" y="245"/>
                  </a:lnTo>
                  <a:lnTo>
                    <a:pt x="117" y="249"/>
                  </a:lnTo>
                  <a:lnTo>
                    <a:pt x="122" y="253"/>
                  </a:lnTo>
                  <a:lnTo>
                    <a:pt x="128" y="256"/>
                  </a:lnTo>
                  <a:lnTo>
                    <a:pt x="133" y="259"/>
                  </a:lnTo>
                  <a:lnTo>
                    <a:pt x="139" y="264"/>
                  </a:lnTo>
                  <a:lnTo>
                    <a:pt x="144" y="267"/>
                  </a:lnTo>
                  <a:lnTo>
                    <a:pt x="152" y="272"/>
                  </a:lnTo>
                  <a:lnTo>
                    <a:pt x="157" y="276"/>
                  </a:lnTo>
                  <a:lnTo>
                    <a:pt x="163" y="280"/>
                  </a:lnTo>
                  <a:lnTo>
                    <a:pt x="169" y="283"/>
                  </a:lnTo>
                  <a:lnTo>
                    <a:pt x="175" y="287"/>
                  </a:lnTo>
                  <a:lnTo>
                    <a:pt x="182" y="292"/>
                  </a:lnTo>
                  <a:lnTo>
                    <a:pt x="188" y="295"/>
                  </a:lnTo>
                  <a:lnTo>
                    <a:pt x="194" y="300"/>
                  </a:lnTo>
                  <a:lnTo>
                    <a:pt x="202" y="305"/>
                  </a:lnTo>
                  <a:lnTo>
                    <a:pt x="209" y="308"/>
                  </a:lnTo>
                  <a:lnTo>
                    <a:pt x="215" y="313"/>
                  </a:lnTo>
                  <a:lnTo>
                    <a:pt x="223" y="317"/>
                  </a:lnTo>
                  <a:lnTo>
                    <a:pt x="231" y="321"/>
                  </a:lnTo>
                  <a:lnTo>
                    <a:pt x="237" y="325"/>
                  </a:lnTo>
                  <a:lnTo>
                    <a:pt x="245" y="330"/>
                  </a:lnTo>
                  <a:lnTo>
                    <a:pt x="253" y="333"/>
                  </a:lnTo>
                  <a:lnTo>
                    <a:pt x="261" y="338"/>
                  </a:lnTo>
                  <a:lnTo>
                    <a:pt x="269" y="343"/>
                  </a:lnTo>
                  <a:lnTo>
                    <a:pt x="277" y="348"/>
                  </a:lnTo>
                  <a:lnTo>
                    <a:pt x="285" y="352"/>
                  </a:lnTo>
                  <a:lnTo>
                    <a:pt x="294" y="357"/>
                  </a:lnTo>
                  <a:lnTo>
                    <a:pt x="302" y="360"/>
                  </a:lnTo>
                  <a:lnTo>
                    <a:pt x="310" y="363"/>
                  </a:lnTo>
                  <a:lnTo>
                    <a:pt x="318" y="368"/>
                  </a:lnTo>
                  <a:lnTo>
                    <a:pt x="326" y="371"/>
                  </a:lnTo>
                  <a:lnTo>
                    <a:pt x="334" y="376"/>
                  </a:lnTo>
                  <a:lnTo>
                    <a:pt x="342" y="379"/>
                  </a:lnTo>
                  <a:lnTo>
                    <a:pt x="348" y="384"/>
                  </a:lnTo>
                  <a:lnTo>
                    <a:pt x="357" y="387"/>
                  </a:lnTo>
                  <a:lnTo>
                    <a:pt x="364" y="390"/>
                  </a:lnTo>
                  <a:lnTo>
                    <a:pt x="372" y="393"/>
                  </a:lnTo>
                  <a:lnTo>
                    <a:pt x="378" y="397"/>
                  </a:lnTo>
                  <a:lnTo>
                    <a:pt x="386" y="400"/>
                  </a:lnTo>
                  <a:lnTo>
                    <a:pt x="392" y="403"/>
                  </a:lnTo>
                  <a:lnTo>
                    <a:pt x="400" y="406"/>
                  </a:lnTo>
                  <a:lnTo>
                    <a:pt x="406" y="409"/>
                  </a:lnTo>
                  <a:lnTo>
                    <a:pt x="414" y="414"/>
                  </a:lnTo>
                  <a:lnTo>
                    <a:pt x="419" y="416"/>
                  </a:lnTo>
                  <a:lnTo>
                    <a:pt x="425" y="419"/>
                  </a:lnTo>
                  <a:lnTo>
                    <a:pt x="432" y="422"/>
                  </a:lnTo>
                  <a:lnTo>
                    <a:pt x="438" y="425"/>
                  </a:lnTo>
                  <a:lnTo>
                    <a:pt x="444" y="427"/>
                  </a:lnTo>
                  <a:lnTo>
                    <a:pt x="451" y="430"/>
                  </a:lnTo>
                  <a:lnTo>
                    <a:pt x="455" y="431"/>
                  </a:lnTo>
                  <a:lnTo>
                    <a:pt x="462" y="434"/>
                  </a:lnTo>
                  <a:lnTo>
                    <a:pt x="467" y="436"/>
                  </a:lnTo>
                  <a:lnTo>
                    <a:pt x="473" y="439"/>
                  </a:lnTo>
                  <a:lnTo>
                    <a:pt x="478" y="441"/>
                  </a:lnTo>
                  <a:lnTo>
                    <a:pt x="484" y="442"/>
                  </a:lnTo>
                  <a:lnTo>
                    <a:pt x="489" y="444"/>
                  </a:lnTo>
                  <a:lnTo>
                    <a:pt x="493" y="447"/>
                  </a:lnTo>
                  <a:lnTo>
                    <a:pt x="497" y="449"/>
                  </a:lnTo>
                  <a:lnTo>
                    <a:pt x="503" y="450"/>
                  </a:lnTo>
                  <a:lnTo>
                    <a:pt x="511" y="453"/>
                  </a:lnTo>
                  <a:lnTo>
                    <a:pt x="519" y="457"/>
                  </a:lnTo>
                  <a:lnTo>
                    <a:pt x="527" y="460"/>
                  </a:lnTo>
                  <a:lnTo>
                    <a:pt x="535" y="463"/>
                  </a:lnTo>
                  <a:lnTo>
                    <a:pt x="541" y="465"/>
                  </a:lnTo>
                  <a:lnTo>
                    <a:pt x="547" y="466"/>
                  </a:lnTo>
                  <a:lnTo>
                    <a:pt x="552" y="469"/>
                  </a:lnTo>
                  <a:lnTo>
                    <a:pt x="558" y="471"/>
                  </a:lnTo>
                  <a:lnTo>
                    <a:pt x="563" y="472"/>
                  </a:lnTo>
                  <a:lnTo>
                    <a:pt x="566" y="472"/>
                  </a:lnTo>
                  <a:lnTo>
                    <a:pt x="569" y="474"/>
                  </a:lnTo>
                  <a:lnTo>
                    <a:pt x="573" y="476"/>
                  </a:lnTo>
                  <a:lnTo>
                    <a:pt x="576" y="477"/>
                  </a:lnTo>
                  <a:lnTo>
                    <a:pt x="577" y="477"/>
                  </a:lnTo>
                  <a:lnTo>
                    <a:pt x="648" y="325"/>
                  </a:lnTo>
                  <a:lnTo>
                    <a:pt x="647" y="324"/>
                  </a:lnTo>
                  <a:lnTo>
                    <a:pt x="644" y="322"/>
                  </a:lnTo>
                  <a:lnTo>
                    <a:pt x="639" y="321"/>
                  </a:lnTo>
                  <a:lnTo>
                    <a:pt x="633" y="319"/>
                  </a:lnTo>
                  <a:lnTo>
                    <a:pt x="628" y="317"/>
                  </a:lnTo>
                  <a:lnTo>
                    <a:pt x="623" y="316"/>
                  </a:lnTo>
                  <a:lnTo>
                    <a:pt x="618" y="314"/>
                  </a:lnTo>
                  <a:lnTo>
                    <a:pt x="614" y="313"/>
                  </a:lnTo>
                  <a:lnTo>
                    <a:pt x="607" y="311"/>
                  </a:lnTo>
                  <a:lnTo>
                    <a:pt x="601" y="308"/>
                  </a:lnTo>
                  <a:lnTo>
                    <a:pt x="595" y="306"/>
                  </a:lnTo>
                  <a:lnTo>
                    <a:pt x="588" y="305"/>
                  </a:lnTo>
                  <a:lnTo>
                    <a:pt x="580" y="302"/>
                  </a:lnTo>
                  <a:lnTo>
                    <a:pt x="574" y="298"/>
                  </a:lnTo>
                  <a:lnTo>
                    <a:pt x="566" y="295"/>
                  </a:lnTo>
                  <a:lnTo>
                    <a:pt x="558" y="292"/>
                  </a:lnTo>
                  <a:lnTo>
                    <a:pt x="550" y="289"/>
                  </a:lnTo>
                  <a:lnTo>
                    <a:pt x="541" y="286"/>
                  </a:lnTo>
                  <a:lnTo>
                    <a:pt x="533" y="283"/>
                  </a:lnTo>
                  <a:lnTo>
                    <a:pt x="523" y="280"/>
                  </a:lnTo>
                  <a:lnTo>
                    <a:pt x="514" y="276"/>
                  </a:lnTo>
                  <a:lnTo>
                    <a:pt x="505" y="272"/>
                  </a:lnTo>
                  <a:lnTo>
                    <a:pt x="495" y="268"/>
                  </a:lnTo>
                  <a:lnTo>
                    <a:pt x="486" y="264"/>
                  </a:lnTo>
                  <a:lnTo>
                    <a:pt x="474" y="259"/>
                  </a:lnTo>
                  <a:lnTo>
                    <a:pt x="463" y="256"/>
                  </a:lnTo>
                  <a:lnTo>
                    <a:pt x="454" y="251"/>
                  </a:lnTo>
                  <a:lnTo>
                    <a:pt x="444" y="246"/>
                  </a:lnTo>
                  <a:lnTo>
                    <a:pt x="432" y="242"/>
                  </a:lnTo>
                  <a:lnTo>
                    <a:pt x="421" y="237"/>
                  </a:lnTo>
                  <a:lnTo>
                    <a:pt x="410" y="232"/>
                  </a:lnTo>
                  <a:lnTo>
                    <a:pt x="399" y="227"/>
                  </a:lnTo>
                  <a:lnTo>
                    <a:pt x="387" y="221"/>
                  </a:lnTo>
                  <a:lnTo>
                    <a:pt x="376" y="216"/>
                  </a:lnTo>
                  <a:lnTo>
                    <a:pt x="364" y="210"/>
                  </a:lnTo>
                  <a:lnTo>
                    <a:pt x="353" y="205"/>
                  </a:lnTo>
                  <a:lnTo>
                    <a:pt x="340" y="200"/>
                  </a:lnTo>
                  <a:lnTo>
                    <a:pt x="329" y="194"/>
                  </a:lnTo>
                  <a:lnTo>
                    <a:pt x="316" y="188"/>
                  </a:lnTo>
                  <a:lnTo>
                    <a:pt x="305" y="183"/>
                  </a:lnTo>
                  <a:lnTo>
                    <a:pt x="293" y="177"/>
                  </a:lnTo>
                  <a:lnTo>
                    <a:pt x="281" y="170"/>
                  </a:lnTo>
                  <a:lnTo>
                    <a:pt x="269" y="164"/>
                  </a:lnTo>
                  <a:lnTo>
                    <a:pt x="258" y="158"/>
                  </a:lnTo>
                  <a:lnTo>
                    <a:pt x="245" y="151"/>
                  </a:lnTo>
                  <a:lnTo>
                    <a:pt x="234" y="145"/>
                  </a:lnTo>
                  <a:lnTo>
                    <a:pt x="221" y="137"/>
                  </a:lnTo>
                  <a:lnTo>
                    <a:pt x="210" y="131"/>
                  </a:lnTo>
                  <a:lnTo>
                    <a:pt x="198" y="125"/>
                  </a:lnTo>
                  <a:lnTo>
                    <a:pt x="187" y="117"/>
                  </a:lnTo>
                  <a:lnTo>
                    <a:pt x="175" y="110"/>
                  </a:lnTo>
                  <a:lnTo>
                    <a:pt x="164" y="104"/>
                  </a:lnTo>
                  <a:lnTo>
                    <a:pt x="152" y="96"/>
                  </a:lnTo>
                  <a:lnTo>
                    <a:pt x="141" y="90"/>
                  </a:lnTo>
                  <a:lnTo>
                    <a:pt x="130" y="82"/>
                  </a:lnTo>
                  <a:lnTo>
                    <a:pt x="120" y="74"/>
                  </a:lnTo>
                  <a:lnTo>
                    <a:pt x="109" y="68"/>
                  </a:lnTo>
                  <a:lnTo>
                    <a:pt x="98" y="60"/>
                  </a:lnTo>
                  <a:lnTo>
                    <a:pt x="88" y="52"/>
                  </a:lnTo>
                  <a:lnTo>
                    <a:pt x="79" y="45"/>
                  </a:lnTo>
                  <a:lnTo>
                    <a:pt x="90" y="0"/>
                  </a:lnTo>
                  <a:lnTo>
                    <a:pt x="92" y="0"/>
                  </a:lnTo>
                  <a:lnTo>
                    <a:pt x="95" y="3"/>
                  </a:lnTo>
                  <a:lnTo>
                    <a:pt x="98" y="4"/>
                  </a:lnTo>
                  <a:lnTo>
                    <a:pt x="101" y="8"/>
                  </a:lnTo>
                  <a:lnTo>
                    <a:pt x="104" y="11"/>
                  </a:lnTo>
                  <a:lnTo>
                    <a:pt x="109" y="14"/>
                  </a:lnTo>
                  <a:lnTo>
                    <a:pt x="114" y="17"/>
                  </a:lnTo>
                  <a:lnTo>
                    <a:pt x="120" y="22"/>
                  </a:lnTo>
                  <a:lnTo>
                    <a:pt x="126" y="26"/>
                  </a:lnTo>
                  <a:lnTo>
                    <a:pt x="134" y="31"/>
                  </a:lnTo>
                  <a:lnTo>
                    <a:pt x="138" y="34"/>
                  </a:lnTo>
                  <a:lnTo>
                    <a:pt x="141" y="36"/>
                  </a:lnTo>
                  <a:lnTo>
                    <a:pt x="145" y="39"/>
                  </a:lnTo>
                  <a:lnTo>
                    <a:pt x="150" y="42"/>
                  </a:lnTo>
                  <a:lnTo>
                    <a:pt x="155" y="44"/>
                  </a:lnTo>
                  <a:lnTo>
                    <a:pt x="160" y="47"/>
                  </a:lnTo>
                  <a:lnTo>
                    <a:pt x="164" y="50"/>
                  </a:lnTo>
                  <a:lnTo>
                    <a:pt x="171" y="55"/>
                  </a:lnTo>
                  <a:lnTo>
                    <a:pt x="175" y="57"/>
                  </a:lnTo>
                  <a:lnTo>
                    <a:pt x="180" y="61"/>
                  </a:lnTo>
                  <a:lnTo>
                    <a:pt x="185" y="64"/>
                  </a:lnTo>
                  <a:lnTo>
                    <a:pt x="191" y="68"/>
                  </a:lnTo>
                  <a:lnTo>
                    <a:pt x="196" y="71"/>
                  </a:lnTo>
                  <a:lnTo>
                    <a:pt x="202" y="74"/>
                  </a:lnTo>
                  <a:lnTo>
                    <a:pt x="210" y="77"/>
                  </a:lnTo>
                  <a:lnTo>
                    <a:pt x="217" y="82"/>
                  </a:lnTo>
                  <a:lnTo>
                    <a:pt x="223" y="85"/>
                  </a:lnTo>
                  <a:lnTo>
                    <a:pt x="229" y="88"/>
                  </a:lnTo>
                  <a:lnTo>
                    <a:pt x="236" y="93"/>
                  </a:lnTo>
                  <a:lnTo>
                    <a:pt x="244" y="98"/>
                  </a:lnTo>
                  <a:lnTo>
                    <a:pt x="251" y="101"/>
                  </a:lnTo>
                  <a:lnTo>
                    <a:pt x="259" y="106"/>
                  </a:lnTo>
                  <a:lnTo>
                    <a:pt x="266" y="110"/>
                  </a:lnTo>
                  <a:lnTo>
                    <a:pt x="275" y="115"/>
                  </a:lnTo>
                  <a:lnTo>
                    <a:pt x="281" y="118"/>
                  </a:lnTo>
                  <a:lnTo>
                    <a:pt x="291" y="121"/>
                  </a:lnTo>
                  <a:lnTo>
                    <a:pt x="299" y="126"/>
                  </a:lnTo>
                  <a:lnTo>
                    <a:pt x="307" y="131"/>
                  </a:lnTo>
                  <a:lnTo>
                    <a:pt x="316" y="136"/>
                  </a:lnTo>
                  <a:lnTo>
                    <a:pt x="326" y="140"/>
                  </a:lnTo>
                  <a:lnTo>
                    <a:pt x="335" y="145"/>
                  </a:lnTo>
                  <a:lnTo>
                    <a:pt x="345" y="150"/>
                  </a:lnTo>
                  <a:lnTo>
                    <a:pt x="354" y="155"/>
                  </a:lnTo>
                  <a:lnTo>
                    <a:pt x="364" y="159"/>
                  </a:lnTo>
                  <a:lnTo>
                    <a:pt x="373" y="164"/>
                  </a:lnTo>
                  <a:lnTo>
                    <a:pt x="384" y="169"/>
                  </a:lnTo>
                  <a:lnTo>
                    <a:pt x="394" y="174"/>
                  </a:lnTo>
                  <a:lnTo>
                    <a:pt x="405" y="178"/>
                  </a:lnTo>
                  <a:lnTo>
                    <a:pt x="416" y="183"/>
                  </a:lnTo>
                  <a:lnTo>
                    <a:pt x="427" y="189"/>
                  </a:lnTo>
                  <a:lnTo>
                    <a:pt x="438" y="193"/>
                  </a:lnTo>
                  <a:lnTo>
                    <a:pt x="448" y="197"/>
                  </a:lnTo>
                  <a:lnTo>
                    <a:pt x="457" y="202"/>
                  </a:lnTo>
                  <a:lnTo>
                    <a:pt x="468" y="207"/>
                  </a:lnTo>
                  <a:lnTo>
                    <a:pt x="478" y="210"/>
                  </a:lnTo>
                  <a:lnTo>
                    <a:pt x="487" y="215"/>
                  </a:lnTo>
                  <a:lnTo>
                    <a:pt x="497" y="218"/>
                  </a:lnTo>
                  <a:lnTo>
                    <a:pt x="506" y="223"/>
                  </a:lnTo>
                  <a:lnTo>
                    <a:pt x="516" y="226"/>
                  </a:lnTo>
                  <a:lnTo>
                    <a:pt x="523" y="229"/>
                  </a:lnTo>
                  <a:lnTo>
                    <a:pt x="531" y="232"/>
                  </a:lnTo>
                  <a:lnTo>
                    <a:pt x="539" y="235"/>
                  </a:lnTo>
                  <a:lnTo>
                    <a:pt x="547" y="238"/>
                  </a:lnTo>
                  <a:lnTo>
                    <a:pt x="555" y="242"/>
                  </a:lnTo>
                  <a:lnTo>
                    <a:pt x="563" y="245"/>
                  </a:lnTo>
                  <a:lnTo>
                    <a:pt x="571" y="248"/>
                  </a:lnTo>
                  <a:lnTo>
                    <a:pt x="577" y="251"/>
                  </a:lnTo>
                  <a:lnTo>
                    <a:pt x="584" y="253"/>
                  </a:lnTo>
                  <a:lnTo>
                    <a:pt x="590" y="256"/>
                  </a:lnTo>
                  <a:lnTo>
                    <a:pt x="598" y="259"/>
                  </a:lnTo>
                  <a:lnTo>
                    <a:pt x="603" y="261"/>
                  </a:lnTo>
                  <a:lnTo>
                    <a:pt x="609" y="264"/>
                  </a:lnTo>
                  <a:lnTo>
                    <a:pt x="614" y="265"/>
                  </a:lnTo>
                  <a:lnTo>
                    <a:pt x="620" y="268"/>
                  </a:lnTo>
                  <a:lnTo>
                    <a:pt x="625" y="270"/>
                  </a:lnTo>
                  <a:lnTo>
                    <a:pt x="631" y="272"/>
                  </a:lnTo>
                  <a:lnTo>
                    <a:pt x="636" y="273"/>
                  </a:lnTo>
                  <a:lnTo>
                    <a:pt x="641" y="275"/>
                  </a:lnTo>
                  <a:lnTo>
                    <a:pt x="645" y="276"/>
                  </a:lnTo>
                  <a:lnTo>
                    <a:pt x="650" y="278"/>
                  </a:lnTo>
                  <a:lnTo>
                    <a:pt x="655" y="278"/>
                  </a:lnTo>
                  <a:lnTo>
                    <a:pt x="660" y="281"/>
                  </a:lnTo>
                  <a:lnTo>
                    <a:pt x="666" y="283"/>
                  </a:lnTo>
                  <a:lnTo>
                    <a:pt x="674" y="284"/>
                  </a:lnTo>
                  <a:lnTo>
                    <a:pt x="680" y="286"/>
                  </a:lnTo>
                  <a:lnTo>
                    <a:pt x="685" y="289"/>
                  </a:lnTo>
                  <a:lnTo>
                    <a:pt x="690" y="289"/>
                  </a:lnTo>
                  <a:lnTo>
                    <a:pt x="694" y="291"/>
                  </a:lnTo>
                  <a:lnTo>
                    <a:pt x="699" y="292"/>
                  </a:lnTo>
                  <a:lnTo>
                    <a:pt x="704" y="294"/>
                  </a:lnTo>
                  <a:lnTo>
                    <a:pt x="709" y="294"/>
                  </a:lnTo>
                  <a:lnTo>
                    <a:pt x="713" y="295"/>
                  </a:lnTo>
                  <a:lnTo>
                    <a:pt x="715" y="295"/>
                  </a:lnTo>
                  <a:lnTo>
                    <a:pt x="716" y="297"/>
                  </a:lnTo>
                  <a:lnTo>
                    <a:pt x="601" y="533"/>
                  </a:lnTo>
                  <a:lnTo>
                    <a:pt x="599" y="531"/>
                  </a:lnTo>
                  <a:lnTo>
                    <a:pt x="596" y="529"/>
                  </a:lnTo>
                  <a:lnTo>
                    <a:pt x="590" y="528"/>
                  </a:lnTo>
                  <a:lnTo>
                    <a:pt x="582" y="525"/>
                  </a:lnTo>
                  <a:lnTo>
                    <a:pt x="577" y="523"/>
                  </a:lnTo>
                  <a:lnTo>
                    <a:pt x="573" y="521"/>
                  </a:lnTo>
                  <a:lnTo>
                    <a:pt x="566" y="520"/>
                  </a:lnTo>
                  <a:lnTo>
                    <a:pt x="561" y="518"/>
                  </a:lnTo>
                  <a:lnTo>
                    <a:pt x="554" y="515"/>
                  </a:lnTo>
                  <a:lnTo>
                    <a:pt x="547" y="512"/>
                  </a:lnTo>
                  <a:lnTo>
                    <a:pt x="539" y="510"/>
                  </a:lnTo>
                  <a:lnTo>
                    <a:pt x="533" y="507"/>
                  </a:lnTo>
                  <a:lnTo>
                    <a:pt x="525" y="504"/>
                  </a:lnTo>
                  <a:lnTo>
                    <a:pt x="516" y="501"/>
                  </a:lnTo>
                  <a:lnTo>
                    <a:pt x="506" y="496"/>
                  </a:lnTo>
                  <a:lnTo>
                    <a:pt x="498" y="493"/>
                  </a:lnTo>
                  <a:lnTo>
                    <a:pt x="489" y="488"/>
                  </a:lnTo>
                  <a:lnTo>
                    <a:pt x="479" y="485"/>
                  </a:lnTo>
                  <a:lnTo>
                    <a:pt x="470" y="482"/>
                  </a:lnTo>
                  <a:lnTo>
                    <a:pt x="459" y="479"/>
                  </a:lnTo>
                  <a:lnTo>
                    <a:pt x="449" y="474"/>
                  </a:lnTo>
                  <a:lnTo>
                    <a:pt x="438" y="469"/>
                  </a:lnTo>
                  <a:lnTo>
                    <a:pt x="427" y="465"/>
                  </a:lnTo>
                  <a:lnTo>
                    <a:pt x="416" y="460"/>
                  </a:lnTo>
                  <a:lnTo>
                    <a:pt x="405" y="453"/>
                  </a:lnTo>
                  <a:lnTo>
                    <a:pt x="392" y="449"/>
                  </a:lnTo>
                  <a:lnTo>
                    <a:pt x="381" y="444"/>
                  </a:lnTo>
                  <a:lnTo>
                    <a:pt x="370" y="439"/>
                  </a:lnTo>
                  <a:lnTo>
                    <a:pt x="357" y="433"/>
                  </a:lnTo>
                  <a:lnTo>
                    <a:pt x="345" y="428"/>
                  </a:lnTo>
                  <a:lnTo>
                    <a:pt x="334" y="422"/>
                  </a:lnTo>
                  <a:lnTo>
                    <a:pt x="321" y="416"/>
                  </a:lnTo>
                  <a:lnTo>
                    <a:pt x="308" y="409"/>
                  </a:lnTo>
                  <a:lnTo>
                    <a:pt x="296" y="403"/>
                  </a:lnTo>
                  <a:lnTo>
                    <a:pt x="283" y="398"/>
                  </a:lnTo>
                  <a:lnTo>
                    <a:pt x="270" y="392"/>
                  </a:lnTo>
                  <a:lnTo>
                    <a:pt x="258" y="384"/>
                  </a:lnTo>
                  <a:lnTo>
                    <a:pt x="245" y="378"/>
                  </a:lnTo>
                  <a:lnTo>
                    <a:pt x="232" y="370"/>
                  </a:lnTo>
                  <a:lnTo>
                    <a:pt x="221" y="363"/>
                  </a:lnTo>
                  <a:lnTo>
                    <a:pt x="209" y="357"/>
                  </a:lnTo>
                  <a:lnTo>
                    <a:pt x="196" y="351"/>
                  </a:lnTo>
                  <a:lnTo>
                    <a:pt x="183" y="343"/>
                  </a:lnTo>
                  <a:lnTo>
                    <a:pt x="172" y="336"/>
                  </a:lnTo>
                  <a:lnTo>
                    <a:pt x="160" y="329"/>
                  </a:lnTo>
                  <a:lnTo>
                    <a:pt x="147" y="321"/>
                  </a:lnTo>
                  <a:lnTo>
                    <a:pt x="136" y="313"/>
                  </a:lnTo>
                  <a:lnTo>
                    <a:pt x="123" y="306"/>
                  </a:lnTo>
                  <a:lnTo>
                    <a:pt x="112" y="297"/>
                  </a:lnTo>
                  <a:lnTo>
                    <a:pt x="101" y="289"/>
                  </a:lnTo>
                  <a:lnTo>
                    <a:pt x="88" y="281"/>
                  </a:lnTo>
                  <a:lnTo>
                    <a:pt x="79" y="275"/>
                  </a:lnTo>
                  <a:lnTo>
                    <a:pt x="68" y="265"/>
                  </a:lnTo>
                  <a:lnTo>
                    <a:pt x="57" y="257"/>
                  </a:lnTo>
                  <a:lnTo>
                    <a:pt x="46" y="249"/>
                  </a:lnTo>
                  <a:lnTo>
                    <a:pt x="36" y="242"/>
                  </a:lnTo>
                  <a:lnTo>
                    <a:pt x="27" y="232"/>
                  </a:lnTo>
                  <a:lnTo>
                    <a:pt x="17" y="224"/>
                  </a:lnTo>
                  <a:lnTo>
                    <a:pt x="8" y="215"/>
                  </a:lnTo>
                  <a:lnTo>
                    <a:pt x="0" y="207"/>
                  </a:lnTo>
                  <a:lnTo>
                    <a:pt x="20" y="172"/>
                  </a:lnTo>
                  <a:lnTo>
                    <a:pt x="2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rot="21366600">
              <a:off x="5681520" y="3173400"/>
              <a:ext cx="77760" cy="147240"/>
            </a:xfrm>
            <a:custGeom>
              <a:avLst/>
              <a:gdLst/>
              <a:ahLst/>
              <a:rect l="l" t="t" r="r" b="b"/>
              <a:pathLst>
                <a:path w="116" h="218">
                  <a:moveTo>
                    <a:pt x="81" y="0"/>
                  </a:moveTo>
                  <a:lnTo>
                    <a:pt x="0" y="193"/>
                  </a:lnTo>
                  <a:lnTo>
                    <a:pt x="36" y="218"/>
                  </a:lnTo>
                  <a:lnTo>
                    <a:pt x="116" y="33"/>
                  </a:lnTo>
                  <a:lnTo>
                    <a:pt x="81"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rot="21366600">
              <a:off x="5742360" y="3249360"/>
              <a:ext cx="339480" cy="187200"/>
            </a:xfrm>
            <a:custGeom>
              <a:avLst/>
              <a:gdLst/>
              <a:ahLst/>
              <a:rect l="l" t="t" r="r" b="b"/>
              <a:pathLst>
                <a:path w="505" h="279">
                  <a:moveTo>
                    <a:pt x="15" y="0"/>
                  </a:moveTo>
                  <a:lnTo>
                    <a:pt x="18" y="2"/>
                  </a:lnTo>
                  <a:lnTo>
                    <a:pt x="19" y="3"/>
                  </a:lnTo>
                  <a:lnTo>
                    <a:pt x="24" y="5"/>
                  </a:lnTo>
                  <a:lnTo>
                    <a:pt x="29" y="8"/>
                  </a:lnTo>
                  <a:lnTo>
                    <a:pt x="37" y="13"/>
                  </a:lnTo>
                  <a:lnTo>
                    <a:pt x="40" y="16"/>
                  </a:lnTo>
                  <a:lnTo>
                    <a:pt x="45" y="18"/>
                  </a:lnTo>
                  <a:lnTo>
                    <a:pt x="49" y="21"/>
                  </a:lnTo>
                  <a:lnTo>
                    <a:pt x="53" y="24"/>
                  </a:lnTo>
                  <a:lnTo>
                    <a:pt x="57" y="27"/>
                  </a:lnTo>
                  <a:lnTo>
                    <a:pt x="62" y="30"/>
                  </a:lnTo>
                  <a:lnTo>
                    <a:pt x="68" y="34"/>
                  </a:lnTo>
                  <a:lnTo>
                    <a:pt x="73" y="37"/>
                  </a:lnTo>
                  <a:lnTo>
                    <a:pt x="79" y="40"/>
                  </a:lnTo>
                  <a:lnTo>
                    <a:pt x="86" y="45"/>
                  </a:lnTo>
                  <a:lnTo>
                    <a:pt x="92" y="48"/>
                  </a:lnTo>
                  <a:lnTo>
                    <a:pt x="98" y="52"/>
                  </a:lnTo>
                  <a:lnTo>
                    <a:pt x="105" y="56"/>
                  </a:lnTo>
                  <a:lnTo>
                    <a:pt x="113" y="60"/>
                  </a:lnTo>
                  <a:lnTo>
                    <a:pt x="119" y="64"/>
                  </a:lnTo>
                  <a:lnTo>
                    <a:pt x="127" y="68"/>
                  </a:lnTo>
                  <a:lnTo>
                    <a:pt x="133" y="73"/>
                  </a:lnTo>
                  <a:lnTo>
                    <a:pt x="143" y="78"/>
                  </a:lnTo>
                  <a:lnTo>
                    <a:pt x="151" y="83"/>
                  </a:lnTo>
                  <a:lnTo>
                    <a:pt x="160" y="87"/>
                  </a:lnTo>
                  <a:lnTo>
                    <a:pt x="168" y="90"/>
                  </a:lnTo>
                  <a:lnTo>
                    <a:pt x="176" y="95"/>
                  </a:lnTo>
                  <a:lnTo>
                    <a:pt x="184" y="100"/>
                  </a:lnTo>
                  <a:lnTo>
                    <a:pt x="193" y="105"/>
                  </a:lnTo>
                  <a:lnTo>
                    <a:pt x="203" y="109"/>
                  </a:lnTo>
                  <a:lnTo>
                    <a:pt x="211" y="114"/>
                  </a:lnTo>
                  <a:lnTo>
                    <a:pt x="222" y="119"/>
                  </a:lnTo>
                  <a:lnTo>
                    <a:pt x="231" y="125"/>
                  </a:lnTo>
                  <a:lnTo>
                    <a:pt x="241" y="128"/>
                  </a:lnTo>
                  <a:lnTo>
                    <a:pt x="250" y="133"/>
                  </a:lnTo>
                  <a:lnTo>
                    <a:pt x="260" y="139"/>
                  </a:lnTo>
                  <a:lnTo>
                    <a:pt x="271" y="144"/>
                  </a:lnTo>
                  <a:lnTo>
                    <a:pt x="282" y="149"/>
                  </a:lnTo>
                  <a:lnTo>
                    <a:pt x="291" y="154"/>
                  </a:lnTo>
                  <a:lnTo>
                    <a:pt x="303" y="160"/>
                  </a:lnTo>
                  <a:lnTo>
                    <a:pt x="315" y="165"/>
                  </a:lnTo>
                  <a:lnTo>
                    <a:pt x="325" y="170"/>
                  </a:lnTo>
                  <a:lnTo>
                    <a:pt x="336" y="174"/>
                  </a:lnTo>
                  <a:lnTo>
                    <a:pt x="347" y="179"/>
                  </a:lnTo>
                  <a:lnTo>
                    <a:pt x="359" y="184"/>
                  </a:lnTo>
                  <a:lnTo>
                    <a:pt x="371" y="188"/>
                  </a:lnTo>
                  <a:lnTo>
                    <a:pt x="382" y="193"/>
                  </a:lnTo>
                  <a:lnTo>
                    <a:pt x="394" y="198"/>
                  </a:lnTo>
                  <a:lnTo>
                    <a:pt x="405" y="203"/>
                  </a:lnTo>
                  <a:lnTo>
                    <a:pt x="418" y="207"/>
                  </a:lnTo>
                  <a:lnTo>
                    <a:pt x="429" y="211"/>
                  </a:lnTo>
                  <a:lnTo>
                    <a:pt x="442" y="215"/>
                  </a:lnTo>
                  <a:lnTo>
                    <a:pt x="454" y="220"/>
                  </a:lnTo>
                  <a:lnTo>
                    <a:pt x="465" y="225"/>
                  </a:lnTo>
                  <a:lnTo>
                    <a:pt x="478" y="230"/>
                  </a:lnTo>
                  <a:lnTo>
                    <a:pt x="491" y="233"/>
                  </a:lnTo>
                  <a:lnTo>
                    <a:pt x="505" y="238"/>
                  </a:lnTo>
                  <a:lnTo>
                    <a:pt x="483" y="279"/>
                  </a:lnTo>
                  <a:lnTo>
                    <a:pt x="481" y="279"/>
                  </a:lnTo>
                  <a:lnTo>
                    <a:pt x="478" y="277"/>
                  </a:lnTo>
                  <a:lnTo>
                    <a:pt x="475" y="275"/>
                  </a:lnTo>
                  <a:lnTo>
                    <a:pt x="470" y="274"/>
                  </a:lnTo>
                  <a:lnTo>
                    <a:pt x="464" y="272"/>
                  </a:lnTo>
                  <a:lnTo>
                    <a:pt x="456" y="269"/>
                  </a:lnTo>
                  <a:lnTo>
                    <a:pt x="451" y="268"/>
                  </a:lnTo>
                  <a:lnTo>
                    <a:pt x="446" y="266"/>
                  </a:lnTo>
                  <a:lnTo>
                    <a:pt x="442" y="264"/>
                  </a:lnTo>
                  <a:lnTo>
                    <a:pt x="437" y="263"/>
                  </a:lnTo>
                  <a:lnTo>
                    <a:pt x="432" y="261"/>
                  </a:lnTo>
                  <a:lnTo>
                    <a:pt x="426" y="258"/>
                  </a:lnTo>
                  <a:lnTo>
                    <a:pt x="420" y="256"/>
                  </a:lnTo>
                  <a:lnTo>
                    <a:pt x="415" y="253"/>
                  </a:lnTo>
                  <a:lnTo>
                    <a:pt x="407" y="252"/>
                  </a:lnTo>
                  <a:lnTo>
                    <a:pt x="401" y="249"/>
                  </a:lnTo>
                  <a:lnTo>
                    <a:pt x="394" y="247"/>
                  </a:lnTo>
                  <a:lnTo>
                    <a:pt x="388" y="244"/>
                  </a:lnTo>
                  <a:lnTo>
                    <a:pt x="380" y="241"/>
                  </a:lnTo>
                  <a:lnTo>
                    <a:pt x="372" y="238"/>
                  </a:lnTo>
                  <a:lnTo>
                    <a:pt x="364" y="234"/>
                  </a:lnTo>
                  <a:lnTo>
                    <a:pt x="356" y="233"/>
                  </a:lnTo>
                  <a:lnTo>
                    <a:pt x="348" y="228"/>
                  </a:lnTo>
                  <a:lnTo>
                    <a:pt x="340" y="225"/>
                  </a:lnTo>
                  <a:lnTo>
                    <a:pt x="331" y="222"/>
                  </a:lnTo>
                  <a:lnTo>
                    <a:pt x="323" y="219"/>
                  </a:lnTo>
                  <a:lnTo>
                    <a:pt x="315" y="214"/>
                  </a:lnTo>
                  <a:lnTo>
                    <a:pt x="306" y="209"/>
                  </a:lnTo>
                  <a:lnTo>
                    <a:pt x="296" y="206"/>
                  </a:lnTo>
                  <a:lnTo>
                    <a:pt x="287" y="203"/>
                  </a:lnTo>
                  <a:lnTo>
                    <a:pt x="277" y="198"/>
                  </a:lnTo>
                  <a:lnTo>
                    <a:pt x="268" y="193"/>
                  </a:lnTo>
                  <a:lnTo>
                    <a:pt x="258" y="188"/>
                  </a:lnTo>
                  <a:lnTo>
                    <a:pt x="249" y="184"/>
                  </a:lnTo>
                  <a:lnTo>
                    <a:pt x="238" y="179"/>
                  </a:lnTo>
                  <a:lnTo>
                    <a:pt x="228" y="174"/>
                  </a:lnTo>
                  <a:lnTo>
                    <a:pt x="217" y="168"/>
                  </a:lnTo>
                  <a:lnTo>
                    <a:pt x="208" y="165"/>
                  </a:lnTo>
                  <a:lnTo>
                    <a:pt x="198" y="158"/>
                  </a:lnTo>
                  <a:lnTo>
                    <a:pt x="187" y="154"/>
                  </a:lnTo>
                  <a:lnTo>
                    <a:pt x="178" y="147"/>
                  </a:lnTo>
                  <a:lnTo>
                    <a:pt x="168" y="143"/>
                  </a:lnTo>
                  <a:lnTo>
                    <a:pt x="157" y="136"/>
                  </a:lnTo>
                  <a:lnTo>
                    <a:pt x="146" y="130"/>
                  </a:lnTo>
                  <a:lnTo>
                    <a:pt x="135" y="125"/>
                  </a:lnTo>
                  <a:lnTo>
                    <a:pt x="125" y="119"/>
                  </a:lnTo>
                  <a:lnTo>
                    <a:pt x="114" y="113"/>
                  </a:lnTo>
                  <a:lnTo>
                    <a:pt x="105" y="106"/>
                  </a:lnTo>
                  <a:lnTo>
                    <a:pt x="94" y="100"/>
                  </a:lnTo>
                  <a:lnTo>
                    <a:pt x="84" y="94"/>
                  </a:lnTo>
                  <a:lnTo>
                    <a:pt x="72" y="86"/>
                  </a:lnTo>
                  <a:lnTo>
                    <a:pt x="62" y="79"/>
                  </a:lnTo>
                  <a:lnTo>
                    <a:pt x="51" y="73"/>
                  </a:lnTo>
                  <a:lnTo>
                    <a:pt x="42" y="67"/>
                  </a:lnTo>
                  <a:lnTo>
                    <a:pt x="30" y="59"/>
                  </a:lnTo>
                  <a:lnTo>
                    <a:pt x="19" y="51"/>
                  </a:lnTo>
                  <a:lnTo>
                    <a:pt x="10" y="45"/>
                  </a:lnTo>
                  <a:lnTo>
                    <a:pt x="0" y="38"/>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rot="21366600">
              <a:off x="5439960" y="3289680"/>
              <a:ext cx="671400" cy="515520"/>
            </a:xfrm>
            <a:custGeom>
              <a:avLst/>
              <a:gdLst/>
              <a:ahLst/>
              <a:rect l="l" t="t" r="r" b="b"/>
              <a:pathLst>
                <a:path w="997" h="765">
                  <a:moveTo>
                    <a:pt x="399" y="0"/>
                  </a:moveTo>
                  <a:lnTo>
                    <a:pt x="397" y="1"/>
                  </a:lnTo>
                  <a:lnTo>
                    <a:pt x="394" y="8"/>
                  </a:lnTo>
                  <a:lnTo>
                    <a:pt x="391" y="13"/>
                  </a:lnTo>
                  <a:lnTo>
                    <a:pt x="387" y="17"/>
                  </a:lnTo>
                  <a:lnTo>
                    <a:pt x="384" y="24"/>
                  </a:lnTo>
                  <a:lnTo>
                    <a:pt x="380" y="32"/>
                  </a:lnTo>
                  <a:lnTo>
                    <a:pt x="378" y="35"/>
                  </a:lnTo>
                  <a:lnTo>
                    <a:pt x="375" y="39"/>
                  </a:lnTo>
                  <a:lnTo>
                    <a:pt x="372" y="44"/>
                  </a:lnTo>
                  <a:lnTo>
                    <a:pt x="370" y="49"/>
                  </a:lnTo>
                  <a:lnTo>
                    <a:pt x="367" y="52"/>
                  </a:lnTo>
                  <a:lnTo>
                    <a:pt x="364" y="57"/>
                  </a:lnTo>
                  <a:lnTo>
                    <a:pt x="361" y="62"/>
                  </a:lnTo>
                  <a:lnTo>
                    <a:pt x="357" y="66"/>
                  </a:lnTo>
                  <a:lnTo>
                    <a:pt x="353" y="71"/>
                  </a:lnTo>
                  <a:lnTo>
                    <a:pt x="350" y="76"/>
                  </a:lnTo>
                  <a:lnTo>
                    <a:pt x="345" y="82"/>
                  </a:lnTo>
                  <a:lnTo>
                    <a:pt x="343" y="87"/>
                  </a:lnTo>
                  <a:lnTo>
                    <a:pt x="338" y="93"/>
                  </a:lnTo>
                  <a:lnTo>
                    <a:pt x="334" y="98"/>
                  </a:lnTo>
                  <a:lnTo>
                    <a:pt x="329" y="104"/>
                  </a:lnTo>
                  <a:lnTo>
                    <a:pt x="326" y="111"/>
                  </a:lnTo>
                  <a:lnTo>
                    <a:pt x="319" y="115"/>
                  </a:lnTo>
                  <a:lnTo>
                    <a:pt x="315" y="122"/>
                  </a:lnTo>
                  <a:lnTo>
                    <a:pt x="308" y="126"/>
                  </a:lnTo>
                  <a:lnTo>
                    <a:pt x="305" y="133"/>
                  </a:lnTo>
                  <a:lnTo>
                    <a:pt x="299" y="139"/>
                  </a:lnTo>
                  <a:lnTo>
                    <a:pt x="293" y="144"/>
                  </a:lnTo>
                  <a:lnTo>
                    <a:pt x="286" y="150"/>
                  </a:lnTo>
                  <a:lnTo>
                    <a:pt x="281" y="156"/>
                  </a:lnTo>
                  <a:lnTo>
                    <a:pt x="274" y="163"/>
                  </a:lnTo>
                  <a:lnTo>
                    <a:pt x="267" y="169"/>
                  </a:lnTo>
                  <a:lnTo>
                    <a:pt x="263" y="174"/>
                  </a:lnTo>
                  <a:lnTo>
                    <a:pt x="256" y="180"/>
                  </a:lnTo>
                  <a:lnTo>
                    <a:pt x="248" y="185"/>
                  </a:lnTo>
                  <a:lnTo>
                    <a:pt x="242" y="191"/>
                  </a:lnTo>
                  <a:lnTo>
                    <a:pt x="234" y="198"/>
                  </a:lnTo>
                  <a:lnTo>
                    <a:pt x="228" y="204"/>
                  </a:lnTo>
                  <a:lnTo>
                    <a:pt x="220" y="209"/>
                  </a:lnTo>
                  <a:lnTo>
                    <a:pt x="212" y="215"/>
                  </a:lnTo>
                  <a:lnTo>
                    <a:pt x="204" y="220"/>
                  </a:lnTo>
                  <a:lnTo>
                    <a:pt x="196" y="226"/>
                  </a:lnTo>
                  <a:lnTo>
                    <a:pt x="188" y="231"/>
                  </a:lnTo>
                  <a:lnTo>
                    <a:pt x="179" y="237"/>
                  </a:lnTo>
                  <a:lnTo>
                    <a:pt x="171" y="242"/>
                  </a:lnTo>
                  <a:lnTo>
                    <a:pt x="163" y="248"/>
                  </a:lnTo>
                  <a:lnTo>
                    <a:pt x="153" y="253"/>
                  </a:lnTo>
                  <a:lnTo>
                    <a:pt x="144" y="258"/>
                  </a:lnTo>
                  <a:lnTo>
                    <a:pt x="134" y="262"/>
                  </a:lnTo>
                  <a:lnTo>
                    <a:pt x="125" y="266"/>
                  </a:lnTo>
                  <a:lnTo>
                    <a:pt x="115" y="270"/>
                  </a:lnTo>
                  <a:lnTo>
                    <a:pt x="106" y="275"/>
                  </a:lnTo>
                  <a:lnTo>
                    <a:pt x="96" y="280"/>
                  </a:lnTo>
                  <a:lnTo>
                    <a:pt x="87" y="285"/>
                  </a:lnTo>
                  <a:lnTo>
                    <a:pt x="82" y="285"/>
                  </a:lnTo>
                  <a:lnTo>
                    <a:pt x="77" y="286"/>
                  </a:lnTo>
                  <a:lnTo>
                    <a:pt x="73" y="288"/>
                  </a:lnTo>
                  <a:lnTo>
                    <a:pt x="68" y="291"/>
                  </a:lnTo>
                  <a:lnTo>
                    <a:pt x="63" y="292"/>
                  </a:lnTo>
                  <a:lnTo>
                    <a:pt x="57" y="294"/>
                  </a:lnTo>
                  <a:lnTo>
                    <a:pt x="52" y="296"/>
                  </a:lnTo>
                  <a:lnTo>
                    <a:pt x="46" y="299"/>
                  </a:lnTo>
                  <a:lnTo>
                    <a:pt x="39" y="300"/>
                  </a:lnTo>
                  <a:lnTo>
                    <a:pt x="35" y="302"/>
                  </a:lnTo>
                  <a:lnTo>
                    <a:pt x="28" y="302"/>
                  </a:lnTo>
                  <a:lnTo>
                    <a:pt x="22" y="305"/>
                  </a:lnTo>
                  <a:lnTo>
                    <a:pt x="16" y="305"/>
                  </a:lnTo>
                  <a:lnTo>
                    <a:pt x="11" y="307"/>
                  </a:lnTo>
                  <a:lnTo>
                    <a:pt x="5" y="308"/>
                  </a:lnTo>
                  <a:lnTo>
                    <a:pt x="0" y="310"/>
                  </a:lnTo>
                  <a:lnTo>
                    <a:pt x="17" y="386"/>
                  </a:lnTo>
                  <a:lnTo>
                    <a:pt x="98" y="391"/>
                  </a:lnTo>
                  <a:lnTo>
                    <a:pt x="77" y="444"/>
                  </a:lnTo>
                  <a:lnTo>
                    <a:pt x="79" y="444"/>
                  </a:lnTo>
                  <a:lnTo>
                    <a:pt x="82" y="444"/>
                  </a:lnTo>
                  <a:lnTo>
                    <a:pt x="87" y="444"/>
                  </a:lnTo>
                  <a:lnTo>
                    <a:pt x="92" y="444"/>
                  </a:lnTo>
                  <a:lnTo>
                    <a:pt x="100" y="446"/>
                  </a:lnTo>
                  <a:lnTo>
                    <a:pt x="103" y="446"/>
                  </a:lnTo>
                  <a:lnTo>
                    <a:pt x="107" y="446"/>
                  </a:lnTo>
                  <a:lnTo>
                    <a:pt x="112" y="447"/>
                  </a:lnTo>
                  <a:lnTo>
                    <a:pt x="115" y="449"/>
                  </a:lnTo>
                  <a:lnTo>
                    <a:pt x="120" y="449"/>
                  </a:lnTo>
                  <a:lnTo>
                    <a:pt x="125" y="449"/>
                  </a:lnTo>
                  <a:lnTo>
                    <a:pt x="130" y="451"/>
                  </a:lnTo>
                  <a:lnTo>
                    <a:pt x="136" y="452"/>
                  </a:lnTo>
                  <a:lnTo>
                    <a:pt x="142" y="452"/>
                  </a:lnTo>
                  <a:lnTo>
                    <a:pt x="147" y="454"/>
                  </a:lnTo>
                  <a:lnTo>
                    <a:pt x="153" y="455"/>
                  </a:lnTo>
                  <a:lnTo>
                    <a:pt x="161" y="459"/>
                  </a:lnTo>
                  <a:lnTo>
                    <a:pt x="168" y="459"/>
                  </a:lnTo>
                  <a:lnTo>
                    <a:pt x="174" y="460"/>
                  </a:lnTo>
                  <a:lnTo>
                    <a:pt x="182" y="463"/>
                  </a:lnTo>
                  <a:lnTo>
                    <a:pt x="190" y="465"/>
                  </a:lnTo>
                  <a:lnTo>
                    <a:pt x="196" y="466"/>
                  </a:lnTo>
                  <a:lnTo>
                    <a:pt x="204" y="470"/>
                  </a:lnTo>
                  <a:lnTo>
                    <a:pt x="212" y="473"/>
                  </a:lnTo>
                  <a:lnTo>
                    <a:pt x="221" y="476"/>
                  </a:lnTo>
                  <a:lnTo>
                    <a:pt x="193" y="530"/>
                  </a:lnTo>
                  <a:lnTo>
                    <a:pt x="196" y="531"/>
                  </a:lnTo>
                  <a:lnTo>
                    <a:pt x="199" y="533"/>
                  </a:lnTo>
                  <a:lnTo>
                    <a:pt x="206" y="538"/>
                  </a:lnTo>
                  <a:lnTo>
                    <a:pt x="207" y="539"/>
                  </a:lnTo>
                  <a:lnTo>
                    <a:pt x="212" y="541"/>
                  </a:lnTo>
                  <a:lnTo>
                    <a:pt x="217" y="542"/>
                  </a:lnTo>
                  <a:lnTo>
                    <a:pt x="221" y="545"/>
                  </a:lnTo>
                  <a:lnTo>
                    <a:pt x="226" y="547"/>
                  </a:lnTo>
                  <a:lnTo>
                    <a:pt x="232" y="550"/>
                  </a:lnTo>
                  <a:lnTo>
                    <a:pt x="239" y="553"/>
                  </a:lnTo>
                  <a:lnTo>
                    <a:pt x="247" y="557"/>
                  </a:lnTo>
                  <a:lnTo>
                    <a:pt x="255" y="560"/>
                  </a:lnTo>
                  <a:lnTo>
                    <a:pt x="263" y="563"/>
                  </a:lnTo>
                  <a:lnTo>
                    <a:pt x="269" y="564"/>
                  </a:lnTo>
                  <a:lnTo>
                    <a:pt x="278" y="568"/>
                  </a:lnTo>
                  <a:lnTo>
                    <a:pt x="285" y="569"/>
                  </a:lnTo>
                  <a:lnTo>
                    <a:pt x="293" y="572"/>
                  </a:lnTo>
                  <a:lnTo>
                    <a:pt x="300" y="574"/>
                  </a:lnTo>
                  <a:lnTo>
                    <a:pt x="307" y="576"/>
                  </a:lnTo>
                  <a:lnTo>
                    <a:pt x="312" y="577"/>
                  </a:lnTo>
                  <a:lnTo>
                    <a:pt x="318" y="577"/>
                  </a:lnTo>
                  <a:lnTo>
                    <a:pt x="323" y="579"/>
                  </a:lnTo>
                  <a:lnTo>
                    <a:pt x="327" y="580"/>
                  </a:lnTo>
                  <a:lnTo>
                    <a:pt x="334" y="582"/>
                  </a:lnTo>
                  <a:lnTo>
                    <a:pt x="335" y="582"/>
                  </a:lnTo>
                  <a:lnTo>
                    <a:pt x="307" y="632"/>
                  </a:lnTo>
                  <a:lnTo>
                    <a:pt x="389" y="670"/>
                  </a:lnTo>
                  <a:lnTo>
                    <a:pt x="465" y="658"/>
                  </a:lnTo>
                  <a:lnTo>
                    <a:pt x="467" y="664"/>
                  </a:lnTo>
                  <a:lnTo>
                    <a:pt x="470" y="672"/>
                  </a:lnTo>
                  <a:lnTo>
                    <a:pt x="470" y="677"/>
                  </a:lnTo>
                  <a:lnTo>
                    <a:pt x="473" y="681"/>
                  </a:lnTo>
                  <a:lnTo>
                    <a:pt x="473" y="686"/>
                  </a:lnTo>
                  <a:lnTo>
                    <a:pt x="476" y="693"/>
                  </a:lnTo>
                  <a:lnTo>
                    <a:pt x="476" y="699"/>
                  </a:lnTo>
                  <a:lnTo>
                    <a:pt x="478" y="705"/>
                  </a:lnTo>
                  <a:lnTo>
                    <a:pt x="478" y="708"/>
                  </a:lnTo>
                  <a:lnTo>
                    <a:pt x="479" y="712"/>
                  </a:lnTo>
                  <a:lnTo>
                    <a:pt x="479" y="716"/>
                  </a:lnTo>
                  <a:lnTo>
                    <a:pt x="481" y="721"/>
                  </a:lnTo>
                  <a:lnTo>
                    <a:pt x="481" y="726"/>
                  </a:lnTo>
                  <a:lnTo>
                    <a:pt x="481" y="731"/>
                  </a:lnTo>
                  <a:lnTo>
                    <a:pt x="482" y="735"/>
                  </a:lnTo>
                  <a:lnTo>
                    <a:pt x="482" y="742"/>
                  </a:lnTo>
                  <a:lnTo>
                    <a:pt x="482" y="746"/>
                  </a:lnTo>
                  <a:lnTo>
                    <a:pt x="484" y="753"/>
                  </a:lnTo>
                  <a:lnTo>
                    <a:pt x="484" y="757"/>
                  </a:lnTo>
                  <a:lnTo>
                    <a:pt x="486" y="765"/>
                  </a:lnTo>
                  <a:lnTo>
                    <a:pt x="493" y="764"/>
                  </a:lnTo>
                  <a:lnTo>
                    <a:pt x="500" y="762"/>
                  </a:lnTo>
                  <a:lnTo>
                    <a:pt x="508" y="761"/>
                  </a:lnTo>
                  <a:lnTo>
                    <a:pt x="517" y="759"/>
                  </a:lnTo>
                  <a:lnTo>
                    <a:pt x="525" y="757"/>
                  </a:lnTo>
                  <a:lnTo>
                    <a:pt x="533" y="756"/>
                  </a:lnTo>
                  <a:lnTo>
                    <a:pt x="538" y="754"/>
                  </a:lnTo>
                  <a:lnTo>
                    <a:pt x="543" y="753"/>
                  </a:lnTo>
                  <a:lnTo>
                    <a:pt x="547" y="753"/>
                  </a:lnTo>
                  <a:lnTo>
                    <a:pt x="552" y="753"/>
                  </a:lnTo>
                  <a:lnTo>
                    <a:pt x="557" y="749"/>
                  </a:lnTo>
                  <a:lnTo>
                    <a:pt x="561" y="748"/>
                  </a:lnTo>
                  <a:lnTo>
                    <a:pt x="566" y="746"/>
                  </a:lnTo>
                  <a:lnTo>
                    <a:pt x="571" y="746"/>
                  </a:lnTo>
                  <a:lnTo>
                    <a:pt x="574" y="743"/>
                  </a:lnTo>
                  <a:lnTo>
                    <a:pt x="579" y="742"/>
                  </a:lnTo>
                  <a:lnTo>
                    <a:pt x="584" y="740"/>
                  </a:lnTo>
                  <a:lnTo>
                    <a:pt x="590" y="738"/>
                  </a:lnTo>
                  <a:lnTo>
                    <a:pt x="595" y="737"/>
                  </a:lnTo>
                  <a:lnTo>
                    <a:pt x="599" y="734"/>
                  </a:lnTo>
                  <a:lnTo>
                    <a:pt x="606" y="732"/>
                  </a:lnTo>
                  <a:lnTo>
                    <a:pt x="611" y="731"/>
                  </a:lnTo>
                  <a:lnTo>
                    <a:pt x="615" y="727"/>
                  </a:lnTo>
                  <a:lnTo>
                    <a:pt x="620" y="726"/>
                  </a:lnTo>
                  <a:lnTo>
                    <a:pt x="626" y="723"/>
                  </a:lnTo>
                  <a:lnTo>
                    <a:pt x="633" y="721"/>
                  </a:lnTo>
                  <a:lnTo>
                    <a:pt x="637" y="718"/>
                  </a:lnTo>
                  <a:lnTo>
                    <a:pt x="642" y="715"/>
                  </a:lnTo>
                  <a:lnTo>
                    <a:pt x="648" y="712"/>
                  </a:lnTo>
                  <a:lnTo>
                    <a:pt x="653" y="710"/>
                  </a:lnTo>
                  <a:lnTo>
                    <a:pt x="658" y="707"/>
                  </a:lnTo>
                  <a:lnTo>
                    <a:pt x="664" y="704"/>
                  </a:lnTo>
                  <a:lnTo>
                    <a:pt x="671" y="700"/>
                  </a:lnTo>
                  <a:lnTo>
                    <a:pt x="677" y="697"/>
                  </a:lnTo>
                  <a:lnTo>
                    <a:pt x="682" y="694"/>
                  </a:lnTo>
                  <a:lnTo>
                    <a:pt x="688" y="691"/>
                  </a:lnTo>
                  <a:lnTo>
                    <a:pt x="693" y="686"/>
                  </a:lnTo>
                  <a:lnTo>
                    <a:pt x="699" y="683"/>
                  </a:lnTo>
                  <a:lnTo>
                    <a:pt x="705" y="678"/>
                  </a:lnTo>
                  <a:lnTo>
                    <a:pt x="712" y="675"/>
                  </a:lnTo>
                  <a:lnTo>
                    <a:pt x="718" y="670"/>
                  </a:lnTo>
                  <a:lnTo>
                    <a:pt x="724" y="667"/>
                  </a:lnTo>
                  <a:lnTo>
                    <a:pt x="729" y="664"/>
                  </a:lnTo>
                  <a:lnTo>
                    <a:pt x="735" y="659"/>
                  </a:lnTo>
                  <a:lnTo>
                    <a:pt x="742" y="655"/>
                  </a:lnTo>
                  <a:lnTo>
                    <a:pt x="750" y="650"/>
                  </a:lnTo>
                  <a:lnTo>
                    <a:pt x="756" y="645"/>
                  </a:lnTo>
                  <a:lnTo>
                    <a:pt x="762" y="640"/>
                  </a:lnTo>
                  <a:lnTo>
                    <a:pt x="769" y="636"/>
                  </a:lnTo>
                  <a:lnTo>
                    <a:pt x="775" y="631"/>
                  </a:lnTo>
                  <a:lnTo>
                    <a:pt x="781" y="626"/>
                  </a:lnTo>
                  <a:lnTo>
                    <a:pt x="789" y="621"/>
                  </a:lnTo>
                  <a:lnTo>
                    <a:pt x="796" y="615"/>
                  </a:lnTo>
                  <a:lnTo>
                    <a:pt x="804" y="610"/>
                  </a:lnTo>
                  <a:lnTo>
                    <a:pt x="810" y="604"/>
                  </a:lnTo>
                  <a:lnTo>
                    <a:pt x="816" y="599"/>
                  </a:lnTo>
                  <a:lnTo>
                    <a:pt x="824" y="593"/>
                  </a:lnTo>
                  <a:lnTo>
                    <a:pt x="830" y="588"/>
                  </a:lnTo>
                  <a:lnTo>
                    <a:pt x="837" y="582"/>
                  </a:lnTo>
                  <a:lnTo>
                    <a:pt x="841" y="577"/>
                  </a:lnTo>
                  <a:lnTo>
                    <a:pt x="848" y="571"/>
                  </a:lnTo>
                  <a:lnTo>
                    <a:pt x="854" y="564"/>
                  </a:lnTo>
                  <a:lnTo>
                    <a:pt x="860" y="558"/>
                  </a:lnTo>
                  <a:lnTo>
                    <a:pt x="865" y="553"/>
                  </a:lnTo>
                  <a:lnTo>
                    <a:pt x="872" y="547"/>
                  </a:lnTo>
                  <a:lnTo>
                    <a:pt x="876" y="542"/>
                  </a:lnTo>
                  <a:lnTo>
                    <a:pt x="881" y="536"/>
                  </a:lnTo>
                  <a:lnTo>
                    <a:pt x="886" y="531"/>
                  </a:lnTo>
                  <a:lnTo>
                    <a:pt x="891" y="525"/>
                  </a:lnTo>
                  <a:lnTo>
                    <a:pt x="897" y="519"/>
                  </a:lnTo>
                  <a:lnTo>
                    <a:pt x="900" y="514"/>
                  </a:lnTo>
                  <a:lnTo>
                    <a:pt x="905" y="508"/>
                  </a:lnTo>
                  <a:lnTo>
                    <a:pt x="909" y="503"/>
                  </a:lnTo>
                  <a:lnTo>
                    <a:pt x="914" y="498"/>
                  </a:lnTo>
                  <a:lnTo>
                    <a:pt x="917" y="492"/>
                  </a:lnTo>
                  <a:lnTo>
                    <a:pt x="921" y="487"/>
                  </a:lnTo>
                  <a:lnTo>
                    <a:pt x="925" y="481"/>
                  </a:lnTo>
                  <a:lnTo>
                    <a:pt x="928" y="476"/>
                  </a:lnTo>
                  <a:lnTo>
                    <a:pt x="932" y="470"/>
                  </a:lnTo>
                  <a:lnTo>
                    <a:pt x="935" y="465"/>
                  </a:lnTo>
                  <a:lnTo>
                    <a:pt x="938" y="460"/>
                  </a:lnTo>
                  <a:lnTo>
                    <a:pt x="943" y="455"/>
                  </a:lnTo>
                  <a:lnTo>
                    <a:pt x="944" y="449"/>
                  </a:lnTo>
                  <a:lnTo>
                    <a:pt x="947" y="444"/>
                  </a:lnTo>
                  <a:lnTo>
                    <a:pt x="951" y="440"/>
                  </a:lnTo>
                  <a:lnTo>
                    <a:pt x="954" y="435"/>
                  </a:lnTo>
                  <a:lnTo>
                    <a:pt x="957" y="430"/>
                  </a:lnTo>
                  <a:lnTo>
                    <a:pt x="959" y="425"/>
                  </a:lnTo>
                  <a:lnTo>
                    <a:pt x="960" y="421"/>
                  </a:lnTo>
                  <a:lnTo>
                    <a:pt x="963" y="416"/>
                  </a:lnTo>
                  <a:lnTo>
                    <a:pt x="965" y="411"/>
                  </a:lnTo>
                  <a:lnTo>
                    <a:pt x="966" y="406"/>
                  </a:lnTo>
                  <a:lnTo>
                    <a:pt x="968" y="402"/>
                  </a:lnTo>
                  <a:lnTo>
                    <a:pt x="971" y="397"/>
                  </a:lnTo>
                  <a:lnTo>
                    <a:pt x="973" y="392"/>
                  </a:lnTo>
                  <a:lnTo>
                    <a:pt x="974" y="387"/>
                  </a:lnTo>
                  <a:lnTo>
                    <a:pt x="976" y="383"/>
                  </a:lnTo>
                  <a:lnTo>
                    <a:pt x="978" y="379"/>
                  </a:lnTo>
                  <a:lnTo>
                    <a:pt x="981" y="372"/>
                  </a:lnTo>
                  <a:lnTo>
                    <a:pt x="982" y="364"/>
                  </a:lnTo>
                  <a:lnTo>
                    <a:pt x="985" y="356"/>
                  </a:lnTo>
                  <a:lnTo>
                    <a:pt x="987" y="349"/>
                  </a:lnTo>
                  <a:lnTo>
                    <a:pt x="989" y="343"/>
                  </a:lnTo>
                  <a:lnTo>
                    <a:pt x="990" y="337"/>
                  </a:lnTo>
                  <a:lnTo>
                    <a:pt x="992" y="330"/>
                  </a:lnTo>
                  <a:lnTo>
                    <a:pt x="993" y="326"/>
                  </a:lnTo>
                  <a:lnTo>
                    <a:pt x="993" y="321"/>
                  </a:lnTo>
                  <a:lnTo>
                    <a:pt x="993" y="316"/>
                  </a:lnTo>
                  <a:lnTo>
                    <a:pt x="995" y="313"/>
                  </a:lnTo>
                  <a:lnTo>
                    <a:pt x="997" y="310"/>
                  </a:lnTo>
                  <a:lnTo>
                    <a:pt x="952" y="308"/>
                  </a:lnTo>
                  <a:lnTo>
                    <a:pt x="951" y="308"/>
                  </a:lnTo>
                  <a:lnTo>
                    <a:pt x="951" y="311"/>
                  </a:lnTo>
                  <a:lnTo>
                    <a:pt x="949" y="316"/>
                  </a:lnTo>
                  <a:lnTo>
                    <a:pt x="949" y="323"/>
                  </a:lnTo>
                  <a:lnTo>
                    <a:pt x="947" y="326"/>
                  </a:lnTo>
                  <a:lnTo>
                    <a:pt x="946" y="329"/>
                  </a:lnTo>
                  <a:lnTo>
                    <a:pt x="944" y="334"/>
                  </a:lnTo>
                  <a:lnTo>
                    <a:pt x="944" y="338"/>
                  </a:lnTo>
                  <a:lnTo>
                    <a:pt x="941" y="343"/>
                  </a:lnTo>
                  <a:lnTo>
                    <a:pt x="940" y="348"/>
                  </a:lnTo>
                  <a:lnTo>
                    <a:pt x="938" y="354"/>
                  </a:lnTo>
                  <a:lnTo>
                    <a:pt x="936" y="360"/>
                  </a:lnTo>
                  <a:lnTo>
                    <a:pt x="933" y="365"/>
                  </a:lnTo>
                  <a:lnTo>
                    <a:pt x="932" y="372"/>
                  </a:lnTo>
                  <a:lnTo>
                    <a:pt x="928" y="378"/>
                  </a:lnTo>
                  <a:lnTo>
                    <a:pt x="927" y="386"/>
                  </a:lnTo>
                  <a:lnTo>
                    <a:pt x="922" y="392"/>
                  </a:lnTo>
                  <a:lnTo>
                    <a:pt x="919" y="398"/>
                  </a:lnTo>
                  <a:lnTo>
                    <a:pt x="916" y="406"/>
                  </a:lnTo>
                  <a:lnTo>
                    <a:pt x="913" y="414"/>
                  </a:lnTo>
                  <a:lnTo>
                    <a:pt x="908" y="421"/>
                  </a:lnTo>
                  <a:lnTo>
                    <a:pt x="903" y="428"/>
                  </a:lnTo>
                  <a:lnTo>
                    <a:pt x="898" y="436"/>
                  </a:lnTo>
                  <a:lnTo>
                    <a:pt x="894" y="444"/>
                  </a:lnTo>
                  <a:lnTo>
                    <a:pt x="889" y="452"/>
                  </a:lnTo>
                  <a:lnTo>
                    <a:pt x="883" y="460"/>
                  </a:lnTo>
                  <a:lnTo>
                    <a:pt x="878" y="468"/>
                  </a:lnTo>
                  <a:lnTo>
                    <a:pt x="873" y="476"/>
                  </a:lnTo>
                  <a:lnTo>
                    <a:pt x="867" y="482"/>
                  </a:lnTo>
                  <a:lnTo>
                    <a:pt x="862" y="489"/>
                  </a:lnTo>
                  <a:lnTo>
                    <a:pt x="857" y="493"/>
                  </a:lnTo>
                  <a:lnTo>
                    <a:pt x="854" y="500"/>
                  </a:lnTo>
                  <a:lnTo>
                    <a:pt x="849" y="504"/>
                  </a:lnTo>
                  <a:lnTo>
                    <a:pt x="845" y="509"/>
                  </a:lnTo>
                  <a:lnTo>
                    <a:pt x="840" y="515"/>
                  </a:lnTo>
                  <a:lnTo>
                    <a:pt x="835" y="522"/>
                  </a:lnTo>
                  <a:lnTo>
                    <a:pt x="830" y="527"/>
                  </a:lnTo>
                  <a:lnTo>
                    <a:pt x="826" y="531"/>
                  </a:lnTo>
                  <a:lnTo>
                    <a:pt x="819" y="538"/>
                  </a:lnTo>
                  <a:lnTo>
                    <a:pt x="813" y="544"/>
                  </a:lnTo>
                  <a:lnTo>
                    <a:pt x="807" y="549"/>
                  </a:lnTo>
                  <a:lnTo>
                    <a:pt x="800" y="555"/>
                  </a:lnTo>
                  <a:lnTo>
                    <a:pt x="792" y="563"/>
                  </a:lnTo>
                  <a:lnTo>
                    <a:pt x="785" y="571"/>
                  </a:lnTo>
                  <a:lnTo>
                    <a:pt x="777" y="576"/>
                  </a:lnTo>
                  <a:lnTo>
                    <a:pt x="770" y="582"/>
                  </a:lnTo>
                  <a:lnTo>
                    <a:pt x="762" y="587"/>
                  </a:lnTo>
                  <a:lnTo>
                    <a:pt x="756" y="593"/>
                  </a:lnTo>
                  <a:lnTo>
                    <a:pt x="748" y="598"/>
                  </a:lnTo>
                  <a:lnTo>
                    <a:pt x="740" y="604"/>
                  </a:lnTo>
                  <a:lnTo>
                    <a:pt x="732" y="609"/>
                  </a:lnTo>
                  <a:lnTo>
                    <a:pt x="724" y="615"/>
                  </a:lnTo>
                  <a:lnTo>
                    <a:pt x="720" y="618"/>
                  </a:lnTo>
                  <a:lnTo>
                    <a:pt x="717" y="621"/>
                  </a:lnTo>
                  <a:lnTo>
                    <a:pt x="712" y="623"/>
                  </a:lnTo>
                  <a:lnTo>
                    <a:pt x="707" y="626"/>
                  </a:lnTo>
                  <a:lnTo>
                    <a:pt x="699" y="631"/>
                  </a:lnTo>
                  <a:lnTo>
                    <a:pt x="691" y="637"/>
                  </a:lnTo>
                  <a:lnTo>
                    <a:pt x="686" y="640"/>
                  </a:lnTo>
                  <a:lnTo>
                    <a:pt x="682" y="642"/>
                  </a:lnTo>
                  <a:lnTo>
                    <a:pt x="679" y="645"/>
                  </a:lnTo>
                  <a:lnTo>
                    <a:pt x="674" y="648"/>
                  </a:lnTo>
                  <a:lnTo>
                    <a:pt x="669" y="650"/>
                  </a:lnTo>
                  <a:lnTo>
                    <a:pt x="664" y="653"/>
                  </a:lnTo>
                  <a:lnTo>
                    <a:pt x="661" y="656"/>
                  </a:lnTo>
                  <a:lnTo>
                    <a:pt x="656" y="659"/>
                  </a:lnTo>
                  <a:lnTo>
                    <a:pt x="652" y="661"/>
                  </a:lnTo>
                  <a:lnTo>
                    <a:pt x="648" y="663"/>
                  </a:lnTo>
                  <a:lnTo>
                    <a:pt x="644" y="666"/>
                  </a:lnTo>
                  <a:lnTo>
                    <a:pt x="639" y="667"/>
                  </a:lnTo>
                  <a:lnTo>
                    <a:pt x="634" y="670"/>
                  </a:lnTo>
                  <a:lnTo>
                    <a:pt x="630" y="672"/>
                  </a:lnTo>
                  <a:lnTo>
                    <a:pt x="625" y="674"/>
                  </a:lnTo>
                  <a:lnTo>
                    <a:pt x="622" y="677"/>
                  </a:lnTo>
                  <a:lnTo>
                    <a:pt x="617" y="678"/>
                  </a:lnTo>
                  <a:lnTo>
                    <a:pt x="612" y="680"/>
                  </a:lnTo>
                  <a:lnTo>
                    <a:pt x="607" y="681"/>
                  </a:lnTo>
                  <a:lnTo>
                    <a:pt x="604" y="685"/>
                  </a:lnTo>
                  <a:lnTo>
                    <a:pt x="599" y="686"/>
                  </a:lnTo>
                  <a:lnTo>
                    <a:pt x="595" y="688"/>
                  </a:lnTo>
                  <a:lnTo>
                    <a:pt x="590" y="689"/>
                  </a:lnTo>
                  <a:lnTo>
                    <a:pt x="587" y="693"/>
                  </a:lnTo>
                  <a:lnTo>
                    <a:pt x="582" y="693"/>
                  </a:lnTo>
                  <a:lnTo>
                    <a:pt x="577" y="696"/>
                  </a:lnTo>
                  <a:lnTo>
                    <a:pt x="573" y="696"/>
                  </a:lnTo>
                  <a:lnTo>
                    <a:pt x="569" y="699"/>
                  </a:lnTo>
                  <a:lnTo>
                    <a:pt x="561" y="700"/>
                  </a:lnTo>
                  <a:lnTo>
                    <a:pt x="554" y="704"/>
                  </a:lnTo>
                  <a:lnTo>
                    <a:pt x="544" y="705"/>
                  </a:lnTo>
                  <a:lnTo>
                    <a:pt x="538" y="708"/>
                  </a:lnTo>
                  <a:lnTo>
                    <a:pt x="530" y="710"/>
                  </a:lnTo>
                  <a:lnTo>
                    <a:pt x="522" y="710"/>
                  </a:lnTo>
                  <a:lnTo>
                    <a:pt x="522" y="708"/>
                  </a:lnTo>
                  <a:lnTo>
                    <a:pt x="522" y="702"/>
                  </a:lnTo>
                  <a:lnTo>
                    <a:pt x="520" y="697"/>
                  </a:lnTo>
                  <a:lnTo>
                    <a:pt x="520" y="693"/>
                  </a:lnTo>
                  <a:lnTo>
                    <a:pt x="520" y="686"/>
                  </a:lnTo>
                  <a:lnTo>
                    <a:pt x="519" y="680"/>
                  </a:lnTo>
                  <a:lnTo>
                    <a:pt x="517" y="672"/>
                  </a:lnTo>
                  <a:lnTo>
                    <a:pt x="516" y="666"/>
                  </a:lnTo>
                  <a:lnTo>
                    <a:pt x="512" y="658"/>
                  </a:lnTo>
                  <a:lnTo>
                    <a:pt x="511" y="650"/>
                  </a:lnTo>
                  <a:lnTo>
                    <a:pt x="508" y="645"/>
                  </a:lnTo>
                  <a:lnTo>
                    <a:pt x="506" y="640"/>
                  </a:lnTo>
                  <a:lnTo>
                    <a:pt x="505" y="636"/>
                  </a:lnTo>
                  <a:lnTo>
                    <a:pt x="503" y="631"/>
                  </a:lnTo>
                  <a:lnTo>
                    <a:pt x="500" y="628"/>
                  </a:lnTo>
                  <a:lnTo>
                    <a:pt x="498" y="623"/>
                  </a:lnTo>
                  <a:lnTo>
                    <a:pt x="495" y="618"/>
                  </a:lnTo>
                  <a:lnTo>
                    <a:pt x="493" y="615"/>
                  </a:lnTo>
                  <a:lnTo>
                    <a:pt x="392" y="628"/>
                  </a:lnTo>
                  <a:lnTo>
                    <a:pt x="365" y="615"/>
                  </a:lnTo>
                  <a:lnTo>
                    <a:pt x="402" y="547"/>
                  </a:lnTo>
                  <a:lnTo>
                    <a:pt x="400" y="545"/>
                  </a:lnTo>
                  <a:lnTo>
                    <a:pt x="397" y="545"/>
                  </a:lnTo>
                  <a:lnTo>
                    <a:pt x="391" y="544"/>
                  </a:lnTo>
                  <a:lnTo>
                    <a:pt x="384" y="544"/>
                  </a:lnTo>
                  <a:lnTo>
                    <a:pt x="380" y="544"/>
                  </a:lnTo>
                  <a:lnTo>
                    <a:pt x="376" y="544"/>
                  </a:lnTo>
                  <a:lnTo>
                    <a:pt x="372" y="542"/>
                  </a:lnTo>
                  <a:lnTo>
                    <a:pt x="368" y="542"/>
                  </a:lnTo>
                  <a:lnTo>
                    <a:pt x="362" y="541"/>
                  </a:lnTo>
                  <a:lnTo>
                    <a:pt x="357" y="541"/>
                  </a:lnTo>
                  <a:lnTo>
                    <a:pt x="351" y="539"/>
                  </a:lnTo>
                  <a:lnTo>
                    <a:pt x="346" y="539"/>
                  </a:lnTo>
                  <a:lnTo>
                    <a:pt x="340" y="538"/>
                  </a:lnTo>
                  <a:lnTo>
                    <a:pt x="335" y="536"/>
                  </a:lnTo>
                  <a:lnTo>
                    <a:pt x="329" y="534"/>
                  </a:lnTo>
                  <a:lnTo>
                    <a:pt x="323" y="533"/>
                  </a:lnTo>
                  <a:lnTo>
                    <a:pt x="315" y="531"/>
                  </a:lnTo>
                  <a:lnTo>
                    <a:pt x="308" y="530"/>
                  </a:lnTo>
                  <a:lnTo>
                    <a:pt x="302" y="528"/>
                  </a:lnTo>
                  <a:lnTo>
                    <a:pt x="297" y="527"/>
                  </a:lnTo>
                  <a:lnTo>
                    <a:pt x="289" y="525"/>
                  </a:lnTo>
                  <a:lnTo>
                    <a:pt x="283" y="522"/>
                  </a:lnTo>
                  <a:lnTo>
                    <a:pt x="277" y="520"/>
                  </a:lnTo>
                  <a:lnTo>
                    <a:pt x="270" y="519"/>
                  </a:lnTo>
                  <a:lnTo>
                    <a:pt x="266" y="515"/>
                  </a:lnTo>
                  <a:lnTo>
                    <a:pt x="259" y="512"/>
                  </a:lnTo>
                  <a:lnTo>
                    <a:pt x="253" y="511"/>
                  </a:lnTo>
                  <a:lnTo>
                    <a:pt x="248" y="508"/>
                  </a:lnTo>
                  <a:lnTo>
                    <a:pt x="278" y="452"/>
                  </a:lnTo>
                  <a:lnTo>
                    <a:pt x="277" y="451"/>
                  </a:lnTo>
                  <a:lnTo>
                    <a:pt x="275" y="451"/>
                  </a:lnTo>
                  <a:lnTo>
                    <a:pt x="272" y="447"/>
                  </a:lnTo>
                  <a:lnTo>
                    <a:pt x="267" y="446"/>
                  </a:lnTo>
                  <a:lnTo>
                    <a:pt x="263" y="443"/>
                  </a:lnTo>
                  <a:lnTo>
                    <a:pt x="255" y="441"/>
                  </a:lnTo>
                  <a:lnTo>
                    <a:pt x="251" y="438"/>
                  </a:lnTo>
                  <a:lnTo>
                    <a:pt x="247" y="438"/>
                  </a:lnTo>
                  <a:lnTo>
                    <a:pt x="242" y="435"/>
                  </a:lnTo>
                  <a:lnTo>
                    <a:pt x="239" y="435"/>
                  </a:lnTo>
                  <a:lnTo>
                    <a:pt x="232" y="432"/>
                  </a:lnTo>
                  <a:lnTo>
                    <a:pt x="228" y="430"/>
                  </a:lnTo>
                  <a:lnTo>
                    <a:pt x="223" y="428"/>
                  </a:lnTo>
                  <a:lnTo>
                    <a:pt x="217" y="427"/>
                  </a:lnTo>
                  <a:lnTo>
                    <a:pt x="210" y="425"/>
                  </a:lnTo>
                  <a:lnTo>
                    <a:pt x="204" y="424"/>
                  </a:lnTo>
                  <a:lnTo>
                    <a:pt x="198" y="422"/>
                  </a:lnTo>
                  <a:lnTo>
                    <a:pt x="193" y="421"/>
                  </a:lnTo>
                  <a:lnTo>
                    <a:pt x="187" y="419"/>
                  </a:lnTo>
                  <a:lnTo>
                    <a:pt x="179" y="417"/>
                  </a:lnTo>
                  <a:lnTo>
                    <a:pt x="172" y="416"/>
                  </a:lnTo>
                  <a:lnTo>
                    <a:pt x="164" y="414"/>
                  </a:lnTo>
                  <a:lnTo>
                    <a:pt x="157" y="411"/>
                  </a:lnTo>
                  <a:lnTo>
                    <a:pt x="150" y="411"/>
                  </a:lnTo>
                  <a:lnTo>
                    <a:pt x="142" y="409"/>
                  </a:lnTo>
                  <a:lnTo>
                    <a:pt x="136" y="408"/>
                  </a:lnTo>
                  <a:lnTo>
                    <a:pt x="168" y="346"/>
                  </a:lnTo>
                  <a:lnTo>
                    <a:pt x="166" y="346"/>
                  </a:lnTo>
                  <a:lnTo>
                    <a:pt x="163" y="346"/>
                  </a:lnTo>
                  <a:lnTo>
                    <a:pt x="158" y="346"/>
                  </a:lnTo>
                  <a:lnTo>
                    <a:pt x="153" y="346"/>
                  </a:lnTo>
                  <a:lnTo>
                    <a:pt x="147" y="345"/>
                  </a:lnTo>
                  <a:lnTo>
                    <a:pt x="141" y="345"/>
                  </a:lnTo>
                  <a:lnTo>
                    <a:pt x="133" y="345"/>
                  </a:lnTo>
                  <a:lnTo>
                    <a:pt x="125" y="345"/>
                  </a:lnTo>
                  <a:lnTo>
                    <a:pt x="120" y="345"/>
                  </a:lnTo>
                  <a:lnTo>
                    <a:pt x="115" y="345"/>
                  </a:lnTo>
                  <a:lnTo>
                    <a:pt x="112" y="345"/>
                  </a:lnTo>
                  <a:lnTo>
                    <a:pt x="107" y="345"/>
                  </a:lnTo>
                  <a:lnTo>
                    <a:pt x="103" y="345"/>
                  </a:lnTo>
                  <a:lnTo>
                    <a:pt x="98" y="345"/>
                  </a:lnTo>
                  <a:lnTo>
                    <a:pt x="93" y="345"/>
                  </a:lnTo>
                  <a:lnTo>
                    <a:pt x="89" y="345"/>
                  </a:lnTo>
                  <a:lnTo>
                    <a:pt x="84" y="345"/>
                  </a:lnTo>
                  <a:lnTo>
                    <a:pt x="79" y="345"/>
                  </a:lnTo>
                  <a:lnTo>
                    <a:pt x="76" y="345"/>
                  </a:lnTo>
                  <a:lnTo>
                    <a:pt x="73" y="345"/>
                  </a:lnTo>
                  <a:lnTo>
                    <a:pt x="65" y="346"/>
                  </a:lnTo>
                  <a:lnTo>
                    <a:pt x="58" y="346"/>
                  </a:lnTo>
                  <a:lnTo>
                    <a:pt x="58" y="341"/>
                  </a:lnTo>
                  <a:lnTo>
                    <a:pt x="58" y="340"/>
                  </a:lnTo>
                  <a:lnTo>
                    <a:pt x="62" y="340"/>
                  </a:lnTo>
                  <a:lnTo>
                    <a:pt x="68" y="338"/>
                  </a:lnTo>
                  <a:lnTo>
                    <a:pt x="74" y="337"/>
                  </a:lnTo>
                  <a:lnTo>
                    <a:pt x="79" y="335"/>
                  </a:lnTo>
                  <a:lnTo>
                    <a:pt x="84" y="334"/>
                  </a:lnTo>
                  <a:lnTo>
                    <a:pt x="89" y="332"/>
                  </a:lnTo>
                  <a:lnTo>
                    <a:pt x="96" y="330"/>
                  </a:lnTo>
                  <a:lnTo>
                    <a:pt x="101" y="327"/>
                  </a:lnTo>
                  <a:lnTo>
                    <a:pt x="109" y="326"/>
                  </a:lnTo>
                  <a:lnTo>
                    <a:pt x="115" y="323"/>
                  </a:lnTo>
                  <a:lnTo>
                    <a:pt x="123" y="321"/>
                  </a:lnTo>
                  <a:lnTo>
                    <a:pt x="131" y="316"/>
                  </a:lnTo>
                  <a:lnTo>
                    <a:pt x="139" y="313"/>
                  </a:lnTo>
                  <a:lnTo>
                    <a:pt x="144" y="310"/>
                  </a:lnTo>
                  <a:lnTo>
                    <a:pt x="147" y="308"/>
                  </a:lnTo>
                  <a:lnTo>
                    <a:pt x="152" y="305"/>
                  </a:lnTo>
                  <a:lnTo>
                    <a:pt x="157" y="305"/>
                  </a:lnTo>
                  <a:lnTo>
                    <a:pt x="161" y="302"/>
                  </a:lnTo>
                  <a:lnTo>
                    <a:pt x="166" y="299"/>
                  </a:lnTo>
                  <a:lnTo>
                    <a:pt x="171" y="297"/>
                  </a:lnTo>
                  <a:lnTo>
                    <a:pt x="176" y="294"/>
                  </a:lnTo>
                  <a:lnTo>
                    <a:pt x="180" y="291"/>
                  </a:lnTo>
                  <a:lnTo>
                    <a:pt x="185" y="288"/>
                  </a:lnTo>
                  <a:lnTo>
                    <a:pt x="190" y="285"/>
                  </a:lnTo>
                  <a:lnTo>
                    <a:pt x="196" y="283"/>
                  </a:lnTo>
                  <a:lnTo>
                    <a:pt x="201" y="278"/>
                  </a:lnTo>
                  <a:lnTo>
                    <a:pt x="206" y="275"/>
                  </a:lnTo>
                  <a:lnTo>
                    <a:pt x="212" y="272"/>
                  </a:lnTo>
                  <a:lnTo>
                    <a:pt x="217" y="269"/>
                  </a:lnTo>
                  <a:lnTo>
                    <a:pt x="221" y="264"/>
                  </a:lnTo>
                  <a:lnTo>
                    <a:pt x="228" y="261"/>
                  </a:lnTo>
                  <a:lnTo>
                    <a:pt x="232" y="256"/>
                  </a:lnTo>
                  <a:lnTo>
                    <a:pt x="239" y="253"/>
                  </a:lnTo>
                  <a:lnTo>
                    <a:pt x="244" y="248"/>
                  </a:lnTo>
                  <a:lnTo>
                    <a:pt x="250" y="243"/>
                  </a:lnTo>
                  <a:lnTo>
                    <a:pt x="256" y="239"/>
                  </a:lnTo>
                  <a:lnTo>
                    <a:pt x="263" y="236"/>
                  </a:lnTo>
                  <a:lnTo>
                    <a:pt x="267" y="229"/>
                  </a:lnTo>
                  <a:lnTo>
                    <a:pt x="274" y="224"/>
                  </a:lnTo>
                  <a:lnTo>
                    <a:pt x="280" y="220"/>
                  </a:lnTo>
                  <a:lnTo>
                    <a:pt x="286" y="217"/>
                  </a:lnTo>
                  <a:lnTo>
                    <a:pt x="293" y="210"/>
                  </a:lnTo>
                  <a:lnTo>
                    <a:pt x="297" y="204"/>
                  </a:lnTo>
                  <a:lnTo>
                    <a:pt x="302" y="199"/>
                  </a:lnTo>
                  <a:lnTo>
                    <a:pt x="308" y="194"/>
                  </a:lnTo>
                  <a:lnTo>
                    <a:pt x="313" y="188"/>
                  </a:lnTo>
                  <a:lnTo>
                    <a:pt x="319" y="183"/>
                  </a:lnTo>
                  <a:lnTo>
                    <a:pt x="324" y="179"/>
                  </a:lnTo>
                  <a:lnTo>
                    <a:pt x="329" y="174"/>
                  </a:lnTo>
                  <a:lnTo>
                    <a:pt x="334" y="169"/>
                  </a:lnTo>
                  <a:lnTo>
                    <a:pt x="338" y="164"/>
                  </a:lnTo>
                  <a:lnTo>
                    <a:pt x="343" y="160"/>
                  </a:lnTo>
                  <a:lnTo>
                    <a:pt x="346" y="155"/>
                  </a:lnTo>
                  <a:lnTo>
                    <a:pt x="351" y="150"/>
                  </a:lnTo>
                  <a:lnTo>
                    <a:pt x="354" y="145"/>
                  </a:lnTo>
                  <a:lnTo>
                    <a:pt x="359" y="141"/>
                  </a:lnTo>
                  <a:lnTo>
                    <a:pt x="364" y="137"/>
                  </a:lnTo>
                  <a:lnTo>
                    <a:pt x="367" y="133"/>
                  </a:lnTo>
                  <a:lnTo>
                    <a:pt x="370" y="128"/>
                  </a:lnTo>
                  <a:lnTo>
                    <a:pt x="373" y="125"/>
                  </a:lnTo>
                  <a:lnTo>
                    <a:pt x="378" y="120"/>
                  </a:lnTo>
                  <a:lnTo>
                    <a:pt x="383" y="112"/>
                  </a:lnTo>
                  <a:lnTo>
                    <a:pt x="389" y="104"/>
                  </a:lnTo>
                  <a:lnTo>
                    <a:pt x="394" y="98"/>
                  </a:lnTo>
                  <a:lnTo>
                    <a:pt x="399" y="92"/>
                  </a:lnTo>
                  <a:lnTo>
                    <a:pt x="403" y="84"/>
                  </a:lnTo>
                  <a:lnTo>
                    <a:pt x="408" y="79"/>
                  </a:lnTo>
                  <a:lnTo>
                    <a:pt x="411" y="71"/>
                  </a:lnTo>
                  <a:lnTo>
                    <a:pt x="414" y="66"/>
                  </a:lnTo>
                  <a:lnTo>
                    <a:pt x="418" y="60"/>
                  </a:lnTo>
                  <a:lnTo>
                    <a:pt x="421" y="55"/>
                  </a:lnTo>
                  <a:lnTo>
                    <a:pt x="422" y="52"/>
                  </a:lnTo>
                  <a:lnTo>
                    <a:pt x="424" y="47"/>
                  </a:lnTo>
                  <a:lnTo>
                    <a:pt x="425" y="43"/>
                  </a:lnTo>
                  <a:lnTo>
                    <a:pt x="427" y="41"/>
                  </a:lnTo>
                  <a:lnTo>
                    <a:pt x="429" y="35"/>
                  </a:lnTo>
                  <a:lnTo>
                    <a:pt x="432" y="30"/>
                  </a:lnTo>
                  <a:lnTo>
                    <a:pt x="432" y="28"/>
                  </a:lnTo>
                  <a:lnTo>
                    <a:pt x="433" y="28"/>
                  </a:lnTo>
                  <a:lnTo>
                    <a:pt x="399" y="0"/>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rot="21366600">
              <a:off x="5713200" y="2636640"/>
              <a:ext cx="520560" cy="738000"/>
            </a:xfrm>
            <a:custGeom>
              <a:avLst/>
              <a:gdLst/>
              <a:ahLst/>
              <a:rect l="l" t="t" r="r" b="b"/>
              <a:pathLst>
                <a:path w="775" h="1093">
                  <a:moveTo>
                    <a:pt x="43" y="805"/>
                  </a:moveTo>
                  <a:lnTo>
                    <a:pt x="43" y="804"/>
                  </a:lnTo>
                  <a:lnTo>
                    <a:pt x="43" y="801"/>
                  </a:lnTo>
                  <a:lnTo>
                    <a:pt x="43" y="797"/>
                  </a:lnTo>
                  <a:lnTo>
                    <a:pt x="45" y="794"/>
                  </a:lnTo>
                  <a:lnTo>
                    <a:pt x="45" y="786"/>
                  </a:lnTo>
                  <a:lnTo>
                    <a:pt x="46" y="780"/>
                  </a:lnTo>
                  <a:lnTo>
                    <a:pt x="49" y="772"/>
                  </a:lnTo>
                  <a:lnTo>
                    <a:pt x="51" y="766"/>
                  </a:lnTo>
                  <a:lnTo>
                    <a:pt x="52" y="761"/>
                  </a:lnTo>
                  <a:lnTo>
                    <a:pt x="54" y="756"/>
                  </a:lnTo>
                  <a:lnTo>
                    <a:pt x="54" y="753"/>
                  </a:lnTo>
                  <a:lnTo>
                    <a:pt x="57" y="748"/>
                  </a:lnTo>
                  <a:lnTo>
                    <a:pt x="60" y="740"/>
                  </a:lnTo>
                  <a:lnTo>
                    <a:pt x="65" y="733"/>
                  </a:lnTo>
                  <a:lnTo>
                    <a:pt x="70" y="723"/>
                  </a:lnTo>
                  <a:lnTo>
                    <a:pt x="75" y="717"/>
                  </a:lnTo>
                  <a:lnTo>
                    <a:pt x="81" y="710"/>
                  </a:lnTo>
                  <a:lnTo>
                    <a:pt x="87" y="706"/>
                  </a:lnTo>
                  <a:lnTo>
                    <a:pt x="94" y="699"/>
                  </a:lnTo>
                  <a:lnTo>
                    <a:pt x="100" y="696"/>
                  </a:lnTo>
                  <a:lnTo>
                    <a:pt x="106" y="693"/>
                  </a:lnTo>
                  <a:lnTo>
                    <a:pt x="113" y="691"/>
                  </a:lnTo>
                  <a:lnTo>
                    <a:pt x="117" y="688"/>
                  </a:lnTo>
                  <a:lnTo>
                    <a:pt x="124" y="688"/>
                  </a:lnTo>
                  <a:lnTo>
                    <a:pt x="128" y="688"/>
                  </a:lnTo>
                  <a:lnTo>
                    <a:pt x="135" y="688"/>
                  </a:lnTo>
                  <a:lnTo>
                    <a:pt x="141" y="688"/>
                  </a:lnTo>
                  <a:lnTo>
                    <a:pt x="147" y="690"/>
                  </a:lnTo>
                  <a:lnTo>
                    <a:pt x="152" y="693"/>
                  </a:lnTo>
                  <a:lnTo>
                    <a:pt x="158" y="695"/>
                  </a:lnTo>
                  <a:lnTo>
                    <a:pt x="166" y="698"/>
                  </a:lnTo>
                  <a:lnTo>
                    <a:pt x="173" y="699"/>
                  </a:lnTo>
                  <a:lnTo>
                    <a:pt x="176" y="701"/>
                  </a:lnTo>
                  <a:lnTo>
                    <a:pt x="181" y="703"/>
                  </a:lnTo>
                  <a:lnTo>
                    <a:pt x="185" y="704"/>
                  </a:lnTo>
                  <a:lnTo>
                    <a:pt x="190" y="707"/>
                  </a:lnTo>
                  <a:lnTo>
                    <a:pt x="196" y="709"/>
                  </a:lnTo>
                  <a:lnTo>
                    <a:pt x="206" y="714"/>
                  </a:lnTo>
                  <a:lnTo>
                    <a:pt x="209" y="714"/>
                  </a:lnTo>
                  <a:lnTo>
                    <a:pt x="214" y="717"/>
                  </a:lnTo>
                  <a:lnTo>
                    <a:pt x="219" y="717"/>
                  </a:lnTo>
                  <a:lnTo>
                    <a:pt x="223" y="720"/>
                  </a:lnTo>
                  <a:lnTo>
                    <a:pt x="228" y="721"/>
                  </a:lnTo>
                  <a:lnTo>
                    <a:pt x="233" y="723"/>
                  </a:lnTo>
                  <a:lnTo>
                    <a:pt x="238" y="725"/>
                  </a:lnTo>
                  <a:lnTo>
                    <a:pt x="242" y="726"/>
                  </a:lnTo>
                  <a:lnTo>
                    <a:pt x="247" y="728"/>
                  </a:lnTo>
                  <a:lnTo>
                    <a:pt x="252" y="729"/>
                  </a:lnTo>
                  <a:lnTo>
                    <a:pt x="257" y="731"/>
                  </a:lnTo>
                  <a:lnTo>
                    <a:pt x="261" y="733"/>
                  </a:lnTo>
                  <a:lnTo>
                    <a:pt x="264" y="733"/>
                  </a:lnTo>
                  <a:lnTo>
                    <a:pt x="269" y="734"/>
                  </a:lnTo>
                  <a:lnTo>
                    <a:pt x="272" y="734"/>
                  </a:lnTo>
                  <a:lnTo>
                    <a:pt x="277" y="736"/>
                  </a:lnTo>
                  <a:lnTo>
                    <a:pt x="282" y="736"/>
                  </a:lnTo>
                  <a:lnTo>
                    <a:pt x="287" y="736"/>
                  </a:lnTo>
                  <a:lnTo>
                    <a:pt x="291" y="736"/>
                  </a:lnTo>
                  <a:lnTo>
                    <a:pt x="296" y="737"/>
                  </a:lnTo>
                  <a:lnTo>
                    <a:pt x="304" y="736"/>
                  </a:lnTo>
                  <a:lnTo>
                    <a:pt x="310" y="734"/>
                  </a:lnTo>
                  <a:lnTo>
                    <a:pt x="318" y="733"/>
                  </a:lnTo>
                  <a:lnTo>
                    <a:pt x="326" y="729"/>
                  </a:lnTo>
                  <a:lnTo>
                    <a:pt x="332" y="725"/>
                  </a:lnTo>
                  <a:lnTo>
                    <a:pt x="339" y="718"/>
                  </a:lnTo>
                  <a:lnTo>
                    <a:pt x="342" y="714"/>
                  </a:lnTo>
                  <a:lnTo>
                    <a:pt x="344" y="710"/>
                  </a:lnTo>
                  <a:lnTo>
                    <a:pt x="347" y="706"/>
                  </a:lnTo>
                  <a:lnTo>
                    <a:pt x="351" y="701"/>
                  </a:lnTo>
                  <a:lnTo>
                    <a:pt x="355" y="695"/>
                  </a:lnTo>
                  <a:lnTo>
                    <a:pt x="358" y="690"/>
                  </a:lnTo>
                  <a:lnTo>
                    <a:pt x="361" y="684"/>
                  </a:lnTo>
                  <a:lnTo>
                    <a:pt x="364" y="677"/>
                  </a:lnTo>
                  <a:lnTo>
                    <a:pt x="367" y="669"/>
                  </a:lnTo>
                  <a:lnTo>
                    <a:pt x="372" y="663"/>
                  </a:lnTo>
                  <a:lnTo>
                    <a:pt x="375" y="653"/>
                  </a:lnTo>
                  <a:lnTo>
                    <a:pt x="378" y="646"/>
                  </a:lnTo>
                  <a:lnTo>
                    <a:pt x="380" y="641"/>
                  </a:lnTo>
                  <a:lnTo>
                    <a:pt x="381" y="636"/>
                  </a:lnTo>
                  <a:lnTo>
                    <a:pt x="383" y="631"/>
                  </a:lnTo>
                  <a:lnTo>
                    <a:pt x="385" y="628"/>
                  </a:lnTo>
                  <a:lnTo>
                    <a:pt x="386" y="622"/>
                  </a:lnTo>
                  <a:lnTo>
                    <a:pt x="388" y="617"/>
                  </a:lnTo>
                  <a:lnTo>
                    <a:pt x="389" y="611"/>
                  </a:lnTo>
                  <a:lnTo>
                    <a:pt x="393" y="606"/>
                  </a:lnTo>
                  <a:lnTo>
                    <a:pt x="394" y="600"/>
                  </a:lnTo>
                  <a:lnTo>
                    <a:pt x="396" y="595"/>
                  </a:lnTo>
                  <a:lnTo>
                    <a:pt x="397" y="590"/>
                  </a:lnTo>
                  <a:lnTo>
                    <a:pt x="399" y="584"/>
                  </a:lnTo>
                  <a:lnTo>
                    <a:pt x="400" y="578"/>
                  </a:lnTo>
                  <a:lnTo>
                    <a:pt x="402" y="571"/>
                  </a:lnTo>
                  <a:lnTo>
                    <a:pt x="404" y="565"/>
                  </a:lnTo>
                  <a:lnTo>
                    <a:pt x="407" y="559"/>
                  </a:lnTo>
                  <a:lnTo>
                    <a:pt x="408" y="552"/>
                  </a:lnTo>
                  <a:lnTo>
                    <a:pt x="410" y="546"/>
                  </a:lnTo>
                  <a:lnTo>
                    <a:pt x="412" y="538"/>
                  </a:lnTo>
                  <a:lnTo>
                    <a:pt x="413" y="532"/>
                  </a:lnTo>
                  <a:lnTo>
                    <a:pt x="415" y="524"/>
                  </a:lnTo>
                  <a:lnTo>
                    <a:pt x="416" y="516"/>
                  </a:lnTo>
                  <a:lnTo>
                    <a:pt x="418" y="510"/>
                  </a:lnTo>
                  <a:lnTo>
                    <a:pt x="421" y="503"/>
                  </a:lnTo>
                  <a:lnTo>
                    <a:pt x="421" y="494"/>
                  </a:lnTo>
                  <a:lnTo>
                    <a:pt x="423" y="486"/>
                  </a:lnTo>
                  <a:lnTo>
                    <a:pt x="424" y="478"/>
                  </a:lnTo>
                  <a:lnTo>
                    <a:pt x="427" y="470"/>
                  </a:lnTo>
                  <a:lnTo>
                    <a:pt x="429" y="462"/>
                  </a:lnTo>
                  <a:lnTo>
                    <a:pt x="431" y="454"/>
                  </a:lnTo>
                  <a:lnTo>
                    <a:pt x="432" y="445"/>
                  </a:lnTo>
                  <a:lnTo>
                    <a:pt x="435" y="437"/>
                  </a:lnTo>
                  <a:lnTo>
                    <a:pt x="437" y="427"/>
                  </a:lnTo>
                  <a:lnTo>
                    <a:pt x="438" y="419"/>
                  </a:lnTo>
                  <a:lnTo>
                    <a:pt x="440" y="410"/>
                  </a:lnTo>
                  <a:lnTo>
                    <a:pt x="442" y="402"/>
                  </a:lnTo>
                  <a:lnTo>
                    <a:pt x="445" y="393"/>
                  </a:lnTo>
                  <a:lnTo>
                    <a:pt x="446" y="385"/>
                  </a:lnTo>
                  <a:lnTo>
                    <a:pt x="449" y="377"/>
                  </a:lnTo>
                  <a:lnTo>
                    <a:pt x="451" y="369"/>
                  </a:lnTo>
                  <a:lnTo>
                    <a:pt x="454" y="359"/>
                  </a:lnTo>
                  <a:lnTo>
                    <a:pt x="456" y="351"/>
                  </a:lnTo>
                  <a:lnTo>
                    <a:pt x="459" y="344"/>
                  </a:lnTo>
                  <a:lnTo>
                    <a:pt x="461" y="336"/>
                  </a:lnTo>
                  <a:lnTo>
                    <a:pt x="462" y="328"/>
                  </a:lnTo>
                  <a:lnTo>
                    <a:pt x="465" y="320"/>
                  </a:lnTo>
                  <a:lnTo>
                    <a:pt x="468" y="313"/>
                  </a:lnTo>
                  <a:lnTo>
                    <a:pt x="472" y="307"/>
                  </a:lnTo>
                  <a:lnTo>
                    <a:pt x="475" y="299"/>
                  </a:lnTo>
                  <a:lnTo>
                    <a:pt x="478" y="291"/>
                  </a:lnTo>
                  <a:lnTo>
                    <a:pt x="481" y="283"/>
                  </a:lnTo>
                  <a:lnTo>
                    <a:pt x="484" y="277"/>
                  </a:lnTo>
                  <a:lnTo>
                    <a:pt x="486" y="269"/>
                  </a:lnTo>
                  <a:lnTo>
                    <a:pt x="489" y="263"/>
                  </a:lnTo>
                  <a:lnTo>
                    <a:pt x="492" y="257"/>
                  </a:lnTo>
                  <a:lnTo>
                    <a:pt x="497" y="250"/>
                  </a:lnTo>
                  <a:lnTo>
                    <a:pt x="499" y="244"/>
                  </a:lnTo>
                  <a:lnTo>
                    <a:pt x="502" y="236"/>
                  </a:lnTo>
                  <a:lnTo>
                    <a:pt x="505" y="230"/>
                  </a:lnTo>
                  <a:lnTo>
                    <a:pt x="510" y="225"/>
                  </a:lnTo>
                  <a:lnTo>
                    <a:pt x="513" y="219"/>
                  </a:lnTo>
                  <a:lnTo>
                    <a:pt x="516" y="212"/>
                  </a:lnTo>
                  <a:lnTo>
                    <a:pt x="519" y="206"/>
                  </a:lnTo>
                  <a:lnTo>
                    <a:pt x="524" y="201"/>
                  </a:lnTo>
                  <a:lnTo>
                    <a:pt x="527" y="195"/>
                  </a:lnTo>
                  <a:lnTo>
                    <a:pt x="530" y="190"/>
                  </a:lnTo>
                  <a:lnTo>
                    <a:pt x="533" y="184"/>
                  </a:lnTo>
                  <a:lnTo>
                    <a:pt x="537" y="179"/>
                  </a:lnTo>
                  <a:lnTo>
                    <a:pt x="540" y="173"/>
                  </a:lnTo>
                  <a:lnTo>
                    <a:pt x="544" y="168"/>
                  </a:lnTo>
                  <a:lnTo>
                    <a:pt x="548" y="163"/>
                  </a:lnTo>
                  <a:lnTo>
                    <a:pt x="551" y="158"/>
                  </a:lnTo>
                  <a:lnTo>
                    <a:pt x="554" y="152"/>
                  </a:lnTo>
                  <a:lnTo>
                    <a:pt x="559" y="147"/>
                  </a:lnTo>
                  <a:lnTo>
                    <a:pt x="562" y="143"/>
                  </a:lnTo>
                  <a:lnTo>
                    <a:pt x="565" y="140"/>
                  </a:lnTo>
                  <a:lnTo>
                    <a:pt x="568" y="135"/>
                  </a:lnTo>
                  <a:lnTo>
                    <a:pt x="571" y="130"/>
                  </a:lnTo>
                  <a:lnTo>
                    <a:pt x="576" y="127"/>
                  </a:lnTo>
                  <a:lnTo>
                    <a:pt x="579" y="124"/>
                  </a:lnTo>
                  <a:lnTo>
                    <a:pt x="587" y="114"/>
                  </a:lnTo>
                  <a:lnTo>
                    <a:pt x="593" y="108"/>
                  </a:lnTo>
                  <a:lnTo>
                    <a:pt x="601" y="100"/>
                  </a:lnTo>
                  <a:lnTo>
                    <a:pt x="608" y="95"/>
                  </a:lnTo>
                  <a:lnTo>
                    <a:pt x="614" y="87"/>
                  </a:lnTo>
                  <a:lnTo>
                    <a:pt x="622" y="83"/>
                  </a:lnTo>
                  <a:lnTo>
                    <a:pt x="628" y="78"/>
                  </a:lnTo>
                  <a:lnTo>
                    <a:pt x="636" y="73"/>
                  </a:lnTo>
                  <a:lnTo>
                    <a:pt x="641" y="68"/>
                  </a:lnTo>
                  <a:lnTo>
                    <a:pt x="647" y="65"/>
                  </a:lnTo>
                  <a:lnTo>
                    <a:pt x="652" y="62"/>
                  </a:lnTo>
                  <a:lnTo>
                    <a:pt x="658" y="59"/>
                  </a:lnTo>
                  <a:lnTo>
                    <a:pt x="663" y="57"/>
                  </a:lnTo>
                  <a:lnTo>
                    <a:pt x="668" y="54"/>
                  </a:lnTo>
                  <a:lnTo>
                    <a:pt x="673" y="53"/>
                  </a:lnTo>
                  <a:lnTo>
                    <a:pt x="677" y="51"/>
                  </a:lnTo>
                  <a:lnTo>
                    <a:pt x="685" y="49"/>
                  </a:lnTo>
                  <a:lnTo>
                    <a:pt x="692" y="48"/>
                  </a:lnTo>
                  <a:lnTo>
                    <a:pt x="698" y="48"/>
                  </a:lnTo>
                  <a:lnTo>
                    <a:pt x="704" y="51"/>
                  </a:lnTo>
                  <a:lnTo>
                    <a:pt x="707" y="53"/>
                  </a:lnTo>
                  <a:lnTo>
                    <a:pt x="712" y="56"/>
                  </a:lnTo>
                  <a:lnTo>
                    <a:pt x="715" y="60"/>
                  </a:lnTo>
                  <a:lnTo>
                    <a:pt x="718" y="64"/>
                  </a:lnTo>
                  <a:lnTo>
                    <a:pt x="720" y="68"/>
                  </a:lnTo>
                  <a:lnTo>
                    <a:pt x="723" y="75"/>
                  </a:lnTo>
                  <a:lnTo>
                    <a:pt x="725" y="81"/>
                  </a:lnTo>
                  <a:lnTo>
                    <a:pt x="726" y="89"/>
                  </a:lnTo>
                  <a:lnTo>
                    <a:pt x="726" y="90"/>
                  </a:lnTo>
                  <a:lnTo>
                    <a:pt x="726" y="95"/>
                  </a:lnTo>
                  <a:lnTo>
                    <a:pt x="726" y="100"/>
                  </a:lnTo>
                  <a:lnTo>
                    <a:pt x="728" y="105"/>
                  </a:lnTo>
                  <a:lnTo>
                    <a:pt x="728" y="109"/>
                  </a:lnTo>
                  <a:lnTo>
                    <a:pt x="728" y="116"/>
                  </a:lnTo>
                  <a:lnTo>
                    <a:pt x="728" y="122"/>
                  </a:lnTo>
                  <a:lnTo>
                    <a:pt x="728" y="130"/>
                  </a:lnTo>
                  <a:lnTo>
                    <a:pt x="728" y="138"/>
                  </a:lnTo>
                  <a:lnTo>
                    <a:pt x="728" y="144"/>
                  </a:lnTo>
                  <a:lnTo>
                    <a:pt x="726" y="149"/>
                  </a:lnTo>
                  <a:lnTo>
                    <a:pt x="726" y="154"/>
                  </a:lnTo>
                  <a:lnTo>
                    <a:pt x="726" y="158"/>
                  </a:lnTo>
                  <a:lnTo>
                    <a:pt x="726" y="163"/>
                  </a:lnTo>
                  <a:lnTo>
                    <a:pt x="726" y="168"/>
                  </a:lnTo>
                  <a:lnTo>
                    <a:pt x="726" y="173"/>
                  </a:lnTo>
                  <a:lnTo>
                    <a:pt x="725" y="177"/>
                  </a:lnTo>
                  <a:lnTo>
                    <a:pt x="725" y="182"/>
                  </a:lnTo>
                  <a:lnTo>
                    <a:pt x="725" y="185"/>
                  </a:lnTo>
                  <a:lnTo>
                    <a:pt x="723" y="192"/>
                  </a:lnTo>
                  <a:lnTo>
                    <a:pt x="723" y="196"/>
                  </a:lnTo>
                  <a:lnTo>
                    <a:pt x="723" y="203"/>
                  </a:lnTo>
                  <a:lnTo>
                    <a:pt x="722" y="208"/>
                  </a:lnTo>
                  <a:lnTo>
                    <a:pt x="720" y="214"/>
                  </a:lnTo>
                  <a:lnTo>
                    <a:pt x="718" y="219"/>
                  </a:lnTo>
                  <a:lnTo>
                    <a:pt x="718" y="225"/>
                  </a:lnTo>
                  <a:lnTo>
                    <a:pt x="717" y="230"/>
                  </a:lnTo>
                  <a:lnTo>
                    <a:pt x="715" y="236"/>
                  </a:lnTo>
                  <a:lnTo>
                    <a:pt x="714" y="242"/>
                  </a:lnTo>
                  <a:lnTo>
                    <a:pt x="712" y="249"/>
                  </a:lnTo>
                  <a:lnTo>
                    <a:pt x="711" y="255"/>
                  </a:lnTo>
                  <a:lnTo>
                    <a:pt x="709" y="261"/>
                  </a:lnTo>
                  <a:lnTo>
                    <a:pt x="707" y="266"/>
                  </a:lnTo>
                  <a:lnTo>
                    <a:pt x="706" y="272"/>
                  </a:lnTo>
                  <a:lnTo>
                    <a:pt x="703" y="279"/>
                  </a:lnTo>
                  <a:lnTo>
                    <a:pt x="701" y="285"/>
                  </a:lnTo>
                  <a:lnTo>
                    <a:pt x="699" y="293"/>
                  </a:lnTo>
                  <a:lnTo>
                    <a:pt x="698" y="299"/>
                  </a:lnTo>
                  <a:lnTo>
                    <a:pt x="695" y="306"/>
                  </a:lnTo>
                  <a:lnTo>
                    <a:pt x="692" y="312"/>
                  </a:lnTo>
                  <a:lnTo>
                    <a:pt x="688" y="318"/>
                  </a:lnTo>
                  <a:lnTo>
                    <a:pt x="687" y="326"/>
                  </a:lnTo>
                  <a:lnTo>
                    <a:pt x="684" y="332"/>
                  </a:lnTo>
                  <a:lnTo>
                    <a:pt x="680" y="340"/>
                  </a:lnTo>
                  <a:lnTo>
                    <a:pt x="677" y="347"/>
                  </a:lnTo>
                  <a:lnTo>
                    <a:pt x="676" y="355"/>
                  </a:lnTo>
                  <a:lnTo>
                    <a:pt x="671" y="361"/>
                  </a:lnTo>
                  <a:lnTo>
                    <a:pt x="668" y="369"/>
                  </a:lnTo>
                  <a:lnTo>
                    <a:pt x="665" y="375"/>
                  </a:lnTo>
                  <a:lnTo>
                    <a:pt x="661" y="383"/>
                  </a:lnTo>
                  <a:lnTo>
                    <a:pt x="657" y="389"/>
                  </a:lnTo>
                  <a:lnTo>
                    <a:pt x="654" y="397"/>
                  </a:lnTo>
                  <a:lnTo>
                    <a:pt x="649" y="405"/>
                  </a:lnTo>
                  <a:lnTo>
                    <a:pt x="646" y="413"/>
                  </a:lnTo>
                  <a:lnTo>
                    <a:pt x="641" y="419"/>
                  </a:lnTo>
                  <a:lnTo>
                    <a:pt x="638" y="426"/>
                  </a:lnTo>
                  <a:lnTo>
                    <a:pt x="635" y="430"/>
                  </a:lnTo>
                  <a:lnTo>
                    <a:pt x="631" y="437"/>
                  </a:lnTo>
                  <a:lnTo>
                    <a:pt x="627" y="442"/>
                  </a:lnTo>
                  <a:lnTo>
                    <a:pt x="624" y="448"/>
                  </a:lnTo>
                  <a:lnTo>
                    <a:pt x="619" y="454"/>
                  </a:lnTo>
                  <a:lnTo>
                    <a:pt x="616" y="461"/>
                  </a:lnTo>
                  <a:lnTo>
                    <a:pt x="612" y="465"/>
                  </a:lnTo>
                  <a:lnTo>
                    <a:pt x="609" y="470"/>
                  </a:lnTo>
                  <a:lnTo>
                    <a:pt x="605" y="476"/>
                  </a:lnTo>
                  <a:lnTo>
                    <a:pt x="601" y="483"/>
                  </a:lnTo>
                  <a:lnTo>
                    <a:pt x="598" y="487"/>
                  </a:lnTo>
                  <a:lnTo>
                    <a:pt x="595" y="494"/>
                  </a:lnTo>
                  <a:lnTo>
                    <a:pt x="590" y="498"/>
                  </a:lnTo>
                  <a:lnTo>
                    <a:pt x="587" y="505"/>
                  </a:lnTo>
                  <a:lnTo>
                    <a:pt x="584" y="510"/>
                  </a:lnTo>
                  <a:lnTo>
                    <a:pt x="581" y="514"/>
                  </a:lnTo>
                  <a:lnTo>
                    <a:pt x="576" y="519"/>
                  </a:lnTo>
                  <a:lnTo>
                    <a:pt x="574" y="525"/>
                  </a:lnTo>
                  <a:lnTo>
                    <a:pt x="570" y="530"/>
                  </a:lnTo>
                  <a:lnTo>
                    <a:pt x="567" y="535"/>
                  </a:lnTo>
                  <a:lnTo>
                    <a:pt x="563" y="541"/>
                  </a:lnTo>
                  <a:lnTo>
                    <a:pt x="560" y="546"/>
                  </a:lnTo>
                  <a:lnTo>
                    <a:pt x="555" y="551"/>
                  </a:lnTo>
                  <a:lnTo>
                    <a:pt x="552" y="555"/>
                  </a:lnTo>
                  <a:lnTo>
                    <a:pt x="549" y="560"/>
                  </a:lnTo>
                  <a:lnTo>
                    <a:pt x="546" y="565"/>
                  </a:lnTo>
                  <a:lnTo>
                    <a:pt x="543" y="570"/>
                  </a:lnTo>
                  <a:lnTo>
                    <a:pt x="540" y="574"/>
                  </a:lnTo>
                  <a:lnTo>
                    <a:pt x="537" y="579"/>
                  </a:lnTo>
                  <a:lnTo>
                    <a:pt x="533" y="584"/>
                  </a:lnTo>
                  <a:lnTo>
                    <a:pt x="527" y="592"/>
                  </a:lnTo>
                  <a:lnTo>
                    <a:pt x="521" y="600"/>
                  </a:lnTo>
                  <a:lnTo>
                    <a:pt x="514" y="608"/>
                  </a:lnTo>
                  <a:lnTo>
                    <a:pt x="510" y="617"/>
                  </a:lnTo>
                  <a:lnTo>
                    <a:pt x="503" y="623"/>
                  </a:lnTo>
                  <a:lnTo>
                    <a:pt x="499" y="631"/>
                  </a:lnTo>
                  <a:lnTo>
                    <a:pt x="494" y="638"/>
                  </a:lnTo>
                  <a:lnTo>
                    <a:pt x="491" y="646"/>
                  </a:lnTo>
                  <a:lnTo>
                    <a:pt x="486" y="652"/>
                  </a:lnTo>
                  <a:lnTo>
                    <a:pt x="481" y="658"/>
                  </a:lnTo>
                  <a:lnTo>
                    <a:pt x="476" y="665"/>
                  </a:lnTo>
                  <a:lnTo>
                    <a:pt x="473" y="671"/>
                  </a:lnTo>
                  <a:lnTo>
                    <a:pt x="470" y="676"/>
                  </a:lnTo>
                  <a:lnTo>
                    <a:pt x="468" y="682"/>
                  </a:lnTo>
                  <a:lnTo>
                    <a:pt x="465" y="687"/>
                  </a:lnTo>
                  <a:lnTo>
                    <a:pt x="464" y="691"/>
                  </a:lnTo>
                  <a:lnTo>
                    <a:pt x="461" y="698"/>
                  </a:lnTo>
                  <a:lnTo>
                    <a:pt x="459" y="704"/>
                  </a:lnTo>
                  <a:lnTo>
                    <a:pt x="456" y="710"/>
                  </a:lnTo>
                  <a:lnTo>
                    <a:pt x="453" y="717"/>
                  </a:lnTo>
                  <a:lnTo>
                    <a:pt x="449" y="725"/>
                  </a:lnTo>
                  <a:lnTo>
                    <a:pt x="448" y="731"/>
                  </a:lnTo>
                  <a:lnTo>
                    <a:pt x="445" y="739"/>
                  </a:lnTo>
                  <a:lnTo>
                    <a:pt x="443" y="747"/>
                  </a:lnTo>
                  <a:lnTo>
                    <a:pt x="442" y="753"/>
                  </a:lnTo>
                  <a:lnTo>
                    <a:pt x="442" y="759"/>
                  </a:lnTo>
                  <a:lnTo>
                    <a:pt x="440" y="767"/>
                  </a:lnTo>
                  <a:lnTo>
                    <a:pt x="442" y="774"/>
                  </a:lnTo>
                  <a:lnTo>
                    <a:pt x="442" y="782"/>
                  </a:lnTo>
                  <a:lnTo>
                    <a:pt x="443" y="788"/>
                  </a:lnTo>
                  <a:lnTo>
                    <a:pt x="446" y="796"/>
                  </a:lnTo>
                  <a:lnTo>
                    <a:pt x="449" y="802"/>
                  </a:lnTo>
                  <a:lnTo>
                    <a:pt x="453" y="807"/>
                  </a:lnTo>
                  <a:lnTo>
                    <a:pt x="456" y="813"/>
                  </a:lnTo>
                  <a:lnTo>
                    <a:pt x="461" y="818"/>
                  </a:lnTo>
                  <a:lnTo>
                    <a:pt x="468" y="823"/>
                  </a:lnTo>
                  <a:lnTo>
                    <a:pt x="473" y="827"/>
                  </a:lnTo>
                  <a:lnTo>
                    <a:pt x="481" y="832"/>
                  </a:lnTo>
                  <a:lnTo>
                    <a:pt x="489" y="837"/>
                  </a:lnTo>
                  <a:lnTo>
                    <a:pt x="497" y="842"/>
                  </a:lnTo>
                  <a:lnTo>
                    <a:pt x="503" y="845"/>
                  </a:lnTo>
                  <a:lnTo>
                    <a:pt x="510" y="848"/>
                  </a:lnTo>
                  <a:lnTo>
                    <a:pt x="516" y="851"/>
                  </a:lnTo>
                  <a:lnTo>
                    <a:pt x="522" y="854"/>
                  </a:lnTo>
                  <a:lnTo>
                    <a:pt x="529" y="857"/>
                  </a:lnTo>
                  <a:lnTo>
                    <a:pt x="533" y="859"/>
                  </a:lnTo>
                  <a:lnTo>
                    <a:pt x="538" y="862"/>
                  </a:lnTo>
                  <a:lnTo>
                    <a:pt x="543" y="865"/>
                  </a:lnTo>
                  <a:lnTo>
                    <a:pt x="548" y="867"/>
                  </a:lnTo>
                  <a:lnTo>
                    <a:pt x="552" y="869"/>
                  </a:lnTo>
                  <a:lnTo>
                    <a:pt x="555" y="870"/>
                  </a:lnTo>
                  <a:lnTo>
                    <a:pt x="560" y="873"/>
                  </a:lnTo>
                  <a:lnTo>
                    <a:pt x="567" y="876"/>
                  </a:lnTo>
                  <a:lnTo>
                    <a:pt x="574" y="880"/>
                  </a:lnTo>
                  <a:lnTo>
                    <a:pt x="579" y="883"/>
                  </a:lnTo>
                  <a:lnTo>
                    <a:pt x="584" y="886"/>
                  </a:lnTo>
                  <a:lnTo>
                    <a:pt x="590" y="889"/>
                  </a:lnTo>
                  <a:lnTo>
                    <a:pt x="595" y="894"/>
                  </a:lnTo>
                  <a:lnTo>
                    <a:pt x="600" y="897"/>
                  </a:lnTo>
                  <a:lnTo>
                    <a:pt x="605" y="902"/>
                  </a:lnTo>
                  <a:lnTo>
                    <a:pt x="609" y="907"/>
                  </a:lnTo>
                  <a:lnTo>
                    <a:pt x="616" y="913"/>
                  </a:lnTo>
                  <a:lnTo>
                    <a:pt x="619" y="916"/>
                  </a:lnTo>
                  <a:lnTo>
                    <a:pt x="622" y="921"/>
                  </a:lnTo>
                  <a:lnTo>
                    <a:pt x="625" y="929"/>
                  </a:lnTo>
                  <a:lnTo>
                    <a:pt x="630" y="937"/>
                  </a:lnTo>
                  <a:lnTo>
                    <a:pt x="630" y="940"/>
                  </a:lnTo>
                  <a:lnTo>
                    <a:pt x="631" y="944"/>
                  </a:lnTo>
                  <a:lnTo>
                    <a:pt x="631" y="949"/>
                  </a:lnTo>
                  <a:lnTo>
                    <a:pt x="633" y="954"/>
                  </a:lnTo>
                  <a:lnTo>
                    <a:pt x="633" y="959"/>
                  </a:lnTo>
                  <a:lnTo>
                    <a:pt x="633" y="963"/>
                  </a:lnTo>
                  <a:lnTo>
                    <a:pt x="633" y="967"/>
                  </a:lnTo>
                  <a:lnTo>
                    <a:pt x="633" y="973"/>
                  </a:lnTo>
                  <a:lnTo>
                    <a:pt x="630" y="979"/>
                  </a:lnTo>
                  <a:lnTo>
                    <a:pt x="628" y="987"/>
                  </a:lnTo>
                  <a:lnTo>
                    <a:pt x="627" y="993"/>
                  </a:lnTo>
                  <a:lnTo>
                    <a:pt x="625" y="1000"/>
                  </a:lnTo>
                  <a:lnTo>
                    <a:pt x="622" y="1005"/>
                  </a:lnTo>
                  <a:lnTo>
                    <a:pt x="619" y="1011"/>
                  </a:lnTo>
                  <a:lnTo>
                    <a:pt x="617" y="1016"/>
                  </a:lnTo>
                  <a:lnTo>
                    <a:pt x="614" y="1022"/>
                  </a:lnTo>
                  <a:lnTo>
                    <a:pt x="611" y="1027"/>
                  </a:lnTo>
                  <a:lnTo>
                    <a:pt x="608" y="1031"/>
                  </a:lnTo>
                  <a:lnTo>
                    <a:pt x="603" y="1036"/>
                  </a:lnTo>
                  <a:lnTo>
                    <a:pt x="600" y="1041"/>
                  </a:lnTo>
                  <a:lnTo>
                    <a:pt x="597" y="1046"/>
                  </a:lnTo>
                  <a:lnTo>
                    <a:pt x="592" y="1052"/>
                  </a:lnTo>
                  <a:lnTo>
                    <a:pt x="587" y="1058"/>
                  </a:lnTo>
                  <a:lnTo>
                    <a:pt x="584" y="1065"/>
                  </a:lnTo>
                  <a:lnTo>
                    <a:pt x="622" y="1093"/>
                  </a:lnTo>
                  <a:lnTo>
                    <a:pt x="624" y="1090"/>
                  </a:lnTo>
                  <a:lnTo>
                    <a:pt x="627" y="1087"/>
                  </a:lnTo>
                  <a:lnTo>
                    <a:pt x="628" y="1082"/>
                  </a:lnTo>
                  <a:lnTo>
                    <a:pt x="631" y="1080"/>
                  </a:lnTo>
                  <a:lnTo>
                    <a:pt x="635" y="1076"/>
                  </a:lnTo>
                  <a:lnTo>
                    <a:pt x="639" y="1073"/>
                  </a:lnTo>
                  <a:lnTo>
                    <a:pt x="641" y="1066"/>
                  </a:lnTo>
                  <a:lnTo>
                    <a:pt x="646" y="1060"/>
                  </a:lnTo>
                  <a:lnTo>
                    <a:pt x="649" y="1055"/>
                  </a:lnTo>
                  <a:lnTo>
                    <a:pt x="652" y="1049"/>
                  </a:lnTo>
                  <a:lnTo>
                    <a:pt x="655" y="1043"/>
                  </a:lnTo>
                  <a:lnTo>
                    <a:pt x="660" y="1036"/>
                  </a:lnTo>
                  <a:lnTo>
                    <a:pt x="663" y="1028"/>
                  </a:lnTo>
                  <a:lnTo>
                    <a:pt x="666" y="1022"/>
                  </a:lnTo>
                  <a:lnTo>
                    <a:pt x="668" y="1017"/>
                  </a:lnTo>
                  <a:lnTo>
                    <a:pt x="669" y="1011"/>
                  </a:lnTo>
                  <a:lnTo>
                    <a:pt x="671" y="1006"/>
                  </a:lnTo>
                  <a:lnTo>
                    <a:pt x="673" y="1001"/>
                  </a:lnTo>
                  <a:lnTo>
                    <a:pt x="674" y="995"/>
                  </a:lnTo>
                  <a:lnTo>
                    <a:pt x="676" y="989"/>
                  </a:lnTo>
                  <a:lnTo>
                    <a:pt x="676" y="982"/>
                  </a:lnTo>
                  <a:lnTo>
                    <a:pt x="677" y="976"/>
                  </a:lnTo>
                  <a:lnTo>
                    <a:pt x="677" y="970"/>
                  </a:lnTo>
                  <a:lnTo>
                    <a:pt x="677" y="963"/>
                  </a:lnTo>
                  <a:lnTo>
                    <a:pt x="677" y="957"/>
                  </a:lnTo>
                  <a:lnTo>
                    <a:pt x="679" y="951"/>
                  </a:lnTo>
                  <a:lnTo>
                    <a:pt x="677" y="944"/>
                  </a:lnTo>
                  <a:lnTo>
                    <a:pt x="677" y="938"/>
                  </a:lnTo>
                  <a:lnTo>
                    <a:pt x="677" y="932"/>
                  </a:lnTo>
                  <a:lnTo>
                    <a:pt x="677" y="927"/>
                  </a:lnTo>
                  <a:lnTo>
                    <a:pt x="676" y="921"/>
                  </a:lnTo>
                  <a:lnTo>
                    <a:pt x="674" y="916"/>
                  </a:lnTo>
                  <a:lnTo>
                    <a:pt x="673" y="911"/>
                  </a:lnTo>
                  <a:lnTo>
                    <a:pt x="671" y="907"/>
                  </a:lnTo>
                  <a:lnTo>
                    <a:pt x="668" y="902"/>
                  </a:lnTo>
                  <a:lnTo>
                    <a:pt x="666" y="897"/>
                  </a:lnTo>
                  <a:lnTo>
                    <a:pt x="663" y="892"/>
                  </a:lnTo>
                  <a:lnTo>
                    <a:pt x="661" y="889"/>
                  </a:lnTo>
                  <a:lnTo>
                    <a:pt x="654" y="880"/>
                  </a:lnTo>
                  <a:lnTo>
                    <a:pt x="647" y="873"/>
                  </a:lnTo>
                  <a:lnTo>
                    <a:pt x="639" y="867"/>
                  </a:lnTo>
                  <a:lnTo>
                    <a:pt x="631" y="861"/>
                  </a:lnTo>
                  <a:lnTo>
                    <a:pt x="627" y="856"/>
                  </a:lnTo>
                  <a:lnTo>
                    <a:pt x="622" y="853"/>
                  </a:lnTo>
                  <a:lnTo>
                    <a:pt x="617" y="850"/>
                  </a:lnTo>
                  <a:lnTo>
                    <a:pt x="612" y="848"/>
                  </a:lnTo>
                  <a:lnTo>
                    <a:pt x="608" y="845"/>
                  </a:lnTo>
                  <a:lnTo>
                    <a:pt x="603" y="842"/>
                  </a:lnTo>
                  <a:lnTo>
                    <a:pt x="597" y="839"/>
                  </a:lnTo>
                  <a:lnTo>
                    <a:pt x="592" y="837"/>
                  </a:lnTo>
                  <a:lnTo>
                    <a:pt x="586" y="834"/>
                  </a:lnTo>
                  <a:lnTo>
                    <a:pt x="581" y="831"/>
                  </a:lnTo>
                  <a:lnTo>
                    <a:pt x="574" y="827"/>
                  </a:lnTo>
                  <a:lnTo>
                    <a:pt x="570" y="824"/>
                  </a:lnTo>
                  <a:lnTo>
                    <a:pt x="563" y="821"/>
                  </a:lnTo>
                  <a:lnTo>
                    <a:pt x="557" y="820"/>
                  </a:lnTo>
                  <a:lnTo>
                    <a:pt x="551" y="816"/>
                  </a:lnTo>
                  <a:lnTo>
                    <a:pt x="546" y="815"/>
                  </a:lnTo>
                  <a:lnTo>
                    <a:pt x="540" y="812"/>
                  </a:lnTo>
                  <a:lnTo>
                    <a:pt x="535" y="810"/>
                  </a:lnTo>
                  <a:lnTo>
                    <a:pt x="530" y="807"/>
                  </a:lnTo>
                  <a:lnTo>
                    <a:pt x="525" y="805"/>
                  </a:lnTo>
                  <a:lnTo>
                    <a:pt x="521" y="802"/>
                  </a:lnTo>
                  <a:lnTo>
                    <a:pt x="516" y="799"/>
                  </a:lnTo>
                  <a:lnTo>
                    <a:pt x="511" y="797"/>
                  </a:lnTo>
                  <a:lnTo>
                    <a:pt x="508" y="796"/>
                  </a:lnTo>
                  <a:lnTo>
                    <a:pt x="500" y="789"/>
                  </a:lnTo>
                  <a:lnTo>
                    <a:pt x="495" y="783"/>
                  </a:lnTo>
                  <a:lnTo>
                    <a:pt x="494" y="778"/>
                  </a:lnTo>
                  <a:lnTo>
                    <a:pt x="492" y="774"/>
                  </a:lnTo>
                  <a:lnTo>
                    <a:pt x="491" y="769"/>
                  </a:lnTo>
                  <a:lnTo>
                    <a:pt x="491" y="766"/>
                  </a:lnTo>
                  <a:lnTo>
                    <a:pt x="491" y="756"/>
                  </a:lnTo>
                  <a:lnTo>
                    <a:pt x="492" y="750"/>
                  </a:lnTo>
                  <a:lnTo>
                    <a:pt x="492" y="745"/>
                  </a:lnTo>
                  <a:lnTo>
                    <a:pt x="494" y="740"/>
                  </a:lnTo>
                  <a:lnTo>
                    <a:pt x="495" y="736"/>
                  </a:lnTo>
                  <a:lnTo>
                    <a:pt x="499" y="731"/>
                  </a:lnTo>
                  <a:lnTo>
                    <a:pt x="500" y="725"/>
                  </a:lnTo>
                  <a:lnTo>
                    <a:pt x="502" y="720"/>
                  </a:lnTo>
                  <a:lnTo>
                    <a:pt x="505" y="714"/>
                  </a:lnTo>
                  <a:lnTo>
                    <a:pt x="508" y="710"/>
                  </a:lnTo>
                  <a:lnTo>
                    <a:pt x="510" y="704"/>
                  </a:lnTo>
                  <a:lnTo>
                    <a:pt x="514" y="698"/>
                  </a:lnTo>
                  <a:lnTo>
                    <a:pt x="518" y="693"/>
                  </a:lnTo>
                  <a:lnTo>
                    <a:pt x="522" y="687"/>
                  </a:lnTo>
                  <a:lnTo>
                    <a:pt x="525" y="680"/>
                  </a:lnTo>
                  <a:lnTo>
                    <a:pt x="529" y="674"/>
                  </a:lnTo>
                  <a:lnTo>
                    <a:pt x="533" y="669"/>
                  </a:lnTo>
                  <a:lnTo>
                    <a:pt x="537" y="663"/>
                  </a:lnTo>
                  <a:lnTo>
                    <a:pt x="541" y="657"/>
                  </a:lnTo>
                  <a:lnTo>
                    <a:pt x="546" y="650"/>
                  </a:lnTo>
                  <a:lnTo>
                    <a:pt x="551" y="644"/>
                  </a:lnTo>
                  <a:lnTo>
                    <a:pt x="555" y="638"/>
                  </a:lnTo>
                  <a:lnTo>
                    <a:pt x="560" y="631"/>
                  </a:lnTo>
                  <a:lnTo>
                    <a:pt x="565" y="625"/>
                  </a:lnTo>
                  <a:lnTo>
                    <a:pt x="570" y="619"/>
                  </a:lnTo>
                  <a:lnTo>
                    <a:pt x="574" y="612"/>
                  </a:lnTo>
                  <a:lnTo>
                    <a:pt x="578" y="604"/>
                  </a:lnTo>
                  <a:lnTo>
                    <a:pt x="582" y="598"/>
                  </a:lnTo>
                  <a:lnTo>
                    <a:pt x="587" y="593"/>
                  </a:lnTo>
                  <a:lnTo>
                    <a:pt x="593" y="587"/>
                  </a:lnTo>
                  <a:lnTo>
                    <a:pt x="595" y="582"/>
                  </a:lnTo>
                  <a:lnTo>
                    <a:pt x="598" y="578"/>
                  </a:lnTo>
                  <a:lnTo>
                    <a:pt x="601" y="573"/>
                  </a:lnTo>
                  <a:lnTo>
                    <a:pt x="606" y="568"/>
                  </a:lnTo>
                  <a:lnTo>
                    <a:pt x="608" y="563"/>
                  </a:lnTo>
                  <a:lnTo>
                    <a:pt x="611" y="559"/>
                  </a:lnTo>
                  <a:lnTo>
                    <a:pt x="614" y="554"/>
                  </a:lnTo>
                  <a:lnTo>
                    <a:pt x="617" y="551"/>
                  </a:lnTo>
                  <a:lnTo>
                    <a:pt x="620" y="546"/>
                  </a:lnTo>
                  <a:lnTo>
                    <a:pt x="624" y="541"/>
                  </a:lnTo>
                  <a:lnTo>
                    <a:pt x="627" y="536"/>
                  </a:lnTo>
                  <a:lnTo>
                    <a:pt x="630" y="532"/>
                  </a:lnTo>
                  <a:lnTo>
                    <a:pt x="631" y="527"/>
                  </a:lnTo>
                  <a:lnTo>
                    <a:pt x="636" y="522"/>
                  </a:lnTo>
                  <a:lnTo>
                    <a:pt x="638" y="517"/>
                  </a:lnTo>
                  <a:lnTo>
                    <a:pt x="642" y="514"/>
                  </a:lnTo>
                  <a:lnTo>
                    <a:pt x="644" y="510"/>
                  </a:lnTo>
                  <a:lnTo>
                    <a:pt x="647" y="505"/>
                  </a:lnTo>
                  <a:lnTo>
                    <a:pt x="649" y="500"/>
                  </a:lnTo>
                  <a:lnTo>
                    <a:pt x="652" y="497"/>
                  </a:lnTo>
                  <a:lnTo>
                    <a:pt x="655" y="492"/>
                  </a:lnTo>
                  <a:lnTo>
                    <a:pt x="658" y="487"/>
                  </a:lnTo>
                  <a:lnTo>
                    <a:pt x="660" y="483"/>
                  </a:lnTo>
                  <a:lnTo>
                    <a:pt x="663" y="480"/>
                  </a:lnTo>
                  <a:lnTo>
                    <a:pt x="666" y="475"/>
                  </a:lnTo>
                  <a:lnTo>
                    <a:pt x="668" y="470"/>
                  </a:lnTo>
                  <a:lnTo>
                    <a:pt x="671" y="467"/>
                  </a:lnTo>
                  <a:lnTo>
                    <a:pt x="674" y="462"/>
                  </a:lnTo>
                  <a:lnTo>
                    <a:pt x="676" y="457"/>
                  </a:lnTo>
                  <a:lnTo>
                    <a:pt x="679" y="453"/>
                  </a:lnTo>
                  <a:lnTo>
                    <a:pt x="682" y="449"/>
                  </a:lnTo>
                  <a:lnTo>
                    <a:pt x="685" y="445"/>
                  </a:lnTo>
                  <a:lnTo>
                    <a:pt x="687" y="440"/>
                  </a:lnTo>
                  <a:lnTo>
                    <a:pt x="688" y="435"/>
                  </a:lnTo>
                  <a:lnTo>
                    <a:pt x="692" y="432"/>
                  </a:lnTo>
                  <a:lnTo>
                    <a:pt x="693" y="427"/>
                  </a:lnTo>
                  <a:lnTo>
                    <a:pt x="696" y="423"/>
                  </a:lnTo>
                  <a:lnTo>
                    <a:pt x="698" y="418"/>
                  </a:lnTo>
                  <a:lnTo>
                    <a:pt x="701" y="413"/>
                  </a:lnTo>
                  <a:lnTo>
                    <a:pt x="703" y="408"/>
                  </a:lnTo>
                  <a:lnTo>
                    <a:pt x="704" y="404"/>
                  </a:lnTo>
                  <a:lnTo>
                    <a:pt x="707" y="399"/>
                  </a:lnTo>
                  <a:lnTo>
                    <a:pt x="709" y="394"/>
                  </a:lnTo>
                  <a:lnTo>
                    <a:pt x="712" y="389"/>
                  </a:lnTo>
                  <a:lnTo>
                    <a:pt x="714" y="386"/>
                  </a:lnTo>
                  <a:lnTo>
                    <a:pt x="715" y="381"/>
                  </a:lnTo>
                  <a:lnTo>
                    <a:pt x="718" y="377"/>
                  </a:lnTo>
                  <a:lnTo>
                    <a:pt x="720" y="372"/>
                  </a:lnTo>
                  <a:lnTo>
                    <a:pt x="722" y="367"/>
                  </a:lnTo>
                  <a:lnTo>
                    <a:pt x="723" y="362"/>
                  </a:lnTo>
                  <a:lnTo>
                    <a:pt x="725" y="358"/>
                  </a:lnTo>
                  <a:lnTo>
                    <a:pt x="726" y="353"/>
                  </a:lnTo>
                  <a:lnTo>
                    <a:pt x="728" y="348"/>
                  </a:lnTo>
                  <a:lnTo>
                    <a:pt x="731" y="344"/>
                  </a:lnTo>
                  <a:lnTo>
                    <a:pt x="733" y="339"/>
                  </a:lnTo>
                  <a:lnTo>
                    <a:pt x="734" y="334"/>
                  </a:lnTo>
                  <a:lnTo>
                    <a:pt x="736" y="329"/>
                  </a:lnTo>
                  <a:lnTo>
                    <a:pt x="737" y="325"/>
                  </a:lnTo>
                  <a:lnTo>
                    <a:pt x="739" y="318"/>
                  </a:lnTo>
                  <a:lnTo>
                    <a:pt x="742" y="313"/>
                  </a:lnTo>
                  <a:lnTo>
                    <a:pt x="744" y="309"/>
                  </a:lnTo>
                  <a:lnTo>
                    <a:pt x="745" y="304"/>
                  </a:lnTo>
                  <a:lnTo>
                    <a:pt x="747" y="299"/>
                  </a:lnTo>
                  <a:lnTo>
                    <a:pt x="748" y="294"/>
                  </a:lnTo>
                  <a:lnTo>
                    <a:pt x="750" y="288"/>
                  </a:lnTo>
                  <a:lnTo>
                    <a:pt x="752" y="282"/>
                  </a:lnTo>
                  <a:lnTo>
                    <a:pt x="752" y="277"/>
                  </a:lnTo>
                  <a:lnTo>
                    <a:pt x="753" y="272"/>
                  </a:lnTo>
                  <a:lnTo>
                    <a:pt x="755" y="268"/>
                  </a:lnTo>
                  <a:lnTo>
                    <a:pt x="756" y="263"/>
                  </a:lnTo>
                  <a:lnTo>
                    <a:pt x="758" y="258"/>
                  </a:lnTo>
                  <a:lnTo>
                    <a:pt x="760" y="253"/>
                  </a:lnTo>
                  <a:lnTo>
                    <a:pt x="760" y="249"/>
                  </a:lnTo>
                  <a:lnTo>
                    <a:pt x="761" y="244"/>
                  </a:lnTo>
                  <a:lnTo>
                    <a:pt x="761" y="239"/>
                  </a:lnTo>
                  <a:lnTo>
                    <a:pt x="763" y="234"/>
                  </a:lnTo>
                  <a:lnTo>
                    <a:pt x="764" y="225"/>
                  </a:lnTo>
                  <a:lnTo>
                    <a:pt x="767" y="219"/>
                  </a:lnTo>
                  <a:lnTo>
                    <a:pt x="767" y="214"/>
                  </a:lnTo>
                  <a:lnTo>
                    <a:pt x="767" y="209"/>
                  </a:lnTo>
                  <a:lnTo>
                    <a:pt x="769" y="204"/>
                  </a:lnTo>
                  <a:lnTo>
                    <a:pt x="769" y="201"/>
                  </a:lnTo>
                  <a:lnTo>
                    <a:pt x="771" y="193"/>
                  </a:lnTo>
                  <a:lnTo>
                    <a:pt x="772" y="185"/>
                  </a:lnTo>
                  <a:lnTo>
                    <a:pt x="772" y="179"/>
                  </a:lnTo>
                  <a:lnTo>
                    <a:pt x="774" y="171"/>
                  </a:lnTo>
                  <a:lnTo>
                    <a:pt x="774" y="165"/>
                  </a:lnTo>
                  <a:lnTo>
                    <a:pt x="775" y="157"/>
                  </a:lnTo>
                  <a:lnTo>
                    <a:pt x="775" y="151"/>
                  </a:lnTo>
                  <a:lnTo>
                    <a:pt x="775" y="143"/>
                  </a:lnTo>
                  <a:lnTo>
                    <a:pt x="775" y="136"/>
                  </a:lnTo>
                  <a:lnTo>
                    <a:pt x="775" y="130"/>
                  </a:lnTo>
                  <a:lnTo>
                    <a:pt x="774" y="122"/>
                  </a:lnTo>
                  <a:lnTo>
                    <a:pt x="774" y="116"/>
                  </a:lnTo>
                  <a:lnTo>
                    <a:pt x="774" y="109"/>
                  </a:lnTo>
                  <a:lnTo>
                    <a:pt x="774" y="105"/>
                  </a:lnTo>
                  <a:lnTo>
                    <a:pt x="772" y="97"/>
                  </a:lnTo>
                  <a:lnTo>
                    <a:pt x="771" y="90"/>
                  </a:lnTo>
                  <a:lnTo>
                    <a:pt x="771" y="84"/>
                  </a:lnTo>
                  <a:lnTo>
                    <a:pt x="769" y="78"/>
                  </a:lnTo>
                  <a:lnTo>
                    <a:pt x="767" y="71"/>
                  </a:lnTo>
                  <a:lnTo>
                    <a:pt x="766" y="65"/>
                  </a:lnTo>
                  <a:lnTo>
                    <a:pt x="764" y="59"/>
                  </a:lnTo>
                  <a:lnTo>
                    <a:pt x="764" y="53"/>
                  </a:lnTo>
                  <a:lnTo>
                    <a:pt x="763" y="46"/>
                  </a:lnTo>
                  <a:lnTo>
                    <a:pt x="760" y="40"/>
                  </a:lnTo>
                  <a:lnTo>
                    <a:pt x="758" y="34"/>
                  </a:lnTo>
                  <a:lnTo>
                    <a:pt x="755" y="29"/>
                  </a:lnTo>
                  <a:lnTo>
                    <a:pt x="752" y="24"/>
                  </a:lnTo>
                  <a:lnTo>
                    <a:pt x="748" y="19"/>
                  </a:lnTo>
                  <a:lnTo>
                    <a:pt x="744" y="16"/>
                  </a:lnTo>
                  <a:lnTo>
                    <a:pt x="741" y="13"/>
                  </a:lnTo>
                  <a:lnTo>
                    <a:pt x="736" y="10"/>
                  </a:lnTo>
                  <a:lnTo>
                    <a:pt x="731" y="7"/>
                  </a:lnTo>
                  <a:lnTo>
                    <a:pt x="726" y="5"/>
                  </a:lnTo>
                  <a:lnTo>
                    <a:pt x="723" y="3"/>
                  </a:lnTo>
                  <a:lnTo>
                    <a:pt x="717" y="2"/>
                  </a:lnTo>
                  <a:lnTo>
                    <a:pt x="712" y="0"/>
                  </a:lnTo>
                  <a:lnTo>
                    <a:pt x="707" y="0"/>
                  </a:lnTo>
                  <a:lnTo>
                    <a:pt x="703" y="0"/>
                  </a:lnTo>
                  <a:lnTo>
                    <a:pt x="696" y="0"/>
                  </a:lnTo>
                  <a:lnTo>
                    <a:pt x="692" y="0"/>
                  </a:lnTo>
                  <a:lnTo>
                    <a:pt x="685" y="0"/>
                  </a:lnTo>
                  <a:lnTo>
                    <a:pt x="679" y="2"/>
                  </a:lnTo>
                  <a:lnTo>
                    <a:pt x="673" y="2"/>
                  </a:lnTo>
                  <a:lnTo>
                    <a:pt x="668" y="3"/>
                  </a:lnTo>
                  <a:lnTo>
                    <a:pt x="661" y="5"/>
                  </a:lnTo>
                  <a:lnTo>
                    <a:pt x="657" y="8"/>
                  </a:lnTo>
                  <a:lnTo>
                    <a:pt x="650" y="10"/>
                  </a:lnTo>
                  <a:lnTo>
                    <a:pt x="646" y="11"/>
                  </a:lnTo>
                  <a:lnTo>
                    <a:pt x="639" y="15"/>
                  </a:lnTo>
                  <a:lnTo>
                    <a:pt x="635" y="18"/>
                  </a:lnTo>
                  <a:lnTo>
                    <a:pt x="628" y="19"/>
                  </a:lnTo>
                  <a:lnTo>
                    <a:pt x="622" y="24"/>
                  </a:lnTo>
                  <a:lnTo>
                    <a:pt x="617" y="26"/>
                  </a:lnTo>
                  <a:lnTo>
                    <a:pt x="614" y="30"/>
                  </a:lnTo>
                  <a:lnTo>
                    <a:pt x="608" y="34"/>
                  </a:lnTo>
                  <a:lnTo>
                    <a:pt x="601" y="37"/>
                  </a:lnTo>
                  <a:lnTo>
                    <a:pt x="597" y="41"/>
                  </a:lnTo>
                  <a:lnTo>
                    <a:pt x="590" y="46"/>
                  </a:lnTo>
                  <a:lnTo>
                    <a:pt x="584" y="51"/>
                  </a:lnTo>
                  <a:lnTo>
                    <a:pt x="579" y="56"/>
                  </a:lnTo>
                  <a:lnTo>
                    <a:pt x="573" y="62"/>
                  </a:lnTo>
                  <a:lnTo>
                    <a:pt x="568" y="68"/>
                  </a:lnTo>
                  <a:lnTo>
                    <a:pt x="560" y="73"/>
                  </a:lnTo>
                  <a:lnTo>
                    <a:pt x="555" y="79"/>
                  </a:lnTo>
                  <a:lnTo>
                    <a:pt x="548" y="87"/>
                  </a:lnTo>
                  <a:lnTo>
                    <a:pt x="543" y="94"/>
                  </a:lnTo>
                  <a:lnTo>
                    <a:pt x="537" y="100"/>
                  </a:lnTo>
                  <a:lnTo>
                    <a:pt x="530" y="108"/>
                  </a:lnTo>
                  <a:lnTo>
                    <a:pt x="524" y="116"/>
                  </a:lnTo>
                  <a:lnTo>
                    <a:pt x="519" y="125"/>
                  </a:lnTo>
                  <a:lnTo>
                    <a:pt x="511" y="132"/>
                  </a:lnTo>
                  <a:lnTo>
                    <a:pt x="506" y="141"/>
                  </a:lnTo>
                  <a:lnTo>
                    <a:pt x="502" y="144"/>
                  </a:lnTo>
                  <a:lnTo>
                    <a:pt x="499" y="149"/>
                  </a:lnTo>
                  <a:lnTo>
                    <a:pt x="497" y="154"/>
                  </a:lnTo>
                  <a:lnTo>
                    <a:pt x="494" y="158"/>
                  </a:lnTo>
                  <a:lnTo>
                    <a:pt x="491" y="162"/>
                  </a:lnTo>
                  <a:lnTo>
                    <a:pt x="487" y="166"/>
                  </a:lnTo>
                  <a:lnTo>
                    <a:pt x="484" y="171"/>
                  </a:lnTo>
                  <a:lnTo>
                    <a:pt x="483" y="176"/>
                  </a:lnTo>
                  <a:lnTo>
                    <a:pt x="480" y="181"/>
                  </a:lnTo>
                  <a:lnTo>
                    <a:pt x="476" y="185"/>
                  </a:lnTo>
                  <a:lnTo>
                    <a:pt x="475" y="190"/>
                  </a:lnTo>
                  <a:lnTo>
                    <a:pt x="472" y="195"/>
                  </a:lnTo>
                  <a:lnTo>
                    <a:pt x="468" y="200"/>
                  </a:lnTo>
                  <a:lnTo>
                    <a:pt x="465" y="204"/>
                  </a:lnTo>
                  <a:lnTo>
                    <a:pt x="462" y="209"/>
                  </a:lnTo>
                  <a:lnTo>
                    <a:pt x="461" y="214"/>
                  </a:lnTo>
                  <a:lnTo>
                    <a:pt x="459" y="219"/>
                  </a:lnTo>
                  <a:lnTo>
                    <a:pt x="456" y="223"/>
                  </a:lnTo>
                  <a:lnTo>
                    <a:pt x="454" y="230"/>
                  </a:lnTo>
                  <a:lnTo>
                    <a:pt x="451" y="234"/>
                  </a:lnTo>
                  <a:lnTo>
                    <a:pt x="449" y="239"/>
                  </a:lnTo>
                  <a:lnTo>
                    <a:pt x="446" y="244"/>
                  </a:lnTo>
                  <a:lnTo>
                    <a:pt x="445" y="250"/>
                  </a:lnTo>
                  <a:lnTo>
                    <a:pt x="442" y="255"/>
                  </a:lnTo>
                  <a:lnTo>
                    <a:pt x="440" y="260"/>
                  </a:lnTo>
                  <a:lnTo>
                    <a:pt x="438" y="266"/>
                  </a:lnTo>
                  <a:lnTo>
                    <a:pt x="437" y="271"/>
                  </a:lnTo>
                  <a:lnTo>
                    <a:pt x="435" y="277"/>
                  </a:lnTo>
                  <a:lnTo>
                    <a:pt x="432" y="282"/>
                  </a:lnTo>
                  <a:lnTo>
                    <a:pt x="431" y="287"/>
                  </a:lnTo>
                  <a:lnTo>
                    <a:pt x="429" y="291"/>
                  </a:lnTo>
                  <a:lnTo>
                    <a:pt x="427" y="298"/>
                  </a:lnTo>
                  <a:lnTo>
                    <a:pt x="424" y="302"/>
                  </a:lnTo>
                  <a:lnTo>
                    <a:pt x="423" y="307"/>
                  </a:lnTo>
                  <a:lnTo>
                    <a:pt x="421" y="310"/>
                  </a:lnTo>
                  <a:lnTo>
                    <a:pt x="421" y="317"/>
                  </a:lnTo>
                  <a:lnTo>
                    <a:pt x="419" y="320"/>
                  </a:lnTo>
                  <a:lnTo>
                    <a:pt x="416" y="325"/>
                  </a:lnTo>
                  <a:lnTo>
                    <a:pt x="416" y="329"/>
                  </a:lnTo>
                  <a:lnTo>
                    <a:pt x="415" y="334"/>
                  </a:lnTo>
                  <a:lnTo>
                    <a:pt x="413" y="337"/>
                  </a:lnTo>
                  <a:lnTo>
                    <a:pt x="413" y="342"/>
                  </a:lnTo>
                  <a:lnTo>
                    <a:pt x="412" y="347"/>
                  </a:lnTo>
                  <a:lnTo>
                    <a:pt x="410" y="351"/>
                  </a:lnTo>
                  <a:lnTo>
                    <a:pt x="408" y="358"/>
                  </a:lnTo>
                  <a:lnTo>
                    <a:pt x="405" y="366"/>
                  </a:lnTo>
                  <a:lnTo>
                    <a:pt x="404" y="374"/>
                  </a:lnTo>
                  <a:lnTo>
                    <a:pt x="402" y="381"/>
                  </a:lnTo>
                  <a:lnTo>
                    <a:pt x="399" y="388"/>
                  </a:lnTo>
                  <a:lnTo>
                    <a:pt x="397" y="394"/>
                  </a:lnTo>
                  <a:lnTo>
                    <a:pt x="396" y="400"/>
                  </a:lnTo>
                  <a:lnTo>
                    <a:pt x="396" y="408"/>
                  </a:lnTo>
                  <a:lnTo>
                    <a:pt x="393" y="413"/>
                  </a:lnTo>
                  <a:lnTo>
                    <a:pt x="393" y="419"/>
                  </a:lnTo>
                  <a:lnTo>
                    <a:pt x="391" y="426"/>
                  </a:lnTo>
                  <a:lnTo>
                    <a:pt x="389" y="432"/>
                  </a:lnTo>
                  <a:lnTo>
                    <a:pt x="388" y="437"/>
                  </a:lnTo>
                  <a:lnTo>
                    <a:pt x="388" y="443"/>
                  </a:lnTo>
                  <a:lnTo>
                    <a:pt x="386" y="448"/>
                  </a:lnTo>
                  <a:lnTo>
                    <a:pt x="386" y="454"/>
                  </a:lnTo>
                  <a:lnTo>
                    <a:pt x="385" y="459"/>
                  </a:lnTo>
                  <a:lnTo>
                    <a:pt x="383" y="465"/>
                  </a:lnTo>
                  <a:lnTo>
                    <a:pt x="381" y="470"/>
                  </a:lnTo>
                  <a:lnTo>
                    <a:pt x="381" y="476"/>
                  </a:lnTo>
                  <a:lnTo>
                    <a:pt x="380" y="481"/>
                  </a:lnTo>
                  <a:lnTo>
                    <a:pt x="378" y="487"/>
                  </a:lnTo>
                  <a:lnTo>
                    <a:pt x="378" y="494"/>
                  </a:lnTo>
                  <a:lnTo>
                    <a:pt x="378" y="500"/>
                  </a:lnTo>
                  <a:lnTo>
                    <a:pt x="375" y="505"/>
                  </a:lnTo>
                  <a:lnTo>
                    <a:pt x="375" y="511"/>
                  </a:lnTo>
                  <a:lnTo>
                    <a:pt x="372" y="516"/>
                  </a:lnTo>
                  <a:lnTo>
                    <a:pt x="372" y="524"/>
                  </a:lnTo>
                  <a:lnTo>
                    <a:pt x="369" y="530"/>
                  </a:lnTo>
                  <a:lnTo>
                    <a:pt x="367" y="536"/>
                  </a:lnTo>
                  <a:lnTo>
                    <a:pt x="366" y="543"/>
                  </a:lnTo>
                  <a:lnTo>
                    <a:pt x="364" y="551"/>
                  </a:lnTo>
                  <a:lnTo>
                    <a:pt x="362" y="555"/>
                  </a:lnTo>
                  <a:lnTo>
                    <a:pt x="361" y="562"/>
                  </a:lnTo>
                  <a:lnTo>
                    <a:pt x="358" y="570"/>
                  </a:lnTo>
                  <a:lnTo>
                    <a:pt x="356" y="576"/>
                  </a:lnTo>
                  <a:lnTo>
                    <a:pt x="355" y="582"/>
                  </a:lnTo>
                  <a:lnTo>
                    <a:pt x="353" y="590"/>
                  </a:lnTo>
                  <a:lnTo>
                    <a:pt x="350" y="595"/>
                  </a:lnTo>
                  <a:lnTo>
                    <a:pt x="348" y="603"/>
                  </a:lnTo>
                  <a:lnTo>
                    <a:pt x="345" y="608"/>
                  </a:lnTo>
                  <a:lnTo>
                    <a:pt x="344" y="614"/>
                  </a:lnTo>
                  <a:lnTo>
                    <a:pt x="342" y="620"/>
                  </a:lnTo>
                  <a:lnTo>
                    <a:pt x="339" y="627"/>
                  </a:lnTo>
                  <a:lnTo>
                    <a:pt x="336" y="631"/>
                  </a:lnTo>
                  <a:lnTo>
                    <a:pt x="334" y="638"/>
                  </a:lnTo>
                  <a:lnTo>
                    <a:pt x="331" y="642"/>
                  </a:lnTo>
                  <a:lnTo>
                    <a:pt x="329" y="649"/>
                  </a:lnTo>
                  <a:lnTo>
                    <a:pt x="326" y="653"/>
                  </a:lnTo>
                  <a:lnTo>
                    <a:pt x="323" y="658"/>
                  </a:lnTo>
                  <a:lnTo>
                    <a:pt x="320" y="663"/>
                  </a:lnTo>
                  <a:lnTo>
                    <a:pt x="317" y="668"/>
                  </a:lnTo>
                  <a:lnTo>
                    <a:pt x="312" y="674"/>
                  </a:lnTo>
                  <a:lnTo>
                    <a:pt x="306" y="680"/>
                  </a:lnTo>
                  <a:lnTo>
                    <a:pt x="302" y="682"/>
                  </a:lnTo>
                  <a:lnTo>
                    <a:pt x="298" y="685"/>
                  </a:lnTo>
                  <a:lnTo>
                    <a:pt x="291" y="687"/>
                  </a:lnTo>
                  <a:lnTo>
                    <a:pt x="287" y="687"/>
                  </a:lnTo>
                  <a:lnTo>
                    <a:pt x="279" y="687"/>
                  </a:lnTo>
                  <a:lnTo>
                    <a:pt x="272" y="685"/>
                  </a:lnTo>
                  <a:lnTo>
                    <a:pt x="266" y="684"/>
                  </a:lnTo>
                  <a:lnTo>
                    <a:pt x="260" y="684"/>
                  </a:lnTo>
                  <a:lnTo>
                    <a:pt x="255" y="682"/>
                  </a:lnTo>
                  <a:lnTo>
                    <a:pt x="250" y="680"/>
                  </a:lnTo>
                  <a:lnTo>
                    <a:pt x="245" y="679"/>
                  </a:lnTo>
                  <a:lnTo>
                    <a:pt x="242" y="677"/>
                  </a:lnTo>
                  <a:lnTo>
                    <a:pt x="238" y="676"/>
                  </a:lnTo>
                  <a:lnTo>
                    <a:pt x="233" y="674"/>
                  </a:lnTo>
                  <a:lnTo>
                    <a:pt x="228" y="672"/>
                  </a:lnTo>
                  <a:lnTo>
                    <a:pt x="225" y="672"/>
                  </a:lnTo>
                  <a:lnTo>
                    <a:pt x="219" y="669"/>
                  </a:lnTo>
                  <a:lnTo>
                    <a:pt x="214" y="668"/>
                  </a:lnTo>
                  <a:lnTo>
                    <a:pt x="209" y="666"/>
                  </a:lnTo>
                  <a:lnTo>
                    <a:pt x="204" y="665"/>
                  </a:lnTo>
                  <a:lnTo>
                    <a:pt x="200" y="663"/>
                  </a:lnTo>
                  <a:lnTo>
                    <a:pt x="195" y="661"/>
                  </a:lnTo>
                  <a:lnTo>
                    <a:pt x="190" y="660"/>
                  </a:lnTo>
                  <a:lnTo>
                    <a:pt x="185" y="658"/>
                  </a:lnTo>
                  <a:lnTo>
                    <a:pt x="179" y="655"/>
                  </a:lnTo>
                  <a:lnTo>
                    <a:pt x="173" y="653"/>
                  </a:lnTo>
                  <a:lnTo>
                    <a:pt x="168" y="650"/>
                  </a:lnTo>
                  <a:lnTo>
                    <a:pt x="163" y="650"/>
                  </a:lnTo>
                  <a:lnTo>
                    <a:pt x="157" y="647"/>
                  </a:lnTo>
                  <a:lnTo>
                    <a:pt x="152" y="647"/>
                  </a:lnTo>
                  <a:lnTo>
                    <a:pt x="149" y="646"/>
                  </a:lnTo>
                  <a:lnTo>
                    <a:pt x="144" y="646"/>
                  </a:lnTo>
                  <a:lnTo>
                    <a:pt x="138" y="644"/>
                  </a:lnTo>
                  <a:lnTo>
                    <a:pt x="133" y="644"/>
                  </a:lnTo>
                  <a:lnTo>
                    <a:pt x="128" y="644"/>
                  </a:lnTo>
                  <a:lnTo>
                    <a:pt x="124" y="644"/>
                  </a:lnTo>
                  <a:lnTo>
                    <a:pt x="119" y="644"/>
                  </a:lnTo>
                  <a:lnTo>
                    <a:pt x="116" y="644"/>
                  </a:lnTo>
                  <a:lnTo>
                    <a:pt x="111" y="644"/>
                  </a:lnTo>
                  <a:lnTo>
                    <a:pt x="108" y="646"/>
                  </a:lnTo>
                  <a:lnTo>
                    <a:pt x="103" y="646"/>
                  </a:lnTo>
                  <a:lnTo>
                    <a:pt x="98" y="647"/>
                  </a:lnTo>
                  <a:lnTo>
                    <a:pt x="94" y="647"/>
                  </a:lnTo>
                  <a:lnTo>
                    <a:pt x="90" y="649"/>
                  </a:lnTo>
                  <a:lnTo>
                    <a:pt x="81" y="652"/>
                  </a:lnTo>
                  <a:lnTo>
                    <a:pt x="75" y="657"/>
                  </a:lnTo>
                  <a:lnTo>
                    <a:pt x="67" y="661"/>
                  </a:lnTo>
                  <a:lnTo>
                    <a:pt x="60" y="668"/>
                  </a:lnTo>
                  <a:lnTo>
                    <a:pt x="52" y="674"/>
                  </a:lnTo>
                  <a:lnTo>
                    <a:pt x="46" y="680"/>
                  </a:lnTo>
                  <a:lnTo>
                    <a:pt x="43" y="684"/>
                  </a:lnTo>
                  <a:lnTo>
                    <a:pt x="40" y="688"/>
                  </a:lnTo>
                  <a:lnTo>
                    <a:pt x="35" y="693"/>
                  </a:lnTo>
                  <a:lnTo>
                    <a:pt x="33" y="698"/>
                  </a:lnTo>
                  <a:lnTo>
                    <a:pt x="30" y="703"/>
                  </a:lnTo>
                  <a:lnTo>
                    <a:pt x="27" y="707"/>
                  </a:lnTo>
                  <a:lnTo>
                    <a:pt x="26" y="712"/>
                  </a:lnTo>
                  <a:lnTo>
                    <a:pt x="22" y="717"/>
                  </a:lnTo>
                  <a:lnTo>
                    <a:pt x="21" y="721"/>
                  </a:lnTo>
                  <a:lnTo>
                    <a:pt x="18" y="728"/>
                  </a:lnTo>
                  <a:lnTo>
                    <a:pt x="16" y="733"/>
                  </a:lnTo>
                  <a:lnTo>
                    <a:pt x="14" y="739"/>
                  </a:lnTo>
                  <a:lnTo>
                    <a:pt x="11" y="744"/>
                  </a:lnTo>
                  <a:lnTo>
                    <a:pt x="11" y="750"/>
                  </a:lnTo>
                  <a:lnTo>
                    <a:pt x="10" y="755"/>
                  </a:lnTo>
                  <a:lnTo>
                    <a:pt x="8" y="761"/>
                  </a:lnTo>
                  <a:lnTo>
                    <a:pt x="7" y="766"/>
                  </a:lnTo>
                  <a:lnTo>
                    <a:pt x="5" y="771"/>
                  </a:lnTo>
                  <a:lnTo>
                    <a:pt x="3" y="775"/>
                  </a:lnTo>
                  <a:lnTo>
                    <a:pt x="3" y="780"/>
                  </a:lnTo>
                  <a:lnTo>
                    <a:pt x="2" y="785"/>
                  </a:lnTo>
                  <a:lnTo>
                    <a:pt x="2" y="789"/>
                  </a:lnTo>
                  <a:lnTo>
                    <a:pt x="0" y="793"/>
                  </a:lnTo>
                  <a:lnTo>
                    <a:pt x="0" y="797"/>
                  </a:lnTo>
                  <a:lnTo>
                    <a:pt x="0" y="802"/>
                  </a:lnTo>
                  <a:lnTo>
                    <a:pt x="0" y="807"/>
                  </a:lnTo>
                  <a:lnTo>
                    <a:pt x="0" y="810"/>
                  </a:lnTo>
                  <a:lnTo>
                    <a:pt x="0" y="812"/>
                  </a:lnTo>
                  <a:lnTo>
                    <a:pt x="43" y="805"/>
                  </a:lnTo>
                  <a:lnTo>
                    <a:pt x="43" y="8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rot="21366600">
              <a:off x="5672520" y="3355560"/>
              <a:ext cx="73080" cy="79200"/>
            </a:xfrm>
            <a:custGeom>
              <a:avLst/>
              <a:gdLst/>
              <a:ahLst/>
              <a:rect l="l" t="t" r="r" b="b"/>
              <a:pathLst>
                <a:path w="109" h="117">
                  <a:moveTo>
                    <a:pt x="66" y="0"/>
                  </a:moveTo>
                  <a:lnTo>
                    <a:pt x="64" y="2"/>
                  </a:lnTo>
                  <a:lnTo>
                    <a:pt x="61" y="8"/>
                  </a:lnTo>
                  <a:lnTo>
                    <a:pt x="58" y="10"/>
                  </a:lnTo>
                  <a:lnTo>
                    <a:pt x="55" y="16"/>
                  </a:lnTo>
                  <a:lnTo>
                    <a:pt x="52" y="21"/>
                  </a:lnTo>
                  <a:lnTo>
                    <a:pt x="47" y="27"/>
                  </a:lnTo>
                  <a:lnTo>
                    <a:pt x="42" y="33"/>
                  </a:lnTo>
                  <a:lnTo>
                    <a:pt x="38" y="40"/>
                  </a:lnTo>
                  <a:lnTo>
                    <a:pt x="31" y="46"/>
                  </a:lnTo>
                  <a:lnTo>
                    <a:pt x="25" y="52"/>
                  </a:lnTo>
                  <a:lnTo>
                    <a:pt x="19" y="59"/>
                  </a:lnTo>
                  <a:lnTo>
                    <a:pt x="12" y="65"/>
                  </a:lnTo>
                  <a:lnTo>
                    <a:pt x="6" y="71"/>
                  </a:lnTo>
                  <a:lnTo>
                    <a:pt x="0" y="79"/>
                  </a:lnTo>
                  <a:lnTo>
                    <a:pt x="42" y="117"/>
                  </a:lnTo>
                  <a:lnTo>
                    <a:pt x="44" y="116"/>
                  </a:lnTo>
                  <a:lnTo>
                    <a:pt x="49" y="111"/>
                  </a:lnTo>
                  <a:lnTo>
                    <a:pt x="53" y="106"/>
                  </a:lnTo>
                  <a:lnTo>
                    <a:pt x="57" y="101"/>
                  </a:lnTo>
                  <a:lnTo>
                    <a:pt x="61" y="97"/>
                  </a:lnTo>
                  <a:lnTo>
                    <a:pt x="68" y="92"/>
                  </a:lnTo>
                  <a:lnTo>
                    <a:pt x="72" y="86"/>
                  </a:lnTo>
                  <a:lnTo>
                    <a:pt x="79" y="79"/>
                  </a:lnTo>
                  <a:lnTo>
                    <a:pt x="83" y="73"/>
                  </a:lnTo>
                  <a:lnTo>
                    <a:pt x="90" y="67"/>
                  </a:lnTo>
                  <a:lnTo>
                    <a:pt x="95" y="59"/>
                  </a:lnTo>
                  <a:lnTo>
                    <a:pt x="99" y="51"/>
                  </a:lnTo>
                  <a:lnTo>
                    <a:pt x="104" y="43"/>
                  </a:lnTo>
                  <a:lnTo>
                    <a:pt x="109" y="35"/>
                  </a:lnTo>
                  <a:lnTo>
                    <a:pt x="66" y="0"/>
                  </a:lnTo>
                  <a:lnTo>
                    <a:pt x="6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5" name=""/>
            <p:cNvSpPr/>
            <p:nvPr/>
          </p:nvSpPr>
          <p:spPr>
            <a:xfrm rot="21366600">
              <a:off x="5722560" y="3390120"/>
              <a:ext cx="79560" cy="78840"/>
            </a:xfrm>
            <a:custGeom>
              <a:avLst/>
              <a:gdLst/>
              <a:ahLst/>
              <a:rect l="l" t="t" r="r" b="b"/>
              <a:pathLst>
                <a:path w="117" h="116">
                  <a:moveTo>
                    <a:pt x="69" y="0"/>
                  </a:moveTo>
                  <a:lnTo>
                    <a:pt x="68" y="2"/>
                  </a:lnTo>
                  <a:lnTo>
                    <a:pt x="65" y="8"/>
                  </a:lnTo>
                  <a:lnTo>
                    <a:pt x="61" y="11"/>
                  </a:lnTo>
                  <a:lnTo>
                    <a:pt x="58" y="18"/>
                  </a:lnTo>
                  <a:lnTo>
                    <a:pt x="55" y="22"/>
                  </a:lnTo>
                  <a:lnTo>
                    <a:pt x="50" y="29"/>
                  </a:lnTo>
                  <a:lnTo>
                    <a:pt x="46" y="35"/>
                  </a:lnTo>
                  <a:lnTo>
                    <a:pt x="41" y="41"/>
                  </a:lnTo>
                  <a:lnTo>
                    <a:pt x="35" y="48"/>
                  </a:lnTo>
                  <a:lnTo>
                    <a:pt x="28" y="55"/>
                  </a:lnTo>
                  <a:lnTo>
                    <a:pt x="22" y="62"/>
                  </a:lnTo>
                  <a:lnTo>
                    <a:pt x="16" y="68"/>
                  </a:lnTo>
                  <a:lnTo>
                    <a:pt x="8" y="74"/>
                  </a:lnTo>
                  <a:lnTo>
                    <a:pt x="0" y="81"/>
                  </a:lnTo>
                  <a:lnTo>
                    <a:pt x="50" y="116"/>
                  </a:lnTo>
                  <a:lnTo>
                    <a:pt x="52" y="112"/>
                  </a:lnTo>
                  <a:lnTo>
                    <a:pt x="58" y="109"/>
                  </a:lnTo>
                  <a:lnTo>
                    <a:pt x="61" y="106"/>
                  </a:lnTo>
                  <a:lnTo>
                    <a:pt x="65" y="101"/>
                  </a:lnTo>
                  <a:lnTo>
                    <a:pt x="71" y="97"/>
                  </a:lnTo>
                  <a:lnTo>
                    <a:pt x="76" y="92"/>
                  </a:lnTo>
                  <a:lnTo>
                    <a:pt x="80" y="86"/>
                  </a:lnTo>
                  <a:lnTo>
                    <a:pt x="87" y="79"/>
                  </a:lnTo>
                  <a:lnTo>
                    <a:pt x="92" y="71"/>
                  </a:lnTo>
                  <a:lnTo>
                    <a:pt x="98" y="65"/>
                  </a:lnTo>
                  <a:lnTo>
                    <a:pt x="101" y="55"/>
                  </a:lnTo>
                  <a:lnTo>
                    <a:pt x="107" y="48"/>
                  </a:lnTo>
                  <a:lnTo>
                    <a:pt x="109" y="43"/>
                  </a:lnTo>
                  <a:lnTo>
                    <a:pt x="112" y="40"/>
                  </a:lnTo>
                  <a:lnTo>
                    <a:pt x="114" y="35"/>
                  </a:lnTo>
                  <a:lnTo>
                    <a:pt x="117" y="32"/>
                  </a:lnTo>
                  <a:lnTo>
                    <a:pt x="69" y="0"/>
                  </a:lnTo>
                  <a:lnTo>
                    <a:pt x="69"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16" name=""/>
            <p:cNvSpPr/>
            <p:nvPr/>
          </p:nvSpPr>
          <p:spPr>
            <a:xfrm rot="21366600">
              <a:off x="5780160" y="3419640"/>
              <a:ext cx="81000" cy="79200"/>
            </a:xfrm>
            <a:custGeom>
              <a:avLst/>
              <a:gdLst/>
              <a:ahLst/>
              <a:rect l="l" t="t" r="r" b="b"/>
              <a:pathLst>
                <a:path w="120" h="117">
                  <a:moveTo>
                    <a:pt x="70" y="0"/>
                  </a:moveTo>
                  <a:lnTo>
                    <a:pt x="68" y="2"/>
                  </a:lnTo>
                  <a:lnTo>
                    <a:pt x="65" y="10"/>
                  </a:lnTo>
                  <a:lnTo>
                    <a:pt x="62" y="13"/>
                  </a:lnTo>
                  <a:lnTo>
                    <a:pt x="59" y="19"/>
                  </a:lnTo>
                  <a:lnTo>
                    <a:pt x="55" y="24"/>
                  </a:lnTo>
                  <a:lnTo>
                    <a:pt x="51" y="32"/>
                  </a:lnTo>
                  <a:lnTo>
                    <a:pt x="46" y="38"/>
                  </a:lnTo>
                  <a:lnTo>
                    <a:pt x="41" y="44"/>
                  </a:lnTo>
                  <a:lnTo>
                    <a:pt x="35" y="52"/>
                  </a:lnTo>
                  <a:lnTo>
                    <a:pt x="29" y="60"/>
                  </a:lnTo>
                  <a:lnTo>
                    <a:pt x="21" y="67"/>
                  </a:lnTo>
                  <a:lnTo>
                    <a:pt x="14" y="73"/>
                  </a:lnTo>
                  <a:lnTo>
                    <a:pt x="6" y="79"/>
                  </a:lnTo>
                  <a:lnTo>
                    <a:pt x="0" y="87"/>
                  </a:lnTo>
                  <a:lnTo>
                    <a:pt x="54" y="117"/>
                  </a:lnTo>
                  <a:lnTo>
                    <a:pt x="55" y="116"/>
                  </a:lnTo>
                  <a:lnTo>
                    <a:pt x="60" y="111"/>
                  </a:lnTo>
                  <a:lnTo>
                    <a:pt x="63" y="108"/>
                  </a:lnTo>
                  <a:lnTo>
                    <a:pt x="68" y="103"/>
                  </a:lnTo>
                  <a:lnTo>
                    <a:pt x="73" y="98"/>
                  </a:lnTo>
                  <a:lnTo>
                    <a:pt x="79" y="93"/>
                  </a:lnTo>
                  <a:lnTo>
                    <a:pt x="84" y="87"/>
                  </a:lnTo>
                  <a:lnTo>
                    <a:pt x="90" y="81"/>
                  </a:lnTo>
                  <a:lnTo>
                    <a:pt x="95" y="73"/>
                  </a:lnTo>
                  <a:lnTo>
                    <a:pt x="101" y="65"/>
                  </a:lnTo>
                  <a:lnTo>
                    <a:pt x="103" y="60"/>
                  </a:lnTo>
                  <a:lnTo>
                    <a:pt x="106" y="57"/>
                  </a:lnTo>
                  <a:lnTo>
                    <a:pt x="108" y="52"/>
                  </a:lnTo>
                  <a:lnTo>
                    <a:pt x="111" y="49"/>
                  </a:lnTo>
                  <a:lnTo>
                    <a:pt x="114" y="44"/>
                  </a:lnTo>
                  <a:lnTo>
                    <a:pt x="116" y="40"/>
                  </a:lnTo>
                  <a:lnTo>
                    <a:pt x="119" y="35"/>
                  </a:lnTo>
                  <a:lnTo>
                    <a:pt x="120" y="30"/>
                  </a:lnTo>
                  <a:lnTo>
                    <a:pt x="70" y="0"/>
                  </a:lnTo>
                  <a:lnTo>
                    <a:pt x="7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7" name=""/>
            <p:cNvSpPr/>
            <p:nvPr/>
          </p:nvSpPr>
          <p:spPr>
            <a:xfrm rot="21366600">
              <a:off x="5841360" y="3449880"/>
              <a:ext cx="83880" cy="77760"/>
            </a:xfrm>
            <a:custGeom>
              <a:avLst/>
              <a:gdLst/>
              <a:ahLst/>
              <a:rect l="l" t="t" r="r" b="b"/>
              <a:pathLst>
                <a:path w="123" h="115">
                  <a:moveTo>
                    <a:pt x="69" y="0"/>
                  </a:moveTo>
                  <a:lnTo>
                    <a:pt x="68" y="1"/>
                  </a:lnTo>
                  <a:lnTo>
                    <a:pt x="64" y="9"/>
                  </a:lnTo>
                  <a:lnTo>
                    <a:pt x="61" y="12"/>
                  </a:lnTo>
                  <a:lnTo>
                    <a:pt x="58" y="17"/>
                  </a:lnTo>
                  <a:lnTo>
                    <a:pt x="55" y="23"/>
                  </a:lnTo>
                  <a:lnTo>
                    <a:pt x="50" y="31"/>
                  </a:lnTo>
                  <a:lnTo>
                    <a:pt x="45" y="38"/>
                  </a:lnTo>
                  <a:lnTo>
                    <a:pt x="41" y="44"/>
                  </a:lnTo>
                  <a:lnTo>
                    <a:pt x="34" y="52"/>
                  </a:lnTo>
                  <a:lnTo>
                    <a:pt x="30" y="58"/>
                  </a:lnTo>
                  <a:lnTo>
                    <a:pt x="22" y="65"/>
                  </a:lnTo>
                  <a:lnTo>
                    <a:pt x="15" y="73"/>
                  </a:lnTo>
                  <a:lnTo>
                    <a:pt x="8" y="79"/>
                  </a:lnTo>
                  <a:lnTo>
                    <a:pt x="0" y="85"/>
                  </a:lnTo>
                  <a:lnTo>
                    <a:pt x="57" y="115"/>
                  </a:lnTo>
                  <a:lnTo>
                    <a:pt x="58" y="112"/>
                  </a:lnTo>
                  <a:lnTo>
                    <a:pt x="63" y="109"/>
                  </a:lnTo>
                  <a:lnTo>
                    <a:pt x="66" y="104"/>
                  </a:lnTo>
                  <a:lnTo>
                    <a:pt x="71" y="101"/>
                  </a:lnTo>
                  <a:lnTo>
                    <a:pt x="77" y="96"/>
                  </a:lnTo>
                  <a:lnTo>
                    <a:pt x="82" y="91"/>
                  </a:lnTo>
                  <a:lnTo>
                    <a:pt x="87" y="85"/>
                  </a:lnTo>
                  <a:lnTo>
                    <a:pt x="93" y="79"/>
                  </a:lnTo>
                  <a:lnTo>
                    <a:pt x="98" y="71"/>
                  </a:lnTo>
                  <a:lnTo>
                    <a:pt x="104" y="63"/>
                  </a:lnTo>
                  <a:lnTo>
                    <a:pt x="106" y="58"/>
                  </a:lnTo>
                  <a:lnTo>
                    <a:pt x="109" y="55"/>
                  </a:lnTo>
                  <a:lnTo>
                    <a:pt x="112" y="50"/>
                  </a:lnTo>
                  <a:lnTo>
                    <a:pt x="115" y="46"/>
                  </a:lnTo>
                  <a:lnTo>
                    <a:pt x="117" y="41"/>
                  </a:lnTo>
                  <a:lnTo>
                    <a:pt x="120" y="36"/>
                  </a:lnTo>
                  <a:lnTo>
                    <a:pt x="121" y="31"/>
                  </a:lnTo>
                  <a:lnTo>
                    <a:pt x="123" y="27"/>
                  </a:lnTo>
                  <a:lnTo>
                    <a:pt x="69" y="0"/>
                  </a:lnTo>
                  <a:lnTo>
                    <a:pt x="6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8" name=""/>
            <p:cNvSpPr/>
            <p:nvPr/>
          </p:nvSpPr>
          <p:spPr>
            <a:xfrm rot="21366600">
              <a:off x="5907960" y="3475800"/>
              <a:ext cx="86040" cy="75960"/>
            </a:xfrm>
            <a:custGeom>
              <a:avLst/>
              <a:gdLst/>
              <a:ahLst/>
              <a:rect l="l" t="t" r="r" b="b"/>
              <a:pathLst>
                <a:path w="128" h="112">
                  <a:moveTo>
                    <a:pt x="70" y="0"/>
                  </a:moveTo>
                  <a:lnTo>
                    <a:pt x="68" y="1"/>
                  </a:lnTo>
                  <a:lnTo>
                    <a:pt x="65" y="9"/>
                  </a:lnTo>
                  <a:lnTo>
                    <a:pt x="62" y="12"/>
                  </a:lnTo>
                  <a:lnTo>
                    <a:pt x="59" y="19"/>
                  </a:lnTo>
                  <a:lnTo>
                    <a:pt x="55" y="23"/>
                  </a:lnTo>
                  <a:lnTo>
                    <a:pt x="52" y="31"/>
                  </a:lnTo>
                  <a:lnTo>
                    <a:pt x="46" y="38"/>
                  </a:lnTo>
                  <a:lnTo>
                    <a:pt x="41" y="44"/>
                  </a:lnTo>
                  <a:lnTo>
                    <a:pt x="35" y="50"/>
                  </a:lnTo>
                  <a:lnTo>
                    <a:pt x="30" y="58"/>
                  </a:lnTo>
                  <a:lnTo>
                    <a:pt x="24" y="66"/>
                  </a:lnTo>
                  <a:lnTo>
                    <a:pt x="16" y="72"/>
                  </a:lnTo>
                  <a:lnTo>
                    <a:pt x="8" y="79"/>
                  </a:lnTo>
                  <a:lnTo>
                    <a:pt x="0" y="87"/>
                  </a:lnTo>
                  <a:lnTo>
                    <a:pt x="63" y="112"/>
                  </a:lnTo>
                  <a:lnTo>
                    <a:pt x="65" y="110"/>
                  </a:lnTo>
                  <a:lnTo>
                    <a:pt x="70" y="106"/>
                  </a:lnTo>
                  <a:lnTo>
                    <a:pt x="71" y="101"/>
                  </a:lnTo>
                  <a:lnTo>
                    <a:pt x="76" y="98"/>
                  </a:lnTo>
                  <a:lnTo>
                    <a:pt x="81" y="91"/>
                  </a:lnTo>
                  <a:lnTo>
                    <a:pt x="86" y="87"/>
                  </a:lnTo>
                  <a:lnTo>
                    <a:pt x="90" y="80"/>
                  </a:lnTo>
                  <a:lnTo>
                    <a:pt x="95" y="74"/>
                  </a:lnTo>
                  <a:lnTo>
                    <a:pt x="100" y="66"/>
                  </a:lnTo>
                  <a:lnTo>
                    <a:pt x="106" y="58"/>
                  </a:lnTo>
                  <a:lnTo>
                    <a:pt x="108" y="53"/>
                  </a:lnTo>
                  <a:lnTo>
                    <a:pt x="111" y="49"/>
                  </a:lnTo>
                  <a:lnTo>
                    <a:pt x="114" y="45"/>
                  </a:lnTo>
                  <a:lnTo>
                    <a:pt x="117" y="41"/>
                  </a:lnTo>
                  <a:lnTo>
                    <a:pt x="119" y="36"/>
                  </a:lnTo>
                  <a:lnTo>
                    <a:pt x="122" y="31"/>
                  </a:lnTo>
                  <a:lnTo>
                    <a:pt x="125" y="27"/>
                  </a:lnTo>
                  <a:lnTo>
                    <a:pt x="128" y="22"/>
                  </a:lnTo>
                  <a:lnTo>
                    <a:pt x="70" y="0"/>
                  </a:lnTo>
                  <a:lnTo>
                    <a:pt x="7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19" name=""/>
          <p:cNvGrpSpPr/>
          <p:nvPr/>
        </p:nvGrpSpPr>
        <p:grpSpPr>
          <a:xfrm>
            <a:off x="4708440" y="2617200"/>
            <a:ext cx="1559520" cy="1507680"/>
            <a:chOff x="4708440" y="2617200"/>
            <a:chExt cx="1559520" cy="1507680"/>
          </a:xfrm>
        </p:grpSpPr>
        <p:sp>
          <p:nvSpPr>
            <p:cNvPr id="420" name=""/>
            <p:cNvSpPr/>
            <p:nvPr/>
          </p:nvSpPr>
          <p:spPr>
            <a:xfrm rot="21366600">
              <a:off x="4725360" y="3545280"/>
              <a:ext cx="1144440" cy="541080"/>
            </a:xfrm>
            <a:custGeom>
              <a:avLst/>
              <a:gdLst/>
              <a:ahLst/>
              <a:rect l="l" t="t" r="r" b="b"/>
              <a:pathLst>
                <a:path w="1701" h="801">
                  <a:moveTo>
                    <a:pt x="1148" y="0"/>
                  </a:moveTo>
                  <a:lnTo>
                    <a:pt x="1145" y="0"/>
                  </a:lnTo>
                  <a:lnTo>
                    <a:pt x="1142" y="1"/>
                  </a:lnTo>
                  <a:lnTo>
                    <a:pt x="1139" y="1"/>
                  </a:lnTo>
                  <a:lnTo>
                    <a:pt x="1136" y="3"/>
                  </a:lnTo>
                  <a:lnTo>
                    <a:pt x="1131" y="4"/>
                  </a:lnTo>
                  <a:lnTo>
                    <a:pt x="1126" y="7"/>
                  </a:lnTo>
                  <a:lnTo>
                    <a:pt x="1118" y="9"/>
                  </a:lnTo>
                  <a:lnTo>
                    <a:pt x="1112" y="11"/>
                  </a:lnTo>
                  <a:lnTo>
                    <a:pt x="1106" y="12"/>
                  </a:lnTo>
                  <a:lnTo>
                    <a:pt x="1098" y="15"/>
                  </a:lnTo>
                  <a:lnTo>
                    <a:pt x="1090" y="19"/>
                  </a:lnTo>
                  <a:lnTo>
                    <a:pt x="1080" y="22"/>
                  </a:lnTo>
                  <a:lnTo>
                    <a:pt x="1071" y="25"/>
                  </a:lnTo>
                  <a:lnTo>
                    <a:pt x="1061" y="28"/>
                  </a:lnTo>
                  <a:lnTo>
                    <a:pt x="1050" y="31"/>
                  </a:lnTo>
                  <a:lnTo>
                    <a:pt x="1038" y="36"/>
                  </a:lnTo>
                  <a:lnTo>
                    <a:pt x="1027" y="39"/>
                  </a:lnTo>
                  <a:lnTo>
                    <a:pt x="1014" y="42"/>
                  </a:lnTo>
                  <a:lnTo>
                    <a:pt x="1000" y="47"/>
                  </a:lnTo>
                  <a:lnTo>
                    <a:pt x="987" y="50"/>
                  </a:lnTo>
                  <a:lnTo>
                    <a:pt x="973" y="55"/>
                  </a:lnTo>
                  <a:lnTo>
                    <a:pt x="959" y="60"/>
                  </a:lnTo>
                  <a:lnTo>
                    <a:pt x="943" y="63"/>
                  </a:lnTo>
                  <a:lnTo>
                    <a:pt x="927" y="68"/>
                  </a:lnTo>
                  <a:lnTo>
                    <a:pt x="910" y="72"/>
                  </a:lnTo>
                  <a:lnTo>
                    <a:pt x="894" y="77"/>
                  </a:lnTo>
                  <a:lnTo>
                    <a:pt x="875" y="82"/>
                  </a:lnTo>
                  <a:lnTo>
                    <a:pt x="859" y="87"/>
                  </a:lnTo>
                  <a:lnTo>
                    <a:pt x="840" y="91"/>
                  </a:lnTo>
                  <a:lnTo>
                    <a:pt x="821" y="96"/>
                  </a:lnTo>
                  <a:lnTo>
                    <a:pt x="802" y="99"/>
                  </a:lnTo>
                  <a:lnTo>
                    <a:pt x="781" y="104"/>
                  </a:lnTo>
                  <a:lnTo>
                    <a:pt x="759" y="109"/>
                  </a:lnTo>
                  <a:lnTo>
                    <a:pt x="740" y="113"/>
                  </a:lnTo>
                  <a:lnTo>
                    <a:pt x="718" y="118"/>
                  </a:lnTo>
                  <a:lnTo>
                    <a:pt x="696" y="123"/>
                  </a:lnTo>
                  <a:lnTo>
                    <a:pt x="674" y="128"/>
                  </a:lnTo>
                  <a:lnTo>
                    <a:pt x="652" y="132"/>
                  </a:lnTo>
                  <a:lnTo>
                    <a:pt x="628" y="136"/>
                  </a:lnTo>
                  <a:lnTo>
                    <a:pt x="604" y="140"/>
                  </a:lnTo>
                  <a:lnTo>
                    <a:pt x="581" y="143"/>
                  </a:lnTo>
                  <a:lnTo>
                    <a:pt x="557" y="148"/>
                  </a:lnTo>
                  <a:lnTo>
                    <a:pt x="532" y="153"/>
                  </a:lnTo>
                  <a:lnTo>
                    <a:pt x="506" y="156"/>
                  </a:lnTo>
                  <a:lnTo>
                    <a:pt x="481" y="161"/>
                  </a:lnTo>
                  <a:lnTo>
                    <a:pt x="456" y="164"/>
                  </a:lnTo>
                  <a:lnTo>
                    <a:pt x="429" y="167"/>
                  </a:lnTo>
                  <a:lnTo>
                    <a:pt x="402" y="170"/>
                  </a:lnTo>
                  <a:lnTo>
                    <a:pt x="375" y="174"/>
                  </a:lnTo>
                  <a:lnTo>
                    <a:pt x="348" y="177"/>
                  </a:lnTo>
                  <a:lnTo>
                    <a:pt x="320" y="178"/>
                  </a:lnTo>
                  <a:lnTo>
                    <a:pt x="291" y="181"/>
                  </a:lnTo>
                  <a:lnTo>
                    <a:pt x="263" y="183"/>
                  </a:lnTo>
                  <a:lnTo>
                    <a:pt x="234" y="186"/>
                  </a:lnTo>
                  <a:lnTo>
                    <a:pt x="206" y="188"/>
                  </a:lnTo>
                  <a:lnTo>
                    <a:pt x="176" y="191"/>
                  </a:lnTo>
                  <a:lnTo>
                    <a:pt x="146" y="193"/>
                  </a:lnTo>
                  <a:lnTo>
                    <a:pt x="117" y="194"/>
                  </a:lnTo>
                  <a:lnTo>
                    <a:pt x="87" y="194"/>
                  </a:lnTo>
                  <a:lnTo>
                    <a:pt x="57" y="196"/>
                  </a:lnTo>
                  <a:lnTo>
                    <a:pt x="25" y="197"/>
                  </a:lnTo>
                  <a:lnTo>
                    <a:pt x="0" y="197"/>
                  </a:lnTo>
                  <a:lnTo>
                    <a:pt x="87" y="267"/>
                  </a:lnTo>
                  <a:lnTo>
                    <a:pt x="62" y="333"/>
                  </a:lnTo>
                  <a:lnTo>
                    <a:pt x="218" y="406"/>
                  </a:lnTo>
                  <a:lnTo>
                    <a:pt x="183" y="601"/>
                  </a:lnTo>
                  <a:lnTo>
                    <a:pt x="392" y="634"/>
                  </a:lnTo>
                  <a:lnTo>
                    <a:pt x="367" y="741"/>
                  </a:lnTo>
                  <a:lnTo>
                    <a:pt x="443" y="801"/>
                  </a:lnTo>
                  <a:lnTo>
                    <a:pt x="443" y="801"/>
                  </a:lnTo>
                  <a:lnTo>
                    <a:pt x="445" y="801"/>
                  </a:lnTo>
                  <a:lnTo>
                    <a:pt x="446" y="800"/>
                  </a:lnTo>
                  <a:lnTo>
                    <a:pt x="451" y="800"/>
                  </a:lnTo>
                  <a:lnTo>
                    <a:pt x="456" y="800"/>
                  </a:lnTo>
                  <a:lnTo>
                    <a:pt x="463" y="798"/>
                  </a:lnTo>
                  <a:lnTo>
                    <a:pt x="467" y="798"/>
                  </a:lnTo>
                  <a:lnTo>
                    <a:pt x="471" y="798"/>
                  </a:lnTo>
                  <a:lnTo>
                    <a:pt x="476" y="797"/>
                  </a:lnTo>
                  <a:lnTo>
                    <a:pt x="481" y="797"/>
                  </a:lnTo>
                  <a:lnTo>
                    <a:pt x="486" y="795"/>
                  </a:lnTo>
                  <a:lnTo>
                    <a:pt x="492" y="795"/>
                  </a:lnTo>
                  <a:lnTo>
                    <a:pt x="497" y="793"/>
                  </a:lnTo>
                  <a:lnTo>
                    <a:pt x="503" y="793"/>
                  </a:lnTo>
                  <a:lnTo>
                    <a:pt x="509" y="792"/>
                  </a:lnTo>
                  <a:lnTo>
                    <a:pt x="517" y="790"/>
                  </a:lnTo>
                  <a:lnTo>
                    <a:pt x="524" y="789"/>
                  </a:lnTo>
                  <a:lnTo>
                    <a:pt x="532" y="789"/>
                  </a:lnTo>
                  <a:lnTo>
                    <a:pt x="539" y="787"/>
                  </a:lnTo>
                  <a:lnTo>
                    <a:pt x="547" y="786"/>
                  </a:lnTo>
                  <a:lnTo>
                    <a:pt x="552" y="784"/>
                  </a:lnTo>
                  <a:lnTo>
                    <a:pt x="557" y="784"/>
                  </a:lnTo>
                  <a:lnTo>
                    <a:pt x="562" y="782"/>
                  </a:lnTo>
                  <a:lnTo>
                    <a:pt x="566" y="782"/>
                  </a:lnTo>
                  <a:lnTo>
                    <a:pt x="571" y="781"/>
                  </a:lnTo>
                  <a:lnTo>
                    <a:pt x="576" y="781"/>
                  </a:lnTo>
                  <a:lnTo>
                    <a:pt x="581" y="779"/>
                  </a:lnTo>
                  <a:lnTo>
                    <a:pt x="585" y="779"/>
                  </a:lnTo>
                  <a:lnTo>
                    <a:pt x="590" y="778"/>
                  </a:lnTo>
                  <a:lnTo>
                    <a:pt x="596" y="778"/>
                  </a:lnTo>
                  <a:lnTo>
                    <a:pt x="601" y="776"/>
                  </a:lnTo>
                  <a:lnTo>
                    <a:pt x="607" y="776"/>
                  </a:lnTo>
                  <a:lnTo>
                    <a:pt x="612" y="774"/>
                  </a:lnTo>
                  <a:lnTo>
                    <a:pt x="619" y="773"/>
                  </a:lnTo>
                  <a:lnTo>
                    <a:pt x="626" y="770"/>
                  </a:lnTo>
                  <a:lnTo>
                    <a:pt x="634" y="768"/>
                  </a:lnTo>
                  <a:lnTo>
                    <a:pt x="644" y="767"/>
                  </a:lnTo>
                  <a:lnTo>
                    <a:pt x="653" y="763"/>
                  </a:lnTo>
                  <a:lnTo>
                    <a:pt x="664" y="762"/>
                  </a:lnTo>
                  <a:lnTo>
                    <a:pt x="675" y="760"/>
                  </a:lnTo>
                  <a:lnTo>
                    <a:pt x="687" y="757"/>
                  </a:lnTo>
                  <a:lnTo>
                    <a:pt x="699" y="754"/>
                  </a:lnTo>
                  <a:lnTo>
                    <a:pt x="712" y="751"/>
                  </a:lnTo>
                  <a:lnTo>
                    <a:pt x="726" y="748"/>
                  </a:lnTo>
                  <a:lnTo>
                    <a:pt x="740" y="744"/>
                  </a:lnTo>
                  <a:lnTo>
                    <a:pt x="756" y="741"/>
                  </a:lnTo>
                  <a:lnTo>
                    <a:pt x="770" y="738"/>
                  </a:lnTo>
                  <a:lnTo>
                    <a:pt x="788" y="735"/>
                  </a:lnTo>
                  <a:lnTo>
                    <a:pt x="802" y="730"/>
                  </a:lnTo>
                  <a:lnTo>
                    <a:pt x="819" y="725"/>
                  </a:lnTo>
                  <a:lnTo>
                    <a:pt x="837" y="721"/>
                  </a:lnTo>
                  <a:lnTo>
                    <a:pt x="854" y="716"/>
                  </a:lnTo>
                  <a:lnTo>
                    <a:pt x="873" y="711"/>
                  </a:lnTo>
                  <a:lnTo>
                    <a:pt x="891" y="706"/>
                  </a:lnTo>
                  <a:lnTo>
                    <a:pt x="910" y="702"/>
                  </a:lnTo>
                  <a:lnTo>
                    <a:pt x="929" y="697"/>
                  </a:lnTo>
                  <a:lnTo>
                    <a:pt x="948" y="691"/>
                  </a:lnTo>
                  <a:lnTo>
                    <a:pt x="968" y="686"/>
                  </a:lnTo>
                  <a:lnTo>
                    <a:pt x="987" y="680"/>
                  </a:lnTo>
                  <a:lnTo>
                    <a:pt x="1008" y="675"/>
                  </a:lnTo>
                  <a:lnTo>
                    <a:pt x="1028" y="669"/>
                  </a:lnTo>
                  <a:lnTo>
                    <a:pt x="1049" y="662"/>
                  </a:lnTo>
                  <a:lnTo>
                    <a:pt x="1069" y="656"/>
                  </a:lnTo>
                  <a:lnTo>
                    <a:pt x="1091" y="651"/>
                  </a:lnTo>
                  <a:lnTo>
                    <a:pt x="1112" y="643"/>
                  </a:lnTo>
                  <a:lnTo>
                    <a:pt x="1133" y="637"/>
                  </a:lnTo>
                  <a:lnTo>
                    <a:pt x="1153" y="629"/>
                  </a:lnTo>
                  <a:lnTo>
                    <a:pt x="1175" y="623"/>
                  </a:lnTo>
                  <a:lnTo>
                    <a:pt x="1196" y="615"/>
                  </a:lnTo>
                  <a:lnTo>
                    <a:pt x="1218" y="607"/>
                  </a:lnTo>
                  <a:lnTo>
                    <a:pt x="1239" y="599"/>
                  </a:lnTo>
                  <a:lnTo>
                    <a:pt x="1261" y="593"/>
                  </a:lnTo>
                  <a:lnTo>
                    <a:pt x="1281" y="583"/>
                  </a:lnTo>
                  <a:lnTo>
                    <a:pt x="1302" y="577"/>
                  </a:lnTo>
                  <a:lnTo>
                    <a:pt x="1322" y="567"/>
                  </a:lnTo>
                  <a:lnTo>
                    <a:pt x="1343" y="559"/>
                  </a:lnTo>
                  <a:lnTo>
                    <a:pt x="1364" y="552"/>
                  </a:lnTo>
                  <a:lnTo>
                    <a:pt x="1384" y="542"/>
                  </a:lnTo>
                  <a:lnTo>
                    <a:pt x="1405" y="534"/>
                  </a:lnTo>
                  <a:lnTo>
                    <a:pt x="1425" y="526"/>
                  </a:lnTo>
                  <a:lnTo>
                    <a:pt x="1446" y="517"/>
                  </a:lnTo>
                  <a:lnTo>
                    <a:pt x="1465" y="507"/>
                  </a:lnTo>
                  <a:lnTo>
                    <a:pt x="1484" y="498"/>
                  </a:lnTo>
                  <a:lnTo>
                    <a:pt x="1503" y="488"/>
                  </a:lnTo>
                  <a:lnTo>
                    <a:pt x="1522" y="479"/>
                  </a:lnTo>
                  <a:lnTo>
                    <a:pt x="1539" y="468"/>
                  </a:lnTo>
                  <a:lnTo>
                    <a:pt x="1558" y="458"/>
                  </a:lnTo>
                  <a:lnTo>
                    <a:pt x="1576" y="449"/>
                  </a:lnTo>
                  <a:lnTo>
                    <a:pt x="1593" y="438"/>
                  </a:lnTo>
                  <a:lnTo>
                    <a:pt x="1609" y="428"/>
                  </a:lnTo>
                  <a:lnTo>
                    <a:pt x="1626" y="417"/>
                  </a:lnTo>
                  <a:lnTo>
                    <a:pt x="1642" y="408"/>
                  </a:lnTo>
                  <a:lnTo>
                    <a:pt x="1656" y="395"/>
                  </a:lnTo>
                  <a:lnTo>
                    <a:pt x="1672" y="384"/>
                  </a:lnTo>
                  <a:lnTo>
                    <a:pt x="1686" y="374"/>
                  </a:lnTo>
                  <a:lnTo>
                    <a:pt x="1701" y="363"/>
                  </a:lnTo>
                  <a:lnTo>
                    <a:pt x="1425" y="0"/>
                  </a:lnTo>
                  <a:lnTo>
                    <a:pt x="1148" y="0"/>
                  </a:lnTo>
                  <a:lnTo>
                    <a:pt x="1148"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rot="21366600">
              <a:off x="5729400" y="2651040"/>
              <a:ext cx="501480" cy="713880"/>
            </a:xfrm>
            <a:custGeom>
              <a:avLst/>
              <a:gdLst/>
              <a:ahLst/>
              <a:rect l="l" t="t" r="r" b="b"/>
              <a:pathLst>
                <a:path w="745" h="1058">
                  <a:moveTo>
                    <a:pt x="0" y="786"/>
                  </a:moveTo>
                  <a:lnTo>
                    <a:pt x="0" y="784"/>
                  </a:lnTo>
                  <a:lnTo>
                    <a:pt x="0" y="781"/>
                  </a:lnTo>
                  <a:lnTo>
                    <a:pt x="1" y="775"/>
                  </a:lnTo>
                  <a:lnTo>
                    <a:pt x="4" y="769"/>
                  </a:lnTo>
                  <a:lnTo>
                    <a:pt x="6" y="764"/>
                  </a:lnTo>
                  <a:lnTo>
                    <a:pt x="8" y="759"/>
                  </a:lnTo>
                  <a:lnTo>
                    <a:pt x="9" y="754"/>
                  </a:lnTo>
                  <a:lnTo>
                    <a:pt x="11" y="750"/>
                  </a:lnTo>
                  <a:lnTo>
                    <a:pt x="12" y="745"/>
                  </a:lnTo>
                  <a:lnTo>
                    <a:pt x="16" y="739"/>
                  </a:lnTo>
                  <a:lnTo>
                    <a:pt x="17" y="734"/>
                  </a:lnTo>
                  <a:lnTo>
                    <a:pt x="20" y="729"/>
                  </a:lnTo>
                  <a:lnTo>
                    <a:pt x="22" y="723"/>
                  </a:lnTo>
                  <a:lnTo>
                    <a:pt x="23" y="716"/>
                  </a:lnTo>
                  <a:lnTo>
                    <a:pt x="25" y="710"/>
                  </a:lnTo>
                  <a:lnTo>
                    <a:pt x="28" y="705"/>
                  </a:lnTo>
                  <a:lnTo>
                    <a:pt x="30" y="699"/>
                  </a:lnTo>
                  <a:lnTo>
                    <a:pt x="33" y="693"/>
                  </a:lnTo>
                  <a:lnTo>
                    <a:pt x="36" y="688"/>
                  </a:lnTo>
                  <a:lnTo>
                    <a:pt x="39" y="683"/>
                  </a:lnTo>
                  <a:lnTo>
                    <a:pt x="42" y="679"/>
                  </a:lnTo>
                  <a:lnTo>
                    <a:pt x="46" y="672"/>
                  </a:lnTo>
                  <a:lnTo>
                    <a:pt x="49" y="667"/>
                  </a:lnTo>
                  <a:lnTo>
                    <a:pt x="52" y="664"/>
                  </a:lnTo>
                  <a:lnTo>
                    <a:pt x="58" y="656"/>
                  </a:lnTo>
                  <a:lnTo>
                    <a:pt x="65" y="650"/>
                  </a:lnTo>
                  <a:lnTo>
                    <a:pt x="71" y="645"/>
                  </a:lnTo>
                  <a:lnTo>
                    <a:pt x="79" y="644"/>
                  </a:lnTo>
                  <a:lnTo>
                    <a:pt x="87" y="641"/>
                  </a:lnTo>
                  <a:lnTo>
                    <a:pt x="95" y="641"/>
                  </a:lnTo>
                  <a:lnTo>
                    <a:pt x="103" y="641"/>
                  </a:lnTo>
                  <a:lnTo>
                    <a:pt x="110" y="642"/>
                  </a:lnTo>
                  <a:lnTo>
                    <a:pt x="118" y="644"/>
                  </a:lnTo>
                  <a:lnTo>
                    <a:pt x="128" y="647"/>
                  </a:lnTo>
                  <a:lnTo>
                    <a:pt x="134" y="648"/>
                  </a:lnTo>
                  <a:lnTo>
                    <a:pt x="141" y="650"/>
                  </a:lnTo>
                  <a:lnTo>
                    <a:pt x="147" y="653"/>
                  </a:lnTo>
                  <a:lnTo>
                    <a:pt x="153" y="656"/>
                  </a:lnTo>
                  <a:lnTo>
                    <a:pt x="158" y="658"/>
                  </a:lnTo>
                  <a:lnTo>
                    <a:pt x="161" y="660"/>
                  </a:lnTo>
                  <a:lnTo>
                    <a:pt x="163" y="661"/>
                  </a:lnTo>
                  <a:lnTo>
                    <a:pt x="164" y="663"/>
                  </a:lnTo>
                  <a:lnTo>
                    <a:pt x="283" y="688"/>
                  </a:lnTo>
                  <a:lnTo>
                    <a:pt x="284" y="686"/>
                  </a:lnTo>
                  <a:lnTo>
                    <a:pt x="291" y="683"/>
                  </a:lnTo>
                  <a:lnTo>
                    <a:pt x="294" y="680"/>
                  </a:lnTo>
                  <a:lnTo>
                    <a:pt x="299" y="677"/>
                  </a:lnTo>
                  <a:lnTo>
                    <a:pt x="303" y="674"/>
                  </a:lnTo>
                  <a:lnTo>
                    <a:pt x="308" y="671"/>
                  </a:lnTo>
                  <a:lnTo>
                    <a:pt x="313" y="667"/>
                  </a:lnTo>
                  <a:lnTo>
                    <a:pt x="319" y="663"/>
                  </a:lnTo>
                  <a:lnTo>
                    <a:pt x="324" y="660"/>
                  </a:lnTo>
                  <a:lnTo>
                    <a:pt x="329" y="655"/>
                  </a:lnTo>
                  <a:lnTo>
                    <a:pt x="335" y="647"/>
                  </a:lnTo>
                  <a:lnTo>
                    <a:pt x="340" y="639"/>
                  </a:lnTo>
                  <a:lnTo>
                    <a:pt x="340" y="636"/>
                  </a:lnTo>
                  <a:lnTo>
                    <a:pt x="341" y="629"/>
                  </a:lnTo>
                  <a:lnTo>
                    <a:pt x="341" y="626"/>
                  </a:lnTo>
                  <a:lnTo>
                    <a:pt x="343" y="622"/>
                  </a:lnTo>
                  <a:lnTo>
                    <a:pt x="343" y="617"/>
                  </a:lnTo>
                  <a:lnTo>
                    <a:pt x="345" y="612"/>
                  </a:lnTo>
                  <a:lnTo>
                    <a:pt x="346" y="607"/>
                  </a:lnTo>
                  <a:lnTo>
                    <a:pt x="348" y="601"/>
                  </a:lnTo>
                  <a:lnTo>
                    <a:pt x="349" y="595"/>
                  </a:lnTo>
                  <a:lnTo>
                    <a:pt x="351" y="590"/>
                  </a:lnTo>
                  <a:lnTo>
                    <a:pt x="354" y="582"/>
                  </a:lnTo>
                  <a:lnTo>
                    <a:pt x="356" y="576"/>
                  </a:lnTo>
                  <a:lnTo>
                    <a:pt x="359" y="568"/>
                  </a:lnTo>
                  <a:lnTo>
                    <a:pt x="360" y="561"/>
                  </a:lnTo>
                  <a:lnTo>
                    <a:pt x="362" y="552"/>
                  </a:lnTo>
                  <a:lnTo>
                    <a:pt x="365" y="544"/>
                  </a:lnTo>
                  <a:lnTo>
                    <a:pt x="367" y="535"/>
                  </a:lnTo>
                  <a:lnTo>
                    <a:pt x="368" y="527"/>
                  </a:lnTo>
                  <a:lnTo>
                    <a:pt x="371" y="517"/>
                  </a:lnTo>
                  <a:lnTo>
                    <a:pt x="375" y="508"/>
                  </a:lnTo>
                  <a:lnTo>
                    <a:pt x="378" y="498"/>
                  </a:lnTo>
                  <a:lnTo>
                    <a:pt x="381" y="490"/>
                  </a:lnTo>
                  <a:lnTo>
                    <a:pt x="383" y="481"/>
                  </a:lnTo>
                  <a:lnTo>
                    <a:pt x="386" y="470"/>
                  </a:lnTo>
                  <a:lnTo>
                    <a:pt x="389" y="460"/>
                  </a:lnTo>
                  <a:lnTo>
                    <a:pt x="392" y="451"/>
                  </a:lnTo>
                  <a:lnTo>
                    <a:pt x="394" y="441"/>
                  </a:lnTo>
                  <a:lnTo>
                    <a:pt x="398" y="432"/>
                  </a:lnTo>
                  <a:lnTo>
                    <a:pt x="400" y="421"/>
                  </a:lnTo>
                  <a:lnTo>
                    <a:pt x="405" y="411"/>
                  </a:lnTo>
                  <a:lnTo>
                    <a:pt x="406" y="402"/>
                  </a:lnTo>
                  <a:lnTo>
                    <a:pt x="409" y="391"/>
                  </a:lnTo>
                  <a:lnTo>
                    <a:pt x="411" y="381"/>
                  </a:lnTo>
                  <a:lnTo>
                    <a:pt x="414" y="372"/>
                  </a:lnTo>
                  <a:lnTo>
                    <a:pt x="417" y="362"/>
                  </a:lnTo>
                  <a:lnTo>
                    <a:pt x="421" y="353"/>
                  </a:lnTo>
                  <a:lnTo>
                    <a:pt x="424" y="343"/>
                  </a:lnTo>
                  <a:lnTo>
                    <a:pt x="427" y="334"/>
                  </a:lnTo>
                  <a:lnTo>
                    <a:pt x="428" y="324"/>
                  </a:lnTo>
                  <a:lnTo>
                    <a:pt x="432" y="315"/>
                  </a:lnTo>
                  <a:lnTo>
                    <a:pt x="433" y="307"/>
                  </a:lnTo>
                  <a:lnTo>
                    <a:pt x="436" y="297"/>
                  </a:lnTo>
                  <a:lnTo>
                    <a:pt x="439" y="289"/>
                  </a:lnTo>
                  <a:lnTo>
                    <a:pt x="441" y="282"/>
                  </a:lnTo>
                  <a:lnTo>
                    <a:pt x="444" y="274"/>
                  </a:lnTo>
                  <a:lnTo>
                    <a:pt x="446" y="267"/>
                  </a:lnTo>
                  <a:lnTo>
                    <a:pt x="449" y="259"/>
                  </a:lnTo>
                  <a:lnTo>
                    <a:pt x="449" y="252"/>
                  </a:lnTo>
                  <a:lnTo>
                    <a:pt x="451" y="245"/>
                  </a:lnTo>
                  <a:lnTo>
                    <a:pt x="454" y="240"/>
                  </a:lnTo>
                  <a:lnTo>
                    <a:pt x="455" y="234"/>
                  </a:lnTo>
                  <a:lnTo>
                    <a:pt x="457" y="228"/>
                  </a:lnTo>
                  <a:lnTo>
                    <a:pt x="458" y="223"/>
                  </a:lnTo>
                  <a:lnTo>
                    <a:pt x="460" y="220"/>
                  </a:lnTo>
                  <a:lnTo>
                    <a:pt x="462" y="212"/>
                  </a:lnTo>
                  <a:lnTo>
                    <a:pt x="465" y="206"/>
                  </a:lnTo>
                  <a:lnTo>
                    <a:pt x="465" y="204"/>
                  </a:lnTo>
                  <a:lnTo>
                    <a:pt x="466" y="202"/>
                  </a:lnTo>
                  <a:lnTo>
                    <a:pt x="582" y="55"/>
                  </a:lnTo>
                  <a:lnTo>
                    <a:pt x="666" y="0"/>
                  </a:lnTo>
                  <a:lnTo>
                    <a:pt x="719" y="3"/>
                  </a:lnTo>
                  <a:lnTo>
                    <a:pt x="745" y="74"/>
                  </a:lnTo>
                  <a:lnTo>
                    <a:pt x="723" y="240"/>
                  </a:lnTo>
                  <a:lnTo>
                    <a:pt x="672" y="367"/>
                  </a:lnTo>
                  <a:lnTo>
                    <a:pt x="610" y="481"/>
                  </a:lnTo>
                  <a:lnTo>
                    <a:pt x="533" y="590"/>
                  </a:lnTo>
                  <a:lnTo>
                    <a:pt x="481" y="667"/>
                  </a:lnTo>
                  <a:lnTo>
                    <a:pt x="479" y="669"/>
                  </a:lnTo>
                  <a:lnTo>
                    <a:pt x="477" y="672"/>
                  </a:lnTo>
                  <a:lnTo>
                    <a:pt x="474" y="675"/>
                  </a:lnTo>
                  <a:lnTo>
                    <a:pt x="473" y="683"/>
                  </a:lnTo>
                  <a:lnTo>
                    <a:pt x="468" y="690"/>
                  </a:lnTo>
                  <a:lnTo>
                    <a:pt x="465" y="697"/>
                  </a:lnTo>
                  <a:lnTo>
                    <a:pt x="462" y="702"/>
                  </a:lnTo>
                  <a:lnTo>
                    <a:pt x="460" y="707"/>
                  </a:lnTo>
                  <a:lnTo>
                    <a:pt x="458" y="712"/>
                  </a:lnTo>
                  <a:lnTo>
                    <a:pt x="458" y="718"/>
                  </a:lnTo>
                  <a:lnTo>
                    <a:pt x="455" y="723"/>
                  </a:lnTo>
                  <a:lnTo>
                    <a:pt x="454" y="728"/>
                  </a:lnTo>
                  <a:lnTo>
                    <a:pt x="452" y="731"/>
                  </a:lnTo>
                  <a:lnTo>
                    <a:pt x="452" y="737"/>
                  </a:lnTo>
                  <a:lnTo>
                    <a:pt x="451" y="742"/>
                  </a:lnTo>
                  <a:lnTo>
                    <a:pt x="451" y="747"/>
                  </a:lnTo>
                  <a:lnTo>
                    <a:pt x="451" y="751"/>
                  </a:lnTo>
                  <a:lnTo>
                    <a:pt x="451" y="758"/>
                  </a:lnTo>
                  <a:lnTo>
                    <a:pt x="451" y="761"/>
                  </a:lnTo>
                  <a:lnTo>
                    <a:pt x="452" y="765"/>
                  </a:lnTo>
                  <a:lnTo>
                    <a:pt x="452" y="770"/>
                  </a:lnTo>
                  <a:lnTo>
                    <a:pt x="455" y="773"/>
                  </a:lnTo>
                  <a:lnTo>
                    <a:pt x="460" y="780"/>
                  </a:lnTo>
                  <a:lnTo>
                    <a:pt x="468" y="786"/>
                  </a:lnTo>
                  <a:lnTo>
                    <a:pt x="471" y="789"/>
                  </a:lnTo>
                  <a:lnTo>
                    <a:pt x="476" y="791"/>
                  </a:lnTo>
                  <a:lnTo>
                    <a:pt x="481" y="794"/>
                  </a:lnTo>
                  <a:lnTo>
                    <a:pt x="487" y="796"/>
                  </a:lnTo>
                  <a:lnTo>
                    <a:pt x="490" y="799"/>
                  </a:lnTo>
                  <a:lnTo>
                    <a:pt x="496" y="802"/>
                  </a:lnTo>
                  <a:lnTo>
                    <a:pt x="503" y="805"/>
                  </a:lnTo>
                  <a:lnTo>
                    <a:pt x="509" y="808"/>
                  </a:lnTo>
                  <a:lnTo>
                    <a:pt x="515" y="810"/>
                  </a:lnTo>
                  <a:lnTo>
                    <a:pt x="522" y="813"/>
                  </a:lnTo>
                  <a:lnTo>
                    <a:pt x="528" y="816"/>
                  </a:lnTo>
                  <a:lnTo>
                    <a:pt x="536" y="818"/>
                  </a:lnTo>
                  <a:lnTo>
                    <a:pt x="542" y="821"/>
                  </a:lnTo>
                  <a:lnTo>
                    <a:pt x="549" y="824"/>
                  </a:lnTo>
                  <a:lnTo>
                    <a:pt x="555" y="827"/>
                  </a:lnTo>
                  <a:lnTo>
                    <a:pt x="561" y="830"/>
                  </a:lnTo>
                  <a:lnTo>
                    <a:pt x="568" y="832"/>
                  </a:lnTo>
                  <a:lnTo>
                    <a:pt x="574" y="835"/>
                  </a:lnTo>
                  <a:lnTo>
                    <a:pt x="580" y="837"/>
                  </a:lnTo>
                  <a:lnTo>
                    <a:pt x="587" y="840"/>
                  </a:lnTo>
                  <a:lnTo>
                    <a:pt x="591" y="841"/>
                  </a:lnTo>
                  <a:lnTo>
                    <a:pt x="596" y="843"/>
                  </a:lnTo>
                  <a:lnTo>
                    <a:pt x="601" y="845"/>
                  </a:lnTo>
                  <a:lnTo>
                    <a:pt x="606" y="848"/>
                  </a:lnTo>
                  <a:lnTo>
                    <a:pt x="614" y="849"/>
                  </a:lnTo>
                  <a:lnTo>
                    <a:pt x="620" y="852"/>
                  </a:lnTo>
                  <a:lnTo>
                    <a:pt x="625" y="854"/>
                  </a:lnTo>
                  <a:lnTo>
                    <a:pt x="626" y="854"/>
                  </a:lnTo>
                  <a:lnTo>
                    <a:pt x="648" y="962"/>
                  </a:lnTo>
                  <a:lnTo>
                    <a:pt x="588" y="1058"/>
                  </a:lnTo>
                  <a:lnTo>
                    <a:pt x="213" y="962"/>
                  </a:lnTo>
                  <a:lnTo>
                    <a:pt x="0" y="786"/>
                  </a:lnTo>
                  <a:lnTo>
                    <a:pt x="0" y="786"/>
                  </a:lnTo>
                  <a:close/>
                </a:path>
              </a:pathLst>
            </a:custGeom>
            <a:solidFill>
              <a:srgbClr val="ffb0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21366600">
              <a:off x="5700240" y="3170160"/>
              <a:ext cx="446040" cy="321840"/>
            </a:xfrm>
            <a:custGeom>
              <a:avLst/>
              <a:gdLst/>
              <a:ahLst/>
              <a:rect l="l" t="t" r="r" b="b"/>
              <a:pathLst>
                <a:path w="662" h="478">
                  <a:moveTo>
                    <a:pt x="0" y="196"/>
                  </a:moveTo>
                  <a:lnTo>
                    <a:pt x="89" y="0"/>
                  </a:lnTo>
                  <a:lnTo>
                    <a:pt x="371" y="174"/>
                  </a:lnTo>
                  <a:lnTo>
                    <a:pt x="662" y="283"/>
                  </a:lnTo>
                  <a:lnTo>
                    <a:pt x="583" y="478"/>
                  </a:lnTo>
                  <a:lnTo>
                    <a:pt x="344" y="381"/>
                  </a:lnTo>
                  <a:lnTo>
                    <a:pt x="94" y="242"/>
                  </a:lnTo>
                  <a:lnTo>
                    <a:pt x="0" y="196"/>
                  </a:lnTo>
                  <a:lnTo>
                    <a:pt x="0" y="196"/>
                  </a:lnTo>
                  <a:close/>
                </a:path>
              </a:pathLst>
            </a:custGeom>
            <a:solidFill>
              <a:srgbClr val="e3d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21366600">
              <a:off x="5469480" y="3304800"/>
              <a:ext cx="635040" cy="406080"/>
            </a:xfrm>
            <a:custGeom>
              <a:avLst/>
              <a:gdLst/>
              <a:ahLst/>
              <a:rect l="l" t="t" r="r" b="b"/>
              <a:pathLst>
                <a:path w="945" h="601">
                  <a:moveTo>
                    <a:pt x="0" y="294"/>
                  </a:moveTo>
                  <a:lnTo>
                    <a:pt x="168" y="220"/>
                  </a:lnTo>
                  <a:lnTo>
                    <a:pt x="290" y="112"/>
                  </a:lnTo>
                  <a:lnTo>
                    <a:pt x="373" y="0"/>
                  </a:lnTo>
                  <a:lnTo>
                    <a:pt x="693" y="193"/>
                  </a:lnTo>
                  <a:lnTo>
                    <a:pt x="945" y="291"/>
                  </a:lnTo>
                  <a:lnTo>
                    <a:pt x="883" y="452"/>
                  </a:lnTo>
                  <a:lnTo>
                    <a:pt x="720" y="601"/>
                  </a:lnTo>
                  <a:lnTo>
                    <a:pt x="0" y="294"/>
                  </a:lnTo>
                  <a:lnTo>
                    <a:pt x="0" y="294"/>
                  </a:lnTo>
                  <a:close/>
                </a:path>
              </a:pathLst>
            </a:custGeom>
            <a:solidFill>
              <a:srgbClr val="c2b3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1366600">
              <a:off x="5233680" y="3637440"/>
              <a:ext cx="552600" cy="218520"/>
            </a:xfrm>
            <a:custGeom>
              <a:avLst/>
              <a:gdLst/>
              <a:ahLst/>
              <a:rect l="l" t="t" r="r" b="b"/>
              <a:pathLst>
                <a:path w="820" h="323">
                  <a:moveTo>
                    <a:pt x="0" y="294"/>
                  </a:moveTo>
                  <a:lnTo>
                    <a:pt x="0" y="294"/>
                  </a:lnTo>
                  <a:lnTo>
                    <a:pt x="7" y="293"/>
                  </a:lnTo>
                  <a:lnTo>
                    <a:pt x="8" y="293"/>
                  </a:lnTo>
                  <a:lnTo>
                    <a:pt x="13" y="291"/>
                  </a:lnTo>
                  <a:lnTo>
                    <a:pt x="18" y="291"/>
                  </a:lnTo>
                  <a:lnTo>
                    <a:pt x="24" y="290"/>
                  </a:lnTo>
                  <a:lnTo>
                    <a:pt x="30" y="288"/>
                  </a:lnTo>
                  <a:lnTo>
                    <a:pt x="37" y="287"/>
                  </a:lnTo>
                  <a:lnTo>
                    <a:pt x="43" y="285"/>
                  </a:lnTo>
                  <a:lnTo>
                    <a:pt x="53" y="283"/>
                  </a:lnTo>
                  <a:lnTo>
                    <a:pt x="61" y="282"/>
                  </a:lnTo>
                  <a:lnTo>
                    <a:pt x="70" y="280"/>
                  </a:lnTo>
                  <a:lnTo>
                    <a:pt x="79" y="277"/>
                  </a:lnTo>
                  <a:lnTo>
                    <a:pt x="91" y="275"/>
                  </a:lnTo>
                  <a:lnTo>
                    <a:pt x="102" y="272"/>
                  </a:lnTo>
                  <a:lnTo>
                    <a:pt x="113" y="271"/>
                  </a:lnTo>
                  <a:lnTo>
                    <a:pt x="124" y="268"/>
                  </a:lnTo>
                  <a:lnTo>
                    <a:pt x="136" y="264"/>
                  </a:lnTo>
                  <a:lnTo>
                    <a:pt x="149" y="261"/>
                  </a:lnTo>
                  <a:lnTo>
                    <a:pt x="162" y="260"/>
                  </a:lnTo>
                  <a:lnTo>
                    <a:pt x="176" y="255"/>
                  </a:lnTo>
                  <a:lnTo>
                    <a:pt x="190" y="253"/>
                  </a:lnTo>
                  <a:lnTo>
                    <a:pt x="204" y="249"/>
                  </a:lnTo>
                  <a:lnTo>
                    <a:pt x="219" y="245"/>
                  </a:lnTo>
                  <a:lnTo>
                    <a:pt x="233" y="241"/>
                  </a:lnTo>
                  <a:lnTo>
                    <a:pt x="249" y="238"/>
                  </a:lnTo>
                  <a:lnTo>
                    <a:pt x="263" y="233"/>
                  </a:lnTo>
                  <a:lnTo>
                    <a:pt x="279" y="228"/>
                  </a:lnTo>
                  <a:lnTo>
                    <a:pt x="296" y="225"/>
                  </a:lnTo>
                  <a:lnTo>
                    <a:pt x="312" y="220"/>
                  </a:lnTo>
                  <a:lnTo>
                    <a:pt x="328" y="215"/>
                  </a:lnTo>
                  <a:lnTo>
                    <a:pt x="344" y="211"/>
                  </a:lnTo>
                  <a:lnTo>
                    <a:pt x="359" y="206"/>
                  </a:lnTo>
                  <a:lnTo>
                    <a:pt x="377" y="201"/>
                  </a:lnTo>
                  <a:lnTo>
                    <a:pt x="393" y="195"/>
                  </a:lnTo>
                  <a:lnTo>
                    <a:pt x="410" y="190"/>
                  </a:lnTo>
                  <a:lnTo>
                    <a:pt x="428" y="184"/>
                  </a:lnTo>
                  <a:lnTo>
                    <a:pt x="445" y="179"/>
                  </a:lnTo>
                  <a:lnTo>
                    <a:pt x="461" y="173"/>
                  </a:lnTo>
                  <a:lnTo>
                    <a:pt x="478" y="166"/>
                  </a:lnTo>
                  <a:lnTo>
                    <a:pt x="496" y="160"/>
                  </a:lnTo>
                  <a:lnTo>
                    <a:pt x="513" y="155"/>
                  </a:lnTo>
                  <a:lnTo>
                    <a:pt x="529" y="147"/>
                  </a:lnTo>
                  <a:lnTo>
                    <a:pt x="546" y="141"/>
                  </a:lnTo>
                  <a:lnTo>
                    <a:pt x="564" y="135"/>
                  </a:lnTo>
                  <a:lnTo>
                    <a:pt x="581" y="128"/>
                  </a:lnTo>
                  <a:lnTo>
                    <a:pt x="597" y="120"/>
                  </a:lnTo>
                  <a:lnTo>
                    <a:pt x="613" y="114"/>
                  </a:lnTo>
                  <a:lnTo>
                    <a:pt x="628" y="106"/>
                  </a:lnTo>
                  <a:lnTo>
                    <a:pt x="644" y="100"/>
                  </a:lnTo>
                  <a:lnTo>
                    <a:pt x="660" y="92"/>
                  </a:lnTo>
                  <a:lnTo>
                    <a:pt x="677" y="84"/>
                  </a:lnTo>
                  <a:lnTo>
                    <a:pt x="692" y="76"/>
                  </a:lnTo>
                  <a:lnTo>
                    <a:pt x="707" y="68"/>
                  </a:lnTo>
                  <a:lnTo>
                    <a:pt x="722" y="60"/>
                  </a:lnTo>
                  <a:lnTo>
                    <a:pt x="738" y="51"/>
                  </a:lnTo>
                  <a:lnTo>
                    <a:pt x="752" y="43"/>
                  </a:lnTo>
                  <a:lnTo>
                    <a:pt x="764" y="35"/>
                  </a:lnTo>
                  <a:lnTo>
                    <a:pt x="779" y="26"/>
                  </a:lnTo>
                  <a:lnTo>
                    <a:pt x="793" y="18"/>
                  </a:lnTo>
                  <a:lnTo>
                    <a:pt x="804" y="10"/>
                  </a:lnTo>
                  <a:lnTo>
                    <a:pt x="818" y="0"/>
                  </a:lnTo>
                  <a:lnTo>
                    <a:pt x="820" y="43"/>
                  </a:lnTo>
                  <a:lnTo>
                    <a:pt x="818" y="43"/>
                  </a:lnTo>
                  <a:lnTo>
                    <a:pt x="817" y="45"/>
                  </a:lnTo>
                  <a:lnTo>
                    <a:pt x="813" y="46"/>
                  </a:lnTo>
                  <a:lnTo>
                    <a:pt x="810" y="49"/>
                  </a:lnTo>
                  <a:lnTo>
                    <a:pt x="804" y="51"/>
                  </a:lnTo>
                  <a:lnTo>
                    <a:pt x="799" y="57"/>
                  </a:lnTo>
                  <a:lnTo>
                    <a:pt x="795" y="59"/>
                  </a:lnTo>
                  <a:lnTo>
                    <a:pt x="791" y="62"/>
                  </a:lnTo>
                  <a:lnTo>
                    <a:pt x="787" y="65"/>
                  </a:lnTo>
                  <a:lnTo>
                    <a:pt x="782" y="68"/>
                  </a:lnTo>
                  <a:lnTo>
                    <a:pt x="776" y="71"/>
                  </a:lnTo>
                  <a:lnTo>
                    <a:pt x="771" y="75"/>
                  </a:lnTo>
                  <a:lnTo>
                    <a:pt x="764" y="78"/>
                  </a:lnTo>
                  <a:lnTo>
                    <a:pt x="760" y="83"/>
                  </a:lnTo>
                  <a:lnTo>
                    <a:pt x="752" y="86"/>
                  </a:lnTo>
                  <a:lnTo>
                    <a:pt x="745" y="89"/>
                  </a:lnTo>
                  <a:lnTo>
                    <a:pt x="738" y="94"/>
                  </a:lnTo>
                  <a:lnTo>
                    <a:pt x="731" y="98"/>
                  </a:lnTo>
                  <a:lnTo>
                    <a:pt x="722" y="102"/>
                  </a:lnTo>
                  <a:lnTo>
                    <a:pt x="714" y="106"/>
                  </a:lnTo>
                  <a:lnTo>
                    <a:pt x="704" y="111"/>
                  </a:lnTo>
                  <a:lnTo>
                    <a:pt x="695" y="116"/>
                  </a:lnTo>
                  <a:lnTo>
                    <a:pt x="685" y="120"/>
                  </a:lnTo>
                  <a:lnTo>
                    <a:pt x="676" y="125"/>
                  </a:lnTo>
                  <a:lnTo>
                    <a:pt x="665" y="132"/>
                  </a:lnTo>
                  <a:lnTo>
                    <a:pt x="654" y="136"/>
                  </a:lnTo>
                  <a:lnTo>
                    <a:pt x="641" y="141"/>
                  </a:lnTo>
                  <a:lnTo>
                    <a:pt x="630" y="146"/>
                  </a:lnTo>
                  <a:lnTo>
                    <a:pt x="616" y="151"/>
                  </a:lnTo>
                  <a:lnTo>
                    <a:pt x="605" y="157"/>
                  </a:lnTo>
                  <a:lnTo>
                    <a:pt x="590" y="162"/>
                  </a:lnTo>
                  <a:lnTo>
                    <a:pt x="576" y="168"/>
                  </a:lnTo>
                  <a:lnTo>
                    <a:pt x="562" y="173"/>
                  </a:lnTo>
                  <a:lnTo>
                    <a:pt x="548" y="179"/>
                  </a:lnTo>
                  <a:lnTo>
                    <a:pt x="530" y="184"/>
                  </a:lnTo>
                  <a:lnTo>
                    <a:pt x="516" y="190"/>
                  </a:lnTo>
                  <a:lnTo>
                    <a:pt x="499" y="196"/>
                  </a:lnTo>
                  <a:lnTo>
                    <a:pt x="483" y="203"/>
                  </a:lnTo>
                  <a:lnTo>
                    <a:pt x="464" y="207"/>
                  </a:lnTo>
                  <a:lnTo>
                    <a:pt x="446" y="215"/>
                  </a:lnTo>
                  <a:lnTo>
                    <a:pt x="428" y="220"/>
                  </a:lnTo>
                  <a:lnTo>
                    <a:pt x="409" y="226"/>
                  </a:lnTo>
                  <a:lnTo>
                    <a:pt x="388" y="233"/>
                  </a:lnTo>
                  <a:lnTo>
                    <a:pt x="369" y="239"/>
                  </a:lnTo>
                  <a:lnTo>
                    <a:pt x="347" y="244"/>
                  </a:lnTo>
                  <a:lnTo>
                    <a:pt x="326" y="250"/>
                  </a:lnTo>
                  <a:lnTo>
                    <a:pt x="303" y="255"/>
                  </a:lnTo>
                  <a:lnTo>
                    <a:pt x="280" y="261"/>
                  </a:lnTo>
                  <a:lnTo>
                    <a:pt x="258" y="268"/>
                  </a:lnTo>
                  <a:lnTo>
                    <a:pt x="235" y="274"/>
                  </a:lnTo>
                  <a:lnTo>
                    <a:pt x="209" y="280"/>
                  </a:lnTo>
                  <a:lnTo>
                    <a:pt x="184" y="287"/>
                  </a:lnTo>
                  <a:lnTo>
                    <a:pt x="157" y="293"/>
                  </a:lnTo>
                  <a:lnTo>
                    <a:pt x="132" y="298"/>
                  </a:lnTo>
                  <a:lnTo>
                    <a:pt x="105" y="304"/>
                  </a:lnTo>
                  <a:lnTo>
                    <a:pt x="78" y="310"/>
                  </a:lnTo>
                  <a:lnTo>
                    <a:pt x="49" y="317"/>
                  </a:lnTo>
                  <a:lnTo>
                    <a:pt x="21" y="323"/>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21366600">
              <a:off x="5252760" y="3733200"/>
              <a:ext cx="551160" cy="217080"/>
            </a:xfrm>
            <a:custGeom>
              <a:avLst/>
              <a:gdLst/>
              <a:ahLst/>
              <a:rect l="l" t="t" r="r" b="b"/>
              <a:pathLst>
                <a:path w="818" h="321">
                  <a:moveTo>
                    <a:pt x="0" y="294"/>
                  </a:moveTo>
                  <a:lnTo>
                    <a:pt x="0" y="292"/>
                  </a:lnTo>
                  <a:lnTo>
                    <a:pt x="6" y="292"/>
                  </a:lnTo>
                  <a:lnTo>
                    <a:pt x="8" y="291"/>
                  </a:lnTo>
                  <a:lnTo>
                    <a:pt x="12" y="291"/>
                  </a:lnTo>
                  <a:lnTo>
                    <a:pt x="17" y="289"/>
                  </a:lnTo>
                  <a:lnTo>
                    <a:pt x="24" y="289"/>
                  </a:lnTo>
                  <a:lnTo>
                    <a:pt x="28" y="287"/>
                  </a:lnTo>
                  <a:lnTo>
                    <a:pt x="36" y="286"/>
                  </a:lnTo>
                  <a:lnTo>
                    <a:pt x="43" y="284"/>
                  </a:lnTo>
                  <a:lnTo>
                    <a:pt x="52" y="283"/>
                  </a:lnTo>
                  <a:lnTo>
                    <a:pt x="60" y="280"/>
                  </a:lnTo>
                  <a:lnTo>
                    <a:pt x="69" y="278"/>
                  </a:lnTo>
                  <a:lnTo>
                    <a:pt x="79" y="276"/>
                  </a:lnTo>
                  <a:lnTo>
                    <a:pt x="90" y="275"/>
                  </a:lnTo>
                  <a:lnTo>
                    <a:pt x="99" y="272"/>
                  </a:lnTo>
                  <a:lnTo>
                    <a:pt x="112" y="270"/>
                  </a:lnTo>
                  <a:lnTo>
                    <a:pt x="123" y="267"/>
                  </a:lnTo>
                  <a:lnTo>
                    <a:pt x="136" y="264"/>
                  </a:lnTo>
                  <a:lnTo>
                    <a:pt x="149" y="261"/>
                  </a:lnTo>
                  <a:lnTo>
                    <a:pt x="161" y="257"/>
                  </a:lnTo>
                  <a:lnTo>
                    <a:pt x="175" y="254"/>
                  </a:lnTo>
                  <a:lnTo>
                    <a:pt x="190" y="251"/>
                  </a:lnTo>
                  <a:lnTo>
                    <a:pt x="202" y="248"/>
                  </a:lnTo>
                  <a:lnTo>
                    <a:pt x="217" y="243"/>
                  </a:lnTo>
                  <a:lnTo>
                    <a:pt x="232" y="240"/>
                  </a:lnTo>
                  <a:lnTo>
                    <a:pt x="247" y="235"/>
                  </a:lnTo>
                  <a:lnTo>
                    <a:pt x="262" y="232"/>
                  </a:lnTo>
                  <a:lnTo>
                    <a:pt x="278" y="227"/>
                  </a:lnTo>
                  <a:lnTo>
                    <a:pt x="294" y="224"/>
                  </a:lnTo>
                  <a:lnTo>
                    <a:pt x="311" y="219"/>
                  </a:lnTo>
                  <a:lnTo>
                    <a:pt x="326" y="215"/>
                  </a:lnTo>
                  <a:lnTo>
                    <a:pt x="343" y="210"/>
                  </a:lnTo>
                  <a:lnTo>
                    <a:pt x="359" y="204"/>
                  </a:lnTo>
                  <a:lnTo>
                    <a:pt x="376" y="199"/>
                  </a:lnTo>
                  <a:lnTo>
                    <a:pt x="392" y="194"/>
                  </a:lnTo>
                  <a:lnTo>
                    <a:pt x="410" y="189"/>
                  </a:lnTo>
                  <a:lnTo>
                    <a:pt x="427" y="183"/>
                  </a:lnTo>
                  <a:lnTo>
                    <a:pt x="443" y="178"/>
                  </a:lnTo>
                  <a:lnTo>
                    <a:pt x="460" y="172"/>
                  </a:lnTo>
                  <a:lnTo>
                    <a:pt x="478" y="166"/>
                  </a:lnTo>
                  <a:lnTo>
                    <a:pt x="493" y="159"/>
                  </a:lnTo>
                  <a:lnTo>
                    <a:pt x="511" y="155"/>
                  </a:lnTo>
                  <a:lnTo>
                    <a:pt x="528" y="147"/>
                  </a:lnTo>
                  <a:lnTo>
                    <a:pt x="546" y="140"/>
                  </a:lnTo>
                  <a:lnTo>
                    <a:pt x="561" y="134"/>
                  </a:lnTo>
                  <a:lnTo>
                    <a:pt x="579" y="128"/>
                  </a:lnTo>
                  <a:lnTo>
                    <a:pt x="595" y="120"/>
                  </a:lnTo>
                  <a:lnTo>
                    <a:pt x="612" y="113"/>
                  </a:lnTo>
                  <a:lnTo>
                    <a:pt x="628" y="107"/>
                  </a:lnTo>
                  <a:lnTo>
                    <a:pt x="644" y="99"/>
                  </a:lnTo>
                  <a:lnTo>
                    <a:pt x="659" y="91"/>
                  </a:lnTo>
                  <a:lnTo>
                    <a:pt x="675" y="83"/>
                  </a:lnTo>
                  <a:lnTo>
                    <a:pt x="691" y="76"/>
                  </a:lnTo>
                  <a:lnTo>
                    <a:pt x="705" y="69"/>
                  </a:lnTo>
                  <a:lnTo>
                    <a:pt x="721" y="60"/>
                  </a:lnTo>
                  <a:lnTo>
                    <a:pt x="735" y="52"/>
                  </a:lnTo>
                  <a:lnTo>
                    <a:pt x="750" y="42"/>
                  </a:lnTo>
                  <a:lnTo>
                    <a:pt x="764" y="34"/>
                  </a:lnTo>
                  <a:lnTo>
                    <a:pt x="777" y="27"/>
                  </a:lnTo>
                  <a:lnTo>
                    <a:pt x="791" y="17"/>
                  </a:lnTo>
                  <a:lnTo>
                    <a:pt x="803" y="9"/>
                  </a:lnTo>
                  <a:lnTo>
                    <a:pt x="816" y="0"/>
                  </a:lnTo>
                  <a:lnTo>
                    <a:pt x="818" y="42"/>
                  </a:lnTo>
                  <a:lnTo>
                    <a:pt x="818" y="42"/>
                  </a:lnTo>
                  <a:lnTo>
                    <a:pt x="816" y="44"/>
                  </a:lnTo>
                  <a:lnTo>
                    <a:pt x="813" y="45"/>
                  </a:lnTo>
                  <a:lnTo>
                    <a:pt x="810" y="49"/>
                  </a:lnTo>
                  <a:lnTo>
                    <a:pt x="803" y="52"/>
                  </a:lnTo>
                  <a:lnTo>
                    <a:pt x="797" y="57"/>
                  </a:lnTo>
                  <a:lnTo>
                    <a:pt x="792" y="60"/>
                  </a:lnTo>
                  <a:lnTo>
                    <a:pt x="789" y="61"/>
                  </a:lnTo>
                  <a:lnTo>
                    <a:pt x="784" y="64"/>
                  </a:lnTo>
                  <a:lnTo>
                    <a:pt x="781" y="69"/>
                  </a:lnTo>
                  <a:lnTo>
                    <a:pt x="775" y="71"/>
                  </a:lnTo>
                  <a:lnTo>
                    <a:pt x="769" y="74"/>
                  </a:lnTo>
                  <a:lnTo>
                    <a:pt x="762" y="77"/>
                  </a:lnTo>
                  <a:lnTo>
                    <a:pt x="758" y="82"/>
                  </a:lnTo>
                  <a:lnTo>
                    <a:pt x="750" y="85"/>
                  </a:lnTo>
                  <a:lnTo>
                    <a:pt x="743" y="90"/>
                  </a:lnTo>
                  <a:lnTo>
                    <a:pt x="737" y="93"/>
                  </a:lnTo>
                  <a:lnTo>
                    <a:pt x="729" y="98"/>
                  </a:lnTo>
                  <a:lnTo>
                    <a:pt x="721" y="102"/>
                  </a:lnTo>
                  <a:lnTo>
                    <a:pt x="712" y="107"/>
                  </a:lnTo>
                  <a:lnTo>
                    <a:pt x="704" y="112"/>
                  </a:lnTo>
                  <a:lnTo>
                    <a:pt x="694" y="117"/>
                  </a:lnTo>
                  <a:lnTo>
                    <a:pt x="683" y="120"/>
                  </a:lnTo>
                  <a:lnTo>
                    <a:pt x="674" y="126"/>
                  </a:lnTo>
                  <a:lnTo>
                    <a:pt x="663" y="131"/>
                  </a:lnTo>
                  <a:lnTo>
                    <a:pt x="653" y="137"/>
                  </a:lnTo>
                  <a:lnTo>
                    <a:pt x="640" y="142"/>
                  </a:lnTo>
                  <a:lnTo>
                    <a:pt x="628" y="147"/>
                  </a:lnTo>
                  <a:lnTo>
                    <a:pt x="615" y="151"/>
                  </a:lnTo>
                  <a:lnTo>
                    <a:pt x="602" y="158"/>
                  </a:lnTo>
                  <a:lnTo>
                    <a:pt x="588" y="163"/>
                  </a:lnTo>
                  <a:lnTo>
                    <a:pt x="576" y="167"/>
                  </a:lnTo>
                  <a:lnTo>
                    <a:pt x="560" y="174"/>
                  </a:lnTo>
                  <a:lnTo>
                    <a:pt x="546" y="180"/>
                  </a:lnTo>
                  <a:lnTo>
                    <a:pt x="530" y="185"/>
                  </a:lnTo>
                  <a:lnTo>
                    <a:pt x="514" y="191"/>
                  </a:lnTo>
                  <a:lnTo>
                    <a:pt x="497" y="197"/>
                  </a:lnTo>
                  <a:lnTo>
                    <a:pt x="481" y="202"/>
                  </a:lnTo>
                  <a:lnTo>
                    <a:pt x="462" y="208"/>
                  </a:lnTo>
                  <a:lnTo>
                    <a:pt x="444" y="215"/>
                  </a:lnTo>
                  <a:lnTo>
                    <a:pt x="425" y="219"/>
                  </a:lnTo>
                  <a:lnTo>
                    <a:pt x="406" y="227"/>
                  </a:lnTo>
                  <a:lnTo>
                    <a:pt x="387" y="232"/>
                  </a:lnTo>
                  <a:lnTo>
                    <a:pt x="367" y="238"/>
                  </a:lnTo>
                  <a:lnTo>
                    <a:pt x="345" y="243"/>
                  </a:lnTo>
                  <a:lnTo>
                    <a:pt x="324" y="250"/>
                  </a:lnTo>
                  <a:lnTo>
                    <a:pt x="302" y="256"/>
                  </a:lnTo>
                  <a:lnTo>
                    <a:pt x="280" y="262"/>
                  </a:lnTo>
                  <a:lnTo>
                    <a:pt x="256" y="268"/>
                  </a:lnTo>
                  <a:lnTo>
                    <a:pt x="232" y="275"/>
                  </a:lnTo>
                  <a:lnTo>
                    <a:pt x="207" y="280"/>
                  </a:lnTo>
                  <a:lnTo>
                    <a:pt x="183" y="286"/>
                  </a:lnTo>
                  <a:lnTo>
                    <a:pt x="156" y="291"/>
                  </a:lnTo>
                  <a:lnTo>
                    <a:pt x="131" y="297"/>
                  </a:lnTo>
                  <a:lnTo>
                    <a:pt x="104" y="303"/>
                  </a:lnTo>
                  <a:lnTo>
                    <a:pt x="77" y="310"/>
                  </a:lnTo>
                  <a:lnTo>
                    <a:pt x="49" y="316"/>
                  </a:lnTo>
                  <a:lnTo>
                    <a:pt x="20" y="321"/>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21366600">
              <a:off x="5475960" y="3397320"/>
              <a:ext cx="532080" cy="380520"/>
            </a:xfrm>
            <a:custGeom>
              <a:avLst/>
              <a:gdLst/>
              <a:ahLst/>
              <a:rect l="l" t="t" r="r" b="b"/>
              <a:pathLst>
                <a:path w="790" h="565">
                  <a:moveTo>
                    <a:pt x="258" y="0"/>
                  </a:moveTo>
                  <a:lnTo>
                    <a:pt x="339" y="16"/>
                  </a:lnTo>
                  <a:lnTo>
                    <a:pt x="359" y="76"/>
                  </a:lnTo>
                  <a:lnTo>
                    <a:pt x="437" y="97"/>
                  </a:lnTo>
                  <a:lnTo>
                    <a:pt x="470" y="195"/>
                  </a:lnTo>
                  <a:lnTo>
                    <a:pt x="518" y="204"/>
                  </a:lnTo>
                  <a:lnTo>
                    <a:pt x="552" y="335"/>
                  </a:lnTo>
                  <a:lnTo>
                    <a:pt x="723" y="305"/>
                  </a:lnTo>
                  <a:lnTo>
                    <a:pt x="790" y="402"/>
                  </a:lnTo>
                  <a:lnTo>
                    <a:pt x="601" y="528"/>
                  </a:lnTo>
                  <a:lnTo>
                    <a:pt x="478" y="565"/>
                  </a:lnTo>
                  <a:lnTo>
                    <a:pt x="456" y="468"/>
                  </a:lnTo>
                  <a:lnTo>
                    <a:pt x="344" y="479"/>
                  </a:lnTo>
                  <a:lnTo>
                    <a:pt x="315" y="446"/>
                  </a:lnTo>
                  <a:lnTo>
                    <a:pt x="337" y="396"/>
                  </a:lnTo>
                  <a:lnTo>
                    <a:pt x="187" y="351"/>
                  </a:lnTo>
                  <a:lnTo>
                    <a:pt x="215" y="305"/>
                  </a:lnTo>
                  <a:lnTo>
                    <a:pt x="87" y="252"/>
                  </a:lnTo>
                  <a:lnTo>
                    <a:pt x="97" y="209"/>
                  </a:lnTo>
                  <a:lnTo>
                    <a:pt x="16" y="198"/>
                  </a:lnTo>
                  <a:lnTo>
                    <a:pt x="0" y="169"/>
                  </a:lnTo>
                  <a:lnTo>
                    <a:pt x="152" y="90"/>
                  </a:lnTo>
                  <a:lnTo>
                    <a:pt x="258" y="0"/>
                  </a:lnTo>
                  <a:lnTo>
                    <a:pt x="258"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21366600">
              <a:off x="4968720" y="3583080"/>
              <a:ext cx="567000" cy="163080"/>
            </a:xfrm>
            <a:custGeom>
              <a:avLst/>
              <a:gdLst/>
              <a:ahLst/>
              <a:rect l="l" t="t" r="r" b="b"/>
              <a:pathLst>
                <a:path w="842" h="243">
                  <a:moveTo>
                    <a:pt x="0" y="213"/>
                  </a:moveTo>
                  <a:lnTo>
                    <a:pt x="0" y="212"/>
                  </a:lnTo>
                  <a:lnTo>
                    <a:pt x="6" y="212"/>
                  </a:lnTo>
                  <a:lnTo>
                    <a:pt x="8" y="212"/>
                  </a:lnTo>
                  <a:lnTo>
                    <a:pt x="13" y="210"/>
                  </a:lnTo>
                  <a:lnTo>
                    <a:pt x="17" y="210"/>
                  </a:lnTo>
                  <a:lnTo>
                    <a:pt x="24" y="210"/>
                  </a:lnTo>
                  <a:lnTo>
                    <a:pt x="30" y="209"/>
                  </a:lnTo>
                  <a:lnTo>
                    <a:pt x="36" y="209"/>
                  </a:lnTo>
                  <a:lnTo>
                    <a:pt x="44" y="207"/>
                  </a:lnTo>
                  <a:lnTo>
                    <a:pt x="54" y="207"/>
                  </a:lnTo>
                  <a:lnTo>
                    <a:pt x="62" y="205"/>
                  </a:lnTo>
                  <a:lnTo>
                    <a:pt x="71" y="204"/>
                  </a:lnTo>
                  <a:lnTo>
                    <a:pt x="81" y="204"/>
                  </a:lnTo>
                  <a:lnTo>
                    <a:pt x="92" y="204"/>
                  </a:lnTo>
                  <a:lnTo>
                    <a:pt x="103" y="201"/>
                  </a:lnTo>
                  <a:lnTo>
                    <a:pt x="114" y="201"/>
                  </a:lnTo>
                  <a:lnTo>
                    <a:pt x="125" y="199"/>
                  </a:lnTo>
                  <a:lnTo>
                    <a:pt x="139" y="197"/>
                  </a:lnTo>
                  <a:lnTo>
                    <a:pt x="150" y="194"/>
                  </a:lnTo>
                  <a:lnTo>
                    <a:pt x="165" y="193"/>
                  </a:lnTo>
                  <a:lnTo>
                    <a:pt x="179" y="191"/>
                  </a:lnTo>
                  <a:lnTo>
                    <a:pt x="193" y="190"/>
                  </a:lnTo>
                  <a:lnTo>
                    <a:pt x="207" y="188"/>
                  </a:lnTo>
                  <a:lnTo>
                    <a:pt x="221" y="185"/>
                  </a:lnTo>
                  <a:lnTo>
                    <a:pt x="236" y="183"/>
                  </a:lnTo>
                  <a:lnTo>
                    <a:pt x="253" y="180"/>
                  </a:lnTo>
                  <a:lnTo>
                    <a:pt x="267" y="177"/>
                  </a:lnTo>
                  <a:lnTo>
                    <a:pt x="283" y="175"/>
                  </a:lnTo>
                  <a:lnTo>
                    <a:pt x="299" y="172"/>
                  </a:lnTo>
                  <a:lnTo>
                    <a:pt x="316" y="171"/>
                  </a:lnTo>
                  <a:lnTo>
                    <a:pt x="334" y="166"/>
                  </a:lnTo>
                  <a:lnTo>
                    <a:pt x="350" y="163"/>
                  </a:lnTo>
                  <a:lnTo>
                    <a:pt x="367" y="159"/>
                  </a:lnTo>
                  <a:lnTo>
                    <a:pt x="383" y="156"/>
                  </a:lnTo>
                  <a:lnTo>
                    <a:pt x="400" y="153"/>
                  </a:lnTo>
                  <a:lnTo>
                    <a:pt x="418" y="148"/>
                  </a:lnTo>
                  <a:lnTo>
                    <a:pt x="435" y="145"/>
                  </a:lnTo>
                  <a:lnTo>
                    <a:pt x="454" y="142"/>
                  </a:lnTo>
                  <a:lnTo>
                    <a:pt x="470" y="137"/>
                  </a:lnTo>
                  <a:lnTo>
                    <a:pt x="489" y="133"/>
                  </a:lnTo>
                  <a:lnTo>
                    <a:pt x="505" y="128"/>
                  </a:lnTo>
                  <a:lnTo>
                    <a:pt x="524" y="125"/>
                  </a:lnTo>
                  <a:lnTo>
                    <a:pt x="539" y="120"/>
                  </a:lnTo>
                  <a:lnTo>
                    <a:pt x="558" y="115"/>
                  </a:lnTo>
                  <a:lnTo>
                    <a:pt x="574" y="110"/>
                  </a:lnTo>
                  <a:lnTo>
                    <a:pt x="593" y="106"/>
                  </a:lnTo>
                  <a:lnTo>
                    <a:pt x="609" y="99"/>
                  </a:lnTo>
                  <a:lnTo>
                    <a:pt x="626" y="93"/>
                  </a:lnTo>
                  <a:lnTo>
                    <a:pt x="644" y="88"/>
                  </a:lnTo>
                  <a:lnTo>
                    <a:pt x="660" y="82"/>
                  </a:lnTo>
                  <a:lnTo>
                    <a:pt x="677" y="77"/>
                  </a:lnTo>
                  <a:lnTo>
                    <a:pt x="693" y="71"/>
                  </a:lnTo>
                  <a:lnTo>
                    <a:pt x="709" y="65"/>
                  </a:lnTo>
                  <a:lnTo>
                    <a:pt x="725" y="58"/>
                  </a:lnTo>
                  <a:lnTo>
                    <a:pt x="740" y="50"/>
                  </a:lnTo>
                  <a:lnTo>
                    <a:pt x="756" y="44"/>
                  </a:lnTo>
                  <a:lnTo>
                    <a:pt x="770" y="38"/>
                  </a:lnTo>
                  <a:lnTo>
                    <a:pt x="786" y="30"/>
                  </a:lnTo>
                  <a:lnTo>
                    <a:pt x="799" y="22"/>
                  </a:lnTo>
                  <a:lnTo>
                    <a:pt x="813" y="16"/>
                  </a:lnTo>
                  <a:lnTo>
                    <a:pt x="827" y="8"/>
                  </a:lnTo>
                  <a:lnTo>
                    <a:pt x="842" y="0"/>
                  </a:lnTo>
                  <a:lnTo>
                    <a:pt x="838" y="44"/>
                  </a:lnTo>
                  <a:lnTo>
                    <a:pt x="837" y="44"/>
                  </a:lnTo>
                  <a:lnTo>
                    <a:pt x="835" y="44"/>
                  </a:lnTo>
                  <a:lnTo>
                    <a:pt x="832" y="46"/>
                  </a:lnTo>
                  <a:lnTo>
                    <a:pt x="829" y="49"/>
                  </a:lnTo>
                  <a:lnTo>
                    <a:pt x="823" y="52"/>
                  </a:lnTo>
                  <a:lnTo>
                    <a:pt x="816" y="57"/>
                  </a:lnTo>
                  <a:lnTo>
                    <a:pt x="812" y="58"/>
                  </a:lnTo>
                  <a:lnTo>
                    <a:pt x="807" y="61"/>
                  </a:lnTo>
                  <a:lnTo>
                    <a:pt x="802" y="63"/>
                  </a:lnTo>
                  <a:lnTo>
                    <a:pt x="799" y="66"/>
                  </a:lnTo>
                  <a:lnTo>
                    <a:pt x="793" y="69"/>
                  </a:lnTo>
                  <a:lnTo>
                    <a:pt x="788" y="71"/>
                  </a:lnTo>
                  <a:lnTo>
                    <a:pt x="781" y="74"/>
                  </a:lnTo>
                  <a:lnTo>
                    <a:pt x="775" y="77"/>
                  </a:lnTo>
                  <a:lnTo>
                    <a:pt x="767" y="80"/>
                  </a:lnTo>
                  <a:lnTo>
                    <a:pt x="759" y="84"/>
                  </a:lnTo>
                  <a:lnTo>
                    <a:pt x="753" y="87"/>
                  </a:lnTo>
                  <a:lnTo>
                    <a:pt x="745" y="90"/>
                  </a:lnTo>
                  <a:lnTo>
                    <a:pt x="736" y="93"/>
                  </a:lnTo>
                  <a:lnTo>
                    <a:pt x="726" y="98"/>
                  </a:lnTo>
                  <a:lnTo>
                    <a:pt x="717" y="101"/>
                  </a:lnTo>
                  <a:lnTo>
                    <a:pt x="707" y="106"/>
                  </a:lnTo>
                  <a:lnTo>
                    <a:pt x="696" y="109"/>
                  </a:lnTo>
                  <a:lnTo>
                    <a:pt x="687" y="114"/>
                  </a:lnTo>
                  <a:lnTo>
                    <a:pt x="675" y="117"/>
                  </a:lnTo>
                  <a:lnTo>
                    <a:pt x="664" y="122"/>
                  </a:lnTo>
                  <a:lnTo>
                    <a:pt x="652" y="125"/>
                  </a:lnTo>
                  <a:lnTo>
                    <a:pt x="639" y="128"/>
                  </a:lnTo>
                  <a:lnTo>
                    <a:pt x="626" y="133"/>
                  </a:lnTo>
                  <a:lnTo>
                    <a:pt x="612" y="137"/>
                  </a:lnTo>
                  <a:lnTo>
                    <a:pt x="600" y="141"/>
                  </a:lnTo>
                  <a:lnTo>
                    <a:pt x="585" y="145"/>
                  </a:lnTo>
                  <a:lnTo>
                    <a:pt x="569" y="148"/>
                  </a:lnTo>
                  <a:lnTo>
                    <a:pt x="555" y="153"/>
                  </a:lnTo>
                  <a:lnTo>
                    <a:pt x="538" y="158"/>
                  </a:lnTo>
                  <a:lnTo>
                    <a:pt x="522" y="161"/>
                  </a:lnTo>
                  <a:lnTo>
                    <a:pt x="505" y="164"/>
                  </a:lnTo>
                  <a:lnTo>
                    <a:pt x="487" y="169"/>
                  </a:lnTo>
                  <a:lnTo>
                    <a:pt x="468" y="174"/>
                  </a:lnTo>
                  <a:lnTo>
                    <a:pt x="451" y="178"/>
                  </a:lnTo>
                  <a:lnTo>
                    <a:pt x="432" y="182"/>
                  </a:lnTo>
                  <a:lnTo>
                    <a:pt x="411" y="186"/>
                  </a:lnTo>
                  <a:lnTo>
                    <a:pt x="391" y="190"/>
                  </a:lnTo>
                  <a:lnTo>
                    <a:pt x="370" y="194"/>
                  </a:lnTo>
                  <a:lnTo>
                    <a:pt x="348" y="197"/>
                  </a:lnTo>
                  <a:lnTo>
                    <a:pt x="327" y="202"/>
                  </a:lnTo>
                  <a:lnTo>
                    <a:pt x="304" y="205"/>
                  </a:lnTo>
                  <a:lnTo>
                    <a:pt x="282" y="209"/>
                  </a:lnTo>
                  <a:lnTo>
                    <a:pt x="258" y="213"/>
                  </a:lnTo>
                  <a:lnTo>
                    <a:pt x="234" y="216"/>
                  </a:lnTo>
                  <a:lnTo>
                    <a:pt x="209" y="220"/>
                  </a:lnTo>
                  <a:lnTo>
                    <a:pt x="184" y="224"/>
                  </a:lnTo>
                  <a:lnTo>
                    <a:pt x="157" y="227"/>
                  </a:lnTo>
                  <a:lnTo>
                    <a:pt x="131" y="231"/>
                  </a:lnTo>
                  <a:lnTo>
                    <a:pt x="103" y="234"/>
                  </a:lnTo>
                  <a:lnTo>
                    <a:pt x="76" y="237"/>
                  </a:lnTo>
                  <a:lnTo>
                    <a:pt x="47" y="240"/>
                  </a:lnTo>
                  <a:lnTo>
                    <a:pt x="19" y="243"/>
                  </a:lnTo>
                  <a:lnTo>
                    <a:pt x="0" y="213"/>
                  </a:lnTo>
                  <a:lnTo>
                    <a:pt x="0" y="213"/>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rot="21366600">
              <a:off x="5694120" y="3153600"/>
              <a:ext cx="482400" cy="360000"/>
            </a:xfrm>
            <a:custGeom>
              <a:avLst/>
              <a:gdLst/>
              <a:ahLst/>
              <a:rect l="l" t="t" r="r" b="b"/>
              <a:pathLst>
                <a:path w="716" h="533">
                  <a:moveTo>
                    <a:pt x="20" y="172"/>
                  </a:moveTo>
                  <a:lnTo>
                    <a:pt x="22" y="172"/>
                  </a:lnTo>
                  <a:lnTo>
                    <a:pt x="25" y="175"/>
                  </a:lnTo>
                  <a:lnTo>
                    <a:pt x="27" y="177"/>
                  </a:lnTo>
                  <a:lnTo>
                    <a:pt x="30" y="180"/>
                  </a:lnTo>
                  <a:lnTo>
                    <a:pt x="33" y="183"/>
                  </a:lnTo>
                  <a:lnTo>
                    <a:pt x="38" y="188"/>
                  </a:lnTo>
                  <a:lnTo>
                    <a:pt x="41" y="191"/>
                  </a:lnTo>
                  <a:lnTo>
                    <a:pt x="47" y="196"/>
                  </a:lnTo>
                  <a:lnTo>
                    <a:pt x="52" y="200"/>
                  </a:lnTo>
                  <a:lnTo>
                    <a:pt x="58" y="205"/>
                  </a:lnTo>
                  <a:lnTo>
                    <a:pt x="66" y="210"/>
                  </a:lnTo>
                  <a:lnTo>
                    <a:pt x="73" y="216"/>
                  </a:lnTo>
                  <a:lnTo>
                    <a:pt x="76" y="218"/>
                  </a:lnTo>
                  <a:lnTo>
                    <a:pt x="81" y="223"/>
                  </a:lnTo>
                  <a:lnTo>
                    <a:pt x="85" y="226"/>
                  </a:lnTo>
                  <a:lnTo>
                    <a:pt x="90" y="229"/>
                  </a:lnTo>
                  <a:lnTo>
                    <a:pt x="93" y="232"/>
                  </a:lnTo>
                  <a:lnTo>
                    <a:pt x="98" y="235"/>
                  </a:lnTo>
                  <a:lnTo>
                    <a:pt x="103" y="238"/>
                  </a:lnTo>
                  <a:lnTo>
                    <a:pt x="107" y="242"/>
                  </a:lnTo>
                  <a:lnTo>
                    <a:pt x="112" y="245"/>
                  </a:lnTo>
                  <a:lnTo>
                    <a:pt x="117" y="249"/>
                  </a:lnTo>
                  <a:lnTo>
                    <a:pt x="122" y="253"/>
                  </a:lnTo>
                  <a:lnTo>
                    <a:pt x="128" y="256"/>
                  </a:lnTo>
                  <a:lnTo>
                    <a:pt x="133" y="259"/>
                  </a:lnTo>
                  <a:lnTo>
                    <a:pt x="139" y="264"/>
                  </a:lnTo>
                  <a:lnTo>
                    <a:pt x="144" y="267"/>
                  </a:lnTo>
                  <a:lnTo>
                    <a:pt x="152" y="272"/>
                  </a:lnTo>
                  <a:lnTo>
                    <a:pt x="157" y="276"/>
                  </a:lnTo>
                  <a:lnTo>
                    <a:pt x="163" y="280"/>
                  </a:lnTo>
                  <a:lnTo>
                    <a:pt x="169" y="283"/>
                  </a:lnTo>
                  <a:lnTo>
                    <a:pt x="175" y="287"/>
                  </a:lnTo>
                  <a:lnTo>
                    <a:pt x="182" y="292"/>
                  </a:lnTo>
                  <a:lnTo>
                    <a:pt x="188" y="295"/>
                  </a:lnTo>
                  <a:lnTo>
                    <a:pt x="194" y="300"/>
                  </a:lnTo>
                  <a:lnTo>
                    <a:pt x="202" y="305"/>
                  </a:lnTo>
                  <a:lnTo>
                    <a:pt x="209" y="308"/>
                  </a:lnTo>
                  <a:lnTo>
                    <a:pt x="215" y="313"/>
                  </a:lnTo>
                  <a:lnTo>
                    <a:pt x="223" y="317"/>
                  </a:lnTo>
                  <a:lnTo>
                    <a:pt x="231" y="321"/>
                  </a:lnTo>
                  <a:lnTo>
                    <a:pt x="237" y="325"/>
                  </a:lnTo>
                  <a:lnTo>
                    <a:pt x="245" y="330"/>
                  </a:lnTo>
                  <a:lnTo>
                    <a:pt x="253" y="333"/>
                  </a:lnTo>
                  <a:lnTo>
                    <a:pt x="261" y="338"/>
                  </a:lnTo>
                  <a:lnTo>
                    <a:pt x="269" y="343"/>
                  </a:lnTo>
                  <a:lnTo>
                    <a:pt x="277" y="348"/>
                  </a:lnTo>
                  <a:lnTo>
                    <a:pt x="285" y="352"/>
                  </a:lnTo>
                  <a:lnTo>
                    <a:pt x="294" y="357"/>
                  </a:lnTo>
                  <a:lnTo>
                    <a:pt x="302" y="360"/>
                  </a:lnTo>
                  <a:lnTo>
                    <a:pt x="310" y="363"/>
                  </a:lnTo>
                  <a:lnTo>
                    <a:pt x="318" y="368"/>
                  </a:lnTo>
                  <a:lnTo>
                    <a:pt x="326" y="371"/>
                  </a:lnTo>
                  <a:lnTo>
                    <a:pt x="334" y="376"/>
                  </a:lnTo>
                  <a:lnTo>
                    <a:pt x="342" y="379"/>
                  </a:lnTo>
                  <a:lnTo>
                    <a:pt x="348" y="384"/>
                  </a:lnTo>
                  <a:lnTo>
                    <a:pt x="357" y="387"/>
                  </a:lnTo>
                  <a:lnTo>
                    <a:pt x="364" y="390"/>
                  </a:lnTo>
                  <a:lnTo>
                    <a:pt x="372" y="393"/>
                  </a:lnTo>
                  <a:lnTo>
                    <a:pt x="378" y="397"/>
                  </a:lnTo>
                  <a:lnTo>
                    <a:pt x="386" y="400"/>
                  </a:lnTo>
                  <a:lnTo>
                    <a:pt x="392" y="403"/>
                  </a:lnTo>
                  <a:lnTo>
                    <a:pt x="400" y="406"/>
                  </a:lnTo>
                  <a:lnTo>
                    <a:pt x="406" y="409"/>
                  </a:lnTo>
                  <a:lnTo>
                    <a:pt x="414" y="414"/>
                  </a:lnTo>
                  <a:lnTo>
                    <a:pt x="419" y="416"/>
                  </a:lnTo>
                  <a:lnTo>
                    <a:pt x="425" y="419"/>
                  </a:lnTo>
                  <a:lnTo>
                    <a:pt x="432" y="422"/>
                  </a:lnTo>
                  <a:lnTo>
                    <a:pt x="438" y="425"/>
                  </a:lnTo>
                  <a:lnTo>
                    <a:pt x="444" y="427"/>
                  </a:lnTo>
                  <a:lnTo>
                    <a:pt x="451" y="430"/>
                  </a:lnTo>
                  <a:lnTo>
                    <a:pt x="455" y="431"/>
                  </a:lnTo>
                  <a:lnTo>
                    <a:pt x="462" y="434"/>
                  </a:lnTo>
                  <a:lnTo>
                    <a:pt x="467" y="436"/>
                  </a:lnTo>
                  <a:lnTo>
                    <a:pt x="473" y="439"/>
                  </a:lnTo>
                  <a:lnTo>
                    <a:pt x="478" y="441"/>
                  </a:lnTo>
                  <a:lnTo>
                    <a:pt x="484" y="442"/>
                  </a:lnTo>
                  <a:lnTo>
                    <a:pt x="489" y="444"/>
                  </a:lnTo>
                  <a:lnTo>
                    <a:pt x="493" y="447"/>
                  </a:lnTo>
                  <a:lnTo>
                    <a:pt x="497" y="449"/>
                  </a:lnTo>
                  <a:lnTo>
                    <a:pt x="503" y="450"/>
                  </a:lnTo>
                  <a:lnTo>
                    <a:pt x="511" y="453"/>
                  </a:lnTo>
                  <a:lnTo>
                    <a:pt x="519" y="457"/>
                  </a:lnTo>
                  <a:lnTo>
                    <a:pt x="527" y="460"/>
                  </a:lnTo>
                  <a:lnTo>
                    <a:pt x="535" y="463"/>
                  </a:lnTo>
                  <a:lnTo>
                    <a:pt x="541" y="465"/>
                  </a:lnTo>
                  <a:lnTo>
                    <a:pt x="547" y="466"/>
                  </a:lnTo>
                  <a:lnTo>
                    <a:pt x="552" y="469"/>
                  </a:lnTo>
                  <a:lnTo>
                    <a:pt x="558" y="471"/>
                  </a:lnTo>
                  <a:lnTo>
                    <a:pt x="563" y="472"/>
                  </a:lnTo>
                  <a:lnTo>
                    <a:pt x="566" y="472"/>
                  </a:lnTo>
                  <a:lnTo>
                    <a:pt x="569" y="474"/>
                  </a:lnTo>
                  <a:lnTo>
                    <a:pt x="573" y="476"/>
                  </a:lnTo>
                  <a:lnTo>
                    <a:pt x="576" y="477"/>
                  </a:lnTo>
                  <a:lnTo>
                    <a:pt x="577" y="477"/>
                  </a:lnTo>
                  <a:lnTo>
                    <a:pt x="648" y="325"/>
                  </a:lnTo>
                  <a:lnTo>
                    <a:pt x="647" y="324"/>
                  </a:lnTo>
                  <a:lnTo>
                    <a:pt x="644" y="322"/>
                  </a:lnTo>
                  <a:lnTo>
                    <a:pt x="639" y="321"/>
                  </a:lnTo>
                  <a:lnTo>
                    <a:pt x="633" y="319"/>
                  </a:lnTo>
                  <a:lnTo>
                    <a:pt x="628" y="317"/>
                  </a:lnTo>
                  <a:lnTo>
                    <a:pt x="623" y="316"/>
                  </a:lnTo>
                  <a:lnTo>
                    <a:pt x="618" y="314"/>
                  </a:lnTo>
                  <a:lnTo>
                    <a:pt x="614" y="313"/>
                  </a:lnTo>
                  <a:lnTo>
                    <a:pt x="607" y="311"/>
                  </a:lnTo>
                  <a:lnTo>
                    <a:pt x="601" y="308"/>
                  </a:lnTo>
                  <a:lnTo>
                    <a:pt x="595" y="306"/>
                  </a:lnTo>
                  <a:lnTo>
                    <a:pt x="588" y="305"/>
                  </a:lnTo>
                  <a:lnTo>
                    <a:pt x="580" y="302"/>
                  </a:lnTo>
                  <a:lnTo>
                    <a:pt x="574" y="298"/>
                  </a:lnTo>
                  <a:lnTo>
                    <a:pt x="566" y="295"/>
                  </a:lnTo>
                  <a:lnTo>
                    <a:pt x="558" y="292"/>
                  </a:lnTo>
                  <a:lnTo>
                    <a:pt x="550" y="289"/>
                  </a:lnTo>
                  <a:lnTo>
                    <a:pt x="541" y="286"/>
                  </a:lnTo>
                  <a:lnTo>
                    <a:pt x="533" y="283"/>
                  </a:lnTo>
                  <a:lnTo>
                    <a:pt x="523" y="280"/>
                  </a:lnTo>
                  <a:lnTo>
                    <a:pt x="514" y="276"/>
                  </a:lnTo>
                  <a:lnTo>
                    <a:pt x="505" y="272"/>
                  </a:lnTo>
                  <a:lnTo>
                    <a:pt x="495" y="268"/>
                  </a:lnTo>
                  <a:lnTo>
                    <a:pt x="486" y="264"/>
                  </a:lnTo>
                  <a:lnTo>
                    <a:pt x="474" y="259"/>
                  </a:lnTo>
                  <a:lnTo>
                    <a:pt x="463" y="256"/>
                  </a:lnTo>
                  <a:lnTo>
                    <a:pt x="454" y="251"/>
                  </a:lnTo>
                  <a:lnTo>
                    <a:pt x="444" y="246"/>
                  </a:lnTo>
                  <a:lnTo>
                    <a:pt x="432" y="242"/>
                  </a:lnTo>
                  <a:lnTo>
                    <a:pt x="421" y="237"/>
                  </a:lnTo>
                  <a:lnTo>
                    <a:pt x="410" y="232"/>
                  </a:lnTo>
                  <a:lnTo>
                    <a:pt x="399" y="227"/>
                  </a:lnTo>
                  <a:lnTo>
                    <a:pt x="387" y="221"/>
                  </a:lnTo>
                  <a:lnTo>
                    <a:pt x="376" y="216"/>
                  </a:lnTo>
                  <a:lnTo>
                    <a:pt x="364" y="210"/>
                  </a:lnTo>
                  <a:lnTo>
                    <a:pt x="353" y="205"/>
                  </a:lnTo>
                  <a:lnTo>
                    <a:pt x="340" y="200"/>
                  </a:lnTo>
                  <a:lnTo>
                    <a:pt x="329" y="194"/>
                  </a:lnTo>
                  <a:lnTo>
                    <a:pt x="316" y="188"/>
                  </a:lnTo>
                  <a:lnTo>
                    <a:pt x="305" y="183"/>
                  </a:lnTo>
                  <a:lnTo>
                    <a:pt x="293" y="177"/>
                  </a:lnTo>
                  <a:lnTo>
                    <a:pt x="281" y="170"/>
                  </a:lnTo>
                  <a:lnTo>
                    <a:pt x="269" y="164"/>
                  </a:lnTo>
                  <a:lnTo>
                    <a:pt x="258" y="158"/>
                  </a:lnTo>
                  <a:lnTo>
                    <a:pt x="245" y="151"/>
                  </a:lnTo>
                  <a:lnTo>
                    <a:pt x="234" y="145"/>
                  </a:lnTo>
                  <a:lnTo>
                    <a:pt x="221" y="137"/>
                  </a:lnTo>
                  <a:lnTo>
                    <a:pt x="210" y="131"/>
                  </a:lnTo>
                  <a:lnTo>
                    <a:pt x="198" y="125"/>
                  </a:lnTo>
                  <a:lnTo>
                    <a:pt x="187" y="117"/>
                  </a:lnTo>
                  <a:lnTo>
                    <a:pt x="175" y="110"/>
                  </a:lnTo>
                  <a:lnTo>
                    <a:pt x="164" y="104"/>
                  </a:lnTo>
                  <a:lnTo>
                    <a:pt x="152" y="96"/>
                  </a:lnTo>
                  <a:lnTo>
                    <a:pt x="141" y="90"/>
                  </a:lnTo>
                  <a:lnTo>
                    <a:pt x="130" y="82"/>
                  </a:lnTo>
                  <a:lnTo>
                    <a:pt x="120" y="74"/>
                  </a:lnTo>
                  <a:lnTo>
                    <a:pt x="109" y="68"/>
                  </a:lnTo>
                  <a:lnTo>
                    <a:pt x="98" y="60"/>
                  </a:lnTo>
                  <a:lnTo>
                    <a:pt x="88" y="52"/>
                  </a:lnTo>
                  <a:lnTo>
                    <a:pt x="79" y="45"/>
                  </a:lnTo>
                  <a:lnTo>
                    <a:pt x="90" y="0"/>
                  </a:lnTo>
                  <a:lnTo>
                    <a:pt x="92" y="0"/>
                  </a:lnTo>
                  <a:lnTo>
                    <a:pt x="95" y="3"/>
                  </a:lnTo>
                  <a:lnTo>
                    <a:pt x="98" y="4"/>
                  </a:lnTo>
                  <a:lnTo>
                    <a:pt x="101" y="8"/>
                  </a:lnTo>
                  <a:lnTo>
                    <a:pt x="104" y="11"/>
                  </a:lnTo>
                  <a:lnTo>
                    <a:pt x="109" y="14"/>
                  </a:lnTo>
                  <a:lnTo>
                    <a:pt x="114" y="17"/>
                  </a:lnTo>
                  <a:lnTo>
                    <a:pt x="120" y="22"/>
                  </a:lnTo>
                  <a:lnTo>
                    <a:pt x="126" y="26"/>
                  </a:lnTo>
                  <a:lnTo>
                    <a:pt x="134" y="31"/>
                  </a:lnTo>
                  <a:lnTo>
                    <a:pt x="138" y="34"/>
                  </a:lnTo>
                  <a:lnTo>
                    <a:pt x="141" y="36"/>
                  </a:lnTo>
                  <a:lnTo>
                    <a:pt x="145" y="39"/>
                  </a:lnTo>
                  <a:lnTo>
                    <a:pt x="150" y="42"/>
                  </a:lnTo>
                  <a:lnTo>
                    <a:pt x="155" y="44"/>
                  </a:lnTo>
                  <a:lnTo>
                    <a:pt x="160" y="47"/>
                  </a:lnTo>
                  <a:lnTo>
                    <a:pt x="164" y="50"/>
                  </a:lnTo>
                  <a:lnTo>
                    <a:pt x="171" y="55"/>
                  </a:lnTo>
                  <a:lnTo>
                    <a:pt x="175" y="57"/>
                  </a:lnTo>
                  <a:lnTo>
                    <a:pt x="180" y="61"/>
                  </a:lnTo>
                  <a:lnTo>
                    <a:pt x="185" y="64"/>
                  </a:lnTo>
                  <a:lnTo>
                    <a:pt x="191" y="68"/>
                  </a:lnTo>
                  <a:lnTo>
                    <a:pt x="196" y="71"/>
                  </a:lnTo>
                  <a:lnTo>
                    <a:pt x="202" y="74"/>
                  </a:lnTo>
                  <a:lnTo>
                    <a:pt x="210" y="77"/>
                  </a:lnTo>
                  <a:lnTo>
                    <a:pt x="217" y="82"/>
                  </a:lnTo>
                  <a:lnTo>
                    <a:pt x="223" y="85"/>
                  </a:lnTo>
                  <a:lnTo>
                    <a:pt x="229" y="88"/>
                  </a:lnTo>
                  <a:lnTo>
                    <a:pt x="236" y="93"/>
                  </a:lnTo>
                  <a:lnTo>
                    <a:pt x="244" y="98"/>
                  </a:lnTo>
                  <a:lnTo>
                    <a:pt x="251" y="101"/>
                  </a:lnTo>
                  <a:lnTo>
                    <a:pt x="259" y="106"/>
                  </a:lnTo>
                  <a:lnTo>
                    <a:pt x="266" y="110"/>
                  </a:lnTo>
                  <a:lnTo>
                    <a:pt x="275" y="115"/>
                  </a:lnTo>
                  <a:lnTo>
                    <a:pt x="281" y="118"/>
                  </a:lnTo>
                  <a:lnTo>
                    <a:pt x="291" y="121"/>
                  </a:lnTo>
                  <a:lnTo>
                    <a:pt x="299" y="126"/>
                  </a:lnTo>
                  <a:lnTo>
                    <a:pt x="307" y="131"/>
                  </a:lnTo>
                  <a:lnTo>
                    <a:pt x="316" y="136"/>
                  </a:lnTo>
                  <a:lnTo>
                    <a:pt x="326" y="140"/>
                  </a:lnTo>
                  <a:lnTo>
                    <a:pt x="335" y="145"/>
                  </a:lnTo>
                  <a:lnTo>
                    <a:pt x="345" y="150"/>
                  </a:lnTo>
                  <a:lnTo>
                    <a:pt x="354" y="155"/>
                  </a:lnTo>
                  <a:lnTo>
                    <a:pt x="364" y="159"/>
                  </a:lnTo>
                  <a:lnTo>
                    <a:pt x="373" y="164"/>
                  </a:lnTo>
                  <a:lnTo>
                    <a:pt x="384" y="169"/>
                  </a:lnTo>
                  <a:lnTo>
                    <a:pt x="394" y="174"/>
                  </a:lnTo>
                  <a:lnTo>
                    <a:pt x="405" y="178"/>
                  </a:lnTo>
                  <a:lnTo>
                    <a:pt x="416" y="183"/>
                  </a:lnTo>
                  <a:lnTo>
                    <a:pt x="427" y="189"/>
                  </a:lnTo>
                  <a:lnTo>
                    <a:pt x="438" y="193"/>
                  </a:lnTo>
                  <a:lnTo>
                    <a:pt x="448" y="197"/>
                  </a:lnTo>
                  <a:lnTo>
                    <a:pt x="457" y="202"/>
                  </a:lnTo>
                  <a:lnTo>
                    <a:pt x="468" y="207"/>
                  </a:lnTo>
                  <a:lnTo>
                    <a:pt x="478" y="210"/>
                  </a:lnTo>
                  <a:lnTo>
                    <a:pt x="487" y="215"/>
                  </a:lnTo>
                  <a:lnTo>
                    <a:pt x="497" y="218"/>
                  </a:lnTo>
                  <a:lnTo>
                    <a:pt x="506" y="223"/>
                  </a:lnTo>
                  <a:lnTo>
                    <a:pt x="516" y="226"/>
                  </a:lnTo>
                  <a:lnTo>
                    <a:pt x="523" y="229"/>
                  </a:lnTo>
                  <a:lnTo>
                    <a:pt x="531" y="232"/>
                  </a:lnTo>
                  <a:lnTo>
                    <a:pt x="539" y="235"/>
                  </a:lnTo>
                  <a:lnTo>
                    <a:pt x="547" y="238"/>
                  </a:lnTo>
                  <a:lnTo>
                    <a:pt x="555" y="242"/>
                  </a:lnTo>
                  <a:lnTo>
                    <a:pt x="563" y="245"/>
                  </a:lnTo>
                  <a:lnTo>
                    <a:pt x="571" y="248"/>
                  </a:lnTo>
                  <a:lnTo>
                    <a:pt x="577" y="251"/>
                  </a:lnTo>
                  <a:lnTo>
                    <a:pt x="584" y="253"/>
                  </a:lnTo>
                  <a:lnTo>
                    <a:pt x="590" y="256"/>
                  </a:lnTo>
                  <a:lnTo>
                    <a:pt x="598" y="259"/>
                  </a:lnTo>
                  <a:lnTo>
                    <a:pt x="603" y="261"/>
                  </a:lnTo>
                  <a:lnTo>
                    <a:pt x="609" y="264"/>
                  </a:lnTo>
                  <a:lnTo>
                    <a:pt x="614" y="265"/>
                  </a:lnTo>
                  <a:lnTo>
                    <a:pt x="620" y="268"/>
                  </a:lnTo>
                  <a:lnTo>
                    <a:pt x="625" y="270"/>
                  </a:lnTo>
                  <a:lnTo>
                    <a:pt x="631" y="272"/>
                  </a:lnTo>
                  <a:lnTo>
                    <a:pt x="636" y="273"/>
                  </a:lnTo>
                  <a:lnTo>
                    <a:pt x="641" y="275"/>
                  </a:lnTo>
                  <a:lnTo>
                    <a:pt x="645" y="276"/>
                  </a:lnTo>
                  <a:lnTo>
                    <a:pt x="650" y="278"/>
                  </a:lnTo>
                  <a:lnTo>
                    <a:pt x="655" y="278"/>
                  </a:lnTo>
                  <a:lnTo>
                    <a:pt x="660" y="281"/>
                  </a:lnTo>
                  <a:lnTo>
                    <a:pt x="666" y="283"/>
                  </a:lnTo>
                  <a:lnTo>
                    <a:pt x="674" y="284"/>
                  </a:lnTo>
                  <a:lnTo>
                    <a:pt x="680" y="286"/>
                  </a:lnTo>
                  <a:lnTo>
                    <a:pt x="685" y="289"/>
                  </a:lnTo>
                  <a:lnTo>
                    <a:pt x="690" y="289"/>
                  </a:lnTo>
                  <a:lnTo>
                    <a:pt x="694" y="291"/>
                  </a:lnTo>
                  <a:lnTo>
                    <a:pt x="699" y="292"/>
                  </a:lnTo>
                  <a:lnTo>
                    <a:pt x="704" y="294"/>
                  </a:lnTo>
                  <a:lnTo>
                    <a:pt x="709" y="294"/>
                  </a:lnTo>
                  <a:lnTo>
                    <a:pt x="713" y="295"/>
                  </a:lnTo>
                  <a:lnTo>
                    <a:pt x="715" y="295"/>
                  </a:lnTo>
                  <a:lnTo>
                    <a:pt x="716" y="297"/>
                  </a:lnTo>
                  <a:lnTo>
                    <a:pt x="601" y="533"/>
                  </a:lnTo>
                  <a:lnTo>
                    <a:pt x="599" y="531"/>
                  </a:lnTo>
                  <a:lnTo>
                    <a:pt x="596" y="529"/>
                  </a:lnTo>
                  <a:lnTo>
                    <a:pt x="590" y="528"/>
                  </a:lnTo>
                  <a:lnTo>
                    <a:pt x="582" y="525"/>
                  </a:lnTo>
                  <a:lnTo>
                    <a:pt x="577" y="523"/>
                  </a:lnTo>
                  <a:lnTo>
                    <a:pt x="573" y="521"/>
                  </a:lnTo>
                  <a:lnTo>
                    <a:pt x="566" y="520"/>
                  </a:lnTo>
                  <a:lnTo>
                    <a:pt x="561" y="518"/>
                  </a:lnTo>
                  <a:lnTo>
                    <a:pt x="554" y="515"/>
                  </a:lnTo>
                  <a:lnTo>
                    <a:pt x="547" y="512"/>
                  </a:lnTo>
                  <a:lnTo>
                    <a:pt x="539" y="510"/>
                  </a:lnTo>
                  <a:lnTo>
                    <a:pt x="533" y="507"/>
                  </a:lnTo>
                  <a:lnTo>
                    <a:pt x="525" y="504"/>
                  </a:lnTo>
                  <a:lnTo>
                    <a:pt x="516" y="501"/>
                  </a:lnTo>
                  <a:lnTo>
                    <a:pt x="506" y="496"/>
                  </a:lnTo>
                  <a:lnTo>
                    <a:pt x="498" y="493"/>
                  </a:lnTo>
                  <a:lnTo>
                    <a:pt x="489" y="488"/>
                  </a:lnTo>
                  <a:lnTo>
                    <a:pt x="479" y="485"/>
                  </a:lnTo>
                  <a:lnTo>
                    <a:pt x="470" y="482"/>
                  </a:lnTo>
                  <a:lnTo>
                    <a:pt x="459" y="479"/>
                  </a:lnTo>
                  <a:lnTo>
                    <a:pt x="449" y="474"/>
                  </a:lnTo>
                  <a:lnTo>
                    <a:pt x="438" y="469"/>
                  </a:lnTo>
                  <a:lnTo>
                    <a:pt x="427" y="465"/>
                  </a:lnTo>
                  <a:lnTo>
                    <a:pt x="416" y="460"/>
                  </a:lnTo>
                  <a:lnTo>
                    <a:pt x="405" y="453"/>
                  </a:lnTo>
                  <a:lnTo>
                    <a:pt x="392" y="449"/>
                  </a:lnTo>
                  <a:lnTo>
                    <a:pt x="381" y="444"/>
                  </a:lnTo>
                  <a:lnTo>
                    <a:pt x="370" y="439"/>
                  </a:lnTo>
                  <a:lnTo>
                    <a:pt x="357" y="433"/>
                  </a:lnTo>
                  <a:lnTo>
                    <a:pt x="345" y="428"/>
                  </a:lnTo>
                  <a:lnTo>
                    <a:pt x="334" y="422"/>
                  </a:lnTo>
                  <a:lnTo>
                    <a:pt x="321" y="416"/>
                  </a:lnTo>
                  <a:lnTo>
                    <a:pt x="308" y="409"/>
                  </a:lnTo>
                  <a:lnTo>
                    <a:pt x="296" y="403"/>
                  </a:lnTo>
                  <a:lnTo>
                    <a:pt x="283" y="398"/>
                  </a:lnTo>
                  <a:lnTo>
                    <a:pt x="270" y="392"/>
                  </a:lnTo>
                  <a:lnTo>
                    <a:pt x="258" y="384"/>
                  </a:lnTo>
                  <a:lnTo>
                    <a:pt x="245" y="378"/>
                  </a:lnTo>
                  <a:lnTo>
                    <a:pt x="232" y="370"/>
                  </a:lnTo>
                  <a:lnTo>
                    <a:pt x="221" y="363"/>
                  </a:lnTo>
                  <a:lnTo>
                    <a:pt x="209" y="357"/>
                  </a:lnTo>
                  <a:lnTo>
                    <a:pt x="196" y="351"/>
                  </a:lnTo>
                  <a:lnTo>
                    <a:pt x="183" y="343"/>
                  </a:lnTo>
                  <a:lnTo>
                    <a:pt x="172" y="336"/>
                  </a:lnTo>
                  <a:lnTo>
                    <a:pt x="160" y="329"/>
                  </a:lnTo>
                  <a:lnTo>
                    <a:pt x="147" y="321"/>
                  </a:lnTo>
                  <a:lnTo>
                    <a:pt x="136" y="313"/>
                  </a:lnTo>
                  <a:lnTo>
                    <a:pt x="123" y="306"/>
                  </a:lnTo>
                  <a:lnTo>
                    <a:pt x="112" y="297"/>
                  </a:lnTo>
                  <a:lnTo>
                    <a:pt x="101" y="289"/>
                  </a:lnTo>
                  <a:lnTo>
                    <a:pt x="88" y="281"/>
                  </a:lnTo>
                  <a:lnTo>
                    <a:pt x="79" y="275"/>
                  </a:lnTo>
                  <a:lnTo>
                    <a:pt x="68" y="265"/>
                  </a:lnTo>
                  <a:lnTo>
                    <a:pt x="57" y="257"/>
                  </a:lnTo>
                  <a:lnTo>
                    <a:pt x="46" y="249"/>
                  </a:lnTo>
                  <a:lnTo>
                    <a:pt x="36" y="242"/>
                  </a:lnTo>
                  <a:lnTo>
                    <a:pt x="27" y="232"/>
                  </a:lnTo>
                  <a:lnTo>
                    <a:pt x="17" y="224"/>
                  </a:lnTo>
                  <a:lnTo>
                    <a:pt x="8" y="215"/>
                  </a:lnTo>
                  <a:lnTo>
                    <a:pt x="0" y="207"/>
                  </a:lnTo>
                  <a:lnTo>
                    <a:pt x="20" y="172"/>
                  </a:lnTo>
                  <a:lnTo>
                    <a:pt x="2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21366600">
              <a:off x="5690880" y="3170160"/>
              <a:ext cx="77760" cy="147240"/>
            </a:xfrm>
            <a:custGeom>
              <a:avLst/>
              <a:gdLst/>
              <a:ahLst/>
              <a:rect l="l" t="t" r="r" b="b"/>
              <a:pathLst>
                <a:path w="116" h="218">
                  <a:moveTo>
                    <a:pt x="81" y="0"/>
                  </a:moveTo>
                  <a:lnTo>
                    <a:pt x="0" y="193"/>
                  </a:lnTo>
                  <a:lnTo>
                    <a:pt x="36" y="218"/>
                  </a:lnTo>
                  <a:lnTo>
                    <a:pt x="116" y="33"/>
                  </a:lnTo>
                  <a:lnTo>
                    <a:pt x="81"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rot="21366600">
              <a:off x="5751720" y="3246120"/>
              <a:ext cx="339480" cy="187200"/>
            </a:xfrm>
            <a:custGeom>
              <a:avLst/>
              <a:gdLst/>
              <a:ahLst/>
              <a:rect l="l" t="t" r="r" b="b"/>
              <a:pathLst>
                <a:path w="505" h="279">
                  <a:moveTo>
                    <a:pt x="15" y="0"/>
                  </a:moveTo>
                  <a:lnTo>
                    <a:pt x="18" y="2"/>
                  </a:lnTo>
                  <a:lnTo>
                    <a:pt x="19" y="3"/>
                  </a:lnTo>
                  <a:lnTo>
                    <a:pt x="24" y="5"/>
                  </a:lnTo>
                  <a:lnTo>
                    <a:pt x="29" y="8"/>
                  </a:lnTo>
                  <a:lnTo>
                    <a:pt x="37" y="13"/>
                  </a:lnTo>
                  <a:lnTo>
                    <a:pt x="40" y="16"/>
                  </a:lnTo>
                  <a:lnTo>
                    <a:pt x="45" y="18"/>
                  </a:lnTo>
                  <a:lnTo>
                    <a:pt x="49" y="21"/>
                  </a:lnTo>
                  <a:lnTo>
                    <a:pt x="53" y="24"/>
                  </a:lnTo>
                  <a:lnTo>
                    <a:pt x="57" y="27"/>
                  </a:lnTo>
                  <a:lnTo>
                    <a:pt x="62" y="30"/>
                  </a:lnTo>
                  <a:lnTo>
                    <a:pt x="68" y="34"/>
                  </a:lnTo>
                  <a:lnTo>
                    <a:pt x="73" y="37"/>
                  </a:lnTo>
                  <a:lnTo>
                    <a:pt x="79" y="40"/>
                  </a:lnTo>
                  <a:lnTo>
                    <a:pt x="86" y="45"/>
                  </a:lnTo>
                  <a:lnTo>
                    <a:pt x="92" y="48"/>
                  </a:lnTo>
                  <a:lnTo>
                    <a:pt x="98" y="52"/>
                  </a:lnTo>
                  <a:lnTo>
                    <a:pt x="105" y="56"/>
                  </a:lnTo>
                  <a:lnTo>
                    <a:pt x="113" y="60"/>
                  </a:lnTo>
                  <a:lnTo>
                    <a:pt x="119" y="64"/>
                  </a:lnTo>
                  <a:lnTo>
                    <a:pt x="127" y="68"/>
                  </a:lnTo>
                  <a:lnTo>
                    <a:pt x="133" y="73"/>
                  </a:lnTo>
                  <a:lnTo>
                    <a:pt x="143" y="78"/>
                  </a:lnTo>
                  <a:lnTo>
                    <a:pt x="151" y="83"/>
                  </a:lnTo>
                  <a:lnTo>
                    <a:pt x="160" y="87"/>
                  </a:lnTo>
                  <a:lnTo>
                    <a:pt x="168" y="90"/>
                  </a:lnTo>
                  <a:lnTo>
                    <a:pt x="176" y="95"/>
                  </a:lnTo>
                  <a:lnTo>
                    <a:pt x="184" y="100"/>
                  </a:lnTo>
                  <a:lnTo>
                    <a:pt x="193" y="105"/>
                  </a:lnTo>
                  <a:lnTo>
                    <a:pt x="203" y="109"/>
                  </a:lnTo>
                  <a:lnTo>
                    <a:pt x="211" y="114"/>
                  </a:lnTo>
                  <a:lnTo>
                    <a:pt x="222" y="119"/>
                  </a:lnTo>
                  <a:lnTo>
                    <a:pt x="231" y="125"/>
                  </a:lnTo>
                  <a:lnTo>
                    <a:pt x="241" y="128"/>
                  </a:lnTo>
                  <a:lnTo>
                    <a:pt x="250" y="133"/>
                  </a:lnTo>
                  <a:lnTo>
                    <a:pt x="260" y="139"/>
                  </a:lnTo>
                  <a:lnTo>
                    <a:pt x="271" y="144"/>
                  </a:lnTo>
                  <a:lnTo>
                    <a:pt x="282" y="149"/>
                  </a:lnTo>
                  <a:lnTo>
                    <a:pt x="291" y="154"/>
                  </a:lnTo>
                  <a:lnTo>
                    <a:pt x="303" y="160"/>
                  </a:lnTo>
                  <a:lnTo>
                    <a:pt x="315" y="165"/>
                  </a:lnTo>
                  <a:lnTo>
                    <a:pt x="325" y="170"/>
                  </a:lnTo>
                  <a:lnTo>
                    <a:pt x="336" y="174"/>
                  </a:lnTo>
                  <a:lnTo>
                    <a:pt x="347" y="179"/>
                  </a:lnTo>
                  <a:lnTo>
                    <a:pt x="359" y="184"/>
                  </a:lnTo>
                  <a:lnTo>
                    <a:pt x="371" y="188"/>
                  </a:lnTo>
                  <a:lnTo>
                    <a:pt x="382" y="193"/>
                  </a:lnTo>
                  <a:lnTo>
                    <a:pt x="394" y="198"/>
                  </a:lnTo>
                  <a:lnTo>
                    <a:pt x="405" y="203"/>
                  </a:lnTo>
                  <a:lnTo>
                    <a:pt x="418" y="207"/>
                  </a:lnTo>
                  <a:lnTo>
                    <a:pt x="429" y="211"/>
                  </a:lnTo>
                  <a:lnTo>
                    <a:pt x="442" y="215"/>
                  </a:lnTo>
                  <a:lnTo>
                    <a:pt x="454" y="220"/>
                  </a:lnTo>
                  <a:lnTo>
                    <a:pt x="465" y="225"/>
                  </a:lnTo>
                  <a:lnTo>
                    <a:pt x="478" y="230"/>
                  </a:lnTo>
                  <a:lnTo>
                    <a:pt x="491" y="233"/>
                  </a:lnTo>
                  <a:lnTo>
                    <a:pt x="505" y="238"/>
                  </a:lnTo>
                  <a:lnTo>
                    <a:pt x="483" y="279"/>
                  </a:lnTo>
                  <a:lnTo>
                    <a:pt x="481" y="279"/>
                  </a:lnTo>
                  <a:lnTo>
                    <a:pt x="478" y="277"/>
                  </a:lnTo>
                  <a:lnTo>
                    <a:pt x="475" y="275"/>
                  </a:lnTo>
                  <a:lnTo>
                    <a:pt x="470" y="274"/>
                  </a:lnTo>
                  <a:lnTo>
                    <a:pt x="464" y="272"/>
                  </a:lnTo>
                  <a:lnTo>
                    <a:pt x="456" y="269"/>
                  </a:lnTo>
                  <a:lnTo>
                    <a:pt x="451" y="268"/>
                  </a:lnTo>
                  <a:lnTo>
                    <a:pt x="446" y="266"/>
                  </a:lnTo>
                  <a:lnTo>
                    <a:pt x="442" y="264"/>
                  </a:lnTo>
                  <a:lnTo>
                    <a:pt x="437" y="263"/>
                  </a:lnTo>
                  <a:lnTo>
                    <a:pt x="432" y="261"/>
                  </a:lnTo>
                  <a:lnTo>
                    <a:pt x="426" y="258"/>
                  </a:lnTo>
                  <a:lnTo>
                    <a:pt x="420" y="256"/>
                  </a:lnTo>
                  <a:lnTo>
                    <a:pt x="415" y="253"/>
                  </a:lnTo>
                  <a:lnTo>
                    <a:pt x="407" y="252"/>
                  </a:lnTo>
                  <a:lnTo>
                    <a:pt x="401" y="249"/>
                  </a:lnTo>
                  <a:lnTo>
                    <a:pt x="394" y="247"/>
                  </a:lnTo>
                  <a:lnTo>
                    <a:pt x="388" y="244"/>
                  </a:lnTo>
                  <a:lnTo>
                    <a:pt x="380" y="241"/>
                  </a:lnTo>
                  <a:lnTo>
                    <a:pt x="372" y="238"/>
                  </a:lnTo>
                  <a:lnTo>
                    <a:pt x="364" y="234"/>
                  </a:lnTo>
                  <a:lnTo>
                    <a:pt x="356" y="233"/>
                  </a:lnTo>
                  <a:lnTo>
                    <a:pt x="348" y="228"/>
                  </a:lnTo>
                  <a:lnTo>
                    <a:pt x="340" y="225"/>
                  </a:lnTo>
                  <a:lnTo>
                    <a:pt x="331" y="222"/>
                  </a:lnTo>
                  <a:lnTo>
                    <a:pt x="323" y="219"/>
                  </a:lnTo>
                  <a:lnTo>
                    <a:pt x="315" y="214"/>
                  </a:lnTo>
                  <a:lnTo>
                    <a:pt x="306" y="209"/>
                  </a:lnTo>
                  <a:lnTo>
                    <a:pt x="296" y="206"/>
                  </a:lnTo>
                  <a:lnTo>
                    <a:pt x="287" y="203"/>
                  </a:lnTo>
                  <a:lnTo>
                    <a:pt x="277" y="198"/>
                  </a:lnTo>
                  <a:lnTo>
                    <a:pt x="268" y="193"/>
                  </a:lnTo>
                  <a:lnTo>
                    <a:pt x="258" y="188"/>
                  </a:lnTo>
                  <a:lnTo>
                    <a:pt x="249" y="184"/>
                  </a:lnTo>
                  <a:lnTo>
                    <a:pt x="238" y="179"/>
                  </a:lnTo>
                  <a:lnTo>
                    <a:pt x="228" y="174"/>
                  </a:lnTo>
                  <a:lnTo>
                    <a:pt x="217" y="168"/>
                  </a:lnTo>
                  <a:lnTo>
                    <a:pt x="208" y="165"/>
                  </a:lnTo>
                  <a:lnTo>
                    <a:pt x="198" y="158"/>
                  </a:lnTo>
                  <a:lnTo>
                    <a:pt x="187" y="154"/>
                  </a:lnTo>
                  <a:lnTo>
                    <a:pt x="178" y="147"/>
                  </a:lnTo>
                  <a:lnTo>
                    <a:pt x="168" y="143"/>
                  </a:lnTo>
                  <a:lnTo>
                    <a:pt x="157" y="136"/>
                  </a:lnTo>
                  <a:lnTo>
                    <a:pt x="146" y="130"/>
                  </a:lnTo>
                  <a:lnTo>
                    <a:pt x="135" y="125"/>
                  </a:lnTo>
                  <a:lnTo>
                    <a:pt x="125" y="119"/>
                  </a:lnTo>
                  <a:lnTo>
                    <a:pt x="114" y="113"/>
                  </a:lnTo>
                  <a:lnTo>
                    <a:pt x="105" y="106"/>
                  </a:lnTo>
                  <a:lnTo>
                    <a:pt x="94" y="100"/>
                  </a:lnTo>
                  <a:lnTo>
                    <a:pt x="84" y="94"/>
                  </a:lnTo>
                  <a:lnTo>
                    <a:pt x="72" y="86"/>
                  </a:lnTo>
                  <a:lnTo>
                    <a:pt x="62" y="79"/>
                  </a:lnTo>
                  <a:lnTo>
                    <a:pt x="51" y="73"/>
                  </a:lnTo>
                  <a:lnTo>
                    <a:pt x="42" y="67"/>
                  </a:lnTo>
                  <a:lnTo>
                    <a:pt x="30" y="59"/>
                  </a:lnTo>
                  <a:lnTo>
                    <a:pt x="19" y="51"/>
                  </a:lnTo>
                  <a:lnTo>
                    <a:pt x="10" y="45"/>
                  </a:lnTo>
                  <a:lnTo>
                    <a:pt x="0" y="38"/>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rot="21366600">
              <a:off x="5449320" y="3286440"/>
              <a:ext cx="671400" cy="515520"/>
            </a:xfrm>
            <a:custGeom>
              <a:avLst/>
              <a:gdLst/>
              <a:ahLst/>
              <a:rect l="l" t="t" r="r" b="b"/>
              <a:pathLst>
                <a:path w="997" h="765">
                  <a:moveTo>
                    <a:pt x="399" y="0"/>
                  </a:moveTo>
                  <a:lnTo>
                    <a:pt x="397" y="1"/>
                  </a:lnTo>
                  <a:lnTo>
                    <a:pt x="394" y="8"/>
                  </a:lnTo>
                  <a:lnTo>
                    <a:pt x="391" y="13"/>
                  </a:lnTo>
                  <a:lnTo>
                    <a:pt x="387" y="17"/>
                  </a:lnTo>
                  <a:lnTo>
                    <a:pt x="384" y="24"/>
                  </a:lnTo>
                  <a:lnTo>
                    <a:pt x="380" y="32"/>
                  </a:lnTo>
                  <a:lnTo>
                    <a:pt x="378" y="35"/>
                  </a:lnTo>
                  <a:lnTo>
                    <a:pt x="375" y="39"/>
                  </a:lnTo>
                  <a:lnTo>
                    <a:pt x="372" y="44"/>
                  </a:lnTo>
                  <a:lnTo>
                    <a:pt x="370" y="49"/>
                  </a:lnTo>
                  <a:lnTo>
                    <a:pt x="367" y="52"/>
                  </a:lnTo>
                  <a:lnTo>
                    <a:pt x="364" y="57"/>
                  </a:lnTo>
                  <a:lnTo>
                    <a:pt x="361" y="62"/>
                  </a:lnTo>
                  <a:lnTo>
                    <a:pt x="357" y="66"/>
                  </a:lnTo>
                  <a:lnTo>
                    <a:pt x="353" y="71"/>
                  </a:lnTo>
                  <a:lnTo>
                    <a:pt x="350" y="76"/>
                  </a:lnTo>
                  <a:lnTo>
                    <a:pt x="345" y="82"/>
                  </a:lnTo>
                  <a:lnTo>
                    <a:pt x="343" y="87"/>
                  </a:lnTo>
                  <a:lnTo>
                    <a:pt x="338" y="93"/>
                  </a:lnTo>
                  <a:lnTo>
                    <a:pt x="334" y="98"/>
                  </a:lnTo>
                  <a:lnTo>
                    <a:pt x="329" y="104"/>
                  </a:lnTo>
                  <a:lnTo>
                    <a:pt x="326" y="111"/>
                  </a:lnTo>
                  <a:lnTo>
                    <a:pt x="319" y="115"/>
                  </a:lnTo>
                  <a:lnTo>
                    <a:pt x="315" y="122"/>
                  </a:lnTo>
                  <a:lnTo>
                    <a:pt x="308" y="126"/>
                  </a:lnTo>
                  <a:lnTo>
                    <a:pt x="305" y="133"/>
                  </a:lnTo>
                  <a:lnTo>
                    <a:pt x="299" y="139"/>
                  </a:lnTo>
                  <a:lnTo>
                    <a:pt x="293" y="144"/>
                  </a:lnTo>
                  <a:lnTo>
                    <a:pt x="286" y="150"/>
                  </a:lnTo>
                  <a:lnTo>
                    <a:pt x="281" y="156"/>
                  </a:lnTo>
                  <a:lnTo>
                    <a:pt x="274" y="163"/>
                  </a:lnTo>
                  <a:lnTo>
                    <a:pt x="267" y="169"/>
                  </a:lnTo>
                  <a:lnTo>
                    <a:pt x="263" y="174"/>
                  </a:lnTo>
                  <a:lnTo>
                    <a:pt x="256" y="180"/>
                  </a:lnTo>
                  <a:lnTo>
                    <a:pt x="248" y="185"/>
                  </a:lnTo>
                  <a:lnTo>
                    <a:pt x="242" y="191"/>
                  </a:lnTo>
                  <a:lnTo>
                    <a:pt x="234" y="198"/>
                  </a:lnTo>
                  <a:lnTo>
                    <a:pt x="228" y="204"/>
                  </a:lnTo>
                  <a:lnTo>
                    <a:pt x="220" y="209"/>
                  </a:lnTo>
                  <a:lnTo>
                    <a:pt x="212" y="215"/>
                  </a:lnTo>
                  <a:lnTo>
                    <a:pt x="204" y="220"/>
                  </a:lnTo>
                  <a:lnTo>
                    <a:pt x="196" y="226"/>
                  </a:lnTo>
                  <a:lnTo>
                    <a:pt x="188" y="231"/>
                  </a:lnTo>
                  <a:lnTo>
                    <a:pt x="179" y="237"/>
                  </a:lnTo>
                  <a:lnTo>
                    <a:pt x="171" y="242"/>
                  </a:lnTo>
                  <a:lnTo>
                    <a:pt x="163" y="248"/>
                  </a:lnTo>
                  <a:lnTo>
                    <a:pt x="153" y="253"/>
                  </a:lnTo>
                  <a:lnTo>
                    <a:pt x="144" y="258"/>
                  </a:lnTo>
                  <a:lnTo>
                    <a:pt x="134" y="262"/>
                  </a:lnTo>
                  <a:lnTo>
                    <a:pt x="125" y="266"/>
                  </a:lnTo>
                  <a:lnTo>
                    <a:pt x="115" y="270"/>
                  </a:lnTo>
                  <a:lnTo>
                    <a:pt x="106" y="275"/>
                  </a:lnTo>
                  <a:lnTo>
                    <a:pt x="96" y="280"/>
                  </a:lnTo>
                  <a:lnTo>
                    <a:pt x="87" y="285"/>
                  </a:lnTo>
                  <a:lnTo>
                    <a:pt x="82" y="285"/>
                  </a:lnTo>
                  <a:lnTo>
                    <a:pt x="77" y="286"/>
                  </a:lnTo>
                  <a:lnTo>
                    <a:pt x="73" y="288"/>
                  </a:lnTo>
                  <a:lnTo>
                    <a:pt x="68" y="291"/>
                  </a:lnTo>
                  <a:lnTo>
                    <a:pt x="63" y="292"/>
                  </a:lnTo>
                  <a:lnTo>
                    <a:pt x="57" y="294"/>
                  </a:lnTo>
                  <a:lnTo>
                    <a:pt x="52" y="296"/>
                  </a:lnTo>
                  <a:lnTo>
                    <a:pt x="46" y="299"/>
                  </a:lnTo>
                  <a:lnTo>
                    <a:pt x="39" y="300"/>
                  </a:lnTo>
                  <a:lnTo>
                    <a:pt x="35" y="302"/>
                  </a:lnTo>
                  <a:lnTo>
                    <a:pt x="28" y="302"/>
                  </a:lnTo>
                  <a:lnTo>
                    <a:pt x="22" y="305"/>
                  </a:lnTo>
                  <a:lnTo>
                    <a:pt x="16" y="305"/>
                  </a:lnTo>
                  <a:lnTo>
                    <a:pt x="11" y="307"/>
                  </a:lnTo>
                  <a:lnTo>
                    <a:pt x="5" y="308"/>
                  </a:lnTo>
                  <a:lnTo>
                    <a:pt x="0" y="310"/>
                  </a:lnTo>
                  <a:lnTo>
                    <a:pt x="17" y="386"/>
                  </a:lnTo>
                  <a:lnTo>
                    <a:pt x="98" y="391"/>
                  </a:lnTo>
                  <a:lnTo>
                    <a:pt x="77" y="444"/>
                  </a:lnTo>
                  <a:lnTo>
                    <a:pt x="79" y="444"/>
                  </a:lnTo>
                  <a:lnTo>
                    <a:pt x="82" y="444"/>
                  </a:lnTo>
                  <a:lnTo>
                    <a:pt x="87" y="444"/>
                  </a:lnTo>
                  <a:lnTo>
                    <a:pt x="92" y="444"/>
                  </a:lnTo>
                  <a:lnTo>
                    <a:pt x="100" y="446"/>
                  </a:lnTo>
                  <a:lnTo>
                    <a:pt x="103" y="446"/>
                  </a:lnTo>
                  <a:lnTo>
                    <a:pt x="107" y="446"/>
                  </a:lnTo>
                  <a:lnTo>
                    <a:pt x="112" y="447"/>
                  </a:lnTo>
                  <a:lnTo>
                    <a:pt x="115" y="449"/>
                  </a:lnTo>
                  <a:lnTo>
                    <a:pt x="120" y="449"/>
                  </a:lnTo>
                  <a:lnTo>
                    <a:pt x="125" y="449"/>
                  </a:lnTo>
                  <a:lnTo>
                    <a:pt x="130" y="451"/>
                  </a:lnTo>
                  <a:lnTo>
                    <a:pt x="136" y="452"/>
                  </a:lnTo>
                  <a:lnTo>
                    <a:pt x="142" y="452"/>
                  </a:lnTo>
                  <a:lnTo>
                    <a:pt x="147" y="454"/>
                  </a:lnTo>
                  <a:lnTo>
                    <a:pt x="153" y="455"/>
                  </a:lnTo>
                  <a:lnTo>
                    <a:pt x="161" y="459"/>
                  </a:lnTo>
                  <a:lnTo>
                    <a:pt x="168" y="459"/>
                  </a:lnTo>
                  <a:lnTo>
                    <a:pt x="174" y="460"/>
                  </a:lnTo>
                  <a:lnTo>
                    <a:pt x="182" y="463"/>
                  </a:lnTo>
                  <a:lnTo>
                    <a:pt x="190" y="465"/>
                  </a:lnTo>
                  <a:lnTo>
                    <a:pt x="196" y="466"/>
                  </a:lnTo>
                  <a:lnTo>
                    <a:pt x="204" y="470"/>
                  </a:lnTo>
                  <a:lnTo>
                    <a:pt x="212" y="473"/>
                  </a:lnTo>
                  <a:lnTo>
                    <a:pt x="221" y="476"/>
                  </a:lnTo>
                  <a:lnTo>
                    <a:pt x="193" y="530"/>
                  </a:lnTo>
                  <a:lnTo>
                    <a:pt x="196" y="531"/>
                  </a:lnTo>
                  <a:lnTo>
                    <a:pt x="199" y="533"/>
                  </a:lnTo>
                  <a:lnTo>
                    <a:pt x="206" y="538"/>
                  </a:lnTo>
                  <a:lnTo>
                    <a:pt x="207" y="539"/>
                  </a:lnTo>
                  <a:lnTo>
                    <a:pt x="212" y="541"/>
                  </a:lnTo>
                  <a:lnTo>
                    <a:pt x="217" y="542"/>
                  </a:lnTo>
                  <a:lnTo>
                    <a:pt x="221" y="545"/>
                  </a:lnTo>
                  <a:lnTo>
                    <a:pt x="226" y="547"/>
                  </a:lnTo>
                  <a:lnTo>
                    <a:pt x="232" y="550"/>
                  </a:lnTo>
                  <a:lnTo>
                    <a:pt x="239" y="553"/>
                  </a:lnTo>
                  <a:lnTo>
                    <a:pt x="247" y="557"/>
                  </a:lnTo>
                  <a:lnTo>
                    <a:pt x="255" y="560"/>
                  </a:lnTo>
                  <a:lnTo>
                    <a:pt x="263" y="563"/>
                  </a:lnTo>
                  <a:lnTo>
                    <a:pt x="269" y="564"/>
                  </a:lnTo>
                  <a:lnTo>
                    <a:pt x="278" y="568"/>
                  </a:lnTo>
                  <a:lnTo>
                    <a:pt x="285" y="569"/>
                  </a:lnTo>
                  <a:lnTo>
                    <a:pt x="293" y="572"/>
                  </a:lnTo>
                  <a:lnTo>
                    <a:pt x="300" y="574"/>
                  </a:lnTo>
                  <a:lnTo>
                    <a:pt x="307" y="576"/>
                  </a:lnTo>
                  <a:lnTo>
                    <a:pt x="312" y="577"/>
                  </a:lnTo>
                  <a:lnTo>
                    <a:pt x="318" y="577"/>
                  </a:lnTo>
                  <a:lnTo>
                    <a:pt x="323" y="579"/>
                  </a:lnTo>
                  <a:lnTo>
                    <a:pt x="327" y="580"/>
                  </a:lnTo>
                  <a:lnTo>
                    <a:pt x="334" y="582"/>
                  </a:lnTo>
                  <a:lnTo>
                    <a:pt x="335" y="582"/>
                  </a:lnTo>
                  <a:lnTo>
                    <a:pt x="307" y="632"/>
                  </a:lnTo>
                  <a:lnTo>
                    <a:pt x="389" y="670"/>
                  </a:lnTo>
                  <a:lnTo>
                    <a:pt x="465" y="658"/>
                  </a:lnTo>
                  <a:lnTo>
                    <a:pt x="467" y="664"/>
                  </a:lnTo>
                  <a:lnTo>
                    <a:pt x="470" y="672"/>
                  </a:lnTo>
                  <a:lnTo>
                    <a:pt x="470" y="677"/>
                  </a:lnTo>
                  <a:lnTo>
                    <a:pt x="473" y="681"/>
                  </a:lnTo>
                  <a:lnTo>
                    <a:pt x="473" y="686"/>
                  </a:lnTo>
                  <a:lnTo>
                    <a:pt x="476" y="693"/>
                  </a:lnTo>
                  <a:lnTo>
                    <a:pt x="476" y="699"/>
                  </a:lnTo>
                  <a:lnTo>
                    <a:pt x="478" y="705"/>
                  </a:lnTo>
                  <a:lnTo>
                    <a:pt x="478" y="708"/>
                  </a:lnTo>
                  <a:lnTo>
                    <a:pt x="479" y="712"/>
                  </a:lnTo>
                  <a:lnTo>
                    <a:pt x="479" y="716"/>
                  </a:lnTo>
                  <a:lnTo>
                    <a:pt x="481" y="721"/>
                  </a:lnTo>
                  <a:lnTo>
                    <a:pt x="481" y="726"/>
                  </a:lnTo>
                  <a:lnTo>
                    <a:pt x="481" y="731"/>
                  </a:lnTo>
                  <a:lnTo>
                    <a:pt x="482" y="735"/>
                  </a:lnTo>
                  <a:lnTo>
                    <a:pt x="482" y="742"/>
                  </a:lnTo>
                  <a:lnTo>
                    <a:pt x="482" y="746"/>
                  </a:lnTo>
                  <a:lnTo>
                    <a:pt x="484" y="753"/>
                  </a:lnTo>
                  <a:lnTo>
                    <a:pt x="484" y="757"/>
                  </a:lnTo>
                  <a:lnTo>
                    <a:pt x="486" y="765"/>
                  </a:lnTo>
                  <a:lnTo>
                    <a:pt x="493" y="764"/>
                  </a:lnTo>
                  <a:lnTo>
                    <a:pt x="500" y="762"/>
                  </a:lnTo>
                  <a:lnTo>
                    <a:pt x="508" y="761"/>
                  </a:lnTo>
                  <a:lnTo>
                    <a:pt x="517" y="759"/>
                  </a:lnTo>
                  <a:lnTo>
                    <a:pt x="525" y="757"/>
                  </a:lnTo>
                  <a:lnTo>
                    <a:pt x="533" y="756"/>
                  </a:lnTo>
                  <a:lnTo>
                    <a:pt x="538" y="754"/>
                  </a:lnTo>
                  <a:lnTo>
                    <a:pt x="543" y="753"/>
                  </a:lnTo>
                  <a:lnTo>
                    <a:pt x="547" y="753"/>
                  </a:lnTo>
                  <a:lnTo>
                    <a:pt x="552" y="753"/>
                  </a:lnTo>
                  <a:lnTo>
                    <a:pt x="557" y="749"/>
                  </a:lnTo>
                  <a:lnTo>
                    <a:pt x="561" y="748"/>
                  </a:lnTo>
                  <a:lnTo>
                    <a:pt x="566" y="746"/>
                  </a:lnTo>
                  <a:lnTo>
                    <a:pt x="571" y="746"/>
                  </a:lnTo>
                  <a:lnTo>
                    <a:pt x="574" y="743"/>
                  </a:lnTo>
                  <a:lnTo>
                    <a:pt x="579" y="742"/>
                  </a:lnTo>
                  <a:lnTo>
                    <a:pt x="584" y="740"/>
                  </a:lnTo>
                  <a:lnTo>
                    <a:pt x="590" y="738"/>
                  </a:lnTo>
                  <a:lnTo>
                    <a:pt x="595" y="737"/>
                  </a:lnTo>
                  <a:lnTo>
                    <a:pt x="599" y="734"/>
                  </a:lnTo>
                  <a:lnTo>
                    <a:pt x="606" y="732"/>
                  </a:lnTo>
                  <a:lnTo>
                    <a:pt x="611" y="731"/>
                  </a:lnTo>
                  <a:lnTo>
                    <a:pt x="615" y="727"/>
                  </a:lnTo>
                  <a:lnTo>
                    <a:pt x="620" y="726"/>
                  </a:lnTo>
                  <a:lnTo>
                    <a:pt x="626" y="723"/>
                  </a:lnTo>
                  <a:lnTo>
                    <a:pt x="633" y="721"/>
                  </a:lnTo>
                  <a:lnTo>
                    <a:pt x="637" y="718"/>
                  </a:lnTo>
                  <a:lnTo>
                    <a:pt x="642" y="715"/>
                  </a:lnTo>
                  <a:lnTo>
                    <a:pt x="648" y="712"/>
                  </a:lnTo>
                  <a:lnTo>
                    <a:pt x="653" y="710"/>
                  </a:lnTo>
                  <a:lnTo>
                    <a:pt x="658" y="707"/>
                  </a:lnTo>
                  <a:lnTo>
                    <a:pt x="664" y="704"/>
                  </a:lnTo>
                  <a:lnTo>
                    <a:pt x="671" y="700"/>
                  </a:lnTo>
                  <a:lnTo>
                    <a:pt x="677" y="697"/>
                  </a:lnTo>
                  <a:lnTo>
                    <a:pt x="682" y="694"/>
                  </a:lnTo>
                  <a:lnTo>
                    <a:pt x="688" y="691"/>
                  </a:lnTo>
                  <a:lnTo>
                    <a:pt x="693" y="686"/>
                  </a:lnTo>
                  <a:lnTo>
                    <a:pt x="699" y="683"/>
                  </a:lnTo>
                  <a:lnTo>
                    <a:pt x="705" y="678"/>
                  </a:lnTo>
                  <a:lnTo>
                    <a:pt x="712" y="675"/>
                  </a:lnTo>
                  <a:lnTo>
                    <a:pt x="718" y="670"/>
                  </a:lnTo>
                  <a:lnTo>
                    <a:pt x="724" y="667"/>
                  </a:lnTo>
                  <a:lnTo>
                    <a:pt x="729" y="664"/>
                  </a:lnTo>
                  <a:lnTo>
                    <a:pt x="735" y="659"/>
                  </a:lnTo>
                  <a:lnTo>
                    <a:pt x="742" y="655"/>
                  </a:lnTo>
                  <a:lnTo>
                    <a:pt x="750" y="650"/>
                  </a:lnTo>
                  <a:lnTo>
                    <a:pt x="756" y="645"/>
                  </a:lnTo>
                  <a:lnTo>
                    <a:pt x="762" y="640"/>
                  </a:lnTo>
                  <a:lnTo>
                    <a:pt x="769" y="636"/>
                  </a:lnTo>
                  <a:lnTo>
                    <a:pt x="775" y="631"/>
                  </a:lnTo>
                  <a:lnTo>
                    <a:pt x="781" y="626"/>
                  </a:lnTo>
                  <a:lnTo>
                    <a:pt x="789" y="621"/>
                  </a:lnTo>
                  <a:lnTo>
                    <a:pt x="796" y="615"/>
                  </a:lnTo>
                  <a:lnTo>
                    <a:pt x="804" y="610"/>
                  </a:lnTo>
                  <a:lnTo>
                    <a:pt x="810" y="604"/>
                  </a:lnTo>
                  <a:lnTo>
                    <a:pt x="816" y="599"/>
                  </a:lnTo>
                  <a:lnTo>
                    <a:pt x="824" y="593"/>
                  </a:lnTo>
                  <a:lnTo>
                    <a:pt x="830" y="588"/>
                  </a:lnTo>
                  <a:lnTo>
                    <a:pt x="837" y="582"/>
                  </a:lnTo>
                  <a:lnTo>
                    <a:pt x="841" y="577"/>
                  </a:lnTo>
                  <a:lnTo>
                    <a:pt x="848" y="571"/>
                  </a:lnTo>
                  <a:lnTo>
                    <a:pt x="854" y="564"/>
                  </a:lnTo>
                  <a:lnTo>
                    <a:pt x="860" y="558"/>
                  </a:lnTo>
                  <a:lnTo>
                    <a:pt x="865" y="553"/>
                  </a:lnTo>
                  <a:lnTo>
                    <a:pt x="872" y="547"/>
                  </a:lnTo>
                  <a:lnTo>
                    <a:pt x="876" y="542"/>
                  </a:lnTo>
                  <a:lnTo>
                    <a:pt x="881" y="536"/>
                  </a:lnTo>
                  <a:lnTo>
                    <a:pt x="886" y="531"/>
                  </a:lnTo>
                  <a:lnTo>
                    <a:pt x="891" y="525"/>
                  </a:lnTo>
                  <a:lnTo>
                    <a:pt x="897" y="519"/>
                  </a:lnTo>
                  <a:lnTo>
                    <a:pt x="900" y="514"/>
                  </a:lnTo>
                  <a:lnTo>
                    <a:pt x="905" y="508"/>
                  </a:lnTo>
                  <a:lnTo>
                    <a:pt x="909" y="503"/>
                  </a:lnTo>
                  <a:lnTo>
                    <a:pt x="914" y="498"/>
                  </a:lnTo>
                  <a:lnTo>
                    <a:pt x="917" y="492"/>
                  </a:lnTo>
                  <a:lnTo>
                    <a:pt x="921" y="487"/>
                  </a:lnTo>
                  <a:lnTo>
                    <a:pt x="925" y="481"/>
                  </a:lnTo>
                  <a:lnTo>
                    <a:pt x="928" y="476"/>
                  </a:lnTo>
                  <a:lnTo>
                    <a:pt x="932" y="470"/>
                  </a:lnTo>
                  <a:lnTo>
                    <a:pt x="935" y="465"/>
                  </a:lnTo>
                  <a:lnTo>
                    <a:pt x="938" y="460"/>
                  </a:lnTo>
                  <a:lnTo>
                    <a:pt x="943" y="455"/>
                  </a:lnTo>
                  <a:lnTo>
                    <a:pt x="944" y="449"/>
                  </a:lnTo>
                  <a:lnTo>
                    <a:pt x="947" y="444"/>
                  </a:lnTo>
                  <a:lnTo>
                    <a:pt x="951" y="440"/>
                  </a:lnTo>
                  <a:lnTo>
                    <a:pt x="954" y="435"/>
                  </a:lnTo>
                  <a:lnTo>
                    <a:pt x="957" y="430"/>
                  </a:lnTo>
                  <a:lnTo>
                    <a:pt x="959" y="425"/>
                  </a:lnTo>
                  <a:lnTo>
                    <a:pt x="960" y="421"/>
                  </a:lnTo>
                  <a:lnTo>
                    <a:pt x="963" y="416"/>
                  </a:lnTo>
                  <a:lnTo>
                    <a:pt x="965" y="411"/>
                  </a:lnTo>
                  <a:lnTo>
                    <a:pt x="966" y="406"/>
                  </a:lnTo>
                  <a:lnTo>
                    <a:pt x="968" y="402"/>
                  </a:lnTo>
                  <a:lnTo>
                    <a:pt x="971" y="397"/>
                  </a:lnTo>
                  <a:lnTo>
                    <a:pt x="973" y="392"/>
                  </a:lnTo>
                  <a:lnTo>
                    <a:pt x="974" y="387"/>
                  </a:lnTo>
                  <a:lnTo>
                    <a:pt x="976" y="383"/>
                  </a:lnTo>
                  <a:lnTo>
                    <a:pt x="978" y="379"/>
                  </a:lnTo>
                  <a:lnTo>
                    <a:pt x="981" y="372"/>
                  </a:lnTo>
                  <a:lnTo>
                    <a:pt x="982" y="364"/>
                  </a:lnTo>
                  <a:lnTo>
                    <a:pt x="985" y="356"/>
                  </a:lnTo>
                  <a:lnTo>
                    <a:pt x="987" y="349"/>
                  </a:lnTo>
                  <a:lnTo>
                    <a:pt x="989" y="343"/>
                  </a:lnTo>
                  <a:lnTo>
                    <a:pt x="990" y="337"/>
                  </a:lnTo>
                  <a:lnTo>
                    <a:pt x="992" y="330"/>
                  </a:lnTo>
                  <a:lnTo>
                    <a:pt x="993" y="326"/>
                  </a:lnTo>
                  <a:lnTo>
                    <a:pt x="993" y="321"/>
                  </a:lnTo>
                  <a:lnTo>
                    <a:pt x="993" y="316"/>
                  </a:lnTo>
                  <a:lnTo>
                    <a:pt x="995" y="313"/>
                  </a:lnTo>
                  <a:lnTo>
                    <a:pt x="997" y="310"/>
                  </a:lnTo>
                  <a:lnTo>
                    <a:pt x="952" y="308"/>
                  </a:lnTo>
                  <a:lnTo>
                    <a:pt x="951" y="308"/>
                  </a:lnTo>
                  <a:lnTo>
                    <a:pt x="951" y="311"/>
                  </a:lnTo>
                  <a:lnTo>
                    <a:pt x="949" y="316"/>
                  </a:lnTo>
                  <a:lnTo>
                    <a:pt x="949" y="323"/>
                  </a:lnTo>
                  <a:lnTo>
                    <a:pt x="947" y="326"/>
                  </a:lnTo>
                  <a:lnTo>
                    <a:pt x="946" y="329"/>
                  </a:lnTo>
                  <a:lnTo>
                    <a:pt x="944" y="334"/>
                  </a:lnTo>
                  <a:lnTo>
                    <a:pt x="944" y="338"/>
                  </a:lnTo>
                  <a:lnTo>
                    <a:pt x="941" y="343"/>
                  </a:lnTo>
                  <a:lnTo>
                    <a:pt x="940" y="348"/>
                  </a:lnTo>
                  <a:lnTo>
                    <a:pt x="938" y="354"/>
                  </a:lnTo>
                  <a:lnTo>
                    <a:pt x="936" y="360"/>
                  </a:lnTo>
                  <a:lnTo>
                    <a:pt x="933" y="365"/>
                  </a:lnTo>
                  <a:lnTo>
                    <a:pt x="932" y="372"/>
                  </a:lnTo>
                  <a:lnTo>
                    <a:pt x="928" y="378"/>
                  </a:lnTo>
                  <a:lnTo>
                    <a:pt x="927" y="386"/>
                  </a:lnTo>
                  <a:lnTo>
                    <a:pt x="922" y="392"/>
                  </a:lnTo>
                  <a:lnTo>
                    <a:pt x="919" y="398"/>
                  </a:lnTo>
                  <a:lnTo>
                    <a:pt x="916" y="406"/>
                  </a:lnTo>
                  <a:lnTo>
                    <a:pt x="913" y="414"/>
                  </a:lnTo>
                  <a:lnTo>
                    <a:pt x="908" y="421"/>
                  </a:lnTo>
                  <a:lnTo>
                    <a:pt x="903" y="428"/>
                  </a:lnTo>
                  <a:lnTo>
                    <a:pt x="898" y="436"/>
                  </a:lnTo>
                  <a:lnTo>
                    <a:pt x="894" y="444"/>
                  </a:lnTo>
                  <a:lnTo>
                    <a:pt x="889" y="452"/>
                  </a:lnTo>
                  <a:lnTo>
                    <a:pt x="883" y="460"/>
                  </a:lnTo>
                  <a:lnTo>
                    <a:pt x="878" y="468"/>
                  </a:lnTo>
                  <a:lnTo>
                    <a:pt x="873" y="476"/>
                  </a:lnTo>
                  <a:lnTo>
                    <a:pt x="867" y="482"/>
                  </a:lnTo>
                  <a:lnTo>
                    <a:pt x="862" y="489"/>
                  </a:lnTo>
                  <a:lnTo>
                    <a:pt x="857" y="493"/>
                  </a:lnTo>
                  <a:lnTo>
                    <a:pt x="854" y="500"/>
                  </a:lnTo>
                  <a:lnTo>
                    <a:pt x="849" y="504"/>
                  </a:lnTo>
                  <a:lnTo>
                    <a:pt x="845" y="509"/>
                  </a:lnTo>
                  <a:lnTo>
                    <a:pt x="840" y="515"/>
                  </a:lnTo>
                  <a:lnTo>
                    <a:pt x="835" y="522"/>
                  </a:lnTo>
                  <a:lnTo>
                    <a:pt x="830" y="527"/>
                  </a:lnTo>
                  <a:lnTo>
                    <a:pt x="826" y="531"/>
                  </a:lnTo>
                  <a:lnTo>
                    <a:pt x="819" y="538"/>
                  </a:lnTo>
                  <a:lnTo>
                    <a:pt x="813" y="544"/>
                  </a:lnTo>
                  <a:lnTo>
                    <a:pt x="807" y="549"/>
                  </a:lnTo>
                  <a:lnTo>
                    <a:pt x="800" y="555"/>
                  </a:lnTo>
                  <a:lnTo>
                    <a:pt x="792" y="563"/>
                  </a:lnTo>
                  <a:lnTo>
                    <a:pt x="785" y="571"/>
                  </a:lnTo>
                  <a:lnTo>
                    <a:pt x="777" y="576"/>
                  </a:lnTo>
                  <a:lnTo>
                    <a:pt x="770" y="582"/>
                  </a:lnTo>
                  <a:lnTo>
                    <a:pt x="762" y="587"/>
                  </a:lnTo>
                  <a:lnTo>
                    <a:pt x="756" y="593"/>
                  </a:lnTo>
                  <a:lnTo>
                    <a:pt x="748" y="598"/>
                  </a:lnTo>
                  <a:lnTo>
                    <a:pt x="740" y="604"/>
                  </a:lnTo>
                  <a:lnTo>
                    <a:pt x="732" y="609"/>
                  </a:lnTo>
                  <a:lnTo>
                    <a:pt x="724" y="615"/>
                  </a:lnTo>
                  <a:lnTo>
                    <a:pt x="720" y="618"/>
                  </a:lnTo>
                  <a:lnTo>
                    <a:pt x="717" y="621"/>
                  </a:lnTo>
                  <a:lnTo>
                    <a:pt x="712" y="623"/>
                  </a:lnTo>
                  <a:lnTo>
                    <a:pt x="707" y="626"/>
                  </a:lnTo>
                  <a:lnTo>
                    <a:pt x="699" y="631"/>
                  </a:lnTo>
                  <a:lnTo>
                    <a:pt x="691" y="637"/>
                  </a:lnTo>
                  <a:lnTo>
                    <a:pt x="686" y="640"/>
                  </a:lnTo>
                  <a:lnTo>
                    <a:pt x="682" y="642"/>
                  </a:lnTo>
                  <a:lnTo>
                    <a:pt x="679" y="645"/>
                  </a:lnTo>
                  <a:lnTo>
                    <a:pt x="674" y="648"/>
                  </a:lnTo>
                  <a:lnTo>
                    <a:pt x="669" y="650"/>
                  </a:lnTo>
                  <a:lnTo>
                    <a:pt x="664" y="653"/>
                  </a:lnTo>
                  <a:lnTo>
                    <a:pt x="661" y="656"/>
                  </a:lnTo>
                  <a:lnTo>
                    <a:pt x="656" y="659"/>
                  </a:lnTo>
                  <a:lnTo>
                    <a:pt x="652" y="661"/>
                  </a:lnTo>
                  <a:lnTo>
                    <a:pt x="648" y="663"/>
                  </a:lnTo>
                  <a:lnTo>
                    <a:pt x="644" y="666"/>
                  </a:lnTo>
                  <a:lnTo>
                    <a:pt x="639" y="667"/>
                  </a:lnTo>
                  <a:lnTo>
                    <a:pt x="634" y="670"/>
                  </a:lnTo>
                  <a:lnTo>
                    <a:pt x="630" y="672"/>
                  </a:lnTo>
                  <a:lnTo>
                    <a:pt x="625" y="674"/>
                  </a:lnTo>
                  <a:lnTo>
                    <a:pt x="622" y="677"/>
                  </a:lnTo>
                  <a:lnTo>
                    <a:pt x="617" y="678"/>
                  </a:lnTo>
                  <a:lnTo>
                    <a:pt x="612" y="680"/>
                  </a:lnTo>
                  <a:lnTo>
                    <a:pt x="607" y="681"/>
                  </a:lnTo>
                  <a:lnTo>
                    <a:pt x="604" y="685"/>
                  </a:lnTo>
                  <a:lnTo>
                    <a:pt x="599" y="686"/>
                  </a:lnTo>
                  <a:lnTo>
                    <a:pt x="595" y="688"/>
                  </a:lnTo>
                  <a:lnTo>
                    <a:pt x="590" y="689"/>
                  </a:lnTo>
                  <a:lnTo>
                    <a:pt x="587" y="693"/>
                  </a:lnTo>
                  <a:lnTo>
                    <a:pt x="582" y="693"/>
                  </a:lnTo>
                  <a:lnTo>
                    <a:pt x="577" y="696"/>
                  </a:lnTo>
                  <a:lnTo>
                    <a:pt x="573" y="696"/>
                  </a:lnTo>
                  <a:lnTo>
                    <a:pt x="569" y="699"/>
                  </a:lnTo>
                  <a:lnTo>
                    <a:pt x="561" y="700"/>
                  </a:lnTo>
                  <a:lnTo>
                    <a:pt x="554" y="704"/>
                  </a:lnTo>
                  <a:lnTo>
                    <a:pt x="544" y="705"/>
                  </a:lnTo>
                  <a:lnTo>
                    <a:pt x="538" y="708"/>
                  </a:lnTo>
                  <a:lnTo>
                    <a:pt x="530" y="710"/>
                  </a:lnTo>
                  <a:lnTo>
                    <a:pt x="522" y="710"/>
                  </a:lnTo>
                  <a:lnTo>
                    <a:pt x="522" y="708"/>
                  </a:lnTo>
                  <a:lnTo>
                    <a:pt x="522" y="702"/>
                  </a:lnTo>
                  <a:lnTo>
                    <a:pt x="520" y="697"/>
                  </a:lnTo>
                  <a:lnTo>
                    <a:pt x="520" y="693"/>
                  </a:lnTo>
                  <a:lnTo>
                    <a:pt x="520" y="686"/>
                  </a:lnTo>
                  <a:lnTo>
                    <a:pt x="519" y="680"/>
                  </a:lnTo>
                  <a:lnTo>
                    <a:pt x="517" y="672"/>
                  </a:lnTo>
                  <a:lnTo>
                    <a:pt x="516" y="666"/>
                  </a:lnTo>
                  <a:lnTo>
                    <a:pt x="512" y="658"/>
                  </a:lnTo>
                  <a:lnTo>
                    <a:pt x="511" y="650"/>
                  </a:lnTo>
                  <a:lnTo>
                    <a:pt x="508" y="645"/>
                  </a:lnTo>
                  <a:lnTo>
                    <a:pt x="506" y="640"/>
                  </a:lnTo>
                  <a:lnTo>
                    <a:pt x="505" y="636"/>
                  </a:lnTo>
                  <a:lnTo>
                    <a:pt x="503" y="631"/>
                  </a:lnTo>
                  <a:lnTo>
                    <a:pt x="500" y="628"/>
                  </a:lnTo>
                  <a:lnTo>
                    <a:pt x="498" y="623"/>
                  </a:lnTo>
                  <a:lnTo>
                    <a:pt x="495" y="618"/>
                  </a:lnTo>
                  <a:lnTo>
                    <a:pt x="493" y="615"/>
                  </a:lnTo>
                  <a:lnTo>
                    <a:pt x="392" y="628"/>
                  </a:lnTo>
                  <a:lnTo>
                    <a:pt x="365" y="615"/>
                  </a:lnTo>
                  <a:lnTo>
                    <a:pt x="402" y="547"/>
                  </a:lnTo>
                  <a:lnTo>
                    <a:pt x="400" y="545"/>
                  </a:lnTo>
                  <a:lnTo>
                    <a:pt x="397" y="545"/>
                  </a:lnTo>
                  <a:lnTo>
                    <a:pt x="391" y="544"/>
                  </a:lnTo>
                  <a:lnTo>
                    <a:pt x="384" y="544"/>
                  </a:lnTo>
                  <a:lnTo>
                    <a:pt x="380" y="544"/>
                  </a:lnTo>
                  <a:lnTo>
                    <a:pt x="376" y="544"/>
                  </a:lnTo>
                  <a:lnTo>
                    <a:pt x="372" y="542"/>
                  </a:lnTo>
                  <a:lnTo>
                    <a:pt x="368" y="542"/>
                  </a:lnTo>
                  <a:lnTo>
                    <a:pt x="362" y="541"/>
                  </a:lnTo>
                  <a:lnTo>
                    <a:pt x="357" y="541"/>
                  </a:lnTo>
                  <a:lnTo>
                    <a:pt x="351" y="539"/>
                  </a:lnTo>
                  <a:lnTo>
                    <a:pt x="346" y="539"/>
                  </a:lnTo>
                  <a:lnTo>
                    <a:pt x="340" y="538"/>
                  </a:lnTo>
                  <a:lnTo>
                    <a:pt x="335" y="536"/>
                  </a:lnTo>
                  <a:lnTo>
                    <a:pt x="329" y="534"/>
                  </a:lnTo>
                  <a:lnTo>
                    <a:pt x="323" y="533"/>
                  </a:lnTo>
                  <a:lnTo>
                    <a:pt x="315" y="531"/>
                  </a:lnTo>
                  <a:lnTo>
                    <a:pt x="308" y="530"/>
                  </a:lnTo>
                  <a:lnTo>
                    <a:pt x="302" y="528"/>
                  </a:lnTo>
                  <a:lnTo>
                    <a:pt x="297" y="527"/>
                  </a:lnTo>
                  <a:lnTo>
                    <a:pt x="289" y="525"/>
                  </a:lnTo>
                  <a:lnTo>
                    <a:pt x="283" y="522"/>
                  </a:lnTo>
                  <a:lnTo>
                    <a:pt x="277" y="520"/>
                  </a:lnTo>
                  <a:lnTo>
                    <a:pt x="270" y="519"/>
                  </a:lnTo>
                  <a:lnTo>
                    <a:pt x="266" y="515"/>
                  </a:lnTo>
                  <a:lnTo>
                    <a:pt x="259" y="512"/>
                  </a:lnTo>
                  <a:lnTo>
                    <a:pt x="253" y="511"/>
                  </a:lnTo>
                  <a:lnTo>
                    <a:pt x="248" y="508"/>
                  </a:lnTo>
                  <a:lnTo>
                    <a:pt x="278" y="452"/>
                  </a:lnTo>
                  <a:lnTo>
                    <a:pt x="277" y="451"/>
                  </a:lnTo>
                  <a:lnTo>
                    <a:pt x="275" y="451"/>
                  </a:lnTo>
                  <a:lnTo>
                    <a:pt x="272" y="447"/>
                  </a:lnTo>
                  <a:lnTo>
                    <a:pt x="267" y="446"/>
                  </a:lnTo>
                  <a:lnTo>
                    <a:pt x="263" y="443"/>
                  </a:lnTo>
                  <a:lnTo>
                    <a:pt x="255" y="441"/>
                  </a:lnTo>
                  <a:lnTo>
                    <a:pt x="251" y="438"/>
                  </a:lnTo>
                  <a:lnTo>
                    <a:pt x="247" y="438"/>
                  </a:lnTo>
                  <a:lnTo>
                    <a:pt x="242" y="435"/>
                  </a:lnTo>
                  <a:lnTo>
                    <a:pt x="239" y="435"/>
                  </a:lnTo>
                  <a:lnTo>
                    <a:pt x="232" y="432"/>
                  </a:lnTo>
                  <a:lnTo>
                    <a:pt x="228" y="430"/>
                  </a:lnTo>
                  <a:lnTo>
                    <a:pt x="223" y="428"/>
                  </a:lnTo>
                  <a:lnTo>
                    <a:pt x="217" y="427"/>
                  </a:lnTo>
                  <a:lnTo>
                    <a:pt x="210" y="425"/>
                  </a:lnTo>
                  <a:lnTo>
                    <a:pt x="204" y="424"/>
                  </a:lnTo>
                  <a:lnTo>
                    <a:pt x="198" y="422"/>
                  </a:lnTo>
                  <a:lnTo>
                    <a:pt x="193" y="421"/>
                  </a:lnTo>
                  <a:lnTo>
                    <a:pt x="187" y="419"/>
                  </a:lnTo>
                  <a:lnTo>
                    <a:pt x="179" y="417"/>
                  </a:lnTo>
                  <a:lnTo>
                    <a:pt x="172" y="416"/>
                  </a:lnTo>
                  <a:lnTo>
                    <a:pt x="164" y="414"/>
                  </a:lnTo>
                  <a:lnTo>
                    <a:pt x="157" y="411"/>
                  </a:lnTo>
                  <a:lnTo>
                    <a:pt x="150" y="411"/>
                  </a:lnTo>
                  <a:lnTo>
                    <a:pt x="142" y="409"/>
                  </a:lnTo>
                  <a:lnTo>
                    <a:pt x="136" y="408"/>
                  </a:lnTo>
                  <a:lnTo>
                    <a:pt x="168" y="346"/>
                  </a:lnTo>
                  <a:lnTo>
                    <a:pt x="166" y="346"/>
                  </a:lnTo>
                  <a:lnTo>
                    <a:pt x="163" y="346"/>
                  </a:lnTo>
                  <a:lnTo>
                    <a:pt x="158" y="346"/>
                  </a:lnTo>
                  <a:lnTo>
                    <a:pt x="153" y="346"/>
                  </a:lnTo>
                  <a:lnTo>
                    <a:pt x="147" y="345"/>
                  </a:lnTo>
                  <a:lnTo>
                    <a:pt x="141" y="345"/>
                  </a:lnTo>
                  <a:lnTo>
                    <a:pt x="133" y="345"/>
                  </a:lnTo>
                  <a:lnTo>
                    <a:pt x="125" y="345"/>
                  </a:lnTo>
                  <a:lnTo>
                    <a:pt x="120" y="345"/>
                  </a:lnTo>
                  <a:lnTo>
                    <a:pt x="115" y="345"/>
                  </a:lnTo>
                  <a:lnTo>
                    <a:pt x="112" y="345"/>
                  </a:lnTo>
                  <a:lnTo>
                    <a:pt x="107" y="345"/>
                  </a:lnTo>
                  <a:lnTo>
                    <a:pt x="103" y="345"/>
                  </a:lnTo>
                  <a:lnTo>
                    <a:pt x="98" y="345"/>
                  </a:lnTo>
                  <a:lnTo>
                    <a:pt x="93" y="345"/>
                  </a:lnTo>
                  <a:lnTo>
                    <a:pt x="89" y="345"/>
                  </a:lnTo>
                  <a:lnTo>
                    <a:pt x="84" y="345"/>
                  </a:lnTo>
                  <a:lnTo>
                    <a:pt x="79" y="345"/>
                  </a:lnTo>
                  <a:lnTo>
                    <a:pt x="76" y="345"/>
                  </a:lnTo>
                  <a:lnTo>
                    <a:pt x="73" y="345"/>
                  </a:lnTo>
                  <a:lnTo>
                    <a:pt x="65" y="346"/>
                  </a:lnTo>
                  <a:lnTo>
                    <a:pt x="58" y="346"/>
                  </a:lnTo>
                  <a:lnTo>
                    <a:pt x="58" y="341"/>
                  </a:lnTo>
                  <a:lnTo>
                    <a:pt x="58" y="340"/>
                  </a:lnTo>
                  <a:lnTo>
                    <a:pt x="62" y="340"/>
                  </a:lnTo>
                  <a:lnTo>
                    <a:pt x="68" y="338"/>
                  </a:lnTo>
                  <a:lnTo>
                    <a:pt x="74" y="337"/>
                  </a:lnTo>
                  <a:lnTo>
                    <a:pt x="79" y="335"/>
                  </a:lnTo>
                  <a:lnTo>
                    <a:pt x="84" y="334"/>
                  </a:lnTo>
                  <a:lnTo>
                    <a:pt x="89" y="332"/>
                  </a:lnTo>
                  <a:lnTo>
                    <a:pt x="96" y="330"/>
                  </a:lnTo>
                  <a:lnTo>
                    <a:pt x="101" y="327"/>
                  </a:lnTo>
                  <a:lnTo>
                    <a:pt x="109" y="326"/>
                  </a:lnTo>
                  <a:lnTo>
                    <a:pt x="115" y="323"/>
                  </a:lnTo>
                  <a:lnTo>
                    <a:pt x="123" y="321"/>
                  </a:lnTo>
                  <a:lnTo>
                    <a:pt x="131" y="316"/>
                  </a:lnTo>
                  <a:lnTo>
                    <a:pt x="139" y="313"/>
                  </a:lnTo>
                  <a:lnTo>
                    <a:pt x="144" y="310"/>
                  </a:lnTo>
                  <a:lnTo>
                    <a:pt x="147" y="308"/>
                  </a:lnTo>
                  <a:lnTo>
                    <a:pt x="152" y="305"/>
                  </a:lnTo>
                  <a:lnTo>
                    <a:pt x="157" y="305"/>
                  </a:lnTo>
                  <a:lnTo>
                    <a:pt x="161" y="302"/>
                  </a:lnTo>
                  <a:lnTo>
                    <a:pt x="166" y="299"/>
                  </a:lnTo>
                  <a:lnTo>
                    <a:pt x="171" y="297"/>
                  </a:lnTo>
                  <a:lnTo>
                    <a:pt x="176" y="294"/>
                  </a:lnTo>
                  <a:lnTo>
                    <a:pt x="180" y="291"/>
                  </a:lnTo>
                  <a:lnTo>
                    <a:pt x="185" y="288"/>
                  </a:lnTo>
                  <a:lnTo>
                    <a:pt x="190" y="285"/>
                  </a:lnTo>
                  <a:lnTo>
                    <a:pt x="196" y="283"/>
                  </a:lnTo>
                  <a:lnTo>
                    <a:pt x="201" y="278"/>
                  </a:lnTo>
                  <a:lnTo>
                    <a:pt x="206" y="275"/>
                  </a:lnTo>
                  <a:lnTo>
                    <a:pt x="212" y="272"/>
                  </a:lnTo>
                  <a:lnTo>
                    <a:pt x="217" y="269"/>
                  </a:lnTo>
                  <a:lnTo>
                    <a:pt x="221" y="264"/>
                  </a:lnTo>
                  <a:lnTo>
                    <a:pt x="228" y="261"/>
                  </a:lnTo>
                  <a:lnTo>
                    <a:pt x="232" y="256"/>
                  </a:lnTo>
                  <a:lnTo>
                    <a:pt x="239" y="253"/>
                  </a:lnTo>
                  <a:lnTo>
                    <a:pt x="244" y="248"/>
                  </a:lnTo>
                  <a:lnTo>
                    <a:pt x="250" y="243"/>
                  </a:lnTo>
                  <a:lnTo>
                    <a:pt x="256" y="239"/>
                  </a:lnTo>
                  <a:lnTo>
                    <a:pt x="263" y="236"/>
                  </a:lnTo>
                  <a:lnTo>
                    <a:pt x="267" y="229"/>
                  </a:lnTo>
                  <a:lnTo>
                    <a:pt x="274" y="224"/>
                  </a:lnTo>
                  <a:lnTo>
                    <a:pt x="280" y="220"/>
                  </a:lnTo>
                  <a:lnTo>
                    <a:pt x="286" y="217"/>
                  </a:lnTo>
                  <a:lnTo>
                    <a:pt x="293" y="210"/>
                  </a:lnTo>
                  <a:lnTo>
                    <a:pt x="297" y="204"/>
                  </a:lnTo>
                  <a:lnTo>
                    <a:pt x="302" y="199"/>
                  </a:lnTo>
                  <a:lnTo>
                    <a:pt x="308" y="194"/>
                  </a:lnTo>
                  <a:lnTo>
                    <a:pt x="313" y="188"/>
                  </a:lnTo>
                  <a:lnTo>
                    <a:pt x="319" y="183"/>
                  </a:lnTo>
                  <a:lnTo>
                    <a:pt x="324" y="179"/>
                  </a:lnTo>
                  <a:lnTo>
                    <a:pt x="329" y="174"/>
                  </a:lnTo>
                  <a:lnTo>
                    <a:pt x="334" y="169"/>
                  </a:lnTo>
                  <a:lnTo>
                    <a:pt x="338" y="164"/>
                  </a:lnTo>
                  <a:lnTo>
                    <a:pt x="343" y="160"/>
                  </a:lnTo>
                  <a:lnTo>
                    <a:pt x="346" y="155"/>
                  </a:lnTo>
                  <a:lnTo>
                    <a:pt x="351" y="150"/>
                  </a:lnTo>
                  <a:lnTo>
                    <a:pt x="354" y="145"/>
                  </a:lnTo>
                  <a:lnTo>
                    <a:pt x="359" y="141"/>
                  </a:lnTo>
                  <a:lnTo>
                    <a:pt x="364" y="137"/>
                  </a:lnTo>
                  <a:lnTo>
                    <a:pt x="367" y="133"/>
                  </a:lnTo>
                  <a:lnTo>
                    <a:pt x="370" y="128"/>
                  </a:lnTo>
                  <a:lnTo>
                    <a:pt x="373" y="125"/>
                  </a:lnTo>
                  <a:lnTo>
                    <a:pt x="378" y="120"/>
                  </a:lnTo>
                  <a:lnTo>
                    <a:pt x="383" y="112"/>
                  </a:lnTo>
                  <a:lnTo>
                    <a:pt x="389" y="104"/>
                  </a:lnTo>
                  <a:lnTo>
                    <a:pt x="394" y="98"/>
                  </a:lnTo>
                  <a:lnTo>
                    <a:pt x="399" y="92"/>
                  </a:lnTo>
                  <a:lnTo>
                    <a:pt x="403" y="84"/>
                  </a:lnTo>
                  <a:lnTo>
                    <a:pt x="408" y="79"/>
                  </a:lnTo>
                  <a:lnTo>
                    <a:pt x="411" y="71"/>
                  </a:lnTo>
                  <a:lnTo>
                    <a:pt x="414" y="66"/>
                  </a:lnTo>
                  <a:lnTo>
                    <a:pt x="418" y="60"/>
                  </a:lnTo>
                  <a:lnTo>
                    <a:pt x="421" y="55"/>
                  </a:lnTo>
                  <a:lnTo>
                    <a:pt x="422" y="52"/>
                  </a:lnTo>
                  <a:lnTo>
                    <a:pt x="424" y="47"/>
                  </a:lnTo>
                  <a:lnTo>
                    <a:pt x="425" y="43"/>
                  </a:lnTo>
                  <a:lnTo>
                    <a:pt x="427" y="41"/>
                  </a:lnTo>
                  <a:lnTo>
                    <a:pt x="429" y="35"/>
                  </a:lnTo>
                  <a:lnTo>
                    <a:pt x="432" y="30"/>
                  </a:lnTo>
                  <a:lnTo>
                    <a:pt x="432" y="28"/>
                  </a:lnTo>
                  <a:lnTo>
                    <a:pt x="433" y="28"/>
                  </a:lnTo>
                  <a:lnTo>
                    <a:pt x="399" y="0"/>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rot="21366600">
              <a:off x="5722560" y="2633760"/>
              <a:ext cx="520560" cy="738000"/>
            </a:xfrm>
            <a:custGeom>
              <a:avLst/>
              <a:gdLst/>
              <a:ahLst/>
              <a:rect l="l" t="t" r="r" b="b"/>
              <a:pathLst>
                <a:path w="775" h="1093">
                  <a:moveTo>
                    <a:pt x="43" y="805"/>
                  </a:moveTo>
                  <a:lnTo>
                    <a:pt x="43" y="804"/>
                  </a:lnTo>
                  <a:lnTo>
                    <a:pt x="43" y="801"/>
                  </a:lnTo>
                  <a:lnTo>
                    <a:pt x="43" y="797"/>
                  </a:lnTo>
                  <a:lnTo>
                    <a:pt x="45" y="794"/>
                  </a:lnTo>
                  <a:lnTo>
                    <a:pt x="45" y="786"/>
                  </a:lnTo>
                  <a:lnTo>
                    <a:pt x="46" y="780"/>
                  </a:lnTo>
                  <a:lnTo>
                    <a:pt x="49" y="772"/>
                  </a:lnTo>
                  <a:lnTo>
                    <a:pt x="51" y="766"/>
                  </a:lnTo>
                  <a:lnTo>
                    <a:pt x="52" y="761"/>
                  </a:lnTo>
                  <a:lnTo>
                    <a:pt x="54" y="756"/>
                  </a:lnTo>
                  <a:lnTo>
                    <a:pt x="54" y="753"/>
                  </a:lnTo>
                  <a:lnTo>
                    <a:pt x="57" y="748"/>
                  </a:lnTo>
                  <a:lnTo>
                    <a:pt x="60" y="740"/>
                  </a:lnTo>
                  <a:lnTo>
                    <a:pt x="65" y="733"/>
                  </a:lnTo>
                  <a:lnTo>
                    <a:pt x="70" y="723"/>
                  </a:lnTo>
                  <a:lnTo>
                    <a:pt x="75" y="717"/>
                  </a:lnTo>
                  <a:lnTo>
                    <a:pt x="81" y="710"/>
                  </a:lnTo>
                  <a:lnTo>
                    <a:pt x="87" y="706"/>
                  </a:lnTo>
                  <a:lnTo>
                    <a:pt x="94" y="699"/>
                  </a:lnTo>
                  <a:lnTo>
                    <a:pt x="100" y="696"/>
                  </a:lnTo>
                  <a:lnTo>
                    <a:pt x="106" y="693"/>
                  </a:lnTo>
                  <a:lnTo>
                    <a:pt x="113" y="691"/>
                  </a:lnTo>
                  <a:lnTo>
                    <a:pt x="117" y="688"/>
                  </a:lnTo>
                  <a:lnTo>
                    <a:pt x="124" y="688"/>
                  </a:lnTo>
                  <a:lnTo>
                    <a:pt x="128" y="688"/>
                  </a:lnTo>
                  <a:lnTo>
                    <a:pt x="135" y="688"/>
                  </a:lnTo>
                  <a:lnTo>
                    <a:pt x="141" y="688"/>
                  </a:lnTo>
                  <a:lnTo>
                    <a:pt x="147" y="690"/>
                  </a:lnTo>
                  <a:lnTo>
                    <a:pt x="152" y="693"/>
                  </a:lnTo>
                  <a:lnTo>
                    <a:pt x="158" y="695"/>
                  </a:lnTo>
                  <a:lnTo>
                    <a:pt x="166" y="698"/>
                  </a:lnTo>
                  <a:lnTo>
                    <a:pt x="173" y="699"/>
                  </a:lnTo>
                  <a:lnTo>
                    <a:pt x="176" y="701"/>
                  </a:lnTo>
                  <a:lnTo>
                    <a:pt x="181" y="703"/>
                  </a:lnTo>
                  <a:lnTo>
                    <a:pt x="185" y="704"/>
                  </a:lnTo>
                  <a:lnTo>
                    <a:pt x="190" y="707"/>
                  </a:lnTo>
                  <a:lnTo>
                    <a:pt x="196" y="709"/>
                  </a:lnTo>
                  <a:lnTo>
                    <a:pt x="206" y="714"/>
                  </a:lnTo>
                  <a:lnTo>
                    <a:pt x="209" y="714"/>
                  </a:lnTo>
                  <a:lnTo>
                    <a:pt x="214" y="717"/>
                  </a:lnTo>
                  <a:lnTo>
                    <a:pt x="219" y="717"/>
                  </a:lnTo>
                  <a:lnTo>
                    <a:pt x="223" y="720"/>
                  </a:lnTo>
                  <a:lnTo>
                    <a:pt x="228" y="721"/>
                  </a:lnTo>
                  <a:lnTo>
                    <a:pt x="233" y="723"/>
                  </a:lnTo>
                  <a:lnTo>
                    <a:pt x="238" y="725"/>
                  </a:lnTo>
                  <a:lnTo>
                    <a:pt x="242" y="726"/>
                  </a:lnTo>
                  <a:lnTo>
                    <a:pt x="247" y="728"/>
                  </a:lnTo>
                  <a:lnTo>
                    <a:pt x="252" y="729"/>
                  </a:lnTo>
                  <a:lnTo>
                    <a:pt x="257" y="731"/>
                  </a:lnTo>
                  <a:lnTo>
                    <a:pt x="261" y="733"/>
                  </a:lnTo>
                  <a:lnTo>
                    <a:pt x="264" y="733"/>
                  </a:lnTo>
                  <a:lnTo>
                    <a:pt x="269" y="734"/>
                  </a:lnTo>
                  <a:lnTo>
                    <a:pt x="272" y="734"/>
                  </a:lnTo>
                  <a:lnTo>
                    <a:pt x="277" y="736"/>
                  </a:lnTo>
                  <a:lnTo>
                    <a:pt x="282" y="736"/>
                  </a:lnTo>
                  <a:lnTo>
                    <a:pt x="287" y="736"/>
                  </a:lnTo>
                  <a:lnTo>
                    <a:pt x="291" y="736"/>
                  </a:lnTo>
                  <a:lnTo>
                    <a:pt x="296" y="737"/>
                  </a:lnTo>
                  <a:lnTo>
                    <a:pt x="304" y="736"/>
                  </a:lnTo>
                  <a:lnTo>
                    <a:pt x="310" y="734"/>
                  </a:lnTo>
                  <a:lnTo>
                    <a:pt x="318" y="733"/>
                  </a:lnTo>
                  <a:lnTo>
                    <a:pt x="326" y="729"/>
                  </a:lnTo>
                  <a:lnTo>
                    <a:pt x="332" y="725"/>
                  </a:lnTo>
                  <a:lnTo>
                    <a:pt x="339" y="718"/>
                  </a:lnTo>
                  <a:lnTo>
                    <a:pt x="342" y="714"/>
                  </a:lnTo>
                  <a:lnTo>
                    <a:pt x="344" y="710"/>
                  </a:lnTo>
                  <a:lnTo>
                    <a:pt x="347" y="706"/>
                  </a:lnTo>
                  <a:lnTo>
                    <a:pt x="351" y="701"/>
                  </a:lnTo>
                  <a:lnTo>
                    <a:pt x="355" y="695"/>
                  </a:lnTo>
                  <a:lnTo>
                    <a:pt x="358" y="690"/>
                  </a:lnTo>
                  <a:lnTo>
                    <a:pt x="361" y="684"/>
                  </a:lnTo>
                  <a:lnTo>
                    <a:pt x="364" y="677"/>
                  </a:lnTo>
                  <a:lnTo>
                    <a:pt x="367" y="669"/>
                  </a:lnTo>
                  <a:lnTo>
                    <a:pt x="372" y="663"/>
                  </a:lnTo>
                  <a:lnTo>
                    <a:pt x="375" y="653"/>
                  </a:lnTo>
                  <a:lnTo>
                    <a:pt x="378" y="646"/>
                  </a:lnTo>
                  <a:lnTo>
                    <a:pt x="380" y="641"/>
                  </a:lnTo>
                  <a:lnTo>
                    <a:pt x="381" y="636"/>
                  </a:lnTo>
                  <a:lnTo>
                    <a:pt x="383" y="631"/>
                  </a:lnTo>
                  <a:lnTo>
                    <a:pt x="385" y="628"/>
                  </a:lnTo>
                  <a:lnTo>
                    <a:pt x="386" y="622"/>
                  </a:lnTo>
                  <a:lnTo>
                    <a:pt x="388" y="617"/>
                  </a:lnTo>
                  <a:lnTo>
                    <a:pt x="389" y="611"/>
                  </a:lnTo>
                  <a:lnTo>
                    <a:pt x="393" y="606"/>
                  </a:lnTo>
                  <a:lnTo>
                    <a:pt x="394" y="600"/>
                  </a:lnTo>
                  <a:lnTo>
                    <a:pt x="396" y="595"/>
                  </a:lnTo>
                  <a:lnTo>
                    <a:pt x="397" y="590"/>
                  </a:lnTo>
                  <a:lnTo>
                    <a:pt x="399" y="584"/>
                  </a:lnTo>
                  <a:lnTo>
                    <a:pt x="400" y="578"/>
                  </a:lnTo>
                  <a:lnTo>
                    <a:pt x="402" y="571"/>
                  </a:lnTo>
                  <a:lnTo>
                    <a:pt x="404" y="565"/>
                  </a:lnTo>
                  <a:lnTo>
                    <a:pt x="407" y="559"/>
                  </a:lnTo>
                  <a:lnTo>
                    <a:pt x="408" y="552"/>
                  </a:lnTo>
                  <a:lnTo>
                    <a:pt x="410" y="546"/>
                  </a:lnTo>
                  <a:lnTo>
                    <a:pt x="412" y="538"/>
                  </a:lnTo>
                  <a:lnTo>
                    <a:pt x="413" y="532"/>
                  </a:lnTo>
                  <a:lnTo>
                    <a:pt x="415" y="524"/>
                  </a:lnTo>
                  <a:lnTo>
                    <a:pt x="416" y="516"/>
                  </a:lnTo>
                  <a:lnTo>
                    <a:pt x="418" y="510"/>
                  </a:lnTo>
                  <a:lnTo>
                    <a:pt x="421" y="503"/>
                  </a:lnTo>
                  <a:lnTo>
                    <a:pt x="421" y="494"/>
                  </a:lnTo>
                  <a:lnTo>
                    <a:pt x="423" y="486"/>
                  </a:lnTo>
                  <a:lnTo>
                    <a:pt x="424" y="478"/>
                  </a:lnTo>
                  <a:lnTo>
                    <a:pt x="427" y="470"/>
                  </a:lnTo>
                  <a:lnTo>
                    <a:pt x="429" y="462"/>
                  </a:lnTo>
                  <a:lnTo>
                    <a:pt x="431" y="454"/>
                  </a:lnTo>
                  <a:lnTo>
                    <a:pt x="432" y="445"/>
                  </a:lnTo>
                  <a:lnTo>
                    <a:pt x="435" y="437"/>
                  </a:lnTo>
                  <a:lnTo>
                    <a:pt x="437" y="427"/>
                  </a:lnTo>
                  <a:lnTo>
                    <a:pt x="438" y="419"/>
                  </a:lnTo>
                  <a:lnTo>
                    <a:pt x="440" y="410"/>
                  </a:lnTo>
                  <a:lnTo>
                    <a:pt x="442" y="402"/>
                  </a:lnTo>
                  <a:lnTo>
                    <a:pt x="445" y="393"/>
                  </a:lnTo>
                  <a:lnTo>
                    <a:pt x="446" y="385"/>
                  </a:lnTo>
                  <a:lnTo>
                    <a:pt x="449" y="377"/>
                  </a:lnTo>
                  <a:lnTo>
                    <a:pt x="451" y="369"/>
                  </a:lnTo>
                  <a:lnTo>
                    <a:pt x="454" y="359"/>
                  </a:lnTo>
                  <a:lnTo>
                    <a:pt x="456" y="351"/>
                  </a:lnTo>
                  <a:lnTo>
                    <a:pt x="459" y="344"/>
                  </a:lnTo>
                  <a:lnTo>
                    <a:pt x="461" y="336"/>
                  </a:lnTo>
                  <a:lnTo>
                    <a:pt x="462" y="328"/>
                  </a:lnTo>
                  <a:lnTo>
                    <a:pt x="465" y="320"/>
                  </a:lnTo>
                  <a:lnTo>
                    <a:pt x="468" y="313"/>
                  </a:lnTo>
                  <a:lnTo>
                    <a:pt x="472" y="307"/>
                  </a:lnTo>
                  <a:lnTo>
                    <a:pt x="475" y="299"/>
                  </a:lnTo>
                  <a:lnTo>
                    <a:pt x="478" y="291"/>
                  </a:lnTo>
                  <a:lnTo>
                    <a:pt x="481" y="283"/>
                  </a:lnTo>
                  <a:lnTo>
                    <a:pt x="484" y="277"/>
                  </a:lnTo>
                  <a:lnTo>
                    <a:pt x="486" y="269"/>
                  </a:lnTo>
                  <a:lnTo>
                    <a:pt x="489" y="263"/>
                  </a:lnTo>
                  <a:lnTo>
                    <a:pt x="492" y="257"/>
                  </a:lnTo>
                  <a:lnTo>
                    <a:pt x="497" y="250"/>
                  </a:lnTo>
                  <a:lnTo>
                    <a:pt x="499" y="244"/>
                  </a:lnTo>
                  <a:lnTo>
                    <a:pt x="502" y="236"/>
                  </a:lnTo>
                  <a:lnTo>
                    <a:pt x="505" y="230"/>
                  </a:lnTo>
                  <a:lnTo>
                    <a:pt x="510" y="225"/>
                  </a:lnTo>
                  <a:lnTo>
                    <a:pt x="513" y="219"/>
                  </a:lnTo>
                  <a:lnTo>
                    <a:pt x="516" y="212"/>
                  </a:lnTo>
                  <a:lnTo>
                    <a:pt x="519" y="206"/>
                  </a:lnTo>
                  <a:lnTo>
                    <a:pt x="524" y="201"/>
                  </a:lnTo>
                  <a:lnTo>
                    <a:pt x="527" y="195"/>
                  </a:lnTo>
                  <a:lnTo>
                    <a:pt x="530" y="190"/>
                  </a:lnTo>
                  <a:lnTo>
                    <a:pt x="533" y="184"/>
                  </a:lnTo>
                  <a:lnTo>
                    <a:pt x="537" y="179"/>
                  </a:lnTo>
                  <a:lnTo>
                    <a:pt x="540" y="173"/>
                  </a:lnTo>
                  <a:lnTo>
                    <a:pt x="544" y="168"/>
                  </a:lnTo>
                  <a:lnTo>
                    <a:pt x="548" y="163"/>
                  </a:lnTo>
                  <a:lnTo>
                    <a:pt x="551" y="158"/>
                  </a:lnTo>
                  <a:lnTo>
                    <a:pt x="554" y="152"/>
                  </a:lnTo>
                  <a:lnTo>
                    <a:pt x="559" y="147"/>
                  </a:lnTo>
                  <a:lnTo>
                    <a:pt x="562" y="143"/>
                  </a:lnTo>
                  <a:lnTo>
                    <a:pt x="565" y="140"/>
                  </a:lnTo>
                  <a:lnTo>
                    <a:pt x="568" y="135"/>
                  </a:lnTo>
                  <a:lnTo>
                    <a:pt x="571" y="130"/>
                  </a:lnTo>
                  <a:lnTo>
                    <a:pt x="576" y="127"/>
                  </a:lnTo>
                  <a:lnTo>
                    <a:pt x="579" y="124"/>
                  </a:lnTo>
                  <a:lnTo>
                    <a:pt x="587" y="114"/>
                  </a:lnTo>
                  <a:lnTo>
                    <a:pt x="593" y="108"/>
                  </a:lnTo>
                  <a:lnTo>
                    <a:pt x="601" y="100"/>
                  </a:lnTo>
                  <a:lnTo>
                    <a:pt x="608" y="95"/>
                  </a:lnTo>
                  <a:lnTo>
                    <a:pt x="614" y="87"/>
                  </a:lnTo>
                  <a:lnTo>
                    <a:pt x="622" y="83"/>
                  </a:lnTo>
                  <a:lnTo>
                    <a:pt x="628" y="78"/>
                  </a:lnTo>
                  <a:lnTo>
                    <a:pt x="636" y="73"/>
                  </a:lnTo>
                  <a:lnTo>
                    <a:pt x="641" y="68"/>
                  </a:lnTo>
                  <a:lnTo>
                    <a:pt x="647" y="65"/>
                  </a:lnTo>
                  <a:lnTo>
                    <a:pt x="652" y="62"/>
                  </a:lnTo>
                  <a:lnTo>
                    <a:pt x="658" y="59"/>
                  </a:lnTo>
                  <a:lnTo>
                    <a:pt x="663" y="57"/>
                  </a:lnTo>
                  <a:lnTo>
                    <a:pt x="668" y="54"/>
                  </a:lnTo>
                  <a:lnTo>
                    <a:pt x="673" y="53"/>
                  </a:lnTo>
                  <a:lnTo>
                    <a:pt x="677" y="51"/>
                  </a:lnTo>
                  <a:lnTo>
                    <a:pt x="685" y="49"/>
                  </a:lnTo>
                  <a:lnTo>
                    <a:pt x="692" y="48"/>
                  </a:lnTo>
                  <a:lnTo>
                    <a:pt x="698" y="48"/>
                  </a:lnTo>
                  <a:lnTo>
                    <a:pt x="704" y="51"/>
                  </a:lnTo>
                  <a:lnTo>
                    <a:pt x="707" y="53"/>
                  </a:lnTo>
                  <a:lnTo>
                    <a:pt x="712" y="56"/>
                  </a:lnTo>
                  <a:lnTo>
                    <a:pt x="715" y="60"/>
                  </a:lnTo>
                  <a:lnTo>
                    <a:pt x="718" y="64"/>
                  </a:lnTo>
                  <a:lnTo>
                    <a:pt x="720" y="68"/>
                  </a:lnTo>
                  <a:lnTo>
                    <a:pt x="723" y="75"/>
                  </a:lnTo>
                  <a:lnTo>
                    <a:pt x="725" y="81"/>
                  </a:lnTo>
                  <a:lnTo>
                    <a:pt x="726" y="89"/>
                  </a:lnTo>
                  <a:lnTo>
                    <a:pt x="726" y="90"/>
                  </a:lnTo>
                  <a:lnTo>
                    <a:pt x="726" y="95"/>
                  </a:lnTo>
                  <a:lnTo>
                    <a:pt x="726" y="100"/>
                  </a:lnTo>
                  <a:lnTo>
                    <a:pt x="728" y="105"/>
                  </a:lnTo>
                  <a:lnTo>
                    <a:pt x="728" y="109"/>
                  </a:lnTo>
                  <a:lnTo>
                    <a:pt x="728" y="116"/>
                  </a:lnTo>
                  <a:lnTo>
                    <a:pt x="728" y="122"/>
                  </a:lnTo>
                  <a:lnTo>
                    <a:pt x="728" y="130"/>
                  </a:lnTo>
                  <a:lnTo>
                    <a:pt x="728" y="138"/>
                  </a:lnTo>
                  <a:lnTo>
                    <a:pt x="728" y="144"/>
                  </a:lnTo>
                  <a:lnTo>
                    <a:pt x="726" y="149"/>
                  </a:lnTo>
                  <a:lnTo>
                    <a:pt x="726" y="154"/>
                  </a:lnTo>
                  <a:lnTo>
                    <a:pt x="726" y="158"/>
                  </a:lnTo>
                  <a:lnTo>
                    <a:pt x="726" y="163"/>
                  </a:lnTo>
                  <a:lnTo>
                    <a:pt x="726" y="168"/>
                  </a:lnTo>
                  <a:lnTo>
                    <a:pt x="726" y="173"/>
                  </a:lnTo>
                  <a:lnTo>
                    <a:pt x="725" y="177"/>
                  </a:lnTo>
                  <a:lnTo>
                    <a:pt x="725" y="182"/>
                  </a:lnTo>
                  <a:lnTo>
                    <a:pt x="725" y="185"/>
                  </a:lnTo>
                  <a:lnTo>
                    <a:pt x="723" y="192"/>
                  </a:lnTo>
                  <a:lnTo>
                    <a:pt x="723" y="196"/>
                  </a:lnTo>
                  <a:lnTo>
                    <a:pt x="723" y="203"/>
                  </a:lnTo>
                  <a:lnTo>
                    <a:pt x="722" y="208"/>
                  </a:lnTo>
                  <a:lnTo>
                    <a:pt x="720" y="214"/>
                  </a:lnTo>
                  <a:lnTo>
                    <a:pt x="718" y="219"/>
                  </a:lnTo>
                  <a:lnTo>
                    <a:pt x="718" y="225"/>
                  </a:lnTo>
                  <a:lnTo>
                    <a:pt x="717" y="230"/>
                  </a:lnTo>
                  <a:lnTo>
                    <a:pt x="715" y="236"/>
                  </a:lnTo>
                  <a:lnTo>
                    <a:pt x="714" y="242"/>
                  </a:lnTo>
                  <a:lnTo>
                    <a:pt x="712" y="249"/>
                  </a:lnTo>
                  <a:lnTo>
                    <a:pt x="711" y="255"/>
                  </a:lnTo>
                  <a:lnTo>
                    <a:pt x="709" y="261"/>
                  </a:lnTo>
                  <a:lnTo>
                    <a:pt x="707" y="266"/>
                  </a:lnTo>
                  <a:lnTo>
                    <a:pt x="706" y="272"/>
                  </a:lnTo>
                  <a:lnTo>
                    <a:pt x="703" y="279"/>
                  </a:lnTo>
                  <a:lnTo>
                    <a:pt x="701" y="285"/>
                  </a:lnTo>
                  <a:lnTo>
                    <a:pt x="699" y="293"/>
                  </a:lnTo>
                  <a:lnTo>
                    <a:pt x="698" y="299"/>
                  </a:lnTo>
                  <a:lnTo>
                    <a:pt x="695" y="306"/>
                  </a:lnTo>
                  <a:lnTo>
                    <a:pt x="692" y="312"/>
                  </a:lnTo>
                  <a:lnTo>
                    <a:pt x="688" y="318"/>
                  </a:lnTo>
                  <a:lnTo>
                    <a:pt x="687" y="326"/>
                  </a:lnTo>
                  <a:lnTo>
                    <a:pt x="684" y="332"/>
                  </a:lnTo>
                  <a:lnTo>
                    <a:pt x="680" y="340"/>
                  </a:lnTo>
                  <a:lnTo>
                    <a:pt x="677" y="347"/>
                  </a:lnTo>
                  <a:lnTo>
                    <a:pt x="676" y="355"/>
                  </a:lnTo>
                  <a:lnTo>
                    <a:pt x="671" y="361"/>
                  </a:lnTo>
                  <a:lnTo>
                    <a:pt x="668" y="369"/>
                  </a:lnTo>
                  <a:lnTo>
                    <a:pt x="665" y="375"/>
                  </a:lnTo>
                  <a:lnTo>
                    <a:pt x="661" y="383"/>
                  </a:lnTo>
                  <a:lnTo>
                    <a:pt x="657" y="389"/>
                  </a:lnTo>
                  <a:lnTo>
                    <a:pt x="654" y="397"/>
                  </a:lnTo>
                  <a:lnTo>
                    <a:pt x="649" y="405"/>
                  </a:lnTo>
                  <a:lnTo>
                    <a:pt x="646" y="413"/>
                  </a:lnTo>
                  <a:lnTo>
                    <a:pt x="641" y="419"/>
                  </a:lnTo>
                  <a:lnTo>
                    <a:pt x="638" y="426"/>
                  </a:lnTo>
                  <a:lnTo>
                    <a:pt x="635" y="430"/>
                  </a:lnTo>
                  <a:lnTo>
                    <a:pt x="631" y="437"/>
                  </a:lnTo>
                  <a:lnTo>
                    <a:pt x="627" y="442"/>
                  </a:lnTo>
                  <a:lnTo>
                    <a:pt x="624" y="448"/>
                  </a:lnTo>
                  <a:lnTo>
                    <a:pt x="619" y="454"/>
                  </a:lnTo>
                  <a:lnTo>
                    <a:pt x="616" y="461"/>
                  </a:lnTo>
                  <a:lnTo>
                    <a:pt x="612" y="465"/>
                  </a:lnTo>
                  <a:lnTo>
                    <a:pt x="609" y="470"/>
                  </a:lnTo>
                  <a:lnTo>
                    <a:pt x="605" y="476"/>
                  </a:lnTo>
                  <a:lnTo>
                    <a:pt x="601" y="483"/>
                  </a:lnTo>
                  <a:lnTo>
                    <a:pt x="598" y="487"/>
                  </a:lnTo>
                  <a:lnTo>
                    <a:pt x="595" y="494"/>
                  </a:lnTo>
                  <a:lnTo>
                    <a:pt x="590" y="498"/>
                  </a:lnTo>
                  <a:lnTo>
                    <a:pt x="587" y="505"/>
                  </a:lnTo>
                  <a:lnTo>
                    <a:pt x="584" y="510"/>
                  </a:lnTo>
                  <a:lnTo>
                    <a:pt x="581" y="514"/>
                  </a:lnTo>
                  <a:lnTo>
                    <a:pt x="576" y="519"/>
                  </a:lnTo>
                  <a:lnTo>
                    <a:pt x="574" y="525"/>
                  </a:lnTo>
                  <a:lnTo>
                    <a:pt x="570" y="530"/>
                  </a:lnTo>
                  <a:lnTo>
                    <a:pt x="567" y="535"/>
                  </a:lnTo>
                  <a:lnTo>
                    <a:pt x="563" y="541"/>
                  </a:lnTo>
                  <a:lnTo>
                    <a:pt x="560" y="546"/>
                  </a:lnTo>
                  <a:lnTo>
                    <a:pt x="555" y="551"/>
                  </a:lnTo>
                  <a:lnTo>
                    <a:pt x="552" y="555"/>
                  </a:lnTo>
                  <a:lnTo>
                    <a:pt x="549" y="560"/>
                  </a:lnTo>
                  <a:lnTo>
                    <a:pt x="546" y="565"/>
                  </a:lnTo>
                  <a:lnTo>
                    <a:pt x="543" y="570"/>
                  </a:lnTo>
                  <a:lnTo>
                    <a:pt x="540" y="574"/>
                  </a:lnTo>
                  <a:lnTo>
                    <a:pt x="537" y="579"/>
                  </a:lnTo>
                  <a:lnTo>
                    <a:pt x="533" y="584"/>
                  </a:lnTo>
                  <a:lnTo>
                    <a:pt x="527" y="592"/>
                  </a:lnTo>
                  <a:lnTo>
                    <a:pt x="521" y="600"/>
                  </a:lnTo>
                  <a:lnTo>
                    <a:pt x="514" y="608"/>
                  </a:lnTo>
                  <a:lnTo>
                    <a:pt x="510" y="617"/>
                  </a:lnTo>
                  <a:lnTo>
                    <a:pt x="503" y="623"/>
                  </a:lnTo>
                  <a:lnTo>
                    <a:pt x="499" y="631"/>
                  </a:lnTo>
                  <a:lnTo>
                    <a:pt x="494" y="638"/>
                  </a:lnTo>
                  <a:lnTo>
                    <a:pt x="491" y="646"/>
                  </a:lnTo>
                  <a:lnTo>
                    <a:pt x="486" y="652"/>
                  </a:lnTo>
                  <a:lnTo>
                    <a:pt x="481" y="658"/>
                  </a:lnTo>
                  <a:lnTo>
                    <a:pt x="476" y="665"/>
                  </a:lnTo>
                  <a:lnTo>
                    <a:pt x="473" y="671"/>
                  </a:lnTo>
                  <a:lnTo>
                    <a:pt x="470" y="676"/>
                  </a:lnTo>
                  <a:lnTo>
                    <a:pt x="468" y="682"/>
                  </a:lnTo>
                  <a:lnTo>
                    <a:pt x="465" y="687"/>
                  </a:lnTo>
                  <a:lnTo>
                    <a:pt x="464" y="691"/>
                  </a:lnTo>
                  <a:lnTo>
                    <a:pt x="461" y="698"/>
                  </a:lnTo>
                  <a:lnTo>
                    <a:pt x="459" y="704"/>
                  </a:lnTo>
                  <a:lnTo>
                    <a:pt x="456" y="710"/>
                  </a:lnTo>
                  <a:lnTo>
                    <a:pt x="453" y="717"/>
                  </a:lnTo>
                  <a:lnTo>
                    <a:pt x="449" y="725"/>
                  </a:lnTo>
                  <a:lnTo>
                    <a:pt x="448" y="731"/>
                  </a:lnTo>
                  <a:lnTo>
                    <a:pt x="445" y="739"/>
                  </a:lnTo>
                  <a:lnTo>
                    <a:pt x="443" y="747"/>
                  </a:lnTo>
                  <a:lnTo>
                    <a:pt x="442" y="753"/>
                  </a:lnTo>
                  <a:lnTo>
                    <a:pt x="442" y="759"/>
                  </a:lnTo>
                  <a:lnTo>
                    <a:pt x="440" y="767"/>
                  </a:lnTo>
                  <a:lnTo>
                    <a:pt x="442" y="774"/>
                  </a:lnTo>
                  <a:lnTo>
                    <a:pt x="442" y="782"/>
                  </a:lnTo>
                  <a:lnTo>
                    <a:pt x="443" y="788"/>
                  </a:lnTo>
                  <a:lnTo>
                    <a:pt x="446" y="796"/>
                  </a:lnTo>
                  <a:lnTo>
                    <a:pt x="449" y="802"/>
                  </a:lnTo>
                  <a:lnTo>
                    <a:pt x="453" y="807"/>
                  </a:lnTo>
                  <a:lnTo>
                    <a:pt x="456" y="813"/>
                  </a:lnTo>
                  <a:lnTo>
                    <a:pt x="461" y="818"/>
                  </a:lnTo>
                  <a:lnTo>
                    <a:pt x="468" y="823"/>
                  </a:lnTo>
                  <a:lnTo>
                    <a:pt x="473" y="827"/>
                  </a:lnTo>
                  <a:lnTo>
                    <a:pt x="481" y="832"/>
                  </a:lnTo>
                  <a:lnTo>
                    <a:pt x="489" y="837"/>
                  </a:lnTo>
                  <a:lnTo>
                    <a:pt x="497" y="842"/>
                  </a:lnTo>
                  <a:lnTo>
                    <a:pt x="503" y="845"/>
                  </a:lnTo>
                  <a:lnTo>
                    <a:pt x="510" y="848"/>
                  </a:lnTo>
                  <a:lnTo>
                    <a:pt x="516" y="851"/>
                  </a:lnTo>
                  <a:lnTo>
                    <a:pt x="522" y="854"/>
                  </a:lnTo>
                  <a:lnTo>
                    <a:pt x="529" y="857"/>
                  </a:lnTo>
                  <a:lnTo>
                    <a:pt x="533" y="859"/>
                  </a:lnTo>
                  <a:lnTo>
                    <a:pt x="538" y="862"/>
                  </a:lnTo>
                  <a:lnTo>
                    <a:pt x="543" y="865"/>
                  </a:lnTo>
                  <a:lnTo>
                    <a:pt x="548" y="867"/>
                  </a:lnTo>
                  <a:lnTo>
                    <a:pt x="552" y="869"/>
                  </a:lnTo>
                  <a:lnTo>
                    <a:pt x="555" y="870"/>
                  </a:lnTo>
                  <a:lnTo>
                    <a:pt x="560" y="873"/>
                  </a:lnTo>
                  <a:lnTo>
                    <a:pt x="567" y="876"/>
                  </a:lnTo>
                  <a:lnTo>
                    <a:pt x="574" y="880"/>
                  </a:lnTo>
                  <a:lnTo>
                    <a:pt x="579" y="883"/>
                  </a:lnTo>
                  <a:lnTo>
                    <a:pt x="584" y="886"/>
                  </a:lnTo>
                  <a:lnTo>
                    <a:pt x="590" y="889"/>
                  </a:lnTo>
                  <a:lnTo>
                    <a:pt x="595" y="894"/>
                  </a:lnTo>
                  <a:lnTo>
                    <a:pt x="600" y="897"/>
                  </a:lnTo>
                  <a:lnTo>
                    <a:pt x="605" y="902"/>
                  </a:lnTo>
                  <a:lnTo>
                    <a:pt x="609" y="907"/>
                  </a:lnTo>
                  <a:lnTo>
                    <a:pt x="616" y="913"/>
                  </a:lnTo>
                  <a:lnTo>
                    <a:pt x="619" y="916"/>
                  </a:lnTo>
                  <a:lnTo>
                    <a:pt x="622" y="921"/>
                  </a:lnTo>
                  <a:lnTo>
                    <a:pt x="625" y="929"/>
                  </a:lnTo>
                  <a:lnTo>
                    <a:pt x="630" y="937"/>
                  </a:lnTo>
                  <a:lnTo>
                    <a:pt x="630" y="940"/>
                  </a:lnTo>
                  <a:lnTo>
                    <a:pt x="631" y="944"/>
                  </a:lnTo>
                  <a:lnTo>
                    <a:pt x="631" y="949"/>
                  </a:lnTo>
                  <a:lnTo>
                    <a:pt x="633" y="954"/>
                  </a:lnTo>
                  <a:lnTo>
                    <a:pt x="633" y="959"/>
                  </a:lnTo>
                  <a:lnTo>
                    <a:pt x="633" y="963"/>
                  </a:lnTo>
                  <a:lnTo>
                    <a:pt x="633" y="967"/>
                  </a:lnTo>
                  <a:lnTo>
                    <a:pt x="633" y="973"/>
                  </a:lnTo>
                  <a:lnTo>
                    <a:pt x="630" y="979"/>
                  </a:lnTo>
                  <a:lnTo>
                    <a:pt x="628" y="987"/>
                  </a:lnTo>
                  <a:lnTo>
                    <a:pt x="627" y="993"/>
                  </a:lnTo>
                  <a:lnTo>
                    <a:pt x="625" y="1000"/>
                  </a:lnTo>
                  <a:lnTo>
                    <a:pt x="622" y="1005"/>
                  </a:lnTo>
                  <a:lnTo>
                    <a:pt x="619" y="1011"/>
                  </a:lnTo>
                  <a:lnTo>
                    <a:pt x="617" y="1016"/>
                  </a:lnTo>
                  <a:lnTo>
                    <a:pt x="614" y="1022"/>
                  </a:lnTo>
                  <a:lnTo>
                    <a:pt x="611" y="1027"/>
                  </a:lnTo>
                  <a:lnTo>
                    <a:pt x="608" y="1031"/>
                  </a:lnTo>
                  <a:lnTo>
                    <a:pt x="603" y="1036"/>
                  </a:lnTo>
                  <a:lnTo>
                    <a:pt x="600" y="1041"/>
                  </a:lnTo>
                  <a:lnTo>
                    <a:pt x="597" y="1046"/>
                  </a:lnTo>
                  <a:lnTo>
                    <a:pt x="592" y="1052"/>
                  </a:lnTo>
                  <a:lnTo>
                    <a:pt x="587" y="1058"/>
                  </a:lnTo>
                  <a:lnTo>
                    <a:pt x="584" y="1065"/>
                  </a:lnTo>
                  <a:lnTo>
                    <a:pt x="622" y="1093"/>
                  </a:lnTo>
                  <a:lnTo>
                    <a:pt x="624" y="1090"/>
                  </a:lnTo>
                  <a:lnTo>
                    <a:pt x="627" y="1087"/>
                  </a:lnTo>
                  <a:lnTo>
                    <a:pt x="628" y="1082"/>
                  </a:lnTo>
                  <a:lnTo>
                    <a:pt x="631" y="1080"/>
                  </a:lnTo>
                  <a:lnTo>
                    <a:pt x="635" y="1076"/>
                  </a:lnTo>
                  <a:lnTo>
                    <a:pt x="639" y="1073"/>
                  </a:lnTo>
                  <a:lnTo>
                    <a:pt x="641" y="1066"/>
                  </a:lnTo>
                  <a:lnTo>
                    <a:pt x="646" y="1060"/>
                  </a:lnTo>
                  <a:lnTo>
                    <a:pt x="649" y="1055"/>
                  </a:lnTo>
                  <a:lnTo>
                    <a:pt x="652" y="1049"/>
                  </a:lnTo>
                  <a:lnTo>
                    <a:pt x="655" y="1043"/>
                  </a:lnTo>
                  <a:lnTo>
                    <a:pt x="660" y="1036"/>
                  </a:lnTo>
                  <a:lnTo>
                    <a:pt x="663" y="1028"/>
                  </a:lnTo>
                  <a:lnTo>
                    <a:pt x="666" y="1022"/>
                  </a:lnTo>
                  <a:lnTo>
                    <a:pt x="668" y="1017"/>
                  </a:lnTo>
                  <a:lnTo>
                    <a:pt x="669" y="1011"/>
                  </a:lnTo>
                  <a:lnTo>
                    <a:pt x="671" y="1006"/>
                  </a:lnTo>
                  <a:lnTo>
                    <a:pt x="673" y="1001"/>
                  </a:lnTo>
                  <a:lnTo>
                    <a:pt x="674" y="995"/>
                  </a:lnTo>
                  <a:lnTo>
                    <a:pt x="676" y="989"/>
                  </a:lnTo>
                  <a:lnTo>
                    <a:pt x="676" y="982"/>
                  </a:lnTo>
                  <a:lnTo>
                    <a:pt x="677" y="976"/>
                  </a:lnTo>
                  <a:lnTo>
                    <a:pt x="677" y="970"/>
                  </a:lnTo>
                  <a:lnTo>
                    <a:pt x="677" y="963"/>
                  </a:lnTo>
                  <a:lnTo>
                    <a:pt x="677" y="957"/>
                  </a:lnTo>
                  <a:lnTo>
                    <a:pt x="679" y="951"/>
                  </a:lnTo>
                  <a:lnTo>
                    <a:pt x="677" y="944"/>
                  </a:lnTo>
                  <a:lnTo>
                    <a:pt x="677" y="938"/>
                  </a:lnTo>
                  <a:lnTo>
                    <a:pt x="677" y="932"/>
                  </a:lnTo>
                  <a:lnTo>
                    <a:pt x="677" y="927"/>
                  </a:lnTo>
                  <a:lnTo>
                    <a:pt x="676" y="921"/>
                  </a:lnTo>
                  <a:lnTo>
                    <a:pt x="674" y="916"/>
                  </a:lnTo>
                  <a:lnTo>
                    <a:pt x="673" y="911"/>
                  </a:lnTo>
                  <a:lnTo>
                    <a:pt x="671" y="907"/>
                  </a:lnTo>
                  <a:lnTo>
                    <a:pt x="668" y="902"/>
                  </a:lnTo>
                  <a:lnTo>
                    <a:pt x="666" y="897"/>
                  </a:lnTo>
                  <a:lnTo>
                    <a:pt x="663" y="892"/>
                  </a:lnTo>
                  <a:lnTo>
                    <a:pt x="661" y="889"/>
                  </a:lnTo>
                  <a:lnTo>
                    <a:pt x="654" y="880"/>
                  </a:lnTo>
                  <a:lnTo>
                    <a:pt x="647" y="873"/>
                  </a:lnTo>
                  <a:lnTo>
                    <a:pt x="639" y="867"/>
                  </a:lnTo>
                  <a:lnTo>
                    <a:pt x="631" y="861"/>
                  </a:lnTo>
                  <a:lnTo>
                    <a:pt x="627" y="856"/>
                  </a:lnTo>
                  <a:lnTo>
                    <a:pt x="622" y="853"/>
                  </a:lnTo>
                  <a:lnTo>
                    <a:pt x="617" y="850"/>
                  </a:lnTo>
                  <a:lnTo>
                    <a:pt x="612" y="848"/>
                  </a:lnTo>
                  <a:lnTo>
                    <a:pt x="608" y="845"/>
                  </a:lnTo>
                  <a:lnTo>
                    <a:pt x="603" y="842"/>
                  </a:lnTo>
                  <a:lnTo>
                    <a:pt x="597" y="839"/>
                  </a:lnTo>
                  <a:lnTo>
                    <a:pt x="592" y="837"/>
                  </a:lnTo>
                  <a:lnTo>
                    <a:pt x="586" y="834"/>
                  </a:lnTo>
                  <a:lnTo>
                    <a:pt x="581" y="831"/>
                  </a:lnTo>
                  <a:lnTo>
                    <a:pt x="574" y="827"/>
                  </a:lnTo>
                  <a:lnTo>
                    <a:pt x="570" y="824"/>
                  </a:lnTo>
                  <a:lnTo>
                    <a:pt x="563" y="821"/>
                  </a:lnTo>
                  <a:lnTo>
                    <a:pt x="557" y="820"/>
                  </a:lnTo>
                  <a:lnTo>
                    <a:pt x="551" y="816"/>
                  </a:lnTo>
                  <a:lnTo>
                    <a:pt x="546" y="815"/>
                  </a:lnTo>
                  <a:lnTo>
                    <a:pt x="540" y="812"/>
                  </a:lnTo>
                  <a:lnTo>
                    <a:pt x="535" y="810"/>
                  </a:lnTo>
                  <a:lnTo>
                    <a:pt x="530" y="807"/>
                  </a:lnTo>
                  <a:lnTo>
                    <a:pt x="525" y="805"/>
                  </a:lnTo>
                  <a:lnTo>
                    <a:pt x="521" y="802"/>
                  </a:lnTo>
                  <a:lnTo>
                    <a:pt x="516" y="799"/>
                  </a:lnTo>
                  <a:lnTo>
                    <a:pt x="511" y="797"/>
                  </a:lnTo>
                  <a:lnTo>
                    <a:pt x="508" y="796"/>
                  </a:lnTo>
                  <a:lnTo>
                    <a:pt x="500" y="789"/>
                  </a:lnTo>
                  <a:lnTo>
                    <a:pt x="495" y="783"/>
                  </a:lnTo>
                  <a:lnTo>
                    <a:pt x="494" y="778"/>
                  </a:lnTo>
                  <a:lnTo>
                    <a:pt x="492" y="774"/>
                  </a:lnTo>
                  <a:lnTo>
                    <a:pt x="491" y="769"/>
                  </a:lnTo>
                  <a:lnTo>
                    <a:pt x="491" y="766"/>
                  </a:lnTo>
                  <a:lnTo>
                    <a:pt x="491" y="756"/>
                  </a:lnTo>
                  <a:lnTo>
                    <a:pt x="492" y="750"/>
                  </a:lnTo>
                  <a:lnTo>
                    <a:pt x="492" y="745"/>
                  </a:lnTo>
                  <a:lnTo>
                    <a:pt x="494" y="740"/>
                  </a:lnTo>
                  <a:lnTo>
                    <a:pt x="495" y="736"/>
                  </a:lnTo>
                  <a:lnTo>
                    <a:pt x="499" y="731"/>
                  </a:lnTo>
                  <a:lnTo>
                    <a:pt x="500" y="725"/>
                  </a:lnTo>
                  <a:lnTo>
                    <a:pt x="502" y="720"/>
                  </a:lnTo>
                  <a:lnTo>
                    <a:pt x="505" y="714"/>
                  </a:lnTo>
                  <a:lnTo>
                    <a:pt x="508" y="710"/>
                  </a:lnTo>
                  <a:lnTo>
                    <a:pt x="510" y="704"/>
                  </a:lnTo>
                  <a:lnTo>
                    <a:pt x="514" y="698"/>
                  </a:lnTo>
                  <a:lnTo>
                    <a:pt x="518" y="693"/>
                  </a:lnTo>
                  <a:lnTo>
                    <a:pt x="522" y="687"/>
                  </a:lnTo>
                  <a:lnTo>
                    <a:pt x="525" y="680"/>
                  </a:lnTo>
                  <a:lnTo>
                    <a:pt x="529" y="674"/>
                  </a:lnTo>
                  <a:lnTo>
                    <a:pt x="533" y="669"/>
                  </a:lnTo>
                  <a:lnTo>
                    <a:pt x="537" y="663"/>
                  </a:lnTo>
                  <a:lnTo>
                    <a:pt x="541" y="657"/>
                  </a:lnTo>
                  <a:lnTo>
                    <a:pt x="546" y="650"/>
                  </a:lnTo>
                  <a:lnTo>
                    <a:pt x="551" y="644"/>
                  </a:lnTo>
                  <a:lnTo>
                    <a:pt x="555" y="638"/>
                  </a:lnTo>
                  <a:lnTo>
                    <a:pt x="560" y="631"/>
                  </a:lnTo>
                  <a:lnTo>
                    <a:pt x="565" y="625"/>
                  </a:lnTo>
                  <a:lnTo>
                    <a:pt x="570" y="619"/>
                  </a:lnTo>
                  <a:lnTo>
                    <a:pt x="574" y="612"/>
                  </a:lnTo>
                  <a:lnTo>
                    <a:pt x="578" y="604"/>
                  </a:lnTo>
                  <a:lnTo>
                    <a:pt x="582" y="598"/>
                  </a:lnTo>
                  <a:lnTo>
                    <a:pt x="587" y="593"/>
                  </a:lnTo>
                  <a:lnTo>
                    <a:pt x="593" y="587"/>
                  </a:lnTo>
                  <a:lnTo>
                    <a:pt x="595" y="582"/>
                  </a:lnTo>
                  <a:lnTo>
                    <a:pt x="598" y="578"/>
                  </a:lnTo>
                  <a:lnTo>
                    <a:pt x="601" y="573"/>
                  </a:lnTo>
                  <a:lnTo>
                    <a:pt x="606" y="568"/>
                  </a:lnTo>
                  <a:lnTo>
                    <a:pt x="608" y="563"/>
                  </a:lnTo>
                  <a:lnTo>
                    <a:pt x="611" y="559"/>
                  </a:lnTo>
                  <a:lnTo>
                    <a:pt x="614" y="554"/>
                  </a:lnTo>
                  <a:lnTo>
                    <a:pt x="617" y="551"/>
                  </a:lnTo>
                  <a:lnTo>
                    <a:pt x="620" y="546"/>
                  </a:lnTo>
                  <a:lnTo>
                    <a:pt x="624" y="541"/>
                  </a:lnTo>
                  <a:lnTo>
                    <a:pt x="627" y="536"/>
                  </a:lnTo>
                  <a:lnTo>
                    <a:pt x="630" y="532"/>
                  </a:lnTo>
                  <a:lnTo>
                    <a:pt x="631" y="527"/>
                  </a:lnTo>
                  <a:lnTo>
                    <a:pt x="636" y="522"/>
                  </a:lnTo>
                  <a:lnTo>
                    <a:pt x="638" y="517"/>
                  </a:lnTo>
                  <a:lnTo>
                    <a:pt x="642" y="514"/>
                  </a:lnTo>
                  <a:lnTo>
                    <a:pt x="644" y="510"/>
                  </a:lnTo>
                  <a:lnTo>
                    <a:pt x="647" y="505"/>
                  </a:lnTo>
                  <a:lnTo>
                    <a:pt x="649" y="500"/>
                  </a:lnTo>
                  <a:lnTo>
                    <a:pt x="652" y="497"/>
                  </a:lnTo>
                  <a:lnTo>
                    <a:pt x="655" y="492"/>
                  </a:lnTo>
                  <a:lnTo>
                    <a:pt x="658" y="487"/>
                  </a:lnTo>
                  <a:lnTo>
                    <a:pt x="660" y="483"/>
                  </a:lnTo>
                  <a:lnTo>
                    <a:pt x="663" y="480"/>
                  </a:lnTo>
                  <a:lnTo>
                    <a:pt x="666" y="475"/>
                  </a:lnTo>
                  <a:lnTo>
                    <a:pt x="668" y="470"/>
                  </a:lnTo>
                  <a:lnTo>
                    <a:pt x="671" y="467"/>
                  </a:lnTo>
                  <a:lnTo>
                    <a:pt x="674" y="462"/>
                  </a:lnTo>
                  <a:lnTo>
                    <a:pt x="676" y="457"/>
                  </a:lnTo>
                  <a:lnTo>
                    <a:pt x="679" y="453"/>
                  </a:lnTo>
                  <a:lnTo>
                    <a:pt x="682" y="449"/>
                  </a:lnTo>
                  <a:lnTo>
                    <a:pt x="685" y="445"/>
                  </a:lnTo>
                  <a:lnTo>
                    <a:pt x="687" y="440"/>
                  </a:lnTo>
                  <a:lnTo>
                    <a:pt x="688" y="435"/>
                  </a:lnTo>
                  <a:lnTo>
                    <a:pt x="692" y="432"/>
                  </a:lnTo>
                  <a:lnTo>
                    <a:pt x="693" y="427"/>
                  </a:lnTo>
                  <a:lnTo>
                    <a:pt x="696" y="423"/>
                  </a:lnTo>
                  <a:lnTo>
                    <a:pt x="698" y="418"/>
                  </a:lnTo>
                  <a:lnTo>
                    <a:pt x="701" y="413"/>
                  </a:lnTo>
                  <a:lnTo>
                    <a:pt x="703" y="408"/>
                  </a:lnTo>
                  <a:lnTo>
                    <a:pt x="704" y="404"/>
                  </a:lnTo>
                  <a:lnTo>
                    <a:pt x="707" y="399"/>
                  </a:lnTo>
                  <a:lnTo>
                    <a:pt x="709" y="394"/>
                  </a:lnTo>
                  <a:lnTo>
                    <a:pt x="712" y="389"/>
                  </a:lnTo>
                  <a:lnTo>
                    <a:pt x="714" y="386"/>
                  </a:lnTo>
                  <a:lnTo>
                    <a:pt x="715" y="381"/>
                  </a:lnTo>
                  <a:lnTo>
                    <a:pt x="718" y="377"/>
                  </a:lnTo>
                  <a:lnTo>
                    <a:pt x="720" y="372"/>
                  </a:lnTo>
                  <a:lnTo>
                    <a:pt x="722" y="367"/>
                  </a:lnTo>
                  <a:lnTo>
                    <a:pt x="723" y="362"/>
                  </a:lnTo>
                  <a:lnTo>
                    <a:pt x="725" y="358"/>
                  </a:lnTo>
                  <a:lnTo>
                    <a:pt x="726" y="353"/>
                  </a:lnTo>
                  <a:lnTo>
                    <a:pt x="728" y="348"/>
                  </a:lnTo>
                  <a:lnTo>
                    <a:pt x="731" y="344"/>
                  </a:lnTo>
                  <a:lnTo>
                    <a:pt x="733" y="339"/>
                  </a:lnTo>
                  <a:lnTo>
                    <a:pt x="734" y="334"/>
                  </a:lnTo>
                  <a:lnTo>
                    <a:pt x="736" y="329"/>
                  </a:lnTo>
                  <a:lnTo>
                    <a:pt x="737" y="325"/>
                  </a:lnTo>
                  <a:lnTo>
                    <a:pt x="739" y="318"/>
                  </a:lnTo>
                  <a:lnTo>
                    <a:pt x="742" y="313"/>
                  </a:lnTo>
                  <a:lnTo>
                    <a:pt x="744" y="309"/>
                  </a:lnTo>
                  <a:lnTo>
                    <a:pt x="745" y="304"/>
                  </a:lnTo>
                  <a:lnTo>
                    <a:pt x="747" y="299"/>
                  </a:lnTo>
                  <a:lnTo>
                    <a:pt x="748" y="294"/>
                  </a:lnTo>
                  <a:lnTo>
                    <a:pt x="750" y="288"/>
                  </a:lnTo>
                  <a:lnTo>
                    <a:pt x="752" y="282"/>
                  </a:lnTo>
                  <a:lnTo>
                    <a:pt x="752" y="277"/>
                  </a:lnTo>
                  <a:lnTo>
                    <a:pt x="753" y="272"/>
                  </a:lnTo>
                  <a:lnTo>
                    <a:pt x="755" y="268"/>
                  </a:lnTo>
                  <a:lnTo>
                    <a:pt x="756" y="263"/>
                  </a:lnTo>
                  <a:lnTo>
                    <a:pt x="758" y="258"/>
                  </a:lnTo>
                  <a:lnTo>
                    <a:pt x="760" y="253"/>
                  </a:lnTo>
                  <a:lnTo>
                    <a:pt x="760" y="249"/>
                  </a:lnTo>
                  <a:lnTo>
                    <a:pt x="761" y="244"/>
                  </a:lnTo>
                  <a:lnTo>
                    <a:pt x="761" y="239"/>
                  </a:lnTo>
                  <a:lnTo>
                    <a:pt x="763" y="234"/>
                  </a:lnTo>
                  <a:lnTo>
                    <a:pt x="764" y="225"/>
                  </a:lnTo>
                  <a:lnTo>
                    <a:pt x="767" y="219"/>
                  </a:lnTo>
                  <a:lnTo>
                    <a:pt x="767" y="214"/>
                  </a:lnTo>
                  <a:lnTo>
                    <a:pt x="767" y="209"/>
                  </a:lnTo>
                  <a:lnTo>
                    <a:pt x="769" y="204"/>
                  </a:lnTo>
                  <a:lnTo>
                    <a:pt x="769" y="201"/>
                  </a:lnTo>
                  <a:lnTo>
                    <a:pt x="771" y="193"/>
                  </a:lnTo>
                  <a:lnTo>
                    <a:pt x="772" y="185"/>
                  </a:lnTo>
                  <a:lnTo>
                    <a:pt x="772" y="179"/>
                  </a:lnTo>
                  <a:lnTo>
                    <a:pt x="774" y="171"/>
                  </a:lnTo>
                  <a:lnTo>
                    <a:pt x="774" y="165"/>
                  </a:lnTo>
                  <a:lnTo>
                    <a:pt x="775" y="157"/>
                  </a:lnTo>
                  <a:lnTo>
                    <a:pt x="775" y="151"/>
                  </a:lnTo>
                  <a:lnTo>
                    <a:pt x="775" y="143"/>
                  </a:lnTo>
                  <a:lnTo>
                    <a:pt x="775" y="136"/>
                  </a:lnTo>
                  <a:lnTo>
                    <a:pt x="775" y="130"/>
                  </a:lnTo>
                  <a:lnTo>
                    <a:pt x="774" y="122"/>
                  </a:lnTo>
                  <a:lnTo>
                    <a:pt x="774" y="116"/>
                  </a:lnTo>
                  <a:lnTo>
                    <a:pt x="774" y="109"/>
                  </a:lnTo>
                  <a:lnTo>
                    <a:pt x="774" y="105"/>
                  </a:lnTo>
                  <a:lnTo>
                    <a:pt x="772" y="97"/>
                  </a:lnTo>
                  <a:lnTo>
                    <a:pt x="771" y="90"/>
                  </a:lnTo>
                  <a:lnTo>
                    <a:pt x="771" y="84"/>
                  </a:lnTo>
                  <a:lnTo>
                    <a:pt x="769" y="78"/>
                  </a:lnTo>
                  <a:lnTo>
                    <a:pt x="767" y="71"/>
                  </a:lnTo>
                  <a:lnTo>
                    <a:pt x="766" y="65"/>
                  </a:lnTo>
                  <a:lnTo>
                    <a:pt x="764" y="59"/>
                  </a:lnTo>
                  <a:lnTo>
                    <a:pt x="764" y="53"/>
                  </a:lnTo>
                  <a:lnTo>
                    <a:pt x="763" y="46"/>
                  </a:lnTo>
                  <a:lnTo>
                    <a:pt x="760" y="40"/>
                  </a:lnTo>
                  <a:lnTo>
                    <a:pt x="758" y="34"/>
                  </a:lnTo>
                  <a:lnTo>
                    <a:pt x="755" y="29"/>
                  </a:lnTo>
                  <a:lnTo>
                    <a:pt x="752" y="24"/>
                  </a:lnTo>
                  <a:lnTo>
                    <a:pt x="748" y="19"/>
                  </a:lnTo>
                  <a:lnTo>
                    <a:pt x="744" y="16"/>
                  </a:lnTo>
                  <a:lnTo>
                    <a:pt x="741" y="13"/>
                  </a:lnTo>
                  <a:lnTo>
                    <a:pt x="736" y="10"/>
                  </a:lnTo>
                  <a:lnTo>
                    <a:pt x="731" y="7"/>
                  </a:lnTo>
                  <a:lnTo>
                    <a:pt x="726" y="5"/>
                  </a:lnTo>
                  <a:lnTo>
                    <a:pt x="723" y="3"/>
                  </a:lnTo>
                  <a:lnTo>
                    <a:pt x="717" y="2"/>
                  </a:lnTo>
                  <a:lnTo>
                    <a:pt x="712" y="0"/>
                  </a:lnTo>
                  <a:lnTo>
                    <a:pt x="707" y="0"/>
                  </a:lnTo>
                  <a:lnTo>
                    <a:pt x="703" y="0"/>
                  </a:lnTo>
                  <a:lnTo>
                    <a:pt x="696" y="0"/>
                  </a:lnTo>
                  <a:lnTo>
                    <a:pt x="692" y="0"/>
                  </a:lnTo>
                  <a:lnTo>
                    <a:pt x="685" y="0"/>
                  </a:lnTo>
                  <a:lnTo>
                    <a:pt x="679" y="2"/>
                  </a:lnTo>
                  <a:lnTo>
                    <a:pt x="673" y="2"/>
                  </a:lnTo>
                  <a:lnTo>
                    <a:pt x="668" y="3"/>
                  </a:lnTo>
                  <a:lnTo>
                    <a:pt x="661" y="5"/>
                  </a:lnTo>
                  <a:lnTo>
                    <a:pt x="657" y="8"/>
                  </a:lnTo>
                  <a:lnTo>
                    <a:pt x="650" y="10"/>
                  </a:lnTo>
                  <a:lnTo>
                    <a:pt x="646" y="11"/>
                  </a:lnTo>
                  <a:lnTo>
                    <a:pt x="639" y="15"/>
                  </a:lnTo>
                  <a:lnTo>
                    <a:pt x="635" y="18"/>
                  </a:lnTo>
                  <a:lnTo>
                    <a:pt x="628" y="19"/>
                  </a:lnTo>
                  <a:lnTo>
                    <a:pt x="622" y="24"/>
                  </a:lnTo>
                  <a:lnTo>
                    <a:pt x="617" y="26"/>
                  </a:lnTo>
                  <a:lnTo>
                    <a:pt x="614" y="30"/>
                  </a:lnTo>
                  <a:lnTo>
                    <a:pt x="608" y="34"/>
                  </a:lnTo>
                  <a:lnTo>
                    <a:pt x="601" y="37"/>
                  </a:lnTo>
                  <a:lnTo>
                    <a:pt x="597" y="41"/>
                  </a:lnTo>
                  <a:lnTo>
                    <a:pt x="590" y="46"/>
                  </a:lnTo>
                  <a:lnTo>
                    <a:pt x="584" y="51"/>
                  </a:lnTo>
                  <a:lnTo>
                    <a:pt x="579" y="56"/>
                  </a:lnTo>
                  <a:lnTo>
                    <a:pt x="573" y="62"/>
                  </a:lnTo>
                  <a:lnTo>
                    <a:pt x="568" y="68"/>
                  </a:lnTo>
                  <a:lnTo>
                    <a:pt x="560" y="73"/>
                  </a:lnTo>
                  <a:lnTo>
                    <a:pt x="555" y="79"/>
                  </a:lnTo>
                  <a:lnTo>
                    <a:pt x="548" y="87"/>
                  </a:lnTo>
                  <a:lnTo>
                    <a:pt x="543" y="94"/>
                  </a:lnTo>
                  <a:lnTo>
                    <a:pt x="537" y="100"/>
                  </a:lnTo>
                  <a:lnTo>
                    <a:pt x="530" y="108"/>
                  </a:lnTo>
                  <a:lnTo>
                    <a:pt x="524" y="116"/>
                  </a:lnTo>
                  <a:lnTo>
                    <a:pt x="519" y="125"/>
                  </a:lnTo>
                  <a:lnTo>
                    <a:pt x="511" y="132"/>
                  </a:lnTo>
                  <a:lnTo>
                    <a:pt x="506" y="141"/>
                  </a:lnTo>
                  <a:lnTo>
                    <a:pt x="502" y="144"/>
                  </a:lnTo>
                  <a:lnTo>
                    <a:pt x="499" y="149"/>
                  </a:lnTo>
                  <a:lnTo>
                    <a:pt x="497" y="154"/>
                  </a:lnTo>
                  <a:lnTo>
                    <a:pt x="494" y="158"/>
                  </a:lnTo>
                  <a:lnTo>
                    <a:pt x="491" y="162"/>
                  </a:lnTo>
                  <a:lnTo>
                    <a:pt x="487" y="166"/>
                  </a:lnTo>
                  <a:lnTo>
                    <a:pt x="484" y="171"/>
                  </a:lnTo>
                  <a:lnTo>
                    <a:pt x="483" y="176"/>
                  </a:lnTo>
                  <a:lnTo>
                    <a:pt x="480" y="181"/>
                  </a:lnTo>
                  <a:lnTo>
                    <a:pt x="476" y="185"/>
                  </a:lnTo>
                  <a:lnTo>
                    <a:pt x="475" y="190"/>
                  </a:lnTo>
                  <a:lnTo>
                    <a:pt x="472" y="195"/>
                  </a:lnTo>
                  <a:lnTo>
                    <a:pt x="468" y="200"/>
                  </a:lnTo>
                  <a:lnTo>
                    <a:pt x="465" y="204"/>
                  </a:lnTo>
                  <a:lnTo>
                    <a:pt x="462" y="209"/>
                  </a:lnTo>
                  <a:lnTo>
                    <a:pt x="461" y="214"/>
                  </a:lnTo>
                  <a:lnTo>
                    <a:pt x="459" y="219"/>
                  </a:lnTo>
                  <a:lnTo>
                    <a:pt x="456" y="223"/>
                  </a:lnTo>
                  <a:lnTo>
                    <a:pt x="454" y="230"/>
                  </a:lnTo>
                  <a:lnTo>
                    <a:pt x="451" y="234"/>
                  </a:lnTo>
                  <a:lnTo>
                    <a:pt x="449" y="239"/>
                  </a:lnTo>
                  <a:lnTo>
                    <a:pt x="446" y="244"/>
                  </a:lnTo>
                  <a:lnTo>
                    <a:pt x="445" y="250"/>
                  </a:lnTo>
                  <a:lnTo>
                    <a:pt x="442" y="255"/>
                  </a:lnTo>
                  <a:lnTo>
                    <a:pt x="440" y="260"/>
                  </a:lnTo>
                  <a:lnTo>
                    <a:pt x="438" y="266"/>
                  </a:lnTo>
                  <a:lnTo>
                    <a:pt x="437" y="271"/>
                  </a:lnTo>
                  <a:lnTo>
                    <a:pt x="435" y="277"/>
                  </a:lnTo>
                  <a:lnTo>
                    <a:pt x="432" y="282"/>
                  </a:lnTo>
                  <a:lnTo>
                    <a:pt x="431" y="287"/>
                  </a:lnTo>
                  <a:lnTo>
                    <a:pt x="429" y="291"/>
                  </a:lnTo>
                  <a:lnTo>
                    <a:pt x="427" y="298"/>
                  </a:lnTo>
                  <a:lnTo>
                    <a:pt x="424" y="302"/>
                  </a:lnTo>
                  <a:lnTo>
                    <a:pt x="423" y="307"/>
                  </a:lnTo>
                  <a:lnTo>
                    <a:pt x="421" y="310"/>
                  </a:lnTo>
                  <a:lnTo>
                    <a:pt x="421" y="317"/>
                  </a:lnTo>
                  <a:lnTo>
                    <a:pt x="419" y="320"/>
                  </a:lnTo>
                  <a:lnTo>
                    <a:pt x="416" y="325"/>
                  </a:lnTo>
                  <a:lnTo>
                    <a:pt x="416" y="329"/>
                  </a:lnTo>
                  <a:lnTo>
                    <a:pt x="415" y="334"/>
                  </a:lnTo>
                  <a:lnTo>
                    <a:pt x="413" y="337"/>
                  </a:lnTo>
                  <a:lnTo>
                    <a:pt x="413" y="342"/>
                  </a:lnTo>
                  <a:lnTo>
                    <a:pt x="412" y="347"/>
                  </a:lnTo>
                  <a:lnTo>
                    <a:pt x="410" y="351"/>
                  </a:lnTo>
                  <a:lnTo>
                    <a:pt x="408" y="358"/>
                  </a:lnTo>
                  <a:lnTo>
                    <a:pt x="405" y="366"/>
                  </a:lnTo>
                  <a:lnTo>
                    <a:pt x="404" y="374"/>
                  </a:lnTo>
                  <a:lnTo>
                    <a:pt x="402" y="381"/>
                  </a:lnTo>
                  <a:lnTo>
                    <a:pt x="399" y="388"/>
                  </a:lnTo>
                  <a:lnTo>
                    <a:pt x="397" y="394"/>
                  </a:lnTo>
                  <a:lnTo>
                    <a:pt x="396" y="400"/>
                  </a:lnTo>
                  <a:lnTo>
                    <a:pt x="396" y="408"/>
                  </a:lnTo>
                  <a:lnTo>
                    <a:pt x="393" y="413"/>
                  </a:lnTo>
                  <a:lnTo>
                    <a:pt x="393" y="419"/>
                  </a:lnTo>
                  <a:lnTo>
                    <a:pt x="391" y="426"/>
                  </a:lnTo>
                  <a:lnTo>
                    <a:pt x="389" y="432"/>
                  </a:lnTo>
                  <a:lnTo>
                    <a:pt x="388" y="437"/>
                  </a:lnTo>
                  <a:lnTo>
                    <a:pt x="388" y="443"/>
                  </a:lnTo>
                  <a:lnTo>
                    <a:pt x="386" y="448"/>
                  </a:lnTo>
                  <a:lnTo>
                    <a:pt x="386" y="454"/>
                  </a:lnTo>
                  <a:lnTo>
                    <a:pt x="385" y="459"/>
                  </a:lnTo>
                  <a:lnTo>
                    <a:pt x="383" y="465"/>
                  </a:lnTo>
                  <a:lnTo>
                    <a:pt x="381" y="470"/>
                  </a:lnTo>
                  <a:lnTo>
                    <a:pt x="381" y="476"/>
                  </a:lnTo>
                  <a:lnTo>
                    <a:pt x="380" y="481"/>
                  </a:lnTo>
                  <a:lnTo>
                    <a:pt x="378" y="487"/>
                  </a:lnTo>
                  <a:lnTo>
                    <a:pt x="378" y="494"/>
                  </a:lnTo>
                  <a:lnTo>
                    <a:pt x="378" y="500"/>
                  </a:lnTo>
                  <a:lnTo>
                    <a:pt x="375" y="505"/>
                  </a:lnTo>
                  <a:lnTo>
                    <a:pt x="375" y="511"/>
                  </a:lnTo>
                  <a:lnTo>
                    <a:pt x="372" y="516"/>
                  </a:lnTo>
                  <a:lnTo>
                    <a:pt x="372" y="524"/>
                  </a:lnTo>
                  <a:lnTo>
                    <a:pt x="369" y="530"/>
                  </a:lnTo>
                  <a:lnTo>
                    <a:pt x="367" y="536"/>
                  </a:lnTo>
                  <a:lnTo>
                    <a:pt x="366" y="543"/>
                  </a:lnTo>
                  <a:lnTo>
                    <a:pt x="364" y="551"/>
                  </a:lnTo>
                  <a:lnTo>
                    <a:pt x="362" y="555"/>
                  </a:lnTo>
                  <a:lnTo>
                    <a:pt x="361" y="562"/>
                  </a:lnTo>
                  <a:lnTo>
                    <a:pt x="358" y="570"/>
                  </a:lnTo>
                  <a:lnTo>
                    <a:pt x="356" y="576"/>
                  </a:lnTo>
                  <a:lnTo>
                    <a:pt x="355" y="582"/>
                  </a:lnTo>
                  <a:lnTo>
                    <a:pt x="353" y="590"/>
                  </a:lnTo>
                  <a:lnTo>
                    <a:pt x="350" y="595"/>
                  </a:lnTo>
                  <a:lnTo>
                    <a:pt x="348" y="603"/>
                  </a:lnTo>
                  <a:lnTo>
                    <a:pt x="345" y="608"/>
                  </a:lnTo>
                  <a:lnTo>
                    <a:pt x="344" y="614"/>
                  </a:lnTo>
                  <a:lnTo>
                    <a:pt x="342" y="620"/>
                  </a:lnTo>
                  <a:lnTo>
                    <a:pt x="339" y="627"/>
                  </a:lnTo>
                  <a:lnTo>
                    <a:pt x="336" y="631"/>
                  </a:lnTo>
                  <a:lnTo>
                    <a:pt x="334" y="638"/>
                  </a:lnTo>
                  <a:lnTo>
                    <a:pt x="331" y="642"/>
                  </a:lnTo>
                  <a:lnTo>
                    <a:pt x="329" y="649"/>
                  </a:lnTo>
                  <a:lnTo>
                    <a:pt x="326" y="653"/>
                  </a:lnTo>
                  <a:lnTo>
                    <a:pt x="323" y="658"/>
                  </a:lnTo>
                  <a:lnTo>
                    <a:pt x="320" y="663"/>
                  </a:lnTo>
                  <a:lnTo>
                    <a:pt x="317" y="668"/>
                  </a:lnTo>
                  <a:lnTo>
                    <a:pt x="312" y="674"/>
                  </a:lnTo>
                  <a:lnTo>
                    <a:pt x="306" y="680"/>
                  </a:lnTo>
                  <a:lnTo>
                    <a:pt x="302" y="682"/>
                  </a:lnTo>
                  <a:lnTo>
                    <a:pt x="298" y="685"/>
                  </a:lnTo>
                  <a:lnTo>
                    <a:pt x="291" y="687"/>
                  </a:lnTo>
                  <a:lnTo>
                    <a:pt x="287" y="687"/>
                  </a:lnTo>
                  <a:lnTo>
                    <a:pt x="279" y="687"/>
                  </a:lnTo>
                  <a:lnTo>
                    <a:pt x="272" y="685"/>
                  </a:lnTo>
                  <a:lnTo>
                    <a:pt x="266" y="684"/>
                  </a:lnTo>
                  <a:lnTo>
                    <a:pt x="260" y="684"/>
                  </a:lnTo>
                  <a:lnTo>
                    <a:pt x="255" y="682"/>
                  </a:lnTo>
                  <a:lnTo>
                    <a:pt x="250" y="680"/>
                  </a:lnTo>
                  <a:lnTo>
                    <a:pt x="245" y="679"/>
                  </a:lnTo>
                  <a:lnTo>
                    <a:pt x="242" y="677"/>
                  </a:lnTo>
                  <a:lnTo>
                    <a:pt x="238" y="676"/>
                  </a:lnTo>
                  <a:lnTo>
                    <a:pt x="233" y="674"/>
                  </a:lnTo>
                  <a:lnTo>
                    <a:pt x="228" y="672"/>
                  </a:lnTo>
                  <a:lnTo>
                    <a:pt x="225" y="672"/>
                  </a:lnTo>
                  <a:lnTo>
                    <a:pt x="219" y="669"/>
                  </a:lnTo>
                  <a:lnTo>
                    <a:pt x="214" y="668"/>
                  </a:lnTo>
                  <a:lnTo>
                    <a:pt x="209" y="666"/>
                  </a:lnTo>
                  <a:lnTo>
                    <a:pt x="204" y="665"/>
                  </a:lnTo>
                  <a:lnTo>
                    <a:pt x="200" y="663"/>
                  </a:lnTo>
                  <a:lnTo>
                    <a:pt x="195" y="661"/>
                  </a:lnTo>
                  <a:lnTo>
                    <a:pt x="190" y="660"/>
                  </a:lnTo>
                  <a:lnTo>
                    <a:pt x="185" y="658"/>
                  </a:lnTo>
                  <a:lnTo>
                    <a:pt x="179" y="655"/>
                  </a:lnTo>
                  <a:lnTo>
                    <a:pt x="173" y="653"/>
                  </a:lnTo>
                  <a:lnTo>
                    <a:pt x="168" y="650"/>
                  </a:lnTo>
                  <a:lnTo>
                    <a:pt x="163" y="650"/>
                  </a:lnTo>
                  <a:lnTo>
                    <a:pt x="157" y="647"/>
                  </a:lnTo>
                  <a:lnTo>
                    <a:pt x="152" y="647"/>
                  </a:lnTo>
                  <a:lnTo>
                    <a:pt x="149" y="646"/>
                  </a:lnTo>
                  <a:lnTo>
                    <a:pt x="144" y="646"/>
                  </a:lnTo>
                  <a:lnTo>
                    <a:pt x="138" y="644"/>
                  </a:lnTo>
                  <a:lnTo>
                    <a:pt x="133" y="644"/>
                  </a:lnTo>
                  <a:lnTo>
                    <a:pt x="128" y="644"/>
                  </a:lnTo>
                  <a:lnTo>
                    <a:pt x="124" y="644"/>
                  </a:lnTo>
                  <a:lnTo>
                    <a:pt x="119" y="644"/>
                  </a:lnTo>
                  <a:lnTo>
                    <a:pt x="116" y="644"/>
                  </a:lnTo>
                  <a:lnTo>
                    <a:pt x="111" y="644"/>
                  </a:lnTo>
                  <a:lnTo>
                    <a:pt x="108" y="646"/>
                  </a:lnTo>
                  <a:lnTo>
                    <a:pt x="103" y="646"/>
                  </a:lnTo>
                  <a:lnTo>
                    <a:pt x="98" y="647"/>
                  </a:lnTo>
                  <a:lnTo>
                    <a:pt x="94" y="647"/>
                  </a:lnTo>
                  <a:lnTo>
                    <a:pt x="90" y="649"/>
                  </a:lnTo>
                  <a:lnTo>
                    <a:pt x="81" y="652"/>
                  </a:lnTo>
                  <a:lnTo>
                    <a:pt x="75" y="657"/>
                  </a:lnTo>
                  <a:lnTo>
                    <a:pt x="67" y="661"/>
                  </a:lnTo>
                  <a:lnTo>
                    <a:pt x="60" y="668"/>
                  </a:lnTo>
                  <a:lnTo>
                    <a:pt x="52" y="674"/>
                  </a:lnTo>
                  <a:lnTo>
                    <a:pt x="46" y="680"/>
                  </a:lnTo>
                  <a:lnTo>
                    <a:pt x="43" y="684"/>
                  </a:lnTo>
                  <a:lnTo>
                    <a:pt x="40" y="688"/>
                  </a:lnTo>
                  <a:lnTo>
                    <a:pt x="35" y="693"/>
                  </a:lnTo>
                  <a:lnTo>
                    <a:pt x="33" y="698"/>
                  </a:lnTo>
                  <a:lnTo>
                    <a:pt x="30" y="703"/>
                  </a:lnTo>
                  <a:lnTo>
                    <a:pt x="27" y="707"/>
                  </a:lnTo>
                  <a:lnTo>
                    <a:pt x="26" y="712"/>
                  </a:lnTo>
                  <a:lnTo>
                    <a:pt x="22" y="717"/>
                  </a:lnTo>
                  <a:lnTo>
                    <a:pt x="21" y="721"/>
                  </a:lnTo>
                  <a:lnTo>
                    <a:pt x="18" y="728"/>
                  </a:lnTo>
                  <a:lnTo>
                    <a:pt x="16" y="733"/>
                  </a:lnTo>
                  <a:lnTo>
                    <a:pt x="14" y="739"/>
                  </a:lnTo>
                  <a:lnTo>
                    <a:pt x="11" y="744"/>
                  </a:lnTo>
                  <a:lnTo>
                    <a:pt x="11" y="750"/>
                  </a:lnTo>
                  <a:lnTo>
                    <a:pt x="10" y="755"/>
                  </a:lnTo>
                  <a:lnTo>
                    <a:pt x="8" y="761"/>
                  </a:lnTo>
                  <a:lnTo>
                    <a:pt x="7" y="766"/>
                  </a:lnTo>
                  <a:lnTo>
                    <a:pt x="5" y="771"/>
                  </a:lnTo>
                  <a:lnTo>
                    <a:pt x="3" y="775"/>
                  </a:lnTo>
                  <a:lnTo>
                    <a:pt x="3" y="780"/>
                  </a:lnTo>
                  <a:lnTo>
                    <a:pt x="2" y="785"/>
                  </a:lnTo>
                  <a:lnTo>
                    <a:pt x="2" y="789"/>
                  </a:lnTo>
                  <a:lnTo>
                    <a:pt x="0" y="793"/>
                  </a:lnTo>
                  <a:lnTo>
                    <a:pt x="0" y="797"/>
                  </a:lnTo>
                  <a:lnTo>
                    <a:pt x="0" y="802"/>
                  </a:lnTo>
                  <a:lnTo>
                    <a:pt x="0" y="807"/>
                  </a:lnTo>
                  <a:lnTo>
                    <a:pt x="0" y="810"/>
                  </a:lnTo>
                  <a:lnTo>
                    <a:pt x="0" y="812"/>
                  </a:lnTo>
                  <a:lnTo>
                    <a:pt x="43" y="805"/>
                  </a:lnTo>
                  <a:lnTo>
                    <a:pt x="43" y="8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rot="21366600">
              <a:off x="5681880" y="3352320"/>
              <a:ext cx="73080" cy="79200"/>
            </a:xfrm>
            <a:custGeom>
              <a:avLst/>
              <a:gdLst/>
              <a:ahLst/>
              <a:rect l="l" t="t" r="r" b="b"/>
              <a:pathLst>
                <a:path w="109" h="117">
                  <a:moveTo>
                    <a:pt x="66" y="0"/>
                  </a:moveTo>
                  <a:lnTo>
                    <a:pt x="64" y="2"/>
                  </a:lnTo>
                  <a:lnTo>
                    <a:pt x="61" y="8"/>
                  </a:lnTo>
                  <a:lnTo>
                    <a:pt x="58" y="10"/>
                  </a:lnTo>
                  <a:lnTo>
                    <a:pt x="55" y="16"/>
                  </a:lnTo>
                  <a:lnTo>
                    <a:pt x="52" y="21"/>
                  </a:lnTo>
                  <a:lnTo>
                    <a:pt x="47" y="27"/>
                  </a:lnTo>
                  <a:lnTo>
                    <a:pt x="42" y="33"/>
                  </a:lnTo>
                  <a:lnTo>
                    <a:pt x="38" y="40"/>
                  </a:lnTo>
                  <a:lnTo>
                    <a:pt x="31" y="46"/>
                  </a:lnTo>
                  <a:lnTo>
                    <a:pt x="25" y="52"/>
                  </a:lnTo>
                  <a:lnTo>
                    <a:pt x="19" y="59"/>
                  </a:lnTo>
                  <a:lnTo>
                    <a:pt x="12" y="65"/>
                  </a:lnTo>
                  <a:lnTo>
                    <a:pt x="6" y="71"/>
                  </a:lnTo>
                  <a:lnTo>
                    <a:pt x="0" y="79"/>
                  </a:lnTo>
                  <a:lnTo>
                    <a:pt x="42" y="117"/>
                  </a:lnTo>
                  <a:lnTo>
                    <a:pt x="44" y="116"/>
                  </a:lnTo>
                  <a:lnTo>
                    <a:pt x="49" y="111"/>
                  </a:lnTo>
                  <a:lnTo>
                    <a:pt x="53" y="106"/>
                  </a:lnTo>
                  <a:lnTo>
                    <a:pt x="57" y="101"/>
                  </a:lnTo>
                  <a:lnTo>
                    <a:pt x="61" y="97"/>
                  </a:lnTo>
                  <a:lnTo>
                    <a:pt x="68" y="92"/>
                  </a:lnTo>
                  <a:lnTo>
                    <a:pt x="72" y="86"/>
                  </a:lnTo>
                  <a:lnTo>
                    <a:pt x="79" y="79"/>
                  </a:lnTo>
                  <a:lnTo>
                    <a:pt x="83" y="73"/>
                  </a:lnTo>
                  <a:lnTo>
                    <a:pt x="90" y="67"/>
                  </a:lnTo>
                  <a:lnTo>
                    <a:pt x="95" y="59"/>
                  </a:lnTo>
                  <a:lnTo>
                    <a:pt x="99" y="51"/>
                  </a:lnTo>
                  <a:lnTo>
                    <a:pt x="104" y="43"/>
                  </a:lnTo>
                  <a:lnTo>
                    <a:pt x="109" y="35"/>
                  </a:lnTo>
                  <a:lnTo>
                    <a:pt x="66" y="0"/>
                  </a:lnTo>
                  <a:lnTo>
                    <a:pt x="6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4" name=""/>
            <p:cNvSpPr/>
            <p:nvPr/>
          </p:nvSpPr>
          <p:spPr>
            <a:xfrm rot="21366600">
              <a:off x="5731920" y="3386880"/>
              <a:ext cx="79560" cy="78840"/>
            </a:xfrm>
            <a:custGeom>
              <a:avLst/>
              <a:gdLst/>
              <a:ahLst/>
              <a:rect l="l" t="t" r="r" b="b"/>
              <a:pathLst>
                <a:path w="117" h="116">
                  <a:moveTo>
                    <a:pt x="69" y="0"/>
                  </a:moveTo>
                  <a:lnTo>
                    <a:pt x="68" y="2"/>
                  </a:lnTo>
                  <a:lnTo>
                    <a:pt x="65" y="8"/>
                  </a:lnTo>
                  <a:lnTo>
                    <a:pt x="61" y="11"/>
                  </a:lnTo>
                  <a:lnTo>
                    <a:pt x="58" y="18"/>
                  </a:lnTo>
                  <a:lnTo>
                    <a:pt x="55" y="22"/>
                  </a:lnTo>
                  <a:lnTo>
                    <a:pt x="50" y="29"/>
                  </a:lnTo>
                  <a:lnTo>
                    <a:pt x="46" y="35"/>
                  </a:lnTo>
                  <a:lnTo>
                    <a:pt x="41" y="41"/>
                  </a:lnTo>
                  <a:lnTo>
                    <a:pt x="35" y="48"/>
                  </a:lnTo>
                  <a:lnTo>
                    <a:pt x="28" y="55"/>
                  </a:lnTo>
                  <a:lnTo>
                    <a:pt x="22" y="62"/>
                  </a:lnTo>
                  <a:lnTo>
                    <a:pt x="16" y="68"/>
                  </a:lnTo>
                  <a:lnTo>
                    <a:pt x="8" y="74"/>
                  </a:lnTo>
                  <a:lnTo>
                    <a:pt x="0" y="81"/>
                  </a:lnTo>
                  <a:lnTo>
                    <a:pt x="50" y="116"/>
                  </a:lnTo>
                  <a:lnTo>
                    <a:pt x="52" y="112"/>
                  </a:lnTo>
                  <a:lnTo>
                    <a:pt x="58" y="109"/>
                  </a:lnTo>
                  <a:lnTo>
                    <a:pt x="61" y="106"/>
                  </a:lnTo>
                  <a:lnTo>
                    <a:pt x="65" y="101"/>
                  </a:lnTo>
                  <a:lnTo>
                    <a:pt x="71" y="97"/>
                  </a:lnTo>
                  <a:lnTo>
                    <a:pt x="76" y="92"/>
                  </a:lnTo>
                  <a:lnTo>
                    <a:pt x="80" y="86"/>
                  </a:lnTo>
                  <a:lnTo>
                    <a:pt x="87" y="79"/>
                  </a:lnTo>
                  <a:lnTo>
                    <a:pt x="92" y="71"/>
                  </a:lnTo>
                  <a:lnTo>
                    <a:pt x="98" y="65"/>
                  </a:lnTo>
                  <a:lnTo>
                    <a:pt x="101" y="55"/>
                  </a:lnTo>
                  <a:lnTo>
                    <a:pt x="107" y="48"/>
                  </a:lnTo>
                  <a:lnTo>
                    <a:pt x="109" y="43"/>
                  </a:lnTo>
                  <a:lnTo>
                    <a:pt x="112" y="40"/>
                  </a:lnTo>
                  <a:lnTo>
                    <a:pt x="114" y="35"/>
                  </a:lnTo>
                  <a:lnTo>
                    <a:pt x="117" y="32"/>
                  </a:lnTo>
                  <a:lnTo>
                    <a:pt x="69" y="0"/>
                  </a:lnTo>
                  <a:lnTo>
                    <a:pt x="69"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35" name=""/>
            <p:cNvSpPr/>
            <p:nvPr/>
          </p:nvSpPr>
          <p:spPr>
            <a:xfrm rot="21366600">
              <a:off x="5789520" y="3416400"/>
              <a:ext cx="81000" cy="79200"/>
            </a:xfrm>
            <a:custGeom>
              <a:avLst/>
              <a:gdLst/>
              <a:ahLst/>
              <a:rect l="l" t="t" r="r" b="b"/>
              <a:pathLst>
                <a:path w="120" h="117">
                  <a:moveTo>
                    <a:pt x="70" y="0"/>
                  </a:moveTo>
                  <a:lnTo>
                    <a:pt x="68" y="2"/>
                  </a:lnTo>
                  <a:lnTo>
                    <a:pt x="65" y="10"/>
                  </a:lnTo>
                  <a:lnTo>
                    <a:pt x="62" y="13"/>
                  </a:lnTo>
                  <a:lnTo>
                    <a:pt x="59" y="19"/>
                  </a:lnTo>
                  <a:lnTo>
                    <a:pt x="55" y="24"/>
                  </a:lnTo>
                  <a:lnTo>
                    <a:pt x="51" y="32"/>
                  </a:lnTo>
                  <a:lnTo>
                    <a:pt x="46" y="38"/>
                  </a:lnTo>
                  <a:lnTo>
                    <a:pt x="41" y="44"/>
                  </a:lnTo>
                  <a:lnTo>
                    <a:pt x="35" y="52"/>
                  </a:lnTo>
                  <a:lnTo>
                    <a:pt x="29" y="60"/>
                  </a:lnTo>
                  <a:lnTo>
                    <a:pt x="21" y="67"/>
                  </a:lnTo>
                  <a:lnTo>
                    <a:pt x="14" y="73"/>
                  </a:lnTo>
                  <a:lnTo>
                    <a:pt x="6" y="79"/>
                  </a:lnTo>
                  <a:lnTo>
                    <a:pt x="0" y="87"/>
                  </a:lnTo>
                  <a:lnTo>
                    <a:pt x="54" y="117"/>
                  </a:lnTo>
                  <a:lnTo>
                    <a:pt x="55" y="116"/>
                  </a:lnTo>
                  <a:lnTo>
                    <a:pt x="60" y="111"/>
                  </a:lnTo>
                  <a:lnTo>
                    <a:pt x="63" y="108"/>
                  </a:lnTo>
                  <a:lnTo>
                    <a:pt x="68" y="103"/>
                  </a:lnTo>
                  <a:lnTo>
                    <a:pt x="73" y="98"/>
                  </a:lnTo>
                  <a:lnTo>
                    <a:pt x="79" y="93"/>
                  </a:lnTo>
                  <a:lnTo>
                    <a:pt x="84" y="87"/>
                  </a:lnTo>
                  <a:lnTo>
                    <a:pt x="90" y="81"/>
                  </a:lnTo>
                  <a:lnTo>
                    <a:pt x="95" y="73"/>
                  </a:lnTo>
                  <a:lnTo>
                    <a:pt x="101" y="65"/>
                  </a:lnTo>
                  <a:lnTo>
                    <a:pt x="103" y="60"/>
                  </a:lnTo>
                  <a:lnTo>
                    <a:pt x="106" y="57"/>
                  </a:lnTo>
                  <a:lnTo>
                    <a:pt x="108" y="52"/>
                  </a:lnTo>
                  <a:lnTo>
                    <a:pt x="111" y="49"/>
                  </a:lnTo>
                  <a:lnTo>
                    <a:pt x="114" y="44"/>
                  </a:lnTo>
                  <a:lnTo>
                    <a:pt x="116" y="40"/>
                  </a:lnTo>
                  <a:lnTo>
                    <a:pt x="119" y="35"/>
                  </a:lnTo>
                  <a:lnTo>
                    <a:pt x="120" y="30"/>
                  </a:lnTo>
                  <a:lnTo>
                    <a:pt x="70" y="0"/>
                  </a:lnTo>
                  <a:lnTo>
                    <a:pt x="7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rot="21366600">
              <a:off x="5850720" y="3446640"/>
              <a:ext cx="83880" cy="77760"/>
            </a:xfrm>
            <a:custGeom>
              <a:avLst/>
              <a:gdLst/>
              <a:ahLst/>
              <a:rect l="l" t="t" r="r" b="b"/>
              <a:pathLst>
                <a:path w="123" h="115">
                  <a:moveTo>
                    <a:pt x="69" y="0"/>
                  </a:moveTo>
                  <a:lnTo>
                    <a:pt x="68" y="1"/>
                  </a:lnTo>
                  <a:lnTo>
                    <a:pt x="64" y="9"/>
                  </a:lnTo>
                  <a:lnTo>
                    <a:pt x="61" y="12"/>
                  </a:lnTo>
                  <a:lnTo>
                    <a:pt x="58" y="17"/>
                  </a:lnTo>
                  <a:lnTo>
                    <a:pt x="55" y="23"/>
                  </a:lnTo>
                  <a:lnTo>
                    <a:pt x="50" y="31"/>
                  </a:lnTo>
                  <a:lnTo>
                    <a:pt x="45" y="38"/>
                  </a:lnTo>
                  <a:lnTo>
                    <a:pt x="41" y="44"/>
                  </a:lnTo>
                  <a:lnTo>
                    <a:pt x="34" y="52"/>
                  </a:lnTo>
                  <a:lnTo>
                    <a:pt x="30" y="58"/>
                  </a:lnTo>
                  <a:lnTo>
                    <a:pt x="22" y="65"/>
                  </a:lnTo>
                  <a:lnTo>
                    <a:pt x="15" y="73"/>
                  </a:lnTo>
                  <a:lnTo>
                    <a:pt x="8" y="79"/>
                  </a:lnTo>
                  <a:lnTo>
                    <a:pt x="0" y="85"/>
                  </a:lnTo>
                  <a:lnTo>
                    <a:pt x="57" y="115"/>
                  </a:lnTo>
                  <a:lnTo>
                    <a:pt x="58" y="112"/>
                  </a:lnTo>
                  <a:lnTo>
                    <a:pt x="63" y="109"/>
                  </a:lnTo>
                  <a:lnTo>
                    <a:pt x="66" y="104"/>
                  </a:lnTo>
                  <a:lnTo>
                    <a:pt x="71" y="101"/>
                  </a:lnTo>
                  <a:lnTo>
                    <a:pt x="77" y="96"/>
                  </a:lnTo>
                  <a:lnTo>
                    <a:pt x="82" y="91"/>
                  </a:lnTo>
                  <a:lnTo>
                    <a:pt x="87" y="85"/>
                  </a:lnTo>
                  <a:lnTo>
                    <a:pt x="93" y="79"/>
                  </a:lnTo>
                  <a:lnTo>
                    <a:pt x="98" y="71"/>
                  </a:lnTo>
                  <a:lnTo>
                    <a:pt x="104" y="63"/>
                  </a:lnTo>
                  <a:lnTo>
                    <a:pt x="106" y="58"/>
                  </a:lnTo>
                  <a:lnTo>
                    <a:pt x="109" y="55"/>
                  </a:lnTo>
                  <a:lnTo>
                    <a:pt x="112" y="50"/>
                  </a:lnTo>
                  <a:lnTo>
                    <a:pt x="115" y="46"/>
                  </a:lnTo>
                  <a:lnTo>
                    <a:pt x="117" y="41"/>
                  </a:lnTo>
                  <a:lnTo>
                    <a:pt x="120" y="36"/>
                  </a:lnTo>
                  <a:lnTo>
                    <a:pt x="121" y="31"/>
                  </a:lnTo>
                  <a:lnTo>
                    <a:pt x="123" y="27"/>
                  </a:lnTo>
                  <a:lnTo>
                    <a:pt x="69" y="0"/>
                  </a:lnTo>
                  <a:lnTo>
                    <a:pt x="6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7" name=""/>
            <p:cNvSpPr/>
            <p:nvPr/>
          </p:nvSpPr>
          <p:spPr>
            <a:xfrm rot="21366600">
              <a:off x="5917320" y="3472560"/>
              <a:ext cx="86040" cy="75960"/>
            </a:xfrm>
            <a:custGeom>
              <a:avLst/>
              <a:gdLst/>
              <a:ahLst/>
              <a:rect l="l" t="t" r="r" b="b"/>
              <a:pathLst>
                <a:path w="128" h="112">
                  <a:moveTo>
                    <a:pt x="70" y="0"/>
                  </a:moveTo>
                  <a:lnTo>
                    <a:pt x="68" y="1"/>
                  </a:lnTo>
                  <a:lnTo>
                    <a:pt x="65" y="9"/>
                  </a:lnTo>
                  <a:lnTo>
                    <a:pt x="62" y="12"/>
                  </a:lnTo>
                  <a:lnTo>
                    <a:pt x="59" y="19"/>
                  </a:lnTo>
                  <a:lnTo>
                    <a:pt x="55" y="23"/>
                  </a:lnTo>
                  <a:lnTo>
                    <a:pt x="52" y="31"/>
                  </a:lnTo>
                  <a:lnTo>
                    <a:pt x="46" y="38"/>
                  </a:lnTo>
                  <a:lnTo>
                    <a:pt x="41" y="44"/>
                  </a:lnTo>
                  <a:lnTo>
                    <a:pt x="35" y="50"/>
                  </a:lnTo>
                  <a:lnTo>
                    <a:pt x="30" y="58"/>
                  </a:lnTo>
                  <a:lnTo>
                    <a:pt x="24" y="66"/>
                  </a:lnTo>
                  <a:lnTo>
                    <a:pt x="16" y="72"/>
                  </a:lnTo>
                  <a:lnTo>
                    <a:pt x="8" y="79"/>
                  </a:lnTo>
                  <a:lnTo>
                    <a:pt x="0" y="87"/>
                  </a:lnTo>
                  <a:lnTo>
                    <a:pt x="63" y="112"/>
                  </a:lnTo>
                  <a:lnTo>
                    <a:pt x="65" y="110"/>
                  </a:lnTo>
                  <a:lnTo>
                    <a:pt x="70" y="106"/>
                  </a:lnTo>
                  <a:lnTo>
                    <a:pt x="71" y="101"/>
                  </a:lnTo>
                  <a:lnTo>
                    <a:pt x="76" y="98"/>
                  </a:lnTo>
                  <a:lnTo>
                    <a:pt x="81" y="91"/>
                  </a:lnTo>
                  <a:lnTo>
                    <a:pt x="86" y="87"/>
                  </a:lnTo>
                  <a:lnTo>
                    <a:pt x="90" y="80"/>
                  </a:lnTo>
                  <a:lnTo>
                    <a:pt x="95" y="74"/>
                  </a:lnTo>
                  <a:lnTo>
                    <a:pt x="100" y="66"/>
                  </a:lnTo>
                  <a:lnTo>
                    <a:pt x="106" y="58"/>
                  </a:lnTo>
                  <a:lnTo>
                    <a:pt x="108" y="53"/>
                  </a:lnTo>
                  <a:lnTo>
                    <a:pt x="111" y="49"/>
                  </a:lnTo>
                  <a:lnTo>
                    <a:pt x="114" y="45"/>
                  </a:lnTo>
                  <a:lnTo>
                    <a:pt x="117" y="41"/>
                  </a:lnTo>
                  <a:lnTo>
                    <a:pt x="119" y="36"/>
                  </a:lnTo>
                  <a:lnTo>
                    <a:pt x="122" y="31"/>
                  </a:lnTo>
                  <a:lnTo>
                    <a:pt x="125" y="27"/>
                  </a:lnTo>
                  <a:lnTo>
                    <a:pt x="128" y="22"/>
                  </a:lnTo>
                  <a:lnTo>
                    <a:pt x="70" y="0"/>
                  </a:lnTo>
                  <a:lnTo>
                    <a:pt x="7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38" name=""/>
          <p:cNvGrpSpPr/>
          <p:nvPr/>
        </p:nvGrpSpPr>
        <p:grpSpPr>
          <a:xfrm>
            <a:off x="4699080" y="2618280"/>
            <a:ext cx="1559520" cy="1508760"/>
            <a:chOff x="4699080" y="2618280"/>
            <a:chExt cx="1559520" cy="1508760"/>
          </a:xfrm>
        </p:grpSpPr>
        <p:sp>
          <p:nvSpPr>
            <p:cNvPr id="439" name=""/>
            <p:cNvSpPr/>
            <p:nvPr/>
          </p:nvSpPr>
          <p:spPr>
            <a:xfrm rot="21366600">
              <a:off x="4716000" y="3547080"/>
              <a:ext cx="1144440" cy="541440"/>
            </a:xfrm>
            <a:custGeom>
              <a:avLst/>
              <a:gdLst/>
              <a:ahLst/>
              <a:rect l="l" t="t" r="r" b="b"/>
              <a:pathLst>
                <a:path w="1701" h="801">
                  <a:moveTo>
                    <a:pt x="1148" y="0"/>
                  </a:moveTo>
                  <a:lnTo>
                    <a:pt x="1145" y="0"/>
                  </a:lnTo>
                  <a:lnTo>
                    <a:pt x="1142" y="1"/>
                  </a:lnTo>
                  <a:lnTo>
                    <a:pt x="1139" y="1"/>
                  </a:lnTo>
                  <a:lnTo>
                    <a:pt x="1136" y="3"/>
                  </a:lnTo>
                  <a:lnTo>
                    <a:pt x="1131" y="4"/>
                  </a:lnTo>
                  <a:lnTo>
                    <a:pt x="1126" y="7"/>
                  </a:lnTo>
                  <a:lnTo>
                    <a:pt x="1118" y="9"/>
                  </a:lnTo>
                  <a:lnTo>
                    <a:pt x="1112" y="11"/>
                  </a:lnTo>
                  <a:lnTo>
                    <a:pt x="1106" y="12"/>
                  </a:lnTo>
                  <a:lnTo>
                    <a:pt x="1098" y="15"/>
                  </a:lnTo>
                  <a:lnTo>
                    <a:pt x="1090" y="19"/>
                  </a:lnTo>
                  <a:lnTo>
                    <a:pt x="1080" y="22"/>
                  </a:lnTo>
                  <a:lnTo>
                    <a:pt x="1071" y="25"/>
                  </a:lnTo>
                  <a:lnTo>
                    <a:pt x="1061" y="28"/>
                  </a:lnTo>
                  <a:lnTo>
                    <a:pt x="1050" y="31"/>
                  </a:lnTo>
                  <a:lnTo>
                    <a:pt x="1038" y="36"/>
                  </a:lnTo>
                  <a:lnTo>
                    <a:pt x="1027" y="39"/>
                  </a:lnTo>
                  <a:lnTo>
                    <a:pt x="1014" y="42"/>
                  </a:lnTo>
                  <a:lnTo>
                    <a:pt x="1000" y="47"/>
                  </a:lnTo>
                  <a:lnTo>
                    <a:pt x="987" y="50"/>
                  </a:lnTo>
                  <a:lnTo>
                    <a:pt x="973" y="55"/>
                  </a:lnTo>
                  <a:lnTo>
                    <a:pt x="959" y="60"/>
                  </a:lnTo>
                  <a:lnTo>
                    <a:pt x="943" y="63"/>
                  </a:lnTo>
                  <a:lnTo>
                    <a:pt x="927" y="68"/>
                  </a:lnTo>
                  <a:lnTo>
                    <a:pt x="910" y="72"/>
                  </a:lnTo>
                  <a:lnTo>
                    <a:pt x="894" y="77"/>
                  </a:lnTo>
                  <a:lnTo>
                    <a:pt x="875" y="82"/>
                  </a:lnTo>
                  <a:lnTo>
                    <a:pt x="859" y="87"/>
                  </a:lnTo>
                  <a:lnTo>
                    <a:pt x="840" y="91"/>
                  </a:lnTo>
                  <a:lnTo>
                    <a:pt x="821" y="96"/>
                  </a:lnTo>
                  <a:lnTo>
                    <a:pt x="802" y="99"/>
                  </a:lnTo>
                  <a:lnTo>
                    <a:pt x="781" y="104"/>
                  </a:lnTo>
                  <a:lnTo>
                    <a:pt x="759" y="109"/>
                  </a:lnTo>
                  <a:lnTo>
                    <a:pt x="740" y="113"/>
                  </a:lnTo>
                  <a:lnTo>
                    <a:pt x="718" y="118"/>
                  </a:lnTo>
                  <a:lnTo>
                    <a:pt x="696" y="123"/>
                  </a:lnTo>
                  <a:lnTo>
                    <a:pt x="674" y="128"/>
                  </a:lnTo>
                  <a:lnTo>
                    <a:pt x="652" y="132"/>
                  </a:lnTo>
                  <a:lnTo>
                    <a:pt x="628" y="136"/>
                  </a:lnTo>
                  <a:lnTo>
                    <a:pt x="604" y="140"/>
                  </a:lnTo>
                  <a:lnTo>
                    <a:pt x="581" y="143"/>
                  </a:lnTo>
                  <a:lnTo>
                    <a:pt x="557" y="148"/>
                  </a:lnTo>
                  <a:lnTo>
                    <a:pt x="532" y="153"/>
                  </a:lnTo>
                  <a:lnTo>
                    <a:pt x="506" y="156"/>
                  </a:lnTo>
                  <a:lnTo>
                    <a:pt x="481" y="161"/>
                  </a:lnTo>
                  <a:lnTo>
                    <a:pt x="456" y="164"/>
                  </a:lnTo>
                  <a:lnTo>
                    <a:pt x="429" y="167"/>
                  </a:lnTo>
                  <a:lnTo>
                    <a:pt x="402" y="170"/>
                  </a:lnTo>
                  <a:lnTo>
                    <a:pt x="375" y="174"/>
                  </a:lnTo>
                  <a:lnTo>
                    <a:pt x="348" y="177"/>
                  </a:lnTo>
                  <a:lnTo>
                    <a:pt x="320" y="178"/>
                  </a:lnTo>
                  <a:lnTo>
                    <a:pt x="291" y="181"/>
                  </a:lnTo>
                  <a:lnTo>
                    <a:pt x="263" y="183"/>
                  </a:lnTo>
                  <a:lnTo>
                    <a:pt x="234" y="186"/>
                  </a:lnTo>
                  <a:lnTo>
                    <a:pt x="206" y="188"/>
                  </a:lnTo>
                  <a:lnTo>
                    <a:pt x="176" y="191"/>
                  </a:lnTo>
                  <a:lnTo>
                    <a:pt x="146" y="193"/>
                  </a:lnTo>
                  <a:lnTo>
                    <a:pt x="117" y="194"/>
                  </a:lnTo>
                  <a:lnTo>
                    <a:pt x="87" y="194"/>
                  </a:lnTo>
                  <a:lnTo>
                    <a:pt x="57" y="196"/>
                  </a:lnTo>
                  <a:lnTo>
                    <a:pt x="25" y="197"/>
                  </a:lnTo>
                  <a:lnTo>
                    <a:pt x="0" y="197"/>
                  </a:lnTo>
                  <a:lnTo>
                    <a:pt x="87" y="267"/>
                  </a:lnTo>
                  <a:lnTo>
                    <a:pt x="62" y="333"/>
                  </a:lnTo>
                  <a:lnTo>
                    <a:pt x="218" y="406"/>
                  </a:lnTo>
                  <a:lnTo>
                    <a:pt x="183" y="601"/>
                  </a:lnTo>
                  <a:lnTo>
                    <a:pt x="392" y="634"/>
                  </a:lnTo>
                  <a:lnTo>
                    <a:pt x="367" y="741"/>
                  </a:lnTo>
                  <a:lnTo>
                    <a:pt x="443" y="801"/>
                  </a:lnTo>
                  <a:lnTo>
                    <a:pt x="443" y="801"/>
                  </a:lnTo>
                  <a:lnTo>
                    <a:pt x="445" y="801"/>
                  </a:lnTo>
                  <a:lnTo>
                    <a:pt x="446" y="800"/>
                  </a:lnTo>
                  <a:lnTo>
                    <a:pt x="451" y="800"/>
                  </a:lnTo>
                  <a:lnTo>
                    <a:pt x="456" y="800"/>
                  </a:lnTo>
                  <a:lnTo>
                    <a:pt x="463" y="798"/>
                  </a:lnTo>
                  <a:lnTo>
                    <a:pt x="467" y="798"/>
                  </a:lnTo>
                  <a:lnTo>
                    <a:pt x="471" y="798"/>
                  </a:lnTo>
                  <a:lnTo>
                    <a:pt x="476" y="797"/>
                  </a:lnTo>
                  <a:lnTo>
                    <a:pt x="481" y="797"/>
                  </a:lnTo>
                  <a:lnTo>
                    <a:pt x="486" y="795"/>
                  </a:lnTo>
                  <a:lnTo>
                    <a:pt x="492" y="795"/>
                  </a:lnTo>
                  <a:lnTo>
                    <a:pt x="497" y="793"/>
                  </a:lnTo>
                  <a:lnTo>
                    <a:pt x="503" y="793"/>
                  </a:lnTo>
                  <a:lnTo>
                    <a:pt x="509" y="792"/>
                  </a:lnTo>
                  <a:lnTo>
                    <a:pt x="517" y="790"/>
                  </a:lnTo>
                  <a:lnTo>
                    <a:pt x="524" y="789"/>
                  </a:lnTo>
                  <a:lnTo>
                    <a:pt x="532" y="789"/>
                  </a:lnTo>
                  <a:lnTo>
                    <a:pt x="539" y="787"/>
                  </a:lnTo>
                  <a:lnTo>
                    <a:pt x="547" y="786"/>
                  </a:lnTo>
                  <a:lnTo>
                    <a:pt x="552" y="784"/>
                  </a:lnTo>
                  <a:lnTo>
                    <a:pt x="557" y="784"/>
                  </a:lnTo>
                  <a:lnTo>
                    <a:pt x="562" y="782"/>
                  </a:lnTo>
                  <a:lnTo>
                    <a:pt x="566" y="782"/>
                  </a:lnTo>
                  <a:lnTo>
                    <a:pt x="571" y="781"/>
                  </a:lnTo>
                  <a:lnTo>
                    <a:pt x="576" y="781"/>
                  </a:lnTo>
                  <a:lnTo>
                    <a:pt x="581" y="779"/>
                  </a:lnTo>
                  <a:lnTo>
                    <a:pt x="585" y="779"/>
                  </a:lnTo>
                  <a:lnTo>
                    <a:pt x="590" y="778"/>
                  </a:lnTo>
                  <a:lnTo>
                    <a:pt x="596" y="778"/>
                  </a:lnTo>
                  <a:lnTo>
                    <a:pt x="601" y="776"/>
                  </a:lnTo>
                  <a:lnTo>
                    <a:pt x="607" y="776"/>
                  </a:lnTo>
                  <a:lnTo>
                    <a:pt x="612" y="774"/>
                  </a:lnTo>
                  <a:lnTo>
                    <a:pt x="619" y="773"/>
                  </a:lnTo>
                  <a:lnTo>
                    <a:pt x="626" y="770"/>
                  </a:lnTo>
                  <a:lnTo>
                    <a:pt x="634" y="768"/>
                  </a:lnTo>
                  <a:lnTo>
                    <a:pt x="644" y="767"/>
                  </a:lnTo>
                  <a:lnTo>
                    <a:pt x="653" y="763"/>
                  </a:lnTo>
                  <a:lnTo>
                    <a:pt x="664" y="762"/>
                  </a:lnTo>
                  <a:lnTo>
                    <a:pt x="675" y="760"/>
                  </a:lnTo>
                  <a:lnTo>
                    <a:pt x="687" y="757"/>
                  </a:lnTo>
                  <a:lnTo>
                    <a:pt x="699" y="754"/>
                  </a:lnTo>
                  <a:lnTo>
                    <a:pt x="712" y="751"/>
                  </a:lnTo>
                  <a:lnTo>
                    <a:pt x="726" y="748"/>
                  </a:lnTo>
                  <a:lnTo>
                    <a:pt x="740" y="744"/>
                  </a:lnTo>
                  <a:lnTo>
                    <a:pt x="756" y="741"/>
                  </a:lnTo>
                  <a:lnTo>
                    <a:pt x="770" y="738"/>
                  </a:lnTo>
                  <a:lnTo>
                    <a:pt x="788" y="735"/>
                  </a:lnTo>
                  <a:lnTo>
                    <a:pt x="802" y="730"/>
                  </a:lnTo>
                  <a:lnTo>
                    <a:pt x="819" y="725"/>
                  </a:lnTo>
                  <a:lnTo>
                    <a:pt x="837" y="721"/>
                  </a:lnTo>
                  <a:lnTo>
                    <a:pt x="854" y="716"/>
                  </a:lnTo>
                  <a:lnTo>
                    <a:pt x="873" y="711"/>
                  </a:lnTo>
                  <a:lnTo>
                    <a:pt x="891" y="706"/>
                  </a:lnTo>
                  <a:lnTo>
                    <a:pt x="910" y="702"/>
                  </a:lnTo>
                  <a:lnTo>
                    <a:pt x="929" y="697"/>
                  </a:lnTo>
                  <a:lnTo>
                    <a:pt x="948" y="691"/>
                  </a:lnTo>
                  <a:lnTo>
                    <a:pt x="968" y="686"/>
                  </a:lnTo>
                  <a:lnTo>
                    <a:pt x="987" y="680"/>
                  </a:lnTo>
                  <a:lnTo>
                    <a:pt x="1008" y="675"/>
                  </a:lnTo>
                  <a:lnTo>
                    <a:pt x="1028" y="669"/>
                  </a:lnTo>
                  <a:lnTo>
                    <a:pt x="1049" y="662"/>
                  </a:lnTo>
                  <a:lnTo>
                    <a:pt x="1069" y="656"/>
                  </a:lnTo>
                  <a:lnTo>
                    <a:pt x="1091" y="651"/>
                  </a:lnTo>
                  <a:lnTo>
                    <a:pt x="1112" y="643"/>
                  </a:lnTo>
                  <a:lnTo>
                    <a:pt x="1133" y="637"/>
                  </a:lnTo>
                  <a:lnTo>
                    <a:pt x="1153" y="629"/>
                  </a:lnTo>
                  <a:lnTo>
                    <a:pt x="1175" y="623"/>
                  </a:lnTo>
                  <a:lnTo>
                    <a:pt x="1196" y="615"/>
                  </a:lnTo>
                  <a:lnTo>
                    <a:pt x="1218" y="607"/>
                  </a:lnTo>
                  <a:lnTo>
                    <a:pt x="1239" y="599"/>
                  </a:lnTo>
                  <a:lnTo>
                    <a:pt x="1261" y="593"/>
                  </a:lnTo>
                  <a:lnTo>
                    <a:pt x="1281" y="583"/>
                  </a:lnTo>
                  <a:lnTo>
                    <a:pt x="1302" y="577"/>
                  </a:lnTo>
                  <a:lnTo>
                    <a:pt x="1322" y="567"/>
                  </a:lnTo>
                  <a:lnTo>
                    <a:pt x="1343" y="559"/>
                  </a:lnTo>
                  <a:lnTo>
                    <a:pt x="1364" y="552"/>
                  </a:lnTo>
                  <a:lnTo>
                    <a:pt x="1384" y="542"/>
                  </a:lnTo>
                  <a:lnTo>
                    <a:pt x="1405" y="534"/>
                  </a:lnTo>
                  <a:lnTo>
                    <a:pt x="1425" y="526"/>
                  </a:lnTo>
                  <a:lnTo>
                    <a:pt x="1446" y="517"/>
                  </a:lnTo>
                  <a:lnTo>
                    <a:pt x="1465" y="507"/>
                  </a:lnTo>
                  <a:lnTo>
                    <a:pt x="1484" y="498"/>
                  </a:lnTo>
                  <a:lnTo>
                    <a:pt x="1503" y="488"/>
                  </a:lnTo>
                  <a:lnTo>
                    <a:pt x="1522" y="479"/>
                  </a:lnTo>
                  <a:lnTo>
                    <a:pt x="1539" y="468"/>
                  </a:lnTo>
                  <a:lnTo>
                    <a:pt x="1558" y="458"/>
                  </a:lnTo>
                  <a:lnTo>
                    <a:pt x="1576" y="449"/>
                  </a:lnTo>
                  <a:lnTo>
                    <a:pt x="1593" y="438"/>
                  </a:lnTo>
                  <a:lnTo>
                    <a:pt x="1609" y="428"/>
                  </a:lnTo>
                  <a:lnTo>
                    <a:pt x="1626" y="417"/>
                  </a:lnTo>
                  <a:lnTo>
                    <a:pt x="1642" y="408"/>
                  </a:lnTo>
                  <a:lnTo>
                    <a:pt x="1656" y="395"/>
                  </a:lnTo>
                  <a:lnTo>
                    <a:pt x="1672" y="384"/>
                  </a:lnTo>
                  <a:lnTo>
                    <a:pt x="1686" y="374"/>
                  </a:lnTo>
                  <a:lnTo>
                    <a:pt x="1701" y="363"/>
                  </a:lnTo>
                  <a:lnTo>
                    <a:pt x="1425" y="0"/>
                  </a:lnTo>
                  <a:lnTo>
                    <a:pt x="1148" y="0"/>
                  </a:lnTo>
                  <a:lnTo>
                    <a:pt x="1148" y="0"/>
                  </a:lnTo>
                  <a:close/>
                </a:path>
              </a:pathLst>
            </a:custGeom>
            <a:solidFill>
              <a:srgbClr val="370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rot="21366600">
              <a:off x="5720040" y="2652840"/>
              <a:ext cx="501480" cy="714240"/>
            </a:xfrm>
            <a:custGeom>
              <a:avLst/>
              <a:gdLst/>
              <a:ahLst/>
              <a:rect l="l" t="t" r="r" b="b"/>
              <a:pathLst>
                <a:path w="745" h="1058">
                  <a:moveTo>
                    <a:pt x="0" y="786"/>
                  </a:moveTo>
                  <a:lnTo>
                    <a:pt x="0" y="784"/>
                  </a:lnTo>
                  <a:lnTo>
                    <a:pt x="0" y="781"/>
                  </a:lnTo>
                  <a:lnTo>
                    <a:pt x="1" y="775"/>
                  </a:lnTo>
                  <a:lnTo>
                    <a:pt x="4" y="769"/>
                  </a:lnTo>
                  <a:lnTo>
                    <a:pt x="6" y="764"/>
                  </a:lnTo>
                  <a:lnTo>
                    <a:pt x="8" y="759"/>
                  </a:lnTo>
                  <a:lnTo>
                    <a:pt x="9" y="754"/>
                  </a:lnTo>
                  <a:lnTo>
                    <a:pt x="11" y="750"/>
                  </a:lnTo>
                  <a:lnTo>
                    <a:pt x="12" y="745"/>
                  </a:lnTo>
                  <a:lnTo>
                    <a:pt x="16" y="739"/>
                  </a:lnTo>
                  <a:lnTo>
                    <a:pt x="17" y="734"/>
                  </a:lnTo>
                  <a:lnTo>
                    <a:pt x="20" y="729"/>
                  </a:lnTo>
                  <a:lnTo>
                    <a:pt x="22" y="723"/>
                  </a:lnTo>
                  <a:lnTo>
                    <a:pt x="23" y="716"/>
                  </a:lnTo>
                  <a:lnTo>
                    <a:pt x="25" y="710"/>
                  </a:lnTo>
                  <a:lnTo>
                    <a:pt x="28" y="705"/>
                  </a:lnTo>
                  <a:lnTo>
                    <a:pt x="30" y="699"/>
                  </a:lnTo>
                  <a:lnTo>
                    <a:pt x="33" y="693"/>
                  </a:lnTo>
                  <a:lnTo>
                    <a:pt x="36" y="688"/>
                  </a:lnTo>
                  <a:lnTo>
                    <a:pt x="39" y="683"/>
                  </a:lnTo>
                  <a:lnTo>
                    <a:pt x="42" y="679"/>
                  </a:lnTo>
                  <a:lnTo>
                    <a:pt x="46" y="672"/>
                  </a:lnTo>
                  <a:lnTo>
                    <a:pt x="49" y="667"/>
                  </a:lnTo>
                  <a:lnTo>
                    <a:pt x="52" y="664"/>
                  </a:lnTo>
                  <a:lnTo>
                    <a:pt x="58" y="656"/>
                  </a:lnTo>
                  <a:lnTo>
                    <a:pt x="65" y="650"/>
                  </a:lnTo>
                  <a:lnTo>
                    <a:pt x="71" y="645"/>
                  </a:lnTo>
                  <a:lnTo>
                    <a:pt x="79" y="644"/>
                  </a:lnTo>
                  <a:lnTo>
                    <a:pt x="87" y="641"/>
                  </a:lnTo>
                  <a:lnTo>
                    <a:pt x="95" y="641"/>
                  </a:lnTo>
                  <a:lnTo>
                    <a:pt x="103" y="641"/>
                  </a:lnTo>
                  <a:lnTo>
                    <a:pt x="110" y="642"/>
                  </a:lnTo>
                  <a:lnTo>
                    <a:pt x="118" y="644"/>
                  </a:lnTo>
                  <a:lnTo>
                    <a:pt x="128" y="647"/>
                  </a:lnTo>
                  <a:lnTo>
                    <a:pt x="134" y="648"/>
                  </a:lnTo>
                  <a:lnTo>
                    <a:pt x="141" y="650"/>
                  </a:lnTo>
                  <a:lnTo>
                    <a:pt x="147" y="653"/>
                  </a:lnTo>
                  <a:lnTo>
                    <a:pt x="153" y="656"/>
                  </a:lnTo>
                  <a:lnTo>
                    <a:pt x="158" y="658"/>
                  </a:lnTo>
                  <a:lnTo>
                    <a:pt x="161" y="660"/>
                  </a:lnTo>
                  <a:lnTo>
                    <a:pt x="163" y="661"/>
                  </a:lnTo>
                  <a:lnTo>
                    <a:pt x="164" y="663"/>
                  </a:lnTo>
                  <a:lnTo>
                    <a:pt x="283" y="688"/>
                  </a:lnTo>
                  <a:lnTo>
                    <a:pt x="284" y="686"/>
                  </a:lnTo>
                  <a:lnTo>
                    <a:pt x="291" y="683"/>
                  </a:lnTo>
                  <a:lnTo>
                    <a:pt x="294" y="680"/>
                  </a:lnTo>
                  <a:lnTo>
                    <a:pt x="299" y="677"/>
                  </a:lnTo>
                  <a:lnTo>
                    <a:pt x="303" y="674"/>
                  </a:lnTo>
                  <a:lnTo>
                    <a:pt x="308" y="671"/>
                  </a:lnTo>
                  <a:lnTo>
                    <a:pt x="313" y="667"/>
                  </a:lnTo>
                  <a:lnTo>
                    <a:pt x="319" y="663"/>
                  </a:lnTo>
                  <a:lnTo>
                    <a:pt x="324" y="660"/>
                  </a:lnTo>
                  <a:lnTo>
                    <a:pt x="329" y="655"/>
                  </a:lnTo>
                  <a:lnTo>
                    <a:pt x="335" y="647"/>
                  </a:lnTo>
                  <a:lnTo>
                    <a:pt x="340" y="639"/>
                  </a:lnTo>
                  <a:lnTo>
                    <a:pt x="340" y="636"/>
                  </a:lnTo>
                  <a:lnTo>
                    <a:pt x="341" y="629"/>
                  </a:lnTo>
                  <a:lnTo>
                    <a:pt x="341" y="626"/>
                  </a:lnTo>
                  <a:lnTo>
                    <a:pt x="343" y="622"/>
                  </a:lnTo>
                  <a:lnTo>
                    <a:pt x="343" y="617"/>
                  </a:lnTo>
                  <a:lnTo>
                    <a:pt x="345" y="612"/>
                  </a:lnTo>
                  <a:lnTo>
                    <a:pt x="346" y="607"/>
                  </a:lnTo>
                  <a:lnTo>
                    <a:pt x="348" y="601"/>
                  </a:lnTo>
                  <a:lnTo>
                    <a:pt x="349" y="595"/>
                  </a:lnTo>
                  <a:lnTo>
                    <a:pt x="351" y="590"/>
                  </a:lnTo>
                  <a:lnTo>
                    <a:pt x="354" y="582"/>
                  </a:lnTo>
                  <a:lnTo>
                    <a:pt x="356" y="576"/>
                  </a:lnTo>
                  <a:lnTo>
                    <a:pt x="359" y="568"/>
                  </a:lnTo>
                  <a:lnTo>
                    <a:pt x="360" y="561"/>
                  </a:lnTo>
                  <a:lnTo>
                    <a:pt x="362" y="552"/>
                  </a:lnTo>
                  <a:lnTo>
                    <a:pt x="365" y="544"/>
                  </a:lnTo>
                  <a:lnTo>
                    <a:pt x="367" y="535"/>
                  </a:lnTo>
                  <a:lnTo>
                    <a:pt x="368" y="527"/>
                  </a:lnTo>
                  <a:lnTo>
                    <a:pt x="371" y="517"/>
                  </a:lnTo>
                  <a:lnTo>
                    <a:pt x="375" y="508"/>
                  </a:lnTo>
                  <a:lnTo>
                    <a:pt x="378" y="498"/>
                  </a:lnTo>
                  <a:lnTo>
                    <a:pt x="381" y="490"/>
                  </a:lnTo>
                  <a:lnTo>
                    <a:pt x="383" y="481"/>
                  </a:lnTo>
                  <a:lnTo>
                    <a:pt x="386" y="470"/>
                  </a:lnTo>
                  <a:lnTo>
                    <a:pt x="389" y="460"/>
                  </a:lnTo>
                  <a:lnTo>
                    <a:pt x="392" y="451"/>
                  </a:lnTo>
                  <a:lnTo>
                    <a:pt x="394" y="441"/>
                  </a:lnTo>
                  <a:lnTo>
                    <a:pt x="398" y="432"/>
                  </a:lnTo>
                  <a:lnTo>
                    <a:pt x="400" y="421"/>
                  </a:lnTo>
                  <a:lnTo>
                    <a:pt x="405" y="411"/>
                  </a:lnTo>
                  <a:lnTo>
                    <a:pt x="406" y="402"/>
                  </a:lnTo>
                  <a:lnTo>
                    <a:pt x="409" y="391"/>
                  </a:lnTo>
                  <a:lnTo>
                    <a:pt x="411" y="381"/>
                  </a:lnTo>
                  <a:lnTo>
                    <a:pt x="414" y="372"/>
                  </a:lnTo>
                  <a:lnTo>
                    <a:pt x="417" y="362"/>
                  </a:lnTo>
                  <a:lnTo>
                    <a:pt x="421" y="353"/>
                  </a:lnTo>
                  <a:lnTo>
                    <a:pt x="424" y="343"/>
                  </a:lnTo>
                  <a:lnTo>
                    <a:pt x="427" y="334"/>
                  </a:lnTo>
                  <a:lnTo>
                    <a:pt x="428" y="324"/>
                  </a:lnTo>
                  <a:lnTo>
                    <a:pt x="432" y="315"/>
                  </a:lnTo>
                  <a:lnTo>
                    <a:pt x="433" y="307"/>
                  </a:lnTo>
                  <a:lnTo>
                    <a:pt x="436" y="297"/>
                  </a:lnTo>
                  <a:lnTo>
                    <a:pt x="439" y="289"/>
                  </a:lnTo>
                  <a:lnTo>
                    <a:pt x="441" y="282"/>
                  </a:lnTo>
                  <a:lnTo>
                    <a:pt x="444" y="274"/>
                  </a:lnTo>
                  <a:lnTo>
                    <a:pt x="446" y="267"/>
                  </a:lnTo>
                  <a:lnTo>
                    <a:pt x="449" y="259"/>
                  </a:lnTo>
                  <a:lnTo>
                    <a:pt x="449" y="252"/>
                  </a:lnTo>
                  <a:lnTo>
                    <a:pt x="451" y="245"/>
                  </a:lnTo>
                  <a:lnTo>
                    <a:pt x="454" y="240"/>
                  </a:lnTo>
                  <a:lnTo>
                    <a:pt x="455" y="234"/>
                  </a:lnTo>
                  <a:lnTo>
                    <a:pt x="457" y="228"/>
                  </a:lnTo>
                  <a:lnTo>
                    <a:pt x="458" y="223"/>
                  </a:lnTo>
                  <a:lnTo>
                    <a:pt x="460" y="220"/>
                  </a:lnTo>
                  <a:lnTo>
                    <a:pt x="462" y="212"/>
                  </a:lnTo>
                  <a:lnTo>
                    <a:pt x="465" y="206"/>
                  </a:lnTo>
                  <a:lnTo>
                    <a:pt x="465" y="204"/>
                  </a:lnTo>
                  <a:lnTo>
                    <a:pt x="466" y="202"/>
                  </a:lnTo>
                  <a:lnTo>
                    <a:pt x="582" y="55"/>
                  </a:lnTo>
                  <a:lnTo>
                    <a:pt x="666" y="0"/>
                  </a:lnTo>
                  <a:lnTo>
                    <a:pt x="719" y="3"/>
                  </a:lnTo>
                  <a:lnTo>
                    <a:pt x="745" y="74"/>
                  </a:lnTo>
                  <a:lnTo>
                    <a:pt x="723" y="240"/>
                  </a:lnTo>
                  <a:lnTo>
                    <a:pt x="672" y="367"/>
                  </a:lnTo>
                  <a:lnTo>
                    <a:pt x="610" y="481"/>
                  </a:lnTo>
                  <a:lnTo>
                    <a:pt x="533" y="590"/>
                  </a:lnTo>
                  <a:lnTo>
                    <a:pt x="481" y="667"/>
                  </a:lnTo>
                  <a:lnTo>
                    <a:pt x="479" y="669"/>
                  </a:lnTo>
                  <a:lnTo>
                    <a:pt x="477" y="672"/>
                  </a:lnTo>
                  <a:lnTo>
                    <a:pt x="474" y="675"/>
                  </a:lnTo>
                  <a:lnTo>
                    <a:pt x="473" y="683"/>
                  </a:lnTo>
                  <a:lnTo>
                    <a:pt x="468" y="690"/>
                  </a:lnTo>
                  <a:lnTo>
                    <a:pt x="465" y="697"/>
                  </a:lnTo>
                  <a:lnTo>
                    <a:pt x="462" y="702"/>
                  </a:lnTo>
                  <a:lnTo>
                    <a:pt x="460" y="707"/>
                  </a:lnTo>
                  <a:lnTo>
                    <a:pt x="458" y="712"/>
                  </a:lnTo>
                  <a:lnTo>
                    <a:pt x="458" y="718"/>
                  </a:lnTo>
                  <a:lnTo>
                    <a:pt x="455" y="723"/>
                  </a:lnTo>
                  <a:lnTo>
                    <a:pt x="454" y="728"/>
                  </a:lnTo>
                  <a:lnTo>
                    <a:pt x="452" y="731"/>
                  </a:lnTo>
                  <a:lnTo>
                    <a:pt x="452" y="737"/>
                  </a:lnTo>
                  <a:lnTo>
                    <a:pt x="451" y="742"/>
                  </a:lnTo>
                  <a:lnTo>
                    <a:pt x="451" y="747"/>
                  </a:lnTo>
                  <a:lnTo>
                    <a:pt x="451" y="751"/>
                  </a:lnTo>
                  <a:lnTo>
                    <a:pt x="451" y="758"/>
                  </a:lnTo>
                  <a:lnTo>
                    <a:pt x="451" y="761"/>
                  </a:lnTo>
                  <a:lnTo>
                    <a:pt x="452" y="765"/>
                  </a:lnTo>
                  <a:lnTo>
                    <a:pt x="452" y="770"/>
                  </a:lnTo>
                  <a:lnTo>
                    <a:pt x="455" y="773"/>
                  </a:lnTo>
                  <a:lnTo>
                    <a:pt x="460" y="780"/>
                  </a:lnTo>
                  <a:lnTo>
                    <a:pt x="468" y="786"/>
                  </a:lnTo>
                  <a:lnTo>
                    <a:pt x="471" y="789"/>
                  </a:lnTo>
                  <a:lnTo>
                    <a:pt x="476" y="791"/>
                  </a:lnTo>
                  <a:lnTo>
                    <a:pt x="481" y="794"/>
                  </a:lnTo>
                  <a:lnTo>
                    <a:pt x="487" y="796"/>
                  </a:lnTo>
                  <a:lnTo>
                    <a:pt x="490" y="799"/>
                  </a:lnTo>
                  <a:lnTo>
                    <a:pt x="496" y="802"/>
                  </a:lnTo>
                  <a:lnTo>
                    <a:pt x="503" y="805"/>
                  </a:lnTo>
                  <a:lnTo>
                    <a:pt x="509" y="808"/>
                  </a:lnTo>
                  <a:lnTo>
                    <a:pt x="515" y="810"/>
                  </a:lnTo>
                  <a:lnTo>
                    <a:pt x="522" y="813"/>
                  </a:lnTo>
                  <a:lnTo>
                    <a:pt x="528" y="816"/>
                  </a:lnTo>
                  <a:lnTo>
                    <a:pt x="536" y="818"/>
                  </a:lnTo>
                  <a:lnTo>
                    <a:pt x="542" y="821"/>
                  </a:lnTo>
                  <a:lnTo>
                    <a:pt x="549" y="824"/>
                  </a:lnTo>
                  <a:lnTo>
                    <a:pt x="555" y="827"/>
                  </a:lnTo>
                  <a:lnTo>
                    <a:pt x="561" y="830"/>
                  </a:lnTo>
                  <a:lnTo>
                    <a:pt x="568" y="832"/>
                  </a:lnTo>
                  <a:lnTo>
                    <a:pt x="574" y="835"/>
                  </a:lnTo>
                  <a:lnTo>
                    <a:pt x="580" y="837"/>
                  </a:lnTo>
                  <a:lnTo>
                    <a:pt x="587" y="840"/>
                  </a:lnTo>
                  <a:lnTo>
                    <a:pt x="591" y="841"/>
                  </a:lnTo>
                  <a:lnTo>
                    <a:pt x="596" y="843"/>
                  </a:lnTo>
                  <a:lnTo>
                    <a:pt x="601" y="845"/>
                  </a:lnTo>
                  <a:lnTo>
                    <a:pt x="606" y="848"/>
                  </a:lnTo>
                  <a:lnTo>
                    <a:pt x="614" y="849"/>
                  </a:lnTo>
                  <a:lnTo>
                    <a:pt x="620" y="852"/>
                  </a:lnTo>
                  <a:lnTo>
                    <a:pt x="625" y="854"/>
                  </a:lnTo>
                  <a:lnTo>
                    <a:pt x="626" y="854"/>
                  </a:lnTo>
                  <a:lnTo>
                    <a:pt x="648" y="962"/>
                  </a:lnTo>
                  <a:lnTo>
                    <a:pt x="588" y="1058"/>
                  </a:lnTo>
                  <a:lnTo>
                    <a:pt x="213" y="962"/>
                  </a:lnTo>
                  <a:lnTo>
                    <a:pt x="0" y="786"/>
                  </a:lnTo>
                  <a:lnTo>
                    <a:pt x="0" y="786"/>
                  </a:lnTo>
                  <a:close/>
                </a:path>
              </a:pathLst>
            </a:custGeom>
            <a:solidFill>
              <a:srgbClr val="ffb0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rot="21366600">
              <a:off x="5690880" y="3171600"/>
              <a:ext cx="446040" cy="322200"/>
            </a:xfrm>
            <a:custGeom>
              <a:avLst/>
              <a:gdLst/>
              <a:ahLst/>
              <a:rect l="l" t="t" r="r" b="b"/>
              <a:pathLst>
                <a:path w="662" h="478">
                  <a:moveTo>
                    <a:pt x="0" y="196"/>
                  </a:moveTo>
                  <a:lnTo>
                    <a:pt x="89" y="0"/>
                  </a:lnTo>
                  <a:lnTo>
                    <a:pt x="371" y="174"/>
                  </a:lnTo>
                  <a:lnTo>
                    <a:pt x="662" y="283"/>
                  </a:lnTo>
                  <a:lnTo>
                    <a:pt x="583" y="478"/>
                  </a:lnTo>
                  <a:lnTo>
                    <a:pt x="344" y="381"/>
                  </a:lnTo>
                  <a:lnTo>
                    <a:pt x="94" y="242"/>
                  </a:lnTo>
                  <a:lnTo>
                    <a:pt x="0" y="196"/>
                  </a:lnTo>
                  <a:lnTo>
                    <a:pt x="0" y="196"/>
                  </a:lnTo>
                  <a:close/>
                </a:path>
              </a:pathLst>
            </a:custGeom>
            <a:solidFill>
              <a:srgbClr val="e3d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rot="21366600">
              <a:off x="5460120" y="3306600"/>
              <a:ext cx="635040" cy="406440"/>
            </a:xfrm>
            <a:custGeom>
              <a:avLst/>
              <a:gdLst/>
              <a:ahLst/>
              <a:rect l="l" t="t" r="r" b="b"/>
              <a:pathLst>
                <a:path w="945" h="601">
                  <a:moveTo>
                    <a:pt x="0" y="294"/>
                  </a:moveTo>
                  <a:lnTo>
                    <a:pt x="168" y="220"/>
                  </a:lnTo>
                  <a:lnTo>
                    <a:pt x="290" y="112"/>
                  </a:lnTo>
                  <a:lnTo>
                    <a:pt x="373" y="0"/>
                  </a:lnTo>
                  <a:lnTo>
                    <a:pt x="693" y="193"/>
                  </a:lnTo>
                  <a:lnTo>
                    <a:pt x="945" y="291"/>
                  </a:lnTo>
                  <a:lnTo>
                    <a:pt x="883" y="452"/>
                  </a:lnTo>
                  <a:lnTo>
                    <a:pt x="720" y="601"/>
                  </a:lnTo>
                  <a:lnTo>
                    <a:pt x="0" y="294"/>
                  </a:lnTo>
                  <a:lnTo>
                    <a:pt x="0" y="294"/>
                  </a:lnTo>
                  <a:close/>
                </a:path>
              </a:pathLst>
            </a:custGeom>
            <a:solidFill>
              <a:srgbClr val="c2b3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rot="21366600">
              <a:off x="5224320" y="3639240"/>
              <a:ext cx="552600" cy="218880"/>
            </a:xfrm>
            <a:custGeom>
              <a:avLst/>
              <a:gdLst/>
              <a:ahLst/>
              <a:rect l="l" t="t" r="r" b="b"/>
              <a:pathLst>
                <a:path w="820" h="323">
                  <a:moveTo>
                    <a:pt x="0" y="294"/>
                  </a:moveTo>
                  <a:lnTo>
                    <a:pt x="0" y="294"/>
                  </a:lnTo>
                  <a:lnTo>
                    <a:pt x="7" y="293"/>
                  </a:lnTo>
                  <a:lnTo>
                    <a:pt x="8" y="293"/>
                  </a:lnTo>
                  <a:lnTo>
                    <a:pt x="13" y="291"/>
                  </a:lnTo>
                  <a:lnTo>
                    <a:pt x="18" y="291"/>
                  </a:lnTo>
                  <a:lnTo>
                    <a:pt x="24" y="290"/>
                  </a:lnTo>
                  <a:lnTo>
                    <a:pt x="30" y="288"/>
                  </a:lnTo>
                  <a:lnTo>
                    <a:pt x="37" y="287"/>
                  </a:lnTo>
                  <a:lnTo>
                    <a:pt x="43" y="285"/>
                  </a:lnTo>
                  <a:lnTo>
                    <a:pt x="53" y="283"/>
                  </a:lnTo>
                  <a:lnTo>
                    <a:pt x="61" y="282"/>
                  </a:lnTo>
                  <a:lnTo>
                    <a:pt x="70" y="280"/>
                  </a:lnTo>
                  <a:lnTo>
                    <a:pt x="79" y="277"/>
                  </a:lnTo>
                  <a:lnTo>
                    <a:pt x="91" y="275"/>
                  </a:lnTo>
                  <a:lnTo>
                    <a:pt x="102" y="272"/>
                  </a:lnTo>
                  <a:lnTo>
                    <a:pt x="113" y="271"/>
                  </a:lnTo>
                  <a:lnTo>
                    <a:pt x="124" y="268"/>
                  </a:lnTo>
                  <a:lnTo>
                    <a:pt x="136" y="264"/>
                  </a:lnTo>
                  <a:lnTo>
                    <a:pt x="149" y="261"/>
                  </a:lnTo>
                  <a:lnTo>
                    <a:pt x="162" y="260"/>
                  </a:lnTo>
                  <a:lnTo>
                    <a:pt x="176" y="255"/>
                  </a:lnTo>
                  <a:lnTo>
                    <a:pt x="190" y="253"/>
                  </a:lnTo>
                  <a:lnTo>
                    <a:pt x="204" y="249"/>
                  </a:lnTo>
                  <a:lnTo>
                    <a:pt x="219" y="245"/>
                  </a:lnTo>
                  <a:lnTo>
                    <a:pt x="233" y="241"/>
                  </a:lnTo>
                  <a:lnTo>
                    <a:pt x="249" y="238"/>
                  </a:lnTo>
                  <a:lnTo>
                    <a:pt x="263" y="233"/>
                  </a:lnTo>
                  <a:lnTo>
                    <a:pt x="279" y="228"/>
                  </a:lnTo>
                  <a:lnTo>
                    <a:pt x="296" y="225"/>
                  </a:lnTo>
                  <a:lnTo>
                    <a:pt x="312" y="220"/>
                  </a:lnTo>
                  <a:lnTo>
                    <a:pt x="328" y="215"/>
                  </a:lnTo>
                  <a:lnTo>
                    <a:pt x="344" y="211"/>
                  </a:lnTo>
                  <a:lnTo>
                    <a:pt x="359" y="206"/>
                  </a:lnTo>
                  <a:lnTo>
                    <a:pt x="377" y="201"/>
                  </a:lnTo>
                  <a:lnTo>
                    <a:pt x="393" y="195"/>
                  </a:lnTo>
                  <a:lnTo>
                    <a:pt x="410" y="190"/>
                  </a:lnTo>
                  <a:lnTo>
                    <a:pt x="428" y="184"/>
                  </a:lnTo>
                  <a:lnTo>
                    <a:pt x="445" y="179"/>
                  </a:lnTo>
                  <a:lnTo>
                    <a:pt x="461" y="173"/>
                  </a:lnTo>
                  <a:lnTo>
                    <a:pt x="478" y="166"/>
                  </a:lnTo>
                  <a:lnTo>
                    <a:pt x="496" y="160"/>
                  </a:lnTo>
                  <a:lnTo>
                    <a:pt x="513" y="155"/>
                  </a:lnTo>
                  <a:lnTo>
                    <a:pt x="529" y="147"/>
                  </a:lnTo>
                  <a:lnTo>
                    <a:pt x="546" y="141"/>
                  </a:lnTo>
                  <a:lnTo>
                    <a:pt x="564" y="135"/>
                  </a:lnTo>
                  <a:lnTo>
                    <a:pt x="581" y="128"/>
                  </a:lnTo>
                  <a:lnTo>
                    <a:pt x="597" y="120"/>
                  </a:lnTo>
                  <a:lnTo>
                    <a:pt x="613" y="114"/>
                  </a:lnTo>
                  <a:lnTo>
                    <a:pt x="628" y="106"/>
                  </a:lnTo>
                  <a:lnTo>
                    <a:pt x="644" y="100"/>
                  </a:lnTo>
                  <a:lnTo>
                    <a:pt x="660" y="92"/>
                  </a:lnTo>
                  <a:lnTo>
                    <a:pt x="677" y="84"/>
                  </a:lnTo>
                  <a:lnTo>
                    <a:pt x="692" y="76"/>
                  </a:lnTo>
                  <a:lnTo>
                    <a:pt x="707" y="68"/>
                  </a:lnTo>
                  <a:lnTo>
                    <a:pt x="722" y="60"/>
                  </a:lnTo>
                  <a:lnTo>
                    <a:pt x="738" y="51"/>
                  </a:lnTo>
                  <a:lnTo>
                    <a:pt x="752" y="43"/>
                  </a:lnTo>
                  <a:lnTo>
                    <a:pt x="764" y="35"/>
                  </a:lnTo>
                  <a:lnTo>
                    <a:pt x="779" y="26"/>
                  </a:lnTo>
                  <a:lnTo>
                    <a:pt x="793" y="18"/>
                  </a:lnTo>
                  <a:lnTo>
                    <a:pt x="804" y="10"/>
                  </a:lnTo>
                  <a:lnTo>
                    <a:pt x="818" y="0"/>
                  </a:lnTo>
                  <a:lnTo>
                    <a:pt x="820" y="43"/>
                  </a:lnTo>
                  <a:lnTo>
                    <a:pt x="818" y="43"/>
                  </a:lnTo>
                  <a:lnTo>
                    <a:pt x="817" y="45"/>
                  </a:lnTo>
                  <a:lnTo>
                    <a:pt x="813" y="46"/>
                  </a:lnTo>
                  <a:lnTo>
                    <a:pt x="810" y="49"/>
                  </a:lnTo>
                  <a:lnTo>
                    <a:pt x="804" y="51"/>
                  </a:lnTo>
                  <a:lnTo>
                    <a:pt x="799" y="57"/>
                  </a:lnTo>
                  <a:lnTo>
                    <a:pt x="795" y="59"/>
                  </a:lnTo>
                  <a:lnTo>
                    <a:pt x="791" y="62"/>
                  </a:lnTo>
                  <a:lnTo>
                    <a:pt x="787" y="65"/>
                  </a:lnTo>
                  <a:lnTo>
                    <a:pt x="782" y="68"/>
                  </a:lnTo>
                  <a:lnTo>
                    <a:pt x="776" y="71"/>
                  </a:lnTo>
                  <a:lnTo>
                    <a:pt x="771" y="75"/>
                  </a:lnTo>
                  <a:lnTo>
                    <a:pt x="764" y="78"/>
                  </a:lnTo>
                  <a:lnTo>
                    <a:pt x="760" y="83"/>
                  </a:lnTo>
                  <a:lnTo>
                    <a:pt x="752" y="86"/>
                  </a:lnTo>
                  <a:lnTo>
                    <a:pt x="745" y="89"/>
                  </a:lnTo>
                  <a:lnTo>
                    <a:pt x="738" y="94"/>
                  </a:lnTo>
                  <a:lnTo>
                    <a:pt x="731" y="98"/>
                  </a:lnTo>
                  <a:lnTo>
                    <a:pt x="722" y="102"/>
                  </a:lnTo>
                  <a:lnTo>
                    <a:pt x="714" y="106"/>
                  </a:lnTo>
                  <a:lnTo>
                    <a:pt x="704" y="111"/>
                  </a:lnTo>
                  <a:lnTo>
                    <a:pt x="695" y="116"/>
                  </a:lnTo>
                  <a:lnTo>
                    <a:pt x="685" y="120"/>
                  </a:lnTo>
                  <a:lnTo>
                    <a:pt x="676" y="125"/>
                  </a:lnTo>
                  <a:lnTo>
                    <a:pt x="665" y="132"/>
                  </a:lnTo>
                  <a:lnTo>
                    <a:pt x="654" y="136"/>
                  </a:lnTo>
                  <a:lnTo>
                    <a:pt x="641" y="141"/>
                  </a:lnTo>
                  <a:lnTo>
                    <a:pt x="630" y="146"/>
                  </a:lnTo>
                  <a:lnTo>
                    <a:pt x="616" y="151"/>
                  </a:lnTo>
                  <a:lnTo>
                    <a:pt x="605" y="157"/>
                  </a:lnTo>
                  <a:lnTo>
                    <a:pt x="590" y="162"/>
                  </a:lnTo>
                  <a:lnTo>
                    <a:pt x="576" y="168"/>
                  </a:lnTo>
                  <a:lnTo>
                    <a:pt x="562" y="173"/>
                  </a:lnTo>
                  <a:lnTo>
                    <a:pt x="548" y="179"/>
                  </a:lnTo>
                  <a:lnTo>
                    <a:pt x="530" y="184"/>
                  </a:lnTo>
                  <a:lnTo>
                    <a:pt x="516" y="190"/>
                  </a:lnTo>
                  <a:lnTo>
                    <a:pt x="499" y="196"/>
                  </a:lnTo>
                  <a:lnTo>
                    <a:pt x="483" y="203"/>
                  </a:lnTo>
                  <a:lnTo>
                    <a:pt x="464" y="207"/>
                  </a:lnTo>
                  <a:lnTo>
                    <a:pt x="446" y="215"/>
                  </a:lnTo>
                  <a:lnTo>
                    <a:pt x="428" y="220"/>
                  </a:lnTo>
                  <a:lnTo>
                    <a:pt x="409" y="226"/>
                  </a:lnTo>
                  <a:lnTo>
                    <a:pt x="388" y="233"/>
                  </a:lnTo>
                  <a:lnTo>
                    <a:pt x="369" y="239"/>
                  </a:lnTo>
                  <a:lnTo>
                    <a:pt x="347" y="244"/>
                  </a:lnTo>
                  <a:lnTo>
                    <a:pt x="326" y="250"/>
                  </a:lnTo>
                  <a:lnTo>
                    <a:pt x="303" y="255"/>
                  </a:lnTo>
                  <a:lnTo>
                    <a:pt x="280" y="261"/>
                  </a:lnTo>
                  <a:lnTo>
                    <a:pt x="258" y="268"/>
                  </a:lnTo>
                  <a:lnTo>
                    <a:pt x="235" y="274"/>
                  </a:lnTo>
                  <a:lnTo>
                    <a:pt x="209" y="280"/>
                  </a:lnTo>
                  <a:lnTo>
                    <a:pt x="184" y="287"/>
                  </a:lnTo>
                  <a:lnTo>
                    <a:pt x="157" y="293"/>
                  </a:lnTo>
                  <a:lnTo>
                    <a:pt x="132" y="298"/>
                  </a:lnTo>
                  <a:lnTo>
                    <a:pt x="105" y="304"/>
                  </a:lnTo>
                  <a:lnTo>
                    <a:pt x="78" y="310"/>
                  </a:lnTo>
                  <a:lnTo>
                    <a:pt x="49" y="317"/>
                  </a:lnTo>
                  <a:lnTo>
                    <a:pt x="21" y="323"/>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rot="21366600">
              <a:off x="5243400" y="3735000"/>
              <a:ext cx="551160" cy="217440"/>
            </a:xfrm>
            <a:custGeom>
              <a:avLst/>
              <a:gdLst/>
              <a:ahLst/>
              <a:rect l="l" t="t" r="r" b="b"/>
              <a:pathLst>
                <a:path w="818" h="321">
                  <a:moveTo>
                    <a:pt x="0" y="294"/>
                  </a:moveTo>
                  <a:lnTo>
                    <a:pt x="0" y="292"/>
                  </a:lnTo>
                  <a:lnTo>
                    <a:pt x="6" y="292"/>
                  </a:lnTo>
                  <a:lnTo>
                    <a:pt x="8" y="291"/>
                  </a:lnTo>
                  <a:lnTo>
                    <a:pt x="12" y="291"/>
                  </a:lnTo>
                  <a:lnTo>
                    <a:pt x="17" y="289"/>
                  </a:lnTo>
                  <a:lnTo>
                    <a:pt x="24" y="289"/>
                  </a:lnTo>
                  <a:lnTo>
                    <a:pt x="28" y="287"/>
                  </a:lnTo>
                  <a:lnTo>
                    <a:pt x="36" y="286"/>
                  </a:lnTo>
                  <a:lnTo>
                    <a:pt x="43" y="284"/>
                  </a:lnTo>
                  <a:lnTo>
                    <a:pt x="52" y="283"/>
                  </a:lnTo>
                  <a:lnTo>
                    <a:pt x="60" y="280"/>
                  </a:lnTo>
                  <a:lnTo>
                    <a:pt x="69" y="278"/>
                  </a:lnTo>
                  <a:lnTo>
                    <a:pt x="79" y="276"/>
                  </a:lnTo>
                  <a:lnTo>
                    <a:pt x="90" y="275"/>
                  </a:lnTo>
                  <a:lnTo>
                    <a:pt x="99" y="272"/>
                  </a:lnTo>
                  <a:lnTo>
                    <a:pt x="112" y="270"/>
                  </a:lnTo>
                  <a:lnTo>
                    <a:pt x="123" y="267"/>
                  </a:lnTo>
                  <a:lnTo>
                    <a:pt x="136" y="264"/>
                  </a:lnTo>
                  <a:lnTo>
                    <a:pt x="149" y="261"/>
                  </a:lnTo>
                  <a:lnTo>
                    <a:pt x="161" y="257"/>
                  </a:lnTo>
                  <a:lnTo>
                    <a:pt x="175" y="254"/>
                  </a:lnTo>
                  <a:lnTo>
                    <a:pt x="190" y="251"/>
                  </a:lnTo>
                  <a:lnTo>
                    <a:pt x="202" y="248"/>
                  </a:lnTo>
                  <a:lnTo>
                    <a:pt x="217" y="243"/>
                  </a:lnTo>
                  <a:lnTo>
                    <a:pt x="232" y="240"/>
                  </a:lnTo>
                  <a:lnTo>
                    <a:pt x="247" y="235"/>
                  </a:lnTo>
                  <a:lnTo>
                    <a:pt x="262" y="232"/>
                  </a:lnTo>
                  <a:lnTo>
                    <a:pt x="278" y="227"/>
                  </a:lnTo>
                  <a:lnTo>
                    <a:pt x="294" y="224"/>
                  </a:lnTo>
                  <a:lnTo>
                    <a:pt x="311" y="219"/>
                  </a:lnTo>
                  <a:lnTo>
                    <a:pt x="326" y="215"/>
                  </a:lnTo>
                  <a:lnTo>
                    <a:pt x="343" y="210"/>
                  </a:lnTo>
                  <a:lnTo>
                    <a:pt x="359" y="204"/>
                  </a:lnTo>
                  <a:lnTo>
                    <a:pt x="376" y="199"/>
                  </a:lnTo>
                  <a:lnTo>
                    <a:pt x="392" y="194"/>
                  </a:lnTo>
                  <a:lnTo>
                    <a:pt x="410" y="189"/>
                  </a:lnTo>
                  <a:lnTo>
                    <a:pt x="427" y="183"/>
                  </a:lnTo>
                  <a:lnTo>
                    <a:pt x="443" y="178"/>
                  </a:lnTo>
                  <a:lnTo>
                    <a:pt x="460" y="172"/>
                  </a:lnTo>
                  <a:lnTo>
                    <a:pt x="478" y="166"/>
                  </a:lnTo>
                  <a:lnTo>
                    <a:pt x="493" y="159"/>
                  </a:lnTo>
                  <a:lnTo>
                    <a:pt x="511" y="155"/>
                  </a:lnTo>
                  <a:lnTo>
                    <a:pt x="528" y="147"/>
                  </a:lnTo>
                  <a:lnTo>
                    <a:pt x="546" y="140"/>
                  </a:lnTo>
                  <a:lnTo>
                    <a:pt x="561" y="134"/>
                  </a:lnTo>
                  <a:lnTo>
                    <a:pt x="579" y="128"/>
                  </a:lnTo>
                  <a:lnTo>
                    <a:pt x="595" y="120"/>
                  </a:lnTo>
                  <a:lnTo>
                    <a:pt x="612" y="113"/>
                  </a:lnTo>
                  <a:lnTo>
                    <a:pt x="628" y="107"/>
                  </a:lnTo>
                  <a:lnTo>
                    <a:pt x="644" y="99"/>
                  </a:lnTo>
                  <a:lnTo>
                    <a:pt x="659" y="91"/>
                  </a:lnTo>
                  <a:lnTo>
                    <a:pt x="675" y="83"/>
                  </a:lnTo>
                  <a:lnTo>
                    <a:pt x="691" y="76"/>
                  </a:lnTo>
                  <a:lnTo>
                    <a:pt x="705" y="69"/>
                  </a:lnTo>
                  <a:lnTo>
                    <a:pt x="721" y="60"/>
                  </a:lnTo>
                  <a:lnTo>
                    <a:pt x="735" y="52"/>
                  </a:lnTo>
                  <a:lnTo>
                    <a:pt x="750" y="42"/>
                  </a:lnTo>
                  <a:lnTo>
                    <a:pt x="764" y="34"/>
                  </a:lnTo>
                  <a:lnTo>
                    <a:pt x="777" y="27"/>
                  </a:lnTo>
                  <a:lnTo>
                    <a:pt x="791" y="17"/>
                  </a:lnTo>
                  <a:lnTo>
                    <a:pt x="803" y="9"/>
                  </a:lnTo>
                  <a:lnTo>
                    <a:pt x="816" y="0"/>
                  </a:lnTo>
                  <a:lnTo>
                    <a:pt x="818" y="42"/>
                  </a:lnTo>
                  <a:lnTo>
                    <a:pt x="818" y="42"/>
                  </a:lnTo>
                  <a:lnTo>
                    <a:pt x="816" y="44"/>
                  </a:lnTo>
                  <a:lnTo>
                    <a:pt x="813" y="45"/>
                  </a:lnTo>
                  <a:lnTo>
                    <a:pt x="810" y="49"/>
                  </a:lnTo>
                  <a:lnTo>
                    <a:pt x="803" y="52"/>
                  </a:lnTo>
                  <a:lnTo>
                    <a:pt x="797" y="57"/>
                  </a:lnTo>
                  <a:lnTo>
                    <a:pt x="792" y="60"/>
                  </a:lnTo>
                  <a:lnTo>
                    <a:pt x="789" y="61"/>
                  </a:lnTo>
                  <a:lnTo>
                    <a:pt x="784" y="64"/>
                  </a:lnTo>
                  <a:lnTo>
                    <a:pt x="781" y="69"/>
                  </a:lnTo>
                  <a:lnTo>
                    <a:pt x="775" y="71"/>
                  </a:lnTo>
                  <a:lnTo>
                    <a:pt x="769" y="74"/>
                  </a:lnTo>
                  <a:lnTo>
                    <a:pt x="762" y="77"/>
                  </a:lnTo>
                  <a:lnTo>
                    <a:pt x="758" y="82"/>
                  </a:lnTo>
                  <a:lnTo>
                    <a:pt x="750" y="85"/>
                  </a:lnTo>
                  <a:lnTo>
                    <a:pt x="743" y="90"/>
                  </a:lnTo>
                  <a:lnTo>
                    <a:pt x="737" y="93"/>
                  </a:lnTo>
                  <a:lnTo>
                    <a:pt x="729" y="98"/>
                  </a:lnTo>
                  <a:lnTo>
                    <a:pt x="721" y="102"/>
                  </a:lnTo>
                  <a:lnTo>
                    <a:pt x="712" y="107"/>
                  </a:lnTo>
                  <a:lnTo>
                    <a:pt x="704" y="112"/>
                  </a:lnTo>
                  <a:lnTo>
                    <a:pt x="694" y="117"/>
                  </a:lnTo>
                  <a:lnTo>
                    <a:pt x="683" y="120"/>
                  </a:lnTo>
                  <a:lnTo>
                    <a:pt x="674" y="126"/>
                  </a:lnTo>
                  <a:lnTo>
                    <a:pt x="663" y="131"/>
                  </a:lnTo>
                  <a:lnTo>
                    <a:pt x="653" y="137"/>
                  </a:lnTo>
                  <a:lnTo>
                    <a:pt x="640" y="142"/>
                  </a:lnTo>
                  <a:lnTo>
                    <a:pt x="628" y="147"/>
                  </a:lnTo>
                  <a:lnTo>
                    <a:pt x="615" y="151"/>
                  </a:lnTo>
                  <a:lnTo>
                    <a:pt x="602" y="158"/>
                  </a:lnTo>
                  <a:lnTo>
                    <a:pt x="588" y="163"/>
                  </a:lnTo>
                  <a:lnTo>
                    <a:pt x="576" y="167"/>
                  </a:lnTo>
                  <a:lnTo>
                    <a:pt x="560" y="174"/>
                  </a:lnTo>
                  <a:lnTo>
                    <a:pt x="546" y="180"/>
                  </a:lnTo>
                  <a:lnTo>
                    <a:pt x="530" y="185"/>
                  </a:lnTo>
                  <a:lnTo>
                    <a:pt x="514" y="191"/>
                  </a:lnTo>
                  <a:lnTo>
                    <a:pt x="497" y="197"/>
                  </a:lnTo>
                  <a:lnTo>
                    <a:pt x="481" y="202"/>
                  </a:lnTo>
                  <a:lnTo>
                    <a:pt x="462" y="208"/>
                  </a:lnTo>
                  <a:lnTo>
                    <a:pt x="444" y="215"/>
                  </a:lnTo>
                  <a:lnTo>
                    <a:pt x="425" y="219"/>
                  </a:lnTo>
                  <a:lnTo>
                    <a:pt x="406" y="227"/>
                  </a:lnTo>
                  <a:lnTo>
                    <a:pt x="387" y="232"/>
                  </a:lnTo>
                  <a:lnTo>
                    <a:pt x="367" y="238"/>
                  </a:lnTo>
                  <a:lnTo>
                    <a:pt x="345" y="243"/>
                  </a:lnTo>
                  <a:lnTo>
                    <a:pt x="324" y="250"/>
                  </a:lnTo>
                  <a:lnTo>
                    <a:pt x="302" y="256"/>
                  </a:lnTo>
                  <a:lnTo>
                    <a:pt x="280" y="262"/>
                  </a:lnTo>
                  <a:lnTo>
                    <a:pt x="256" y="268"/>
                  </a:lnTo>
                  <a:lnTo>
                    <a:pt x="232" y="275"/>
                  </a:lnTo>
                  <a:lnTo>
                    <a:pt x="207" y="280"/>
                  </a:lnTo>
                  <a:lnTo>
                    <a:pt x="183" y="286"/>
                  </a:lnTo>
                  <a:lnTo>
                    <a:pt x="156" y="291"/>
                  </a:lnTo>
                  <a:lnTo>
                    <a:pt x="131" y="297"/>
                  </a:lnTo>
                  <a:lnTo>
                    <a:pt x="104" y="303"/>
                  </a:lnTo>
                  <a:lnTo>
                    <a:pt x="77" y="310"/>
                  </a:lnTo>
                  <a:lnTo>
                    <a:pt x="49" y="316"/>
                  </a:lnTo>
                  <a:lnTo>
                    <a:pt x="20" y="321"/>
                  </a:lnTo>
                  <a:lnTo>
                    <a:pt x="0" y="294"/>
                  </a:lnTo>
                  <a:lnTo>
                    <a:pt x="0" y="294"/>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rot="21366600">
              <a:off x="5466600" y="3399120"/>
              <a:ext cx="532080" cy="380880"/>
            </a:xfrm>
            <a:custGeom>
              <a:avLst/>
              <a:gdLst/>
              <a:ahLst/>
              <a:rect l="l" t="t" r="r" b="b"/>
              <a:pathLst>
                <a:path w="790" h="565">
                  <a:moveTo>
                    <a:pt x="258" y="0"/>
                  </a:moveTo>
                  <a:lnTo>
                    <a:pt x="339" y="16"/>
                  </a:lnTo>
                  <a:lnTo>
                    <a:pt x="359" y="76"/>
                  </a:lnTo>
                  <a:lnTo>
                    <a:pt x="437" y="97"/>
                  </a:lnTo>
                  <a:lnTo>
                    <a:pt x="470" y="195"/>
                  </a:lnTo>
                  <a:lnTo>
                    <a:pt x="518" y="204"/>
                  </a:lnTo>
                  <a:lnTo>
                    <a:pt x="552" y="335"/>
                  </a:lnTo>
                  <a:lnTo>
                    <a:pt x="723" y="305"/>
                  </a:lnTo>
                  <a:lnTo>
                    <a:pt x="790" y="402"/>
                  </a:lnTo>
                  <a:lnTo>
                    <a:pt x="601" y="528"/>
                  </a:lnTo>
                  <a:lnTo>
                    <a:pt x="478" y="565"/>
                  </a:lnTo>
                  <a:lnTo>
                    <a:pt x="456" y="468"/>
                  </a:lnTo>
                  <a:lnTo>
                    <a:pt x="344" y="479"/>
                  </a:lnTo>
                  <a:lnTo>
                    <a:pt x="315" y="446"/>
                  </a:lnTo>
                  <a:lnTo>
                    <a:pt x="337" y="396"/>
                  </a:lnTo>
                  <a:lnTo>
                    <a:pt x="187" y="351"/>
                  </a:lnTo>
                  <a:lnTo>
                    <a:pt x="215" y="305"/>
                  </a:lnTo>
                  <a:lnTo>
                    <a:pt x="87" y="252"/>
                  </a:lnTo>
                  <a:lnTo>
                    <a:pt x="97" y="209"/>
                  </a:lnTo>
                  <a:lnTo>
                    <a:pt x="16" y="198"/>
                  </a:lnTo>
                  <a:lnTo>
                    <a:pt x="0" y="169"/>
                  </a:lnTo>
                  <a:lnTo>
                    <a:pt x="152" y="90"/>
                  </a:lnTo>
                  <a:lnTo>
                    <a:pt x="258" y="0"/>
                  </a:lnTo>
                  <a:lnTo>
                    <a:pt x="258" y="0"/>
                  </a:lnTo>
                  <a:close/>
                </a:path>
              </a:pathLst>
            </a:custGeom>
            <a:solidFill>
              <a:srgbClr val="370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rot="21366600">
              <a:off x="4959360" y="3584880"/>
              <a:ext cx="567000" cy="163440"/>
            </a:xfrm>
            <a:custGeom>
              <a:avLst/>
              <a:gdLst/>
              <a:ahLst/>
              <a:rect l="l" t="t" r="r" b="b"/>
              <a:pathLst>
                <a:path w="842" h="243">
                  <a:moveTo>
                    <a:pt x="0" y="213"/>
                  </a:moveTo>
                  <a:lnTo>
                    <a:pt x="0" y="212"/>
                  </a:lnTo>
                  <a:lnTo>
                    <a:pt x="6" y="212"/>
                  </a:lnTo>
                  <a:lnTo>
                    <a:pt x="8" y="212"/>
                  </a:lnTo>
                  <a:lnTo>
                    <a:pt x="13" y="210"/>
                  </a:lnTo>
                  <a:lnTo>
                    <a:pt x="17" y="210"/>
                  </a:lnTo>
                  <a:lnTo>
                    <a:pt x="24" y="210"/>
                  </a:lnTo>
                  <a:lnTo>
                    <a:pt x="30" y="209"/>
                  </a:lnTo>
                  <a:lnTo>
                    <a:pt x="36" y="209"/>
                  </a:lnTo>
                  <a:lnTo>
                    <a:pt x="44" y="207"/>
                  </a:lnTo>
                  <a:lnTo>
                    <a:pt x="54" y="207"/>
                  </a:lnTo>
                  <a:lnTo>
                    <a:pt x="62" y="205"/>
                  </a:lnTo>
                  <a:lnTo>
                    <a:pt x="71" y="204"/>
                  </a:lnTo>
                  <a:lnTo>
                    <a:pt x="81" y="204"/>
                  </a:lnTo>
                  <a:lnTo>
                    <a:pt x="92" y="204"/>
                  </a:lnTo>
                  <a:lnTo>
                    <a:pt x="103" y="201"/>
                  </a:lnTo>
                  <a:lnTo>
                    <a:pt x="114" y="201"/>
                  </a:lnTo>
                  <a:lnTo>
                    <a:pt x="125" y="199"/>
                  </a:lnTo>
                  <a:lnTo>
                    <a:pt x="139" y="197"/>
                  </a:lnTo>
                  <a:lnTo>
                    <a:pt x="150" y="194"/>
                  </a:lnTo>
                  <a:lnTo>
                    <a:pt x="165" y="193"/>
                  </a:lnTo>
                  <a:lnTo>
                    <a:pt x="179" y="191"/>
                  </a:lnTo>
                  <a:lnTo>
                    <a:pt x="193" y="190"/>
                  </a:lnTo>
                  <a:lnTo>
                    <a:pt x="207" y="188"/>
                  </a:lnTo>
                  <a:lnTo>
                    <a:pt x="221" y="185"/>
                  </a:lnTo>
                  <a:lnTo>
                    <a:pt x="236" y="183"/>
                  </a:lnTo>
                  <a:lnTo>
                    <a:pt x="253" y="180"/>
                  </a:lnTo>
                  <a:lnTo>
                    <a:pt x="267" y="177"/>
                  </a:lnTo>
                  <a:lnTo>
                    <a:pt x="283" y="175"/>
                  </a:lnTo>
                  <a:lnTo>
                    <a:pt x="299" y="172"/>
                  </a:lnTo>
                  <a:lnTo>
                    <a:pt x="316" y="171"/>
                  </a:lnTo>
                  <a:lnTo>
                    <a:pt x="334" y="166"/>
                  </a:lnTo>
                  <a:lnTo>
                    <a:pt x="350" y="163"/>
                  </a:lnTo>
                  <a:lnTo>
                    <a:pt x="367" y="159"/>
                  </a:lnTo>
                  <a:lnTo>
                    <a:pt x="383" y="156"/>
                  </a:lnTo>
                  <a:lnTo>
                    <a:pt x="400" y="153"/>
                  </a:lnTo>
                  <a:lnTo>
                    <a:pt x="418" y="148"/>
                  </a:lnTo>
                  <a:lnTo>
                    <a:pt x="435" y="145"/>
                  </a:lnTo>
                  <a:lnTo>
                    <a:pt x="454" y="142"/>
                  </a:lnTo>
                  <a:lnTo>
                    <a:pt x="470" y="137"/>
                  </a:lnTo>
                  <a:lnTo>
                    <a:pt x="489" y="133"/>
                  </a:lnTo>
                  <a:lnTo>
                    <a:pt x="505" y="128"/>
                  </a:lnTo>
                  <a:lnTo>
                    <a:pt x="524" y="125"/>
                  </a:lnTo>
                  <a:lnTo>
                    <a:pt x="539" y="120"/>
                  </a:lnTo>
                  <a:lnTo>
                    <a:pt x="558" y="115"/>
                  </a:lnTo>
                  <a:lnTo>
                    <a:pt x="574" y="110"/>
                  </a:lnTo>
                  <a:lnTo>
                    <a:pt x="593" y="106"/>
                  </a:lnTo>
                  <a:lnTo>
                    <a:pt x="609" y="99"/>
                  </a:lnTo>
                  <a:lnTo>
                    <a:pt x="626" y="93"/>
                  </a:lnTo>
                  <a:lnTo>
                    <a:pt x="644" y="88"/>
                  </a:lnTo>
                  <a:lnTo>
                    <a:pt x="660" y="82"/>
                  </a:lnTo>
                  <a:lnTo>
                    <a:pt x="677" y="77"/>
                  </a:lnTo>
                  <a:lnTo>
                    <a:pt x="693" y="71"/>
                  </a:lnTo>
                  <a:lnTo>
                    <a:pt x="709" y="65"/>
                  </a:lnTo>
                  <a:lnTo>
                    <a:pt x="725" y="58"/>
                  </a:lnTo>
                  <a:lnTo>
                    <a:pt x="740" y="50"/>
                  </a:lnTo>
                  <a:lnTo>
                    <a:pt x="756" y="44"/>
                  </a:lnTo>
                  <a:lnTo>
                    <a:pt x="770" y="38"/>
                  </a:lnTo>
                  <a:lnTo>
                    <a:pt x="786" y="30"/>
                  </a:lnTo>
                  <a:lnTo>
                    <a:pt x="799" y="22"/>
                  </a:lnTo>
                  <a:lnTo>
                    <a:pt x="813" y="16"/>
                  </a:lnTo>
                  <a:lnTo>
                    <a:pt x="827" y="8"/>
                  </a:lnTo>
                  <a:lnTo>
                    <a:pt x="842" y="0"/>
                  </a:lnTo>
                  <a:lnTo>
                    <a:pt x="838" y="44"/>
                  </a:lnTo>
                  <a:lnTo>
                    <a:pt x="837" y="44"/>
                  </a:lnTo>
                  <a:lnTo>
                    <a:pt x="835" y="44"/>
                  </a:lnTo>
                  <a:lnTo>
                    <a:pt x="832" y="46"/>
                  </a:lnTo>
                  <a:lnTo>
                    <a:pt x="829" y="49"/>
                  </a:lnTo>
                  <a:lnTo>
                    <a:pt x="823" y="52"/>
                  </a:lnTo>
                  <a:lnTo>
                    <a:pt x="816" y="57"/>
                  </a:lnTo>
                  <a:lnTo>
                    <a:pt x="812" y="58"/>
                  </a:lnTo>
                  <a:lnTo>
                    <a:pt x="807" y="61"/>
                  </a:lnTo>
                  <a:lnTo>
                    <a:pt x="802" y="63"/>
                  </a:lnTo>
                  <a:lnTo>
                    <a:pt x="799" y="66"/>
                  </a:lnTo>
                  <a:lnTo>
                    <a:pt x="793" y="69"/>
                  </a:lnTo>
                  <a:lnTo>
                    <a:pt x="788" y="71"/>
                  </a:lnTo>
                  <a:lnTo>
                    <a:pt x="781" y="74"/>
                  </a:lnTo>
                  <a:lnTo>
                    <a:pt x="775" y="77"/>
                  </a:lnTo>
                  <a:lnTo>
                    <a:pt x="767" y="80"/>
                  </a:lnTo>
                  <a:lnTo>
                    <a:pt x="759" y="84"/>
                  </a:lnTo>
                  <a:lnTo>
                    <a:pt x="753" y="87"/>
                  </a:lnTo>
                  <a:lnTo>
                    <a:pt x="745" y="90"/>
                  </a:lnTo>
                  <a:lnTo>
                    <a:pt x="736" y="93"/>
                  </a:lnTo>
                  <a:lnTo>
                    <a:pt x="726" y="98"/>
                  </a:lnTo>
                  <a:lnTo>
                    <a:pt x="717" y="101"/>
                  </a:lnTo>
                  <a:lnTo>
                    <a:pt x="707" y="106"/>
                  </a:lnTo>
                  <a:lnTo>
                    <a:pt x="696" y="109"/>
                  </a:lnTo>
                  <a:lnTo>
                    <a:pt x="687" y="114"/>
                  </a:lnTo>
                  <a:lnTo>
                    <a:pt x="675" y="117"/>
                  </a:lnTo>
                  <a:lnTo>
                    <a:pt x="664" y="122"/>
                  </a:lnTo>
                  <a:lnTo>
                    <a:pt x="652" y="125"/>
                  </a:lnTo>
                  <a:lnTo>
                    <a:pt x="639" y="128"/>
                  </a:lnTo>
                  <a:lnTo>
                    <a:pt x="626" y="133"/>
                  </a:lnTo>
                  <a:lnTo>
                    <a:pt x="612" y="137"/>
                  </a:lnTo>
                  <a:lnTo>
                    <a:pt x="600" y="141"/>
                  </a:lnTo>
                  <a:lnTo>
                    <a:pt x="585" y="145"/>
                  </a:lnTo>
                  <a:lnTo>
                    <a:pt x="569" y="148"/>
                  </a:lnTo>
                  <a:lnTo>
                    <a:pt x="555" y="153"/>
                  </a:lnTo>
                  <a:lnTo>
                    <a:pt x="538" y="158"/>
                  </a:lnTo>
                  <a:lnTo>
                    <a:pt x="522" y="161"/>
                  </a:lnTo>
                  <a:lnTo>
                    <a:pt x="505" y="164"/>
                  </a:lnTo>
                  <a:lnTo>
                    <a:pt x="487" y="169"/>
                  </a:lnTo>
                  <a:lnTo>
                    <a:pt x="468" y="174"/>
                  </a:lnTo>
                  <a:lnTo>
                    <a:pt x="451" y="178"/>
                  </a:lnTo>
                  <a:lnTo>
                    <a:pt x="432" y="182"/>
                  </a:lnTo>
                  <a:lnTo>
                    <a:pt x="411" y="186"/>
                  </a:lnTo>
                  <a:lnTo>
                    <a:pt x="391" y="190"/>
                  </a:lnTo>
                  <a:lnTo>
                    <a:pt x="370" y="194"/>
                  </a:lnTo>
                  <a:lnTo>
                    <a:pt x="348" y="197"/>
                  </a:lnTo>
                  <a:lnTo>
                    <a:pt x="327" y="202"/>
                  </a:lnTo>
                  <a:lnTo>
                    <a:pt x="304" y="205"/>
                  </a:lnTo>
                  <a:lnTo>
                    <a:pt x="282" y="209"/>
                  </a:lnTo>
                  <a:lnTo>
                    <a:pt x="258" y="213"/>
                  </a:lnTo>
                  <a:lnTo>
                    <a:pt x="234" y="216"/>
                  </a:lnTo>
                  <a:lnTo>
                    <a:pt x="209" y="220"/>
                  </a:lnTo>
                  <a:lnTo>
                    <a:pt x="184" y="224"/>
                  </a:lnTo>
                  <a:lnTo>
                    <a:pt x="157" y="227"/>
                  </a:lnTo>
                  <a:lnTo>
                    <a:pt x="131" y="231"/>
                  </a:lnTo>
                  <a:lnTo>
                    <a:pt x="103" y="234"/>
                  </a:lnTo>
                  <a:lnTo>
                    <a:pt x="76" y="237"/>
                  </a:lnTo>
                  <a:lnTo>
                    <a:pt x="47" y="240"/>
                  </a:lnTo>
                  <a:lnTo>
                    <a:pt x="19" y="243"/>
                  </a:lnTo>
                  <a:lnTo>
                    <a:pt x="0" y="213"/>
                  </a:lnTo>
                  <a:lnTo>
                    <a:pt x="0" y="213"/>
                  </a:lnTo>
                  <a:close/>
                </a:path>
              </a:pathLst>
            </a:custGeom>
            <a:solidFill>
              <a:srgbClr val="f5ff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rot="21366600">
              <a:off x="5685120" y="3155400"/>
              <a:ext cx="482400" cy="360360"/>
            </a:xfrm>
            <a:custGeom>
              <a:avLst/>
              <a:gdLst/>
              <a:ahLst/>
              <a:rect l="l" t="t" r="r" b="b"/>
              <a:pathLst>
                <a:path w="716" h="533">
                  <a:moveTo>
                    <a:pt x="20" y="172"/>
                  </a:moveTo>
                  <a:lnTo>
                    <a:pt x="22" y="172"/>
                  </a:lnTo>
                  <a:lnTo>
                    <a:pt x="25" y="175"/>
                  </a:lnTo>
                  <a:lnTo>
                    <a:pt x="27" y="177"/>
                  </a:lnTo>
                  <a:lnTo>
                    <a:pt x="30" y="180"/>
                  </a:lnTo>
                  <a:lnTo>
                    <a:pt x="33" y="183"/>
                  </a:lnTo>
                  <a:lnTo>
                    <a:pt x="38" y="188"/>
                  </a:lnTo>
                  <a:lnTo>
                    <a:pt x="41" y="191"/>
                  </a:lnTo>
                  <a:lnTo>
                    <a:pt x="47" y="196"/>
                  </a:lnTo>
                  <a:lnTo>
                    <a:pt x="52" y="200"/>
                  </a:lnTo>
                  <a:lnTo>
                    <a:pt x="58" y="205"/>
                  </a:lnTo>
                  <a:lnTo>
                    <a:pt x="66" y="210"/>
                  </a:lnTo>
                  <a:lnTo>
                    <a:pt x="73" y="216"/>
                  </a:lnTo>
                  <a:lnTo>
                    <a:pt x="76" y="218"/>
                  </a:lnTo>
                  <a:lnTo>
                    <a:pt x="81" y="223"/>
                  </a:lnTo>
                  <a:lnTo>
                    <a:pt x="85" y="226"/>
                  </a:lnTo>
                  <a:lnTo>
                    <a:pt x="90" y="229"/>
                  </a:lnTo>
                  <a:lnTo>
                    <a:pt x="93" y="232"/>
                  </a:lnTo>
                  <a:lnTo>
                    <a:pt x="98" y="235"/>
                  </a:lnTo>
                  <a:lnTo>
                    <a:pt x="103" y="238"/>
                  </a:lnTo>
                  <a:lnTo>
                    <a:pt x="107" y="242"/>
                  </a:lnTo>
                  <a:lnTo>
                    <a:pt x="112" y="245"/>
                  </a:lnTo>
                  <a:lnTo>
                    <a:pt x="117" y="249"/>
                  </a:lnTo>
                  <a:lnTo>
                    <a:pt x="122" y="253"/>
                  </a:lnTo>
                  <a:lnTo>
                    <a:pt x="128" y="256"/>
                  </a:lnTo>
                  <a:lnTo>
                    <a:pt x="133" y="259"/>
                  </a:lnTo>
                  <a:lnTo>
                    <a:pt x="139" y="264"/>
                  </a:lnTo>
                  <a:lnTo>
                    <a:pt x="144" y="267"/>
                  </a:lnTo>
                  <a:lnTo>
                    <a:pt x="152" y="272"/>
                  </a:lnTo>
                  <a:lnTo>
                    <a:pt x="157" y="276"/>
                  </a:lnTo>
                  <a:lnTo>
                    <a:pt x="163" y="280"/>
                  </a:lnTo>
                  <a:lnTo>
                    <a:pt x="169" y="283"/>
                  </a:lnTo>
                  <a:lnTo>
                    <a:pt x="175" y="287"/>
                  </a:lnTo>
                  <a:lnTo>
                    <a:pt x="182" y="292"/>
                  </a:lnTo>
                  <a:lnTo>
                    <a:pt x="188" y="295"/>
                  </a:lnTo>
                  <a:lnTo>
                    <a:pt x="194" y="300"/>
                  </a:lnTo>
                  <a:lnTo>
                    <a:pt x="202" y="305"/>
                  </a:lnTo>
                  <a:lnTo>
                    <a:pt x="209" y="308"/>
                  </a:lnTo>
                  <a:lnTo>
                    <a:pt x="215" y="313"/>
                  </a:lnTo>
                  <a:lnTo>
                    <a:pt x="223" y="317"/>
                  </a:lnTo>
                  <a:lnTo>
                    <a:pt x="231" y="321"/>
                  </a:lnTo>
                  <a:lnTo>
                    <a:pt x="237" y="325"/>
                  </a:lnTo>
                  <a:lnTo>
                    <a:pt x="245" y="330"/>
                  </a:lnTo>
                  <a:lnTo>
                    <a:pt x="253" y="333"/>
                  </a:lnTo>
                  <a:lnTo>
                    <a:pt x="261" y="338"/>
                  </a:lnTo>
                  <a:lnTo>
                    <a:pt x="269" y="343"/>
                  </a:lnTo>
                  <a:lnTo>
                    <a:pt x="277" y="348"/>
                  </a:lnTo>
                  <a:lnTo>
                    <a:pt x="285" y="352"/>
                  </a:lnTo>
                  <a:lnTo>
                    <a:pt x="294" y="357"/>
                  </a:lnTo>
                  <a:lnTo>
                    <a:pt x="302" y="360"/>
                  </a:lnTo>
                  <a:lnTo>
                    <a:pt x="310" y="363"/>
                  </a:lnTo>
                  <a:lnTo>
                    <a:pt x="318" y="368"/>
                  </a:lnTo>
                  <a:lnTo>
                    <a:pt x="326" y="371"/>
                  </a:lnTo>
                  <a:lnTo>
                    <a:pt x="334" y="376"/>
                  </a:lnTo>
                  <a:lnTo>
                    <a:pt x="342" y="379"/>
                  </a:lnTo>
                  <a:lnTo>
                    <a:pt x="348" y="384"/>
                  </a:lnTo>
                  <a:lnTo>
                    <a:pt x="357" y="387"/>
                  </a:lnTo>
                  <a:lnTo>
                    <a:pt x="364" y="390"/>
                  </a:lnTo>
                  <a:lnTo>
                    <a:pt x="372" y="393"/>
                  </a:lnTo>
                  <a:lnTo>
                    <a:pt x="378" y="397"/>
                  </a:lnTo>
                  <a:lnTo>
                    <a:pt x="386" y="400"/>
                  </a:lnTo>
                  <a:lnTo>
                    <a:pt x="392" y="403"/>
                  </a:lnTo>
                  <a:lnTo>
                    <a:pt x="400" y="406"/>
                  </a:lnTo>
                  <a:lnTo>
                    <a:pt x="406" y="409"/>
                  </a:lnTo>
                  <a:lnTo>
                    <a:pt x="414" y="414"/>
                  </a:lnTo>
                  <a:lnTo>
                    <a:pt x="419" y="416"/>
                  </a:lnTo>
                  <a:lnTo>
                    <a:pt x="425" y="419"/>
                  </a:lnTo>
                  <a:lnTo>
                    <a:pt x="432" y="422"/>
                  </a:lnTo>
                  <a:lnTo>
                    <a:pt x="438" y="425"/>
                  </a:lnTo>
                  <a:lnTo>
                    <a:pt x="444" y="427"/>
                  </a:lnTo>
                  <a:lnTo>
                    <a:pt x="451" y="430"/>
                  </a:lnTo>
                  <a:lnTo>
                    <a:pt x="455" y="431"/>
                  </a:lnTo>
                  <a:lnTo>
                    <a:pt x="462" y="434"/>
                  </a:lnTo>
                  <a:lnTo>
                    <a:pt x="467" y="436"/>
                  </a:lnTo>
                  <a:lnTo>
                    <a:pt x="473" y="439"/>
                  </a:lnTo>
                  <a:lnTo>
                    <a:pt x="478" y="441"/>
                  </a:lnTo>
                  <a:lnTo>
                    <a:pt x="484" y="442"/>
                  </a:lnTo>
                  <a:lnTo>
                    <a:pt x="489" y="444"/>
                  </a:lnTo>
                  <a:lnTo>
                    <a:pt x="493" y="447"/>
                  </a:lnTo>
                  <a:lnTo>
                    <a:pt x="497" y="449"/>
                  </a:lnTo>
                  <a:lnTo>
                    <a:pt x="503" y="450"/>
                  </a:lnTo>
                  <a:lnTo>
                    <a:pt x="511" y="453"/>
                  </a:lnTo>
                  <a:lnTo>
                    <a:pt x="519" y="457"/>
                  </a:lnTo>
                  <a:lnTo>
                    <a:pt x="527" y="460"/>
                  </a:lnTo>
                  <a:lnTo>
                    <a:pt x="535" y="463"/>
                  </a:lnTo>
                  <a:lnTo>
                    <a:pt x="541" y="465"/>
                  </a:lnTo>
                  <a:lnTo>
                    <a:pt x="547" y="466"/>
                  </a:lnTo>
                  <a:lnTo>
                    <a:pt x="552" y="469"/>
                  </a:lnTo>
                  <a:lnTo>
                    <a:pt x="558" y="471"/>
                  </a:lnTo>
                  <a:lnTo>
                    <a:pt x="563" y="472"/>
                  </a:lnTo>
                  <a:lnTo>
                    <a:pt x="566" y="472"/>
                  </a:lnTo>
                  <a:lnTo>
                    <a:pt x="569" y="474"/>
                  </a:lnTo>
                  <a:lnTo>
                    <a:pt x="573" y="476"/>
                  </a:lnTo>
                  <a:lnTo>
                    <a:pt x="576" y="477"/>
                  </a:lnTo>
                  <a:lnTo>
                    <a:pt x="577" y="477"/>
                  </a:lnTo>
                  <a:lnTo>
                    <a:pt x="648" y="325"/>
                  </a:lnTo>
                  <a:lnTo>
                    <a:pt x="647" y="324"/>
                  </a:lnTo>
                  <a:lnTo>
                    <a:pt x="644" y="322"/>
                  </a:lnTo>
                  <a:lnTo>
                    <a:pt x="639" y="321"/>
                  </a:lnTo>
                  <a:lnTo>
                    <a:pt x="633" y="319"/>
                  </a:lnTo>
                  <a:lnTo>
                    <a:pt x="628" y="317"/>
                  </a:lnTo>
                  <a:lnTo>
                    <a:pt x="623" y="316"/>
                  </a:lnTo>
                  <a:lnTo>
                    <a:pt x="618" y="314"/>
                  </a:lnTo>
                  <a:lnTo>
                    <a:pt x="614" y="313"/>
                  </a:lnTo>
                  <a:lnTo>
                    <a:pt x="607" y="311"/>
                  </a:lnTo>
                  <a:lnTo>
                    <a:pt x="601" y="308"/>
                  </a:lnTo>
                  <a:lnTo>
                    <a:pt x="595" y="306"/>
                  </a:lnTo>
                  <a:lnTo>
                    <a:pt x="588" y="305"/>
                  </a:lnTo>
                  <a:lnTo>
                    <a:pt x="580" y="302"/>
                  </a:lnTo>
                  <a:lnTo>
                    <a:pt x="574" y="298"/>
                  </a:lnTo>
                  <a:lnTo>
                    <a:pt x="566" y="295"/>
                  </a:lnTo>
                  <a:lnTo>
                    <a:pt x="558" y="292"/>
                  </a:lnTo>
                  <a:lnTo>
                    <a:pt x="550" y="289"/>
                  </a:lnTo>
                  <a:lnTo>
                    <a:pt x="541" y="286"/>
                  </a:lnTo>
                  <a:lnTo>
                    <a:pt x="533" y="283"/>
                  </a:lnTo>
                  <a:lnTo>
                    <a:pt x="523" y="280"/>
                  </a:lnTo>
                  <a:lnTo>
                    <a:pt x="514" y="276"/>
                  </a:lnTo>
                  <a:lnTo>
                    <a:pt x="505" y="272"/>
                  </a:lnTo>
                  <a:lnTo>
                    <a:pt x="495" y="268"/>
                  </a:lnTo>
                  <a:lnTo>
                    <a:pt x="486" y="264"/>
                  </a:lnTo>
                  <a:lnTo>
                    <a:pt x="474" y="259"/>
                  </a:lnTo>
                  <a:lnTo>
                    <a:pt x="463" y="256"/>
                  </a:lnTo>
                  <a:lnTo>
                    <a:pt x="454" y="251"/>
                  </a:lnTo>
                  <a:lnTo>
                    <a:pt x="444" y="246"/>
                  </a:lnTo>
                  <a:lnTo>
                    <a:pt x="432" y="242"/>
                  </a:lnTo>
                  <a:lnTo>
                    <a:pt x="421" y="237"/>
                  </a:lnTo>
                  <a:lnTo>
                    <a:pt x="410" y="232"/>
                  </a:lnTo>
                  <a:lnTo>
                    <a:pt x="399" y="227"/>
                  </a:lnTo>
                  <a:lnTo>
                    <a:pt x="387" y="221"/>
                  </a:lnTo>
                  <a:lnTo>
                    <a:pt x="376" y="216"/>
                  </a:lnTo>
                  <a:lnTo>
                    <a:pt x="364" y="210"/>
                  </a:lnTo>
                  <a:lnTo>
                    <a:pt x="353" y="205"/>
                  </a:lnTo>
                  <a:lnTo>
                    <a:pt x="340" y="200"/>
                  </a:lnTo>
                  <a:lnTo>
                    <a:pt x="329" y="194"/>
                  </a:lnTo>
                  <a:lnTo>
                    <a:pt x="316" y="188"/>
                  </a:lnTo>
                  <a:lnTo>
                    <a:pt x="305" y="183"/>
                  </a:lnTo>
                  <a:lnTo>
                    <a:pt x="293" y="177"/>
                  </a:lnTo>
                  <a:lnTo>
                    <a:pt x="281" y="170"/>
                  </a:lnTo>
                  <a:lnTo>
                    <a:pt x="269" y="164"/>
                  </a:lnTo>
                  <a:lnTo>
                    <a:pt x="258" y="158"/>
                  </a:lnTo>
                  <a:lnTo>
                    <a:pt x="245" y="151"/>
                  </a:lnTo>
                  <a:lnTo>
                    <a:pt x="234" y="145"/>
                  </a:lnTo>
                  <a:lnTo>
                    <a:pt x="221" y="137"/>
                  </a:lnTo>
                  <a:lnTo>
                    <a:pt x="210" y="131"/>
                  </a:lnTo>
                  <a:lnTo>
                    <a:pt x="198" y="125"/>
                  </a:lnTo>
                  <a:lnTo>
                    <a:pt x="187" y="117"/>
                  </a:lnTo>
                  <a:lnTo>
                    <a:pt x="175" y="110"/>
                  </a:lnTo>
                  <a:lnTo>
                    <a:pt x="164" y="104"/>
                  </a:lnTo>
                  <a:lnTo>
                    <a:pt x="152" y="96"/>
                  </a:lnTo>
                  <a:lnTo>
                    <a:pt x="141" y="90"/>
                  </a:lnTo>
                  <a:lnTo>
                    <a:pt x="130" y="82"/>
                  </a:lnTo>
                  <a:lnTo>
                    <a:pt x="120" y="74"/>
                  </a:lnTo>
                  <a:lnTo>
                    <a:pt x="109" y="68"/>
                  </a:lnTo>
                  <a:lnTo>
                    <a:pt x="98" y="60"/>
                  </a:lnTo>
                  <a:lnTo>
                    <a:pt x="88" y="52"/>
                  </a:lnTo>
                  <a:lnTo>
                    <a:pt x="79" y="45"/>
                  </a:lnTo>
                  <a:lnTo>
                    <a:pt x="90" y="0"/>
                  </a:lnTo>
                  <a:lnTo>
                    <a:pt x="92" y="0"/>
                  </a:lnTo>
                  <a:lnTo>
                    <a:pt x="95" y="3"/>
                  </a:lnTo>
                  <a:lnTo>
                    <a:pt x="98" y="4"/>
                  </a:lnTo>
                  <a:lnTo>
                    <a:pt x="101" y="8"/>
                  </a:lnTo>
                  <a:lnTo>
                    <a:pt x="104" y="11"/>
                  </a:lnTo>
                  <a:lnTo>
                    <a:pt x="109" y="14"/>
                  </a:lnTo>
                  <a:lnTo>
                    <a:pt x="114" y="17"/>
                  </a:lnTo>
                  <a:lnTo>
                    <a:pt x="120" y="22"/>
                  </a:lnTo>
                  <a:lnTo>
                    <a:pt x="126" y="26"/>
                  </a:lnTo>
                  <a:lnTo>
                    <a:pt x="134" y="31"/>
                  </a:lnTo>
                  <a:lnTo>
                    <a:pt x="138" y="34"/>
                  </a:lnTo>
                  <a:lnTo>
                    <a:pt x="141" y="36"/>
                  </a:lnTo>
                  <a:lnTo>
                    <a:pt x="145" y="39"/>
                  </a:lnTo>
                  <a:lnTo>
                    <a:pt x="150" y="42"/>
                  </a:lnTo>
                  <a:lnTo>
                    <a:pt x="155" y="44"/>
                  </a:lnTo>
                  <a:lnTo>
                    <a:pt x="160" y="47"/>
                  </a:lnTo>
                  <a:lnTo>
                    <a:pt x="164" y="50"/>
                  </a:lnTo>
                  <a:lnTo>
                    <a:pt x="171" y="55"/>
                  </a:lnTo>
                  <a:lnTo>
                    <a:pt x="175" y="57"/>
                  </a:lnTo>
                  <a:lnTo>
                    <a:pt x="180" y="61"/>
                  </a:lnTo>
                  <a:lnTo>
                    <a:pt x="185" y="64"/>
                  </a:lnTo>
                  <a:lnTo>
                    <a:pt x="191" y="68"/>
                  </a:lnTo>
                  <a:lnTo>
                    <a:pt x="196" y="71"/>
                  </a:lnTo>
                  <a:lnTo>
                    <a:pt x="202" y="74"/>
                  </a:lnTo>
                  <a:lnTo>
                    <a:pt x="210" y="77"/>
                  </a:lnTo>
                  <a:lnTo>
                    <a:pt x="217" y="82"/>
                  </a:lnTo>
                  <a:lnTo>
                    <a:pt x="223" y="85"/>
                  </a:lnTo>
                  <a:lnTo>
                    <a:pt x="229" y="88"/>
                  </a:lnTo>
                  <a:lnTo>
                    <a:pt x="236" y="93"/>
                  </a:lnTo>
                  <a:lnTo>
                    <a:pt x="244" y="98"/>
                  </a:lnTo>
                  <a:lnTo>
                    <a:pt x="251" y="101"/>
                  </a:lnTo>
                  <a:lnTo>
                    <a:pt x="259" y="106"/>
                  </a:lnTo>
                  <a:lnTo>
                    <a:pt x="266" y="110"/>
                  </a:lnTo>
                  <a:lnTo>
                    <a:pt x="275" y="115"/>
                  </a:lnTo>
                  <a:lnTo>
                    <a:pt x="281" y="118"/>
                  </a:lnTo>
                  <a:lnTo>
                    <a:pt x="291" y="121"/>
                  </a:lnTo>
                  <a:lnTo>
                    <a:pt x="299" y="126"/>
                  </a:lnTo>
                  <a:lnTo>
                    <a:pt x="307" y="131"/>
                  </a:lnTo>
                  <a:lnTo>
                    <a:pt x="316" y="136"/>
                  </a:lnTo>
                  <a:lnTo>
                    <a:pt x="326" y="140"/>
                  </a:lnTo>
                  <a:lnTo>
                    <a:pt x="335" y="145"/>
                  </a:lnTo>
                  <a:lnTo>
                    <a:pt x="345" y="150"/>
                  </a:lnTo>
                  <a:lnTo>
                    <a:pt x="354" y="155"/>
                  </a:lnTo>
                  <a:lnTo>
                    <a:pt x="364" y="159"/>
                  </a:lnTo>
                  <a:lnTo>
                    <a:pt x="373" y="164"/>
                  </a:lnTo>
                  <a:lnTo>
                    <a:pt x="384" y="169"/>
                  </a:lnTo>
                  <a:lnTo>
                    <a:pt x="394" y="174"/>
                  </a:lnTo>
                  <a:lnTo>
                    <a:pt x="405" y="178"/>
                  </a:lnTo>
                  <a:lnTo>
                    <a:pt x="416" y="183"/>
                  </a:lnTo>
                  <a:lnTo>
                    <a:pt x="427" y="189"/>
                  </a:lnTo>
                  <a:lnTo>
                    <a:pt x="438" y="193"/>
                  </a:lnTo>
                  <a:lnTo>
                    <a:pt x="448" y="197"/>
                  </a:lnTo>
                  <a:lnTo>
                    <a:pt x="457" y="202"/>
                  </a:lnTo>
                  <a:lnTo>
                    <a:pt x="468" y="207"/>
                  </a:lnTo>
                  <a:lnTo>
                    <a:pt x="478" y="210"/>
                  </a:lnTo>
                  <a:lnTo>
                    <a:pt x="487" y="215"/>
                  </a:lnTo>
                  <a:lnTo>
                    <a:pt x="497" y="218"/>
                  </a:lnTo>
                  <a:lnTo>
                    <a:pt x="506" y="223"/>
                  </a:lnTo>
                  <a:lnTo>
                    <a:pt x="516" y="226"/>
                  </a:lnTo>
                  <a:lnTo>
                    <a:pt x="523" y="229"/>
                  </a:lnTo>
                  <a:lnTo>
                    <a:pt x="531" y="232"/>
                  </a:lnTo>
                  <a:lnTo>
                    <a:pt x="539" y="235"/>
                  </a:lnTo>
                  <a:lnTo>
                    <a:pt x="547" y="238"/>
                  </a:lnTo>
                  <a:lnTo>
                    <a:pt x="555" y="242"/>
                  </a:lnTo>
                  <a:lnTo>
                    <a:pt x="563" y="245"/>
                  </a:lnTo>
                  <a:lnTo>
                    <a:pt x="571" y="248"/>
                  </a:lnTo>
                  <a:lnTo>
                    <a:pt x="577" y="251"/>
                  </a:lnTo>
                  <a:lnTo>
                    <a:pt x="584" y="253"/>
                  </a:lnTo>
                  <a:lnTo>
                    <a:pt x="590" y="256"/>
                  </a:lnTo>
                  <a:lnTo>
                    <a:pt x="598" y="259"/>
                  </a:lnTo>
                  <a:lnTo>
                    <a:pt x="603" y="261"/>
                  </a:lnTo>
                  <a:lnTo>
                    <a:pt x="609" y="264"/>
                  </a:lnTo>
                  <a:lnTo>
                    <a:pt x="614" y="265"/>
                  </a:lnTo>
                  <a:lnTo>
                    <a:pt x="620" y="268"/>
                  </a:lnTo>
                  <a:lnTo>
                    <a:pt x="625" y="270"/>
                  </a:lnTo>
                  <a:lnTo>
                    <a:pt x="631" y="272"/>
                  </a:lnTo>
                  <a:lnTo>
                    <a:pt x="636" y="273"/>
                  </a:lnTo>
                  <a:lnTo>
                    <a:pt x="641" y="275"/>
                  </a:lnTo>
                  <a:lnTo>
                    <a:pt x="645" y="276"/>
                  </a:lnTo>
                  <a:lnTo>
                    <a:pt x="650" y="278"/>
                  </a:lnTo>
                  <a:lnTo>
                    <a:pt x="655" y="278"/>
                  </a:lnTo>
                  <a:lnTo>
                    <a:pt x="660" y="281"/>
                  </a:lnTo>
                  <a:lnTo>
                    <a:pt x="666" y="283"/>
                  </a:lnTo>
                  <a:lnTo>
                    <a:pt x="674" y="284"/>
                  </a:lnTo>
                  <a:lnTo>
                    <a:pt x="680" y="286"/>
                  </a:lnTo>
                  <a:lnTo>
                    <a:pt x="685" y="289"/>
                  </a:lnTo>
                  <a:lnTo>
                    <a:pt x="690" y="289"/>
                  </a:lnTo>
                  <a:lnTo>
                    <a:pt x="694" y="291"/>
                  </a:lnTo>
                  <a:lnTo>
                    <a:pt x="699" y="292"/>
                  </a:lnTo>
                  <a:lnTo>
                    <a:pt x="704" y="294"/>
                  </a:lnTo>
                  <a:lnTo>
                    <a:pt x="709" y="294"/>
                  </a:lnTo>
                  <a:lnTo>
                    <a:pt x="713" y="295"/>
                  </a:lnTo>
                  <a:lnTo>
                    <a:pt x="715" y="295"/>
                  </a:lnTo>
                  <a:lnTo>
                    <a:pt x="716" y="297"/>
                  </a:lnTo>
                  <a:lnTo>
                    <a:pt x="601" y="533"/>
                  </a:lnTo>
                  <a:lnTo>
                    <a:pt x="599" y="531"/>
                  </a:lnTo>
                  <a:lnTo>
                    <a:pt x="596" y="529"/>
                  </a:lnTo>
                  <a:lnTo>
                    <a:pt x="590" y="528"/>
                  </a:lnTo>
                  <a:lnTo>
                    <a:pt x="582" y="525"/>
                  </a:lnTo>
                  <a:lnTo>
                    <a:pt x="577" y="523"/>
                  </a:lnTo>
                  <a:lnTo>
                    <a:pt x="573" y="521"/>
                  </a:lnTo>
                  <a:lnTo>
                    <a:pt x="566" y="520"/>
                  </a:lnTo>
                  <a:lnTo>
                    <a:pt x="561" y="518"/>
                  </a:lnTo>
                  <a:lnTo>
                    <a:pt x="554" y="515"/>
                  </a:lnTo>
                  <a:lnTo>
                    <a:pt x="547" y="512"/>
                  </a:lnTo>
                  <a:lnTo>
                    <a:pt x="539" y="510"/>
                  </a:lnTo>
                  <a:lnTo>
                    <a:pt x="533" y="507"/>
                  </a:lnTo>
                  <a:lnTo>
                    <a:pt x="525" y="504"/>
                  </a:lnTo>
                  <a:lnTo>
                    <a:pt x="516" y="501"/>
                  </a:lnTo>
                  <a:lnTo>
                    <a:pt x="506" y="496"/>
                  </a:lnTo>
                  <a:lnTo>
                    <a:pt x="498" y="493"/>
                  </a:lnTo>
                  <a:lnTo>
                    <a:pt x="489" y="488"/>
                  </a:lnTo>
                  <a:lnTo>
                    <a:pt x="479" y="485"/>
                  </a:lnTo>
                  <a:lnTo>
                    <a:pt x="470" y="482"/>
                  </a:lnTo>
                  <a:lnTo>
                    <a:pt x="459" y="479"/>
                  </a:lnTo>
                  <a:lnTo>
                    <a:pt x="449" y="474"/>
                  </a:lnTo>
                  <a:lnTo>
                    <a:pt x="438" y="469"/>
                  </a:lnTo>
                  <a:lnTo>
                    <a:pt x="427" y="465"/>
                  </a:lnTo>
                  <a:lnTo>
                    <a:pt x="416" y="460"/>
                  </a:lnTo>
                  <a:lnTo>
                    <a:pt x="405" y="453"/>
                  </a:lnTo>
                  <a:lnTo>
                    <a:pt x="392" y="449"/>
                  </a:lnTo>
                  <a:lnTo>
                    <a:pt x="381" y="444"/>
                  </a:lnTo>
                  <a:lnTo>
                    <a:pt x="370" y="439"/>
                  </a:lnTo>
                  <a:lnTo>
                    <a:pt x="357" y="433"/>
                  </a:lnTo>
                  <a:lnTo>
                    <a:pt x="345" y="428"/>
                  </a:lnTo>
                  <a:lnTo>
                    <a:pt x="334" y="422"/>
                  </a:lnTo>
                  <a:lnTo>
                    <a:pt x="321" y="416"/>
                  </a:lnTo>
                  <a:lnTo>
                    <a:pt x="308" y="409"/>
                  </a:lnTo>
                  <a:lnTo>
                    <a:pt x="296" y="403"/>
                  </a:lnTo>
                  <a:lnTo>
                    <a:pt x="283" y="398"/>
                  </a:lnTo>
                  <a:lnTo>
                    <a:pt x="270" y="392"/>
                  </a:lnTo>
                  <a:lnTo>
                    <a:pt x="258" y="384"/>
                  </a:lnTo>
                  <a:lnTo>
                    <a:pt x="245" y="378"/>
                  </a:lnTo>
                  <a:lnTo>
                    <a:pt x="232" y="370"/>
                  </a:lnTo>
                  <a:lnTo>
                    <a:pt x="221" y="363"/>
                  </a:lnTo>
                  <a:lnTo>
                    <a:pt x="209" y="357"/>
                  </a:lnTo>
                  <a:lnTo>
                    <a:pt x="196" y="351"/>
                  </a:lnTo>
                  <a:lnTo>
                    <a:pt x="183" y="343"/>
                  </a:lnTo>
                  <a:lnTo>
                    <a:pt x="172" y="336"/>
                  </a:lnTo>
                  <a:lnTo>
                    <a:pt x="160" y="329"/>
                  </a:lnTo>
                  <a:lnTo>
                    <a:pt x="147" y="321"/>
                  </a:lnTo>
                  <a:lnTo>
                    <a:pt x="136" y="313"/>
                  </a:lnTo>
                  <a:lnTo>
                    <a:pt x="123" y="306"/>
                  </a:lnTo>
                  <a:lnTo>
                    <a:pt x="112" y="297"/>
                  </a:lnTo>
                  <a:lnTo>
                    <a:pt x="101" y="289"/>
                  </a:lnTo>
                  <a:lnTo>
                    <a:pt x="88" y="281"/>
                  </a:lnTo>
                  <a:lnTo>
                    <a:pt x="79" y="275"/>
                  </a:lnTo>
                  <a:lnTo>
                    <a:pt x="68" y="265"/>
                  </a:lnTo>
                  <a:lnTo>
                    <a:pt x="57" y="257"/>
                  </a:lnTo>
                  <a:lnTo>
                    <a:pt x="46" y="249"/>
                  </a:lnTo>
                  <a:lnTo>
                    <a:pt x="36" y="242"/>
                  </a:lnTo>
                  <a:lnTo>
                    <a:pt x="27" y="232"/>
                  </a:lnTo>
                  <a:lnTo>
                    <a:pt x="17" y="224"/>
                  </a:lnTo>
                  <a:lnTo>
                    <a:pt x="8" y="215"/>
                  </a:lnTo>
                  <a:lnTo>
                    <a:pt x="0" y="207"/>
                  </a:lnTo>
                  <a:lnTo>
                    <a:pt x="20" y="172"/>
                  </a:lnTo>
                  <a:lnTo>
                    <a:pt x="2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rot="21366600">
              <a:off x="5681520" y="3171960"/>
              <a:ext cx="77760" cy="147600"/>
            </a:xfrm>
            <a:custGeom>
              <a:avLst/>
              <a:gdLst/>
              <a:ahLst/>
              <a:rect l="l" t="t" r="r" b="b"/>
              <a:pathLst>
                <a:path w="116" h="218">
                  <a:moveTo>
                    <a:pt x="81" y="0"/>
                  </a:moveTo>
                  <a:lnTo>
                    <a:pt x="0" y="193"/>
                  </a:lnTo>
                  <a:lnTo>
                    <a:pt x="36" y="218"/>
                  </a:lnTo>
                  <a:lnTo>
                    <a:pt x="116" y="33"/>
                  </a:lnTo>
                  <a:lnTo>
                    <a:pt x="81"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rot="21366600">
              <a:off x="5742360" y="3247920"/>
              <a:ext cx="339480" cy="187560"/>
            </a:xfrm>
            <a:custGeom>
              <a:avLst/>
              <a:gdLst/>
              <a:ahLst/>
              <a:rect l="l" t="t" r="r" b="b"/>
              <a:pathLst>
                <a:path w="505" h="279">
                  <a:moveTo>
                    <a:pt x="15" y="0"/>
                  </a:moveTo>
                  <a:lnTo>
                    <a:pt x="18" y="2"/>
                  </a:lnTo>
                  <a:lnTo>
                    <a:pt x="19" y="3"/>
                  </a:lnTo>
                  <a:lnTo>
                    <a:pt x="24" y="5"/>
                  </a:lnTo>
                  <a:lnTo>
                    <a:pt x="29" y="8"/>
                  </a:lnTo>
                  <a:lnTo>
                    <a:pt x="37" y="13"/>
                  </a:lnTo>
                  <a:lnTo>
                    <a:pt x="40" y="16"/>
                  </a:lnTo>
                  <a:lnTo>
                    <a:pt x="45" y="18"/>
                  </a:lnTo>
                  <a:lnTo>
                    <a:pt x="49" y="21"/>
                  </a:lnTo>
                  <a:lnTo>
                    <a:pt x="53" y="24"/>
                  </a:lnTo>
                  <a:lnTo>
                    <a:pt x="57" y="27"/>
                  </a:lnTo>
                  <a:lnTo>
                    <a:pt x="62" y="30"/>
                  </a:lnTo>
                  <a:lnTo>
                    <a:pt x="68" y="34"/>
                  </a:lnTo>
                  <a:lnTo>
                    <a:pt x="73" y="37"/>
                  </a:lnTo>
                  <a:lnTo>
                    <a:pt x="79" y="40"/>
                  </a:lnTo>
                  <a:lnTo>
                    <a:pt x="86" y="45"/>
                  </a:lnTo>
                  <a:lnTo>
                    <a:pt x="92" y="48"/>
                  </a:lnTo>
                  <a:lnTo>
                    <a:pt x="98" y="52"/>
                  </a:lnTo>
                  <a:lnTo>
                    <a:pt x="105" y="56"/>
                  </a:lnTo>
                  <a:lnTo>
                    <a:pt x="113" y="60"/>
                  </a:lnTo>
                  <a:lnTo>
                    <a:pt x="119" y="64"/>
                  </a:lnTo>
                  <a:lnTo>
                    <a:pt x="127" y="68"/>
                  </a:lnTo>
                  <a:lnTo>
                    <a:pt x="133" y="73"/>
                  </a:lnTo>
                  <a:lnTo>
                    <a:pt x="143" y="78"/>
                  </a:lnTo>
                  <a:lnTo>
                    <a:pt x="151" y="83"/>
                  </a:lnTo>
                  <a:lnTo>
                    <a:pt x="160" y="87"/>
                  </a:lnTo>
                  <a:lnTo>
                    <a:pt x="168" y="90"/>
                  </a:lnTo>
                  <a:lnTo>
                    <a:pt x="176" y="95"/>
                  </a:lnTo>
                  <a:lnTo>
                    <a:pt x="184" y="100"/>
                  </a:lnTo>
                  <a:lnTo>
                    <a:pt x="193" y="105"/>
                  </a:lnTo>
                  <a:lnTo>
                    <a:pt x="203" y="109"/>
                  </a:lnTo>
                  <a:lnTo>
                    <a:pt x="211" y="114"/>
                  </a:lnTo>
                  <a:lnTo>
                    <a:pt x="222" y="119"/>
                  </a:lnTo>
                  <a:lnTo>
                    <a:pt x="231" y="125"/>
                  </a:lnTo>
                  <a:lnTo>
                    <a:pt x="241" y="128"/>
                  </a:lnTo>
                  <a:lnTo>
                    <a:pt x="250" y="133"/>
                  </a:lnTo>
                  <a:lnTo>
                    <a:pt x="260" y="139"/>
                  </a:lnTo>
                  <a:lnTo>
                    <a:pt x="271" y="144"/>
                  </a:lnTo>
                  <a:lnTo>
                    <a:pt x="282" y="149"/>
                  </a:lnTo>
                  <a:lnTo>
                    <a:pt x="291" y="154"/>
                  </a:lnTo>
                  <a:lnTo>
                    <a:pt x="303" y="160"/>
                  </a:lnTo>
                  <a:lnTo>
                    <a:pt x="315" y="165"/>
                  </a:lnTo>
                  <a:lnTo>
                    <a:pt x="325" y="170"/>
                  </a:lnTo>
                  <a:lnTo>
                    <a:pt x="336" y="174"/>
                  </a:lnTo>
                  <a:lnTo>
                    <a:pt x="347" y="179"/>
                  </a:lnTo>
                  <a:lnTo>
                    <a:pt x="359" y="184"/>
                  </a:lnTo>
                  <a:lnTo>
                    <a:pt x="371" y="188"/>
                  </a:lnTo>
                  <a:lnTo>
                    <a:pt x="382" y="193"/>
                  </a:lnTo>
                  <a:lnTo>
                    <a:pt x="394" y="198"/>
                  </a:lnTo>
                  <a:lnTo>
                    <a:pt x="405" y="203"/>
                  </a:lnTo>
                  <a:lnTo>
                    <a:pt x="418" y="207"/>
                  </a:lnTo>
                  <a:lnTo>
                    <a:pt x="429" y="211"/>
                  </a:lnTo>
                  <a:lnTo>
                    <a:pt x="442" y="215"/>
                  </a:lnTo>
                  <a:lnTo>
                    <a:pt x="454" y="220"/>
                  </a:lnTo>
                  <a:lnTo>
                    <a:pt x="465" y="225"/>
                  </a:lnTo>
                  <a:lnTo>
                    <a:pt x="478" y="230"/>
                  </a:lnTo>
                  <a:lnTo>
                    <a:pt x="491" y="233"/>
                  </a:lnTo>
                  <a:lnTo>
                    <a:pt x="505" y="238"/>
                  </a:lnTo>
                  <a:lnTo>
                    <a:pt x="483" y="279"/>
                  </a:lnTo>
                  <a:lnTo>
                    <a:pt x="481" y="279"/>
                  </a:lnTo>
                  <a:lnTo>
                    <a:pt x="478" y="277"/>
                  </a:lnTo>
                  <a:lnTo>
                    <a:pt x="475" y="275"/>
                  </a:lnTo>
                  <a:lnTo>
                    <a:pt x="470" y="274"/>
                  </a:lnTo>
                  <a:lnTo>
                    <a:pt x="464" y="272"/>
                  </a:lnTo>
                  <a:lnTo>
                    <a:pt x="456" y="269"/>
                  </a:lnTo>
                  <a:lnTo>
                    <a:pt x="451" y="268"/>
                  </a:lnTo>
                  <a:lnTo>
                    <a:pt x="446" y="266"/>
                  </a:lnTo>
                  <a:lnTo>
                    <a:pt x="442" y="264"/>
                  </a:lnTo>
                  <a:lnTo>
                    <a:pt x="437" y="263"/>
                  </a:lnTo>
                  <a:lnTo>
                    <a:pt x="432" y="261"/>
                  </a:lnTo>
                  <a:lnTo>
                    <a:pt x="426" y="258"/>
                  </a:lnTo>
                  <a:lnTo>
                    <a:pt x="420" y="256"/>
                  </a:lnTo>
                  <a:lnTo>
                    <a:pt x="415" y="253"/>
                  </a:lnTo>
                  <a:lnTo>
                    <a:pt x="407" y="252"/>
                  </a:lnTo>
                  <a:lnTo>
                    <a:pt x="401" y="249"/>
                  </a:lnTo>
                  <a:lnTo>
                    <a:pt x="394" y="247"/>
                  </a:lnTo>
                  <a:lnTo>
                    <a:pt x="388" y="244"/>
                  </a:lnTo>
                  <a:lnTo>
                    <a:pt x="380" y="241"/>
                  </a:lnTo>
                  <a:lnTo>
                    <a:pt x="372" y="238"/>
                  </a:lnTo>
                  <a:lnTo>
                    <a:pt x="364" y="234"/>
                  </a:lnTo>
                  <a:lnTo>
                    <a:pt x="356" y="233"/>
                  </a:lnTo>
                  <a:lnTo>
                    <a:pt x="348" y="228"/>
                  </a:lnTo>
                  <a:lnTo>
                    <a:pt x="340" y="225"/>
                  </a:lnTo>
                  <a:lnTo>
                    <a:pt x="331" y="222"/>
                  </a:lnTo>
                  <a:lnTo>
                    <a:pt x="323" y="219"/>
                  </a:lnTo>
                  <a:lnTo>
                    <a:pt x="315" y="214"/>
                  </a:lnTo>
                  <a:lnTo>
                    <a:pt x="306" y="209"/>
                  </a:lnTo>
                  <a:lnTo>
                    <a:pt x="296" y="206"/>
                  </a:lnTo>
                  <a:lnTo>
                    <a:pt x="287" y="203"/>
                  </a:lnTo>
                  <a:lnTo>
                    <a:pt x="277" y="198"/>
                  </a:lnTo>
                  <a:lnTo>
                    <a:pt x="268" y="193"/>
                  </a:lnTo>
                  <a:lnTo>
                    <a:pt x="258" y="188"/>
                  </a:lnTo>
                  <a:lnTo>
                    <a:pt x="249" y="184"/>
                  </a:lnTo>
                  <a:lnTo>
                    <a:pt x="238" y="179"/>
                  </a:lnTo>
                  <a:lnTo>
                    <a:pt x="228" y="174"/>
                  </a:lnTo>
                  <a:lnTo>
                    <a:pt x="217" y="168"/>
                  </a:lnTo>
                  <a:lnTo>
                    <a:pt x="208" y="165"/>
                  </a:lnTo>
                  <a:lnTo>
                    <a:pt x="198" y="158"/>
                  </a:lnTo>
                  <a:lnTo>
                    <a:pt x="187" y="154"/>
                  </a:lnTo>
                  <a:lnTo>
                    <a:pt x="178" y="147"/>
                  </a:lnTo>
                  <a:lnTo>
                    <a:pt x="168" y="143"/>
                  </a:lnTo>
                  <a:lnTo>
                    <a:pt x="157" y="136"/>
                  </a:lnTo>
                  <a:lnTo>
                    <a:pt x="146" y="130"/>
                  </a:lnTo>
                  <a:lnTo>
                    <a:pt x="135" y="125"/>
                  </a:lnTo>
                  <a:lnTo>
                    <a:pt x="125" y="119"/>
                  </a:lnTo>
                  <a:lnTo>
                    <a:pt x="114" y="113"/>
                  </a:lnTo>
                  <a:lnTo>
                    <a:pt x="105" y="106"/>
                  </a:lnTo>
                  <a:lnTo>
                    <a:pt x="94" y="100"/>
                  </a:lnTo>
                  <a:lnTo>
                    <a:pt x="84" y="94"/>
                  </a:lnTo>
                  <a:lnTo>
                    <a:pt x="72" y="86"/>
                  </a:lnTo>
                  <a:lnTo>
                    <a:pt x="62" y="79"/>
                  </a:lnTo>
                  <a:lnTo>
                    <a:pt x="51" y="73"/>
                  </a:lnTo>
                  <a:lnTo>
                    <a:pt x="42" y="67"/>
                  </a:lnTo>
                  <a:lnTo>
                    <a:pt x="30" y="59"/>
                  </a:lnTo>
                  <a:lnTo>
                    <a:pt x="19" y="51"/>
                  </a:lnTo>
                  <a:lnTo>
                    <a:pt x="10" y="45"/>
                  </a:lnTo>
                  <a:lnTo>
                    <a:pt x="0" y="38"/>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rot="21366600">
              <a:off x="5439960" y="3288240"/>
              <a:ext cx="671400" cy="515880"/>
            </a:xfrm>
            <a:custGeom>
              <a:avLst/>
              <a:gdLst/>
              <a:ahLst/>
              <a:rect l="l" t="t" r="r" b="b"/>
              <a:pathLst>
                <a:path w="997" h="765">
                  <a:moveTo>
                    <a:pt x="399" y="0"/>
                  </a:moveTo>
                  <a:lnTo>
                    <a:pt x="397" y="1"/>
                  </a:lnTo>
                  <a:lnTo>
                    <a:pt x="394" y="8"/>
                  </a:lnTo>
                  <a:lnTo>
                    <a:pt x="391" y="13"/>
                  </a:lnTo>
                  <a:lnTo>
                    <a:pt x="387" y="17"/>
                  </a:lnTo>
                  <a:lnTo>
                    <a:pt x="384" y="24"/>
                  </a:lnTo>
                  <a:lnTo>
                    <a:pt x="380" y="32"/>
                  </a:lnTo>
                  <a:lnTo>
                    <a:pt x="378" y="35"/>
                  </a:lnTo>
                  <a:lnTo>
                    <a:pt x="375" y="39"/>
                  </a:lnTo>
                  <a:lnTo>
                    <a:pt x="372" y="44"/>
                  </a:lnTo>
                  <a:lnTo>
                    <a:pt x="370" y="49"/>
                  </a:lnTo>
                  <a:lnTo>
                    <a:pt x="367" y="52"/>
                  </a:lnTo>
                  <a:lnTo>
                    <a:pt x="364" y="57"/>
                  </a:lnTo>
                  <a:lnTo>
                    <a:pt x="361" y="62"/>
                  </a:lnTo>
                  <a:lnTo>
                    <a:pt x="357" y="66"/>
                  </a:lnTo>
                  <a:lnTo>
                    <a:pt x="353" y="71"/>
                  </a:lnTo>
                  <a:lnTo>
                    <a:pt x="350" y="76"/>
                  </a:lnTo>
                  <a:lnTo>
                    <a:pt x="345" y="82"/>
                  </a:lnTo>
                  <a:lnTo>
                    <a:pt x="343" y="87"/>
                  </a:lnTo>
                  <a:lnTo>
                    <a:pt x="338" y="93"/>
                  </a:lnTo>
                  <a:lnTo>
                    <a:pt x="334" y="98"/>
                  </a:lnTo>
                  <a:lnTo>
                    <a:pt x="329" y="104"/>
                  </a:lnTo>
                  <a:lnTo>
                    <a:pt x="326" y="111"/>
                  </a:lnTo>
                  <a:lnTo>
                    <a:pt x="319" y="115"/>
                  </a:lnTo>
                  <a:lnTo>
                    <a:pt x="315" y="122"/>
                  </a:lnTo>
                  <a:lnTo>
                    <a:pt x="308" y="126"/>
                  </a:lnTo>
                  <a:lnTo>
                    <a:pt x="305" y="133"/>
                  </a:lnTo>
                  <a:lnTo>
                    <a:pt x="299" y="139"/>
                  </a:lnTo>
                  <a:lnTo>
                    <a:pt x="293" y="144"/>
                  </a:lnTo>
                  <a:lnTo>
                    <a:pt x="286" y="150"/>
                  </a:lnTo>
                  <a:lnTo>
                    <a:pt x="281" y="156"/>
                  </a:lnTo>
                  <a:lnTo>
                    <a:pt x="274" y="163"/>
                  </a:lnTo>
                  <a:lnTo>
                    <a:pt x="267" y="169"/>
                  </a:lnTo>
                  <a:lnTo>
                    <a:pt x="263" y="174"/>
                  </a:lnTo>
                  <a:lnTo>
                    <a:pt x="256" y="180"/>
                  </a:lnTo>
                  <a:lnTo>
                    <a:pt x="248" y="185"/>
                  </a:lnTo>
                  <a:lnTo>
                    <a:pt x="242" y="191"/>
                  </a:lnTo>
                  <a:lnTo>
                    <a:pt x="234" y="198"/>
                  </a:lnTo>
                  <a:lnTo>
                    <a:pt x="228" y="204"/>
                  </a:lnTo>
                  <a:lnTo>
                    <a:pt x="220" y="209"/>
                  </a:lnTo>
                  <a:lnTo>
                    <a:pt x="212" y="215"/>
                  </a:lnTo>
                  <a:lnTo>
                    <a:pt x="204" y="220"/>
                  </a:lnTo>
                  <a:lnTo>
                    <a:pt x="196" y="226"/>
                  </a:lnTo>
                  <a:lnTo>
                    <a:pt x="188" y="231"/>
                  </a:lnTo>
                  <a:lnTo>
                    <a:pt x="179" y="237"/>
                  </a:lnTo>
                  <a:lnTo>
                    <a:pt x="171" y="242"/>
                  </a:lnTo>
                  <a:lnTo>
                    <a:pt x="163" y="248"/>
                  </a:lnTo>
                  <a:lnTo>
                    <a:pt x="153" y="253"/>
                  </a:lnTo>
                  <a:lnTo>
                    <a:pt x="144" y="258"/>
                  </a:lnTo>
                  <a:lnTo>
                    <a:pt x="134" y="262"/>
                  </a:lnTo>
                  <a:lnTo>
                    <a:pt x="125" y="266"/>
                  </a:lnTo>
                  <a:lnTo>
                    <a:pt x="115" y="270"/>
                  </a:lnTo>
                  <a:lnTo>
                    <a:pt x="106" y="275"/>
                  </a:lnTo>
                  <a:lnTo>
                    <a:pt x="96" y="280"/>
                  </a:lnTo>
                  <a:lnTo>
                    <a:pt x="87" y="285"/>
                  </a:lnTo>
                  <a:lnTo>
                    <a:pt x="82" y="285"/>
                  </a:lnTo>
                  <a:lnTo>
                    <a:pt x="77" y="286"/>
                  </a:lnTo>
                  <a:lnTo>
                    <a:pt x="73" y="288"/>
                  </a:lnTo>
                  <a:lnTo>
                    <a:pt x="68" y="291"/>
                  </a:lnTo>
                  <a:lnTo>
                    <a:pt x="63" y="292"/>
                  </a:lnTo>
                  <a:lnTo>
                    <a:pt x="57" y="294"/>
                  </a:lnTo>
                  <a:lnTo>
                    <a:pt x="52" y="296"/>
                  </a:lnTo>
                  <a:lnTo>
                    <a:pt x="46" y="299"/>
                  </a:lnTo>
                  <a:lnTo>
                    <a:pt x="39" y="300"/>
                  </a:lnTo>
                  <a:lnTo>
                    <a:pt x="35" y="302"/>
                  </a:lnTo>
                  <a:lnTo>
                    <a:pt x="28" y="302"/>
                  </a:lnTo>
                  <a:lnTo>
                    <a:pt x="22" y="305"/>
                  </a:lnTo>
                  <a:lnTo>
                    <a:pt x="16" y="305"/>
                  </a:lnTo>
                  <a:lnTo>
                    <a:pt x="11" y="307"/>
                  </a:lnTo>
                  <a:lnTo>
                    <a:pt x="5" y="308"/>
                  </a:lnTo>
                  <a:lnTo>
                    <a:pt x="0" y="310"/>
                  </a:lnTo>
                  <a:lnTo>
                    <a:pt x="17" y="386"/>
                  </a:lnTo>
                  <a:lnTo>
                    <a:pt x="98" y="391"/>
                  </a:lnTo>
                  <a:lnTo>
                    <a:pt x="77" y="444"/>
                  </a:lnTo>
                  <a:lnTo>
                    <a:pt x="79" y="444"/>
                  </a:lnTo>
                  <a:lnTo>
                    <a:pt x="82" y="444"/>
                  </a:lnTo>
                  <a:lnTo>
                    <a:pt x="87" y="444"/>
                  </a:lnTo>
                  <a:lnTo>
                    <a:pt x="92" y="444"/>
                  </a:lnTo>
                  <a:lnTo>
                    <a:pt x="100" y="446"/>
                  </a:lnTo>
                  <a:lnTo>
                    <a:pt x="103" y="446"/>
                  </a:lnTo>
                  <a:lnTo>
                    <a:pt x="107" y="446"/>
                  </a:lnTo>
                  <a:lnTo>
                    <a:pt x="112" y="447"/>
                  </a:lnTo>
                  <a:lnTo>
                    <a:pt x="115" y="449"/>
                  </a:lnTo>
                  <a:lnTo>
                    <a:pt x="120" y="449"/>
                  </a:lnTo>
                  <a:lnTo>
                    <a:pt x="125" y="449"/>
                  </a:lnTo>
                  <a:lnTo>
                    <a:pt x="130" y="451"/>
                  </a:lnTo>
                  <a:lnTo>
                    <a:pt x="136" y="452"/>
                  </a:lnTo>
                  <a:lnTo>
                    <a:pt x="142" y="452"/>
                  </a:lnTo>
                  <a:lnTo>
                    <a:pt x="147" y="454"/>
                  </a:lnTo>
                  <a:lnTo>
                    <a:pt x="153" y="455"/>
                  </a:lnTo>
                  <a:lnTo>
                    <a:pt x="161" y="459"/>
                  </a:lnTo>
                  <a:lnTo>
                    <a:pt x="168" y="459"/>
                  </a:lnTo>
                  <a:lnTo>
                    <a:pt x="174" y="460"/>
                  </a:lnTo>
                  <a:lnTo>
                    <a:pt x="182" y="463"/>
                  </a:lnTo>
                  <a:lnTo>
                    <a:pt x="190" y="465"/>
                  </a:lnTo>
                  <a:lnTo>
                    <a:pt x="196" y="466"/>
                  </a:lnTo>
                  <a:lnTo>
                    <a:pt x="204" y="470"/>
                  </a:lnTo>
                  <a:lnTo>
                    <a:pt x="212" y="473"/>
                  </a:lnTo>
                  <a:lnTo>
                    <a:pt x="221" y="476"/>
                  </a:lnTo>
                  <a:lnTo>
                    <a:pt x="193" y="530"/>
                  </a:lnTo>
                  <a:lnTo>
                    <a:pt x="196" y="531"/>
                  </a:lnTo>
                  <a:lnTo>
                    <a:pt x="199" y="533"/>
                  </a:lnTo>
                  <a:lnTo>
                    <a:pt x="206" y="538"/>
                  </a:lnTo>
                  <a:lnTo>
                    <a:pt x="207" y="539"/>
                  </a:lnTo>
                  <a:lnTo>
                    <a:pt x="212" y="541"/>
                  </a:lnTo>
                  <a:lnTo>
                    <a:pt x="217" y="542"/>
                  </a:lnTo>
                  <a:lnTo>
                    <a:pt x="221" y="545"/>
                  </a:lnTo>
                  <a:lnTo>
                    <a:pt x="226" y="547"/>
                  </a:lnTo>
                  <a:lnTo>
                    <a:pt x="232" y="550"/>
                  </a:lnTo>
                  <a:lnTo>
                    <a:pt x="239" y="553"/>
                  </a:lnTo>
                  <a:lnTo>
                    <a:pt x="247" y="557"/>
                  </a:lnTo>
                  <a:lnTo>
                    <a:pt x="255" y="560"/>
                  </a:lnTo>
                  <a:lnTo>
                    <a:pt x="263" y="563"/>
                  </a:lnTo>
                  <a:lnTo>
                    <a:pt x="269" y="564"/>
                  </a:lnTo>
                  <a:lnTo>
                    <a:pt x="278" y="568"/>
                  </a:lnTo>
                  <a:lnTo>
                    <a:pt x="285" y="569"/>
                  </a:lnTo>
                  <a:lnTo>
                    <a:pt x="293" y="572"/>
                  </a:lnTo>
                  <a:lnTo>
                    <a:pt x="300" y="574"/>
                  </a:lnTo>
                  <a:lnTo>
                    <a:pt x="307" y="576"/>
                  </a:lnTo>
                  <a:lnTo>
                    <a:pt x="312" y="577"/>
                  </a:lnTo>
                  <a:lnTo>
                    <a:pt x="318" y="577"/>
                  </a:lnTo>
                  <a:lnTo>
                    <a:pt x="323" y="579"/>
                  </a:lnTo>
                  <a:lnTo>
                    <a:pt x="327" y="580"/>
                  </a:lnTo>
                  <a:lnTo>
                    <a:pt x="334" y="582"/>
                  </a:lnTo>
                  <a:lnTo>
                    <a:pt x="335" y="582"/>
                  </a:lnTo>
                  <a:lnTo>
                    <a:pt x="307" y="632"/>
                  </a:lnTo>
                  <a:lnTo>
                    <a:pt x="389" y="670"/>
                  </a:lnTo>
                  <a:lnTo>
                    <a:pt x="465" y="658"/>
                  </a:lnTo>
                  <a:lnTo>
                    <a:pt x="467" y="664"/>
                  </a:lnTo>
                  <a:lnTo>
                    <a:pt x="470" y="672"/>
                  </a:lnTo>
                  <a:lnTo>
                    <a:pt x="470" y="677"/>
                  </a:lnTo>
                  <a:lnTo>
                    <a:pt x="473" y="681"/>
                  </a:lnTo>
                  <a:lnTo>
                    <a:pt x="473" y="686"/>
                  </a:lnTo>
                  <a:lnTo>
                    <a:pt x="476" y="693"/>
                  </a:lnTo>
                  <a:lnTo>
                    <a:pt x="476" y="699"/>
                  </a:lnTo>
                  <a:lnTo>
                    <a:pt x="478" y="705"/>
                  </a:lnTo>
                  <a:lnTo>
                    <a:pt x="478" y="708"/>
                  </a:lnTo>
                  <a:lnTo>
                    <a:pt x="479" y="712"/>
                  </a:lnTo>
                  <a:lnTo>
                    <a:pt x="479" y="716"/>
                  </a:lnTo>
                  <a:lnTo>
                    <a:pt x="481" y="721"/>
                  </a:lnTo>
                  <a:lnTo>
                    <a:pt x="481" y="726"/>
                  </a:lnTo>
                  <a:lnTo>
                    <a:pt x="481" y="731"/>
                  </a:lnTo>
                  <a:lnTo>
                    <a:pt x="482" y="735"/>
                  </a:lnTo>
                  <a:lnTo>
                    <a:pt x="482" y="742"/>
                  </a:lnTo>
                  <a:lnTo>
                    <a:pt x="482" y="746"/>
                  </a:lnTo>
                  <a:lnTo>
                    <a:pt x="484" y="753"/>
                  </a:lnTo>
                  <a:lnTo>
                    <a:pt x="484" y="757"/>
                  </a:lnTo>
                  <a:lnTo>
                    <a:pt x="486" y="765"/>
                  </a:lnTo>
                  <a:lnTo>
                    <a:pt x="493" y="764"/>
                  </a:lnTo>
                  <a:lnTo>
                    <a:pt x="500" y="762"/>
                  </a:lnTo>
                  <a:lnTo>
                    <a:pt x="508" y="761"/>
                  </a:lnTo>
                  <a:lnTo>
                    <a:pt x="517" y="759"/>
                  </a:lnTo>
                  <a:lnTo>
                    <a:pt x="525" y="757"/>
                  </a:lnTo>
                  <a:lnTo>
                    <a:pt x="533" y="756"/>
                  </a:lnTo>
                  <a:lnTo>
                    <a:pt x="538" y="754"/>
                  </a:lnTo>
                  <a:lnTo>
                    <a:pt x="543" y="753"/>
                  </a:lnTo>
                  <a:lnTo>
                    <a:pt x="547" y="753"/>
                  </a:lnTo>
                  <a:lnTo>
                    <a:pt x="552" y="753"/>
                  </a:lnTo>
                  <a:lnTo>
                    <a:pt x="557" y="749"/>
                  </a:lnTo>
                  <a:lnTo>
                    <a:pt x="561" y="748"/>
                  </a:lnTo>
                  <a:lnTo>
                    <a:pt x="566" y="746"/>
                  </a:lnTo>
                  <a:lnTo>
                    <a:pt x="571" y="746"/>
                  </a:lnTo>
                  <a:lnTo>
                    <a:pt x="574" y="743"/>
                  </a:lnTo>
                  <a:lnTo>
                    <a:pt x="579" y="742"/>
                  </a:lnTo>
                  <a:lnTo>
                    <a:pt x="584" y="740"/>
                  </a:lnTo>
                  <a:lnTo>
                    <a:pt x="590" y="738"/>
                  </a:lnTo>
                  <a:lnTo>
                    <a:pt x="595" y="737"/>
                  </a:lnTo>
                  <a:lnTo>
                    <a:pt x="599" y="734"/>
                  </a:lnTo>
                  <a:lnTo>
                    <a:pt x="606" y="732"/>
                  </a:lnTo>
                  <a:lnTo>
                    <a:pt x="611" y="731"/>
                  </a:lnTo>
                  <a:lnTo>
                    <a:pt x="615" y="727"/>
                  </a:lnTo>
                  <a:lnTo>
                    <a:pt x="620" y="726"/>
                  </a:lnTo>
                  <a:lnTo>
                    <a:pt x="626" y="723"/>
                  </a:lnTo>
                  <a:lnTo>
                    <a:pt x="633" y="721"/>
                  </a:lnTo>
                  <a:lnTo>
                    <a:pt x="637" y="718"/>
                  </a:lnTo>
                  <a:lnTo>
                    <a:pt x="642" y="715"/>
                  </a:lnTo>
                  <a:lnTo>
                    <a:pt x="648" y="712"/>
                  </a:lnTo>
                  <a:lnTo>
                    <a:pt x="653" y="710"/>
                  </a:lnTo>
                  <a:lnTo>
                    <a:pt x="658" y="707"/>
                  </a:lnTo>
                  <a:lnTo>
                    <a:pt x="664" y="704"/>
                  </a:lnTo>
                  <a:lnTo>
                    <a:pt x="671" y="700"/>
                  </a:lnTo>
                  <a:lnTo>
                    <a:pt x="677" y="697"/>
                  </a:lnTo>
                  <a:lnTo>
                    <a:pt x="682" y="694"/>
                  </a:lnTo>
                  <a:lnTo>
                    <a:pt x="688" y="691"/>
                  </a:lnTo>
                  <a:lnTo>
                    <a:pt x="693" y="686"/>
                  </a:lnTo>
                  <a:lnTo>
                    <a:pt x="699" y="683"/>
                  </a:lnTo>
                  <a:lnTo>
                    <a:pt x="705" y="678"/>
                  </a:lnTo>
                  <a:lnTo>
                    <a:pt x="712" y="675"/>
                  </a:lnTo>
                  <a:lnTo>
                    <a:pt x="718" y="670"/>
                  </a:lnTo>
                  <a:lnTo>
                    <a:pt x="724" y="667"/>
                  </a:lnTo>
                  <a:lnTo>
                    <a:pt x="729" y="664"/>
                  </a:lnTo>
                  <a:lnTo>
                    <a:pt x="735" y="659"/>
                  </a:lnTo>
                  <a:lnTo>
                    <a:pt x="742" y="655"/>
                  </a:lnTo>
                  <a:lnTo>
                    <a:pt x="750" y="650"/>
                  </a:lnTo>
                  <a:lnTo>
                    <a:pt x="756" y="645"/>
                  </a:lnTo>
                  <a:lnTo>
                    <a:pt x="762" y="640"/>
                  </a:lnTo>
                  <a:lnTo>
                    <a:pt x="769" y="636"/>
                  </a:lnTo>
                  <a:lnTo>
                    <a:pt x="775" y="631"/>
                  </a:lnTo>
                  <a:lnTo>
                    <a:pt x="781" y="626"/>
                  </a:lnTo>
                  <a:lnTo>
                    <a:pt x="789" y="621"/>
                  </a:lnTo>
                  <a:lnTo>
                    <a:pt x="796" y="615"/>
                  </a:lnTo>
                  <a:lnTo>
                    <a:pt x="804" y="610"/>
                  </a:lnTo>
                  <a:lnTo>
                    <a:pt x="810" y="604"/>
                  </a:lnTo>
                  <a:lnTo>
                    <a:pt x="816" y="599"/>
                  </a:lnTo>
                  <a:lnTo>
                    <a:pt x="824" y="593"/>
                  </a:lnTo>
                  <a:lnTo>
                    <a:pt x="830" y="588"/>
                  </a:lnTo>
                  <a:lnTo>
                    <a:pt x="837" y="582"/>
                  </a:lnTo>
                  <a:lnTo>
                    <a:pt x="841" y="577"/>
                  </a:lnTo>
                  <a:lnTo>
                    <a:pt x="848" y="571"/>
                  </a:lnTo>
                  <a:lnTo>
                    <a:pt x="854" y="564"/>
                  </a:lnTo>
                  <a:lnTo>
                    <a:pt x="860" y="558"/>
                  </a:lnTo>
                  <a:lnTo>
                    <a:pt x="865" y="553"/>
                  </a:lnTo>
                  <a:lnTo>
                    <a:pt x="872" y="547"/>
                  </a:lnTo>
                  <a:lnTo>
                    <a:pt x="876" y="542"/>
                  </a:lnTo>
                  <a:lnTo>
                    <a:pt x="881" y="536"/>
                  </a:lnTo>
                  <a:lnTo>
                    <a:pt x="886" y="531"/>
                  </a:lnTo>
                  <a:lnTo>
                    <a:pt x="891" y="525"/>
                  </a:lnTo>
                  <a:lnTo>
                    <a:pt x="897" y="519"/>
                  </a:lnTo>
                  <a:lnTo>
                    <a:pt x="900" y="514"/>
                  </a:lnTo>
                  <a:lnTo>
                    <a:pt x="905" y="508"/>
                  </a:lnTo>
                  <a:lnTo>
                    <a:pt x="909" y="503"/>
                  </a:lnTo>
                  <a:lnTo>
                    <a:pt x="914" y="498"/>
                  </a:lnTo>
                  <a:lnTo>
                    <a:pt x="917" y="492"/>
                  </a:lnTo>
                  <a:lnTo>
                    <a:pt x="921" y="487"/>
                  </a:lnTo>
                  <a:lnTo>
                    <a:pt x="925" y="481"/>
                  </a:lnTo>
                  <a:lnTo>
                    <a:pt x="928" y="476"/>
                  </a:lnTo>
                  <a:lnTo>
                    <a:pt x="932" y="470"/>
                  </a:lnTo>
                  <a:lnTo>
                    <a:pt x="935" y="465"/>
                  </a:lnTo>
                  <a:lnTo>
                    <a:pt x="938" y="460"/>
                  </a:lnTo>
                  <a:lnTo>
                    <a:pt x="943" y="455"/>
                  </a:lnTo>
                  <a:lnTo>
                    <a:pt x="944" y="449"/>
                  </a:lnTo>
                  <a:lnTo>
                    <a:pt x="947" y="444"/>
                  </a:lnTo>
                  <a:lnTo>
                    <a:pt x="951" y="440"/>
                  </a:lnTo>
                  <a:lnTo>
                    <a:pt x="954" y="435"/>
                  </a:lnTo>
                  <a:lnTo>
                    <a:pt x="957" y="430"/>
                  </a:lnTo>
                  <a:lnTo>
                    <a:pt x="959" y="425"/>
                  </a:lnTo>
                  <a:lnTo>
                    <a:pt x="960" y="421"/>
                  </a:lnTo>
                  <a:lnTo>
                    <a:pt x="963" y="416"/>
                  </a:lnTo>
                  <a:lnTo>
                    <a:pt x="965" y="411"/>
                  </a:lnTo>
                  <a:lnTo>
                    <a:pt x="966" y="406"/>
                  </a:lnTo>
                  <a:lnTo>
                    <a:pt x="968" y="402"/>
                  </a:lnTo>
                  <a:lnTo>
                    <a:pt x="971" y="397"/>
                  </a:lnTo>
                  <a:lnTo>
                    <a:pt x="973" y="392"/>
                  </a:lnTo>
                  <a:lnTo>
                    <a:pt x="974" y="387"/>
                  </a:lnTo>
                  <a:lnTo>
                    <a:pt x="976" y="383"/>
                  </a:lnTo>
                  <a:lnTo>
                    <a:pt x="978" y="379"/>
                  </a:lnTo>
                  <a:lnTo>
                    <a:pt x="981" y="372"/>
                  </a:lnTo>
                  <a:lnTo>
                    <a:pt x="982" y="364"/>
                  </a:lnTo>
                  <a:lnTo>
                    <a:pt x="985" y="356"/>
                  </a:lnTo>
                  <a:lnTo>
                    <a:pt x="987" y="349"/>
                  </a:lnTo>
                  <a:lnTo>
                    <a:pt x="989" y="343"/>
                  </a:lnTo>
                  <a:lnTo>
                    <a:pt x="990" y="337"/>
                  </a:lnTo>
                  <a:lnTo>
                    <a:pt x="992" y="330"/>
                  </a:lnTo>
                  <a:lnTo>
                    <a:pt x="993" y="326"/>
                  </a:lnTo>
                  <a:lnTo>
                    <a:pt x="993" y="321"/>
                  </a:lnTo>
                  <a:lnTo>
                    <a:pt x="993" y="316"/>
                  </a:lnTo>
                  <a:lnTo>
                    <a:pt x="995" y="313"/>
                  </a:lnTo>
                  <a:lnTo>
                    <a:pt x="997" y="310"/>
                  </a:lnTo>
                  <a:lnTo>
                    <a:pt x="952" y="308"/>
                  </a:lnTo>
                  <a:lnTo>
                    <a:pt x="951" y="308"/>
                  </a:lnTo>
                  <a:lnTo>
                    <a:pt x="951" y="311"/>
                  </a:lnTo>
                  <a:lnTo>
                    <a:pt x="949" y="316"/>
                  </a:lnTo>
                  <a:lnTo>
                    <a:pt x="949" y="323"/>
                  </a:lnTo>
                  <a:lnTo>
                    <a:pt x="947" y="326"/>
                  </a:lnTo>
                  <a:lnTo>
                    <a:pt x="946" y="329"/>
                  </a:lnTo>
                  <a:lnTo>
                    <a:pt x="944" y="334"/>
                  </a:lnTo>
                  <a:lnTo>
                    <a:pt x="944" y="338"/>
                  </a:lnTo>
                  <a:lnTo>
                    <a:pt x="941" y="343"/>
                  </a:lnTo>
                  <a:lnTo>
                    <a:pt x="940" y="348"/>
                  </a:lnTo>
                  <a:lnTo>
                    <a:pt x="938" y="354"/>
                  </a:lnTo>
                  <a:lnTo>
                    <a:pt x="936" y="360"/>
                  </a:lnTo>
                  <a:lnTo>
                    <a:pt x="933" y="365"/>
                  </a:lnTo>
                  <a:lnTo>
                    <a:pt x="932" y="372"/>
                  </a:lnTo>
                  <a:lnTo>
                    <a:pt x="928" y="378"/>
                  </a:lnTo>
                  <a:lnTo>
                    <a:pt x="927" y="386"/>
                  </a:lnTo>
                  <a:lnTo>
                    <a:pt x="922" y="392"/>
                  </a:lnTo>
                  <a:lnTo>
                    <a:pt x="919" y="398"/>
                  </a:lnTo>
                  <a:lnTo>
                    <a:pt x="916" y="406"/>
                  </a:lnTo>
                  <a:lnTo>
                    <a:pt x="913" y="414"/>
                  </a:lnTo>
                  <a:lnTo>
                    <a:pt x="908" y="421"/>
                  </a:lnTo>
                  <a:lnTo>
                    <a:pt x="903" y="428"/>
                  </a:lnTo>
                  <a:lnTo>
                    <a:pt x="898" y="436"/>
                  </a:lnTo>
                  <a:lnTo>
                    <a:pt x="894" y="444"/>
                  </a:lnTo>
                  <a:lnTo>
                    <a:pt x="889" y="452"/>
                  </a:lnTo>
                  <a:lnTo>
                    <a:pt x="883" y="460"/>
                  </a:lnTo>
                  <a:lnTo>
                    <a:pt x="878" y="468"/>
                  </a:lnTo>
                  <a:lnTo>
                    <a:pt x="873" y="476"/>
                  </a:lnTo>
                  <a:lnTo>
                    <a:pt x="867" y="482"/>
                  </a:lnTo>
                  <a:lnTo>
                    <a:pt x="862" y="489"/>
                  </a:lnTo>
                  <a:lnTo>
                    <a:pt x="857" y="493"/>
                  </a:lnTo>
                  <a:lnTo>
                    <a:pt x="854" y="500"/>
                  </a:lnTo>
                  <a:lnTo>
                    <a:pt x="849" y="504"/>
                  </a:lnTo>
                  <a:lnTo>
                    <a:pt x="845" y="509"/>
                  </a:lnTo>
                  <a:lnTo>
                    <a:pt x="840" y="515"/>
                  </a:lnTo>
                  <a:lnTo>
                    <a:pt x="835" y="522"/>
                  </a:lnTo>
                  <a:lnTo>
                    <a:pt x="830" y="527"/>
                  </a:lnTo>
                  <a:lnTo>
                    <a:pt x="826" y="531"/>
                  </a:lnTo>
                  <a:lnTo>
                    <a:pt x="819" y="538"/>
                  </a:lnTo>
                  <a:lnTo>
                    <a:pt x="813" y="544"/>
                  </a:lnTo>
                  <a:lnTo>
                    <a:pt x="807" y="549"/>
                  </a:lnTo>
                  <a:lnTo>
                    <a:pt x="800" y="555"/>
                  </a:lnTo>
                  <a:lnTo>
                    <a:pt x="792" y="563"/>
                  </a:lnTo>
                  <a:lnTo>
                    <a:pt x="785" y="571"/>
                  </a:lnTo>
                  <a:lnTo>
                    <a:pt x="777" y="576"/>
                  </a:lnTo>
                  <a:lnTo>
                    <a:pt x="770" y="582"/>
                  </a:lnTo>
                  <a:lnTo>
                    <a:pt x="762" y="587"/>
                  </a:lnTo>
                  <a:lnTo>
                    <a:pt x="756" y="593"/>
                  </a:lnTo>
                  <a:lnTo>
                    <a:pt x="748" y="598"/>
                  </a:lnTo>
                  <a:lnTo>
                    <a:pt x="740" y="604"/>
                  </a:lnTo>
                  <a:lnTo>
                    <a:pt x="732" y="609"/>
                  </a:lnTo>
                  <a:lnTo>
                    <a:pt x="724" y="615"/>
                  </a:lnTo>
                  <a:lnTo>
                    <a:pt x="720" y="618"/>
                  </a:lnTo>
                  <a:lnTo>
                    <a:pt x="717" y="621"/>
                  </a:lnTo>
                  <a:lnTo>
                    <a:pt x="712" y="623"/>
                  </a:lnTo>
                  <a:lnTo>
                    <a:pt x="707" y="626"/>
                  </a:lnTo>
                  <a:lnTo>
                    <a:pt x="699" y="631"/>
                  </a:lnTo>
                  <a:lnTo>
                    <a:pt x="691" y="637"/>
                  </a:lnTo>
                  <a:lnTo>
                    <a:pt x="686" y="640"/>
                  </a:lnTo>
                  <a:lnTo>
                    <a:pt x="682" y="642"/>
                  </a:lnTo>
                  <a:lnTo>
                    <a:pt x="679" y="645"/>
                  </a:lnTo>
                  <a:lnTo>
                    <a:pt x="674" y="648"/>
                  </a:lnTo>
                  <a:lnTo>
                    <a:pt x="669" y="650"/>
                  </a:lnTo>
                  <a:lnTo>
                    <a:pt x="664" y="653"/>
                  </a:lnTo>
                  <a:lnTo>
                    <a:pt x="661" y="656"/>
                  </a:lnTo>
                  <a:lnTo>
                    <a:pt x="656" y="659"/>
                  </a:lnTo>
                  <a:lnTo>
                    <a:pt x="652" y="661"/>
                  </a:lnTo>
                  <a:lnTo>
                    <a:pt x="648" y="663"/>
                  </a:lnTo>
                  <a:lnTo>
                    <a:pt x="644" y="666"/>
                  </a:lnTo>
                  <a:lnTo>
                    <a:pt x="639" y="667"/>
                  </a:lnTo>
                  <a:lnTo>
                    <a:pt x="634" y="670"/>
                  </a:lnTo>
                  <a:lnTo>
                    <a:pt x="630" y="672"/>
                  </a:lnTo>
                  <a:lnTo>
                    <a:pt x="625" y="674"/>
                  </a:lnTo>
                  <a:lnTo>
                    <a:pt x="622" y="677"/>
                  </a:lnTo>
                  <a:lnTo>
                    <a:pt x="617" y="678"/>
                  </a:lnTo>
                  <a:lnTo>
                    <a:pt x="612" y="680"/>
                  </a:lnTo>
                  <a:lnTo>
                    <a:pt x="607" y="681"/>
                  </a:lnTo>
                  <a:lnTo>
                    <a:pt x="604" y="685"/>
                  </a:lnTo>
                  <a:lnTo>
                    <a:pt x="599" y="686"/>
                  </a:lnTo>
                  <a:lnTo>
                    <a:pt x="595" y="688"/>
                  </a:lnTo>
                  <a:lnTo>
                    <a:pt x="590" y="689"/>
                  </a:lnTo>
                  <a:lnTo>
                    <a:pt x="587" y="693"/>
                  </a:lnTo>
                  <a:lnTo>
                    <a:pt x="582" y="693"/>
                  </a:lnTo>
                  <a:lnTo>
                    <a:pt x="577" y="696"/>
                  </a:lnTo>
                  <a:lnTo>
                    <a:pt x="573" y="696"/>
                  </a:lnTo>
                  <a:lnTo>
                    <a:pt x="569" y="699"/>
                  </a:lnTo>
                  <a:lnTo>
                    <a:pt x="561" y="700"/>
                  </a:lnTo>
                  <a:lnTo>
                    <a:pt x="554" y="704"/>
                  </a:lnTo>
                  <a:lnTo>
                    <a:pt x="544" y="705"/>
                  </a:lnTo>
                  <a:lnTo>
                    <a:pt x="538" y="708"/>
                  </a:lnTo>
                  <a:lnTo>
                    <a:pt x="530" y="710"/>
                  </a:lnTo>
                  <a:lnTo>
                    <a:pt x="522" y="710"/>
                  </a:lnTo>
                  <a:lnTo>
                    <a:pt x="522" y="708"/>
                  </a:lnTo>
                  <a:lnTo>
                    <a:pt x="522" y="702"/>
                  </a:lnTo>
                  <a:lnTo>
                    <a:pt x="520" y="697"/>
                  </a:lnTo>
                  <a:lnTo>
                    <a:pt x="520" y="693"/>
                  </a:lnTo>
                  <a:lnTo>
                    <a:pt x="520" y="686"/>
                  </a:lnTo>
                  <a:lnTo>
                    <a:pt x="519" y="680"/>
                  </a:lnTo>
                  <a:lnTo>
                    <a:pt x="517" y="672"/>
                  </a:lnTo>
                  <a:lnTo>
                    <a:pt x="516" y="666"/>
                  </a:lnTo>
                  <a:lnTo>
                    <a:pt x="512" y="658"/>
                  </a:lnTo>
                  <a:lnTo>
                    <a:pt x="511" y="650"/>
                  </a:lnTo>
                  <a:lnTo>
                    <a:pt x="508" y="645"/>
                  </a:lnTo>
                  <a:lnTo>
                    <a:pt x="506" y="640"/>
                  </a:lnTo>
                  <a:lnTo>
                    <a:pt x="505" y="636"/>
                  </a:lnTo>
                  <a:lnTo>
                    <a:pt x="503" y="631"/>
                  </a:lnTo>
                  <a:lnTo>
                    <a:pt x="500" y="628"/>
                  </a:lnTo>
                  <a:lnTo>
                    <a:pt x="498" y="623"/>
                  </a:lnTo>
                  <a:lnTo>
                    <a:pt x="495" y="618"/>
                  </a:lnTo>
                  <a:lnTo>
                    <a:pt x="493" y="615"/>
                  </a:lnTo>
                  <a:lnTo>
                    <a:pt x="392" y="628"/>
                  </a:lnTo>
                  <a:lnTo>
                    <a:pt x="365" y="615"/>
                  </a:lnTo>
                  <a:lnTo>
                    <a:pt x="402" y="547"/>
                  </a:lnTo>
                  <a:lnTo>
                    <a:pt x="400" y="545"/>
                  </a:lnTo>
                  <a:lnTo>
                    <a:pt x="397" y="545"/>
                  </a:lnTo>
                  <a:lnTo>
                    <a:pt x="391" y="544"/>
                  </a:lnTo>
                  <a:lnTo>
                    <a:pt x="384" y="544"/>
                  </a:lnTo>
                  <a:lnTo>
                    <a:pt x="380" y="544"/>
                  </a:lnTo>
                  <a:lnTo>
                    <a:pt x="376" y="544"/>
                  </a:lnTo>
                  <a:lnTo>
                    <a:pt x="372" y="542"/>
                  </a:lnTo>
                  <a:lnTo>
                    <a:pt x="368" y="542"/>
                  </a:lnTo>
                  <a:lnTo>
                    <a:pt x="362" y="541"/>
                  </a:lnTo>
                  <a:lnTo>
                    <a:pt x="357" y="541"/>
                  </a:lnTo>
                  <a:lnTo>
                    <a:pt x="351" y="539"/>
                  </a:lnTo>
                  <a:lnTo>
                    <a:pt x="346" y="539"/>
                  </a:lnTo>
                  <a:lnTo>
                    <a:pt x="340" y="538"/>
                  </a:lnTo>
                  <a:lnTo>
                    <a:pt x="335" y="536"/>
                  </a:lnTo>
                  <a:lnTo>
                    <a:pt x="329" y="534"/>
                  </a:lnTo>
                  <a:lnTo>
                    <a:pt x="323" y="533"/>
                  </a:lnTo>
                  <a:lnTo>
                    <a:pt x="315" y="531"/>
                  </a:lnTo>
                  <a:lnTo>
                    <a:pt x="308" y="530"/>
                  </a:lnTo>
                  <a:lnTo>
                    <a:pt x="302" y="528"/>
                  </a:lnTo>
                  <a:lnTo>
                    <a:pt x="297" y="527"/>
                  </a:lnTo>
                  <a:lnTo>
                    <a:pt x="289" y="525"/>
                  </a:lnTo>
                  <a:lnTo>
                    <a:pt x="283" y="522"/>
                  </a:lnTo>
                  <a:lnTo>
                    <a:pt x="277" y="520"/>
                  </a:lnTo>
                  <a:lnTo>
                    <a:pt x="270" y="519"/>
                  </a:lnTo>
                  <a:lnTo>
                    <a:pt x="266" y="515"/>
                  </a:lnTo>
                  <a:lnTo>
                    <a:pt x="259" y="512"/>
                  </a:lnTo>
                  <a:lnTo>
                    <a:pt x="253" y="511"/>
                  </a:lnTo>
                  <a:lnTo>
                    <a:pt x="248" y="508"/>
                  </a:lnTo>
                  <a:lnTo>
                    <a:pt x="278" y="452"/>
                  </a:lnTo>
                  <a:lnTo>
                    <a:pt x="277" y="451"/>
                  </a:lnTo>
                  <a:lnTo>
                    <a:pt x="275" y="451"/>
                  </a:lnTo>
                  <a:lnTo>
                    <a:pt x="272" y="447"/>
                  </a:lnTo>
                  <a:lnTo>
                    <a:pt x="267" y="446"/>
                  </a:lnTo>
                  <a:lnTo>
                    <a:pt x="263" y="443"/>
                  </a:lnTo>
                  <a:lnTo>
                    <a:pt x="255" y="441"/>
                  </a:lnTo>
                  <a:lnTo>
                    <a:pt x="251" y="438"/>
                  </a:lnTo>
                  <a:lnTo>
                    <a:pt x="247" y="438"/>
                  </a:lnTo>
                  <a:lnTo>
                    <a:pt x="242" y="435"/>
                  </a:lnTo>
                  <a:lnTo>
                    <a:pt x="239" y="435"/>
                  </a:lnTo>
                  <a:lnTo>
                    <a:pt x="232" y="432"/>
                  </a:lnTo>
                  <a:lnTo>
                    <a:pt x="228" y="430"/>
                  </a:lnTo>
                  <a:lnTo>
                    <a:pt x="223" y="428"/>
                  </a:lnTo>
                  <a:lnTo>
                    <a:pt x="217" y="427"/>
                  </a:lnTo>
                  <a:lnTo>
                    <a:pt x="210" y="425"/>
                  </a:lnTo>
                  <a:lnTo>
                    <a:pt x="204" y="424"/>
                  </a:lnTo>
                  <a:lnTo>
                    <a:pt x="198" y="422"/>
                  </a:lnTo>
                  <a:lnTo>
                    <a:pt x="193" y="421"/>
                  </a:lnTo>
                  <a:lnTo>
                    <a:pt x="187" y="419"/>
                  </a:lnTo>
                  <a:lnTo>
                    <a:pt x="179" y="417"/>
                  </a:lnTo>
                  <a:lnTo>
                    <a:pt x="172" y="416"/>
                  </a:lnTo>
                  <a:lnTo>
                    <a:pt x="164" y="414"/>
                  </a:lnTo>
                  <a:lnTo>
                    <a:pt x="157" y="411"/>
                  </a:lnTo>
                  <a:lnTo>
                    <a:pt x="150" y="411"/>
                  </a:lnTo>
                  <a:lnTo>
                    <a:pt x="142" y="409"/>
                  </a:lnTo>
                  <a:lnTo>
                    <a:pt x="136" y="408"/>
                  </a:lnTo>
                  <a:lnTo>
                    <a:pt x="168" y="346"/>
                  </a:lnTo>
                  <a:lnTo>
                    <a:pt x="166" y="346"/>
                  </a:lnTo>
                  <a:lnTo>
                    <a:pt x="163" y="346"/>
                  </a:lnTo>
                  <a:lnTo>
                    <a:pt x="158" y="346"/>
                  </a:lnTo>
                  <a:lnTo>
                    <a:pt x="153" y="346"/>
                  </a:lnTo>
                  <a:lnTo>
                    <a:pt x="147" y="345"/>
                  </a:lnTo>
                  <a:lnTo>
                    <a:pt x="141" y="345"/>
                  </a:lnTo>
                  <a:lnTo>
                    <a:pt x="133" y="345"/>
                  </a:lnTo>
                  <a:lnTo>
                    <a:pt x="125" y="345"/>
                  </a:lnTo>
                  <a:lnTo>
                    <a:pt x="120" y="345"/>
                  </a:lnTo>
                  <a:lnTo>
                    <a:pt x="115" y="345"/>
                  </a:lnTo>
                  <a:lnTo>
                    <a:pt x="112" y="345"/>
                  </a:lnTo>
                  <a:lnTo>
                    <a:pt x="107" y="345"/>
                  </a:lnTo>
                  <a:lnTo>
                    <a:pt x="103" y="345"/>
                  </a:lnTo>
                  <a:lnTo>
                    <a:pt x="98" y="345"/>
                  </a:lnTo>
                  <a:lnTo>
                    <a:pt x="93" y="345"/>
                  </a:lnTo>
                  <a:lnTo>
                    <a:pt x="89" y="345"/>
                  </a:lnTo>
                  <a:lnTo>
                    <a:pt x="84" y="345"/>
                  </a:lnTo>
                  <a:lnTo>
                    <a:pt x="79" y="345"/>
                  </a:lnTo>
                  <a:lnTo>
                    <a:pt x="76" y="345"/>
                  </a:lnTo>
                  <a:lnTo>
                    <a:pt x="73" y="345"/>
                  </a:lnTo>
                  <a:lnTo>
                    <a:pt x="65" y="346"/>
                  </a:lnTo>
                  <a:lnTo>
                    <a:pt x="58" y="346"/>
                  </a:lnTo>
                  <a:lnTo>
                    <a:pt x="58" y="341"/>
                  </a:lnTo>
                  <a:lnTo>
                    <a:pt x="58" y="340"/>
                  </a:lnTo>
                  <a:lnTo>
                    <a:pt x="62" y="340"/>
                  </a:lnTo>
                  <a:lnTo>
                    <a:pt x="68" y="338"/>
                  </a:lnTo>
                  <a:lnTo>
                    <a:pt x="74" y="337"/>
                  </a:lnTo>
                  <a:lnTo>
                    <a:pt x="79" y="335"/>
                  </a:lnTo>
                  <a:lnTo>
                    <a:pt x="84" y="334"/>
                  </a:lnTo>
                  <a:lnTo>
                    <a:pt x="89" y="332"/>
                  </a:lnTo>
                  <a:lnTo>
                    <a:pt x="96" y="330"/>
                  </a:lnTo>
                  <a:lnTo>
                    <a:pt x="101" y="327"/>
                  </a:lnTo>
                  <a:lnTo>
                    <a:pt x="109" y="326"/>
                  </a:lnTo>
                  <a:lnTo>
                    <a:pt x="115" y="323"/>
                  </a:lnTo>
                  <a:lnTo>
                    <a:pt x="123" y="321"/>
                  </a:lnTo>
                  <a:lnTo>
                    <a:pt x="131" y="316"/>
                  </a:lnTo>
                  <a:lnTo>
                    <a:pt x="139" y="313"/>
                  </a:lnTo>
                  <a:lnTo>
                    <a:pt x="144" y="310"/>
                  </a:lnTo>
                  <a:lnTo>
                    <a:pt x="147" y="308"/>
                  </a:lnTo>
                  <a:lnTo>
                    <a:pt x="152" y="305"/>
                  </a:lnTo>
                  <a:lnTo>
                    <a:pt x="157" y="305"/>
                  </a:lnTo>
                  <a:lnTo>
                    <a:pt x="161" y="302"/>
                  </a:lnTo>
                  <a:lnTo>
                    <a:pt x="166" y="299"/>
                  </a:lnTo>
                  <a:lnTo>
                    <a:pt x="171" y="297"/>
                  </a:lnTo>
                  <a:lnTo>
                    <a:pt x="176" y="294"/>
                  </a:lnTo>
                  <a:lnTo>
                    <a:pt x="180" y="291"/>
                  </a:lnTo>
                  <a:lnTo>
                    <a:pt x="185" y="288"/>
                  </a:lnTo>
                  <a:lnTo>
                    <a:pt x="190" y="285"/>
                  </a:lnTo>
                  <a:lnTo>
                    <a:pt x="196" y="283"/>
                  </a:lnTo>
                  <a:lnTo>
                    <a:pt x="201" y="278"/>
                  </a:lnTo>
                  <a:lnTo>
                    <a:pt x="206" y="275"/>
                  </a:lnTo>
                  <a:lnTo>
                    <a:pt x="212" y="272"/>
                  </a:lnTo>
                  <a:lnTo>
                    <a:pt x="217" y="269"/>
                  </a:lnTo>
                  <a:lnTo>
                    <a:pt x="221" y="264"/>
                  </a:lnTo>
                  <a:lnTo>
                    <a:pt x="228" y="261"/>
                  </a:lnTo>
                  <a:lnTo>
                    <a:pt x="232" y="256"/>
                  </a:lnTo>
                  <a:lnTo>
                    <a:pt x="239" y="253"/>
                  </a:lnTo>
                  <a:lnTo>
                    <a:pt x="244" y="248"/>
                  </a:lnTo>
                  <a:lnTo>
                    <a:pt x="250" y="243"/>
                  </a:lnTo>
                  <a:lnTo>
                    <a:pt x="256" y="239"/>
                  </a:lnTo>
                  <a:lnTo>
                    <a:pt x="263" y="236"/>
                  </a:lnTo>
                  <a:lnTo>
                    <a:pt x="267" y="229"/>
                  </a:lnTo>
                  <a:lnTo>
                    <a:pt x="274" y="224"/>
                  </a:lnTo>
                  <a:lnTo>
                    <a:pt x="280" y="220"/>
                  </a:lnTo>
                  <a:lnTo>
                    <a:pt x="286" y="217"/>
                  </a:lnTo>
                  <a:lnTo>
                    <a:pt x="293" y="210"/>
                  </a:lnTo>
                  <a:lnTo>
                    <a:pt x="297" y="204"/>
                  </a:lnTo>
                  <a:lnTo>
                    <a:pt x="302" y="199"/>
                  </a:lnTo>
                  <a:lnTo>
                    <a:pt x="308" y="194"/>
                  </a:lnTo>
                  <a:lnTo>
                    <a:pt x="313" y="188"/>
                  </a:lnTo>
                  <a:lnTo>
                    <a:pt x="319" y="183"/>
                  </a:lnTo>
                  <a:lnTo>
                    <a:pt x="324" y="179"/>
                  </a:lnTo>
                  <a:lnTo>
                    <a:pt x="329" y="174"/>
                  </a:lnTo>
                  <a:lnTo>
                    <a:pt x="334" y="169"/>
                  </a:lnTo>
                  <a:lnTo>
                    <a:pt x="338" y="164"/>
                  </a:lnTo>
                  <a:lnTo>
                    <a:pt x="343" y="160"/>
                  </a:lnTo>
                  <a:lnTo>
                    <a:pt x="346" y="155"/>
                  </a:lnTo>
                  <a:lnTo>
                    <a:pt x="351" y="150"/>
                  </a:lnTo>
                  <a:lnTo>
                    <a:pt x="354" y="145"/>
                  </a:lnTo>
                  <a:lnTo>
                    <a:pt x="359" y="141"/>
                  </a:lnTo>
                  <a:lnTo>
                    <a:pt x="364" y="137"/>
                  </a:lnTo>
                  <a:lnTo>
                    <a:pt x="367" y="133"/>
                  </a:lnTo>
                  <a:lnTo>
                    <a:pt x="370" y="128"/>
                  </a:lnTo>
                  <a:lnTo>
                    <a:pt x="373" y="125"/>
                  </a:lnTo>
                  <a:lnTo>
                    <a:pt x="378" y="120"/>
                  </a:lnTo>
                  <a:lnTo>
                    <a:pt x="383" y="112"/>
                  </a:lnTo>
                  <a:lnTo>
                    <a:pt x="389" y="104"/>
                  </a:lnTo>
                  <a:lnTo>
                    <a:pt x="394" y="98"/>
                  </a:lnTo>
                  <a:lnTo>
                    <a:pt x="399" y="92"/>
                  </a:lnTo>
                  <a:lnTo>
                    <a:pt x="403" y="84"/>
                  </a:lnTo>
                  <a:lnTo>
                    <a:pt x="408" y="79"/>
                  </a:lnTo>
                  <a:lnTo>
                    <a:pt x="411" y="71"/>
                  </a:lnTo>
                  <a:lnTo>
                    <a:pt x="414" y="66"/>
                  </a:lnTo>
                  <a:lnTo>
                    <a:pt x="418" y="60"/>
                  </a:lnTo>
                  <a:lnTo>
                    <a:pt x="421" y="55"/>
                  </a:lnTo>
                  <a:lnTo>
                    <a:pt x="422" y="52"/>
                  </a:lnTo>
                  <a:lnTo>
                    <a:pt x="424" y="47"/>
                  </a:lnTo>
                  <a:lnTo>
                    <a:pt x="425" y="43"/>
                  </a:lnTo>
                  <a:lnTo>
                    <a:pt x="427" y="41"/>
                  </a:lnTo>
                  <a:lnTo>
                    <a:pt x="429" y="35"/>
                  </a:lnTo>
                  <a:lnTo>
                    <a:pt x="432" y="30"/>
                  </a:lnTo>
                  <a:lnTo>
                    <a:pt x="432" y="28"/>
                  </a:lnTo>
                  <a:lnTo>
                    <a:pt x="433" y="28"/>
                  </a:lnTo>
                  <a:lnTo>
                    <a:pt x="399" y="0"/>
                  </a:lnTo>
                  <a:lnTo>
                    <a:pt x="3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rot="21366600">
              <a:off x="5713200" y="2634840"/>
              <a:ext cx="520560" cy="738360"/>
            </a:xfrm>
            <a:custGeom>
              <a:avLst/>
              <a:gdLst/>
              <a:ahLst/>
              <a:rect l="l" t="t" r="r" b="b"/>
              <a:pathLst>
                <a:path w="775" h="1093">
                  <a:moveTo>
                    <a:pt x="43" y="805"/>
                  </a:moveTo>
                  <a:lnTo>
                    <a:pt x="43" y="804"/>
                  </a:lnTo>
                  <a:lnTo>
                    <a:pt x="43" y="801"/>
                  </a:lnTo>
                  <a:lnTo>
                    <a:pt x="43" y="797"/>
                  </a:lnTo>
                  <a:lnTo>
                    <a:pt x="45" y="794"/>
                  </a:lnTo>
                  <a:lnTo>
                    <a:pt x="45" y="786"/>
                  </a:lnTo>
                  <a:lnTo>
                    <a:pt x="46" y="780"/>
                  </a:lnTo>
                  <a:lnTo>
                    <a:pt x="49" y="772"/>
                  </a:lnTo>
                  <a:lnTo>
                    <a:pt x="51" y="766"/>
                  </a:lnTo>
                  <a:lnTo>
                    <a:pt x="52" y="761"/>
                  </a:lnTo>
                  <a:lnTo>
                    <a:pt x="54" y="756"/>
                  </a:lnTo>
                  <a:lnTo>
                    <a:pt x="54" y="753"/>
                  </a:lnTo>
                  <a:lnTo>
                    <a:pt x="57" y="748"/>
                  </a:lnTo>
                  <a:lnTo>
                    <a:pt x="60" y="740"/>
                  </a:lnTo>
                  <a:lnTo>
                    <a:pt x="65" y="733"/>
                  </a:lnTo>
                  <a:lnTo>
                    <a:pt x="70" y="723"/>
                  </a:lnTo>
                  <a:lnTo>
                    <a:pt x="75" y="717"/>
                  </a:lnTo>
                  <a:lnTo>
                    <a:pt x="81" y="710"/>
                  </a:lnTo>
                  <a:lnTo>
                    <a:pt x="87" y="706"/>
                  </a:lnTo>
                  <a:lnTo>
                    <a:pt x="94" y="699"/>
                  </a:lnTo>
                  <a:lnTo>
                    <a:pt x="100" y="696"/>
                  </a:lnTo>
                  <a:lnTo>
                    <a:pt x="106" y="693"/>
                  </a:lnTo>
                  <a:lnTo>
                    <a:pt x="113" y="691"/>
                  </a:lnTo>
                  <a:lnTo>
                    <a:pt x="117" y="688"/>
                  </a:lnTo>
                  <a:lnTo>
                    <a:pt x="124" y="688"/>
                  </a:lnTo>
                  <a:lnTo>
                    <a:pt x="128" y="688"/>
                  </a:lnTo>
                  <a:lnTo>
                    <a:pt x="135" y="688"/>
                  </a:lnTo>
                  <a:lnTo>
                    <a:pt x="141" y="688"/>
                  </a:lnTo>
                  <a:lnTo>
                    <a:pt x="147" y="690"/>
                  </a:lnTo>
                  <a:lnTo>
                    <a:pt x="152" y="693"/>
                  </a:lnTo>
                  <a:lnTo>
                    <a:pt x="158" y="695"/>
                  </a:lnTo>
                  <a:lnTo>
                    <a:pt x="166" y="698"/>
                  </a:lnTo>
                  <a:lnTo>
                    <a:pt x="173" y="699"/>
                  </a:lnTo>
                  <a:lnTo>
                    <a:pt x="176" y="701"/>
                  </a:lnTo>
                  <a:lnTo>
                    <a:pt x="181" y="703"/>
                  </a:lnTo>
                  <a:lnTo>
                    <a:pt x="185" y="704"/>
                  </a:lnTo>
                  <a:lnTo>
                    <a:pt x="190" y="707"/>
                  </a:lnTo>
                  <a:lnTo>
                    <a:pt x="196" y="709"/>
                  </a:lnTo>
                  <a:lnTo>
                    <a:pt x="206" y="714"/>
                  </a:lnTo>
                  <a:lnTo>
                    <a:pt x="209" y="714"/>
                  </a:lnTo>
                  <a:lnTo>
                    <a:pt x="214" y="717"/>
                  </a:lnTo>
                  <a:lnTo>
                    <a:pt x="219" y="717"/>
                  </a:lnTo>
                  <a:lnTo>
                    <a:pt x="223" y="720"/>
                  </a:lnTo>
                  <a:lnTo>
                    <a:pt x="228" y="721"/>
                  </a:lnTo>
                  <a:lnTo>
                    <a:pt x="233" y="723"/>
                  </a:lnTo>
                  <a:lnTo>
                    <a:pt x="238" y="725"/>
                  </a:lnTo>
                  <a:lnTo>
                    <a:pt x="242" y="726"/>
                  </a:lnTo>
                  <a:lnTo>
                    <a:pt x="247" y="728"/>
                  </a:lnTo>
                  <a:lnTo>
                    <a:pt x="252" y="729"/>
                  </a:lnTo>
                  <a:lnTo>
                    <a:pt x="257" y="731"/>
                  </a:lnTo>
                  <a:lnTo>
                    <a:pt x="261" y="733"/>
                  </a:lnTo>
                  <a:lnTo>
                    <a:pt x="264" y="733"/>
                  </a:lnTo>
                  <a:lnTo>
                    <a:pt x="269" y="734"/>
                  </a:lnTo>
                  <a:lnTo>
                    <a:pt x="272" y="734"/>
                  </a:lnTo>
                  <a:lnTo>
                    <a:pt x="277" y="736"/>
                  </a:lnTo>
                  <a:lnTo>
                    <a:pt x="282" y="736"/>
                  </a:lnTo>
                  <a:lnTo>
                    <a:pt x="287" y="736"/>
                  </a:lnTo>
                  <a:lnTo>
                    <a:pt x="291" y="736"/>
                  </a:lnTo>
                  <a:lnTo>
                    <a:pt x="296" y="737"/>
                  </a:lnTo>
                  <a:lnTo>
                    <a:pt x="304" y="736"/>
                  </a:lnTo>
                  <a:lnTo>
                    <a:pt x="310" y="734"/>
                  </a:lnTo>
                  <a:lnTo>
                    <a:pt x="318" y="733"/>
                  </a:lnTo>
                  <a:lnTo>
                    <a:pt x="326" y="729"/>
                  </a:lnTo>
                  <a:lnTo>
                    <a:pt x="332" y="725"/>
                  </a:lnTo>
                  <a:lnTo>
                    <a:pt x="339" y="718"/>
                  </a:lnTo>
                  <a:lnTo>
                    <a:pt x="342" y="714"/>
                  </a:lnTo>
                  <a:lnTo>
                    <a:pt x="344" y="710"/>
                  </a:lnTo>
                  <a:lnTo>
                    <a:pt x="347" y="706"/>
                  </a:lnTo>
                  <a:lnTo>
                    <a:pt x="351" y="701"/>
                  </a:lnTo>
                  <a:lnTo>
                    <a:pt x="355" y="695"/>
                  </a:lnTo>
                  <a:lnTo>
                    <a:pt x="358" y="690"/>
                  </a:lnTo>
                  <a:lnTo>
                    <a:pt x="361" y="684"/>
                  </a:lnTo>
                  <a:lnTo>
                    <a:pt x="364" y="677"/>
                  </a:lnTo>
                  <a:lnTo>
                    <a:pt x="367" y="669"/>
                  </a:lnTo>
                  <a:lnTo>
                    <a:pt x="372" y="663"/>
                  </a:lnTo>
                  <a:lnTo>
                    <a:pt x="375" y="653"/>
                  </a:lnTo>
                  <a:lnTo>
                    <a:pt x="378" y="646"/>
                  </a:lnTo>
                  <a:lnTo>
                    <a:pt x="380" y="641"/>
                  </a:lnTo>
                  <a:lnTo>
                    <a:pt x="381" y="636"/>
                  </a:lnTo>
                  <a:lnTo>
                    <a:pt x="383" y="631"/>
                  </a:lnTo>
                  <a:lnTo>
                    <a:pt x="385" y="628"/>
                  </a:lnTo>
                  <a:lnTo>
                    <a:pt x="386" y="622"/>
                  </a:lnTo>
                  <a:lnTo>
                    <a:pt x="388" y="617"/>
                  </a:lnTo>
                  <a:lnTo>
                    <a:pt x="389" y="611"/>
                  </a:lnTo>
                  <a:lnTo>
                    <a:pt x="393" y="606"/>
                  </a:lnTo>
                  <a:lnTo>
                    <a:pt x="394" y="600"/>
                  </a:lnTo>
                  <a:lnTo>
                    <a:pt x="396" y="595"/>
                  </a:lnTo>
                  <a:lnTo>
                    <a:pt x="397" y="590"/>
                  </a:lnTo>
                  <a:lnTo>
                    <a:pt x="399" y="584"/>
                  </a:lnTo>
                  <a:lnTo>
                    <a:pt x="400" y="578"/>
                  </a:lnTo>
                  <a:lnTo>
                    <a:pt x="402" y="571"/>
                  </a:lnTo>
                  <a:lnTo>
                    <a:pt x="404" y="565"/>
                  </a:lnTo>
                  <a:lnTo>
                    <a:pt x="407" y="559"/>
                  </a:lnTo>
                  <a:lnTo>
                    <a:pt x="408" y="552"/>
                  </a:lnTo>
                  <a:lnTo>
                    <a:pt x="410" y="546"/>
                  </a:lnTo>
                  <a:lnTo>
                    <a:pt x="412" y="538"/>
                  </a:lnTo>
                  <a:lnTo>
                    <a:pt x="413" y="532"/>
                  </a:lnTo>
                  <a:lnTo>
                    <a:pt x="415" y="524"/>
                  </a:lnTo>
                  <a:lnTo>
                    <a:pt x="416" y="516"/>
                  </a:lnTo>
                  <a:lnTo>
                    <a:pt x="418" y="510"/>
                  </a:lnTo>
                  <a:lnTo>
                    <a:pt x="421" y="503"/>
                  </a:lnTo>
                  <a:lnTo>
                    <a:pt x="421" y="494"/>
                  </a:lnTo>
                  <a:lnTo>
                    <a:pt x="423" y="486"/>
                  </a:lnTo>
                  <a:lnTo>
                    <a:pt x="424" y="478"/>
                  </a:lnTo>
                  <a:lnTo>
                    <a:pt x="427" y="470"/>
                  </a:lnTo>
                  <a:lnTo>
                    <a:pt x="429" y="462"/>
                  </a:lnTo>
                  <a:lnTo>
                    <a:pt x="431" y="454"/>
                  </a:lnTo>
                  <a:lnTo>
                    <a:pt x="432" y="445"/>
                  </a:lnTo>
                  <a:lnTo>
                    <a:pt x="435" y="437"/>
                  </a:lnTo>
                  <a:lnTo>
                    <a:pt x="437" y="427"/>
                  </a:lnTo>
                  <a:lnTo>
                    <a:pt x="438" y="419"/>
                  </a:lnTo>
                  <a:lnTo>
                    <a:pt x="440" y="410"/>
                  </a:lnTo>
                  <a:lnTo>
                    <a:pt x="442" y="402"/>
                  </a:lnTo>
                  <a:lnTo>
                    <a:pt x="445" y="393"/>
                  </a:lnTo>
                  <a:lnTo>
                    <a:pt x="446" y="385"/>
                  </a:lnTo>
                  <a:lnTo>
                    <a:pt x="449" y="377"/>
                  </a:lnTo>
                  <a:lnTo>
                    <a:pt x="451" y="369"/>
                  </a:lnTo>
                  <a:lnTo>
                    <a:pt x="454" y="359"/>
                  </a:lnTo>
                  <a:lnTo>
                    <a:pt x="456" y="351"/>
                  </a:lnTo>
                  <a:lnTo>
                    <a:pt x="459" y="344"/>
                  </a:lnTo>
                  <a:lnTo>
                    <a:pt x="461" y="336"/>
                  </a:lnTo>
                  <a:lnTo>
                    <a:pt x="462" y="328"/>
                  </a:lnTo>
                  <a:lnTo>
                    <a:pt x="465" y="320"/>
                  </a:lnTo>
                  <a:lnTo>
                    <a:pt x="468" y="313"/>
                  </a:lnTo>
                  <a:lnTo>
                    <a:pt x="472" y="307"/>
                  </a:lnTo>
                  <a:lnTo>
                    <a:pt x="475" y="299"/>
                  </a:lnTo>
                  <a:lnTo>
                    <a:pt x="478" y="291"/>
                  </a:lnTo>
                  <a:lnTo>
                    <a:pt x="481" y="283"/>
                  </a:lnTo>
                  <a:lnTo>
                    <a:pt x="484" y="277"/>
                  </a:lnTo>
                  <a:lnTo>
                    <a:pt x="486" y="269"/>
                  </a:lnTo>
                  <a:lnTo>
                    <a:pt x="489" y="263"/>
                  </a:lnTo>
                  <a:lnTo>
                    <a:pt x="492" y="257"/>
                  </a:lnTo>
                  <a:lnTo>
                    <a:pt x="497" y="250"/>
                  </a:lnTo>
                  <a:lnTo>
                    <a:pt x="499" y="244"/>
                  </a:lnTo>
                  <a:lnTo>
                    <a:pt x="502" y="236"/>
                  </a:lnTo>
                  <a:lnTo>
                    <a:pt x="505" y="230"/>
                  </a:lnTo>
                  <a:lnTo>
                    <a:pt x="510" y="225"/>
                  </a:lnTo>
                  <a:lnTo>
                    <a:pt x="513" y="219"/>
                  </a:lnTo>
                  <a:lnTo>
                    <a:pt x="516" y="212"/>
                  </a:lnTo>
                  <a:lnTo>
                    <a:pt x="519" y="206"/>
                  </a:lnTo>
                  <a:lnTo>
                    <a:pt x="524" y="201"/>
                  </a:lnTo>
                  <a:lnTo>
                    <a:pt x="527" y="195"/>
                  </a:lnTo>
                  <a:lnTo>
                    <a:pt x="530" y="190"/>
                  </a:lnTo>
                  <a:lnTo>
                    <a:pt x="533" y="184"/>
                  </a:lnTo>
                  <a:lnTo>
                    <a:pt x="537" y="179"/>
                  </a:lnTo>
                  <a:lnTo>
                    <a:pt x="540" y="173"/>
                  </a:lnTo>
                  <a:lnTo>
                    <a:pt x="544" y="168"/>
                  </a:lnTo>
                  <a:lnTo>
                    <a:pt x="548" y="163"/>
                  </a:lnTo>
                  <a:lnTo>
                    <a:pt x="551" y="158"/>
                  </a:lnTo>
                  <a:lnTo>
                    <a:pt x="554" y="152"/>
                  </a:lnTo>
                  <a:lnTo>
                    <a:pt x="559" y="147"/>
                  </a:lnTo>
                  <a:lnTo>
                    <a:pt x="562" y="143"/>
                  </a:lnTo>
                  <a:lnTo>
                    <a:pt x="565" y="140"/>
                  </a:lnTo>
                  <a:lnTo>
                    <a:pt x="568" y="135"/>
                  </a:lnTo>
                  <a:lnTo>
                    <a:pt x="571" y="130"/>
                  </a:lnTo>
                  <a:lnTo>
                    <a:pt x="576" y="127"/>
                  </a:lnTo>
                  <a:lnTo>
                    <a:pt x="579" y="124"/>
                  </a:lnTo>
                  <a:lnTo>
                    <a:pt x="587" y="114"/>
                  </a:lnTo>
                  <a:lnTo>
                    <a:pt x="593" y="108"/>
                  </a:lnTo>
                  <a:lnTo>
                    <a:pt x="601" y="100"/>
                  </a:lnTo>
                  <a:lnTo>
                    <a:pt x="608" y="95"/>
                  </a:lnTo>
                  <a:lnTo>
                    <a:pt x="614" y="87"/>
                  </a:lnTo>
                  <a:lnTo>
                    <a:pt x="622" y="83"/>
                  </a:lnTo>
                  <a:lnTo>
                    <a:pt x="628" y="78"/>
                  </a:lnTo>
                  <a:lnTo>
                    <a:pt x="636" y="73"/>
                  </a:lnTo>
                  <a:lnTo>
                    <a:pt x="641" y="68"/>
                  </a:lnTo>
                  <a:lnTo>
                    <a:pt x="647" y="65"/>
                  </a:lnTo>
                  <a:lnTo>
                    <a:pt x="652" y="62"/>
                  </a:lnTo>
                  <a:lnTo>
                    <a:pt x="658" y="59"/>
                  </a:lnTo>
                  <a:lnTo>
                    <a:pt x="663" y="57"/>
                  </a:lnTo>
                  <a:lnTo>
                    <a:pt x="668" y="54"/>
                  </a:lnTo>
                  <a:lnTo>
                    <a:pt x="673" y="53"/>
                  </a:lnTo>
                  <a:lnTo>
                    <a:pt x="677" y="51"/>
                  </a:lnTo>
                  <a:lnTo>
                    <a:pt x="685" y="49"/>
                  </a:lnTo>
                  <a:lnTo>
                    <a:pt x="692" y="48"/>
                  </a:lnTo>
                  <a:lnTo>
                    <a:pt x="698" y="48"/>
                  </a:lnTo>
                  <a:lnTo>
                    <a:pt x="704" y="51"/>
                  </a:lnTo>
                  <a:lnTo>
                    <a:pt x="707" y="53"/>
                  </a:lnTo>
                  <a:lnTo>
                    <a:pt x="712" y="56"/>
                  </a:lnTo>
                  <a:lnTo>
                    <a:pt x="715" y="60"/>
                  </a:lnTo>
                  <a:lnTo>
                    <a:pt x="718" y="64"/>
                  </a:lnTo>
                  <a:lnTo>
                    <a:pt x="720" y="68"/>
                  </a:lnTo>
                  <a:lnTo>
                    <a:pt x="723" y="75"/>
                  </a:lnTo>
                  <a:lnTo>
                    <a:pt x="725" y="81"/>
                  </a:lnTo>
                  <a:lnTo>
                    <a:pt x="726" y="89"/>
                  </a:lnTo>
                  <a:lnTo>
                    <a:pt x="726" y="90"/>
                  </a:lnTo>
                  <a:lnTo>
                    <a:pt x="726" y="95"/>
                  </a:lnTo>
                  <a:lnTo>
                    <a:pt x="726" y="100"/>
                  </a:lnTo>
                  <a:lnTo>
                    <a:pt x="728" y="105"/>
                  </a:lnTo>
                  <a:lnTo>
                    <a:pt x="728" y="109"/>
                  </a:lnTo>
                  <a:lnTo>
                    <a:pt x="728" y="116"/>
                  </a:lnTo>
                  <a:lnTo>
                    <a:pt x="728" y="122"/>
                  </a:lnTo>
                  <a:lnTo>
                    <a:pt x="728" y="130"/>
                  </a:lnTo>
                  <a:lnTo>
                    <a:pt x="728" y="138"/>
                  </a:lnTo>
                  <a:lnTo>
                    <a:pt x="728" y="144"/>
                  </a:lnTo>
                  <a:lnTo>
                    <a:pt x="726" y="149"/>
                  </a:lnTo>
                  <a:lnTo>
                    <a:pt x="726" y="154"/>
                  </a:lnTo>
                  <a:lnTo>
                    <a:pt x="726" y="158"/>
                  </a:lnTo>
                  <a:lnTo>
                    <a:pt x="726" y="163"/>
                  </a:lnTo>
                  <a:lnTo>
                    <a:pt x="726" y="168"/>
                  </a:lnTo>
                  <a:lnTo>
                    <a:pt x="726" y="173"/>
                  </a:lnTo>
                  <a:lnTo>
                    <a:pt x="725" y="177"/>
                  </a:lnTo>
                  <a:lnTo>
                    <a:pt x="725" y="182"/>
                  </a:lnTo>
                  <a:lnTo>
                    <a:pt x="725" y="185"/>
                  </a:lnTo>
                  <a:lnTo>
                    <a:pt x="723" y="192"/>
                  </a:lnTo>
                  <a:lnTo>
                    <a:pt x="723" y="196"/>
                  </a:lnTo>
                  <a:lnTo>
                    <a:pt x="723" y="203"/>
                  </a:lnTo>
                  <a:lnTo>
                    <a:pt x="722" y="208"/>
                  </a:lnTo>
                  <a:lnTo>
                    <a:pt x="720" y="214"/>
                  </a:lnTo>
                  <a:lnTo>
                    <a:pt x="718" y="219"/>
                  </a:lnTo>
                  <a:lnTo>
                    <a:pt x="718" y="225"/>
                  </a:lnTo>
                  <a:lnTo>
                    <a:pt x="717" y="230"/>
                  </a:lnTo>
                  <a:lnTo>
                    <a:pt x="715" y="236"/>
                  </a:lnTo>
                  <a:lnTo>
                    <a:pt x="714" y="242"/>
                  </a:lnTo>
                  <a:lnTo>
                    <a:pt x="712" y="249"/>
                  </a:lnTo>
                  <a:lnTo>
                    <a:pt x="711" y="255"/>
                  </a:lnTo>
                  <a:lnTo>
                    <a:pt x="709" y="261"/>
                  </a:lnTo>
                  <a:lnTo>
                    <a:pt x="707" y="266"/>
                  </a:lnTo>
                  <a:lnTo>
                    <a:pt x="706" y="272"/>
                  </a:lnTo>
                  <a:lnTo>
                    <a:pt x="703" y="279"/>
                  </a:lnTo>
                  <a:lnTo>
                    <a:pt x="701" y="285"/>
                  </a:lnTo>
                  <a:lnTo>
                    <a:pt x="699" y="293"/>
                  </a:lnTo>
                  <a:lnTo>
                    <a:pt x="698" y="299"/>
                  </a:lnTo>
                  <a:lnTo>
                    <a:pt x="695" y="306"/>
                  </a:lnTo>
                  <a:lnTo>
                    <a:pt x="692" y="312"/>
                  </a:lnTo>
                  <a:lnTo>
                    <a:pt x="688" y="318"/>
                  </a:lnTo>
                  <a:lnTo>
                    <a:pt x="687" y="326"/>
                  </a:lnTo>
                  <a:lnTo>
                    <a:pt x="684" y="332"/>
                  </a:lnTo>
                  <a:lnTo>
                    <a:pt x="680" y="340"/>
                  </a:lnTo>
                  <a:lnTo>
                    <a:pt x="677" y="347"/>
                  </a:lnTo>
                  <a:lnTo>
                    <a:pt x="676" y="355"/>
                  </a:lnTo>
                  <a:lnTo>
                    <a:pt x="671" y="361"/>
                  </a:lnTo>
                  <a:lnTo>
                    <a:pt x="668" y="369"/>
                  </a:lnTo>
                  <a:lnTo>
                    <a:pt x="665" y="375"/>
                  </a:lnTo>
                  <a:lnTo>
                    <a:pt x="661" y="383"/>
                  </a:lnTo>
                  <a:lnTo>
                    <a:pt x="657" y="389"/>
                  </a:lnTo>
                  <a:lnTo>
                    <a:pt x="654" y="397"/>
                  </a:lnTo>
                  <a:lnTo>
                    <a:pt x="649" y="405"/>
                  </a:lnTo>
                  <a:lnTo>
                    <a:pt x="646" y="413"/>
                  </a:lnTo>
                  <a:lnTo>
                    <a:pt x="641" y="419"/>
                  </a:lnTo>
                  <a:lnTo>
                    <a:pt x="638" y="426"/>
                  </a:lnTo>
                  <a:lnTo>
                    <a:pt x="635" y="430"/>
                  </a:lnTo>
                  <a:lnTo>
                    <a:pt x="631" y="437"/>
                  </a:lnTo>
                  <a:lnTo>
                    <a:pt x="627" y="442"/>
                  </a:lnTo>
                  <a:lnTo>
                    <a:pt x="624" y="448"/>
                  </a:lnTo>
                  <a:lnTo>
                    <a:pt x="619" y="454"/>
                  </a:lnTo>
                  <a:lnTo>
                    <a:pt x="616" y="461"/>
                  </a:lnTo>
                  <a:lnTo>
                    <a:pt x="612" y="465"/>
                  </a:lnTo>
                  <a:lnTo>
                    <a:pt x="609" y="470"/>
                  </a:lnTo>
                  <a:lnTo>
                    <a:pt x="605" y="476"/>
                  </a:lnTo>
                  <a:lnTo>
                    <a:pt x="601" y="483"/>
                  </a:lnTo>
                  <a:lnTo>
                    <a:pt x="598" y="487"/>
                  </a:lnTo>
                  <a:lnTo>
                    <a:pt x="595" y="494"/>
                  </a:lnTo>
                  <a:lnTo>
                    <a:pt x="590" y="498"/>
                  </a:lnTo>
                  <a:lnTo>
                    <a:pt x="587" y="505"/>
                  </a:lnTo>
                  <a:lnTo>
                    <a:pt x="584" y="510"/>
                  </a:lnTo>
                  <a:lnTo>
                    <a:pt x="581" y="514"/>
                  </a:lnTo>
                  <a:lnTo>
                    <a:pt x="576" y="519"/>
                  </a:lnTo>
                  <a:lnTo>
                    <a:pt x="574" y="525"/>
                  </a:lnTo>
                  <a:lnTo>
                    <a:pt x="570" y="530"/>
                  </a:lnTo>
                  <a:lnTo>
                    <a:pt x="567" y="535"/>
                  </a:lnTo>
                  <a:lnTo>
                    <a:pt x="563" y="541"/>
                  </a:lnTo>
                  <a:lnTo>
                    <a:pt x="560" y="546"/>
                  </a:lnTo>
                  <a:lnTo>
                    <a:pt x="555" y="551"/>
                  </a:lnTo>
                  <a:lnTo>
                    <a:pt x="552" y="555"/>
                  </a:lnTo>
                  <a:lnTo>
                    <a:pt x="549" y="560"/>
                  </a:lnTo>
                  <a:lnTo>
                    <a:pt x="546" y="565"/>
                  </a:lnTo>
                  <a:lnTo>
                    <a:pt x="543" y="570"/>
                  </a:lnTo>
                  <a:lnTo>
                    <a:pt x="540" y="574"/>
                  </a:lnTo>
                  <a:lnTo>
                    <a:pt x="537" y="579"/>
                  </a:lnTo>
                  <a:lnTo>
                    <a:pt x="533" y="584"/>
                  </a:lnTo>
                  <a:lnTo>
                    <a:pt x="527" y="592"/>
                  </a:lnTo>
                  <a:lnTo>
                    <a:pt x="521" y="600"/>
                  </a:lnTo>
                  <a:lnTo>
                    <a:pt x="514" y="608"/>
                  </a:lnTo>
                  <a:lnTo>
                    <a:pt x="510" y="617"/>
                  </a:lnTo>
                  <a:lnTo>
                    <a:pt x="503" y="623"/>
                  </a:lnTo>
                  <a:lnTo>
                    <a:pt x="499" y="631"/>
                  </a:lnTo>
                  <a:lnTo>
                    <a:pt x="494" y="638"/>
                  </a:lnTo>
                  <a:lnTo>
                    <a:pt x="491" y="646"/>
                  </a:lnTo>
                  <a:lnTo>
                    <a:pt x="486" y="652"/>
                  </a:lnTo>
                  <a:lnTo>
                    <a:pt x="481" y="658"/>
                  </a:lnTo>
                  <a:lnTo>
                    <a:pt x="476" y="665"/>
                  </a:lnTo>
                  <a:lnTo>
                    <a:pt x="473" y="671"/>
                  </a:lnTo>
                  <a:lnTo>
                    <a:pt x="470" y="676"/>
                  </a:lnTo>
                  <a:lnTo>
                    <a:pt x="468" y="682"/>
                  </a:lnTo>
                  <a:lnTo>
                    <a:pt x="465" y="687"/>
                  </a:lnTo>
                  <a:lnTo>
                    <a:pt x="464" y="691"/>
                  </a:lnTo>
                  <a:lnTo>
                    <a:pt x="461" y="698"/>
                  </a:lnTo>
                  <a:lnTo>
                    <a:pt x="459" y="704"/>
                  </a:lnTo>
                  <a:lnTo>
                    <a:pt x="456" y="710"/>
                  </a:lnTo>
                  <a:lnTo>
                    <a:pt x="453" y="717"/>
                  </a:lnTo>
                  <a:lnTo>
                    <a:pt x="449" y="725"/>
                  </a:lnTo>
                  <a:lnTo>
                    <a:pt x="448" y="731"/>
                  </a:lnTo>
                  <a:lnTo>
                    <a:pt x="445" y="739"/>
                  </a:lnTo>
                  <a:lnTo>
                    <a:pt x="443" y="747"/>
                  </a:lnTo>
                  <a:lnTo>
                    <a:pt x="442" y="753"/>
                  </a:lnTo>
                  <a:lnTo>
                    <a:pt x="442" y="759"/>
                  </a:lnTo>
                  <a:lnTo>
                    <a:pt x="440" y="767"/>
                  </a:lnTo>
                  <a:lnTo>
                    <a:pt x="442" y="774"/>
                  </a:lnTo>
                  <a:lnTo>
                    <a:pt x="442" y="782"/>
                  </a:lnTo>
                  <a:lnTo>
                    <a:pt x="443" y="788"/>
                  </a:lnTo>
                  <a:lnTo>
                    <a:pt x="446" y="796"/>
                  </a:lnTo>
                  <a:lnTo>
                    <a:pt x="449" y="802"/>
                  </a:lnTo>
                  <a:lnTo>
                    <a:pt x="453" y="807"/>
                  </a:lnTo>
                  <a:lnTo>
                    <a:pt x="456" y="813"/>
                  </a:lnTo>
                  <a:lnTo>
                    <a:pt x="461" y="818"/>
                  </a:lnTo>
                  <a:lnTo>
                    <a:pt x="468" y="823"/>
                  </a:lnTo>
                  <a:lnTo>
                    <a:pt x="473" y="827"/>
                  </a:lnTo>
                  <a:lnTo>
                    <a:pt x="481" y="832"/>
                  </a:lnTo>
                  <a:lnTo>
                    <a:pt x="489" y="837"/>
                  </a:lnTo>
                  <a:lnTo>
                    <a:pt x="497" y="842"/>
                  </a:lnTo>
                  <a:lnTo>
                    <a:pt x="503" y="845"/>
                  </a:lnTo>
                  <a:lnTo>
                    <a:pt x="510" y="848"/>
                  </a:lnTo>
                  <a:lnTo>
                    <a:pt x="516" y="851"/>
                  </a:lnTo>
                  <a:lnTo>
                    <a:pt x="522" y="854"/>
                  </a:lnTo>
                  <a:lnTo>
                    <a:pt x="529" y="857"/>
                  </a:lnTo>
                  <a:lnTo>
                    <a:pt x="533" y="859"/>
                  </a:lnTo>
                  <a:lnTo>
                    <a:pt x="538" y="862"/>
                  </a:lnTo>
                  <a:lnTo>
                    <a:pt x="543" y="865"/>
                  </a:lnTo>
                  <a:lnTo>
                    <a:pt x="548" y="867"/>
                  </a:lnTo>
                  <a:lnTo>
                    <a:pt x="552" y="869"/>
                  </a:lnTo>
                  <a:lnTo>
                    <a:pt x="555" y="870"/>
                  </a:lnTo>
                  <a:lnTo>
                    <a:pt x="560" y="873"/>
                  </a:lnTo>
                  <a:lnTo>
                    <a:pt x="567" y="876"/>
                  </a:lnTo>
                  <a:lnTo>
                    <a:pt x="574" y="880"/>
                  </a:lnTo>
                  <a:lnTo>
                    <a:pt x="579" y="883"/>
                  </a:lnTo>
                  <a:lnTo>
                    <a:pt x="584" y="886"/>
                  </a:lnTo>
                  <a:lnTo>
                    <a:pt x="590" y="889"/>
                  </a:lnTo>
                  <a:lnTo>
                    <a:pt x="595" y="894"/>
                  </a:lnTo>
                  <a:lnTo>
                    <a:pt x="600" y="897"/>
                  </a:lnTo>
                  <a:lnTo>
                    <a:pt x="605" y="902"/>
                  </a:lnTo>
                  <a:lnTo>
                    <a:pt x="609" y="907"/>
                  </a:lnTo>
                  <a:lnTo>
                    <a:pt x="616" y="913"/>
                  </a:lnTo>
                  <a:lnTo>
                    <a:pt x="619" y="916"/>
                  </a:lnTo>
                  <a:lnTo>
                    <a:pt x="622" y="921"/>
                  </a:lnTo>
                  <a:lnTo>
                    <a:pt x="625" y="929"/>
                  </a:lnTo>
                  <a:lnTo>
                    <a:pt x="630" y="937"/>
                  </a:lnTo>
                  <a:lnTo>
                    <a:pt x="630" y="940"/>
                  </a:lnTo>
                  <a:lnTo>
                    <a:pt x="631" y="944"/>
                  </a:lnTo>
                  <a:lnTo>
                    <a:pt x="631" y="949"/>
                  </a:lnTo>
                  <a:lnTo>
                    <a:pt x="633" y="954"/>
                  </a:lnTo>
                  <a:lnTo>
                    <a:pt x="633" y="959"/>
                  </a:lnTo>
                  <a:lnTo>
                    <a:pt x="633" y="963"/>
                  </a:lnTo>
                  <a:lnTo>
                    <a:pt x="633" y="967"/>
                  </a:lnTo>
                  <a:lnTo>
                    <a:pt x="633" y="973"/>
                  </a:lnTo>
                  <a:lnTo>
                    <a:pt x="630" y="979"/>
                  </a:lnTo>
                  <a:lnTo>
                    <a:pt x="628" y="987"/>
                  </a:lnTo>
                  <a:lnTo>
                    <a:pt x="627" y="993"/>
                  </a:lnTo>
                  <a:lnTo>
                    <a:pt x="625" y="1000"/>
                  </a:lnTo>
                  <a:lnTo>
                    <a:pt x="622" y="1005"/>
                  </a:lnTo>
                  <a:lnTo>
                    <a:pt x="619" y="1011"/>
                  </a:lnTo>
                  <a:lnTo>
                    <a:pt x="617" y="1016"/>
                  </a:lnTo>
                  <a:lnTo>
                    <a:pt x="614" y="1022"/>
                  </a:lnTo>
                  <a:lnTo>
                    <a:pt x="611" y="1027"/>
                  </a:lnTo>
                  <a:lnTo>
                    <a:pt x="608" y="1031"/>
                  </a:lnTo>
                  <a:lnTo>
                    <a:pt x="603" y="1036"/>
                  </a:lnTo>
                  <a:lnTo>
                    <a:pt x="600" y="1041"/>
                  </a:lnTo>
                  <a:lnTo>
                    <a:pt x="597" y="1046"/>
                  </a:lnTo>
                  <a:lnTo>
                    <a:pt x="592" y="1052"/>
                  </a:lnTo>
                  <a:lnTo>
                    <a:pt x="587" y="1058"/>
                  </a:lnTo>
                  <a:lnTo>
                    <a:pt x="584" y="1065"/>
                  </a:lnTo>
                  <a:lnTo>
                    <a:pt x="622" y="1093"/>
                  </a:lnTo>
                  <a:lnTo>
                    <a:pt x="624" y="1090"/>
                  </a:lnTo>
                  <a:lnTo>
                    <a:pt x="627" y="1087"/>
                  </a:lnTo>
                  <a:lnTo>
                    <a:pt x="628" y="1082"/>
                  </a:lnTo>
                  <a:lnTo>
                    <a:pt x="631" y="1080"/>
                  </a:lnTo>
                  <a:lnTo>
                    <a:pt x="635" y="1076"/>
                  </a:lnTo>
                  <a:lnTo>
                    <a:pt x="639" y="1073"/>
                  </a:lnTo>
                  <a:lnTo>
                    <a:pt x="641" y="1066"/>
                  </a:lnTo>
                  <a:lnTo>
                    <a:pt x="646" y="1060"/>
                  </a:lnTo>
                  <a:lnTo>
                    <a:pt x="649" y="1055"/>
                  </a:lnTo>
                  <a:lnTo>
                    <a:pt x="652" y="1049"/>
                  </a:lnTo>
                  <a:lnTo>
                    <a:pt x="655" y="1043"/>
                  </a:lnTo>
                  <a:lnTo>
                    <a:pt x="660" y="1036"/>
                  </a:lnTo>
                  <a:lnTo>
                    <a:pt x="663" y="1028"/>
                  </a:lnTo>
                  <a:lnTo>
                    <a:pt x="666" y="1022"/>
                  </a:lnTo>
                  <a:lnTo>
                    <a:pt x="668" y="1017"/>
                  </a:lnTo>
                  <a:lnTo>
                    <a:pt x="669" y="1011"/>
                  </a:lnTo>
                  <a:lnTo>
                    <a:pt x="671" y="1006"/>
                  </a:lnTo>
                  <a:lnTo>
                    <a:pt x="673" y="1001"/>
                  </a:lnTo>
                  <a:lnTo>
                    <a:pt x="674" y="995"/>
                  </a:lnTo>
                  <a:lnTo>
                    <a:pt x="676" y="989"/>
                  </a:lnTo>
                  <a:lnTo>
                    <a:pt x="676" y="982"/>
                  </a:lnTo>
                  <a:lnTo>
                    <a:pt x="677" y="976"/>
                  </a:lnTo>
                  <a:lnTo>
                    <a:pt x="677" y="970"/>
                  </a:lnTo>
                  <a:lnTo>
                    <a:pt x="677" y="963"/>
                  </a:lnTo>
                  <a:lnTo>
                    <a:pt x="677" y="957"/>
                  </a:lnTo>
                  <a:lnTo>
                    <a:pt x="679" y="951"/>
                  </a:lnTo>
                  <a:lnTo>
                    <a:pt x="677" y="944"/>
                  </a:lnTo>
                  <a:lnTo>
                    <a:pt x="677" y="938"/>
                  </a:lnTo>
                  <a:lnTo>
                    <a:pt x="677" y="932"/>
                  </a:lnTo>
                  <a:lnTo>
                    <a:pt x="677" y="927"/>
                  </a:lnTo>
                  <a:lnTo>
                    <a:pt x="676" y="921"/>
                  </a:lnTo>
                  <a:lnTo>
                    <a:pt x="674" y="916"/>
                  </a:lnTo>
                  <a:lnTo>
                    <a:pt x="673" y="911"/>
                  </a:lnTo>
                  <a:lnTo>
                    <a:pt x="671" y="907"/>
                  </a:lnTo>
                  <a:lnTo>
                    <a:pt x="668" y="902"/>
                  </a:lnTo>
                  <a:lnTo>
                    <a:pt x="666" y="897"/>
                  </a:lnTo>
                  <a:lnTo>
                    <a:pt x="663" y="892"/>
                  </a:lnTo>
                  <a:lnTo>
                    <a:pt x="661" y="889"/>
                  </a:lnTo>
                  <a:lnTo>
                    <a:pt x="654" y="880"/>
                  </a:lnTo>
                  <a:lnTo>
                    <a:pt x="647" y="873"/>
                  </a:lnTo>
                  <a:lnTo>
                    <a:pt x="639" y="867"/>
                  </a:lnTo>
                  <a:lnTo>
                    <a:pt x="631" y="861"/>
                  </a:lnTo>
                  <a:lnTo>
                    <a:pt x="627" y="856"/>
                  </a:lnTo>
                  <a:lnTo>
                    <a:pt x="622" y="853"/>
                  </a:lnTo>
                  <a:lnTo>
                    <a:pt x="617" y="850"/>
                  </a:lnTo>
                  <a:lnTo>
                    <a:pt x="612" y="848"/>
                  </a:lnTo>
                  <a:lnTo>
                    <a:pt x="608" y="845"/>
                  </a:lnTo>
                  <a:lnTo>
                    <a:pt x="603" y="842"/>
                  </a:lnTo>
                  <a:lnTo>
                    <a:pt x="597" y="839"/>
                  </a:lnTo>
                  <a:lnTo>
                    <a:pt x="592" y="837"/>
                  </a:lnTo>
                  <a:lnTo>
                    <a:pt x="586" y="834"/>
                  </a:lnTo>
                  <a:lnTo>
                    <a:pt x="581" y="831"/>
                  </a:lnTo>
                  <a:lnTo>
                    <a:pt x="574" y="827"/>
                  </a:lnTo>
                  <a:lnTo>
                    <a:pt x="570" y="824"/>
                  </a:lnTo>
                  <a:lnTo>
                    <a:pt x="563" y="821"/>
                  </a:lnTo>
                  <a:lnTo>
                    <a:pt x="557" y="820"/>
                  </a:lnTo>
                  <a:lnTo>
                    <a:pt x="551" y="816"/>
                  </a:lnTo>
                  <a:lnTo>
                    <a:pt x="546" y="815"/>
                  </a:lnTo>
                  <a:lnTo>
                    <a:pt x="540" y="812"/>
                  </a:lnTo>
                  <a:lnTo>
                    <a:pt x="535" y="810"/>
                  </a:lnTo>
                  <a:lnTo>
                    <a:pt x="530" y="807"/>
                  </a:lnTo>
                  <a:lnTo>
                    <a:pt x="525" y="805"/>
                  </a:lnTo>
                  <a:lnTo>
                    <a:pt x="521" y="802"/>
                  </a:lnTo>
                  <a:lnTo>
                    <a:pt x="516" y="799"/>
                  </a:lnTo>
                  <a:lnTo>
                    <a:pt x="511" y="797"/>
                  </a:lnTo>
                  <a:lnTo>
                    <a:pt x="508" y="796"/>
                  </a:lnTo>
                  <a:lnTo>
                    <a:pt x="500" y="789"/>
                  </a:lnTo>
                  <a:lnTo>
                    <a:pt x="495" y="783"/>
                  </a:lnTo>
                  <a:lnTo>
                    <a:pt x="494" y="778"/>
                  </a:lnTo>
                  <a:lnTo>
                    <a:pt x="492" y="774"/>
                  </a:lnTo>
                  <a:lnTo>
                    <a:pt x="491" y="769"/>
                  </a:lnTo>
                  <a:lnTo>
                    <a:pt x="491" y="766"/>
                  </a:lnTo>
                  <a:lnTo>
                    <a:pt x="491" y="756"/>
                  </a:lnTo>
                  <a:lnTo>
                    <a:pt x="492" y="750"/>
                  </a:lnTo>
                  <a:lnTo>
                    <a:pt x="492" y="745"/>
                  </a:lnTo>
                  <a:lnTo>
                    <a:pt x="494" y="740"/>
                  </a:lnTo>
                  <a:lnTo>
                    <a:pt x="495" y="736"/>
                  </a:lnTo>
                  <a:lnTo>
                    <a:pt x="499" y="731"/>
                  </a:lnTo>
                  <a:lnTo>
                    <a:pt x="500" y="725"/>
                  </a:lnTo>
                  <a:lnTo>
                    <a:pt x="502" y="720"/>
                  </a:lnTo>
                  <a:lnTo>
                    <a:pt x="505" y="714"/>
                  </a:lnTo>
                  <a:lnTo>
                    <a:pt x="508" y="710"/>
                  </a:lnTo>
                  <a:lnTo>
                    <a:pt x="510" y="704"/>
                  </a:lnTo>
                  <a:lnTo>
                    <a:pt x="514" y="698"/>
                  </a:lnTo>
                  <a:lnTo>
                    <a:pt x="518" y="693"/>
                  </a:lnTo>
                  <a:lnTo>
                    <a:pt x="522" y="687"/>
                  </a:lnTo>
                  <a:lnTo>
                    <a:pt x="525" y="680"/>
                  </a:lnTo>
                  <a:lnTo>
                    <a:pt x="529" y="674"/>
                  </a:lnTo>
                  <a:lnTo>
                    <a:pt x="533" y="669"/>
                  </a:lnTo>
                  <a:lnTo>
                    <a:pt x="537" y="663"/>
                  </a:lnTo>
                  <a:lnTo>
                    <a:pt x="541" y="657"/>
                  </a:lnTo>
                  <a:lnTo>
                    <a:pt x="546" y="650"/>
                  </a:lnTo>
                  <a:lnTo>
                    <a:pt x="551" y="644"/>
                  </a:lnTo>
                  <a:lnTo>
                    <a:pt x="555" y="638"/>
                  </a:lnTo>
                  <a:lnTo>
                    <a:pt x="560" y="631"/>
                  </a:lnTo>
                  <a:lnTo>
                    <a:pt x="565" y="625"/>
                  </a:lnTo>
                  <a:lnTo>
                    <a:pt x="570" y="619"/>
                  </a:lnTo>
                  <a:lnTo>
                    <a:pt x="574" y="612"/>
                  </a:lnTo>
                  <a:lnTo>
                    <a:pt x="578" y="604"/>
                  </a:lnTo>
                  <a:lnTo>
                    <a:pt x="582" y="598"/>
                  </a:lnTo>
                  <a:lnTo>
                    <a:pt x="587" y="593"/>
                  </a:lnTo>
                  <a:lnTo>
                    <a:pt x="593" y="587"/>
                  </a:lnTo>
                  <a:lnTo>
                    <a:pt x="595" y="582"/>
                  </a:lnTo>
                  <a:lnTo>
                    <a:pt x="598" y="578"/>
                  </a:lnTo>
                  <a:lnTo>
                    <a:pt x="601" y="573"/>
                  </a:lnTo>
                  <a:lnTo>
                    <a:pt x="606" y="568"/>
                  </a:lnTo>
                  <a:lnTo>
                    <a:pt x="608" y="563"/>
                  </a:lnTo>
                  <a:lnTo>
                    <a:pt x="611" y="559"/>
                  </a:lnTo>
                  <a:lnTo>
                    <a:pt x="614" y="554"/>
                  </a:lnTo>
                  <a:lnTo>
                    <a:pt x="617" y="551"/>
                  </a:lnTo>
                  <a:lnTo>
                    <a:pt x="620" y="546"/>
                  </a:lnTo>
                  <a:lnTo>
                    <a:pt x="624" y="541"/>
                  </a:lnTo>
                  <a:lnTo>
                    <a:pt x="627" y="536"/>
                  </a:lnTo>
                  <a:lnTo>
                    <a:pt x="630" y="532"/>
                  </a:lnTo>
                  <a:lnTo>
                    <a:pt x="631" y="527"/>
                  </a:lnTo>
                  <a:lnTo>
                    <a:pt x="636" y="522"/>
                  </a:lnTo>
                  <a:lnTo>
                    <a:pt x="638" y="517"/>
                  </a:lnTo>
                  <a:lnTo>
                    <a:pt x="642" y="514"/>
                  </a:lnTo>
                  <a:lnTo>
                    <a:pt x="644" y="510"/>
                  </a:lnTo>
                  <a:lnTo>
                    <a:pt x="647" y="505"/>
                  </a:lnTo>
                  <a:lnTo>
                    <a:pt x="649" y="500"/>
                  </a:lnTo>
                  <a:lnTo>
                    <a:pt x="652" y="497"/>
                  </a:lnTo>
                  <a:lnTo>
                    <a:pt x="655" y="492"/>
                  </a:lnTo>
                  <a:lnTo>
                    <a:pt x="658" y="487"/>
                  </a:lnTo>
                  <a:lnTo>
                    <a:pt x="660" y="483"/>
                  </a:lnTo>
                  <a:lnTo>
                    <a:pt x="663" y="480"/>
                  </a:lnTo>
                  <a:lnTo>
                    <a:pt x="666" y="475"/>
                  </a:lnTo>
                  <a:lnTo>
                    <a:pt x="668" y="470"/>
                  </a:lnTo>
                  <a:lnTo>
                    <a:pt x="671" y="467"/>
                  </a:lnTo>
                  <a:lnTo>
                    <a:pt x="674" y="462"/>
                  </a:lnTo>
                  <a:lnTo>
                    <a:pt x="676" y="457"/>
                  </a:lnTo>
                  <a:lnTo>
                    <a:pt x="679" y="453"/>
                  </a:lnTo>
                  <a:lnTo>
                    <a:pt x="682" y="449"/>
                  </a:lnTo>
                  <a:lnTo>
                    <a:pt x="685" y="445"/>
                  </a:lnTo>
                  <a:lnTo>
                    <a:pt x="687" y="440"/>
                  </a:lnTo>
                  <a:lnTo>
                    <a:pt x="688" y="435"/>
                  </a:lnTo>
                  <a:lnTo>
                    <a:pt x="692" y="432"/>
                  </a:lnTo>
                  <a:lnTo>
                    <a:pt x="693" y="427"/>
                  </a:lnTo>
                  <a:lnTo>
                    <a:pt x="696" y="423"/>
                  </a:lnTo>
                  <a:lnTo>
                    <a:pt x="698" y="418"/>
                  </a:lnTo>
                  <a:lnTo>
                    <a:pt x="701" y="413"/>
                  </a:lnTo>
                  <a:lnTo>
                    <a:pt x="703" y="408"/>
                  </a:lnTo>
                  <a:lnTo>
                    <a:pt x="704" y="404"/>
                  </a:lnTo>
                  <a:lnTo>
                    <a:pt x="707" y="399"/>
                  </a:lnTo>
                  <a:lnTo>
                    <a:pt x="709" y="394"/>
                  </a:lnTo>
                  <a:lnTo>
                    <a:pt x="712" y="389"/>
                  </a:lnTo>
                  <a:lnTo>
                    <a:pt x="714" y="386"/>
                  </a:lnTo>
                  <a:lnTo>
                    <a:pt x="715" y="381"/>
                  </a:lnTo>
                  <a:lnTo>
                    <a:pt x="718" y="377"/>
                  </a:lnTo>
                  <a:lnTo>
                    <a:pt x="720" y="372"/>
                  </a:lnTo>
                  <a:lnTo>
                    <a:pt x="722" y="367"/>
                  </a:lnTo>
                  <a:lnTo>
                    <a:pt x="723" y="362"/>
                  </a:lnTo>
                  <a:lnTo>
                    <a:pt x="725" y="358"/>
                  </a:lnTo>
                  <a:lnTo>
                    <a:pt x="726" y="353"/>
                  </a:lnTo>
                  <a:lnTo>
                    <a:pt x="728" y="348"/>
                  </a:lnTo>
                  <a:lnTo>
                    <a:pt x="731" y="344"/>
                  </a:lnTo>
                  <a:lnTo>
                    <a:pt x="733" y="339"/>
                  </a:lnTo>
                  <a:lnTo>
                    <a:pt x="734" y="334"/>
                  </a:lnTo>
                  <a:lnTo>
                    <a:pt x="736" y="329"/>
                  </a:lnTo>
                  <a:lnTo>
                    <a:pt x="737" y="325"/>
                  </a:lnTo>
                  <a:lnTo>
                    <a:pt x="739" y="318"/>
                  </a:lnTo>
                  <a:lnTo>
                    <a:pt x="742" y="313"/>
                  </a:lnTo>
                  <a:lnTo>
                    <a:pt x="744" y="309"/>
                  </a:lnTo>
                  <a:lnTo>
                    <a:pt x="745" y="304"/>
                  </a:lnTo>
                  <a:lnTo>
                    <a:pt x="747" y="299"/>
                  </a:lnTo>
                  <a:lnTo>
                    <a:pt x="748" y="294"/>
                  </a:lnTo>
                  <a:lnTo>
                    <a:pt x="750" y="288"/>
                  </a:lnTo>
                  <a:lnTo>
                    <a:pt x="752" y="282"/>
                  </a:lnTo>
                  <a:lnTo>
                    <a:pt x="752" y="277"/>
                  </a:lnTo>
                  <a:lnTo>
                    <a:pt x="753" y="272"/>
                  </a:lnTo>
                  <a:lnTo>
                    <a:pt x="755" y="268"/>
                  </a:lnTo>
                  <a:lnTo>
                    <a:pt x="756" y="263"/>
                  </a:lnTo>
                  <a:lnTo>
                    <a:pt x="758" y="258"/>
                  </a:lnTo>
                  <a:lnTo>
                    <a:pt x="760" y="253"/>
                  </a:lnTo>
                  <a:lnTo>
                    <a:pt x="760" y="249"/>
                  </a:lnTo>
                  <a:lnTo>
                    <a:pt x="761" y="244"/>
                  </a:lnTo>
                  <a:lnTo>
                    <a:pt x="761" y="239"/>
                  </a:lnTo>
                  <a:lnTo>
                    <a:pt x="763" y="234"/>
                  </a:lnTo>
                  <a:lnTo>
                    <a:pt x="764" y="225"/>
                  </a:lnTo>
                  <a:lnTo>
                    <a:pt x="767" y="219"/>
                  </a:lnTo>
                  <a:lnTo>
                    <a:pt x="767" y="214"/>
                  </a:lnTo>
                  <a:lnTo>
                    <a:pt x="767" y="209"/>
                  </a:lnTo>
                  <a:lnTo>
                    <a:pt x="769" y="204"/>
                  </a:lnTo>
                  <a:lnTo>
                    <a:pt x="769" y="201"/>
                  </a:lnTo>
                  <a:lnTo>
                    <a:pt x="771" y="193"/>
                  </a:lnTo>
                  <a:lnTo>
                    <a:pt x="772" y="185"/>
                  </a:lnTo>
                  <a:lnTo>
                    <a:pt x="772" y="179"/>
                  </a:lnTo>
                  <a:lnTo>
                    <a:pt x="774" y="171"/>
                  </a:lnTo>
                  <a:lnTo>
                    <a:pt x="774" y="165"/>
                  </a:lnTo>
                  <a:lnTo>
                    <a:pt x="775" y="157"/>
                  </a:lnTo>
                  <a:lnTo>
                    <a:pt x="775" y="151"/>
                  </a:lnTo>
                  <a:lnTo>
                    <a:pt x="775" y="143"/>
                  </a:lnTo>
                  <a:lnTo>
                    <a:pt x="775" y="136"/>
                  </a:lnTo>
                  <a:lnTo>
                    <a:pt x="775" y="130"/>
                  </a:lnTo>
                  <a:lnTo>
                    <a:pt x="774" y="122"/>
                  </a:lnTo>
                  <a:lnTo>
                    <a:pt x="774" y="116"/>
                  </a:lnTo>
                  <a:lnTo>
                    <a:pt x="774" y="109"/>
                  </a:lnTo>
                  <a:lnTo>
                    <a:pt x="774" y="105"/>
                  </a:lnTo>
                  <a:lnTo>
                    <a:pt x="772" y="97"/>
                  </a:lnTo>
                  <a:lnTo>
                    <a:pt x="771" y="90"/>
                  </a:lnTo>
                  <a:lnTo>
                    <a:pt x="771" y="84"/>
                  </a:lnTo>
                  <a:lnTo>
                    <a:pt x="769" y="78"/>
                  </a:lnTo>
                  <a:lnTo>
                    <a:pt x="767" y="71"/>
                  </a:lnTo>
                  <a:lnTo>
                    <a:pt x="766" y="65"/>
                  </a:lnTo>
                  <a:lnTo>
                    <a:pt x="764" y="59"/>
                  </a:lnTo>
                  <a:lnTo>
                    <a:pt x="764" y="53"/>
                  </a:lnTo>
                  <a:lnTo>
                    <a:pt x="763" y="46"/>
                  </a:lnTo>
                  <a:lnTo>
                    <a:pt x="760" y="40"/>
                  </a:lnTo>
                  <a:lnTo>
                    <a:pt x="758" y="34"/>
                  </a:lnTo>
                  <a:lnTo>
                    <a:pt x="755" y="29"/>
                  </a:lnTo>
                  <a:lnTo>
                    <a:pt x="752" y="24"/>
                  </a:lnTo>
                  <a:lnTo>
                    <a:pt x="748" y="19"/>
                  </a:lnTo>
                  <a:lnTo>
                    <a:pt x="744" y="16"/>
                  </a:lnTo>
                  <a:lnTo>
                    <a:pt x="741" y="13"/>
                  </a:lnTo>
                  <a:lnTo>
                    <a:pt x="736" y="10"/>
                  </a:lnTo>
                  <a:lnTo>
                    <a:pt x="731" y="7"/>
                  </a:lnTo>
                  <a:lnTo>
                    <a:pt x="726" y="5"/>
                  </a:lnTo>
                  <a:lnTo>
                    <a:pt x="723" y="3"/>
                  </a:lnTo>
                  <a:lnTo>
                    <a:pt x="717" y="2"/>
                  </a:lnTo>
                  <a:lnTo>
                    <a:pt x="712" y="0"/>
                  </a:lnTo>
                  <a:lnTo>
                    <a:pt x="707" y="0"/>
                  </a:lnTo>
                  <a:lnTo>
                    <a:pt x="703" y="0"/>
                  </a:lnTo>
                  <a:lnTo>
                    <a:pt x="696" y="0"/>
                  </a:lnTo>
                  <a:lnTo>
                    <a:pt x="692" y="0"/>
                  </a:lnTo>
                  <a:lnTo>
                    <a:pt x="685" y="0"/>
                  </a:lnTo>
                  <a:lnTo>
                    <a:pt x="679" y="2"/>
                  </a:lnTo>
                  <a:lnTo>
                    <a:pt x="673" y="2"/>
                  </a:lnTo>
                  <a:lnTo>
                    <a:pt x="668" y="3"/>
                  </a:lnTo>
                  <a:lnTo>
                    <a:pt x="661" y="5"/>
                  </a:lnTo>
                  <a:lnTo>
                    <a:pt x="657" y="8"/>
                  </a:lnTo>
                  <a:lnTo>
                    <a:pt x="650" y="10"/>
                  </a:lnTo>
                  <a:lnTo>
                    <a:pt x="646" y="11"/>
                  </a:lnTo>
                  <a:lnTo>
                    <a:pt x="639" y="15"/>
                  </a:lnTo>
                  <a:lnTo>
                    <a:pt x="635" y="18"/>
                  </a:lnTo>
                  <a:lnTo>
                    <a:pt x="628" y="19"/>
                  </a:lnTo>
                  <a:lnTo>
                    <a:pt x="622" y="24"/>
                  </a:lnTo>
                  <a:lnTo>
                    <a:pt x="617" y="26"/>
                  </a:lnTo>
                  <a:lnTo>
                    <a:pt x="614" y="30"/>
                  </a:lnTo>
                  <a:lnTo>
                    <a:pt x="608" y="34"/>
                  </a:lnTo>
                  <a:lnTo>
                    <a:pt x="601" y="37"/>
                  </a:lnTo>
                  <a:lnTo>
                    <a:pt x="597" y="41"/>
                  </a:lnTo>
                  <a:lnTo>
                    <a:pt x="590" y="46"/>
                  </a:lnTo>
                  <a:lnTo>
                    <a:pt x="584" y="51"/>
                  </a:lnTo>
                  <a:lnTo>
                    <a:pt x="579" y="56"/>
                  </a:lnTo>
                  <a:lnTo>
                    <a:pt x="573" y="62"/>
                  </a:lnTo>
                  <a:lnTo>
                    <a:pt x="568" y="68"/>
                  </a:lnTo>
                  <a:lnTo>
                    <a:pt x="560" y="73"/>
                  </a:lnTo>
                  <a:lnTo>
                    <a:pt x="555" y="79"/>
                  </a:lnTo>
                  <a:lnTo>
                    <a:pt x="548" y="87"/>
                  </a:lnTo>
                  <a:lnTo>
                    <a:pt x="543" y="94"/>
                  </a:lnTo>
                  <a:lnTo>
                    <a:pt x="537" y="100"/>
                  </a:lnTo>
                  <a:lnTo>
                    <a:pt x="530" y="108"/>
                  </a:lnTo>
                  <a:lnTo>
                    <a:pt x="524" y="116"/>
                  </a:lnTo>
                  <a:lnTo>
                    <a:pt x="519" y="125"/>
                  </a:lnTo>
                  <a:lnTo>
                    <a:pt x="511" y="132"/>
                  </a:lnTo>
                  <a:lnTo>
                    <a:pt x="506" y="141"/>
                  </a:lnTo>
                  <a:lnTo>
                    <a:pt x="502" y="144"/>
                  </a:lnTo>
                  <a:lnTo>
                    <a:pt x="499" y="149"/>
                  </a:lnTo>
                  <a:lnTo>
                    <a:pt x="497" y="154"/>
                  </a:lnTo>
                  <a:lnTo>
                    <a:pt x="494" y="158"/>
                  </a:lnTo>
                  <a:lnTo>
                    <a:pt x="491" y="162"/>
                  </a:lnTo>
                  <a:lnTo>
                    <a:pt x="487" y="166"/>
                  </a:lnTo>
                  <a:lnTo>
                    <a:pt x="484" y="171"/>
                  </a:lnTo>
                  <a:lnTo>
                    <a:pt x="483" y="176"/>
                  </a:lnTo>
                  <a:lnTo>
                    <a:pt x="480" y="181"/>
                  </a:lnTo>
                  <a:lnTo>
                    <a:pt x="476" y="185"/>
                  </a:lnTo>
                  <a:lnTo>
                    <a:pt x="475" y="190"/>
                  </a:lnTo>
                  <a:lnTo>
                    <a:pt x="472" y="195"/>
                  </a:lnTo>
                  <a:lnTo>
                    <a:pt x="468" y="200"/>
                  </a:lnTo>
                  <a:lnTo>
                    <a:pt x="465" y="204"/>
                  </a:lnTo>
                  <a:lnTo>
                    <a:pt x="462" y="209"/>
                  </a:lnTo>
                  <a:lnTo>
                    <a:pt x="461" y="214"/>
                  </a:lnTo>
                  <a:lnTo>
                    <a:pt x="459" y="219"/>
                  </a:lnTo>
                  <a:lnTo>
                    <a:pt x="456" y="223"/>
                  </a:lnTo>
                  <a:lnTo>
                    <a:pt x="454" y="230"/>
                  </a:lnTo>
                  <a:lnTo>
                    <a:pt x="451" y="234"/>
                  </a:lnTo>
                  <a:lnTo>
                    <a:pt x="449" y="239"/>
                  </a:lnTo>
                  <a:lnTo>
                    <a:pt x="446" y="244"/>
                  </a:lnTo>
                  <a:lnTo>
                    <a:pt x="445" y="250"/>
                  </a:lnTo>
                  <a:lnTo>
                    <a:pt x="442" y="255"/>
                  </a:lnTo>
                  <a:lnTo>
                    <a:pt x="440" y="260"/>
                  </a:lnTo>
                  <a:lnTo>
                    <a:pt x="438" y="266"/>
                  </a:lnTo>
                  <a:lnTo>
                    <a:pt x="437" y="271"/>
                  </a:lnTo>
                  <a:lnTo>
                    <a:pt x="435" y="277"/>
                  </a:lnTo>
                  <a:lnTo>
                    <a:pt x="432" y="282"/>
                  </a:lnTo>
                  <a:lnTo>
                    <a:pt x="431" y="287"/>
                  </a:lnTo>
                  <a:lnTo>
                    <a:pt x="429" y="291"/>
                  </a:lnTo>
                  <a:lnTo>
                    <a:pt x="427" y="298"/>
                  </a:lnTo>
                  <a:lnTo>
                    <a:pt x="424" y="302"/>
                  </a:lnTo>
                  <a:lnTo>
                    <a:pt x="423" y="307"/>
                  </a:lnTo>
                  <a:lnTo>
                    <a:pt x="421" y="310"/>
                  </a:lnTo>
                  <a:lnTo>
                    <a:pt x="421" y="317"/>
                  </a:lnTo>
                  <a:lnTo>
                    <a:pt x="419" y="320"/>
                  </a:lnTo>
                  <a:lnTo>
                    <a:pt x="416" y="325"/>
                  </a:lnTo>
                  <a:lnTo>
                    <a:pt x="416" y="329"/>
                  </a:lnTo>
                  <a:lnTo>
                    <a:pt x="415" y="334"/>
                  </a:lnTo>
                  <a:lnTo>
                    <a:pt x="413" y="337"/>
                  </a:lnTo>
                  <a:lnTo>
                    <a:pt x="413" y="342"/>
                  </a:lnTo>
                  <a:lnTo>
                    <a:pt x="412" y="347"/>
                  </a:lnTo>
                  <a:lnTo>
                    <a:pt x="410" y="351"/>
                  </a:lnTo>
                  <a:lnTo>
                    <a:pt x="408" y="358"/>
                  </a:lnTo>
                  <a:lnTo>
                    <a:pt x="405" y="366"/>
                  </a:lnTo>
                  <a:lnTo>
                    <a:pt x="404" y="374"/>
                  </a:lnTo>
                  <a:lnTo>
                    <a:pt x="402" y="381"/>
                  </a:lnTo>
                  <a:lnTo>
                    <a:pt x="399" y="388"/>
                  </a:lnTo>
                  <a:lnTo>
                    <a:pt x="397" y="394"/>
                  </a:lnTo>
                  <a:lnTo>
                    <a:pt x="396" y="400"/>
                  </a:lnTo>
                  <a:lnTo>
                    <a:pt x="396" y="408"/>
                  </a:lnTo>
                  <a:lnTo>
                    <a:pt x="393" y="413"/>
                  </a:lnTo>
                  <a:lnTo>
                    <a:pt x="393" y="419"/>
                  </a:lnTo>
                  <a:lnTo>
                    <a:pt x="391" y="426"/>
                  </a:lnTo>
                  <a:lnTo>
                    <a:pt x="389" y="432"/>
                  </a:lnTo>
                  <a:lnTo>
                    <a:pt x="388" y="437"/>
                  </a:lnTo>
                  <a:lnTo>
                    <a:pt x="388" y="443"/>
                  </a:lnTo>
                  <a:lnTo>
                    <a:pt x="386" y="448"/>
                  </a:lnTo>
                  <a:lnTo>
                    <a:pt x="386" y="454"/>
                  </a:lnTo>
                  <a:lnTo>
                    <a:pt x="385" y="459"/>
                  </a:lnTo>
                  <a:lnTo>
                    <a:pt x="383" y="465"/>
                  </a:lnTo>
                  <a:lnTo>
                    <a:pt x="381" y="470"/>
                  </a:lnTo>
                  <a:lnTo>
                    <a:pt x="381" y="476"/>
                  </a:lnTo>
                  <a:lnTo>
                    <a:pt x="380" y="481"/>
                  </a:lnTo>
                  <a:lnTo>
                    <a:pt x="378" y="487"/>
                  </a:lnTo>
                  <a:lnTo>
                    <a:pt x="378" y="494"/>
                  </a:lnTo>
                  <a:lnTo>
                    <a:pt x="378" y="500"/>
                  </a:lnTo>
                  <a:lnTo>
                    <a:pt x="375" y="505"/>
                  </a:lnTo>
                  <a:lnTo>
                    <a:pt x="375" y="511"/>
                  </a:lnTo>
                  <a:lnTo>
                    <a:pt x="372" y="516"/>
                  </a:lnTo>
                  <a:lnTo>
                    <a:pt x="372" y="524"/>
                  </a:lnTo>
                  <a:lnTo>
                    <a:pt x="369" y="530"/>
                  </a:lnTo>
                  <a:lnTo>
                    <a:pt x="367" y="536"/>
                  </a:lnTo>
                  <a:lnTo>
                    <a:pt x="366" y="543"/>
                  </a:lnTo>
                  <a:lnTo>
                    <a:pt x="364" y="551"/>
                  </a:lnTo>
                  <a:lnTo>
                    <a:pt x="362" y="555"/>
                  </a:lnTo>
                  <a:lnTo>
                    <a:pt x="361" y="562"/>
                  </a:lnTo>
                  <a:lnTo>
                    <a:pt x="358" y="570"/>
                  </a:lnTo>
                  <a:lnTo>
                    <a:pt x="356" y="576"/>
                  </a:lnTo>
                  <a:lnTo>
                    <a:pt x="355" y="582"/>
                  </a:lnTo>
                  <a:lnTo>
                    <a:pt x="353" y="590"/>
                  </a:lnTo>
                  <a:lnTo>
                    <a:pt x="350" y="595"/>
                  </a:lnTo>
                  <a:lnTo>
                    <a:pt x="348" y="603"/>
                  </a:lnTo>
                  <a:lnTo>
                    <a:pt x="345" y="608"/>
                  </a:lnTo>
                  <a:lnTo>
                    <a:pt x="344" y="614"/>
                  </a:lnTo>
                  <a:lnTo>
                    <a:pt x="342" y="620"/>
                  </a:lnTo>
                  <a:lnTo>
                    <a:pt x="339" y="627"/>
                  </a:lnTo>
                  <a:lnTo>
                    <a:pt x="336" y="631"/>
                  </a:lnTo>
                  <a:lnTo>
                    <a:pt x="334" y="638"/>
                  </a:lnTo>
                  <a:lnTo>
                    <a:pt x="331" y="642"/>
                  </a:lnTo>
                  <a:lnTo>
                    <a:pt x="329" y="649"/>
                  </a:lnTo>
                  <a:lnTo>
                    <a:pt x="326" y="653"/>
                  </a:lnTo>
                  <a:lnTo>
                    <a:pt x="323" y="658"/>
                  </a:lnTo>
                  <a:lnTo>
                    <a:pt x="320" y="663"/>
                  </a:lnTo>
                  <a:lnTo>
                    <a:pt x="317" y="668"/>
                  </a:lnTo>
                  <a:lnTo>
                    <a:pt x="312" y="674"/>
                  </a:lnTo>
                  <a:lnTo>
                    <a:pt x="306" y="680"/>
                  </a:lnTo>
                  <a:lnTo>
                    <a:pt x="302" y="682"/>
                  </a:lnTo>
                  <a:lnTo>
                    <a:pt x="298" y="685"/>
                  </a:lnTo>
                  <a:lnTo>
                    <a:pt x="291" y="687"/>
                  </a:lnTo>
                  <a:lnTo>
                    <a:pt x="287" y="687"/>
                  </a:lnTo>
                  <a:lnTo>
                    <a:pt x="279" y="687"/>
                  </a:lnTo>
                  <a:lnTo>
                    <a:pt x="272" y="685"/>
                  </a:lnTo>
                  <a:lnTo>
                    <a:pt x="266" y="684"/>
                  </a:lnTo>
                  <a:lnTo>
                    <a:pt x="260" y="684"/>
                  </a:lnTo>
                  <a:lnTo>
                    <a:pt x="255" y="682"/>
                  </a:lnTo>
                  <a:lnTo>
                    <a:pt x="250" y="680"/>
                  </a:lnTo>
                  <a:lnTo>
                    <a:pt x="245" y="679"/>
                  </a:lnTo>
                  <a:lnTo>
                    <a:pt x="242" y="677"/>
                  </a:lnTo>
                  <a:lnTo>
                    <a:pt x="238" y="676"/>
                  </a:lnTo>
                  <a:lnTo>
                    <a:pt x="233" y="674"/>
                  </a:lnTo>
                  <a:lnTo>
                    <a:pt x="228" y="672"/>
                  </a:lnTo>
                  <a:lnTo>
                    <a:pt x="225" y="672"/>
                  </a:lnTo>
                  <a:lnTo>
                    <a:pt x="219" y="669"/>
                  </a:lnTo>
                  <a:lnTo>
                    <a:pt x="214" y="668"/>
                  </a:lnTo>
                  <a:lnTo>
                    <a:pt x="209" y="666"/>
                  </a:lnTo>
                  <a:lnTo>
                    <a:pt x="204" y="665"/>
                  </a:lnTo>
                  <a:lnTo>
                    <a:pt x="200" y="663"/>
                  </a:lnTo>
                  <a:lnTo>
                    <a:pt x="195" y="661"/>
                  </a:lnTo>
                  <a:lnTo>
                    <a:pt x="190" y="660"/>
                  </a:lnTo>
                  <a:lnTo>
                    <a:pt x="185" y="658"/>
                  </a:lnTo>
                  <a:lnTo>
                    <a:pt x="179" y="655"/>
                  </a:lnTo>
                  <a:lnTo>
                    <a:pt x="173" y="653"/>
                  </a:lnTo>
                  <a:lnTo>
                    <a:pt x="168" y="650"/>
                  </a:lnTo>
                  <a:lnTo>
                    <a:pt x="163" y="650"/>
                  </a:lnTo>
                  <a:lnTo>
                    <a:pt x="157" y="647"/>
                  </a:lnTo>
                  <a:lnTo>
                    <a:pt x="152" y="647"/>
                  </a:lnTo>
                  <a:lnTo>
                    <a:pt x="149" y="646"/>
                  </a:lnTo>
                  <a:lnTo>
                    <a:pt x="144" y="646"/>
                  </a:lnTo>
                  <a:lnTo>
                    <a:pt x="138" y="644"/>
                  </a:lnTo>
                  <a:lnTo>
                    <a:pt x="133" y="644"/>
                  </a:lnTo>
                  <a:lnTo>
                    <a:pt x="128" y="644"/>
                  </a:lnTo>
                  <a:lnTo>
                    <a:pt x="124" y="644"/>
                  </a:lnTo>
                  <a:lnTo>
                    <a:pt x="119" y="644"/>
                  </a:lnTo>
                  <a:lnTo>
                    <a:pt x="116" y="644"/>
                  </a:lnTo>
                  <a:lnTo>
                    <a:pt x="111" y="644"/>
                  </a:lnTo>
                  <a:lnTo>
                    <a:pt x="108" y="646"/>
                  </a:lnTo>
                  <a:lnTo>
                    <a:pt x="103" y="646"/>
                  </a:lnTo>
                  <a:lnTo>
                    <a:pt x="98" y="647"/>
                  </a:lnTo>
                  <a:lnTo>
                    <a:pt x="94" y="647"/>
                  </a:lnTo>
                  <a:lnTo>
                    <a:pt x="90" y="649"/>
                  </a:lnTo>
                  <a:lnTo>
                    <a:pt x="81" y="652"/>
                  </a:lnTo>
                  <a:lnTo>
                    <a:pt x="75" y="657"/>
                  </a:lnTo>
                  <a:lnTo>
                    <a:pt x="67" y="661"/>
                  </a:lnTo>
                  <a:lnTo>
                    <a:pt x="60" y="668"/>
                  </a:lnTo>
                  <a:lnTo>
                    <a:pt x="52" y="674"/>
                  </a:lnTo>
                  <a:lnTo>
                    <a:pt x="46" y="680"/>
                  </a:lnTo>
                  <a:lnTo>
                    <a:pt x="43" y="684"/>
                  </a:lnTo>
                  <a:lnTo>
                    <a:pt x="40" y="688"/>
                  </a:lnTo>
                  <a:lnTo>
                    <a:pt x="35" y="693"/>
                  </a:lnTo>
                  <a:lnTo>
                    <a:pt x="33" y="698"/>
                  </a:lnTo>
                  <a:lnTo>
                    <a:pt x="30" y="703"/>
                  </a:lnTo>
                  <a:lnTo>
                    <a:pt x="27" y="707"/>
                  </a:lnTo>
                  <a:lnTo>
                    <a:pt x="26" y="712"/>
                  </a:lnTo>
                  <a:lnTo>
                    <a:pt x="22" y="717"/>
                  </a:lnTo>
                  <a:lnTo>
                    <a:pt x="21" y="721"/>
                  </a:lnTo>
                  <a:lnTo>
                    <a:pt x="18" y="728"/>
                  </a:lnTo>
                  <a:lnTo>
                    <a:pt x="16" y="733"/>
                  </a:lnTo>
                  <a:lnTo>
                    <a:pt x="14" y="739"/>
                  </a:lnTo>
                  <a:lnTo>
                    <a:pt x="11" y="744"/>
                  </a:lnTo>
                  <a:lnTo>
                    <a:pt x="11" y="750"/>
                  </a:lnTo>
                  <a:lnTo>
                    <a:pt x="10" y="755"/>
                  </a:lnTo>
                  <a:lnTo>
                    <a:pt x="8" y="761"/>
                  </a:lnTo>
                  <a:lnTo>
                    <a:pt x="7" y="766"/>
                  </a:lnTo>
                  <a:lnTo>
                    <a:pt x="5" y="771"/>
                  </a:lnTo>
                  <a:lnTo>
                    <a:pt x="3" y="775"/>
                  </a:lnTo>
                  <a:lnTo>
                    <a:pt x="3" y="780"/>
                  </a:lnTo>
                  <a:lnTo>
                    <a:pt x="2" y="785"/>
                  </a:lnTo>
                  <a:lnTo>
                    <a:pt x="2" y="789"/>
                  </a:lnTo>
                  <a:lnTo>
                    <a:pt x="0" y="793"/>
                  </a:lnTo>
                  <a:lnTo>
                    <a:pt x="0" y="797"/>
                  </a:lnTo>
                  <a:lnTo>
                    <a:pt x="0" y="802"/>
                  </a:lnTo>
                  <a:lnTo>
                    <a:pt x="0" y="807"/>
                  </a:lnTo>
                  <a:lnTo>
                    <a:pt x="0" y="810"/>
                  </a:lnTo>
                  <a:lnTo>
                    <a:pt x="0" y="812"/>
                  </a:lnTo>
                  <a:lnTo>
                    <a:pt x="43" y="805"/>
                  </a:lnTo>
                  <a:lnTo>
                    <a:pt x="43" y="8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rot="21366600">
              <a:off x="5672520" y="3354120"/>
              <a:ext cx="73080" cy="79560"/>
            </a:xfrm>
            <a:custGeom>
              <a:avLst/>
              <a:gdLst/>
              <a:ahLst/>
              <a:rect l="l" t="t" r="r" b="b"/>
              <a:pathLst>
                <a:path w="109" h="117">
                  <a:moveTo>
                    <a:pt x="66" y="0"/>
                  </a:moveTo>
                  <a:lnTo>
                    <a:pt x="64" y="2"/>
                  </a:lnTo>
                  <a:lnTo>
                    <a:pt x="61" y="8"/>
                  </a:lnTo>
                  <a:lnTo>
                    <a:pt x="58" y="10"/>
                  </a:lnTo>
                  <a:lnTo>
                    <a:pt x="55" y="16"/>
                  </a:lnTo>
                  <a:lnTo>
                    <a:pt x="52" y="21"/>
                  </a:lnTo>
                  <a:lnTo>
                    <a:pt x="47" y="27"/>
                  </a:lnTo>
                  <a:lnTo>
                    <a:pt x="42" y="33"/>
                  </a:lnTo>
                  <a:lnTo>
                    <a:pt x="38" y="40"/>
                  </a:lnTo>
                  <a:lnTo>
                    <a:pt x="31" y="46"/>
                  </a:lnTo>
                  <a:lnTo>
                    <a:pt x="25" y="52"/>
                  </a:lnTo>
                  <a:lnTo>
                    <a:pt x="19" y="59"/>
                  </a:lnTo>
                  <a:lnTo>
                    <a:pt x="12" y="65"/>
                  </a:lnTo>
                  <a:lnTo>
                    <a:pt x="6" y="71"/>
                  </a:lnTo>
                  <a:lnTo>
                    <a:pt x="0" y="79"/>
                  </a:lnTo>
                  <a:lnTo>
                    <a:pt x="42" y="117"/>
                  </a:lnTo>
                  <a:lnTo>
                    <a:pt x="44" y="116"/>
                  </a:lnTo>
                  <a:lnTo>
                    <a:pt x="49" y="111"/>
                  </a:lnTo>
                  <a:lnTo>
                    <a:pt x="53" y="106"/>
                  </a:lnTo>
                  <a:lnTo>
                    <a:pt x="57" y="101"/>
                  </a:lnTo>
                  <a:lnTo>
                    <a:pt x="61" y="97"/>
                  </a:lnTo>
                  <a:lnTo>
                    <a:pt x="68" y="92"/>
                  </a:lnTo>
                  <a:lnTo>
                    <a:pt x="72" y="86"/>
                  </a:lnTo>
                  <a:lnTo>
                    <a:pt x="79" y="79"/>
                  </a:lnTo>
                  <a:lnTo>
                    <a:pt x="83" y="73"/>
                  </a:lnTo>
                  <a:lnTo>
                    <a:pt x="90" y="67"/>
                  </a:lnTo>
                  <a:lnTo>
                    <a:pt x="95" y="59"/>
                  </a:lnTo>
                  <a:lnTo>
                    <a:pt x="99" y="51"/>
                  </a:lnTo>
                  <a:lnTo>
                    <a:pt x="104" y="43"/>
                  </a:lnTo>
                  <a:lnTo>
                    <a:pt x="109" y="35"/>
                  </a:lnTo>
                  <a:lnTo>
                    <a:pt x="66" y="0"/>
                  </a:lnTo>
                  <a:lnTo>
                    <a:pt x="6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3" name=""/>
            <p:cNvSpPr/>
            <p:nvPr/>
          </p:nvSpPr>
          <p:spPr>
            <a:xfrm rot="21366600">
              <a:off x="5722560" y="3388680"/>
              <a:ext cx="79560" cy="79200"/>
            </a:xfrm>
            <a:custGeom>
              <a:avLst/>
              <a:gdLst/>
              <a:ahLst/>
              <a:rect l="l" t="t" r="r" b="b"/>
              <a:pathLst>
                <a:path w="117" h="116">
                  <a:moveTo>
                    <a:pt x="69" y="0"/>
                  </a:moveTo>
                  <a:lnTo>
                    <a:pt x="68" y="2"/>
                  </a:lnTo>
                  <a:lnTo>
                    <a:pt x="65" y="8"/>
                  </a:lnTo>
                  <a:lnTo>
                    <a:pt x="61" y="11"/>
                  </a:lnTo>
                  <a:lnTo>
                    <a:pt x="58" y="18"/>
                  </a:lnTo>
                  <a:lnTo>
                    <a:pt x="55" y="22"/>
                  </a:lnTo>
                  <a:lnTo>
                    <a:pt x="50" y="29"/>
                  </a:lnTo>
                  <a:lnTo>
                    <a:pt x="46" y="35"/>
                  </a:lnTo>
                  <a:lnTo>
                    <a:pt x="41" y="41"/>
                  </a:lnTo>
                  <a:lnTo>
                    <a:pt x="35" y="48"/>
                  </a:lnTo>
                  <a:lnTo>
                    <a:pt x="28" y="55"/>
                  </a:lnTo>
                  <a:lnTo>
                    <a:pt x="22" y="62"/>
                  </a:lnTo>
                  <a:lnTo>
                    <a:pt x="16" y="68"/>
                  </a:lnTo>
                  <a:lnTo>
                    <a:pt x="8" y="74"/>
                  </a:lnTo>
                  <a:lnTo>
                    <a:pt x="0" y="81"/>
                  </a:lnTo>
                  <a:lnTo>
                    <a:pt x="50" y="116"/>
                  </a:lnTo>
                  <a:lnTo>
                    <a:pt x="52" y="112"/>
                  </a:lnTo>
                  <a:lnTo>
                    <a:pt x="58" y="109"/>
                  </a:lnTo>
                  <a:lnTo>
                    <a:pt x="61" y="106"/>
                  </a:lnTo>
                  <a:lnTo>
                    <a:pt x="65" y="101"/>
                  </a:lnTo>
                  <a:lnTo>
                    <a:pt x="71" y="97"/>
                  </a:lnTo>
                  <a:lnTo>
                    <a:pt x="76" y="92"/>
                  </a:lnTo>
                  <a:lnTo>
                    <a:pt x="80" y="86"/>
                  </a:lnTo>
                  <a:lnTo>
                    <a:pt x="87" y="79"/>
                  </a:lnTo>
                  <a:lnTo>
                    <a:pt x="92" y="71"/>
                  </a:lnTo>
                  <a:lnTo>
                    <a:pt x="98" y="65"/>
                  </a:lnTo>
                  <a:lnTo>
                    <a:pt x="101" y="55"/>
                  </a:lnTo>
                  <a:lnTo>
                    <a:pt x="107" y="48"/>
                  </a:lnTo>
                  <a:lnTo>
                    <a:pt x="109" y="43"/>
                  </a:lnTo>
                  <a:lnTo>
                    <a:pt x="112" y="40"/>
                  </a:lnTo>
                  <a:lnTo>
                    <a:pt x="114" y="35"/>
                  </a:lnTo>
                  <a:lnTo>
                    <a:pt x="117" y="32"/>
                  </a:lnTo>
                  <a:lnTo>
                    <a:pt x="69" y="0"/>
                  </a:lnTo>
                  <a:lnTo>
                    <a:pt x="6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54" name=""/>
            <p:cNvSpPr/>
            <p:nvPr/>
          </p:nvSpPr>
          <p:spPr>
            <a:xfrm rot="21366600">
              <a:off x="5780160" y="3418200"/>
              <a:ext cx="81000" cy="79560"/>
            </a:xfrm>
            <a:custGeom>
              <a:avLst/>
              <a:gdLst/>
              <a:ahLst/>
              <a:rect l="l" t="t" r="r" b="b"/>
              <a:pathLst>
                <a:path w="120" h="117">
                  <a:moveTo>
                    <a:pt x="70" y="0"/>
                  </a:moveTo>
                  <a:lnTo>
                    <a:pt x="68" y="2"/>
                  </a:lnTo>
                  <a:lnTo>
                    <a:pt x="65" y="10"/>
                  </a:lnTo>
                  <a:lnTo>
                    <a:pt x="62" y="13"/>
                  </a:lnTo>
                  <a:lnTo>
                    <a:pt x="59" y="19"/>
                  </a:lnTo>
                  <a:lnTo>
                    <a:pt x="55" y="24"/>
                  </a:lnTo>
                  <a:lnTo>
                    <a:pt x="51" y="32"/>
                  </a:lnTo>
                  <a:lnTo>
                    <a:pt x="46" y="38"/>
                  </a:lnTo>
                  <a:lnTo>
                    <a:pt x="41" y="44"/>
                  </a:lnTo>
                  <a:lnTo>
                    <a:pt x="35" y="52"/>
                  </a:lnTo>
                  <a:lnTo>
                    <a:pt x="29" y="60"/>
                  </a:lnTo>
                  <a:lnTo>
                    <a:pt x="21" y="67"/>
                  </a:lnTo>
                  <a:lnTo>
                    <a:pt x="14" y="73"/>
                  </a:lnTo>
                  <a:lnTo>
                    <a:pt x="6" y="79"/>
                  </a:lnTo>
                  <a:lnTo>
                    <a:pt x="0" y="87"/>
                  </a:lnTo>
                  <a:lnTo>
                    <a:pt x="54" y="117"/>
                  </a:lnTo>
                  <a:lnTo>
                    <a:pt x="55" y="116"/>
                  </a:lnTo>
                  <a:lnTo>
                    <a:pt x="60" y="111"/>
                  </a:lnTo>
                  <a:lnTo>
                    <a:pt x="63" y="108"/>
                  </a:lnTo>
                  <a:lnTo>
                    <a:pt x="68" y="103"/>
                  </a:lnTo>
                  <a:lnTo>
                    <a:pt x="73" y="98"/>
                  </a:lnTo>
                  <a:lnTo>
                    <a:pt x="79" y="93"/>
                  </a:lnTo>
                  <a:lnTo>
                    <a:pt x="84" y="87"/>
                  </a:lnTo>
                  <a:lnTo>
                    <a:pt x="90" y="81"/>
                  </a:lnTo>
                  <a:lnTo>
                    <a:pt x="95" y="73"/>
                  </a:lnTo>
                  <a:lnTo>
                    <a:pt x="101" y="65"/>
                  </a:lnTo>
                  <a:lnTo>
                    <a:pt x="103" y="60"/>
                  </a:lnTo>
                  <a:lnTo>
                    <a:pt x="106" y="57"/>
                  </a:lnTo>
                  <a:lnTo>
                    <a:pt x="108" y="52"/>
                  </a:lnTo>
                  <a:lnTo>
                    <a:pt x="111" y="49"/>
                  </a:lnTo>
                  <a:lnTo>
                    <a:pt x="114" y="44"/>
                  </a:lnTo>
                  <a:lnTo>
                    <a:pt x="116" y="40"/>
                  </a:lnTo>
                  <a:lnTo>
                    <a:pt x="119" y="35"/>
                  </a:lnTo>
                  <a:lnTo>
                    <a:pt x="120" y="30"/>
                  </a:lnTo>
                  <a:lnTo>
                    <a:pt x="70" y="0"/>
                  </a:lnTo>
                  <a:lnTo>
                    <a:pt x="7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55" name=""/>
            <p:cNvSpPr/>
            <p:nvPr/>
          </p:nvSpPr>
          <p:spPr>
            <a:xfrm rot="21366600">
              <a:off x="5841360" y="3448440"/>
              <a:ext cx="83880" cy="78120"/>
            </a:xfrm>
            <a:custGeom>
              <a:avLst/>
              <a:gdLst/>
              <a:ahLst/>
              <a:rect l="l" t="t" r="r" b="b"/>
              <a:pathLst>
                <a:path w="123" h="115">
                  <a:moveTo>
                    <a:pt x="69" y="0"/>
                  </a:moveTo>
                  <a:lnTo>
                    <a:pt x="68" y="1"/>
                  </a:lnTo>
                  <a:lnTo>
                    <a:pt x="64" y="9"/>
                  </a:lnTo>
                  <a:lnTo>
                    <a:pt x="61" y="12"/>
                  </a:lnTo>
                  <a:lnTo>
                    <a:pt x="58" y="17"/>
                  </a:lnTo>
                  <a:lnTo>
                    <a:pt x="55" y="23"/>
                  </a:lnTo>
                  <a:lnTo>
                    <a:pt x="50" y="31"/>
                  </a:lnTo>
                  <a:lnTo>
                    <a:pt x="45" y="38"/>
                  </a:lnTo>
                  <a:lnTo>
                    <a:pt x="41" y="44"/>
                  </a:lnTo>
                  <a:lnTo>
                    <a:pt x="34" y="52"/>
                  </a:lnTo>
                  <a:lnTo>
                    <a:pt x="30" y="58"/>
                  </a:lnTo>
                  <a:lnTo>
                    <a:pt x="22" y="65"/>
                  </a:lnTo>
                  <a:lnTo>
                    <a:pt x="15" y="73"/>
                  </a:lnTo>
                  <a:lnTo>
                    <a:pt x="8" y="79"/>
                  </a:lnTo>
                  <a:lnTo>
                    <a:pt x="0" y="85"/>
                  </a:lnTo>
                  <a:lnTo>
                    <a:pt x="57" y="115"/>
                  </a:lnTo>
                  <a:lnTo>
                    <a:pt x="58" y="112"/>
                  </a:lnTo>
                  <a:lnTo>
                    <a:pt x="63" y="109"/>
                  </a:lnTo>
                  <a:lnTo>
                    <a:pt x="66" y="104"/>
                  </a:lnTo>
                  <a:lnTo>
                    <a:pt x="71" y="101"/>
                  </a:lnTo>
                  <a:lnTo>
                    <a:pt x="77" y="96"/>
                  </a:lnTo>
                  <a:lnTo>
                    <a:pt x="82" y="91"/>
                  </a:lnTo>
                  <a:lnTo>
                    <a:pt x="87" y="85"/>
                  </a:lnTo>
                  <a:lnTo>
                    <a:pt x="93" y="79"/>
                  </a:lnTo>
                  <a:lnTo>
                    <a:pt x="98" y="71"/>
                  </a:lnTo>
                  <a:lnTo>
                    <a:pt x="104" y="63"/>
                  </a:lnTo>
                  <a:lnTo>
                    <a:pt x="106" y="58"/>
                  </a:lnTo>
                  <a:lnTo>
                    <a:pt x="109" y="55"/>
                  </a:lnTo>
                  <a:lnTo>
                    <a:pt x="112" y="50"/>
                  </a:lnTo>
                  <a:lnTo>
                    <a:pt x="115" y="46"/>
                  </a:lnTo>
                  <a:lnTo>
                    <a:pt x="117" y="41"/>
                  </a:lnTo>
                  <a:lnTo>
                    <a:pt x="120" y="36"/>
                  </a:lnTo>
                  <a:lnTo>
                    <a:pt x="121" y="31"/>
                  </a:lnTo>
                  <a:lnTo>
                    <a:pt x="123" y="27"/>
                  </a:lnTo>
                  <a:lnTo>
                    <a:pt x="69" y="0"/>
                  </a:lnTo>
                  <a:lnTo>
                    <a:pt x="69"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6" name=""/>
            <p:cNvSpPr/>
            <p:nvPr/>
          </p:nvSpPr>
          <p:spPr>
            <a:xfrm rot="21366600">
              <a:off x="5907960" y="3474360"/>
              <a:ext cx="86040" cy="76320"/>
            </a:xfrm>
            <a:custGeom>
              <a:avLst/>
              <a:gdLst/>
              <a:ahLst/>
              <a:rect l="l" t="t" r="r" b="b"/>
              <a:pathLst>
                <a:path w="128" h="112">
                  <a:moveTo>
                    <a:pt x="70" y="0"/>
                  </a:moveTo>
                  <a:lnTo>
                    <a:pt x="68" y="1"/>
                  </a:lnTo>
                  <a:lnTo>
                    <a:pt x="65" y="9"/>
                  </a:lnTo>
                  <a:lnTo>
                    <a:pt x="62" y="12"/>
                  </a:lnTo>
                  <a:lnTo>
                    <a:pt x="59" y="19"/>
                  </a:lnTo>
                  <a:lnTo>
                    <a:pt x="55" y="23"/>
                  </a:lnTo>
                  <a:lnTo>
                    <a:pt x="52" y="31"/>
                  </a:lnTo>
                  <a:lnTo>
                    <a:pt x="46" y="38"/>
                  </a:lnTo>
                  <a:lnTo>
                    <a:pt x="41" y="44"/>
                  </a:lnTo>
                  <a:lnTo>
                    <a:pt x="35" y="50"/>
                  </a:lnTo>
                  <a:lnTo>
                    <a:pt x="30" y="58"/>
                  </a:lnTo>
                  <a:lnTo>
                    <a:pt x="24" y="66"/>
                  </a:lnTo>
                  <a:lnTo>
                    <a:pt x="16" y="72"/>
                  </a:lnTo>
                  <a:lnTo>
                    <a:pt x="8" y="79"/>
                  </a:lnTo>
                  <a:lnTo>
                    <a:pt x="0" y="87"/>
                  </a:lnTo>
                  <a:lnTo>
                    <a:pt x="63" y="112"/>
                  </a:lnTo>
                  <a:lnTo>
                    <a:pt x="65" y="110"/>
                  </a:lnTo>
                  <a:lnTo>
                    <a:pt x="70" y="106"/>
                  </a:lnTo>
                  <a:lnTo>
                    <a:pt x="71" y="101"/>
                  </a:lnTo>
                  <a:lnTo>
                    <a:pt x="76" y="98"/>
                  </a:lnTo>
                  <a:lnTo>
                    <a:pt x="81" y="91"/>
                  </a:lnTo>
                  <a:lnTo>
                    <a:pt x="86" y="87"/>
                  </a:lnTo>
                  <a:lnTo>
                    <a:pt x="90" y="80"/>
                  </a:lnTo>
                  <a:lnTo>
                    <a:pt x="95" y="74"/>
                  </a:lnTo>
                  <a:lnTo>
                    <a:pt x="100" y="66"/>
                  </a:lnTo>
                  <a:lnTo>
                    <a:pt x="106" y="58"/>
                  </a:lnTo>
                  <a:lnTo>
                    <a:pt x="108" y="53"/>
                  </a:lnTo>
                  <a:lnTo>
                    <a:pt x="111" y="49"/>
                  </a:lnTo>
                  <a:lnTo>
                    <a:pt x="114" y="45"/>
                  </a:lnTo>
                  <a:lnTo>
                    <a:pt x="117" y="41"/>
                  </a:lnTo>
                  <a:lnTo>
                    <a:pt x="119" y="36"/>
                  </a:lnTo>
                  <a:lnTo>
                    <a:pt x="122" y="31"/>
                  </a:lnTo>
                  <a:lnTo>
                    <a:pt x="125" y="27"/>
                  </a:lnTo>
                  <a:lnTo>
                    <a:pt x="128" y="22"/>
                  </a:lnTo>
                  <a:lnTo>
                    <a:pt x="70" y="0"/>
                  </a:lnTo>
                  <a:lnTo>
                    <a:pt x="7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57" name=""/>
          <p:cNvGrpSpPr/>
          <p:nvPr/>
        </p:nvGrpSpPr>
        <p:grpSpPr>
          <a:xfrm>
            <a:off x="4560840" y="2338560"/>
            <a:ext cx="703440" cy="932760"/>
            <a:chOff x="4560840" y="2338560"/>
            <a:chExt cx="703440" cy="932760"/>
          </a:xfrm>
        </p:grpSpPr>
        <p:sp>
          <p:nvSpPr>
            <p:cNvPr id="458" name=""/>
            <p:cNvSpPr/>
            <p:nvPr/>
          </p:nvSpPr>
          <p:spPr>
            <a:xfrm>
              <a:off x="4591080" y="2846160"/>
              <a:ext cx="49320" cy="8532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9" name=""/>
            <p:cNvSpPr/>
            <p:nvPr/>
          </p:nvSpPr>
          <p:spPr>
            <a:xfrm>
              <a:off x="4630680" y="2460600"/>
              <a:ext cx="619200" cy="79020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618080" y="2678040"/>
              <a:ext cx="625680" cy="47268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629240" y="2447640"/>
              <a:ext cx="617400" cy="6793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621320" y="2458800"/>
              <a:ext cx="28440" cy="48240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903920" y="2679480"/>
              <a:ext cx="128520" cy="12204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621320" y="2457360"/>
              <a:ext cx="642960" cy="81396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575240" y="2722320"/>
              <a:ext cx="426960" cy="25380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619880" y="2338560"/>
              <a:ext cx="644400" cy="24876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648320" y="2363760"/>
              <a:ext cx="582480" cy="19620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1341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683240" y="2384280"/>
              <a:ext cx="511200" cy="15192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721400" y="2409480"/>
              <a:ext cx="436320" cy="9648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891320" y="2665080"/>
              <a:ext cx="155520" cy="15228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611600" y="2709720"/>
              <a:ext cx="358920" cy="23940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560840" y="2741400"/>
              <a:ext cx="446400" cy="25668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660920" y="2533320"/>
              <a:ext cx="66600" cy="8064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74" name=""/>
            <p:cNvSpPr/>
            <p:nvPr/>
          </p:nvSpPr>
          <p:spPr>
            <a:xfrm>
              <a:off x="4660920" y="2608200"/>
              <a:ext cx="66600" cy="8208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5" name=""/>
            <p:cNvSpPr/>
            <p:nvPr/>
          </p:nvSpPr>
          <p:spPr>
            <a:xfrm>
              <a:off x="4660920" y="2687400"/>
              <a:ext cx="66600" cy="7596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6" name=""/>
            <p:cNvSpPr/>
            <p:nvPr/>
          </p:nvSpPr>
          <p:spPr>
            <a:xfrm>
              <a:off x="4660920" y="2761920"/>
              <a:ext cx="66600" cy="7596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7" name=""/>
            <p:cNvSpPr/>
            <p:nvPr/>
          </p:nvSpPr>
          <p:spPr>
            <a:xfrm>
              <a:off x="4662720" y="2836800"/>
              <a:ext cx="64800" cy="6156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78" name=""/>
            <p:cNvSpPr/>
            <p:nvPr/>
          </p:nvSpPr>
          <p:spPr>
            <a:xfrm>
              <a:off x="4670640" y="2989080"/>
              <a:ext cx="56880" cy="3780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79" name=""/>
            <p:cNvSpPr/>
            <p:nvPr/>
          </p:nvSpPr>
          <p:spPr>
            <a:xfrm>
              <a:off x="4662720" y="3027240"/>
              <a:ext cx="64800" cy="7596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0" name=""/>
            <p:cNvSpPr/>
            <p:nvPr/>
          </p:nvSpPr>
          <p:spPr>
            <a:xfrm>
              <a:off x="4660920" y="3103560"/>
              <a:ext cx="66600" cy="8208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grpSp>
        <p:nvGrpSpPr>
          <p:cNvPr id="481" name=""/>
          <p:cNvGrpSpPr/>
          <p:nvPr/>
        </p:nvGrpSpPr>
        <p:grpSpPr>
          <a:xfrm>
            <a:off x="4564080" y="2351160"/>
            <a:ext cx="702720" cy="933480"/>
            <a:chOff x="4564080" y="2351160"/>
            <a:chExt cx="702720" cy="933480"/>
          </a:xfrm>
        </p:grpSpPr>
        <p:sp>
          <p:nvSpPr>
            <p:cNvPr id="482" name=""/>
            <p:cNvSpPr/>
            <p:nvPr/>
          </p:nvSpPr>
          <p:spPr>
            <a:xfrm>
              <a:off x="4593960" y="2859120"/>
              <a:ext cx="48960" cy="8568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83" name=""/>
            <p:cNvSpPr/>
            <p:nvPr/>
          </p:nvSpPr>
          <p:spPr>
            <a:xfrm>
              <a:off x="4633560" y="2473200"/>
              <a:ext cx="618840" cy="79056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620960" y="2690640"/>
              <a:ext cx="624960" cy="47304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632120" y="2460600"/>
              <a:ext cx="617040" cy="6793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624200" y="2471760"/>
              <a:ext cx="28080" cy="48240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906800" y="2692440"/>
              <a:ext cx="128160" cy="12204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624200" y="2469960"/>
              <a:ext cx="642600" cy="81468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578120" y="2735280"/>
              <a:ext cx="426600" cy="25380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622400" y="2351160"/>
              <a:ext cx="644400" cy="24912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651200" y="2376360"/>
              <a:ext cx="582120" cy="19692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686120" y="2396880"/>
              <a:ext cx="510840" cy="15264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724280" y="2422440"/>
              <a:ext cx="435960" cy="9684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3840" y="2678040"/>
              <a:ext cx="155520" cy="15228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614480" y="2722320"/>
              <a:ext cx="358560" cy="23976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564080" y="2754360"/>
              <a:ext cx="445680" cy="25704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663800" y="2546280"/>
              <a:ext cx="66240" cy="8100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8" name=""/>
            <p:cNvSpPr/>
            <p:nvPr/>
          </p:nvSpPr>
          <p:spPr>
            <a:xfrm>
              <a:off x="4663800" y="2620800"/>
              <a:ext cx="66240" cy="8280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9" name=""/>
            <p:cNvSpPr/>
            <p:nvPr/>
          </p:nvSpPr>
          <p:spPr>
            <a:xfrm>
              <a:off x="4663800" y="2700360"/>
              <a:ext cx="66240" cy="7596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00" name=""/>
            <p:cNvSpPr/>
            <p:nvPr/>
          </p:nvSpPr>
          <p:spPr>
            <a:xfrm>
              <a:off x="4663800" y="2774880"/>
              <a:ext cx="66240" cy="7632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1" name=""/>
            <p:cNvSpPr/>
            <p:nvPr/>
          </p:nvSpPr>
          <p:spPr>
            <a:xfrm>
              <a:off x="4665240" y="2849400"/>
              <a:ext cx="64800" cy="6192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02" name=""/>
            <p:cNvSpPr/>
            <p:nvPr/>
          </p:nvSpPr>
          <p:spPr>
            <a:xfrm>
              <a:off x="4673160" y="3002040"/>
              <a:ext cx="56880" cy="3780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3" name=""/>
            <p:cNvSpPr/>
            <p:nvPr/>
          </p:nvSpPr>
          <p:spPr>
            <a:xfrm>
              <a:off x="4665240" y="3039840"/>
              <a:ext cx="64800" cy="7632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04" name=""/>
            <p:cNvSpPr/>
            <p:nvPr/>
          </p:nvSpPr>
          <p:spPr>
            <a:xfrm>
              <a:off x="4663800" y="3116160"/>
              <a:ext cx="66240" cy="8244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505" name=""/>
          <p:cNvGrpSpPr/>
          <p:nvPr/>
        </p:nvGrpSpPr>
        <p:grpSpPr>
          <a:xfrm>
            <a:off x="4567320" y="2346480"/>
            <a:ext cx="702720" cy="932760"/>
            <a:chOff x="4567320" y="2346480"/>
            <a:chExt cx="702720" cy="932760"/>
          </a:xfrm>
        </p:grpSpPr>
        <p:sp>
          <p:nvSpPr>
            <p:cNvPr id="506" name=""/>
            <p:cNvSpPr/>
            <p:nvPr/>
          </p:nvSpPr>
          <p:spPr>
            <a:xfrm>
              <a:off x="4597200" y="2854080"/>
              <a:ext cx="48960" cy="8532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07" name=""/>
            <p:cNvSpPr/>
            <p:nvPr/>
          </p:nvSpPr>
          <p:spPr>
            <a:xfrm>
              <a:off x="4636800" y="2468520"/>
              <a:ext cx="618840" cy="79020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624200" y="2685960"/>
              <a:ext cx="625320" cy="47268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635360" y="2455560"/>
              <a:ext cx="617040" cy="6793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370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4627440" y="2466720"/>
              <a:ext cx="28080" cy="48240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910040" y="2687400"/>
              <a:ext cx="128160" cy="12204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4627440" y="2465280"/>
              <a:ext cx="642600" cy="81396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581360" y="2730240"/>
              <a:ext cx="426600" cy="25380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626000" y="2346480"/>
              <a:ext cx="644040" cy="24876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4654440" y="2371680"/>
              <a:ext cx="582120" cy="19620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689360" y="2392200"/>
              <a:ext cx="510840" cy="15192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727520" y="2417400"/>
              <a:ext cx="435960" cy="9648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370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897440" y="2673000"/>
              <a:ext cx="155160" cy="15228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4617720" y="2717640"/>
              <a:ext cx="358560" cy="23940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567320" y="2749320"/>
              <a:ext cx="446040" cy="25668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4667040" y="2541240"/>
              <a:ext cx="66240" cy="8064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2" name=""/>
            <p:cNvSpPr/>
            <p:nvPr/>
          </p:nvSpPr>
          <p:spPr>
            <a:xfrm>
              <a:off x="4667040" y="2616120"/>
              <a:ext cx="66240" cy="8208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23" name=""/>
            <p:cNvSpPr/>
            <p:nvPr/>
          </p:nvSpPr>
          <p:spPr>
            <a:xfrm>
              <a:off x="4667040" y="2695320"/>
              <a:ext cx="66240" cy="7596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4" name=""/>
            <p:cNvSpPr/>
            <p:nvPr/>
          </p:nvSpPr>
          <p:spPr>
            <a:xfrm>
              <a:off x="4667040" y="2769840"/>
              <a:ext cx="66240" cy="7596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5" name=""/>
            <p:cNvSpPr/>
            <p:nvPr/>
          </p:nvSpPr>
          <p:spPr>
            <a:xfrm>
              <a:off x="4668840" y="2844720"/>
              <a:ext cx="64440" cy="6156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26" name=""/>
            <p:cNvSpPr/>
            <p:nvPr/>
          </p:nvSpPr>
          <p:spPr>
            <a:xfrm>
              <a:off x="4676760" y="2997000"/>
              <a:ext cx="56520" cy="3780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7" name=""/>
            <p:cNvSpPr/>
            <p:nvPr/>
          </p:nvSpPr>
          <p:spPr>
            <a:xfrm>
              <a:off x="4668840" y="3035160"/>
              <a:ext cx="64440" cy="7596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8" name=""/>
            <p:cNvSpPr/>
            <p:nvPr/>
          </p:nvSpPr>
          <p:spPr>
            <a:xfrm>
              <a:off x="4667040" y="3111480"/>
              <a:ext cx="66240" cy="8208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
        <p:nvSpPr>
          <p:cNvPr id="529" name="PlaceHolder 1"/>
          <p:cNvSpPr>
            <a:spLocks noGrp="1"/>
          </p:cNvSpPr>
          <p:nvPr>
            <p:ph type="title"/>
          </p:nvPr>
        </p:nvSpPr>
        <p:spPr>
          <a:xfrm>
            <a:off x="1761840" y="539280"/>
            <a:ext cx="5856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or Math </a:t>
            </a:r>
            <a:endParaRPr b="0" lang="en-US" sz="4400" spc="-1" strike="noStrike">
              <a:solidFill>
                <a:srgbClr val="000000"/>
              </a:solidFill>
              <a:latin typeface="Times New Roman"/>
            </a:endParaRPr>
          </a:p>
        </p:txBody>
      </p:sp>
      <p:sp>
        <p:nvSpPr>
          <p:cNvPr id="530" name="PlaceHolder 2"/>
          <p:cNvSpPr>
            <a:spLocks noGrp="1"/>
          </p:cNvSpPr>
          <p:nvPr>
            <p:ph/>
          </p:nvPr>
        </p:nvSpPr>
        <p:spPr>
          <a:xfrm>
            <a:off x="326880" y="1920600"/>
            <a:ext cx="6191280" cy="433548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might be used to </a:t>
            </a:r>
            <a:br>
              <a:rPr sz="2800"/>
            </a:br>
            <a:r>
              <a:rPr b="0" lang="en-US" sz="2800" spc="-1" strike="noStrike">
                <a:solidFill>
                  <a:srgbClr val="000000"/>
                </a:solidFill>
                <a:latin typeface="Times New Roman"/>
              </a:rPr>
              <a:t>thinking about </a:t>
            </a:r>
            <a:br>
              <a:rPr sz="2800"/>
            </a:br>
            <a:r>
              <a:rPr b="0" i="1" lang="en-US" sz="2800" spc="-1" strike="noStrike">
                <a:solidFill>
                  <a:srgbClr val="000000"/>
                </a:solidFill>
                <a:latin typeface="Times New Roman"/>
              </a:rPr>
              <a:t>subtractive color</a:t>
            </a:r>
            <a:r>
              <a:rPr b="0" lang="en-US" sz="2800" spc="-1" strike="noStrike">
                <a:solidFill>
                  <a:srgbClr val="000000"/>
                </a:solidFill>
                <a:latin typeface="Times New Roman"/>
              </a:rPr>
              <a:t>. This </a:t>
            </a:r>
            <a:br>
              <a:rPr sz="2800"/>
            </a:br>
            <a:r>
              <a:rPr b="0" lang="en-US" sz="2800" spc="-1" strike="noStrike">
                <a:solidFill>
                  <a:srgbClr val="000000"/>
                </a:solidFill>
                <a:latin typeface="Times New Roman"/>
              </a:rPr>
              <a:t>occurs when light </a:t>
            </a:r>
            <a:br>
              <a:rPr sz="2800"/>
            </a:br>
            <a:r>
              <a:rPr b="0" lang="en-US" sz="2800" spc="-1" strike="noStrike">
                <a:solidFill>
                  <a:srgbClr val="000000"/>
                </a:solidFill>
                <a:latin typeface="Times New Roman"/>
              </a:rPr>
              <a:t>absorbing pigments </a:t>
            </a:r>
            <a:br>
              <a:rPr sz="2800"/>
            </a:br>
            <a:r>
              <a:rPr b="0" lang="en-US" sz="2800" spc="-1" strike="noStrike">
                <a:solidFill>
                  <a:srgbClr val="000000"/>
                </a:solidFill>
                <a:latin typeface="Times New Roman"/>
              </a:rPr>
              <a:t>such as paint or dye are </a:t>
            </a:r>
            <a:br>
              <a:rPr sz="2800"/>
            </a:br>
            <a:r>
              <a:rPr b="0" lang="en-US" sz="2800" spc="-1" strike="noStrike">
                <a:solidFill>
                  <a:srgbClr val="000000"/>
                </a:solidFill>
                <a:latin typeface="Times New Roman"/>
              </a:rPr>
              <a:t>mixed. </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case, the two dyes together absorb more color than separately so the mixture appears darker than either does individually. </a:t>
            </a:r>
            <a:endParaRPr b="0" lang="en-US" sz="2800" spc="-1" strike="noStrike">
              <a:solidFill>
                <a:srgbClr val="000000"/>
              </a:solidFill>
              <a:latin typeface="Times New Roman"/>
            </a:endParaRPr>
          </a:p>
        </p:txBody>
      </p:sp>
      <p:sp>
        <p:nvSpPr>
          <p:cNvPr id="5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LithographLight"/>
              </a:rPr>
              <a:t>TR-45.3</a:t>
            </a:r>
            <a:endParaRPr b="0" lang="en-US" sz="1000" spc="-1" strike="noStrike">
              <a:solidFill>
                <a:srgbClr val="000000"/>
              </a:solidFill>
              <a:latin typeface="Arial"/>
            </a:endParaRPr>
          </a:p>
        </p:txBody>
      </p:sp>
      <p:grpSp>
        <p:nvGrpSpPr>
          <p:cNvPr id="532" name=""/>
          <p:cNvGrpSpPr/>
          <p:nvPr/>
        </p:nvGrpSpPr>
        <p:grpSpPr>
          <a:xfrm>
            <a:off x="6572520" y="4776120"/>
            <a:ext cx="1580040" cy="1191960"/>
            <a:chOff x="6572520" y="4776120"/>
            <a:chExt cx="1580040" cy="1191960"/>
          </a:xfrm>
        </p:grpSpPr>
        <p:sp>
          <p:nvSpPr>
            <p:cNvPr id="533" name=""/>
            <p:cNvSpPr/>
            <p:nvPr/>
          </p:nvSpPr>
          <p:spPr>
            <a:xfrm>
              <a:off x="6622920" y="5100480"/>
              <a:ext cx="1459080" cy="867600"/>
            </a:xfrm>
            <a:custGeom>
              <a:avLst/>
              <a:gdLst/>
              <a:ahLst/>
              <a:rect l="l" t="t" r="r" b="b"/>
              <a:pathLst>
                <a:path w="1301" h="805">
                  <a:moveTo>
                    <a:pt x="1278" y="347"/>
                  </a:moveTo>
                  <a:lnTo>
                    <a:pt x="1257" y="316"/>
                  </a:lnTo>
                  <a:lnTo>
                    <a:pt x="1235" y="285"/>
                  </a:lnTo>
                  <a:lnTo>
                    <a:pt x="1208" y="254"/>
                  </a:lnTo>
                  <a:lnTo>
                    <a:pt x="1180" y="223"/>
                  </a:lnTo>
                  <a:lnTo>
                    <a:pt x="1147" y="193"/>
                  </a:lnTo>
                  <a:lnTo>
                    <a:pt x="1112" y="164"/>
                  </a:lnTo>
                  <a:lnTo>
                    <a:pt x="1076" y="136"/>
                  </a:lnTo>
                  <a:lnTo>
                    <a:pt x="1037" y="111"/>
                  </a:lnTo>
                  <a:lnTo>
                    <a:pt x="995" y="87"/>
                  </a:lnTo>
                  <a:lnTo>
                    <a:pt x="951" y="67"/>
                  </a:lnTo>
                  <a:lnTo>
                    <a:pt x="905" y="48"/>
                  </a:lnTo>
                  <a:lnTo>
                    <a:pt x="857" y="32"/>
                  </a:lnTo>
                  <a:lnTo>
                    <a:pt x="809" y="19"/>
                  </a:lnTo>
                  <a:lnTo>
                    <a:pt x="758" y="8"/>
                  </a:lnTo>
                  <a:lnTo>
                    <a:pt x="705" y="2"/>
                  </a:lnTo>
                  <a:lnTo>
                    <a:pt x="651" y="0"/>
                  </a:lnTo>
                  <a:lnTo>
                    <a:pt x="598" y="2"/>
                  </a:lnTo>
                  <a:lnTo>
                    <a:pt x="545" y="8"/>
                  </a:lnTo>
                  <a:lnTo>
                    <a:pt x="493" y="19"/>
                  </a:lnTo>
                  <a:lnTo>
                    <a:pt x="444" y="32"/>
                  </a:lnTo>
                  <a:lnTo>
                    <a:pt x="396" y="48"/>
                  </a:lnTo>
                  <a:lnTo>
                    <a:pt x="350" y="67"/>
                  </a:lnTo>
                  <a:lnTo>
                    <a:pt x="306" y="87"/>
                  </a:lnTo>
                  <a:lnTo>
                    <a:pt x="264" y="111"/>
                  </a:lnTo>
                  <a:lnTo>
                    <a:pt x="225" y="136"/>
                  </a:lnTo>
                  <a:lnTo>
                    <a:pt x="187" y="164"/>
                  </a:lnTo>
                  <a:lnTo>
                    <a:pt x="152" y="193"/>
                  </a:lnTo>
                  <a:lnTo>
                    <a:pt x="121" y="223"/>
                  </a:lnTo>
                  <a:lnTo>
                    <a:pt x="91" y="254"/>
                  </a:lnTo>
                  <a:lnTo>
                    <a:pt x="66" y="285"/>
                  </a:lnTo>
                  <a:lnTo>
                    <a:pt x="42" y="316"/>
                  </a:lnTo>
                  <a:lnTo>
                    <a:pt x="22" y="347"/>
                  </a:lnTo>
                  <a:lnTo>
                    <a:pt x="14" y="358"/>
                  </a:lnTo>
                  <a:lnTo>
                    <a:pt x="9" y="369"/>
                  </a:lnTo>
                  <a:lnTo>
                    <a:pt x="3" y="381"/>
                  </a:lnTo>
                  <a:lnTo>
                    <a:pt x="1" y="390"/>
                  </a:lnTo>
                  <a:lnTo>
                    <a:pt x="0" y="393"/>
                  </a:lnTo>
                  <a:lnTo>
                    <a:pt x="22" y="436"/>
                  </a:lnTo>
                  <a:lnTo>
                    <a:pt x="42" y="469"/>
                  </a:lnTo>
                  <a:lnTo>
                    <a:pt x="66" y="502"/>
                  </a:lnTo>
                  <a:lnTo>
                    <a:pt x="93" y="535"/>
                  </a:lnTo>
                  <a:lnTo>
                    <a:pt x="123" y="568"/>
                  </a:lnTo>
                  <a:lnTo>
                    <a:pt x="156" y="599"/>
                  </a:lnTo>
                  <a:lnTo>
                    <a:pt x="191" y="630"/>
                  </a:lnTo>
                  <a:lnTo>
                    <a:pt x="229" y="660"/>
                  </a:lnTo>
                  <a:lnTo>
                    <a:pt x="268" y="685"/>
                  </a:lnTo>
                  <a:lnTo>
                    <a:pt x="310" y="711"/>
                  </a:lnTo>
                  <a:lnTo>
                    <a:pt x="354" y="735"/>
                  </a:lnTo>
                  <a:lnTo>
                    <a:pt x="400" y="755"/>
                  </a:lnTo>
                  <a:lnTo>
                    <a:pt x="448" y="772"/>
                  </a:lnTo>
                  <a:lnTo>
                    <a:pt x="497" y="786"/>
                  </a:lnTo>
                  <a:lnTo>
                    <a:pt x="547" y="795"/>
                  </a:lnTo>
                  <a:lnTo>
                    <a:pt x="598" y="803"/>
                  </a:lnTo>
                  <a:lnTo>
                    <a:pt x="651" y="805"/>
                  </a:lnTo>
                  <a:lnTo>
                    <a:pt x="705" y="803"/>
                  </a:lnTo>
                  <a:lnTo>
                    <a:pt x="756" y="795"/>
                  </a:lnTo>
                  <a:lnTo>
                    <a:pt x="806" y="786"/>
                  </a:lnTo>
                  <a:lnTo>
                    <a:pt x="853" y="772"/>
                  </a:lnTo>
                  <a:lnTo>
                    <a:pt x="901" y="755"/>
                  </a:lnTo>
                  <a:lnTo>
                    <a:pt x="947" y="735"/>
                  </a:lnTo>
                  <a:lnTo>
                    <a:pt x="991" y="711"/>
                  </a:lnTo>
                  <a:lnTo>
                    <a:pt x="1032" y="685"/>
                  </a:lnTo>
                  <a:lnTo>
                    <a:pt x="1072" y="660"/>
                  </a:lnTo>
                  <a:lnTo>
                    <a:pt x="1109" y="630"/>
                  </a:lnTo>
                  <a:lnTo>
                    <a:pt x="1144" y="599"/>
                  </a:lnTo>
                  <a:lnTo>
                    <a:pt x="1177" y="568"/>
                  </a:lnTo>
                  <a:lnTo>
                    <a:pt x="1206" y="535"/>
                  </a:lnTo>
                  <a:lnTo>
                    <a:pt x="1233" y="502"/>
                  </a:lnTo>
                  <a:lnTo>
                    <a:pt x="1257" y="469"/>
                  </a:lnTo>
                  <a:lnTo>
                    <a:pt x="1278" y="436"/>
                  </a:lnTo>
                  <a:lnTo>
                    <a:pt x="1290" y="414"/>
                  </a:lnTo>
                  <a:lnTo>
                    <a:pt x="1298" y="401"/>
                  </a:lnTo>
                  <a:lnTo>
                    <a:pt x="1300" y="395"/>
                  </a:lnTo>
                  <a:lnTo>
                    <a:pt x="1300" y="393"/>
                  </a:lnTo>
                  <a:lnTo>
                    <a:pt x="1301" y="390"/>
                  </a:lnTo>
                  <a:lnTo>
                    <a:pt x="1278" y="3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731640" y="5196600"/>
              <a:ext cx="1241640" cy="677520"/>
            </a:xfrm>
            <a:custGeom>
              <a:avLst/>
              <a:gdLst/>
              <a:ahLst/>
              <a:rect l="l" t="t" r="r" b="b"/>
              <a:pathLst>
                <a:path w="1107" h="629">
                  <a:moveTo>
                    <a:pt x="554" y="629"/>
                  </a:moveTo>
                  <a:lnTo>
                    <a:pt x="510" y="628"/>
                  </a:lnTo>
                  <a:lnTo>
                    <a:pt x="466" y="622"/>
                  </a:lnTo>
                  <a:lnTo>
                    <a:pt x="422" y="613"/>
                  </a:lnTo>
                  <a:lnTo>
                    <a:pt x="380" y="602"/>
                  </a:lnTo>
                  <a:lnTo>
                    <a:pt x="338" y="585"/>
                  </a:lnTo>
                  <a:lnTo>
                    <a:pt x="297" y="569"/>
                  </a:lnTo>
                  <a:lnTo>
                    <a:pt x="259" y="549"/>
                  </a:lnTo>
                  <a:lnTo>
                    <a:pt x="222" y="527"/>
                  </a:lnTo>
                  <a:lnTo>
                    <a:pt x="187" y="503"/>
                  </a:lnTo>
                  <a:lnTo>
                    <a:pt x="152" y="477"/>
                  </a:lnTo>
                  <a:lnTo>
                    <a:pt x="121" y="449"/>
                  </a:lnTo>
                  <a:lnTo>
                    <a:pt x="92" y="422"/>
                  </a:lnTo>
                  <a:lnTo>
                    <a:pt x="66" y="393"/>
                  </a:lnTo>
                  <a:lnTo>
                    <a:pt x="40" y="363"/>
                  </a:lnTo>
                  <a:lnTo>
                    <a:pt x="18" y="334"/>
                  </a:lnTo>
                  <a:lnTo>
                    <a:pt x="0" y="303"/>
                  </a:lnTo>
                  <a:lnTo>
                    <a:pt x="18" y="273"/>
                  </a:lnTo>
                  <a:lnTo>
                    <a:pt x="38" y="246"/>
                  </a:lnTo>
                  <a:lnTo>
                    <a:pt x="62" y="218"/>
                  </a:lnTo>
                  <a:lnTo>
                    <a:pt x="90" y="191"/>
                  </a:lnTo>
                  <a:lnTo>
                    <a:pt x="117" y="165"/>
                  </a:lnTo>
                  <a:lnTo>
                    <a:pt x="149" y="139"/>
                  </a:lnTo>
                  <a:lnTo>
                    <a:pt x="182" y="115"/>
                  </a:lnTo>
                  <a:lnTo>
                    <a:pt x="217" y="93"/>
                  </a:lnTo>
                  <a:lnTo>
                    <a:pt x="253" y="73"/>
                  </a:lnTo>
                  <a:lnTo>
                    <a:pt x="292" y="55"/>
                  </a:lnTo>
                  <a:lnTo>
                    <a:pt x="332" y="38"/>
                  </a:lnTo>
                  <a:lnTo>
                    <a:pt x="374" y="25"/>
                  </a:lnTo>
                  <a:lnTo>
                    <a:pt x="417" y="14"/>
                  </a:lnTo>
                  <a:lnTo>
                    <a:pt x="463" y="7"/>
                  </a:lnTo>
                  <a:lnTo>
                    <a:pt x="509" y="1"/>
                  </a:lnTo>
                  <a:lnTo>
                    <a:pt x="554" y="0"/>
                  </a:lnTo>
                  <a:lnTo>
                    <a:pt x="600" y="1"/>
                  </a:lnTo>
                  <a:lnTo>
                    <a:pt x="646" y="7"/>
                  </a:lnTo>
                  <a:lnTo>
                    <a:pt x="690" y="14"/>
                  </a:lnTo>
                  <a:lnTo>
                    <a:pt x="733" y="25"/>
                  </a:lnTo>
                  <a:lnTo>
                    <a:pt x="775" y="38"/>
                  </a:lnTo>
                  <a:lnTo>
                    <a:pt x="815" y="55"/>
                  </a:lnTo>
                  <a:lnTo>
                    <a:pt x="854" y="73"/>
                  </a:lnTo>
                  <a:lnTo>
                    <a:pt x="890" y="93"/>
                  </a:lnTo>
                  <a:lnTo>
                    <a:pt x="925" y="115"/>
                  </a:lnTo>
                  <a:lnTo>
                    <a:pt x="958" y="139"/>
                  </a:lnTo>
                  <a:lnTo>
                    <a:pt x="990" y="165"/>
                  </a:lnTo>
                  <a:lnTo>
                    <a:pt x="1017" y="191"/>
                  </a:lnTo>
                  <a:lnTo>
                    <a:pt x="1045" y="218"/>
                  </a:lnTo>
                  <a:lnTo>
                    <a:pt x="1069" y="246"/>
                  </a:lnTo>
                  <a:lnTo>
                    <a:pt x="1089" y="273"/>
                  </a:lnTo>
                  <a:lnTo>
                    <a:pt x="1107" y="303"/>
                  </a:lnTo>
                  <a:lnTo>
                    <a:pt x="1089" y="334"/>
                  </a:lnTo>
                  <a:lnTo>
                    <a:pt x="1067" y="363"/>
                  </a:lnTo>
                  <a:lnTo>
                    <a:pt x="1041" y="393"/>
                  </a:lnTo>
                  <a:lnTo>
                    <a:pt x="1015" y="422"/>
                  </a:lnTo>
                  <a:lnTo>
                    <a:pt x="986" y="449"/>
                  </a:lnTo>
                  <a:lnTo>
                    <a:pt x="955" y="477"/>
                  </a:lnTo>
                  <a:lnTo>
                    <a:pt x="920" y="503"/>
                  </a:lnTo>
                  <a:lnTo>
                    <a:pt x="885" y="527"/>
                  </a:lnTo>
                  <a:lnTo>
                    <a:pt x="848" y="549"/>
                  </a:lnTo>
                  <a:lnTo>
                    <a:pt x="810" y="569"/>
                  </a:lnTo>
                  <a:lnTo>
                    <a:pt x="769" y="585"/>
                  </a:lnTo>
                  <a:lnTo>
                    <a:pt x="729" y="602"/>
                  </a:lnTo>
                  <a:lnTo>
                    <a:pt x="687" y="613"/>
                  </a:lnTo>
                  <a:lnTo>
                    <a:pt x="643" y="622"/>
                  </a:lnTo>
                  <a:lnTo>
                    <a:pt x="598" y="628"/>
                  </a:lnTo>
                  <a:lnTo>
                    <a:pt x="554"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042320" y="5247000"/>
              <a:ext cx="598680" cy="576360"/>
            </a:xfrm>
            <a:custGeom>
              <a:avLst/>
              <a:gdLst/>
              <a:ahLst/>
              <a:rect l="l" t="t" r="r" b="b"/>
              <a:pathLst>
                <a:path w="534" h="535">
                  <a:moveTo>
                    <a:pt x="268" y="535"/>
                  </a:moveTo>
                  <a:lnTo>
                    <a:pt x="321" y="529"/>
                  </a:lnTo>
                  <a:lnTo>
                    <a:pt x="371" y="514"/>
                  </a:lnTo>
                  <a:lnTo>
                    <a:pt x="417" y="489"/>
                  </a:lnTo>
                  <a:lnTo>
                    <a:pt x="456" y="456"/>
                  </a:lnTo>
                  <a:lnTo>
                    <a:pt x="489" y="417"/>
                  </a:lnTo>
                  <a:lnTo>
                    <a:pt x="512" y="371"/>
                  </a:lnTo>
                  <a:lnTo>
                    <a:pt x="529" y="322"/>
                  </a:lnTo>
                  <a:lnTo>
                    <a:pt x="534" y="268"/>
                  </a:lnTo>
                  <a:lnTo>
                    <a:pt x="529" y="213"/>
                  </a:lnTo>
                  <a:lnTo>
                    <a:pt x="512" y="164"/>
                  </a:lnTo>
                  <a:lnTo>
                    <a:pt x="489" y="118"/>
                  </a:lnTo>
                  <a:lnTo>
                    <a:pt x="456" y="79"/>
                  </a:lnTo>
                  <a:lnTo>
                    <a:pt x="417" y="46"/>
                  </a:lnTo>
                  <a:lnTo>
                    <a:pt x="371" y="20"/>
                  </a:lnTo>
                  <a:lnTo>
                    <a:pt x="321" y="6"/>
                  </a:lnTo>
                  <a:lnTo>
                    <a:pt x="268" y="0"/>
                  </a:lnTo>
                  <a:lnTo>
                    <a:pt x="213" y="6"/>
                  </a:lnTo>
                  <a:lnTo>
                    <a:pt x="164" y="20"/>
                  </a:lnTo>
                  <a:lnTo>
                    <a:pt x="118" y="46"/>
                  </a:lnTo>
                  <a:lnTo>
                    <a:pt x="79" y="79"/>
                  </a:lnTo>
                  <a:lnTo>
                    <a:pt x="46" y="118"/>
                  </a:lnTo>
                  <a:lnTo>
                    <a:pt x="20" y="164"/>
                  </a:lnTo>
                  <a:lnTo>
                    <a:pt x="6" y="213"/>
                  </a:lnTo>
                  <a:lnTo>
                    <a:pt x="0" y="268"/>
                  </a:lnTo>
                  <a:lnTo>
                    <a:pt x="6" y="322"/>
                  </a:lnTo>
                  <a:lnTo>
                    <a:pt x="20" y="371"/>
                  </a:lnTo>
                  <a:lnTo>
                    <a:pt x="46" y="417"/>
                  </a:lnTo>
                  <a:lnTo>
                    <a:pt x="79" y="456"/>
                  </a:lnTo>
                  <a:lnTo>
                    <a:pt x="118" y="489"/>
                  </a:lnTo>
                  <a:lnTo>
                    <a:pt x="164" y="514"/>
                  </a:lnTo>
                  <a:lnTo>
                    <a:pt x="213" y="529"/>
                  </a:lnTo>
                  <a:lnTo>
                    <a:pt x="268" y="5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389000" y="5421600"/>
              <a:ext cx="96480" cy="94680"/>
            </a:xfrm>
            <a:custGeom>
              <a:avLst/>
              <a:gdLst/>
              <a:ahLst/>
              <a:rect l="l" t="t" r="r" b="b"/>
              <a:pathLst>
                <a:path w="86" h="88">
                  <a:moveTo>
                    <a:pt x="44" y="88"/>
                  </a:moveTo>
                  <a:lnTo>
                    <a:pt x="60" y="84"/>
                  </a:lnTo>
                  <a:lnTo>
                    <a:pt x="73" y="75"/>
                  </a:lnTo>
                  <a:lnTo>
                    <a:pt x="82" y="60"/>
                  </a:lnTo>
                  <a:lnTo>
                    <a:pt x="86" y="44"/>
                  </a:lnTo>
                  <a:lnTo>
                    <a:pt x="82" y="27"/>
                  </a:lnTo>
                  <a:lnTo>
                    <a:pt x="73" y="13"/>
                  </a:lnTo>
                  <a:lnTo>
                    <a:pt x="60" y="4"/>
                  </a:lnTo>
                  <a:lnTo>
                    <a:pt x="44" y="0"/>
                  </a:lnTo>
                  <a:lnTo>
                    <a:pt x="27" y="4"/>
                  </a:lnTo>
                  <a:lnTo>
                    <a:pt x="12" y="13"/>
                  </a:lnTo>
                  <a:lnTo>
                    <a:pt x="3" y="27"/>
                  </a:lnTo>
                  <a:lnTo>
                    <a:pt x="0" y="44"/>
                  </a:lnTo>
                  <a:lnTo>
                    <a:pt x="3" y="60"/>
                  </a:lnTo>
                  <a:lnTo>
                    <a:pt x="12" y="75"/>
                  </a:lnTo>
                  <a:lnTo>
                    <a:pt x="27" y="84"/>
                  </a:lnTo>
                  <a:lnTo>
                    <a:pt x="44"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72520" y="5045400"/>
              <a:ext cx="206280" cy="222120"/>
            </a:xfrm>
            <a:custGeom>
              <a:avLst/>
              <a:gdLst/>
              <a:ahLst/>
              <a:rect l="l" t="t" r="r" b="b"/>
              <a:pathLst>
                <a:path w="184" h="206">
                  <a:moveTo>
                    <a:pt x="184" y="152"/>
                  </a:moveTo>
                  <a:lnTo>
                    <a:pt x="0" y="0"/>
                  </a:lnTo>
                  <a:lnTo>
                    <a:pt x="122" y="206"/>
                  </a:lnTo>
                  <a:lnTo>
                    <a:pt x="129" y="198"/>
                  </a:lnTo>
                  <a:lnTo>
                    <a:pt x="136" y="193"/>
                  </a:lnTo>
                  <a:lnTo>
                    <a:pt x="144" y="185"/>
                  </a:lnTo>
                  <a:lnTo>
                    <a:pt x="151" y="178"/>
                  </a:lnTo>
                  <a:lnTo>
                    <a:pt x="160" y="171"/>
                  </a:lnTo>
                  <a:lnTo>
                    <a:pt x="168" y="165"/>
                  </a:lnTo>
                  <a:lnTo>
                    <a:pt x="177" y="158"/>
                  </a:lnTo>
                  <a:lnTo>
                    <a:pt x="184"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803640" y="4901040"/>
              <a:ext cx="160200" cy="239040"/>
            </a:xfrm>
            <a:custGeom>
              <a:avLst/>
              <a:gdLst/>
              <a:ahLst/>
              <a:rect l="l" t="t" r="r" b="b"/>
              <a:pathLst>
                <a:path w="143" h="222">
                  <a:moveTo>
                    <a:pt x="0" y="0"/>
                  </a:moveTo>
                  <a:lnTo>
                    <a:pt x="72" y="222"/>
                  </a:lnTo>
                  <a:lnTo>
                    <a:pt x="81" y="217"/>
                  </a:lnTo>
                  <a:lnTo>
                    <a:pt x="88" y="213"/>
                  </a:lnTo>
                  <a:lnTo>
                    <a:pt x="97" y="207"/>
                  </a:lnTo>
                  <a:lnTo>
                    <a:pt x="107" y="204"/>
                  </a:lnTo>
                  <a:lnTo>
                    <a:pt x="116" y="198"/>
                  </a:lnTo>
                  <a:lnTo>
                    <a:pt x="125" y="195"/>
                  </a:lnTo>
                  <a:lnTo>
                    <a:pt x="134" y="189"/>
                  </a:lnTo>
                  <a:lnTo>
                    <a:pt x="143" y="1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7061400" y="4811400"/>
              <a:ext cx="104040" cy="245880"/>
            </a:xfrm>
            <a:custGeom>
              <a:avLst/>
              <a:gdLst/>
              <a:ahLst/>
              <a:rect l="l" t="t" r="r" b="b"/>
              <a:pathLst>
                <a:path w="93" h="228">
                  <a:moveTo>
                    <a:pt x="0" y="0"/>
                  </a:moveTo>
                  <a:lnTo>
                    <a:pt x="16" y="228"/>
                  </a:lnTo>
                  <a:lnTo>
                    <a:pt x="25" y="226"/>
                  </a:lnTo>
                  <a:lnTo>
                    <a:pt x="36" y="223"/>
                  </a:lnTo>
                  <a:lnTo>
                    <a:pt x="46" y="221"/>
                  </a:lnTo>
                  <a:lnTo>
                    <a:pt x="55" y="217"/>
                  </a:lnTo>
                  <a:lnTo>
                    <a:pt x="64" y="215"/>
                  </a:lnTo>
                  <a:lnTo>
                    <a:pt x="75" y="211"/>
                  </a:lnTo>
                  <a:lnTo>
                    <a:pt x="84" y="210"/>
                  </a:lnTo>
                  <a:lnTo>
                    <a:pt x="93" y="20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7943040" y="5064840"/>
              <a:ext cx="209520" cy="217440"/>
            </a:xfrm>
            <a:custGeom>
              <a:avLst/>
              <a:gdLst/>
              <a:ahLst/>
              <a:rect l="l" t="t" r="r" b="b"/>
              <a:pathLst>
                <a:path w="187" h="202">
                  <a:moveTo>
                    <a:pt x="0" y="147"/>
                  </a:moveTo>
                  <a:lnTo>
                    <a:pt x="187" y="0"/>
                  </a:lnTo>
                  <a:lnTo>
                    <a:pt x="62" y="202"/>
                  </a:lnTo>
                  <a:lnTo>
                    <a:pt x="55" y="195"/>
                  </a:lnTo>
                  <a:lnTo>
                    <a:pt x="47" y="188"/>
                  </a:lnTo>
                  <a:lnTo>
                    <a:pt x="40" y="182"/>
                  </a:lnTo>
                  <a:lnTo>
                    <a:pt x="31" y="175"/>
                  </a:lnTo>
                  <a:lnTo>
                    <a:pt x="23" y="167"/>
                  </a:lnTo>
                  <a:lnTo>
                    <a:pt x="16" y="160"/>
                  </a:lnTo>
                  <a:lnTo>
                    <a:pt x="7" y="155"/>
                  </a:lnTo>
                  <a:lnTo>
                    <a:pt x="0"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61240" y="4917240"/>
              <a:ext cx="164880" cy="234720"/>
            </a:xfrm>
            <a:custGeom>
              <a:avLst/>
              <a:gdLst/>
              <a:ahLst/>
              <a:rect l="l" t="t" r="r" b="b"/>
              <a:pathLst>
                <a:path w="147" h="218">
                  <a:moveTo>
                    <a:pt x="147" y="0"/>
                  </a:moveTo>
                  <a:lnTo>
                    <a:pt x="72" y="218"/>
                  </a:lnTo>
                  <a:lnTo>
                    <a:pt x="62" y="213"/>
                  </a:lnTo>
                  <a:lnTo>
                    <a:pt x="53" y="209"/>
                  </a:lnTo>
                  <a:lnTo>
                    <a:pt x="44" y="203"/>
                  </a:lnTo>
                  <a:lnTo>
                    <a:pt x="37" y="198"/>
                  </a:lnTo>
                  <a:lnTo>
                    <a:pt x="28" y="194"/>
                  </a:lnTo>
                  <a:lnTo>
                    <a:pt x="18" y="189"/>
                  </a:lnTo>
                  <a:lnTo>
                    <a:pt x="9" y="185"/>
                  </a:lnTo>
                  <a:lnTo>
                    <a:pt x="0" y="180"/>
                  </a:lnTo>
                  <a:lnTo>
                    <a:pt x="1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559640" y="4820400"/>
              <a:ext cx="110880" cy="244440"/>
            </a:xfrm>
            <a:custGeom>
              <a:avLst/>
              <a:gdLst/>
              <a:ahLst/>
              <a:rect l="l" t="t" r="r" b="b"/>
              <a:pathLst>
                <a:path w="99" h="227">
                  <a:moveTo>
                    <a:pt x="99" y="0"/>
                  </a:moveTo>
                  <a:lnTo>
                    <a:pt x="77" y="227"/>
                  </a:lnTo>
                  <a:lnTo>
                    <a:pt x="68" y="224"/>
                  </a:lnTo>
                  <a:lnTo>
                    <a:pt x="59" y="220"/>
                  </a:lnTo>
                  <a:lnTo>
                    <a:pt x="50" y="218"/>
                  </a:lnTo>
                  <a:lnTo>
                    <a:pt x="39" y="215"/>
                  </a:lnTo>
                  <a:lnTo>
                    <a:pt x="29" y="213"/>
                  </a:lnTo>
                  <a:lnTo>
                    <a:pt x="20" y="209"/>
                  </a:lnTo>
                  <a:lnTo>
                    <a:pt x="11" y="207"/>
                  </a:lnTo>
                  <a:lnTo>
                    <a:pt x="0" y="205"/>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8360" y="4776120"/>
              <a:ext cx="90720" cy="245520"/>
            </a:xfrm>
            <a:custGeom>
              <a:avLst/>
              <a:gdLst/>
              <a:ahLst/>
              <a:rect l="l" t="t" r="r" b="b"/>
              <a:pathLst>
                <a:path w="81" h="228">
                  <a:moveTo>
                    <a:pt x="81" y="228"/>
                  </a:moveTo>
                  <a:lnTo>
                    <a:pt x="35" y="0"/>
                  </a:lnTo>
                  <a:lnTo>
                    <a:pt x="0" y="226"/>
                  </a:lnTo>
                  <a:lnTo>
                    <a:pt x="9" y="226"/>
                  </a:lnTo>
                  <a:lnTo>
                    <a:pt x="20" y="224"/>
                  </a:lnTo>
                  <a:lnTo>
                    <a:pt x="31" y="224"/>
                  </a:lnTo>
                  <a:lnTo>
                    <a:pt x="40" y="224"/>
                  </a:lnTo>
                  <a:lnTo>
                    <a:pt x="50" y="226"/>
                  </a:lnTo>
                  <a:lnTo>
                    <a:pt x="61" y="226"/>
                  </a:lnTo>
                  <a:lnTo>
                    <a:pt x="70" y="226"/>
                  </a:lnTo>
                  <a:lnTo>
                    <a:pt x="81"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44" name="" descr=""/>
          <p:cNvPicPr/>
          <p:nvPr/>
        </p:nvPicPr>
        <p:blipFill>
          <a:blip r:embed="rId2"/>
          <a:stretch/>
        </p:blipFill>
        <p:spPr>
          <a:xfrm rot="19277400">
            <a:off x="7446960" y="2084400"/>
            <a:ext cx="1154160" cy="1363680"/>
          </a:xfrm>
          <a:prstGeom prst="rect">
            <a:avLst/>
          </a:prstGeom>
          <a:ln w="0">
            <a:noFill/>
          </a:ln>
        </p:spPr>
      </p:pic>
      <p:sp>
        <p:nvSpPr>
          <p:cNvPr id="545" name=""/>
          <p:cNvSpPr/>
          <p:nvPr/>
        </p:nvSpPr>
        <p:spPr>
          <a:xfrm rot="19840800">
            <a:off x="5792760" y="3216240"/>
            <a:ext cx="2095560" cy="40320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662880" y="1901880"/>
            <a:ext cx="480960" cy="1168200"/>
          </a:xfrm>
          <a:custGeom>
            <a:avLst/>
            <a:gdLst/>
            <a:ahLst/>
            <a:rect l="l" t="t" r="r" b="b"/>
            <a:pathLst>
              <a:path w="448" h="495">
                <a:moveTo>
                  <a:pt x="365" y="22"/>
                </a:moveTo>
                <a:lnTo>
                  <a:pt x="308" y="0"/>
                </a:lnTo>
                <a:lnTo>
                  <a:pt x="0" y="149"/>
                </a:lnTo>
                <a:lnTo>
                  <a:pt x="3" y="190"/>
                </a:lnTo>
                <a:lnTo>
                  <a:pt x="448" y="495"/>
                </a:lnTo>
                <a:lnTo>
                  <a:pt x="375" y="28"/>
                </a:lnTo>
                <a:lnTo>
                  <a:pt x="365"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7" name="" descr=""/>
          <p:cNvPicPr/>
          <p:nvPr/>
        </p:nvPicPr>
        <p:blipFill>
          <a:blip r:embed="rId3"/>
          <a:stretch/>
        </p:blipFill>
        <p:spPr>
          <a:xfrm rot="19276800">
            <a:off x="6360840" y="1574640"/>
            <a:ext cx="798480" cy="776520"/>
          </a:xfrm>
          <a:prstGeom prst="rect">
            <a:avLst/>
          </a:prstGeom>
          <a:ln w="0">
            <a:noFill/>
          </a:ln>
        </p:spPr>
      </p:pic>
      <p:grpSp>
        <p:nvGrpSpPr>
          <p:cNvPr id="548" name=""/>
          <p:cNvGrpSpPr/>
          <p:nvPr/>
        </p:nvGrpSpPr>
        <p:grpSpPr>
          <a:xfrm>
            <a:off x="4145400" y="1756080"/>
            <a:ext cx="795960" cy="754560"/>
            <a:chOff x="4145400" y="1756080"/>
            <a:chExt cx="795960" cy="754560"/>
          </a:xfrm>
        </p:grpSpPr>
        <p:grpSp>
          <p:nvGrpSpPr>
            <p:cNvPr id="549" name=""/>
            <p:cNvGrpSpPr/>
            <p:nvPr/>
          </p:nvGrpSpPr>
          <p:grpSpPr>
            <a:xfrm>
              <a:off x="4145400" y="1756080"/>
              <a:ext cx="722880" cy="583920"/>
              <a:chOff x="4145400" y="1756080"/>
              <a:chExt cx="722880" cy="583920"/>
            </a:xfrm>
          </p:grpSpPr>
          <p:sp>
            <p:nvSpPr>
              <p:cNvPr id="550" name=""/>
              <p:cNvSpPr/>
              <p:nvPr/>
            </p:nvSpPr>
            <p:spPr>
              <a:xfrm rot="3937800">
                <a:off x="4366800" y="1878840"/>
                <a:ext cx="27000" cy="5796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1" name=""/>
              <p:cNvSpPr/>
              <p:nvPr/>
            </p:nvSpPr>
            <p:spPr>
              <a:xfrm rot="3937800">
                <a:off x="4304520" y="1792440"/>
                <a:ext cx="340200" cy="53676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rot="3937800">
                <a:off x="4264200" y="1911960"/>
                <a:ext cx="343800" cy="32112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rot="3937800">
                <a:off x="4346640" y="1809720"/>
                <a:ext cx="339480" cy="4615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rot="3937800">
                <a:off x="4493880" y="1701000"/>
                <a:ext cx="15480" cy="32760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rot="3937800">
                <a:off x="4517280" y="2001240"/>
                <a:ext cx="70560" cy="8280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56" name=""/>
              <p:cNvSpPr/>
              <p:nvPr/>
            </p:nvSpPr>
            <p:spPr>
              <a:xfrm rot="3937800">
                <a:off x="4293360" y="1788480"/>
                <a:ext cx="353520" cy="55296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rot="3937800">
                <a:off x="4326840" y="1897200"/>
                <a:ext cx="234720" cy="17244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3937800">
                <a:off x="4540680" y="1867680"/>
                <a:ext cx="354240" cy="16920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rot="3937800">
                <a:off x="4557960" y="1883880"/>
                <a:ext cx="320040" cy="13320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1341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rot="3937800">
                <a:off x="4578480" y="1897560"/>
                <a:ext cx="280800" cy="10332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rot="3937800">
                <a:off x="4600800" y="1916280"/>
                <a:ext cx="239760" cy="6552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3333cc"/>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2" name=""/>
              <p:cNvSpPr/>
              <p:nvPr/>
            </p:nvSpPr>
            <p:spPr>
              <a:xfrm rot="3937800">
                <a:off x="4509360" y="1991520"/>
                <a:ext cx="85320" cy="10368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rot="3937800">
                <a:off x="4358520" y="1897560"/>
                <a:ext cx="197280" cy="16272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rot="3937800">
                <a:off x="4308120" y="1899720"/>
                <a:ext cx="245160" cy="17424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rot="3937800">
                <a:off x="4575240" y="1831320"/>
                <a:ext cx="36360" cy="5472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66" name=""/>
              <p:cNvSpPr/>
              <p:nvPr/>
            </p:nvSpPr>
            <p:spPr>
              <a:xfrm rot="3937800">
                <a:off x="4528080" y="1851840"/>
                <a:ext cx="36360" cy="5580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67" name=""/>
              <p:cNvSpPr/>
              <p:nvPr/>
            </p:nvSpPr>
            <p:spPr>
              <a:xfrm rot="3937800">
                <a:off x="4480920" y="1875240"/>
                <a:ext cx="36360" cy="5184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68" name=""/>
              <p:cNvSpPr/>
              <p:nvPr/>
            </p:nvSpPr>
            <p:spPr>
              <a:xfrm rot="3937800">
                <a:off x="4434840" y="1896120"/>
                <a:ext cx="36360" cy="5184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69" name=""/>
              <p:cNvSpPr/>
              <p:nvPr/>
            </p:nvSpPr>
            <p:spPr>
              <a:xfrm rot="3937800">
                <a:off x="4394160" y="1920600"/>
                <a:ext cx="35280" cy="4176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70" name=""/>
              <p:cNvSpPr/>
              <p:nvPr/>
            </p:nvSpPr>
            <p:spPr>
              <a:xfrm rot="3937800">
                <a:off x="4309560" y="1970280"/>
                <a:ext cx="30960" cy="2592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
              <p:cNvSpPr/>
              <p:nvPr/>
            </p:nvSpPr>
            <p:spPr>
              <a:xfrm rot="3937800">
                <a:off x="4271400" y="1971000"/>
                <a:ext cx="35280" cy="5184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72" name=""/>
              <p:cNvSpPr/>
              <p:nvPr/>
            </p:nvSpPr>
            <p:spPr>
              <a:xfrm rot="3937800">
                <a:off x="4221360" y="1990800"/>
                <a:ext cx="36360" cy="5580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573" name=""/>
            <p:cNvSpPr/>
            <p:nvPr/>
          </p:nvSpPr>
          <p:spPr>
            <a:xfrm rot="21315600">
              <a:off x="4761000" y="1976040"/>
              <a:ext cx="158400" cy="528840"/>
            </a:xfrm>
            <a:custGeom>
              <a:avLst/>
              <a:gdLst/>
              <a:ahLst/>
              <a:rect l="l" t="t" r="r" b="b"/>
              <a:pathLst>
                <a:path w="147" h="606">
                  <a:moveTo>
                    <a:pt x="0" y="0"/>
                  </a:moveTo>
                  <a:cubicBezTo>
                    <a:pt x="6" y="48"/>
                    <a:pt x="15" y="87"/>
                    <a:pt x="29" y="132"/>
                  </a:cubicBezTo>
                  <a:cubicBezTo>
                    <a:pt x="32" y="259"/>
                    <a:pt x="16" y="416"/>
                    <a:pt x="58" y="547"/>
                  </a:cubicBezTo>
                  <a:cubicBezTo>
                    <a:pt x="68" y="606"/>
                    <a:pt x="101" y="567"/>
                    <a:pt x="108" y="533"/>
                  </a:cubicBezTo>
                  <a:cubicBezTo>
                    <a:pt x="115" y="499"/>
                    <a:pt x="99" y="421"/>
                    <a:pt x="103" y="341"/>
                  </a:cubicBezTo>
                  <a:cubicBezTo>
                    <a:pt x="96" y="130"/>
                    <a:pt x="147" y="98"/>
                    <a:pt x="132" y="53"/>
                  </a:cubicBezTo>
                  <a:lnTo>
                    <a:pt x="0"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4966920" y="1728720"/>
            <a:ext cx="778320" cy="751320"/>
            <a:chOff x="4966920" y="1728720"/>
            <a:chExt cx="778320" cy="751320"/>
          </a:xfrm>
        </p:grpSpPr>
        <p:grpSp>
          <p:nvGrpSpPr>
            <p:cNvPr id="575" name=""/>
            <p:cNvGrpSpPr/>
            <p:nvPr/>
          </p:nvGrpSpPr>
          <p:grpSpPr>
            <a:xfrm>
              <a:off x="5035680" y="1728720"/>
              <a:ext cx="709560" cy="577800"/>
              <a:chOff x="5035680" y="1728720"/>
              <a:chExt cx="709560" cy="577800"/>
            </a:xfrm>
          </p:grpSpPr>
          <p:sp>
            <p:nvSpPr>
              <p:cNvPr id="576" name=""/>
              <p:cNvSpPr/>
              <p:nvPr/>
            </p:nvSpPr>
            <p:spPr>
              <a:xfrm flipH="1" rot="17662200">
                <a:off x="5501880" y="1848960"/>
                <a:ext cx="27000" cy="56520"/>
              </a:xfrm>
              <a:custGeom>
                <a:avLst/>
                <a:gdLst/>
                <a:ahLst/>
                <a:rect l="l" t="t" r="r" b="b"/>
                <a:pathLst>
                  <a:path w="74" h="129">
                    <a:moveTo>
                      <a:pt x="17" y="45"/>
                    </a:moveTo>
                    <a:lnTo>
                      <a:pt x="0" y="76"/>
                    </a:lnTo>
                    <a:lnTo>
                      <a:pt x="48" y="129"/>
                    </a:lnTo>
                    <a:lnTo>
                      <a:pt x="74" y="62"/>
                    </a:lnTo>
                    <a:lnTo>
                      <a:pt x="62" y="0"/>
                    </a:lnTo>
                    <a:lnTo>
                      <a:pt x="17" y="45"/>
                    </a:lnTo>
                    <a:lnTo>
                      <a:pt x="17" y="45"/>
                    </a:lnTo>
                    <a:close/>
                  </a:path>
                </a:pathLst>
              </a:custGeom>
              <a:solidFill>
                <a:srgbClr val="d9e8e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77" name=""/>
              <p:cNvSpPr/>
              <p:nvPr/>
            </p:nvSpPr>
            <p:spPr>
              <a:xfrm flipH="1" rot="17662200">
                <a:off x="5251320" y="1767960"/>
                <a:ext cx="340200" cy="524160"/>
              </a:xfrm>
              <a:custGeom>
                <a:avLst/>
                <a:gdLst/>
                <a:ahLst/>
                <a:rect l="l" t="t" r="r" b="b"/>
                <a:pathLst>
                  <a:path w="918" h="1172">
                    <a:moveTo>
                      <a:pt x="0" y="0"/>
                    </a:moveTo>
                    <a:lnTo>
                      <a:pt x="7" y="1046"/>
                    </a:lnTo>
                    <a:lnTo>
                      <a:pt x="8" y="1046"/>
                    </a:lnTo>
                    <a:lnTo>
                      <a:pt x="14" y="1051"/>
                    </a:lnTo>
                    <a:lnTo>
                      <a:pt x="18" y="1054"/>
                    </a:lnTo>
                    <a:lnTo>
                      <a:pt x="22" y="1057"/>
                    </a:lnTo>
                    <a:lnTo>
                      <a:pt x="27" y="1062"/>
                    </a:lnTo>
                    <a:lnTo>
                      <a:pt x="35" y="1066"/>
                    </a:lnTo>
                    <a:lnTo>
                      <a:pt x="43" y="1071"/>
                    </a:lnTo>
                    <a:lnTo>
                      <a:pt x="51" y="1076"/>
                    </a:lnTo>
                    <a:lnTo>
                      <a:pt x="56" y="1079"/>
                    </a:lnTo>
                    <a:lnTo>
                      <a:pt x="60" y="1081"/>
                    </a:lnTo>
                    <a:lnTo>
                      <a:pt x="65" y="1084"/>
                    </a:lnTo>
                    <a:lnTo>
                      <a:pt x="71" y="1087"/>
                    </a:lnTo>
                    <a:lnTo>
                      <a:pt x="78" y="1090"/>
                    </a:lnTo>
                    <a:lnTo>
                      <a:pt x="84" y="1093"/>
                    </a:lnTo>
                    <a:lnTo>
                      <a:pt x="90" y="1096"/>
                    </a:lnTo>
                    <a:lnTo>
                      <a:pt x="97" y="1100"/>
                    </a:lnTo>
                    <a:lnTo>
                      <a:pt x="103" y="1103"/>
                    </a:lnTo>
                    <a:lnTo>
                      <a:pt x="109" y="1106"/>
                    </a:lnTo>
                    <a:lnTo>
                      <a:pt x="117" y="1109"/>
                    </a:lnTo>
                    <a:lnTo>
                      <a:pt x="125" y="1114"/>
                    </a:lnTo>
                    <a:lnTo>
                      <a:pt x="133" y="1115"/>
                    </a:lnTo>
                    <a:lnTo>
                      <a:pt x="141" y="1119"/>
                    </a:lnTo>
                    <a:lnTo>
                      <a:pt x="147" y="1122"/>
                    </a:lnTo>
                    <a:lnTo>
                      <a:pt x="157" y="1125"/>
                    </a:lnTo>
                    <a:lnTo>
                      <a:pt x="166" y="1126"/>
                    </a:lnTo>
                    <a:lnTo>
                      <a:pt x="174" y="1130"/>
                    </a:lnTo>
                    <a:lnTo>
                      <a:pt x="184" y="1133"/>
                    </a:lnTo>
                    <a:lnTo>
                      <a:pt x="193" y="1136"/>
                    </a:lnTo>
                    <a:lnTo>
                      <a:pt x="203" y="1139"/>
                    </a:lnTo>
                    <a:lnTo>
                      <a:pt x="214" y="1142"/>
                    </a:lnTo>
                    <a:lnTo>
                      <a:pt x="223" y="1144"/>
                    </a:lnTo>
                    <a:lnTo>
                      <a:pt x="234" y="1147"/>
                    </a:lnTo>
                    <a:lnTo>
                      <a:pt x="245" y="1150"/>
                    </a:lnTo>
                    <a:lnTo>
                      <a:pt x="256" y="1152"/>
                    </a:lnTo>
                    <a:lnTo>
                      <a:pt x="268" y="1155"/>
                    </a:lnTo>
                    <a:lnTo>
                      <a:pt x="280" y="1158"/>
                    </a:lnTo>
                    <a:lnTo>
                      <a:pt x="291" y="1160"/>
                    </a:lnTo>
                    <a:lnTo>
                      <a:pt x="302" y="1160"/>
                    </a:lnTo>
                    <a:lnTo>
                      <a:pt x="315" y="1161"/>
                    </a:lnTo>
                    <a:lnTo>
                      <a:pt x="329" y="1164"/>
                    </a:lnTo>
                    <a:lnTo>
                      <a:pt x="340" y="1164"/>
                    </a:lnTo>
                    <a:lnTo>
                      <a:pt x="355" y="1166"/>
                    </a:lnTo>
                    <a:lnTo>
                      <a:pt x="369" y="1168"/>
                    </a:lnTo>
                    <a:lnTo>
                      <a:pt x="381" y="1169"/>
                    </a:lnTo>
                    <a:lnTo>
                      <a:pt x="396" y="1171"/>
                    </a:lnTo>
                    <a:lnTo>
                      <a:pt x="410" y="1171"/>
                    </a:lnTo>
                    <a:lnTo>
                      <a:pt x="424" y="1171"/>
                    </a:lnTo>
                    <a:lnTo>
                      <a:pt x="440" y="1172"/>
                    </a:lnTo>
                    <a:lnTo>
                      <a:pt x="454" y="1172"/>
                    </a:lnTo>
                    <a:lnTo>
                      <a:pt x="470" y="1172"/>
                    </a:lnTo>
                    <a:lnTo>
                      <a:pt x="486" y="1172"/>
                    </a:lnTo>
                    <a:lnTo>
                      <a:pt x="502" y="1172"/>
                    </a:lnTo>
                    <a:lnTo>
                      <a:pt x="517" y="1171"/>
                    </a:lnTo>
                    <a:lnTo>
                      <a:pt x="532" y="1171"/>
                    </a:lnTo>
                    <a:lnTo>
                      <a:pt x="548" y="1169"/>
                    </a:lnTo>
                    <a:lnTo>
                      <a:pt x="562" y="1168"/>
                    </a:lnTo>
                    <a:lnTo>
                      <a:pt x="576" y="1166"/>
                    </a:lnTo>
                    <a:lnTo>
                      <a:pt x="590" y="1164"/>
                    </a:lnTo>
                    <a:lnTo>
                      <a:pt x="604" y="1163"/>
                    </a:lnTo>
                    <a:lnTo>
                      <a:pt x="617" y="1163"/>
                    </a:lnTo>
                    <a:lnTo>
                      <a:pt x="630" y="1160"/>
                    </a:lnTo>
                    <a:lnTo>
                      <a:pt x="642" y="1160"/>
                    </a:lnTo>
                    <a:lnTo>
                      <a:pt x="654" y="1158"/>
                    </a:lnTo>
                    <a:lnTo>
                      <a:pt x="666" y="1157"/>
                    </a:lnTo>
                    <a:lnTo>
                      <a:pt x="677" y="1153"/>
                    </a:lnTo>
                    <a:lnTo>
                      <a:pt x="688" y="1152"/>
                    </a:lnTo>
                    <a:lnTo>
                      <a:pt x="699" y="1149"/>
                    </a:lnTo>
                    <a:lnTo>
                      <a:pt x="710" y="1147"/>
                    </a:lnTo>
                    <a:lnTo>
                      <a:pt x="720" y="1144"/>
                    </a:lnTo>
                    <a:lnTo>
                      <a:pt x="729" y="1142"/>
                    </a:lnTo>
                    <a:lnTo>
                      <a:pt x="739" y="1139"/>
                    </a:lnTo>
                    <a:lnTo>
                      <a:pt x="748" y="1138"/>
                    </a:lnTo>
                    <a:lnTo>
                      <a:pt x="756" y="1134"/>
                    </a:lnTo>
                    <a:lnTo>
                      <a:pt x="766" y="1131"/>
                    </a:lnTo>
                    <a:lnTo>
                      <a:pt x="774" y="1130"/>
                    </a:lnTo>
                    <a:lnTo>
                      <a:pt x="783" y="1126"/>
                    </a:lnTo>
                    <a:lnTo>
                      <a:pt x="790" y="1123"/>
                    </a:lnTo>
                    <a:lnTo>
                      <a:pt x="797" y="1122"/>
                    </a:lnTo>
                    <a:lnTo>
                      <a:pt x="804" y="1119"/>
                    </a:lnTo>
                    <a:lnTo>
                      <a:pt x="812" y="1117"/>
                    </a:lnTo>
                    <a:lnTo>
                      <a:pt x="818" y="1114"/>
                    </a:lnTo>
                    <a:lnTo>
                      <a:pt x="826" y="1111"/>
                    </a:lnTo>
                    <a:lnTo>
                      <a:pt x="832" y="1108"/>
                    </a:lnTo>
                    <a:lnTo>
                      <a:pt x="837" y="1106"/>
                    </a:lnTo>
                    <a:lnTo>
                      <a:pt x="842" y="1103"/>
                    </a:lnTo>
                    <a:lnTo>
                      <a:pt x="848" y="1100"/>
                    </a:lnTo>
                    <a:lnTo>
                      <a:pt x="853" y="1096"/>
                    </a:lnTo>
                    <a:lnTo>
                      <a:pt x="858" y="1093"/>
                    </a:lnTo>
                    <a:lnTo>
                      <a:pt x="862" y="1090"/>
                    </a:lnTo>
                    <a:lnTo>
                      <a:pt x="867" y="1089"/>
                    </a:lnTo>
                    <a:lnTo>
                      <a:pt x="870" y="1085"/>
                    </a:lnTo>
                    <a:lnTo>
                      <a:pt x="875" y="1084"/>
                    </a:lnTo>
                    <a:lnTo>
                      <a:pt x="881" y="1079"/>
                    </a:lnTo>
                    <a:lnTo>
                      <a:pt x="889" y="1074"/>
                    </a:lnTo>
                    <a:lnTo>
                      <a:pt x="896" y="1070"/>
                    </a:lnTo>
                    <a:lnTo>
                      <a:pt x="900" y="1066"/>
                    </a:lnTo>
                    <a:lnTo>
                      <a:pt x="905" y="1062"/>
                    </a:lnTo>
                    <a:lnTo>
                      <a:pt x="908" y="1058"/>
                    </a:lnTo>
                    <a:lnTo>
                      <a:pt x="910" y="1055"/>
                    </a:lnTo>
                    <a:lnTo>
                      <a:pt x="913" y="1052"/>
                    </a:lnTo>
                    <a:lnTo>
                      <a:pt x="916" y="1049"/>
                    </a:lnTo>
                    <a:lnTo>
                      <a:pt x="918" y="1049"/>
                    </a:lnTo>
                    <a:lnTo>
                      <a:pt x="918" y="19"/>
                    </a:lnTo>
                    <a:lnTo>
                      <a:pt x="0" y="0"/>
                    </a:lnTo>
                    <a:lnTo>
                      <a:pt x="0" y="0"/>
                    </a:lnTo>
                    <a:close/>
                  </a:path>
                </a:pathLst>
              </a:custGeom>
              <a:solidFill>
                <a:srgbClr val="ffe8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H="1" rot="17662200">
                <a:off x="5287320" y="1885320"/>
                <a:ext cx="343800" cy="313200"/>
              </a:xfrm>
              <a:custGeom>
                <a:avLst/>
                <a:gdLst/>
                <a:ahLst/>
                <a:rect l="l" t="t" r="r" b="b"/>
                <a:pathLst>
                  <a:path w="930" h="702">
                    <a:moveTo>
                      <a:pt x="0" y="0"/>
                    </a:moveTo>
                    <a:lnTo>
                      <a:pt x="0" y="0"/>
                    </a:lnTo>
                    <a:lnTo>
                      <a:pt x="5" y="3"/>
                    </a:lnTo>
                    <a:lnTo>
                      <a:pt x="8" y="4"/>
                    </a:lnTo>
                    <a:lnTo>
                      <a:pt x="13" y="6"/>
                    </a:lnTo>
                    <a:lnTo>
                      <a:pt x="17" y="9"/>
                    </a:lnTo>
                    <a:lnTo>
                      <a:pt x="24" y="12"/>
                    </a:lnTo>
                    <a:lnTo>
                      <a:pt x="29" y="14"/>
                    </a:lnTo>
                    <a:lnTo>
                      <a:pt x="35" y="17"/>
                    </a:lnTo>
                    <a:lnTo>
                      <a:pt x="43" y="20"/>
                    </a:lnTo>
                    <a:lnTo>
                      <a:pt x="51" y="25"/>
                    </a:lnTo>
                    <a:lnTo>
                      <a:pt x="55" y="27"/>
                    </a:lnTo>
                    <a:lnTo>
                      <a:pt x="60" y="28"/>
                    </a:lnTo>
                    <a:lnTo>
                      <a:pt x="65" y="30"/>
                    </a:lnTo>
                    <a:lnTo>
                      <a:pt x="70" y="33"/>
                    </a:lnTo>
                    <a:lnTo>
                      <a:pt x="74" y="35"/>
                    </a:lnTo>
                    <a:lnTo>
                      <a:pt x="79" y="38"/>
                    </a:lnTo>
                    <a:lnTo>
                      <a:pt x="85" y="39"/>
                    </a:lnTo>
                    <a:lnTo>
                      <a:pt x="92" y="42"/>
                    </a:lnTo>
                    <a:lnTo>
                      <a:pt x="97" y="42"/>
                    </a:lnTo>
                    <a:lnTo>
                      <a:pt x="103" y="46"/>
                    </a:lnTo>
                    <a:lnTo>
                      <a:pt x="108" y="47"/>
                    </a:lnTo>
                    <a:lnTo>
                      <a:pt x="114" y="49"/>
                    </a:lnTo>
                    <a:lnTo>
                      <a:pt x="120" y="50"/>
                    </a:lnTo>
                    <a:lnTo>
                      <a:pt x="127" y="53"/>
                    </a:lnTo>
                    <a:lnTo>
                      <a:pt x="135" y="55"/>
                    </a:lnTo>
                    <a:lnTo>
                      <a:pt x="141" y="58"/>
                    </a:lnTo>
                    <a:lnTo>
                      <a:pt x="147" y="60"/>
                    </a:lnTo>
                    <a:lnTo>
                      <a:pt x="153" y="61"/>
                    </a:lnTo>
                    <a:lnTo>
                      <a:pt x="161" y="63"/>
                    </a:lnTo>
                    <a:lnTo>
                      <a:pt x="169" y="66"/>
                    </a:lnTo>
                    <a:lnTo>
                      <a:pt x="176" y="68"/>
                    </a:lnTo>
                    <a:lnTo>
                      <a:pt x="184" y="69"/>
                    </a:lnTo>
                    <a:lnTo>
                      <a:pt x="191" y="71"/>
                    </a:lnTo>
                    <a:lnTo>
                      <a:pt x="201" y="74"/>
                    </a:lnTo>
                    <a:lnTo>
                      <a:pt x="209" y="76"/>
                    </a:lnTo>
                    <a:lnTo>
                      <a:pt x="217" y="77"/>
                    </a:lnTo>
                    <a:lnTo>
                      <a:pt x="225" y="79"/>
                    </a:lnTo>
                    <a:lnTo>
                      <a:pt x="234" y="80"/>
                    </a:lnTo>
                    <a:lnTo>
                      <a:pt x="242" y="80"/>
                    </a:lnTo>
                    <a:lnTo>
                      <a:pt x="252" y="82"/>
                    </a:lnTo>
                    <a:lnTo>
                      <a:pt x="261" y="84"/>
                    </a:lnTo>
                    <a:lnTo>
                      <a:pt x="269" y="87"/>
                    </a:lnTo>
                    <a:lnTo>
                      <a:pt x="278" y="87"/>
                    </a:lnTo>
                    <a:lnTo>
                      <a:pt x="288" y="88"/>
                    </a:lnTo>
                    <a:lnTo>
                      <a:pt x="297" y="90"/>
                    </a:lnTo>
                    <a:lnTo>
                      <a:pt x="307" y="91"/>
                    </a:lnTo>
                    <a:lnTo>
                      <a:pt x="316" y="93"/>
                    </a:lnTo>
                    <a:lnTo>
                      <a:pt x="327" y="95"/>
                    </a:lnTo>
                    <a:lnTo>
                      <a:pt x="337" y="95"/>
                    </a:lnTo>
                    <a:lnTo>
                      <a:pt x="348" y="96"/>
                    </a:lnTo>
                    <a:lnTo>
                      <a:pt x="358" y="96"/>
                    </a:lnTo>
                    <a:lnTo>
                      <a:pt x="369" y="98"/>
                    </a:lnTo>
                    <a:lnTo>
                      <a:pt x="378" y="98"/>
                    </a:lnTo>
                    <a:lnTo>
                      <a:pt x="389" y="98"/>
                    </a:lnTo>
                    <a:lnTo>
                      <a:pt x="399" y="98"/>
                    </a:lnTo>
                    <a:lnTo>
                      <a:pt x="410" y="99"/>
                    </a:lnTo>
                    <a:lnTo>
                      <a:pt x="419" y="99"/>
                    </a:lnTo>
                    <a:lnTo>
                      <a:pt x="430" y="101"/>
                    </a:lnTo>
                    <a:lnTo>
                      <a:pt x="440" y="101"/>
                    </a:lnTo>
                    <a:lnTo>
                      <a:pt x="451" y="101"/>
                    </a:lnTo>
                    <a:lnTo>
                      <a:pt x="460" y="101"/>
                    </a:lnTo>
                    <a:lnTo>
                      <a:pt x="471" y="101"/>
                    </a:lnTo>
                    <a:lnTo>
                      <a:pt x="481" y="101"/>
                    </a:lnTo>
                    <a:lnTo>
                      <a:pt x="492" y="101"/>
                    </a:lnTo>
                    <a:lnTo>
                      <a:pt x="501" y="101"/>
                    </a:lnTo>
                    <a:lnTo>
                      <a:pt x="513" y="101"/>
                    </a:lnTo>
                    <a:lnTo>
                      <a:pt x="522" y="99"/>
                    </a:lnTo>
                    <a:lnTo>
                      <a:pt x="532" y="99"/>
                    </a:lnTo>
                    <a:lnTo>
                      <a:pt x="541" y="98"/>
                    </a:lnTo>
                    <a:lnTo>
                      <a:pt x="552" y="98"/>
                    </a:lnTo>
                    <a:lnTo>
                      <a:pt x="562" y="98"/>
                    </a:lnTo>
                    <a:lnTo>
                      <a:pt x="571" y="96"/>
                    </a:lnTo>
                    <a:lnTo>
                      <a:pt x="581" y="96"/>
                    </a:lnTo>
                    <a:lnTo>
                      <a:pt x="592" y="96"/>
                    </a:lnTo>
                    <a:lnTo>
                      <a:pt x="601" y="95"/>
                    </a:lnTo>
                    <a:lnTo>
                      <a:pt x="611" y="93"/>
                    </a:lnTo>
                    <a:lnTo>
                      <a:pt x="620" y="93"/>
                    </a:lnTo>
                    <a:lnTo>
                      <a:pt x="630" y="91"/>
                    </a:lnTo>
                    <a:lnTo>
                      <a:pt x="639" y="90"/>
                    </a:lnTo>
                    <a:lnTo>
                      <a:pt x="649" y="90"/>
                    </a:lnTo>
                    <a:lnTo>
                      <a:pt x="658" y="88"/>
                    </a:lnTo>
                    <a:lnTo>
                      <a:pt x="668" y="87"/>
                    </a:lnTo>
                    <a:lnTo>
                      <a:pt x="677" y="85"/>
                    </a:lnTo>
                    <a:lnTo>
                      <a:pt x="685" y="84"/>
                    </a:lnTo>
                    <a:lnTo>
                      <a:pt x="694" y="82"/>
                    </a:lnTo>
                    <a:lnTo>
                      <a:pt x="704" y="80"/>
                    </a:lnTo>
                    <a:lnTo>
                      <a:pt x="713" y="79"/>
                    </a:lnTo>
                    <a:lnTo>
                      <a:pt x="721" y="77"/>
                    </a:lnTo>
                    <a:lnTo>
                      <a:pt x="729" y="74"/>
                    </a:lnTo>
                    <a:lnTo>
                      <a:pt x="739" y="72"/>
                    </a:lnTo>
                    <a:lnTo>
                      <a:pt x="747" y="71"/>
                    </a:lnTo>
                    <a:lnTo>
                      <a:pt x="756" y="68"/>
                    </a:lnTo>
                    <a:lnTo>
                      <a:pt x="764" y="66"/>
                    </a:lnTo>
                    <a:lnTo>
                      <a:pt x="774" y="63"/>
                    </a:lnTo>
                    <a:lnTo>
                      <a:pt x="781" y="61"/>
                    </a:lnTo>
                    <a:lnTo>
                      <a:pt x="789" y="58"/>
                    </a:lnTo>
                    <a:lnTo>
                      <a:pt x="797" y="57"/>
                    </a:lnTo>
                    <a:lnTo>
                      <a:pt x="805" y="53"/>
                    </a:lnTo>
                    <a:lnTo>
                      <a:pt x="813" y="50"/>
                    </a:lnTo>
                    <a:lnTo>
                      <a:pt x="821" y="47"/>
                    </a:lnTo>
                    <a:lnTo>
                      <a:pt x="829" y="44"/>
                    </a:lnTo>
                    <a:lnTo>
                      <a:pt x="835" y="42"/>
                    </a:lnTo>
                    <a:lnTo>
                      <a:pt x="843" y="38"/>
                    </a:lnTo>
                    <a:lnTo>
                      <a:pt x="850" y="36"/>
                    </a:lnTo>
                    <a:lnTo>
                      <a:pt x="857" y="33"/>
                    </a:lnTo>
                    <a:lnTo>
                      <a:pt x="865" y="30"/>
                    </a:lnTo>
                    <a:lnTo>
                      <a:pt x="872" y="25"/>
                    </a:lnTo>
                    <a:lnTo>
                      <a:pt x="878" y="22"/>
                    </a:lnTo>
                    <a:lnTo>
                      <a:pt x="884" y="17"/>
                    </a:lnTo>
                    <a:lnTo>
                      <a:pt x="891" y="14"/>
                    </a:lnTo>
                    <a:lnTo>
                      <a:pt x="897" y="11"/>
                    </a:lnTo>
                    <a:lnTo>
                      <a:pt x="903" y="6"/>
                    </a:lnTo>
                    <a:lnTo>
                      <a:pt x="910" y="3"/>
                    </a:lnTo>
                    <a:lnTo>
                      <a:pt x="916" y="0"/>
                    </a:lnTo>
                    <a:lnTo>
                      <a:pt x="930" y="572"/>
                    </a:lnTo>
                    <a:lnTo>
                      <a:pt x="929" y="574"/>
                    </a:lnTo>
                    <a:lnTo>
                      <a:pt x="925" y="577"/>
                    </a:lnTo>
                    <a:lnTo>
                      <a:pt x="921" y="579"/>
                    </a:lnTo>
                    <a:lnTo>
                      <a:pt x="918" y="580"/>
                    </a:lnTo>
                    <a:lnTo>
                      <a:pt x="913" y="583"/>
                    </a:lnTo>
                    <a:lnTo>
                      <a:pt x="910" y="588"/>
                    </a:lnTo>
                    <a:lnTo>
                      <a:pt x="903" y="591"/>
                    </a:lnTo>
                    <a:lnTo>
                      <a:pt x="899" y="594"/>
                    </a:lnTo>
                    <a:lnTo>
                      <a:pt x="891" y="599"/>
                    </a:lnTo>
                    <a:lnTo>
                      <a:pt x="884" y="604"/>
                    </a:lnTo>
                    <a:lnTo>
                      <a:pt x="880" y="605"/>
                    </a:lnTo>
                    <a:lnTo>
                      <a:pt x="875" y="609"/>
                    </a:lnTo>
                    <a:lnTo>
                      <a:pt x="872" y="610"/>
                    </a:lnTo>
                    <a:lnTo>
                      <a:pt x="867" y="612"/>
                    </a:lnTo>
                    <a:lnTo>
                      <a:pt x="862" y="615"/>
                    </a:lnTo>
                    <a:lnTo>
                      <a:pt x="857" y="616"/>
                    </a:lnTo>
                    <a:lnTo>
                      <a:pt x="853" y="620"/>
                    </a:lnTo>
                    <a:lnTo>
                      <a:pt x="848" y="623"/>
                    </a:lnTo>
                    <a:lnTo>
                      <a:pt x="842" y="624"/>
                    </a:lnTo>
                    <a:lnTo>
                      <a:pt x="835" y="628"/>
                    </a:lnTo>
                    <a:lnTo>
                      <a:pt x="829" y="629"/>
                    </a:lnTo>
                    <a:lnTo>
                      <a:pt x="824" y="632"/>
                    </a:lnTo>
                    <a:lnTo>
                      <a:pt x="818" y="634"/>
                    </a:lnTo>
                    <a:lnTo>
                      <a:pt x="812" y="637"/>
                    </a:lnTo>
                    <a:lnTo>
                      <a:pt x="804" y="640"/>
                    </a:lnTo>
                    <a:lnTo>
                      <a:pt x="797" y="643"/>
                    </a:lnTo>
                    <a:lnTo>
                      <a:pt x="791" y="645"/>
                    </a:lnTo>
                    <a:lnTo>
                      <a:pt x="783" y="648"/>
                    </a:lnTo>
                    <a:lnTo>
                      <a:pt x="777" y="650"/>
                    </a:lnTo>
                    <a:lnTo>
                      <a:pt x="769" y="653"/>
                    </a:lnTo>
                    <a:lnTo>
                      <a:pt x="761" y="654"/>
                    </a:lnTo>
                    <a:lnTo>
                      <a:pt x="753" y="658"/>
                    </a:lnTo>
                    <a:lnTo>
                      <a:pt x="745" y="661"/>
                    </a:lnTo>
                    <a:lnTo>
                      <a:pt x="737" y="664"/>
                    </a:lnTo>
                    <a:lnTo>
                      <a:pt x="728" y="666"/>
                    </a:lnTo>
                    <a:lnTo>
                      <a:pt x="720" y="667"/>
                    </a:lnTo>
                    <a:lnTo>
                      <a:pt x="710" y="670"/>
                    </a:lnTo>
                    <a:lnTo>
                      <a:pt x="702" y="672"/>
                    </a:lnTo>
                    <a:lnTo>
                      <a:pt x="691" y="675"/>
                    </a:lnTo>
                    <a:lnTo>
                      <a:pt x="682" y="677"/>
                    </a:lnTo>
                    <a:lnTo>
                      <a:pt x="672" y="680"/>
                    </a:lnTo>
                    <a:lnTo>
                      <a:pt x="663" y="681"/>
                    </a:lnTo>
                    <a:lnTo>
                      <a:pt x="652" y="683"/>
                    </a:lnTo>
                    <a:lnTo>
                      <a:pt x="642" y="686"/>
                    </a:lnTo>
                    <a:lnTo>
                      <a:pt x="631" y="688"/>
                    </a:lnTo>
                    <a:lnTo>
                      <a:pt x="622" y="689"/>
                    </a:lnTo>
                    <a:lnTo>
                      <a:pt x="609" y="691"/>
                    </a:lnTo>
                    <a:lnTo>
                      <a:pt x="600" y="692"/>
                    </a:lnTo>
                    <a:lnTo>
                      <a:pt x="587" y="694"/>
                    </a:lnTo>
                    <a:lnTo>
                      <a:pt x="576" y="696"/>
                    </a:lnTo>
                    <a:lnTo>
                      <a:pt x="565" y="697"/>
                    </a:lnTo>
                    <a:lnTo>
                      <a:pt x="552" y="697"/>
                    </a:lnTo>
                    <a:lnTo>
                      <a:pt x="539" y="699"/>
                    </a:lnTo>
                    <a:lnTo>
                      <a:pt x="528" y="699"/>
                    </a:lnTo>
                    <a:lnTo>
                      <a:pt x="517" y="699"/>
                    </a:lnTo>
                    <a:lnTo>
                      <a:pt x="505" y="700"/>
                    </a:lnTo>
                    <a:lnTo>
                      <a:pt x="494" y="700"/>
                    </a:lnTo>
                    <a:lnTo>
                      <a:pt x="483" y="702"/>
                    </a:lnTo>
                    <a:lnTo>
                      <a:pt x="471" y="700"/>
                    </a:lnTo>
                    <a:lnTo>
                      <a:pt x="459" y="700"/>
                    </a:lnTo>
                    <a:lnTo>
                      <a:pt x="448" y="700"/>
                    </a:lnTo>
                    <a:lnTo>
                      <a:pt x="437" y="700"/>
                    </a:lnTo>
                    <a:lnTo>
                      <a:pt x="426" y="700"/>
                    </a:lnTo>
                    <a:lnTo>
                      <a:pt x="414" y="699"/>
                    </a:lnTo>
                    <a:lnTo>
                      <a:pt x="403" y="699"/>
                    </a:lnTo>
                    <a:lnTo>
                      <a:pt x="392" y="699"/>
                    </a:lnTo>
                    <a:lnTo>
                      <a:pt x="381" y="697"/>
                    </a:lnTo>
                    <a:lnTo>
                      <a:pt x="370" y="696"/>
                    </a:lnTo>
                    <a:lnTo>
                      <a:pt x="359" y="694"/>
                    </a:lnTo>
                    <a:lnTo>
                      <a:pt x="350" y="694"/>
                    </a:lnTo>
                    <a:lnTo>
                      <a:pt x="339" y="692"/>
                    </a:lnTo>
                    <a:lnTo>
                      <a:pt x="329" y="691"/>
                    </a:lnTo>
                    <a:lnTo>
                      <a:pt x="318" y="689"/>
                    </a:lnTo>
                    <a:lnTo>
                      <a:pt x="309" y="688"/>
                    </a:lnTo>
                    <a:lnTo>
                      <a:pt x="297" y="686"/>
                    </a:lnTo>
                    <a:lnTo>
                      <a:pt x="288" y="684"/>
                    </a:lnTo>
                    <a:lnTo>
                      <a:pt x="277" y="683"/>
                    </a:lnTo>
                    <a:lnTo>
                      <a:pt x="267" y="681"/>
                    </a:lnTo>
                    <a:lnTo>
                      <a:pt x="259" y="678"/>
                    </a:lnTo>
                    <a:lnTo>
                      <a:pt x="250" y="677"/>
                    </a:lnTo>
                    <a:lnTo>
                      <a:pt x="240" y="675"/>
                    </a:lnTo>
                    <a:lnTo>
                      <a:pt x="231" y="673"/>
                    </a:lnTo>
                    <a:lnTo>
                      <a:pt x="222" y="670"/>
                    </a:lnTo>
                    <a:lnTo>
                      <a:pt x="212" y="667"/>
                    </a:lnTo>
                    <a:lnTo>
                      <a:pt x="203" y="666"/>
                    </a:lnTo>
                    <a:lnTo>
                      <a:pt x="195" y="662"/>
                    </a:lnTo>
                    <a:lnTo>
                      <a:pt x="185" y="659"/>
                    </a:lnTo>
                    <a:lnTo>
                      <a:pt x="177" y="658"/>
                    </a:lnTo>
                    <a:lnTo>
                      <a:pt x="169" y="654"/>
                    </a:lnTo>
                    <a:lnTo>
                      <a:pt x="161" y="653"/>
                    </a:lnTo>
                    <a:lnTo>
                      <a:pt x="152" y="650"/>
                    </a:lnTo>
                    <a:lnTo>
                      <a:pt x="144" y="647"/>
                    </a:lnTo>
                    <a:lnTo>
                      <a:pt x="136" y="645"/>
                    </a:lnTo>
                    <a:lnTo>
                      <a:pt x="130" y="642"/>
                    </a:lnTo>
                    <a:lnTo>
                      <a:pt x="122" y="639"/>
                    </a:lnTo>
                    <a:lnTo>
                      <a:pt x="114" y="635"/>
                    </a:lnTo>
                    <a:lnTo>
                      <a:pt x="108" y="634"/>
                    </a:lnTo>
                    <a:lnTo>
                      <a:pt x="101" y="631"/>
                    </a:lnTo>
                    <a:lnTo>
                      <a:pt x="95" y="628"/>
                    </a:lnTo>
                    <a:lnTo>
                      <a:pt x="87" y="624"/>
                    </a:lnTo>
                    <a:lnTo>
                      <a:pt x="81" y="621"/>
                    </a:lnTo>
                    <a:lnTo>
                      <a:pt x="74" y="620"/>
                    </a:lnTo>
                    <a:lnTo>
                      <a:pt x="68" y="616"/>
                    </a:lnTo>
                    <a:lnTo>
                      <a:pt x="63" y="613"/>
                    </a:lnTo>
                    <a:lnTo>
                      <a:pt x="57" y="612"/>
                    </a:lnTo>
                    <a:lnTo>
                      <a:pt x="52" y="609"/>
                    </a:lnTo>
                    <a:lnTo>
                      <a:pt x="48" y="605"/>
                    </a:lnTo>
                    <a:lnTo>
                      <a:pt x="41" y="602"/>
                    </a:lnTo>
                    <a:lnTo>
                      <a:pt x="36" y="599"/>
                    </a:lnTo>
                    <a:lnTo>
                      <a:pt x="33" y="598"/>
                    </a:lnTo>
                    <a:lnTo>
                      <a:pt x="24" y="591"/>
                    </a:lnTo>
                    <a:lnTo>
                      <a:pt x="17" y="586"/>
                    </a:lnTo>
                    <a:lnTo>
                      <a:pt x="0" y="0"/>
                    </a:lnTo>
                    <a:lnTo>
                      <a:pt x="0" y="0"/>
                    </a:lnTo>
                    <a:close/>
                  </a:path>
                </a:pathLst>
              </a:custGeom>
              <a:solidFill>
                <a:srgbClr val="ffd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H="1" rot="17662200">
                <a:off x="5210280" y="1785240"/>
                <a:ext cx="339480" cy="450720"/>
              </a:xfrm>
              <a:custGeom>
                <a:avLst/>
                <a:gdLst/>
                <a:ahLst/>
                <a:rect l="l" t="t" r="r" b="b"/>
                <a:pathLst>
                  <a:path w="916" h="1007">
                    <a:moveTo>
                      <a:pt x="0" y="91"/>
                    </a:moveTo>
                    <a:lnTo>
                      <a:pt x="0" y="91"/>
                    </a:lnTo>
                    <a:lnTo>
                      <a:pt x="0" y="96"/>
                    </a:lnTo>
                    <a:lnTo>
                      <a:pt x="2" y="99"/>
                    </a:lnTo>
                    <a:lnTo>
                      <a:pt x="3" y="104"/>
                    </a:lnTo>
                    <a:lnTo>
                      <a:pt x="3" y="109"/>
                    </a:lnTo>
                    <a:lnTo>
                      <a:pt x="6" y="113"/>
                    </a:lnTo>
                    <a:lnTo>
                      <a:pt x="8" y="118"/>
                    </a:lnTo>
                    <a:lnTo>
                      <a:pt x="10" y="124"/>
                    </a:lnTo>
                    <a:lnTo>
                      <a:pt x="11" y="131"/>
                    </a:lnTo>
                    <a:lnTo>
                      <a:pt x="14" y="137"/>
                    </a:lnTo>
                    <a:lnTo>
                      <a:pt x="17" y="145"/>
                    </a:lnTo>
                    <a:lnTo>
                      <a:pt x="21" y="151"/>
                    </a:lnTo>
                    <a:lnTo>
                      <a:pt x="24" y="158"/>
                    </a:lnTo>
                    <a:lnTo>
                      <a:pt x="27" y="166"/>
                    </a:lnTo>
                    <a:lnTo>
                      <a:pt x="30" y="173"/>
                    </a:lnTo>
                    <a:lnTo>
                      <a:pt x="33" y="180"/>
                    </a:lnTo>
                    <a:lnTo>
                      <a:pt x="38" y="188"/>
                    </a:lnTo>
                    <a:lnTo>
                      <a:pt x="43" y="196"/>
                    </a:lnTo>
                    <a:lnTo>
                      <a:pt x="46" y="200"/>
                    </a:lnTo>
                    <a:lnTo>
                      <a:pt x="51" y="208"/>
                    </a:lnTo>
                    <a:lnTo>
                      <a:pt x="57" y="215"/>
                    </a:lnTo>
                    <a:lnTo>
                      <a:pt x="62" y="221"/>
                    </a:lnTo>
                    <a:lnTo>
                      <a:pt x="66" y="227"/>
                    </a:lnTo>
                    <a:lnTo>
                      <a:pt x="71" y="232"/>
                    </a:lnTo>
                    <a:lnTo>
                      <a:pt x="78" y="237"/>
                    </a:lnTo>
                    <a:lnTo>
                      <a:pt x="84" y="241"/>
                    </a:lnTo>
                    <a:lnTo>
                      <a:pt x="90" y="245"/>
                    </a:lnTo>
                    <a:lnTo>
                      <a:pt x="97" y="248"/>
                    </a:lnTo>
                    <a:lnTo>
                      <a:pt x="104" y="251"/>
                    </a:lnTo>
                    <a:lnTo>
                      <a:pt x="111" y="253"/>
                    </a:lnTo>
                    <a:lnTo>
                      <a:pt x="119" y="254"/>
                    </a:lnTo>
                    <a:lnTo>
                      <a:pt x="125" y="254"/>
                    </a:lnTo>
                    <a:lnTo>
                      <a:pt x="133" y="254"/>
                    </a:lnTo>
                    <a:lnTo>
                      <a:pt x="141" y="256"/>
                    </a:lnTo>
                    <a:lnTo>
                      <a:pt x="149" y="256"/>
                    </a:lnTo>
                    <a:lnTo>
                      <a:pt x="155" y="256"/>
                    </a:lnTo>
                    <a:lnTo>
                      <a:pt x="163" y="256"/>
                    </a:lnTo>
                    <a:lnTo>
                      <a:pt x="172" y="256"/>
                    </a:lnTo>
                    <a:lnTo>
                      <a:pt x="180" y="256"/>
                    </a:lnTo>
                    <a:lnTo>
                      <a:pt x="188" y="254"/>
                    </a:lnTo>
                    <a:lnTo>
                      <a:pt x="196" y="254"/>
                    </a:lnTo>
                    <a:lnTo>
                      <a:pt x="204" y="254"/>
                    </a:lnTo>
                    <a:lnTo>
                      <a:pt x="212" y="253"/>
                    </a:lnTo>
                    <a:lnTo>
                      <a:pt x="222" y="253"/>
                    </a:lnTo>
                    <a:lnTo>
                      <a:pt x="225" y="253"/>
                    </a:lnTo>
                    <a:lnTo>
                      <a:pt x="229" y="253"/>
                    </a:lnTo>
                    <a:lnTo>
                      <a:pt x="233" y="253"/>
                    </a:lnTo>
                    <a:lnTo>
                      <a:pt x="237" y="253"/>
                    </a:lnTo>
                    <a:lnTo>
                      <a:pt x="245" y="251"/>
                    </a:lnTo>
                    <a:lnTo>
                      <a:pt x="253" y="251"/>
                    </a:lnTo>
                    <a:lnTo>
                      <a:pt x="261" y="251"/>
                    </a:lnTo>
                    <a:lnTo>
                      <a:pt x="267" y="251"/>
                    </a:lnTo>
                    <a:lnTo>
                      <a:pt x="275" y="249"/>
                    </a:lnTo>
                    <a:lnTo>
                      <a:pt x="282" y="249"/>
                    </a:lnTo>
                    <a:lnTo>
                      <a:pt x="290" y="251"/>
                    </a:lnTo>
                    <a:lnTo>
                      <a:pt x="296" y="251"/>
                    </a:lnTo>
                    <a:lnTo>
                      <a:pt x="302" y="251"/>
                    </a:lnTo>
                    <a:lnTo>
                      <a:pt x="309" y="253"/>
                    </a:lnTo>
                    <a:lnTo>
                      <a:pt x="313" y="253"/>
                    </a:lnTo>
                    <a:lnTo>
                      <a:pt x="320" y="256"/>
                    </a:lnTo>
                    <a:lnTo>
                      <a:pt x="324" y="257"/>
                    </a:lnTo>
                    <a:lnTo>
                      <a:pt x="331" y="259"/>
                    </a:lnTo>
                    <a:lnTo>
                      <a:pt x="335" y="262"/>
                    </a:lnTo>
                    <a:lnTo>
                      <a:pt x="339" y="265"/>
                    </a:lnTo>
                    <a:lnTo>
                      <a:pt x="345" y="272"/>
                    </a:lnTo>
                    <a:lnTo>
                      <a:pt x="351" y="279"/>
                    </a:lnTo>
                    <a:lnTo>
                      <a:pt x="354" y="283"/>
                    </a:lnTo>
                    <a:lnTo>
                      <a:pt x="356" y="286"/>
                    </a:lnTo>
                    <a:lnTo>
                      <a:pt x="359" y="291"/>
                    </a:lnTo>
                    <a:lnTo>
                      <a:pt x="362" y="295"/>
                    </a:lnTo>
                    <a:lnTo>
                      <a:pt x="364" y="300"/>
                    </a:lnTo>
                    <a:lnTo>
                      <a:pt x="365" y="305"/>
                    </a:lnTo>
                    <a:lnTo>
                      <a:pt x="367" y="309"/>
                    </a:lnTo>
                    <a:lnTo>
                      <a:pt x="369" y="316"/>
                    </a:lnTo>
                    <a:lnTo>
                      <a:pt x="370" y="321"/>
                    </a:lnTo>
                    <a:lnTo>
                      <a:pt x="372" y="325"/>
                    </a:lnTo>
                    <a:lnTo>
                      <a:pt x="372" y="330"/>
                    </a:lnTo>
                    <a:lnTo>
                      <a:pt x="375" y="336"/>
                    </a:lnTo>
                    <a:lnTo>
                      <a:pt x="377" y="341"/>
                    </a:lnTo>
                    <a:lnTo>
                      <a:pt x="377" y="346"/>
                    </a:lnTo>
                    <a:lnTo>
                      <a:pt x="377" y="351"/>
                    </a:lnTo>
                    <a:lnTo>
                      <a:pt x="378" y="355"/>
                    </a:lnTo>
                    <a:lnTo>
                      <a:pt x="380" y="360"/>
                    </a:lnTo>
                    <a:lnTo>
                      <a:pt x="381" y="365"/>
                    </a:lnTo>
                    <a:lnTo>
                      <a:pt x="381" y="370"/>
                    </a:lnTo>
                    <a:lnTo>
                      <a:pt x="384" y="374"/>
                    </a:lnTo>
                    <a:lnTo>
                      <a:pt x="388" y="382"/>
                    </a:lnTo>
                    <a:lnTo>
                      <a:pt x="391" y="390"/>
                    </a:lnTo>
                    <a:lnTo>
                      <a:pt x="396" y="398"/>
                    </a:lnTo>
                    <a:lnTo>
                      <a:pt x="402" y="404"/>
                    </a:lnTo>
                    <a:lnTo>
                      <a:pt x="403" y="406"/>
                    </a:lnTo>
                    <a:lnTo>
                      <a:pt x="408" y="408"/>
                    </a:lnTo>
                    <a:lnTo>
                      <a:pt x="411" y="411"/>
                    </a:lnTo>
                    <a:lnTo>
                      <a:pt x="416" y="414"/>
                    </a:lnTo>
                    <a:lnTo>
                      <a:pt x="422" y="417"/>
                    </a:lnTo>
                    <a:lnTo>
                      <a:pt x="429" y="422"/>
                    </a:lnTo>
                    <a:lnTo>
                      <a:pt x="435" y="425"/>
                    </a:lnTo>
                    <a:lnTo>
                      <a:pt x="443" y="430"/>
                    </a:lnTo>
                    <a:lnTo>
                      <a:pt x="449" y="433"/>
                    </a:lnTo>
                    <a:lnTo>
                      <a:pt x="457" y="438"/>
                    </a:lnTo>
                    <a:lnTo>
                      <a:pt x="465" y="442"/>
                    </a:lnTo>
                    <a:lnTo>
                      <a:pt x="473" y="447"/>
                    </a:lnTo>
                    <a:lnTo>
                      <a:pt x="481" y="450"/>
                    </a:lnTo>
                    <a:lnTo>
                      <a:pt x="490" y="455"/>
                    </a:lnTo>
                    <a:lnTo>
                      <a:pt x="494" y="458"/>
                    </a:lnTo>
                    <a:lnTo>
                      <a:pt x="498" y="460"/>
                    </a:lnTo>
                    <a:lnTo>
                      <a:pt x="503" y="463"/>
                    </a:lnTo>
                    <a:lnTo>
                      <a:pt x="508" y="466"/>
                    </a:lnTo>
                    <a:lnTo>
                      <a:pt x="516" y="471"/>
                    </a:lnTo>
                    <a:lnTo>
                      <a:pt x="524" y="476"/>
                    </a:lnTo>
                    <a:lnTo>
                      <a:pt x="532" y="480"/>
                    </a:lnTo>
                    <a:lnTo>
                      <a:pt x="539" y="485"/>
                    </a:lnTo>
                    <a:lnTo>
                      <a:pt x="547" y="490"/>
                    </a:lnTo>
                    <a:lnTo>
                      <a:pt x="555" y="496"/>
                    </a:lnTo>
                    <a:lnTo>
                      <a:pt x="563" y="501"/>
                    </a:lnTo>
                    <a:lnTo>
                      <a:pt x="570" y="507"/>
                    </a:lnTo>
                    <a:lnTo>
                      <a:pt x="576" y="512"/>
                    </a:lnTo>
                    <a:lnTo>
                      <a:pt x="582" y="518"/>
                    </a:lnTo>
                    <a:lnTo>
                      <a:pt x="587" y="523"/>
                    </a:lnTo>
                    <a:lnTo>
                      <a:pt x="592" y="528"/>
                    </a:lnTo>
                    <a:lnTo>
                      <a:pt x="596" y="534"/>
                    </a:lnTo>
                    <a:lnTo>
                      <a:pt x="600" y="539"/>
                    </a:lnTo>
                    <a:lnTo>
                      <a:pt x="603" y="545"/>
                    </a:lnTo>
                    <a:lnTo>
                      <a:pt x="604" y="551"/>
                    </a:lnTo>
                    <a:lnTo>
                      <a:pt x="606" y="556"/>
                    </a:lnTo>
                    <a:lnTo>
                      <a:pt x="607" y="563"/>
                    </a:lnTo>
                    <a:lnTo>
                      <a:pt x="609" y="569"/>
                    </a:lnTo>
                    <a:lnTo>
                      <a:pt x="611" y="575"/>
                    </a:lnTo>
                    <a:lnTo>
                      <a:pt x="611" y="583"/>
                    </a:lnTo>
                    <a:lnTo>
                      <a:pt x="614" y="591"/>
                    </a:lnTo>
                    <a:lnTo>
                      <a:pt x="614" y="599"/>
                    </a:lnTo>
                    <a:lnTo>
                      <a:pt x="617" y="607"/>
                    </a:lnTo>
                    <a:lnTo>
                      <a:pt x="617" y="615"/>
                    </a:lnTo>
                    <a:lnTo>
                      <a:pt x="619" y="623"/>
                    </a:lnTo>
                    <a:lnTo>
                      <a:pt x="619" y="627"/>
                    </a:lnTo>
                    <a:lnTo>
                      <a:pt x="619" y="632"/>
                    </a:lnTo>
                    <a:lnTo>
                      <a:pt x="620" y="637"/>
                    </a:lnTo>
                    <a:lnTo>
                      <a:pt x="620" y="642"/>
                    </a:lnTo>
                    <a:lnTo>
                      <a:pt x="620" y="645"/>
                    </a:lnTo>
                    <a:lnTo>
                      <a:pt x="622" y="649"/>
                    </a:lnTo>
                    <a:lnTo>
                      <a:pt x="622" y="654"/>
                    </a:lnTo>
                    <a:lnTo>
                      <a:pt x="622" y="659"/>
                    </a:lnTo>
                    <a:lnTo>
                      <a:pt x="622" y="662"/>
                    </a:lnTo>
                    <a:lnTo>
                      <a:pt x="623" y="667"/>
                    </a:lnTo>
                    <a:lnTo>
                      <a:pt x="623" y="672"/>
                    </a:lnTo>
                    <a:lnTo>
                      <a:pt x="625" y="676"/>
                    </a:lnTo>
                    <a:lnTo>
                      <a:pt x="625" y="681"/>
                    </a:lnTo>
                    <a:lnTo>
                      <a:pt x="625" y="686"/>
                    </a:lnTo>
                    <a:lnTo>
                      <a:pt x="625" y="689"/>
                    </a:lnTo>
                    <a:lnTo>
                      <a:pt x="625" y="694"/>
                    </a:lnTo>
                    <a:lnTo>
                      <a:pt x="625" y="697"/>
                    </a:lnTo>
                    <a:lnTo>
                      <a:pt x="625" y="702"/>
                    </a:lnTo>
                    <a:lnTo>
                      <a:pt x="625" y="706"/>
                    </a:lnTo>
                    <a:lnTo>
                      <a:pt x="626" y="711"/>
                    </a:lnTo>
                    <a:lnTo>
                      <a:pt x="625" y="719"/>
                    </a:lnTo>
                    <a:lnTo>
                      <a:pt x="625" y="727"/>
                    </a:lnTo>
                    <a:lnTo>
                      <a:pt x="625" y="733"/>
                    </a:lnTo>
                    <a:lnTo>
                      <a:pt x="625" y="743"/>
                    </a:lnTo>
                    <a:lnTo>
                      <a:pt x="625" y="749"/>
                    </a:lnTo>
                    <a:lnTo>
                      <a:pt x="623" y="757"/>
                    </a:lnTo>
                    <a:lnTo>
                      <a:pt x="623" y="763"/>
                    </a:lnTo>
                    <a:lnTo>
                      <a:pt x="622" y="770"/>
                    </a:lnTo>
                    <a:lnTo>
                      <a:pt x="620" y="774"/>
                    </a:lnTo>
                    <a:lnTo>
                      <a:pt x="620" y="781"/>
                    </a:lnTo>
                    <a:lnTo>
                      <a:pt x="619" y="786"/>
                    </a:lnTo>
                    <a:lnTo>
                      <a:pt x="617" y="790"/>
                    </a:lnTo>
                    <a:lnTo>
                      <a:pt x="615" y="793"/>
                    </a:lnTo>
                    <a:lnTo>
                      <a:pt x="612" y="798"/>
                    </a:lnTo>
                    <a:lnTo>
                      <a:pt x="611" y="804"/>
                    </a:lnTo>
                    <a:lnTo>
                      <a:pt x="609" y="811"/>
                    </a:lnTo>
                    <a:lnTo>
                      <a:pt x="607" y="817"/>
                    </a:lnTo>
                    <a:lnTo>
                      <a:pt x="604" y="825"/>
                    </a:lnTo>
                    <a:lnTo>
                      <a:pt x="604" y="830"/>
                    </a:lnTo>
                    <a:lnTo>
                      <a:pt x="603" y="833"/>
                    </a:lnTo>
                    <a:lnTo>
                      <a:pt x="601" y="838"/>
                    </a:lnTo>
                    <a:lnTo>
                      <a:pt x="601" y="842"/>
                    </a:lnTo>
                    <a:lnTo>
                      <a:pt x="600" y="847"/>
                    </a:lnTo>
                    <a:lnTo>
                      <a:pt x="600" y="852"/>
                    </a:lnTo>
                    <a:lnTo>
                      <a:pt x="598" y="855"/>
                    </a:lnTo>
                    <a:lnTo>
                      <a:pt x="598" y="860"/>
                    </a:lnTo>
                    <a:lnTo>
                      <a:pt x="596" y="865"/>
                    </a:lnTo>
                    <a:lnTo>
                      <a:pt x="596" y="869"/>
                    </a:lnTo>
                    <a:lnTo>
                      <a:pt x="595" y="874"/>
                    </a:lnTo>
                    <a:lnTo>
                      <a:pt x="595" y="879"/>
                    </a:lnTo>
                    <a:lnTo>
                      <a:pt x="595" y="884"/>
                    </a:lnTo>
                    <a:lnTo>
                      <a:pt x="593" y="888"/>
                    </a:lnTo>
                    <a:lnTo>
                      <a:pt x="593" y="893"/>
                    </a:lnTo>
                    <a:lnTo>
                      <a:pt x="593" y="898"/>
                    </a:lnTo>
                    <a:lnTo>
                      <a:pt x="593" y="903"/>
                    </a:lnTo>
                    <a:lnTo>
                      <a:pt x="593" y="909"/>
                    </a:lnTo>
                    <a:lnTo>
                      <a:pt x="593" y="914"/>
                    </a:lnTo>
                    <a:lnTo>
                      <a:pt x="593" y="918"/>
                    </a:lnTo>
                    <a:lnTo>
                      <a:pt x="592" y="923"/>
                    </a:lnTo>
                    <a:lnTo>
                      <a:pt x="592" y="928"/>
                    </a:lnTo>
                    <a:lnTo>
                      <a:pt x="592" y="933"/>
                    </a:lnTo>
                    <a:lnTo>
                      <a:pt x="592" y="936"/>
                    </a:lnTo>
                    <a:lnTo>
                      <a:pt x="592" y="940"/>
                    </a:lnTo>
                    <a:lnTo>
                      <a:pt x="593" y="945"/>
                    </a:lnTo>
                    <a:lnTo>
                      <a:pt x="593" y="950"/>
                    </a:lnTo>
                    <a:lnTo>
                      <a:pt x="595" y="955"/>
                    </a:lnTo>
                    <a:lnTo>
                      <a:pt x="596" y="963"/>
                    </a:lnTo>
                    <a:lnTo>
                      <a:pt x="598" y="971"/>
                    </a:lnTo>
                    <a:lnTo>
                      <a:pt x="601" y="977"/>
                    </a:lnTo>
                    <a:lnTo>
                      <a:pt x="604" y="983"/>
                    </a:lnTo>
                    <a:lnTo>
                      <a:pt x="607" y="988"/>
                    </a:lnTo>
                    <a:lnTo>
                      <a:pt x="611" y="994"/>
                    </a:lnTo>
                    <a:lnTo>
                      <a:pt x="615" y="999"/>
                    </a:lnTo>
                    <a:lnTo>
                      <a:pt x="622" y="1002"/>
                    </a:lnTo>
                    <a:lnTo>
                      <a:pt x="628" y="1004"/>
                    </a:lnTo>
                    <a:lnTo>
                      <a:pt x="636" y="1007"/>
                    </a:lnTo>
                    <a:lnTo>
                      <a:pt x="639" y="1007"/>
                    </a:lnTo>
                    <a:lnTo>
                      <a:pt x="642" y="1007"/>
                    </a:lnTo>
                    <a:lnTo>
                      <a:pt x="647" y="1007"/>
                    </a:lnTo>
                    <a:lnTo>
                      <a:pt x="652" y="1007"/>
                    </a:lnTo>
                    <a:lnTo>
                      <a:pt x="660" y="1005"/>
                    </a:lnTo>
                    <a:lnTo>
                      <a:pt x="668" y="1004"/>
                    </a:lnTo>
                    <a:lnTo>
                      <a:pt x="674" y="1001"/>
                    </a:lnTo>
                    <a:lnTo>
                      <a:pt x="682" y="997"/>
                    </a:lnTo>
                    <a:lnTo>
                      <a:pt x="687" y="993"/>
                    </a:lnTo>
                    <a:lnTo>
                      <a:pt x="693" y="990"/>
                    </a:lnTo>
                    <a:lnTo>
                      <a:pt x="698" y="985"/>
                    </a:lnTo>
                    <a:lnTo>
                      <a:pt x="702" y="980"/>
                    </a:lnTo>
                    <a:lnTo>
                      <a:pt x="706" y="974"/>
                    </a:lnTo>
                    <a:lnTo>
                      <a:pt x="710" y="969"/>
                    </a:lnTo>
                    <a:lnTo>
                      <a:pt x="713" y="963"/>
                    </a:lnTo>
                    <a:lnTo>
                      <a:pt x="717" y="956"/>
                    </a:lnTo>
                    <a:lnTo>
                      <a:pt x="718" y="948"/>
                    </a:lnTo>
                    <a:lnTo>
                      <a:pt x="720" y="942"/>
                    </a:lnTo>
                    <a:lnTo>
                      <a:pt x="721" y="936"/>
                    </a:lnTo>
                    <a:lnTo>
                      <a:pt x="723" y="928"/>
                    </a:lnTo>
                    <a:lnTo>
                      <a:pt x="723" y="920"/>
                    </a:lnTo>
                    <a:lnTo>
                      <a:pt x="725" y="912"/>
                    </a:lnTo>
                    <a:lnTo>
                      <a:pt x="725" y="903"/>
                    </a:lnTo>
                    <a:lnTo>
                      <a:pt x="725" y="895"/>
                    </a:lnTo>
                    <a:lnTo>
                      <a:pt x="725" y="891"/>
                    </a:lnTo>
                    <a:lnTo>
                      <a:pt x="725" y="887"/>
                    </a:lnTo>
                    <a:lnTo>
                      <a:pt x="723" y="882"/>
                    </a:lnTo>
                    <a:lnTo>
                      <a:pt x="723" y="879"/>
                    </a:lnTo>
                    <a:lnTo>
                      <a:pt x="723" y="874"/>
                    </a:lnTo>
                    <a:lnTo>
                      <a:pt x="723" y="869"/>
                    </a:lnTo>
                    <a:lnTo>
                      <a:pt x="721" y="865"/>
                    </a:lnTo>
                    <a:lnTo>
                      <a:pt x="721" y="861"/>
                    </a:lnTo>
                    <a:lnTo>
                      <a:pt x="720" y="857"/>
                    </a:lnTo>
                    <a:lnTo>
                      <a:pt x="720" y="852"/>
                    </a:lnTo>
                    <a:lnTo>
                      <a:pt x="720" y="847"/>
                    </a:lnTo>
                    <a:lnTo>
                      <a:pt x="720" y="844"/>
                    </a:lnTo>
                    <a:lnTo>
                      <a:pt x="718" y="839"/>
                    </a:lnTo>
                    <a:lnTo>
                      <a:pt x="717" y="835"/>
                    </a:lnTo>
                    <a:lnTo>
                      <a:pt x="717" y="830"/>
                    </a:lnTo>
                    <a:lnTo>
                      <a:pt x="715" y="827"/>
                    </a:lnTo>
                    <a:lnTo>
                      <a:pt x="713" y="822"/>
                    </a:lnTo>
                    <a:lnTo>
                      <a:pt x="713" y="817"/>
                    </a:lnTo>
                    <a:lnTo>
                      <a:pt x="712" y="812"/>
                    </a:lnTo>
                    <a:lnTo>
                      <a:pt x="710" y="809"/>
                    </a:lnTo>
                    <a:lnTo>
                      <a:pt x="709" y="801"/>
                    </a:lnTo>
                    <a:lnTo>
                      <a:pt x="707" y="793"/>
                    </a:lnTo>
                    <a:lnTo>
                      <a:pt x="704" y="789"/>
                    </a:lnTo>
                    <a:lnTo>
                      <a:pt x="704" y="784"/>
                    </a:lnTo>
                    <a:lnTo>
                      <a:pt x="702" y="779"/>
                    </a:lnTo>
                    <a:lnTo>
                      <a:pt x="701" y="776"/>
                    </a:lnTo>
                    <a:lnTo>
                      <a:pt x="699" y="770"/>
                    </a:lnTo>
                    <a:lnTo>
                      <a:pt x="699" y="767"/>
                    </a:lnTo>
                    <a:lnTo>
                      <a:pt x="698" y="760"/>
                    </a:lnTo>
                    <a:lnTo>
                      <a:pt x="698" y="755"/>
                    </a:lnTo>
                    <a:lnTo>
                      <a:pt x="696" y="751"/>
                    </a:lnTo>
                    <a:lnTo>
                      <a:pt x="694" y="744"/>
                    </a:lnTo>
                    <a:lnTo>
                      <a:pt x="694" y="740"/>
                    </a:lnTo>
                    <a:lnTo>
                      <a:pt x="694" y="733"/>
                    </a:lnTo>
                    <a:lnTo>
                      <a:pt x="693" y="729"/>
                    </a:lnTo>
                    <a:lnTo>
                      <a:pt x="693" y="722"/>
                    </a:lnTo>
                    <a:lnTo>
                      <a:pt x="691" y="718"/>
                    </a:lnTo>
                    <a:lnTo>
                      <a:pt x="691" y="711"/>
                    </a:lnTo>
                    <a:lnTo>
                      <a:pt x="691" y="705"/>
                    </a:lnTo>
                    <a:lnTo>
                      <a:pt x="690" y="699"/>
                    </a:lnTo>
                    <a:lnTo>
                      <a:pt x="690" y="692"/>
                    </a:lnTo>
                    <a:lnTo>
                      <a:pt x="690" y="687"/>
                    </a:lnTo>
                    <a:lnTo>
                      <a:pt x="690" y="680"/>
                    </a:lnTo>
                    <a:lnTo>
                      <a:pt x="690" y="675"/>
                    </a:lnTo>
                    <a:lnTo>
                      <a:pt x="690" y="667"/>
                    </a:lnTo>
                    <a:lnTo>
                      <a:pt x="690" y="662"/>
                    </a:lnTo>
                    <a:lnTo>
                      <a:pt x="688" y="654"/>
                    </a:lnTo>
                    <a:lnTo>
                      <a:pt x="688" y="648"/>
                    </a:lnTo>
                    <a:lnTo>
                      <a:pt x="688" y="643"/>
                    </a:lnTo>
                    <a:lnTo>
                      <a:pt x="688" y="637"/>
                    </a:lnTo>
                    <a:lnTo>
                      <a:pt x="688" y="629"/>
                    </a:lnTo>
                    <a:lnTo>
                      <a:pt x="688" y="623"/>
                    </a:lnTo>
                    <a:lnTo>
                      <a:pt x="688" y="616"/>
                    </a:lnTo>
                    <a:lnTo>
                      <a:pt x="690" y="610"/>
                    </a:lnTo>
                    <a:lnTo>
                      <a:pt x="690" y="604"/>
                    </a:lnTo>
                    <a:lnTo>
                      <a:pt x="690" y="597"/>
                    </a:lnTo>
                    <a:lnTo>
                      <a:pt x="690" y="591"/>
                    </a:lnTo>
                    <a:lnTo>
                      <a:pt x="690" y="585"/>
                    </a:lnTo>
                    <a:lnTo>
                      <a:pt x="690" y="577"/>
                    </a:lnTo>
                    <a:lnTo>
                      <a:pt x="690" y="570"/>
                    </a:lnTo>
                    <a:lnTo>
                      <a:pt x="690" y="566"/>
                    </a:lnTo>
                    <a:lnTo>
                      <a:pt x="691" y="559"/>
                    </a:lnTo>
                    <a:lnTo>
                      <a:pt x="691" y="553"/>
                    </a:lnTo>
                    <a:lnTo>
                      <a:pt x="691" y="547"/>
                    </a:lnTo>
                    <a:lnTo>
                      <a:pt x="691" y="540"/>
                    </a:lnTo>
                    <a:lnTo>
                      <a:pt x="693" y="536"/>
                    </a:lnTo>
                    <a:lnTo>
                      <a:pt x="693" y="529"/>
                    </a:lnTo>
                    <a:lnTo>
                      <a:pt x="693" y="525"/>
                    </a:lnTo>
                    <a:lnTo>
                      <a:pt x="694" y="518"/>
                    </a:lnTo>
                    <a:lnTo>
                      <a:pt x="696" y="513"/>
                    </a:lnTo>
                    <a:lnTo>
                      <a:pt x="696" y="507"/>
                    </a:lnTo>
                    <a:lnTo>
                      <a:pt x="696" y="501"/>
                    </a:lnTo>
                    <a:lnTo>
                      <a:pt x="698" y="496"/>
                    </a:lnTo>
                    <a:lnTo>
                      <a:pt x="698" y="491"/>
                    </a:lnTo>
                    <a:lnTo>
                      <a:pt x="699" y="487"/>
                    </a:lnTo>
                    <a:lnTo>
                      <a:pt x="701" y="482"/>
                    </a:lnTo>
                    <a:lnTo>
                      <a:pt x="701" y="477"/>
                    </a:lnTo>
                    <a:lnTo>
                      <a:pt x="702" y="474"/>
                    </a:lnTo>
                    <a:lnTo>
                      <a:pt x="702" y="469"/>
                    </a:lnTo>
                    <a:lnTo>
                      <a:pt x="704" y="464"/>
                    </a:lnTo>
                    <a:lnTo>
                      <a:pt x="706" y="460"/>
                    </a:lnTo>
                    <a:lnTo>
                      <a:pt x="707" y="457"/>
                    </a:lnTo>
                    <a:lnTo>
                      <a:pt x="709" y="450"/>
                    </a:lnTo>
                    <a:lnTo>
                      <a:pt x="712" y="444"/>
                    </a:lnTo>
                    <a:lnTo>
                      <a:pt x="715" y="439"/>
                    </a:lnTo>
                    <a:lnTo>
                      <a:pt x="717" y="434"/>
                    </a:lnTo>
                    <a:lnTo>
                      <a:pt x="720" y="430"/>
                    </a:lnTo>
                    <a:lnTo>
                      <a:pt x="721" y="427"/>
                    </a:lnTo>
                    <a:lnTo>
                      <a:pt x="726" y="422"/>
                    </a:lnTo>
                    <a:lnTo>
                      <a:pt x="732" y="419"/>
                    </a:lnTo>
                    <a:lnTo>
                      <a:pt x="737" y="417"/>
                    </a:lnTo>
                    <a:lnTo>
                      <a:pt x="744" y="419"/>
                    </a:lnTo>
                    <a:lnTo>
                      <a:pt x="748" y="420"/>
                    </a:lnTo>
                    <a:lnTo>
                      <a:pt x="753" y="425"/>
                    </a:lnTo>
                    <a:lnTo>
                      <a:pt x="758" y="430"/>
                    </a:lnTo>
                    <a:lnTo>
                      <a:pt x="763" y="436"/>
                    </a:lnTo>
                    <a:lnTo>
                      <a:pt x="764" y="442"/>
                    </a:lnTo>
                    <a:lnTo>
                      <a:pt x="769" y="450"/>
                    </a:lnTo>
                    <a:lnTo>
                      <a:pt x="770" y="458"/>
                    </a:lnTo>
                    <a:lnTo>
                      <a:pt x="774" y="466"/>
                    </a:lnTo>
                    <a:lnTo>
                      <a:pt x="775" y="474"/>
                    </a:lnTo>
                    <a:lnTo>
                      <a:pt x="775" y="482"/>
                    </a:lnTo>
                    <a:lnTo>
                      <a:pt x="775" y="485"/>
                    </a:lnTo>
                    <a:lnTo>
                      <a:pt x="775" y="488"/>
                    </a:lnTo>
                    <a:lnTo>
                      <a:pt x="774" y="493"/>
                    </a:lnTo>
                    <a:lnTo>
                      <a:pt x="774" y="498"/>
                    </a:lnTo>
                    <a:lnTo>
                      <a:pt x="772" y="502"/>
                    </a:lnTo>
                    <a:lnTo>
                      <a:pt x="770" y="509"/>
                    </a:lnTo>
                    <a:lnTo>
                      <a:pt x="770" y="515"/>
                    </a:lnTo>
                    <a:lnTo>
                      <a:pt x="769" y="521"/>
                    </a:lnTo>
                    <a:lnTo>
                      <a:pt x="767" y="528"/>
                    </a:lnTo>
                    <a:lnTo>
                      <a:pt x="766" y="534"/>
                    </a:lnTo>
                    <a:lnTo>
                      <a:pt x="764" y="542"/>
                    </a:lnTo>
                    <a:lnTo>
                      <a:pt x="763" y="548"/>
                    </a:lnTo>
                    <a:lnTo>
                      <a:pt x="761" y="556"/>
                    </a:lnTo>
                    <a:lnTo>
                      <a:pt x="759" y="564"/>
                    </a:lnTo>
                    <a:lnTo>
                      <a:pt x="758" y="570"/>
                    </a:lnTo>
                    <a:lnTo>
                      <a:pt x="758" y="578"/>
                    </a:lnTo>
                    <a:lnTo>
                      <a:pt x="755" y="586"/>
                    </a:lnTo>
                    <a:lnTo>
                      <a:pt x="753" y="593"/>
                    </a:lnTo>
                    <a:lnTo>
                      <a:pt x="751" y="600"/>
                    </a:lnTo>
                    <a:lnTo>
                      <a:pt x="750" y="608"/>
                    </a:lnTo>
                    <a:lnTo>
                      <a:pt x="748" y="613"/>
                    </a:lnTo>
                    <a:lnTo>
                      <a:pt x="748" y="621"/>
                    </a:lnTo>
                    <a:lnTo>
                      <a:pt x="747" y="627"/>
                    </a:lnTo>
                    <a:lnTo>
                      <a:pt x="747" y="635"/>
                    </a:lnTo>
                    <a:lnTo>
                      <a:pt x="745" y="640"/>
                    </a:lnTo>
                    <a:lnTo>
                      <a:pt x="744" y="646"/>
                    </a:lnTo>
                    <a:lnTo>
                      <a:pt x="744" y="651"/>
                    </a:lnTo>
                    <a:lnTo>
                      <a:pt x="744" y="657"/>
                    </a:lnTo>
                    <a:lnTo>
                      <a:pt x="744" y="662"/>
                    </a:lnTo>
                    <a:lnTo>
                      <a:pt x="744" y="667"/>
                    </a:lnTo>
                    <a:lnTo>
                      <a:pt x="745" y="672"/>
                    </a:lnTo>
                    <a:lnTo>
                      <a:pt x="747" y="675"/>
                    </a:lnTo>
                    <a:lnTo>
                      <a:pt x="748" y="681"/>
                    </a:lnTo>
                    <a:lnTo>
                      <a:pt x="751" y="687"/>
                    </a:lnTo>
                    <a:lnTo>
                      <a:pt x="756" y="692"/>
                    </a:lnTo>
                    <a:lnTo>
                      <a:pt x="763" y="699"/>
                    </a:lnTo>
                    <a:lnTo>
                      <a:pt x="767" y="702"/>
                    </a:lnTo>
                    <a:lnTo>
                      <a:pt x="774" y="706"/>
                    </a:lnTo>
                    <a:lnTo>
                      <a:pt x="781" y="710"/>
                    </a:lnTo>
                    <a:lnTo>
                      <a:pt x="788" y="711"/>
                    </a:lnTo>
                    <a:lnTo>
                      <a:pt x="794" y="711"/>
                    </a:lnTo>
                    <a:lnTo>
                      <a:pt x="800" y="710"/>
                    </a:lnTo>
                    <a:lnTo>
                      <a:pt x="807" y="706"/>
                    </a:lnTo>
                    <a:lnTo>
                      <a:pt x="813" y="702"/>
                    </a:lnTo>
                    <a:lnTo>
                      <a:pt x="815" y="697"/>
                    </a:lnTo>
                    <a:lnTo>
                      <a:pt x="818" y="694"/>
                    </a:lnTo>
                    <a:lnTo>
                      <a:pt x="819" y="689"/>
                    </a:lnTo>
                    <a:lnTo>
                      <a:pt x="823" y="684"/>
                    </a:lnTo>
                    <a:lnTo>
                      <a:pt x="824" y="678"/>
                    </a:lnTo>
                    <a:lnTo>
                      <a:pt x="826" y="672"/>
                    </a:lnTo>
                    <a:lnTo>
                      <a:pt x="826" y="665"/>
                    </a:lnTo>
                    <a:lnTo>
                      <a:pt x="827" y="657"/>
                    </a:lnTo>
                    <a:lnTo>
                      <a:pt x="827" y="653"/>
                    </a:lnTo>
                    <a:lnTo>
                      <a:pt x="827" y="649"/>
                    </a:lnTo>
                    <a:lnTo>
                      <a:pt x="827" y="645"/>
                    </a:lnTo>
                    <a:lnTo>
                      <a:pt x="827" y="642"/>
                    </a:lnTo>
                    <a:lnTo>
                      <a:pt x="827" y="637"/>
                    </a:lnTo>
                    <a:lnTo>
                      <a:pt x="827" y="632"/>
                    </a:lnTo>
                    <a:lnTo>
                      <a:pt x="827" y="627"/>
                    </a:lnTo>
                    <a:lnTo>
                      <a:pt x="829" y="624"/>
                    </a:lnTo>
                    <a:lnTo>
                      <a:pt x="827" y="619"/>
                    </a:lnTo>
                    <a:lnTo>
                      <a:pt x="827" y="615"/>
                    </a:lnTo>
                    <a:lnTo>
                      <a:pt x="827" y="610"/>
                    </a:lnTo>
                    <a:lnTo>
                      <a:pt x="827" y="607"/>
                    </a:lnTo>
                    <a:lnTo>
                      <a:pt x="827" y="602"/>
                    </a:lnTo>
                    <a:lnTo>
                      <a:pt x="827" y="597"/>
                    </a:lnTo>
                    <a:lnTo>
                      <a:pt x="827" y="593"/>
                    </a:lnTo>
                    <a:lnTo>
                      <a:pt x="827" y="589"/>
                    </a:lnTo>
                    <a:lnTo>
                      <a:pt x="826" y="585"/>
                    </a:lnTo>
                    <a:lnTo>
                      <a:pt x="826" y="580"/>
                    </a:lnTo>
                    <a:lnTo>
                      <a:pt x="824" y="575"/>
                    </a:lnTo>
                    <a:lnTo>
                      <a:pt x="824" y="570"/>
                    </a:lnTo>
                    <a:lnTo>
                      <a:pt x="824" y="566"/>
                    </a:lnTo>
                    <a:lnTo>
                      <a:pt x="824" y="561"/>
                    </a:lnTo>
                    <a:lnTo>
                      <a:pt x="823" y="556"/>
                    </a:lnTo>
                    <a:lnTo>
                      <a:pt x="823" y="553"/>
                    </a:lnTo>
                    <a:lnTo>
                      <a:pt x="823" y="548"/>
                    </a:lnTo>
                    <a:lnTo>
                      <a:pt x="821" y="544"/>
                    </a:lnTo>
                    <a:lnTo>
                      <a:pt x="821" y="539"/>
                    </a:lnTo>
                    <a:lnTo>
                      <a:pt x="821" y="534"/>
                    </a:lnTo>
                    <a:lnTo>
                      <a:pt x="819" y="529"/>
                    </a:lnTo>
                    <a:lnTo>
                      <a:pt x="819" y="526"/>
                    </a:lnTo>
                    <a:lnTo>
                      <a:pt x="819" y="521"/>
                    </a:lnTo>
                    <a:lnTo>
                      <a:pt x="819" y="517"/>
                    </a:lnTo>
                    <a:lnTo>
                      <a:pt x="818" y="512"/>
                    </a:lnTo>
                    <a:lnTo>
                      <a:pt x="816" y="507"/>
                    </a:lnTo>
                    <a:lnTo>
                      <a:pt x="816" y="502"/>
                    </a:lnTo>
                    <a:lnTo>
                      <a:pt x="816" y="498"/>
                    </a:lnTo>
                    <a:lnTo>
                      <a:pt x="813" y="490"/>
                    </a:lnTo>
                    <a:lnTo>
                      <a:pt x="813" y="482"/>
                    </a:lnTo>
                    <a:lnTo>
                      <a:pt x="812" y="477"/>
                    </a:lnTo>
                    <a:lnTo>
                      <a:pt x="812" y="472"/>
                    </a:lnTo>
                    <a:lnTo>
                      <a:pt x="810" y="469"/>
                    </a:lnTo>
                    <a:lnTo>
                      <a:pt x="810" y="464"/>
                    </a:lnTo>
                    <a:lnTo>
                      <a:pt x="808" y="457"/>
                    </a:lnTo>
                    <a:lnTo>
                      <a:pt x="808" y="450"/>
                    </a:lnTo>
                    <a:lnTo>
                      <a:pt x="807" y="442"/>
                    </a:lnTo>
                    <a:lnTo>
                      <a:pt x="807" y="434"/>
                    </a:lnTo>
                    <a:lnTo>
                      <a:pt x="805" y="428"/>
                    </a:lnTo>
                    <a:lnTo>
                      <a:pt x="805" y="420"/>
                    </a:lnTo>
                    <a:lnTo>
                      <a:pt x="804" y="414"/>
                    </a:lnTo>
                    <a:lnTo>
                      <a:pt x="804" y="408"/>
                    </a:lnTo>
                    <a:lnTo>
                      <a:pt x="804" y="403"/>
                    </a:lnTo>
                    <a:lnTo>
                      <a:pt x="804" y="398"/>
                    </a:lnTo>
                    <a:lnTo>
                      <a:pt x="804" y="392"/>
                    </a:lnTo>
                    <a:lnTo>
                      <a:pt x="804" y="385"/>
                    </a:lnTo>
                    <a:lnTo>
                      <a:pt x="804" y="381"/>
                    </a:lnTo>
                    <a:lnTo>
                      <a:pt x="804" y="376"/>
                    </a:lnTo>
                    <a:lnTo>
                      <a:pt x="804" y="370"/>
                    </a:lnTo>
                    <a:lnTo>
                      <a:pt x="805" y="366"/>
                    </a:lnTo>
                    <a:lnTo>
                      <a:pt x="805" y="362"/>
                    </a:lnTo>
                    <a:lnTo>
                      <a:pt x="807" y="357"/>
                    </a:lnTo>
                    <a:lnTo>
                      <a:pt x="807" y="352"/>
                    </a:lnTo>
                    <a:lnTo>
                      <a:pt x="807" y="347"/>
                    </a:lnTo>
                    <a:lnTo>
                      <a:pt x="808" y="343"/>
                    </a:lnTo>
                    <a:lnTo>
                      <a:pt x="810" y="338"/>
                    </a:lnTo>
                    <a:lnTo>
                      <a:pt x="812" y="330"/>
                    </a:lnTo>
                    <a:lnTo>
                      <a:pt x="815" y="324"/>
                    </a:lnTo>
                    <a:lnTo>
                      <a:pt x="818" y="317"/>
                    </a:lnTo>
                    <a:lnTo>
                      <a:pt x="821" y="309"/>
                    </a:lnTo>
                    <a:lnTo>
                      <a:pt x="824" y="303"/>
                    </a:lnTo>
                    <a:lnTo>
                      <a:pt x="829" y="298"/>
                    </a:lnTo>
                    <a:lnTo>
                      <a:pt x="832" y="294"/>
                    </a:lnTo>
                    <a:lnTo>
                      <a:pt x="837" y="289"/>
                    </a:lnTo>
                    <a:lnTo>
                      <a:pt x="842" y="284"/>
                    </a:lnTo>
                    <a:lnTo>
                      <a:pt x="848" y="281"/>
                    </a:lnTo>
                    <a:lnTo>
                      <a:pt x="853" y="276"/>
                    </a:lnTo>
                    <a:lnTo>
                      <a:pt x="857" y="272"/>
                    </a:lnTo>
                    <a:lnTo>
                      <a:pt x="864" y="267"/>
                    </a:lnTo>
                    <a:lnTo>
                      <a:pt x="870" y="262"/>
                    </a:lnTo>
                    <a:lnTo>
                      <a:pt x="875" y="256"/>
                    </a:lnTo>
                    <a:lnTo>
                      <a:pt x="880" y="249"/>
                    </a:lnTo>
                    <a:lnTo>
                      <a:pt x="886" y="243"/>
                    </a:lnTo>
                    <a:lnTo>
                      <a:pt x="891" y="237"/>
                    </a:lnTo>
                    <a:lnTo>
                      <a:pt x="895" y="229"/>
                    </a:lnTo>
                    <a:lnTo>
                      <a:pt x="900" y="223"/>
                    </a:lnTo>
                    <a:lnTo>
                      <a:pt x="903" y="215"/>
                    </a:lnTo>
                    <a:lnTo>
                      <a:pt x="908" y="207"/>
                    </a:lnTo>
                    <a:lnTo>
                      <a:pt x="910" y="200"/>
                    </a:lnTo>
                    <a:lnTo>
                      <a:pt x="913" y="192"/>
                    </a:lnTo>
                    <a:lnTo>
                      <a:pt x="914" y="186"/>
                    </a:lnTo>
                    <a:lnTo>
                      <a:pt x="916" y="178"/>
                    </a:lnTo>
                    <a:lnTo>
                      <a:pt x="894" y="52"/>
                    </a:lnTo>
                    <a:lnTo>
                      <a:pt x="60" y="0"/>
                    </a:lnTo>
                    <a:lnTo>
                      <a:pt x="0" y="91"/>
                    </a:lnTo>
                    <a:lnTo>
                      <a:pt x="0" y="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rot="17662200">
                <a:off x="5387760" y="1676160"/>
                <a:ext cx="15480" cy="320040"/>
              </a:xfrm>
              <a:custGeom>
                <a:avLst/>
                <a:gdLst/>
                <a:ahLst/>
                <a:rect l="l" t="t" r="r" b="b"/>
                <a:pathLst>
                  <a:path w="43" h="715">
                    <a:moveTo>
                      <a:pt x="0" y="715"/>
                    </a:moveTo>
                    <a:lnTo>
                      <a:pt x="43" y="715"/>
                    </a:lnTo>
                    <a:lnTo>
                      <a:pt x="43" y="0"/>
                    </a:lnTo>
                    <a:lnTo>
                      <a:pt x="0" y="0"/>
                    </a:lnTo>
                    <a:lnTo>
                      <a:pt x="0" y="715"/>
                    </a:lnTo>
                    <a:lnTo>
                      <a:pt x="0" y="7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rot="17662200">
                <a:off x="5310000" y="1972440"/>
                <a:ext cx="70560" cy="81000"/>
              </a:xfrm>
              <a:custGeom>
                <a:avLst/>
                <a:gdLst/>
                <a:ahLst/>
                <a:rect l="l" t="t" r="r" b="b"/>
                <a:pathLst>
                  <a:path w="190" h="181">
                    <a:moveTo>
                      <a:pt x="5" y="133"/>
                    </a:moveTo>
                    <a:lnTo>
                      <a:pt x="5" y="132"/>
                    </a:lnTo>
                    <a:lnTo>
                      <a:pt x="3" y="125"/>
                    </a:lnTo>
                    <a:lnTo>
                      <a:pt x="2" y="120"/>
                    </a:lnTo>
                    <a:lnTo>
                      <a:pt x="2" y="117"/>
                    </a:lnTo>
                    <a:lnTo>
                      <a:pt x="2" y="111"/>
                    </a:lnTo>
                    <a:lnTo>
                      <a:pt x="2" y="106"/>
                    </a:lnTo>
                    <a:lnTo>
                      <a:pt x="0" y="100"/>
                    </a:lnTo>
                    <a:lnTo>
                      <a:pt x="0" y="95"/>
                    </a:lnTo>
                    <a:lnTo>
                      <a:pt x="0" y="87"/>
                    </a:lnTo>
                    <a:lnTo>
                      <a:pt x="0" y="81"/>
                    </a:lnTo>
                    <a:lnTo>
                      <a:pt x="0" y="75"/>
                    </a:lnTo>
                    <a:lnTo>
                      <a:pt x="2" y="67"/>
                    </a:lnTo>
                    <a:lnTo>
                      <a:pt x="3" y="60"/>
                    </a:lnTo>
                    <a:lnTo>
                      <a:pt x="5" y="54"/>
                    </a:lnTo>
                    <a:lnTo>
                      <a:pt x="6" y="46"/>
                    </a:lnTo>
                    <a:lnTo>
                      <a:pt x="10" y="40"/>
                    </a:lnTo>
                    <a:lnTo>
                      <a:pt x="13" y="33"/>
                    </a:lnTo>
                    <a:lnTo>
                      <a:pt x="19" y="29"/>
                    </a:lnTo>
                    <a:lnTo>
                      <a:pt x="24" y="22"/>
                    </a:lnTo>
                    <a:lnTo>
                      <a:pt x="29" y="19"/>
                    </a:lnTo>
                    <a:lnTo>
                      <a:pt x="35" y="16"/>
                    </a:lnTo>
                    <a:lnTo>
                      <a:pt x="41" y="15"/>
                    </a:lnTo>
                    <a:lnTo>
                      <a:pt x="46" y="11"/>
                    </a:lnTo>
                    <a:lnTo>
                      <a:pt x="51" y="8"/>
                    </a:lnTo>
                    <a:lnTo>
                      <a:pt x="56" y="7"/>
                    </a:lnTo>
                    <a:lnTo>
                      <a:pt x="62" y="7"/>
                    </a:lnTo>
                    <a:lnTo>
                      <a:pt x="68" y="5"/>
                    </a:lnTo>
                    <a:lnTo>
                      <a:pt x="71" y="5"/>
                    </a:lnTo>
                    <a:lnTo>
                      <a:pt x="125" y="0"/>
                    </a:lnTo>
                    <a:lnTo>
                      <a:pt x="174" y="37"/>
                    </a:lnTo>
                    <a:lnTo>
                      <a:pt x="190" y="103"/>
                    </a:lnTo>
                    <a:lnTo>
                      <a:pt x="176" y="166"/>
                    </a:lnTo>
                    <a:lnTo>
                      <a:pt x="117" y="181"/>
                    </a:lnTo>
                    <a:lnTo>
                      <a:pt x="82" y="176"/>
                    </a:lnTo>
                    <a:lnTo>
                      <a:pt x="5" y="133"/>
                    </a:lnTo>
                    <a:lnTo>
                      <a:pt x="5" y="133"/>
                    </a:lnTo>
                    <a:close/>
                  </a:path>
                </a:pathLst>
              </a:custGeom>
              <a:solidFill>
                <a:srgbClr val="d9e8e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2" name=""/>
              <p:cNvSpPr/>
              <p:nvPr/>
            </p:nvSpPr>
            <p:spPr>
              <a:xfrm flipH="1" rot="17662200">
                <a:off x="5249160" y="1764000"/>
                <a:ext cx="353520" cy="539640"/>
              </a:xfrm>
              <a:custGeom>
                <a:avLst/>
                <a:gdLst/>
                <a:ahLst/>
                <a:rect l="l" t="t" r="r" b="b"/>
                <a:pathLst>
                  <a:path w="957" h="1206">
                    <a:moveTo>
                      <a:pt x="0" y="784"/>
                    </a:moveTo>
                    <a:lnTo>
                      <a:pt x="0" y="1064"/>
                    </a:lnTo>
                    <a:lnTo>
                      <a:pt x="4" y="1069"/>
                    </a:lnTo>
                    <a:lnTo>
                      <a:pt x="8" y="1074"/>
                    </a:lnTo>
                    <a:lnTo>
                      <a:pt x="13" y="1078"/>
                    </a:lnTo>
                    <a:lnTo>
                      <a:pt x="21" y="1083"/>
                    </a:lnTo>
                    <a:lnTo>
                      <a:pt x="24" y="1086"/>
                    </a:lnTo>
                    <a:lnTo>
                      <a:pt x="27" y="1088"/>
                    </a:lnTo>
                    <a:lnTo>
                      <a:pt x="32" y="1091"/>
                    </a:lnTo>
                    <a:lnTo>
                      <a:pt x="37" y="1094"/>
                    </a:lnTo>
                    <a:lnTo>
                      <a:pt x="40" y="1097"/>
                    </a:lnTo>
                    <a:lnTo>
                      <a:pt x="45" y="1100"/>
                    </a:lnTo>
                    <a:lnTo>
                      <a:pt x="49" y="1104"/>
                    </a:lnTo>
                    <a:lnTo>
                      <a:pt x="56" y="1107"/>
                    </a:lnTo>
                    <a:lnTo>
                      <a:pt x="61" y="1110"/>
                    </a:lnTo>
                    <a:lnTo>
                      <a:pt x="65" y="1113"/>
                    </a:lnTo>
                    <a:lnTo>
                      <a:pt x="70" y="1116"/>
                    </a:lnTo>
                    <a:lnTo>
                      <a:pt x="76" y="1119"/>
                    </a:lnTo>
                    <a:lnTo>
                      <a:pt x="81" y="1121"/>
                    </a:lnTo>
                    <a:lnTo>
                      <a:pt x="87" y="1124"/>
                    </a:lnTo>
                    <a:lnTo>
                      <a:pt x="94" y="1127"/>
                    </a:lnTo>
                    <a:lnTo>
                      <a:pt x="102" y="1130"/>
                    </a:lnTo>
                    <a:lnTo>
                      <a:pt x="108" y="1134"/>
                    </a:lnTo>
                    <a:lnTo>
                      <a:pt x="114" y="1137"/>
                    </a:lnTo>
                    <a:lnTo>
                      <a:pt x="121" y="1140"/>
                    </a:lnTo>
                    <a:lnTo>
                      <a:pt x="129" y="1143"/>
                    </a:lnTo>
                    <a:lnTo>
                      <a:pt x="135" y="1145"/>
                    </a:lnTo>
                    <a:lnTo>
                      <a:pt x="143" y="1149"/>
                    </a:lnTo>
                    <a:lnTo>
                      <a:pt x="151" y="1151"/>
                    </a:lnTo>
                    <a:lnTo>
                      <a:pt x="157" y="1156"/>
                    </a:lnTo>
                    <a:lnTo>
                      <a:pt x="165" y="1157"/>
                    </a:lnTo>
                    <a:lnTo>
                      <a:pt x="173" y="1161"/>
                    </a:lnTo>
                    <a:lnTo>
                      <a:pt x="181" y="1164"/>
                    </a:lnTo>
                    <a:lnTo>
                      <a:pt x="189" y="1165"/>
                    </a:lnTo>
                    <a:lnTo>
                      <a:pt x="197" y="1168"/>
                    </a:lnTo>
                    <a:lnTo>
                      <a:pt x="204" y="1170"/>
                    </a:lnTo>
                    <a:lnTo>
                      <a:pt x="209" y="1172"/>
                    </a:lnTo>
                    <a:lnTo>
                      <a:pt x="214" y="1173"/>
                    </a:lnTo>
                    <a:lnTo>
                      <a:pt x="219" y="1175"/>
                    </a:lnTo>
                    <a:lnTo>
                      <a:pt x="223" y="1176"/>
                    </a:lnTo>
                    <a:lnTo>
                      <a:pt x="227" y="1176"/>
                    </a:lnTo>
                    <a:lnTo>
                      <a:pt x="231" y="1178"/>
                    </a:lnTo>
                    <a:lnTo>
                      <a:pt x="235" y="1178"/>
                    </a:lnTo>
                    <a:lnTo>
                      <a:pt x="239" y="1180"/>
                    </a:lnTo>
                    <a:lnTo>
                      <a:pt x="244" y="1181"/>
                    </a:lnTo>
                    <a:lnTo>
                      <a:pt x="249" y="1183"/>
                    </a:lnTo>
                    <a:lnTo>
                      <a:pt x="253" y="1183"/>
                    </a:lnTo>
                    <a:lnTo>
                      <a:pt x="258" y="1184"/>
                    </a:lnTo>
                    <a:lnTo>
                      <a:pt x="263" y="1184"/>
                    </a:lnTo>
                    <a:lnTo>
                      <a:pt x="268" y="1186"/>
                    </a:lnTo>
                    <a:lnTo>
                      <a:pt x="272" y="1186"/>
                    </a:lnTo>
                    <a:lnTo>
                      <a:pt x="277" y="1187"/>
                    </a:lnTo>
                    <a:lnTo>
                      <a:pt x="282" y="1189"/>
                    </a:lnTo>
                    <a:lnTo>
                      <a:pt x="287" y="1189"/>
                    </a:lnTo>
                    <a:lnTo>
                      <a:pt x="291" y="1191"/>
                    </a:lnTo>
                    <a:lnTo>
                      <a:pt x="296" y="1192"/>
                    </a:lnTo>
                    <a:lnTo>
                      <a:pt x="301" y="1192"/>
                    </a:lnTo>
                    <a:lnTo>
                      <a:pt x="306" y="1192"/>
                    </a:lnTo>
                    <a:lnTo>
                      <a:pt x="310" y="1194"/>
                    </a:lnTo>
                    <a:lnTo>
                      <a:pt x="315" y="1194"/>
                    </a:lnTo>
                    <a:lnTo>
                      <a:pt x="320" y="1194"/>
                    </a:lnTo>
                    <a:lnTo>
                      <a:pt x="325" y="1195"/>
                    </a:lnTo>
                    <a:lnTo>
                      <a:pt x="329" y="1195"/>
                    </a:lnTo>
                    <a:lnTo>
                      <a:pt x="336" y="1197"/>
                    </a:lnTo>
                    <a:lnTo>
                      <a:pt x="340" y="1197"/>
                    </a:lnTo>
                    <a:lnTo>
                      <a:pt x="345" y="1197"/>
                    </a:lnTo>
                    <a:lnTo>
                      <a:pt x="350" y="1198"/>
                    </a:lnTo>
                    <a:lnTo>
                      <a:pt x="355" y="1198"/>
                    </a:lnTo>
                    <a:lnTo>
                      <a:pt x="359" y="1200"/>
                    </a:lnTo>
                    <a:lnTo>
                      <a:pt x="366" y="1200"/>
                    </a:lnTo>
                    <a:lnTo>
                      <a:pt x="371" y="1202"/>
                    </a:lnTo>
                    <a:lnTo>
                      <a:pt x="377" y="1202"/>
                    </a:lnTo>
                    <a:lnTo>
                      <a:pt x="382" y="1202"/>
                    </a:lnTo>
                    <a:lnTo>
                      <a:pt x="388" y="1202"/>
                    </a:lnTo>
                    <a:lnTo>
                      <a:pt x="393" y="1202"/>
                    </a:lnTo>
                    <a:lnTo>
                      <a:pt x="397" y="1203"/>
                    </a:lnTo>
                    <a:lnTo>
                      <a:pt x="402" y="1203"/>
                    </a:lnTo>
                    <a:lnTo>
                      <a:pt x="409" y="1203"/>
                    </a:lnTo>
                    <a:lnTo>
                      <a:pt x="413" y="1203"/>
                    </a:lnTo>
                    <a:lnTo>
                      <a:pt x="420" y="1203"/>
                    </a:lnTo>
                    <a:lnTo>
                      <a:pt x="424" y="1203"/>
                    </a:lnTo>
                    <a:lnTo>
                      <a:pt x="431" y="1205"/>
                    </a:lnTo>
                    <a:lnTo>
                      <a:pt x="435" y="1205"/>
                    </a:lnTo>
                    <a:lnTo>
                      <a:pt x="442" y="1206"/>
                    </a:lnTo>
                    <a:lnTo>
                      <a:pt x="448" y="1206"/>
                    </a:lnTo>
                    <a:lnTo>
                      <a:pt x="454" y="1206"/>
                    </a:lnTo>
                    <a:lnTo>
                      <a:pt x="459" y="1206"/>
                    </a:lnTo>
                    <a:lnTo>
                      <a:pt x="465" y="1206"/>
                    </a:lnTo>
                    <a:lnTo>
                      <a:pt x="473" y="1206"/>
                    </a:lnTo>
                    <a:lnTo>
                      <a:pt x="481" y="1206"/>
                    </a:lnTo>
                    <a:lnTo>
                      <a:pt x="486" y="1206"/>
                    </a:lnTo>
                    <a:lnTo>
                      <a:pt x="491" y="1206"/>
                    </a:lnTo>
                    <a:lnTo>
                      <a:pt x="494" y="1206"/>
                    </a:lnTo>
                    <a:lnTo>
                      <a:pt x="499" y="1206"/>
                    </a:lnTo>
                    <a:lnTo>
                      <a:pt x="503" y="1206"/>
                    </a:lnTo>
                    <a:lnTo>
                      <a:pt x="507" y="1206"/>
                    </a:lnTo>
                    <a:lnTo>
                      <a:pt x="511" y="1206"/>
                    </a:lnTo>
                    <a:lnTo>
                      <a:pt x="516" y="1206"/>
                    </a:lnTo>
                    <a:lnTo>
                      <a:pt x="519" y="1206"/>
                    </a:lnTo>
                    <a:lnTo>
                      <a:pt x="524" y="1206"/>
                    </a:lnTo>
                    <a:lnTo>
                      <a:pt x="529" y="1206"/>
                    </a:lnTo>
                    <a:lnTo>
                      <a:pt x="533" y="1206"/>
                    </a:lnTo>
                    <a:lnTo>
                      <a:pt x="538" y="1205"/>
                    </a:lnTo>
                    <a:lnTo>
                      <a:pt x="541" y="1203"/>
                    </a:lnTo>
                    <a:lnTo>
                      <a:pt x="546" y="1203"/>
                    </a:lnTo>
                    <a:lnTo>
                      <a:pt x="551" y="1203"/>
                    </a:lnTo>
                    <a:lnTo>
                      <a:pt x="554" y="1203"/>
                    </a:lnTo>
                    <a:lnTo>
                      <a:pt x="559" y="1203"/>
                    </a:lnTo>
                    <a:lnTo>
                      <a:pt x="564" y="1203"/>
                    </a:lnTo>
                    <a:lnTo>
                      <a:pt x="568" y="1203"/>
                    </a:lnTo>
                    <a:lnTo>
                      <a:pt x="571" y="1202"/>
                    </a:lnTo>
                    <a:lnTo>
                      <a:pt x="576" y="1202"/>
                    </a:lnTo>
                    <a:lnTo>
                      <a:pt x="581" y="1202"/>
                    </a:lnTo>
                    <a:lnTo>
                      <a:pt x="584" y="1202"/>
                    </a:lnTo>
                    <a:lnTo>
                      <a:pt x="589" y="1200"/>
                    </a:lnTo>
                    <a:lnTo>
                      <a:pt x="592" y="1200"/>
                    </a:lnTo>
                    <a:lnTo>
                      <a:pt x="597" y="1200"/>
                    </a:lnTo>
                    <a:lnTo>
                      <a:pt x="602" y="1200"/>
                    </a:lnTo>
                    <a:lnTo>
                      <a:pt x="609" y="1198"/>
                    </a:lnTo>
                    <a:lnTo>
                      <a:pt x="617" y="1197"/>
                    </a:lnTo>
                    <a:lnTo>
                      <a:pt x="625" y="1195"/>
                    </a:lnTo>
                    <a:lnTo>
                      <a:pt x="635" y="1194"/>
                    </a:lnTo>
                    <a:lnTo>
                      <a:pt x="643" y="1192"/>
                    </a:lnTo>
                    <a:lnTo>
                      <a:pt x="651" y="1192"/>
                    </a:lnTo>
                    <a:lnTo>
                      <a:pt x="658" y="1191"/>
                    </a:lnTo>
                    <a:lnTo>
                      <a:pt x="666" y="1189"/>
                    </a:lnTo>
                    <a:lnTo>
                      <a:pt x="674" y="1187"/>
                    </a:lnTo>
                    <a:lnTo>
                      <a:pt x="682" y="1186"/>
                    </a:lnTo>
                    <a:lnTo>
                      <a:pt x="689" y="1184"/>
                    </a:lnTo>
                    <a:lnTo>
                      <a:pt x="696" y="1183"/>
                    </a:lnTo>
                    <a:lnTo>
                      <a:pt x="703" y="1181"/>
                    </a:lnTo>
                    <a:lnTo>
                      <a:pt x="711" y="1180"/>
                    </a:lnTo>
                    <a:lnTo>
                      <a:pt x="717" y="1178"/>
                    </a:lnTo>
                    <a:lnTo>
                      <a:pt x="725" y="1176"/>
                    </a:lnTo>
                    <a:lnTo>
                      <a:pt x="730" y="1175"/>
                    </a:lnTo>
                    <a:lnTo>
                      <a:pt x="734" y="1173"/>
                    </a:lnTo>
                    <a:lnTo>
                      <a:pt x="739" y="1172"/>
                    </a:lnTo>
                    <a:lnTo>
                      <a:pt x="745" y="1170"/>
                    </a:lnTo>
                    <a:lnTo>
                      <a:pt x="750" y="1168"/>
                    </a:lnTo>
                    <a:lnTo>
                      <a:pt x="755" y="1167"/>
                    </a:lnTo>
                    <a:lnTo>
                      <a:pt x="761" y="1165"/>
                    </a:lnTo>
                    <a:lnTo>
                      <a:pt x="766" y="1164"/>
                    </a:lnTo>
                    <a:lnTo>
                      <a:pt x="771" y="1162"/>
                    </a:lnTo>
                    <a:lnTo>
                      <a:pt x="776" y="1161"/>
                    </a:lnTo>
                    <a:lnTo>
                      <a:pt x="780" y="1159"/>
                    </a:lnTo>
                    <a:lnTo>
                      <a:pt x="785" y="1157"/>
                    </a:lnTo>
                    <a:lnTo>
                      <a:pt x="790" y="1156"/>
                    </a:lnTo>
                    <a:lnTo>
                      <a:pt x="796" y="1154"/>
                    </a:lnTo>
                    <a:lnTo>
                      <a:pt x="801" y="1153"/>
                    </a:lnTo>
                    <a:lnTo>
                      <a:pt x="806" y="1151"/>
                    </a:lnTo>
                    <a:lnTo>
                      <a:pt x="810" y="1149"/>
                    </a:lnTo>
                    <a:lnTo>
                      <a:pt x="815" y="1148"/>
                    </a:lnTo>
                    <a:lnTo>
                      <a:pt x="820" y="1145"/>
                    </a:lnTo>
                    <a:lnTo>
                      <a:pt x="825" y="1143"/>
                    </a:lnTo>
                    <a:lnTo>
                      <a:pt x="829" y="1142"/>
                    </a:lnTo>
                    <a:lnTo>
                      <a:pt x="834" y="1140"/>
                    </a:lnTo>
                    <a:lnTo>
                      <a:pt x="839" y="1138"/>
                    </a:lnTo>
                    <a:lnTo>
                      <a:pt x="844" y="1137"/>
                    </a:lnTo>
                    <a:lnTo>
                      <a:pt x="847" y="1134"/>
                    </a:lnTo>
                    <a:lnTo>
                      <a:pt x="851" y="1132"/>
                    </a:lnTo>
                    <a:lnTo>
                      <a:pt x="855" y="1130"/>
                    </a:lnTo>
                    <a:lnTo>
                      <a:pt x="859" y="1129"/>
                    </a:lnTo>
                    <a:lnTo>
                      <a:pt x="864" y="1126"/>
                    </a:lnTo>
                    <a:lnTo>
                      <a:pt x="869" y="1126"/>
                    </a:lnTo>
                    <a:lnTo>
                      <a:pt x="872" y="1123"/>
                    </a:lnTo>
                    <a:lnTo>
                      <a:pt x="877" y="1123"/>
                    </a:lnTo>
                    <a:lnTo>
                      <a:pt x="885" y="1118"/>
                    </a:lnTo>
                    <a:lnTo>
                      <a:pt x="891" y="1113"/>
                    </a:lnTo>
                    <a:lnTo>
                      <a:pt x="899" y="1110"/>
                    </a:lnTo>
                    <a:lnTo>
                      <a:pt x="905" y="1107"/>
                    </a:lnTo>
                    <a:lnTo>
                      <a:pt x="912" y="1102"/>
                    </a:lnTo>
                    <a:lnTo>
                      <a:pt x="918" y="1099"/>
                    </a:lnTo>
                    <a:lnTo>
                      <a:pt x="924" y="1094"/>
                    </a:lnTo>
                    <a:lnTo>
                      <a:pt x="929" y="1091"/>
                    </a:lnTo>
                    <a:lnTo>
                      <a:pt x="934" y="1086"/>
                    </a:lnTo>
                    <a:lnTo>
                      <a:pt x="938" y="1083"/>
                    </a:lnTo>
                    <a:lnTo>
                      <a:pt x="942" y="1080"/>
                    </a:lnTo>
                    <a:lnTo>
                      <a:pt x="946" y="1077"/>
                    </a:lnTo>
                    <a:lnTo>
                      <a:pt x="953" y="1070"/>
                    </a:lnTo>
                    <a:lnTo>
                      <a:pt x="957" y="1064"/>
                    </a:lnTo>
                    <a:lnTo>
                      <a:pt x="956" y="0"/>
                    </a:lnTo>
                    <a:lnTo>
                      <a:pt x="910" y="12"/>
                    </a:lnTo>
                    <a:lnTo>
                      <a:pt x="910" y="1048"/>
                    </a:lnTo>
                    <a:lnTo>
                      <a:pt x="908" y="1048"/>
                    </a:lnTo>
                    <a:lnTo>
                      <a:pt x="905" y="1051"/>
                    </a:lnTo>
                    <a:lnTo>
                      <a:pt x="900" y="1053"/>
                    </a:lnTo>
                    <a:lnTo>
                      <a:pt x="894" y="1058"/>
                    </a:lnTo>
                    <a:lnTo>
                      <a:pt x="889" y="1061"/>
                    </a:lnTo>
                    <a:lnTo>
                      <a:pt x="886" y="1062"/>
                    </a:lnTo>
                    <a:lnTo>
                      <a:pt x="881" y="1066"/>
                    </a:lnTo>
                    <a:lnTo>
                      <a:pt x="877" y="1069"/>
                    </a:lnTo>
                    <a:lnTo>
                      <a:pt x="869" y="1072"/>
                    </a:lnTo>
                    <a:lnTo>
                      <a:pt x="863" y="1075"/>
                    </a:lnTo>
                    <a:lnTo>
                      <a:pt x="856" y="1078"/>
                    </a:lnTo>
                    <a:lnTo>
                      <a:pt x="848" y="1083"/>
                    </a:lnTo>
                    <a:lnTo>
                      <a:pt x="845" y="1085"/>
                    </a:lnTo>
                    <a:lnTo>
                      <a:pt x="840" y="1086"/>
                    </a:lnTo>
                    <a:lnTo>
                      <a:pt x="836" y="1088"/>
                    </a:lnTo>
                    <a:lnTo>
                      <a:pt x="831" y="1089"/>
                    </a:lnTo>
                    <a:lnTo>
                      <a:pt x="826" y="1091"/>
                    </a:lnTo>
                    <a:lnTo>
                      <a:pt x="821" y="1093"/>
                    </a:lnTo>
                    <a:lnTo>
                      <a:pt x="817" y="1096"/>
                    </a:lnTo>
                    <a:lnTo>
                      <a:pt x="812" y="1097"/>
                    </a:lnTo>
                    <a:lnTo>
                      <a:pt x="807" y="1099"/>
                    </a:lnTo>
                    <a:lnTo>
                      <a:pt x="801" y="1102"/>
                    </a:lnTo>
                    <a:lnTo>
                      <a:pt x="796" y="1104"/>
                    </a:lnTo>
                    <a:lnTo>
                      <a:pt x="790" y="1105"/>
                    </a:lnTo>
                    <a:lnTo>
                      <a:pt x="783" y="1108"/>
                    </a:lnTo>
                    <a:lnTo>
                      <a:pt x="777" y="1110"/>
                    </a:lnTo>
                    <a:lnTo>
                      <a:pt x="771" y="1113"/>
                    </a:lnTo>
                    <a:lnTo>
                      <a:pt x="766" y="1115"/>
                    </a:lnTo>
                    <a:lnTo>
                      <a:pt x="760" y="1116"/>
                    </a:lnTo>
                    <a:lnTo>
                      <a:pt x="752" y="1119"/>
                    </a:lnTo>
                    <a:lnTo>
                      <a:pt x="745" y="1121"/>
                    </a:lnTo>
                    <a:lnTo>
                      <a:pt x="738" y="1123"/>
                    </a:lnTo>
                    <a:lnTo>
                      <a:pt x="731" y="1124"/>
                    </a:lnTo>
                    <a:lnTo>
                      <a:pt x="723" y="1126"/>
                    </a:lnTo>
                    <a:lnTo>
                      <a:pt x="715" y="1127"/>
                    </a:lnTo>
                    <a:lnTo>
                      <a:pt x="707" y="1130"/>
                    </a:lnTo>
                    <a:lnTo>
                      <a:pt x="700" y="1132"/>
                    </a:lnTo>
                    <a:lnTo>
                      <a:pt x="692" y="1134"/>
                    </a:lnTo>
                    <a:lnTo>
                      <a:pt x="682" y="1135"/>
                    </a:lnTo>
                    <a:lnTo>
                      <a:pt x="674" y="1138"/>
                    </a:lnTo>
                    <a:lnTo>
                      <a:pt x="666" y="1140"/>
                    </a:lnTo>
                    <a:lnTo>
                      <a:pt x="657" y="1142"/>
                    </a:lnTo>
                    <a:lnTo>
                      <a:pt x="649" y="1145"/>
                    </a:lnTo>
                    <a:lnTo>
                      <a:pt x="639" y="1146"/>
                    </a:lnTo>
                    <a:lnTo>
                      <a:pt x="632" y="1148"/>
                    </a:lnTo>
                    <a:lnTo>
                      <a:pt x="624" y="1149"/>
                    </a:lnTo>
                    <a:lnTo>
                      <a:pt x="616" y="1149"/>
                    </a:lnTo>
                    <a:lnTo>
                      <a:pt x="608" y="1151"/>
                    </a:lnTo>
                    <a:lnTo>
                      <a:pt x="600" y="1153"/>
                    </a:lnTo>
                    <a:lnTo>
                      <a:pt x="592" y="1153"/>
                    </a:lnTo>
                    <a:lnTo>
                      <a:pt x="584" y="1154"/>
                    </a:lnTo>
                    <a:lnTo>
                      <a:pt x="576" y="1156"/>
                    </a:lnTo>
                    <a:lnTo>
                      <a:pt x="568" y="1156"/>
                    </a:lnTo>
                    <a:lnTo>
                      <a:pt x="560" y="1156"/>
                    </a:lnTo>
                    <a:lnTo>
                      <a:pt x="551" y="1157"/>
                    </a:lnTo>
                    <a:lnTo>
                      <a:pt x="543" y="1157"/>
                    </a:lnTo>
                    <a:lnTo>
                      <a:pt x="535" y="1157"/>
                    </a:lnTo>
                    <a:lnTo>
                      <a:pt x="527" y="1159"/>
                    </a:lnTo>
                    <a:lnTo>
                      <a:pt x="519" y="1159"/>
                    </a:lnTo>
                    <a:lnTo>
                      <a:pt x="511" y="1159"/>
                    </a:lnTo>
                    <a:lnTo>
                      <a:pt x="502" y="1159"/>
                    </a:lnTo>
                    <a:lnTo>
                      <a:pt x="494" y="1159"/>
                    </a:lnTo>
                    <a:lnTo>
                      <a:pt x="484" y="1159"/>
                    </a:lnTo>
                    <a:lnTo>
                      <a:pt x="477" y="1159"/>
                    </a:lnTo>
                    <a:lnTo>
                      <a:pt x="469" y="1157"/>
                    </a:lnTo>
                    <a:lnTo>
                      <a:pt x="461" y="1157"/>
                    </a:lnTo>
                    <a:lnTo>
                      <a:pt x="453" y="1157"/>
                    </a:lnTo>
                    <a:lnTo>
                      <a:pt x="445" y="1157"/>
                    </a:lnTo>
                    <a:lnTo>
                      <a:pt x="435" y="1157"/>
                    </a:lnTo>
                    <a:lnTo>
                      <a:pt x="427" y="1156"/>
                    </a:lnTo>
                    <a:lnTo>
                      <a:pt x="420" y="1156"/>
                    </a:lnTo>
                    <a:lnTo>
                      <a:pt x="412" y="1156"/>
                    </a:lnTo>
                    <a:lnTo>
                      <a:pt x="404" y="1154"/>
                    </a:lnTo>
                    <a:lnTo>
                      <a:pt x="396" y="1154"/>
                    </a:lnTo>
                    <a:lnTo>
                      <a:pt x="388" y="1154"/>
                    </a:lnTo>
                    <a:lnTo>
                      <a:pt x="380" y="1154"/>
                    </a:lnTo>
                    <a:lnTo>
                      <a:pt x="372" y="1153"/>
                    </a:lnTo>
                    <a:lnTo>
                      <a:pt x="364" y="1151"/>
                    </a:lnTo>
                    <a:lnTo>
                      <a:pt x="355" y="1151"/>
                    </a:lnTo>
                    <a:lnTo>
                      <a:pt x="348" y="1149"/>
                    </a:lnTo>
                    <a:lnTo>
                      <a:pt x="340" y="1148"/>
                    </a:lnTo>
                    <a:lnTo>
                      <a:pt x="333" y="1148"/>
                    </a:lnTo>
                    <a:lnTo>
                      <a:pt x="325" y="1146"/>
                    </a:lnTo>
                    <a:lnTo>
                      <a:pt x="318" y="1146"/>
                    </a:lnTo>
                    <a:lnTo>
                      <a:pt x="310" y="1145"/>
                    </a:lnTo>
                    <a:lnTo>
                      <a:pt x="304" y="1143"/>
                    </a:lnTo>
                    <a:lnTo>
                      <a:pt x="296" y="1142"/>
                    </a:lnTo>
                    <a:lnTo>
                      <a:pt x="290" y="1140"/>
                    </a:lnTo>
                    <a:lnTo>
                      <a:pt x="282" y="1138"/>
                    </a:lnTo>
                    <a:lnTo>
                      <a:pt x="276" y="1138"/>
                    </a:lnTo>
                    <a:lnTo>
                      <a:pt x="269" y="1137"/>
                    </a:lnTo>
                    <a:lnTo>
                      <a:pt x="263" y="1135"/>
                    </a:lnTo>
                    <a:lnTo>
                      <a:pt x="257" y="1134"/>
                    </a:lnTo>
                    <a:lnTo>
                      <a:pt x="249" y="1132"/>
                    </a:lnTo>
                    <a:lnTo>
                      <a:pt x="242" y="1130"/>
                    </a:lnTo>
                    <a:lnTo>
                      <a:pt x="238" y="1129"/>
                    </a:lnTo>
                    <a:lnTo>
                      <a:pt x="231" y="1127"/>
                    </a:lnTo>
                    <a:lnTo>
                      <a:pt x="225" y="1126"/>
                    </a:lnTo>
                    <a:lnTo>
                      <a:pt x="220" y="1126"/>
                    </a:lnTo>
                    <a:lnTo>
                      <a:pt x="216" y="1124"/>
                    </a:lnTo>
                    <a:lnTo>
                      <a:pt x="209" y="1123"/>
                    </a:lnTo>
                    <a:lnTo>
                      <a:pt x="203" y="1121"/>
                    </a:lnTo>
                    <a:lnTo>
                      <a:pt x="198" y="1119"/>
                    </a:lnTo>
                    <a:lnTo>
                      <a:pt x="195" y="1118"/>
                    </a:lnTo>
                    <a:lnTo>
                      <a:pt x="190" y="1116"/>
                    </a:lnTo>
                    <a:lnTo>
                      <a:pt x="185" y="1115"/>
                    </a:lnTo>
                    <a:lnTo>
                      <a:pt x="181" y="1113"/>
                    </a:lnTo>
                    <a:lnTo>
                      <a:pt x="178" y="1112"/>
                    </a:lnTo>
                    <a:lnTo>
                      <a:pt x="171" y="1110"/>
                    </a:lnTo>
                    <a:lnTo>
                      <a:pt x="166" y="1107"/>
                    </a:lnTo>
                    <a:lnTo>
                      <a:pt x="162" y="1105"/>
                    </a:lnTo>
                    <a:lnTo>
                      <a:pt x="157" y="1104"/>
                    </a:lnTo>
                    <a:lnTo>
                      <a:pt x="152" y="1100"/>
                    </a:lnTo>
                    <a:lnTo>
                      <a:pt x="148" y="1099"/>
                    </a:lnTo>
                    <a:lnTo>
                      <a:pt x="144" y="1097"/>
                    </a:lnTo>
                    <a:lnTo>
                      <a:pt x="140" y="1096"/>
                    </a:lnTo>
                    <a:lnTo>
                      <a:pt x="132" y="1091"/>
                    </a:lnTo>
                    <a:lnTo>
                      <a:pt x="124" y="1088"/>
                    </a:lnTo>
                    <a:lnTo>
                      <a:pt x="117" y="1085"/>
                    </a:lnTo>
                    <a:lnTo>
                      <a:pt x="111" y="1083"/>
                    </a:lnTo>
                    <a:lnTo>
                      <a:pt x="103" y="1080"/>
                    </a:lnTo>
                    <a:lnTo>
                      <a:pt x="98" y="1077"/>
                    </a:lnTo>
                    <a:lnTo>
                      <a:pt x="92" y="1074"/>
                    </a:lnTo>
                    <a:lnTo>
                      <a:pt x="87" y="1070"/>
                    </a:lnTo>
                    <a:lnTo>
                      <a:pt x="83" y="1069"/>
                    </a:lnTo>
                    <a:lnTo>
                      <a:pt x="78" y="1066"/>
                    </a:lnTo>
                    <a:lnTo>
                      <a:pt x="73" y="1064"/>
                    </a:lnTo>
                    <a:lnTo>
                      <a:pt x="70" y="1062"/>
                    </a:lnTo>
                    <a:lnTo>
                      <a:pt x="62" y="1058"/>
                    </a:lnTo>
                    <a:lnTo>
                      <a:pt x="57" y="1055"/>
                    </a:lnTo>
                    <a:lnTo>
                      <a:pt x="53" y="1051"/>
                    </a:lnTo>
                    <a:lnTo>
                      <a:pt x="49" y="1048"/>
                    </a:lnTo>
                    <a:lnTo>
                      <a:pt x="45" y="1045"/>
                    </a:lnTo>
                    <a:lnTo>
                      <a:pt x="43" y="1045"/>
                    </a:lnTo>
                    <a:lnTo>
                      <a:pt x="43" y="775"/>
                    </a:lnTo>
                    <a:lnTo>
                      <a:pt x="0" y="784"/>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rot="17662200">
                <a:off x="5334480" y="1868400"/>
                <a:ext cx="234720" cy="168480"/>
              </a:xfrm>
              <a:custGeom>
                <a:avLst/>
                <a:gdLst/>
                <a:ahLst/>
                <a:rect l="l" t="t" r="r" b="b"/>
                <a:pathLst>
                  <a:path w="635" h="378">
                    <a:moveTo>
                      <a:pt x="576" y="0"/>
                    </a:moveTo>
                    <a:lnTo>
                      <a:pt x="635" y="44"/>
                    </a:lnTo>
                    <a:lnTo>
                      <a:pt x="477" y="198"/>
                    </a:lnTo>
                    <a:lnTo>
                      <a:pt x="477" y="198"/>
                    </a:lnTo>
                    <a:lnTo>
                      <a:pt x="475" y="199"/>
                    </a:lnTo>
                    <a:lnTo>
                      <a:pt x="472" y="201"/>
                    </a:lnTo>
                    <a:lnTo>
                      <a:pt x="467" y="204"/>
                    </a:lnTo>
                    <a:lnTo>
                      <a:pt x="462" y="207"/>
                    </a:lnTo>
                    <a:lnTo>
                      <a:pt x="458" y="212"/>
                    </a:lnTo>
                    <a:lnTo>
                      <a:pt x="450" y="217"/>
                    </a:lnTo>
                    <a:lnTo>
                      <a:pt x="443" y="223"/>
                    </a:lnTo>
                    <a:lnTo>
                      <a:pt x="439" y="226"/>
                    </a:lnTo>
                    <a:lnTo>
                      <a:pt x="435" y="229"/>
                    </a:lnTo>
                    <a:lnTo>
                      <a:pt x="431" y="232"/>
                    </a:lnTo>
                    <a:lnTo>
                      <a:pt x="426" y="236"/>
                    </a:lnTo>
                    <a:lnTo>
                      <a:pt x="421" y="239"/>
                    </a:lnTo>
                    <a:lnTo>
                      <a:pt x="418" y="242"/>
                    </a:lnTo>
                    <a:lnTo>
                      <a:pt x="413" y="247"/>
                    </a:lnTo>
                    <a:lnTo>
                      <a:pt x="408" y="251"/>
                    </a:lnTo>
                    <a:lnTo>
                      <a:pt x="402" y="255"/>
                    </a:lnTo>
                    <a:lnTo>
                      <a:pt x="397" y="258"/>
                    </a:lnTo>
                    <a:lnTo>
                      <a:pt x="391" y="262"/>
                    </a:lnTo>
                    <a:lnTo>
                      <a:pt x="386" y="267"/>
                    </a:lnTo>
                    <a:lnTo>
                      <a:pt x="380" y="270"/>
                    </a:lnTo>
                    <a:lnTo>
                      <a:pt x="375" y="275"/>
                    </a:lnTo>
                    <a:lnTo>
                      <a:pt x="369" y="280"/>
                    </a:lnTo>
                    <a:lnTo>
                      <a:pt x="364" y="283"/>
                    </a:lnTo>
                    <a:lnTo>
                      <a:pt x="356" y="288"/>
                    </a:lnTo>
                    <a:lnTo>
                      <a:pt x="350" y="291"/>
                    </a:lnTo>
                    <a:lnTo>
                      <a:pt x="344" y="296"/>
                    </a:lnTo>
                    <a:lnTo>
                      <a:pt x="339" y="299"/>
                    </a:lnTo>
                    <a:lnTo>
                      <a:pt x="331" y="304"/>
                    </a:lnTo>
                    <a:lnTo>
                      <a:pt x="325" y="307"/>
                    </a:lnTo>
                    <a:lnTo>
                      <a:pt x="318" y="312"/>
                    </a:lnTo>
                    <a:lnTo>
                      <a:pt x="312" y="316"/>
                    </a:lnTo>
                    <a:lnTo>
                      <a:pt x="306" y="319"/>
                    </a:lnTo>
                    <a:lnTo>
                      <a:pt x="299" y="323"/>
                    </a:lnTo>
                    <a:lnTo>
                      <a:pt x="293" y="326"/>
                    </a:lnTo>
                    <a:lnTo>
                      <a:pt x="287" y="330"/>
                    </a:lnTo>
                    <a:lnTo>
                      <a:pt x="279" y="334"/>
                    </a:lnTo>
                    <a:lnTo>
                      <a:pt x="272" y="338"/>
                    </a:lnTo>
                    <a:lnTo>
                      <a:pt x="266" y="342"/>
                    </a:lnTo>
                    <a:lnTo>
                      <a:pt x="260" y="345"/>
                    </a:lnTo>
                    <a:lnTo>
                      <a:pt x="253" y="348"/>
                    </a:lnTo>
                    <a:lnTo>
                      <a:pt x="246" y="351"/>
                    </a:lnTo>
                    <a:lnTo>
                      <a:pt x="239" y="354"/>
                    </a:lnTo>
                    <a:lnTo>
                      <a:pt x="233" y="357"/>
                    </a:lnTo>
                    <a:lnTo>
                      <a:pt x="227" y="359"/>
                    </a:lnTo>
                    <a:lnTo>
                      <a:pt x="220" y="362"/>
                    </a:lnTo>
                    <a:lnTo>
                      <a:pt x="214" y="364"/>
                    </a:lnTo>
                    <a:lnTo>
                      <a:pt x="208" y="367"/>
                    </a:lnTo>
                    <a:lnTo>
                      <a:pt x="201" y="368"/>
                    </a:lnTo>
                    <a:lnTo>
                      <a:pt x="195" y="370"/>
                    </a:lnTo>
                    <a:lnTo>
                      <a:pt x="189" y="372"/>
                    </a:lnTo>
                    <a:lnTo>
                      <a:pt x="184" y="373"/>
                    </a:lnTo>
                    <a:lnTo>
                      <a:pt x="178" y="373"/>
                    </a:lnTo>
                    <a:lnTo>
                      <a:pt x="171" y="375"/>
                    </a:lnTo>
                    <a:lnTo>
                      <a:pt x="165" y="376"/>
                    </a:lnTo>
                    <a:lnTo>
                      <a:pt x="160" y="378"/>
                    </a:lnTo>
                    <a:lnTo>
                      <a:pt x="154" y="378"/>
                    </a:lnTo>
                    <a:lnTo>
                      <a:pt x="149" y="378"/>
                    </a:lnTo>
                    <a:lnTo>
                      <a:pt x="143" y="378"/>
                    </a:lnTo>
                    <a:lnTo>
                      <a:pt x="138" y="378"/>
                    </a:lnTo>
                    <a:lnTo>
                      <a:pt x="133" y="378"/>
                    </a:lnTo>
                    <a:lnTo>
                      <a:pt x="129" y="378"/>
                    </a:lnTo>
                    <a:lnTo>
                      <a:pt x="124" y="378"/>
                    </a:lnTo>
                    <a:lnTo>
                      <a:pt x="119" y="378"/>
                    </a:lnTo>
                    <a:lnTo>
                      <a:pt x="114" y="376"/>
                    </a:lnTo>
                    <a:lnTo>
                      <a:pt x="110" y="376"/>
                    </a:lnTo>
                    <a:lnTo>
                      <a:pt x="105" y="376"/>
                    </a:lnTo>
                    <a:lnTo>
                      <a:pt x="100" y="376"/>
                    </a:lnTo>
                    <a:lnTo>
                      <a:pt x="92" y="376"/>
                    </a:lnTo>
                    <a:lnTo>
                      <a:pt x="84" y="376"/>
                    </a:lnTo>
                    <a:lnTo>
                      <a:pt x="76" y="375"/>
                    </a:lnTo>
                    <a:lnTo>
                      <a:pt x="70" y="373"/>
                    </a:lnTo>
                    <a:lnTo>
                      <a:pt x="64" y="372"/>
                    </a:lnTo>
                    <a:lnTo>
                      <a:pt x="57" y="372"/>
                    </a:lnTo>
                    <a:lnTo>
                      <a:pt x="51" y="370"/>
                    </a:lnTo>
                    <a:lnTo>
                      <a:pt x="45" y="368"/>
                    </a:lnTo>
                    <a:lnTo>
                      <a:pt x="40" y="367"/>
                    </a:lnTo>
                    <a:lnTo>
                      <a:pt x="37" y="365"/>
                    </a:lnTo>
                    <a:lnTo>
                      <a:pt x="30" y="364"/>
                    </a:lnTo>
                    <a:lnTo>
                      <a:pt x="26" y="361"/>
                    </a:lnTo>
                    <a:lnTo>
                      <a:pt x="23" y="359"/>
                    </a:lnTo>
                    <a:lnTo>
                      <a:pt x="19" y="356"/>
                    </a:lnTo>
                    <a:lnTo>
                      <a:pt x="13" y="349"/>
                    </a:lnTo>
                    <a:lnTo>
                      <a:pt x="8" y="345"/>
                    </a:lnTo>
                    <a:lnTo>
                      <a:pt x="5" y="337"/>
                    </a:lnTo>
                    <a:lnTo>
                      <a:pt x="2" y="330"/>
                    </a:lnTo>
                    <a:lnTo>
                      <a:pt x="0" y="323"/>
                    </a:lnTo>
                    <a:lnTo>
                      <a:pt x="2" y="315"/>
                    </a:lnTo>
                    <a:lnTo>
                      <a:pt x="2" y="310"/>
                    </a:lnTo>
                    <a:lnTo>
                      <a:pt x="2" y="305"/>
                    </a:lnTo>
                    <a:lnTo>
                      <a:pt x="2" y="300"/>
                    </a:lnTo>
                    <a:lnTo>
                      <a:pt x="2" y="296"/>
                    </a:lnTo>
                    <a:lnTo>
                      <a:pt x="4" y="288"/>
                    </a:lnTo>
                    <a:lnTo>
                      <a:pt x="7" y="280"/>
                    </a:lnTo>
                    <a:lnTo>
                      <a:pt x="8" y="272"/>
                    </a:lnTo>
                    <a:lnTo>
                      <a:pt x="11" y="266"/>
                    </a:lnTo>
                    <a:lnTo>
                      <a:pt x="15" y="259"/>
                    </a:lnTo>
                    <a:lnTo>
                      <a:pt x="18" y="253"/>
                    </a:lnTo>
                    <a:lnTo>
                      <a:pt x="21" y="247"/>
                    </a:lnTo>
                    <a:lnTo>
                      <a:pt x="24" y="242"/>
                    </a:lnTo>
                    <a:lnTo>
                      <a:pt x="26" y="239"/>
                    </a:lnTo>
                    <a:lnTo>
                      <a:pt x="29" y="236"/>
                    </a:lnTo>
                    <a:lnTo>
                      <a:pt x="32" y="231"/>
                    </a:lnTo>
                    <a:lnTo>
                      <a:pt x="35" y="229"/>
                    </a:lnTo>
                    <a:lnTo>
                      <a:pt x="64" y="285"/>
                    </a:lnTo>
                    <a:lnTo>
                      <a:pt x="65" y="288"/>
                    </a:lnTo>
                    <a:lnTo>
                      <a:pt x="70" y="294"/>
                    </a:lnTo>
                    <a:lnTo>
                      <a:pt x="75" y="302"/>
                    </a:lnTo>
                    <a:lnTo>
                      <a:pt x="81" y="307"/>
                    </a:lnTo>
                    <a:lnTo>
                      <a:pt x="83" y="307"/>
                    </a:lnTo>
                    <a:lnTo>
                      <a:pt x="87" y="307"/>
                    </a:lnTo>
                    <a:lnTo>
                      <a:pt x="92" y="307"/>
                    </a:lnTo>
                    <a:lnTo>
                      <a:pt x="100" y="307"/>
                    </a:lnTo>
                    <a:lnTo>
                      <a:pt x="103" y="305"/>
                    </a:lnTo>
                    <a:lnTo>
                      <a:pt x="108" y="305"/>
                    </a:lnTo>
                    <a:lnTo>
                      <a:pt x="111" y="305"/>
                    </a:lnTo>
                    <a:lnTo>
                      <a:pt x="116" y="305"/>
                    </a:lnTo>
                    <a:lnTo>
                      <a:pt x="121" y="304"/>
                    </a:lnTo>
                    <a:lnTo>
                      <a:pt x="125" y="304"/>
                    </a:lnTo>
                    <a:lnTo>
                      <a:pt x="130" y="304"/>
                    </a:lnTo>
                    <a:lnTo>
                      <a:pt x="136" y="304"/>
                    </a:lnTo>
                    <a:lnTo>
                      <a:pt x="140" y="302"/>
                    </a:lnTo>
                    <a:lnTo>
                      <a:pt x="144" y="302"/>
                    </a:lnTo>
                    <a:lnTo>
                      <a:pt x="149" y="300"/>
                    </a:lnTo>
                    <a:lnTo>
                      <a:pt x="154" y="300"/>
                    </a:lnTo>
                    <a:lnTo>
                      <a:pt x="157" y="300"/>
                    </a:lnTo>
                    <a:lnTo>
                      <a:pt x="162" y="300"/>
                    </a:lnTo>
                    <a:lnTo>
                      <a:pt x="166" y="299"/>
                    </a:lnTo>
                    <a:lnTo>
                      <a:pt x="170" y="299"/>
                    </a:lnTo>
                    <a:lnTo>
                      <a:pt x="176" y="299"/>
                    </a:lnTo>
                    <a:lnTo>
                      <a:pt x="182" y="299"/>
                    </a:lnTo>
                    <a:lnTo>
                      <a:pt x="185" y="299"/>
                    </a:lnTo>
                    <a:lnTo>
                      <a:pt x="187" y="299"/>
                    </a:lnTo>
                    <a:lnTo>
                      <a:pt x="288" y="239"/>
                    </a:lnTo>
                    <a:lnTo>
                      <a:pt x="290" y="237"/>
                    </a:lnTo>
                    <a:lnTo>
                      <a:pt x="296" y="232"/>
                    </a:lnTo>
                    <a:lnTo>
                      <a:pt x="299" y="229"/>
                    </a:lnTo>
                    <a:lnTo>
                      <a:pt x="304" y="226"/>
                    </a:lnTo>
                    <a:lnTo>
                      <a:pt x="309" y="221"/>
                    </a:lnTo>
                    <a:lnTo>
                      <a:pt x="315" y="218"/>
                    </a:lnTo>
                    <a:lnTo>
                      <a:pt x="321" y="212"/>
                    </a:lnTo>
                    <a:lnTo>
                      <a:pt x="329" y="207"/>
                    </a:lnTo>
                    <a:lnTo>
                      <a:pt x="336" y="202"/>
                    </a:lnTo>
                    <a:lnTo>
                      <a:pt x="344" y="196"/>
                    </a:lnTo>
                    <a:lnTo>
                      <a:pt x="352" y="190"/>
                    </a:lnTo>
                    <a:lnTo>
                      <a:pt x="361" y="183"/>
                    </a:lnTo>
                    <a:lnTo>
                      <a:pt x="364" y="180"/>
                    </a:lnTo>
                    <a:lnTo>
                      <a:pt x="369" y="177"/>
                    </a:lnTo>
                    <a:lnTo>
                      <a:pt x="374" y="174"/>
                    </a:lnTo>
                    <a:lnTo>
                      <a:pt x="378" y="172"/>
                    </a:lnTo>
                    <a:lnTo>
                      <a:pt x="386" y="164"/>
                    </a:lnTo>
                    <a:lnTo>
                      <a:pt x="394" y="160"/>
                    </a:lnTo>
                    <a:lnTo>
                      <a:pt x="399" y="155"/>
                    </a:lnTo>
                    <a:lnTo>
                      <a:pt x="404" y="153"/>
                    </a:lnTo>
                    <a:lnTo>
                      <a:pt x="407" y="149"/>
                    </a:lnTo>
                    <a:lnTo>
                      <a:pt x="412" y="147"/>
                    </a:lnTo>
                    <a:lnTo>
                      <a:pt x="420" y="141"/>
                    </a:lnTo>
                    <a:lnTo>
                      <a:pt x="427" y="134"/>
                    </a:lnTo>
                    <a:lnTo>
                      <a:pt x="434" y="130"/>
                    </a:lnTo>
                    <a:lnTo>
                      <a:pt x="442" y="125"/>
                    </a:lnTo>
                    <a:lnTo>
                      <a:pt x="448" y="120"/>
                    </a:lnTo>
                    <a:lnTo>
                      <a:pt x="453" y="115"/>
                    </a:lnTo>
                    <a:lnTo>
                      <a:pt x="459" y="111"/>
                    </a:lnTo>
                    <a:lnTo>
                      <a:pt x="464" y="107"/>
                    </a:lnTo>
                    <a:lnTo>
                      <a:pt x="470" y="101"/>
                    </a:lnTo>
                    <a:lnTo>
                      <a:pt x="475" y="100"/>
                    </a:lnTo>
                    <a:lnTo>
                      <a:pt x="477" y="96"/>
                    </a:lnTo>
                    <a:lnTo>
                      <a:pt x="481" y="92"/>
                    </a:lnTo>
                    <a:lnTo>
                      <a:pt x="488" y="85"/>
                    </a:lnTo>
                    <a:lnTo>
                      <a:pt x="495" y="79"/>
                    </a:lnTo>
                    <a:lnTo>
                      <a:pt x="497" y="76"/>
                    </a:lnTo>
                    <a:lnTo>
                      <a:pt x="502" y="73"/>
                    </a:lnTo>
                    <a:lnTo>
                      <a:pt x="505" y="68"/>
                    </a:lnTo>
                    <a:lnTo>
                      <a:pt x="510" y="63"/>
                    </a:lnTo>
                    <a:lnTo>
                      <a:pt x="514" y="58"/>
                    </a:lnTo>
                    <a:lnTo>
                      <a:pt x="519" y="55"/>
                    </a:lnTo>
                    <a:lnTo>
                      <a:pt x="524" y="51"/>
                    </a:lnTo>
                    <a:lnTo>
                      <a:pt x="529" y="46"/>
                    </a:lnTo>
                    <a:lnTo>
                      <a:pt x="533" y="41"/>
                    </a:lnTo>
                    <a:lnTo>
                      <a:pt x="537" y="36"/>
                    </a:lnTo>
                    <a:lnTo>
                      <a:pt x="541" y="33"/>
                    </a:lnTo>
                    <a:lnTo>
                      <a:pt x="546" y="30"/>
                    </a:lnTo>
                    <a:lnTo>
                      <a:pt x="554" y="21"/>
                    </a:lnTo>
                    <a:lnTo>
                      <a:pt x="562" y="14"/>
                    </a:lnTo>
                    <a:lnTo>
                      <a:pt x="567" y="8"/>
                    </a:lnTo>
                    <a:lnTo>
                      <a:pt x="571" y="3"/>
                    </a:lnTo>
                    <a:lnTo>
                      <a:pt x="575" y="0"/>
                    </a:lnTo>
                    <a:lnTo>
                      <a:pt x="576" y="0"/>
                    </a:lnTo>
                    <a:lnTo>
                      <a:pt x="576" y="0"/>
                    </a:lnTo>
                    <a:close/>
                  </a:path>
                </a:pathLst>
              </a:custGeom>
              <a:solidFill>
                <a:srgbClr val="d9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H="1" rot="17662200">
                <a:off x="5006880" y="1841400"/>
                <a:ext cx="354240" cy="165240"/>
              </a:xfrm>
              <a:custGeom>
                <a:avLst/>
                <a:gdLst/>
                <a:ahLst/>
                <a:rect l="l" t="t" r="r" b="b"/>
                <a:pathLst>
                  <a:path w="957" h="371">
                    <a:moveTo>
                      <a:pt x="459" y="371"/>
                    </a:moveTo>
                    <a:lnTo>
                      <a:pt x="474" y="371"/>
                    </a:lnTo>
                    <a:lnTo>
                      <a:pt x="490" y="371"/>
                    </a:lnTo>
                    <a:lnTo>
                      <a:pt x="506" y="371"/>
                    </a:lnTo>
                    <a:lnTo>
                      <a:pt x="522" y="371"/>
                    </a:lnTo>
                    <a:lnTo>
                      <a:pt x="538" y="370"/>
                    </a:lnTo>
                    <a:lnTo>
                      <a:pt x="552" y="370"/>
                    </a:lnTo>
                    <a:lnTo>
                      <a:pt x="568" y="370"/>
                    </a:lnTo>
                    <a:lnTo>
                      <a:pt x="582" y="368"/>
                    </a:lnTo>
                    <a:lnTo>
                      <a:pt x="596" y="367"/>
                    </a:lnTo>
                    <a:lnTo>
                      <a:pt x="610" y="365"/>
                    </a:lnTo>
                    <a:lnTo>
                      <a:pt x="623" y="363"/>
                    </a:lnTo>
                    <a:lnTo>
                      <a:pt x="637" y="363"/>
                    </a:lnTo>
                    <a:lnTo>
                      <a:pt x="650" y="360"/>
                    </a:lnTo>
                    <a:lnTo>
                      <a:pt x="663" y="359"/>
                    </a:lnTo>
                    <a:lnTo>
                      <a:pt x="675" y="357"/>
                    </a:lnTo>
                    <a:lnTo>
                      <a:pt x="688" y="355"/>
                    </a:lnTo>
                    <a:lnTo>
                      <a:pt x="699" y="352"/>
                    </a:lnTo>
                    <a:lnTo>
                      <a:pt x="710" y="351"/>
                    </a:lnTo>
                    <a:lnTo>
                      <a:pt x="721" y="348"/>
                    </a:lnTo>
                    <a:lnTo>
                      <a:pt x="732" y="346"/>
                    </a:lnTo>
                    <a:lnTo>
                      <a:pt x="742" y="343"/>
                    </a:lnTo>
                    <a:lnTo>
                      <a:pt x="753" y="340"/>
                    </a:lnTo>
                    <a:lnTo>
                      <a:pt x="762" y="336"/>
                    </a:lnTo>
                    <a:lnTo>
                      <a:pt x="772" y="333"/>
                    </a:lnTo>
                    <a:lnTo>
                      <a:pt x="781" y="330"/>
                    </a:lnTo>
                    <a:lnTo>
                      <a:pt x="791" y="327"/>
                    </a:lnTo>
                    <a:lnTo>
                      <a:pt x="800" y="322"/>
                    </a:lnTo>
                    <a:lnTo>
                      <a:pt x="810" y="321"/>
                    </a:lnTo>
                    <a:lnTo>
                      <a:pt x="816" y="316"/>
                    </a:lnTo>
                    <a:lnTo>
                      <a:pt x="826" y="313"/>
                    </a:lnTo>
                    <a:lnTo>
                      <a:pt x="833" y="310"/>
                    </a:lnTo>
                    <a:lnTo>
                      <a:pt x="841" y="306"/>
                    </a:lnTo>
                    <a:lnTo>
                      <a:pt x="848" y="302"/>
                    </a:lnTo>
                    <a:lnTo>
                      <a:pt x="854" y="299"/>
                    </a:lnTo>
                    <a:lnTo>
                      <a:pt x="862" y="294"/>
                    </a:lnTo>
                    <a:lnTo>
                      <a:pt x="868" y="291"/>
                    </a:lnTo>
                    <a:lnTo>
                      <a:pt x="875" y="286"/>
                    </a:lnTo>
                    <a:lnTo>
                      <a:pt x="881" y="283"/>
                    </a:lnTo>
                    <a:lnTo>
                      <a:pt x="887" y="278"/>
                    </a:lnTo>
                    <a:lnTo>
                      <a:pt x="892" y="275"/>
                    </a:lnTo>
                    <a:lnTo>
                      <a:pt x="897" y="270"/>
                    </a:lnTo>
                    <a:lnTo>
                      <a:pt x="901" y="265"/>
                    </a:lnTo>
                    <a:lnTo>
                      <a:pt x="906" y="262"/>
                    </a:lnTo>
                    <a:lnTo>
                      <a:pt x="913" y="257"/>
                    </a:lnTo>
                    <a:lnTo>
                      <a:pt x="916" y="253"/>
                    </a:lnTo>
                    <a:lnTo>
                      <a:pt x="920" y="249"/>
                    </a:lnTo>
                    <a:lnTo>
                      <a:pt x="925" y="245"/>
                    </a:lnTo>
                    <a:lnTo>
                      <a:pt x="928" y="242"/>
                    </a:lnTo>
                    <a:lnTo>
                      <a:pt x="932" y="237"/>
                    </a:lnTo>
                    <a:lnTo>
                      <a:pt x="935" y="232"/>
                    </a:lnTo>
                    <a:lnTo>
                      <a:pt x="936" y="229"/>
                    </a:lnTo>
                    <a:lnTo>
                      <a:pt x="939" y="224"/>
                    </a:lnTo>
                    <a:lnTo>
                      <a:pt x="944" y="216"/>
                    </a:lnTo>
                    <a:lnTo>
                      <a:pt x="949" y="208"/>
                    </a:lnTo>
                    <a:lnTo>
                      <a:pt x="952" y="200"/>
                    </a:lnTo>
                    <a:lnTo>
                      <a:pt x="954" y="193"/>
                    </a:lnTo>
                    <a:lnTo>
                      <a:pt x="955" y="186"/>
                    </a:lnTo>
                    <a:lnTo>
                      <a:pt x="957" y="180"/>
                    </a:lnTo>
                    <a:lnTo>
                      <a:pt x="955" y="172"/>
                    </a:lnTo>
                    <a:lnTo>
                      <a:pt x="954" y="164"/>
                    </a:lnTo>
                    <a:lnTo>
                      <a:pt x="952" y="158"/>
                    </a:lnTo>
                    <a:lnTo>
                      <a:pt x="949" y="150"/>
                    </a:lnTo>
                    <a:lnTo>
                      <a:pt x="946" y="142"/>
                    </a:lnTo>
                    <a:lnTo>
                      <a:pt x="941" y="134"/>
                    </a:lnTo>
                    <a:lnTo>
                      <a:pt x="935" y="126"/>
                    </a:lnTo>
                    <a:lnTo>
                      <a:pt x="930" y="118"/>
                    </a:lnTo>
                    <a:lnTo>
                      <a:pt x="927" y="115"/>
                    </a:lnTo>
                    <a:lnTo>
                      <a:pt x="922" y="112"/>
                    </a:lnTo>
                    <a:lnTo>
                      <a:pt x="917" y="107"/>
                    </a:lnTo>
                    <a:lnTo>
                      <a:pt x="914" y="104"/>
                    </a:lnTo>
                    <a:lnTo>
                      <a:pt x="909" y="99"/>
                    </a:lnTo>
                    <a:lnTo>
                      <a:pt x="905" y="96"/>
                    </a:lnTo>
                    <a:lnTo>
                      <a:pt x="900" y="91"/>
                    </a:lnTo>
                    <a:lnTo>
                      <a:pt x="895" y="88"/>
                    </a:lnTo>
                    <a:lnTo>
                      <a:pt x="889" y="83"/>
                    </a:lnTo>
                    <a:lnTo>
                      <a:pt x="884" y="80"/>
                    </a:lnTo>
                    <a:lnTo>
                      <a:pt x="878" y="77"/>
                    </a:lnTo>
                    <a:lnTo>
                      <a:pt x="871" y="74"/>
                    </a:lnTo>
                    <a:lnTo>
                      <a:pt x="865" y="71"/>
                    </a:lnTo>
                    <a:lnTo>
                      <a:pt x="859" y="68"/>
                    </a:lnTo>
                    <a:lnTo>
                      <a:pt x="851" y="63"/>
                    </a:lnTo>
                    <a:lnTo>
                      <a:pt x="846" y="61"/>
                    </a:lnTo>
                    <a:lnTo>
                      <a:pt x="837" y="57"/>
                    </a:lnTo>
                    <a:lnTo>
                      <a:pt x="829" y="53"/>
                    </a:lnTo>
                    <a:lnTo>
                      <a:pt x="821" y="50"/>
                    </a:lnTo>
                    <a:lnTo>
                      <a:pt x="813" y="47"/>
                    </a:lnTo>
                    <a:lnTo>
                      <a:pt x="803" y="44"/>
                    </a:lnTo>
                    <a:lnTo>
                      <a:pt x="795" y="41"/>
                    </a:lnTo>
                    <a:lnTo>
                      <a:pt x="786" y="38"/>
                    </a:lnTo>
                    <a:lnTo>
                      <a:pt x="777" y="36"/>
                    </a:lnTo>
                    <a:lnTo>
                      <a:pt x="767" y="33"/>
                    </a:lnTo>
                    <a:lnTo>
                      <a:pt x="758" y="30"/>
                    </a:lnTo>
                    <a:lnTo>
                      <a:pt x="746" y="28"/>
                    </a:lnTo>
                    <a:lnTo>
                      <a:pt x="737" y="25"/>
                    </a:lnTo>
                    <a:lnTo>
                      <a:pt x="726" y="23"/>
                    </a:lnTo>
                    <a:lnTo>
                      <a:pt x="715" y="20"/>
                    </a:lnTo>
                    <a:lnTo>
                      <a:pt x="702" y="19"/>
                    </a:lnTo>
                    <a:lnTo>
                      <a:pt x="693" y="17"/>
                    </a:lnTo>
                    <a:lnTo>
                      <a:pt x="678" y="14"/>
                    </a:lnTo>
                    <a:lnTo>
                      <a:pt x="666" y="12"/>
                    </a:lnTo>
                    <a:lnTo>
                      <a:pt x="655" y="11"/>
                    </a:lnTo>
                    <a:lnTo>
                      <a:pt x="642" y="9"/>
                    </a:lnTo>
                    <a:lnTo>
                      <a:pt x="628" y="6"/>
                    </a:lnTo>
                    <a:lnTo>
                      <a:pt x="614" y="6"/>
                    </a:lnTo>
                    <a:lnTo>
                      <a:pt x="599" y="4"/>
                    </a:lnTo>
                    <a:lnTo>
                      <a:pt x="587" y="3"/>
                    </a:lnTo>
                    <a:lnTo>
                      <a:pt x="571" y="1"/>
                    </a:lnTo>
                    <a:lnTo>
                      <a:pt x="557" y="1"/>
                    </a:lnTo>
                    <a:lnTo>
                      <a:pt x="541" y="0"/>
                    </a:lnTo>
                    <a:lnTo>
                      <a:pt x="525" y="0"/>
                    </a:lnTo>
                    <a:lnTo>
                      <a:pt x="509" y="0"/>
                    </a:lnTo>
                    <a:lnTo>
                      <a:pt x="493" y="0"/>
                    </a:lnTo>
                    <a:lnTo>
                      <a:pt x="476" y="0"/>
                    </a:lnTo>
                    <a:lnTo>
                      <a:pt x="460" y="0"/>
                    </a:lnTo>
                    <a:lnTo>
                      <a:pt x="451" y="0"/>
                    </a:lnTo>
                    <a:lnTo>
                      <a:pt x="443" y="0"/>
                    </a:lnTo>
                    <a:lnTo>
                      <a:pt x="435" y="0"/>
                    </a:lnTo>
                    <a:lnTo>
                      <a:pt x="427" y="0"/>
                    </a:lnTo>
                    <a:lnTo>
                      <a:pt x="419" y="0"/>
                    </a:lnTo>
                    <a:lnTo>
                      <a:pt x="411" y="0"/>
                    </a:lnTo>
                    <a:lnTo>
                      <a:pt x="403" y="0"/>
                    </a:lnTo>
                    <a:lnTo>
                      <a:pt x="395" y="1"/>
                    </a:lnTo>
                    <a:lnTo>
                      <a:pt x="387" y="1"/>
                    </a:lnTo>
                    <a:lnTo>
                      <a:pt x="379" y="1"/>
                    </a:lnTo>
                    <a:lnTo>
                      <a:pt x="372" y="1"/>
                    </a:lnTo>
                    <a:lnTo>
                      <a:pt x="365" y="3"/>
                    </a:lnTo>
                    <a:lnTo>
                      <a:pt x="357" y="3"/>
                    </a:lnTo>
                    <a:lnTo>
                      <a:pt x="351" y="3"/>
                    </a:lnTo>
                    <a:lnTo>
                      <a:pt x="343" y="4"/>
                    </a:lnTo>
                    <a:lnTo>
                      <a:pt x="337" y="6"/>
                    </a:lnTo>
                    <a:lnTo>
                      <a:pt x="329" y="6"/>
                    </a:lnTo>
                    <a:lnTo>
                      <a:pt x="321" y="6"/>
                    </a:lnTo>
                    <a:lnTo>
                      <a:pt x="315" y="8"/>
                    </a:lnTo>
                    <a:lnTo>
                      <a:pt x="308" y="8"/>
                    </a:lnTo>
                    <a:lnTo>
                      <a:pt x="300" y="9"/>
                    </a:lnTo>
                    <a:lnTo>
                      <a:pt x="294" y="11"/>
                    </a:lnTo>
                    <a:lnTo>
                      <a:pt x="286" y="11"/>
                    </a:lnTo>
                    <a:lnTo>
                      <a:pt x="280" y="12"/>
                    </a:lnTo>
                    <a:lnTo>
                      <a:pt x="273" y="12"/>
                    </a:lnTo>
                    <a:lnTo>
                      <a:pt x="267" y="14"/>
                    </a:lnTo>
                    <a:lnTo>
                      <a:pt x="261" y="15"/>
                    </a:lnTo>
                    <a:lnTo>
                      <a:pt x="254" y="17"/>
                    </a:lnTo>
                    <a:lnTo>
                      <a:pt x="247" y="17"/>
                    </a:lnTo>
                    <a:lnTo>
                      <a:pt x="240" y="19"/>
                    </a:lnTo>
                    <a:lnTo>
                      <a:pt x="236" y="20"/>
                    </a:lnTo>
                    <a:lnTo>
                      <a:pt x="229" y="22"/>
                    </a:lnTo>
                    <a:lnTo>
                      <a:pt x="223" y="23"/>
                    </a:lnTo>
                    <a:lnTo>
                      <a:pt x="217" y="25"/>
                    </a:lnTo>
                    <a:lnTo>
                      <a:pt x="210" y="25"/>
                    </a:lnTo>
                    <a:lnTo>
                      <a:pt x="205" y="27"/>
                    </a:lnTo>
                    <a:lnTo>
                      <a:pt x="199" y="28"/>
                    </a:lnTo>
                    <a:lnTo>
                      <a:pt x="194" y="30"/>
                    </a:lnTo>
                    <a:lnTo>
                      <a:pt x="188" y="31"/>
                    </a:lnTo>
                    <a:lnTo>
                      <a:pt x="183" y="33"/>
                    </a:lnTo>
                    <a:lnTo>
                      <a:pt x="177" y="34"/>
                    </a:lnTo>
                    <a:lnTo>
                      <a:pt x="171" y="36"/>
                    </a:lnTo>
                    <a:lnTo>
                      <a:pt x="166" y="36"/>
                    </a:lnTo>
                    <a:lnTo>
                      <a:pt x="161" y="38"/>
                    </a:lnTo>
                    <a:lnTo>
                      <a:pt x="156" y="39"/>
                    </a:lnTo>
                    <a:lnTo>
                      <a:pt x="152" y="41"/>
                    </a:lnTo>
                    <a:lnTo>
                      <a:pt x="147" y="42"/>
                    </a:lnTo>
                    <a:lnTo>
                      <a:pt x="142" y="45"/>
                    </a:lnTo>
                    <a:lnTo>
                      <a:pt x="136" y="45"/>
                    </a:lnTo>
                    <a:lnTo>
                      <a:pt x="131" y="47"/>
                    </a:lnTo>
                    <a:lnTo>
                      <a:pt x="126" y="49"/>
                    </a:lnTo>
                    <a:lnTo>
                      <a:pt x="122" y="52"/>
                    </a:lnTo>
                    <a:lnTo>
                      <a:pt x="114" y="55"/>
                    </a:lnTo>
                    <a:lnTo>
                      <a:pt x="106" y="58"/>
                    </a:lnTo>
                    <a:lnTo>
                      <a:pt x="98" y="61"/>
                    </a:lnTo>
                    <a:lnTo>
                      <a:pt x="90" y="66"/>
                    </a:lnTo>
                    <a:lnTo>
                      <a:pt x="82" y="69"/>
                    </a:lnTo>
                    <a:lnTo>
                      <a:pt x="77" y="72"/>
                    </a:lnTo>
                    <a:lnTo>
                      <a:pt x="69" y="74"/>
                    </a:lnTo>
                    <a:lnTo>
                      <a:pt x="65" y="79"/>
                    </a:lnTo>
                    <a:lnTo>
                      <a:pt x="58" y="82"/>
                    </a:lnTo>
                    <a:lnTo>
                      <a:pt x="54" y="85"/>
                    </a:lnTo>
                    <a:lnTo>
                      <a:pt x="47" y="88"/>
                    </a:lnTo>
                    <a:lnTo>
                      <a:pt x="43" y="93"/>
                    </a:lnTo>
                    <a:lnTo>
                      <a:pt x="39" y="96"/>
                    </a:lnTo>
                    <a:lnTo>
                      <a:pt x="35" y="101"/>
                    </a:lnTo>
                    <a:lnTo>
                      <a:pt x="27" y="107"/>
                    </a:lnTo>
                    <a:lnTo>
                      <a:pt x="20" y="115"/>
                    </a:lnTo>
                    <a:lnTo>
                      <a:pt x="16" y="121"/>
                    </a:lnTo>
                    <a:lnTo>
                      <a:pt x="11" y="129"/>
                    </a:lnTo>
                    <a:lnTo>
                      <a:pt x="8" y="137"/>
                    </a:lnTo>
                    <a:lnTo>
                      <a:pt x="5" y="144"/>
                    </a:lnTo>
                    <a:lnTo>
                      <a:pt x="3" y="151"/>
                    </a:lnTo>
                    <a:lnTo>
                      <a:pt x="1" y="159"/>
                    </a:lnTo>
                    <a:lnTo>
                      <a:pt x="0" y="166"/>
                    </a:lnTo>
                    <a:lnTo>
                      <a:pt x="0" y="172"/>
                    </a:lnTo>
                    <a:lnTo>
                      <a:pt x="0" y="178"/>
                    </a:lnTo>
                    <a:lnTo>
                      <a:pt x="1" y="186"/>
                    </a:lnTo>
                    <a:lnTo>
                      <a:pt x="1" y="191"/>
                    </a:lnTo>
                    <a:lnTo>
                      <a:pt x="5" y="197"/>
                    </a:lnTo>
                    <a:lnTo>
                      <a:pt x="6" y="204"/>
                    </a:lnTo>
                    <a:lnTo>
                      <a:pt x="9" y="212"/>
                    </a:lnTo>
                    <a:lnTo>
                      <a:pt x="12" y="218"/>
                    </a:lnTo>
                    <a:lnTo>
                      <a:pt x="17" y="226"/>
                    </a:lnTo>
                    <a:lnTo>
                      <a:pt x="22" y="232"/>
                    </a:lnTo>
                    <a:lnTo>
                      <a:pt x="28" y="240"/>
                    </a:lnTo>
                    <a:lnTo>
                      <a:pt x="35" y="246"/>
                    </a:lnTo>
                    <a:lnTo>
                      <a:pt x="43" y="254"/>
                    </a:lnTo>
                    <a:lnTo>
                      <a:pt x="47" y="257"/>
                    </a:lnTo>
                    <a:lnTo>
                      <a:pt x="50" y="262"/>
                    </a:lnTo>
                    <a:lnTo>
                      <a:pt x="55" y="265"/>
                    </a:lnTo>
                    <a:lnTo>
                      <a:pt x="60" y="270"/>
                    </a:lnTo>
                    <a:lnTo>
                      <a:pt x="65" y="273"/>
                    </a:lnTo>
                    <a:lnTo>
                      <a:pt x="69" y="276"/>
                    </a:lnTo>
                    <a:lnTo>
                      <a:pt x="76" y="281"/>
                    </a:lnTo>
                    <a:lnTo>
                      <a:pt x="80" y="284"/>
                    </a:lnTo>
                    <a:lnTo>
                      <a:pt x="85" y="287"/>
                    </a:lnTo>
                    <a:lnTo>
                      <a:pt x="92" y="291"/>
                    </a:lnTo>
                    <a:lnTo>
                      <a:pt x="99" y="295"/>
                    </a:lnTo>
                    <a:lnTo>
                      <a:pt x="106" y="299"/>
                    </a:lnTo>
                    <a:lnTo>
                      <a:pt x="112" y="302"/>
                    </a:lnTo>
                    <a:lnTo>
                      <a:pt x="120" y="305"/>
                    </a:lnTo>
                    <a:lnTo>
                      <a:pt x="126" y="308"/>
                    </a:lnTo>
                    <a:lnTo>
                      <a:pt x="134" y="313"/>
                    </a:lnTo>
                    <a:lnTo>
                      <a:pt x="141" y="316"/>
                    </a:lnTo>
                    <a:lnTo>
                      <a:pt x="150" y="319"/>
                    </a:lnTo>
                    <a:lnTo>
                      <a:pt x="158" y="321"/>
                    </a:lnTo>
                    <a:lnTo>
                      <a:pt x="166" y="325"/>
                    </a:lnTo>
                    <a:lnTo>
                      <a:pt x="175" y="327"/>
                    </a:lnTo>
                    <a:lnTo>
                      <a:pt x="183" y="330"/>
                    </a:lnTo>
                    <a:lnTo>
                      <a:pt x="193" y="333"/>
                    </a:lnTo>
                    <a:lnTo>
                      <a:pt x="202" y="336"/>
                    </a:lnTo>
                    <a:lnTo>
                      <a:pt x="212" y="338"/>
                    </a:lnTo>
                    <a:lnTo>
                      <a:pt x="223" y="341"/>
                    </a:lnTo>
                    <a:lnTo>
                      <a:pt x="234" y="344"/>
                    </a:lnTo>
                    <a:lnTo>
                      <a:pt x="245" y="348"/>
                    </a:lnTo>
                    <a:lnTo>
                      <a:pt x="254" y="349"/>
                    </a:lnTo>
                    <a:lnTo>
                      <a:pt x="267" y="351"/>
                    </a:lnTo>
                    <a:lnTo>
                      <a:pt x="278" y="354"/>
                    </a:lnTo>
                    <a:lnTo>
                      <a:pt x="291" y="355"/>
                    </a:lnTo>
                    <a:lnTo>
                      <a:pt x="302" y="357"/>
                    </a:lnTo>
                    <a:lnTo>
                      <a:pt x="315" y="360"/>
                    </a:lnTo>
                    <a:lnTo>
                      <a:pt x="327" y="362"/>
                    </a:lnTo>
                    <a:lnTo>
                      <a:pt x="341" y="363"/>
                    </a:lnTo>
                    <a:lnTo>
                      <a:pt x="354" y="363"/>
                    </a:lnTo>
                    <a:lnTo>
                      <a:pt x="368" y="365"/>
                    </a:lnTo>
                    <a:lnTo>
                      <a:pt x="383" y="367"/>
                    </a:lnTo>
                    <a:lnTo>
                      <a:pt x="397" y="368"/>
                    </a:lnTo>
                    <a:lnTo>
                      <a:pt x="411" y="368"/>
                    </a:lnTo>
                    <a:lnTo>
                      <a:pt x="427" y="370"/>
                    </a:lnTo>
                    <a:lnTo>
                      <a:pt x="443" y="370"/>
                    </a:lnTo>
                    <a:lnTo>
                      <a:pt x="459" y="371"/>
                    </a:lnTo>
                    <a:lnTo>
                      <a:pt x="459"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H="1" rot="17662200">
                <a:off x="5023800" y="1857240"/>
                <a:ext cx="320040" cy="130320"/>
              </a:xfrm>
              <a:custGeom>
                <a:avLst/>
                <a:gdLst/>
                <a:ahLst/>
                <a:rect l="l" t="t" r="r" b="b"/>
                <a:pathLst>
                  <a:path w="865" h="291">
                    <a:moveTo>
                      <a:pt x="420" y="291"/>
                    </a:moveTo>
                    <a:lnTo>
                      <a:pt x="425" y="291"/>
                    </a:lnTo>
                    <a:lnTo>
                      <a:pt x="430" y="291"/>
                    </a:lnTo>
                    <a:lnTo>
                      <a:pt x="435" y="291"/>
                    </a:lnTo>
                    <a:lnTo>
                      <a:pt x="441" y="291"/>
                    </a:lnTo>
                    <a:lnTo>
                      <a:pt x="446" y="291"/>
                    </a:lnTo>
                    <a:lnTo>
                      <a:pt x="450" y="291"/>
                    </a:lnTo>
                    <a:lnTo>
                      <a:pt x="455" y="291"/>
                    </a:lnTo>
                    <a:lnTo>
                      <a:pt x="461" y="291"/>
                    </a:lnTo>
                    <a:lnTo>
                      <a:pt x="465" y="291"/>
                    </a:lnTo>
                    <a:lnTo>
                      <a:pt x="471" y="291"/>
                    </a:lnTo>
                    <a:lnTo>
                      <a:pt x="476" y="291"/>
                    </a:lnTo>
                    <a:lnTo>
                      <a:pt x="480" y="291"/>
                    </a:lnTo>
                    <a:lnTo>
                      <a:pt x="485" y="289"/>
                    </a:lnTo>
                    <a:lnTo>
                      <a:pt x="491" y="289"/>
                    </a:lnTo>
                    <a:lnTo>
                      <a:pt x="496" y="289"/>
                    </a:lnTo>
                    <a:lnTo>
                      <a:pt x="501" y="289"/>
                    </a:lnTo>
                    <a:lnTo>
                      <a:pt x="506" y="289"/>
                    </a:lnTo>
                    <a:lnTo>
                      <a:pt x="510" y="287"/>
                    </a:lnTo>
                    <a:lnTo>
                      <a:pt x="517" y="287"/>
                    </a:lnTo>
                    <a:lnTo>
                      <a:pt x="522" y="287"/>
                    </a:lnTo>
                    <a:lnTo>
                      <a:pt x="526" y="287"/>
                    </a:lnTo>
                    <a:lnTo>
                      <a:pt x="531" y="287"/>
                    </a:lnTo>
                    <a:lnTo>
                      <a:pt x="536" y="286"/>
                    </a:lnTo>
                    <a:lnTo>
                      <a:pt x="542" y="286"/>
                    </a:lnTo>
                    <a:lnTo>
                      <a:pt x="547" y="284"/>
                    </a:lnTo>
                    <a:lnTo>
                      <a:pt x="552" y="284"/>
                    </a:lnTo>
                    <a:lnTo>
                      <a:pt x="556" y="283"/>
                    </a:lnTo>
                    <a:lnTo>
                      <a:pt x="561" y="283"/>
                    </a:lnTo>
                    <a:lnTo>
                      <a:pt x="566" y="283"/>
                    </a:lnTo>
                    <a:lnTo>
                      <a:pt x="572" y="283"/>
                    </a:lnTo>
                    <a:lnTo>
                      <a:pt x="575" y="283"/>
                    </a:lnTo>
                    <a:lnTo>
                      <a:pt x="582" y="283"/>
                    </a:lnTo>
                    <a:lnTo>
                      <a:pt x="585" y="281"/>
                    </a:lnTo>
                    <a:lnTo>
                      <a:pt x="590" y="280"/>
                    </a:lnTo>
                    <a:lnTo>
                      <a:pt x="594" y="280"/>
                    </a:lnTo>
                    <a:lnTo>
                      <a:pt x="599" y="280"/>
                    </a:lnTo>
                    <a:lnTo>
                      <a:pt x="604" y="278"/>
                    </a:lnTo>
                    <a:lnTo>
                      <a:pt x="609" y="276"/>
                    </a:lnTo>
                    <a:lnTo>
                      <a:pt x="613" y="276"/>
                    </a:lnTo>
                    <a:lnTo>
                      <a:pt x="618" y="276"/>
                    </a:lnTo>
                    <a:lnTo>
                      <a:pt x="621" y="275"/>
                    </a:lnTo>
                    <a:lnTo>
                      <a:pt x="626" y="273"/>
                    </a:lnTo>
                    <a:lnTo>
                      <a:pt x="631" y="273"/>
                    </a:lnTo>
                    <a:lnTo>
                      <a:pt x="635" y="273"/>
                    </a:lnTo>
                    <a:lnTo>
                      <a:pt x="639" y="272"/>
                    </a:lnTo>
                    <a:lnTo>
                      <a:pt x="643" y="270"/>
                    </a:lnTo>
                    <a:lnTo>
                      <a:pt x="648" y="270"/>
                    </a:lnTo>
                    <a:lnTo>
                      <a:pt x="653" y="270"/>
                    </a:lnTo>
                    <a:lnTo>
                      <a:pt x="659" y="267"/>
                    </a:lnTo>
                    <a:lnTo>
                      <a:pt x="667" y="265"/>
                    </a:lnTo>
                    <a:lnTo>
                      <a:pt x="675" y="264"/>
                    </a:lnTo>
                    <a:lnTo>
                      <a:pt x="683" y="262"/>
                    </a:lnTo>
                    <a:lnTo>
                      <a:pt x="691" y="259"/>
                    </a:lnTo>
                    <a:lnTo>
                      <a:pt x="697" y="257"/>
                    </a:lnTo>
                    <a:lnTo>
                      <a:pt x="703" y="256"/>
                    </a:lnTo>
                    <a:lnTo>
                      <a:pt x="711" y="254"/>
                    </a:lnTo>
                    <a:lnTo>
                      <a:pt x="716" y="253"/>
                    </a:lnTo>
                    <a:lnTo>
                      <a:pt x="721" y="251"/>
                    </a:lnTo>
                    <a:lnTo>
                      <a:pt x="726" y="248"/>
                    </a:lnTo>
                    <a:lnTo>
                      <a:pt x="730" y="246"/>
                    </a:lnTo>
                    <a:lnTo>
                      <a:pt x="735" y="245"/>
                    </a:lnTo>
                    <a:lnTo>
                      <a:pt x="740" y="243"/>
                    </a:lnTo>
                    <a:lnTo>
                      <a:pt x="745" y="242"/>
                    </a:lnTo>
                    <a:lnTo>
                      <a:pt x="749" y="240"/>
                    </a:lnTo>
                    <a:lnTo>
                      <a:pt x="757" y="235"/>
                    </a:lnTo>
                    <a:lnTo>
                      <a:pt x="767" y="232"/>
                    </a:lnTo>
                    <a:lnTo>
                      <a:pt x="773" y="227"/>
                    </a:lnTo>
                    <a:lnTo>
                      <a:pt x="783" y="224"/>
                    </a:lnTo>
                    <a:lnTo>
                      <a:pt x="789" y="219"/>
                    </a:lnTo>
                    <a:lnTo>
                      <a:pt x="797" y="216"/>
                    </a:lnTo>
                    <a:lnTo>
                      <a:pt x="803" y="211"/>
                    </a:lnTo>
                    <a:lnTo>
                      <a:pt x="808" y="208"/>
                    </a:lnTo>
                    <a:lnTo>
                      <a:pt x="814" y="205"/>
                    </a:lnTo>
                    <a:lnTo>
                      <a:pt x="821" y="202"/>
                    </a:lnTo>
                    <a:lnTo>
                      <a:pt x="825" y="197"/>
                    </a:lnTo>
                    <a:lnTo>
                      <a:pt x="830" y="194"/>
                    </a:lnTo>
                    <a:lnTo>
                      <a:pt x="838" y="186"/>
                    </a:lnTo>
                    <a:lnTo>
                      <a:pt x="844" y="178"/>
                    </a:lnTo>
                    <a:lnTo>
                      <a:pt x="851" y="170"/>
                    </a:lnTo>
                    <a:lnTo>
                      <a:pt x="855" y="164"/>
                    </a:lnTo>
                    <a:lnTo>
                      <a:pt x="858" y="158"/>
                    </a:lnTo>
                    <a:lnTo>
                      <a:pt x="862" y="150"/>
                    </a:lnTo>
                    <a:lnTo>
                      <a:pt x="863" y="143"/>
                    </a:lnTo>
                    <a:lnTo>
                      <a:pt x="865" y="139"/>
                    </a:lnTo>
                    <a:lnTo>
                      <a:pt x="863" y="132"/>
                    </a:lnTo>
                    <a:lnTo>
                      <a:pt x="863" y="128"/>
                    </a:lnTo>
                    <a:lnTo>
                      <a:pt x="860" y="123"/>
                    </a:lnTo>
                    <a:lnTo>
                      <a:pt x="858" y="118"/>
                    </a:lnTo>
                    <a:lnTo>
                      <a:pt x="855" y="112"/>
                    </a:lnTo>
                    <a:lnTo>
                      <a:pt x="851" y="107"/>
                    </a:lnTo>
                    <a:lnTo>
                      <a:pt x="846" y="101"/>
                    </a:lnTo>
                    <a:lnTo>
                      <a:pt x="843" y="96"/>
                    </a:lnTo>
                    <a:lnTo>
                      <a:pt x="835" y="90"/>
                    </a:lnTo>
                    <a:lnTo>
                      <a:pt x="828" y="85"/>
                    </a:lnTo>
                    <a:lnTo>
                      <a:pt x="821" y="79"/>
                    </a:lnTo>
                    <a:lnTo>
                      <a:pt x="813" y="74"/>
                    </a:lnTo>
                    <a:lnTo>
                      <a:pt x="808" y="71"/>
                    </a:lnTo>
                    <a:lnTo>
                      <a:pt x="803" y="68"/>
                    </a:lnTo>
                    <a:lnTo>
                      <a:pt x="798" y="64"/>
                    </a:lnTo>
                    <a:lnTo>
                      <a:pt x="794" y="63"/>
                    </a:lnTo>
                    <a:lnTo>
                      <a:pt x="787" y="60"/>
                    </a:lnTo>
                    <a:lnTo>
                      <a:pt x="783" y="57"/>
                    </a:lnTo>
                    <a:lnTo>
                      <a:pt x="776" y="55"/>
                    </a:lnTo>
                    <a:lnTo>
                      <a:pt x="771" y="52"/>
                    </a:lnTo>
                    <a:lnTo>
                      <a:pt x="765" y="49"/>
                    </a:lnTo>
                    <a:lnTo>
                      <a:pt x="757" y="47"/>
                    </a:lnTo>
                    <a:lnTo>
                      <a:pt x="751" y="44"/>
                    </a:lnTo>
                    <a:lnTo>
                      <a:pt x="743" y="41"/>
                    </a:lnTo>
                    <a:lnTo>
                      <a:pt x="735" y="39"/>
                    </a:lnTo>
                    <a:lnTo>
                      <a:pt x="729" y="36"/>
                    </a:lnTo>
                    <a:lnTo>
                      <a:pt x="721" y="34"/>
                    </a:lnTo>
                    <a:lnTo>
                      <a:pt x="713" y="33"/>
                    </a:lnTo>
                    <a:lnTo>
                      <a:pt x="705" y="30"/>
                    </a:lnTo>
                    <a:lnTo>
                      <a:pt x="696" y="28"/>
                    </a:lnTo>
                    <a:lnTo>
                      <a:pt x="688" y="25"/>
                    </a:lnTo>
                    <a:lnTo>
                      <a:pt x="678" y="23"/>
                    </a:lnTo>
                    <a:lnTo>
                      <a:pt x="669" y="22"/>
                    </a:lnTo>
                    <a:lnTo>
                      <a:pt x="659" y="20"/>
                    </a:lnTo>
                    <a:lnTo>
                      <a:pt x="650" y="19"/>
                    </a:lnTo>
                    <a:lnTo>
                      <a:pt x="640" y="17"/>
                    </a:lnTo>
                    <a:lnTo>
                      <a:pt x="629" y="14"/>
                    </a:lnTo>
                    <a:lnTo>
                      <a:pt x="618" y="12"/>
                    </a:lnTo>
                    <a:lnTo>
                      <a:pt x="607" y="11"/>
                    </a:lnTo>
                    <a:lnTo>
                      <a:pt x="596" y="9"/>
                    </a:lnTo>
                    <a:lnTo>
                      <a:pt x="585" y="7"/>
                    </a:lnTo>
                    <a:lnTo>
                      <a:pt x="574" y="7"/>
                    </a:lnTo>
                    <a:lnTo>
                      <a:pt x="561" y="6"/>
                    </a:lnTo>
                    <a:lnTo>
                      <a:pt x="548" y="4"/>
                    </a:lnTo>
                    <a:lnTo>
                      <a:pt x="536" y="3"/>
                    </a:lnTo>
                    <a:lnTo>
                      <a:pt x="523" y="3"/>
                    </a:lnTo>
                    <a:lnTo>
                      <a:pt x="509" y="1"/>
                    </a:lnTo>
                    <a:lnTo>
                      <a:pt x="498" y="1"/>
                    </a:lnTo>
                    <a:lnTo>
                      <a:pt x="482" y="1"/>
                    </a:lnTo>
                    <a:lnTo>
                      <a:pt x="468" y="1"/>
                    </a:lnTo>
                    <a:lnTo>
                      <a:pt x="455" y="1"/>
                    </a:lnTo>
                    <a:lnTo>
                      <a:pt x="441" y="1"/>
                    </a:lnTo>
                    <a:lnTo>
                      <a:pt x="433" y="0"/>
                    </a:lnTo>
                    <a:lnTo>
                      <a:pt x="427" y="0"/>
                    </a:lnTo>
                    <a:lnTo>
                      <a:pt x="420" y="0"/>
                    </a:lnTo>
                    <a:lnTo>
                      <a:pt x="416" y="0"/>
                    </a:lnTo>
                    <a:lnTo>
                      <a:pt x="409" y="0"/>
                    </a:lnTo>
                    <a:lnTo>
                      <a:pt x="403" y="0"/>
                    </a:lnTo>
                    <a:lnTo>
                      <a:pt x="397" y="0"/>
                    </a:lnTo>
                    <a:lnTo>
                      <a:pt x="390" y="0"/>
                    </a:lnTo>
                    <a:lnTo>
                      <a:pt x="384" y="0"/>
                    </a:lnTo>
                    <a:lnTo>
                      <a:pt x="379" y="0"/>
                    </a:lnTo>
                    <a:lnTo>
                      <a:pt x="371" y="0"/>
                    </a:lnTo>
                    <a:lnTo>
                      <a:pt x="367" y="1"/>
                    </a:lnTo>
                    <a:lnTo>
                      <a:pt x="360" y="1"/>
                    </a:lnTo>
                    <a:lnTo>
                      <a:pt x="354" y="1"/>
                    </a:lnTo>
                    <a:lnTo>
                      <a:pt x="348" y="1"/>
                    </a:lnTo>
                    <a:lnTo>
                      <a:pt x="343" y="3"/>
                    </a:lnTo>
                    <a:lnTo>
                      <a:pt x="336" y="3"/>
                    </a:lnTo>
                    <a:lnTo>
                      <a:pt x="330" y="3"/>
                    </a:lnTo>
                    <a:lnTo>
                      <a:pt x="324" y="3"/>
                    </a:lnTo>
                    <a:lnTo>
                      <a:pt x="317" y="3"/>
                    </a:lnTo>
                    <a:lnTo>
                      <a:pt x="311" y="3"/>
                    </a:lnTo>
                    <a:lnTo>
                      <a:pt x="306" y="4"/>
                    </a:lnTo>
                    <a:lnTo>
                      <a:pt x="300" y="4"/>
                    </a:lnTo>
                    <a:lnTo>
                      <a:pt x="294" y="6"/>
                    </a:lnTo>
                    <a:lnTo>
                      <a:pt x="287" y="6"/>
                    </a:lnTo>
                    <a:lnTo>
                      <a:pt x="283" y="6"/>
                    </a:lnTo>
                    <a:lnTo>
                      <a:pt x="276" y="7"/>
                    </a:lnTo>
                    <a:lnTo>
                      <a:pt x="270" y="7"/>
                    </a:lnTo>
                    <a:lnTo>
                      <a:pt x="265" y="9"/>
                    </a:lnTo>
                    <a:lnTo>
                      <a:pt x="259" y="9"/>
                    </a:lnTo>
                    <a:lnTo>
                      <a:pt x="253" y="11"/>
                    </a:lnTo>
                    <a:lnTo>
                      <a:pt x="248" y="12"/>
                    </a:lnTo>
                    <a:lnTo>
                      <a:pt x="242" y="12"/>
                    </a:lnTo>
                    <a:lnTo>
                      <a:pt x="237" y="12"/>
                    </a:lnTo>
                    <a:lnTo>
                      <a:pt x="230" y="14"/>
                    </a:lnTo>
                    <a:lnTo>
                      <a:pt x="226" y="14"/>
                    </a:lnTo>
                    <a:lnTo>
                      <a:pt x="219" y="15"/>
                    </a:lnTo>
                    <a:lnTo>
                      <a:pt x="215" y="17"/>
                    </a:lnTo>
                    <a:lnTo>
                      <a:pt x="208" y="17"/>
                    </a:lnTo>
                    <a:lnTo>
                      <a:pt x="204" y="19"/>
                    </a:lnTo>
                    <a:lnTo>
                      <a:pt x="197" y="19"/>
                    </a:lnTo>
                    <a:lnTo>
                      <a:pt x="193" y="20"/>
                    </a:lnTo>
                    <a:lnTo>
                      <a:pt x="186" y="22"/>
                    </a:lnTo>
                    <a:lnTo>
                      <a:pt x="181" y="23"/>
                    </a:lnTo>
                    <a:lnTo>
                      <a:pt x="177" y="23"/>
                    </a:lnTo>
                    <a:lnTo>
                      <a:pt x="170" y="26"/>
                    </a:lnTo>
                    <a:lnTo>
                      <a:pt x="166" y="26"/>
                    </a:lnTo>
                    <a:lnTo>
                      <a:pt x="161" y="30"/>
                    </a:lnTo>
                    <a:lnTo>
                      <a:pt x="155" y="30"/>
                    </a:lnTo>
                    <a:lnTo>
                      <a:pt x="150" y="31"/>
                    </a:lnTo>
                    <a:lnTo>
                      <a:pt x="145" y="33"/>
                    </a:lnTo>
                    <a:lnTo>
                      <a:pt x="140" y="34"/>
                    </a:lnTo>
                    <a:lnTo>
                      <a:pt x="134" y="36"/>
                    </a:lnTo>
                    <a:lnTo>
                      <a:pt x="129" y="36"/>
                    </a:lnTo>
                    <a:lnTo>
                      <a:pt x="124" y="39"/>
                    </a:lnTo>
                    <a:lnTo>
                      <a:pt x="120" y="41"/>
                    </a:lnTo>
                    <a:lnTo>
                      <a:pt x="115" y="41"/>
                    </a:lnTo>
                    <a:lnTo>
                      <a:pt x="112" y="42"/>
                    </a:lnTo>
                    <a:lnTo>
                      <a:pt x="107" y="44"/>
                    </a:lnTo>
                    <a:lnTo>
                      <a:pt x="102" y="47"/>
                    </a:lnTo>
                    <a:lnTo>
                      <a:pt x="98" y="49"/>
                    </a:lnTo>
                    <a:lnTo>
                      <a:pt x="93" y="50"/>
                    </a:lnTo>
                    <a:lnTo>
                      <a:pt x="88" y="53"/>
                    </a:lnTo>
                    <a:lnTo>
                      <a:pt x="83" y="55"/>
                    </a:lnTo>
                    <a:lnTo>
                      <a:pt x="77" y="58"/>
                    </a:lnTo>
                    <a:lnTo>
                      <a:pt x="71" y="60"/>
                    </a:lnTo>
                    <a:lnTo>
                      <a:pt x="64" y="63"/>
                    </a:lnTo>
                    <a:lnTo>
                      <a:pt x="58" y="66"/>
                    </a:lnTo>
                    <a:lnTo>
                      <a:pt x="53" y="69"/>
                    </a:lnTo>
                    <a:lnTo>
                      <a:pt x="49" y="71"/>
                    </a:lnTo>
                    <a:lnTo>
                      <a:pt x="44" y="74"/>
                    </a:lnTo>
                    <a:lnTo>
                      <a:pt x="39" y="77"/>
                    </a:lnTo>
                    <a:lnTo>
                      <a:pt x="33" y="82"/>
                    </a:lnTo>
                    <a:lnTo>
                      <a:pt x="25" y="88"/>
                    </a:lnTo>
                    <a:lnTo>
                      <a:pt x="20" y="93"/>
                    </a:lnTo>
                    <a:lnTo>
                      <a:pt x="15" y="99"/>
                    </a:lnTo>
                    <a:lnTo>
                      <a:pt x="11" y="104"/>
                    </a:lnTo>
                    <a:lnTo>
                      <a:pt x="7" y="109"/>
                    </a:lnTo>
                    <a:lnTo>
                      <a:pt x="6" y="113"/>
                    </a:lnTo>
                    <a:lnTo>
                      <a:pt x="4" y="118"/>
                    </a:lnTo>
                    <a:lnTo>
                      <a:pt x="1" y="121"/>
                    </a:lnTo>
                    <a:lnTo>
                      <a:pt x="1" y="126"/>
                    </a:lnTo>
                    <a:lnTo>
                      <a:pt x="1" y="129"/>
                    </a:lnTo>
                    <a:lnTo>
                      <a:pt x="1" y="134"/>
                    </a:lnTo>
                    <a:lnTo>
                      <a:pt x="0" y="137"/>
                    </a:lnTo>
                    <a:lnTo>
                      <a:pt x="1" y="142"/>
                    </a:lnTo>
                    <a:lnTo>
                      <a:pt x="1" y="147"/>
                    </a:lnTo>
                    <a:lnTo>
                      <a:pt x="4" y="151"/>
                    </a:lnTo>
                    <a:lnTo>
                      <a:pt x="6" y="156"/>
                    </a:lnTo>
                    <a:lnTo>
                      <a:pt x="9" y="161"/>
                    </a:lnTo>
                    <a:lnTo>
                      <a:pt x="14" y="166"/>
                    </a:lnTo>
                    <a:lnTo>
                      <a:pt x="19" y="172"/>
                    </a:lnTo>
                    <a:lnTo>
                      <a:pt x="23" y="178"/>
                    </a:lnTo>
                    <a:lnTo>
                      <a:pt x="31" y="185"/>
                    </a:lnTo>
                    <a:lnTo>
                      <a:pt x="34" y="188"/>
                    </a:lnTo>
                    <a:lnTo>
                      <a:pt x="37" y="191"/>
                    </a:lnTo>
                    <a:lnTo>
                      <a:pt x="42" y="194"/>
                    </a:lnTo>
                    <a:lnTo>
                      <a:pt x="45" y="197"/>
                    </a:lnTo>
                    <a:lnTo>
                      <a:pt x="50" y="200"/>
                    </a:lnTo>
                    <a:lnTo>
                      <a:pt x="55" y="204"/>
                    </a:lnTo>
                    <a:lnTo>
                      <a:pt x="60" y="205"/>
                    </a:lnTo>
                    <a:lnTo>
                      <a:pt x="64" y="210"/>
                    </a:lnTo>
                    <a:lnTo>
                      <a:pt x="69" y="213"/>
                    </a:lnTo>
                    <a:lnTo>
                      <a:pt x="75" y="216"/>
                    </a:lnTo>
                    <a:lnTo>
                      <a:pt x="80" y="219"/>
                    </a:lnTo>
                    <a:lnTo>
                      <a:pt x="88" y="223"/>
                    </a:lnTo>
                    <a:lnTo>
                      <a:pt x="93" y="226"/>
                    </a:lnTo>
                    <a:lnTo>
                      <a:pt x="99" y="229"/>
                    </a:lnTo>
                    <a:lnTo>
                      <a:pt x="107" y="232"/>
                    </a:lnTo>
                    <a:lnTo>
                      <a:pt x="113" y="235"/>
                    </a:lnTo>
                    <a:lnTo>
                      <a:pt x="120" y="237"/>
                    </a:lnTo>
                    <a:lnTo>
                      <a:pt x="128" y="240"/>
                    </a:lnTo>
                    <a:lnTo>
                      <a:pt x="136" y="243"/>
                    </a:lnTo>
                    <a:lnTo>
                      <a:pt x="145" y="246"/>
                    </a:lnTo>
                    <a:lnTo>
                      <a:pt x="153" y="248"/>
                    </a:lnTo>
                    <a:lnTo>
                      <a:pt x="161" y="251"/>
                    </a:lnTo>
                    <a:lnTo>
                      <a:pt x="169" y="254"/>
                    </a:lnTo>
                    <a:lnTo>
                      <a:pt x="178" y="257"/>
                    </a:lnTo>
                    <a:lnTo>
                      <a:pt x="188" y="259"/>
                    </a:lnTo>
                    <a:lnTo>
                      <a:pt x="197" y="262"/>
                    </a:lnTo>
                    <a:lnTo>
                      <a:pt x="207" y="264"/>
                    </a:lnTo>
                    <a:lnTo>
                      <a:pt x="218" y="267"/>
                    </a:lnTo>
                    <a:lnTo>
                      <a:pt x="227" y="268"/>
                    </a:lnTo>
                    <a:lnTo>
                      <a:pt x="238" y="272"/>
                    </a:lnTo>
                    <a:lnTo>
                      <a:pt x="249" y="273"/>
                    </a:lnTo>
                    <a:lnTo>
                      <a:pt x="262" y="276"/>
                    </a:lnTo>
                    <a:lnTo>
                      <a:pt x="272" y="278"/>
                    </a:lnTo>
                    <a:lnTo>
                      <a:pt x="284" y="280"/>
                    </a:lnTo>
                    <a:lnTo>
                      <a:pt x="297" y="281"/>
                    </a:lnTo>
                    <a:lnTo>
                      <a:pt x="310" y="283"/>
                    </a:lnTo>
                    <a:lnTo>
                      <a:pt x="322" y="283"/>
                    </a:lnTo>
                    <a:lnTo>
                      <a:pt x="335" y="284"/>
                    </a:lnTo>
                    <a:lnTo>
                      <a:pt x="349" y="286"/>
                    </a:lnTo>
                    <a:lnTo>
                      <a:pt x="363" y="287"/>
                    </a:lnTo>
                    <a:lnTo>
                      <a:pt x="378" y="287"/>
                    </a:lnTo>
                    <a:lnTo>
                      <a:pt x="390" y="289"/>
                    </a:lnTo>
                    <a:lnTo>
                      <a:pt x="406" y="289"/>
                    </a:lnTo>
                    <a:lnTo>
                      <a:pt x="420" y="291"/>
                    </a:lnTo>
                    <a:lnTo>
                      <a:pt x="420" y="29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rot="17662200">
                <a:off x="5042160" y="1870920"/>
                <a:ext cx="281160" cy="100800"/>
              </a:xfrm>
              <a:custGeom>
                <a:avLst/>
                <a:gdLst/>
                <a:ahLst/>
                <a:rect l="l" t="t" r="r" b="b"/>
                <a:pathLst>
                  <a:path w="759" h="226">
                    <a:moveTo>
                      <a:pt x="383" y="226"/>
                    </a:moveTo>
                    <a:lnTo>
                      <a:pt x="389" y="224"/>
                    </a:lnTo>
                    <a:lnTo>
                      <a:pt x="395" y="224"/>
                    </a:lnTo>
                    <a:lnTo>
                      <a:pt x="402" y="224"/>
                    </a:lnTo>
                    <a:lnTo>
                      <a:pt x="408" y="224"/>
                    </a:lnTo>
                    <a:lnTo>
                      <a:pt x="413" y="224"/>
                    </a:lnTo>
                    <a:lnTo>
                      <a:pt x="419" y="224"/>
                    </a:lnTo>
                    <a:lnTo>
                      <a:pt x="425" y="224"/>
                    </a:lnTo>
                    <a:lnTo>
                      <a:pt x="433" y="224"/>
                    </a:lnTo>
                    <a:lnTo>
                      <a:pt x="438" y="223"/>
                    </a:lnTo>
                    <a:lnTo>
                      <a:pt x="444" y="223"/>
                    </a:lnTo>
                    <a:lnTo>
                      <a:pt x="451" y="221"/>
                    </a:lnTo>
                    <a:lnTo>
                      <a:pt x="457" y="221"/>
                    </a:lnTo>
                    <a:lnTo>
                      <a:pt x="462" y="221"/>
                    </a:lnTo>
                    <a:lnTo>
                      <a:pt x="468" y="221"/>
                    </a:lnTo>
                    <a:lnTo>
                      <a:pt x="474" y="219"/>
                    </a:lnTo>
                    <a:lnTo>
                      <a:pt x="481" y="219"/>
                    </a:lnTo>
                    <a:lnTo>
                      <a:pt x="487" y="219"/>
                    </a:lnTo>
                    <a:lnTo>
                      <a:pt x="492" y="218"/>
                    </a:lnTo>
                    <a:lnTo>
                      <a:pt x="496" y="218"/>
                    </a:lnTo>
                    <a:lnTo>
                      <a:pt x="503" y="216"/>
                    </a:lnTo>
                    <a:lnTo>
                      <a:pt x="509" y="216"/>
                    </a:lnTo>
                    <a:lnTo>
                      <a:pt x="514" y="215"/>
                    </a:lnTo>
                    <a:lnTo>
                      <a:pt x="520" y="215"/>
                    </a:lnTo>
                    <a:lnTo>
                      <a:pt x="526" y="215"/>
                    </a:lnTo>
                    <a:lnTo>
                      <a:pt x="530" y="213"/>
                    </a:lnTo>
                    <a:lnTo>
                      <a:pt x="536" y="213"/>
                    </a:lnTo>
                    <a:lnTo>
                      <a:pt x="541" y="212"/>
                    </a:lnTo>
                    <a:lnTo>
                      <a:pt x="547" y="212"/>
                    </a:lnTo>
                    <a:lnTo>
                      <a:pt x="552" y="210"/>
                    </a:lnTo>
                    <a:lnTo>
                      <a:pt x="558" y="210"/>
                    </a:lnTo>
                    <a:lnTo>
                      <a:pt x="563" y="208"/>
                    </a:lnTo>
                    <a:lnTo>
                      <a:pt x="568" y="208"/>
                    </a:lnTo>
                    <a:lnTo>
                      <a:pt x="572" y="207"/>
                    </a:lnTo>
                    <a:lnTo>
                      <a:pt x="577" y="207"/>
                    </a:lnTo>
                    <a:lnTo>
                      <a:pt x="582" y="205"/>
                    </a:lnTo>
                    <a:lnTo>
                      <a:pt x="587" y="204"/>
                    </a:lnTo>
                    <a:lnTo>
                      <a:pt x="591" y="202"/>
                    </a:lnTo>
                    <a:lnTo>
                      <a:pt x="596" y="202"/>
                    </a:lnTo>
                    <a:lnTo>
                      <a:pt x="601" y="200"/>
                    </a:lnTo>
                    <a:lnTo>
                      <a:pt x="606" y="200"/>
                    </a:lnTo>
                    <a:lnTo>
                      <a:pt x="610" y="199"/>
                    </a:lnTo>
                    <a:lnTo>
                      <a:pt x="615" y="197"/>
                    </a:lnTo>
                    <a:lnTo>
                      <a:pt x="618" y="196"/>
                    </a:lnTo>
                    <a:lnTo>
                      <a:pt x="623" y="196"/>
                    </a:lnTo>
                    <a:lnTo>
                      <a:pt x="628" y="194"/>
                    </a:lnTo>
                    <a:lnTo>
                      <a:pt x="632" y="193"/>
                    </a:lnTo>
                    <a:lnTo>
                      <a:pt x="636" y="193"/>
                    </a:lnTo>
                    <a:lnTo>
                      <a:pt x="640" y="191"/>
                    </a:lnTo>
                    <a:lnTo>
                      <a:pt x="648" y="188"/>
                    </a:lnTo>
                    <a:lnTo>
                      <a:pt x="656" y="186"/>
                    </a:lnTo>
                    <a:lnTo>
                      <a:pt x="663" y="183"/>
                    </a:lnTo>
                    <a:lnTo>
                      <a:pt x="670" y="181"/>
                    </a:lnTo>
                    <a:lnTo>
                      <a:pt x="677" y="178"/>
                    </a:lnTo>
                    <a:lnTo>
                      <a:pt x="683" y="177"/>
                    </a:lnTo>
                    <a:lnTo>
                      <a:pt x="689" y="174"/>
                    </a:lnTo>
                    <a:lnTo>
                      <a:pt x="697" y="172"/>
                    </a:lnTo>
                    <a:lnTo>
                      <a:pt x="702" y="169"/>
                    </a:lnTo>
                    <a:lnTo>
                      <a:pt x="707" y="167"/>
                    </a:lnTo>
                    <a:lnTo>
                      <a:pt x="712" y="164"/>
                    </a:lnTo>
                    <a:lnTo>
                      <a:pt x="716" y="161"/>
                    </a:lnTo>
                    <a:lnTo>
                      <a:pt x="724" y="156"/>
                    </a:lnTo>
                    <a:lnTo>
                      <a:pt x="732" y="151"/>
                    </a:lnTo>
                    <a:lnTo>
                      <a:pt x="737" y="147"/>
                    </a:lnTo>
                    <a:lnTo>
                      <a:pt x="743" y="142"/>
                    </a:lnTo>
                    <a:lnTo>
                      <a:pt x="746" y="139"/>
                    </a:lnTo>
                    <a:lnTo>
                      <a:pt x="751" y="134"/>
                    </a:lnTo>
                    <a:lnTo>
                      <a:pt x="754" y="129"/>
                    </a:lnTo>
                    <a:lnTo>
                      <a:pt x="756" y="126"/>
                    </a:lnTo>
                    <a:lnTo>
                      <a:pt x="756" y="121"/>
                    </a:lnTo>
                    <a:lnTo>
                      <a:pt x="757" y="118"/>
                    </a:lnTo>
                    <a:lnTo>
                      <a:pt x="759" y="112"/>
                    </a:lnTo>
                    <a:lnTo>
                      <a:pt x="759" y="104"/>
                    </a:lnTo>
                    <a:lnTo>
                      <a:pt x="756" y="96"/>
                    </a:lnTo>
                    <a:lnTo>
                      <a:pt x="753" y="90"/>
                    </a:lnTo>
                    <a:lnTo>
                      <a:pt x="748" y="85"/>
                    </a:lnTo>
                    <a:lnTo>
                      <a:pt x="745" y="80"/>
                    </a:lnTo>
                    <a:lnTo>
                      <a:pt x="740" y="77"/>
                    </a:lnTo>
                    <a:lnTo>
                      <a:pt x="737" y="72"/>
                    </a:lnTo>
                    <a:lnTo>
                      <a:pt x="731" y="68"/>
                    </a:lnTo>
                    <a:lnTo>
                      <a:pt x="724" y="64"/>
                    </a:lnTo>
                    <a:lnTo>
                      <a:pt x="716" y="60"/>
                    </a:lnTo>
                    <a:lnTo>
                      <a:pt x="710" y="55"/>
                    </a:lnTo>
                    <a:lnTo>
                      <a:pt x="705" y="53"/>
                    </a:lnTo>
                    <a:lnTo>
                      <a:pt x="700" y="50"/>
                    </a:lnTo>
                    <a:lnTo>
                      <a:pt x="696" y="49"/>
                    </a:lnTo>
                    <a:lnTo>
                      <a:pt x="691" y="47"/>
                    </a:lnTo>
                    <a:lnTo>
                      <a:pt x="686" y="45"/>
                    </a:lnTo>
                    <a:lnTo>
                      <a:pt x="682" y="44"/>
                    </a:lnTo>
                    <a:lnTo>
                      <a:pt x="677" y="42"/>
                    </a:lnTo>
                    <a:lnTo>
                      <a:pt x="670" y="41"/>
                    </a:lnTo>
                    <a:lnTo>
                      <a:pt x="664" y="38"/>
                    </a:lnTo>
                    <a:lnTo>
                      <a:pt x="658" y="36"/>
                    </a:lnTo>
                    <a:lnTo>
                      <a:pt x="650" y="33"/>
                    </a:lnTo>
                    <a:lnTo>
                      <a:pt x="644" y="31"/>
                    </a:lnTo>
                    <a:lnTo>
                      <a:pt x="637" y="30"/>
                    </a:lnTo>
                    <a:lnTo>
                      <a:pt x="629" y="28"/>
                    </a:lnTo>
                    <a:lnTo>
                      <a:pt x="621" y="27"/>
                    </a:lnTo>
                    <a:lnTo>
                      <a:pt x="615" y="25"/>
                    </a:lnTo>
                    <a:lnTo>
                      <a:pt x="610" y="23"/>
                    </a:lnTo>
                    <a:lnTo>
                      <a:pt x="606" y="22"/>
                    </a:lnTo>
                    <a:lnTo>
                      <a:pt x="601" y="20"/>
                    </a:lnTo>
                    <a:lnTo>
                      <a:pt x="598" y="20"/>
                    </a:lnTo>
                    <a:lnTo>
                      <a:pt x="593" y="19"/>
                    </a:lnTo>
                    <a:lnTo>
                      <a:pt x="590" y="19"/>
                    </a:lnTo>
                    <a:lnTo>
                      <a:pt x="585" y="17"/>
                    </a:lnTo>
                    <a:lnTo>
                      <a:pt x="580" y="17"/>
                    </a:lnTo>
                    <a:lnTo>
                      <a:pt x="576" y="15"/>
                    </a:lnTo>
                    <a:lnTo>
                      <a:pt x="571" y="15"/>
                    </a:lnTo>
                    <a:lnTo>
                      <a:pt x="566" y="14"/>
                    </a:lnTo>
                    <a:lnTo>
                      <a:pt x="561" y="14"/>
                    </a:lnTo>
                    <a:lnTo>
                      <a:pt x="558" y="12"/>
                    </a:lnTo>
                    <a:lnTo>
                      <a:pt x="553" y="12"/>
                    </a:lnTo>
                    <a:lnTo>
                      <a:pt x="549" y="11"/>
                    </a:lnTo>
                    <a:lnTo>
                      <a:pt x="544" y="11"/>
                    </a:lnTo>
                    <a:lnTo>
                      <a:pt x="539" y="11"/>
                    </a:lnTo>
                    <a:lnTo>
                      <a:pt x="534" y="9"/>
                    </a:lnTo>
                    <a:lnTo>
                      <a:pt x="528" y="9"/>
                    </a:lnTo>
                    <a:lnTo>
                      <a:pt x="523" y="9"/>
                    </a:lnTo>
                    <a:lnTo>
                      <a:pt x="519" y="8"/>
                    </a:lnTo>
                    <a:lnTo>
                      <a:pt x="514" y="6"/>
                    </a:lnTo>
                    <a:lnTo>
                      <a:pt x="509" y="6"/>
                    </a:lnTo>
                    <a:lnTo>
                      <a:pt x="504" y="6"/>
                    </a:lnTo>
                    <a:lnTo>
                      <a:pt x="498" y="6"/>
                    </a:lnTo>
                    <a:lnTo>
                      <a:pt x="493" y="4"/>
                    </a:lnTo>
                    <a:lnTo>
                      <a:pt x="489" y="4"/>
                    </a:lnTo>
                    <a:lnTo>
                      <a:pt x="484" y="4"/>
                    </a:lnTo>
                    <a:lnTo>
                      <a:pt x="477" y="3"/>
                    </a:lnTo>
                    <a:lnTo>
                      <a:pt x="473" y="3"/>
                    </a:lnTo>
                    <a:lnTo>
                      <a:pt x="468" y="3"/>
                    </a:lnTo>
                    <a:lnTo>
                      <a:pt x="463" y="3"/>
                    </a:lnTo>
                    <a:lnTo>
                      <a:pt x="457" y="1"/>
                    </a:lnTo>
                    <a:lnTo>
                      <a:pt x="451" y="1"/>
                    </a:lnTo>
                    <a:lnTo>
                      <a:pt x="446" y="0"/>
                    </a:lnTo>
                    <a:lnTo>
                      <a:pt x="441" y="0"/>
                    </a:lnTo>
                    <a:lnTo>
                      <a:pt x="435" y="0"/>
                    </a:lnTo>
                    <a:lnTo>
                      <a:pt x="430" y="0"/>
                    </a:lnTo>
                    <a:lnTo>
                      <a:pt x="424" y="0"/>
                    </a:lnTo>
                    <a:lnTo>
                      <a:pt x="419" y="0"/>
                    </a:lnTo>
                    <a:lnTo>
                      <a:pt x="413" y="0"/>
                    </a:lnTo>
                    <a:lnTo>
                      <a:pt x="408" y="0"/>
                    </a:lnTo>
                    <a:lnTo>
                      <a:pt x="402" y="0"/>
                    </a:lnTo>
                    <a:lnTo>
                      <a:pt x="397" y="0"/>
                    </a:lnTo>
                    <a:lnTo>
                      <a:pt x="390" y="0"/>
                    </a:lnTo>
                    <a:lnTo>
                      <a:pt x="386" y="0"/>
                    </a:lnTo>
                    <a:lnTo>
                      <a:pt x="379" y="0"/>
                    </a:lnTo>
                    <a:lnTo>
                      <a:pt x="375" y="0"/>
                    </a:lnTo>
                    <a:lnTo>
                      <a:pt x="368" y="0"/>
                    </a:lnTo>
                    <a:lnTo>
                      <a:pt x="364" y="0"/>
                    </a:lnTo>
                    <a:lnTo>
                      <a:pt x="357" y="0"/>
                    </a:lnTo>
                    <a:lnTo>
                      <a:pt x="352" y="0"/>
                    </a:lnTo>
                    <a:lnTo>
                      <a:pt x="348" y="0"/>
                    </a:lnTo>
                    <a:lnTo>
                      <a:pt x="341" y="0"/>
                    </a:lnTo>
                    <a:lnTo>
                      <a:pt x="337" y="0"/>
                    </a:lnTo>
                    <a:lnTo>
                      <a:pt x="333" y="0"/>
                    </a:lnTo>
                    <a:lnTo>
                      <a:pt x="327" y="0"/>
                    </a:lnTo>
                    <a:lnTo>
                      <a:pt x="322" y="0"/>
                    </a:lnTo>
                    <a:lnTo>
                      <a:pt x="318" y="0"/>
                    </a:lnTo>
                    <a:lnTo>
                      <a:pt x="313" y="0"/>
                    </a:lnTo>
                    <a:lnTo>
                      <a:pt x="308" y="0"/>
                    </a:lnTo>
                    <a:lnTo>
                      <a:pt x="303" y="1"/>
                    </a:lnTo>
                    <a:lnTo>
                      <a:pt x="299" y="1"/>
                    </a:lnTo>
                    <a:lnTo>
                      <a:pt x="296" y="1"/>
                    </a:lnTo>
                    <a:lnTo>
                      <a:pt x="291" y="1"/>
                    </a:lnTo>
                    <a:lnTo>
                      <a:pt x="286" y="1"/>
                    </a:lnTo>
                    <a:lnTo>
                      <a:pt x="281" y="1"/>
                    </a:lnTo>
                    <a:lnTo>
                      <a:pt x="277" y="3"/>
                    </a:lnTo>
                    <a:lnTo>
                      <a:pt x="272" y="3"/>
                    </a:lnTo>
                    <a:lnTo>
                      <a:pt x="267" y="3"/>
                    </a:lnTo>
                    <a:lnTo>
                      <a:pt x="262" y="3"/>
                    </a:lnTo>
                    <a:lnTo>
                      <a:pt x="259" y="4"/>
                    </a:lnTo>
                    <a:lnTo>
                      <a:pt x="254" y="4"/>
                    </a:lnTo>
                    <a:lnTo>
                      <a:pt x="250" y="4"/>
                    </a:lnTo>
                    <a:lnTo>
                      <a:pt x="246" y="4"/>
                    </a:lnTo>
                    <a:lnTo>
                      <a:pt x="242" y="6"/>
                    </a:lnTo>
                    <a:lnTo>
                      <a:pt x="234" y="6"/>
                    </a:lnTo>
                    <a:lnTo>
                      <a:pt x="226" y="8"/>
                    </a:lnTo>
                    <a:lnTo>
                      <a:pt x="218" y="8"/>
                    </a:lnTo>
                    <a:lnTo>
                      <a:pt x="210" y="9"/>
                    </a:lnTo>
                    <a:lnTo>
                      <a:pt x="201" y="11"/>
                    </a:lnTo>
                    <a:lnTo>
                      <a:pt x="194" y="11"/>
                    </a:lnTo>
                    <a:lnTo>
                      <a:pt x="186" y="12"/>
                    </a:lnTo>
                    <a:lnTo>
                      <a:pt x="180" y="14"/>
                    </a:lnTo>
                    <a:lnTo>
                      <a:pt x="172" y="14"/>
                    </a:lnTo>
                    <a:lnTo>
                      <a:pt x="166" y="15"/>
                    </a:lnTo>
                    <a:lnTo>
                      <a:pt x="158" y="17"/>
                    </a:lnTo>
                    <a:lnTo>
                      <a:pt x="152" y="19"/>
                    </a:lnTo>
                    <a:lnTo>
                      <a:pt x="145" y="20"/>
                    </a:lnTo>
                    <a:lnTo>
                      <a:pt x="139" y="22"/>
                    </a:lnTo>
                    <a:lnTo>
                      <a:pt x="133" y="23"/>
                    </a:lnTo>
                    <a:lnTo>
                      <a:pt x="126" y="25"/>
                    </a:lnTo>
                    <a:lnTo>
                      <a:pt x="120" y="27"/>
                    </a:lnTo>
                    <a:lnTo>
                      <a:pt x="115" y="30"/>
                    </a:lnTo>
                    <a:lnTo>
                      <a:pt x="107" y="31"/>
                    </a:lnTo>
                    <a:lnTo>
                      <a:pt x="101" y="33"/>
                    </a:lnTo>
                    <a:lnTo>
                      <a:pt x="95" y="34"/>
                    </a:lnTo>
                    <a:lnTo>
                      <a:pt x="88" y="36"/>
                    </a:lnTo>
                    <a:lnTo>
                      <a:pt x="80" y="39"/>
                    </a:lnTo>
                    <a:lnTo>
                      <a:pt x="76" y="41"/>
                    </a:lnTo>
                    <a:lnTo>
                      <a:pt x="69" y="44"/>
                    </a:lnTo>
                    <a:lnTo>
                      <a:pt x="65" y="45"/>
                    </a:lnTo>
                    <a:lnTo>
                      <a:pt x="58" y="47"/>
                    </a:lnTo>
                    <a:lnTo>
                      <a:pt x="54" y="49"/>
                    </a:lnTo>
                    <a:lnTo>
                      <a:pt x="49" y="52"/>
                    </a:lnTo>
                    <a:lnTo>
                      <a:pt x="44" y="53"/>
                    </a:lnTo>
                    <a:lnTo>
                      <a:pt x="39" y="57"/>
                    </a:lnTo>
                    <a:lnTo>
                      <a:pt x="35" y="58"/>
                    </a:lnTo>
                    <a:lnTo>
                      <a:pt x="30" y="61"/>
                    </a:lnTo>
                    <a:lnTo>
                      <a:pt x="27" y="64"/>
                    </a:lnTo>
                    <a:lnTo>
                      <a:pt x="20" y="69"/>
                    </a:lnTo>
                    <a:lnTo>
                      <a:pt x="14" y="74"/>
                    </a:lnTo>
                    <a:lnTo>
                      <a:pt x="9" y="80"/>
                    </a:lnTo>
                    <a:lnTo>
                      <a:pt x="4" y="87"/>
                    </a:lnTo>
                    <a:lnTo>
                      <a:pt x="1" y="91"/>
                    </a:lnTo>
                    <a:lnTo>
                      <a:pt x="0" y="98"/>
                    </a:lnTo>
                    <a:lnTo>
                      <a:pt x="0" y="106"/>
                    </a:lnTo>
                    <a:lnTo>
                      <a:pt x="0" y="112"/>
                    </a:lnTo>
                    <a:lnTo>
                      <a:pt x="1" y="118"/>
                    </a:lnTo>
                    <a:lnTo>
                      <a:pt x="6" y="126"/>
                    </a:lnTo>
                    <a:lnTo>
                      <a:pt x="8" y="129"/>
                    </a:lnTo>
                    <a:lnTo>
                      <a:pt x="12" y="134"/>
                    </a:lnTo>
                    <a:lnTo>
                      <a:pt x="17" y="139"/>
                    </a:lnTo>
                    <a:lnTo>
                      <a:pt x="22" y="144"/>
                    </a:lnTo>
                    <a:lnTo>
                      <a:pt x="27" y="148"/>
                    </a:lnTo>
                    <a:lnTo>
                      <a:pt x="33" y="153"/>
                    </a:lnTo>
                    <a:lnTo>
                      <a:pt x="41" y="158"/>
                    </a:lnTo>
                    <a:lnTo>
                      <a:pt x="49" y="163"/>
                    </a:lnTo>
                    <a:lnTo>
                      <a:pt x="54" y="164"/>
                    </a:lnTo>
                    <a:lnTo>
                      <a:pt x="57" y="167"/>
                    </a:lnTo>
                    <a:lnTo>
                      <a:pt x="61" y="169"/>
                    </a:lnTo>
                    <a:lnTo>
                      <a:pt x="68" y="172"/>
                    </a:lnTo>
                    <a:lnTo>
                      <a:pt x="71" y="174"/>
                    </a:lnTo>
                    <a:lnTo>
                      <a:pt x="77" y="175"/>
                    </a:lnTo>
                    <a:lnTo>
                      <a:pt x="82" y="178"/>
                    </a:lnTo>
                    <a:lnTo>
                      <a:pt x="88" y="181"/>
                    </a:lnTo>
                    <a:lnTo>
                      <a:pt x="93" y="183"/>
                    </a:lnTo>
                    <a:lnTo>
                      <a:pt x="99" y="185"/>
                    </a:lnTo>
                    <a:lnTo>
                      <a:pt x="104" y="186"/>
                    </a:lnTo>
                    <a:lnTo>
                      <a:pt x="112" y="189"/>
                    </a:lnTo>
                    <a:lnTo>
                      <a:pt x="118" y="191"/>
                    </a:lnTo>
                    <a:lnTo>
                      <a:pt x="125" y="193"/>
                    </a:lnTo>
                    <a:lnTo>
                      <a:pt x="133" y="196"/>
                    </a:lnTo>
                    <a:lnTo>
                      <a:pt x="141" y="197"/>
                    </a:lnTo>
                    <a:lnTo>
                      <a:pt x="147" y="199"/>
                    </a:lnTo>
                    <a:lnTo>
                      <a:pt x="155" y="200"/>
                    </a:lnTo>
                    <a:lnTo>
                      <a:pt x="163" y="202"/>
                    </a:lnTo>
                    <a:lnTo>
                      <a:pt x="171" y="205"/>
                    </a:lnTo>
                    <a:lnTo>
                      <a:pt x="178" y="207"/>
                    </a:lnTo>
                    <a:lnTo>
                      <a:pt x="186" y="208"/>
                    </a:lnTo>
                    <a:lnTo>
                      <a:pt x="196" y="210"/>
                    </a:lnTo>
                    <a:lnTo>
                      <a:pt x="205" y="213"/>
                    </a:lnTo>
                    <a:lnTo>
                      <a:pt x="215" y="213"/>
                    </a:lnTo>
                    <a:lnTo>
                      <a:pt x="223" y="215"/>
                    </a:lnTo>
                    <a:lnTo>
                      <a:pt x="234" y="215"/>
                    </a:lnTo>
                    <a:lnTo>
                      <a:pt x="243" y="216"/>
                    </a:lnTo>
                    <a:lnTo>
                      <a:pt x="253" y="218"/>
                    </a:lnTo>
                    <a:lnTo>
                      <a:pt x="264" y="219"/>
                    </a:lnTo>
                    <a:lnTo>
                      <a:pt x="273" y="219"/>
                    </a:lnTo>
                    <a:lnTo>
                      <a:pt x="286" y="221"/>
                    </a:lnTo>
                    <a:lnTo>
                      <a:pt x="296" y="221"/>
                    </a:lnTo>
                    <a:lnTo>
                      <a:pt x="308" y="223"/>
                    </a:lnTo>
                    <a:lnTo>
                      <a:pt x="319" y="223"/>
                    </a:lnTo>
                    <a:lnTo>
                      <a:pt x="332" y="224"/>
                    </a:lnTo>
                    <a:lnTo>
                      <a:pt x="343" y="224"/>
                    </a:lnTo>
                    <a:lnTo>
                      <a:pt x="356" y="224"/>
                    </a:lnTo>
                    <a:lnTo>
                      <a:pt x="368" y="224"/>
                    </a:lnTo>
                    <a:lnTo>
                      <a:pt x="383" y="226"/>
                    </a:lnTo>
                    <a:lnTo>
                      <a:pt x="383"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rot="17662200">
                <a:off x="5060880" y="1889280"/>
                <a:ext cx="239760" cy="64080"/>
              </a:xfrm>
              <a:custGeom>
                <a:avLst/>
                <a:gdLst/>
                <a:ahLst/>
                <a:rect l="l" t="t" r="r" b="b"/>
                <a:pathLst>
                  <a:path w="649" h="144">
                    <a:moveTo>
                      <a:pt x="320" y="144"/>
                    </a:moveTo>
                    <a:lnTo>
                      <a:pt x="324" y="144"/>
                    </a:lnTo>
                    <a:lnTo>
                      <a:pt x="329" y="144"/>
                    </a:lnTo>
                    <a:lnTo>
                      <a:pt x="334" y="144"/>
                    </a:lnTo>
                    <a:lnTo>
                      <a:pt x="339" y="144"/>
                    </a:lnTo>
                    <a:lnTo>
                      <a:pt x="343" y="142"/>
                    </a:lnTo>
                    <a:lnTo>
                      <a:pt x="348" y="142"/>
                    </a:lnTo>
                    <a:lnTo>
                      <a:pt x="353" y="142"/>
                    </a:lnTo>
                    <a:lnTo>
                      <a:pt x="358" y="142"/>
                    </a:lnTo>
                    <a:lnTo>
                      <a:pt x="362" y="142"/>
                    </a:lnTo>
                    <a:lnTo>
                      <a:pt x="367" y="142"/>
                    </a:lnTo>
                    <a:lnTo>
                      <a:pt x="372" y="141"/>
                    </a:lnTo>
                    <a:lnTo>
                      <a:pt x="378" y="141"/>
                    </a:lnTo>
                    <a:lnTo>
                      <a:pt x="383" y="141"/>
                    </a:lnTo>
                    <a:lnTo>
                      <a:pt x="388" y="141"/>
                    </a:lnTo>
                    <a:lnTo>
                      <a:pt x="392" y="141"/>
                    </a:lnTo>
                    <a:lnTo>
                      <a:pt x="397" y="141"/>
                    </a:lnTo>
                    <a:lnTo>
                      <a:pt x="402" y="139"/>
                    </a:lnTo>
                    <a:lnTo>
                      <a:pt x="407" y="139"/>
                    </a:lnTo>
                    <a:lnTo>
                      <a:pt x="411" y="138"/>
                    </a:lnTo>
                    <a:lnTo>
                      <a:pt x="416" y="138"/>
                    </a:lnTo>
                    <a:lnTo>
                      <a:pt x="421" y="138"/>
                    </a:lnTo>
                    <a:lnTo>
                      <a:pt x="426" y="138"/>
                    </a:lnTo>
                    <a:lnTo>
                      <a:pt x="430" y="136"/>
                    </a:lnTo>
                    <a:lnTo>
                      <a:pt x="435" y="136"/>
                    </a:lnTo>
                    <a:lnTo>
                      <a:pt x="438" y="136"/>
                    </a:lnTo>
                    <a:lnTo>
                      <a:pt x="443" y="135"/>
                    </a:lnTo>
                    <a:lnTo>
                      <a:pt x="448" y="135"/>
                    </a:lnTo>
                    <a:lnTo>
                      <a:pt x="453" y="135"/>
                    </a:lnTo>
                    <a:lnTo>
                      <a:pt x="457" y="133"/>
                    </a:lnTo>
                    <a:lnTo>
                      <a:pt x="462" y="133"/>
                    </a:lnTo>
                    <a:lnTo>
                      <a:pt x="467" y="133"/>
                    </a:lnTo>
                    <a:lnTo>
                      <a:pt x="471" y="133"/>
                    </a:lnTo>
                    <a:lnTo>
                      <a:pt x="479" y="131"/>
                    </a:lnTo>
                    <a:lnTo>
                      <a:pt x="487" y="130"/>
                    </a:lnTo>
                    <a:lnTo>
                      <a:pt x="495" y="128"/>
                    </a:lnTo>
                    <a:lnTo>
                      <a:pt x="505" y="128"/>
                    </a:lnTo>
                    <a:lnTo>
                      <a:pt x="511" y="125"/>
                    </a:lnTo>
                    <a:lnTo>
                      <a:pt x="519" y="125"/>
                    </a:lnTo>
                    <a:lnTo>
                      <a:pt x="527" y="122"/>
                    </a:lnTo>
                    <a:lnTo>
                      <a:pt x="535" y="122"/>
                    </a:lnTo>
                    <a:lnTo>
                      <a:pt x="541" y="119"/>
                    </a:lnTo>
                    <a:lnTo>
                      <a:pt x="549" y="117"/>
                    </a:lnTo>
                    <a:lnTo>
                      <a:pt x="555" y="116"/>
                    </a:lnTo>
                    <a:lnTo>
                      <a:pt x="562" y="114"/>
                    </a:lnTo>
                    <a:lnTo>
                      <a:pt x="568" y="112"/>
                    </a:lnTo>
                    <a:lnTo>
                      <a:pt x="574" y="111"/>
                    </a:lnTo>
                    <a:lnTo>
                      <a:pt x="581" y="109"/>
                    </a:lnTo>
                    <a:lnTo>
                      <a:pt x="587" y="108"/>
                    </a:lnTo>
                    <a:lnTo>
                      <a:pt x="593" y="105"/>
                    </a:lnTo>
                    <a:lnTo>
                      <a:pt x="601" y="101"/>
                    </a:lnTo>
                    <a:lnTo>
                      <a:pt x="608" y="98"/>
                    </a:lnTo>
                    <a:lnTo>
                      <a:pt x="614" y="97"/>
                    </a:lnTo>
                    <a:lnTo>
                      <a:pt x="619" y="93"/>
                    </a:lnTo>
                    <a:lnTo>
                      <a:pt x="623" y="90"/>
                    </a:lnTo>
                    <a:lnTo>
                      <a:pt x="628" y="89"/>
                    </a:lnTo>
                    <a:lnTo>
                      <a:pt x="633" y="87"/>
                    </a:lnTo>
                    <a:lnTo>
                      <a:pt x="639" y="82"/>
                    </a:lnTo>
                    <a:lnTo>
                      <a:pt x="644" y="78"/>
                    </a:lnTo>
                    <a:lnTo>
                      <a:pt x="647" y="73"/>
                    </a:lnTo>
                    <a:lnTo>
                      <a:pt x="649" y="70"/>
                    </a:lnTo>
                    <a:lnTo>
                      <a:pt x="647" y="65"/>
                    </a:lnTo>
                    <a:lnTo>
                      <a:pt x="644" y="60"/>
                    </a:lnTo>
                    <a:lnTo>
                      <a:pt x="641" y="57"/>
                    </a:lnTo>
                    <a:lnTo>
                      <a:pt x="638" y="56"/>
                    </a:lnTo>
                    <a:lnTo>
                      <a:pt x="633" y="52"/>
                    </a:lnTo>
                    <a:lnTo>
                      <a:pt x="630" y="51"/>
                    </a:lnTo>
                    <a:lnTo>
                      <a:pt x="623" y="48"/>
                    </a:lnTo>
                    <a:lnTo>
                      <a:pt x="617" y="46"/>
                    </a:lnTo>
                    <a:lnTo>
                      <a:pt x="611" y="43"/>
                    </a:lnTo>
                    <a:lnTo>
                      <a:pt x="603" y="40"/>
                    </a:lnTo>
                    <a:lnTo>
                      <a:pt x="598" y="38"/>
                    </a:lnTo>
                    <a:lnTo>
                      <a:pt x="593" y="37"/>
                    </a:lnTo>
                    <a:lnTo>
                      <a:pt x="589" y="35"/>
                    </a:lnTo>
                    <a:lnTo>
                      <a:pt x="585" y="35"/>
                    </a:lnTo>
                    <a:lnTo>
                      <a:pt x="581" y="32"/>
                    </a:lnTo>
                    <a:lnTo>
                      <a:pt x="576" y="32"/>
                    </a:lnTo>
                    <a:lnTo>
                      <a:pt x="570" y="30"/>
                    </a:lnTo>
                    <a:lnTo>
                      <a:pt x="565" y="29"/>
                    </a:lnTo>
                    <a:lnTo>
                      <a:pt x="558" y="27"/>
                    </a:lnTo>
                    <a:lnTo>
                      <a:pt x="552" y="25"/>
                    </a:lnTo>
                    <a:lnTo>
                      <a:pt x="546" y="24"/>
                    </a:lnTo>
                    <a:lnTo>
                      <a:pt x="541" y="22"/>
                    </a:lnTo>
                    <a:lnTo>
                      <a:pt x="535" y="21"/>
                    </a:lnTo>
                    <a:lnTo>
                      <a:pt x="528" y="19"/>
                    </a:lnTo>
                    <a:lnTo>
                      <a:pt x="522" y="18"/>
                    </a:lnTo>
                    <a:lnTo>
                      <a:pt x="516" y="18"/>
                    </a:lnTo>
                    <a:lnTo>
                      <a:pt x="508" y="16"/>
                    </a:lnTo>
                    <a:lnTo>
                      <a:pt x="502" y="14"/>
                    </a:lnTo>
                    <a:lnTo>
                      <a:pt x="494" y="14"/>
                    </a:lnTo>
                    <a:lnTo>
                      <a:pt x="487" y="13"/>
                    </a:lnTo>
                    <a:lnTo>
                      <a:pt x="479" y="11"/>
                    </a:lnTo>
                    <a:lnTo>
                      <a:pt x="471" y="10"/>
                    </a:lnTo>
                    <a:lnTo>
                      <a:pt x="464" y="10"/>
                    </a:lnTo>
                    <a:lnTo>
                      <a:pt x="456" y="10"/>
                    </a:lnTo>
                    <a:lnTo>
                      <a:pt x="451" y="8"/>
                    </a:lnTo>
                    <a:lnTo>
                      <a:pt x="448" y="8"/>
                    </a:lnTo>
                    <a:lnTo>
                      <a:pt x="443" y="6"/>
                    </a:lnTo>
                    <a:lnTo>
                      <a:pt x="438" y="6"/>
                    </a:lnTo>
                    <a:lnTo>
                      <a:pt x="434" y="6"/>
                    </a:lnTo>
                    <a:lnTo>
                      <a:pt x="430" y="5"/>
                    </a:lnTo>
                    <a:lnTo>
                      <a:pt x="426" y="5"/>
                    </a:lnTo>
                    <a:lnTo>
                      <a:pt x="422" y="5"/>
                    </a:lnTo>
                    <a:lnTo>
                      <a:pt x="418" y="3"/>
                    </a:lnTo>
                    <a:lnTo>
                      <a:pt x="413" y="3"/>
                    </a:lnTo>
                    <a:lnTo>
                      <a:pt x="408" y="3"/>
                    </a:lnTo>
                    <a:lnTo>
                      <a:pt x="403" y="3"/>
                    </a:lnTo>
                    <a:lnTo>
                      <a:pt x="399" y="3"/>
                    </a:lnTo>
                    <a:lnTo>
                      <a:pt x="394" y="3"/>
                    </a:lnTo>
                    <a:lnTo>
                      <a:pt x="391" y="3"/>
                    </a:lnTo>
                    <a:lnTo>
                      <a:pt x="386" y="3"/>
                    </a:lnTo>
                    <a:lnTo>
                      <a:pt x="381" y="2"/>
                    </a:lnTo>
                    <a:lnTo>
                      <a:pt x="377" y="2"/>
                    </a:lnTo>
                    <a:lnTo>
                      <a:pt x="372" y="2"/>
                    </a:lnTo>
                    <a:lnTo>
                      <a:pt x="367" y="2"/>
                    </a:lnTo>
                    <a:lnTo>
                      <a:pt x="362" y="0"/>
                    </a:lnTo>
                    <a:lnTo>
                      <a:pt x="358" y="0"/>
                    </a:lnTo>
                    <a:lnTo>
                      <a:pt x="354" y="0"/>
                    </a:lnTo>
                    <a:lnTo>
                      <a:pt x="350" y="0"/>
                    </a:lnTo>
                    <a:lnTo>
                      <a:pt x="343" y="0"/>
                    </a:lnTo>
                    <a:lnTo>
                      <a:pt x="339" y="0"/>
                    </a:lnTo>
                    <a:lnTo>
                      <a:pt x="334" y="0"/>
                    </a:lnTo>
                    <a:lnTo>
                      <a:pt x="329" y="0"/>
                    </a:lnTo>
                    <a:lnTo>
                      <a:pt x="324" y="0"/>
                    </a:lnTo>
                    <a:lnTo>
                      <a:pt x="320" y="0"/>
                    </a:lnTo>
                    <a:lnTo>
                      <a:pt x="315" y="0"/>
                    </a:lnTo>
                    <a:lnTo>
                      <a:pt x="310" y="2"/>
                    </a:lnTo>
                    <a:lnTo>
                      <a:pt x="299" y="2"/>
                    </a:lnTo>
                    <a:lnTo>
                      <a:pt x="288" y="2"/>
                    </a:lnTo>
                    <a:lnTo>
                      <a:pt x="278" y="2"/>
                    </a:lnTo>
                    <a:lnTo>
                      <a:pt x="267" y="2"/>
                    </a:lnTo>
                    <a:lnTo>
                      <a:pt x="258" y="2"/>
                    </a:lnTo>
                    <a:lnTo>
                      <a:pt x="248" y="3"/>
                    </a:lnTo>
                    <a:lnTo>
                      <a:pt x="239" y="3"/>
                    </a:lnTo>
                    <a:lnTo>
                      <a:pt x="231" y="5"/>
                    </a:lnTo>
                    <a:lnTo>
                      <a:pt x="222" y="5"/>
                    </a:lnTo>
                    <a:lnTo>
                      <a:pt x="212" y="5"/>
                    </a:lnTo>
                    <a:lnTo>
                      <a:pt x="203" y="6"/>
                    </a:lnTo>
                    <a:lnTo>
                      <a:pt x="195" y="6"/>
                    </a:lnTo>
                    <a:lnTo>
                      <a:pt x="187" y="8"/>
                    </a:lnTo>
                    <a:lnTo>
                      <a:pt x="179" y="8"/>
                    </a:lnTo>
                    <a:lnTo>
                      <a:pt x="171" y="10"/>
                    </a:lnTo>
                    <a:lnTo>
                      <a:pt x="165" y="10"/>
                    </a:lnTo>
                    <a:lnTo>
                      <a:pt x="157" y="10"/>
                    </a:lnTo>
                    <a:lnTo>
                      <a:pt x="149" y="11"/>
                    </a:lnTo>
                    <a:lnTo>
                      <a:pt x="142" y="11"/>
                    </a:lnTo>
                    <a:lnTo>
                      <a:pt x="136" y="14"/>
                    </a:lnTo>
                    <a:lnTo>
                      <a:pt x="128" y="14"/>
                    </a:lnTo>
                    <a:lnTo>
                      <a:pt x="123" y="16"/>
                    </a:lnTo>
                    <a:lnTo>
                      <a:pt x="117" y="16"/>
                    </a:lnTo>
                    <a:lnTo>
                      <a:pt x="111" y="18"/>
                    </a:lnTo>
                    <a:lnTo>
                      <a:pt x="104" y="19"/>
                    </a:lnTo>
                    <a:lnTo>
                      <a:pt x="98" y="21"/>
                    </a:lnTo>
                    <a:lnTo>
                      <a:pt x="92" y="21"/>
                    </a:lnTo>
                    <a:lnTo>
                      <a:pt x="87" y="22"/>
                    </a:lnTo>
                    <a:lnTo>
                      <a:pt x="82" y="24"/>
                    </a:lnTo>
                    <a:lnTo>
                      <a:pt x="78" y="25"/>
                    </a:lnTo>
                    <a:lnTo>
                      <a:pt x="73" y="25"/>
                    </a:lnTo>
                    <a:lnTo>
                      <a:pt x="70" y="29"/>
                    </a:lnTo>
                    <a:lnTo>
                      <a:pt x="65" y="29"/>
                    </a:lnTo>
                    <a:lnTo>
                      <a:pt x="60" y="30"/>
                    </a:lnTo>
                    <a:lnTo>
                      <a:pt x="55" y="32"/>
                    </a:lnTo>
                    <a:lnTo>
                      <a:pt x="52" y="33"/>
                    </a:lnTo>
                    <a:lnTo>
                      <a:pt x="44" y="35"/>
                    </a:lnTo>
                    <a:lnTo>
                      <a:pt x="38" y="38"/>
                    </a:lnTo>
                    <a:lnTo>
                      <a:pt x="32" y="40"/>
                    </a:lnTo>
                    <a:lnTo>
                      <a:pt x="27" y="43"/>
                    </a:lnTo>
                    <a:lnTo>
                      <a:pt x="21" y="46"/>
                    </a:lnTo>
                    <a:lnTo>
                      <a:pt x="17" y="49"/>
                    </a:lnTo>
                    <a:lnTo>
                      <a:pt x="13" y="51"/>
                    </a:lnTo>
                    <a:lnTo>
                      <a:pt x="10" y="52"/>
                    </a:lnTo>
                    <a:lnTo>
                      <a:pt x="6" y="56"/>
                    </a:lnTo>
                    <a:lnTo>
                      <a:pt x="5" y="57"/>
                    </a:lnTo>
                    <a:lnTo>
                      <a:pt x="2" y="62"/>
                    </a:lnTo>
                    <a:lnTo>
                      <a:pt x="0" y="67"/>
                    </a:lnTo>
                    <a:lnTo>
                      <a:pt x="2" y="71"/>
                    </a:lnTo>
                    <a:lnTo>
                      <a:pt x="8" y="79"/>
                    </a:lnTo>
                    <a:lnTo>
                      <a:pt x="11" y="82"/>
                    </a:lnTo>
                    <a:lnTo>
                      <a:pt x="16" y="86"/>
                    </a:lnTo>
                    <a:lnTo>
                      <a:pt x="24" y="90"/>
                    </a:lnTo>
                    <a:lnTo>
                      <a:pt x="32" y="95"/>
                    </a:lnTo>
                    <a:lnTo>
                      <a:pt x="35" y="95"/>
                    </a:lnTo>
                    <a:lnTo>
                      <a:pt x="40" y="97"/>
                    </a:lnTo>
                    <a:lnTo>
                      <a:pt x="44" y="98"/>
                    </a:lnTo>
                    <a:lnTo>
                      <a:pt x="48" y="101"/>
                    </a:lnTo>
                    <a:lnTo>
                      <a:pt x="52" y="103"/>
                    </a:lnTo>
                    <a:lnTo>
                      <a:pt x="57" y="105"/>
                    </a:lnTo>
                    <a:lnTo>
                      <a:pt x="63" y="106"/>
                    </a:lnTo>
                    <a:lnTo>
                      <a:pt x="70" y="109"/>
                    </a:lnTo>
                    <a:lnTo>
                      <a:pt x="74" y="111"/>
                    </a:lnTo>
                    <a:lnTo>
                      <a:pt x="81" y="112"/>
                    </a:lnTo>
                    <a:lnTo>
                      <a:pt x="86" y="114"/>
                    </a:lnTo>
                    <a:lnTo>
                      <a:pt x="92" y="116"/>
                    </a:lnTo>
                    <a:lnTo>
                      <a:pt x="98" y="117"/>
                    </a:lnTo>
                    <a:lnTo>
                      <a:pt x="106" y="120"/>
                    </a:lnTo>
                    <a:lnTo>
                      <a:pt x="112" y="122"/>
                    </a:lnTo>
                    <a:lnTo>
                      <a:pt x="120" y="124"/>
                    </a:lnTo>
                    <a:lnTo>
                      <a:pt x="125" y="125"/>
                    </a:lnTo>
                    <a:lnTo>
                      <a:pt x="131" y="125"/>
                    </a:lnTo>
                    <a:lnTo>
                      <a:pt x="138" y="127"/>
                    </a:lnTo>
                    <a:lnTo>
                      <a:pt x="144" y="128"/>
                    </a:lnTo>
                    <a:lnTo>
                      <a:pt x="149" y="128"/>
                    </a:lnTo>
                    <a:lnTo>
                      <a:pt x="155" y="130"/>
                    </a:lnTo>
                    <a:lnTo>
                      <a:pt x="161" y="131"/>
                    </a:lnTo>
                    <a:lnTo>
                      <a:pt x="168" y="133"/>
                    </a:lnTo>
                    <a:lnTo>
                      <a:pt x="173" y="133"/>
                    </a:lnTo>
                    <a:lnTo>
                      <a:pt x="179" y="133"/>
                    </a:lnTo>
                    <a:lnTo>
                      <a:pt x="185" y="135"/>
                    </a:lnTo>
                    <a:lnTo>
                      <a:pt x="191" y="136"/>
                    </a:lnTo>
                    <a:lnTo>
                      <a:pt x="196" y="136"/>
                    </a:lnTo>
                    <a:lnTo>
                      <a:pt x="203" y="138"/>
                    </a:lnTo>
                    <a:lnTo>
                      <a:pt x="209" y="138"/>
                    </a:lnTo>
                    <a:lnTo>
                      <a:pt x="215" y="139"/>
                    </a:lnTo>
                    <a:lnTo>
                      <a:pt x="222" y="139"/>
                    </a:lnTo>
                    <a:lnTo>
                      <a:pt x="228" y="139"/>
                    </a:lnTo>
                    <a:lnTo>
                      <a:pt x="234" y="139"/>
                    </a:lnTo>
                    <a:lnTo>
                      <a:pt x="241" y="141"/>
                    </a:lnTo>
                    <a:lnTo>
                      <a:pt x="245" y="141"/>
                    </a:lnTo>
                    <a:lnTo>
                      <a:pt x="252" y="141"/>
                    </a:lnTo>
                    <a:lnTo>
                      <a:pt x="258" y="142"/>
                    </a:lnTo>
                    <a:lnTo>
                      <a:pt x="266" y="142"/>
                    </a:lnTo>
                    <a:lnTo>
                      <a:pt x="272" y="142"/>
                    </a:lnTo>
                    <a:lnTo>
                      <a:pt x="278" y="142"/>
                    </a:lnTo>
                    <a:lnTo>
                      <a:pt x="285" y="142"/>
                    </a:lnTo>
                    <a:lnTo>
                      <a:pt x="291" y="144"/>
                    </a:lnTo>
                    <a:lnTo>
                      <a:pt x="299" y="144"/>
                    </a:lnTo>
                    <a:lnTo>
                      <a:pt x="305" y="144"/>
                    </a:lnTo>
                    <a:lnTo>
                      <a:pt x="313" y="144"/>
                    </a:lnTo>
                    <a:lnTo>
                      <a:pt x="320" y="144"/>
                    </a:lnTo>
                    <a:lnTo>
                      <a:pt x="320" y="144"/>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88" name=""/>
              <p:cNvSpPr/>
              <p:nvPr/>
            </p:nvSpPr>
            <p:spPr>
              <a:xfrm flipH="1" rot="17662200">
                <a:off x="5303520" y="1962720"/>
                <a:ext cx="85320" cy="101160"/>
              </a:xfrm>
              <a:custGeom>
                <a:avLst/>
                <a:gdLst/>
                <a:ahLst/>
                <a:rect l="l" t="t" r="r" b="b"/>
                <a:pathLst>
                  <a:path w="231" h="226">
                    <a:moveTo>
                      <a:pt x="38" y="129"/>
                    </a:moveTo>
                    <a:lnTo>
                      <a:pt x="38" y="128"/>
                    </a:lnTo>
                    <a:lnTo>
                      <a:pt x="38" y="126"/>
                    </a:lnTo>
                    <a:lnTo>
                      <a:pt x="36" y="121"/>
                    </a:lnTo>
                    <a:lnTo>
                      <a:pt x="36" y="118"/>
                    </a:lnTo>
                    <a:lnTo>
                      <a:pt x="36" y="113"/>
                    </a:lnTo>
                    <a:lnTo>
                      <a:pt x="36" y="107"/>
                    </a:lnTo>
                    <a:lnTo>
                      <a:pt x="38" y="99"/>
                    </a:lnTo>
                    <a:lnTo>
                      <a:pt x="39" y="93"/>
                    </a:lnTo>
                    <a:lnTo>
                      <a:pt x="41" y="85"/>
                    </a:lnTo>
                    <a:lnTo>
                      <a:pt x="44" y="79"/>
                    </a:lnTo>
                    <a:lnTo>
                      <a:pt x="47" y="71"/>
                    </a:lnTo>
                    <a:lnTo>
                      <a:pt x="52" y="64"/>
                    </a:lnTo>
                    <a:lnTo>
                      <a:pt x="58" y="58"/>
                    </a:lnTo>
                    <a:lnTo>
                      <a:pt x="64" y="52"/>
                    </a:lnTo>
                    <a:lnTo>
                      <a:pt x="68" y="50"/>
                    </a:lnTo>
                    <a:lnTo>
                      <a:pt x="72" y="47"/>
                    </a:lnTo>
                    <a:lnTo>
                      <a:pt x="77" y="45"/>
                    </a:lnTo>
                    <a:lnTo>
                      <a:pt x="83" y="45"/>
                    </a:lnTo>
                    <a:lnTo>
                      <a:pt x="88" y="42"/>
                    </a:lnTo>
                    <a:lnTo>
                      <a:pt x="95" y="41"/>
                    </a:lnTo>
                    <a:lnTo>
                      <a:pt x="101" y="41"/>
                    </a:lnTo>
                    <a:lnTo>
                      <a:pt x="106" y="41"/>
                    </a:lnTo>
                    <a:lnTo>
                      <a:pt x="112" y="39"/>
                    </a:lnTo>
                    <a:lnTo>
                      <a:pt x="117" y="39"/>
                    </a:lnTo>
                    <a:lnTo>
                      <a:pt x="123" y="41"/>
                    </a:lnTo>
                    <a:lnTo>
                      <a:pt x="129" y="41"/>
                    </a:lnTo>
                    <a:lnTo>
                      <a:pt x="134" y="41"/>
                    </a:lnTo>
                    <a:lnTo>
                      <a:pt x="139" y="42"/>
                    </a:lnTo>
                    <a:lnTo>
                      <a:pt x="144" y="45"/>
                    </a:lnTo>
                    <a:lnTo>
                      <a:pt x="150" y="47"/>
                    </a:lnTo>
                    <a:lnTo>
                      <a:pt x="155" y="50"/>
                    </a:lnTo>
                    <a:lnTo>
                      <a:pt x="159" y="52"/>
                    </a:lnTo>
                    <a:lnTo>
                      <a:pt x="164" y="55"/>
                    </a:lnTo>
                    <a:lnTo>
                      <a:pt x="169" y="60"/>
                    </a:lnTo>
                    <a:lnTo>
                      <a:pt x="174" y="66"/>
                    </a:lnTo>
                    <a:lnTo>
                      <a:pt x="178" y="72"/>
                    </a:lnTo>
                    <a:lnTo>
                      <a:pt x="183" y="80"/>
                    </a:lnTo>
                    <a:lnTo>
                      <a:pt x="186" y="88"/>
                    </a:lnTo>
                    <a:lnTo>
                      <a:pt x="188" y="93"/>
                    </a:lnTo>
                    <a:lnTo>
                      <a:pt x="189" y="98"/>
                    </a:lnTo>
                    <a:lnTo>
                      <a:pt x="189" y="101"/>
                    </a:lnTo>
                    <a:lnTo>
                      <a:pt x="191" y="106"/>
                    </a:lnTo>
                    <a:lnTo>
                      <a:pt x="191" y="113"/>
                    </a:lnTo>
                    <a:lnTo>
                      <a:pt x="193" y="121"/>
                    </a:lnTo>
                    <a:lnTo>
                      <a:pt x="189" y="129"/>
                    </a:lnTo>
                    <a:lnTo>
                      <a:pt x="188" y="137"/>
                    </a:lnTo>
                    <a:lnTo>
                      <a:pt x="185" y="145"/>
                    </a:lnTo>
                    <a:lnTo>
                      <a:pt x="182" y="153"/>
                    </a:lnTo>
                    <a:lnTo>
                      <a:pt x="177" y="158"/>
                    </a:lnTo>
                    <a:lnTo>
                      <a:pt x="174" y="164"/>
                    </a:lnTo>
                    <a:lnTo>
                      <a:pt x="169" y="169"/>
                    </a:lnTo>
                    <a:lnTo>
                      <a:pt x="163" y="175"/>
                    </a:lnTo>
                    <a:lnTo>
                      <a:pt x="156" y="178"/>
                    </a:lnTo>
                    <a:lnTo>
                      <a:pt x="150" y="181"/>
                    </a:lnTo>
                    <a:lnTo>
                      <a:pt x="142" y="183"/>
                    </a:lnTo>
                    <a:lnTo>
                      <a:pt x="136" y="186"/>
                    </a:lnTo>
                    <a:lnTo>
                      <a:pt x="131" y="186"/>
                    </a:lnTo>
                    <a:lnTo>
                      <a:pt x="128" y="186"/>
                    </a:lnTo>
                    <a:lnTo>
                      <a:pt x="123" y="186"/>
                    </a:lnTo>
                    <a:lnTo>
                      <a:pt x="118" y="186"/>
                    </a:lnTo>
                    <a:lnTo>
                      <a:pt x="113" y="185"/>
                    </a:lnTo>
                    <a:lnTo>
                      <a:pt x="110" y="185"/>
                    </a:lnTo>
                    <a:lnTo>
                      <a:pt x="106" y="183"/>
                    </a:lnTo>
                    <a:lnTo>
                      <a:pt x="102" y="183"/>
                    </a:lnTo>
                    <a:lnTo>
                      <a:pt x="98" y="183"/>
                    </a:lnTo>
                    <a:lnTo>
                      <a:pt x="95" y="186"/>
                    </a:lnTo>
                    <a:lnTo>
                      <a:pt x="88" y="191"/>
                    </a:lnTo>
                    <a:lnTo>
                      <a:pt x="83" y="197"/>
                    </a:lnTo>
                    <a:lnTo>
                      <a:pt x="79" y="204"/>
                    </a:lnTo>
                    <a:lnTo>
                      <a:pt x="76" y="207"/>
                    </a:lnTo>
                    <a:lnTo>
                      <a:pt x="72" y="211"/>
                    </a:lnTo>
                    <a:lnTo>
                      <a:pt x="72" y="213"/>
                    </a:lnTo>
                    <a:lnTo>
                      <a:pt x="74" y="213"/>
                    </a:lnTo>
                    <a:lnTo>
                      <a:pt x="79" y="216"/>
                    </a:lnTo>
                    <a:lnTo>
                      <a:pt x="82" y="216"/>
                    </a:lnTo>
                    <a:lnTo>
                      <a:pt x="87" y="219"/>
                    </a:lnTo>
                    <a:lnTo>
                      <a:pt x="91" y="221"/>
                    </a:lnTo>
                    <a:lnTo>
                      <a:pt x="98" y="223"/>
                    </a:lnTo>
                    <a:lnTo>
                      <a:pt x="102" y="224"/>
                    </a:lnTo>
                    <a:lnTo>
                      <a:pt x="109" y="224"/>
                    </a:lnTo>
                    <a:lnTo>
                      <a:pt x="117" y="226"/>
                    </a:lnTo>
                    <a:lnTo>
                      <a:pt x="125" y="226"/>
                    </a:lnTo>
                    <a:lnTo>
                      <a:pt x="131" y="226"/>
                    </a:lnTo>
                    <a:lnTo>
                      <a:pt x="139" y="226"/>
                    </a:lnTo>
                    <a:lnTo>
                      <a:pt x="144" y="224"/>
                    </a:lnTo>
                    <a:lnTo>
                      <a:pt x="147" y="224"/>
                    </a:lnTo>
                    <a:lnTo>
                      <a:pt x="151" y="223"/>
                    </a:lnTo>
                    <a:lnTo>
                      <a:pt x="156" y="223"/>
                    </a:lnTo>
                    <a:lnTo>
                      <a:pt x="161" y="219"/>
                    </a:lnTo>
                    <a:lnTo>
                      <a:pt x="166" y="218"/>
                    </a:lnTo>
                    <a:lnTo>
                      <a:pt x="170" y="215"/>
                    </a:lnTo>
                    <a:lnTo>
                      <a:pt x="175" y="213"/>
                    </a:lnTo>
                    <a:lnTo>
                      <a:pt x="180" y="210"/>
                    </a:lnTo>
                    <a:lnTo>
                      <a:pt x="183" y="207"/>
                    </a:lnTo>
                    <a:lnTo>
                      <a:pt x="188" y="205"/>
                    </a:lnTo>
                    <a:lnTo>
                      <a:pt x="193" y="204"/>
                    </a:lnTo>
                    <a:lnTo>
                      <a:pt x="199" y="197"/>
                    </a:lnTo>
                    <a:lnTo>
                      <a:pt x="205" y="191"/>
                    </a:lnTo>
                    <a:lnTo>
                      <a:pt x="212" y="183"/>
                    </a:lnTo>
                    <a:lnTo>
                      <a:pt x="216" y="177"/>
                    </a:lnTo>
                    <a:lnTo>
                      <a:pt x="219" y="169"/>
                    </a:lnTo>
                    <a:lnTo>
                      <a:pt x="223" y="161"/>
                    </a:lnTo>
                    <a:lnTo>
                      <a:pt x="224" y="156"/>
                    </a:lnTo>
                    <a:lnTo>
                      <a:pt x="226" y="151"/>
                    </a:lnTo>
                    <a:lnTo>
                      <a:pt x="227" y="147"/>
                    </a:lnTo>
                    <a:lnTo>
                      <a:pt x="229" y="142"/>
                    </a:lnTo>
                    <a:lnTo>
                      <a:pt x="229" y="136"/>
                    </a:lnTo>
                    <a:lnTo>
                      <a:pt x="229" y="131"/>
                    </a:lnTo>
                    <a:lnTo>
                      <a:pt x="229" y="126"/>
                    </a:lnTo>
                    <a:lnTo>
                      <a:pt x="231" y="121"/>
                    </a:lnTo>
                    <a:lnTo>
                      <a:pt x="231" y="115"/>
                    </a:lnTo>
                    <a:lnTo>
                      <a:pt x="231" y="110"/>
                    </a:lnTo>
                    <a:lnTo>
                      <a:pt x="231" y="104"/>
                    </a:lnTo>
                    <a:lnTo>
                      <a:pt x="231" y="99"/>
                    </a:lnTo>
                    <a:lnTo>
                      <a:pt x="229" y="91"/>
                    </a:lnTo>
                    <a:lnTo>
                      <a:pt x="227" y="85"/>
                    </a:lnTo>
                    <a:lnTo>
                      <a:pt x="224" y="79"/>
                    </a:lnTo>
                    <a:lnTo>
                      <a:pt x="223" y="74"/>
                    </a:lnTo>
                    <a:lnTo>
                      <a:pt x="221" y="66"/>
                    </a:lnTo>
                    <a:lnTo>
                      <a:pt x="219" y="61"/>
                    </a:lnTo>
                    <a:lnTo>
                      <a:pt x="216" y="55"/>
                    </a:lnTo>
                    <a:lnTo>
                      <a:pt x="213" y="50"/>
                    </a:lnTo>
                    <a:lnTo>
                      <a:pt x="208" y="45"/>
                    </a:lnTo>
                    <a:lnTo>
                      <a:pt x="205" y="41"/>
                    </a:lnTo>
                    <a:lnTo>
                      <a:pt x="201" y="36"/>
                    </a:lnTo>
                    <a:lnTo>
                      <a:pt x="196" y="31"/>
                    </a:lnTo>
                    <a:lnTo>
                      <a:pt x="191" y="26"/>
                    </a:lnTo>
                    <a:lnTo>
                      <a:pt x="186" y="23"/>
                    </a:lnTo>
                    <a:lnTo>
                      <a:pt x="182" y="19"/>
                    </a:lnTo>
                    <a:lnTo>
                      <a:pt x="177" y="17"/>
                    </a:lnTo>
                    <a:lnTo>
                      <a:pt x="170" y="12"/>
                    </a:lnTo>
                    <a:lnTo>
                      <a:pt x="166" y="9"/>
                    </a:lnTo>
                    <a:lnTo>
                      <a:pt x="159" y="7"/>
                    </a:lnTo>
                    <a:lnTo>
                      <a:pt x="153" y="4"/>
                    </a:lnTo>
                    <a:lnTo>
                      <a:pt x="147" y="3"/>
                    </a:lnTo>
                    <a:lnTo>
                      <a:pt x="140" y="1"/>
                    </a:lnTo>
                    <a:lnTo>
                      <a:pt x="134" y="0"/>
                    </a:lnTo>
                    <a:lnTo>
                      <a:pt x="128" y="0"/>
                    </a:lnTo>
                    <a:lnTo>
                      <a:pt x="121" y="0"/>
                    </a:lnTo>
                    <a:lnTo>
                      <a:pt x="113" y="0"/>
                    </a:lnTo>
                    <a:lnTo>
                      <a:pt x="107" y="0"/>
                    </a:lnTo>
                    <a:lnTo>
                      <a:pt x="101" y="0"/>
                    </a:lnTo>
                    <a:lnTo>
                      <a:pt x="95" y="0"/>
                    </a:lnTo>
                    <a:lnTo>
                      <a:pt x="87" y="3"/>
                    </a:lnTo>
                    <a:lnTo>
                      <a:pt x="80" y="3"/>
                    </a:lnTo>
                    <a:lnTo>
                      <a:pt x="74" y="6"/>
                    </a:lnTo>
                    <a:lnTo>
                      <a:pt x="69" y="7"/>
                    </a:lnTo>
                    <a:lnTo>
                      <a:pt x="64" y="9"/>
                    </a:lnTo>
                    <a:lnTo>
                      <a:pt x="60" y="11"/>
                    </a:lnTo>
                    <a:lnTo>
                      <a:pt x="57" y="12"/>
                    </a:lnTo>
                    <a:lnTo>
                      <a:pt x="49" y="17"/>
                    </a:lnTo>
                    <a:lnTo>
                      <a:pt x="41" y="22"/>
                    </a:lnTo>
                    <a:lnTo>
                      <a:pt x="34" y="26"/>
                    </a:lnTo>
                    <a:lnTo>
                      <a:pt x="28" y="33"/>
                    </a:lnTo>
                    <a:lnTo>
                      <a:pt x="23" y="38"/>
                    </a:lnTo>
                    <a:lnTo>
                      <a:pt x="20" y="45"/>
                    </a:lnTo>
                    <a:lnTo>
                      <a:pt x="15" y="50"/>
                    </a:lnTo>
                    <a:lnTo>
                      <a:pt x="11" y="58"/>
                    </a:lnTo>
                    <a:lnTo>
                      <a:pt x="8" y="64"/>
                    </a:lnTo>
                    <a:lnTo>
                      <a:pt x="6" y="72"/>
                    </a:lnTo>
                    <a:lnTo>
                      <a:pt x="3" y="79"/>
                    </a:lnTo>
                    <a:lnTo>
                      <a:pt x="3" y="87"/>
                    </a:lnTo>
                    <a:lnTo>
                      <a:pt x="1" y="94"/>
                    </a:lnTo>
                    <a:lnTo>
                      <a:pt x="1" y="102"/>
                    </a:lnTo>
                    <a:lnTo>
                      <a:pt x="1" y="107"/>
                    </a:lnTo>
                    <a:lnTo>
                      <a:pt x="0" y="112"/>
                    </a:lnTo>
                    <a:lnTo>
                      <a:pt x="0" y="117"/>
                    </a:lnTo>
                    <a:lnTo>
                      <a:pt x="1" y="121"/>
                    </a:lnTo>
                    <a:lnTo>
                      <a:pt x="1" y="126"/>
                    </a:lnTo>
                    <a:lnTo>
                      <a:pt x="1" y="129"/>
                    </a:lnTo>
                    <a:lnTo>
                      <a:pt x="1" y="134"/>
                    </a:lnTo>
                    <a:lnTo>
                      <a:pt x="3" y="139"/>
                    </a:lnTo>
                    <a:lnTo>
                      <a:pt x="3" y="143"/>
                    </a:lnTo>
                    <a:lnTo>
                      <a:pt x="4" y="148"/>
                    </a:lnTo>
                    <a:lnTo>
                      <a:pt x="6" y="151"/>
                    </a:lnTo>
                    <a:lnTo>
                      <a:pt x="8" y="156"/>
                    </a:lnTo>
                    <a:lnTo>
                      <a:pt x="11" y="162"/>
                    </a:lnTo>
                    <a:lnTo>
                      <a:pt x="14" y="169"/>
                    </a:lnTo>
                    <a:lnTo>
                      <a:pt x="38" y="129"/>
                    </a:lnTo>
                    <a:lnTo>
                      <a:pt x="38"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H="1" rot="17662200">
                <a:off x="5340960" y="1869120"/>
                <a:ext cx="197280" cy="158760"/>
              </a:xfrm>
              <a:custGeom>
                <a:avLst/>
                <a:gdLst/>
                <a:ahLst/>
                <a:rect l="l" t="t" r="r" b="b"/>
                <a:pathLst>
                  <a:path w="533" h="355">
                    <a:moveTo>
                      <a:pt x="500" y="0"/>
                    </a:moveTo>
                    <a:lnTo>
                      <a:pt x="497" y="1"/>
                    </a:lnTo>
                    <a:lnTo>
                      <a:pt x="492" y="7"/>
                    </a:lnTo>
                    <a:lnTo>
                      <a:pt x="489" y="11"/>
                    </a:lnTo>
                    <a:lnTo>
                      <a:pt x="484" y="15"/>
                    </a:lnTo>
                    <a:lnTo>
                      <a:pt x="479" y="20"/>
                    </a:lnTo>
                    <a:lnTo>
                      <a:pt x="475" y="28"/>
                    </a:lnTo>
                    <a:lnTo>
                      <a:pt x="467" y="34"/>
                    </a:lnTo>
                    <a:lnTo>
                      <a:pt x="460" y="42"/>
                    </a:lnTo>
                    <a:lnTo>
                      <a:pt x="456" y="47"/>
                    </a:lnTo>
                    <a:lnTo>
                      <a:pt x="451" y="52"/>
                    </a:lnTo>
                    <a:lnTo>
                      <a:pt x="446" y="55"/>
                    </a:lnTo>
                    <a:lnTo>
                      <a:pt x="441" y="61"/>
                    </a:lnTo>
                    <a:lnTo>
                      <a:pt x="437" y="66"/>
                    </a:lnTo>
                    <a:lnTo>
                      <a:pt x="432" y="71"/>
                    </a:lnTo>
                    <a:lnTo>
                      <a:pt x="426" y="75"/>
                    </a:lnTo>
                    <a:lnTo>
                      <a:pt x="421" y="82"/>
                    </a:lnTo>
                    <a:lnTo>
                      <a:pt x="415" y="87"/>
                    </a:lnTo>
                    <a:lnTo>
                      <a:pt x="408" y="93"/>
                    </a:lnTo>
                    <a:lnTo>
                      <a:pt x="404" y="98"/>
                    </a:lnTo>
                    <a:lnTo>
                      <a:pt x="397" y="104"/>
                    </a:lnTo>
                    <a:lnTo>
                      <a:pt x="388" y="110"/>
                    </a:lnTo>
                    <a:lnTo>
                      <a:pt x="380" y="117"/>
                    </a:lnTo>
                    <a:lnTo>
                      <a:pt x="375" y="120"/>
                    </a:lnTo>
                    <a:lnTo>
                      <a:pt x="370" y="124"/>
                    </a:lnTo>
                    <a:lnTo>
                      <a:pt x="366" y="128"/>
                    </a:lnTo>
                    <a:lnTo>
                      <a:pt x="362" y="132"/>
                    </a:lnTo>
                    <a:lnTo>
                      <a:pt x="356" y="137"/>
                    </a:lnTo>
                    <a:lnTo>
                      <a:pt x="351" y="140"/>
                    </a:lnTo>
                    <a:lnTo>
                      <a:pt x="347" y="143"/>
                    </a:lnTo>
                    <a:lnTo>
                      <a:pt x="342" y="148"/>
                    </a:lnTo>
                    <a:lnTo>
                      <a:pt x="336" y="153"/>
                    </a:lnTo>
                    <a:lnTo>
                      <a:pt x="331" y="156"/>
                    </a:lnTo>
                    <a:lnTo>
                      <a:pt x="326" y="161"/>
                    </a:lnTo>
                    <a:lnTo>
                      <a:pt x="321" y="166"/>
                    </a:lnTo>
                    <a:lnTo>
                      <a:pt x="317" y="170"/>
                    </a:lnTo>
                    <a:lnTo>
                      <a:pt x="310" y="174"/>
                    </a:lnTo>
                    <a:lnTo>
                      <a:pt x="305" y="177"/>
                    </a:lnTo>
                    <a:lnTo>
                      <a:pt x="301" y="181"/>
                    </a:lnTo>
                    <a:lnTo>
                      <a:pt x="294" y="185"/>
                    </a:lnTo>
                    <a:lnTo>
                      <a:pt x="290" y="189"/>
                    </a:lnTo>
                    <a:lnTo>
                      <a:pt x="285" y="192"/>
                    </a:lnTo>
                    <a:lnTo>
                      <a:pt x="280" y="197"/>
                    </a:lnTo>
                    <a:lnTo>
                      <a:pt x="275" y="200"/>
                    </a:lnTo>
                    <a:lnTo>
                      <a:pt x="271" y="204"/>
                    </a:lnTo>
                    <a:lnTo>
                      <a:pt x="266" y="207"/>
                    </a:lnTo>
                    <a:lnTo>
                      <a:pt x="261" y="210"/>
                    </a:lnTo>
                    <a:lnTo>
                      <a:pt x="256" y="213"/>
                    </a:lnTo>
                    <a:lnTo>
                      <a:pt x="253" y="216"/>
                    </a:lnTo>
                    <a:lnTo>
                      <a:pt x="249" y="219"/>
                    </a:lnTo>
                    <a:lnTo>
                      <a:pt x="247" y="221"/>
                    </a:lnTo>
                    <a:lnTo>
                      <a:pt x="241" y="224"/>
                    </a:lnTo>
                    <a:lnTo>
                      <a:pt x="236" y="227"/>
                    </a:lnTo>
                    <a:lnTo>
                      <a:pt x="230" y="230"/>
                    </a:lnTo>
                    <a:lnTo>
                      <a:pt x="225" y="234"/>
                    </a:lnTo>
                    <a:lnTo>
                      <a:pt x="220" y="237"/>
                    </a:lnTo>
                    <a:lnTo>
                      <a:pt x="215" y="240"/>
                    </a:lnTo>
                    <a:lnTo>
                      <a:pt x="211" y="243"/>
                    </a:lnTo>
                    <a:lnTo>
                      <a:pt x="207" y="246"/>
                    </a:lnTo>
                    <a:lnTo>
                      <a:pt x="203" y="248"/>
                    </a:lnTo>
                    <a:lnTo>
                      <a:pt x="198" y="251"/>
                    </a:lnTo>
                    <a:lnTo>
                      <a:pt x="193" y="254"/>
                    </a:lnTo>
                    <a:lnTo>
                      <a:pt x="188" y="257"/>
                    </a:lnTo>
                    <a:lnTo>
                      <a:pt x="180" y="262"/>
                    </a:lnTo>
                    <a:lnTo>
                      <a:pt x="173" y="267"/>
                    </a:lnTo>
                    <a:lnTo>
                      <a:pt x="168" y="268"/>
                    </a:lnTo>
                    <a:lnTo>
                      <a:pt x="163" y="270"/>
                    </a:lnTo>
                    <a:lnTo>
                      <a:pt x="160" y="273"/>
                    </a:lnTo>
                    <a:lnTo>
                      <a:pt x="155" y="275"/>
                    </a:lnTo>
                    <a:lnTo>
                      <a:pt x="147" y="279"/>
                    </a:lnTo>
                    <a:lnTo>
                      <a:pt x="139" y="283"/>
                    </a:lnTo>
                    <a:lnTo>
                      <a:pt x="133" y="286"/>
                    </a:lnTo>
                    <a:lnTo>
                      <a:pt x="127" y="289"/>
                    </a:lnTo>
                    <a:lnTo>
                      <a:pt x="119" y="292"/>
                    </a:lnTo>
                    <a:lnTo>
                      <a:pt x="112" y="297"/>
                    </a:lnTo>
                    <a:lnTo>
                      <a:pt x="106" y="298"/>
                    </a:lnTo>
                    <a:lnTo>
                      <a:pt x="100" y="300"/>
                    </a:lnTo>
                    <a:lnTo>
                      <a:pt x="93" y="302"/>
                    </a:lnTo>
                    <a:lnTo>
                      <a:pt x="89" y="305"/>
                    </a:lnTo>
                    <a:lnTo>
                      <a:pt x="82" y="306"/>
                    </a:lnTo>
                    <a:lnTo>
                      <a:pt x="78" y="308"/>
                    </a:lnTo>
                    <a:lnTo>
                      <a:pt x="73" y="310"/>
                    </a:lnTo>
                    <a:lnTo>
                      <a:pt x="68" y="311"/>
                    </a:lnTo>
                    <a:lnTo>
                      <a:pt x="63" y="311"/>
                    </a:lnTo>
                    <a:lnTo>
                      <a:pt x="60" y="313"/>
                    </a:lnTo>
                    <a:lnTo>
                      <a:pt x="56" y="313"/>
                    </a:lnTo>
                    <a:lnTo>
                      <a:pt x="52" y="313"/>
                    </a:lnTo>
                    <a:lnTo>
                      <a:pt x="46" y="313"/>
                    </a:lnTo>
                    <a:lnTo>
                      <a:pt x="43" y="313"/>
                    </a:lnTo>
                    <a:lnTo>
                      <a:pt x="49" y="262"/>
                    </a:lnTo>
                    <a:lnTo>
                      <a:pt x="52" y="245"/>
                    </a:lnTo>
                    <a:lnTo>
                      <a:pt x="49" y="245"/>
                    </a:lnTo>
                    <a:lnTo>
                      <a:pt x="43" y="249"/>
                    </a:lnTo>
                    <a:lnTo>
                      <a:pt x="38" y="253"/>
                    </a:lnTo>
                    <a:lnTo>
                      <a:pt x="35" y="257"/>
                    </a:lnTo>
                    <a:lnTo>
                      <a:pt x="30" y="262"/>
                    </a:lnTo>
                    <a:lnTo>
                      <a:pt x="25" y="267"/>
                    </a:lnTo>
                    <a:lnTo>
                      <a:pt x="21" y="272"/>
                    </a:lnTo>
                    <a:lnTo>
                      <a:pt x="16" y="278"/>
                    </a:lnTo>
                    <a:lnTo>
                      <a:pt x="11" y="284"/>
                    </a:lnTo>
                    <a:lnTo>
                      <a:pt x="8" y="292"/>
                    </a:lnTo>
                    <a:lnTo>
                      <a:pt x="3" y="300"/>
                    </a:lnTo>
                    <a:lnTo>
                      <a:pt x="2" y="308"/>
                    </a:lnTo>
                    <a:lnTo>
                      <a:pt x="2" y="311"/>
                    </a:lnTo>
                    <a:lnTo>
                      <a:pt x="0" y="316"/>
                    </a:lnTo>
                    <a:lnTo>
                      <a:pt x="0" y="321"/>
                    </a:lnTo>
                    <a:lnTo>
                      <a:pt x="2" y="325"/>
                    </a:lnTo>
                    <a:lnTo>
                      <a:pt x="2" y="333"/>
                    </a:lnTo>
                    <a:lnTo>
                      <a:pt x="6" y="340"/>
                    </a:lnTo>
                    <a:lnTo>
                      <a:pt x="11" y="346"/>
                    </a:lnTo>
                    <a:lnTo>
                      <a:pt x="19" y="351"/>
                    </a:lnTo>
                    <a:lnTo>
                      <a:pt x="22" y="352"/>
                    </a:lnTo>
                    <a:lnTo>
                      <a:pt x="27" y="354"/>
                    </a:lnTo>
                    <a:lnTo>
                      <a:pt x="32" y="354"/>
                    </a:lnTo>
                    <a:lnTo>
                      <a:pt x="38" y="355"/>
                    </a:lnTo>
                    <a:lnTo>
                      <a:pt x="44" y="355"/>
                    </a:lnTo>
                    <a:lnTo>
                      <a:pt x="51" y="355"/>
                    </a:lnTo>
                    <a:lnTo>
                      <a:pt x="57" y="354"/>
                    </a:lnTo>
                    <a:lnTo>
                      <a:pt x="65" y="354"/>
                    </a:lnTo>
                    <a:lnTo>
                      <a:pt x="73" y="352"/>
                    </a:lnTo>
                    <a:lnTo>
                      <a:pt x="81" y="349"/>
                    </a:lnTo>
                    <a:lnTo>
                      <a:pt x="86" y="347"/>
                    </a:lnTo>
                    <a:lnTo>
                      <a:pt x="89" y="347"/>
                    </a:lnTo>
                    <a:lnTo>
                      <a:pt x="93" y="346"/>
                    </a:lnTo>
                    <a:lnTo>
                      <a:pt x="98" y="344"/>
                    </a:lnTo>
                    <a:lnTo>
                      <a:pt x="103" y="343"/>
                    </a:lnTo>
                    <a:lnTo>
                      <a:pt x="108" y="341"/>
                    </a:lnTo>
                    <a:lnTo>
                      <a:pt x="112" y="340"/>
                    </a:lnTo>
                    <a:lnTo>
                      <a:pt x="117" y="338"/>
                    </a:lnTo>
                    <a:lnTo>
                      <a:pt x="122" y="336"/>
                    </a:lnTo>
                    <a:lnTo>
                      <a:pt x="127" y="335"/>
                    </a:lnTo>
                    <a:lnTo>
                      <a:pt x="133" y="333"/>
                    </a:lnTo>
                    <a:lnTo>
                      <a:pt x="138" y="332"/>
                    </a:lnTo>
                    <a:lnTo>
                      <a:pt x="143" y="329"/>
                    </a:lnTo>
                    <a:lnTo>
                      <a:pt x="147" y="325"/>
                    </a:lnTo>
                    <a:lnTo>
                      <a:pt x="154" y="322"/>
                    </a:lnTo>
                    <a:lnTo>
                      <a:pt x="160" y="321"/>
                    </a:lnTo>
                    <a:lnTo>
                      <a:pt x="165" y="317"/>
                    </a:lnTo>
                    <a:lnTo>
                      <a:pt x="171" y="314"/>
                    </a:lnTo>
                    <a:lnTo>
                      <a:pt x="176" y="311"/>
                    </a:lnTo>
                    <a:lnTo>
                      <a:pt x="182" y="310"/>
                    </a:lnTo>
                    <a:lnTo>
                      <a:pt x="188" y="305"/>
                    </a:lnTo>
                    <a:lnTo>
                      <a:pt x="195" y="302"/>
                    </a:lnTo>
                    <a:lnTo>
                      <a:pt x="201" y="298"/>
                    </a:lnTo>
                    <a:lnTo>
                      <a:pt x="207" y="295"/>
                    </a:lnTo>
                    <a:lnTo>
                      <a:pt x="212" y="292"/>
                    </a:lnTo>
                    <a:lnTo>
                      <a:pt x="218" y="287"/>
                    </a:lnTo>
                    <a:lnTo>
                      <a:pt x="226" y="284"/>
                    </a:lnTo>
                    <a:lnTo>
                      <a:pt x="233" y="281"/>
                    </a:lnTo>
                    <a:lnTo>
                      <a:pt x="237" y="276"/>
                    </a:lnTo>
                    <a:lnTo>
                      <a:pt x="242" y="275"/>
                    </a:lnTo>
                    <a:lnTo>
                      <a:pt x="247" y="270"/>
                    </a:lnTo>
                    <a:lnTo>
                      <a:pt x="250" y="268"/>
                    </a:lnTo>
                    <a:lnTo>
                      <a:pt x="255" y="264"/>
                    </a:lnTo>
                    <a:lnTo>
                      <a:pt x="261" y="262"/>
                    </a:lnTo>
                    <a:lnTo>
                      <a:pt x="266" y="257"/>
                    </a:lnTo>
                    <a:lnTo>
                      <a:pt x="271" y="256"/>
                    </a:lnTo>
                    <a:lnTo>
                      <a:pt x="275" y="251"/>
                    </a:lnTo>
                    <a:lnTo>
                      <a:pt x="280" y="248"/>
                    </a:lnTo>
                    <a:lnTo>
                      <a:pt x="286" y="245"/>
                    </a:lnTo>
                    <a:lnTo>
                      <a:pt x="291" y="242"/>
                    </a:lnTo>
                    <a:lnTo>
                      <a:pt x="296" y="237"/>
                    </a:lnTo>
                    <a:lnTo>
                      <a:pt x="301" y="234"/>
                    </a:lnTo>
                    <a:lnTo>
                      <a:pt x="307" y="230"/>
                    </a:lnTo>
                    <a:lnTo>
                      <a:pt x="312" y="227"/>
                    </a:lnTo>
                    <a:lnTo>
                      <a:pt x="317" y="223"/>
                    </a:lnTo>
                    <a:lnTo>
                      <a:pt x="321" y="219"/>
                    </a:lnTo>
                    <a:lnTo>
                      <a:pt x="326" y="215"/>
                    </a:lnTo>
                    <a:lnTo>
                      <a:pt x="331" y="211"/>
                    </a:lnTo>
                    <a:lnTo>
                      <a:pt x="336" y="208"/>
                    </a:lnTo>
                    <a:lnTo>
                      <a:pt x="342" y="204"/>
                    </a:lnTo>
                    <a:lnTo>
                      <a:pt x="347" y="200"/>
                    </a:lnTo>
                    <a:lnTo>
                      <a:pt x="351" y="197"/>
                    </a:lnTo>
                    <a:lnTo>
                      <a:pt x="356" y="192"/>
                    </a:lnTo>
                    <a:lnTo>
                      <a:pt x="361" y="189"/>
                    </a:lnTo>
                    <a:lnTo>
                      <a:pt x="366" y="185"/>
                    </a:lnTo>
                    <a:lnTo>
                      <a:pt x="370" y="181"/>
                    </a:lnTo>
                    <a:lnTo>
                      <a:pt x="375" y="177"/>
                    </a:lnTo>
                    <a:lnTo>
                      <a:pt x="380" y="175"/>
                    </a:lnTo>
                    <a:lnTo>
                      <a:pt x="385" y="170"/>
                    </a:lnTo>
                    <a:lnTo>
                      <a:pt x="389" y="167"/>
                    </a:lnTo>
                    <a:lnTo>
                      <a:pt x="396" y="161"/>
                    </a:lnTo>
                    <a:lnTo>
                      <a:pt x="404" y="153"/>
                    </a:lnTo>
                    <a:lnTo>
                      <a:pt x="410" y="147"/>
                    </a:lnTo>
                    <a:lnTo>
                      <a:pt x="418" y="140"/>
                    </a:lnTo>
                    <a:lnTo>
                      <a:pt x="426" y="134"/>
                    </a:lnTo>
                    <a:lnTo>
                      <a:pt x="432" y="128"/>
                    </a:lnTo>
                    <a:lnTo>
                      <a:pt x="440" y="121"/>
                    </a:lnTo>
                    <a:lnTo>
                      <a:pt x="446" y="115"/>
                    </a:lnTo>
                    <a:lnTo>
                      <a:pt x="453" y="107"/>
                    </a:lnTo>
                    <a:lnTo>
                      <a:pt x="459" y="102"/>
                    </a:lnTo>
                    <a:lnTo>
                      <a:pt x="465" y="96"/>
                    </a:lnTo>
                    <a:lnTo>
                      <a:pt x="472" y="91"/>
                    </a:lnTo>
                    <a:lnTo>
                      <a:pt x="476" y="85"/>
                    </a:lnTo>
                    <a:lnTo>
                      <a:pt x="481" y="79"/>
                    </a:lnTo>
                    <a:lnTo>
                      <a:pt x="487" y="74"/>
                    </a:lnTo>
                    <a:lnTo>
                      <a:pt x="492" y="69"/>
                    </a:lnTo>
                    <a:lnTo>
                      <a:pt x="497" y="64"/>
                    </a:lnTo>
                    <a:lnTo>
                      <a:pt x="502" y="60"/>
                    </a:lnTo>
                    <a:lnTo>
                      <a:pt x="505" y="55"/>
                    </a:lnTo>
                    <a:lnTo>
                      <a:pt x="510" y="52"/>
                    </a:lnTo>
                    <a:lnTo>
                      <a:pt x="516" y="44"/>
                    </a:lnTo>
                    <a:lnTo>
                      <a:pt x="522" y="38"/>
                    </a:lnTo>
                    <a:lnTo>
                      <a:pt x="527" y="33"/>
                    </a:lnTo>
                    <a:lnTo>
                      <a:pt x="530" y="28"/>
                    </a:lnTo>
                    <a:lnTo>
                      <a:pt x="532" y="26"/>
                    </a:lnTo>
                    <a:lnTo>
                      <a:pt x="533" y="26"/>
                    </a:lnTo>
                    <a:lnTo>
                      <a:pt x="500" y="0"/>
                    </a:lnTo>
                    <a:lnTo>
                      <a:pt x="5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rot="17662200">
                <a:off x="5343120" y="1871280"/>
                <a:ext cx="245160" cy="170280"/>
              </a:xfrm>
              <a:custGeom>
                <a:avLst/>
                <a:gdLst/>
                <a:ahLst/>
                <a:rect l="l" t="t" r="r" b="b"/>
                <a:pathLst>
                  <a:path w="661" h="382">
                    <a:moveTo>
                      <a:pt x="628" y="0"/>
                    </a:moveTo>
                    <a:lnTo>
                      <a:pt x="626" y="2"/>
                    </a:lnTo>
                    <a:lnTo>
                      <a:pt x="623" y="7"/>
                    </a:lnTo>
                    <a:lnTo>
                      <a:pt x="618" y="10"/>
                    </a:lnTo>
                    <a:lnTo>
                      <a:pt x="615" y="15"/>
                    </a:lnTo>
                    <a:lnTo>
                      <a:pt x="610" y="19"/>
                    </a:lnTo>
                    <a:lnTo>
                      <a:pt x="606" y="26"/>
                    </a:lnTo>
                    <a:lnTo>
                      <a:pt x="599" y="30"/>
                    </a:lnTo>
                    <a:lnTo>
                      <a:pt x="595" y="38"/>
                    </a:lnTo>
                    <a:lnTo>
                      <a:pt x="588" y="45"/>
                    </a:lnTo>
                    <a:lnTo>
                      <a:pt x="582" y="53"/>
                    </a:lnTo>
                    <a:lnTo>
                      <a:pt x="574" y="61"/>
                    </a:lnTo>
                    <a:lnTo>
                      <a:pt x="566" y="68"/>
                    </a:lnTo>
                    <a:lnTo>
                      <a:pt x="561" y="73"/>
                    </a:lnTo>
                    <a:lnTo>
                      <a:pt x="557" y="78"/>
                    </a:lnTo>
                    <a:lnTo>
                      <a:pt x="553" y="83"/>
                    </a:lnTo>
                    <a:lnTo>
                      <a:pt x="550" y="87"/>
                    </a:lnTo>
                    <a:lnTo>
                      <a:pt x="544" y="92"/>
                    </a:lnTo>
                    <a:lnTo>
                      <a:pt x="538" y="97"/>
                    </a:lnTo>
                    <a:lnTo>
                      <a:pt x="531" y="102"/>
                    </a:lnTo>
                    <a:lnTo>
                      <a:pt x="525" y="108"/>
                    </a:lnTo>
                    <a:lnTo>
                      <a:pt x="519" y="113"/>
                    </a:lnTo>
                    <a:lnTo>
                      <a:pt x="512" y="119"/>
                    </a:lnTo>
                    <a:lnTo>
                      <a:pt x="506" y="125"/>
                    </a:lnTo>
                    <a:lnTo>
                      <a:pt x="500" y="132"/>
                    </a:lnTo>
                    <a:lnTo>
                      <a:pt x="493" y="136"/>
                    </a:lnTo>
                    <a:lnTo>
                      <a:pt x="487" y="141"/>
                    </a:lnTo>
                    <a:lnTo>
                      <a:pt x="479" y="147"/>
                    </a:lnTo>
                    <a:lnTo>
                      <a:pt x="473" y="154"/>
                    </a:lnTo>
                    <a:lnTo>
                      <a:pt x="466" y="159"/>
                    </a:lnTo>
                    <a:lnTo>
                      <a:pt x="460" y="165"/>
                    </a:lnTo>
                    <a:lnTo>
                      <a:pt x="452" y="170"/>
                    </a:lnTo>
                    <a:lnTo>
                      <a:pt x="446" y="176"/>
                    </a:lnTo>
                    <a:lnTo>
                      <a:pt x="438" y="181"/>
                    </a:lnTo>
                    <a:lnTo>
                      <a:pt x="432" y="185"/>
                    </a:lnTo>
                    <a:lnTo>
                      <a:pt x="425" y="192"/>
                    </a:lnTo>
                    <a:lnTo>
                      <a:pt x="417" y="197"/>
                    </a:lnTo>
                    <a:lnTo>
                      <a:pt x="411" y="201"/>
                    </a:lnTo>
                    <a:lnTo>
                      <a:pt x="403" y="208"/>
                    </a:lnTo>
                    <a:lnTo>
                      <a:pt x="397" y="212"/>
                    </a:lnTo>
                    <a:lnTo>
                      <a:pt x="391" y="217"/>
                    </a:lnTo>
                    <a:lnTo>
                      <a:pt x="383" y="222"/>
                    </a:lnTo>
                    <a:lnTo>
                      <a:pt x="375" y="227"/>
                    </a:lnTo>
                    <a:lnTo>
                      <a:pt x="368" y="231"/>
                    </a:lnTo>
                    <a:lnTo>
                      <a:pt x="362" y="238"/>
                    </a:lnTo>
                    <a:lnTo>
                      <a:pt x="354" y="242"/>
                    </a:lnTo>
                    <a:lnTo>
                      <a:pt x="348" y="247"/>
                    </a:lnTo>
                    <a:lnTo>
                      <a:pt x="340" y="252"/>
                    </a:lnTo>
                    <a:lnTo>
                      <a:pt x="334" y="255"/>
                    </a:lnTo>
                    <a:lnTo>
                      <a:pt x="327" y="258"/>
                    </a:lnTo>
                    <a:lnTo>
                      <a:pt x="323" y="261"/>
                    </a:lnTo>
                    <a:lnTo>
                      <a:pt x="318" y="263"/>
                    </a:lnTo>
                    <a:lnTo>
                      <a:pt x="313" y="266"/>
                    </a:lnTo>
                    <a:lnTo>
                      <a:pt x="308" y="269"/>
                    </a:lnTo>
                    <a:lnTo>
                      <a:pt x="304" y="271"/>
                    </a:lnTo>
                    <a:lnTo>
                      <a:pt x="299" y="274"/>
                    </a:lnTo>
                    <a:lnTo>
                      <a:pt x="294" y="277"/>
                    </a:lnTo>
                    <a:lnTo>
                      <a:pt x="289" y="279"/>
                    </a:lnTo>
                    <a:lnTo>
                      <a:pt x="285" y="282"/>
                    </a:lnTo>
                    <a:lnTo>
                      <a:pt x="280" y="284"/>
                    </a:lnTo>
                    <a:lnTo>
                      <a:pt x="275" y="287"/>
                    </a:lnTo>
                    <a:lnTo>
                      <a:pt x="267" y="291"/>
                    </a:lnTo>
                    <a:lnTo>
                      <a:pt x="259" y="295"/>
                    </a:lnTo>
                    <a:lnTo>
                      <a:pt x="250" y="298"/>
                    </a:lnTo>
                    <a:lnTo>
                      <a:pt x="243" y="302"/>
                    </a:lnTo>
                    <a:lnTo>
                      <a:pt x="234" y="306"/>
                    </a:lnTo>
                    <a:lnTo>
                      <a:pt x="228" y="309"/>
                    </a:lnTo>
                    <a:lnTo>
                      <a:pt x="220" y="312"/>
                    </a:lnTo>
                    <a:lnTo>
                      <a:pt x="212" y="315"/>
                    </a:lnTo>
                    <a:lnTo>
                      <a:pt x="205" y="318"/>
                    </a:lnTo>
                    <a:lnTo>
                      <a:pt x="199" y="321"/>
                    </a:lnTo>
                    <a:lnTo>
                      <a:pt x="191" y="323"/>
                    </a:lnTo>
                    <a:lnTo>
                      <a:pt x="185" y="325"/>
                    </a:lnTo>
                    <a:lnTo>
                      <a:pt x="177" y="326"/>
                    </a:lnTo>
                    <a:lnTo>
                      <a:pt x="172" y="329"/>
                    </a:lnTo>
                    <a:lnTo>
                      <a:pt x="166" y="329"/>
                    </a:lnTo>
                    <a:lnTo>
                      <a:pt x="160" y="331"/>
                    </a:lnTo>
                    <a:lnTo>
                      <a:pt x="153" y="333"/>
                    </a:lnTo>
                    <a:lnTo>
                      <a:pt x="149" y="334"/>
                    </a:lnTo>
                    <a:lnTo>
                      <a:pt x="142" y="336"/>
                    </a:lnTo>
                    <a:lnTo>
                      <a:pt x="136" y="336"/>
                    </a:lnTo>
                    <a:lnTo>
                      <a:pt x="131" y="336"/>
                    </a:lnTo>
                    <a:lnTo>
                      <a:pt x="126" y="336"/>
                    </a:lnTo>
                    <a:lnTo>
                      <a:pt x="122" y="336"/>
                    </a:lnTo>
                    <a:lnTo>
                      <a:pt x="117" y="336"/>
                    </a:lnTo>
                    <a:lnTo>
                      <a:pt x="112" y="336"/>
                    </a:lnTo>
                    <a:lnTo>
                      <a:pt x="107" y="337"/>
                    </a:lnTo>
                    <a:lnTo>
                      <a:pt x="101" y="336"/>
                    </a:lnTo>
                    <a:lnTo>
                      <a:pt x="96" y="336"/>
                    </a:lnTo>
                    <a:lnTo>
                      <a:pt x="92" y="334"/>
                    </a:lnTo>
                    <a:lnTo>
                      <a:pt x="87" y="333"/>
                    </a:lnTo>
                    <a:lnTo>
                      <a:pt x="82" y="331"/>
                    </a:lnTo>
                    <a:lnTo>
                      <a:pt x="79" y="329"/>
                    </a:lnTo>
                    <a:lnTo>
                      <a:pt x="74" y="328"/>
                    </a:lnTo>
                    <a:lnTo>
                      <a:pt x="71" y="326"/>
                    </a:lnTo>
                    <a:lnTo>
                      <a:pt x="65" y="321"/>
                    </a:lnTo>
                    <a:lnTo>
                      <a:pt x="58" y="318"/>
                    </a:lnTo>
                    <a:lnTo>
                      <a:pt x="54" y="312"/>
                    </a:lnTo>
                    <a:lnTo>
                      <a:pt x="50" y="307"/>
                    </a:lnTo>
                    <a:lnTo>
                      <a:pt x="47" y="299"/>
                    </a:lnTo>
                    <a:lnTo>
                      <a:pt x="46" y="293"/>
                    </a:lnTo>
                    <a:lnTo>
                      <a:pt x="44" y="285"/>
                    </a:lnTo>
                    <a:lnTo>
                      <a:pt x="44" y="279"/>
                    </a:lnTo>
                    <a:lnTo>
                      <a:pt x="44" y="269"/>
                    </a:lnTo>
                    <a:lnTo>
                      <a:pt x="47" y="261"/>
                    </a:lnTo>
                    <a:lnTo>
                      <a:pt x="49" y="257"/>
                    </a:lnTo>
                    <a:lnTo>
                      <a:pt x="50" y="253"/>
                    </a:lnTo>
                    <a:lnTo>
                      <a:pt x="52" y="249"/>
                    </a:lnTo>
                    <a:lnTo>
                      <a:pt x="55" y="246"/>
                    </a:lnTo>
                    <a:lnTo>
                      <a:pt x="57" y="241"/>
                    </a:lnTo>
                    <a:lnTo>
                      <a:pt x="58" y="236"/>
                    </a:lnTo>
                    <a:lnTo>
                      <a:pt x="60" y="231"/>
                    </a:lnTo>
                    <a:lnTo>
                      <a:pt x="63" y="227"/>
                    </a:lnTo>
                    <a:lnTo>
                      <a:pt x="68" y="219"/>
                    </a:lnTo>
                    <a:lnTo>
                      <a:pt x="74" y="212"/>
                    </a:lnTo>
                    <a:lnTo>
                      <a:pt x="80" y="204"/>
                    </a:lnTo>
                    <a:lnTo>
                      <a:pt x="87" y="198"/>
                    </a:lnTo>
                    <a:lnTo>
                      <a:pt x="92" y="190"/>
                    </a:lnTo>
                    <a:lnTo>
                      <a:pt x="98" y="185"/>
                    </a:lnTo>
                    <a:lnTo>
                      <a:pt x="103" y="181"/>
                    </a:lnTo>
                    <a:lnTo>
                      <a:pt x="107" y="176"/>
                    </a:lnTo>
                    <a:lnTo>
                      <a:pt x="112" y="171"/>
                    </a:lnTo>
                    <a:lnTo>
                      <a:pt x="117" y="170"/>
                    </a:lnTo>
                    <a:lnTo>
                      <a:pt x="122" y="165"/>
                    </a:lnTo>
                    <a:lnTo>
                      <a:pt x="125" y="163"/>
                    </a:lnTo>
                    <a:lnTo>
                      <a:pt x="122" y="114"/>
                    </a:lnTo>
                    <a:lnTo>
                      <a:pt x="120" y="114"/>
                    </a:lnTo>
                    <a:lnTo>
                      <a:pt x="118" y="116"/>
                    </a:lnTo>
                    <a:lnTo>
                      <a:pt x="114" y="117"/>
                    </a:lnTo>
                    <a:lnTo>
                      <a:pt x="111" y="121"/>
                    </a:lnTo>
                    <a:lnTo>
                      <a:pt x="104" y="122"/>
                    </a:lnTo>
                    <a:lnTo>
                      <a:pt x="98" y="127"/>
                    </a:lnTo>
                    <a:lnTo>
                      <a:pt x="90" y="132"/>
                    </a:lnTo>
                    <a:lnTo>
                      <a:pt x="84" y="140"/>
                    </a:lnTo>
                    <a:lnTo>
                      <a:pt x="79" y="141"/>
                    </a:lnTo>
                    <a:lnTo>
                      <a:pt x="74" y="146"/>
                    </a:lnTo>
                    <a:lnTo>
                      <a:pt x="69" y="149"/>
                    </a:lnTo>
                    <a:lnTo>
                      <a:pt x="66" y="154"/>
                    </a:lnTo>
                    <a:lnTo>
                      <a:pt x="61" y="159"/>
                    </a:lnTo>
                    <a:lnTo>
                      <a:pt x="57" y="163"/>
                    </a:lnTo>
                    <a:lnTo>
                      <a:pt x="52" y="168"/>
                    </a:lnTo>
                    <a:lnTo>
                      <a:pt x="49" y="174"/>
                    </a:lnTo>
                    <a:lnTo>
                      <a:pt x="44" y="179"/>
                    </a:lnTo>
                    <a:lnTo>
                      <a:pt x="39" y="185"/>
                    </a:lnTo>
                    <a:lnTo>
                      <a:pt x="35" y="192"/>
                    </a:lnTo>
                    <a:lnTo>
                      <a:pt x="30" y="198"/>
                    </a:lnTo>
                    <a:lnTo>
                      <a:pt x="25" y="204"/>
                    </a:lnTo>
                    <a:lnTo>
                      <a:pt x="22" y="212"/>
                    </a:lnTo>
                    <a:lnTo>
                      <a:pt x="17" y="219"/>
                    </a:lnTo>
                    <a:lnTo>
                      <a:pt x="14" y="227"/>
                    </a:lnTo>
                    <a:lnTo>
                      <a:pt x="12" y="231"/>
                    </a:lnTo>
                    <a:lnTo>
                      <a:pt x="9" y="236"/>
                    </a:lnTo>
                    <a:lnTo>
                      <a:pt x="8" y="242"/>
                    </a:lnTo>
                    <a:lnTo>
                      <a:pt x="6" y="247"/>
                    </a:lnTo>
                    <a:lnTo>
                      <a:pt x="3" y="253"/>
                    </a:lnTo>
                    <a:lnTo>
                      <a:pt x="3" y="258"/>
                    </a:lnTo>
                    <a:lnTo>
                      <a:pt x="1" y="265"/>
                    </a:lnTo>
                    <a:lnTo>
                      <a:pt x="1" y="271"/>
                    </a:lnTo>
                    <a:lnTo>
                      <a:pt x="0" y="276"/>
                    </a:lnTo>
                    <a:lnTo>
                      <a:pt x="0" y="282"/>
                    </a:lnTo>
                    <a:lnTo>
                      <a:pt x="0" y="287"/>
                    </a:lnTo>
                    <a:lnTo>
                      <a:pt x="0" y="293"/>
                    </a:lnTo>
                    <a:lnTo>
                      <a:pt x="0" y="298"/>
                    </a:lnTo>
                    <a:lnTo>
                      <a:pt x="1" y="302"/>
                    </a:lnTo>
                    <a:lnTo>
                      <a:pt x="1" y="307"/>
                    </a:lnTo>
                    <a:lnTo>
                      <a:pt x="5" y="314"/>
                    </a:lnTo>
                    <a:lnTo>
                      <a:pt x="5" y="318"/>
                    </a:lnTo>
                    <a:lnTo>
                      <a:pt x="8" y="323"/>
                    </a:lnTo>
                    <a:lnTo>
                      <a:pt x="9" y="328"/>
                    </a:lnTo>
                    <a:lnTo>
                      <a:pt x="12" y="334"/>
                    </a:lnTo>
                    <a:lnTo>
                      <a:pt x="14" y="337"/>
                    </a:lnTo>
                    <a:lnTo>
                      <a:pt x="17" y="342"/>
                    </a:lnTo>
                    <a:lnTo>
                      <a:pt x="20" y="347"/>
                    </a:lnTo>
                    <a:lnTo>
                      <a:pt x="25" y="352"/>
                    </a:lnTo>
                    <a:lnTo>
                      <a:pt x="28" y="355"/>
                    </a:lnTo>
                    <a:lnTo>
                      <a:pt x="33" y="358"/>
                    </a:lnTo>
                    <a:lnTo>
                      <a:pt x="38" y="361"/>
                    </a:lnTo>
                    <a:lnTo>
                      <a:pt x="43" y="366"/>
                    </a:lnTo>
                    <a:lnTo>
                      <a:pt x="47" y="367"/>
                    </a:lnTo>
                    <a:lnTo>
                      <a:pt x="54" y="370"/>
                    </a:lnTo>
                    <a:lnTo>
                      <a:pt x="58" y="374"/>
                    </a:lnTo>
                    <a:lnTo>
                      <a:pt x="66" y="377"/>
                    </a:lnTo>
                    <a:lnTo>
                      <a:pt x="71" y="377"/>
                    </a:lnTo>
                    <a:lnTo>
                      <a:pt x="76" y="378"/>
                    </a:lnTo>
                    <a:lnTo>
                      <a:pt x="80" y="378"/>
                    </a:lnTo>
                    <a:lnTo>
                      <a:pt x="87" y="380"/>
                    </a:lnTo>
                    <a:lnTo>
                      <a:pt x="92" y="380"/>
                    </a:lnTo>
                    <a:lnTo>
                      <a:pt x="98" y="380"/>
                    </a:lnTo>
                    <a:lnTo>
                      <a:pt x="104" y="380"/>
                    </a:lnTo>
                    <a:lnTo>
                      <a:pt x="111" y="382"/>
                    </a:lnTo>
                    <a:lnTo>
                      <a:pt x="117" y="380"/>
                    </a:lnTo>
                    <a:lnTo>
                      <a:pt x="123" y="380"/>
                    </a:lnTo>
                    <a:lnTo>
                      <a:pt x="130" y="380"/>
                    </a:lnTo>
                    <a:lnTo>
                      <a:pt x="136" y="380"/>
                    </a:lnTo>
                    <a:lnTo>
                      <a:pt x="144" y="378"/>
                    </a:lnTo>
                    <a:lnTo>
                      <a:pt x="150" y="378"/>
                    </a:lnTo>
                    <a:lnTo>
                      <a:pt x="158" y="378"/>
                    </a:lnTo>
                    <a:lnTo>
                      <a:pt x="166" y="377"/>
                    </a:lnTo>
                    <a:lnTo>
                      <a:pt x="172" y="375"/>
                    </a:lnTo>
                    <a:lnTo>
                      <a:pt x="179" y="374"/>
                    </a:lnTo>
                    <a:lnTo>
                      <a:pt x="186" y="372"/>
                    </a:lnTo>
                    <a:lnTo>
                      <a:pt x="194" y="370"/>
                    </a:lnTo>
                    <a:lnTo>
                      <a:pt x="201" y="367"/>
                    </a:lnTo>
                    <a:lnTo>
                      <a:pt x="207" y="366"/>
                    </a:lnTo>
                    <a:lnTo>
                      <a:pt x="215" y="363"/>
                    </a:lnTo>
                    <a:lnTo>
                      <a:pt x="223" y="361"/>
                    </a:lnTo>
                    <a:lnTo>
                      <a:pt x="231" y="358"/>
                    </a:lnTo>
                    <a:lnTo>
                      <a:pt x="239" y="355"/>
                    </a:lnTo>
                    <a:lnTo>
                      <a:pt x="245" y="352"/>
                    </a:lnTo>
                    <a:lnTo>
                      <a:pt x="253" y="348"/>
                    </a:lnTo>
                    <a:lnTo>
                      <a:pt x="261" y="345"/>
                    </a:lnTo>
                    <a:lnTo>
                      <a:pt x="269" y="342"/>
                    </a:lnTo>
                    <a:lnTo>
                      <a:pt x="277" y="337"/>
                    </a:lnTo>
                    <a:lnTo>
                      <a:pt x="285" y="336"/>
                    </a:lnTo>
                    <a:lnTo>
                      <a:pt x="289" y="331"/>
                    </a:lnTo>
                    <a:lnTo>
                      <a:pt x="296" y="328"/>
                    </a:lnTo>
                    <a:lnTo>
                      <a:pt x="304" y="323"/>
                    </a:lnTo>
                    <a:lnTo>
                      <a:pt x="310" y="320"/>
                    </a:lnTo>
                    <a:lnTo>
                      <a:pt x="316" y="317"/>
                    </a:lnTo>
                    <a:lnTo>
                      <a:pt x="323" y="314"/>
                    </a:lnTo>
                    <a:lnTo>
                      <a:pt x="329" y="309"/>
                    </a:lnTo>
                    <a:lnTo>
                      <a:pt x="337" y="306"/>
                    </a:lnTo>
                    <a:lnTo>
                      <a:pt x="343" y="301"/>
                    </a:lnTo>
                    <a:lnTo>
                      <a:pt x="349" y="298"/>
                    </a:lnTo>
                    <a:lnTo>
                      <a:pt x="357" y="293"/>
                    </a:lnTo>
                    <a:lnTo>
                      <a:pt x="364" y="290"/>
                    </a:lnTo>
                    <a:lnTo>
                      <a:pt x="370" y="285"/>
                    </a:lnTo>
                    <a:lnTo>
                      <a:pt x="378" y="280"/>
                    </a:lnTo>
                    <a:lnTo>
                      <a:pt x="384" y="276"/>
                    </a:lnTo>
                    <a:lnTo>
                      <a:pt x="392" y="271"/>
                    </a:lnTo>
                    <a:lnTo>
                      <a:pt x="400" y="265"/>
                    </a:lnTo>
                    <a:lnTo>
                      <a:pt x="406" y="260"/>
                    </a:lnTo>
                    <a:lnTo>
                      <a:pt x="414" y="255"/>
                    </a:lnTo>
                    <a:lnTo>
                      <a:pt x="422" y="249"/>
                    </a:lnTo>
                    <a:lnTo>
                      <a:pt x="428" y="242"/>
                    </a:lnTo>
                    <a:lnTo>
                      <a:pt x="438" y="236"/>
                    </a:lnTo>
                    <a:lnTo>
                      <a:pt x="444" y="230"/>
                    </a:lnTo>
                    <a:lnTo>
                      <a:pt x="454" y="225"/>
                    </a:lnTo>
                    <a:lnTo>
                      <a:pt x="462" y="217"/>
                    </a:lnTo>
                    <a:lnTo>
                      <a:pt x="470" y="211"/>
                    </a:lnTo>
                    <a:lnTo>
                      <a:pt x="474" y="208"/>
                    </a:lnTo>
                    <a:lnTo>
                      <a:pt x="479" y="204"/>
                    </a:lnTo>
                    <a:lnTo>
                      <a:pt x="484" y="200"/>
                    </a:lnTo>
                    <a:lnTo>
                      <a:pt x="489" y="197"/>
                    </a:lnTo>
                    <a:lnTo>
                      <a:pt x="493" y="192"/>
                    </a:lnTo>
                    <a:lnTo>
                      <a:pt x="498" y="189"/>
                    </a:lnTo>
                    <a:lnTo>
                      <a:pt x="503" y="184"/>
                    </a:lnTo>
                    <a:lnTo>
                      <a:pt x="508" y="181"/>
                    </a:lnTo>
                    <a:lnTo>
                      <a:pt x="512" y="176"/>
                    </a:lnTo>
                    <a:lnTo>
                      <a:pt x="515" y="173"/>
                    </a:lnTo>
                    <a:lnTo>
                      <a:pt x="522" y="170"/>
                    </a:lnTo>
                    <a:lnTo>
                      <a:pt x="527" y="165"/>
                    </a:lnTo>
                    <a:lnTo>
                      <a:pt x="531" y="160"/>
                    </a:lnTo>
                    <a:lnTo>
                      <a:pt x="538" y="155"/>
                    </a:lnTo>
                    <a:lnTo>
                      <a:pt x="542" y="151"/>
                    </a:lnTo>
                    <a:lnTo>
                      <a:pt x="547" y="146"/>
                    </a:lnTo>
                    <a:lnTo>
                      <a:pt x="552" y="141"/>
                    </a:lnTo>
                    <a:lnTo>
                      <a:pt x="557" y="136"/>
                    </a:lnTo>
                    <a:lnTo>
                      <a:pt x="561" y="132"/>
                    </a:lnTo>
                    <a:lnTo>
                      <a:pt x="566" y="129"/>
                    </a:lnTo>
                    <a:lnTo>
                      <a:pt x="571" y="124"/>
                    </a:lnTo>
                    <a:lnTo>
                      <a:pt x="576" y="119"/>
                    </a:lnTo>
                    <a:lnTo>
                      <a:pt x="580" y="114"/>
                    </a:lnTo>
                    <a:lnTo>
                      <a:pt x="585" y="110"/>
                    </a:lnTo>
                    <a:lnTo>
                      <a:pt x="590" y="105"/>
                    </a:lnTo>
                    <a:lnTo>
                      <a:pt x="593" y="100"/>
                    </a:lnTo>
                    <a:lnTo>
                      <a:pt x="598" y="95"/>
                    </a:lnTo>
                    <a:lnTo>
                      <a:pt x="602" y="92"/>
                    </a:lnTo>
                    <a:lnTo>
                      <a:pt x="607" y="87"/>
                    </a:lnTo>
                    <a:lnTo>
                      <a:pt x="610" y="83"/>
                    </a:lnTo>
                    <a:lnTo>
                      <a:pt x="615" y="78"/>
                    </a:lnTo>
                    <a:lnTo>
                      <a:pt x="618" y="73"/>
                    </a:lnTo>
                    <a:lnTo>
                      <a:pt x="623" y="68"/>
                    </a:lnTo>
                    <a:lnTo>
                      <a:pt x="626" y="64"/>
                    </a:lnTo>
                    <a:lnTo>
                      <a:pt x="631" y="59"/>
                    </a:lnTo>
                    <a:lnTo>
                      <a:pt x="634" y="54"/>
                    </a:lnTo>
                    <a:lnTo>
                      <a:pt x="637" y="49"/>
                    </a:lnTo>
                    <a:lnTo>
                      <a:pt x="640" y="45"/>
                    </a:lnTo>
                    <a:lnTo>
                      <a:pt x="644" y="40"/>
                    </a:lnTo>
                    <a:lnTo>
                      <a:pt x="647" y="37"/>
                    </a:lnTo>
                    <a:lnTo>
                      <a:pt x="653" y="27"/>
                    </a:lnTo>
                    <a:lnTo>
                      <a:pt x="661" y="19"/>
                    </a:lnTo>
                    <a:lnTo>
                      <a:pt x="628" y="0"/>
                    </a:lnTo>
                    <a:lnTo>
                      <a:pt x="6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rot="17662200">
                <a:off x="5288400" y="1803240"/>
                <a:ext cx="36360" cy="53640"/>
              </a:xfrm>
              <a:custGeom>
                <a:avLst/>
                <a:gdLst/>
                <a:ahLst/>
                <a:rect l="l" t="t" r="r" b="b"/>
                <a:pathLst>
                  <a:path w="100" h="118">
                    <a:moveTo>
                      <a:pt x="0" y="0"/>
                    </a:moveTo>
                    <a:lnTo>
                      <a:pt x="0" y="1"/>
                    </a:lnTo>
                    <a:lnTo>
                      <a:pt x="5" y="4"/>
                    </a:lnTo>
                    <a:lnTo>
                      <a:pt x="8" y="8"/>
                    </a:lnTo>
                    <a:lnTo>
                      <a:pt x="13" y="11"/>
                    </a:lnTo>
                    <a:lnTo>
                      <a:pt x="17" y="14"/>
                    </a:lnTo>
                    <a:lnTo>
                      <a:pt x="25" y="19"/>
                    </a:lnTo>
                    <a:lnTo>
                      <a:pt x="30" y="23"/>
                    </a:lnTo>
                    <a:lnTo>
                      <a:pt x="38" y="27"/>
                    </a:lnTo>
                    <a:lnTo>
                      <a:pt x="41" y="30"/>
                    </a:lnTo>
                    <a:lnTo>
                      <a:pt x="46" y="31"/>
                    </a:lnTo>
                    <a:lnTo>
                      <a:pt x="51" y="34"/>
                    </a:lnTo>
                    <a:lnTo>
                      <a:pt x="55" y="36"/>
                    </a:lnTo>
                    <a:lnTo>
                      <a:pt x="60" y="38"/>
                    </a:lnTo>
                    <a:lnTo>
                      <a:pt x="65" y="39"/>
                    </a:lnTo>
                    <a:lnTo>
                      <a:pt x="70" y="42"/>
                    </a:lnTo>
                    <a:lnTo>
                      <a:pt x="76" y="44"/>
                    </a:lnTo>
                    <a:lnTo>
                      <a:pt x="81" y="45"/>
                    </a:lnTo>
                    <a:lnTo>
                      <a:pt x="87" y="49"/>
                    </a:lnTo>
                    <a:lnTo>
                      <a:pt x="93" y="50"/>
                    </a:lnTo>
                    <a:lnTo>
                      <a:pt x="100" y="53"/>
                    </a:lnTo>
                    <a:lnTo>
                      <a:pt x="100" y="118"/>
                    </a:lnTo>
                    <a:lnTo>
                      <a:pt x="96" y="118"/>
                    </a:lnTo>
                    <a:lnTo>
                      <a:pt x="90" y="117"/>
                    </a:lnTo>
                    <a:lnTo>
                      <a:pt x="85" y="115"/>
                    </a:lnTo>
                    <a:lnTo>
                      <a:pt x="79" y="113"/>
                    </a:lnTo>
                    <a:lnTo>
                      <a:pt x="73" y="112"/>
                    </a:lnTo>
                    <a:lnTo>
                      <a:pt x="66" y="110"/>
                    </a:lnTo>
                    <a:lnTo>
                      <a:pt x="58" y="107"/>
                    </a:lnTo>
                    <a:lnTo>
                      <a:pt x="51" y="104"/>
                    </a:lnTo>
                    <a:lnTo>
                      <a:pt x="43" y="99"/>
                    </a:lnTo>
                    <a:lnTo>
                      <a:pt x="35" y="96"/>
                    </a:lnTo>
                    <a:lnTo>
                      <a:pt x="30" y="93"/>
                    </a:lnTo>
                    <a:lnTo>
                      <a:pt x="25" y="90"/>
                    </a:lnTo>
                    <a:lnTo>
                      <a:pt x="20" y="87"/>
                    </a:lnTo>
                    <a:lnTo>
                      <a:pt x="17" y="85"/>
                    </a:lnTo>
                    <a:lnTo>
                      <a:pt x="13" y="80"/>
                    </a:lnTo>
                    <a:lnTo>
                      <a:pt x="8" y="77"/>
                    </a:lnTo>
                    <a:lnTo>
                      <a:pt x="3" y="74"/>
                    </a:lnTo>
                    <a:lnTo>
                      <a:pt x="0" y="72"/>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92" name=""/>
              <p:cNvSpPr/>
              <p:nvPr/>
            </p:nvSpPr>
            <p:spPr>
              <a:xfrm flipH="1" rot="17662200">
                <a:off x="5333760" y="1823400"/>
                <a:ext cx="36360" cy="54360"/>
              </a:xfrm>
              <a:custGeom>
                <a:avLst/>
                <a:gdLst/>
                <a:ahLst/>
                <a:rect l="l" t="t" r="r" b="b"/>
                <a:pathLst>
                  <a:path w="100" h="121">
                    <a:moveTo>
                      <a:pt x="0" y="0"/>
                    </a:moveTo>
                    <a:lnTo>
                      <a:pt x="0" y="2"/>
                    </a:lnTo>
                    <a:lnTo>
                      <a:pt x="5" y="5"/>
                    </a:lnTo>
                    <a:lnTo>
                      <a:pt x="8" y="8"/>
                    </a:lnTo>
                    <a:lnTo>
                      <a:pt x="13" y="11"/>
                    </a:lnTo>
                    <a:lnTo>
                      <a:pt x="17" y="15"/>
                    </a:lnTo>
                    <a:lnTo>
                      <a:pt x="22" y="19"/>
                    </a:lnTo>
                    <a:lnTo>
                      <a:pt x="28" y="22"/>
                    </a:lnTo>
                    <a:lnTo>
                      <a:pt x="36" y="27"/>
                    </a:lnTo>
                    <a:lnTo>
                      <a:pt x="39" y="29"/>
                    </a:lnTo>
                    <a:lnTo>
                      <a:pt x="44" y="32"/>
                    </a:lnTo>
                    <a:lnTo>
                      <a:pt x="49" y="34"/>
                    </a:lnTo>
                    <a:lnTo>
                      <a:pt x="54" y="37"/>
                    </a:lnTo>
                    <a:lnTo>
                      <a:pt x="58" y="38"/>
                    </a:lnTo>
                    <a:lnTo>
                      <a:pt x="63" y="40"/>
                    </a:lnTo>
                    <a:lnTo>
                      <a:pt x="68" y="43"/>
                    </a:lnTo>
                    <a:lnTo>
                      <a:pt x="74" y="45"/>
                    </a:lnTo>
                    <a:lnTo>
                      <a:pt x="81" y="46"/>
                    </a:lnTo>
                    <a:lnTo>
                      <a:pt x="87" y="49"/>
                    </a:lnTo>
                    <a:lnTo>
                      <a:pt x="93" y="51"/>
                    </a:lnTo>
                    <a:lnTo>
                      <a:pt x="100" y="54"/>
                    </a:lnTo>
                    <a:lnTo>
                      <a:pt x="100" y="121"/>
                    </a:lnTo>
                    <a:lnTo>
                      <a:pt x="96" y="121"/>
                    </a:lnTo>
                    <a:lnTo>
                      <a:pt x="90" y="119"/>
                    </a:lnTo>
                    <a:lnTo>
                      <a:pt x="85" y="117"/>
                    </a:lnTo>
                    <a:lnTo>
                      <a:pt x="79" y="116"/>
                    </a:lnTo>
                    <a:lnTo>
                      <a:pt x="73" y="113"/>
                    </a:lnTo>
                    <a:lnTo>
                      <a:pt x="66" y="111"/>
                    </a:lnTo>
                    <a:lnTo>
                      <a:pt x="58" y="108"/>
                    </a:lnTo>
                    <a:lnTo>
                      <a:pt x="51" y="105"/>
                    </a:lnTo>
                    <a:lnTo>
                      <a:pt x="43" y="100"/>
                    </a:lnTo>
                    <a:lnTo>
                      <a:pt x="35" y="97"/>
                    </a:lnTo>
                    <a:lnTo>
                      <a:pt x="30" y="94"/>
                    </a:lnTo>
                    <a:lnTo>
                      <a:pt x="25" y="90"/>
                    </a:lnTo>
                    <a:lnTo>
                      <a:pt x="20" y="87"/>
                    </a:lnTo>
                    <a:lnTo>
                      <a:pt x="17" y="86"/>
                    </a:lnTo>
                    <a:lnTo>
                      <a:pt x="13" y="83"/>
                    </a:lnTo>
                    <a:lnTo>
                      <a:pt x="8" y="79"/>
                    </a:lnTo>
                    <a:lnTo>
                      <a:pt x="3" y="76"/>
                    </a:lnTo>
                    <a:lnTo>
                      <a:pt x="0" y="73"/>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93" name=""/>
              <p:cNvSpPr/>
              <p:nvPr/>
            </p:nvSpPr>
            <p:spPr>
              <a:xfrm flipH="1" rot="17662200">
                <a:off x="5380560" y="1846080"/>
                <a:ext cx="36360" cy="50760"/>
              </a:xfrm>
              <a:custGeom>
                <a:avLst/>
                <a:gdLst/>
                <a:ahLst/>
                <a:rect l="l" t="t" r="r" b="b"/>
                <a:pathLst>
                  <a:path w="100" h="115">
                    <a:moveTo>
                      <a:pt x="0" y="0"/>
                    </a:moveTo>
                    <a:lnTo>
                      <a:pt x="0" y="1"/>
                    </a:lnTo>
                    <a:lnTo>
                      <a:pt x="5" y="5"/>
                    </a:lnTo>
                    <a:lnTo>
                      <a:pt x="8" y="6"/>
                    </a:lnTo>
                    <a:lnTo>
                      <a:pt x="13" y="8"/>
                    </a:lnTo>
                    <a:lnTo>
                      <a:pt x="17" y="12"/>
                    </a:lnTo>
                    <a:lnTo>
                      <a:pt x="22" y="16"/>
                    </a:lnTo>
                    <a:lnTo>
                      <a:pt x="28" y="19"/>
                    </a:lnTo>
                    <a:lnTo>
                      <a:pt x="36" y="22"/>
                    </a:lnTo>
                    <a:lnTo>
                      <a:pt x="39" y="23"/>
                    </a:lnTo>
                    <a:lnTo>
                      <a:pt x="44" y="27"/>
                    </a:lnTo>
                    <a:lnTo>
                      <a:pt x="49" y="28"/>
                    </a:lnTo>
                    <a:lnTo>
                      <a:pt x="54" y="31"/>
                    </a:lnTo>
                    <a:lnTo>
                      <a:pt x="58" y="33"/>
                    </a:lnTo>
                    <a:lnTo>
                      <a:pt x="63" y="35"/>
                    </a:lnTo>
                    <a:lnTo>
                      <a:pt x="68" y="38"/>
                    </a:lnTo>
                    <a:lnTo>
                      <a:pt x="74" y="39"/>
                    </a:lnTo>
                    <a:lnTo>
                      <a:pt x="81" y="41"/>
                    </a:lnTo>
                    <a:lnTo>
                      <a:pt x="87" y="44"/>
                    </a:lnTo>
                    <a:lnTo>
                      <a:pt x="93" y="46"/>
                    </a:lnTo>
                    <a:lnTo>
                      <a:pt x="100" y="49"/>
                    </a:lnTo>
                    <a:lnTo>
                      <a:pt x="100" y="115"/>
                    </a:lnTo>
                    <a:lnTo>
                      <a:pt x="96" y="114"/>
                    </a:lnTo>
                    <a:lnTo>
                      <a:pt x="90" y="112"/>
                    </a:lnTo>
                    <a:lnTo>
                      <a:pt x="85" y="110"/>
                    </a:lnTo>
                    <a:lnTo>
                      <a:pt x="79" y="109"/>
                    </a:lnTo>
                    <a:lnTo>
                      <a:pt x="73" y="106"/>
                    </a:lnTo>
                    <a:lnTo>
                      <a:pt x="66" y="104"/>
                    </a:lnTo>
                    <a:lnTo>
                      <a:pt x="58" y="101"/>
                    </a:lnTo>
                    <a:lnTo>
                      <a:pt x="51" y="98"/>
                    </a:lnTo>
                    <a:lnTo>
                      <a:pt x="43" y="93"/>
                    </a:lnTo>
                    <a:lnTo>
                      <a:pt x="35" y="90"/>
                    </a:lnTo>
                    <a:lnTo>
                      <a:pt x="30" y="88"/>
                    </a:lnTo>
                    <a:lnTo>
                      <a:pt x="25" y="85"/>
                    </a:lnTo>
                    <a:lnTo>
                      <a:pt x="20" y="84"/>
                    </a:lnTo>
                    <a:lnTo>
                      <a:pt x="17" y="80"/>
                    </a:lnTo>
                    <a:lnTo>
                      <a:pt x="13" y="77"/>
                    </a:lnTo>
                    <a:lnTo>
                      <a:pt x="8" y="76"/>
                    </a:lnTo>
                    <a:lnTo>
                      <a:pt x="3" y="73"/>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4" name=""/>
              <p:cNvSpPr/>
              <p:nvPr/>
            </p:nvSpPr>
            <p:spPr>
              <a:xfrm flipH="1" rot="17662200">
                <a:off x="5425560" y="1866240"/>
                <a:ext cx="36360" cy="50760"/>
              </a:xfrm>
              <a:custGeom>
                <a:avLst/>
                <a:gdLst/>
                <a:ahLst/>
                <a:rect l="l" t="t" r="r" b="b"/>
                <a:pathLst>
                  <a:path w="100" h="112">
                    <a:moveTo>
                      <a:pt x="0" y="0"/>
                    </a:moveTo>
                    <a:lnTo>
                      <a:pt x="0" y="0"/>
                    </a:lnTo>
                    <a:lnTo>
                      <a:pt x="5" y="3"/>
                    </a:lnTo>
                    <a:lnTo>
                      <a:pt x="8" y="6"/>
                    </a:lnTo>
                    <a:lnTo>
                      <a:pt x="13" y="8"/>
                    </a:lnTo>
                    <a:lnTo>
                      <a:pt x="17" y="11"/>
                    </a:lnTo>
                    <a:lnTo>
                      <a:pt x="24" y="16"/>
                    </a:lnTo>
                    <a:lnTo>
                      <a:pt x="30" y="19"/>
                    </a:lnTo>
                    <a:lnTo>
                      <a:pt x="36" y="22"/>
                    </a:lnTo>
                    <a:lnTo>
                      <a:pt x="41" y="24"/>
                    </a:lnTo>
                    <a:lnTo>
                      <a:pt x="46" y="25"/>
                    </a:lnTo>
                    <a:lnTo>
                      <a:pt x="51" y="27"/>
                    </a:lnTo>
                    <a:lnTo>
                      <a:pt x="55" y="30"/>
                    </a:lnTo>
                    <a:lnTo>
                      <a:pt x="60" y="32"/>
                    </a:lnTo>
                    <a:lnTo>
                      <a:pt x="63" y="33"/>
                    </a:lnTo>
                    <a:lnTo>
                      <a:pt x="70" y="35"/>
                    </a:lnTo>
                    <a:lnTo>
                      <a:pt x="74" y="38"/>
                    </a:lnTo>
                    <a:lnTo>
                      <a:pt x="81" y="40"/>
                    </a:lnTo>
                    <a:lnTo>
                      <a:pt x="87" y="41"/>
                    </a:lnTo>
                    <a:lnTo>
                      <a:pt x="93" y="44"/>
                    </a:lnTo>
                    <a:lnTo>
                      <a:pt x="100" y="46"/>
                    </a:lnTo>
                    <a:lnTo>
                      <a:pt x="100" y="112"/>
                    </a:lnTo>
                    <a:lnTo>
                      <a:pt x="96" y="112"/>
                    </a:lnTo>
                    <a:lnTo>
                      <a:pt x="90" y="111"/>
                    </a:lnTo>
                    <a:lnTo>
                      <a:pt x="85" y="109"/>
                    </a:lnTo>
                    <a:lnTo>
                      <a:pt x="81" y="108"/>
                    </a:lnTo>
                    <a:lnTo>
                      <a:pt x="74" y="106"/>
                    </a:lnTo>
                    <a:lnTo>
                      <a:pt x="68" y="104"/>
                    </a:lnTo>
                    <a:lnTo>
                      <a:pt x="60" y="100"/>
                    </a:lnTo>
                    <a:lnTo>
                      <a:pt x="52" y="98"/>
                    </a:lnTo>
                    <a:lnTo>
                      <a:pt x="43" y="93"/>
                    </a:lnTo>
                    <a:lnTo>
                      <a:pt x="35" y="90"/>
                    </a:lnTo>
                    <a:lnTo>
                      <a:pt x="30" y="87"/>
                    </a:lnTo>
                    <a:lnTo>
                      <a:pt x="25" y="85"/>
                    </a:lnTo>
                    <a:lnTo>
                      <a:pt x="22" y="82"/>
                    </a:lnTo>
                    <a:lnTo>
                      <a:pt x="17" y="81"/>
                    </a:lnTo>
                    <a:lnTo>
                      <a:pt x="13" y="78"/>
                    </a:lnTo>
                    <a:lnTo>
                      <a:pt x="8" y="74"/>
                    </a:lnTo>
                    <a:lnTo>
                      <a:pt x="3" y="71"/>
                    </a:lnTo>
                    <a:lnTo>
                      <a:pt x="0" y="68"/>
                    </a:lnTo>
                    <a:lnTo>
                      <a:pt x="0"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5" name=""/>
              <p:cNvSpPr/>
              <p:nvPr/>
            </p:nvSpPr>
            <p:spPr>
              <a:xfrm flipH="1" rot="17662200">
                <a:off x="5466240" y="1890360"/>
                <a:ext cx="35280" cy="40680"/>
              </a:xfrm>
              <a:custGeom>
                <a:avLst/>
                <a:gdLst/>
                <a:ahLst/>
                <a:rect l="l" t="t" r="r" b="b"/>
                <a:pathLst>
                  <a:path w="99" h="91">
                    <a:moveTo>
                      <a:pt x="0" y="0"/>
                    </a:moveTo>
                    <a:lnTo>
                      <a:pt x="0" y="1"/>
                    </a:lnTo>
                    <a:lnTo>
                      <a:pt x="4" y="4"/>
                    </a:lnTo>
                    <a:lnTo>
                      <a:pt x="7" y="6"/>
                    </a:lnTo>
                    <a:lnTo>
                      <a:pt x="12" y="8"/>
                    </a:lnTo>
                    <a:lnTo>
                      <a:pt x="17" y="11"/>
                    </a:lnTo>
                    <a:lnTo>
                      <a:pt x="23" y="16"/>
                    </a:lnTo>
                    <a:lnTo>
                      <a:pt x="28" y="19"/>
                    </a:lnTo>
                    <a:lnTo>
                      <a:pt x="36" y="22"/>
                    </a:lnTo>
                    <a:lnTo>
                      <a:pt x="39" y="23"/>
                    </a:lnTo>
                    <a:lnTo>
                      <a:pt x="44" y="25"/>
                    </a:lnTo>
                    <a:lnTo>
                      <a:pt x="49" y="28"/>
                    </a:lnTo>
                    <a:lnTo>
                      <a:pt x="53" y="30"/>
                    </a:lnTo>
                    <a:lnTo>
                      <a:pt x="58" y="31"/>
                    </a:lnTo>
                    <a:lnTo>
                      <a:pt x="61" y="33"/>
                    </a:lnTo>
                    <a:lnTo>
                      <a:pt x="68" y="36"/>
                    </a:lnTo>
                    <a:lnTo>
                      <a:pt x="74" y="38"/>
                    </a:lnTo>
                    <a:lnTo>
                      <a:pt x="79" y="39"/>
                    </a:lnTo>
                    <a:lnTo>
                      <a:pt x="85" y="42"/>
                    </a:lnTo>
                    <a:lnTo>
                      <a:pt x="93" y="44"/>
                    </a:lnTo>
                    <a:lnTo>
                      <a:pt x="99" y="47"/>
                    </a:lnTo>
                    <a:lnTo>
                      <a:pt x="99" y="61"/>
                    </a:lnTo>
                    <a:lnTo>
                      <a:pt x="37" y="91"/>
                    </a:lnTo>
                    <a:lnTo>
                      <a:pt x="36" y="91"/>
                    </a:lnTo>
                    <a:lnTo>
                      <a:pt x="33" y="90"/>
                    </a:lnTo>
                    <a:lnTo>
                      <a:pt x="30" y="88"/>
                    </a:lnTo>
                    <a:lnTo>
                      <a:pt x="25" y="87"/>
                    </a:lnTo>
                    <a:lnTo>
                      <a:pt x="18" y="82"/>
                    </a:lnTo>
                    <a:lnTo>
                      <a:pt x="12" y="79"/>
                    </a:lnTo>
                    <a:lnTo>
                      <a:pt x="6" y="74"/>
                    </a:lnTo>
                    <a:lnTo>
                      <a:pt x="0" y="69"/>
                    </a:lnTo>
                    <a:lnTo>
                      <a:pt x="0"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96" name=""/>
              <p:cNvSpPr/>
              <p:nvPr/>
            </p:nvSpPr>
            <p:spPr>
              <a:xfrm flipH="1" rot="17662200">
                <a:off x="5553000" y="1938600"/>
                <a:ext cx="30600" cy="24840"/>
              </a:xfrm>
              <a:custGeom>
                <a:avLst/>
                <a:gdLst/>
                <a:ahLst/>
                <a:rect l="l" t="t" r="r" b="b"/>
                <a:pathLst>
                  <a:path w="85" h="57">
                    <a:moveTo>
                      <a:pt x="85" y="0"/>
                    </a:moveTo>
                    <a:lnTo>
                      <a:pt x="85" y="57"/>
                    </a:lnTo>
                    <a:lnTo>
                      <a:pt x="82" y="56"/>
                    </a:lnTo>
                    <a:lnTo>
                      <a:pt x="77" y="54"/>
                    </a:lnTo>
                    <a:lnTo>
                      <a:pt x="73" y="54"/>
                    </a:lnTo>
                    <a:lnTo>
                      <a:pt x="68" y="53"/>
                    </a:lnTo>
                    <a:lnTo>
                      <a:pt x="61" y="51"/>
                    </a:lnTo>
                    <a:lnTo>
                      <a:pt x="55" y="49"/>
                    </a:lnTo>
                    <a:lnTo>
                      <a:pt x="49" y="46"/>
                    </a:lnTo>
                    <a:lnTo>
                      <a:pt x="42" y="45"/>
                    </a:lnTo>
                    <a:lnTo>
                      <a:pt x="35" y="41"/>
                    </a:lnTo>
                    <a:lnTo>
                      <a:pt x="28" y="38"/>
                    </a:lnTo>
                    <a:lnTo>
                      <a:pt x="20" y="35"/>
                    </a:lnTo>
                    <a:lnTo>
                      <a:pt x="12" y="30"/>
                    </a:lnTo>
                    <a:lnTo>
                      <a:pt x="6" y="26"/>
                    </a:lnTo>
                    <a:lnTo>
                      <a:pt x="0" y="22"/>
                    </a:lnTo>
                    <a:lnTo>
                      <a:pt x="85" y="0"/>
                    </a:lnTo>
                    <a:lnTo>
                      <a:pt x="85"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7" name=""/>
              <p:cNvSpPr/>
              <p:nvPr/>
            </p:nvSpPr>
            <p:spPr>
              <a:xfrm flipH="1" rot="17662200">
                <a:off x="5586480" y="1939680"/>
                <a:ext cx="35280" cy="50400"/>
              </a:xfrm>
              <a:custGeom>
                <a:avLst/>
                <a:gdLst/>
                <a:ahLst/>
                <a:rect l="l" t="t" r="r" b="b"/>
                <a:pathLst>
                  <a:path w="99" h="114">
                    <a:moveTo>
                      <a:pt x="0" y="0"/>
                    </a:moveTo>
                    <a:lnTo>
                      <a:pt x="0" y="0"/>
                    </a:lnTo>
                    <a:lnTo>
                      <a:pt x="4" y="3"/>
                    </a:lnTo>
                    <a:lnTo>
                      <a:pt x="7" y="7"/>
                    </a:lnTo>
                    <a:lnTo>
                      <a:pt x="12" y="8"/>
                    </a:lnTo>
                    <a:lnTo>
                      <a:pt x="17" y="11"/>
                    </a:lnTo>
                    <a:lnTo>
                      <a:pt x="23" y="16"/>
                    </a:lnTo>
                    <a:lnTo>
                      <a:pt x="28" y="19"/>
                    </a:lnTo>
                    <a:lnTo>
                      <a:pt x="36" y="22"/>
                    </a:lnTo>
                    <a:lnTo>
                      <a:pt x="39" y="24"/>
                    </a:lnTo>
                    <a:lnTo>
                      <a:pt x="44" y="26"/>
                    </a:lnTo>
                    <a:lnTo>
                      <a:pt x="49" y="29"/>
                    </a:lnTo>
                    <a:lnTo>
                      <a:pt x="53" y="30"/>
                    </a:lnTo>
                    <a:lnTo>
                      <a:pt x="58" y="32"/>
                    </a:lnTo>
                    <a:lnTo>
                      <a:pt x="63" y="35"/>
                    </a:lnTo>
                    <a:lnTo>
                      <a:pt x="68" y="35"/>
                    </a:lnTo>
                    <a:lnTo>
                      <a:pt x="74" y="38"/>
                    </a:lnTo>
                    <a:lnTo>
                      <a:pt x="80" y="40"/>
                    </a:lnTo>
                    <a:lnTo>
                      <a:pt x="87" y="41"/>
                    </a:lnTo>
                    <a:lnTo>
                      <a:pt x="93" y="45"/>
                    </a:lnTo>
                    <a:lnTo>
                      <a:pt x="99" y="46"/>
                    </a:lnTo>
                    <a:lnTo>
                      <a:pt x="99" y="114"/>
                    </a:lnTo>
                    <a:lnTo>
                      <a:pt x="96" y="114"/>
                    </a:lnTo>
                    <a:lnTo>
                      <a:pt x="90" y="113"/>
                    </a:lnTo>
                    <a:lnTo>
                      <a:pt x="85" y="111"/>
                    </a:lnTo>
                    <a:lnTo>
                      <a:pt x="79" y="109"/>
                    </a:lnTo>
                    <a:lnTo>
                      <a:pt x="72" y="106"/>
                    </a:lnTo>
                    <a:lnTo>
                      <a:pt x="66" y="105"/>
                    </a:lnTo>
                    <a:lnTo>
                      <a:pt x="58" y="101"/>
                    </a:lnTo>
                    <a:lnTo>
                      <a:pt x="50" y="98"/>
                    </a:lnTo>
                    <a:lnTo>
                      <a:pt x="42" y="95"/>
                    </a:lnTo>
                    <a:lnTo>
                      <a:pt x="34" y="90"/>
                    </a:lnTo>
                    <a:lnTo>
                      <a:pt x="30" y="87"/>
                    </a:lnTo>
                    <a:lnTo>
                      <a:pt x="25" y="86"/>
                    </a:lnTo>
                    <a:lnTo>
                      <a:pt x="20" y="82"/>
                    </a:lnTo>
                    <a:lnTo>
                      <a:pt x="17" y="81"/>
                    </a:lnTo>
                    <a:lnTo>
                      <a:pt x="12" y="78"/>
                    </a:lnTo>
                    <a:lnTo>
                      <a:pt x="7" y="75"/>
                    </a:lnTo>
                    <a:lnTo>
                      <a:pt x="3" y="71"/>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98" name=""/>
              <p:cNvSpPr/>
              <p:nvPr/>
            </p:nvSpPr>
            <p:spPr>
              <a:xfrm flipH="1" rot="17662200">
                <a:off x="5633280" y="1958760"/>
                <a:ext cx="36360" cy="54360"/>
              </a:xfrm>
              <a:custGeom>
                <a:avLst/>
                <a:gdLst/>
                <a:ahLst/>
                <a:rect l="l" t="t" r="r" b="b"/>
                <a:pathLst>
                  <a:path w="101" h="122">
                    <a:moveTo>
                      <a:pt x="0" y="0"/>
                    </a:moveTo>
                    <a:lnTo>
                      <a:pt x="2" y="2"/>
                    </a:lnTo>
                    <a:lnTo>
                      <a:pt x="6" y="5"/>
                    </a:lnTo>
                    <a:lnTo>
                      <a:pt x="9" y="6"/>
                    </a:lnTo>
                    <a:lnTo>
                      <a:pt x="14" y="10"/>
                    </a:lnTo>
                    <a:lnTo>
                      <a:pt x="19" y="13"/>
                    </a:lnTo>
                    <a:lnTo>
                      <a:pt x="25" y="16"/>
                    </a:lnTo>
                    <a:lnTo>
                      <a:pt x="32" y="19"/>
                    </a:lnTo>
                    <a:lnTo>
                      <a:pt x="39" y="24"/>
                    </a:lnTo>
                    <a:lnTo>
                      <a:pt x="44" y="25"/>
                    </a:lnTo>
                    <a:lnTo>
                      <a:pt x="47" y="27"/>
                    </a:lnTo>
                    <a:lnTo>
                      <a:pt x="52" y="30"/>
                    </a:lnTo>
                    <a:lnTo>
                      <a:pt x="58" y="32"/>
                    </a:lnTo>
                    <a:lnTo>
                      <a:pt x="62" y="33"/>
                    </a:lnTo>
                    <a:lnTo>
                      <a:pt x="66" y="36"/>
                    </a:lnTo>
                    <a:lnTo>
                      <a:pt x="71" y="38"/>
                    </a:lnTo>
                    <a:lnTo>
                      <a:pt x="77" y="40"/>
                    </a:lnTo>
                    <a:lnTo>
                      <a:pt x="82" y="41"/>
                    </a:lnTo>
                    <a:lnTo>
                      <a:pt x="89" y="44"/>
                    </a:lnTo>
                    <a:lnTo>
                      <a:pt x="95" y="46"/>
                    </a:lnTo>
                    <a:lnTo>
                      <a:pt x="101" y="48"/>
                    </a:lnTo>
                    <a:lnTo>
                      <a:pt x="101" y="122"/>
                    </a:lnTo>
                    <a:lnTo>
                      <a:pt x="98" y="120"/>
                    </a:lnTo>
                    <a:lnTo>
                      <a:pt x="93" y="119"/>
                    </a:lnTo>
                    <a:lnTo>
                      <a:pt x="87" y="116"/>
                    </a:lnTo>
                    <a:lnTo>
                      <a:pt x="82" y="114"/>
                    </a:lnTo>
                    <a:lnTo>
                      <a:pt x="76" y="112"/>
                    </a:lnTo>
                    <a:lnTo>
                      <a:pt x="70" y="109"/>
                    </a:lnTo>
                    <a:lnTo>
                      <a:pt x="62" y="106"/>
                    </a:lnTo>
                    <a:lnTo>
                      <a:pt x="55" y="103"/>
                    </a:lnTo>
                    <a:lnTo>
                      <a:pt x="51" y="100"/>
                    </a:lnTo>
                    <a:lnTo>
                      <a:pt x="46" y="98"/>
                    </a:lnTo>
                    <a:lnTo>
                      <a:pt x="41" y="95"/>
                    </a:lnTo>
                    <a:lnTo>
                      <a:pt x="38" y="93"/>
                    </a:lnTo>
                    <a:lnTo>
                      <a:pt x="33" y="90"/>
                    </a:lnTo>
                    <a:lnTo>
                      <a:pt x="28" y="87"/>
                    </a:lnTo>
                    <a:lnTo>
                      <a:pt x="24" y="84"/>
                    </a:lnTo>
                    <a:lnTo>
                      <a:pt x="19" y="82"/>
                    </a:lnTo>
                    <a:lnTo>
                      <a:pt x="14" y="79"/>
                    </a:lnTo>
                    <a:lnTo>
                      <a:pt x="9" y="76"/>
                    </a:lnTo>
                    <a:lnTo>
                      <a:pt x="5" y="73"/>
                    </a:lnTo>
                    <a:lnTo>
                      <a:pt x="0" y="70"/>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599" name=""/>
            <p:cNvSpPr/>
            <p:nvPr/>
          </p:nvSpPr>
          <p:spPr>
            <a:xfrm flipH="1" rot="284400">
              <a:off x="4988160" y="1945800"/>
              <a:ext cx="154440" cy="528840"/>
            </a:xfrm>
            <a:custGeom>
              <a:avLst/>
              <a:gdLst/>
              <a:ahLst/>
              <a:rect l="l" t="t" r="r" b="b"/>
              <a:pathLst>
                <a:path w="147" h="606">
                  <a:moveTo>
                    <a:pt x="0" y="0"/>
                  </a:moveTo>
                  <a:cubicBezTo>
                    <a:pt x="6" y="48"/>
                    <a:pt x="15" y="87"/>
                    <a:pt x="29" y="132"/>
                  </a:cubicBezTo>
                  <a:cubicBezTo>
                    <a:pt x="32" y="259"/>
                    <a:pt x="16" y="416"/>
                    <a:pt x="58" y="547"/>
                  </a:cubicBezTo>
                  <a:cubicBezTo>
                    <a:pt x="68" y="606"/>
                    <a:pt x="101" y="567"/>
                    <a:pt x="108" y="533"/>
                  </a:cubicBezTo>
                  <a:cubicBezTo>
                    <a:pt x="115" y="499"/>
                    <a:pt x="99" y="421"/>
                    <a:pt x="103" y="341"/>
                  </a:cubicBezTo>
                  <a:cubicBezTo>
                    <a:pt x="96" y="130"/>
                    <a:pt x="147" y="98"/>
                    <a:pt x="132" y="53"/>
                  </a:cubicBez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0" name=""/>
          <p:cNvGrpSpPr/>
          <p:nvPr/>
        </p:nvGrpSpPr>
        <p:grpSpPr>
          <a:xfrm>
            <a:off x="5511600" y="4001040"/>
            <a:ext cx="1137600" cy="1180080"/>
            <a:chOff x="5511600" y="4001040"/>
            <a:chExt cx="1137600" cy="1180080"/>
          </a:xfrm>
        </p:grpSpPr>
        <p:sp>
          <p:nvSpPr>
            <p:cNvPr id="601" name=""/>
            <p:cNvSpPr/>
            <p:nvPr/>
          </p:nvSpPr>
          <p:spPr>
            <a:xfrm rot="2812800">
              <a:off x="5420160" y="4444920"/>
              <a:ext cx="1338120" cy="28080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cap="rnd" w="255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rot="2812800">
              <a:off x="5402160" y="4455720"/>
              <a:ext cx="1338120" cy="28116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cap="rnd" w="25560">
              <a:solidFill>
                <a:srgbClr val="0000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rot="2812800">
            <a:off x="5438520" y="4447800"/>
            <a:ext cx="1338120" cy="281160"/>
          </a:xfrm>
          <a:custGeom>
            <a:avLst/>
            <a:gdLst/>
            <a:ahLst/>
            <a:rect l="l" t="t" r="r" b="b"/>
            <a:pathLst>
              <a:path w="2504" h="628">
                <a:moveTo>
                  <a:pt x="0" y="50"/>
                </a:moveTo>
                <a:cubicBezTo>
                  <a:pt x="49" y="146"/>
                  <a:pt x="200" y="627"/>
                  <a:pt x="298" y="626"/>
                </a:cubicBezTo>
                <a:cubicBezTo>
                  <a:pt x="396" y="625"/>
                  <a:pt x="490" y="47"/>
                  <a:pt x="586" y="45"/>
                </a:cubicBezTo>
                <a:cubicBezTo>
                  <a:pt x="682" y="43"/>
                  <a:pt x="776" y="616"/>
                  <a:pt x="872" y="616"/>
                </a:cubicBezTo>
                <a:cubicBezTo>
                  <a:pt x="968" y="616"/>
                  <a:pt x="1065" y="45"/>
                  <a:pt x="1160" y="45"/>
                </a:cubicBezTo>
                <a:cubicBezTo>
                  <a:pt x="1255" y="45"/>
                  <a:pt x="1348" y="618"/>
                  <a:pt x="1445" y="619"/>
                </a:cubicBezTo>
                <a:cubicBezTo>
                  <a:pt x="1542" y="620"/>
                  <a:pt x="1643" y="49"/>
                  <a:pt x="1740" y="50"/>
                </a:cubicBezTo>
                <a:cubicBezTo>
                  <a:pt x="1837" y="51"/>
                  <a:pt x="1931" y="628"/>
                  <a:pt x="2028" y="628"/>
                </a:cubicBezTo>
                <a:cubicBezTo>
                  <a:pt x="2125" y="628"/>
                  <a:pt x="2242" y="96"/>
                  <a:pt x="2321" y="48"/>
                </a:cubicBezTo>
                <a:cubicBezTo>
                  <a:pt x="2400" y="0"/>
                  <a:pt x="2466" y="279"/>
                  <a:pt x="2504" y="340"/>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rot="2589000">
            <a:off x="5316480" y="4440240"/>
            <a:ext cx="1452600" cy="316080"/>
          </a:xfrm>
          <a:custGeom>
            <a:avLst/>
            <a:gdLst/>
            <a:ahLst/>
            <a:rect l="l" t="t" r="r" b="b"/>
            <a:pathLst>
              <a:path w="2237" h="628">
                <a:moveTo>
                  <a:pt x="0" y="6"/>
                </a:moveTo>
                <a:cubicBezTo>
                  <a:pt x="29" y="102"/>
                  <a:pt x="124" y="584"/>
                  <a:pt x="173" y="584"/>
                </a:cubicBezTo>
                <a:cubicBezTo>
                  <a:pt x="222" y="584"/>
                  <a:pt x="246" y="3"/>
                  <a:pt x="296" y="3"/>
                </a:cubicBezTo>
                <a:cubicBezTo>
                  <a:pt x="346" y="3"/>
                  <a:pt x="424" y="584"/>
                  <a:pt x="471" y="584"/>
                </a:cubicBezTo>
                <a:cubicBezTo>
                  <a:pt x="518" y="584"/>
                  <a:pt x="534" y="3"/>
                  <a:pt x="581" y="3"/>
                </a:cubicBezTo>
                <a:cubicBezTo>
                  <a:pt x="628" y="3"/>
                  <a:pt x="706" y="584"/>
                  <a:pt x="754" y="584"/>
                </a:cubicBezTo>
                <a:cubicBezTo>
                  <a:pt x="802" y="584"/>
                  <a:pt x="824" y="6"/>
                  <a:pt x="872" y="6"/>
                </a:cubicBezTo>
                <a:cubicBezTo>
                  <a:pt x="920" y="6"/>
                  <a:pt x="996" y="584"/>
                  <a:pt x="1042" y="584"/>
                </a:cubicBezTo>
                <a:cubicBezTo>
                  <a:pt x="1088" y="584"/>
                  <a:pt x="1100" y="4"/>
                  <a:pt x="1148" y="3"/>
                </a:cubicBezTo>
                <a:cubicBezTo>
                  <a:pt x="1196" y="2"/>
                  <a:pt x="1280" y="579"/>
                  <a:pt x="1330" y="579"/>
                </a:cubicBezTo>
                <a:cubicBezTo>
                  <a:pt x="1380" y="579"/>
                  <a:pt x="1400" y="0"/>
                  <a:pt x="1448" y="1"/>
                </a:cubicBezTo>
                <a:cubicBezTo>
                  <a:pt x="1496" y="2"/>
                  <a:pt x="1569" y="584"/>
                  <a:pt x="1620" y="584"/>
                </a:cubicBezTo>
                <a:cubicBezTo>
                  <a:pt x="1671" y="584"/>
                  <a:pt x="1705" y="4"/>
                  <a:pt x="1752" y="3"/>
                </a:cubicBezTo>
                <a:cubicBezTo>
                  <a:pt x="1799" y="2"/>
                  <a:pt x="1857" y="579"/>
                  <a:pt x="1901" y="579"/>
                </a:cubicBezTo>
                <a:cubicBezTo>
                  <a:pt x="1945" y="579"/>
                  <a:pt x="1966" y="1"/>
                  <a:pt x="2014" y="1"/>
                </a:cubicBezTo>
                <a:cubicBezTo>
                  <a:pt x="2062" y="1"/>
                  <a:pt x="2152" y="530"/>
                  <a:pt x="2189" y="579"/>
                </a:cubicBezTo>
                <a:cubicBezTo>
                  <a:pt x="2226" y="628"/>
                  <a:pt x="2227" y="353"/>
                  <a:pt x="2237" y="294"/>
                </a:cubicBezTo>
              </a:path>
            </a:pathLst>
          </a:custGeom>
          <a:noFill/>
          <a:ln w="255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481"/>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400"/>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603"/>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41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04"/>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5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38"/>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05"/>
                                        </p:tgtEl>
                                        <p:attrNameLst>
                                          <p:attrName>style.visibility</p:attrName>
                                        </p:attrNameLst>
                                      </p:cBhvr>
                                      <p:to>
                                        <p:strVal val="visible"/>
                                      </p:to>
                                    </p:set>
                                  </p:childTnLst>
                                </p:cTn>
                              </p:par>
                              <p:par>
                                <p:cTn id="79" nodeType="withEffect" fill="hold" presetClass="exit" presetID="1">
                                  <p:stCondLst>
                                    <p:cond delay="0"/>
                                  </p:stCondLst>
                                  <p:childTnLst>
                                    <p:set>
                                      <p:cBhvr>
                                        <p:cTn id="80" dur="1" fill="hold">
                                          <p:stCondLst>
                                            <p:cond delay="0"/>
                                          </p:stCondLst>
                                        </p:cTn>
                                        <p:tgtEl>
                                          <p:spTgt spid="419"/>
                                        </p:tgtEl>
                                        <p:attrNameLst>
                                          <p:attrName>style.visibility</p:attrName>
                                        </p:attrNameLst>
                                      </p:cBhvr>
                                      <p:to>
                                        <p:strVal val="hidden"/>
                                      </p:to>
                                    </p:set>
                                  </p:childTnLst>
                                </p:cTn>
                              </p:par>
                              <p:par>
                                <p:cTn id="81" nodeType="withEffect" fill="hold" presetClass="entr" presetID="1">
                                  <p:stCondLst>
                                    <p:cond delay="0"/>
                                  </p:stCondLst>
                                  <p:childTnLst>
                                    <p:set>
                                      <p:cBhvr>
                                        <p:cTn id="82" dur="1" fill="hold">
                                          <p:stCondLst>
                                            <p:cond delay="0"/>
                                          </p:stCondLst>
                                        </p:cTn>
                                        <p:tgtEl>
                                          <p:spTgt spid="548"/>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74"/>
                                        </p:tgtEl>
                                        <p:attrNameLst>
                                          <p:attrName>style.visibility</p:attrName>
                                        </p:attrNameLst>
                                      </p:cBhvr>
                                      <p:to>
                                        <p:strVal val="visible"/>
                                      </p:to>
                                    </p:set>
                                  </p:childTnLst>
                                </p:cTn>
                              </p:par>
                              <p:par>
                                <p:cTn id="85" nodeType="withEffect" fill="hold" presetClass="exit" presetID="1">
                                  <p:stCondLst>
                                    <p:cond delay="0"/>
                                  </p:stCondLst>
                                  <p:childTnLst>
                                    <p:set>
                                      <p:cBhvr>
                                        <p:cTn id="86" dur="1" fill="hold">
                                          <p:stCondLst>
                                            <p:cond delay="0"/>
                                          </p:stCondLst>
                                        </p:cTn>
                                        <p:tgtEl>
                                          <p:spTgt spid="604"/>
                                        </p:tgtEl>
                                        <p:attrNameLst>
                                          <p:attrName>style.visibility</p:attrName>
                                        </p:attrNameLst>
                                      </p:cBhvr>
                                      <p:to>
                                        <p:strVal val="hidden"/>
                                      </p:to>
                                    </p:set>
                                  </p:childTnLst>
                                </p:cTn>
                              </p:par>
                              <p:par>
                                <p:cTn id="87" nodeType="withEffect" fill="hold" presetClass="entr" presetID="1">
                                  <p:stCondLst>
                                    <p:cond delay="0"/>
                                  </p:stCondLst>
                                  <p:childTnLst>
                                    <p:set>
                                      <p:cBhvr>
                                        <p:cTn id="88" dur="1" fill="hold">
                                          <p:stCondLst>
                                            <p:cond delay="0"/>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r Isaac Newton</a:t>
            </a:r>
            <a:endParaRPr b="0" lang="en-US" sz="4400" spc="-1" strike="noStrike">
              <a:solidFill>
                <a:srgbClr val="000000"/>
              </a:solidFill>
              <a:latin typeface="Times New Roman"/>
            </a:endParaRPr>
          </a:p>
        </p:txBody>
      </p:sp>
      <p:sp>
        <p:nvSpPr>
          <p:cNvPr id="606" name=""/>
          <p:cNvSpPr/>
          <p:nvPr/>
        </p:nvSpPr>
        <p:spPr>
          <a:xfrm>
            <a:off x="687600" y="55926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 NASA</a:t>
            </a:r>
            <a:endParaRPr b="0" lang="en-US" sz="1200" spc="-1" strike="noStrike">
              <a:solidFill>
                <a:srgbClr val="000000"/>
              </a:solidFill>
              <a:latin typeface="Arial"/>
            </a:endParaRPr>
          </a:p>
        </p:txBody>
      </p:sp>
      <p:pic>
        <p:nvPicPr>
          <p:cNvPr id="607" name="" descr=""/>
          <p:cNvPicPr/>
          <p:nvPr/>
        </p:nvPicPr>
        <p:blipFill>
          <a:blip r:embed="rId2"/>
          <a:stretch/>
        </p:blipFill>
        <p:spPr>
          <a:xfrm>
            <a:off x="6170760" y="1658880"/>
            <a:ext cx="2514600" cy="3056040"/>
          </a:xfrm>
          <a:prstGeom prst="rect">
            <a:avLst/>
          </a:prstGeom>
          <a:ln w="88920">
            <a:solidFill>
              <a:srgbClr val="545068"/>
            </a:solidFill>
            <a:miter/>
          </a:ln>
        </p:spPr>
      </p:pic>
      <p:sp>
        <p:nvSpPr>
          <p:cNvPr id="608" name="PlaceHolder 2"/>
          <p:cNvSpPr>
            <a:spLocks noGrp="1"/>
          </p:cNvSpPr>
          <p:nvPr>
            <p:ph/>
          </p:nvPr>
        </p:nvSpPr>
        <p:spPr>
          <a:xfrm>
            <a:off x="277920" y="1352520"/>
            <a:ext cx="8526240" cy="4819680"/>
          </a:xfrm>
          <a:prstGeom prst="rect">
            <a:avLst/>
          </a:prstGeom>
          <a:noFill/>
          <a:ln w="0">
            <a:noFill/>
          </a:ln>
        </p:spPr>
        <p:txBody>
          <a:bodyPr lIns="90000" rIns="90000" tIns="46800" bIns="46800" anchor="t">
            <a:normAutofit fontScale="92000"/>
          </a:bodyPr>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ton was interested in the </a:t>
            </a:r>
            <a:br>
              <a:rPr sz="2800"/>
            </a:br>
            <a:r>
              <a:rPr b="0" lang="en-US" sz="2800" spc="-1" strike="noStrike">
                <a:solidFill>
                  <a:srgbClr val="000000"/>
                </a:solidFill>
                <a:latin typeface="Times New Roman"/>
              </a:rPr>
              <a:t>properties of light, just like you </a:t>
            </a:r>
            <a:br>
              <a:rPr sz="2800"/>
            </a:br>
            <a:r>
              <a:rPr b="0" lang="en-US" sz="2800" spc="-1" strike="noStrike">
                <a:solidFill>
                  <a:srgbClr val="000000"/>
                </a:solidFill>
                <a:latin typeface="Times New Roman"/>
              </a:rPr>
              <a:t>are today.</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666, he designed an experiment </a:t>
            </a:r>
            <a:br>
              <a:rPr sz="2800"/>
            </a:br>
            <a:r>
              <a:rPr b="0" lang="en-US" sz="2800" spc="-1" strike="noStrike">
                <a:solidFill>
                  <a:srgbClr val="000000"/>
                </a:solidFill>
                <a:latin typeface="Times New Roman"/>
              </a:rPr>
              <a:t>in which he took two prisms and </a:t>
            </a:r>
            <a:br>
              <a:rPr sz="2800"/>
            </a:br>
            <a:r>
              <a:rPr b="0" lang="en-US" sz="2800" spc="-1" strike="noStrike">
                <a:solidFill>
                  <a:srgbClr val="000000"/>
                </a:solidFill>
                <a:latin typeface="Times New Roman"/>
              </a:rPr>
              <a:t>flashed two rainbows on the wall </a:t>
            </a:r>
            <a:br>
              <a:rPr sz="2800"/>
            </a:br>
            <a:r>
              <a:rPr b="0" lang="en-US" sz="2800" spc="-1" strike="noStrike">
                <a:solidFill>
                  <a:srgbClr val="000000"/>
                </a:solidFill>
                <a:latin typeface="Times New Roman"/>
              </a:rPr>
              <a:t>using sunlight.  He then moved the </a:t>
            </a:r>
            <a:br>
              <a:rPr sz="2800"/>
            </a:br>
            <a:r>
              <a:rPr b="0" lang="en-US" sz="2800" spc="-1" strike="noStrike">
                <a:solidFill>
                  <a:srgbClr val="000000"/>
                </a:solidFill>
                <a:latin typeface="Times New Roman"/>
              </a:rPr>
              <a:t>prisms until they were on top of </a:t>
            </a:r>
            <a:br>
              <a:rPr sz="2800"/>
            </a:br>
            <a:r>
              <a:rPr b="0" lang="en-US" sz="2800" spc="-1" strike="noStrike">
                <a:solidFill>
                  <a:srgbClr val="000000"/>
                </a:solidFill>
                <a:latin typeface="Times New Roman"/>
              </a:rPr>
              <a:t>each other.  The result was white light.</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ton led the way for all other scientists to study light and the electromagnetic spectrum.</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what a little curiosity can do!!</a:t>
            </a:r>
            <a:endParaRPr b="0" lang="en-US" sz="2800" spc="-1" strike="noStrike">
              <a:solidFill>
                <a:srgbClr val="000000"/>
              </a:solidFill>
              <a:latin typeface="Times New Roman"/>
            </a:endParaRPr>
          </a:p>
        </p:txBody>
      </p:sp>
      <p:sp>
        <p:nvSpPr>
          <p:cNvPr id="6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914400" y="2127240"/>
            <a:ext cx="3657600" cy="3200400"/>
          </a:xfrm>
          <a:prstGeom prst="rect">
            <a:avLst/>
          </a:prstGeom>
          <a:solidFill>
            <a:srgbClr val="ffffff"/>
          </a:solidFill>
          <a:ln w="88920">
            <a:solidFill>
              <a:srgbClr val="5450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1143000" y="2514600"/>
            <a:ext cx="2590920" cy="2362320"/>
          </a:xfrm>
          <a:prstGeom prst="diamond">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2" name=""/>
          <p:cNvSpPr/>
          <p:nvPr/>
        </p:nvSpPr>
        <p:spPr>
          <a:xfrm rot="1625400">
            <a:off x="469440" y="2552760"/>
            <a:ext cx="1371600" cy="533520"/>
          </a:xfrm>
          <a:prstGeom prst="rightArrow">
            <a:avLst>
              <a:gd name="adj1" fmla="val 50000"/>
              <a:gd name="adj2" fmla="val 64271"/>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3" name=""/>
          <p:cNvSpPr/>
          <p:nvPr/>
        </p:nvSpPr>
        <p:spPr>
          <a:xfrm>
            <a:off x="1752480" y="3124080"/>
            <a:ext cx="838440" cy="1600200"/>
          </a:xfrm>
          <a:prstGeom prst="line">
            <a:avLst/>
          </a:prstGeom>
          <a:ln w="28440">
            <a:solidFill>
              <a:srgbClr val="fd03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752480" y="3124080"/>
            <a:ext cx="1143000" cy="137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590920" y="4724280"/>
            <a:ext cx="914400" cy="685800"/>
          </a:xfrm>
          <a:prstGeom prst="line">
            <a:avLst/>
          </a:prstGeom>
          <a:ln w="19080">
            <a:solidFill>
              <a:srgbClr val="fd03f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895480" y="4495680"/>
            <a:ext cx="838440" cy="6098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752480" y="3124080"/>
            <a:ext cx="914400" cy="1524240"/>
          </a:xfrm>
          <a:prstGeom prst="line">
            <a:avLst/>
          </a:prstGeom>
          <a:ln w="19080">
            <a:solidFill>
              <a:srgbClr val="232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2666880" y="4648320"/>
            <a:ext cx="914400" cy="685800"/>
          </a:xfrm>
          <a:prstGeom prst="line">
            <a:avLst/>
          </a:prstGeom>
          <a:ln w="19080">
            <a:solidFill>
              <a:srgbClr val="232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rot="1650000">
            <a:off x="686880" y="2590560"/>
            <a:ext cx="712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GHT</a:t>
            </a:r>
            <a:endParaRPr b="0" lang="en-US" sz="1400" spc="-1" strike="noStrike">
              <a:solidFill>
                <a:srgbClr val="000000"/>
              </a:solidFill>
              <a:latin typeface="Arial"/>
            </a:endParaRPr>
          </a:p>
        </p:txBody>
      </p:sp>
      <p:sp>
        <p:nvSpPr>
          <p:cNvPr id="620" name=""/>
          <p:cNvSpPr/>
          <p:nvPr/>
        </p:nvSpPr>
        <p:spPr>
          <a:xfrm>
            <a:off x="1752480" y="3124080"/>
            <a:ext cx="1067040" cy="144792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819520" y="4572000"/>
            <a:ext cx="838080" cy="609480"/>
          </a:xfrm>
          <a:prstGeom prst="line">
            <a:avLst/>
          </a:prstGeom>
          <a:ln w="190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light separate?</a:t>
            </a:r>
            <a:endParaRPr b="0" lang="en-US" sz="4400" spc="-1" strike="noStrike">
              <a:solidFill>
                <a:srgbClr val="000000"/>
              </a:solidFill>
              <a:latin typeface="Times New Roman"/>
            </a:endParaRPr>
          </a:p>
        </p:txBody>
      </p:sp>
      <p:sp>
        <p:nvSpPr>
          <p:cNvPr id="623" name="PlaceHolder 2"/>
          <p:cNvSpPr>
            <a:spLocks noGrp="1"/>
          </p:cNvSpPr>
          <p:nvPr>
            <p:ph/>
          </p:nvPr>
        </p:nvSpPr>
        <p:spPr>
          <a:xfrm>
            <a:off x="4876920" y="2006280"/>
            <a:ext cx="3962160" cy="396252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es the light separate into its different color frequencies when it hits a prism or water droplet?</a:t>
            </a:r>
            <a:endParaRPr b="0" lang="en-US" sz="2800" spc="-1" strike="noStrike">
              <a:solidFill>
                <a:srgbClr val="000000"/>
              </a:solidFill>
              <a:latin typeface="Times New Roman"/>
            </a:endParaRPr>
          </a:p>
          <a:p>
            <a:pPr marL="332640" indent="-3326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 Review the definition of frequency and look at the picture on this slide.</a:t>
            </a:r>
            <a:endParaRPr b="0" lang="en-US" sz="2800" spc="-1" strike="noStrike">
              <a:solidFill>
                <a:srgbClr val="000000"/>
              </a:solidFill>
              <a:latin typeface="Times New Roman"/>
            </a:endParaRPr>
          </a:p>
        </p:txBody>
      </p:sp>
      <p:sp>
        <p:nvSpPr>
          <p:cNvPr id="6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light bend?</a:t>
            </a:r>
            <a:endParaRPr b="0" lang="en-US" sz="4400" spc="-1" strike="noStrike">
              <a:solidFill>
                <a:srgbClr val="000000"/>
              </a:solidFill>
              <a:latin typeface="Times New Roman"/>
            </a:endParaRPr>
          </a:p>
        </p:txBody>
      </p:sp>
      <p:pic>
        <p:nvPicPr>
          <p:cNvPr id="626" name="" descr=""/>
          <p:cNvPicPr/>
          <p:nvPr/>
        </p:nvPicPr>
        <p:blipFill>
          <a:blip r:embed="rId2"/>
          <a:stretch/>
        </p:blipFill>
        <p:spPr>
          <a:xfrm>
            <a:off x="504720" y="1320840"/>
            <a:ext cx="3748320" cy="1674720"/>
          </a:xfrm>
          <a:prstGeom prst="rect">
            <a:avLst/>
          </a:prstGeom>
          <a:ln w="0">
            <a:noFill/>
          </a:ln>
        </p:spPr>
      </p:pic>
      <p:sp>
        <p:nvSpPr>
          <p:cNvPr id="627" name=""/>
          <p:cNvSpPr/>
          <p:nvPr/>
        </p:nvSpPr>
        <p:spPr>
          <a:xfrm>
            <a:off x="519120" y="3149640"/>
            <a:ext cx="3733920" cy="3048120"/>
          </a:xfrm>
          <a:prstGeom prst="rect">
            <a:avLst/>
          </a:prstGeom>
          <a:solidFill>
            <a:srgbClr val="99ccff"/>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8" name=""/>
          <p:cNvSpPr/>
          <p:nvPr/>
        </p:nvSpPr>
        <p:spPr>
          <a:xfrm rot="19986600">
            <a:off x="1725480" y="5200560"/>
            <a:ext cx="533520" cy="123660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9" name=""/>
          <p:cNvSpPr/>
          <p:nvPr/>
        </p:nvSpPr>
        <p:spPr>
          <a:xfrm>
            <a:off x="1281240" y="3683160"/>
            <a:ext cx="609480" cy="1143000"/>
          </a:xfrm>
          <a:prstGeom prst="rect">
            <a:avLst/>
          </a:prstGeom>
          <a:solidFill>
            <a:srgbClr val="ffcc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0" name=""/>
          <p:cNvSpPr/>
          <p:nvPr/>
        </p:nvSpPr>
        <p:spPr>
          <a:xfrm rot="21532200">
            <a:off x="1841040" y="4617720"/>
            <a:ext cx="674640" cy="1625400"/>
          </a:xfrm>
          <a:custGeom>
            <a:avLst/>
            <a:gdLst/>
            <a:ahLst/>
            <a:rect l="l" t="t" r="r" b="b"/>
            <a:pathLst>
              <a:path w="776" h="1584">
                <a:moveTo>
                  <a:pt x="776" y="1584"/>
                </a:moveTo>
                <a:cubicBezTo>
                  <a:pt x="492" y="1092"/>
                  <a:pt x="208" y="600"/>
                  <a:pt x="104" y="336"/>
                </a:cubicBezTo>
                <a:cubicBezTo>
                  <a:pt x="0" y="72"/>
                  <a:pt x="76" y="36"/>
                  <a:pt x="152" y="0"/>
                </a:cubicBezTo>
              </a:path>
            </a:pathLst>
          </a:custGeom>
          <a:noFill/>
          <a:ln w="381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631" name=""/>
          <p:cNvSpPr/>
          <p:nvPr/>
        </p:nvSpPr>
        <p:spPr>
          <a:xfrm flipV="1">
            <a:off x="1878120" y="354348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1906560" y="4233960"/>
            <a:ext cx="304920" cy="6094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3" name=""/>
          <p:cNvSpPr/>
          <p:nvPr/>
        </p:nvSpPr>
        <p:spPr>
          <a:xfrm flipH="1" flipV="1">
            <a:off x="2033280" y="5160960"/>
            <a:ext cx="60948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14400" y="4902120"/>
            <a:ext cx="14479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ide of the light wave keeps going at its same speed.</a:t>
            </a:r>
            <a:endParaRPr b="0" lang="en-US" sz="1800" spc="-1" strike="noStrike">
              <a:solidFill>
                <a:srgbClr val="000000"/>
              </a:solidFill>
              <a:latin typeface="Arial"/>
            </a:endParaRPr>
          </a:p>
        </p:txBody>
      </p:sp>
      <p:sp>
        <p:nvSpPr>
          <p:cNvPr id="635" name=""/>
          <p:cNvSpPr/>
          <p:nvPr/>
        </p:nvSpPr>
        <p:spPr>
          <a:xfrm>
            <a:off x="2652840" y="4978440"/>
            <a:ext cx="15238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ide of the light wave slows down when it hits the glass.</a:t>
            </a:r>
            <a:endParaRPr b="0" lang="en-US" sz="1800" spc="-1" strike="noStrike">
              <a:solidFill>
                <a:srgbClr val="000000"/>
              </a:solidFill>
              <a:latin typeface="Arial"/>
            </a:endParaRPr>
          </a:p>
        </p:txBody>
      </p:sp>
      <p:sp>
        <p:nvSpPr>
          <p:cNvPr id="636" name=""/>
          <p:cNvSpPr/>
          <p:nvPr/>
        </p:nvSpPr>
        <p:spPr>
          <a:xfrm flipV="1">
            <a:off x="1204920" y="5402160"/>
            <a:ext cx="270000" cy="18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PlaceHolder 2"/>
          <p:cNvSpPr>
            <a:spLocks noGrp="1"/>
          </p:cNvSpPr>
          <p:nvPr>
            <p:ph/>
          </p:nvPr>
        </p:nvSpPr>
        <p:spPr>
          <a:xfrm>
            <a:off x="4327560" y="1245960"/>
            <a:ext cx="4633920" cy="62514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light moves from one medium to another, such as from air to glass, it slows down.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light hits the glass at an angle, the waves that hit first slow down firs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ves that don’t hit the glass first are still going at their same, fast speed until they hit the glass.</a:t>
            </a:r>
            <a:endParaRPr b="0" lang="en-US" sz="28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re about refraction, </a:t>
            </a:r>
            <a:br>
              <a:rPr sz="2400"/>
            </a:br>
            <a:r>
              <a:rPr b="0" lang="en-US" sz="2400" spc="-1" strike="noStrike" u="sng">
                <a:solidFill>
                  <a:srgbClr val="134173"/>
                </a:solidFill>
                <a:uFillTx/>
                <a:latin typeface="Times New Roman"/>
                <a:hlinkClick r:id="rId3"/>
              </a:rPr>
              <a:t>click here</a:t>
            </a:r>
            <a:endParaRPr b="0" lang="en-US" sz="2400" spc="-1" strike="noStrike">
              <a:solidFill>
                <a:srgbClr val="000000"/>
              </a:solidFill>
              <a:latin typeface="Times New Roman"/>
            </a:endParaRPr>
          </a:p>
        </p:txBody>
      </p:sp>
      <p:sp>
        <p:nvSpPr>
          <p:cNvPr id="638" name=""/>
          <p:cNvSpPr/>
          <p:nvPr/>
        </p:nvSpPr>
        <p:spPr>
          <a:xfrm>
            <a:off x="-123840" y="636444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9" name=""/>
          <p:cNvGrpSpPr/>
          <p:nvPr/>
        </p:nvGrpSpPr>
        <p:grpSpPr>
          <a:xfrm>
            <a:off x="5923080" y="2417760"/>
            <a:ext cx="2926800" cy="4152240"/>
            <a:chOff x="5923080" y="2417760"/>
            <a:chExt cx="2926800" cy="4152240"/>
          </a:xfrm>
        </p:grpSpPr>
        <p:sp>
          <p:nvSpPr>
            <p:cNvPr id="640" name=""/>
            <p:cNvSpPr/>
            <p:nvPr/>
          </p:nvSpPr>
          <p:spPr>
            <a:xfrm>
              <a:off x="6143400" y="2821320"/>
              <a:ext cx="2589480" cy="32299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1" name=""/>
            <p:cNvGrpSpPr/>
            <p:nvPr/>
          </p:nvGrpSpPr>
          <p:grpSpPr>
            <a:xfrm>
              <a:off x="5923080" y="2417760"/>
              <a:ext cx="2259000" cy="2768040"/>
              <a:chOff x="5923080" y="2417760"/>
              <a:chExt cx="2259000" cy="2768040"/>
            </a:xfrm>
          </p:grpSpPr>
          <p:sp>
            <p:nvSpPr>
              <p:cNvPr id="642" name=""/>
              <p:cNvSpPr/>
              <p:nvPr/>
            </p:nvSpPr>
            <p:spPr>
              <a:xfrm>
                <a:off x="6664320" y="3477600"/>
                <a:ext cx="511920" cy="535680"/>
              </a:xfrm>
              <a:custGeom>
                <a:avLst/>
                <a:gdLst/>
                <a:ahLst/>
                <a:rect l="l" t="t" r="r" b="b"/>
                <a:pathLst>
                  <a:path w="891" h="893">
                    <a:moveTo>
                      <a:pt x="445" y="893"/>
                    </a:moveTo>
                    <a:lnTo>
                      <a:pt x="491" y="891"/>
                    </a:lnTo>
                    <a:lnTo>
                      <a:pt x="534" y="884"/>
                    </a:lnTo>
                    <a:lnTo>
                      <a:pt x="578" y="872"/>
                    </a:lnTo>
                    <a:lnTo>
                      <a:pt x="618" y="858"/>
                    </a:lnTo>
                    <a:lnTo>
                      <a:pt x="658" y="839"/>
                    </a:lnTo>
                    <a:lnTo>
                      <a:pt x="694" y="816"/>
                    </a:lnTo>
                    <a:lnTo>
                      <a:pt x="729" y="790"/>
                    </a:lnTo>
                    <a:lnTo>
                      <a:pt x="760" y="762"/>
                    </a:lnTo>
                    <a:lnTo>
                      <a:pt x="788" y="731"/>
                    </a:lnTo>
                    <a:lnTo>
                      <a:pt x="814" y="696"/>
                    </a:lnTo>
                    <a:lnTo>
                      <a:pt x="837" y="660"/>
                    </a:lnTo>
                    <a:lnTo>
                      <a:pt x="856" y="620"/>
                    </a:lnTo>
                    <a:lnTo>
                      <a:pt x="870" y="580"/>
                    </a:lnTo>
                    <a:lnTo>
                      <a:pt x="882" y="536"/>
                    </a:lnTo>
                    <a:lnTo>
                      <a:pt x="889" y="493"/>
                    </a:lnTo>
                    <a:lnTo>
                      <a:pt x="891" y="447"/>
                    </a:lnTo>
                    <a:lnTo>
                      <a:pt x="889" y="402"/>
                    </a:lnTo>
                    <a:lnTo>
                      <a:pt x="882" y="357"/>
                    </a:lnTo>
                    <a:lnTo>
                      <a:pt x="870" y="315"/>
                    </a:lnTo>
                    <a:lnTo>
                      <a:pt x="856" y="273"/>
                    </a:lnTo>
                    <a:lnTo>
                      <a:pt x="837" y="233"/>
                    </a:lnTo>
                    <a:lnTo>
                      <a:pt x="814" y="197"/>
                    </a:lnTo>
                    <a:lnTo>
                      <a:pt x="788" y="162"/>
                    </a:lnTo>
                    <a:lnTo>
                      <a:pt x="760" y="131"/>
                    </a:lnTo>
                    <a:lnTo>
                      <a:pt x="729" y="103"/>
                    </a:lnTo>
                    <a:lnTo>
                      <a:pt x="694" y="77"/>
                    </a:lnTo>
                    <a:lnTo>
                      <a:pt x="658" y="54"/>
                    </a:lnTo>
                    <a:lnTo>
                      <a:pt x="618" y="35"/>
                    </a:lnTo>
                    <a:lnTo>
                      <a:pt x="578" y="21"/>
                    </a:lnTo>
                    <a:lnTo>
                      <a:pt x="534" y="9"/>
                    </a:lnTo>
                    <a:lnTo>
                      <a:pt x="491" y="2"/>
                    </a:lnTo>
                    <a:lnTo>
                      <a:pt x="445" y="0"/>
                    </a:lnTo>
                    <a:lnTo>
                      <a:pt x="400" y="2"/>
                    </a:lnTo>
                    <a:lnTo>
                      <a:pt x="357" y="9"/>
                    </a:lnTo>
                    <a:lnTo>
                      <a:pt x="313" y="21"/>
                    </a:lnTo>
                    <a:lnTo>
                      <a:pt x="273" y="35"/>
                    </a:lnTo>
                    <a:lnTo>
                      <a:pt x="233" y="54"/>
                    </a:lnTo>
                    <a:lnTo>
                      <a:pt x="196" y="77"/>
                    </a:lnTo>
                    <a:lnTo>
                      <a:pt x="162" y="103"/>
                    </a:lnTo>
                    <a:lnTo>
                      <a:pt x="130" y="131"/>
                    </a:lnTo>
                    <a:lnTo>
                      <a:pt x="103" y="162"/>
                    </a:lnTo>
                    <a:lnTo>
                      <a:pt x="76" y="197"/>
                    </a:lnTo>
                    <a:lnTo>
                      <a:pt x="54" y="233"/>
                    </a:lnTo>
                    <a:lnTo>
                      <a:pt x="35" y="273"/>
                    </a:lnTo>
                    <a:lnTo>
                      <a:pt x="21" y="315"/>
                    </a:lnTo>
                    <a:lnTo>
                      <a:pt x="9" y="357"/>
                    </a:lnTo>
                    <a:lnTo>
                      <a:pt x="2" y="402"/>
                    </a:lnTo>
                    <a:lnTo>
                      <a:pt x="0" y="447"/>
                    </a:lnTo>
                    <a:lnTo>
                      <a:pt x="2" y="493"/>
                    </a:lnTo>
                    <a:lnTo>
                      <a:pt x="9" y="536"/>
                    </a:lnTo>
                    <a:lnTo>
                      <a:pt x="21" y="580"/>
                    </a:lnTo>
                    <a:lnTo>
                      <a:pt x="35" y="620"/>
                    </a:lnTo>
                    <a:lnTo>
                      <a:pt x="54" y="660"/>
                    </a:lnTo>
                    <a:lnTo>
                      <a:pt x="76" y="696"/>
                    </a:lnTo>
                    <a:lnTo>
                      <a:pt x="103" y="731"/>
                    </a:lnTo>
                    <a:lnTo>
                      <a:pt x="130" y="762"/>
                    </a:lnTo>
                    <a:lnTo>
                      <a:pt x="162" y="790"/>
                    </a:lnTo>
                    <a:lnTo>
                      <a:pt x="196" y="816"/>
                    </a:lnTo>
                    <a:lnTo>
                      <a:pt x="233" y="839"/>
                    </a:lnTo>
                    <a:lnTo>
                      <a:pt x="273" y="858"/>
                    </a:lnTo>
                    <a:lnTo>
                      <a:pt x="313" y="872"/>
                    </a:lnTo>
                    <a:lnTo>
                      <a:pt x="357" y="884"/>
                    </a:lnTo>
                    <a:lnTo>
                      <a:pt x="400" y="891"/>
                    </a:lnTo>
                    <a:lnTo>
                      <a:pt x="445" y="893"/>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6742440" y="3559320"/>
                <a:ext cx="387720" cy="405720"/>
              </a:xfrm>
              <a:custGeom>
                <a:avLst/>
                <a:gdLst/>
                <a:ahLst/>
                <a:rect l="l" t="t" r="r" b="b"/>
                <a:pathLst>
                  <a:path w="675" h="677">
                    <a:moveTo>
                      <a:pt x="502" y="0"/>
                    </a:moveTo>
                    <a:lnTo>
                      <a:pt x="529" y="26"/>
                    </a:lnTo>
                    <a:lnTo>
                      <a:pt x="553" y="56"/>
                    </a:lnTo>
                    <a:lnTo>
                      <a:pt x="572" y="85"/>
                    </a:lnTo>
                    <a:lnTo>
                      <a:pt x="589" y="118"/>
                    </a:lnTo>
                    <a:lnTo>
                      <a:pt x="603" y="153"/>
                    </a:lnTo>
                    <a:lnTo>
                      <a:pt x="614" y="191"/>
                    </a:lnTo>
                    <a:lnTo>
                      <a:pt x="621" y="228"/>
                    </a:lnTo>
                    <a:lnTo>
                      <a:pt x="623" y="268"/>
                    </a:lnTo>
                    <a:lnTo>
                      <a:pt x="621" y="305"/>
                    </a:lnTo>
                    <a:lnTo>
                      <a:pt x="616" y="339"/>
                    </a:lnTo>
                    <a:lnTo>
                      <a:pt x="607" y="374"/>
                    </a:lnTo>
                    <a:lnTo>
                      <a:pt x="595" y="407"/>
                    </a:lnTo>
                    <a:lnTo>
                      <a:pt x="579" y="437"/>
                    </a:lnTo>
                    <a:lnTo>
                      <a:pt x="562" y="466"/>
                    </a:lnTo>
                    <a:lnTo>
                      <a:pt x="541" y="494"/>
                    </a:lnTo>
                    <a:lnTo>
                      <a:pt x="518" y="519"/>
                    </a:lnTo>
                    <a:lnTo>
                      <a:pt x="492" y="543"/>
                    </a:lnTo>
                    <a:lnTo>
                      <a:pt x="466" y="562"/>
                    </a:lnTo>
                    <a:lnTo>
                      <a:pt x="436" y="579"/>
                    </a:lnTo>
                    <a:lnTo>
                      <a:pt x="405" y="595"/>
                    </a:lnTo>
                    <a:lnTo>
                      <a:pt x="372" y="607"/>
                    </a:lnTo>
                    <a:lnTo>
                      <a:pt x="337" y="616"/>
                    </a:lnTo>
                    <a:lnTo>
                      <a:pt x="302" y="621"/>
                    </a:lnTo>
                    <a:lnTo>
                      <a:pt x="266" y="623"/>
                    </a:lnTo>
                    <a:lnTo>
                      <a:pt x="226" y="621"/>
                    </a:lnTo>
                    <a:lnTo>
                      <a:pt x="189" y="614"/>
                    </a:lnTo>
                    <a:lnTo>
                      <a:pt x="153" y="606"/>
                    </a:lnTo>
                    <a:lnTo>
                      <a:pt x="118" y="592"/>
                    </a:lnTo>
                    <a:lnTo>
                      <a:pt x="85" y="574"/>
                    </a:lnTo>
                    <a:lnTo>
                      <a:pt x="54" y="555"/>
                    </a:lnTo>
                    <a:lnTo>
                      <a:pt x="26" y="532"/>
                    </a:lnTo>
                    <a:lnTo>
                      <a:pt x="0" y="506"/>
                    </a:lnTo>
                    <a:lnTo>
                      <a:pt x="12" y="526"/>
                    </a:lnTo>
                    <a:lnTo>
                      <a:pt x="26" y="543"/>
                    </a:lnTo>
                    <a:lnTo>
                      <a:pt x="41" y="560"/>
                    </a:lnTo>
                    <a:lnTo>
                      <a:pt x="57" y="576"/>
                    </a:lnTo>
                    <a:lnTo>
                      <a:pt x="74" y="590"/>
                    </a:lnTo>
                    <a:lnTo>
                      <a:pt x="92" y="604"/>
                    </a:lnTo>
                    <a:lnTo>
                      <a:pt x="111" y="618"/>
                    </a:lnTo>
                    <a:lnTo>
                      <a:pt x="130" y="630"/>
                    </a:lnTo>
                    <a:lnTo>
                      <a:pt x="149" y="640"/>
                    </a:lnTo>
                    <a:lnTo>
                      <a:pt x="170" y="649"/>
                    </a:lnTo>
                    <a:lnTo>
                      <a:pt x="193" y="658"/>
                    </a:lnTo>
                    <a:lnTo>
                      <a:pt x="215" y="665"/>
                    </a:lnTo>
                    <a:lnTo>
                      <a:pt x="238" y="670"/>
                    </a:lnTo>
                    <a:lnTo>
                      <a:pt x="261" y="673"/>
                    </a:lnTo>
                    <a:lnTo>
                      <a:pt x="285" y="677"/>
                    </a:lnTo>
                    <a:lnTo>
                      <a:pt x="309" y="677"/>
                    </a:lnTo>
                    <a:lnTo>
                      <a:pt x="346" y="675"/>
                    </a:lnTo>
                    <a:lnTo>
                      <a:pt x="382" y="670"/>
                    </a:lnTo>
                    <a:lnTo>
                      <a:pt x="417" y="661"/>
                    </a:lnTo>
                    <a:lnTo>
                      <a:pt x="452" y="647"/>
                    </a:lnTo>
                    <a:lnTo>
                      <a:pt x="483" y="633"/>
                    </a:lnTo>
                    <a:lnTo>
                      <a:pt x="513" y="614"/>
                    </a:lnTo>
                    <a:lnTo>
                      <a:pt x="542" y="593"/>
                    </a:lnTo>
                    <a:lnTo>
                      <a:pt x="569" y="569"/>
                    </a:lnTo>
                    <a:lnTo>
                      <a:pt x="591" y="545"/>
                    </a:lnTo>
                    <a:lnTo>
                      <a:pt x="612" y="515"/>
                    </a:lnTo>
                    <a:lnTo>
                      <a:pt x="631" y="485"/>
                    </a:lnTo>
                    <a:lnTo>
                      <a:pt x="647" y="454"/>
                    </a:lnTo>
                    <a:lnTo>
                      <a:pt x="659" y="419"/>
                    </a:lnTo>
                    <a:lnTo>
                      <a:pt x="668" y="385"/>
                    </a:lnTo>
                    <a:lnTo>
                      <a:pt x="673" y="348"/>
                    </a:lnTo>
                    <a:lnTo>
                      <a:pt x="675" y="311"/>
                    </a:lnTo>
                    <a:lnTo>
                      <a:pt x="671" y="263"/>
                    </a:lnTo>
                    <a:lnTo>
                      <a:pt x="663" y="218"/>
                    </a:lnTo>
                    <a:lnTo>
                      <a:pt x="647" y="172"/>
                    </a:lnTo>
                    <a:lnTo>
                      <a:pt x="628" y="132"/>
                    </a:lnTo>
                    <a:lnTo>
                      <a:pt x="603" y="94"/>
                    </a:lnTo>
                    <a:lnTo>
                      <a:pt x="574" y="57"/>
                    </a:lnTo>
                    <a:lnTo>
                      <a:pt x="539" y="28"/>
                    </a:lnTo>
                    <a:lnTo>
                      <a:pt x="502" y="0"/>
                    </a:lnTo>
                    <a:close/>
                  </a:path>
                </a:pathLst>
              </a:custGeom>
              <a:solidFill>
                <a:srgbClr val="fff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69480" y="3441240"/>
                <a:ext cx="275040" cy="166680"/>
              </a:xfrm>
              <a:custGeom>
                <a:avLst/>
                <a:gdLst/>
                <a:ahLst/>
                <a:rect l="l" t="t" r="r" b="b"/>
                <a:pathLst>
                  <a:path w="480" h="279">
                    <a:moveTo>
                      <a:pt x="261" y="247"/>
                    </a:moveTo>
                    <a:lnTo>
                      <a:pt x="311" y="253"/>
                    </a:lnTo>
                    <a:lnTo>
                      <a:pt x="356" y="230"/>
                    </a:lnTo>
                    <a:lnTo>
                      <a:pt x="393" y="192"/>
                    </a:lnTo>
                    <a:lnTo>
                      <a:pt x="424" y="143"/>
                    </a:lnTo>
                    <a:lnTo>
                      <a:pt x="449" y="93"/>
                    </a:lnTo>
                    <a:lnTo>
                      <a:pt x="466" y="46"/>
                    </a:lnTo>
                    <a:lnTo>
                      <a:pt x="476" y="13"/>
                    </a:lnTo>
                    <a:lnTo>
                      <a:pt x="480" y="0"/>
                    </a:lnTo>
                    <a:lnTo>
                      <a:pt x="478" y="2"/>
                    </a:lnTo>
                    <a:lnTo>
                      <a:pt x="475" y="7"/>
                    </a:lnTo>
                    <a:lnTo>
                      <a:pt x="468" y="16"/>
                    </a:lnTo>
                    <a:lnTo>
                      <a:pt x="459" y="25"/>
                    </a:lnTo>
                    <a:lnTo>
                      <a:pt x="447" y="37"/>
                    </a:lnTo>
                    <a:lnTo>
                      <a:pt x="433" y="49"/>
                    </a:lnTo>
                    <a:lnTo>
                      <a:pt x="415" y="61"/>
                    </a:lnTo>
                    <a:lnTo>
                      <a:pt x="396" y="75"/>
                    </a:lnTo>
                    <a:lnTo>
                      <a:pt x="375" y="86"/>
                    </a:lnTo>
                    <a:lnTo>
                      <a:pt x="353" y="96"/>
                    </a:lnTo>
                    <a:lnTo>
                      <a:pt x="327" y="105"/>
                    </a:lnTo>
                    <a:lnTo>
                      <a:pt x="301" y="110"/>
                    </a:lnTo>
                    <a:lnTo>
                      <a:pt x="271" y="112"/>
                    </a:lnTo>
                    <a:lnTo>
                      <a:pt x="240" y="110"/>
                    </a:lnTo>
                    <a:lnTo>
                      <a:pt x="207" y="103"/>
                    </a:lnTo>
                    <a:lnTo>
                      <a:pt x="172" y="93"/>
                    </a:lnTo>
                    <a:lnTo>
                      <a:pt x="111" y="79"/>
                    </a:lnTo>
                    <a:lnTo>
                      <a:pt x="66" y="89"/>
                    </a:lnTo>
                    <a:lnTo>
                      <a:pt x="34" y="119"/>
                    </a:lnTo>
                    <a:lnTo>
                      <a:pt x="15" y="157"/>
                    </a:lnTo>
                    <a:lnTo>
                      <a:pt x="5" y="200"/>
                    </a:lnTo>
                    <a:lnTo>
                      <a:pt x="0" y="239"/>
                    </a:lnTo>
                    <a:lnTo>
                      <a:pt x="0" y="268"/>
                    </a:lnTo>
                    <a:lnTo>
                      <a:pt x="0" y="279"/>
                    </a:lnTo>
                    <a:lnTo>
                      <a:pt x="22" y="253"/>
                    </a:lnTo>
                    <a:lnTo>
                      <a:pt x="45" y="234"/>
                    </a:lnTo>
                    <a:lnTo>
                      <a:pt x="71" y="221"/>
                    </a:lnTo>
                    <a:lnTo>
                      <a:pt x="99" y="214"/>
                    </a:lnTo>
                    <a:lnTo>
                      <a:pt x="130" y="214"/>
                    </a:lnTo>
                    <a:lnTo>
                      <a:pt x="167" y="220"/>
                    </a:lnTo>
                    <a:lnTo>
                      <a:pt x="210" y="230"/>
                    </a:lnTo>
                    <a:lnTo>
                      <a:pt x="261" y="247"/>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250040" y="3619080"/>
                <a:ext cx="932040" cy="248760"/>
              </a:xfrm>
              <a:custGeom>
                <a:avLst/>
                <a:gdLst/>
                <a:ahLst/>
                <a:rect l="l" t="t" r="r" b="b"/>
                <a:pathLst>
                  <a:path w="1141" h="414">
                    <a:moveTo>
                      <a:pt x="671" y="129"/>
                    </a:moveTo>
                    <a:lnTo>
                      <a:pt x="661" y="143"/>
                    </a:lnTo>
                    <a:lnTo>
                      <a:pt x="650" y="155"/>
                    </a:lnTo>
                    <a:lnTo>
                      <a:pt x="636" y="165"/>
                    </a:lnTo>
                    <a:lnTo>
                      <a:pt x="624" y="176"/>
                    </a:lnTo>
                    <a:lnTo>
                      <a:pt x="610" y="183"/>
                    </a:lnTo>
                    <a:lnTo>
                      <a:pt x="595" y="188"/>
                    </a:lnTo>
                    <a:lnTo>
                      <a:pt x="579" y="193"/>
                    </a:lnTo>
                    <a:lnTo>
                      <a:pt x="563" y="197"/>
                    </a:lnTo>
                    <a:lnTo>
                      <a:pt x="532" y="199"/>
                    </a:lnTo>
                    <a:lnTo>
                      <a:pt x="501" y="195"/>
                    </a:lnTo>
                    <a:lnTo>
                      <a:pt x="468" y="186"/>
                    </a:lnTo>
                    <a:lnTo>
                      <a:pt x="436" y="172"/>
                    </a:lnTo>
                    <a:lnTo>
                      <a:pt x="405" y="155"/>
                    </a:lnTo>
                    <a:lnTo>
                      <a:pt x="375" y="134"/>
                    </a:lnTo>
                    <a:lnTo>
                      <a:pt x="348" y="108"/>
                    </a:lnTo>
                    <a:lnTo>
                      <a:pt x="321" y="77"/>
                    </a:lnTo>
                    <a:lnTo>
                      <a:pt x="288" y="40"/>
                    </a:lnTo>
                    <a:lnTo>
                      <a:pt x="257" y="16"/>
                    </a:lnTo>
                    <a:lnTo>
                      <a:pt x="227" y="4"/>
                    </a:lnTo>
                    <a:lnTo>
                      <a:pt x="198" y="0"/>
                    </a:lnTo>
                    <a:lnTo>
                      <a:pt x="170" y="7"/>
                    </a:lnTo>
                    <a:lnTo>
                      <a:pt x="144" y="19"/>
                    </a:lnTo>
                    <a:lnTo>
                      <a:pt x="118" y="38"/>
                    </a:lnTo>
                    <a:lnTo>
                      <a:pt x="95" y="61"/>
                    </a:lnTo>
                    <a:lnTo>
                      <a:pt x="74" y="85"/>
                    </a:lnTo>
                    <a:lnTo>
                      <a:pt x="55" y="113"/>
                    </a:lnTo>
                    <a:lnTo>
                      <a:pt x="40" y="139"/>
                    </a:lnTo>
                    <a:lnTo>
                      <a:pt x="26" y="164"/>
                    </a:lnTo>
                    <a:lnTo>
                      <a:pt x="15" y="186"/>
                    </a:lnTo>
                    <a:lnTo>
                      <a:pt x="6" y="204"/>
                    </a:lnTo>
                    <a:lnTo>
                      <a:pt x="1" y="216"/>
                    </a:lnTo>
                    <a:lnTo>
                      <a:pt x="0" y="219"/>
                    </a:lnTo>
                    <a:lnTo>
                      <a:pt x="15" y="212"/>
                    </a:lnTo>
                    <a:lnTo>
                      <a:pt x="31" y="206"/>
                    </a:lnTo>
                    <a:lnTo>
                      <a:pt x="48" y="200"/>
                    </a:lnTo>
                    <a:lnTo>
                      <a:pt x="67" y="193"/>
                    </a:lnTo>
                    <a:lnTo>
                      <a:pt x="88" y="188"/>
                    </a:lnTo>
                    <a:lnTo>
                      <a:pt x="107" y="183"/>
                    </a:lnTo>
                    <a:lnTo>
                      <a:pt x="128" y="181"/>
                    </a:lnTo>
                    <a:lnTo>
                      <a:pt x="151" y="179"/>
                    </a:lnTo>
                    <a:lnTo>
                      <a:pt x="172" y="181"/>
                    </a:lnTo>
                    <a:lnTo>
                      <a:pt x="194" y="186"/>
                    </a:lnTo>
                    <a:lnTo>
                      <a:pt x="215" y="193"/>
                    </a:lnTo>
                    <a:lnTo>
                      <a:pt x="236" y="204"/>
                    </a:lnTo>
                    <a:lnTo>
                      <a:pt x="257" y="218"/>
                    </a:lnTo>
                    <a:lnTo>
                      <a:pt x="278" y="235"/>
                    </a:lnTo>
                    <a:lnTo>
                      <a:pt x="297" y="258"/>
                    </a:lnTo>
                    <a:lnTo>
                      <a:pt x="314" y="286"/>
                    </a:lnTo>
                    <a:lnTo>
                      <a:pt x="330" y="310"/>
                    </a:lnTo>
                    <a:lnTo>
                      <a:pt x="348" y="333"/>
                    </a:lnTo>
                    <a:lnTo>
                      <a:pt x="367" y="353"/>
                    </a:lnTo>
                    <a:lnTo>
                      <a:pt x="388" y="371"/>
                    </a:lnTo>
                    <a:lnTo>
                      <a:pt x="410" y="386"/>
                    </a:lnTo>
                    <a:lnTo>
                      <a:pt x="433" y="399"/>
                    </a:lnTo>
                    <a:lnTo>
                      <a:pt x="455" y="407"/>
                    </a:lnTo>
                    <a:lnTo>
                      <a:pt x="480" y="413"/>
                    </a:lnTo>
                    <a:lnTo>
                      <a:pt x="509" y="414"/>
                    </a:lnTo>
                    <a:lnTo>
                      <a:pt x="539" y="413"/>
                    </a:lnTo>
                    <a:lnTo>
                      <a:pt x="569" y="404"/>
                    </a:lnTo>
                    <a:lnTo>
                      <a:pt x="596" y="388"/>
                    </a:lnTo>
                    <a:lnTo>
                      <a:pt x="624" y="369"/>
                    </a:lnTo>
                    <a:lnTo>
                      <a:pt x="652" y="341"/>
                    </a:lnTo>
                    <a:lnTo>
                      <a:pt x="676" y="308"/>
                    </a:lnTo>
                    <a:lnTo>
                      <a:pt x="701" y="266"/>
                    </a:lnTo>
                    <a:lnTo>
                      <a:pt x="723" y="230"/>
                    </a:lnTo>
                    <a:lnTo>
                      <a:pt x="751" y="202"/>
                    </a:lnTo>
                    <a:lnTo>
                      <a:pt x="783" y="183"/>
                    </a:lnTo>
                    <a:lnTo>
                      <a:pt x="817" y="171"/>
                    </a:lnTo>
                    <a:lnTo>
                      <a:pt x="852" y="165"/>
                    </a:lnTo>
                    <a:lnTo>
                      <a:pt x="889" y="165"/>
                    </a:lnTo>
                    <a:lnTo>
                      <a:pt x="925" y="169"/>
                    </a:lnTo>
                    <a:lnTo>
                      <a:pt x="964" y="178"/>
                    </a:lnTo>
                    <a:lnTo>
                      <a:pt x="998" y="188"/>
                    </a:lnTo>
                    <a:lnTo>
                      <a:pt x="1031" y="200"/>
                    </a:lnTo>
                    <a:lnTo>
                      <a:pt x="1061" y="212"/>
                    </a:lnTo>
                    <a:lnTo>
                      <a:pt x="1087" y="225"/>
                    </a:lnTo>
                    <a:lnTo>
                      <a:pt x="1110" y="237"/>
                    </a:lnTo>
                    <a:lnTo>
                      <a:pt x="1127" y="246"/>
                    </a:lnTo>
                    <a:lnTo>
                      <a:pt x="1138" y="253"/>
                    </a:lnTo>
                    <a:lnTo>
                      <a:pt x="1141" y="254"/>
                    </a:lnTo>
                    <a:lnTo>
                      <a:pt x="1138" y="251"/>
                    </a:lnTo>
                    <a:lnTo>
                      <a:pt x="1127" y="239"/>
                    </a:lnTo>
                    <a:lnTo>
                      <a:pt x="1113" y="221"/>
                    </a:lnTo>
                    <a:lnTo>
                      <a:pt x="1092" y="200"/>
                    </a:lnTo>
                    <a:lnTo>
                      <a:pt x="1066" y="176"/>
                    </a:lnTo>
                    <a:lnTo>
                      <a:pt x="1038" y="150"/>
                    </a:lnTo>
                    <a:lnTo>
                      <a:pt x="1005" y="124"/>
                    </a:lnTo>
                    <a:lnTo>
                      <a:pt x="970" y="99"/>
                    </a:lnTo>
                    <a:lnTo>
                      <a:pt x="934" y="77"/>
                    </a:lnTo>
                    <a:lnTo>
                      <a:pt x="896" y="59"/>
                    </a:lnTo>
                    <a:lnTo>
                      <a:pt x="856" y="49"/>
                    </a:lnTo>
                    <a:lnTo>
                      <a:pt x="817" y="44"/>
                    </a:lnTo>
                    <a:lnTo>
                      <a:pt x="779" y="49"/>
                    </a:lnTo>
                    <a:lnTo>
                      <a:pt x="741" y="63"/>
                    </a:lnTo>
                    <a:lnTo>
                      <a:pt x="704" y="89"/>
                    </a:lnTo>
                    <a:lnTo>
                      <a:pt x="671" y="129"/>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044480" y="4116960"/>
                <a:ext cx="159480" cy="288000"/>
              </a:xfrm>
              <a:custGeom>
                <a:avLst/>
                <a:gdLst/>
                <a:ahLst/>
                <a:rect l="l" t="t" r="r" b="b"/>
                <a:pathLst>
                  <a:path w="278" h="480">
                    <a:moveTo>
                      <a:pt x="169" y="241"/>
                    </a:moveTo>
                    <a:lnTo>
                      <a:pt x="171" y="226"/>
                    </a:lnTo>
                    <a:lnTo>
                      <a:pt x="174" y="208"/>
                    </a:lnTo>
                    <a:lnTo>
                      <a:pt x="179" y="189"/>
                    </a:lnTo>
                    <a:lnTo>
                      <a:pt x="186" y="172"/>
                    </a:lnTo>
                    <a:lnTo>
                      <a:pt x="200" y="109"/>
                    </a:lnTo>
                    <a:lnTo>
                      <a:pt x="188" y="66"/>
                    </a:lnTo>
                    <a:lnTo>
                      <a:pt x="160" y="34"/>
                    </a:lnTo>
                    <a:lnTo>
                      <a:pt x="122" y="15"/>
                    </a:lnTo>
                    <a:lnTo>
                      <a:pt x="78" y="5"/>
                    </a:lnTo>
                    <a:lnTo>
                      <a:pt x="40" y="0"/>
                    </a:lnTo>
                    <a:lnTo>
                      <a:pt x="11" y="0"/>
                    </a:lnTo>
                    <a:lnTo>
                      <a:pt x="0" y="0"/>
                    </a:lnTo>
                    <a:lnTo>
                      <a:pt x="26" y="22"/>
                    </a:lnTo>
                    <a:lnTo>
                      <a:pt x="45" y="45"/>
                    </a:lnTo>
                    <a:lnTo>
                      <a:pt x="57" y="71"/>
                    </a:lnTo>
                    <a:lnTo>
                      <a:pt x="64" y="97"/>
                    </a:lnTo>
                    <a:lnTo>
                      <a:pt x="64" y="130"/>
                    </a:lnTo>
                    <a:lnTo>
                      <a:pt x="59" y="167"/>
                    </a:lnTo>
                    <a:lnTo>
                      <a:pt x="47" y="208"/>
                    </a:lnTo>
                    <a:lnTo>
                      <a:pt x="30" y="259"/>
                    </a:lnTo>
                    <a:lnTo>
                      <a:pt x="26" y="271"/>
                    </a:lnTo>
                    <a:lnTo>
                      <a:pt x="24" y="283"/>
                    </a:lnTo>
                    <a:lnTo>
                      <a:pt x="24" y="295"/>
                    </a:lnTo>
                    <a:lnTo>
                      <a:pt x="26" y="308"/>
                    </a:lnTo>
                    <a:lnTo>
                      <a:pt x="42" y="348"/>
                    </a:lnTo>
                    <a:lnTo>
                      <a:pt x="73" y="382"/>
                    </a:lnTo>
                    <a:lnTo>
                      <a:pt x="115" y="412"/>
                    </a:lnTo>
                    <a:lnTo>
                      <a:pt x="160" y="436"/>
                    </a:lnTo>
                    <a:lnTo>
                      <a:pt x="204" y="455"/>
                    </a:lnTo>
                    <a:lnTo>
                      <a:pt x="242" y="469"/>
                    </a:lnTo>
                    <a:lnTo>
                      <a:pt x="268" y="476"/>
                    </a:lnTo>
                    <a:lnTo>
                      <a:pt x="278" y="480"/>
                    </a:lnTo>
                    <a:lnTo>
                      <a:pt x="273" y="476"/>
                    </a:lnTo>
                    <a:lnTo>
                      <a:pt x="259" y="464"/>
                    </a:lnTo>
                    <a:lnTo>
                      <a:pt x="238" y="443"/>
                    </a:lnTo>
                    <a:lnTo>
                      <a:pt x="218" y="415"/>
                    </a:lnTo>
                    <a:lnTo>
                      <a:pt x="197" y="382"/>
                    </a:lnTo>
                    <a:lnTo>
                      <a:pt x="179" y="341"/>
                    </a:lnTo>
                    <a:lnTo>
                      <a:pt x="169" y="294"/>
                    </a:lnTo>
                    <a:lnTo>
                      <a:pt x="169" y="241"/>
                    </a:lnTo>
                    <a:close/>
                  </a:path>
                </a:pathLst>
              </a:custGeom>
              <a:gradFill rotWithShape="0">
                <a:gsLst>
                  <a:gs pos="0">
                    <a:srgbClr val="ff9e3f"/>
                  </a:gs>
                  <a:gs pos="100000">
                    <a:srgbClr val="ffffe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135200" y="3917520"/>
                <a:ext cx="826200" cy="807120"/>
              </a:xfrm>
              <a:custGeom>
                <a:avLst/>
                <a:gdLst/>
                <a:ahLst/>
                <a:rect l="l" t="t" r="r" b="b"/>
                <a:pathLst>
                  <a:path w="787" h="877">
                    <a:moveTo>
                      <a:pt x="538" y="456"/>
                    </a:moveTo>
                    <a:lnTo>
                      <a:pt x="498" y="458"/>
                    </a:lnTo>
                    <a:lnTo>
                      <a:pt x="459" y="451"/>
                    </a:lnTo>
                    <a:lnTo>
                      <a:pt x="425" y="435"/>
                    </a:lnTo>
                    <a:lnTo>
                      <a:pt x="395" y="411"/>
                    </a:lnTo>
                    <a:lnTo>
                      <a:pt x="369" y="379"/>
                    </a:lnTo>
                    <a:lnTo>
                      <a:pt x="348" y="343"/>
                    </a:lnTo>
                    <a:lnTo>
                      <a:pt x="334" y="299"/>
                    </a:lnTo>
                    <a:lnTo>
                      <a:pt x="325" y="254"/>
                    </a:lnTo>
                    <a:lnTo>
                      <a:pt x="324" y="235"/>
                    </a:lnTo>
                    <a:lnTo>
                      <a:pt x="324" y="214"/>
                    </a:lnTo>
                    <a:lnTo>
                      <a:pt x="325" y="193"/>
                    </a:lnTo>
                    <a:lnTo>
                      <a:pt x="327" y="170"/>
                    </a:lnTo>
                    <a:lnTo>
                      <a:pt x="331" y="122"/>
                    </a:lnTo>
                    <a:lnTo>
                      <a:pt x="325" y="82"/>
                    </a:lnTo>
                    <a:lnTo>
                      <a:pt x="313" y="52"/>
                    </a:lnTo>
                    <a:lnTo>
                      <a:pt x="294" y="29"/>
                    </a:lnTo>
                    <a:lnTo>
                      <a:pt x="270" y="14"/>
                    </a:lnTo>
                    <a:lnTo>
                      <a:pt x="242" y="3"/>
                    </a:lnTo>
                    <a:lnTo>
                      <a:pt x="212" y="0"/>
                    </a:lnTo>
                    <a:lnTo>
                      <a:pt x="179" y="0"/>
                    </a:lnTo>
                    <a:lnTo>
                      <a:pt x="146" y="2"/>
                    </a:lnTo>
                    <a:lnTo>
                      <a:pt x="115" y="9"/>
                    </a:lnTo>
                    <a:lnTo>
                      <a:pt x="84" y="16"/>
                    </a:lnTo>
                    <a:lnTo>
                      <a:pt x="57" y="23"/>
                    </a:lnTo>
                    <a:lnTo>
                      <a:pt x="33" y="31"/>
                    </a:lnTo>
                    <a:lnTo>
                      <a:pt x="16" y="36"/>
                    </a:lnTo>
                    <a:lnTo>
                      <a:pt x="4" y="42"/>
                    </a:lnTo>
                    <a:lnTo>
                      <a:pt x="0" y="43"/>
                    </a:lnTo>
                    <a:lnTo>
                      <a:pt x="31" y="57"/>
                    </a:lnTo>
                    <a:lnTo>
                      <a:pt x="66" y="73"/>
                    </a:lnTo>
                    <a:lnTo>
                      <a:pt x="101" y="96"/>
                    </a:lnTo>
                    <a:lnTo>
                      <a:pt x="134" y="123"/>
                    </a:lnTo>
                    <a:lnTo>
                      <a:pt x="160" y="158"/>
                    </a:lnTo>
                    <a:lnTo>
                      <a:pt x="178" y="202"/>
                    </a:lnTo>
                    <a:lnTo>
                      <a:pt x="183" y="252"/>
                    </a:lnTo>
                    <a:lnTo>
                      <a:pt x="174" y="315"/>
                    </a:lnTo>
                    <a:lnTo>
                      <a:pt x="171" y="331"/>
                    </a:lnTo>
                    <a:lnTo>
                      <a:pt x="167" y="346"/>
                    </a:lnTo>
                    <a:lnTo>
                      <a:pt x="165" y="364"/>
                    </a:lnTo>
                    <a:lnTo>
                      <a:pt x="165" y="379"/>
                    </a:lnTo>
                    <a:lnTo>
                      <a:pt x="165" y="405"/>
                    </a:lnTo>
                    <a:lnTo>
                      <a:pt x="167" y="431"/>
                    </a:lnTo>
                    <a:lnTo>
                      <a:pt x="172" y="456"/>
                    </a:lnTo>
                    <a:lnTo>
                      <a:pt x="179" y="478"/>
                    </a:lnTo>
                    <a:lnTo>
                      <a:pt x="190" y="501"/>
                    </a:lnTo>
                    <a:lnTo>
                      <a:pt x="202" y="520"/>
                    </a:lnTo>
                    <a:lnTo>
                      <a:pt x="218" y="539"/>
                    </a:lnTo>
                    <a:lnTo>
                      <a:pt x="235" y="555"/>
                    </a:lnTo>
                    <a:lnTo>
                      <a:pt x="254" y="569"/>
                    </a:lnTo>
                    <a:lnTo>
                      <a:pt x="277" y="579"/>
                    </a:lnTo>
                    <a:lnTo>
                      <a:pt x="301" y="586"/>
                    </a:lnTo>
                    <a:lnTo>
                      <a:pt x="329" y="592"/>
                    </a:lnTo>
                    <a:lnTo>
                      <a:pt x="358" y="593"/>
                    </a:lnTo>
                    <a:lnTo>
                      <a:pt x="390" y="590"/>
                    </a:lnTo>
                    <a:lnTo>
                      <a:pt x="425" y="585"/>
                    </a:lnTo>
                    <a:lnTo>
                      <a:pt x="461" y="574"/>
                    </a:lnTo>
                    <a:lnTo>
                      <a:pt x="503" y="565"/>
                    </a:lnTo>
                    <a:lnTo>
                      <a:pt x="543" y="565"/>
                    </a:lnTo>
                    <a:lnTo>
                      <a:pt x="579" y="572"/>
                    </a:lnTo>
                    <a:lnTo>
                      <a:pt x="611" y="588"/>
                    </a:lnTo>
                    <a:lnTo>
                      <a:pt x="640" y="609"/>
                    </a:lnTo>
                    <a:lnTo>
                      <a:pt x="666" y="635"/>
                    </a:lnTo>
                    <a:lnTo>
                      <a:pt x="691" y="665"/>
                    </a:lnTo>
                    <a:lnTo>
                      <a:pt x="712" y="696"/>
                    </a:lnTo>
                    <a:lnTo>
                      <a:pt x="729" y="729"/>
                    </a:lnTo>
                    <a:lnTo>
                      <a:pt x="743" y="760"/>
                    </a:lnTo>
                    <a:lnTo>
                      <a:pt x="755" y="792"/>
                    </a:lnTo>
                    <a:lnTo>
                      <a:pt x="766" y="818"/>
                    </a:lnTo>
                    <a:lnTo>
                      <a:pt x="774" y="842"/>
                    </a:lnTo>
                    <a:lnTo>
                      <a:pt x="780" y="861"/>
                    </a:lnTo>
                    <a:lnTo>
                      <a:pt x="781" y="873"/>
                    </a:lnTo>
                    <a:lnTo>
                      <a:pt x="783" y="877"/>
                    </a:lnTo>
                    <a:lnTo>
                      <a:pt x="783" y="872"/>
                    </a:lnTo>
                    <a:lnTo>
                      <a:pt x="785" y="856"/>
                    </a:lnTo>
                    <a:lnTo>
                      <a:pt x="787" y="833"/>
                    </a:lnTo>
                    <a:lnTo>
                      <a:pt x="787" y="804"/>
                    </a:lnTo>
                    <a:lnTo>
                      <a:pt x="787" y="769"/>
                    </a:lnTo>
                    <a:lnTo>
                      <a:pt x="783" y="729"/>
                    </a:lnTo>
                    <a:lnTo>
                      <a:pt x="780" y="689"/>
                    </a:lnTo>
                    <a:lnTo>
                      <a:pt x="771" y="645"/>
                    </a:lnTo>
                    <a:lnTo>
                      <a:pt x="760" y="605"/>
                    </a:lnTo>
                    <a:lnTo>
                      <a:pt x="745" y="565"/>
                    </a:lnTo>
                    <a:lnTo>
                      <a:pt x="726" y="529"/>
                    </a:lnTo>
                    <a:lnTo>
                      <a:pt x="701" y="499"/>
                    </a:lnTo>
                    <a:lnTo>
                      <a:pt x="670" y="475"/>
                    </a:lnTo>
                    <a:lnTo>
                      <a:pt x="633" y="458"/>
                    </a:lnTo>
                    <a:lnTo>
                      <a:pt x="590" y="452"/>
                    </a:lnTo>
                    <a:lnTo>
                      <a:pt x="538" y="456"/>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630120" y="4103640"/>
                <a:ext cx="176400" cy="321840"/>
              </a:xfrm>
              <a:custGeom>
                <a:avLst/>
                <a:gdLst/>
                <a:ahLst/>
                <a:rect l="l" t="t" r="r" b="b"/>
                <a:pathLst>
                  <a:path w="308" h="536">
                    <a:moveTo>
                      <a:pt x="219" y="0"/>
                    </a:moveTo>
                    <a:lnTo>
                      <a:pt x="221" y="34"/>
                    </a:lnTo>
                    <a:lnTo>
                      <a:pt x="217" y="64"/>
                    </a:lnTo>
                    <a:lnTo>
                      <a:pt x="209" y="90"/>
                    </a:lnTo>
                    <a:lnTo>
                      <a:pt x="195" y="114"/>
                    </a:lnTo>
                    <a:lnTo>
                      <a:pt x="172" y="137"/>
                    </a:lnTo>
                    <a:lnTo>
                      <a:pt x="143" y="158"/>
                    </a:lnTo>
                    <a:lnTo>
                      <a:pt x="104" y="181"/>
                    </a:lnTo>
                    <a:lnTo>
                      <a:pt x="56" y="205"/>
                    </a:lnTo>
                    <a:lnTo>
                      <a:pt x="31" y="221"/>
                    </a:lnTo>
                    <a:lnTo>
                      <a:pt x="14" y="243"/>
                    </a:lnTo>
                    <a:lnTo>
                      <a:pt x="3" y="268"/>
                    </a:lnTo>
                    <a:lnTo>
                      <a:pt x="0" y="295"/>
                    </a:lnTo>
                    <a:lnTo>
                      <a:pt x="0" y="325"/>
                    </a:lnTo>
                    <a:lnTo>
                      <a:pt x="3" y="356"/>
                    </a:lnTo>
                    <a:lnTo>
                      <a:pt x="10" y="388"/>
                    </a:lnTo>
                    <a:lnTo>
                      <a:pt x="21" y="419"/>
                    </a:lnTo>
                    <a:lnTo>
                      <a:pt x="30" y="443"/>
                    </a:lnTo>
                    <a:lnTo>
                      <a:pt x="38" y="464"/>
                    </a:lnTo>
                    <a:lnTo>
                      <a:pt x="49" y="483"/>
                    </a:lnTo>
                    <a:lnTo>
                      <a:pt x="56" y="501"/>
                    </a:lnTo>
                    <a:lnTo>
                      <a:pt x="64" y="516"/>
                    </a:lnTo>
                    <a:lnTo>
                      <a:pt x="70" y="527"/>
                    </a:lnTo>
                    <a:lnTo>
                      <a:pt x="73" y="534"/>
                    </a:lnTo>
                    <a:lnTo>
                      <a:pt x="75" y="536"/>
                    </a:lnTo>
                    <a:lnTo>
                      <a:pt x="75" y="527"/>
                    </a:lnTo>
                    <a:lnTo>
                      <a:pt x="73" y="504"/>
                    </a:lnTo>
                    <a:lnTo>
                      <a:pt x="75" y="469"/>
                    </a:lnTo>
                    <a:lnTo>
                      <a:pt x="82" y="428"/>
                    </a:lnTo>
                    <a:lnTo>
                      <a:pt x="89" y="405"/>
                    </a:lnTo>
                    <a:lnTo>
                      <a:pt x="97" y="381"/>
                    </a:lnTo>
                    <a:lnTo>
                      <a:pt x="110" y="356"/>
                    </a:lnTo>
                    <a:lnTo>
                      <a:pt x="125" y="332"/>
                    </a:lnTo>
                    <a:lnTo>
                      <a:pt x="144" y="311"/>
                    </a:lnTo>
                    <a:lnTo>
                      <a:pt x="167" y="288"/>
                    </a:lnTo>
                    <a:lnTo>
                      <a:pt x="195" y="269"/>
                    </a:lnTo>
                    <a:lnTo>
                      <a:pt x="228" y="254"/>
                    </a:lnTo>
                    <a:lnTo>
                      <a:pt x="282" y="221"/>
                    </a:lnTo>
                    <a:lnTo>
                      <a:pt x="306" y="181"/>
                    </a:lnTo>
                    <a:lnTo>
                      <a:pt x="308" y="139"/>
                    </a:lnTo>
                    <a:lnTo>
                      <a:pt x="294" y="97"/>
                    </a:lnTo>
                    <a:lnTo>
                      <a:pt x="271" y="59"/>
                    </a:lnTo>
                    <a:lnTo>
                      <a:pt x="247" y="27"/>
                    </a:lnTo>
                    <a:lnTo>
                      <a:pt x="228" y="7"/>
                    </a:lnTo>
                    <a:lnTo>
                      <a:pt x="219" y="0"/>
                    </a:lnTo>
                    <a:close/>
                  </a:path>
                </a:pathLst>
              </a:custGeom>
              <a:gradFill rotWithShape="0">
                <a:gsLst>
                  <a:gs pos="0">
                    <a:srgbClr val="ff9e3f"/>
                  </a:gs>
                  <a:gs pos="100000">
                    <a:srgbClr val="ffffe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796440" y="4096440"/>
                <a:ext cx="236520" cy="1089360"/>
              </a:xfrm>
              <a:custGeom>
                <a:avLst/>
                <a:gdLst/>
                <a:ahLst/>
                <a:rect l="l" t="t" r="r" b="b"/>
                <a:pathLst>
                  <a:path w="412" h="1142">
                    <a:moveTo>
                      <a:pt x="196" y="0"/>
                    </a:moveTo>
                    <a:lnTo>
                      <a:pt x="208" y="32"/>
                    </a:lnTo>
                    <a:lnTo>
                      <a:pt x="221" y="68"/>
                    </a:lnTo>
                    <a:lnTo>
                      <a:pt x="231" y="108"/>
                    </a:lnTo>
                    <a:lnTo>
                      <a:pt x="234" y="150"/>
                    </a:lnTo>
                    <a:lnTo>
                      <a:pt x="229" y="194"/>
                    </a:lnTo>
                    <a:lnTo>
                      <a:pt x="210" y="237"/>
                    </a:lnTo>
                    <a:lnTo>
                      <a:pt x="179" y="277"/>
                    </a:lnTo>
                    <a:lnTo>
                      <a:pt x="128" y="314"/>
                    </a:lnTo>
                    <a:lnTo>
                      <a:pt x="107" y="326"/>
                    </a:lnTo>
                    <a:lnTo>
                      <a:pt x="90" y="342"/>
                    </a:lnTo>
                    <a:lnTo>
                      <a:pt x="73" y="355"/>
                    </a:lnTo>
                    <a:lnTo>
                      <a:pt x="57" y="373"/>
                    </a:lnTo>
                    <a:lnTo>
                      <a:pt x="43" y="390"/>
                    </a:lnTo>
                    <a:lnTo>
                      <a:pt x="31" y="408"/>
                    </a:lnTo>
                    <a:lnTo>
                      <a:pt x="20" y="427"/>
                    </a:lnTo>
                    <a:lnTo>
                      <a:pt x="12" y="446"/>
                    </a:lnTo>
                    <a:lnTo>
                      <a:pt x="3" y="479"/>
                    </a:lnTo>
                    <a:lnTo>
                      <a:pt x="0" y="512"/>
                    </a:lnTo>
                    <a:lnTo>
                      <a:pt x="5" y="545"/>
                    </a:lnTo>
                    <a:lnTo>
                      <a:pt x="15" y="578"/>
                    </a:lnTo>
                    <a:lnTo>
                      <a:pt x="36" y="611"/>
                    </a:lnTo>
                    <a:lnTo>
                      <a:pt x="64" y="643"/>
                    </a:lnTo>
                    <a:lnTo>
                      <a:pt x="102" y="672"/>
                    </a:lnTo>
                    <a:lnTo>
                      <a:pt x="149" y="700"/>
                    </a:lnTo>
                    <a:lnTo>
                      <a:pt x="212" y="752"/>
                    </a:lnTo>
                    <a:lnTo>
                      <a:pt x="243" y="817"/>
                    </a:lnTo>
                    <a:lnTo>
                      <a:pt x="250" y="890"/>
                    </a:lnTo>
                    <a:lnTo>
                      <a:pt x="238" y="963"/>
                    </a:lnTo>
                    <a:lnTo>
                      <a:pt x="215" y="1032"/>
                    </a:lnTo>
                    <a:lnTo>
                      <a:pt x="191" y="1088"/>
                    </a:lnTo>
                    <a:lnTo>
                      <a:pt x="170" y="1128"/>
                    </a:lnTo>
                    <a:lnTo>
                      <a:pt x="161" y="1142"/>
                    </a:lnTo>
                    <a:lnTo>
                      <a:pt x="165" y="1139"/>
                    </a:lnTo>
                    <a:lnTo>
                      <a:pt x="177" y="1128"/>
                    </a:lnTo>
                    <a:lnTo>
                      <a:pt x="194" y="1112"/>
                    </a:lnTo>
                    <a:lnTo>
                      <a:pt x="215" y="1093"/>
                    </a:lnTo>
                    <a:lnTo>
                      <a:pt x="240" y="1067"/>
                    </a:lnTo>
                    <a:lnTo>
                      <a:pt x="266" y="1038"/>
                    </a:lnTo>
                    <a:lnTo>
                      <a:pt x="292" y="1006"/>
                    </a:lnTo>
                    <a:lnTo>
                      <a:pt x="316" y="971"/>
                    </a:lnTo>
                    <a:lnTo>
                      <a:pt x="337" y="935"/>
                    </a:lnTo>
                    <a:lnTo>
                      <a:pt x="355" y="895"/>
                    </a:lnTo>
                    <a:lnTo>
                      <a:pt x="365" y="857"/>
                    </a:lnTo>
                    <a:lnTo>
                      <a:pt x="370" y="818"/>
                    </a:lnTo>
                    <a:lnTo>
                      <a:pt x="365" y="778"/>
                    </a:lnTo>
                    <a:lnTo>
                      <a:pt x="351" y="742"/>
                    </a:lnTo>
                    <a:lnTo>
                      <a:pt x="325" y="705"/>
                    </a:lnTo>
                    <a:lnTo>
                      <a:pt x="287" y="672"/>
                    </a:lnTo>
                    <a:lnTo>
                      <a:pt x="259" y="648"/>
                    </a:lnTo>
                    <a:lnTo>
                      <a:pt x="238" y="618"/>
                    </a:lnTo>
                    <a:lnTo>
                      <a:pt x="224" y="587"/>
                    </a:lnTo>
                    <a:lnTo>
                      <a:pt x="219" y="552"/>
                    </a:lnTo>
                    <a:lnTo>
                      <a:pt x="219" y="517"/>
                    </a:lnTo>
                    <a:lnTo>
                      <a:pt x="226" y="479"/>
                    </a:lnTo>
                    <a:lnTo>
                      <a:pt x="240" y="442"/>
                    </a:lnTo>
                    <a:lnTo>
                      <a:pt x="259" y="406"/>
                    </a:lnTo>
                    <a:lnTo>
                      <a:pt x="266" y="394"/>
                    </a:lnTo>
                    <a:lnTo>
                      <a:pt x="274" y="383"/>
                    </a:lnTo>
                    <a:lnTo>
                      <a:pt x="283" y="371"/>
                    </a:lnTo>
                    <a:lnTo>
                      <a:pt x="294" y="361"/>
                    </a:lnTo>
                    <a:lnTo>
                      <a:pt x="304" y="350"/>
                    </a:lnTo>
                    <a:lnTo>
                      <a:pt x="314" y="340"/>
                    </a:lnTo>
                    <a:lnTo>
                      <a:pt x="325" y="329"/>
                    </a:lnTo>
                    <a:lnTo>
                      <a:pt x="337" y="321"/>
                    </a:lnTo>
                    <a:lnTo>
                      <a:pt x="374" y="289"/>
                    </a:lnTo>
                    <a:lnTo>
                      <a:pt x="398" y="258"/>
                    </a:lnTo>
                    <a:lnTo>
                      <a:pt x="410" y="227"/>
                    </a:lnTo>
                    <a:lnTo>
                      <a:pt x="412" y="197"/>
                    </a:lnTo>
                    <a:lnTo>
                      <a:pt x="407" y="169"/>
                    </a:lnTo>
                    <a:lnTo>
                      <a:pt x="395" y="143"/>
                    </a:lnTo>
                    <a:lnTo>
                      <a:pt x="375" y="119"/>
                    </a:lnTo>
                    <a:lnTo>
                      <a:pt x="353" y="96"/>
                    </a:lnTo>
                    <a:lnTo>
                      <a:pt x="328" y="75"/>
                    </a:lnTo>
                    <a:lnTo>
                      <a:pt x="302" y="56"/>
                    </a:lnTo>
                    <a:lnTo>
                      <a:pt x="276" y="40"/>
                    </a:lnTo>
                    <a:lnTo>
                      <a:pt x="250" y="27"/>
                    </a:lnTo>
                    <a:lnTo>
                      <a:pt x="229" y="14"/>
                    </a:lnTo>
                    <a:lnTo>
                      <a:pt x="212" y="7"/>
                    </a:lnTo>
                    <a:lnTo>
                      <a:pt x="200" y="2"/>
                    </a:lnTo>
                    <a:lnTo>
                      <a:pt x="196" y="0"/>
                    </a:lnTo>
                    <a:close/>
                  </a:path>
                </a:pathLst>
              </a:custGeom>
              <a:gradFill rotWithShape="0">
                <a:gsLst>
                  <a:gs pos="0">
                    <a:srgbClr val="ff9e3f"/>
                  </a:gs>
                  <a:gs pos="100000">
                    <a:srgbClr val="ffffe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5923080" y="3989160"/>
                <a:ext cx="774720" cy="562320"/>
              </a:xfrm>
              <a:custGeom>
                <a:avLst/>
                <a:gdLst/>
                <a:ahLst/>
                <a:rect l="l" t="t" r="r" b="b"/>
                <a:pathLst>
                  <a:path w="875" h="787">
                    <a:moveTo>
                      <a:pt x="832" y="0"/>
                    </a:moveTo>
                    <a:lnTo>
                      <a:pt x="818" y="32"/>
                    </a:lnTo>
                    <a:lnTo>
                      <a:pt x="802" y="66"/>
                    </a:lnTo>
                    <a:lnTo>
                      <a:pt x="780" y="101"/>
                    </a:lnTo>
                    <a:lnTo>
                      <a:pt x="752" y="134"/>
                    </a:lnTo>
                    <a:lnTo>
                      <a:pt x="719" y="162"/>
                    </a:lnTo>
                    <a:lnTo>
                      <a:pt x="675" y="179"/>
                    </a:lnTo>
                    <a:lnTo>
                      <a:pt x="623" y="185"/>
                    </a:lnTo>
                    <a:lnTo>
                      <a:pt x="562" y="176"/>
                    </a:lnTo>
                    <a:lnTo>
                      <a:pt x="536" y="171"/>
                    </a:lnTo>
                    <a:lnTo>
                      <a:pt x="510" y="167"/>
                    </a:lnTo>
                    <a:lnTo>
                      <a:pt x="486" y="166"/>
                    </a:lnTo>
                    <a:lnTo>
                      <a:pt x="461" y="167"/>
                    </a:lnTo>
                    <a:lnTo>
                      <a:pt x="437" y="169"/>
                    </a:lnTo>
                    <a:lnTo>
                      <a:pt x="414" y="174"/>
                    </a:lnTo>
                    <a:lnTo>
                      <a:pt x="392" y="183"/>
                    </a:lnTo>
                    <a:lnTo>
                      <a:pt x="372" y="192"/>
                    </a:lnTo>
                    <a:lnTo>
                      <a:pt x="353" y="204"/>
                    </a:lnTo>
                    <a:lnTo>
                      <a:pt x="336" y="219"/>
                    </a:lnTo>
                    <a:lnTo>
                      <a:pt x="322" y="235"/>
                    </a:lnTo>
                    <a:lnTo>
                      <a:pt x="308" y="254"/>
                    </a:lnTo>
                    <a:lnTo>
                      <a:pt x="298" y="275"/>
                    </a:lnTo>
                    <a:lnTo>
                      <a:pt x="291" y="298"/>
                    </a:lnTo>
                    <a:lnTo>
                      <a:pt x="285" y="322"/>
                    </a:lnTo>
                    <a:lnTo>
                      <a:pt x="284" y="350"/>
                    </a:lnTo>
                    <a:lnTo>
                      <a:pt x="285" y="376"/>
                    </a:lnTo>
                    <a:lnTo>
                      <a:pt x="289" y="404"/>
                    </a:lnTo>
                    <a:lnTo>
                      <a:pt x="294" y="432"/>
                    </a:lnTo>
                    <a:lnTo>
                      <a:pt x="303" y="463"/>
                    </a:lnTo>
                    <a:lnTo>
                      <a:pt x="312" y="505"/>
                    </a:lnTo>
                    <a:lnTo>
                      <a:pt x="312" y="545"/>
                    </a:lnTo>
                    <a:lnTo>
                      <a:pt x="303" y="580"/>
                    </a:lnTo>
                    <a:lnTo>
                      <a:pt x="287" y="613"/>
                    </a:lnTo>
                    <a:lnTo>
                      <a:pt x="266" y="641"/>
                    </a:lnTo>
                    <a:lnTo>
                      <a:pt x="240" y="668"/>
                    </a:lnTo>
                    <a:lnTo>
                      <a:pt x="212" y="691"/>
                    </a:lnTo>
                    <a:lnTo>
                      <a:pt x="181" y="712"/>
                    </a:lnTo>
                    <a:lnTo>
                      <a:pt x="148" y="729"/>
                    </a:lnTo>
                    <a:lnTo>
                      <a:pt x="117" y="743"/>
                    </a:lnTo>
                    <a:lnTo>
                      <a:pt x="85" y="757"/>
                    </a:lnTo>
                    <a:lnTo>
                      <a:pt x="57" y="766"/>
                    </a:lnTo>
                    <a:lnTo>
                      <a:pt x="35" y="775"/>
                    </a:lnTo>
                    <a:lnTo>
                      <a:pt x="16" y="780"/>
                    </a:lnTo>
                    <a:lnTo>
                      <a:pt x="4" y="782"/>
                    </a:lnTo>
                    <a:lnTo>
                      <a:pt x="0" y="783"/>
                    </a:lnTo>
                    <a:lnTo>
                      <a:pt x="5" y="783"/>
                    </a:lnTo>
                    <a:lnTo>
                      <a:pt x="21" y="785"/>
                    </a:lnTo>
                    <a:lnTo>
                      <a:pt x="44" y="787"/>
                    </a:lnTo>
                    <a:lnTo>
                      <a:pt x="73" y="787"/>
                    </a:lnTo>
                    <a:lnTo>
                      <a:pt x="108" y="787"/>
                    </a:lnTo>
                    <a:lnTo>
                      <a:pt x="146" y="785"/>
                    </a:lnTo>
                    <a:lnTo>
                      <a:pt x="188" y="780"/>
                    </a:lnTo>
                    <a:lnTo>
                      <a:pt x="230" y="773"/>
                    </a:lnTo>
                    <a:lnTo>
                      <a:pt x="271" y="762"/>
                    </a:lnTo>
                    <a:lnTo>
                      <a:pt x="310" y="747"/>
                    </a:lnTo>
                    <a:lnTo>
                      <a:pt x="346" y="728"/>
                    </a:lnTo>
                    <a:lnTo>
                      <a:pt x="376" y="703"/>
                    </a:lnTo>
                    <a:lnTo>
                      <a:pt x="400" y="672"/>
                    </a:lnTo>
                    <a:lnTo>
                      <a:pt x="418" y="635"/>
                    </a:lnTo>
                    <a:lnTo>
                      <a:pt x="423" y="592"/>
                    </a:lnTo>
                    <a:lnTo>
                      <a:pt x="419" y="540"/>
                    </a:lnTo>
                    <a:lnTo>
                      <a:pt x="418" y="522"/>
                    </a:lnTo>
                    <a:lnTo>
                      <a:pt x="418" y="505"/>
                    </a:lnTo>
                    <a:lnTo>
                      <a:pt x="419" y="487"/>
                    </a:lnTo>
                    <a:lnTo>
                      <a:pt x="423" y="472"/>
                    </a:lnTo>
                    <a:lnTo>
                      <a:pt x="428" y="454"/>
                    </a:lnTo>
                    <a:lnTo>
                      <a:pt x="437" y="437"/>
                    </a:lnTo>
                    <a:lnTo>
                      <a:pt x="447" y="420"/>
                    </a:lnTo>
                    <a:lnTo>
                      <a:pt x="459" y="404"/>
                    </a:lnTo>
                    <a:lnTo>
                      <a:pt x="473" y="390"/>
                    </a:lnTo>
                    <a:lnTo>
                      <a:pt x="489" y="378"/>
                    </a:lnTo>
                    <a:lnTo>
                      <a:pt x="505" y="366"/>
                    </a:lnTo>
                    <a:lnTo>
                      <a:pt x="524" y="355"/>
                    </a:lnTo>
                    <a:lnTo>
                      <a:pt x="543" y="346"/>
                    </a:lnTo>
                    <a:lnTo>
                      <a:pt x="564" y="340"/>
                    </a:lnTo>
                    <a:lnTo>
                      <a:pt x="585" y="333"/>
                    </a:lnTo>
                    <a:lnTo>
                      <a:pt x="607" y="329"/>
                    </a:lnTo>
                    <a:lnTo>
                      <a:pt x="632" y="326"/>
                    </a:lnTo>
                    <a:lnTo>
                      <a:pt x="656" y="326"/>
                    </a:lnTo>
                    <a:lnTo>
                      <a:pt x="680" y="326"/>
                    </a:lnTo>
                    <a:lnTo>
                      <a:pt x="705" y="329"/>
                    </a:lnTo>
                    <a:lnTo>
                      <a:pt x="753" y="333"/>
                    </a:lnTo>
                    <a:lnTo>
                      <a:pt x="793" y="327"/>
                    </a:lnTo>
                    <a:lnTo>
                      <a:pt x="823" y="313"/>
                    </a:lnTo>
                    <a:lnTo>
                      <a:pt x="846" y="296"/>
                    </a:lnTo>
                    <a:lnTo>
                      <a:pt x="861" y="272"/>
                    </a:lnTo>
                    <a:lnTo>
                      <a:pt x="872" y="244"/>
                    </a:lnTo>
                    <a:lnTo>
                      <a:pt x="875" y="213"/>
                    </a:lnTo>
                    <a:lnTo>
                      <a:pt x="875" y="179"/>
                    </a:lnTo>
                    <a:lnTo>
                      <a:pt x="874" y="148"/>
                    </a:lnTo>
                    <a:lnTo>
                      <a:pt x="867" y="115"/>
                    </a:lnTo>
                    <a:lnTo>
                      <a:pt x="860" y="85"/>
                    </a:lnTo>
                    <a:lnTo>
                      <a:pt x="853" y="58"/>
                    </a:lnTo>
                    <a:lnTo>
                      <a:pt x="844" y="33"/>
                    </a:lnTo>
                    <a:lnTo>
                      <a:pt x="839" y="16"/>
                    </a:lnTo>
                    <a:lnTo>
                      <a:pt x="834" y="4"/>
                    </a:lnTo>
                    <a:lnTo>
                      <a:pt x="832" y="0"/>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283440" y="3882600"/>
                <a:ext cx="275040" cy="164520"/>
              </a:xfrm>
              <a:custGeom>
                <a:avLst/>
                <a:gdLst/>
                <a:ahLst/>
                <a:rect l="l" t="t" r="r" b="b"/>
                <a:pathLst>
                  <a:path w="480" h="275">
                    <a:moveTo>
                      <a:pt x="221" y="28"/>
                    </a:moveTo>
                    <a:lnTo>
                      <a:pt x="169" y="24"/>
                    </a:lnTo>
                    <a:lnTo>
                      <a:pt x="125" y="45"/>
                    </a:lnTo>
                    <a:lnTo>
                      <a:pt x="87" y="83"/>
                    </a:lnTo>
                    <a:lnTo>
                      <a:pt x="56" y="132"/>
                    </a:lnTo>
                    <a:lnTo>
                      <a:pt x="31" y="182"/>
                    </a:lnTo>
                    <a:lnTo>
                      <a:pt x="14" y="229"/>
                    </a:lnTo>
                    <a:lnTo>
                      <a:pt x="4" y="262"/>
                    </a:lnTo>
                    <a:lnTo>
                      <a:pt x="0" y="275"/>
                    </a:lnTo>
                    <a:lnTo>
                      <a:pt x="2" y="273"/>
                    </a:lnTo>
                    <a:lnTo>
                      <a:pt x="5" y="268"/>
                    </a:lnTo>
                    <a:lnTo>
                      <a:pt x="12" y="261"/>
                    </a:lnTo>
                    <a:lnTo>
                      <a:pt x="21" y="250"/>
                    </a:lnTo>
                    <a:lnTo>
                      <a:pt x="33" y="238"/>
                    </a:lnTo>
                    <a:lnTo>
                      <a:pt x="47" y="226"/>
                    </a:lnTo>
                    <a:lnTo>
                      <a:pt x="65" y="214"/>
                    </a:lnTo>
                    <a:lnTo>
                      <a:pt x="84" y="202"/>
                    </a:lnTo>
                    <a:lnTo>
                      <a:pt x="105" y="189"/>
                    </a:lnTo>
                    <a:lnTo>
                      <a:pt x="127" y="181"/>
                    </a:lnTo>
                    <a:lnTo>
                      <a:pt x="153" y="172"/>
                    </a:lnTo>
                    <a:lnTo>
                      <a:pt x="179" y="167"/>
                    </a:lnTo>
                    <a:lnTo>
                      <a:pt x="209" y="165"/>
                    </a:lnTo>
                    <a:lnTo>
                      <a:pt x="240" y="167"/>
                    </a:lnTo>
                    <a:lnTo>
                      <a:pt x="273" y="172"/>
                    </a:lnTo>
                    <a:lnTo>
                      <a:pt x="308" y="184"/>
                    </a:lnTo>
                    <a:lnTo>
                      <a:pt x="369" y="198"/>
                    </a:lnTo>
                    <a:lnTo>
                      <a:pt x="414" y="188"/>
                    </a:lnTo>
                    <a:lnTo>
                      <a:pt x="446" y="158"/>
                    </a:lnTo>
                    <a:lnTo>
                      <a:pt x="465" y="120"/>
                    </a:lnTo>
                    <a:lnTo>
                      <a:pt x="475" y="78"/>
                    </a:lnTo>
                    <a:lnTo>
                      <a:pt x="480" y="40"/>
                    </a:lnTo>
                    <a:lnTo>
                      <a:pt x="480" y="10"/>
                    </a:lnTo>
                    <a:lnTo>
                      <a:pt x="480" y="0"/>
                    </a:lnTo>
                    <a:lnTo>
                      <a:pt x="458" y="24"/>
                    </a:lnTo>
                    <a:lnTo>
                      <a:pt x="435" y="41"/>
                    </a:lnTo>
                    <a:lnTo>
                      <a:pt x="409" y="54"/>
                    </a:lnTo>
                    <a:lnTo>
                      <a:pt x="383" y="61"/>
                    </a:lnTo>
                    <a:lnTo>
                      <a:pt x="350" y="61"/>
                    </a:lnTo>
                    <a:lnTo>
                      <a:pt x="313" y="55"/>
                    </a:lnTo>
                    <a:lnTo>
                      <a:pt x="272" y="45"/>
                    </a:lnTo>
                    <a:lnTo>
                      <a:pt x="221" y="28"/>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264000" y="3446280"/>
                <a:ext cx="307440" cy="184680"/>
              </a:xfrm>
              <a:custGeom>
                <a:avLst/>
                <a:gdLst/>
                <a:ahLst/>
                <a:rect l="l" t="t" r="r" b="b"/>
                <a:pathLst>
                  <a:path w="536" h="308">
                    <a:moveTo>
                      <a:pt x="199" y="124"/>
                    </a:moveTo>
                    <a:lnTo>
                      <a:pt x="211" y="132"/>
                    </a:lnTo>
                    <a:lnTo>
                      <a:pt x="221" y="143"/>
                    </a:lnTo>
                    <a:lnTo>
                      <a:pt x="234" y="155"/>
                    </a:lnTo>
                    <a:lnTo>
                      <a:pt x="244" y="167"/>
                    </a:lnTo>
                    <a:lnTo>
                      <a:pt x="254" y="181"/>
                    </a:lnTo>
                    <a:lnTo>
                      <a:pt x="265" y="195"/>
                    </a:lnTo>
                    <a:lnTo>
                      <a:pt x="274" y="212"/>
                    </a:lnTo>
                    <a:lnTo>
                      <a:pt x="282" y="230"/>
                    </a:lnTo>
                    <a:lnTo>
                      <a:pt x="315" y="282"/>
                    </a:lnTo>
                    <a:lnTo>
                      <a:pt x="355" y="306"/>
                    </a:lnTo>
                    <a:lnTo>
                      <a:pt x="397" y="308"/>
                    </a:lnTo>
                    <a:lnTo>
                      <a:pt x="439" y="294"/>
                    </a:lnTo>
                    <a:lnTo>
                      <a:pt x="477" y="272"/>
                    </a:lnTo>
                    <a:lnTo>
                      <a:pt x="508" y="247"/>
                    </a:lnTo>
                    <a:lnTo>
                      <a:pt x="529" y="228"/>
                    </a:lnTo>
                    <a:lnTo>
                      <a:pt x="536" y="219"/>
                    </a:lnTo>
                    <a:lnTo>
                      <a:pt x="501" y="221"/>
                    </a:lnTo>
                    <a:lnTo>
                      <a:pt x="472" y="219"/>
                    </a:lnTo>
                    <a:lnTo>
                      <a:pt x="446" y="211"/>
                    </a:lnTo>
                    <a:lnTo>
                      <a:pt x="421" y="195"/>
                    </a:lnTo>
                    <a:lnTo>
                      <a:pt x="399" y="172"/>
                    </a:lnTo>
                    <a:lnTo>
                      <a:pt x="376" y="143"/>
                    </a:lnTo>
                    <a:lnTo>
                      <a:pt x="354" y="104"/>
                    </a:lnTo>
                    <a:lnTo>
                      <a:pt x="331" y="57"/>
                    </a:lnTo>
                    <a:lnTo>
                      <a:pt x="322" y="42"/>
                    </a:lnTo>
                    <a:lnTo>
                      <a:pt x="312" y="30"/>
                    </a:lnTo>
                    <a:lnTo>
                      <a:pt x="300" y="19"/>
                    </a:lnTo>
                    <a:lnTo>
                      <a:pt x="286" y="12"/>
                    </a:lnTo>
                    <a:lnTo>
                      <a:pt x="267" y="5"/>
                    </a:lnTo>
                    <a:lnTo>
                      <a:pt x="246" y="2"/>
                    </a:lnTo>
                    <a:lnTo>
                      <a:pt x="223" y="0"/>
                    </a:lnTo>
                    <a:lnTo>
                      <a:pt x="199" y="2"/>
                    </a:lnTo>
                    <a:lnTo>
                      <a:pt x="176" y="7"/>
                    </a:lnTo>
                    <a:lnTo>
                      <a:pt x="152" y="12"/>
                    </a:lnTo>
                    <a:lnTo>
                      <a:pt x="129" y="19"/>
                    </a:lnTo>
                    <a:lnTo>
                      <a:pt x="107" y="26"/>
                    </a:lnTo>
                    <a:lnTo>
                      <a:pt x="84" y="35"/>
                    </a:lnTo>
                    <a:lnTo>
                      <a:pt x="65" y="44"/>
                    </a:lnTo>
                    <a:lnTo>
                      <a:pt x="47" y="52"/>
                    </a:lnTo>
                    <a:lnTo>
                      <a:pt x="32" y="59"/>
                    </a:lnTo>
                    <a:lnTo>
                      <a:pt x="18" y="66"/>
                    </a:lnTo>
                    <a:lnTo>
                      <a:pt x="9" y="71"/>
                    </a:lnTo>
                    <a:lnTo>
                      <a:pt x="2" y="75"/>
                    </a:lnTo>
                    <a:lnTo>
                      <a:pt x="0" y="77"/>
                    </a:lnTo>
                    <a:lnTo>
                      <a:pt x="6" y="77"/>
                    </a:lnTo>
                    <a:lnTo>
                      <a:pt x="19" y="75"/>
                    </a:lnTo>
                    <a:lnTo>
                      <a:pt x="39" y="75"/>
                    </a:lnTo>
                    <a:lnTo>
                      <a:pt x="66" y="77"/>
                    </a:lnTo>
                    <a:lnTo>
                      <a:pt x="96" y="80"/>
                    </a:lnTo>
                    <a:lnTo>
                      <a:pt x="129" y="89"/>
                    </a:lnTo>
                    <a:lnTo>
                      <a:pt x="164" y="103"/>
                    </a:lnTo>
                    <a:lnTo>
                      <a:pt x="199" y="124"/>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923080" y="3621600"/>
                <a:ext cx="655200" cy="247320"/>
              </a:xfrm>
              <a:custGeom>
                <a:avLst/>
                <a:gdLst/>
                <a:ahLst/>
                <a:rect l="l" t="t" r="r" b="b"/>
                <a:pathLst>
                  <a:path w="1141" h="413">
                    <a:moveTo>
                      <a:pt x="820" y="338"/>
                    </a:moveTo>
                    <a:lnTo>
                      <a:pt x="853" y="375"/>
                    </a:lnTo>
                    <a:lnTo>
                      <a:pt x="884" y="399"/>
                    </a:lnTo>
                    <a:lnTo>
                      <a:pt x="914" y="411"/>
                    </a:lnTo>
                    <a:lnTo>
                      <a:pt x="943" y="413"/>
                    </a:lnTo>
                    <a:lnTo>
                      <a:pt x="971" y="408"/>
                    </a:lnTo>
                    <a:lnTo>
                      <a:pt x="997" y="395"/>
                    </a:lnTo>
                    <a:lnTo>
                      <a:pt x="1023" y="376"/>
                    </a:lnTo>
                    <a:lnTo>
                      <a:pt x="1046" y="354"/>
                    </a:lnTo>
                    <a:lnTo>
                      <a:pt x="1067" y="329"/>
                    </a:lnTo>
                    <a:lnTo>
                      <a:pt x="1086" y="303"/>
                    </a:lnTo>
                    <a:lnTo>
                      <a:pt x="1101" y="277"/>
                    </a:lnTo>
                    <a:lnTo>
                      <a:pt x="1115" y="251"/>
                    </a:lnTo>
                    <a:lnTo>
                      <a:pt x="1126" y="230"/>
                    </a:lnTo>
                    <a:lnTo>
                      <a:pt x="1135" y="213"/>
                    </a:lnTo>
                    <a:lnTo>
                      <a:pt x="1140" y="201"/>
                    </a:lnTo>
                    <a:lnTo>
                      <a:pt x="1141" y="197"/>
                    </a:lnTo>
                    <a:lnTo>
                      <a:pt x="1126" y="204"/>
                    </a:lnTo>
                    <a:lnTo>
                      <a:pt x="1110" y="209"/>
                    </a:lnTo>
                    <a:lnTo>
                      <a:pt x="1093" y="216"/>
                    </a:lnTo>
                    <a:lnTo>
                      <a:pt x="1074" y="221"/>
                    </a:lnTo>
                    <a:lnTo>
                      <a:pt x="1053" y="227"/>
                    </a:lnTo>
                    <a:lnTo>
                      <a:pt x="1034" y="232"/>
                    </a:lnTo>
                    <a:lnTo>
                      <a:pt x="1013" y="234"/>
                    </a:lnTo>
                    <a:lnTo>
                      <a:pt x="990" y="235"/>
                    </a:lnTo>
                    <a:lnTo>
                      <a:pt x="969" y="234"/>
                    </a:lnTo>
                    <a:lnTo>
                      <a:pt x="947" y="230"/>
                    </a:lnTo>
                    <a:lnTo>
                      <a:pt x="926" y="221"/>
                    </a:lnTo>
                    <a:lnTo>
                      <a:pt x="905" y="211"/>
                    </a:lnTo>
                    <a:lnTo>
                      <a:pt x="884" y="197"/>
                    </a:lnTo>
                    <a:lnTo>
                      <a:pt x="863" y="180"/>
                    </a:lnTo>
                    <a:lnTo>
                      <a:pt x="844" y="157"/>
                    </a:lnTo>
                    <a:lnTo>
                      <a:pt x="827" y="129"/>
                    </a:lnTo>
                    <a:lnTo>
                      <a:pt x="813" y="108"/>
                    </a:lnTo>
                    <a:lnTo>
                      <a:pt x="797" y="87"/>
                    </a:lnTo>
                    <a:lnTo>
                      <a:pt x="781" y="70"/>
                    </a:lnTo>
                    <a:lnTo>
                      <a:pt x="764" y="53"/>
                    </a:lnTo>
                    <a:lnTo>
                      <a:pt x="745" y="39"/>
                    </a:lnTo>
                    <a:lnTo>
                      <a:pt x="726" y="27"/>
                    </a:lnTo>
                    <a:lnTo>
                      <a:pt x="706" y="16"/>
                    </a:lnTo>
                    <a:lnTo>
                      <a:pt x="686" y="9"/>
                    </a:lnTo>
                    <a:lnTo>
                      <a:pt x="654" y="2"/>
                    </a:lnTo>
                    <a:lnTo>
                      <a:pt x="621" y="0"/>
                    </a:lnTo>
                    <a:lnTo>
                      <a:pt x="590" y="6"/>
                    </a:lnTo>
                    <a:lnTo>
                      <a:pt x="557" y="18"/>
                    </a:lnTo>
                    <a:lnTo>
                      <a:pt x="525" y="39"/>
                    </a:lnTo>
                    <a:lnTo>
                      <a:pt x="496" y="67"/>
                    </a:lnTo>
                    <a:lnTo>
                      <a:pt x="466" y="103"/>
                    </a:lnTo>
                    <a:lnTo>
                      <a:pt x="440" y="148"/>
                    </a:lnTo>
                    <a:lnTo>
                      <a:pt x="418" y="185"/>
                    </a:lnTo>
                    <a:lnTo>
                      <a:pt x="390" y="213"/>
                    </a:lnTo>
                    <a:lnTo>
                      <a:pt x="358" y="232"/>
                    </a:lnTo>
                    <a:lnTo>
                      <a:pt x="324" y="244"/>
                    </a:lnTo>
                    <a:lnTo>
                      <a:pt x="289" y="249"/>
                    </a:lnTo>
                    <a:lnTo>
                      <a:pt x="252" y="249"/>
                    </a:lnTo>
                    <a:lnTo>
                      <a:pt x="216" y="246"/>
                    </a:lnTo>
                    <a:lnTo>
                      <a:pt x="179" y="239"/>
                    </a:lnTo>
                    <a:lnTo>
                      <a:pt x="143" y="228"/>
                    </a:lnTo>
                    <a:lnTo>
                      <a:pt x="110" y="216"/>
                    </a:lnTo>
                    <a:lnTo>
                      <a:pt x="80" y="204"/>
                    </a:lnTo>
                    <a:lnTo>
                      <a:pt x="54" y="192"/>
                    </a:lnTo>
                    <a:lnTo>
                      <a:pt x="31" y="180"/>
                    </a:lnTo>
                    <a:lnTo>
                      <a:pt x="14" y="171"/>
                    </a:lnTo>
                    <a:lnTo>
                      <a:pt x="3" y="164"/>
                    </a:lnTo>
                    <a:lnTo>
                      <a:pt x="0" y="162"/>
                    </a:lnTo>
                    <a:lnTo>
                      <a:pt x="3" y="166"/>
                    </a:lnTo>
                    <a:lnTo>
                      <a:pt x="14" y="178"/>
                    </a:lnTo>
                    <a:lnTo>
                      <a:pt x="30" y="195"/>
                    </a:lnTo>
                    <a:lnTo>
                      <a:pt x="49" y="216"/>
                    </a:lnTo>
                    <a:lnTo>
                      <a:pt x="75" y="241"/>
                    </a:lnTo>
                    <a:lnTo>
                      <a:pt x="104" y="267"/>
                    </a:lnTo>
                    <a:lnTo>
                      <a:pt x="136" y="291"/>
                    </a:lnTo>
                    <a:lnTo>
                      <a:pt x="171" y="315"/>
                    </a:lnTo>
                    <a:lnTo>
                      <a:pt x="207" y="338"/>
                    </a:lnTo>
                    <a:lnTo>
                      <a:pt x="247" y="354"/>
                    </a:lnTo>
                    <a:lnTo>
                      <a:pt x="285" y="366"/>
                    </a:lnTo>
                    <a:lnTo>
                      <a:pt x="324" y="369"/>
                    </a:lnTo>
                    <a:lnTo>
                      <a:pt x="364" y="366"/>
                    </a:lnTo>
                    <a:lnTo>
                      <a:pt x="400" y="350"/>
                    </a:lnTo>
                    <a:lnTo>
                      <a:pt x="437" y="324"/>
                    </a:lnTo>
                    <a:lnTo>
                      <a:pt x="470" y="286"/>
                    </a:lnTo>
                    <a:lnTo>
                      <a:pt x="484" y="270"/>
                    </a:lnTo>
                    <a:lnTo>
                      <a:pt x="498" y="254"/>
                    </a:lnTo>
                    <a:lnTo>
                      <a:pt x="513" y="244"/>
                    </a:lnTo>
                    <a:lnTo>
                      <a:pt x="531" y="234"/>
                    </a:lnTo>
                    <a:lnTo>
                      <a:pt x="548" y="227"/>
                    </a:lnTo>
                    <a:lnTo>
                      <a:pt x="567" y="221"/>
                    </a:lnTo>
                    <a:lnTo>
                      <a:pt x="586" y="218"/>
                    </a:lnTo>
                    <a:lnTo>
                      <a:pt x="607" y="218"/>
                    </a:lnTo>
                    <a:lnTo>
                      <a:pt x="635" y="220"/>
                    </a:lnTo>
                    <a:lnTo>
                      <a:pt x="663" y="227"/>
                    </a:lnTo>
                    <a:lnTo>
                      <a:pt x="691" y="235"/>
                    </a:lnTo>
                    <a:lnTo>
                      <a:pt x="719" y="249"/>
                    </a:lnTo>
                    <a:lnTo>
                      <a:pt x="746" y="267"/>
                    </a:lnTo>
                    <a:lnTo>
                      <a:pt x="773" y="288"/>
                    </a:lnTo>
                    <a:lnTo>
                      <a:pt x="797" y="310"/>
                    </a:lnTo>
                    <a:lnTo>
                      <a:pt x="820" y="338"/>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022520" y="3062880"/>
                <a:ext cx="176400" cy="321840"/>
              </a:xfrm>
              <a:custGeom>
                <a:avLst/>
                <a:gdLst/>
                <a:ahLst/>
                <a:rect l="l" t="t" r="r" b="b"/>
                <a:pathLst>
                  <a:path w="308" h="536">
                    <a:moveTo>
                      <a:pt x="250" y="331"/>
                    </a:moveTo>
                    <a:lnTo>
                      <a:pt x="275" y="315"/>
                    </a:lnTo>
                    <a:lnTo>
                      <a:pt x="292" y="293"/>
                    </a:lnTo>
                    <a:lnTo>
                      <a:pt x="303" y="268"/>
                    </a:lnTo>
                    <a:lnTo>
                      <a:pt x="308" y="239"/>
                    </a:lnTo>
                    <a:lnTo>
                      <a:pt x="306" y="209"/>
                    </a:lnTo>
                    <a:lnTo>
                      <a:pt x="303" y="176"/>
                    </a:lnTo>
                    <a:lnTo>
                      <a:pt x="294" y="145"/>
                    </a:lnTo>
                    <a:lnTo>
                      <a:pt x="283" y="114"/>
                    </a:lnTo>
                    <a:lnTo>
                      <a:pt x="275" y="91"/>
                    </a:lnTo>
                    <a:lnTo>
                      <a:pt x="266" y="70"/>
                    </a:lnTo>
                    <a:lnTo>
                      <a:pt x="257" y="51"/>
                    </a:lnTo>
                    <a:lnTo>
                      <a:pt x="249" y="33"/>
                    </a:lnTo>
                    <a:lnTo>
                      <a:pt x="242" y="20"/>
                    </a:lnTo>
                    <a:lnTo>
                      <a:pt x="236" y="9"/>
                    </a:lnTo>
                    <a:lnTo>
                      <a:pt x="233" y="2"/>
                    </a:lnTo>
                    <a:lnTo>
                      <a:pt x="231" y="0"/>
                    </a:lnTo>
                    <a:lnTo>
                      <a:pt x="233" y="9"/>
                    </a:lnTo>
                    <a:lnTo>
                      <a:pt x="233" y="32"/>
                    </a:lnTo>
                    <a:lnTo>
                      <a:pt x="231" y="67"/>
                    </a:lnTo>
                    <a:lnTo>
                      <a:pt x="226" y="107"/>
                    </a:lnTo>
                    <a:lnTo>
                      <a:pt x="219" y="131"/>
                    </a:lnTo>
                    <a:lnTo>
                      <a:pt x="210" y="155"/>
                    </a:lnTo>
                    <a:lnTo>
                      <a:pt x="198" y="180"/>
                    </a:lnTo>
                    <a:lnTo>
                      <a:pt x="183" y="202"/>
                    </a:lnTo>
                    <a:lnTo>
                      <a:pt x="163" y="225"/>
                    </a:lnTo>
                    <a:lnTo>
                      <a:pt x="139" y="248"/>
                    </a:lnTo>
                    <a:lnTo>
                      <a:pt x="111" y="267"/>
                    </a:lnTo>
                    <a:lnTo>
                      <a:pt x="78" y="282"/>
                    </a:lnTo>
                    <a:lnTo>
                      <a:pt x="24" y="317"/>
                    </a:lnTo>
                    <a:lnTo>
                      <a:pt x="2" y="357"/>
                    </a:lnTo>
                    <a:lnTo>
                      <a:pt x="0" y="399"/>
                    </a:lnTo>
                    <a:lnTo>
                      <a:pt x="12" y="441"/>
                    </a:lnTo>
                    <a:lnTo>
                      <a:pt x="35" y="477"/>
                    </a:lnTo>
                    <a:lnTo>
                      <a:pt x="59" y="509"/>
                    </a:lnTo>
                    <a:lnTo>
                      <a:pt x="78" y="529"/>
                    </a:lnTo>
                    <a:lnTo>
                      <a:pt x="87" y="536"/>
                    </a:lnTo>
                    <a:lnTo>
                      <a:pt x="85" y="503"/>
                    </a:lnTo>
                    <a:lnTo>
                      <a:pt x="89" y="474"/>
                    </a:lnTo>
                    <a:lnTo>
                      <a:pt x="97" y="448"/>
                    </a:lnTo>
                    <a:lnTo>
                      <a:pt x="113" y="423"/>
                    </a:lnTo>
                    <a:lnTo>
                      <a:pt x="136" y="401"/>
                    </a:lnTo>
                    <a:lnTo>
                      <a:pt x="165" y="378"/>
                    </a:lnTo>
                    <a:lnTo>
                      <a:pt x="203" y="355"/>
                    </a:lnTo>
                    <a:lnTo>
                      <a:pt x="250" y="331"/>
                    </a:lnTo>
                    <a:close/>
                  </a:path>
                </a:pathLst>
              </a:custGeom>
              <a:gradFill rotWithShape="0">
                <a:gsLst>
                  <a:gs pos="0">
                    <a:srgbClr val="ffffeb"/>
                  </a:gs>
                  <a:gs pos="100000">
                    <a:srgbClr val="ff9e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795360" y="2417760"/>
                <a:ext cx="236160" cy="975600"/>
              </a:xfrm>
              <a:custGeom>
                <a:avLst/>
                <a:gdLst/>
                <a:ahLst/>
                <a:rect l="l" t="t" r="r" b="b"/>
                <a:pathLst>
                  <a:path w="412" h="1143">
                    <a:moveTo>
                      <a:pt x="265" y="442"/>
                    </a:moveTo>
                    <a:lnTo>
                      <a:pt x="200" y="390"/>
                    </a:lnTo>
                    <a:lnTo>
                      <a:pt x="169" y="325"/>
                    </a:lnTo>
                    <a:lnTo>
                      <a:pt x="164" y="252"/>
                    </a:lnTo>
                    <a:lnTo>
                      <a:pt x="176" y="179"/>
                    </a:lnTo>
                    <a:lnTo>
                      <a:pt x="198" y="110"/>
                    </a:lnTo>
                    <a:lnTo>
                      <a:pt x="223" y="54"/>
                    </a:lnTo>
                    <a:lnTo>
                      <a:pt x="244" y="14"/>
                    </a:lnTo>
                    <a:lnTo>
                      <a:pt x="252" y="0"/>
                    </a:lnTo>
                    <a:lnTo>
                      <a:pt x="249" y="3"/>
                    </a:lnTo>
                    <a:lnTo>
                      <a:pt x="237" y="14"/>
                    </a:lnTo>
                    <a:lnTo>
                      <a:pt x="219" y="30"/>
                    </a:lnTo>
                    <a:lnTo>
                      <a:pt x="198" y="49"/>
                    </a:lnTo>
                    <a:lnTo>
                      <a:pt x="174" y="75"/>
                    </a:lnTo>
                    <a:lnTo>
                      <a:pt x="148" y="104"/>
                    </a:lnTo>
                    <a:lnTo>
                      <a:pt x="122" y="136"/>
                    </a:lnTo>
                    <a:lnTo>
                      <a:pt x="98" y="171"/>
                    </a:lnTo>
                    <a:lnTo>
                      <a:pt x="77" y="207"/>
                    </a:lnTo>
                    <a:lnTo>
                      <a:pt x="59" y="247"/>
                    </a:lnTo>
                    <a:lnTo>
                      <a:pt x="49" y="285"/>
                    </a:lnTo>
                    <a:lnTo>
                      <a:pt x="44" y="324"/>
                    </a:lnTo>
                    <a:lnTo>
                      <a:pt x="49" y="364"/>
                    </a:lnTo>
                    <a:lnTo>
                      <a:pt x="63" y="400"/>
                    </a:lnTo>
                    <a:lnTo>
                      <a:pt x="89" y="437"/>
                    </a:lnTo>
                    <a:lnTo>
                      <a:pt x="129" y="470"/>
                    </a:lnTo>
                    <a:lnTo>
                      <a:pt x="157" y="496"/>
                    </a:lnTo>
                    <a:lnTo>
                      <a:pt x="178" y="526"/>
                    </a:lnTo>
                    <a:lnTo>
                      <a:pt x="191" y="559"/>
                    </a:lnTo>
                    <a:lnTo>
                      <a:pt x="197" y="593"/>
                    </a:lnTo>
                    <a:lnTo>
                      <a:pt x="195" y="632"/>
                    </a:lnTo>
                    <a:lnTo>
                      <a:pt x="186" y="670"/>
                    </a:lnTo>
                    <a:lnTo>
                      <a:pt x="171" y="708"/>
                    </a:lnTo>
                    <a:lnTo>
                      <a:pt x="150" y="745"/>
                    </a:lnTo>
                    <a:lnTo>
                      <a:pt x="143" y="755"/>
                    </a:lnTo>
                    <a:lnTo>
                      <a:pt x="134" y="766"/>
                    </a:lnTo>
                    <a:lnTo>
                      <a:pt x="125" y="776"/>
                    </a:lnTo>
                    <a:lnTo>
                      <a:pt x="117" y="785"/>
                    </a:lnTo>
                    <a:lnTo>
                      <a:pt x="108" y="795"/>
                    </a:lnTo>
                    <a:lnTo>
                      <a:pt x="98" y="804"/>
                    </a:lnTo>
                    <a:lnTo>
                      <a:pt x="87" y="813"/>
                    </a:lnTo>
                    <a:lnTo>
                      <a:pt x="75" y="821"/>
                    </a:lnTo>
                    <a:lnTo>
                      <a:pt x="38" y="854"/>
                    </a:lnTo>
                    <a:lnTo>
                      <a:pt x="14" y="886"/>
                    </a:lnTo>
                    <a:lnTo>
                      <a:pt x="2" y="915"/>
                    </a:lnTo>
                    <a:lnTo>
                      <a:pt x="0" y="945"/>
                    </a:lnTo>
                    <a:lnTo>
                      <a:pt x="5" y="973"/>
                    </a:lnTo>
                    <a:lnTo>
                      <a:pt x="17" y="999"/>
                    </a:lnTo>
                    <a:lnTo>
                      <a:pt x="37" y="1025"/>
                    </a:lnTo>
                    <a:lnTo>
                      <a:pt x="59" y="1048"/>
                    </a:lnTo>
                    <a:lnTo>
                      <a:pt x="85" y="1068"/>
                    </a:lnTo>
                    <a:lnTo>
                      <a:pt x="111" y="1088"/>
                    </a:lnTo>
                    <a:lnTo>
                      <a:pt x="138" y="1103"/>
                    </a:lnTo>
                    <a:lnTo>
                      <a:pt x="162" y="1117"/>
                    </a:lnTo>
                    <a:lnTo>
                      <a:pt x="185" y="1128"/>
                    </a:lnTo>
                    <a:lnTo>
                      <a:pt x="202" y="1136"/>
                    </a:lnTo>
                    <a:lnTo>
                      <a:pt x="214" y="1142"/>
                    </a:lnTo>
                    <a:lnTo>
                      <a:pt x="218" y="1143"/>
                    </a:lnTo>
                    <a:lnTo>
                      <a:pt x="205" y="1112"/>
                    </a:lnTo>
                    <a:lnTo>
                      <a:pt x="193" y="1075"/>
                    </a:lnTo>
                    <a:lnTo>
                      <a:pt x="183" y="1034"/>
                    </a:lnTo>
                    <a:lnTo>
                      <a:pt x="179" y="992"/>
                    </a:lnTo>
                    <a:lnTo>
                      <a:pt x="185" y="948"/>
                    </a:lnTo>
                    <a:lnTo>
                      <a:pt x="204" y="905"/>
                    </a:lnTo>
                    <a:lnTo>
                      <a:pt x="235" y="865"/>
                    </a:lnTo>
                    <a:lnTo>
                      <a:pt x="285" y="828"/>
                    </a:lnTo>
                    <a:lnTo>
                      <a:pt x="305" y="816"/>
                    </a:lnTo>
                    <a:lnTo>
                      <a:pt x="322" y="800"/>
                    </a:lnTo>
                    <a:lnTo>
                      <a:pt x="339" y="787"/>
                    </a:lnTo>
                    <a:lnTo>
                      <a:pt x="355" y="771"/>
                    </a:lnTo>
                    <a:lnTo>
                      <a:pt x="369" y="753"/>
                    </a:lnTo>
                    <a:lnTo>
                      <a:pt x="381" y="736"/>
                    </a:lnTo>
                    <a:lnTo>
                      <a:pt x="392" y="719"/>
                    </a:lnTo>
                    <a:lnTo>
                      <a:pt x="400" y="700"/>
                    </a:lnTo>
                    <a:lnTo>
                      <a:pt x="409" y="666"/>
                    </a:lnTo>
                    <a:lnTo>
                      <a:pt x="412" y="633"/>
                    </a:lnTo>
                    <a:lnTo>
                      <a:pt x="409" y="599"/>
                    </a:lnTo>
                    <a:lnTo>
                      <a:pt x="397" y="566"/>
                    </a:lnTo>
                    <a:lnTo>
                      <a:pt x="378" y="532"/>
                    </a:lnTo>
                    <a:lnTo>
                      <a:pt x="350" y="499"/>
                    </a:lnTo>
                    <a:lnTo>
                      <a:pt x="312" y="470"/>
                    </a:lnTo>
                    <a:lnTo>
                      <a:pt x="265" y="442"/>
                    </a:lnTo>
                    <a:close/>
                  </a:path>
                </a:pathLst>
              </a:custGeom>
              <a:gradFill rotWithShape="0">
                <a:gsLst>
                  <a:gs pos="0">
                    <a:srgbClr val="ffffeb"/>
                  </a:gs>
                  <a:gs pos="100000">
                    <a:srgbClr val="ff9e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130520" y="3052080"/>
                <a:ext cx="555480" cy="446760"/>
              </a:xfrm>
              <a:custGeom>
                <a:avLst/>
                <a:gdLst/>
                <a:ahLst/>
                <a:rect l="l" t="t" r="r" b="b"/>
                <a:pathLst>
                  <a:path w="875" h="787">
                    <a:moveTo>
                      <a:pt x="875" y="4"/>
                    </a:moveTo>
                    <a:lnTo>
                      <a:pt x="870" y="4"/>
                    </a:lnTo>
                    <a:lnTo>
                      <a:pt x="854" y="2"/>
                    </a:lnTo>
                    <a:lnTo>
                      <a:pt x="831" y="0"/>
                    </a:lnTo>
                    <a:lnTo>
                      <a:pt x="802" y="0"/>
                    </a:lnTo>
                    <a:lnTo>
                      <a:pt x="767" y="0"/>
                    </a:lnTo>
                    <a:lnTo>
                      <a:pt x="729" y="4"/>
                    </a:lnTo>
                    <a:lnTo>
                      <a:pt x="687" y="7"/>
                    </a:lnTo>
                    <a:lnTo>
                      <a:pt x="645" y="16"/>
                    </a:lnTo>
                    <a:lnTo>
                      <a:pt x="604" y="26"/>
                    </a:lnTo>
                    <a:lnTo>
                      <a:pt x="565" y="40"/>
                    </a:lnTo>
                    <a:lnTo>
                      <a:pt x="529" y="61"/>
                    </a:lnTo>
                    <a:lnTo>
                      <a:pt x="499" y="86"/>
                    </a:lnTo>
                    <a:lnTo>
                      <a:pt x="475" y="115"/>
                    </a:lnTo>
                    <a:lnTo>
                      <a:pt x="457" y="152"/>
                    </a:lnTo>
                    <a:lnTo>
                      <a:pt x="452" y="197"/>
                    </a:lnTo>
                    <a:lnTo>
                      <a:pt x="456" y="247"/>
                    </a:lnTo>
                    <a:lnTo>
                      <a:pt x="457" y="261"/>
                    </a:lnTo>
                    <a:lnTo>
                      <a:pt x="459" y="275"/>
                    </a:lnTo>
                    <a:lnTo>
                      <a:pt x="457" y="287"/>
                    </a:lnTo>
                    <a:lnTo>
                      <a:pt x="456" y="300"/>
                    </a:lnTo>
                    <a:lnTo>
                      <a:pt x="452" y="319"/>
                    </a:lnTo>
                    <a:lnTo>
                      <a:pt x="445" y="338"/>
                    </a:lnTo>
                    <a:lnTo>
                      <a:pt x="436" y="355"/>
                    </a:lnTo>
                    <a:lnTo>
                      <a:pt x="424" y="373"/>
                    </a:lnTo>
                    <a:lnTo>
                      <a:pt x="410" y="388"/>
                    </a:lnTo>
                    <a:lnTo>
                      <a:pt x="396" y="402"/>
                    </a:lnTo>
                    <a:lnTo>
                      <a:pt x="379" y="416"/>
                    </a:lnTo>
                    <a:lnTo>
                      <a:pt x="360" y="427"/>
                    </a:lnTo>
                    <a:lnTo>
                      <a:pt x="341" y="437"/>
                    </a:lnTo>
                    <a:lnTo>
                      <a:pt x="320" y="446"/>
                    </a:lnTo>
                    <a:lnTo>
                      <a:pt x="297" y="453"/>
                    </a:lnTo>
                    <a:lnTo>
                      <a:pt x="273" y="458"/>
                    </a:lnTo>
                    <a:lnTo>
                      <a:pt x="249" y="461"/>
                    </a:lnTo>
                    <a:lnTo>
                      <a:pt x="222" y="463"/>
                    </a:lnTo>
                    <a:lnTo>
                      <a:pt x="196" y="461"/>
                    </a:lnTo>
                    <a:lnTo>
                      <a:pt x="170" y="460"/>
                    </a:lnTo>
                    <a:lnTo>
                      <a:pt x="122" y="456"/>
                    </a:lnTo>
                    <a:lnTo>
                      <a:pt x="82" y="461"/>
                    </a:lnTo>
                    <a:lnTo>
                      <a:pt x="52" y="474"/>
                    </a:lnTo>
                    <a:lnTo>
                      <a:pt x="29" y="493"/>
                    </a:lnTo>
                    <a:lnTo>
                      <a:pt x="14" y="517"/>
                    </a:lnTo>
                    <a:lnTo>
                      <a:pt x="3" y="545"/>
                    </a:lnTo>
                    <a:lnTo>
                      <a:pt x="0" y="574"/>
                    </a:lnTo>
                    <a:lnTo>
                      <a:pt x="0" y="608"/>
                    </a:lnTo>
                    <a:lnTo>
                      <a:pt x="1" y="641"/>
                    </a:lnTo>
                    <a:lnTo>
                      <a:pt x="8" y="672"/>
                    </a:lnTo>
                    <a:lnTo>
                      <a:pt x="15" y="703"/>
                    </a:lnTo>
                    <a:lnTo>
                      <a:pt x="22" y="729"/>
                    </a:lnTo>
                    <a:lnTo>
                      <a:pt x="31" y="754"/>
                    </a:lnTo>
                    <a:lnTo>
                      <a:pt x="36" y="771"/>
                    </a:lnTo>
                    <a:lnTo>
                      <a:pt x="41" y="783"/>
                    </a:lnTo>
                    <a:lnTo>
                      <a:pt x="43" y="787"/>
                    </a:lnTo>
                    <a:lnTo>
                      <a:pt x="57" y="755"/>
                    </a:lnTo>
                    <a:lnTo>
                      <a:pt x="73" y="721"/>
                    </a:lnTo>
                    <a:lnTo>
                      <a:pt x="95" y="686"/>
                    </a:lnTo>
                    <a:lnTo>
                      <a:pt x="123" y="653"/>
                    </a:lnTo>
                    <a:lnTo>
                      <a:pt x="156" y="625"/>
                    </a:lnTo>
                    <a:lnTo>
                      <a:pt x="200" y="608"/>
                    </a:lnTo>
                    <a:lnTo>
                      <a:pt x="252" y="602"/>
                    </a:lnTo>
                    <a:lnTo>
                      <a:pt x="313" y="611"/>
                    </a:lnTo>
                    <a:lnTo>
                      <a:pt x="341" y="616"/>
                    </a:lnTo>
                    <a:lnTo>
                      <a:pt x="367" y="620"/>
                    </a:lnTo>
                    <a:lnTo>
                      <a:pt x="395" y="621"/>
                    </a:lnTo>
                    <a:lnTo>
                      <a:pt x="421" y="620"/>
                    </a:lnTo>
                    <a:lnTo>
                      <a:pt x="445" y="616"/>
                    </a:lnTo>
                    <a:lnTo>
                      <a:pt x="470" y="609"/>
                    </a:lnTo>
                    <a:lnTo>
                      <a:pt x="492" y="601"/>
                    </a:lnTo>
                    <a:lnTo>
                      <a:pt x="513" y="588"/>
                    </a:lnTo>
                    <a:lnTo>
                      <a:pt x="532" y="574"/>
                    </a:lnTo>
                    <a:lnTo>
                      <a:pt x="548" y="559"/>
                    </a:lnTo>
                    <a:lnTo>
                      <a:pt x="562" y="540"/>
                    </a:lnTo>
                    <a:lnTo>
                      <a:pt x="574" y="517"/>
                    </a:lnTo>
                    <a:lnTo>
                      <a:pt x="583" y="493"/>
                    </a:lnTo>
                    <a:lnTo>
                      <a:pt x="588" y="467"/>
                    </a:lnTo>
                    <a:lnTo>
                      <a:pt x="591" y="437"/>
                    </a:lnTo>
                    <a:lnTo>
                      <a:pt x="590" y="406"/>
                    </a:lnTo>
                    <a:lnTo>
                      <a:pt x="588" y="387"/>
                    </a:lnTo>
                    <a:lnTo>
                      <a:pt x="584" y="367"/>
                    </a:lnTo>
                    <a:lnTo>
                      <a:pt x="579" y="347"/>
                    </a:lnTo>
                    <a:lnTo>
                      <a:pt x="572" y="324"/>
                    </a:lnTo>
                    <a:lnTo>
                      <a:pt x="563" y="282"/>
                    </a:lnTo>
                    <a:lnTo>
                      <a:pt x="563" y="242"/>
                    </a:lnTo>
                    <a:lnTo>
                      <a:pt x="572" y="207"/>
                    </a:lnTo>
                    <a:lnTo>
                      <a:pt x="588" y="174"/>
                    </a:lnTo>
                    <a:lnTo>
                      <a:pt x="609" y="146"/>
                    </a:lnTo>
                    <a:lnTo>
                      <a:pt x="635" y="119"/>
                    </a:lnTo>
                    <a:lnTo>
                      <a:pt x="664" y="96"/>
                    </a:lnTo>
                    <a:lnTo>
                      <a:pt x="696" y="75"/>
                    </a:lnTo>
                    <a:lnTo>
                      <a:pt x="727" y="58"/>
                    </a:lnTo>
                    <a:lnTo>
                      <a:pt x="758" y="44"/>
                    </a:lnTo>
                    <a:lnTo>
                      <a:pt x="790" y="30"/>
                    </a:lnTo>
                    <a:lnTo>
                      <a:pt x="818" y="21"/>
                    </a:lnTo>
                    <a:lnTo>
                      <a:pt x="840" y="12"/>
                    </a:lnTo>
                    <a:lnTo>
                      <a:pt x="859" y="7"/>
                    </a:lnTo>
                    <a:lnTo>
                      <a:pt x="871" y="5"/>
                    </a:lnTo>
                    <a:lnTo>
                      <a:pt x="875" y="4"/>
                    </a:lnTo>
                    <a:close/>
                  </a:path>
                </a:pathLst>
              </a:custGeom>
              <a:gradFill rotWithShape="0">
                <a:gsLst>
                  <a:gs pos="0">
                    <a:srgbClr val="ffffeb"/>
                  </a:gs>
                  <a:gs pos="100000">
                    <a:srgbClr val="ff9e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625440" y="3083400"/>
                <a:ext cx="158400" cy="288360"/>
              </a:xfrm>
              <a:custGeom>
                <a:avLst/>
                <a:gdLst/>
                <a:ahLst/>
                <a:rect l="l" t="t" r="r" b="b"/>
                <a:pathLst>
                  <a:path w="277" h="480">
                    <a:moveTo>
                      <a:pt x="247" y="221"/>
                    </a:moveTo>
                    <a:lnTo>
                      <a:pt x="249" y="213"/>
                    </a:lnTo>
                    <a:lnTo>
                      <a:pt x="251" y="202"/>
                    </a:lnTo>
                    <a:lnTo>
                      <a:pt x="253" y="193"/>
                    </a:lnTo>
                    <a:lnTo>
                      <a:pt x="253" y="185"/>
                    </a:lnTo>
                    <a:lnTo>
                      <a:pt x="240" y="141"/>
                    </a:lnTo>
                    <a:lnTo>
                      <a:pt x="211" y="105"/>
                    </a:lnTo>
                    <a:lnTo>
                      <a:pt x="171" y="73"/>
                    </a:lnTo>
                    <a:lnTo>
                      <a:pt x="124" y="47"/>
                    </a:lnTo>
                    <a:lnTo>
                      <a:pt x="79" y="26"/>
                    </a:lnTo>
                    <a:lnTo>
                      <a:pt x="39" y="12"/>
                    </a:lnTo>
                    <a:lnTo>
                      <a:pt x="11" y="4"/>
                    </a:lnTo>
                    <a:lnTo>
                      <a:pt x="0" y="0"/>
                    </a:lnTo>
                    <a:lnTo>
                      <a:pt x="5" y="5"/>
                    </a:lnTo>
                    <a:lnTo>
                      <a:pt x="21" y="18"/>
                    </a:lnTo>
                    <a:lnTo>
                      <a:pt x="42" y="38"/>
                    </a:lnTo>
                    <a:lnTo>
                      <a:pt x="65" y="68"/>
                    </a:lnTo>
                    <a:lnTo>
                      <a:pt x="86" y="105"/>
                    </a:lnTo>
                    <a:lnTo>
                      <a:pt x="101" y="148"/>
                    </a:lnTo>
                    <a:lnTo>
                      <a:pt x="110" y="199"/>
                    </a:lnTo>
                    <a:lnTo>
                      <a:pt x="106" y="254"/>
                    </a:lnTo>
                    <a:lnTo>
                      <a:pt x="103" y="268"/>
                    </a:lnTo>
                    <a:lnTo>
                      <a:pt x="99" y="280"/>
                    </a:lnTo>
                    <a:lnTo>
                      <a:pt x="96" y="294"/>
                    </a:lnTo>
                    <a:lnTo>
                      <a:pt x="91" y="308"/>
                    </a:lnTo>
                    <a:lnTo>
                      <a:pt x="77" y="371"/>
                    </a:lnTo>
                    <a:lnTo>
                      <a:pt x="89" y="414"/>
                    </a:lnTo>
                    <a:lnTo>
                      <a:pt x="117" y="446"/>
                    </a:lnTo>
                    <a:lnTo>
                      <a:pt x="155" y="465"/>
                    </a:lnTo>
                    <a:lnTo>
                      <a:pt x="199" y="475"/>
                    </a:lnTo>
                    <a:lnTo>
                      <a:pt x="237" y="480"/>
                    </a:lnTo>
                    <a:lnTo>
                      <a:pt x="266" y="480"/>
                    </a:lnTo>
                    <a:lnTo>
                      <a:pt x="277" y="480"/>
                    </a:lnTo>
                    <a:lnTo>
                      <a:pt x="251" y="458"/>
                    </a:lnTo>
                    <a:lnTo>
                      <a:pt x="233" y="435"/>
                    </a:lnTo>
                    <a:lnTo>
                      <a:pt x="220" y="411"/>
                    </a:lnTo>
                    <a:lnTo>
                      <a:pt x="214" y="383"/>
                    </a:lnTo>
                    <a:lnTo>
                      <a:pt x="214" y="352"/>
                    </a:lnTo>
                    <a:lnTo>
                      <a:pt x="220" y="315"/>
                    </a:lnTo>
                    <a:lnTo>
                      <a:pt x="230" y="272"/>
                    </a:lnTo>
                    <a:lnTo>
                      <a:pt x="247" y="221"/>
                    </a:lnTo>
                    <a:close/>
                  </a:path>
                </a:pathLst>
              </a:custGeom>
              <a:gradFill rotWithShape="0">
                <a:gsLst>
                  <a:gs pos="0">
                    <a:srgbClr val="ffffeb"/>
                  </a:gs>
                  <a:gs pos="100000">
                    <a:srgbClr val="ff9e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088320" y="2648520"/>
                <a:ext cx="591120" cy="869760"/>
              </a:xfrm>
              <a:custGeom>
                <a:avLst/>
                <a:gdLst/>
                <a:ahLst/>
                <a:rect l="l" t="t" r="r" b="b"/>
                <a:pathLst>
                  <a:path w="787" h="877">
                    <a:moveTo>
                      <a:pt x="613" y="564"/>
                    </a:moveTo>
                    <a:lnTo>
                      <a:pt x="615" y="552"/>
                    </a:lnTo>
                    <a:lnTo>
                      <a:pt x="616" y="541"/>
                    </a:lnTo>
                    <a:lnTo>
                      <a:pt x="618" y="531"/>
                    </a:lnTo>
                    <a:lnTo>
                      <a:pt x="620" y="519"/>
                    </a:lnTo>
                    <a:lnTo>
                      <a:pt x="622" y="491"/>
                    </a:lnTo>
                    <a:lnTo>
                      <a:pt x="622" y="463"/>
                    </a:lnTo>
                    <a:lnTo>
                      <a:pt x="618" y="437"/>
                    </a:lnTo>
                    <a:lnTo>
                      <a:pt x="613" y="411"/>
                    </a:lnTo>
                    <a:lnTo>
                      <a:pt x="603" y="388"/>
                    </a:lnTo>
                    <a:lnTo>
                      <a:pt x="592" y="366"/>
                    </a:lnTo>
                    <a:lnTo>
                      <a:pt x="578" y="346"/>
                    </a:lnTo>
                    <a:lnTo>
                      <a:pt x="561" y="327"/>
                    </a:lnTo>
                    <a:lnTo>
                      <a:pt x="540" y="313"/>
                    </a:lnTo>
                    <a:lnTo>
                      <a:pt x="517" y="301"/>
                    </a:lnTo>
                    <a:lnTo>
                      <a:pt x="493" y="292"/>
                    </a:lnTo>
                    <a:lnTo>
                      <a:pt x="465" y="287"/>
                    </a:lnTo>
                    <a:lnTo>
                      <a:pt x="434" y="285"/>
                    </a:lnTo>
                    <a:lnTo>
                      <a:pt x="401" y="287"/>
                    </a:lnTo>
                    <a:lnTo>
                      <a:pt x="364" y="294"/>
                    </a:lnTo>
                    <a:lnTo>
                      <a:pt x="326" y="305"/>
                    </a:lnTo>
                    <a:lnTo>
                      <a:pt x="284" y="313"/>
                    </a:lnTo>
                    <a:lnTo>
                      <a:pt x="244" y="313"/>
                    </a:lnTo>
                    <a:lnTo>
                      <a:pt x="208" y="305"/>
                    </a:lnTo>
                    <a:lnTo>
                      <a:pt x="176" y="289"/>
                    </a:lnTo>
                    <a:lnTo>
                      <a:pt x="147" y="268"/>
                    </a:lnTo>
                    <a:lnTo>
                      <a:pt x="121" y="242"/>
                    </a:lnTo>
                    <a:lnTo>
                      <a:pt x="96" y="212"/>
                    </a:lnTo>
                    <a:lnTo>
                      <a:pt x="77" y="181"/>
                    </a:lnTo>
                    <a:lnTo>
                      <a:pt x="58" y="148"/>
                    </a:lnTo>
                    <a:lnTo>
                      <a:pt x="44" y="117"/>
                    </a:lnTo>
                    <a:lnTo>
                      <a:pt x="32" y="85"/>
                    </a:lnTo>
                    <a:lnTo>
                      <a:pt x="21" y="59"/>
                    </a:lnTo>
                    <a:lnTo>
                      <a:pt x="13" y="35"/>
                    </a:lnTo>
                    <a:lnTo>
                      <a:pt x="7" y="16"/>
                    </a:lnTo>
                    <a:lnTo>
                      <a:pt x="6" y="4"/>
                    </a:lnTo>
                    <a:lnTo>
                      <a:pt x="4" y="0"/>
                    </a:lnTo>
                    <a:lnTo>
                      <a:pt x="4" y="5"/>
                    </a:lnTo>
                    <a:lnTo>
                      <a:pt x="2" y="21"/>
                    </a:lnTo>
                    <a:lnTo>
                      <a:pt x="0" y="44"/>
                    </a:lnTo>
                    <a:lnTo>
                      <a:pt x="0" y="73"/>
                    </a:lnTo>
                    <a:lnTo>
                      <a:pt x="0" y="108"/>
                    </a:lnTo>
                    <a:lnTo>
                      <a:pt x="4" y="148"/>
                    </a:lnTo>
                    <a:lnTo>
                      <a:pt x="7" y="188"/>
                    </a:lnTo>
                    <a:lnTo>
                      <a:pt x="16" y="232"/>
                    </a:lnTo>
                    <a:lnTo>
                      <a:pt x="27" y="272"/>
                    </a:lnTo>
                    <a:lnTo>
                      <a:pt x="42" y="312"/>
                    </a:lnTo>
                    <a:lnTo>
                      <a:pt x="61" y="348"/>
                    </a:lnTo>
                    <a:lnTo>
                      <a:pt x="86" y="378"/>
                    </a:lnTo>
                    <a:lnTo>
                      <a:pt x="117" y="402"/>
                    </a:lnTo>
                    <a:lnTo>
                      <a:pt x="154" y="419"/>
                    </a:lnTo>
                    <a:lnTo>
                      <a:pt x="197" y="425"/>
                    </a:lnTo>
                    <a:lnTo>
                      <a:pt x="249" y="421"/>
                    </a:lnTo>
                    <a:lnTo>
                      <a:pt x="293" y="419"/>
                    </a:lnTo>
                    <a:lnTo>
                      <a:pt x="333" y="428"/>
                    </a:lnTo>
                    <a:lnTo>
                      <a:pt x="368" y="447"/>
                    </a:lnTo>
                    <a:lnTo>
                      <a:pt x="399" y="475"/>
                    </a:lnTo>
                    <a:lnTo>
                      <a:pt x="425" y="510"/>
                    </a:lnTo>
                    <a:lnTo>
                      <a:pt x="446" y="552"/>
                    </a:lnTo>
                    <a:lnTo>
                      <a:pt x="458" y="597"/>
                    </a:lnTo>
                    <a:lnTo>
                      <a:pt x="463" y="647"/>
                    </a:lnTo>
                    <a:lnTo>
                      <a:pt x="463" y="661"/>
                    </a:lnTo>
                    <a:lnTo>
                      <a:pt x="463" y="677"/>
                    </a:lnTo>
                    <a:lnTo>
                      <a:pt x="462" y="691"/>
                    </a:lnTo>
                    <a:lnTo>
                      <a:pt x="460" y="707"/>
                    </a:lnTo>
                    <a:lnTo>
                      <a:pt x="456" y="755"/>
                    </a:lnTo>
                    <a:lnTo>
                      <a:pt x="462" y="795"/>
                    </a:lnTo>
                    <a:lnTo>
                      <a:pt x="474" y="825"/>
                    </a:lnTo>
                    <a:lnTo>
                      <a:pt x="493" y="848"/>
                    </a:lnTo>
                    <a:lnTo>
                      <a:pt x="517" y="863"/>
                    </a:lnTo>
                    <a:lnTo>
                      <a:pt x="545" y="874"/>
                    </a:lnTo>
                    <a:lnTo>
                      <a:pt x="576" y="877"/>
                    </a:lnTo>
                    <a:lnTo>
                      <a:pt x="608" y="877"/>
                    </a:lnTo>
                    <a:lnTo>
                      <a:pt x="641" y="875"/>
                    </a:lnTo>
                    <a:lnTo>
                      <a:pt x="672" y="868"/>
                    </a:lnTo>
                    <a:lnTo>
                      <a:pt x="703" y="861"/>
                    </a:lnTo>
                    <a:lnTo>
                      <a:pt x="730" y="854"/>
                    </a:lnTo>
                    <a:lnTo>
                      <a:pt x="754" y="846"/>
                    </a:lnTo>
                    <a:lnTo>
                      <a:pt x="771" y="841"/>
                    </a:lnTo>
                    <a:lnTo>
                      <a:pt x="783" y="835"/>
                    </a:lnTo>
                    <a:lnTo>
                      <a:pt x="787" y="834"/>
                    </a:lnTo>
                    <a:lnTo>
                      <a:pt x="756" y="820"/>
                    </a:lnTo>
                    <a:lnTo>
                      <a:pt x="721" y="804"/>
                    </a:lnTo>
                    <a:lnTo>
                      <a:pt x="686" y="781"/>
                    </a:lnTo>
                    <a:lnTo>
                      <a:pt x="653" y="754"/>
                    </a:lnTo>
                    <a:lnTo>
                      <a:pt x="627" y="721"/>
                    </a:lnTo>
                    <a:lnTo>
                      <a:pt x="609" y="677"/>
                    </a:lnTo>
                    <a:lnTo>
                      <a:pt x="604" y="625"/>
                    </a:lnTo>
                    <a:lnTo>
                      <a:pt x="613" y="564"/>
                    </a:lnTo>
                    <a:close/>
                  </a:path>
                </a:pathLst>
              </a:custGeom>
              <a:gradFill rotWithShape="0">
                <a:gsLst>
                  <a:gs pos="0">
                    <a:srgbClr val="ff9e3f"/>
                  </a:gs>
                  <a:gs pos="100000">
                    <a:srgbClr val="ffffe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9" name=""/>
            <p:cNvGrpSpPr/>
            <p:nvPr/>
          </p:nvGrpSpPr>
          <p:grpSpPr>
            <a:xfrm>
              <a:off x="7419960" y="3898080"/>
              <a:ext cx="1429920" cy="2671920"/>
              <a:chOff x="7419960" y="3898080"/>
              <a:chExt cx="1429920" cy="2671920"/>
            </a:xfrm>
          </p:grpSpPr>
          <p:sp>
            <p:nvSpPr>
              <p:cNvPr id="660" name=""/>
              <p:cNvSpPr/>
              <p:nvPr/>
            </p:nvSpPr>
            <p:spPr>
              <a:xfrm>
                <a:off x="8227800" y="4588920"/>
                <a:ext cx="622080" cy="1003320"/>
              </a:xfrm>
              <a:custGeom>
                <a:avLst/>
                <a:gdLst/>
                <a:ahLst/>
                <a:rect l="l" t="t" r="r" b="b"/>
                <a:pathLst>
                  <a:path w="542" h="835">
                    <a:moveTo>
                      <a:pt x="518" y="199"/>
                    </a:moveTo>
                    <a:lnTo>
                      <a:pt x="507" y="169"/>
                    </a:lnTo>
                    <a:lnTo>
                      <a:pt x="493" y="141"/>
                    </a:lnTo>
                    <a:lnTo>
                      <a:pt x="475" y="113"/>
                    </a:lnTo>
                    <a:lnTo>
                      <a:pt x="455" y="89"/>
                    </a:lnTo>
                    <a:lnTo>
                      <a:pt x="432" y="65"/>
                    </a:lnTo>
                    <a:lnTo>
                      <a:pt x="407" y="42"/>
                    </a:lnTo>
                    <a:lnTo>
                      <a:pt x="381" y="20"/>
                    </a:lnTo>
                    <a:lnTo>
                      <a:pt x="354" y="0"/>
                    </a:lnTo>
                    <a:lnTo>
                      <a:pt x="363" y="24"/>
                    </a:lnTo>
                    <a:lnTo>
                      <a:pt x="373" y="61"/>
                    </a:lnTo>
                    <a:lnTo>
                      <a:pt x="385" y="105"/>
                    </a:lnTo>
                    <a:lnTo>
                      <a:pt x="395" y="157"/>
                    </a:lnTo>
                    <a:lnTo>
                      <a:pt x="404" y="215"/>
                    </a:lnTo>
                    <a:lnTo>
                      <a:pt x="411" y="278"/>
                    </a:lnTo>
                    <a:lnTo>
                      <a:pt x="411" y="344"/>
                    </a:lnTo>
                    <a:lnTo>
                      <a:pt x="407" y="411"/>
                    </a:lnTo>
                    <a:lnTo>
                      <a:pt x="395" y="478"/>
                    </a:lnTo>
                    <a:lnTo>
                      <a:pt x="376" y="543"/>
                    </a:lnTo>
                    <a:lnTo>
                      <a:pt x="346" y="608"/>
                    </a:lnTo>
                    <a:lnTo>
                      <a:pt x="305" y="666"/>
                    </a:lnTo>
                    <a:lnTo>
                      <a:pt x="251" y="720"/>
                    </a:lnTo>
                    <a:lnTo>
                      <a:pt x="183" y="765"/>
                    </a:lnTo>
                    <a:lnTo>
                      <a:pt x="99" y="803"/>
                    </a:lnTo>
                    <a:lnTo>
                      <a:pt x="0" y="831"/>
                    </a:lnTo>
                    <a:lnTo>
                      <a:pt x="6" y="832"/>
                    </a:lnTo>
                    <a:lnTo>
                      <a:pt x="12" y="832"/>
                    </a:lnTo>
                    <a:lnTo>
                      <a:pt x="19" y="834"/>
                    </a:lnTo>
                    <a:lnTo>
                      <a:pt x="27" y="835"/>
                    </a:lnTo>
                    <a:lnTo>
                      <a:pt x="66" y="835"/>
                    </a:lnTo>
                    <a:lnTo>
                      <a:pt x="102" y="834"/>
                    </a:lnTo>
                    <a:lnTo>
                      <a:pt x="137" y="829"/>
                    </a:lnTo>
                    <a:lnTo>
                      <a:pt x="172" y="823"/>
                    </a:lnTo>
                    <a:lnTo>
                      <a:pt x="203" y="815"/>
                    </a:lnTo>
                    <a:lnTo>
                      <a:pt x="234" y="803"/>
                    </a:lnTo>
                    <a:lnTo>
                      <a:pt x="263" y="791"/>
                    </a:lnTo>
                    <a:lnTo>
                      <a:pt x="290" y="777"/>
                    </a:lnTo>
                    <a:lnTo>
                      <a:pt x="317" y="762"/>
                    </a:lnTo>
                    <a:lnTo>
                      <a:pt x="341" y="745"/>
                    </a:lnTo>
                    <a:lnTo>
                      <a:pt x="365" y="727"/>
                    </a:lnTo>
                    <a:lnTo>
                      <a:pt x="388" y="708"/>
                    </a:lnTo>
                    <a:lnTo>
                      <a:pt x="408" y="689"/>
                    </a:lnTo>
                    <a:lnTo>
                      <a:pt x="429" y="669"/>
                    </a:lnTo>
                    <a:lnTo>
                      <a:pt x="448" y="648"/>
                    </a:lnTo>
                    <a:lnTo>
                      <a:pt x="467" y="627"/>
                    </a:lnTo>
                    <a:lnTo>
                      <a:pt x="497" y="581"/>
                    </a:lnTo>
                    <a:lnTo>
                      <a:pt x="519" y="532"/>
                    </a:lnTo>
                    <a:lnTo>
                      <a:pt x="534" y="479"/>
                    </a:lnTo>
                    <a:lnTo>
                      <a:pt x="541" y="425"/>
                    </a:lnTo>
                    <a:lnTo>
                      <a:pt x="542" y="369"/>
                    </a:lnTo>
                    <a:lnTo>
                      <a:pt x="538" y="312"/>
                    </a:lnTo>
                    <a:lnTo>
                      <a:pt x="529" y="255"/>
                    </a:lnTo>
                    <a:lnTo>
                      <a:pt x="518" y="199"/>
                    </a:lnTo>
                    <a:close/>
                  </a:path>
                </a:pathLst>
              </a:custGeom>
              <a:solidFill>
                <a:srgbClr val="00c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8048520" y="3898080"/>
                <a:ext cx="650520" cy="1689120"/>
              </a:xfrm>
              <a:custGeom>
                <a:avLst/>
                <a:gdLst/>
                <a:ahLst/>
                <a:rect l="l" t="t" r="r" b="b"/>
                <a:pathLst>
                  <a:path w="567" h="1406">
                    <a:moveTo>
                      <a:pt x="510" y="575"/>
                    </a:moveTo>
                    <a:lnTo>
                      <a:pt x="490" y="560"/>
                    </a:lnTo>
                    <a:lnTo>
                      <a:pt x="470" y="546"/>
                    </a:lnTo>
                    <a:lnTo>
                      <a:pt x="449" y="531"/>
                    </a:lnTo>
                    <a:lnTo>
                      <a:pt x="429" y="516"/>
                    </a:lnTo>
                    <a:lnTo>
                      <a:pt x="410" y="502"/>
                    </a:lnTo>
                    <a:lnTo>
                      <a:pt x="394" y="489"/>
                    </a:lnTo>
                    <a:lnTo>
                      <a:pt x="378" y="474"/>
                    </a:lnTo>
                    <a:lnTo>
                      <a:pt x="363" y="461"/>
                    </a:lnTo>
                    <a:lnTo>
                      <a:pt x="336" y="420"/>
                    </a:lnTo>
                    <a:lnTo>
                      <a:pt x="312" y="365"/>
                    </a:lnTo>
                    <a:lnTo>
                      <a:pt x="292" y="301"/>
                    </a:lnTo>
                    <a:lnTo>
                      <a:pt x="276" y="232"/>
                    </a:lnTo>
                    <a:lnTo>
                      <a:pt x="264" y="165"/>
                    </a:lnTo>
                    <a:lnTo>
                      <a:pt x="254" y="105"/>
                    </a:lnTo>
                    <a:lnTo>
                      <a:pt x="245" y="59"/>
                    </a:lnTo>
                    <a:lnTo>
                      <a:pt x="239" y="29"/>
                    </a:lnTo>
                    <a:lnTo>
                      <a:pt x="231" y="15"/>
                    </a:lnTo>
                    <a:lnTo>
                      <a:pt x="218" y="6"/>
                    </a:lnTo>
                    <a:lnTo>
                      <a:pt x="202" y="2"/>
                    </a:lnTo>
                    <a:lnTo>
                      <a:pt x="184" y="0"/>
                    </a:lnTo>
                    <a:lnTo>
                      <a:pt x="168" y="2"/>
                    </a:lnTo>
                    <a:lnTo>
                      <a:pt x="153" y="5"/>
                    </a:lnTo>
                    <a:lnTo>
                      <a:pt x="143" y="6"/>
                    </a:lnTo>
                    <a:lnTo>
                      <a:pt x="140" y="8"/>
                    </a:lnTo>
                    <a:lnTo>
                      <a:pt x="124" y="376"/>
                    </a:lnTo>
                    <a:lnTo>
                      <a:pt x="0" y="757"/>
                    </a:lnTo>
                    <a:lnTo>
                      <a:pt x="95" y="1136"/>
                    </a:lnTo>
                    <a:lnTo>
                      <a:pt x="91" y="1146"/>
                    </a:lnTo>
                    <a:lnTo>
                      <a:pt x="81" y="1174"/>
                    </a:lnTo>
                    <a:lnTo>
                      <a:pt x="69" y="1213"/>
                    </a:lnTo>
                    <a:lnTo>
                      <a:pt x="60" y="1260"/>
                    </a:lnTo>
                    <a:lnTo>
                      <a:pt x="60" y="1307"/>
                    </a:lnTo>
                    <a:lnTo>
                      <a:pt x="73" y="1350"/>
                    </a:lnTo>
                    <a:lnTo>
                      <a:pt x="104" y="1385"/>
                    </a:lnTo>
                    <a:lnTo>
                      <a:pt x="156" y="1406"/>
                    </a:lnTo>
                    <a:lnTo>
                      <a:pt x="255" y="1378"/>
                    </a:lnTo>
                    <a:lnTo>
                      <a:pt x="339" y="1340"/>
                    </a:lnTo>
                    <a:lnTo>
                      <a:pt x="407" y="1295"/>
                    </a:lnTo>
                    <a:lnTo>
                      <a:pt x="461" y="1241"/>
                    </a:lnTo>
                    <a:lnTo>
                      <a:pt x="502" y="1183"/>
                    </a:lnTo>
                    <a:lnTo>
                      <a:pt x="532" y="1118"/>
                    </a:lnTo>
                    <a:lnTo>
                      <a:pt x="551" y="1053"/>
                    </a:lnTo>
                    <a:lnTo>
                      <a:pt x="563" y="986"/>
                    </a:lnTo>
                    <a:lnTo>
                      <a:pt x="567" y="919"/>
                    </a:lnTo>
                    <a:lnTo>
                      <a:pt x="567" y="853"/>
                    </a:lnTo>
                    <a:lnTo>
                      <a:pt x="560" y="790"/>
                    </a:lnTo>
                    <a:lnTo>
                      <a:pt x="551" y="732"/>
                    </a:lnTo>
                    <a:lnTo>
                      <a:pt x="541" y="680"/>
                    </a:lnTo>
                    <a:lnTo>
                      <a:pt x="529" y="636"/>
                    </a:lnTo>
                    <a:lnTo>
                      <a:pt x="519" y="599"/>
                    </a:lnTo>
                    <a:lnTo>
                      <a:pt x="510" y="575"/>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7769880" y="3903840"/>
                <a:ext cx="569160" cy="1690560"/>
              </a:xfrm>
              <a:custGeom>
                <a:avLst/>
                <a:gdLst/>
                <a:ahLst/>
                <a:rect l="l" t="t" r="r" b="b"/>
                <a:pathLst>
                  <a:path w="496" h="1407">
                    <a:moveTo>
                      <a:pt x="335" y="13"/>
                    </a:moveTo>
                    <a:lnTo>
                      <a:pt x="338" y="11"/>
                    </a:lnTo>
                    <a:lnTo>
                      <a:pt x="345" y="8"/>
                    </a:lnTo>
                    <a:lnTo>
                      <a:pt x="356" y="4"/>
                    </a:lnTo>
                    <a:lnTo>
                      <a:pt x="367" y="1"/>
                    </a:lnTo>
                    <a:lnTo>
                      <a:pt x="380" y="0"/>
                    </a:lnTo>
                    <a:lnTo>
                      <a:pt x="392" y="1"/>
                    </a:lnTo>
                    <a:lnTo>
                      <a:pt x="402" y="6"/>
                    </a:lnTo>
                    <a:lnTo>
                      <a:pt x="408" y="17"/>
                    </a:lnTo>
                    <a:lnTo>
                      <a:pt x="418" y="45"/>
                    </a:lnTo>
                    <a:lnTo>
                      <a:pt x="437" y="99"/>
                    </a:lnTo>
                    <a:lnTo>
                      <a:pt x="461" y="172"/>
                    </a:lnTo>
                    <a:lnTo>
                      <a:pt x="478" y="258"/>
                    </a:lnTo>
                    <a:lnTo>
                      <a:pt x="487" y="354"/>
                    </a:lnTo>
                    <a:lnTo>
                      <a:pt x="481" y="453"/>
                    </a:lnTo>
                    <a:lnTo>
                      <a:pt x="450" y="551"/>
                    </a:lnTo>
                    <a:lnTo>
                      <a:pt x="394" y="640"/>
                    </a:lnTo>
                    <a:lnTo>
                      <a:pt x="361" y="681"/>
                    </a:lnTo>
                    <a:lnTo>
                      <a:pt x="337" y="718"/>
                    </a:lnTo>
                    <a:lnTo>
                      <a:pt x="322" y="755"/>
                    </a:lnTo>
                    <a:lnTo>
                      <a:pt x="313" y="787"/>
                    </a:lnTo>
                    <a:lnTo>
                      <a:pt x="310" y="818"/>
                    </a:lnTo>
                    <a:lnTo>
                      <a:pt x="313" y="847"/>
                    </a:lnTo>
                    <a:lnTo>
                      <a:pt x="322" y="871"/>
                    </a:lnTo>
                    <a:lnTo>
                      <a:pt x="332" y="895"/>
                    </a:lnTo>
                    <a:lnTo>
                      <a:pt x="347" y="917"/>
                    </a:lnTo>
                    <a:lnTo>
                      <a:pt x="364" y="936"/>
                    </a:lnTo>
                    <a:lnTo>
                      <a:pt x="382" y="952"/>
                    </a:lnTo>
                    <a:lnTo>
                      <a:pt x="399" y="966"/>
                    </a:lnTo>
                    <a:lnTo>
                      <a:pt x="417" y="978"/>
                    </a:lnTo>
                    <a:lnTo>
                      <a:pt x="433" y="990"/>
                    </a:lnTo>
                    <a:lnTo>
                      <a:pt x="447" y="997"/>
                    </a:lnTo>
                    <a:lnTo>
                      <a:pt x="459" y="1004"/>
                    </a:lnTo>
                    <a:lnTo>
                      <a:pt x="477" y="1023"/>
                    </a:lnTo>
                    <a:lnTo>
                      <a:pt x="490" y="1057"/>
                    </a:lnTo>
                    <a:lnTo>
                      <a:pt x="496" y="1097"/>
                    </a:lnTo>
                    <a:lnTo>
                      <a:pt x="496" y="1144"/>
                    </a:lnTo>
                    <a:lnTo>
                      <a:pt x="484" y="1189"/>
                    </a:lnTo>
                    <a:lnTo>
                      <a:pt x="462" y="1233"/>
                    </a:lnTo>
                    <a:lnTo>
                      <a:pt x="427" y="1267"/>
                    </a:lnTo>
                    <a:lnTo>
                      <a:pt x="377" y="1288"/>
                    </a:lnTo>
                    <a:lnTo>
                      <a:pt x="335" y="1304"/>
                    </a:lnTo>
                    <a:lnTo>
                      <a:pt x="319" y="1322"/>
                    </a:lnTo>
                    <a:lnTo>
                      <a:pt x="322" y="1341"/>
                    </a:lnTo>
                    <a:lnTo>
                      <a:pt x="340" y="1360"/>
                    </a:lnTo>
                    <a:lnTo>
                      <a:pt x="364" y="1377"/>
                    </a:lnTo>
                    <a:lnTo>
                      <a:pt x="394" y="1392"/>
                    </a:lnTo>
                    <a:lnTo>
                      <a:pt x="418" y="1402"/>
                    </a:lnTo>
                    <a:lnTo>
                      <a:pt x="434" y="1407"/>
                    </a:lnTo>
                    <a:lnTo>
                      <a:pt x="431" y="1407"/>
                    </a:lnTo>
                    <a:lnTo>
                      <a:pt x="423" y="1405"/>
                    </a:lnTo>
                    <a:lnTo>
                      <a:pt x="408" y="1402"/>
                    </a:lnTo>
                    <a:lnTo>
                      <a:pt x="389" y="1399"/>
                    </a:lnTo>
                    <a:lnTo>
                      <a:pt x="367" y="1393"/>
                    </a:lnTo>
                    <a:lnTo>
                      <a:pt x="341" y="1386"/>
                    </a:lnTo>
                    <a:lnTo>
                      <a:pt x="313" y="1377"/>
                    </a:lnTo>
                    <a:lnTo>
                      <a:pt x="283" y="1364"/>
                    </a:lnTo>
                    <a:lnTo>
                      <a:pt x="252" y="1350"/>
                    </a:lnTo>
                    <a:lnTo>
                      <a:pt x="219" y="1332"/>
                    </a:lnTo>
                    <a:lnTo>
                      <a:pt x="187" y="1310"/>
                    </a:lnTo>
                    <a:lnTo>
                      <a:pt x="155" y="1286"/>
                    </a:lnTo>
                    <a:lnTo>
                      <a:pt x="125" y="1258"/>
                    </a:lnTo>
                    <a:lnTo>
                      <a:pt x="96" y="1224"/>
                    </a:lnTo>
                    <a:lnTo>
                      <a:pt x="70" y="1188"/>
                    </a:lnTo>
                    <a:lnTo>
                      <a:pt x="47" y="1146"/>
                    </a:lnTo>
                    <a:lnTo>
                      <a:pt x="15" y="1062"/>
                    </a:lnTo>
                    <a:lnTo>
                      <a:pt x="0" y="991"/>
                    </a:lnTo>
                    <a:lnTo>
                      <a:pt x="2" y="928"/>
                    </a:lnTo>
                    <a:lnTo>
                      <a:pt x="15" y="874"/>
                    </a:lnTo>
                    <a:lnTo>
                      <a:pt x="35" y="829"/>
                    </a:lnTo>
                    <a:lnTo>
                      <a:pt x="63" y="791"/>
                    </a:lnTo>
                    <a:lnTo>
                      <a:pt x="90" y="761"/>
                    </a:lnTo>
                    <a:lnTo>
                      <a:pt x="118" y="736"/>
                    </a:lnTo>
                    <a:lnTo>
                      <a:pt x="131" y="724"/>
                    </a:lnTo>
                    <a:lnTo>
                      <a:pt x="147" y="711"/>
                    </a:lnTo>
                    <a:lnTo>
                      <a:pt x="165" y="695"/>
                    </a:lnTo>
                    <a:lnTo>
                      <a:pt x="184" y="678"/>
                    </a:lnTo>
                    <a:lnTo>
                      <a:pt x="203" y="656"/>
                    </a:lnTo>
                    <a:lnTo>
                      <a:pt x="223" y="631"/>
                    </a:lnTo>
                    <a:lnTo>
                      <a:pt x="242" y="602"/>
                    </a:lnTo>
                    <a:lnTo>
                      <a:pt x="261" y="568"/>
                    </a:lnTo>
                    <a:lnTo>
                      <a:pt x="280" y="530"/>
                    </a:lnTo>
                    <a:lnTo>
                      <a:pt x="296" y="487"/>
                    </a:lnTo>
                    <a:lnTo>
                      <a:pt x="312" y="437"/>
                    </a:lnTo>
                    <a:lnTo>
                      <a:pt x="324" y="382"/>
                    </a:lnTo>
                    <a:lnTo>
                      <a:pt x="335" y="320"/>
                    </a:lnTo>
                    <a:lnTo>
                      <a:pt x="341" y="250"/>
                    </a:lnTo>
                    <a:lnTo>
                      <a:pt x="345" y="173"/>
                    </a:lnTo>
                    <a:lnTo>
                      <a:pt x="345" y="89"/>
                    </a:lnTo>
                    <a:lnTo>
                      <a:pt x="335" y="13"/>
                    </a:lnTo>
                    <a:close/>
                  </a:path>
                </a:pathLst>
              </a:custGeom>
              <a:solidFill>
                <a:srgbClr val="3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796160" y="4667040"/>
                <a:ext cx="223560" cy="561240"/>
              </a:xfrm>
              <a:custGeom>
                <a:avLst/>
                <a:gdLst/>
                <a:ahLst/>
                <a:rect l="l" t="t" r="r" b="b"/>
                <a:pathLst>
                  <a:path w="195" h="467">
                    <a:moveTo>
                      <a:pt x="173" y="9"/>
                    </a:moveTo>
                    <a:lnTo>
                      <a:pt x="170" y="12"/>
                    </a:lnTo>
                    <a:lnTo>
                      <a:pt x="162" y="18"/>
                    </a:lnTo>
                    <a:lnTo>
                      <a:pt x="147" y="29"/>
                    </a:lnTo>
                    <a:lnTo>
                      <a:pt x="131" y="44"/>
                    </a:lnTo>
                    <a:lnTo>
                      <a:pt x="112" y="63"/>
                    </a:lnTo>
                    <a:lnTo>
                      <a:pt x="90" y="85"/>
                    </a:lnTo>
                    <a:lnTo>
                      <a:pt x="70" y="111"/>
                    </a:lnTo>
                    <a:lnTo>
                      <a:pt x="49" y="139"/>
                    </a:lnTo>
                    <a:lnTo>
                      <a:pt x="32" y="171"/>
                    </a:lnTo>
                    <a:lnTo>
                      <a:pt x="16" y="204"/>
                    </a:lnTo>
                    <a:lnTo>
                      <a:pt x="6" y="241"/>
                    </a:lnTo>
                    <a:lnTo>
                      <a:pt x="0" y="278"/>
                    </a:lnTo>
                    <a:lnTo>
                      <a:pt x="0" y="319"/>
                    </a:lnTo>
                    <a:lnTo>
                      <a:pt x="9" y="362"/>
                    </a:lnTo>
                    <a:lnTo>
                      <a:pt x="25" y="404"/>
                    </a:lnTo>
                    <a:lnTo>
                      <a:pt x="51" y="449"/>
                    </a:lnTo>
                    <a:lnTo>
                      <a:pt x="57" y="456"/>
                    </a:lnTo>
                    <a:lnTo>
                      <a:pt x="68" y="467"/>
                    </a:lnTo>
                    <a:lnTo>
                      <a:pt x="80" y="462"/>
                    </a:lnTo>
                    <a:lnTo>
                      <a:pt x="84" y="424"/>
                    </a:lnTo>
                    <a:lnTo>
                      <a:pt x="84" y="391"/>
                    </a:lnTo>
                    <a:lnTo>
                      <a:pt x="87" y="353"/>
                    </a:lnTo>
                    <a:lnTo>
                      <a:pt x="92" y="312"/>
                    </a:lnTo>
                    <a:lnTo>
                      <a:pt x="97" y="271"/>
                    </a:lnTo>
                    <a:lnTo>
                      <a:pt x="105" y="230"/>
                    </a:lnTo>
                    <a:lnTo>
                      <a:pt x="115" y="194"/>
                    </a:lnTo>
                    <a:lnTo>
                      <a:pt x="125" y="162"/>
                    </a:lnTo>
                    <a:lnTo>
                      <a:pt x="137" y="136"/>
                    </a:lnTo>
                    <a:lnTo>
                      <a:pt x="151" y="109"/>
                    </a:lnTo>
                    <a:lnTo>
                      <a:pt x="166" y="82"/>
                    </a:lnTo>
                    <a:lnTo>
                      <a:pt x="179" y="55"/>
                    </a:lnTo>
                    <a:lnTo>
                      <a:pt x="189" y="32"/>
                    </a:lnTo>
                    <a:lnTo>
                      <a:pt x="195" y="15"/>
                    </a:lnTo>
                    <a:lnTo>
                      <a:pt x="195" y="3"/>
                    </a:lnTo>
                    <a:lnTo>
                      <a:pt x="188" y="0"/>
                    </a:lnTo>
                    <a:lnTo>
                      <a:pt x="173"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7961400" y="4724640"/>
                <a:ext cx="109800" cy="80712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961400" y="4724640"/>
                <a:ext cx="220320" cy="865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961400" y="4724640"/>
                <a:ext cx="330480" cy="865080"/>
              </a:xfrm>
              <a:prstGeom prst="line">
                <a:avLst/>
              </a:prstGeom>
              <a:ln w="38160">
                <a:solidFill>
                  <a:srgbClr val="f9f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961400" y="4724640"/>
                <a:ext cx="440640" cy="807120"/>
              </a:xfrm>
              <a:prstGeom prst="line">
                <a:avLst/>
              </a:prstGeom>
              <a:ln w="38160">
                <a:solidFill>
                  <a:srgbClr val="ff9e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961400" y="4724640"/>
                <a:ext cx="550800" cy="749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H="1">
                <a:off x="7419960" y="5522400"/>
                <a:ext cx="660960" cy="74988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7520760" y="5589720"/>
                <a:ext cx="660960" cy="8071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a:off x="7741080" y="5589720"/>
                <a:ext cx="550800" cy="865080"/>
              </a:xfrm>
              <a:prstGeom prst="line">
                <a:avLst/>
              </a:prstGeom>
              <a:ln w="38160">
                <a:solidFill>
                  <a:srgbClr val="f9f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H="1">
                <a:off x="7961400" y="5532120"/>
                <a:ext cx="440640" cy="980640"/>
              </a:xfrm>
              <a:prstGeom prst="line">
                <a:avLst/>
              </a:prstGeom>
              <a:ln w="38160">
                <a:solidFill>
                  <a:srgbClr val="ff9e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a:off x="8182080" y="5464800"/>
                <a:ext cx="321120" cy="1105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4" name="PlaceHolder 1"/>
          <p:cNvSpPr>
            <a:spLocks noGrp="1"/>
          </p:cNvSpPr>
          <p:nvPr>
            <p:ph type="title"/>
          </p:nvPr>
        </p:nvSpPr>
        <p:spPr>
          <a:xfrm>
            <a:off x="474840" y="49968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the bending of light make a rainbow?</a:t>
            </a:r>
            <a:endParaRPr b="0" lang="en-US" sz="4400" spc="-1" strike="noStrike">
              <a:solidFill>
                <a:srgbClr val="000000"/>
              </a:solidFill>
              <a:latin typeface="Times New Roman"/>
            </a:endParaRPr>
          </a:p>
        </p:txBody>
      </p:sp>
      <p:sp>
        <p:nvSpPr>
          <p:cNvPr id="675" name="PlaceHolder 2"/>
          <p:cNvSpPr>
            <a:spLocks noGrp="1"/>
          </p:cNvSpPr>
          <p:nvPr>
            <p:ph/>
          </p:nvPr>
        </p:nvSpPr>
        <p:spPr>
          <a:xfrm>
            <a:off x="439200" y="1863360"/>
            <a:ext cx="5721480" cy="4303800"/>
          </a:xfrm>
          <a:prstGeom prst="rect">
            <a:avLst/>
          </a:prstGeom>
          <a:noFill/>
          <a:ln w="0">
            <a:noFill/>
          </a:ln>
        </p:spPr>
        <p:txBody>
          <a:bodyPr lIns="90000" rIns="90000" tIns="46800" bIns="46800" anchor="t">
            <a:normAutofit fontScale="95000"/>
          </a:bodyPr>
          <a:p>
            <a:pPr marL="325800" indent="-32580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re are some clues (that you already know) to help you figure it out:</a:t>
            </a:r>
            <a:endParaRPr b="0" lang="en-US" sz="2800" spc="-1" strike="noStrike">
              <a:solidFill>
                <a:srgbClr val="000000"/>
              </a:solidFill>
              <a:latin typeface="Times New Roman"/>
            </a:endParaRPr>
          </a:p>
          <a:p>
            <a:pPr marL="325800" indent="-32580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f the different colors have different frequencies.</a:t>
            </a:r>
            <a:endParaRPr b="0" lang="en-US" sz="2800" spc="-1" strike="noStrike">
              <a:solidFill>
                <a:srgbClr val="000000"/>
              </a:solidFill>
              <a:latin typeface="Times New Roman"/>
            </a:endParaRPr>
          </a:p>
          <a:p>
            <a:pPr marL="325800" indent="-32580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cy is the number of waves that pass a certain point per time.  This is how fast the wave is moving.</a:t>
            </a:r>
            <a:endParaRPr b="0" lang="en-US" sz="2800" spc="-1" strike="noStrike">
              <a:solidFill>
                <a:srgbClr val="000000"/>
              </a:solidFill>
              <a:latin typeface="Times New Roman"/>
            </a:endParaRPr>
          </a:p>
          <a:p>
            <a:pPr marL="325800" indent="-32580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ves change their speed when they move from one medium to another.</a:t>
            </a:r>
            <a:endParaRPr b="0" lang="en-US" sz="2800" spc="-1" strike="noStrike">
              <a:solidFill>
                <a:srgbClr val="000000"/>
              </a:solidFill>
              <a:latin typeface="Times New Roman"/>
            </a:endParaRPr>
          </a:p>
        </p:txBody>
      </p:sp>
      <p:sp>
        <p:nvSpPr>
          <p:cNvPr id="6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7" name="" descr=""/>
          <p:cNvPicPr/>
          <p:nvPr/>
        </p:nvPicPr>
        <p:blipFill>
          <a:blip r:embed="rId2"/>
          <a:stretch/>
        </p:blipFill>
        <p:spPr>
          <a:xfrm>
            <a:off x="757080" y="2535120"/>
            <a:ext cx="3598920" cy="2610000"/>
          </a:xfrm>
          <a:prstGeom prst="rect">
            <a:avLst/>
          </a:prstGeom>
          <a:ln w="57240">
            <a:solidFill>
              <a:srgbClr val="545068"/>
            </a:solidFill>
            <a:miter/>
          </a:ln>
        </p:spPr>
      </p:pic>
      <p:sp>
        <p:nvSpPr>
          <p:cNvPr id="678"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 class, brainstorm questions that, if answered, would help you understand rainbows.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five good questions for further investigation.</a:t>
            </a:r>
            <a:endParaRPr b="0" lang="en-US" sz="2800" spc="-1" strike="noStrike">
              <a:solidFill>
                <a:srgbClr val="000000"/>
              </a:solidFill>
              <a:latin typeface="Times New Roman"/>
            </a:endParaRPr>
          </a:p>
        </p:txBody>
      </p:sp>
      <p:sp>
        <p:nvSpPr>
          <p:cNvPr id="679"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nbow Research</a:t>
            </a:r>
            <a:endParaRPr b="0" lang="en-US" sz="4400" spc="-1" strike="noStrike">
              <a:solidFill>
                <a:srgbClr val="000000"/>
              </a:solidFill>
              <a:latin typeface="Times New Roman"/>
            </a:endParaRPr>
          </a:p>
        </p:txBody>
      </p:sp>
      <p:sp>
        <p:nvSpPr>
          <p:cNvPr id="6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50.0</a:t>
            </a:r>
            <a:endParaRPr b="0" lang="en-US" sz="1000" spc="-1" strike="noStrike">
              <a:solidFill>
                <a:srgbClr val="000000"/>
              </a:solidFill>
              <a:latin typeface="Arial"/>
            </a:endParaRPr>
          </a:p>
        </p:txBody>
      </p:sp>
      <p:grpSp>
        <p:nvGrpSpPr>
          <p:cNvPr id="681" name=""/>
          <p:cNvGrpSpPr/>
          <p:nvPr/>
        </p:nvGrpSpPr>
        <p:grpSpPr>
          <a:xfrm>
            <a:off x="7632720" y="5394240"/>
            <a:ext cx="1203120" cy="1203480"/>
            <a:chOff x="7632720" y="5394240"/>
            <a:chExt cx="1203120" cy="1203480"/>
          </a:xfrm>
        </p:grpSpPr>
        <p:sp>
          <p:nvSpPr>
            <p:cNvPr id="682" name=""/>
            <p:cNvSpPr/>
            <p:nvPr/>
          </p:nvSpPr>
          <p:spPr>
            <a:xfrm>
              <a:off x="7632720" y="5394240"/>
              <a:ext cx="1203120" cy="1203480"/>
            </a:xfrm>
            <a:prstGeom prst="octagon">
              <a:avLst>
                <a:gd name="adj" fmla="val 2928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7669080" y="5426280"/>
              <a:ext cx="1135080" cy="1135080"/>
            </a:xfrm>
            <a:prstGeom prst="octagon">
              <a:avLst>
                <a:gd name="adj" fmla="val 2928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P</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4" name="" descr=""/>
          <p:cNvPicPr/>
          <p:nvPr/>
        </p:nvPicPr>
        <p:blipFill>
          <a:blip r:embed="rId2"/>
          <a:stretch/>
        </p:blipFill>
        <p:spPr>
          <a:xfrm>
            <a:off x="4716360" y="2489040"/>
            <a:ext cx="3597480" cy="2310120"/>
          </a:xfrm>
          <a:prstGeom prst="rect">
            <a:avLst/>
          </a:prstGeom>
          <a:ln w="57240">
            <a:solidFill>
              <a:srgbClr val="545068"/>
            </a:solidFill>
            <a:miter/>
          </a:ln>
        </p:spPr>
      </p:pic>
      <p:sp>
        <p:nvSpPr>
          <p:cNvPr id="685"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the class into five research team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 each team to investigate and answer one of the five questions formulated about rainbows. </a:t>
            </a:r>
            <a:endParaRPr b="0" lang="en-US" sz="2800" spc="-1" strike="noStrike">
              <a:solidFill>
                <a:srgbClr val="000000"/>
              </a:solidFill>
              <a:latin typeface="Times New Roman"/>
            </a:endParaRPr>
          </a:p>
        </p:txBody>
      </p:sp>
      <p:sp>
        <p:nvSpPr>
          <p:cNvPr id="686"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nbow Research</a:t>
            </a:r>
            <a:endParaRPr b="0" lang="en-US" sz="4400" spc="-1" strike="noStrike">
              <a:solidFill>
                <a:srgbClr val="000000"/>
              </a:solidFill>
              <a:latin typeface="Times New Roman"/>
            </a:endParaRPr>
          </a:p>
        </p:txBody>
      </p:sp>
      <p:sp>
        <p:nvSpPr>
          <p:cNvPr id="6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6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 an understanding of what makes up a rainbow</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 the wave properties of light</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e color to frequenc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why light be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8" name="" descr=""/>
          <p:cNvPicPr/>
          <p:nvPr/>
        </p:nvPicPr>
        <p:blipFill>
          <a:blip r:embed="rId2"/>
          <a:stretch/>
        </p:blipFill>
        <p:spPr>
          <a:xfrm>
            <a:off x="533520" y="2162160"/>
            <a:ext cx="3733560" cy="2532240"/>
          </a:xfrm>
          <a:prstGeom prst="rect">
            <a:avLst/>
          </a:prstGeom>
          <a:ln w="57240">
            <a:solidFill>
              <a:srgbClr val="545068"/>
            </a:solidFill>
            <a:miter/>
          </a:ln>
        </p:spPr>
      </p:pic>
      <p:sp>
        <p:nvSpPr>
          <p:cNvPr id="68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nbow Research</a:t>
            </a:r>
            <a:endParaRPr b="0" lang="en-US" sz="4400" spc="-1" strike="noStrike">
              <a:solidFill>
                <a:srgbClr val="000000"/>
              </a:solidFill>
              <a:latin typeface="Times New Roman"/>
            </a:endParaRPr>
          </a:p>
        </p:txBody>
      </p:sp>
      <p:sp>
        <p:nvSpPr>
          <p:cNvPr id="690" name="PlaceHolder 2"/>
          <p:cNvSpPr>
            <a:spLocks noGrp="1"/>
          </p:cNvSpPr>
          <p:nvPr>
            <p:ph/>
          </p:nvPr>
        </p:nvSpPr>
        <p:spPr>
          <a:xfrm>
            <a:off x="4592160" y="1717560"/>
            <a:ext cx="4179960" cy="374040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eam should prepare a one page report that presents the question investigated and provides an explanation. </a:t>
            </a: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 at least one diagram in your report that will make the explanation easier to understand.</a:t>
            </a:r>
            <a:endParaRPr b="0" lang="en-US" sz="2800" spc="-1" strike="noStrike">
              <a:solidFill>
                <a:srgbClr val="000000"/>
              </a:solidFill>
              <a:latin typeface="Times New Roman"/>
            </a:endParaRPr>
          </a:p>
        </p:txBody>
      </p:sp>
      <p:sp>
        <p:nvSpPr>
          <p:cNvPr id="6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2" name="" descr=""/>
          <p:cNvPicPr/>
          <p:nvPr/>
        </p:nvPicPr>
        <p:blipFill>
          <a:blip r:embed="rId2"/>
          <a:stretch/>
        </p:blipFill>
        <p:spPr>
          <a:xfrm>
            <a:off x="380880" y="1909800"/>
            <a:ext cx="1371600" cy="1371600"/>
          </a:xfrm>
          <a:prstGeom prst="rect">
            <a:avLst/>
          </a:prstGeom>
          <a:ln w="0">
            <a:noFill/>
          </a:ln>
        </p:spPr>
      </p:pic>
      <p:pic>
        <p:nvPicPr>
          <p:cNvPr id="693" name="" descr=""/>
          <p:cNvPicPr/>
          <p:nvPr/>
        </p:nvPicPr>
        <p:blipFill>
          <a:blip r:embed="rId3"/>
          <a:stretch/>
        </p:blipFill>
        <p:spPr>
          <a:xfrm>
            <a:off x="380880" y="3433680"/>
            <a:ext cx="1371600" cy="1382760"/>
          </a:xfrm>
          <a:prstGeom prst="rect">
            <a:avLst/>
          </a:prstGeom>
          <a:ln w="0">
            <a:noFill/>
          </a:ln>
        </p:spPr>
      </p:pic>
      <p:pic>
        <p:nvPicPr>
          <p:cNvPr id="694" name="" descr=""/>
          <p:cNvPicPr/>
          <p:nvPr/>
        </p:nvPicPr>
        <p:blipFill>
          <a:blip r:embed="rId4"/>
          <a:stretch/>
        </p:blipFill>
        <p:spPr>
          <a:xfrm>
            <a:off x="380880" y="4957920"/>
            <a:ext cx="1359000" cy="1371600"/>
          </a:xfrm>
          <a:prstGeom prst="rect">
            <a:avLst/>
          </a:prstGeom>
          <a:ln w="0">
            <a:noFill/>
          </a:ln>
        </p:spPr>
      </p:pic>
      <p:sp>
        <p:nvSpPr>
          <p:cNvPr id="69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69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697" name="" descr=""/>
          <p:cNvPicPr/>
          <p:nvPr/>
        </p:nvPicPr>
        <p:blipFill>
          <a:blip r:embed="rId5"/>
          <a:stretch/>
        </p:blipFill>
        <p:spPr>
          <a:xfrm>
            <a:off x="4724280" y="3451320"/>
            <a:ext cx="1371600" cy="1382760"/>
          </a:xfrm>
          <a:prstGeom prst="rect">
            <a:avLst/>
          </a:prstGeom>
          <a:ln w="0">
            <a:noFill/>
          </a:ln>
        </p:spPr>
      </p:pic>
      <p:pic>
        <p:nvPicPr>
          <p:cNvPr id="698" name="" descr=""/>
          <p:cNvPicPr/>
          <p:nvPr/>
        </p:nvPicPr>
        <p:blipFill>
          <a:blip r:embed="rId6"/>
          <a:stretch/>
        </p:blipFill>
        <p:spPr>
          <a:xfrm>
            <a:off x="4724280" y="4970520"/>
            <a:ext cx="1371600" cy="1371600"/>
          </a:xfrm>
          <a:prstGeom prst="rect">
            <a:avLst/>
          </a:prstGeom>
          <a:ln w="0">
            <a:noFill/>
          </a:ln>
        </p:spPr>
      </p:pic>
      <p:sp>
        <p:nvSpPr>
          <p:cNvPr id="69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00" name=""/>
          <p:cNvGrpSpPr/>
          <p:nvPr/>
        </p:nvGrpSpPr>
        <p:grpSpPr>
          <a:xfrm>
            <a:off x="4643280" y="1928880"/>
            <a:ext cx="1546560" cy="1371600"/>
            <a:chOff x="4643280" y="1928880"/>
            <a:chExt cx="1546560" cy="1371600"/>
          </a:xfrm>
        </p:grpSpPr>
        <p:sp>
          <p:nvSpPr>
            <p:cNvPr id="70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02" name=""/>
            <p:cNvGraphicFramePr/>
            <p:nvPr/>
          </p:nvGraphicFramePr>
          <p:xfrm>
            <a:off x="4643280" y="2117880"/>
            <a:ext cx="1546560" cy="1012680"/>
          </p:xfrm>
          <a:graphic>
            <a:graphicData uri="http://schemas.openxmlformats.org/presentationml/2006/ole">
              <p:oleObj r:id="rId7" spid="">
                <p:embed/>
                <p:pic>
                  <p:nvPicPr>
                    <p:cNvPr id="70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70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9"/>
              </a:rPr>
              <a:t>http://</a:t>
            </a:r>
            <a:r>
              <a:rPr b="0" lang="en-US" sz="2000" spc="-1" strike="noStrike" u="sng">
                <a:solidFill>
                  <a:srgbClr val="134173"/>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 name=""/>
          <p:cNvGrpSpPr/>
          <p:nvPr/>
        </p:nvGrpSpPr>
        <p:grpSpPr>
          <a:xfrm>
            <a:off x="519120" y="2174760"/>
            <a:ext cx="3809520" cy="3384720"/>
            <a:chOff x="519120" y="2174760"/>
            <a:chExt cx="3809520" cy="3384720"/>
          </a:xfrm>
        </p:grpSpPr>
        <p:grpSp>
          <p:nvGrpSpPr>
            <p:cNvPr id="65" name=""/>
            <p:cNvGrpSpPr/>
            <p:nvPr/>
          </p:nvGrpSpPr>
          <p:grpSpPr>
            <a:xfrm>
              <a:off x="519120" y="2174760"/>
              <a:ext cx="3809520" cy="3352680"/>
              <a:chOff x="519120" y="2174760"/>
              <a:chExt cx="3809520" cy="3352680"/>
            </a:xfrm>
          </p:grpSpPr>
          <p:sp>
            <p:nvSpPr>
              <p:cNvPr id="66" name=""/>
              <p:cNvSpPr/>
              <p:nvPr/>
            </p:nvSpPr>
            <p:spPr>
              <a:xfrm flipH="1">
                <a:off x="520560" y="2183760"/>
                <a:ext cx="3807720" cy="3343680"/>
              </a:xfrm>
              <a:prstGeom prst="rect">
                <a:avLst/>
              </a:pr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523080" y="2336040"/>
                <a:ext cx="2032200" cy="1930320"/>
              </a:xfrm>
              <a:custGeom>
                <a:avLst/>
                <a:gdLst/>
                <a:ahLst/>
                <a:rect l="l" t="t" r="r" b="b"/>
                <a:pathLst>
                  <a:path w="1945" h="1723">
                    <a:moveTo>
                      <a:pt x="0" y="1476"/>
                    </a:moveTo>
                    <a:lnTo>
                      <a:pt x="28" y="1398"/>
                    </a:lnTo>
                    <a:lnTo>
                      <a:pt x="57" y="1324"/>
                    </a:lnTo>
                    <a:lnTo>
                      <a:pt x="88" y="1250"/>
                    </a:lnTo>
                    <a:lnTo>
                      <a:pt x="121" y="1181"/>
                    </a:lnTo>
                    <a:lnTo>
                      <a:pt x="156" y="1113"/>
                    </a:lnTo>
                    <a:lnTo>
                      <a:pt x="191" y="1047"/>
                    </a:lnTo>
                    <a:lnTo>
                      <a:pt x="230" y="985"/>
                    </a:lnTo>
                    <a:lnTo>
                      <a:pt x="269" y="924"/>
                    </a:lnTo>
                    <a:lnTo>
                      <a:pt x="312" y="866"/>
                    </a:lnTo>
                    <a:lnTo>
                      <a:pt x="357" y="809"/>
                    </a:lnTo>
                    <a:lnTo>
                      <a:pt x="402" y="755"/>
                    </a:lnTo>
                    <a:lnTo>
                      <a:pt x="451" y="704"/>
                    </a:lnTo>
                    <a:lnTo>
                      <a:pt x="501" y="653"/>
                    </a:lnTo>
                    <a:lnTo>
                      <a:pt x="554" y="605"/>
                    </a:lnTo>
                    <a:lnTo>
                      <a:pt x="608" y="558"/>
                    </a:lnTo>
                    <a:lnTo>
                      <a:pt x="665" y="513"/>
                    </a:lnTo>
                    <a:lnTo>
                      <a:pt x="725" y="470"/>
                    </a:lnTo>
                    <a:lnTo>
                      <a:pt x="788" y="429"/>
                    </a:lnTo>
                    <a:lnTo>
                      <a:pt x="852" y="390"/>
                    </a:lnTo>
                    <a:lnTo>
                      <a:pt x="918" y="353"/>
                    </a:lnTo>
                    <a:lnTo>
                      <a:pt x="988" y="316"/>
                    </a:lnTo>
                    <a:lnTo>
                      <a:pt x="1060" y="281"/>
                    </a:lnTo>
                    <a:lnTo>
                      <a:pt x="1135" y="248"/>
                    </a:lnTo>
                    <a:lnTo>
                      <a:pt x="1212" y="215"/>
                    </a:lnTo>
                    <a:lnTo>
                      <a:pt x="1294" y="183"/>
                    </a:lnTo>
                    <a:lnTo>
                      <a:pt x="1378" y="154"/>
                    </a:lnTo>
                    <a:lnTo>
                      <a:pt x="1464" y="127"/>
                    </a:lnTo>
                    <a:lnTo>
                      <a:pt x="1554" y="100"/>
                    </a:lnTo>
                    <a:lnTo>
                      <a:pt x="1645" y="72"/>
                    </a:lnTo>
                    <a:lnTo>
                      <a:pt x="1741" y="47"/>
                    </a:lnTo>
                    <a:lnTo>
                      <a:pt x="1840" y="24"/>
                    </a:lnTo>
                    <a:lnTo>
                      <a:pt x="1941" y="0"/>
                    </a:lnTo>
                    <a:lnTo>
                      <a:pt x="1945" y="312"/>
                    </a:lnTo>
                    <a:lnTo>
                      <a:pt x="1893" y="330"/>
                    </a:lnTo>
                    <a:lnTo>
                      <a:pt x="1840" y="345"/>
                    </a:lnTo>
                    <a:lnTo>
                      <a:pt x="1785" y="363"/>
                    </a:lnTo>
                    <a:lnTo>
                      <a:pt x="1731" y="378"/>
                    </a:lnTo>
                    <a:lnTo>
                      <a:pt x="1674" y="396"/>
                    </a:lnTo>
                    <a:lnTo>
                      <a:pt x="1618" y="415"/>
                    </a:lnTo>
                    <a:lnTo>
                      <a:pt x="1559" y="433"/>
                    </a:lnTo>
                    <a:lnTo>
                      <a:pt x="1503" y="454"/>
                    </a:lnTo>
                    <a:lnTo>
                      <a:pt x="1442" y="474"/>
                    </a:lnTo>
                    <a:lnTo>
                      <a:pt x="1384" y="497"/>
                    </a:lnTo>
                    <a:lnTo>
                      <a:pt x="1326" y="521"/>
                    </a:lnTo>
                    <a:lnTo>
                      <a:pt x="1265" y="548"/>
                    </a:lnTo>
                    <a:lnTo>
                      <a:pt x="1207" y="575"/>
                    </a:lnTo>
                    <a:lnTo>
                      <a:pt x="1146" y="606"/>
                    </a:lnTo>
                    <a:lnTo>
                      <a:pt x="1086" y="638"/>
                    </a:lnTo>
                    <a:lnTo>
                      <a:pt x="1027" y="673"/>
                    </a:lnTo>
                    <a:lnTo>
                      <a:pt x="967" y="710"/>
                    </a:lnTo>
                    <a:lnTo>
                      <a:pt x="908" y="751"/>
                    </a:lnTo>
                    <a:lnTo>
                      <a:pt x="850" y="794"/>
                    </a:lnTo>
                    <a:lnTo>
                      <a:pt x="792" y="840"/>
                    </a:lnTo>
                    <a:lnTo>
                      <a:pt x="735" y="891"/>
                    </a:lnTo>
                    <a:lnTo>
                      <a:pt x="677" y="946"/>
                    </a:lnTo>
                    <a:lnTo>
                      <a:pt x="620" y="1002"/>
                    </a:lnTo>
                    <a:lnTo>
                      <a:pt x="566" y="1065"/>
                    </a:lnTo>
                    <a:lnTo>
                      <a:pt x="511" y="1131"/>
                    </a:lnTo>
                    <a:lnTo>
                      <a:pt x="458" y="1201"/>
                    </a:lnTo>
                    <a:lnTo>
                      <a:pt x="406" y="1275"/>
                    </a:lnTo>
                    <a:lnTo>
                      <a:pt x="355" y="1355"/>
                    </a:lnTo>
                    <a:lnTo>
                      <a:pt x="304" y="1439"/>
                    </a:lnTo>
                    <a:lnTo>
                      <a:pt x="256" y="1528"/>
                    </a:lnTo>
                    <a:lnTo>
                      <a:pt x="209" y="1624"/>
                    </a:lnTo>
                    <a:lnTo>
                      <a:pt x="164" y="1723"/>
                    </a:lnTo>
                    <a:lnTo>
                      <a:pt x="0" y="1476"/>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a:off x="898920" y="2181240"/>
                <a:ext cx="2438280" cy="1648440"/>
              </a:xfrm>
              <a:custGeom>
                <a:avLst/>
                <a:gdLst/>
                <a:ahLst/>
                <a:rect l="l" t="t" r="r" b="b"/>
                <a:pathLst>
                  <a:path w="2333" h="1472">
                    <a:moveTo>
                      <a:pt x="0" y="1433"/>
                    </a:moveTo>
                    <a:lnTo>
                      <a:pt x="16" y="1366"/>
                    </a:lnTo>
                    <a:lnTo>
                      <a:pt x="31" y="1300"/>
                    </a:lnTo>
                    <a:lnTo>
                      <a:pt x="49" y="1234"/>
                    </a:lnTo>
                    <a:lnTo>
                      <a:pt x="68" y="1169"/>
                    </a:lnTo>
                    <a:lnTo>
                      <a:pt x="88" y="1107"/>
                    </a:lnTo>
                    <a:lnTo>
                      <a:pt x="107" y="1043"/>
                    </a:lnTo>
                    <a:lnTo>
                      <a:pt x="131" y="982"/>
                    </a:lnTo>
                    <a:lnTo>
                      <a:pt x="154" y="920"/>
                    </a:lnTo>
                    <a:lnTo>
                      <a:pt x="179" y="861"/>
                    </a:lnTo>
                    <a:lnTo>
                      <a:pt x="205" y="803"/>
                    </a:lnTo>
                    <a:lnTo>
                      <a:pt x="234" y="746"/>
                    </a:lnTo>
                    <a:lnTo>
                      <a:pt x="265" y="690"/>
                    </a:lnTo>
                    <a:lnTo>
                      <a:pt x="296" y="635"/>
                    </a:lnTo>
                    <a:lnTo>
                      <a:pt x="329" y="583"/>
                    </a:lnTo>
                    <a:lnTo>
                      <a:pt x="366" y="532"/>
                    </a:lnTo>
                    <a:lnTo>
                      <a:pt x="405" y="483"/>
                    </a:lnTo>
                    <a:lnTo>
                      <a:pt x="444" y="436"/>
                    </a:lnTo>
                    <a:lnTo>
                      <a:pt x="487" y="390"/>
                    </a:lnTo>
                    <a:lnTo>
                      <a:pt x="534" y="347"/>
                    </a:lnTo>
                    <a:lnTo>
                      <a:pt x="581" y="306"/>
                    </a:lnTo>
                    <a:lnTo>
                      <a:pt x="631" y="267"/>
                    </a:lnTo>
                    <a:lnTo>
                      <a:pt x="686" y="230"/>
                    </a:lnTo>
                    <a:lnTo>
                      <a:pt x="741" y="195"/>
                    </a:lnTo>
                    <a:lnTo>
                      <a:pt x="801" y="162"/>
                    </a:lnTo>
                    <a:lnTo>
                      <a:pt x="863" y="132"/>
                    </a:lnTo>
                    <a:lnTo>
                      <a:pt x="928" y="105"/>
                    </a:lnTo>
                    <a:lnTo>
                      <a:pt x="996" y="80"/>
                    </a:lnTo>
                    <a:lnTo>
                      <a:pt x="1068" y="58"/>
                    </a:lnTo>
                    <a:lnTo>
                      <a:pt x="1142" y="39"/>
                    </a:lnTo>
                    <a:lnTo>
                      <a:pt x="1222" y="23"/>
                    </a:lnTo>
                    <a:lnTo>
                      <a:pt x="1304" y="10"/>
                    </a:lnTo>
                    <a:lnTo>
                      <a:pt x="1390" y="0"/>
                    </a:lnTo>
                    <a:lnTo>
                      <a:pt x="2333" y="2"/>
                    </a:lnTo>
                    <a:lnTo>
                      <a:pt x="2237" y="21"/>
                    </a:lnTo>
                    <a:lnTo>
                      <a:pt x="2144" y="41"/>
                    </a:lnTo>
                    <a:lnTo>
                      <a:pt x="2052" y="62"/>
                    </a:lnTo>
                    <a:lnTo>
                      <a:pt x="1964" y="82"/>
                    </a:lnTo>
                    <a:lnTo>
                      <a:pt x="1877" y="103"/>
                    </a:lnTo>
                    <a:lnTo>
                      <a:pt x="1793" y="127"/>
                    </a:lnTo>
                    <a:lnTo>
                      <a:pt x="1711" y="148"/>
                    </a:lnTo>
                    <a:lnTo>
                      <a:pt x="1633" y="173"/>
                    </a:lnTo>
                    <a:lnTo>
                      <a:pt x="1555" y="199"/>
                    </a:lnTo>
                    <a:lnTo>
                      <a:pt x="1481" y="226"/>
                    </a:lnTo>
                    <a:lnTo>
                      <a:pt x="1409" y="253"/>
                    </a:lnTo>
                    <a:lnTo>
                      <a:pt x="1337" y="282"/>
                    </a:lnTo>
                    <a:lnTo>
                      <a:pt x="1269" y="316"/>
                    </a:lnTo>
                    <a:lnTo>
                      <a:pt x="1202" y="349"/>
                    </a:lnTo>
                    <a:lnTo>
                      <a:pt x="1140" y="386"/>
                    </a:lnTo>
                    <a:lnTo>
                      <a:pt x="1078" y="423"/>
                    </a:lnTo>
                    <a:lnTo>
                      <a:pt x="1017" y="464"/>
                    </a:lnTo>
                    <a:lnTo>
                      <a:pt x="959" y="507"/>
                    </a:lnTo>
                    <a:lnTo>
                      <a:pt x="902" y="553"/>
                    </a:lnTo>
                    <a:lnTo>
                      <a:pt x="850" y="602"/>
                    </a:lnTo>
                    <a:lnTo>
                      <a:pt x="797" y="655"/>
                    </a:lnTo>
                    <a:lnTo>
                      <a:pt x="746" y="709"/>
                    </a:lnTo>
                    <a:lnTo>
                      <a:pt x="698" y="768"/>
                    </a:lnTo>
                    <a:lnTo>
                      <a:pt x="651" y="830"/>
                    </a:lnTo>
                    <a:lnTo>
                      <a:pt x="606" y="896"/>
                    </a:lnTo>
                    <a:lnTo>
                      <a:pt x="563" y="965"/>
                    </a:lnTo>
                    <a:lnTo>
                      <a:pt x="522" y="1039"/>
                    </a:lnTo>
                    <a:lnTo>
                      <a:pt x="481" y="1117"/>
                    </a:lnTo>
                    <a:lnTo>
                      <a:pt x="444" y="1199"/>
                    </a:lnTo>
                    <a:lnTo>
                      <a:pt x="407" y="1284"/>
                    </a:lnTo>
                    <a:lnTo>
                      <a:pt x="372" y="1376"/>
                    </a:lnTo>
                    <a:lnTo>
                      <a:pt x="339" y="1472"/>
                    </a:lnTo>
                    <a:lnTo>
                      <a:pt x="0" y="1433"/>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899280" y="2181240"/>
                <a:ext cx="2415600" cy="1632960"/>
              </a:xfrm>
              <a:custGeom>
                <a:avLst/>
                <a:gdLst/>
                <a:ahLst/>
                <a:rect l="l" t="t" r="r" b="b"/>
                <a:pathLst>
                  <a:path w="2310" h="1458">
                    <a:moveTo>
                      <a:pt x="0" y="1421"/>
                    </a:moveTo>
                    <a:lnTo>
                      <a:pt x="16" y="1355"/>
                    </a:lnTo>
                    <a:lnTo>
                      <a:pt x="34" y="1288"/>
                    </a:lnTo>
                    <a:lnTo>
                      <a:pt x="51" y="1222"/>
                    </a:lnTo>
                    <a:lnTo>
                      <a:pt x="71" y="1158"/>
                    </a:lnTo>
                    <a:lnTo>
                      <a:pt x="90" y="1093"/>
                    </a:lnTo>
                    <a:lnTo>
                      <a:pt x="112" y="1031"/>
                    </a:lnTo>
                    <a:lnTo>
                      <a:pt x="135" y="969"/>
                    </a:lnTo>
                    <a:lnTo>
                      <a:pt x="160" y="908"/>
                    </a:lnTo>
                    <a:lnTo>
                      <a:pt x="186" y="850"/>
                    </a:lnTo>
                    <a:lnTo>
                      <a:pt x="215" y="791"/>
                    </a:lnTo>
                    <a:lnTo>
                      <a:pt x="244" y="735"/>
                    </a:lnTo>
                    <a:lnTo>
                      <a:pt x="275" y="680"/>
                    </a:lnTo>
                    <a:lnTo>
                      <a:pt x="308" y="626"/>
                    </a:lnTo>
                    <a:lnTo>
                      <a:pt x="343" y="575"/>
                    </a:lnTo>
                    <a:lnTo>
                      <a:pt x="382" y="524"/>
                    </a:lnTo>
                    <a:lnTo>
                      <a:pt x="421" y="475"/>
                    </a:lnTo>
                    <a:lnTo>
                      <a:pt x="462" y="429"/>
                    </a:lnTo>
                    <a:lnTo>
                      <a:pt x="507" y="384"/>
                    </a:lnTo>
                    <a:lnTo>
                      <a:pt x="554" y="341"/>
                    </a:lnTo>
                    <a:lnTo>
                      <a:pt x="603" y="300"/>
                    </a:lnTo>
                    <a:lnTo>
                      <a:pt x="653" y="261"/>
                    </a:lnTo>
                    <a:lnTo>
                      <a:pt x="708" y="224"/>
                    </a:lnTo>
                    <a:lnTo>
                      <a:pt x="764" y="191"/>
                    </a:lnTo>
                    <a:lnTo>
                      <a:pt x="825" y="160"/>
                    </a:lnTo>
                    <a:lnTo>
                      <a:pt x="887" y="130"/>
                    </a:lnTo>
                    <a:lnTo>
                      <a:pt x="953" y="103"/>
                    </a:lnTo>
                    <a:lnTo>
                      <a:pt x="1022" y="78"/>
                    </a:lnTo>
                    <a:lnTo>
                      <a:pt x="1094" y="56"/>
                    </a:lnTo>
                    <a:lnTo>
                      <a:pt x="1168" y="39"/>
                    </a:lnTo>
                    <a:lnTo>
                      <a:pt x="1248" y="23"/>
                    </a:lnTo>
                    <a:lnTo>
                      <a:pt x="1328" y="10"/>
                    </a:lnTo>
                    <a:lnTo>
                      <a:pt x="1413" y="0"/>
                    </a:lnTo>
                    <a:lnTo>
                      <a:pt x="1470" y="0"/>
                    </a:lnTo>
                    <a:lnTo>
                      <a:pt x="1526" y="0"/>
                    </a:lnTo>
                    <a:lnTo>
                      <a:pt x="1583" y="0"/>
                    </a:lnTo>
                    <a:lnTo>
                      <a:pt x="1637" y="0"/>
                    </a:lnTo>
                    <a:lnTo>
                      <a:pt x="1694" y="0"/>
                    </a:lnTo>
                    <a:lnTo>
                      <a:pt x="1750" y="0"/>
                    </a:lnTo>
                    <a:lnTo>
                      <a:pt x="1807" y="0"/>
                    </a:lnTo>
                    <a:lnTo>
                      <a:pt x="1861" y="0"/>
                    </a:lnTo>
                    <a:lnTo>
                      <a:pt x="1918" y="0"/>
                    </a:lnTo>
                    <a:lnTo>
                      <a:pt x="1975" y="0"/>
                    </a:lnTo>
                    <a:lnTo>
                      <a:pt x="2031" y="0"/>
                    </a:lnTo>
                    <a:lnTo>
                      <a:pt x="2086" y="0"/>
                    </a:lnTo>
                    <a:lnTo>
                      <a:pt x="2142" y="2"/>
                    </a:lnTo>
                    <a:lnTo>
                      <a:pt x="2199" y="2"/>
                    </a:lnTo>
                    <a:lnTo>
                      <a:pt x="2253" y="2"/>
                    </a:lnTo>
                    <a:lnTo>
                      <a:pt x="2310" y="2"/>
                    </a:lnTo>
                    <a:lnTo>
                      <a:pt x="2214" y="21"/>
                    </a:lnTo>
                    <a:lnTo>
                      <a:pt x="2121" y="41"/>
                    </a:lnTo>
                    <a:lnTo>
                      <a:pt x="2029" y="62"/>
                    </a:lnTo>
                    <a:lnTo>
                      <a:pt x="1941" y="82"/>
                    </a:lnTo>
                    <a:lnTo>
                      <a:pt x="1854" y="103"/>
                    </a:lnTo>
                    <a:lnTo>
                      <a:pt x="1770" y="125"/>
                    </a:lnTo>
                    <a:lnTo>
                      <a:pt x="1690" y="148"/>
                    </a:lnTo>
                    <a:lnTo>
                      <a:pt x="1610" y="171"/>
                    </a:lnTo>
                    <a:lnTo>
                      <a:pt x="1532" y="197"/>
                    </a:lnTo>
                    <a:lnTo>
                      <a:pt x="1458" y="222"/>
                    </a:lnTo>
                    <a:lnTo>
                      <a:pt x="1386" y="249"/>
                    </a:lnTo>
                    <a:lnTo>
                      <a:pt x="1316" y="279"/>
                    </a:lnTo>
                    <a:lnTo>
                      <a:pt x="1248" y="310"/>
                    </a:lnTo>
                    <a:lnTo>
                      <a:pt x="1181" y="343"/>
                    </a:lnTo>
                    <a:lnTo>
                      <a:pt x="1117" y="378"/>
                    </a:lnTo>
                    <a:lnTo>
                      <a:pt x="1055" y="417"/>
                    </a:lnTo>
                    <a:lnTo>
                      <a:pt x="996" y="456"/>
                    </a:lnTo>
                    <a:lnTo>
                      <a:pt x="938" y="499"/>
                    </a:lnTo>
                    <a:lnTo>
                      <a:pt x="881" y="544"/>
                    </a:lnTo>
                    <a:lnTo>
                      <a:pt x="829" y="592"/>
                    </a:lnTo>
                    <a:lnTo>
                      <a:pt x="776" y="645"/>
                    </a:lnTo>
                    <a:lnTo>
                      <a:pt x="725" y="700"/>
                    </a:lnTo>
                    <a:lnTo>
                      <a:pt x="677" y="756"/>
                    </a:lnTo>
                    <a:lnTo>
                      <a:pt x="630" y="819"/>
                    </a:lnTo>
                    <a:lnTo>
                      <a:pt x="585" y="883"/>
                    </a:lnTo>
                    <a:lnTo>
                      <a:pt x="542" y="953"/>
                    </a:lnTo>
                    <a:lnTo>
                      <a:pt x="501" y="1025"/>
                    </a:lnTo>
                    <a:lnTo>
                      <a:pt x="462" y="1103"/>
                    </a:lnTo>
                    <a:lnTo>
                      <a:pt x="423" y="1185"/>
                    </a:lnTo>
                    <a:lnTo>
                      <a:pt x="388" y="1271"/>
                    </a:lnTo>
                    <a:lnTo>
                      <a:pt x="353" y="1362"/>
                    </a:lnTo>
                    <a:lnTo>
                      <a:pt x="320" y="1458"/>
                    </a:lnTo>
                    <a:lnTo>
                      <a:pt x="301" y="1456"/>
                    </a:lnTo>
                    <a:lnTo>
                      <a:pt x="279" y="1454"/>
                    </a:lnTo>
                    <a:lnTo>
                      <a:pt x="260" y="1452"/>
                    </a:lnTo>
                    <a:lnTo>
                      <a:pt x="240" y="1448"/>
                    </a:lnTo>
                    <a:lnTo>
                      <a:pt x="221" y="1446"/>
                    </a:lnTo>
                    <a:lnTo>
                      <a:pt x="199" y="1444"/>
                    </a:lnTo>
                    <a:lnTo>
                      <a:pt x="180" y="1442"/>
                    </a:lnTo>
                    <a:lnTo>
                      <a:pt x="160" y="1438"/>
                    </a:lnTo>
                    <a:lnTo>
                      <a:pt x="141" y="1436"/>
                    </a:lnTo>
                    <a:lnTo>
                      <a:pt x="121" y="1434"/>
                    </a:lnTo>
                    <a:lnTo>
                      <a:pt x="100" y="1433"/>
                    </a:lnTo>
                    <a:lnTo>
                      <a:pt x="80" y="1431"/>
                    </a:lnTo>
                    <a:lnTo>
                      <a:pt x="61" y="1427"/>
                    </a:lnTo>
                    <a:lnTo>
                      <a:pt x="41" y="1425"/>
                    </a:lnTo>
                    <a:lnTo>
                      <a:pt x="20" y="1423"/>
                    </a:lnTo>
                    <a:lnTo>
                      <a:pt x="0" y="1421"/>
                    </a:lnTo>
                    <a:close/>
                  </a:path>
                </a:pathLst>
              </a:custGeom>
              <a:solidFill>
                <a:srgbClr val="668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899280" y="2181240"/>
                <a:ext cx="2387880" cy="1617120"/>
              </a:xfrm>
              <a:custGeom>
                <a:avLst/>
                <a:gdLst/>
                <a:ahLst/>
                <a:rect l="l" t="t" r="r" b="b"/>
                <a:pathLst>
                  <a:path w="2284" h="1444">
                    <a:moveTo>
                      <a:pt x="0" y="1407"/>
                    </a:moveTo>
                    <a:lnTo>
                      <a:pt x="15" y="1341"/>
                    </a:lnTo>
                    <a:lnTo>
                      <a:pt x="33" y="1275"/>
                    </a:lnTo>
                    <a:lnTo>
                      <a:pt x="50" y="1208"/>
                    </a:lnTo>
                    <a:lnTo>
                      <a:pt x="70" y="1144"/>
                    </a:lnTo>
                    <a:lnTo>
                      <a:pt x="91" y="1082"/>
                    </a:lnTo>
                    <a:lnTo>
                      <a:pt x="113" y="1019"/>
                    </a:lnTo>
                    <a:lnTo>
                      <a:pt x="138" y="959"/>
                    </a:lnTo>
                    <a:lnTo>
                      <a:pt x="163" y="898"/>
                    </a:lnTo>
                    <a:lnTo>
                      <a:pt x="191" y="840"/>
                    </a:lnTo>
                    <a:lnTo>
                      <a:pt x="220" y="781"/>
                    </a:lnTo>
                    <a:lnTo>
                      <a:pt x="249" y="725"/>
                    </a:lnTo>
                    <a:lnTo>
                      <a:pt x="282" y="670"/>
                    </a:lnTo>
                    <a:lnTo>
                      <a:pt x="317" y="618"/>
                    </a:lnTo>
                    <a:lnTo>
                      <a:pt x="354" y="567"/>
                    </a:lnTo>
                    <a:lnTo>
                      <a:pt x="393" y="516"/>
                    </a:lnTo>
                    <a:lnTo>
                      <a:pt x="434" y="470"/>
                    </a:lnTo>
                    <a:lnTo>
                      <a:pt x="477" y="423"/>
                    </a:lnTo>
                    <a:lnTo>
                      <a:pt x="522" y="378"/>
                    </a:lnTo>
                    <a:lnTo>
                      <a:pt x="569" y="337"/>
                    </a:lnTo>
                    <a:lnTo>
                      <a:pt x="619" y="296"/>
                    </a:lnTo>
                    <a:lnTo>
                      <a:pt x="672" y="257"/>
                    </a:lnTo>
                    <a:lnTo>
                      <a:pt x="727" y="222"/>
                    </a:lnTo>
                    <a:lnTo>
                      <a:pt x="785" y="189"/>
                    </a:lnTo>
                    <a:lnTo>
                      <a:pt x="846" y="158"/>
                    </a:lnTo>
                    <a:lnTo>
                      <a:pt x="908" y="128"/>
                    </a:lnTo>
                    <a:lnTo>
                      <a:pt x="974" y="101"/>
                    </a:lnTo>
                    <a:lnTo>
                      <a:pt x="1044" y="78"/>
                    </a:lnTo>
                    <a:lnTo>
                      <a:pt x="1116" y="56"/>
                    </a:lnTo>
                    <a:lnTo>
                      <a:pt x="1190" y="39"/>
                    </a:lnTo>
                    <a:lnTo>
                      <a:pt x="1268" y="23"/>
                    </a:lnTo>
                    <a:lnTo>
                      <a:pt x="1350" y="10"/>
                    </a:lnTo>
                    <a:lnTo>
                      <a:pt x="1434" y="0"/>
                    </a:lnTo>
                    <a:lnTo>
                      <a:pt x="1487" y="0"/>
                    </a:lnTo>
                    <a:lnTo>
                      <a:pt x="1541" y="0"/>
                    </a:lnTo>
                    <a:lnTo>
                      <a:pt x="1594" y="0"/>
                    </a:lnTo>
                    <a:lnTo>
                      <a:pt x="1646" y="0"/>
                    </a:lnTo>
                    <a:lnTo>
                      <a:pt x="1701" y="0"/>
                    </a:lnTo>
                    <a:lnTo>
                      <a:pt x="1754" y="0"/>
                    </a:lnTo>
                    <a:lnTo>
                      <a:pt x="1806" y="0"/>
                    </a:lnTo>
                    <a:lnTo>
                      <a:pt x="1859" y="0"/>
                    </a:lnTo>
                    <a:lnTo>
                      <a:pt x="1913" y="0"/>
                    </a:lnTo>
                    <a:lnTo>
                      <a:pt x="1966" y="0"/>
                    </a:lnTo>
                    <a:lnTo>
                      <a:pt x="2019" y="0"/>
                    </a:lnTo>
                    <a:lnTo>
                      <a:pt x="2071" y="0"/>
                    </a:lnTo>
                    <a:lnTo>
                      <a:pt x="2124" y="2"/>
                    </a:lnTo>
                    <a:lnTo>
                      <a:pt x="2178" y="2"/>
                    </a:lnTo>
                    <a:lnTo>
                      <a:pt x="2231" y="2"/>
                    </a:lnTo>
                    <a:lnTo>
                      <a:pt x="2284" y="2"/>
                    </a:lnTo>
                    <a:lnTo>
                      <a:pt x="2188" y="21"/>
                    </a:lnTo>
                    <a:lnTo>
                      <a:pt x="2095" y="41"/>
                    </a:lnTo>
                    <a:lnTo>
                      <a:pt x="2003" y="60"/>
                    </a:lnTo>
                    <a:lnTo>
                      <a:pt x="1915" y="82"/>
                    </a:lnTo>
                    <a:lnTo>
                      <a:pt x="1830" y="101"/>
                    </a:lnTo>
                    <a:lnTo>
                      <a:pt x="1746" y="123"/>
                    </a:lnTo>
                    <a:lnTo>
                      <a:pt x="1664" y="146"/>
                    </a:lnTo>
                    <a:lnTo>
                      <a:pt x="1584" y="169"/>
                    </a:lnTo>
                    <a:lnTo>
                      <a:pt x="1508" y="193"/>
                    </a:lnTo>
                    <a:lnTo>
                      <a:pt x="1434" y="220"/>
                    </a:lnTo>
                    <a:lnTo>
                      <a:pt x="1362" y="245"/>
                    </a:lnTo>
                    <a:lnTo>
                      <a:pt x="1292" y="275"/>
                    </a:lnTo>
                    <a:lnTo>
                      <a:pt x="1224" y="306"/>
                    </a:lnTo>
                    <a:lnTo>
                      <a:pt x="1157" y="339"/>
                    </a:lnTo>
                    <a:lnTo>
                      <a:pt x="1093" y="374"/>
                    </a:lnTo>
                    <a:lnTo>
                      <a:pt x="1033" y="409"/>
                    </a:lnTo>
                    <a:lnTo>
                      <a:pt x="972" y="450"/>
                    </a:lnTo>
                    <a:lnTo>
                      <a:pt x="916" y="491"/>
                    </a:lnTo>
                    <a:lnTo>
                      <a:pt x="859" y="536"/>
                    </a:lnTo>
                    <a:lnTo>
                      <a:pt x="805" y="585"/>
                    </a:lnTo>
                    <a:lnTo>
                      <a:pt x="754" y="635"/>
                    </a:lnTo>
                    <a:lnTo>
                      <a:pt x="703" y="690"/>
                    </a:lnTo>
                    <a:lnTo>
                      <a:pt x="655" y="746"/>
                    </a:lnTo>
                    <a:lnTo>
                      <a:pt x="610" y="807"/>
                    </a:lnTo>
                    <a:lnTo>
                      <a:pt x="565" y="873"/>
                    </a:lnTo>
                    <a:lnTo>
                      <a:pt x="522" y="941"/>
                    </a:lnTo>
                    <a:lnTo>
                      <a:pt x="479" y="1013"/>
                    </a:lnTo>
                    <a:lnTo>
                      <a:pt x="440" y="1091"/>
                    </a:lnTo>
                    <a:lnTo>
                      <a:pt x="403" y="1171"/>
                    </a:lnTo>
                    <a:lnTo>
                      <a:pt x="366" y="1259"/>
                    </a:lnTo>
                    <a:lnTo>
                      <a:pt x="331" y="1349"/>
                    </a:lnTo>
                    <a:lnTo>
                      <a:pt x="298" y="1444"/>
                    </a:lnTo>
                    <a:lnTo>
                      <a:pt x="261" y="1440"/>
                    </a:lnTo>
                    <a:lnTo>
                      <a:pt x="224" y="1434"/>
                    </a:lnTo>
                    <a:lnTo>
                      <a:pt x="187" y="1431"/>
                    </a:lnTo>
                    <a:lnTo>
                      <a:pt x="150" y="1425"/>
                    </a:lnTo>
                    <a:lnTo>
                      <a:pt x="111" y="1421"/>
                    </a:lnTo>
                    <a:lnTo>
                      <a:pt x="74" y="1417"/>
                    </a:lnTo>
                    <a:lnTo>
                      <a:pt x="37" y="1411"/>
                    </a:lnTo>
                    <a:lnTo>
                      <a:pt x="0" y="1407"/>
                    </a:lnTo>
                    <a:close/>
                  </a:path>
                </a:pathLst>
              </a:custGeom>
              <a:solidFill>
                <a:srgbClr val="757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899280" y="2181240"/>
                <a:ext cx="2362680" cy="1599480"/>
              </a:xfrm>
              <a:custGeom>
                <a:avLst/>
                <a:gdLst/>
                <a:ahLst/>
                <a:rect l="l" t="t" r="r" b="b"/>
                <a:pathLst>
                  <a:path w="2261" h="1429">
                    <a:moveTo>
                      <a:pt x="0" y="1394"/>
                    </a:moveTo>
                    <a:lnTo>
                      <a:pt x="16" y="1327"/>
                    </a:lnTo>
                    <a:lnTo>
                      <a:pt x="33" y="1261"/>
                    </a:lnTo>
                    <a:lnTo>
                      <a:pt x="53" y="1197"/>
                    </a:lnTo>
                    <a:lnTo>
                      <a:pt x="72" y="1132"/>
                    </a:lnTo>
                    <a:lnTo>
                      <a:pt x="94" y="1070"/>
                    </a:lnTo>
                    <a:lnTo>
                      <a:pt x="117" y="1008"/>
                    </a:lnTo>
                    <a:lnTo>
                      <a:pt x="142" y="947"/>
                    </a:lnTo>
                    <a:lnTo>
                      <a:pt x="170" y="887"/>
                    </a:lnTo>
                    <a:lnTo>
                      <a:pt x="197" y="828"/>
                    </a:lnTo>
                    <a:lnTo>
                      <a:pt x="228" y="772"/>
                    </a:lnTo>
                    <a:lnTo>
                      <a:pt x="259" y="717"/>
                    </a:lnTo>
                    <a:lnTo>
                      <a:pt x="294" y="663"/>
                    </a:lnTo>
                    <a:lnTo>
                      <a:pt x="330" y="610"/>
                    </a:lnTo>
                    <a:lnTo>
                      <a:pt x="368" y="559"/>
                    </a:lnTo>
                    <a:lnTo>
                      <a:pt x="407" y="511"/>
                    </a:lnTo>
                    <a:lnTo>
                      <a:pt x="450" y="462"/>
                    </a:lnTo>
                    <a:lnTo>
                      <a:pt x="495" y="417"/>
                    </a:lnTo>
                    <a:lnTo>
                      <a:pt x="542" y="374"/>
                    </a:lnTo>
                    <a:lnTo>
                      <a:pt x="591" y="331"/>
                    </a:lnTo>
                    <a:lnTo>
                      <a:pt x="641" y="292"/>
                    </a:lnTo>
                    <a:lnTo>
                      <a:pt x="694" y="255"/>
                    </a:lnTo>
                    <a:lnTo>
                      <a:pt x="750" y="218"/>
                    </a:lnTo>
                    <a:lnTo>
                      <a:pt x="809" y="185"/>
                    </a:lnTo>
                    <a:lnTo>
                      <a:pt x="871" y="156"/>
                    </a:lnTo>
                    <a:lnTo>
                      <a:pt x="936" y="127"/>
                    </a:lnTo>
                    <a:lnTo>
                      <a:pt x="1002" y="101"/>
                    </a:lnTo>
                    <a:lnTo>
                      <a:pt x="1070" y="78"/>
                    </a:lnTo>
                    <a:lnTo>
                      <a:pt x="1142" y="56"/>
                    </a:lnTo>
                    <a:lnTo>
                      <a:pt x="1218" y="39"/>
                    </a:lnTo>
                    <a:lnTo>
                      <a:pt x="1296" y="23"/>
                    </a:lnTo>
                    <a:lnTo>
                      <a:pt x="1376" y="10"/>
                    </a:lnTo>
                    <a:lnTo>
                      <a:pt x="1460" y="0"/>
                    </a:lnTo>
                    <a:lnTo>
                      <a:pt x="1510" y="0"/>
                    </a:lnTo>
                    <a:lnTo>
                      <a:pt x="1559" y="0"/>
                    </a:lnTo>
                    <a:lnTo>
                      <a:pt x="1610" y="0"/>
                    </a:lnTo>
                    <a:lnTo>
                      <a:pt x="1660" y="0"/>
                    </a:lnTo>
                    <a:lnTo>
                      <a:pt x="1709" y="0"/>
                    </a:lnTo>
                    <a:lnTo>
                      <a:pt x="1760" y="0"/>
                    </a:lnTo>
                    <a:lnTo>
                      <a:pt x="1811" y="0"/>
                    </a:lnTo>
                    <a:lnTo>
                      <a:pt x="1861" y="0"/>
                    </a:lnTo>
                    <a:lnTo>
                      <a:pt x="1910" y="0"/>
                    </a:lnTo>
                    <a:lnTo>
                      <a:pt x="1961" y="0"/>
                    </a:lnTo>
                    <a:lnTo>
                      <a:pt x="2011" y="0"/>
                    </a:lnTo>
                    <a:lnTo>
                      <a:pt x="2060" y="0"/>
                    </a:lnTo>
                    <a:lnTo>
                      <a:pt x="2111" y="2"/>
                    </a:lnTo>
                    <a:lnTo>
                      <a:pt x="2161" y="2"/>
                    </a:lnTo>
                    <a:lnTo>
                      <a:pt x="2210" y="2"/>
                    </a:lnTo>
                    <a:lnTo>
                      <a:pt x="2261" y="2"/>
                    </a:lnTo>
                    <a:lnTo>
                      <a:pt x="2165" y="21"/>
                    </a:lnTo>
                    <a:lnTo>
                      <a:pt x="2072" y="41"/>
                    </a:lnTo>
                    <a:lnTo>
                      <a:pt x="1980" y="60"/>
                    </a:lnTo>
                    <a:lnTo>
                      <a:pt x="1892" y="82"/>
                    </a:lnTo>
                    <a:lnTo>
                      <a:pt x="1807" y="101"/>
                    </a:lnTo>
                    <a:lnTo>
                      <a:pt x="1723" y="123"/>
                    </a:lnTo>
                    <a:lnTo>
                      <a:pt x="1641" y="144"/>
                    </a:lnTo>
                    <a:lnTo>
                      <a:pt x="1563" y="167"/>
                    </a:lnTo>
                    <a:lnTo>
                      <a:pt x="1485" y="191"/>
                    </a:lnTo>
                    <a:lnTo>
                      <a:pt x="1411" y="216"/>
                    </a:lnTo>
                    <a:lnTo>
                      <a:pt x="1339" y="244"/>
                    </a:lnTo>
                    <a:lnTo>
                      <a:pt x="1269" y="271"/>
                    </a:lnTo>
                    <a:lnTo>
                      <a:pt x="1203" y="300"/>
                    </a:lnTo>
                    <a:lnTo>
                      <a:pt x="1136" y="333"/>
                    </a:lnTo>
                    <a:lnTo>
                      <a:pt x="1072" y="366"/>
                    </a:lnTo>
                    <a:lnTo>
                      <a:pt x="1012" y="403"/>
                    </a:lnTo>
                    <a:lnTo>
                      <a:pt x="951" y="442"/>
                    </a:lnTo>
                    <a:lnTo>
                      <a:pt x="895" y="483"/>
                    </a:lnTo>
                    <a:lnTo>
                      <a:pt x="838" y="528"/>
                    </a:lnTo>
                    <a:lnTo>
                      <a:pt x="786" y="575"/>
                    </a:lnTo>
                    <a:lnTo>
                      <a:pt x="733" y="624"/>
                    </a:lnTo>
                    <a:lnTo>
                      <a:pt x="684" y="678"/>
                    </a:lnTo>
                    <a:lnTo>
                      <a:pt x="635" y="735"/>
                    </a:lnTo>
                    <a:lnTo>
                      <a:pt x="591" y="795"/>
                    </a:lnTo>
                    <a:lnTo>
                      <a:pt x="546" y="859"/>
                    </a:lnTo>
                    <a:lnTo>
                      <a:pt x="503" y="928"/>
                    </a:lnTo>
                    <a:lnTo>
                      <a:pt x="462" y="1000"/>
                    </a:lnTo>
                    <a:lnTo>
                      <a:pt x="423" y="1076"/>
                    </a:lnTo>
                    <a:lnTo>
                      <a:pt x="384" y="1158"/>
                    </a:lnTo>
                    <a:lnTo>
                      <a:pt x="349" y="1243"/>
                    </a:lnTo>
                    <a:lnTo>
                      <a:pt x="314" y="1333"/>
                    </a:lnTo>
                    <a:lnTo>
                      <a:pt x="281" y="1429"/>
                    </a:lnTo>
                    <a:lnTo>
                      <a:pt x="246" y="1425"/>
                    </a:lnTo>
                    <a:lnTo>
                      <a:pt x="211" y="1421"/>
                    </a:lnTo>
                    <a:lnTo>
                      <a:pt x="176" y="1417"/>
                    </a:lnTo>
                    <a:lnTo>
                      <a:pt x="140" y="1413"/>
                    </a:lnTo>
                    <a:lnTo>
                      <a:pt x="105" y="1407"/>
                    </a:lnTo>
                    <a:lnTo>
                      <a:pt x="70" y="1403"/>
                    </a:lnTo>
                    <a:lnTo>
                      <a:pt x="35" y="1399"/>
                    </a:lnTo>
                    <a:lnTo>
                      <a:pt x="0" y="1394"/>
                    </a:lnTo>
                    <a:close/>
                  </a:path>
                </a:pathLst>
              </a:custGeom>
              <a:solidFill>
                <a:srgbClr val="8470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99280" y="2181240"/>
                <a:ext cx="2337480" cy="1587960"/>
              </a:xfrm>
              <a:custGeom>
                <a:avLst/>
                <a:gdLst/>
                <a:ahLst/>
                <a:rect l="l" t="t" r="r" b="b"/>
                <a:pathLst>
                  <a:path w="2235" h="1419">
                    <a:moveTo>
                      <a:pt x="0" y="1380"/>
                    </a:moveTo>
                    <a:lnTo>
                      <a:pt x="15" y="1314"/>
                    </a:lnTo>
                    <a:lnTo>
                      <a:pt x="33" y="1247"/>
                    </a:lnTo>
                    <a:lnTo>
                      <a:pt x="52" y="1183"/>
                    </a:lnTo>
                    <a:lnTo>
                      <a:pt x="74" y="1119"/>
                    </a:lnTo>
                    <a:lnTo>
                      <a:pt x="95" y="1056"/>
                    </a:lnTo>
                    <a:lnTo>
                      <a:pt x="120" y="996"/>
                    </a:lnTo>
                    <a:lnTo>
                      <a:pt x="146" y="935"/>
                    </a:lnTo>
                    <a:lnTo>
                      <a:pt x="173" y="875"/>
                    </a:lnTo>
                    <a:lnTo>
                      <a:pt x="202" y="819"/>
                    </a:lnTo>
                    <a:lnTo>
                      <a:pt x="233" y="762"/>
                    </a:lnTo>
                    <a:lnTo>
                      <a:pt x="268" y="705"/>
                    </a:lnTo>
                    <a:lnTo>
                      <a:pt x="304" y="653"/>
                    </a:lnTo>
                    <a:lnTo>
                      <a:pt x="341" y="600"/>
                    </a:lnTo>
                    <a:lnTo>
                      <a:pt x="380" y="551"/>
                    </a:lnTo>
                    <a:lnTo>
                      <a:pt x="420" y="503"/>
                    </a:lnTo>
                    <a:lnTo>
                      <a:pt x="463" y="456"/>
                    </a:lnTo>
                    <a:lnTo>
                      <a:pt x="510" y="411"/>
                    </a:lnTo>
                    <a:lnTo>
                      <a:pt x="557" y="366"/>
                    </a:lnTo>
                    <a:lnTo>
                      <a:pt x="608" y="325"/>
                    </a:lnTo>
                    <a:lnTo>
                      <a:pt x="660" y="286"/>
                    </a:lnTo>
                    <a:lnTo>
                      <a:pt x="715" y="249"/>
                    </a:lnTo>
                    <a:lnTo>
                      <a:pt x="771" y="214"/>
                    </a:lnTo>
                    <a:lnTo>
                      <a:pt x="830" y="183"/>
                    </a:lnTo>
                    <a:lnTo>
                      <a:pt x="892" y="152"/>
                    </a:lnTo>
                    <a:lnTo>
                      <a:pt x="956" y="125"/>
                    </a:lnTo>
                    <a:lnTo>
                      <a:pt x="1025" y="99"/>
                    </a:lnTo>
                    <a:lnTo>
                      <a:pt x="1093" y="76"/>
                    </a:lnTo>
                    <a:lnTo>
                      <a:pt x="1165" y="54"/>
                    </a:lnTo>
                    <a:lnTo>
                      <a:pt x="1241" y="37"/>
                    </a:lnTo>
                    <a:lnTo>
                      <a:pt x="1317" y="21"/>
                    </a:lnTo>
                    <a:lnTo>
                      <a:pt x="1397" y="10"/>
                    </a:lnTo>
                    <a:lnTo>
                      <a:pt x="1481" y="0"/>
                    </a:lnTo>
                    <a:lnTo>
                      <a:pt x="1527" y="0"/>
                    </a:lnTo>
                    <a:lnTo>
                      <a:pt x="1574" y="0"/>
                    </a:lnTo>
                    <a:lnTo>
                      <a:pt x="1623" y="0"/>
                    </a:lnTo>
                    <a:lnTo>
                      <a:pt x="1670" y="0"/>
                    </a:lnTo>
                    <a:lnTo>
                      <a:pt x="1716" y="0"/>
                    </a:lnTo>
                    <a:lnTo>
                      <a:pt x="1763" y="0"/>
                    </a:lnTo>
                    <a:lnTo>
                      <a:pt x="1810" y="0"/>
                    </a:lnTo>
                    <a:lnTo>
                      <a:pt x="1859" y="0"/>
                    </a:lnTo>
                    <a:lnTo>
                      <a:pt x="1905" y="0"/>
                    </a:lnTo>
                    <a:lnTo>
                      <a:pt x="1952" y="0"/>
                    </a:lnTo>
                    <a:lnTo>
                      <a:pt x="1999" y="0"/>
                    </a:lnTo>
                    <a:lnTo>
                      <a:pt x="2046" y="0"/>
                    </a:lnTo>
                    <a:lnTo>
                      <a:pt x="2092" y="2"/>
                    </a:lnTo>
                    <a:lnTo>
                      <a:pt x="2141" y="2"/>
                    </a:lnTo>
                    <a:lnTo>
                      <a:pt x="2188" y="2"/>
                    </a:lnTo>
                    <a:lnTo>
                      <a:pt x="2235" y="2"/>
                    </a:lnTo>
                    <a:lnTo>
                      <a:pt x="2139" y="21"/>
                    </a:lnTo>
                    <a:lnTo>
                      <a:pt x="2046" y="41"/>
                    </a:lnTo>
                    <a:lnTo>
                      <a:pt x="1954" y="60"/>
                    </a:lnTo>
                    <a:lnTo>
                      <a:pt x="1866" y="80"/>
                    </a:lnTo>
                    <a:lnTo>
                      <a:pt x="1781" y="101"/>
                    </a:lnTo>
                    <a:lnTo>
                      <a:pt x="1697" y="121"/>
                    </a:lnTo>
                    <a:lnTo>
                      <a:pt x="1615" y="142"/>
                    </a:lnTo>
                    <a:lnTo>
                      <a:pt x="1537" y="166"/>
                    </a:lnTo>
                    <a:lnTo>
                      <a:pt x="1461" y="189"/>
                    </a:lnTo>
                    <a:lnTo>
                      <a:pt x="1387" y="212"/>
                    </a:lnTo>
                    <a:lnTo>
                      <a:pt x="1315" y="240"/>
                    </a:lnTo>
                    <a:lnTo>
                      <a:pt x="1245" y="267"/>
                    </a:lnTo>
                    <a:lnTo>
                      <a:pt x="1177" y="296"/>
                    </a:lnTo>
                    <a:lnTo>
                      <a:pt x="1112" y="327"/>
                    </a:lnTo>
                    <a:lnTo>
                      <a:pt x="1048" y="360"/>
                    </a:lnTo>
                    <a:lnTo>
                      <a:pt x="988" y="397"/>
                    </a:lnTo>
                    <a:lnTo>
                      <a:pt x="927" y="435"/>
                    </a:lnTo>
                    <a:lnTo>
                      <a:pt x="871" y="475"/>
                    </a:lnTo>
                    <a:lnTo>
                      <a:pt x="816" y="520"/>
                    </a:lnTo>
                    <a:lnTo>
                      <a:pt x="761" y="565"/>
                    </a:lnTo>
                    <a:lnTo>
                      <a:pt x="711" y="616"/>
                    </a:lnTo>
                    <a:lnTo>
                      <a:pt x="660" y="668"/>
                    </a:lnTo>
                    <a:lnTo>
                      <a:pt x="613" y="725"/>
                    </a:lnTo>
                    <a:lnTo>
                      <a:pt x="567" y="785"/>
                    </a:lnTo>
                    <a:lnTo>
                      <a:pt x="524" y="850"/>
                    </a:lnTo>
                    <a:lnTo>
                      <a:pt x="481" y="918"/>
                    </a:lnTo>
                    <a:lnTo>
                      <a:pt x="440" y="990"/>
                    </a:lnTo>
                    <a:lnTo>
                      <a:pt x="401" y="1066"/>
                    </a:lnTo>
                    <a:lnTo>
                      <a:pt x="362" y="1148"/>
                    </a:lnTo>
                    <a:lnTo>
                      <a:pt x="327" y="1234"/>
                    </a:lnTo>
                    <a:lnTo>
                      <a:pt x="292" y="1323"/>
                    </a:lnTo>
                    <a:lnTo>
                      <a:pt x="259" y="1419"/>
                    </a:lnTo>
                    <a:lnTo>
                      <a:pt x="226" y="1413"/>
                    </a:lnTo>
                    <a:lnTo>
                      <a:pt x="192" y="1409"/>
                    </a:lnTo>
                    <a:lnTo>
                      <a:pt x="161" y="1403"/>
                    </a:lnTo>
                    <a:lnTo>
                      <a:pt x="128" y="1399"/>
                    </a:lnTo>
                    <a:lnTo>
                      <a:pt x="97" y="1395"/>
                    </a:lnTo>
                    <a:lnTo>
                      <a:pt x="64" y="1390"/>
                    </a:lnTo>
                    <a:lnTo>
                      <a:pt x="33" y="1386"/>
                    </a:lnTo>
                    <a:lnTo>
                      <a:pt x="0" y="1380"/>
                    </a:lnTo>
                    <a:close/>
                  </a:path>
                </a:pathLst>
              </a:custGeom>
              <a:solidFill>
                <a:srgbClr val="9368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899640" y="2181240"/>
                <a:ext cx="2310480" cy="1574280"/>
              </a:xfrm>
              <a:custGeom>
                <a:avLst/>
                <a:gdLst/>
                <a:ahLst/>
                <a:rect l="l" t="t" r="r" b="b"/>
                <a:pathLst>
                  <a:path w="2210" h="1405">
                    <a:moveTo>
                      <a:pt x="0" y="1368"/>
                    </a:moveTo>
                    <a:lnTo>
                      <a:pt x="15" y="1302"/>
                    </a:lnTo>
                    <a:lnTo>
                      <a:pt x="33" y="1236"/>
                    </a:lnTo>
                    <a:lnTo>
                      <a:pt x="52" y="1171"/>
                    </a:lnTo>
                    <a:lnTo>
                      <a:pt x="74" y="1107"/>
                    </a:lnTo>
                    <a:lnTo>
                      <a:pt x="97" y="1045"/>
                    </a:lnTo>
                    <a:lnTo>
                      <a:pt x="123" y="984"/>
                    </a:lnTo>
                    <a:lnTo>
                      <a:pt x="148" y="924"/>
                    </a:lnTo>
                    <a:lnTo>
                      <a:pt x="177" y="865"/>
                    </a:lnTo>
                    <a:lnTo>
                      <a:pt x="208" y="807"/>
                    </a:lnTo>
                    <a:lnTo>
                      <a:pt x="240" y="752"/>
                    </a:lnTo>
                    <a:lnTo>
                      <a:pt x="275" y="698"/>
                    </a:lnTo>
                    <a:lnTo>
                      <a:pt x="312" y="643"/>
                    </a:lnTo>
                    <a:lnTo>
                      <a:pt x="349" y="592"/>
                    </a:lnTo>
                    <a:lnTo>
                      <a:pt x="390" y="544"/>
                    </a:lnTo>
                    <a:lnTo>
                      <a:pt x="432" y="495"/>
                    </a:lnTo>
                    <a:lnTo>
                      <a:pt x="477" y="448"/>
                    </a:lnTo>
                    <a:lnTo>
                      <a:pt x="524" y="403"/>
                    </a:lnTo>
                    <a:lnTo>
                      <a:pt x="573" y="362"/>
                    </a:lnTo>
                    <a:lnTo>
                      <a:pt x="623" y="321"/>
                    </a:lnTo>
                    <a:lnTo>
                      <a:pt x="678" y="282"/>
                    </a:lnTo>
                    <a:lnTo>
                      <a:pt x="733" y="245"/>
                    </a:lnTo>
                    <a:lnTo>
                      <a:pt x="791" y="212"/>
                    </a:lnTo>
                    <a:lnTo>
                      <a:pt x="851" y="179"/>
                    </a:lnTo>
                    <a:lnTo>
                      <a:pt x="914" y="150"/>
                    </a:lnTo>
                    <a:lnTo>
                      <a:pt x="978" y="123"/>
                    </a:lnTo>
                    <a:lnTo>
                      <a:pt x="1046" y="97"/>
                    </a:lnTo>
                    <a:lnTo>
                      <a:pt x="1116" y="74"/>
                    </a:lnTo>
                    <a:lnTo>
                      <a:pt x="1189" y="54"/>
                    </a:lnTo>
                    <a:lnTo>
                      <a:pt x="1263" y="37"/>
                    </a:lnTo>
                    <a:lnTo>
                      <a:pt x="1341" y="21"/>
                    </a:lnTo>
                    <a:lnTo>
                      <a:pt x="1420" y="10"/>
                    </a:lnTo>
                    <a:lnTo>
                      <a:pt x="1502" y="0"/>
                    </a:lnTo>
                    <a:lnTo>
                      <a:pt x="1547" y="0"/>
                    </a:lnTo>
                    <a:lnTo>
                      <a:pt x="1590" y="0"/>
                    </a:lnTo>
                    <a:lnTo>
                      <a:pt x="1635" y="0"/>
                    </a:lnTo>
                    <a:lnTo>
                      <a:pt x="1680" y="0"/>
                    </a:lnTo>
                    <a:lnTo>
                      <a:pt x="1723" y="0"/>
                    </a:lnTo>
                    <a:lnTo>
                      <a:pt x="1767" y="0"/>
                    </a:lnTo>
                    <a:lnTo>
                      <a:pt x="1812" y="0"/>
                    </a:lnTo>
                    <a:lnTo>
                      <a:pt x="1857" y="0"/>
                    </a:lnTo>
                    <a:lnTo>
                      <a:pt x="1900" y="0"/>
                    </a:lnTo>
                    <a:lnTo>
                      <a:pt x="1945" y="0"/>
                    </a:lnTo>
                    <a:lnTo>
                      <a:pt x="1989" y="0"/>
                    </a:lnTo>
                    <a:lnTo>
                      <a:pt x="2032" y="0"/>
                    </a:lnTo>
                    <a:lnTo>
                      <a:pt x="2077" y="2"/>
                    </a:lnTo>
                    <a:lnTo>
                      <a:pt x="2122" y="2"/>
                    </a:lnTo>
                    <a:lnTo>
                      <a:pt x="2165" y="2"/>
                    </a:lnTo>
                    <a:lnTo>
                      <a:pt x="2210" y="2"/>
                    </a:lnTo>
                    <a:lnTo>
                      <a:pt x="2114" y="21"/>
                    </a:lnTo>
                    <a:lnTo>
                      <a:pt x="2021" y="41"/>
                    </a:lnTo>
                    <a:lnTo>
                      <a:pt x="1929" y="60"/>
                    </a:lnTo>
                    <a:lnTo>
                      <a:pt x="1841" y="80"/>
                    </a:lnTo>
                    <a:lnTo>
                      <a:pt x="1756" y="99"/>
                    </a:lnTo>
                    <a:lnTo>
                      <a:pt x="1672" y="121"/>
                    </a:lnTo>
                    <a:lnTo>
                      <a:pt x="1592" y="140"/>
                    </a:lnTo>
                    <a:lnTo>
                      <a:pt x="1512" y="164"/>
                    </a:lnTo>
                    <a:lnTo>
                      <a:pt x="1436" y="185"/>
                    </a:lnTo>
                    <a:lnTo>
                      <a:pt x="1362" y="210"/>
                    </a:lnTo>
                    <a:lnTo>
                      <a:pt x="1290" y="236"/>
                    </a:lnTo>
                    <a:lnTo>
                      <a:pt x="1222" y="263"/>
                    </a:lnTo>
                    <a:lnTo>
                      <a:pt x="1153" y="292"/>
                    </a:lnTo>
                    <a:lnTo>
                      <a:pt x="1089" y="323"/>
                    </a:lnTo>
                    <a:lnTo>
                      <a:pt x="1025" y="355"/>
                    </a:lnTo>
                    <a:lnTo>
                      <a:pt x="964" y="390"/>
                    </a:lnTo>
                    <a:lnTo>
                      <a:pt x="906" y="429"/>
                    </a:lnTo>
                    <a:lnTo>
                      <a:pt x="848" y="468"/>
                    </a:lnTo>
                    <a:lnTo>
                      <a:pt x="793" y="512"/>
                    </a:lnTo>
                    <a:lnTo>
                      <a:pt x="740" y="557"/>
                    </a:lnTo>
                    <a:lnTo>
                      <a:pt x="690" y="606"/>
                    </a:lnTo>
                    <a:lnTo>
                      <a:pt x="639" y="659"/>
                    </a:lnTo>
                    <a:lnTo>
                      <a:pt x="592" y="715"/>
                    </a:lnTo>
                    <a:lnTo>
                      <a:pt x="545" y="776"/>
                    </a:lnTo>
                    <a:lnTo>
                      <a:pt x="503" y="838"/>
                    </a:lnTo>
                    <a:lnTo>
                      <a:pt x="460" y="906"/>
                    </a:lnTo>
                    <a:lnTo>
                      <a:pt x="419" y="978"/>
                    </a:lnTo>
                    <a:lnTo>
                      <a:pt x="380" y="1054"/>
                    </a:lnTo>
                    <a:lnTo>
                      <a:pt x="343" y="1134"/>
                    </a:lnTo>
                    <a:lnTo>
                      <a:pt x="308" y="1220"/>
                    </a:lnTo>
                    <a:lnTo>
                      <a:pt x="273" y="1310"/>
                    </a:lnTo>
                    <a:lnTo>
                      <a:pt x="240" y="1405"/>
                    </a:lnTo>
                    <a:lnTo>
                      <a:pt x="208" y="1401"/>
                    </a:lnTo>
                    <a:lnTo>
                      <a:pt x="179" y="1395"/>
                    </a:lnTo>
                    <a:lnTo>
                      <a:pt x="148" y="1392"/>
                    </a:lnTo>
                    <a:lnTo>
                      <a:pt x="119" y="1386"/>
                    </a:lnTo>
                    <a:lnTo>
                      <a:pt x="88" y="1382"/>
                    </a:lnTo>
                    <a:lnTo>
                      <a:pt x="58" y="1378"/>
                    </a:lnTo>
                    <a:lnTo>
                      <a:pt x="29" y="1372"/>
                    </a:lnTo>
                    <a:lnTo>
                      <a:pt x="0" y="1368"/>
                    </a:lnTo>
                    <a:close/>
                  </a:path>
                </a:pathLst>
              </a:custGeom>
              <a:solidFill>
                <a:srgbClr val="a36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898920" y="2181240"/>
                <a:ext cx="2285640" cy="1558800"/>
              </a:xfrm>
              <a:custGeom>
                <a:avLst/>
                <a:gdLst/>
                <a:ahLst/>
                <a:rect l="l" t="t" r="r" b="b"/>
                <a:pathLst>
                  <a:path w="2187" h="1392">
                    <a:moveTo>
                      <a:pt x="0" y="1355"/>
                    </a:moveTo>
                    <a:lnTo>
                      <a:pt x="16" y="1288"/>
                    </a:lnTo>
                    <a:lnTo>
                      <a:pt x="35" y="1222"/>
                    </a:lnTo>
                    <a:lnTo>
                      <a:pt x="55" y="1158"/>
                    </a:lnTo>
                    <a:lnTo>
                      <a:pt x="76" y="1095"/>
                    </a:lnTo>
                    <a:lnTo>
                      <a:pt x="100" y="1033"/>
                    </a:lnTo>
                    <a:lnTo>
                      <a:pt x="127" y="971"/>
                    </a:lnTo>
                    <a:lnTo>
                      <a:pt x="154" y="912"/>
                    </a:lnTo>
                    <a:lnTo>
                      <a:pt x="183" y="854"/>
                    </a:lnTo>
                    <a:lnTo>
                      <a:pt x="215" y="797"/>
                    </a:lnTo>
                    <a:lnTo>
                      <a:pt x="250" y="741"/>
                    </a:lnTo>
                    <a:lnTo>
                      <a:pt x="285" y="686"/>
                    </a:lnTo>
                    <a:lnTo>
                      <a:pt x="322" y="633"/>
                    </a:lnTo>
                    <a:lnTo>
                      <a:pt x="363" y="583"/>
                    </a:lnTo>
                    <a:lnTo>
                      <a:pt x="404" y="534"/>
                    </a:lnTo>
                    <a:lnTo>
                      <a:pt x="448" y="487"/>
                    </a:lnTo>
                    <a:lnTo>
                      <a:pt x="493" y="440"/>
                    </a:lnTo>
                    <a:lnTo>
                      <a:pt x="542" y="397"/>
                    </a:lnTo>
                    <a:lnTo>
                      <a:pt x="593" y="355"/>
                    </a:lnTo>
                    <a:lnTo>
                      <a:pt x="643" y="316"/>
                    </a:lnTo>
                    <a:lnTo>
                      <a:pt x="698" y="277"/>
                    </a:lnTo>
                    <a:lnTo>
                      <a:pt x="754" y="242"/>
                    </a:lnTo>
                    <a:lnTo>
                      <a:pt x="815" y="208"/>
                    </a:lnTo>
                    <a:lnTo>
                      <a:pt x="875" y="177"/>
                    </a:lnTo>
                    <a:lnTo>
                      <a:pt x="938" y="148"/>
                    </a:lnTo>
                    <a:lnTo>
                      <a:pt x="1004" y="121"/>
                    </a:lnTo>
                    <a:lnTo>
                      <a:pt x="1072" y="95"/>
                    </a:lnTo>
                    <a:lnTo>
                      <a:pt x="1142" y="74"/>
                    </a:lnTo>
                    <a:lnTo>
                      <a:pt x="1214" y="52"/>
                    </a:lnTo>
                    <a:lnTo>
                      <a:pt x="1288" y="37"/>
                    </a:lnTo>
                    <a:lnTo>
                      <a:pt x="1364" y="21"/>
                    </a:lnTo>
                    <a:lnTo>
                      <a:pt x="1444" y="10"/>
                    </a:lnTo>
                    <a:lnTo>
                      <a:pt x="1526" y="0"/>
                    </a:lnTo>
                    <a:lnTo>
                      <a:pt x="1567" y="0"/>
                    </a:lnTo>
                    <a:lnTo>
                      <a:pt x="1608" y="0"/>
                    </a:lnTo>
                    <a:lnTo>
                      <a:pt x="1651" y="0"/>
                    </a:lnTo>
                    <a:lnTo>
                      <a:pt x="1692" y="0"/>
                    </a:lnTo>
                    <a:lnTo>
                      <a:pt x="1733" y="0"/>
                    </a:lnTo>
                    <a:lnTo>
                      <a:pt x="1774" y="0"/>
                    </a:lnTo>
                    <a:lnTo>
                      <a:pt x="1814" y="0"/>
                    </a:lnTo>
                    <a:lnTo>
                      <a:pt x="1857" y="0"/>
                    </a:lnTo>
                    <a:lnTo>
                      <a:pt x="1898" y="0"/>
                    </a:lnTo>
                    <a:lnTo>
                      <a:pt x="1939" y="0"/>
                    </a:lnTo>
                    <a:lnTo>
                      <a:pt x="1980" y="0"/>
                    </a:lnTo>
                    <a:lnTo>
                      <a:pt x="2021" y="0"/>
                    </a:lnTo>
                    <a:lnTo>
                      <a:pt x="2062" y="2"/>
                    </a:lnTo>
                    <a:lnTo>
                      <a:pt x="2105" y="2"/>
                    </a:lnTo>
                    <a:lnTo>
                      <a:pt x="2146" y="2"/>
                    </a:lnTo>
                    <a:lnTo>
                      <a:pt x="2187" y="2"/>
                    </a:lnTo>
                    <a:lnTo>
                      <a:pt x="2091" y="21"/>
                    </a:lnTo>
                    <a:lnTo>
                      <a:pt x="1998" y="41"/>
                    </a:lnTo>
                    <a:lnTo>
                      <a:pt x="1906" y="60"/>
                    </a:lnTo>
                    <a:lnTo>
                      <a:pt x="1818" y="80"/>
                    </a:lnTo>
                    <a:lnTo>
                      <a:pt x="1733" y="99"/>
                    </a:lnTo>
                    <a:lnTo>
                      <a:pt x="1649" y="119"/>
                    </a:lnTo>
                    <a:lnTo>
                      <a:pt x="1569" y="140"/>
                    </a:lnTo>
                    <a:lnTo>
                      <a:pt x="1491" y="162"/>
                    </a:lnTo>
                    <a:lnTo>
                      <a:pt x="1415" y="183"/>
                    </a:lnTo>
                    <a:lnTo>
                      <a:pt x="1341" y="206"/>
                    </a:lnTo>
                    <a:lnTo>
                      <a:pt x="1269" y="232"/>
                    </a:lnTo>
                    <a:lnTo>
                      <a:pt x="1199" y="259"/>
                    </a:lnTo>
                    <a:lnTo>
                      <a:pt x="1132" y="286"/>
                    </a:lnTo>
                    <a:lnTo>
                      <a:pt x="1066" y="318"/>
                    </a:lnTo>
                    <a:lnTo>
                      <a:pt x="1004" y="349"/>
                    </a:lnTo>
                    <a:lnTo>
                      <a:pt x="943" y="384"/>
                    </a:lnTo>
                    <a:lnTo>
                      <a:pt x="885" y="421"/>
                    </a:lnTo>
                    <a:lnTo>
                      <a:pt x="826" y="460"/>
                    </a:lnTo>
                    <a:lnTo>
                      <a:pt x="772" y="503"/>
                    </a:lnTo>
                    <a:lnTo>
                      <a:pt x="719" y="548"/>
                    </a:lnTo>
                    <a:lnTo>
                      <a:pt x="669" y="596"/>
                    </a:lnTo>
                    <a:lnTo>
                      <a:pt x="620" y="649"/>
                    </a:lnTo>
                    <a:lnTo>
                      <a:pt x="571" y="704"/>
                    </a:lnTo>
                    <a:lnTo>
                      <a:pt x="526" y="764"/>
                    </a:lnTo>
                    <a:lnTo>
                      <a:pt x="482" y="826"/>
                    </a:lnTo>
                    <a:lnTo>
                      <a:pt x="439" y="893"/>
                    </a:lnTo>
                    <a:lnTo>
                      <a:pt x="398" y="965"/>
                    </a:lnTo>
                    <a:lnTo>
                      <a:pt x="359" y="1041"/>
                    </a:lnTo>
                    <a:lnTo>
                      <a:pt x="322" y="1121"/>
                    </a:lnTo>
                    <a:lnTo>
                      <a:pt x="287" y="1206"/>
                    </a:lnTo>
                    <a:lnTo>
                      <a:pt x="252" y="1296"/>
                    </a:lnTo>
                    <a:lnTo>
                      <a:pt x="218" y="1392"/>
                    </a:lnTo>
                    <a:lnTo>
                      <a:pt x="191" y="1388"/>
                    </a:lnTo>
                    <a:lnTo>
                      <a:pt x="164" y="1382"/>
                    </a:lnTo>
                    <a:lnTo>
                      <a:pt x="137" y="1378"/>
                    </a:lnTo>
                    <a:lnTo>
                      <a:pt x="109" y="1372"/>
                    </a:lnTo>
                    <a:lnTo>
                      <a:pt x="82" y="1368"/>
                    </a:lnTo>
                    <a:lnTo>
                      <a:pt x="55" y="1364"/>
                    </a:lnTo>
                    <a:lnTo>
                      <a:pt x="28" y="1358"/>
                    </a:lnTo>
                    <a:lnTo>
                      <a:pt x="0" y="1355"/>
                    </a:lnTo>
                    <a:close/>
                  </a:path>
                </a:pathLst>
              </a:custGeom>
              <a:solidFill>
                <a:srgbClr val="b25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899280" y="2181240"/>
                <a:ext cx="2260440" cy="1545480"/>
              </a:xfrm>
              <a:custGeom>
                <a:avLst/>
                <a:gdLst/>
                <a:ahLst/>
                <a:rect l="l" t="t" r="r" b="b"/>
                <a:pathLst>
                  <a:path w="2161" h="1380">
                    <a:moveTo>
                      <a:pt x="0" y="1341"/>
                    </a:moveTo>
                    <a:lnTo>
                      <a:pt x="15" y="1275"/>
                    </a:lnTo>
                    <a:lnTo>
                      <a:pt x="35" y="1208"/>
                    </a:lnTo>
                    <a:lnTo>
                      <a:pt x="54" y="1144"/>
                    </a:lnTo>
                    <a:lnTo>
                      <a:pt x="78" y="1082"/>
                    </a:lnTo>
                    <a:lnTo>
                      <a:pt x="101" y="1019"/>
                    </a:lnTo>
                    <a:lnTo>
                      <a:pt x="128" y="959"/>
                    </a:lnTo>
                    <a:lnTo>
                      <a:pt x="155" y="900"/>
                    </a:lnTo>
                    <a:lnTo>
                      <a:pt x="187" y="842"/>
                    </a:lnTo>
                    <a:lnTo>
                      <a:pt x="220" y="785"/>
                    </a:lnTo>
                    <a:lnTo>
                      <a:pt x="255" y="731"/>
                    </a:lnTo>
                    <a:lnTo>
                      <a:pt x="292" y="676"/>
                    </a:lnTo>
                    <a:lnTo>
                      <a:pt x="331" y="626"/>
                    </a:lnTo>
                    <a:lnTo>
                      <a:pt x="372" y="575"/>
                    </a:lnTo>
                    <a:lnTo>
                      <a:pt x="415" y="526"/>
                    </a:lnTo>
                    <a:lnTo>
                      <a:pt x="459" y="479"/>
                    </a:lnTo>
                    <a:lnTo>
                      <a:pt x="506" y="435"/>
                    </a:lnTo>
                    <a:lnTo>
                      <a:pt x="555" y="392"/>
                    </a:lnTo>
                    <a:lnTo>
                      <a:pt x="608" y="351"/>
                    </a:lnTo>
                    <a:lnTo>
                      <a:pt x="660" y="310"/>
                    </a:lnTo>
                    <a:lnTo>
                      <a:pt x="717" y="273"/>
                    </a:lnTo>
                    <a:lnTo>
                      <a:pt x="773" y="238"/>
                    </a:lnTo>
                    <a:lnTo>
                      <a:pt x="834" y="205"/>
                    </a:lnTo>
                    <a:lnTo>
                      <a:pt x="896" y="173"/>
                    </a:lnTo>
                    <a:lnTo>
                      <a:pt x="960" y="144"/>
                    </a:lnTo>
                    <a:lnTo>
                      <a:pt x="1027" y="119"/>
                    </a:lnTo>
                    <a:lnTo>
                      <a:pt x="1093" y="93"/>
                    </a:lnTo>
                    <a:lnTo>
                      <a:pt x="1165" y="72"/>
                    </a:lnTo>
                    <a:lnTo>
                      <a:pt x="1237" y="52"/>
                    </a:lnTo>
                    <a:lnTo>
                      <a:pt x="1311" y="35"/>
                    </a:lnTo>
                    <a:lnTo>
                      <a:pt x="1387" y="21"/>
                    </a:lnTo>
                    <a:lnTo>
                      <a:pt x="1467" y="10"/>
                    </a:lnTo>
                    <a:lnTo>
                      <a:pt x="1547" y="0"/>
                    </a:lnTo>
                    <a:lnTo>
                      <a:pt x="1586" y="0"/>
                    </a:lnTo>
                    <a:lnTo>
                      <a:pt x="1623" y="0"/>
                    </a:lnTo>
                    <a:lnTo>
                      <a:pt x="1662" y="0"/>
                    </a:lnTo>
                    <a:lnTo>
                      <a:pt x="1701" y="0"/>
                    </a:lnTo>
                    <a:lnTo>
                      <a:pt x="1738" y="0"/>
                    </a:lnTo>
                    <a:lnTo>
                      <a:pt x="1777" y="0"/>
                    </a:lnTo>
                    <a:lnTo>
                      <a:pt x="1816" y="0"/>
                    </a:lnTo>
                    <a:lnTo>
                      <a:pt x="1855" y="0"/>
                    </a:lnTo>
                    <a:lnTo>
                      <a:pt x="1892" y="0"/>
                    </a:lnTo>
                    <a:lnTo>
                      <a:pt x="1931" y="0"/>
                    </a:lnTo>
                    <a:lnTo>
                      <a:pt x="1970" y="0"/>
                    </a:lnTo>
                    <a:lnTo>
                      <a:pt x="2007" y="0"/>
                    </a:lnTo>
                    <a:lnTo>
                      <a:pt x="2046" y="2"/>
                    </a:lnTo>
                    <a:lnTo>
                      <a:pt x="2085" y="2"/>
                    </a:lnTo>
                    <a:lnTo>
                      <a:pt x="2122" y="2"/>
                    </a:lnTo>
                    <a:lnTo>
                      <a:pt x="2161" y="2"/>
                    </a:lnTo>
                    <a:lnTo>
                      <a:pt x="2065" y="21"/>
                    </a:lnTo>
                    <a:lnTo>
                      <a:pt x="1972" y="41"/>
                    </a:lnTo>
                    <a:lnTo>
                      <a:pt x="1880" y="60"/>
                    </a:lnTo>
                    <a:lnTo>
                      <a:pt x="1792" y="78"/>
                    </a:lnTo>
                    <a:lnTo>
                      <a:pt x="1707" y="97"/>
                    </a:lnTo>
                    <a:lnTo>
                      <a:pt x="1625" y="117"/>
                    </a:lnTo>
                    <a:lnTo>
                      <a:pt x="1543" y="138"/>
                    </a:lnTo>
                    <a:lnTo>
                      <a:pt x="1465" y="160"/>
                    </a:lnTo>
                    <a:lnTo>
                      <a:pt x="1389" y="181"/>
                    </a:lnTo>
                    <a:lnTo>
                      <a:pt x="1315" y="205"/>
                    </a:lnTo>
                    <a:lnTo>
                      <a:pt x="1245" y="228"/>
                    </a:lnTo>
                    <a:lnTo>
                      <a:pt x="1175" y="255"/>
                    </a:lnTo>
                    <a:lnTo>
                      <a:pt x="1108" y="282"/>
                    </a:lnTo>
                    <a:lnTo>
                      <a:pt x="1044" y="312"/>
                    </a:lnTo>
                    <a:lnTo>
                      <a:pt x="980" y="343"/>
                    </a:lnTo>
                    <a:lnTo>
                      <a:pt x="919" y="378"/>
                    </a:lnTo>
                    <a:lnTo>
                      <a:pt x="861" y="413"/>
                    </a:lnTo>
                    <a:lnTo>
                      <a:pt x="804" y="452"/>
                    </a:lnTo>
                    <a:lnTo>
                      <a:pt x="750" y="495"/>
                    </a:lnTo>
                    <a:lnTo>
                      <a:pt x="697" y="540"/>
                    </a:lnTo>
                    <a:lnTo>
                      <a:pt x="647" y="587"/>
                    </a:lnTo>
                    <a:lnTo>
                      <a:pt x="598" y="639"/>
                    </a:lnTo>
                    <a:lnTo>
                      <a:pt x="549" y="694"/>
                    </a:lnTo>
                    <a:lnTo>
                      <a:pt x="504" y="752"/>
                    </a:lnTo>
                    <a:lnTo>
                      <a:pt x="459" y="815"/>
                    </a:lnTo>
                    <a:lnTo>
                      <a:pt x="419" y="883"/>
                    </a:lnTo>
                    <a:lnTo>
                      <a:pt x="378" y="953"/>
                    </a:lnTo>
                    <a:lnTo>
                      <a:pt x="339" y="1029"/>
                    </a:lnTo>
                    <a:lnTo>
                      <a:pt x="300" y="1109"/>
                    </a:lnTo>
                    <a:lnTo>
                      <a:pt x="265" y="1195"/>
                    </a:lnTo>
                    <a:lnTo>
                      <a:pt x="230" y="1284"/>
                    </a:lnTo>
                    <a:lnTo>
                      <a:pt x="196" y="1380"/>
                    </a:lnTo>
                    <a:lnTo>
                      <a:pt x="171" y="1374"/>
                    </a:lnTo>
                    <a:lnTo>
                      <a:pt x="148" y="1370"/>
                    </a:lnTo>
                    <a:lnTo>
                      <a:pt x="122" y="1364"/>
                    </a:lnTo>
                    <a:lnTo>
                      <a:pt x="99" y="1360"/>
                    </a:lnTo>
                    <a:lnTo>
                      <a:pt x="74" y="1357"/>
                    </a:lnTo>
                    <a:lnTo>
                      <a:pt x="48" y="1351"/>
                    </a:lnTo>
                    <a:lnTo>
                      <a:pt x="25" y="1347"/>
                    </a:lnTo>
                    <a:lnTo>
                      <a:pt x="0" y="1341"/>
                    </a:lnTo>
                    <a:close/>
                  </a:path>
                </a:pathLst>
              </a:custGeom>
              <a:solidFill>
                <a:srgbClr val="c151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899280" y="2181240"/>
                <a:ext cx="2235240" cy="1529640"/>
              </a:xfrm>
              <a:custGeom>
                <a:avLst/>
                <a:gdLst/>
                <a:ahLst/>
                <a:rect l="l" t="t" r="r" b="b"/>
                <a:pathLst>
                  <a:path w="2138" h="1366">
                    <a:moveTo>
                      <a:pt x="0" y="1329"/>
                    </a:moveTo>
                    <a:lnTo>
                      <a:pt x="16" y="1263"/>
                    </a:lnTo>
                    <a:lnTo>
                      <a:pt x="35" y="1197"/>
                    </a:lnTo>
                    <a:lnTo>
                      <a:pt x="56" y="1132"/>
                    </a:lnTo>
                    <a:lnTo>
                      <a:pt x="80" y="1070"/>
                    </a:lnTo>
                    <a:lnTo>
                      <a:pt x="103" y="1008"/>
                    </a:lnTo>
                    <a:lnTo>
                      <a:pt x="132" y="947"/>
                    </a:lnTo>
                    <a:lnTo>
                      <a:pt x="162" y="889"/>
                    </a:lnTo>
                    <a:lnTo>
                      <a:pt x="193" y="832"/>
                    </a:lnTo>
                    <a:lnTo>
                      <a:pt x="226" y="776"/>
                    </a:lnTo>
                    <a:lnTo>
                      <a:pt x="263" y="721"/>
                    </a:lnTo>
                    <a:lnTo>
                      <a:pt x="300" y="668"/>
                    </a:lnTo>
                    <a:lnTo>
                      <a:pt x="341" y="616"/>
                    </a:lnTo>
                    <a:lnTo>
                      <a:pt x="384" y="567"/>
                    </a:lnTo>
                    <a:lnTo>
                      <a:pt x="427" y="518"/>
                    </a:lnTo>
                    <a:lnTo>
                      <a:pt x="473" y="472"/>
                    </a:lnTo>
                    <a:lnTo>
                      <a:pt x="522" y="427"/>
                    </a:lnTo>
                    <a:lnTo>
                      <a:pt x="573" y="386"/>
                    </a:lnTo>
                    <a:lnTo>
                      <a:pt x="625" y="345"/>
                    </a:lnTo>
                    <a:lnTo>
                      <a:pt x="680" y="306"/>
                    </a:lnTo>
                    <a:lnTo>
                      <a:pt x="737" y="269"/>
                    </a:lnTo>
                    <a:lnTo>
                      <a:pt x="795" y="234"/>
                    </a:lnTo>
                    <a:lnTo>
                      <a:pt x="857" y="201"/>
                    </a:lnTo>
                    <a:lnTo>
                      <a:pt x="920" y="171"/>
                    </a:lnTo>
                    <a:lnTo>
                      <a:pt x="984" y="142"/>
                    </a:lnTo>
                    <a:lnTo>
                      <a:pt x="1050" y="117"/>
                    </a:lnTo>
                    <a:lnTo>
                      <a:pt x="1119" y="91"/>
                    </a:lnTo>
                    <a:lnTo>
                      <a:pt x="1191" y="70"/>
                    </a:lnTo>
                    <a:lnTo>
                      <a:pt x="1263" y="52"/>
                    </a:lnTo>
                    <a:lnTo>
                      <a:pt x="1337" y="35"/>
                    </a:lnTo>
                    <a:lnTo>
                      <a:pt x="1415" y="21"/>
                    </a:lnTo>
                    <a:lnTo>
                      <a:pt x="1493" y="10"/>
                    </a:lnTo>
                    <a:lnTo>
                      <a:pt x="1573" y="0"/>
                    </a:lnTo>
                    <a:lnTo>
                      <a:pt x="1608" y="0"/>
                    </a:lnTo>
                    <a:lnTo>
                      <a:pt x="1643" y="0"/>
                    </a:lnTo>
                    <a:lnTo>
                      <a:pt x="1678" y="0"/>
                    </a:lnTo>
                    <a:lnTo>
                      <a:pt x="1715" y="0"/>
                    </a:lnTo>
                    <a:lnTo>
                      <a:pt x="1750" y="0"/>
                    </a:lnTo>
                    <a:lnTo>
                      <a:pt x="1785" y="0"/>
                    </a:lnTo>
                    <a:lnTo>
                      <a:pt x="1820" y="0"/>
                    </a:lnTo>
                    <a:lnTo>
                      <a:pt x="1855" y="0"/>
                    </a:lnTo>
                    <a:lnTo>
                      <a:pt x="1890" y="0"/>
                    </a:lnTo>
                    <a:lnTo>
                      <a:pt x="1925" y="0"/>
                    </a:lnTo>
                    <a:lnTo>
                      <a:pt x="1960" y="0"/>
                    </a:lnTo>
                    <a:lnTo>
                      <a:pt x="1995" y="0"/>
                    </a:lnTo>
                    <a:lnTo>
                      <a:pt x="2032" y="2"/>
                    </a:lnTo>
                    <a:lnTo>
                      <a:pt x="2068" y="2"/>
                    </a:lnTo>
                    <a:lnTo>
                      <a:pt x="2103" y="2"/>
                    </a:lnTo>
                    <a:lnTo>
                      <a:pt x="2138" y="2"/>
                    </a:lnTo>
                    <a:lnTo>
                      <a:pt x="2042" y="21"/>
                    </a:lnTo>
                    <a:lnTo>
                      <a:pt x="1949" y="41"/>
                    </a:lnTo>
                    <a:lnTo>
                      <a:pt x="1859" y="58"/>
                    </a:lnTo>
                    <a:lnTo>
                      <a:pt x="1769" y="78"/>
                    </a:lnTo>
                    <a:lnTo>
                      <a:pt x="1684" y="97"/>
                    </a:lnTo>
                    <a:lnTo>
                      <a:pt x="1602" y="117"/>
                    </a:lnTo>
                    <a:lnTo>
                      <a:pt x="1522" y="136"/>
                    </a:lnTo>
                    <a:lnTo>
                      <a:pt x="1442" y="156"/>
                    </a:lnTo>
                    <a:lnTo>
                      <a:pt x="1368" y="177"/>
                    </a:lnTo>
                    <a:lnTo>
                      <a:pt x="1294" y="201"/>
                    </a:lnTo>
                    <a:lnTo>
                      <a:pt x="1222" y="224"/>
                    </a:lnTo>
                    <a:lnTo>
                      <a:pt x="1154" y="249"/>
                    </a:lnTo>
                    <a:lnTo>
                      <a:pt x="1087" y="277"/>
                    </a:lnTo>
                    <a:lnTo>
                      <a:pt x="1021" y="306"/>
                    </a:lnTo>
                    <a:lnTo>
                      <a:pt x="959" y="337"/>
                    </a:lnTo>
                    <a:lnTo>
                      <a:pt x="898" y="370"/>
                    </a:lnTo>
                    <a:lnTo>
                      <a:pt x="840" y="405"/>
                    </a:lnTo>
                    <a:lnTo>
                      <a:pt x="783" y="444"/>
                    </a:lnTo>
                    <a:lnTo>
                      <a:pt x="729" y="485"/>
                    </a:lnTo>
                    <a:lnTo>
                      <a:pt x="676" y="530"/>
                    </a:lnTo>
                    <a:lnTo>
                      <a:pt x="625" y="577"/>
                    </a:lnTo>
                    <a:lnTo>
                      <a:pt x="577" y="627"/>
                    </a:lnTo>
                    <a:lnTo>
                      <a:pt x="530" y="682"/>
                    </a:lnTo>
                    <a:lnTo>
                      <a:pt x="485" y="741"/>
                    </a:lnTo>
                    <a:lnTo>
                      <a:pt x="440" y="803"/>
                    </a:lnTo>
                    <a:lnTo>
                      <a:pt x="399" y="869"/>
                    </a:lnTo>
                    <a:lnTo>
                      <a:pt x="359" y="941"/>
                    </a:lnTo>
                    <a:lnTo>
                      <a:pt x="320" y="1015"/>
                    </a:lnTo>
                    <a:lnTo>
                      <a:pt x="283" y="1095"/>
                    </a:lnTo>
                    <a:lnTo>
                      <a:pt x="247" y="1181"/>
                    </a:lnTo>
                    <a:lnTo>
                      <a:pt x="212" y="1271"/>
                    </a:lnTo>
                    <a:lnTo>
                      <a:pt x="179" y="1366"/>
                    </a:lnTo>
                    <a:lnTo>
                      <a:pt x="156" y="1360"/>
                    </a:lnTo>
                    <a:lnTo>
                      <a:pt x="134" y="1355"/>
                    </a:lnTo>
                    <a:lnTo>
                      <a:pt x="111" y="1351"/>
                    </a:lnTo>
                    <a:lnTo>
                      <a:pt x="90" y="1347"/>
                    </a:lnTo>
                    <a:lnTo>
                      <a:pt x="68" y="1343"/>
                    </a:lnTo>
                    <a:lnTo>
                      <a:pt x="45" y="1337"/>
                    </a:lnTo>
                    <a:lnTo>
                      <a:pt x="23" y="1333"/>
                    </a:lnTo>
                    <a:lnTo>
                      <a:pt x="0" y="1329"/>
                    </a:lnTo>
                    <a:close/>
                  </a:path>
                </a:pathLst>
              </a:custGeom>
              <a:solidFill>
                <a:srgbClr val="d149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899640" y="2181240"/>
                <a:ext cx="2208240" cy="1512000"/>
              </a:xfrm>
              <a:custGeom>
                <a:avLst/>
                <a:gdLst/>
                <a:ahLst/>
                <a:rect l="l" t="t" r="r" b="b"/>
                <a:pathLst>
                  <a:path w="2113" h="1351">
                    <a:moveTo>
                      <a:pt x="0" y="1316"/>
                    </a:moveTo>
                    <a:lnTo>
                      <a:pt x="16" y="1249"/>
                    </a:lnTo>
                    <a:lnTo>
                      <a:pt x="35" y="1183"/>
                    </a:lnTo>
                    <a:lnTo>
                      <a:pt x="57" y="1121"/>
                    </a:lnTo>
                    <a:lnTo>
                      <a:pt x="80" y="1056"/>
                    </a:lnTo>
                    <a:lnTo>
                      <a:pt x="107" y="996"/>
                    </a:lnTo>
                    <a:lnTo>
                      <a:pt x="135" y="935"/>
                    </a:lnTo>
                    <a:lnTo>
                      <a:pt x="166" y="877"/>
                    </a:lnTo>
                    <a:lnTo>
                      <a:pt x="197" y="820"/>
                    </a:lnTo>
                    <a:lnTo>
                      <a:pt x="232" y="764"/>
                    </a:lnTo>
                    <a:lnTo>
                      <a:pt x="269" y="709"/>
                    </a:lnTo>
                    <a:lnTo>
                      <a:pt x="308" y="659"/>
                    </a:lnTo>
                    <a:lnTo>
                      <a:pt x="351" y="606"/>
                    </a:lnTo>
                    <a:lnTo>
                      <a:pt x="394" y="557"/>
                    </a:lnTo>
                    <a:lnTo>
                      <a:pt x="439" y="511"/>
                    </a:lnTo>
                    <a:lnTo>
                      <a:pt x="487" y="466"/>
                    </a:lnTo>
                    <a:lnTo>
                      <a:pt x="538" y="421"/>
                    </a:lnTo>
                    <a:lnTo>
                      <a:pt x="589" y="378"/>
                    </a:lnTo>
                    <a:lnTo>
                      <a:pt x="643" y="339"/>
                    </a:lnTo>
                    <a:lnTo>
                      <a:pt x="698" y="300"/>
                    </a:lnTo>
                    <a:lnTo>
                      <a:pt x="756" y="265"/>
                    </a:lnTo>
                    <a:lnTo>
                      <a:pt x="817" y="230"/>
                    </a:lnTo>
                    <a:lnTo>
                      <a:pt x="877" y="199"/>
                    </a:lnTo>
                    <a:lnTo>
                      <a:pt x="942" y="167"/>
                    </a:lnTo>
                    <a:lnTo>
                      <a:pt x="1006" y="140"/>
                    </a:lnTo>
                    <a:lnTo>
                      <a:pt x="1074" y="115"/>
                    </a:lnTo>
                    <a:lnTo>
                      <a:pt x="1142" y="91"/>
                    </a:lnTo>
                    <a:lnTo>
                      <a:pt x="1214" y="70"/>
                    </a:lnTo>
                    <a:lnTo>
                      <a:pt x="1286" y="51"/>
                    </a:lnTo>
                    <a:lnTo>
                      <a:pt x="1360" y="35"/>
                    </a:lnTo>
                    <a:lnTo>
                      <a:pt x="1436" y="21"/>
                    </a:lnTo>
                    <a:lnTo>
                      <a:pt x="1514" y="10"/>
                    </a:lnTo>
                    <a:lnTo>
                      <a:pt x="1594" y="0"/>
                    </a:lnTo>
                    <a:lnTo>
                      <a:pt x="1627" y="0"/>
                    </a:lnTo>
                    <a:lnTo>
                      <a:pt x="1659" y="0"/>
                    </a:lnTo>
                    <a:lnTo>
                      <a:pt x="1692" y="0"/>
                    </a:lnTo>
                    <a:lnTo>
                      <a:pt x="1725" y="0"/>
                    </a:lnTo>
                    <a:lnTo>
                      <a:pt x="1756" y="0"/>
                    </a:lnTo>
                    <a:lnTo>
                      <a:pt x="1789" y="0"/>
                    </a:lnTo>
                    <a:lnTo>
                      <a:pt x="1820" y="0"/>
                    </a:lnTo>
                    <a:lnTo>
                      <a:pt x="1854" y="0"/>
                    </a:lnTo>
                    <a:lnTo>
                      <a:pt x="1887" y="0"/>
                    </a:lnTo>
                    <a:lnTo>
                      <a:pt x="1918" y="0"/>
                    </a:lnTo>
                    <a:lnTo>
                      <a:pt x="1951" y="0"/>
                    </a:lnTo>
                    <a:lnTo>
                      <a:pt x="1982" y="0"/>
                    </a:lnTo>
                    <a:lnTo>
                      <a:pt x="2015" y="2"/>
                    </a:lnTo>
                    <a:lnTo>
                      <a:pt x="2048" y="2"/>
                    </a:lnTo>
                    <a:lnTo>
                      <a:pt x="2080" y="2"/>
                    </a:lnTo>
                    <a:lnTo>
                      <a:pt x="2113" y="2"/>
                    </a:lnTo>
                    <a:lnTo>
                      <a:pt x="2017" y="21"/>
                    </a:lnTo>
                    <a:lnTo>
                      <a:pt x="1924" y="41"/>
                    </a:lnTo>
                    <a:lnTo>
                      <a:pt x="1834" y="58"/>
                    </a:lnTo>
                    <a:lnTo>
                      <a:pt x="1744" y="78"/>
                    </a:lnTo>
                    <a:lnTo>
                      <a:pt x="1661" y="95"/>
                    </a:lnTo>
                    <a:lnTo>
                      <a:pt x="1577" y="115"/>
                    </a:lnTo>
                    <a:lnTo>
                      <a:pt x="1497" y="134"/>
                    </a:lnTo>
                    <a:lnTo>
                      <a:pt x="1419" y="154"/>
                    </a:lnTo>
                    <a:lnTo>
                      <a:pt x="1343" y="175"/>
                    </a:lnTo>
                    <a:lnTo>
                      <a:pt x="1269" y="199"/>
                    </a:lnTo>
                    <a:lnTo>
                      <a:pt x="1199" y="222"/>
                    </a:lnTo>
                    <a:lnTo>
                      <a:pt x="1131" y="245"/>
                    </a:lnTo>
                    <a:lnTo>
                      <a:pt x="1062" y="273"/>
                    </a:lnTo>
                    <a:lnTo>
                      <a:pt x="998" y="302"/>
                    </a:lnTo>
                    <a:lnTo>
                      <a:pt x="936" y="331"/>
                    </a:lnTo>
                    <a:lnTo>
                      <a:pt x="875" y="364"/>
                    </a:lnTo>
                    <a:lnTo>
                      <a:pt x="817" y="399"/>
                    </a:lnTo>
                    <a:lnTo>
                      <a:pt x="762" y="436"/>
                    </a:lnTo>
                    <a:lnTo>
                      <a:pt x="708" y="477"/>
                    </a:lnTo>
                    <a:lnTo>
                      <a:pt x="655" y="520"/>
                    </a:lnTo>
                    <a:lnTo>
                      <a:pt x="604" y="567"/>
                    </a:lnTo>
                    <a:lnTo>
                      <a:pt x="556" y="618"/>
                    </a:lnTo>
                    <a:lnTo>
                      <a:pt x="509" y="672"/>
                    </a:lnTo>
                    <a:lnTo>
                      <a:pt x="464" y="729"/>
                    </a:lnTo>
                    <a:lnTo>
                      <a:pt x="419" y="791"/>
                    </a:lnTo>
                    <a:lnTo>
                      <a:pt x="378" y="858"/>
                    </a:lnTo>
                    <a:lnTo>
                      <a:pt x="337" y="928"/>
                    </a:lnTo>
                    <a:lnTo>
                      <a:pt x="298" y="1002"/>
                    </a:lnTo>
                    <a:lnTo>
                      <a:pt x="261" y="1082"/>
                    </a:lnTo>
                    <a:lnTo>
                      <a:pt x="226" y="1165"/>
                    </a:lnTo>
                    <a:lnTo>
                      <a:pt x="191" y="1255"/>
                    </a:lnTo>
                    <a:lnTo>
                      <a:pt x="158" y="1351"/>
                    </a:lnTo>
                    <a:lnTo>
                      <a:pt x="139" y="1347"/>
                    </a:lnTo>
                    <a:lnTo>
                      <a:pt x="119" y="1343"/>
                    </a:lnTo>
                    <a:lnTo>
                      <a:pt x="100" y="1339"/>
                    </a:lnTo>
                    <a:lnTo>
                      <a:pt x="80" y="1333"/>
                    </a:lnTo>
                    <a:lnTo>
                      <a:pt x="59" y="1329"/>
                    </a:lnTo>
                    <a:lnTo>
                      <a:pt x="39" y="1325"/>
                    </a:lnTo>
                    <a:lnTo>
                      <a:pt x="20" y="1319"/>
                    </a:lnTo>
                    <a:lnTo>
                      <a:pt x="0" y="1316"/>
                    </a:lnTo>
                    <a:close/>
                  </a:path>
                </a:pathLst>
              </a:custGeom>
              <a:solidFill>
                <a:srgbClr val="e042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98920" y="2181240"/>
                <a:ext cx="2185560" cy="1498320"/>
              </a:xfrm>
              <a:custGeom>
                <a:avLst/>
                <a:gdLst/>
                <a:ahLst/>
                <a:rect l="l" t="t" r="r" b="b"/>
                <a:pathLst>
                  <a:path w="2089" h="1339">
                    <a:moveTo>
                      <a:pt x="0" y="1302"/>
                    </a:moveTo>
                    <a:lnTo>
                      <a:pt x="17" y="1236"/>
                    </a:lnTo>
                    <a:lnTo>
                      <a:pt x="35" y="1169"/>
                    </a:lnTo>
                    <a:lnTo>
                      <a:pt x="58" y="1107"/>
                    </a:lnTo>
                    <a:lnTo>
                      <a:pt x="82" y="1045"/>
                    </a:lnTo>
                    <a:lnTo>
                      <a:pt x="109" y="982"/>
                    </a:lnTo>
                    <a:lnTo>
                      <a:pt x="136" y="924"/>
                    </a:lnTo>
                    <a:lnTo>
                      <a:pt x="169" y="865"/>
                    </a:lnTo>
                    <a:lnTo>
                      <a:pt x="202" y="809"/>
                    </a:lnTo>
                    <a:lnTo>
                      <a:pt x="237" y="752"/>
                    </a:lnTo>
                    <a:lnTo>
                      <a:pt x="276" y="700"/>
                    </a:lnTo>
                    <a:lnTo>
                      <a:pt x="317" y="647"/>
                    </a:lnTo>
                    <a:lnTo>
                      <a:pt x="360" y="596"/>
                    </a:lnTo>
                    <a:lnTo>
                      <a:pt x="405" y="548"/>
                    </a:lnTo>
                    <a:lnTo>
                      <a:pt x="452" y="501"/>
                    </a:lnTo>
                    <a:lnTo>
                      <a:pt x="500" y="456"/>
                    </a:lnTo>
                    <a:lnTo>
                      <a:pt x="551" y="413"/>
                    </a:lnTo>
                    <a:lnTo>
                      <a:pt x="604" y="372"/>
                    </a:lnTo>
                    <a:lnTo>
                      <a:pt x="658" y="333"/>
                    </a:lnTo>
                    <a:lnTo>
                      <a:pt x="717" y="294"/>
                    </a:lnTo>
                    <a:lnTo>
                      <a:pt x="775" y="259"/>
                    </a:lnTo>
                    <a:lnTo>
                      <a:pt x="836" y="226"/>
                    </a:lnTo>
                    <a:lnTo>
                      <a:pt x="898" y="195"/>
                    </a:lnTo>
                    <a:lnTo>
                      <a:pt x="962" y="166"/>
                    </a:lnTo>
                    <a:lnTo>
                      <a:pt x="1029" y="136"/>
                    </a:lnTo>
                    <a:lnTo>
                      <a:pt x="1097" y="113"/>
                    </a:lnTo>
                    <a:lnTo>
                      <a:pt x="1167" y="90"/>
                    </a:lnTo>
                    <a:lnTo>
                      <a:pt x="1237" y="68"/>
                    </a:lnTo>
                    <a:lnTo>
                      <a:pt x="1311" y="51"/>
                    </a:lnTo>
                    <a:lnTo>
                      <a:pt x="1385" y="33"/>
                    </a:lnTo>
                    <a:lnTo>
                      <a:pt x="1461" y="19"/>
                    </a:lnTo>
                    <a:lnTo>
                      <a:pt x="1537" y="10"/>
                    </a:lnTo>
                    <a:lnTo>
                      <a:pt x="1617" y="0"/>
                    </a:lnTo>
                    <a:lnTo>
                      <a:pt x="1646" y="0"/>
                    </a:lnTo>
                    <a:lnTo>
                      <a:pt x="1676" y="0"/>
                    </a:lnTo>
                    <a:lnTo>
                      <a:pt x="1707" y="0"/>
                    </a:lnTo>
                    <a:lnTo>
                      <a:pt x="1736" y="0"/>
                    </a:lnTo>
                    <a:lnTo>
                      <a:pt x="1765" y="0"/>
                    </a:lnTo>
                    <a:lnTo>
                      <a:pt x="1794" y="0"/>
                    </a:lnTo>
                    <a:lnTo>
                      <a:pt x="1824" y="0"/>
                    </a:lnTo>
                    <a:lnTo>
                      <a:pt x="1853" y="0"/>
                    </a:lnTo>
                    <a:lnTo>
                      <a:pt x="1884" y="0"/>
                    </a:lnTo>
                    <a:lnTo>
                      <a:pt x="1913" y="0"/>
                    </a:lnTo>
                    <a:lnTo>
                      <a:pt x="1943" y="0"/>
                    </a:lnTo>
                    <a:lnTo>
                      <a:pt x="1972" y="0"/>
                    </a:lnTo>
                    <a:lnTo>
                      <a:pt x="2001" y="2"/>
                    </a:lnTo>
                    <a:lnTo>
                      <a:pt x="2030" y="2"/>
                    </a:lnTo>
                    <a:lnTo>
                      <a:pt x="2059" y="2"/>
                    </a:lnTo>
                    <a:lnTo>
                      <a:pt x="2089" y="2"/>
                    </a:lnTo>
                    <a:lnTo>
                      <a:pt x="1993" y="21"/>
                    </a:lnTo>
                    <a:lnTo>
                      <a:pt x="1900" y="41"/>
                    </a:lnTo>
                    <a:lnTo>
                      <a:pt x="1810" y="58"/>
                    </a:lnTo>
                    <a:lnTo>
                      <a:pt x="1722" y="76"/>
                    </a:lnTo>
                    <a:lnTo>
                      <a:pt x="1637" y="95"/>
                    </a:lnTo>
                    <a:lnTo>
                      <a:pt x="1553" y="113"/>
                    </a:lnTo>
                    <a:lnTo>
                      <a:pt x="1473" y="132"/>
                    </a:lnTo>
                    <a:lnTo>
                      <a:pt x="1395" y="152"/>
                    </a:lnTo>
                    <a:lnTo>
                      <a:pt x="1319" y="173"/>
                    </a:lnTo>
                    <a:lnTo>
                      <a:pt x="1247" y="195"/>
                    </a:lnTo>
                    <a:lnTo>
                      <a:pt x="1175" y="218"/>
                    </a:lnTo>
                    <a:lnTo>
                      <a:pt x="1107" y="242"/>
                    </a:lnTo>
                    <a:lnTo>
                      <a:pt x="1040" y="267"/>
                    </a:lnTo>
                    <a:lnTo>
                      <a:pt x="976" y="296"/>
                    </a:lnTo>
                    <a:lnTo>
                      <a:pt x="914" y="325"/>
                    </a:lnTo>
                    <a:lnTo>
                      <a:pt x="853" y="357"/>
                    </a:lnTo>
                    <a:lnTo>
                      <a:pt x="797" y="392"/>
                    </a:lnTo>
                    <a:lnTo>
                      <a:pt x="740" y="429"/>
                    </a:lnTo>
                    <a:lnTo>
                      <a:pt x="686" y="470"/>
                    </a:lnTo>
                    <a:lnTo>
                      <a:pt x="633" y="512"/>
                    </a:lnTo>
                    <a:lnTo>
                      <a:pt x="582" y="559"/>
                    </a:lnTo>
                    <a:lnTo>
                      <a:pt x="534" y="608"/>
                    </a:lnTo>
                    <a:lnTo>
                      <a:pt x="487" y="663"/>
                    </a:lnTo>
                    <a:lnTo>
                      <a:pt x="442" y="719"/>
                    </a:lnTo>
                    <a:lnTo>
                      <a:pt x="399" y="780"/>
                    </a:lnTo>
                    <a:lnTo>
                      <a:pt x="358" y="846"/>
                    </a:lnTo>
                    <a:lnTo>
                      <a:pt x="317" y="916"/>
                    </a:lnTo>
                    <a:lnTo>
                      <a:pt x="278" y="990"/>
                    </a:lnTo>
                    <a:lnTo>
                      <a:pt x="241" y="1070"/>
                    </a:lnTo>
                    <a:lnTo>
                      <a:pt x="206" y="1154"/>
                    </a:lnTo>
                    <a:lnTo>
                      <a:pt x="171" y="1243"/>
                    </a:lnTo>
                    <a:lnTo>
                      <a:pt x="138" y="1339"/>
                    </a:lnTo>
                    <a:lnTo>
                      <a:pt x="120" y="1335"/>
                    </a:lnTo>
                    <a:lnTo>
                      <a:pt x="105" y="1329"/>
                    </a:lnTo>
                    <a:lnTo>
                      <a:pt x="87" y="1325"/>
                    </a:lnTo>
                    <a:lnTo>
                      <a:pt x="70" y="1321"/>
                    </a:lnTo>
                    <a:lnTo>
                      <a:pt x="52" y="1318"/>
                    </a:lnTo>
                    <a:lnTo>
                      <a:pt x="35" y="1312"/>
                    </a:lnTo>
                    <a:lnTo>
                      <a:pt x="17" y="1308"/>
                    </a:lnTo>
                    <a:lnTo>
                      <a:pt x="0" y="1302"/>
                    </a:lnTo>
                    <a:close/>
                  </a:path>
                </a:pathLst>
              </a:custGeom>
              <a:solidFill>
                <a:srgbClr val="ef3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899640" y="2181240"/>
                <a:ext cx="2157840" cy="1487160"/>
              </a:xfrm>
              <a:custGeom>
                <a:avLst/>
                <a:gdLst/>
                <a:ahLst/>
                <a:rect l="l" t="t" r="r" b="b"/>
                <a:pathLst>
                  <a:path w="2064" h="1327">
                    <a:moveTo>
                      <a:pt x="0" y="1288"/>
                    </a:moveTo>
                    <a:lnTo>
                      <a:pt x="18" y="1222"/>
                    </a:lnTo>
                    <a:lnTo>
                      <a:pt x="37" y="1158"/>
                    </a:lnTo>
                    <a:lnTo>
                      <a:pt x="58" y="1093"/>
                    </a:lnTo>
                    <a:lnTo>
                      <a:pt x="84" y="1031"/>
                    </a:lnTo>
                    <a:lnTo>
                      <a:pt x="111" y="971"/>
                    </a:lnTo>
                    <a:lnTo>
                      <a:pt x="140" y="912"/>
                    </a:lnTo>
                    <a:lnTo>
                      <a:pt x="171" y="854"/>
                    </a:lnTo>
                    <a:lnTo>
                      <a:pt x="207" y="797"/>
                    </a:lnTo>
                    <a:lnTo>
                      <a:pt x="244" y="743"/>
                    </a:lnTo>
                    <a:lnTo>
                      <a:pt x="283" y="690"/>
                    </a:lnTo>
                    <a:lnTo>
                      <a:pt x="325" y="639"/>
                    </a:lnTo>
                    <a:lnTo>
                      <a:pt x="368" y="589"/>
                    </a:lnTo>
                    <a:lnTo>
                      <a:pt x="415" y="540"/>
                    </a:lnTo>
                    <a:lnTo>
                      <a:pt x="464" y="495"/>
                    </a:lnTo>
                    <a:lnTo>
                      <a:pt x="514" y="450"/>
                    </a:lnTo>
                    <a:lnTo>
                      <a:pt x="565" y="407"/>
                    </a:lnTo>
                    <a:lnTo>
                      <a:pt x="620" y="366"/>
                    </a:lnTo>
                    <a:lnTo>
                      <a:pt x="676" y="327"/>
                    </a:lnTo>
                    <a:lnTo>
                      <a:pt x="735" y="290"/>
                    </a:lnTo>
                    <a:lnTo>
                      <a:pt x="795" y="255"/>
                    </a:lnTo>
                    <a:lnTo>
                      <a:pt x="855" y="222"/>
                    </a:lnTo>
                    <a:lnTo>
                      <a:pt x="920" y="191"/>
                    </a:lnTo>
                    <a:lnTo>
                      <a:pt x="984" y="162"/>
                    </a:lnTo>
                    <a:lnTo>
                      <a:pt x="1052" y="136"/>
                    </a:lnTo>
                    <a:lnTo>
                      <a:pt x="1121" y="111"/>
                    </a:lnTo>
                    <a:lnTo>
                      <a:pt x="1191" y="88"/>
                    </a:lnTo>
                    <a:lnTo>
                      <a:pt x="1261" y="68"/>
                    </a:lnTo>
                    <a:lnTo>
                      <a:pt x="1335" y="49"/>
                    </a:lnTo>
                    <a:lnTo>
                      <a:pt x="1409" y="33"/>
                    </a:lnTo>
                    <a:lnTo>
                      <a:pt x="1483" y="19"/>
                    </a:lnTo>
                    <a:lnTo>
                      <a:pt x="1561" y="10"/>
                    </a:lnTo>
                    <a:lnTo>
                      <a:pt x="1639" y="0"/>
                    </a:lnTo>
                    <a:lnTo>
                      <a:pt x="2064" y="2"/>
                    </a:lnTo>
                    <a:lnTo>
                      <a:pt x="1968" y="21"/>
                    </a:lnTo>
                    <a:lnTo>
                      <a:pt x="1875" y="41"/>
                    </a:lnTo>
                    <a:lnTo>
                      <a:pt x="1785" y="58"/>
                    </a:lnTo>
                    <a:lnTo>
                      <a:pt x="1697" y="76"/>
                    </a:lnTo>
                    <a:lnTo>
                      <a:pt x="1612" y="93"/>
                    </a:lnTo>
                    <a:lnTo>
                      <a:pt x="1530" y="113"/>
                    </a:lnTo>
                    <a:lnTo>
                      <a:pt x="1448" y="130"/>
                    </a:lnTo>
                    <a:lnTo>
                      <a:pt x="1372" y="150"/>
                    </a:lnTo>
                    <a:lnTo>
                      <a:pt x="1296" y="171"/>
                    </a:lnTo>
                    <a:lnTo>
                      <a:pt x="1222" y="191"/>
                    </a:lnTo>
                    <a:lnTo>
                      <a:pt x="1152" y="214"/>
                    </a:lnTo>
                    <a:lnTo>
                      <a:pt x="1083" y="238"/>
                    </a:lnTo>
                    <a:lnTo>
                      <a:pt x="1017" y="263"/>
                    </a:lnTo>
                    <a:lnTo>
                      <a:pt x="953" y="290"/>
                    </a:lnTo>
                    <a:lnTo>
                      <a:pt x="891" y="320"/>
                    </a:lnTo>
                    <a:lnTo>
                      <a:pt x="832" y="351"/>
                    </a:lnTo>
                    <a:lnTo>
                      <a:pt x="774" y="386"/>
                    </a:lnTo>
                    <a:lnTo>
                      <a:pt x="717" y="421"/>
                    </a:lnTo>
                    <a:lnTo>
                      <a:pt x="665" y="462"/>
                    </a:lnTo>
                    <a:lnTo>
                      <a:pt x="612" y="503"/>
                    </a:lnTo>
                    <a:lnTo>
                      <a:pt x="561" y="550"/>
                    </a:lnTo>
                    <a:lnTo>
                      <a:pt x="513" y="598"/>
                    </a:lnTo>
                    <a:lnTo>
                      <a:pt x="466" y="651"/>
                    </a:lnTo>
                    <a:lnTo>
                      <a:pt x="421" y="707"/>
                    </a:lnTo>
                    <a:lnTo>
                      <a:pt x="378" y="770"/>
                    </a:lnTo>
                    <a:lnTo>
                      <a:pt x="337" y="834"/>
                    </a:lnTo>
                    <a:lnTo>
                      <a:pt x="296" y="904"/>
                    </a:lnTo>
                    <a:lnTo>
                      <a:pt x="257" y="978"/>
                    </a:lnTo>
                    <a:lnTo>
                      <a:pt x="220" y="1058"/>
                    </a:lnTo>
                    <a:lnTo>
                      <a:pt x="185" y="1142"/>
                    </a:lnTo>
                    <a:lnTo>
                      <a:pt x="150" y="1232"/>
                    </a:lnTo>
                    <a:lnTo>
                      <a:pt x="117" y="1327"/>
                    </a:lnTo>
                    <a:lnTo>
                      <a:pt x="0" y="1288"/>
                    </a:lnTo>
                    <a:close/>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707040" y="2176560"/>
                <a:ext cx="2314440" cy="1603800"/>
              </a:xfrm>
              <a:custGeom>
                <a:avLst/>
                <a:gdLst/>
                <a:ahLst/>
                <a:rect l="l" t="t" r="r" b="b"/>
                <a:pathLst>
                  <a:path w="2216" h="1433">
                    <a:moveTo>
                      <a:pt x="0" y="1417"/>
                    </a:moveTo>
                    <a:lnTo>
                      <a:pt x="29" y="1337"/>
                    </a:lnTo>
                    <a:lnTo>
                      <a:pt x="61" y="1261"/>
                    </a:lnTo>
                    <a:lnTo>
                      <a:pt x="92" y="1187"/>
                    </a:lnTo>
                    <a:lnTo>
                      <a:pt x="125" y="1115"/>
                    </a:lnTo>
                    <a:lnTo>
                      <a:pt x="158" y="1047"/>
                    </a:lnTo>
                    <a:lnTo>
                      <a:pt x="193" y="980"/>
                    </a:lnTo>
                    <a:lnTo>
                      <a:pt x="228" y="916"/>
                    </a:lnTo>
                    <a:lnTo>
                      <a:pt x="265" y="856"/>
                    </a:lnTo>
                    <a:lnTo>
                      <a:pt x="302" y="797"/>
                    </a:lnTo>
                    <a:lnTo>
                      <a:pt x="343" y="741"/>
                    </a:lnTo>
                    <a:lnTo>
                      <a:pt x="382" y="688"/>
                    </a:lnTo>
                    <a:lnTo>
                      <a:pt x="425" y="635"/>
                    </a:lnTo>
                    <a:lnTo>
                      <a:pt x="468" y="587"/>
                    </a:lnTo>
                    <a:lnTo>
                      <a:pt x="513" y="540"/>
                    </a:lnTo>
                    <a:lnTo>
                      <a:pt x="559" y="495"/>
                    </a:lnTo>
                    <a:lnTo>
                      <a:pt x="608" y="452"/>
                    </a:lnTo>
                    <a:lnTo>
                      <a:pt x="659" y="411"/>
                    </a:lnTo>
                    <a:lnTo>
                      <a:pt x="709" y="372"/>
                    </a:lnTo>
                    <a:lnTo>
                      <a:pt x="762" y="335"/>
                    </a:lnTo>
                    <a:lnTo>
                      <a:pt x="819" y="300"/>
                    </a:lnTo>
                    <a:lnTo>
                      <a:pt x="875" y="267"/>
                    </a:lnTo>
                    <a:lnTo>
                      <a:pt x="934" y="236"/>
                    </a:lnTo>
                    <a:lnTo>
                      <a:pt x="994" y="207"/>
                    </a:lnTo>
                    <a:lnTo>
                      <a:pt x="1058" y="177"/>
                    </a:lnTo>
                    <a:lnTo>
                      <a:pt x="1123" y="150"/>
                    </a:lnTo>
                    <a:lnTo>
                      <a:pt x="1191" y="125"/>
                    </a:lnTo>
                    <a:lnTo>
                      <a:pt x="1259" y="101"/>
                    </a:lnTo>
                    <a:lnTo>
                      <a:pt x="1331" y="78"/>
                    </a:lnTo>
                    <a:lnTo>
                      <a:pt x="1405" y="56"/>
                    </a:lnTo>
                    <a:lnTo>
                      <a:pt x="1483" y="37"/>
                    </a:lnTo>
                    <a:lnTo>
                      <a:pt x="1561" y="17"/>
                    </a:lnTo>
                    <a:lnTo>
                      <a:pt x="1643" y="0"/>
                    </a:lnTo>
                    <a:lnTo>
                      <a:pt x="2216" y="8"/>
                    </a:lnTo>
                    <a:lnTo>
                      <a:pt x="2124" y="21"/>
                    </a:lnTo>
                    <a:lnTo>
                      <a:pt x="2037" y="37"/>
                    </a:lnTo>
                    <a:lnTo>
                      <a:pt x="1949" y="51"/>
                    </a:lnTo>
                    <a:lnTo>
                      <a:pt x="1863" y="66"/>
                    </a:lnTo>
                    <a:lnTo>
                      <a:pt x="1779" y="80"/>
                    </a:lnTo>
                    <a:lnTo>
                      <a:pt x="1697" y="97"/>
                    </a:lnTo>
                    <a:lnTo>
                      <a:pt x="1618" y="115"/>
                    </a:lnTo>
                    <a:lnTo>
                      <a:pt x="1538" y="132"/>
                    </a:lnTo>
                    <a:lnTo>
                      <a:pt x="1462" y="152"/>
                    </a:lnTo>
                    <a:lnTo>
                      <a:pt x="1386" y="173"/>
                    </a:lnTo>
                    <a:lnTo>
                      <a:pt x="1314" y="197"/>
                    </a:lnTo>
                    <a:lnTo>
                      <a:pt x="1241" y="222"/>
                    </a:lnTo>
                    <a:lnTo>
                      <a:pt x="1171" y="249"/>
                    </a:lnTo>
                    <a:lnTo>
                      <a:pt x="1103" y="279"/>
                    </a:lnTo>
                    <a:lnTo>
                      <a:pt x="1035" y="310"/>
                    </a:lnTo>
                    <a:lnTo>
                      <a:pt x="971" y="345"/>
                    </a:lnTo>
                    <a:lnTo>
                      <a:pt x="906" y="382"/>
                    </a:lnTo>
                    <a:lnTo>
                      <a:pt x="844" y="423"/>
                    </a:lnTo>
                    <a:lnTo>
                      <a:pt x="784" y="468"/>
                    </a:lnTo>
                    <a:lnTo>
                      <a:pt x="725" y="516"/>
                    </a:lnTo>
                    <a:lnTo>
                      <a:pt x="667" y="567"/>
                    </a:lnTo>
                    <a:lnTo>
                      <a:pt x="610" y="622"/>
                    </a:lnTo>
                    <a:lnTo>
                      <a:pt x="556" y="682"/>
                    </a:lnTo>
                    <a:lnTo>
                      <a:pt x="503" y="745"/>
                    </a:lnTo>
                    <a:lnTo>
                      <a:pt x="450" y="813"/>
                    </a:lnTo>
                    <a:lnTo>
                      <a:pt x="400" y="887"/>
                    </a:lnTo>
                    <a:lnTo>
                      <a:pt x="351" y="965"/>
                    </a:lnTo>
                    <a:lnTo>
                      <a:pt x="304" y="1047"/>
                    </a:lnTo>
                    <a:lnTo>
                      <a:pt x="257" y="1134"/>
                    </a:lnTo>
                    <a:lnTo>
                      <a:pt x="213" y="1228"/>
                    </a:lnTo>
                    <a:lnTo>
                      <a:pt x="170" y="1327"/>
                    </a:lnTo>
                    <a:lnTo>
                      <a:pt x="127" y="1433"/>
                    </a:lnTo>
                    <a:lnTo>
                      <a:pt x="0" y="141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518760" y="2179080"/>
                <a:ext cx="2218680" cy="1706400"/>
              </a:xfrm>
              <a:custGeom>
                <a:avLst/>
                <a:gdLst/>
                <a:ahLst/>
                <a:rect l="l" t="t" r="r" b="b"/>
                <a:pathLst>
                  <a:path w="2122" h="1524">
                    <a:moveTo>
                      <a:pt x="0" y="1470"/>
                    </a:moveTo>
                    <a:lnTo>
                      <a:pt x="37" y="1388"/>
                    </a:lnTo>
                    <a:lnTo>
                      <a:pt x="76" y="1310"/>
                    </a:lnTo>
                    <a:lnTo>
                      <a:pt x="115" y="1236"/>
                    </a:lnTo>
                    <a:lnTo>
                      <a:pt x="156" y="1164"/>
                    </a:lnTo>
                    <a:lnTo>
                      <a:pt x="199" y="1093"/>
                    </a:lnTo>
                    <a:lnTo>
                      <a:pt x="244" y="1025"/>
                    </a:lnTo>
                    <a:lnTo>
                      <a:pt x="288" y="961"/>
                    </a:lnTo>
                    <a:lnTo>
                      <a:pt x="335" y="898"/>
                    </a:lnTo>
                    <a:lnTo>
                      <a:pt x="384" y="838"/>
                    </a:lnTo>
                    <a:lnTo>
                      <a:pt x="435" y="782"/>
                    </a:lnTo>
                    <a:lnTo>
                      <a:pt x="485" y="727"/>
                    </a:lnTo>
                    <a:lnTo>
                      <a:pt x="540" y="674"/>
                    </a:lnTo>
                    <a:lnTo>
                      <a:pt x="594" y="624"/>
                    </a:lnTo>
                    <a:lnTo>
                      <a:pt x="651" y="575"/>
                    </a:lnTo>
                    <a:lnTo>
                      <a:pt x="709" y="528"/>
                    </a:lnTo>
                    <a:lnTo>
                      <a:pt x="772" y="483"/>
                    </a:lnTo>
                    <a:lnTo>
                      <a:pt x="834" y="442"/>
                    </a:lnTo>
                    <a:lnTo>
                      <a:pt x="898" y="401"/>
                    </a:lnTo>
                    <a:lnTo>
                      <a:pt x="965" y="362"/>
                    </a:lnTo>
                    <a:lnTo>
                      <a:pt x="1033" y="325"/>
                    </a:lnTo>
                    <a:lnTo>
                      <a:pt x="1103" y="290"/>
                    </a:lnTo>
                    <a:lnTo>
                      <a:pt x="1175" y="257"/>
                    </a:lnTo>
                    <a:lnTo>
                      <a:pt x="1251" y="226"/>
                    </a:lnTo>
                    <a:lnTo>
                      <a:pt x="1327" y="195"/>
                    </a:lnTo>
                    <a:lnTo>
                      <a:pt x="1407" y="168"/>
                    </a:lnTo>
                    <a:lnTo>
                      <a:pt x="1489" y="140"/>
                    </a:lnTo>
                    <a:lnTo>
                      <a:pt x="1573" y="115"/>
                    </a:lnTo>
                    <a:lnTo>
                      <a:pt x="1658" y="90"/>
                    </a:lnTo>
                    <a:lnTo>
                      <a:pt x="1746" y="66"/>
                    </a:lnTo>
                    <a:lnTo>
                      <a:pt x="1838" y="45"/>
                    </a:lnTo>
                    <a:lnTo>
                      <a:pt x="1931" y="23"/>
                    </a:lnTo>
                    <a:lnTo>
                      <a:pt x="2027" y="4"/>
                    </a:lnTo>
                    <a:lnTo>
                      <a:pt x="2114" y="0"/>
                    </a:lnTo>
                    <a:lnTo>
                      <a:pt x="2120" y="33"/>
                    </a:lnTo>
                    <a:lnTo>
                      <a:pt x="2122" y="86"/>
                    </a:lnTo>
                    <a:lnTo>
                      <a:pt x="2118" y="136"/>
                    </a:lnTo>
                    <a:lnTo>
                      <a:pt x="2110" y="160"/>
                    </a:lnTo>
                    <a:lnTo>
                      <a:pt x="2034" y="177"/>
                    </a:lnTo>
                    <a:lnTo>
                      <a:pt x="1958" y="197"/>
                    </a:lnTo>
                    <a:lnTo>
                      <a:pt x="1884" y="214"/>
                    </a:lnTo>
                    <a:lnTo>
                      <a:pt x="1812" y="234"/>
                    </a:lnTo>
                    <a:lnTo>
                      <a:pt x="1742" y="251"/>
                    </a:lnTo>
                    <a:lnTo>
                      <a:pt x="1672" y="271"/>
                    </a:lnTo>
                    <a:lnTo>
                      <a:pt x="1604" y="292"/>
                    </a:lnTo>
                    <a:lnTo>
                      <a:pt x="1536" y="312"/>
                    </a:lnTo>
                    <a:lnTo>
                      <a:pt x="1469" y="335"/>
                    </a:lnTo>
                    <a:lnTo>
                      <a:pt x="1405" y="357"/>
                    </a:lnTo>
                    <a:lnTo>
                      <a:pt x="1341" y="382"/>
                    </a:lnTo>
                    <a:lnTo>
                      <a:pt x="1278" y="407"/>
                    </a:lnTo>
                    <a:lnTo>
                      <a:pt x="1218" y="437"/>
                    </a:lnTo>
                    <a:lnTo>
                      <a:pt x="1156" y="466"/>
                    </a:lnTo>
                    <a:lnTo>
                      <a:pt x="1097" y="497"/>
                    </a:lnTo>
                    <a:lnTo>
                      <a:pt x="1039" y="532"/>
                    </a:lnTo>
                    <a:lnTo>
                      <a:pt x="980" y="567"/>
                    </a:lnTo>
                    <a:lnTo>
                      <a:pt x="924" y="606"/>
                    </a:lnTo>
                    <a:lnTo>
                      <a:pt x="869" y="649"/>
                    </a:lnTo>
                    <a:lnTo>
                      <a:pt x="815" y="694"/>
                    </a:lnTo>
                    <a:lnTo>
                      <a:pt x="760" y="741"/>
                    </a:lnTo>
                    <a:lnTo>
                      <a:pt x="707" y="793"/>
                    </a:lnTo>
                    <a:lnTo>
                      <a:pt x="655" y="848"/>
                    </a:lnTo>
                    <a:lnTo>
                      <a:pt x="602" y="906"/>
                    </a:lnTo>
                    <a:lnTo>
                      <a:pt x="551" y="969"/>
                    </a:lnTo>
                    <a:lnTo>
                      <a:pt x="503" y="1033"/>
                    </a:lnTo>
                    <a:lnTo>
                      <a:pt x="452" y="1105"/>
                    </a:lnTo>
                    <a:lnTo>
                      <a:pt x="405" y="1179"/>
                    </a:lnTo>
                    <a:lnTo>
                      <a:pt x="357" y="1257"/>
                    </a:lnTo>
                    <a:lnTo>
                      <a:pt x="310" y="1341"/>
                    </a:lnTo>
                    <a:lnTo>
                      <a:pt x="263" y="1431"/>
                    </a:lnTo>
                    <a:lnTo>
                      <a:pt x="216" y="1524"/>
                    </a:lnTo>
                    <a:lnTo>
                      <a:pt x="0" y="147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535680" y="2174760"/>
                <a:ext cx="2354400" cy="1650600"/>
              </a:xfrm>
              <a:custGeom>
                <a:avLst/>
                <a:gdLst/>
                <a:ahLst/>
                <a:rect l="l" t="t" r="r" b="b"/>
                <a:pathLst>
                  <a:path w="2253" h="1474">
                    <a:moveTo>
                      <a:pt x="0" y="1419"/>
                    </a:moveTo>
                    <a:lnTo>
                      <a:pt x="27" y="1343"/>
                    </a:lnTo>
                    <a:lnTo>
                      <a:pt x="56" y="1271"/>
                    </a:lnTo>
                    <a:lnTo>
                      <a:pt x="86" y="1201"/>
                    </a:lnTo>
                    <a:lnTo>
                      <a:pt x="117" y="1132"/>
                    </a:lnTo>
                    <a:lnTo>
                      <a:pt x="150" y="1066"/>
                    </a:lnTo>
                    <a:lnTo>
                      <a:pt x="183" y="1002"/>
                    </a:lnTo>
                    <a:lnTo>
                      <a:pt x="220" y="940"/>
                    </a:lnTo>
                    <a:lnTo>
                      <a:pt x="257" y="881"/>
                    </a:lnTo>
                    <a:lnTo>
                      <a:pt x="298" y="825"/>
                    </a:lnTo>
                    <a:lnTo>
                      <a:pt x="339" y="768"/>
                    </a:lnTo>
                    <a:lnTo>
                      <a:pt x="382" y="715"/>
                    </a:lnTo>
                    <a:lnTo>
                      <a:pt x="427" y="665"/>
                    </a:lnTo>
                    <a:lnTo>
                      <a:pt x="473" y="614"/>
                    </a:lnTo>
                    <a:lnTo>
                      <a:pt x="524" y="567"/>
                    </a:lnTo>
                    <a:lnTo>
                      <a:pt x="575" y="522"/>
                    </a:lnTo>
                    <a:lnTo>
                      <a:pt x="627" y="478"/>
                    </a:lnTo>
                    <a:lnTo>
                      <a:pt x="684" y="437"/>
                    </a:lnTo>
                    <a:lnTo>
                      <a:pt x="742" y="398"/>
                    </a:lnTo>
                    <a:lnTo>
                      <a:pt x="803" y="359"/>
                    </a:lnTo>
                    <a:lnTo>
                      <a:pt x="865" y="322"/>
                    </a:lnTo>
                    <a:lnTo>
                      <a:pt x="931" y="287"/>
                    </a:lnTo>
                    <a:lnTo>
                      <a:pt x="999" y="253"/>
                    </a:lnTo>
                    <a:lnTo>
                      <a:pt x="1070" y="222"/>
                    </a:lnTo>
                    <a:lnTo>
                      <a:pt x="1144" y="191"/>
                    </a:lnTo>
                    <a:lnTo>
                      <a:pt x="1220" y="164"/>
                    </a:lnTo>
                    <a:lnTo>
                      <a:pt x="1298" y="136"/>
                    </a:lnTo>
                    <a:lnTo>
                      <a:pt x="1379" y="109"/>
                    </a:lnTo>
                    <a:lnTo>
                      <a:pt x="1463" y="86"/>
                    </a:lnTo>
                    <a:lnTo>
                      <a:pt x="1551" y="62"/>
                    </a:lnTo>
                    <a:lnTo>
                      <a:pt x="1643" y="41"/>
                    </a:lnTo>
                    <a:lnTo>
                      <a:pt x="1736" y="19"/>
                    </a:lnTo>
                    <a:lnTo>
                      <a:pt x="1834" y="0"/>
                    </a:lnTo>
                    <a:lnTo>
                      <a:pt x="2253" y="10"/>
                    </a:lnTo>
                    <a:lnTo>
                      <a:pt x="2159" y="25"/>
                    </a:lnTo>
                    <a:lnTo>
                      <a:pt x="2067" y="43"/>
                    </a:lnTo>
                    <a:lnTo>
                      <a:pt x="1978" y="60"/>
                    </a:lnTo>
                    <a:lnTo>
                      <a:pt x="1888" y="78"/>
                    </a:lnTo>
                    <a:lnTo>
                      <a:pt x="1800" y="96"/>
                    </a:lnTo>
                    <a:lnTo>
                      <a:pt x="1715" y="115"/>
                    </a:lnTo>
                    <a:lnTo>
                      <a:pt x="1629" y="136"/>
                    </a:lnTo>
                    <a:lnTo>
                      <a:pt x="1545" y="158"/>
                    </a:lnTo>
                    <a:lnTo>
                      <a:pt x="1461" y="181"/>
                    </a:lnTo>
                    <a:lnTo>
                      <a:pt x="1381" y="205"/>
                    </a:lnTo>
                    <a:lnTo>
                      <a:pt x="1302" y="232"/>
                    </a:lnTo>
                    <a:lnTo>
                      <a:pt x="1226" y="261"/>
                    </a:lnTo>
                    <a:lnTo>
                      <a:pt x="1150" y="290"/>
                    </a:lnTo>
                    <a:lnTo>
                      <a:pt x="1075" y="324"/>
                    </a:lnTo>
                    <a:lnTo>
                      <a:pt x="1003" y="359"/>
                    </a:lnTo>
                    <a:lnTo>
                      <a:pt x="933" y="396"/>
                    </a:lnTo>
                    <a:lnTo>
                      <a:pt x="865" y="437"/>
                    </a:lnTo>
                    <a:lnTo>
                      <a:pt x="799" y="480"/>
                    </a:lnTo>
                    <a:lnTo>
                      <a:pt x="734" y="526"/>
                    </a:lnTo>
                    <a:lnTo>
                      <a:pt x="674" y="575"/>
                    </a:lnTo>
                    <a:lnTo>
                      <a:pt x="614" y="630"/>
                    </a:lnTo>
                    <a:lnTo>
                      <a:pt x="557" y="684"/>
                    </a:lnTo>
                    <a:lnTo>
                      <a:pt x="503" y="745"/>
                    </a:lnTo>
                    <a:lnTo>
                      <a:pt x="450" y="809"/>
                    </a:lnTo>
                    <a:lnTo>
                      <a:pt x="399" y="875"/>
                    </a:lnTo>
                    <a:lnTo>
                      <a:pt x="353" y="947"/>
                    </a:lnTo>
                    <a:lnTo>
                      <a:pt x="308" y="1023"/>
                    </a:lnTo>
                    <a:lnTo>
                      <a:pt x="267" y="1105"/>
                    </a:lnTo>
                    <a:lnTo>
                      <a:pt x="228" y="1189"/>
                    </a:lnTo>
                    <a:lnTo>
                      <a:pt x="191" y="1279"/>
                    </a:lnTo>
                    <a:lnTo>
                      <a:pt x="158" y="1374"/>
                    </a:lnTo>
                    <a:lnTo>
                      <a:pt x="126" y="1474"/>
                    </a:lnTo>
                    <a:lnTo>
                      <a:pt x="0" y="1419"/>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19120" y="2176560"/>
                <a:ext cx="2275200" cy="1637280"/>
              </a:xfrm>
              <a:custGeom>
                <a:avLst/>
                <a:gdLst/>
                <a:ahLst/>
                <a:rect l="l" t="t" r="r" b="b"/>
                <a:pathLst>
                  <a:path w="2177" h="1462">
                    <a:moveTo>
                      <a:pt x="0" y="1433"/>
                    </a:moveTo>
                    <a:lnTo>
                      <a:pt x="30" y="1353"/>
                    </a:lnTo>
                    <a:lnTo>
                      <a:pt x="61" y="1277"/>
                    </a:lnTo>
                    <a:lnTo>
                      <a:pt x="94" y="1203"/>
                    </a:lnTo>
                    <a:lnTo>
                      <a:pt x="127" y="1132"/>
                    </a:lnTo>
                    <a:lnTo>
                      <a:pt x="162" y="1064"/>
                    </a:lnTo>
                    <a:lnTo>
                      <a:pt x="201" y="998"/>
                    </a:lnTo>
                    <a:lnTo>
                      <a:pt x="238" y="938"/>
                    </a:lnTo>
                    <a:lnTo>
                      <a:pt x="279" y="877"/>
                    </a:lnTo>
                    <a:lnTo>
                      <a:pt x="322" y="821"/>
                    </a:lnTo>
                    <a:lnTo>
                      <a:pt x="367" y="766"/>
                    </a:lnTo>
                    <a:lnTo>
                      <a:pt x="414" y="713"/>
                    </a:lnTo>
                    <a:lnTo>
                      <a:pt x="462" y="663"/>
                    </a:lnTo>
                    <a:lnTo>
                      <a:pt x="513" y="616"/>
                    </a:lnTo>
                    <a:lnTo>
                      <a:pt x="566" y="569"/>
                    </a:lnTo>
                    <a:lnTo>
                      <a:pt x="620" y="526"/>
                    </a:lnTo>
                    <a:lnTo>
                      <a:pt x="679" y="483"/>
                    </a:lnTo>
                    <a:lnTo>
                      <a:pt x="737" y="444"/>
                    </a:lnTo>
                    <a:lnTo>
                      <a:pt x="799" y="405"/>
                    </a:lnTo>
                    <a:lnTo>
                      <a:pt x="866" y="368"/>
                    </a:lnTo>
                    <a:lnTo>
                      <a:pt x="932" y="335"/>
                    </a:lnTo>
                    <a:lnTo>
                      <a:pt x="1004" y="300"/>
                    </a:lnTo>
                    <a:lnTo>
                      <a:pt x="1076" y="269"/>
                    </a:lnTo>
                    <a:lnTo>
                      <a:pt x="1152" y="238"/>
                    </a:lnTo>
                    <a:lnTo>
                      <a:pt x="1232" y="209"/>
                    </a:lnTo>
                    <a:lnTo>
                      <a:pt x="1314" y="179"/>
                    </a:lnTo>
                    <a:lnTo>
                      <a:pt x="1400" y="152"/>
                    </a:lnTo>
                    <a:lnTo>
                      <a:pt x="1487" y="127"/>
                    </a:lnTo>
                    <a:lnTo>
                      <a:pt x="1579" y="101"/>
                    </a:lnTo>
                    <a:lnTo>
                      <a:pt x="1674" y="76"/>
                    </a:lnTo>
                    <a:lnTo>
                      <a:pt x="1774" y="53"/>
                    </a:lnTo>
                    <a:lnTo>
                      <a:pt x="1875" y="29"/>
                    </a:lnTo>
                    <a:lnTo>
                      <a:pt x="1980" y="6"/>
                    </a:lnTo>
                    <a:lnTo>
                      <a:pt x="2177" y="0"/>
                    </a:lnTo>
                    <a:lnTo>
                      <a:pt x="2177" y="41"/>
                    </a:lnTo>
                    <a:lnTo>
                      <a:pt x="2175" y="41"/>
                    </a:lnTo>
                    <a:lnTo>
                      <a:pt x="2167" y="43"/>
                    </a:lnTo>
                    <a:lnTo>
                      <a:pt x="2156" y="45"/>
                    </a:lnTo>
                    <a:lnTo>
                      <a:pt x="2138" y="49"/>
                    </a:lnTo>
                    <a:lnTo>
                      <a:pt x="2117" y="53"/>
                    </a:lnTo>
                    <a:lnTo>
                      <a:pt x="2093" y="58"/>
                    </a:lnTo>
                    <a:lnTo>
                      <a:pt x="2064" y="64"/>
                    </a:lnTo>
                    <a:lnTo>
                      <a:pt x="2031" y="70"/>
                    </a:lnTo>
                    <a:lnTo>
                      <a:pt x="1996" y="78"/>
                    </a:lnTo>
                    <a:lnTo>
                      <a:pt x="1957" y="88"/>
                    </a:lnTo>
                    <a:lnTo>
                      <a:pt x="1916" y="97"/>
                    </a:lnTo>
                    <a:lnTo>
                      <a:pt x="1871" y="109"/>
                    </a:lnTo>
                    <a:lnTo>
                      <a:pt x="1824" y="121"/>
                    </a:lnTo>
                    <a:lnTo>
                      <a:pt x="1776" y="134"/>
                    </a:lnTo>
                    <a:lnTo>
                      <a:pt x="1725" y="150"/>
                    </a:lnTo>
                    <a:lnTo>
                      <a:pt x="1670" y="164"/>
                    </a:lnTo>
                    <a:lnTo>
                      <a:pt x="1616" y="181"/>
                    </a:lnTo>
                    <a:lnTo>
                      <a:pt x="1561" y="199"/>
                    </a:lnTo>
                    <a:lnTo>
                      <a:pt x="1503" y="218"/>
                    </a:lnTo>
                    <a:lnTo>
                      <a:pt x="1444" y="240"/>
                    </a:lnTo>
                    <a:lnTo>
                      <a:pt x="1386" y="261"/>
                    </a:lnTo>
                    <a:lnTo>
                      <a:pt x="1327" y="283"/>
                    </a:lnTo>
                    <a:lnTo>
                      <a:pt x="1267" y="308"/>
                    </a:lnTo>
                    <a:lnTo>
                      <a:pt x="1209" y="333"/>
                    </a:lnTo>
                    <a:lnTo>
                      <a:pt x="1148" y="361"/>
                    </a:lnTo>
                    <a:lnTo>
                      <a:pt x="1090" y="388"/>
                    </a:lnTo>
                    <a:lnTo>
                      <a:pt x="1031" y="417"/>
                    </a:lnTo>
                    <a:lnTo>
                      <a:pt x="973" y="448"/>
                    </a:lnTo>
                    <a:lnTo>
                      <a:pt x="916" y="481"/>
                    </a:lnTo>
                    <a:lnTo>
                      <a:pt x="862" y="515"/>
                    </a:lnTo>
                    <a:lnTo>
                      <a:pt x="807" y="550"/>
                    </a:lnTo>
                    <a:lnTo>
                      <a:pt x="755" y="587"/>
                    </a:lnTo>
                    <a:lnTo>
                      <a:pt x="702" y="626"/>
                    </a:lnTo>
                    <a:lnTo>
                      <a:pt x="651" y="669"/>
                    </a:lnTo>
                    <a:lnTo>
                      <a:pt x="601" y="711"/>
                    </a:lnTo>
                    <a:lnTo>
                      <a:pt x="552" y="758"/>
                    </a:lnTo>
                    <a:lnTo>
                      <a:pt x="503" y="807"/>
                    </a:lnTo>
                    <a:lnTo>
                      <a:pt x="458" y="858"/>
                    </a:lnTo>
                    <a:lnTo>
                      <a:pt x="414" y="910"/>
                    </a:lnTo>
                    <a:lnTo>
                      <a:pt x="373" y="965"/>
                    </a:lnTo>
                    <a:lnTo>
                      <a:pt x="332" y="1021"/>
                    </a:lnTo>
                    <a:lnTo>
                      <a:pt x="295" y="1080"/>
                    </a:lnTo>
                    <a:lnTo>
                      <a:pt x="260" y="1138"/>
                    </a:lnTo>
                    <a:lnTo>
                      <a:pt x="228" y="1201"/>
                    </a:lnTo>
                    <a:lnTo>
                      <a:pt x="199" y="1263"/>
                    </a:lnTo>
                    <a:lnTo>
                      <a:pt x="174" y="1329"/>
                    </a:lnTo>
                    <a:lnTo>
                      <a:pt x="152" y="1394"/>
                    </a:lnTo>
                    <a:lnTo>
                      <a:pt x="133" y="1462"/>
                    </a:lnTo>
                    <a:lnTo>
                      <a:pt x="0" y="1433"/>
                    </a:lnTo>
                    <a:close/>
                  </a:path>
                </a:pathLst>
              </a:custGeom>
              <a:solidFill>
                <a:srgbClr val="33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523080" y="2336040"/>
                <a:ext cx="2032200" cy="1908000"/>
              </a:xfrm>
              <a:custGeom>
                <a:avLst/>
                <a:gdLst/>
                <a:ahLst/>
                <a:rect l="l" t="t" r="r" b="b"/>
                <a:pathLst>
                  <a:path w="1945" h="1704">
                    <a:moveTo>
                      <a:pt x="0" y="1476"/>
                    </a:moveTo>
                    <a:lnTo>
                      <a:pt x="28" y="1398"/>
                    </a:lnTo>
                    <a:lnTo>
                      <a:pt x="57" y="1324"/>
                    </a:lnTo>
                    <a:lnTo>
                      <a:pt x="88" y="1250"/>
                    </a:lnTo>
                    <a:lnTo>
                      <a:pt x="119" y="1181"/>
                    </a:lnTo>
                    <a:lnTo>
                      <a:pt x="154" y="1113"/>
                    </a:lnTo>
                    <a:lnTo>
                      <a:pt x="189" y="1047"/>
                    </a:lnTo>
                    <a:lnTo>
                      <a:pt x="228" y="985"/>
                    </a:lnTo>
                    <a:lnTo>
                      <a:pt x="267" y="924"/>
                    </a:lnTo>
                    <a:lnTo>
                      <a:pt x="310" y="866"/>
                    </a:lnTo>
                    <a:lnTo>
                      <a:pt x="353" y="809"/>
                    </a:lnTo>
                    <a:lnTo>
                      <a:pt x="400" y="755"/>
                    </a:lnTo>
                    <a:lnTo>
                      <a:pt x="449" y="704"/>
                    </a:lnTo>
                    <a:lnTo>
                      <a:pt x="497" y="653"/>
                    </a:lnTo>
                    <a:lnTo>
                      <a:pt x="550" y="605"/>
                    </a:lnTo>
                    <a:lnTo>
                      <a:pt x="604" y="558"/>
                    </a:lnTo>
                    <a:lnTo>
                      <a:pt x="663" y="513"/>
                    </a:lnTo>
                    <a:lnTo>
                      <a:pt x="721" y="470"/>
                    </a:lnTo>
                    <a:lnTo>
                      <a:pt x="784" y="429"/>
                    </a:lnTo>
                    <a:lnTo>
                      <a:pt x="848" y="390"/>
                    </a:lnTo>
                    <a:lnTo>
                      <a:pt x="916" y="353"/>
                    </a:lnTo>
                    <a:lnTo>
                      <a:pt x="986" y="316"/>
                    </a:lnTo>
                    <a:lnTo>
                      <a:pt x="1059" y="281"/>
                    </a:lnTo>
                    <a:lnTo>
                      <a:pt x="1133" y="248"/>
                    </a:lnTo>
                    <a:lnTo>
                      <a:pt x="1211" y="215"/>
                    </a:lnTo>
                    <a:lnTo>
                      <a:pt x="1292" y="183"/>
                    </a:lnTo>
                    <a:lnTo>
                      <a:pt x="1376" y="154"/>
                    </a:lnTo>
                    <a:lnTo>
                      <a:pt x="1462" y="127"/>
                    </a:lnTo>
                    <a:lnTo>
                      <a:pt x="1552" y="100"/>
                    </a:lnTo>
                    <a:lnTo>
                      <a:pt x="1645" y="72"/>
                    </a:lnTo>
                    <a:lnTo>
                      <a:pt x="1741" y="47"/>
                    </a:lnTo>
                    <a:lnTo>
                      <a:pt x="1840" y="24"/>
                    </a:lnTo>
                    <a:lnTo>
                      <a:pt x="1941" y="0"/>
                    </a:lnTo>
                    <a:lnTo>
                      <a:pt x="1943" y="74"/>
                    </a:lnTo>
                    <a:lnTo>
                      <a:pt x="1943" y="146"/>
                    </a:lnTo>
                    <a:lnTo>
                      <a:pt x="1943" y="221"/>
                    </a:lnTo>
                    <a:lnTo>
                      <a:pt x="1945" y="293"/>
                    </a:lnTo>
                    <a:lnTo>
                      <a:pt x="1893" y="308"/>
                    </a:lnTo>
                    <a:lnTo>
                      <a:pt x="1838" y="326"/>
                    </a:lnTo>
                    <a:lnTo>
                      <a:pt x="1783" y="341"/>
                    </a:lnTo>
                    <a:lnTo>
                      <a:pt x="1727" y="359"/>
                    </a:lnTo>
                    <a:lnTo>
                      <a:pt x="1670" y="376"/>
                    </a:lnTo>
                    <a:lnTo>
                      <a:pt x="1612" y="394"/>
                    </a:lnTo>
                    <a:lnTo>
                      <a:pt x="1554" y="413"/>
                    </a:lnTo>
                    <a:lnTo>
                      <a:pt x="1495" y="433"/>
                    </a:lnTo>
                    <a:lnTo>
                      <a:pt x="1437" y="454"/>
                    </a:lnTo>
                    <a:lnTo>
                      <a:pt x="1376" y="476"/>
                    </a:lnTo>
                    <a:lnTo>
                      <a:pt x="1316" y="501"/>
                    </a:lnTo>
                    <a:lnTo>
                      <a:pt x="1257" y="527"/>
                    </a:lnTo>
                    <a:lnTo>
                      <a:pt x="1197" y="556"/>
                    </a:lnTo>
                    <a:lnTo>
                      <a:pt x="1136" y="585"/>
                    </a:lnTo>
                    <a:lnTo>
                      <a:pt x="1076" y="618"/>
                    </a:lnTo>
                    <a:lnTo>
                      <a:pt x="1018" y="653"/>
                    </a:lnTo>
                    <a:lnTo>
                      <a:pt x="957" y="690"/>
                    </a:lnTo>
                    <a:lnTo>
                      <a:pt x="899" y="731"/>
                    </a:lnTo>
                    <a:lnTo>
                      <a:pt x="838" y="774"/>
                    </a:lnTo>
                    <a:lnTo>
                      <a:pt x="780" y="821"/>
                    </a:lnTo>
                    <a:lnTo>
                      <a:pt x="723" y="872"/>
                    </a:lnTo>
                    <a:lnTo>
                      <a:pt x="665" y="926"/>
                    </a:lnTo>
                    <a:lnTo>
                      <a:pt x="610" y="983"/>
                    </a:lnTo>
                    <a:lnTo>
                      <a:pt x="554" y="1045"/>
                    </a:lnTo>
                    <a:lnTo>
                      <a:pt x="499" y="1111"/>
                    </a:lnTo>
                    <a:lnTo>
                      <a:pt x="447" y="1181"/>
                    </a:lnTo>
                    <a:lnTo>
                      <a:pt x="394" y="1256"/>
                    </a:lnTo>
                    <a:lnTo>
                      <a:pt x="343" y="1335"/>
                    </a:lnTo>
                    <a:lnTo>
                      <a:pt x="293" y="1419"/>
                    </a:lnTo>
                    <a:lnTo>
                      <a:pt x="244" y="1509"/>
                    </a:lnTo>
                    <a:lnTo>
                      <a:pt x="197" y="1604"/>
                    </a:lnTo>
                    <a:lnTo>
                      <a:pt x="152" y="1704"/>
                    </a:lnTo>
                    <a:lnTo>
                      <a:pt x="133" y="1677"/>
                    </a:lnTo>
                    <a:lnTo>
                      <a:pt x="115" y="1647"/>
                    </a:lnTo>
                    <a:lnTo>
                      <a:pt x="96" y="1620"/>
                    </a:lnTo>
                    <a:lnTo>
                      <a:pt x="76" y="1591"/>
                    </a:lnTo>
                    <a:lnTo>
                      <a:pt x="57" y="1562"/>
                    </a:lnTo>
                    <a:lnTo>
                      <a:pt x="39" y="1532"/>
                    </a:lnTo>
                    <a:lnTo>
                      <a:pt x="20" y="1505"/>
                    </a:lnTo>
                    <a:lnTo>
                      <a:pt x="0" y="1476"/>
                    </a:lnTo>
                    <a:close/>
                  </a:path>
                </a:pathLst>
              </a:custGeom>
              <a:solidFill>
                <a:srgbClr val="637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523080" y="2336040"/>
                <a:ext cx="2032200" cy="1890000"/>
              </a:xfrm>
              <a:custGeom>
                <a:avLst/>
                <a:gdLst/>
                <a:ahLst/>
                <a:rect l="l" t="t" r="r" b="b"/>
                <a:pathLst>
                  <a:path w="1945" h="1688">
                    <a:moveTo>
                      <a:pt x="0" y="1476"/>
                    </a:moveTo>
                    <a:lnTo>
                      <a:pt x="28" y="1398"/>
                    </a:lnTo>
                    <a:lnTo>
                      <a:pt x="57" y="1324"/>
                    </a:lnTo>
                    <a:lnTo>
                      <a:pt x="86" y="1250"/>
                    </a:lnTo>
                    <a:lnTo>
                      <a:pt x="119" y="1181"/>
                    </a:lnTo>
                    <a:lnTo>
                      <a:pt x="152" y="1113"/>
                    </a:lnTo>
                    <a:lnTo>
                      <a:pt x="187" y="1047"/>
                    </a:lnTo>
                    <a:lnTo>
                      <a:pt x="226" y="985"/>
                    </a:lnTo>
                    <a:lnTo>
                      <a:pt x="265" y="924"/>
                    </a:lnTo>
                    <a:lnTo>
                      <a:pt x="306" y="866"/>
                    </a:lnTo>
                    <a:lnTo>
                      <a:pt x="351" y="809"/>
                    </a:lnTo>
                    <a:lnTo>
                      <a:pt x="396" y="755"/>
                    </a:lnTo>
                    <a:lnTo>
                      <a:pt x="445" y="704"/>
                    </a:lnTo>
                    <a:lnTo>
                      <a:pt x="495" y="653"/>
                    </a:lnTo>
                    <a:lnTo>
                      <a:pt x="548" y="605"/>
                    </a:lnTo>
                    <a:lnTo>
                      <a:pt x="603" y="558"/>
                    </a:lnTo>
                    <a:lnTo>
                      <a:pt x="659" y="513"/>
                    </a:lnTo>
                    <a:lnTo>
                      <a:pt x="719" y="470"/>
                    </a:lnTo>
                    <a:lnTo>
                      <a:pt x="782" y="429"/>
                    </a:lnTo>
                    <a:lnTo>
                      <a:pt x="846" y="390"/>
                    </a:lnTo>
                    <a:lnTo>
                      <a:pt x="914" y="353"/>
                    </a:lnTo>
                    <a:lnTo>
                      <a:pt x="984" y="316"/>
                    </a:lnTo>
                    <a:lnTo>
                      <a:pt x="1057" y="281"/>
                    </a:lnTo>
                    <a:lnTo>
                      <a:pt x="1133" y="248"/>
                    </a:lnTo>
                    <a:lnTo>
                      <a:pt x="1211" y="215"/>
                    </a:lnTo>
                    <a:lnTo>
                      <a:pt x="1290" y="183"/>
                    </a:lnTo>
                    <a:lnTo>
                      <a:pt x="1376" y="154"/>
                    </a:lnTo>
                    <a:lnTo>
                      <a:pt x="1462" y="127"/>
                    </a:lnTo>
                    <a:lnTo>
                      <a:pt x="1552" y="100"/>
                    </a:lnTo>
                    <a:lnTo>
                      <a:pt x="1645" y="72"/>
                    </a:lnTo>
                    <a:lnTo>
                      <a:pt x="1741" y="47"/>
                    </a:lnTo>
                    <a:lnTo>
                      <a:pt x="1840" y="24"/>
                    </a:lnTo>
                    <a:lnTo>
                      <a:pt x="1943" y="0"/>
                    </a:lnTo>
                    <a:lnTo>
                      <a:pt x="1943" y="68"/>
                    </a:lnTo>
                    <a:lnTo>
                      <a:pt x="1945" y="137"/>
                    </a:lnTo>
                    <a:lnTo>
                      <a:pt x="1945" y="203"/>
                    </a:lnTo>
                    <a:lnTo>
                      <a:pt x="1945" y="271"/>
                    </a:lnTo>
                    <a:lnTo>
                      <a:pt x="1891" y="287"/>
                    </a:lnTo>
                    <a:lnTo>
                      <a:pt x="1836" y="304"/>
                    </a:lnTo>
                    <a:lnTo>
                      <a:pt x="1780" y="320"/>
                    </a:lnTo>
                    <a:lnTo>
                      <a:pt x="1723" y="337"/>
                    </a:lnTo>
                    <a:lnTo>
                      <a:pt x="1665" y="355"/>
                    </a:lnTo>
                    <a:lnTo>
                      <a:pt x="1606" y="373"/>
                    </a:lnTo>
                    <a:lnTo>
                      <a:pt x="1548" y="392"/>
                    </a:lnTo>
                    <a:lnTo>
                      <a:pt x="1489" y="412"/>
                    </a:lnTo>
                    <a:lnTo>
                      <a:pt x="1429" y="433"/>
                    </a:lnTo>
                    <a:lnTo>
                      <a:pt x="1368" y="456"/>
                    </a:lnTo>
                    <a:lnTo>
                      <a:pt x="1308" y="480"/>
                    </a:lnTo>
                    <a:lnTo>
                      <a:pt x="1248" y="507"/>
                    </a:lnTo>
                    <a:lnTo>
                      <a:pt x="1187" y="534"/>
                    </a:lnTo>
                    <a:lnTo>
                      <a:pt x="1127" y="566"/>
                    </a:lnTo>
                    <a:lnTo>
                      <a:pt x="1068" y="599"/>
                    </a:lnTo>
                    <a:lnTo>
                      <a:pt x="1008" y="634"/>
                    </a:lnTo>
                    <a:lnTo>
                      <a:pt x="947" y="671"/>
                    </a:lnTo>
                    <a:lnTo>
                      <a:pt x="889" y="712"/>
                    </a:lnTo>
                    <a:lnTo>
                      <a:pt x="829" y="757"/>
                    </a:lnTo>
                    <a:lnTo>
                      <a:pt x="770" y="803"/>
                    </a:lnTo>
                    <a:lnTo>
                      <a:pt x="714" y="854"/>
                    </a:lnTo>
                    <a:lnTo>
                      <a:pt x="655" y="909"/>
                    </a:lnTo>
                    <a:lnTo>
                      <a:pt x="601" y="965"/>
                    </a:lnTo>
                    <a:lnTo>
                      <a:pt x="544" y="1027"/>
                    </a:lnTo>
                    <a:lnTo>
                      <a:pt x="490" y="1094"/>
                    </a:lnTo>
                    <a:lnTo>
                      <a:pt x="437" y="1164"/>
                    </a:lnTo>
                    <a:lnTo>
                      <a:pt x="384" y="1240"/>
                    </a:lnTo>
                    <a:lnTo>
                      <a:pt x="334" y="1320"/>
                    </a:lnTo>
                    <a:lnTo>
                      <a:pt x="283" y="1404"/>
                    </a:lnTo>
                    <a:lnTo>
                      <a:pt x="234" y="1493"/>
                    </a:lnTo>
                    <a:lnTo>
                      <a:pt x="187" y="1589"/>
                    </a:lnTo>
                    <a:lnTo>
                      <a:pt x="143" y="1688"/>
                    </a:lnTo>
                    <a:lnTo>
                      <a:pt x="125" y="1661"/>
                    </a:lnTo>
                    <a:lnTo>
                      <a:pt x="106" y="1634"/>
                    </a:lnTo>
                    <a:lnTo>
                      <a:pt x="88" y="1606"/>
                    </a:lnTo>
                    <a:lnTo>
                      <a:pt x="71" y="1581"/>
                    </a:lnTo>
                    <a:lnTo>
                      <a:pt x="53" y="1554"/>
                    </a:lnTo>
                    <a:lnTo>
                      <a:pt x="35" y="1528"/>
                    </a:lnTo>
                    <a:lnTo>
                      <a:pt x="18" y="1501"/>
                    </a:lnTo>
                    <a:lnTo>
                      <a:pt x="0" y="1476"/>
                    </a:lnTo>
                    <a:close/>
                  </a:path>
                </a:pathLst>
              </a:custGeom>
              <a:solidFill>
                <a:srgbClr val="6b70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23080" y="2336040"/>
                <a:ext cx="2032200" cy="1870200"/>
              </a:xfrm>
              <a:custGeom>
                <a:avLst/>
                <a:gdLst/>
                <a:ahLst/>
                <a:rect l="l" t="t" r="r" b="b"/>
                <a:pathLst>
                  <a:path w="1945" h="1671">
                    <a:moveTo>
                      <a:pt x="0" y="1476"/>
                    </a:moveTo>
                    <a:lnTo>
                      <a:pt x="28" y="1398"/>
                    </a:lnTo>
                    <a:lnTo>
                      <a:pt x="55" y="1324"/>
                    </a:lnTo>
                    <a:lnTo>
                      <a:pt x="84" y="1250"/>
                    </a:lnTo>
                    <a:lnTo>
                      <a:pt x="117" y="1181"/>
                    </a:lnTo>
                    <a:lnTo>
                      <a:pt x="150" y="1113"/>
                    </a:lnTo>
                    <a:lnTo>
                      <a:pt x="186" y="1047"/>
                    </a:lnTo>
                    <a:lnTo>
                      <a:pt x="223" y="985"/>
                    </a:lnTo>
                    <a:lnTo>
                      <a:pt x="263" y="924"/>
                    </a:lnTo>
                    <a:lnTo>
                      <a:pt x="304" y="866"/>
                    </a:lnTo>
                    <a:lnTo>
                      <a:pt x="347" y="809"/>
                    </a:lnTo>
                    <a:lnTo>
                      <a:pt x="394" y="755"/>
                    </a:lnTo>
                    <a:lnTo>
                      <a:pt x="441" y="704"/>
                    </a:lnTo>
                    <a:lnTo>
                      <a:pt x="491" y="653"/>
                    </a:lnTo>
                    <a:lnTo>
                      <a:pt x="544" y="605"/>
                    </a:lnTo>
                    <a:lnTo>
                      <a:pt x="599" y="558"/>
                    </a:lnTo>
                    <a:lnTo>
                      <a:pt x="657" y="513"/>
                    </a:lnTo>
                    <a:lnTo>
                      <a:pt x="718" y="470"/>
                    </a:lnTo>
                    <a:lnTo>
                      <a:pt x="780" y="429"/>
                    </a:lnTo>
                    <a:lnTo>
                      <a:pt x="844" y="390"/>
                    </a:lnTo>
                    <a:lnTo>
                      <a:pt x="912" y="353"/>
                    </a:lnTo>
                    <a:lnTo>
                      <a:pt x="983" y="316"/>
                    </a:lnTo>
                    <a:lnTo>
                      <a:pt x="1055" y="281"/>
                    </a:lnTo>
                    <a:lnTo>
                      <a:pt x="1131" y="248"/>
                    </a:lnTo>
                    <a:lnTo>
                      <a:pt x="1209" y="215"/>
                    </a:lnTo>
                    <a:lnTo>
                      <a:pt x="1290" y="183"/>
                    </a:lnTo>
                    <a:lnTo>
                      <a:pt x="1374" y="154"/>
                    </a:lnTo>
                    <a:lnTo>
                      <a:pt x="1462" y="127"/>
                    </a:lnTo>
                    <a:lnTo>
                      <a:pt x="1552" y="100"/>
                    </a:lnTo>
                    <a:lnTo>
                      <a:pt x="1645" y="72"/>
                    </a:lnTo>
                    <a:lnTo>
                      <a:pt x="1741" y="47"/>
                    </a:lnTo>
                    <a:lnTo>
                      <a:pt x="1840" y="24"/>
                    </a:lnTo>
                    <a:lnTo>
                      <a:pt x="1943" y="0"/>
                    </a:lnTo>
                    <a:lnTo>
                      <a:pt x="1943" y="63"/>
                    </a:lnTo>
                    <a:lnTo>
                      <a:pt x="1945" y="125"/>
                    </a:lnTo>
                    <a:lnTo>
                      <a:pt x="1945" y="189"/>
                    </a:lnTo>
                    <a:lnTo>
                      <a:pt x="1945" y="252"/>
                    </a:lnTo>
                    <a:lnTo>
                      <a:pt x="1891" y="267"/>
                    </a:lnTo>
                    <a:lnTo>
                      <a:pt x="1834" y="285"/>
                    </a:lnTo>
                    <a:lnTo>
                      <a:pt x="1778" y="300"/>
                    </a:lnTo>
                    <a:lnTo>
                      <a:pt x="1719" y="318"/>
                    </a:lnTo>
                    <a:lnTo>
                      <a:pt x="1661" y="336"/>
                    </a:lnTo>
                    <a:lnTo>
                      <a:pt x="1602" y="353"/>
                    </a:lnTo>
                    <a:lnTo>
                      <a:pt x="1542" y="373"/>
                    </a:lnTo>
                    <a:lnTo>
                      <a:pt x="1481" y="392"/>
                    </a:lnTo>
                    <a:lnTo>
                      <a:pt x="1421" y="413"/>
                    </a:lnTo>
                    <a:lnTo>
                      <a:pt x="1361" y="435"/>
                    </a:lnTo>
                    <a:lnTo>
                      <a:pt x="1300" y="460"/>
                    </a:lnTo>
                    <a:lnTo>
                      <a:pt x="1240" y="486"/>
                    </a:lnTo>
                    <a:lnTo>
                      <a:pt x="1179" y="515"/>
                    </a:lnTo>
                    <a:lnTo>
                      <a:pt x="1119" y="546"/>
                    </a:lnTo>
                    <a:lnTo>
                      <a:pt x="1057" y="577"/>
                    </a:lnTo>
                    <a:lnTo>
                      <a:pt x="998" y="612"/>
                    </a:lnTo>
                    <a:lnTo>
                      <a:pt x="938" y="651"/>
                    </a:lnTo>
                    <a:lnTo>
                      <a:pt x="877" y="692"/>
                    </a:lnTo>
                    <a:lnTo>
                      <a:pt x="819" y="737"/>
                    </a:lnTo>
                    <a:lnTo>
                      <a:pt x="760" y="784"/>
                    </a:lnTo>
                    <a:lnTo>
                      <a:pt x="702" y="835"/>
                    </a:lnTo>
                    <a:lnTo>
                      <a:pt x="645" y="889"/>
                    </a:lnTo>
                    <a:lnTo>
                      <a:pt x="589" y="948"/>
                    </a:lnTo>
                    <a:lnTo>
                      <a:pt x="532" y="1008"/>
                    </a:lnTo>
                    <a:lnTo>
                      <a:pt x="478" y="1074"/>
                    </a:lnTo>
                    <a:lnTo>
                      <a:pt x="425" y="1146"/>
                    </a:lnTo>
                    <a:lnTo>
                      <a:pt x="373" y="1220"/>
                    </a:lnTo>
                    <a:lnTo>
                      <a:pt x="322" y="1300"/>
                    </a:lnTo>
                    <a:lnTo>
                      <a:pt x="271" y="1386"/>
                    </a:lnTo>
                    <a:lnTo>
                      <a:pt x="223" y="1476"/>
                    </a:lnTo>
                    <a:lnTo>
                      <a:pt x="176" y="1569"/>
                    </a:lnTo>
                    <a:lnTo>
                      <a:pt x="131" y="1671"/>
                    </a:lnTo>
                    <a:lnTo>
                      <a:pt x="115" y="1647"/>
                    </a:lnTo>
                    <a:lnTo>
                      <a:pt x="98" y="1622"/>
                    </a:lnTo>
                    <a:lnTo>
                      <a:pt x="82" y="1597"/>
                    </a:lnTo>
                    <a:lnTo>
                      <a:pt x="67" y="1573"/>
                    </a:lnTo>
                    <a:lnTo>
                      <a:pt x="49" y="1548"/>
                    </a:lnTo>
                    <a:lnTo>
                      <a:pt x="34" y="1523"/>
                    </a:lnTo>
                    <a:lnTo>
                      <a:pt x="16" y="1499"/>
                    </a:lnTo>
                    <a:lnTo>
                      <a:pt x="0" y="1476"/>
                    </a:lnTo>
                    <a:close/>
                  </a:path>
                </a:pathLst>
              </a:custGeom>
              <a:solidFill>
                <a:srgbClr val="7763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523080" y="2336040"/>
                <a:ext cx="2032200" cy="1851840"/>
              </a:xfrm>
              <a:custGeom>
                <a:avLst/>
                <a:gdLst/>
                <a:ahLst/>
                <a:rect l="l" t="t" r="r" b="b"/>
                <a:pathLst>
                  <a:path w="1945" h="1653">
                    <a:moveTo>
                      <a:pt x="0" y="1476"/>
                    </a:moveTo>
                    <a:lnTo>
                      <a:pt x="26" y="1398"/>
                    </a:lnTo>
                    <a:lnTo>
                      <a:pt x="55" y="1324"/>
                    </a:lnTo>
                    <a:lnTo>
                      <a:pt x="84" y="1250"/>
                    </a:lnTo>
                    <a:lnTo>
                      <a:pt x="115" y="1181"/>
                    </a:lnTo>
                    <a:lnTo>
                      <a:pt x="148" y="1113"/>
                    </a:lnTo>
                    <a:lnTo>
                      <a:pt x="184" y="1047"/>
                    </a:lnTo>
                    <a:lnTo>
                      <a:pt x="221" y="985"/>
                    </a:lnTo>
                    <a:lnTo>
                      <a:pt x="262" y="924"/>
                    </a:lnTo>
                    <a:lnTo>
                      <a:pt x="302" y="866"/>
                    </a:lnTo>
                    <a:lnTo>
                      <a:pt x="345" y="809"/>
                    </a:lnTo>
                    <a:lnTo>
                      <a:pt x="392" y="755"/>
                    </a:lnTo>
                    <a:lnTo>
                      <a:pt x="439" y="704"/>
                    </a:lnTo>
                    <a:lnTo>
                      <a:pt x="490" y="653"/>
                    </a:lnTo>
                    <a:lnTo>
                      <a:pt x="542" y="605"/>
                    </a:lnTo>
                    <a:lnTo>
                      <a:pt x="597" y="558"/>
                    </a:lnTo>
                    <a:lnTo>
                      <a:pt x="655" y="513"/>
                    </a:lnTo>
                    <a:lnTo>
                      <a:pt x="714" y="470"/>
                    </a:lnTo>
                    <a:lnTo>
                      <a:pt x="778" y="429"/>
                    </a:lnTo>
                    <a:lnTo>
                      <a:pt x="842" y="390"/>
                    </a:lnTo>
                    <a:lnTo>
                      <a:pt x="910" y="353"/>
                    </a:lnTo>
                    <a:lnTo>
                      <a:pt x="981" y="316"/>
                    </a:lnTo>
                    <a:lnTo>
                      <a:pt x="1053" y="281"/>
                    </a:lnTo>
                    <a:lnTo>
                      <a:pt x="1129" y="248"/>
                    </a:lnTo>
                    <a:lnTo>
                      <a:pt x="1207" y="215"/>
                    </a:lnTo>
                    <a:lnTo>
                      <a:pt x="1288" y="183"/>
                    </a:lnTo>
                    <a:lnTo>
                      <a:pt x="1372" y="154"/>
                    </a:lnTo>
                    <a:lnTo>
                      <a:pt x="1460" y="127"/>
                    </a:lnTo>
                    <a:lnTo>
                      <a:pt x="1552" y="100"/>
                    </a:lnTo>
                    <a:lnTo>
                      <a:pt x="1645" y="72"/>
                    </a:lnTo>
                    <a:lnTo>
                      <a:pt x="1741" y="47"/>
                    </a:lnTo>
                    <a:lnTo>
                      <a:pt x="1840" y="24"/>
                    </a:lnTo>
                    <a:lnTo>
                      <a:pt x="1943" y="0"/>
                    </a:lnTo>
                    <a:lnTo>
                      <a:pt x="1943" y="59"/>
                    </a:lnTo>
                    <a:lnTo>
                      <a:pt x="1945" y="115"/>
                    </a:lnTo>
                    <a:lnTo>
                      <a:pt x="1945" y="174"/>
                    </a:lnTo>
                    <a:lnTo>
                      <a:pt x="1945" y="232"/>
                    </a:lnTo>
                    <a:lnTo>
                      <a:pt x="1889" y="248"/>
                    </a:lnTo>
                    <a:lnTo>
                      <a:pt x="1832" y="263"/>
                    </a:lnTo>
                    <a:lnTo>
                      <a:pt x="1774" y="281"/>
                    </a:lnTo>
                    <a:lnTo>
                      <a:pt x="1715" y="297"/>
                    </a:lnTo>
                    <a:lnTo>
                      <a:pt x="1657" y="314"/>
                    </a:lnTo>
                    <a:lnTo>
                      <a:pt x="1596" y="334"/>
                    </a:lnTo>
                    <a:lnTo>
                      <a:pt x="1536" y="351"/>
                    </a:lnTo>
                    <a:lnTo>
                      <a:pt x="1476" y="373"/>
                    </a:lnTo>
                    <a:lnTo>
                      <a:pt x="1415" y="394"/>
                    </a:lnTo>
                    <a:lnTo>
                      <a:pt x="1353" y="415"/>
                    </a:lnTo>
                    <a:lnTo>
                      <a:pt x="1292" y="441"/>
                    </a:lnTo>
                    <a:lnTo>
                      <a:pt x="1232" y="468"/>
                    </a:lnTo>
                    <a:lnTo>
                      <a:pt x="1170" y="495"/>
                    </a:lnTo>
                    <a:lnTo>
                      <a:pt x="1109" y="527"/>
                    </a:lnTo>
                    <a:lnTo>
                      <a:pt x="1049" y="560"/>
                    </a:lnTo>
                    <a:lnTo>
                      <a:pt x="988" y="595"/>
                    </a:lnTo>
                    <a:lnTo>
                      <a:pt x="928" y="634"/>
                    </a:lnTo>
                    <a:lnTo>
                      <a:pt x="868" y="675"/>
                    </a:lnTo>
                    <a:lnTo>
                      <a:pt x="809" y="718"/>
                    </a:lnTo>
                    <a:lnTo>
                      <a:pt x="749" y="766"/>
                    </a:lnTo>
                    <a:lnTo>
                      <a:pt x="692" y="817"/>
                    </a:lnTo>
                    <a:lnTo>
                      <a:pt x="634" y="872"/>
                    </a:lnTo>
                    <a:lnTo>
                      <a:pt x="577" y="930"/>
                    </a:lnTo>
                    <a:lnTo>
                      <a:pt x="523" y="992"/>
                    </a:lnTo>
                    <a:lnTo>
                      <a:pt x="468" y="1059"/>
                    </a:lnTo>
                    <a:lnTo>
                      <a:pt x="414" y="1129"/>
                    </a:lnTo>
                    <a:lnTo>
                      <a:pt x="361" y="1203"/>
                    </a:lnTo>
                    <a:lnTo>
                      <a:pt x="310" y="1283"/>
                    </a:lnTo>
                    <a:lnTo>
                      <a:pt x="260" y="1369"/>
                    </a:lnTo>
                    <a:lnTo>
                      <a:pt x="213" y="1458"/>
                    </a:lnTo>
                    <a:lnTo>
                      <a:pt x="164" y="1554"/>
                    </a:lnTo>
                    <a:lnTo>
                      <a:pt x="119" y="1653"/>
                    </a:lnTo>
                    <a:lnTo>
                      <a:pt x="104" y="1632"/>
                    </a:lnTo>
                    <a:lnTo>
                      <a:pt x="90" y="1608"/>
                    </a:lnTo>
                    <a:lnTo>
                      <a:pt x="74" y="1587"/>
                    </a:lnTo>
                    <a:lnTo>
                      <a:pt x="61" y="1564"/>
                    </a:lnTo>
                    <a:lnTo>
                      <a:pt x="45" y="1542"/>
                    </a:lnTo>
                    <a:lnTo>
                      <a:pt x="30" y="1521"/>
                    </a:lnTo>
                    <a:lnTo>
                      <a:pt x="16" y="1497"/>
                    </a:lnTo>
                    <a:lnTo>
                      <a:pt x="0" y="1476"/>
                    </a:lnTo>
                    <a:close/>
                  </a:path>
                </a:pathLst>
              </a:custGeom>
              <a:solidFill>
                <a:srgbClr val="8256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523080" y="2336040"/>
                <a:ext cx="2032200" cy="1832040"/>
              </a:xfrm>
              <a:custGeom>
                <a:avLst/>
                <a:gdLst/>
                <a:ahLst/>
                <a:rect l="l" t="t" r="r" b="b"/>
                <a:pathLst>
                  <a:path w="1945" h="1636">
                    <a:moveTo>
                      <a:pt x="0" y="1476"/>
                    </a:moveTo>
                    <a:lnTo>
                      <a:pt x="26" y="1398"/>
                    </a:lnTo>
                    <a:lnTo>
                      <a:pt x="53" y="1324"/>
                    </a:lnTo>
                    <a:lnTo>
                      <a:pt x="82" y="1250"/>
                    </a:lnTo>
                    <a:lnTo>
                      <a:pt x="113" y="1181"/>
                    </a:lnTo>
                    <a:lnTo>
                      <a:pt x="147" y="1113"/>
                    </a:lnTo>
                    <a:lnTo>
                      <a:pt x="182" y="1047"/>
                    </a:lnTo>
                    <a:lnTo>
                      <a:pt x="219" y="985"/>
                    </a:lnTo>
                    <a:lnTo>
                      <a:pt x="258" y="924"/>
                    </a:lnTo>
                    <a:lnTo>
                      <a:pt x="299" y="866"/>
                    </a:lnTo>
                    <a:lnTo>
                      <a:pt x="341" y="809"/>
                    </a:lnTo>
                    <a:lnTo>
                      <a:pt x="388" y="755"/>
                    </a:lnTo>
                    <a:lnTo>
                      <a:pt x="435" y="704"/>
                    </a:lnTo>
                    <a:lnTo>
                      <a:pt x="486" y="653"/>
                    </a:lnTo>
                    <a:lnTo>
                      <a:pt x="538" y="605"/>
                    </a:lnTo>
                    <a:lnTo>
                      <a:pt x="593" y="558"/>
                    </a:lnTo>
                    <a:lnTo>
                      <a:pt x="651" y="513"/>
                    </a:lnTo>
                    <a:lnTo>
                      <a:pt x="712" y="470"/>
                    </a:lnTo>
                    <a:lnTo>
                      <a:pt x="774" y="429"/>
                    </a:lnTo>
                    <a:lnTo>
                      <a:pt x="838" y="390"/>
                    </a:lnTo>
                    <a:lnTo>
                      <a:pt x="907" y="353"/>
                    </a:lnTo>
                    <a:lnTo>
                      <a:pt x="977" y="316"/>
                    </a:lnTo>
                    <a:lnTo>
                      <a:pt x="1051" y="281"/>
                    </a:lnTo>
                    <a:lnTo>
                      <a:pt x="1127" y="248"/>
                    </a:lnTo>
                    <a:lnTo>
                      <a:pt x="1205" y="215"/>
                    </a:lnTo>
                    <a:lnTo>
                      <a:pt x="1287" y="183"/>
                    </a:lnTo>
                    <a:lnTo>
                      <a:pt x="1370" y="154"/>
                    </a:lnTo>
                    <a:lnTo>
                      <a:pt x="1458" y="127"/>
                    </a:lnTo>
                    <a:lnTo>
                      <a:pt x="1550" y="100"/>
                    </a:lnTo>
                    <a:lnTo>
                      <a:pt x="1643" y="72"/>
                    </a:lnTo>
                    <a:lnTo>
                      <a:pt x="1741" y="47"/>
                    </a:lnTo>
                    <a:lnTo>
                      <a:pt x="1840" y="24"/>
                    </a:lnTo>
                    <a:lnTo>
                      <a:pt x="1943" y="0"/>
                    </a:lnTo>
                    <a:lnTo>
                      <a:pt x="1943" y="55"/>
                    </a:lnTo>
                    <a:lnTo>
                      <a:pt x="1945" y="107"/>
                    </a:lnTo>
                    <a:lnTo>
                      <a:pt x="1945" y="160"/>
                    </a:lnTo>
                    <a:lnTo>
                      <a:pt x="1945" y="211"/>
                    </a:lnTo>
                    <a:lnTo>
                      <a:pt x="1889" y="226"/>
                    </a:lnTo>
                    <a:lnTo>
                      <a:pt x="1830" y="244"/>
                    </a:lnTo>
                    <a:lnTo>
                      <a:pt x="1770" y="259"/>
                    </a:lnTo>
                    <a:lnTo>
                      <a:pt x="1711" y="277"/>
                    </a:lnTo>
                    <a:lnTo>
                      <a:pt x="1651" y="293"/>
                    </a:lnTo>
                    <a:lnTo>
                      <a:pt x="1591" y="312"/>
                    </a:lnTo>
                    <a:lnTo>
                      <a:pt x="1530" y="332"/>
                    </a:lnTo>
                    <a:lnTo>
                      <a:pt x="1470" y="351"/>
                    </a:lnTo>
                    <a:lnTo>
                      <a:pt x="1407" y="373"/>
                    </a:lnTo>
                    <a:lnTo>
                      <a:pt x="1345" y="396"/>
                    </a:lnTo>
                    <a:lnTo>
                      <a:pt x="1285" y="421"/>
                    </a:lnTo>
                    <a:lnTo>
                      <a:pt x="1222" y="447"/>
                    </a:lnTo>
                    <a:lnTo>
                      <a:pt x="1162" y="476"/>
                    </a:lnTo>
                    <a:lnTo>
                      <a:pt x="1099" y="507"/>
                    </a:lnTo>
                    <a:lnTo>
                      <a:pt x="1039" y="540"/>
                    </a:lnTo>
                    <a:lnTo>
                      <a:pt x="979" y="575"/>
                    </a:lnTo>
                    <a:lnTo>
                      <a:pt x="916" y="614"/>
                    </a:lnTo>
                    <a:lnTo>
                      <a:pt x="858" y="655"/>
                    </a:lnTo>
                    <a:lnTo>
                      <a:pt x="797" y="700"/>
                    </a:lnTo>
                    <a:lnTo>
                      <a:pt x="739" y="747"/>
                    </a:lnTo>
                    <a:lnTo>
                      <a:pt x="680" y="797"/>
                    </a:lnTo>
                    <a:lnTo>
                      <a:pt x="624" y="852"/>
                    </a:lnTo>
                    <a:lnTo>
                      <a:pt x="567" y="911"/>
                    </a:lnTo>
                    <a:lnTo>
                      <a:pt x="511" y="973"/>
                    </a:lnTo>
                    <a:lnTo>
                      <a:pt x="456" y="1039"/>
                    </a:lnTo>
                    <a:lnTo>
                      <a:pt x="404" y="1111"/>
                    </a:lnTo>
                    <a:lnTo>
                      <a:pt x="351" y="1185"/>
                    </a:lnTo>
                    <a:lnTo>
                      <a:pt x="300" y="1265"/>
                    </a:lnTo>
                    <a:lnTo>
                      <a:pt x="250" y="1351"/>
                    </a:lnTo>
                    <a:lnTo>
                      <a:pt x="201" y="1441"/>
                    </a:lnTo>
                    <a:lnTo>
                      <a:pt x="154" y="1536"/>
                    </a:lnTo>
                    <a:lnTo>
                      <a:pt x="110" y="1636"/>
                    </a:lnTo>
                    <a:lnTo>
                      <a:pt x="96" y="1616"/>
                    </a:lnTo>
                    <a:lnTo>
                      <a:pt x="82" y="1597"/>
                    </a:lnTo>
                    <a:lnTo>
                      <a:pt x="69" y="1575"/>
                    </a:lnTo>
                    <a:lnTo>
                      <a:pt x="55" y="1556"/>
                    </a:lnTo>
                    <a:lnTo>
                      <a:pt x="41" y="1536"/>
                    </a:lnTo>
                    <a:lnTo>
                      <a:pt x="28" y="1515"/>
                    </a:lnTo>
                    <a:lnTo>
                      <a:pt x="14" y="1495"/>
                    </a:lnTo>
                    <a:lnTo>
                      <a:pt x="0" y="1476"/>
                    </a:lnTo>
                    <a:close/>
                  </a:path>
                </a:pathLst>
              </a:custGeom>
              <a:solidFill>
                <a:srgbClr val="8c4c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523080" y="2336040"/>
                <a:ext cx="2032200" cy="1809720"/>
              </a:xfrm>
              <a:custGeom>
                <a:avLst/>
                <a:gdLst/>
                <a:ahLst/>
                <a:rect l="l" t="t" r="r" b="b"/>
                <a:pathLst>
                  <a:path w="1945" h="1616">
                    <a:moveTo>
                      <a:pt x="0" y="1476"/>
                    </a:moveTo>
                    <a:lnTo>
                      <a:pt x="26" y="1398"/>
                    </a:lnTo>
                    <a:lnTo>
                      <a:pt x="53" y="1324"/>
                    </a:lnTo>
                    <a:lnTo>
                      <a:pt x="80" y="1250"/>
                    </a:lnTo>
                    <a:lnTo>
                      <a:pt x="111" y="1181"/>
                    </a:lnTo>
                    <a:lnTo>
                      <a:pt x="145" y="1113"/>
                    </a:lnTo>
                    <a:lnTo>
                      <a:pt x="180" y="1047"/>
                    </a:lnTo>
                    <a:lnTo>
                      <a:pt x="217" y="985"/>
                    </a:lnTo>
                    <a:lnTo>
                      <a:pt x="256" y="924"/>
                    </a:lnTo>
                    <a:lnTo>
                      <a:pt x="297" y="866"/>
                    </a:lnTo>
                    <a:lnTo>
                      <a:pt x="339" y="809"/>
                    </a:lnTo>
                    <a:lnTo>
                      <a:pt x="384" y="755"/>
                    </a:lnTo>
                    <a:lnTo>
                      <a:pt x="433" y="704"/>
                    </a:lnTo>
                    <a:lnTo>
                      <a:pt x="484" y="653"/>
                    </a:lnTo>
                    <a:lnTo>
                      <a:pt x="536" y="605"/>
                    </a:lnTo>
                    <a:lnTo>
                      <a:pt x="591" y="558"/>
                    </a:lnTo>
                    <a:lnTo>
                      <a:pt x="647" y="513"/>
                    </a:lnTo>
                    <a:lnTo>
                      <a:pt x="708" y="470"/>
                    </a:lnTo>
                    <a:lnTo>
                      <a:pt x="770" y="429"/>
                    </a:lnTo>
                    <a:lnTo>
                      <a:pt x="836" y="390"/>
                    </a:lnTo>
                    <a:lnTo>
                      <a:pt x="905" y="353"/>
                    </a:lnTo>
                    <a:lnTo>
                      <a:pt x="975" y="316"/>
                    </a:lnTo>
                    <a:lnTo>
                      <a:pt x="1049" y="281"/>
                    </a:lnTo>
                    <a:lnTo>
                      <a:pt x="1125" y="248"/>
                    </a:lnTo>
                    <a:lnTo>
                      <a:pt x="1203" y="215"/>
                    </a:lnTo>
                    <a:lnTo>
                      <a:pt x="1285" y="183"/>
                    </a:lnTo>
                    <a:lnTo>
                      <a:pt x="1370" y="154"/>
                    </a:lnTo>
                    <a:lnTo>
                      <a:pt x="1458" y="127"/>
                    </a:lnTo>
                    <a:lnTo>
                      <a:pt x="1548" y="100"/>
                    </a:lnTo>
                    <a:lnTo>
                      <a:pt x="1643" y="72"/>
                    </a:lnTo>
                    <a:lnTo>
                      <a:pt x="1739" y="47"/>
                    </a:lnTo>
                    <a:lnTo>
                      <a:pt x="1840" y="24"/>
                    </a:lnTo>
                    <a:lnTo>
                      <a:pt x="1943" y="0"/>
                    </a:lnTo>
                    <a:lnTo>
                      <a:pt x="1943" y="49"/>
                    </a:lnTo>
                    <a:lnTo>
                      <a:pt x="1945" y="98"/>
                    </a:lnTo>
                    <a:lnTo>
                      <a:pt x="1945" y="144"/>
                    </a:lnTo>
                    <a:lnTo>
                      <a:pt x="1945" y="191"/>
                    </a:lnTo>
                    <a:lnTo>
                      <a:pt x="1887" y="207"/>
                    </a:lnTo>
                    <a:lnTo>
                      <a:pt x="1828" y="222"/>
                    </a:lnTo>
                    <a:lnTo>
                      <a:pt x="1768" y="238"/>
                    </a:lnTo>
                    <a:lnTo>
                      <a:pt x="1707" y="256"/>
                    </a:lnTo>
                    <a:lnTo>
                      <a:pt x="1647" y="273"/>
                    </a:lnTo>
                    <a:lnTo>
                      <a:pt x="1585" y="291"/>
                    </a:lnTo>
                    <a:lnTo>
                      <a:pt x="1524" y="310"/>
                    </a:lnTo>
                    <a:lnTo>
                      <a:pt x="1462" y="330"/>
                    </a:lnTo>
                    <a:lnTo>
                      <a:pt x="1400" y="351"/>
                    </a:lnTo>
                    <a:lnTo>
                      <a:pt x="1337" y="374"/>
                    </a:lnTo>
                    <a:lnTo>
                      <a:pt x="1275" y="400"/>
                    </a:lnTo>
                    <a:lnTo>
                      <a:pt x="1214" y="427"/>
                    </a:lnTo>
                    <a:lnTo>
                      <a:pt x="1152" y="454"/>
                    </a:lnTo>
                    <a:lnTo>
                      <a:pt x="1090" y="486"/>
                    </a:lnTo>
                    <a:lnTo>
                      <a:pt x="1029" y="519"/>
                    </a:lnTo>
                    <a:lnTo>
                      <a:pt x="967" y="556"/>
                    </a:lnTo>
                    <a:lnTo>
                      <a:pt x="907" y="593"/>
                    </a:lnTo>
                    <a:lnTo>
                      <a:pt x="846" y="636"/>
                    </a:lnTo>
                    <a:lnTo>
                      <a:pt x="788" y="679"/>
                    </a:lnTo>
                    <a:lnTo>
                      <a:pt x="727" y="727"/>
                    </a:lnTo>
                    <a:lnTo>
                      <a:pt x="669" y="778"/>
                    </a:lnTo>
                    <a:lnTo>
                      <a:pt x="612" y="833"/>
                    </a:lnTo>
                    <a:lnTo>
                      <a:pt x="556" y="891"/>
                    </a:lnTo>
                    <a:lnTo>
                      <a:pt x="499" y="953"/>
                    </a:lnTo>
                    <a:lnTo>
                      <a:pt x="445" y="1022"/>
                    </a:lnTo>
                    <a:lnTo>
                      <a:pt x="392" y="1092"/>
                    </a:lnTo>
                    <a:lnTo>
                      <a:pt x="339" y="1166"/>
                    </a:lnTo>
                    <a:lnTo>
                      <a:pt x="289" y="1246"/>
                    </a:lnTo>
                    <a:lnTo>
                      <a:pt x="238" y="1332"/>
                    </a:lnTo>
                    <a:lnTo>
                      <a:pt x="189" y="1421"/>
                    </a:lnTo>
                    <a:lnTo>
                      <a:pt x="143" y="1517"/>
                    </a:lnTo>
                    <a:lnTo>
                      <a:pt x="98" y="1616"/>
                    </a:lnTo>
                    <a:lnTo>
                      <a:pt x="86" y="1599"/>
                    </a:lnTo>
                    <a:lnTo>
                      <a:pt x="72" y="1581"/>
                    </a:lnTo>
                    <a:lnTo>
                      <a:pt x="61" y="1564"/>
                    </a:lnTo>
                    <a:lnTo>
                      <a:pt x="49" y="1546"/>
                    </a:lnTo>
                    <a:lnTo>
                      <a:pt x="37" y="1528"/>
                    </a:lnTo>
                    <a:lnTo>
                      <a:pt x="26" y="1511"/>
                    </a:lnTo>
                    <a:lnTo>
                      <a:pt x="12" y="1493"/>
                    </a:lnTo>
                    <a:lnTo>
                      <a:pt x="0" y="1476"/>
                    </a:lnTo>
                    <a:close/>
                  </a:path>
                </a:pathLst>
              </a:custGeom>
              <a:solidFill>
                <a:srgbClr val="963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520920" y="2336040"/>
                <a:ext cx="2034720" cy="1791360"/>
              </a:xfrm>
              <a:custGeom>
                <a:avLst/>
                <a:gdLst/>
                <a:ahLst/>
                <a:rect l="l" t="t" r="r" b="b"/>
                <a:pathLst>
                  <a:path w="1947" h="1601">
                    <a:moveTo>
                      <a:pt x="0" y="1476"/>
                    </a:moveTo>
                    <a:lnTo>
                      <a:pt x="26" y="1398"/>
                    </a:lnTo>
                    <a:lnTo>
                      <a:pt x="51" y="1324"/>
                    </a:lnTo>
                    <a:lnTo>
                      <a:pt x="80" y="1250"/>
                    </a:lnTo>
                    <a:lnTo>
                      <a:pt x="110" y="1181"/>
                    </a:lnTo>
                    <a:lnTo>
                      <a:pt x="143" y="1113"/>
                    </a:lnTo>
                    <a:lnTo>
                      <a:pt x="178" y="1047"/>
                    </a:lnTo>
                    <a:lnTo>
                      <a:pt x="213" y="985"/>
                    </a:lnTo>
                    <a:lnTo>
                      <a:pt x="252" y="924"/>
                    </a:lnTo>
                    <a:lnTo>
                      <a:pt x="293" y="866"/>
                    </a:lnTo>
                    <a:lnTo>
                      <a:pt x="336" y="809"/>
                    </a:lnTo>
                    <a:lnTo>
                      <a:pt x="382" y="755"/>
                    </a:lnTo>
                    <a:lnTo>
                      <a:pt x="429" y="704"/>
                    </a:lnTo>
                    <a:lnTo>
                      <a:pt x="480" y="653"/>
                    </a:lnTo>
                    <a:lnTo>
                      <a:pt x="532" y="605"/>
                    </a:lnTo>
                    <a:lnTo>
                      <a:pt x="587" y="558"/>
                    </a:lnTo>
                    <a:lnTo>
                      <a:pt x="645" y="513"/>
                    </a:lnTo>
                    <a:lnTo>
                      <a:pt x="706" y="470"/>
                    </a:lnTo>
                    <a:lnTo>
                      <a:pt x="768" y="429"/>
                    </a:lnTo>
                    <a:lnTo>
                      <a:pt x="834" y="390"/>
                    </a:lnTo>
                    <a:lnTo>
                      <a:pt x="901" y="353"/>
                    </a:lnTo>
                    <a:lnTo>
                      <a:pt x="973" y="316"/>
                    </a:lnTo>
                    <a:lnTo>
                      <a:pt x="1047" y="281"/>
                    </a:lnTo>
                    <a:lnTo>
                      <a:pt x="1123" y="248"/>
                    </a:lnTo>
                    <a:lnTo>
                      <a:pt x="1201" y="215"/>
                    </a:lnTo>
                    <a:lnTo>
                      <a:pt x="1285" y="183"/>
                    </a:lnTo>
                    <a:lnTo>
                      <a:pt x="1368" y="154"/>
                    </a:lnTo>
                    <a:lnTo>
                      <a:pt x="1456" y="127"/>
                    </a:lnTo>
                    <a:lnTo>
                      <a:pt x="1548" y="100"/>
                    </a:lnTo>
                    <a:lnTo>
                      <a:pt x="1641" y="72"/>
                    </a:lnTo>
                    <a:lnTo>
                      <a:pt x="1739" y="47"/>
                    </a:lnTo>
                    <a:lnTo>
                      <a:pt x="1840" y="24"/>
                    </a:lnTo>
                    <a:lnTo>
                      <a:pt x="1943" y="0"/>
                    </a:lnTo>
                    <a:lnTo>
                      <a:pt x="1945" y="43"/>
                    </a:lnTo>
                    <a:lnTo>
                      <a:pt x="1945" y="86"/>
                    </a:lnTo>
                    <a:lnTo>
                      <a:pt x="1945" y="129"/>
                    </a:lnTo>
                    <a:lnTo>
                      <a:pt x="1947" y="172"/>
                    </a:lnTo>
                    <a:lnTo>
                      <a:pt x="1887" y="187"/>
                    </a:lnTo>
                    <a:lnTo>
                      <a:pt x="1826" y="203"/>
                    </a:lnTo>
                    <a:lnTo>
                      <a:pt x="1766" y="219"/>
                    </a:lnTo>
                    <a:lnTo>
                      <a:pt x="1706" y="236"/>
                    </a:lnTo>
                    <a:lnTo>
                      <a:pt x="1643" y="254"/>
                    </a:lnTo>
                    <a:lnTo>
                      <a:pt x="1581" y="271"/>
                    </a:lnTo>
                    <a:lnTo>
                      <a:pt x="1518" y="291"/>
                    </a:lnTo>
                    <a:lnTo>
                      <a:pt x="1456" y="310"/>
                    </a:lnTo>
                    <a:lnTo>
                      <a:pt x="1394" y="332"/>
                    </a:lnTo>
                    <a:lnTo>
                      <a:pt x="1331" y="355"/>
                    </a:lnTo>
                    <a:lnTo>
                      <a:pt x="1269" y="380"/>
                    </a:lnTo>
                    <a:lnTo>
                      <a:pt x="1207" y="408"/>
                    </a:lnTo>
                    <a:lnTo>
                      <a:pt x="1144" y="435"/>
                    </a:lnTo>
                    <a:lnTo>
                      <a:pt x="1082" y="466"/>
                    </a:lnTo>
                    <a:lnTo>
                      <a:pt x="1020" y="499"/>
                    </a:lnTo>
                    <a:lnTo>
                      <a:pt x="959" y="536"/>
                    </a:lnTo>
                    <a:lnTo>
                      <a:pt x="897" y="575"/>
                    </a:lnTo>
                    <a:lnTo>
                      <a:pt x="836" y="616"/>
                    </a:lnTo>
                    <a:lnTo>
                      <a:pt x="778" y="661"/>
                    </a:lnTo>
                    <a:lnTo>
                      <a:pt x="718" y="710"/>
                    </a:lnTo>
                    <a:lnTo>
                      <a:pt x="659" y="760"/>
                    </a:lnTo>
                    <a:lnTo>
                      <a:pt x="603" y="815"/>
                    </a:lnTo>
                    <a:lnTo>
                      <a:pt x="546" y="873"/>
                    </a:lnTo>
                    <a:lnTo>
                      <a:pt x="490" y="936"/>
                    </a:lnTo>
                    <a:lnTo>
                      <a:pt x="435" y="1004"/>
                    </a:lnTo>
                    <a:lnTo>
                      <a:pt x="382" y="1074"/>
                    </a:lnTo>
                    <a:lnTo>
                      <a:pt x="330" y="1150"/>
                    </a:lnTo>
                    <a:lnTo>
                      <a:pt x="279" y="1230"/>
                    </a:lnTo>
                    <a:lnTo>
                      <a:pt x="228" y="1316"/>
                    </a:lnTo>
                    <a:lnTo>
                      <a:pt x="180" y="1406"/>
                    </a:lnTo>
                    <a:lnTo>
                      <a:pt x="133" y="1501"/>
                    </a:lnTo>
                    <a:lnTo>
                      <a:pt x="88" y="1601"/>
                    </a:lnTo>
                    <a:lnTo>
                      <a:pt x="78" y="1585"/>
                    </a:lnTo>
                    <a:lnTo>
                      <a:pt x="67" y="1569"/>
                    </a:lnTo>
                    <a:lnTo>
                      <a:pt x="57" y="1554"/>
                    </a:lnTo>
                    <a:lnTo>
                      <a:pt x="45" y="1538"/>
                    </a:lnTo>
                    <a:lnTo>
                      <a:pt x="34" y="1523"/>
                    </a:lnTo>
                    <a:lnTo>
                      <a:pt x="22" y="1507"/>
                    </a:lnTo>
                    <a:lnTo>
                      <a:pt x="12" y="1491"/>
                    </a:lnTo>
                    <a:lnTo>
                      <a:pt x="0" y="1476"/>
                    </a:lnTo>
                    <a:close/>
                  </a:path>
                </a:pathLst>
              </a:custGeom>
              <a:solidFill>
                <a:srgbClr val="a033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520920" y="2336040"/>
                <a:ext cx="2034720" cy="1773360"/>
              </a:xfrm>
              <a:custGeom>
                <a:avLst/>
                <a:gdLst/>
                <a:ahLst/>
                <a:rect l="l" t="t" r="r" b="b"/>
                <a:pathLst>
                  <a:path w="1947" h="1583">
                    <a:moveTo>
                      <a:pt x="0" y="1476"/>
                    </a:moveTo>
                    <a:lnTo>
                      <a:pt x="24" y="1398"/>
                    </a:lnTo>
                    <a:lnTo>
                      <a:pt x="51" y="1324"/>
                    </a:lnTo>
                    <a:lnTo>
                      <a:pt x="78" y="1250"/>
                    </a:lnTo>
                    <a:lnTo>
                      <a:pt x="110" y="1181"/>
                    </a:lnTo>
                    <a:lnTo>
                      <a:pt x="141" y="1113"/>
                    </a:lnTo>
                    <a:lnTo>
                      <a:pt x="176" y="1047"/>
                    </a:lnTo>
                    <a:lnTo>
                      <a:pt x="211" y="985"/>
                    </a:lnTo>
                    <a:lnTo>
                      <a:pt x="250" y="924"/>
                    </a:lnTo>
                    <a:lnTo>
                      <a:pt x="291" y="866"/>
                    </a:lnTo>
                    <a:lnTo>
                      <a:pt x="334" y="809"/>
                    </a:lnTo>
                    <a:lnTo>
                      <a:pt x="380" y="755"/>
                    </a:lnTo>
                    <a:lnTo>
                      <a:pt x="427" y="704"/>
                    </a:lnTo>
                    <a:lnTo>
                      <a:pt x="478" y="653"/>
                    </a:lnTo>
                    <a:lnTo>
                      <a:pt x="530" y="605"/>
                    </a:lnTo>
                    <a:lnTo>
                      <a:pt x="585" y="558"/>
                    </a:lnTo>
                    <a:lnTo>
                      <a:pt x="643" y="513"/>
                    </a:lnTo>
                    <a:lnTo>
                      <a:pt x="704" y="470"/>
                    </a:lnTo>
                    <a:lnTo>
                      <a:pt x="766" y="429"/>
                    </a:lnTo>
                    <a:lnTo>
                      <a:pt x="831" y="390"/>
                    </a:lnTo>
                    <a:lnTo>
                      <a:pt x="899" y="353"/>
                    </a:lnTo>
                    <a:lnTo>
                      <a:pt x="971" y="316"/>
                    </a:lnTo>
                    <a:lnTo>
                      <a:pt x="1045" y="281"/>
                    </a:lnTo>
                    <a:lnTo>
                      <a:pt x="1121" y="248"/>
                    </a:lnTo>
                    <a:lnTo>
                      <a:pt x="1201" y="215"/>
                    </a:lnTo>
                    <a:lnTo>
                      <a:pt x="1283" y="183"/>
                    </a:lnTo>
                    <a:lnTo>
                      <a:pt x="1368" y="154"/>
                    </a:lnTo>
                    <a:lnTo>
                      <a:pt x="1456" y="127"/>
                    </a:lnTo>
                    <a:lnTo>
                      <a:pt x="1548" y="100"/>
                    </a:lnTo>
                    <a:lnTo>
                      <a:pt x="1641" y="72"/>
                    </a:lnTo>
                    <a:lnTo>
                      <a:pt x="1739" y="47"/>
                    </a:lnTo>
                    <a:lnTo>
                      <a:pt x="1840" y="24"/>
                    </a:lnTo>
                    <a:lnTo>
                      <a:pt x="1943" y="0"/>
                    </a:lnTo>
                    <a:lnTo>
                      <a:pt x="1945" y="39"/>
                    </a:lnTo>
                    <a:lnTo>
                      <a:pt x="1945" y="76"/>
                    </a:lnTo>
                    <a:lnTo>
                      <a:pt x="1945" y="113"/>
                    </a:lnTo>
                    <a:lnTo>
                      <a:pt x="1947" y="150"/>
                    </a:lnTo>
                    <a:lnTo>
                      <a:pt x="1887" y="166"/>
                    </a:lnTo>
                    <a:lnTo>
                      <a:pt x="1824" y="182"/>
                    </a:lnTo>
                    <a:lnTo>
                      <a:pt x="1764" y="197"/>
                    </a:lnTo>
                    <a:lnTo>
                      <a:pt x="1702" y="215"/>
                    </a:lnTo>
                    <a:lnTo>
                      <a:pt x="1639" y="232"/>
                    </a:lnTo>
                    <a:lnTo>
                      <a:pt x="1575" y="250"/>
                    </a:lnTo>
                    <a:lnTo>
                      <a:pt x="1513" y="269"/>
                    </a:lnTo>
                    <a:lnTo>
                      <a:pt x="1450" y="289"/>
                    </a:lnTo>
                    <a:lnTo>
                      <a:pt x="1386" y="310"/>
                    </a:lnTo>
                    <a:lnTo>
                      <a:pt x="1324" y="334"/>
                    </a:lnTo>
                    <a:lnTo>
                      <a:pt x="1259" y="359"/>
                    </a:lnTo>
                    <a:lnTo>
                      <a:pt x="1197" y="386"/>
                    </a:lnTo>
                    <a:lnTo>
                      <a:pt x="1135" y="415"/>
                    </a:lnTo>
                    <a:lnTo>
                      <a:pt x="1072" y="447"/>
                    </a:lnTo>
                    <a:lnTo>
                      <a:pt x="1010" y="480"/>
                    </a:lnTo>
                    <a:lnTo>
                      <a:pt x="947" y="515"/>
                    </a:lnTo>
                    <a:lnTo>
                      <a:pt x="887" y="554"/>
                    </a:lnTo>
                    <a:lnTo>
                      <a:pt x="827" y="597"/>
                    </a:lnTo>
                    <a:lnTo>
                      <a:pt x="766" y="642"/>
                    </a:lnTo>
                    <a:lnTo>
                      <a:pt x="708" y="690"/>
                    </a:lnTo>
                    <a:lnTo>
                      <a:pt x="649" y="741"/>
                    </a:lnTo>
                    <a:lnTo>
                      <a:pt x="591" y="796"/>
                    </a:lnTo>
                    <a:lnTo>
                      <a:pt x="534" y="856"/>
                    </a:lnTo>
                    <a:lnTo>
                      <a:pt x="478" y="918"/>
                    </a:lnTo>
                    <a:lnTo>
                      <a:pt x="423" y="985"/>
                    </a:lnTo>
                    <a:lnTo>
                      <a:pt x="371" y="1057"/>
                    </a:lnTo>
                    <a:lnTo>
                      <a:pt x="318" y="1131"/>
                    </a:lnTo>
                    <a:lnTo>
                      <a:pt x="267" y="1213"/>
                    </a:lnTo>
                    <a:lnTo>
                      <a:pt x="217" y="1296"/>
                    </a:lnTo>
                    <a:lnTo>
                      <a:pt x="168" y="1388"/>
                    </a:lnTo>
                    <a:lnTo>
                      <a:pt x="121" y="1482"/>
                    </a:lnTo>
                    <a:lnTo>
                      <a:pt x="76" y="1583"/>
                    </a:lnTo>
                    <a:lnTo>
                      <a:pt x="67" y="1569"/>
                    </a:lnTo>
                    <a:lnTo>
                      <a:pt x="57" y="1556"/>
                    </a:lnTo>
                    <a:lnTo>
                      <a:pt x="47" y="1542"/>
                    </a:lnTo>
                    <a:lnTo>
                      <a:pt x="39" y="1528"/>
                    </a:lnTo>
                    <a:lnTo>
                      <a:pt x="30" y="1515"/>
                    </a:lnTo>
                    <a:lnTo>
                      <a:pt x="20" y="1503"/>
                    </a:lnTo>
                    <a:lnTo>
                      <a:pt x="10" y="1489"/>
                    </a:lnTo>
                    <a:lnTo>
                      <a:pt x="0" y="1476"/>
                    </a:lnTo>
                    <a:close/>
                  </a:path>
                </a:pathLst>
              </a:custGeom>
              <a:solidFill>
                <a:srgbClr val="aa2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520920" y="2336040"/>
                <a:ext cx="2034720" cy="1753200"/>
              </a:xfrm>
              <a:custGeom>
                <a:avLst/>
                <a:gdLst/>
                <a:ahLst/>
                <a:rect l="l" t="t" r="r" b="b"/>
                <a:pathLst>
                  <a:path w="1947" h="1565">
                    <a:moveTo>
                      <a:pt x="0" y="1476"/>
                    </a:moveTo>
                    <a:lnTo>
                      <a:pt x="24" y="1398"/>
                    </a:lnTo>
                    <a:lnTo>
                      <a:pt x="49" y="1324"/>
                    </a:lnTo>
                    <a:lnTo>
                      <a:pt x="76" y="1250"/>
                    </a:lnTo>
                    <a:lnTo>
                      <a:pt x="108" y="1181"/>
                    </a:lnTo>
                    <a:lnTo>
                      <a:pt x="139" y="1113"/>
                    </a:lnTo>
                    <a:lnTo>
                      <a:pt x="172" y="1047"/>
                    </a:lnTo>
                    <a:lnTo>
                      <a:pt x="209" y="985"/>
                    </a:lnTo>
                    <a:lnTo>
                      <a:pt x="248" y="924"/>
                    </a:lnTo>
                    <a:lnTo>
                      <a:pt x="289" y="866"/>
                    </a:lnTo>
                    <a:lnTo>
                      <a:pt x="332" y="809"/>
                    </a:lnTo>
                    <a:lnTo>
                      <a:pt x="376" y="755"/>
                    </a:lnTo>
                    <a:lnTo>
                      <a:pt x="423" y="704"/>
                    </a:lnTo>
                    <a:lnTo>
                      <a:pt x="474" y="653"/>
                    </a:lnTo>
                    <a:lnTo>
                      <a:pt x="527" y="605"/>
                    </a:lnTo>
                    <a:lnTo>
                      <a:pt x="581" y="558"/>
                    </a:lnTo>
                    <a:lnTo>
                      <a:pt x="640" y="513"/>
                    </a:lnTo>
                    <a:lnTo>
                      <a:pt x="700" y="470"/>
                    </a:lnTo>
                    <a:lnTo>
                      <a:pt x="762" y="429"/>
                    </a:lnTo>
                    <a:lnTo>
                      <a:pt x="829" y="390"/>
                    </a:lnTo>
                    <a:lnTo>
                      <a:pt x="897" y="353"/>
                    </a:lnTo>
                    <a:lnTo>
                      <a:pt x="967" y="316"/>
                    </a:lnTo>
                    <a:lnTo>
                      <a:pt x="1041" y="281"/>
                    </a:lnTo>
                    <a:lnTo>
                      <a:pt x="1119" y="248"/>
                    </a:lnTo>
                    <a:lnTo>
                      <a:pt x="1197" y="215"/>
                    </a:lnTo>
                    <a:lnTo>
                      <a:pt x="1281" y="183"/>
                    </a:lnTo>
                    <a:lnTo>
                      <a:pt x="1366" y="154"/>
                    </a:lnTo>
                    <a:lnTo>
                      <a:pt x="1454" y="127"/>
                    </a:lnTo>
                    <a:lnTo>
                      <a:pt x="1546" y="100"/>
                    </a:lnTo>
                    <a:lnTo>
                      <a:pt x="1641" y="72"/>
                    </a:lnTo>
                    <a:lnTo>
                      <a:pt x="1739" y="47"/>
                    </a:lnTo>
                    <a:lnTo>
                      <a:pt x="1840" y="24"/>
                    </a:lnTo>
                    <a:lnTo>
                      <a:pt x="1943" y="0"/>
                    </a:lnTo>
                    <a:lnTo>
                      <a:pt x="1945" y="33"/>
                    </a:lnTo>
                    <a:lnTo>
                      <a:pt x="1945" y="67"/>
                    </a:lnTo>
                    <a:lnTo>
                      <a:pt x="1945" y="98"/>
                    </a:lnTo>
                    <a:lnTo>
                      <a:pt x="1947" y="131"/>
                    </a:lnTo>
                    <a:lnTo>
                      <a:pt x="1885" y="146"/>
                    </a:lnTo>
                    <a:lnTo>
                      <a:pt x="1822" y="162"/>
                    </a:lnTo>
                    <a:lnTo>
                      <a:pt x="1760" y="178"/>
                    </a:lnTo>
                    <a:lnTo>
                      <a:pt x="1698" y="195"/>
                    </a:lnTo>
                    <a:lnTo>
                      <a:pt x="1635" y="211"/>
                    </a:lnTo>
                    <a:lnTo>
                      <a:pt x="1571" y="230"/>
                    </a:lnTo>
                    <a:lnTo>
                      <a:pt x="1507" y="250"/>
                    </a:lnTo>
                    <a:lnTo>
                      <a:pt x="1444" y="269"/>
                    </a:lnTo>
                    <a:lnTo>
                      <a:pt x="1380" y="291"/>
                    </a:lnTo>
                    <a:lnTo>
                      <a:pt x="1316" y="314"/>
                    </a:lnTo>
                    <a:lnTo>
                      <a:pt x="1253" y="339"/>
                    </a:lnTo>
                    <a:lnTo>
                      <a:pt x="1189" y="367"/>
                    </a:lnTo>
                    <a:lnTo>
                      <a:pt x="1127" y="396"/>
                    </a:lnTo>
                    <a:lnTo>
                      <a:pt x="1064" y="427"/>
                    </a:lnTo>
                    <a:lnTo>
                      <a:pt x="1002" y="460"/>
                    </a:lnTo>
                    <a:lnTo>
                      <a:pt x="940" y="497"/>
                    </a:lnTo>
                    <a:lnTo>
                      <a:pt x="877" y="536"/>
                    </a:lnTo>
                    <a:lnTo>
                      <a:pt x="817" y="579"/>
                    </a:lnTo>
                    <a:lnTo>
                      <a:pt x="756" y="624"/>
                    </a:lnTo>
                    <a:lnTo>
                      <a:pt x="698" y="671"/>
                    </a:lnTo>
                    <a:lnTo>
                      <a:pt x="640" y="723"/>
                    </a:lnTo>
                    <a:lnTo>
                      <a:pt x="581" y="778"/>
                    </a:lnTo>
                    <a:lnTo>
                      <a:pt x="525" y="838"/>
                    </a:lnTo>
                    <a:lnTo>
                      <a:pt x="468" y="901"/>
                    </a:lnTo>
                    <a:lnTo>
                      <a:pt x="414" y="967"/>
                    </a:lnTo>
                    <a:lnTo>
                      <a:pt x="361" y="1039"/>
                    </a:lnTo>
                    <a:lnTo>
                      <a:pt x="308" y="1115"/>
                    </a:lnTo>
                    <a:lnTo>
                      <a:pt x="258" y="1195"/>
                    </a:lnTo>
                    <a:lnTo>
                      <a:pt x="207" y="1281"/>
                    </a:lnTo>
                    <a:lnTo>
                      <a:pt x="158" y="1371"/>
                    </a:lnTo>
                    <a:lnTo>
                      <a:pt x="111" y="1466"/>
                    </a:lnTo>
                    <a:lnTo>
                      <a:pt x="67" y="1565"/>
                    </a:lnTo>
                    <a:lnTo>
                      <a:pt x="59" y="1554"/>
                    </a:lnTo>
                    <a:lnTo>
                      <a:pt x="49" y="1542"/>
                    </a:lnTo>
                    <a:lnTo>
                      <a:pt x="41" y="1530"/>
                    </a:lnTo>
                    <a:lnTo>
                      <a:pt x="34" y="1521"/>
                    </a:lnTo>
                    <a:lnTo>
                      <a:pt x="24" y="1509"/>
                    </a:lnTo>
                    <a:lnTo>
                      <a:pt x="16" y="1497"/>
                    </a:lnTo>
                    <a:lnTo>
                      <a:pt x="8" y="1487"/>
                    </a:lnTo>
                    <a:lnTo>
                      <a:pt x="0" y="1476"/>
                    </a:lnTo>
                    <a:close/>
                  </a:path>
                </a:pathLst>
              </a:custGeom>
              <a:solidFill>
                <a:srgbClr val="b719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520920" y="2336040"/>
                <a:ext cx="2034720" cy="1730880"/>
              </a:xfrm>
              <a:custGeom>
                <a:avLst/>
                <a:gdLst/>
                <a:ahLst/>
                <a:rect l="l" t="t" r="r" b="b"/>
                <a:pathLst>
                  <a:path w="1947" h="1546">
                    <a:moveTo>
                      <a:pt x="0" y="1476"/>
                    </a:moveTo>
                    <a:lnTo>
                      <a:pt x="24" y="1398"/>
                    </a:lnTo>
                    <a:lnTo>
                      <a:pt x="49" y="1324"/>
                    </a:lnTo>
                    <a:lnTo>
                      <a:pt x="76" y="1250"/>
                    </a:lnTo>
                    <a:lnTo>
                      <a:pt x="106" y="1181"/>
                    </a:lnTo>
                    <a:lnTo>
                      <a:pt x="137" y="1113"/>
                    </a:lnTo>
                    <a:lnTo>
                      <a:pt x="170" y="1047"/>
                    </a:lnTo>
                    <a:lnTo>
                      <a:pt x="207" y="985"/>
                    </a:lnTo>
                    <a:lnTo>
                      <a:pt x="244" y="924"/>
                    </a:lnTo>
                    <a:lnTo>
                      <a:pt x="285" y="866"/>
                    </a:lnTo>
                    <a:lnTo>
                      <a:pt x="328" y="809"/>
                    </a:lnTo>
                    <a:lnTo>
                      <a:pt x="373" y="755"/>
                    </a:lnTo>
                    <a:lnTo>
                      <a:pt x="421" y="704"/>
                    </a:lnTo>
                    <a:lnTo>
                      <a:pt x="470" y="653"/>
                    </a:lnTo>
                    <a:lnTo>
                      <a:pt x="523" y="605"/>
                    </a:lnTo>
                    <a:lnTo>
                      <a:pt x="579" y="558"/>
                    </a:lnTo>
                    <a:lnTo>
                      <a:pt x="636" y="513"/>
                    </a:lnTo>
                    <a:lnTo>
                      <a:pt x="696" y="470"/>
                    </a:lnTo>
                    <a:lnTo>
                      <a:pt x="760" y="429"/>
                    </a:lnTo>
                    <a:lnTo>
                      <a:pt x="825" y="390"/>
                    </a:lnTo>
                    <a:lnTo>
                      <a:pt x="895" y="353"/>
                    </a:lnTo>
                    <a:lnTo>
                      <a:pt x="965" y="316"/>
                    </a:lnTo>
                    <a:lnTo>
                      <a:pt x="1039" y="281"/>
                    </a:lnTo>
                    <a:lnTo>
                      <a:pt x="1117" y="248"/>
                    </a:lnTo>
                    <a:lnTo>
                      <a:pt x="1197" y="215"/>
                    </a:lnTo>
                    <a:lnTo>
                      <a:pt x="1279" y="183"/>
                    </a:lnTo>
                    <a:lnTo>
                      <a:pt x="1364" y="154"/>
                    </a:lnTo>
                    <a:lnTo>
                      <a:pt x="1454" y="127"/>
                    </a:lnTo>
                    <a:lnTo>
                      <a:pt x="1546" y="100"/>
                    </a:lnTo>
                    <a:lnTo>
                      <a:pt x="1639" y="72"/>
                    </a:lnTo>
                    <a:lnTo>
                      <a:pt x="1739" y="47"/>
                    </a:lnTo>
                    <a:lnTo>
                      <a:pt x="1838" y="24"/>
                    </a:lnTo>
                    <a:lnTo>
                      <a:pt x="1943" y="0"/>
                    </a:lnTo>
                    <a:lnTo>
                      <a:pt x="1945" y="29"/>
                    </a:lnTo>
                    <a:lnTo>
                      <a:pt x="1945" y="57"/>
                    </a:lnTo>
                    <a:lnTo>
                      <a:pt x="1945" y="84"/>
                    </a:lnTo>
                    <a:lnTo>
                      <a:pt x="1947" y="111"/>
                    </a:lnTo>
                    <a:lnTo>
                      <a:pt x="1885" y="127"/>
                    </a:lnTo>
                    <a:lnTo>
                      <a:pt x="1820" y="143"/>
                    </a:lnTo>
                    <a:lnTo>
                      <a:pt x="1758" y="158"/>
                    </a:lnTo>
                    <a:lnTo>
                      <a:pt x="1694" y="174"/>
                    </a:lnTo>
                    <a:lnTo>
                      <a:pt x="1630" y="191"/>
                    </a:lnTo>
                    <a:lnTo>
                      <a:pt x="1565" y="209"/>
                    </a:lnTo>
                    <a:lnTo>
                      <a:pt x="1501" y="228"/>
                    </a:lnTo>
                    <a:lnTo>
                      <a:pt x="1437" y="250"/>
                    </a:lnTo>
                    <a:lnTo>
                      <a:pt x="1372" y="271"/>
                    </a:lnTo>
                    <a:lnTo>
                      <a:pt x="1308" y="295"/>
                    </a:lnTo>
                    <a:lnTo>
                      <a:pt x="1246" y="320"/>
                    </a:lnTo>
                    <a:lnTo>
                      <a:pt x="1181" y="347"/>
                    </a:lnTo>
                    <a:lnTo>
                      <a:pt x="1117" y="376"/>
                    </a:lnTo>
                    <a:lnTo>
                      <a:pt x="1055" y="408"/>
                    </a:lnTo>
                    <a:lnTo>
                      <a:pt x="992" y="441"/>
                    </a:lnTo>
                    <a:lnTo>
                      <a:pt x="930" y="478"/>
                    </a:lnTo>
                    <a:lnTo>
                      <a:pt x="868" y="517"/>
                    </a:lnTo>
                    <a:lnTo>
                      <a:pt x="807" y="560"/>
                    </a:lnTo>
                    <a:lnTo>
                      <a:pt x="747" y="605"/>
                    </a:lnTo>
                    <a:lnTo>
                      <a:pt x="686" y="653"/>
                    </a:lnTo>
                    <a:lnTo>
                      <a:pt x="628" y="704"/>
                    </a:lnTo>
                    <a:lnTo>
                      <a:pt x="569" y="760"/>
                    </a:lnTo>
                    <a:lnTo>
                      <a:pt x="513" y="819"/>
                    </a:lnTo>
                    <a:lnTo>
                      <a:pt x="458" y="881"/>
                    </a:lnTo>
                    <a:lnTo>
                      <a:pt x="402" y="950"/>
                    </a:lnTo>
                    <a:lnTo>
                      <a:pt x="349" y="1020"/>
                    </a:lnTo>
                    <a:lnTo>
                      <a:pt x="297" y="1096"/>
                    </a:lnTo>
                    <a:lnTo>
                      <a:pt x="246" y="1176"/>
                    </a:lnTo>
                    <a:lnTo>
                      <a:pt x="195" y="1261"/>
                    </a:lnTo>
                    <a:lnTo>
                      <a:pt x="147" y="1351"/>
                    </a:lnTo>
                    <a:lnTo>
                      <a:pt x="100" y="1447"/>
                    </a:lnTo>
                    <a:lnTo>
                      <a:pt x="55" y="1546"/>
                    </a:lnTo>
                    <a:lnTo>
                      <a:pt x="41" y="1528"/>
                    </a:lnTo>
                    <a:lnTo>
                      <a:pt x="28" y="1511"/>
                    </a:lnTo>
                    <a:lnTo>
                      <a:pt x="14" y="1493"/>
                    </a:lnTo>
                    <a:lnTo>
                      <a:pt x="0" y="1476"/>
                    </a:lnTo>
                    <a:close/>
                  </a:path>
                </a:pathLst>
              </a:custGeom>
              <a:solidFill>
                <a:srgbClr val="c10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520920" y="2336040"/>
                <a:ext cx="2034720" cy="1713240"/>
              </a:xfrm>
              <a:custGeom>
                <a:avLst/>
                <a:gdLst/>
                <a:ahLst/>
                <a:rect l="l" t="t" r="r" b="b"/>
                <a:pathLst>
                  <a:path w="1947" h="1530">
                    <a:moveTo>
                      <a:pt x="0" y="1476"/>
                    </a:moveTo>
                    <a:lnTo>
                      <a:pt x="24" y="1398"/>
                    </a:lnTo>
                    <a:lnTo>
                      <a:pt x="47" y="1324"/>
                    </a:lnTo>
                    <a:lnTo>
                      <a:pt x="74" y="1250"/>
                    </a:lnTo>
                    <a:lnTo>
                      <a:pt x="104" y="1181"/>
                    </a:lnTo>
                    <a:lnTo>
                      <a:pt x="135" y="1113"/>
                    </a:lnTo>
                    <a:lnTo>
                      <a:pt x="168" y="1047"/>
                    </a:lnTo>
                    <a:lnTo>
                      <a:pt x="203" y="985"/>
                    </a:lnTo>
                    <a:lnTo>
                      <a:pt x="242" y="924"/>
                    </a:lnTo>
                    <a:lnTo>
                      <a:pt x="283" y="866"/>
                    </a:lnTo>
                    <a:lnTo>
                      <a:pt x="326" y="809"/>
                    </a:lnTo>
                    <a:lnTo>
                      <a:pt x="371" y="755"/>
                    </a:lnTo>
                    <a:lnTo>
                      <a:pt x="417" y="704"/>
                    </a:lnTo>
                    <a:lnTo>
                      <a:pt x="468" y="653"/>
                    </a:lnTo>
                    <a:lnTo>
                      <a:pt x="521" y="605"/>
                    </a:lnTo>
                    <a:lnTo>
                      <a:pt x="575" y="558"/>
                    </a:lnTo>
                    <a:lnTo>
                      <a:pt x="634" y="513"/>
                    </a:lnTo>
                    <a:lnTo>
                      <a:pt x="694" y="470"/>
                    </a:lnTo>
                    <a:lnTo>
                      <a:pt x="756" y="429"/>
                    </a:lnTo>
                    <a:lnTo>
                      <a:pt x="823" y="390"/>
                    </a:lnTo>
                    <a:lnTo>
                      <a:pt x="893" y="353"/>
                    </a:lnTo>
                    <a:lnTo>
                      <a:pt x="963" y="316"/>
                    </a:lnTo>
                    <a:lnTo>
                      <a:pt x="1037" y="281"/>
                    </a:lnTo>
                    <a:lnTo>
                      <a:pt x="1115" y="248"/>
                    </a:lnTo>
                    <a:lnTo>
                      <a:pt x="1195" y="215"/>
                    </a:lnTo>
                    <a:lnTo>
                      <a:pt x="1279" y="183"/>
                    </a:lnTo>
                    <a:lnTo>
                      <a:pt x="1364" y="154"/>
                    </a:lnTo>
                    <a:lnTo>
                      <a:pt x="1454" y="127"/>
                    </a:lnTo>
                    <a:lnTo>
                      <a:pt x="1546" y="100"/>
                    </a:lnTo>
                    <a:lnTo>
                      <a:pt x="1641" y="72"/>
                    </a:lnTo>
                    <a:lnTo>
                      <a:pt x="1739" y="47"/>
                    </a:lnTo>
                    <a:lnTo>
                      <a:pt x="1840" y="24"/>
                    </a:lnTo>
                    <a:lnTo>
                      <a:pt x="1945" y="0"/>
                    </a:lnTo>
                    <a:lnTo>
                      <a:pt x="1947" y="90"/>
                    </a:lnTo>
                    <a:lnTo>
                      <a:pt x="1883" y="106"/>
                    </a:lnTo>
                    <a:lnTo>
                      <a:pt x="1819" y="121"/>
                    </a:lnTo>
                    <a:lnTo>
                      <a:pt x="1754" y="137"/>
                    </a:lnTo>
                    <a:lnTo>
                      <a:pt x="1690" y="152"/>
                    </a:lnTo>
                    <a:lnTo>
                      <a:pt x="1626" y="170"/>
                    </a:lnTo>
                    <a:lnTo>
                      <a:pt x="1561" y="187"/>
                    </a:lnTo>
                    <a:lnTo>
                      <a:pt x="1495" y="207"/>
                    </a:lnTo>
                    <a:lnTo>
                      <a:pt x="1431" y="228"/>
                    </a:lnTo>
                    <a:lnTo>
                      <a:pt x="1366" y="250"/>
                    </a:lnTo>
                    <a:lnTo>
                      <a:pt x="1300" y="273"/>
                    </a:lnTo>
                    <a:lnTo>
                      <a:pt x="1236" y="298"/>
                    </a:lnTo>
                    <a:lnTo>
                      <a:pt x="1172" y="326"/>
                    </a:lnTo>
                    <a:lnTo>
                      <a:pt x="1107" y="355"/>
                    </a:lnTo>
                    <a:lnTo>
                      <a:pt x="1045" y="386"/>
                    </a:lnTo>
                    <a:lnTo>
                      <a:pt x="983" y="421"/>
                    </a:lnTo>
                    <a:lnTo>
                      <a:pt x="920" y="458"/>
                    </a:lnTo>
                    <a:lnTo>
                      <a:pt x="858" y="497"/>
                    </a:lnTo>
                    <a:lnTo>
                      <a:pt x="795" y="540"/>
                    </a:lnTo>
                    <a:lnTo>
                      <a:pt x="735" y="585"/>
                    </a:lnTo>
                    <a:lnTo>
                      <a:pt x="677" y="634"/>
                    </a:lnTo>
                    <a:lnTo>
                      <a:pt x="616" y="686"/>
                    </a:lnTo>
                    <a:lnTo>
                      <a:pt x="560" y="741"/>
                    </a:lnTo>
                    <a:lnTo>
                      <a:pt x="501" y="801"/>
                    </a:lnTo>
                    <a:lnTo>
                      <a:pt x="447" y="864"/>
                    </a:lnTo>
                    <a:lnTo>
                      <a:pt x="392" y="932"/>
                    </a:lnTo>
                    <a:lnTo>
                      <a:pt x="338" y="1002"/>
                    </a:lnTo>
                    <a:lnTo>
                      <a:pt x="285" y="1078"/>
                    </a:lnTo>
                    <a:lnTo>
                      <a:pt x="234" y="1160"/>
                    </a:lnTo>
                    <a:lnTo>
                      <a:pt x="184" y="1244"/>
                    </a:lnTo>
                    <a:lnTo>
                      <a:pt x="135" y="1335"/>
                    </a:lnTo>
                    <a:lnTo>
                      <a:pt x="88" y="1429"/>
                    </a:lnTo>
                    <a:lnTo>
                      <a:pt x="43" y="1530"/>
                    </a:lnTo>
                    <a:lnTo>
                      <a:pt x="0" y="1476"/>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a:off x="1974600" y="3466800"/>
                <a:ext cx="2178720" cy="1966680"/>
              </a:xfrm>
              <a:custGeom>
                <a:avLst/>
                <a:gdLst/>
                <a:ahLst/>
                <a:rect l="l" t="t" r="r" b="b"/>
                <a:pathLst>
                  <a:path w="2085" h="1756">
                    <a:moveTo>
                      <a:pt x="376" y="341"/>
                    </a:moveTo>
                    <a:lnTo>
                      <a:pt x="280" y="78"/>
                    </a:lnTo>
                    <a:lnTo>
                      <a:pt x="495" y="220"/>
                    </a:lnTo>
                    <a:lnTo>
                      <a:pt x="518" y="101"/>
                    </a:lnTo>
                    <a:lnTo>
                      <a:pt x="660" y="220"/>
                    </a:lnTo>
                    <a:lnTo>
                      <a:pt x="802" y="0"/>
                    </a:lnTo>
                    <a:lnTo>
                      <a:pt x="921" y="47"/>
                    </a:lnTo>
                    <a:lnTo>
                      <a:pt x="966" y="140"/>
                    </a:lnTo>
                    <a:lnTo>
                      <a:pt x="1138" y="212"/>
                    </a:lnTo>
                    <a:lnTo>
                      <a:pt x="1251" y="277"/>
                    </a:lnTo>
                    <a:lnTo>
                      <a:pt x="1635" y="247"/>
                    </a:lnTo>
                    <a:lnTo>
                      <a:pt x="1703" y="324"/>
                    </a:lnTo>
                    <a:lnTo>
                      <a:pt x="1820" y="320"/>
                    </a:lnTo>
                    <a:lnTo>
                      <a:pt x="2032" y="312"/>
                    </a:lnTo>
                    <a:lnTo>
                      <a:pt x="1966" y="413"/>
                    </a:lnTo>
                    <a:lnTo>
                      <a:pt x="1919" y="604"/>
                    </a:lnTo>
                    <a:lnTo>
                      <a:pt x="2085" y="604"/>
                    </a:lnTo>
                    <a:lnTo>
                      <a:pt x="1966" y="797"/>
                    </a:lnTo>
                    <a:lnTo>
                      <a:pt x="1894" y="1037"/>
                    </a:lnTo>
                    <a:lnTo>
                      <a:pt x="1777" y="1277"/>
                    </a:lnTo>
                    <a:lnTo>
                      <a:pt x="1989" y="1516"/>
                    </a:lnTo>
                    <a:lnTo>
                      <a:pt x="1751" y="1444"/>
                    </a:lnTo>
                    <a:lnTo>
                      <a:pt x="1751" y="1661"/>
                    </a:lnTo>
                    <a:lnTo>
                      <a:pt x="1490" y="1661"/>
                    </a:lnTo>
                    <a:lnTo>
                      <a:pt x="1371" y="1516"/>
                    </a:lnTo>
                    <a:lnTo>
                      <a:pt x="1136" y="1709"/>
                    </a:lnTo>
                    <a:lnTo>
                      <a:pt x="1110" y="1516"/>
                    </a:lnTo>
                    <a:lnTo>
                      <a:pt x="849" y="1614"/>
                    </a:lnTo>
                    <a:lnTo>
                      <a:pt x="376" y="1756"/>
                    </a:lnTo>
                    <a:lnTo>
                      <a:pt x="541" y="1421"/>
                    </a:lnTo>
                    <a:lnTo>
                      <a:pt x="327" y="1516"/>
                    </a:lnTo>
                    <a:lnTo>
                      <a:pt x="399" y="1325"/>
                    </a:lnTo>
                    <a:lnTo>
                      <a:pt x="257" y="1230"/>
                    </a:lnTo>
                    <a:lnTo>
                      <a:pt x="399" y="1109"/>
                    </a:lnTo>
                    <a:lnTo>
                      <a:pt x="70" y="748"/>
                    </a:lnTo>
                    <a:lnTo>
                      <a:pt x="0" y="534"/>
                    </a:lnTo>
                    <a:lnTo>
                      <a:pt x="235" y="630"/>
                    </a:lnTo>
                    <a:lnTo>
                      <a:pt x="235" y="437"/>
                    </a:lnTo>
                    <a:lnTo>
                      <a:pt x="422" y="581"/>
                    </a:lnTo>
                    <a:lnTo>
                      <a:pt x="376" y="341"/>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1993320" y="3485160"/>
                <a:ext cx="2136600" cy="1923840"/>
              </a:xfrm>
              <a:custGeom>
                <a:avLst/>
                <a:gdLst/>
                <a:ahLst/>
                <a:rect l="l" t="t" r="r" b="b"/>
                <a:pathLst>
                  <a:path w="2042" h="1719">
                    <a:moveTo>
                      <a:pt x="368" y="333"/>
                    </a:moveTo>
                    <a:lnTo>
                      <a:pt x="357" y="300"/>
                    </a:lnTo>
                    <a:lnTo>
                      <a:pt x="345" y="269"/>
                    </a:lnTo>
                    <a:lnTo>
                      <a:pt x="333" y="235"/>
                    </a:lnTo>
                    <a:lnTo>
                      <a:pt x="322" y="204"/>
                    </a:lnTo>
                    <a:lnTo>
                      <a:pt x="310" y="171"/>
                    </a:lnTo>
                    <a:lnTo>
                      <a:pt x="298" y="140"/>
                    </a:lnTo>
                    <a:lnTo>
                      <a:pt x="286" y="107"/>
                    </a:lnTo>
                    <a:lnTo>
                      <a:pt x="275" y="76"/>
                    </a:lnTo>
                    <a:lnTo>
                      <a:pt x="302" y="93"/>
                    </a:lnTo>
                    <a:lnTo>
                      <a:pt x="327" y="111"/>
                    </a:lnTo>
                    <a:lnTo>
                      <a:pt x="355" y="128"/>
                    </a:lnTo>
                    <a:lnTo>
                      <a:pt x="380" y="146"/>
                    </a:lnTo>
                    <a:lnTo>
                      <a:pt x="407" y="163"/>
                    </a:lnTo>
                    <a:lnTo>
                      <a:pt x="433" y="181"/>
                    </a:lnTo>
                    <a:lnTo>
                      <a:pt x="460" y="198"/>
                    </a:lnTo>
                    <a:lnTo>
                      <a:pt x="485" y="216"/>
                    </a:lnTo>
                    <a:lnTo>
                      <a:pt x="491" y="187"/>
                    </a:lnTo>
                    <a:lnTo>
                      <a:pt x="497" y="157"/>
                    </a:lnTo>
                    <a:lnTo>
                      <a:pt x="503" y="128"/>
                    </a:lnTo>
                    <a:lnTo>
                      <a:pt x="511" y="99"/>
                    </a:lnTo>
                    <a:lnTo>
                      <a:pt x="526" y="113"/>
                    </a:lnTo>
                    <a:lnTo>
                      <a:pt x="544" y="128"/>
                    </a:lnTo>
                    <a:lnTo>
                      <a:pt x="559" y="142"/>
                    </a:lnTo>
                    <a:lnTo>
                      <a:pt x="577" y="157"/>
                    </a:lnTo>
                    <a:lnTo>
                      <a:pt x="594" y="171"/>
                    </a:lnTo>
                    <a:lnTo>
                      <a:pt x="612" y="187"/>
                    </a:lnTo>
                    <a:lnTo>
                      <a:pt x="629" y="200"/>
                    </a:lnTo>
                    <a:lnTo>
                      <a:pt x="647" y="216"/>
                    </a:lnTo>
                    <a:lnTo>
                      <a:pt x="664" y="189"/>
                    </a:lnTo>
                    <a:lnTo>
                      <a:pt x="680" y="161"/>
                    </a:lnTo>
                    <a:lnTo>
                      <a:pt x="698" y="134"/>
                    </a:lnTo>
                    <a:lnTo>
                      <a:pt x="715" y="107"/>
                    </a:lnTo>
                    <a:lnTo>
                      <a:pt x="731" y="81"/>
                    </a:lnTo>
                    <a:lnTo>
                      <a:pt x="748" y="54"/>
                    </a:lnTo>
                    <a:lnTo>
                      <a:pt x="764" y="27"/>
                    </a:lnTo>
                    <a:lnTo>
                      <a:pt x="781" y="0"/>
                    </a:lnTo>
                    <a:lnTo>
                      <a:pt x="797" y="5"/>
                    </a:lnTo>
                    <a:lnTo>
                      <a:pt x="813" y="11"/>
                    </a:lnTo>
                    <a:lnTo>
                      <a:pt x="826" y="17"/>
                    </a:lnTo>
                    <a:lnTo>
                      <a:pt x="842" y="23"/>
                    </a:lnTo>
                    <a:lnTo>
                      <a:pt x="857" y="29"/>
                    </a:lnTo>
                    <a:lnTo>
                      <a:pt x="871" y="37"/>
                    </a:lnTo>
                    <a:lnTo>
                      <a:pt x="887" y="42"/>
                    </a:lnTo>
                    <a:lnTo>
                      <a:pt x="902" y="50"/>
                    </a:lnTo>
                    <a:lnTo>
                      <a:pt x="914" y="70"/>
                    </a:lnTo>
                    <a:lnTo>
                      <a:pt x="928" y="91"/>
                    </a:lnTo>
                    <a:lnTo>
                      <a:pt x="941" y="111"/>
                    </a:lnTo>
                    <a:lnTo>
                      <a:pt x="955" y="132"/>
                    </a:lnTo>
                    <a:lnTo>
                      <a:pt x="974" y="140"/>
                    </a:lnTo>
                    <a:lnTo>
                      <a:pt x="994" y="150"/>
                    </a:lnTo>
                    <a:lnTo>
                      <a:pt x="1015" y="157"/>
                    </a:lnTo>
                    <a:lnTo>
                      <a:pt x="1035" y="167"/>
                    </a:lnTo>
                    <a:lnTo>
                      <a:pt x="1056" y="175"/>
                    </a:lnTo>
                    <a:lnTo>
                      <a:pt x="1076" y="185"/>
                    </a:lnTo>
                    <a:lnTo>
                      <a:pt x="1097" y="193"/>
                    </a:lnTo>
                    <a:lnTo>
                      <a:pt x="1119" y="202"/>
                    </a:lnTo>
                    <a:lnTo>
                      <a:pt x="1132" y="210"/>
                    </a:lnTo>
                    <a:lnTo>
                      <a:pt x="1148" y="218"/>
                    </a:lnTo>
                    <a:lnTo>
                      <a:pt x="1161" y="226"/>
                    </a:lnTo>
                    <a:lnTo>
                      <a:pt x="1177" y="233"/>
                    </a:lnTo>
                    <a:lnTo>
                      <a:pt x="1193" y="241"/>
                    </a:lnTo>
                    <a:lnTo>
                      <a:pt x="1208" y="249"/>
                    </a:lnTo>
                    <a:lnTo>
                      <a:pt x="1222" y="257"/>
                    </a:lnTo>
                    <a:lnTo>
                      <a:pt x="1237" y="265"/>
                    </a:lnTo>
                    <a:lnTo>
                      <a:pt x="1261" y="263"/>
                    </a:lnTo>
                    <a:lnTo>
                      <a:pt x="1284" y="261"/>
                    </a:lnTo>
                    <a:lnTo>
                      <a:pt x="1308" y="259"/>
                    </a:lnTo>
                    <a:lnTo>
                      <a:pt x="1331" y="257"/>
                    </a:lnTo>
                    <a:lnTo>
                      <a:pt x="1354" y="255"/>
                    </a:lnTo>
                    <a:lnTo>
                      <a:pt x="1376" y="253"/>
                    </a:lnTo>
                    <a:lnTo>
                      <a:pt x="1399" y="251"/>
                    </a:lnTo>
                    <a:lnTo>
                      <a:pt x="1423" y="249"/>
                    </a:lnTo>
                    <a:lnTo>
                      <a:pt x="1446" y="249"/>
                    </a:lnTo>
                    <a:lnTo>
                      <a:pt x="1467" y="247"/>
                    </a:lnTo>
                    <a:lnTo>
                      <a:pt x="1491" y="245"/>
                    </a:lnTo>
                    <a:lnTo>
                      <a:pt x="1514" y="243"/>
                    </a:lnTo>
                    <a:lnTo>
                      <a:pt x="1538" y="241"/>
                    </a:lnTo>
                    <a:lnTo>
                      <a:pt x="1559" y="239"/>
                    </a:lnTo>
                    <a:lnTo>
                      <a:pt x="1582" y="237"/>
                    </a:lnTo>
                    <a:lnTo>
                      <a:pt x="1606" y="235"/>
                    </a:lnTo>
                    <a:lnTo>
                      <a:pt x="1614" y="243"/>
                    </a:lnTo>
                    <a:lnTo>
                      <a:pt x="1623" y="253"/>
                    </a:lnTo>
                    <a:lnTo>
                      <a:pt x="1631" y="261"/>
                    </a:lnTo>
                    <a:lnTo>
                      <a:pt x="1641" y="270"/>
                    </a:lnTo>
                    <a:lnTo>
                      <a:pt x="1649" y="278"/>
                    </a:lnTo>
                    <a:lnTo>
                      <a:pt x="1656" y="288"/>
                    </a:lnTo>
                    <a:lnTo>
                      <a:pt x="1666" y="296"/>
                    </a:lnTo>
                    <a:lnTo>
                      <a:pt x="1674" y="306"/>
                    </a:lnTo>
                    <a:lnTo>
                      <a:pt x="1688" y="306"/>
                    </a:lnTo>
                    <a:lnTo>
                      <a:pt x="1701" y="306"/>
                    </a:lnTo>
                    <a:lnTo>
                      <a:pt x="1715" y="306"/>
                    </a:lnTo>
                    <a:lnTo>
                      <a:pt x="1730" y="306"/>
                    </a:lnTo>
                    <a:lnTo>
                      <a:pt x="1744" y="306"/>
                    </a:lnTo>
                    <a:lnTo>
                      <a:pt x="1758" y="306"/>
                    </a:lnTo>
                    <a:lnTo>
                      <a:pt x="1771" y="306"/>
                    </a:lnTo>
                    <a:lnTo>
                      <a:pt x="1785" y="306"/>
                    </a:lnTo>
                    <a:lnTo>
                      <a:pt x="1810" y="306"/>
                    </a:lnTo>
                    <a:lnTo>
                      <a:pt x="1838" y="304"/>
                    </a:lnTo>
                    <a:lnTo>
                      <a:pt x="1863" y="304"/>
                    </a:lnTo>
                    <a:lnTo>
                      <a:pt x="1890" y="302"/>
                    </a:lnTo>
                    <a:lnTo>
                      <a:pt x="1916" y="300"/>
                    </a:lnTo>
                    <a:lnTo>
                      <a:pt x="1941" y="300"/>
                    </a:lnTo>
                    <a:lnTo>
                      <a:pt x="1968" y="298"/>
                    </a:lnTo>
                    <a:lnTo>
                      <a:pt x="1994" y="298"/>
                    </a:lnTo>
                    <a:lnTo>
                      <a:pt x="1986" y="311"/>
                    </a:lnTo>
                    <a:lnTo>
                      <a:pt x="1976" y="323"/>
                    </a:lnTo>
                    <a:lnTo>
                      <a:pt x="1968" y="337"/>
                    </a:lnTo>
                    <a:lnTo>
                      <a:pt x="1960" y="350"/>
                    </a:lnTo>
                    <a:lnTo>
                      <a:pt x="1951" y="364"/>
                    </a:lnTo>
                    <a:lnTo>
                      <a:pt x="1943" y="376"/>
                    </a:lnTo>
                    <a:lnTo>
                      <a:pt x="1933" y="389"/>
                    </a:lnTo>
                    <a:lnTo>
                      <a:pt x="1925" y="403"/>
                    </a:lnTo>
                    <a:lnTo>
                      <a:pt x="1914" y="450"/>
                    </a:lnTo>
                    <a:lnTo>
                      <a:pt x="1902" y="497"/>
                    </a:lnTo>
                    <a:lnTo>
                      <a:pt x="1890" y="543"/>
                    </a:lnTo>
                    <a:lnTo>
                      <a:pt x="1879" y="590"/>
                    </a:lnTo>
                    <a:lnTo>
                      <a:pt x="1900" y="590"/>
                    </a:lnTo>
                    <a:lnTo>
                      <a:pt x="1919" y="590"/>
                    </a:lnTo>
                    <a:lnTo>
                      <a:pt x="1941" y="590"/>
                    </a:lnTo>
                    <a:lnTo>
                      <a:pt x="1960" y="590"/>
                    </a:lnTo>
                    <a:lnTo>
                      <a:pt x="1982" y="590"/>
                    </a:lnTo>
                    <a:lnTo>
                      <a:pt x="2001" y="590"/>
                    </a:lnTo>
                    <a:lnTo>
                      <a:pt x="2023" y="590"/>
                    </a:lnTo>
                    <a:lnTo>
                      <a:pt x="2042" y="590"/>
                    </a:lnTo>
                    <a:lnTo>
                      <a:pt x="2029" y="614"/>
                    </a:lnTo>
                    <a:lnTo>
                      <a:pt x="2013" y="639"/>
                    </a:lnTo>
                    <a:lnTo>
                      <a:pt x="1999" y="662"/>
                    </a:lnTo>
                    <a:lnTo>
                      <a:pt x="1984" y="686"/>
                    </a:lnTo>
                    <a:lnTo>
                      <a:pt x="1970" y="709"/>
                    </a:lnTo>
                    <a:lnTo>
                      <a:pt x="1955" y="732"/>
                    </a:lnTo>
                    <a:lnTo>
                      <a:pt x="1941" y="756"/>
                    </a:lnTo>
                    <a:lnTo>
                      <a:pt x="1925" y="779"/>
                    </a:lnTo>
                    <a:lnTo>
                      <a:pt x="1918" y="808"/>
                    </a:lnTo>
                    <a:lnTo>
                      <a:pt x="1908" y="838"/>
                    </a:lnTo>
                    <a:lnTo>
                      <a:pt x="1900" y="867"/>
                    </a:lnTo>
                    <a:lnTo>
                      <a:pt x="1890" y="896"/>
                    </a:lnTo>
                    <a:lnTo>
                      <a:pt x="1882" y="925"/>
                    </a:lnTo>
                    <a:lnTo>
                      <a:pt x="1873" y="955"/>
                    </a:lnTo>
                    <a:lnTo>
                      <a:pt x="1865" y="984"/>
                    </a:lnTo>
                    <a:lnTo>
                      <a:pt x="1855" y="1013"/>
                    </a:lnTo>
                    <a:lnTo>
                      <a:pt x="1842" y="1042"/>
                    </a:lnTo>
                    <a:lnTo>
                      <a:pt x="1826" y="1074"/>
                    </a:lnTo>
                    <a:lnTo>
                      <a:pt x="1812" y="1103"/>
                    </a:lnTo>
                    <a:lnTo>
                      <a:pt x="1797" y="1132"/>
                    </a:lnTo>
                    <a:lnTo>
                      <a:pt x="1783" y="1161"/>
                    </a:lnTo>
                    <a:lnTo>
                      <a:pt x="1767" y="1191"/>
                    </a:lnTo>
                    <a:lnTo>
                      <a:pt x="1754" y="1220"/>
                    </a:lnTo>
                    <a:lnTo>
                      <a:pt x="1740" y="1249"/>
                    </a:lnTo>
                    <a:lnTo>
                      <a:pt x="1766" y="1278"/>
                    </a:lnTo>
                    <a:lnTo>
                      <a:pt x="1791" y="1307"/>
                    </a:lnTo>
                    <a:lnTo>
                      <a:pt x="1818" y="1337"/>
                    </a:lnTo>
                    <a:lnTo>
                      <a:pt x="1843" y="1366"/>
                    </a:lnTo>
                    <a:lnTo>
                      <a:pt x="1871" y="1395"/>
                    </a:lnTo>
                    <a:lnTo>
                      <a:pt x="1896" y="1424"/>
                    </a:lnTo>
                    <a:lnTo>
                      <a:pt x="1923" y="1454"/>
                    </a:lnTo>
                    <a:lnTo>
                      <a:pt x="1949" y="1483"/>
                    </a:lnTo>
                    <a:lnTo>
                      <a:pt x="1919" y="1473"/>
                    </a:lnTo>
                    <a:lnTo>
                      <a:pt x="1890" y="1465"/>
                    </a:lnTo>
                    <a:lnTo>
                      <a:pt x="1861" y="1456"/>
                    </a:lnTo>
                    <a:lnTo>
                      <a:pt x="1832" y="1448"/>
                    </a:lnTo>
                    <a:lnTo>
                      <a:pt x="1803" y="1438"/>
                    </a:lnTo>
                    <a:lnTo>
                      <a:pt x="1773" y="1430"/>
                    </a:lnTo>
                    <a:lnTo>
                      <a:pt x="1746" y="1421"/>
                    </a:lnTo>
                    <a:lnTo>
                      <a:pt x="1717" y="1413"/>
                    </a:lnTo>
                    <a:lnTo>
                      <a:pt x="1717" y="1465"/>
                    </a:lnTo>
                    <a:lnTo>
                      <a:pt x="1717" y="1518"/>
                    </a:lnTo>
                    <a:lnTo>
                      <a:pt x="1717" y="1573"/>
                    </a:lnTo>
                    <a:lnTo>
                      <a:pt x="1717" y="1625"/>
                    </a:lnTo>
                    <a:lnTo>
                      <a:pt x="1686" y="1625"/>
                    </a:lnTo>
                    <a:lnTo>
                      <a:pt x="1652" y="1625"/>
                    </a:lnTo>
                    <a:lnTo>
                      <a:pt x="1621" y="1625"/>
                    </a:lnTo>
                    <a:lnTo>
                      <a:pt x="1588" y="1625"/>
                    </a:lnTo>
                    <a:lnTo>
                      <a:pt x="1557" y="1625"/>
                    </a:lnTo>
                    <a:lnTo>
                      <a:pt x="1524" y="1625"/>
                    </a:lnTo>
                    <a:lnTo>
                      <a:pt x="1493" y="1625"/>
                    </a:lnTo>
                    <a:lnTo>
                      <a:pt x="1462" y="1625"/>
                    </a:lnTo>
                    <a:lnTo>
                      <a:pt x="1448" y="1608"/>
                    </a:lnTo>
                    <a:lnTo>
                      <a:pt x="1432" y="1590"/>
                    </a:lnTo>
                    <a:lnTo>
                      <a:pt x="1419" y="1573"/>
                    </a:lnTo>
                    <a:lnTo>
                      <a:pt x="1403" y="1555"/>
                    </a:lnTo>
                    <a:lnTo>
                      <a:pt x="1389" y="1537"/>
                    </a:lnTo>
                    <a:lnTo>
                      <a:pt x="1374" y="1520"/>
                    </a:lnTo>
                    <a:lnTo>
                      <a:pt x="1360" y="1500"/>
                    </a:lnTo>
                    <a:lnTo>
                      <a:pt x="1345" y="1483"/>
                    </a:lnTo>
                    <a:lnTo>
                      <a:pt x="1315" y="1506"/>
                    </a:lnTo>
                    <a:lnTo>
                      <a:pt x="1286" y="1532"/>
                    </a:lnTo>
                    <a:lnTo>
                      <a:pt x="1257" y="1555"/>
                    </a:lnTo>
                    <a:lnTo>
                      <a:pt x="1228" y="1578"/>
                    </a:lnTo>
                    <a:lnTo>
                      <a:pt x="1198" y="1602"/>
                    </a:lnTo>
                    <a:lnTo>
                      <a:pt x="1169" y="1625"/>
                    </a:lnTo>
                    <a:lnTo>
                      <a:pt x="1142" y="1649"/>
                    </a:lnTo>
                    <a:lnTo>
                      <a:pt x="1113" y="1672"/>
                    </a:lnTo>
                    <a:lnTo>
                      <a:pt x="1107" y="1625"/>
                    </a:lnTo>
                    <a:lnTo>
                      <a:pt x="1101" y="1578"/>
                    </a:lnTo>
                    <a:lnTo>
                      <a:pt x="1095" y="1532"/>
                    </a:lnTo>
                    <a:lnTo>
                      <a:pt x="1089" y="1483"/>
                    </a:lnTo>
                    <a:lnTo>
                      <a:pt x="1058" y="1495"/>
                    </a:lnTo>
                    <a:lnTo>
                      <a:pt x="1025" y="1508"/>
                    </a:lnTo>
                    <a:lnTo>
                      <a:pt x="994" y="1520"/>
                    </a:lnTo>
                    <a:lnTo>
                      <a:pt x="961" y="1532"/>
                    </a:lnTo>
                    <a:lnTo>
                      <a:pt x="930" y="1543"/>
                    </a:lnTo>
                    <a:lnTo>
                      <a:pt x="896" y="1555"/>
                    </a:lnTo>
                    <a:lnTo>
                      <a:pt x="865" y="1567"/>
                    </a:lnTo>
                    <a:lnTo>
                      <a:pt x="834" y="1578"/>
                    </a:lnTo>
                    <a:lnTo>
                      <a:pt x="805" y="1586"/>
                    </a:lnTo>
                    <a:lnTo>
                      <a:pt x="776" y="1596"/>
                    </a:lnTo>
                    <a:lnTo>
                      <a:pt x="746" y="1604"/>
                    </a:lnTo>
                    <a:lnTo>
                      <a:pt x="717" y="1613"/>
                    </a:lnTo>
                    <a:lnTo>
                      <a:pt x="688" y="1621"/>
                    </a:lnTo>
                    <a:lnTo>
                      <a:pt x="659" y="1631"/>
                    </a:lnTo>
                    <a:lnTo>
                      <a:pt x="629" y="1639"/>
                    </a:lnTo>
                    <a:lnTo>
                      <a:pt x="602" y="1649"/>
                    </a:lnTo>
                    <a:lnTo>
                      <a:pt x="573" y="1656"/>
                    </a:lnTo>
                    <a:lnTo>
                      <a:pt x="544" y="1666"/>
                    </a:lnTo>
                    <a:lnTo>
                      <a:pt x="514" y="1674"/>
                    </a:lnTo>
                    <a:lnTo>
                      <a:pt x="485" y="1684"/>
                    </a:lnTo>
                    <a:lnTo>
                      <a:pt x="456" y="1691"/>
                    </a:lnTo>
                    <a:lnTo>
                      <a:pt x="427" y="1701"/>
                    </a:lnTo>
                    <a:lnTo>
                      <a:pt x="398" y="1709"/>
                    </a:lnTo>
                    <a:lnTo>
                      <a:pt x="368" y="1719"/>
                    </a:lnTo>
                    <a:lnTo>
                      <a:pt x="390" y="1678"/>
                    </a:lnTo>
                    <a:lnTo>
                      <a:pt x="409" y="1637"/>
                    </a:lnTo>
                    <a:lnTo>
                      <a:pt x="431" y="1596"/>
                    </a:lnTo>
                    <a:lnTo>
                      <a:pt x="450" y="1553"/>
                    </a:lnTo>
                    <a:lnTo>
                      <a:pt x="472" y="1512"/>
                    </a:lnTo>
                    <a:lnTo>
                      <a:pt x="491" y="1471"/>
                    </a:lnTo>
                    <a:lnTo>
                      <a:pt x="512" y="1430"/>
                    </a:lnTo>
                    <a:lnTo>
                      <a:pt x="532" y="1389"/>
                    </a:lnTo>
                    <a:lnTo>
                      <a:pt x="507" y="1401"/>
                    </a:lnTo>
                    <a:lnTo>
                      <a:pt x="479" y="1413"/>
                    </a:lnTo>
                    <a:lnTo>
                      <a:pt x="454" y="1424"/>
                    </a:lnTo>
                    <a:lnTo>
                      <a:pt x="427" y="1436"/>
                    </a:lnTo>
                    <a:lnTo>
                      <a:pt x="401" y="1448"/>
                    </a:lnTo>
                    <a:lnTo>
                      <a:pt x="374" y="1459"/>
                    </a:lnTo>
                    <a:lnTo>
                      <a:pt x="349" y="1471"/>
                    </a:lnTo>
                    <a:lnTo>
                      <a:pt x="322" y="1483"/>
                    </a:lnTo>
                    <a:lnTo>
                      <a:pt x="331" y="1459"/>
                    </a:lnTo>
                    <a:lnTo>
                      <a:pt x="339" y="1436"/>
                    </a:lnTo>
                    <a:lnTo>
                      <a:pt x="349" y="1413"/>
                    </a:lnTo>
                    <a:lnTo>
                      <a:pt x="357" y="1389"/>
                    </a:lnTo>
                    <a:lnTo>
                      <a:pt x="366" y="1366"/>
                    </a:lnTo>
                    <a:lnTo>
                      <a:pt x="374" y="1343"/>
                    </a:lnTo>
                    <a:lnTo>
                      <a:pt x="384" y="1319"/>
                    </a:lnTo>
                    <a:lnTo>
                      <a:pt x="392" y="1296"/>
                    </a:lnTo>
                    <a:lnTo>
                      <a:pt x="374" y="1284"/>
                    </a:lnTo>
                    <a:lnTo>
                      <a:pt x="357" y="1272"/>
                    </a:lnTo>
                    <a:lnTo>
                      <a:pt x="339" y="1261"/>
                    </a:lnTo>
                    <a:lnTo>
                      <a:pt x="322" y="1249"/>
                    </a:lnTo>
                    <a:lnTo>
                      <a:pt x="304" y="1237"/>
                    </a:lnTo>
                    <a:lnTo>
                      <a:pt x="286" y="1226"/>
                    </a:lnTo>
                    <a:lnTo>
                      <a:pt x="269" y="1214"/>
                    </a:lnTo>
                    <a:lnTo>
                      <a:pt x="251" y="1202"/>
                    </a:lnTo>
                    <a:lnTo>
                      <a:pt x="269" y="1187"/>
                    </a:lnTo>
                    <a:lnTo>
                      <a:pt x="286" y="1173"/>
                    </a:lnTo>
                    <a:lnTo>
                      <a:pt x="304" y="1157"/>
                    </a:lnTo>
                    <a:lnTo>
                      <a:pt x="322" y="1144"/>
                    </a:lnTo>
                    <a:lnTo>
                      <a:pt x="339" y="1128"/>
                    </a:lnTo>
                    <a:lnTo>
                      <a:pt x="357" y="1114"/>
                    </a:lnTo>
                    <a:lnTo>
                      <a:pt x="374" y="1099"/>
                    </a:lnTo>
                    <a:lnTo>
                      <a:pt x="392" y="1085"/>
                    </a:lnTo>
                    <a:lnTo>
                      <a:pt x="372" y="1064"/>
                    </a:lnTo>
                    <a:lnTo>
                      <a:pt x="351" y="1040"/>
                    </a:lnTo>
                    <a:lnTo>
                      <a:pt x="331" y="1019"/>
                    </a:lnTo>
                    <a:lnTo>
                      <a:pt x="310" y="996"/>
                    </a:lnTo>
                    <a:lnTo>
                      <a:pt x="290" y="974"/>
                    </a:lnTo>
                    <a:lnTo>
                      <a:pt x="271" y="953"/>
                    </a:lnTo>
                    <a:lnTo>
                      <a:pt x="251" y="929"/>
                    </a:lnTo>
                    <a:lnTo>
                      <a:pt x="232" y="908"/>
                    </a:lnTo>
                    <a:lnTo>
                      <a:pt x="210" y="886"/>
                    </a:lnTo>
                    <a:lnTo>
                      <a:pt x="191" y="865"/>
                    </a:lnTo>
                    <a:lnTo>
                      <a:pt x="171" y="842"/>
                    </a:lnTo>
                    <a:lnTo>
                      <a:pt x="152" y="820"/>
                    </a:lnTo>
                    <a:lnTo>
                      <a:pt x="131" y="799"/>
                    </a:lnTo>
                    <a:lnTo>
                      <a:pt x="111" y="777"/>
                    </a:lnTo>
                    <a:lnTo>
                      <a:pt x="90" y="754"/>
                    </a:lnTo>
                    <a:lnTo>
                      <a:pt x="70" y="732"/>
                    </a:lnTo>
                    <a:lnTo>
                      <a:pt x="62" y="705"/>
                    </a:lnTo>
                    <a:lnTo>
                      <a:pt x="53" y="680"/>
                    </a:lnTo>
                    <a:lnTo>
                      <a:pt x="45" y="653"/>
                    </a:lnTo>
                    <a:lnTo>
                      <a:pt x="35" y="625"/>
                    </a:lnTo>
                    <a:lnTo>
                      <a:pt x="27" y="600"/>
                    </a:lnTo>
                    <a:lnTo>
                      <a:pt x="18" y="573"/>
                    </a:lnTo>
                    <a:lnTo>
                      <a:pt x="10" y="545"/>
                    </a:lnTo>
                    <a:lnTo>
                      <a:pt x="0" y="518"/>
                    </a:lnTo>
                    <a:lnTo>
                      <a:pt x="29" y="532"/>
                    </a:lnTo>
                    <a:lnTo>
                      <a:pt x="58" y="543"/>
                    </a:lnTo>
                    <a:lnTo>
                      <a:pt x="88" y="557"/>
                    </a:lnTo>
                    <a:lnTo>
                      <a:pt x="117" y="569"/>
                    </a:lnTo>
                    <a:lnTo>
                      <a:pt x="146" y="580"/>
                    </a:lnTo>
                    <a:lnTo>
                      <a:pt x="173" y="592"/>
                    </a:lnTo>
                    <a:lnTo>
                      <a:pt x="203" y="604"/>
                    </a:lnTo>
                    <a:lnTo>
                      <a:pt x="230" y="615"/>
                    </a:lnTo>
                    <a:lnTo>
                      <a:pt x="230" y="569"/>
                    </a:lnTo>
                    <a:lnTo>
                      <a:pt x="230" y="520"/>
                    </a:lnTo>
                    <a:lnTo>
                      <a:pt x="230" y="473"/>
                    </a:lnTo>
                    <a:lnTo>
                      <a:pt x="230" y="426"/>
                    </a:lnTo>
                    <a:lnTo>
                      <a:pt x="253" y="444"/>
                    </a:lnTo>
                    <a:lnTo>
                      <a:pt x="275" y="461"/>
                    </a:lnTo>
                    <a:lnTo>
                      <a:pt x="298" y="479"/>
                    </a:lnTo>
                    <a:lnTo>
                      <a:pt x="322" y="497"/>
                    </a:lnTo>
                    <a:lnTo>
                      <a:pt x="345" y="514"/>
                    </a:lnTo>
                    <a:lnTo>
                      <a:pt x="368" y="532"/>
                    </a:lnTo>
                    <a:lnTo>
                      <a:pt x="392" y="549"/>
                    </a:lnTo>
                    <a:lnTo>
                      <a:pt x="415" y="569"/>
                    </a:lnTo>
                    <a:lnTo>
                      <a:pt x="403" y="508"/>
                    </a:lnTo>
                    <a:lnTo>
                      <a:pt x="392" y="450"/>
                    </a:lnTo>
                    <a:lnTo>
                      <a:pt x="380" y="391"/>
                    </a:lnTo>
                    <a:lnTo>
                      <a:pt x="368" y="333"/>
                    </a:lnTo>
                    <a:close/>
                  </a:path>
                </a:pathLst>
              </a:custGeom>
              <a:solidFill>
                <a:srgbClr val="6691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2015640" y="3500640"/>
                <a:ext cx="2086920" cy="1883160"/>
              </a:xfrm>
              <a:custGeom>
                <a:avLst/>
                <a:gdLst/>
                <a:ahLst/>
                <a:rect l="l" t="t" r="r" b="b"/>
                <a:pathLst>
                  <a:path w="1996" h="1682">
                    <a:moveTo>
                      <a:pt x="363" y="328"/>
                    </a:moveTo>
                    <a:lnTo>
                      <a:pt x="351" y="296"/>
                    </a:lnTo>
                    <a:lnTo>
                      <a:pt x="337" y="265"/>
                    </a:lnTo>
                    <a:lnTo>
                      <a:pt x="326" y="234"/>
                    </a:lnTo>
                    <a:lnTo>
                      <a:pt x="314" y="201"/>
                    </a:lnTo>
                    <a:lnTo>
                      <a:pt x="302" y="170"/>
                    </a:lnTo>
                    <a:lnTo>
                      <a:pt x="291" y="139"/>
                    </a:lnTo>
                    <a:lnTo>
                      <a:pt x="281" y="107"/>
                    </a:lnTo>
                    <a:lnTo>
                      <a:pt x="269" y="76"/>
                    </a:lnTo>
                    <a:lnTo>
                      <a:pt x="295" y="94"/>
                    </a:lnTo>
                    <a:lnTo>
                      <a:pt x="320" y="109"/>
                    </a:lnTo>
                    <a:lnTo>
                      <a:pt x="345" y="127"/>
                    </a:lnTo>
                    <a:lnTo>
                      <a:pt x="373" y="144"/>
                    </a:lnTo>
                    <a:lnTo>
                      <a:pt x="398" y="162"/>
                    </a:lnTo>
                    <a:lnTo>
                      <a:pt x="423" y="180"/>
                    </a:lnTo>
                    <a:lnTo>
                      <a:pt x="449" y="195"/>
                    </a:lnTo>
                    <a:lnTo>
                      <a:pt x="474" y="213"/>
                    </a:lnTo>
                    <a:lnTo>
                      <a:pt x="480" y="183"/>
                    </a:lnTo>
                    <a:lnTo>
                      <a:pt x="486" y="154"/>
                    </a:lnTo>
                    <a:lnTo>
                      <a:pt x="491" y="125"/>
                    </a:lnTo>
                    <a:lnTo>
                      <a:pt x="497" y="96"/>
                    </a:lnTo>
                    <a:lnTo>
                      <a:pt x="515" y="111"/>
                    </a:lnTo>
                    <a:lnTo>
                      <a:pt x="530" y="125"/>
                    </a:lnTo>
                    <a:lnTo>
                      <a:pt x="548" y="141"/>
                    </a:lnTo>
                    <a:lnTo>
                      <a:pt x="565" y="154"/>
                    </a:lnTo>
                    <a:lnTo>
                      <a:pt x="581" y="170"/>
                    </a:lnTo>
                    <a:lnTo>
                      <a:pt x="599" y="183"/>
                    </a:lnTo>
                    <a:lnTo>
                      <a:pt x="616" y="199"/>
                    </a:lnTo>
                    <a:lnTo>
                      <a:pt x="634" y="213"/>
                    </a:lnTo>
                    <a:lnTo>
                      <a:pt x="649" y="185"/>
                    </a:lnTo>
                    <a:lnTo>
                      <a:pt x="665" y="160"/>
                    </a:lnTo>
                    <a:lnTo>
                      <a:pt x="680" y="133"/>
                    </a:lnTo>
                    <a:lnTo>
                      <a:pt x="696" y="107"/>
                    </a:lnTo>
                    <a:lnTo>
                      <a:pt x="712" y="80"/>
                    </a:lnTo>
                    <a:lnTo>
                      <a:pt x="729" y="55"/>
                    </a:lnTo>
                    <a:lnTo>
                      <a:pt x="745" y="27"/>
                    </a:lnTo>
                    <a:lnTo>
                      <a:pt x="760" y="0"/>
                    </a:lnTo>
                    <a:lnTo>
                      <a:pt x="776" y="6"/>
                    </a:lnTo>
                    <a:lnTo>
                      <a:pt x="791" y="14"/>
                    </a:lnTo>
                    <a:lnTo>
                      <a:pt x="805" y="20"/>
                    </a:lnTo>
                    <a:lnTo>
                      <a:pt x="821" y="27"/>
                    </a:lnTo>
                    <a:lnTo>
                      <a:pt x="834" y="35"/>
                    </a:lnTo>
                    <a:lnTo>
                      <a:pt x="850" y="41"/>
                    </a:lnTo>
                    <a:lnTo>
                      <a:pt x="864" y="49"/>
                    </a:lnTo>
                    <a:lnTo>
                      <a:pt x="879" y="55"/>
                    </a:lnTo>
                    <a:lnTo>
                      <a:pt x="893" y="72"/>
                    </a:lnTo>
                    <a:lnTo>
                      <a:pt x="908" y="90"/>
                    </a:lnTo>
                    <a:lnTo>
                      <a:pt x="922" y="107"/>
                    </a:lnTo>
                    <a:lnTo>
                      <a:pt x="936" y="125"/>
                    </a:lnTo>
                    <a:lnTo>
                      <a:pt x="955" y="135"/>
                    </a:lnTo>
                    <a:lnTo>
                      <a:pt x="975" y="142"/>
                    </a:lnTo>
                    <a:lnTo>
                      <a:pt x="994" y="152"/>
                    </a:lnTo>
                    <a:lnTo>
                      <a:pt x="1014" y="160"/>
                    </a:lnTo>
                    <a:lnTo>
                      <a:pt x="1033" y="170"/>
                    </a:lnTo>
                    <a:lnTo>
                      <a:pt x="1053" y="178"/>
                    </a:lnTo>
                    <a:lnTo>
                      <a:pt x="1074" y="187"/>
                    </a:lnTo>
                    <a:lnTo>
                      <a:pt x="1094" y="197"/>
                    </a:lnTo>
                    <a:lnTo>
                      <a:pt x="1109" y="205"/>
                    </a:lnTo>
                    <a:lnTo>
                      <a:pt x="1125" y="211"/>
                    </a:lnTo>
                    <a:lnTo>
                      <a:pt x="1140" y="218"/>
                    </a:lnTo>
                    <a:lnTo>
                      <a:pt x="1156" y="224"/>
                    </a:lnTo>
                    <a:lnTo>
                      <a:pt x="1173" y="232"/>
                    </a:lnTo>
                    <a:lnTo>
                      <a:pt x="1189" y="238"/>
                    </a:lnTo>
                    <a:lnTo>
                      <a:pt x="1205" y="246"/>
                    </a:lnTo>
                    <a:lnTo>
                      <a:pt x="1222" y="252"/>
                    </a:lnTo>
                    <a:lnTo>
                      <a:pt x="1244" y="250"/>
                    </a:lnTo>
                    <a:lnTo>
                      <a:pt x="1267" y="250"/>
                    </a:lnTo>
                    <a:lnTo>
                      <a:pt x="1288" y="248"/>
                    </a:lnTo>
                    <a:lnTo>
                      <a:pt x="1312" y="248"/>
                    </a:lnTo>
                    <a:lnTo>
                      <a:pt x="1333" y="246"/>
                    </a:lnTo>
                    <a:lnTo>
                      <a:pt x="1355" y="244"/>
                    </a:lnTo>
                    <a:lnTo>
                      <a:pt x="1378" y="242"/>
                    </a:lnTo>
                    <a:lnTo>
                      <a:pt x="1399" y="242"/>
                    </a:lnTo>
                    <a:lnTo>
                      <a:pt x="1421" y="240"/>
                    </a:lnTo>
                    <a:lnTo>
                      <a:pt x="1444" y="238"/>
                    </a:lnTo>
                    <a:lnTo>
                      <a:pt x="1466" y="236"/>
                    </a:lnTo>
                    <a:lnTo>
                      <a:pt x="1487" y="236"/>
                    </a:lnTo>
                    <a:lnTo>
                      <a:pt x="1511" y="234"/>
                    </a:lnTo>
                    <a:lnTo>
                      <a:pt x="1532" y="232"/>
                    </a:lnTo>
                    <a:lnTo>
                      <a:pt x="1555" y="230"/>
                    </a:lnTo>
                    <a:lnTo>
                      <a:pt x="1577" y="228"/>
                    </a:lnTo>
                    <a:lnTo>
                      <a:pt x="1585" y="236"/>
                    </a:lnTo>
                    <a:lnTo>
                      <a:pt x="1592" y="244"/>
                    </a:lnTo>
                    <a:lnTo>
                      <a:pt x="1602" y="252"/>
                    </a:lnTo>
                    <a:lnTo>
                      <a:pt x="1610" y="259"/>
                    </a:lnTo>
                    <a:lnTo>
                      <a:pt x="1618" y="269"/>
                    </a:lnTo>
                    <a:lnTo>
                      <a:pt x="1627" y="277"/>
                    </a:lnTo>
                    <a:lnTo>
                      <a:pt x="1635" y="285"/>
                    </a:lnTo>
                    <a:lnTo>
                      <a:pt x="1643" y="293"/>
                    </a:lnTo>
                    <a:lnTo>
                      <a:pt x="1657" y="293"/>
                    </a:lnTo>
                    <a:lnTo>
                      <a:pt x="1668" y="293"/>
                    </a:lnTo>
                    <a:lnTo>
                      <a:pt x="1682" y="293"/>
                    </a:lnTo>
                    <a:lnTo>
                      <a:pt x="1696" y="293"/>
                    </a:lnTo>
                    <a:lnTo>
                      <a:pt x="1709" y="295"/>
                    </a:lnTo>
                    <a:lnTo>
                      <a:pt x="1721" y="295"/>
                    </a:lnTo>
                    <a:lnTo>
                      <a:pt x="1735" y="295"/>
                    </a:lnTo>
                    <a:lnTo>
                      <a:pt x="1746" y="295"/>
                    </a:lnTo>
                    <a:lnTo>
                      <a:pt x="1772" y="295"/>
                    </a:lnTo>
                    <a:lnTo>
                      <a:pt x="1799" y="293"/>
                    </a:lnTo>
                    <a:lnTo>
                      <a:pt x="1824" y="293"/>
                    </a:lnTo>
                    <a:lnTo>
                      <a:pt x="1850" y="291"/>
                    </a:lnTo>
                    <a:lnTo>
                      <a:pt x="1877" y="289"/>
                    </a:lnTo>
                    <a:lnTo>
                      <a:pt x="1902" y="289"/>
                    </a:lnTo>
                    <a:lnTo>
                      <a:pt x="1928" y="287"/>
                    </a:lnTo>
                    <a:lnTo>
                      <a:pt x="1953" y="287"/>
                    </a:lnTo>
                    <a:lnTo>
                      <a:pt x="1945" y="300"/>
                    </a:lnTo>
                    <a:lnTo>
                      <a:pt x="1935" y="314"/>
                    </a:lnTo>
                    <a:lnTo>
                      <a:pt x="1928" y="328"/>
                    </a:lnTo>
                    <a:lnTo>
                      <a:pt x="1918" y="341"/>
                    </a:lnTo>
                    <a:lnTo>
                      <a:pt x="1910" y="357"/>
                    </a:lnTo>
                    <a:lnTo>
                      <a:pt x="1900" y="371"/>
                    </a:lnTo>
                    <a:lnTo>
                      <a:pt x="1893" y="384"/>
                    </a:lnTo>
                    <a:lnTo>
                      <a:pt x="1883" y="398"/>
                    </a:lnTo>
                    <a:lnTo>
                      <a:pt x="1871" y="443"/>
                    </a:lnTo>
                    <a:lnTo>
                      <a:pt x="1859" y="489"/>
                    </a:lnTo>
                    <a:lnTo>
                      <a:pt x="1848" y="534"/>
                    </a:lnTo>
                    <a:lnTo>
                      <a:pt x="1838" y="581"/>
                    </a:lnTo>
                    <a:lnTo>
                      <a:pt x="1857" y="581"/>
                    </a:lnTo>
                    <a:lnTo>
                      <a:pt x="1877" y="581"/>
                    </a:lnTo>
                    <a:lnTo>
                      <a:pt x="1896" y="581"/>
                    </a:lnTo>
                    <a:lnTo>
                      <a:pt x="1918" y="581"/>
                    </a:lnTo>
                    <a:lnTo>
                      <a:pt x="1937" y="581"/>
                    </a:lnTo>
                    <a:lnTo>
                      <a:pt x="1957" y="581"/>
                    </a:lnTo>
                    <a:lnTo>
                      <a:pt x="1976" y="581"/>
                    </a:lnTo>
                    <a:lnTo>
                      <a:pt x="1996" y="581"/>
                    </a:lnTo>
                    <a:lnTo>
                      <a:pt x="1982" y="604"/>
                    </a:lnTo>
                    <a:lnTo>
                      <a:pt x="1969" y="626"/>
                    </a:lnTo>
                    <a:lnTo>
                      <a:pt x="1953" y="649"/>
                    </a:lnTo>
                    <a:lnTo>
                      <a:pt x="1939" y="673"/>
                    </a:lnTo>
                    <a:lnTo>
                      <a:pt x="1926" y="696"/>
                    </a:lnTo>
                    <a:lnTo>
                      <a:pt x="1910" y="719"/>
                    </a:lnTo>
                    <a:lnTo>
                      <a:pt x="1896" y="741"/>
                    </a:lnTo>
                    <a:lnTo>
                      <a:pt x="1883" y="764"/>
                    </a:lnTo>
                    <a:lnTo>
                      <a:pt x="1875" y="794"/>
                    </a:lnTo>
                    <a:lnTo>
                      <a:pt x="1865" y="821"/>
                    </a:lnTo>
                    <a:lnTo>
                      <a:pt x="1857" y="850"/>
                    </a:lnTo>
                    <a:lnTo>
                      <a:pt x="1850" y="879"/>
                    </a:lnTo>
                    <a:lnTo>
                      <a:pt x="1840" y="909"/>
                    </a:lnTo>
                    <a:lnTo>
                      <a:pt x="1832" y="938"/>
                    </a:lnTo>
                    <a:lnTo>
                      <a:pt x="1822" y="965"/>
                    </a:lnTo>
                    <a:lnTo>
                      <a:pt x="1815" y="994"/>
                    </a:lnTo>
                    <a:lnTo>
                      <a:pt x="1801" y="1024"/>
                    </a:lnTo>
                    <a:lnTo>
                      <a:pt x="1787" y="1051"/>
                    </a:lnTo>
                    <a:lnTo>
                      <a:pt x="1772" y="1080"/>
                    </a:lnTo>
                    <a:lnTo>
                      <a:pt x="1758" y="1109"/>
                    </a:lnTo>
                    <a:lnTo>
                      <a:pt x="1744" y="1137"/>
                    </a:lnTo>
                    <a:lnTo>
                      <a:pt x="1729" y="1166"/>
                    </a:lnTo>
                    <a:lnTo>
                      <a:pt x="1715" y="1195"/>
                    </a:lnTo>
                    <a:lnTo>
                      <a:pt x="1702" y="1224"/>
                    </a:lnTo>
                    <a:lnTo>
                      <a:pt x="1727" y="1254"/>
                    </a:lnTo>
                    <a:lnTo>
                      <a:pt x="1752" y="1281"/>
                    </a:lnTo>
                    <a:lnTo>
                      <a:pt x="1778" y="1310"/>
                    </a:lnTo>
                    <a:lnTo>
                      <a:pt x="1805" y="1339"/>
                    </a:lnTo>
                    <a:lnTo>
                      <a:pt x="1830" y="1367"/>
                    </a:lnTo>
                    <a:lnTo>
                      <a:pt x="1855" y="1396"/>
                    </a:lnTo>
                    <a:lnTo>
                      <a:pt x="1881" y="1425"/>
                    </a:lnTo>
                    <a:lnTo>
                      <a:pt x="1906" y="1454"/>
                    </a:lnTo>
                    <a:lnTo>
                      <a:pt x="1877" y="1445"/>
                    </a:lnTo>
                    <a:lnTo>
                      <a:pt x="1850" y="1437"/>
                    </a:lnTo>
                    <a:lnTo>
                      <a:pt x="1820" y="1427"/>
                    </a:lnTo>
                    <a:lnTo>
                      <a:pt x="1793" y="1419"/>
                    </a:lnTo>
                    <a:lnTo>
                      <a:pt x="1764" y="1409"/>
                    </a:lnTo>
                    <a:lnTo>
                      <a:pt x="1735" y="1402"/>
                    </a:lnTo>
                    <a:lnTo>
                      <a:pt x="1707" y="1392"/>
                    </a:lnTo>
                    <a:lnTo>
                      <a:pt x="1678" y="1384"/>
                    </a:lnTo>
                    <a:lnTo>
                      <a:pt x="1678" y="1437"/>
                    </a:lnTo>
                    <a:lnTo>
                      <a:pt x="1678" y="1487"/>
                    </a:lnTo>
                    <a:lnTo>
                      <a:pt x="1678" y="1540"/>
                    </a:lnTo>
                    <a:lnTo>
                      <a:pt x="1678" y="1591"/>
                    </a:lnTo>
                    <a:lnTo>
                      <a:pt x="1647" y="1591"/>
                    </a:lnTo>
                    <a:lnTo>
                      <a:pt x="1616" y="1591"/>
                    </a:lnTo>
                    <a:lnTo>
                      <a:pt x="1585" y="1591"/>
                    </a:lnTo>
                    <a:lnTo>
                      <a:pt x="1553" y="1591"/>
                    </a:lnTo>
                    <a:lnTo>
                      <a:pt x="1522" y="1591"/>
                    </a:lnTo>
                    <a:lnTo>
                      <a:pt x="1491" y="1591"/>
                    </a:lnTo>
                    <a:lnTo>
                      <a:pt x="1460" y="1591"/>
                    </a:lnTo>
                    <a:lnTo>
                      <a:pt x="1429" y="1591"/>
                    </a:lnTo>
                    <a:lnTo>
                      <a:pt x="1415" y="1573"/>
                    </a:lnTo>
                    <a:lnTo>
                      <a:pt x="1399" y="1558"/>
                    </a:lnTo>
                    <a:lnTo>
                      <a:pt x="1386" y="1540"/>
                    </a:lnTo>
                    <a:lnTo>
                      <a:pt x="1372" y="1523"/>
                    </a:lnTo>
                    <a:lnTo>
                      <a:pt x="1357" y="1505"/>
                    </a:lnTo>
                    <a:lnTo>
                      <a:pt x="1343" y="1487"/>
                    </a:lnTo>
                    <a:lnTo>
                      <a:pt x="1327" y="1472"/>
                    </a:lnTo>
                    <a:lnTo>
                      <a:pt x="1314" y="1454"/>
                    </a:lnTo>
                    <a:lnTo>
                      <a:pt x="1286" y="1478"/>
                    </a:lnTo>
                    <a:lnTo>
                      <a:pt x="1257" y="1499"/>
                    </a:lnTo>
                    <a:lnTo>
                      <a:pt x="1230" y="1523"/>
                    </a:lnTo>
                    <a:lnTo>
                      <a:pt x="1201" y="1546"/>
                    </a:lnTo>
                    <a:lnTo>
                      <a:pt x="1173" y="1567"/>
                    </a:lnTo>
                    <a:lnTo>
                      <a:pt x="1144" y="1591"/>
                    </a:lnTo>
                    <a:lnTo>
                      <a:pt x="1117" y="1614"/>
                    </a:lnTo>
                    <a:lnTo>
                      <a:pt x="1088" y="1638"/>
                    </a:lnTo>
                    <a:lnTo>
                      <a:pt x="1082" y="1591"/>
                    </a:lnTo>
                    <a:lnTo>
                      <a:pt x="1076" y="1546"/>
                    </a:lnTo>
                    <a:lnTo>
                      <a:pt x="1070" y="1499"/>
                    </a:lnTo>
                    <a:lnTo>
                      <a:pt x="1064" y="1454"/>
                    </a:lnTo>
                    <a:lnTo>
                      <a:pt x="1033" y="1466"/>
                    </a:lnTo>
                    <a:lnTo>
                      <a:pt x="1002" y="1476"/>
                    </a:lnTo>
                    <a:lnTo>
                      <a:pt x="971" y="1487"/>
                    </a:lnTo>
                    <a:lnTo>
                      <a:pt x="940" y="1499"/>
                    </a:lnTo>
                    <a:lnTo>
                      <a:pt x="908" y="1511"/>
                    </a:lnTo>
                    <a:lnTo>
                      <a:pt x="877" y="1523"/>
                    </a:lnTo>
                    <a:lnTo>
                      <a:pt x="846" y="1534"/>
                    </a:lnTo>
                    <a:lnTo>
                      <a:pt x="815" y="1546"/>
                    </a:lnTo>
                    <a:lnTo>
                      <a:pt x="786" y="1554"/>
                    </a:lnTo>
                    <a:lnTo>
                      <a:pt x="758" y="1563"/>
                    </a:lnTo>
                    <a:lnTo>
                      <a:pt x="729" y="1571"/>
                    </a:lnTo>
                    <a:lnTo>
                      <a:pt x="702" y="1579"/>
                    </a:lnTo>
                    <a:lnTo>
                      <a:pt x="673" y="1589"/>
                    </a:lnTo>
                    <a:lnTo>
                      <a:pt x="643" y="1597"/>
                    </a:lnTo>
                    <a:lnTo>
                      <a:pt x="616" y="1606"/>
                    </a:lnTo>
                    <a:lnTo>
                      <a:pt x="587" y="1614"/>
                    </a:lnTo>
                    <a:lnTo>
                      <a:pt x="560" y="1622"/>
                    </a:lnTo>
                    <a:lnTo>
                      <a:pt x="530" y="1632"/>
                    </a:lnTo>
                    <a:lnTo>
                      <a:pt x="503" y="1639"/>
                    </a:lnTo>
                    <a:lnTo>
                      <a:pt x="474" y="1649"/>
                    </a:lnTo>
                    <a:lnTo>
                      <a:pt x="447" y="1657"/>
                    </a:lnTo>
                    <a:lnTo>
                      <a:pt x="419" y="1665"/>
                    </a:lnTo>
                    <a:lnTo>
                      <a:pt x="390" y="1675"/>
                    </a:lnTo>
                    <a:lnTo>
                      <a:pt x="363" y="1682"/>
                    </a:lnTo>
                    <a:lnTo>
                      <a:pt x="382" y="1641"/>
                    </a:lnTo>
                    <a:lnTo>
                      <a:pt x="402" y="1602"/>
                    </a:lnTo>
                    <a:lnTo>
                      <a:pt x="421" y="1562"/>
                    </a:lnTo>
                    <a:lnTo>
                      <a:pt x="441" y="1521"/>
                    </a:lnTo>
                    <a:lnTo>
                      <a:pt x="460" y="1482"/>
                    </a:lnTo>
                    <a:lnTo>
                      <a:pt x="480" y="1441"/>
                    </a:lnTo>
                    <a:lnTo>
                      <a:pt x="499" y="1402"/>
                    </a:lnTo>
                    <a:lnTo>
                      <a:pt x="519" y="1361"/>
                    </a:lnTo>
                    <a:lnTo>
                      <a:pt x="493" y="1372"/>
                    </a:lnTo>
                    <a:lnTo>
                      <a:pt x="468" y="1384"/>
                    </a:lnTo>
                    <a:lnTo>
                      <a:pt x="443" y="1396"/>
                    </a:lnTo>
                    <a:lnTo>
                      <a:pt x="417" y="1408"/>
                    </a:lnTo>
                    <a:lnTo>
                      <a:pt x="390" y="1419"/>
                    </a:lnTo>
                    <a:lnTo>
                      <a:pt x="365" y="1431"/>
                    </a:lnTo>
                    <a:lnTo>
                      <a:pt x="339" y="1443"/>
                    </a:lnTo>
                    <a:lnTo>
                      <a:pt x="314" y="1454"/>
                    </a:lnTo>
                    <a:lnTo>
                      <a:pt x="324" y="1431"/>
                    </a:lnTo>
                    <a:lnTo>
                      <a:pt x="332" y="1408"/>
                    </a:lnTo>
                    <a:lnTo>
                      <a:pt x="341" y="1384"/>
                    </a:lnTo>
                    <a:lnTo>
                      <a:pt x="349" y="1361"/>
                    </a:lnTo>
                    <a:lnTo>
                      <a:pt x="359" y="1339"/>
                    </a:lnTo>
                    <a:lnTo>
                      <a:pt x="367" y="1316"/>
                    </a:lnTo>
                    <a:lnTo>
                      <a:pt x="374" y="1293"/>
                    </a:lnTo>
                    <a:lnTo>
                      <a:pt x="382" y="1269"/>
                    </a:lnTo>
                    <a:lnTo>
                      <a:pt x="365" y="1257"/>
                    </a:lnTo>
                    <a:lnTo>
                      <a:pt x="349" y="1248"/>
                    </a:lnTo>
                    <a:lnTo>
                      <a:pt x="332" y="1236"/>
                    </a:lnTo>
                    <a:lnTo>
                      <a:pt x="314" y="1224"/>
                    </a:lnTo>
                    <a:lnTo>
                      <a:pt x="298" y="1213"/>
                    </a:lnTo>
                    <a:lnTo>
                      <a:pt x="281" y="1201"/>
                    </a:lnTo>
                    <a:lnTo>
                      <a:pt x="263" y="1189"/>
                    </a:lnTo>
                    <a:lnTo>
                      <a:pt x="246" y="1178"/>
                    </a:lnTo>
                    <a:lnTo>
                      <a:pt x="263" y="1164"/>
                    </a:lnTo>
                    <a:lnTo>
                      <a:pt x="281" y="1150"/>
                    </a:lnTo>
                    <a:lnTo>
                      <a:pt x="298" y="1135"/>
                    </a:lnTo>
                    <a:lnTo>
                      <a:pt x="314" y="1121"/>
                    </a:lnTo>
                    <a:lnTo>
                      <a:pt x="332" y="1105"/>
                    </a:lnTo>
                    <a:lnTo>
                      <a:pt x="349" y="1092"/>
                    </a:lnTo>
                    <a:lnTo>
                      <a:pt x="365" y="1076"/>
                    </a:lnTo>
                    <a:lnTo>
                      <a:pt x="382" y="1063"/>
                    </a:lnTo>
                    <a:lnTo>
                      <a:pt x="363" y="1041"/>
                    </a:lnTo>
                    <a:lnTo>
                      <a:pt x="343" y="1020"/>
                    </a:lnTo>
                    <a:lnTo>
                      <a:pt x="324" y="998"/>
                    </a:lnTo>
                    <a:lnTo>
                      <a:pt x="304" y="977"/>
                    </a:lnTo>
                    <a:lnTo>
                      <a:pt x="285" y="955"/>
                    </a:lnTo>
                    <a:lnTo>
                      <a:pt x="265" y="934"/>
                    </a:lnTo>
                    <a:lnTo>
                      <a:pt x="246" y="912"/>
                    </a:lnTo>
                    <a:lnTo>
                      <a:pt x="226" y="891"/>
                    </a:lnTo>
                    <a:lnTo>
                      <a:pt x="205" y="870"/>
                    </a:lnTo>
                    <a:lnTo>
                      <a:pt x="185" y="848"/>
                    </a:lnTo>
                    <a:lnTo>
                      <a:pt x="166" y="827"/>
                    </a:lnTo>
                    <a:lnTo>
                      <a:pt x="146" y="805"/>
                    </a:lnTo>
                    <a:lnTo>
                      <a:pt x="127" y="784"/>
                    </a:lnTo>
                    <a:lnTo>
                      <a:pt x="107" y="762"/>
                    </a:lnTo>
                    <a:lnTo>
                      <a:pt x="88" y="741"/>
                    </a:lnTo>
                    <a:lnTo>
                      <a:pt x="69" y="719"/>
                    </a:lnTo>
                    <a:lnTo>
                      <a:pt x="61" y="694"/>
                    </a:lnTo>
                    <a:lnTo>
                      <a:pt x="51" y="667"/>
                    </a:lnTo>
                    <a:lnTo>
                      <a:pt x="43" y="641"/>
                    </a:lnTo>
                    <a:lnTo>
                      <a:pt x="35" y="614"/>
                    </a:lnTo>
                    <a:lnTo>
                      <a:pt x="26" y="589"/>
                    </a:lnTo>
                    <a:lnTo>
                      <a:pt x="18" y="564"/>
                    </a:lnTo>
                    <a:lnTo>
                      <a:pt x="8" y="536"/>
                    </a:lnTo>
                    <a:lnTo>
                      <a:pt x="0" y="511"/>
                    </a:lnTo>
                    <a:lnTo>
                      <a:pt x="30" y="523"/>
                    </a:lnTo>
                    <a:lnTo>
                      <a:pt x="57" y="534"/>
                    </a:lnTo>
                    <a:lnTo>
                      <a:pt x="86" y="546"/>
                    </a:lnTo>
                    <a:lnTo>
                      <a:pt x="113" y="558"/>
                    </a:lnTo>
                    <a:lnTo>
                      <a:pt x="143" y="569"/>
                    </a:lnTo>
                    <a:lnTo>
                      <a:pt x="170" y="581"/>
                    </a:lnTo>
                    <a:lnTo>
                      <a:pt x="197" y="593"/>
                    </a:lnTo>
                    <a:lnTo>
                      <a:pt x="224" y="604"/>
                    </a:lnTo>
                    <a:lnTo>
                      <a:pt x="224" y="558"/>
                    </a:lnTo>
                    <a:lnTo>
                      <a:pt x="224" y="511"/>
                    </a:lnTo>
                    <a:lnTo>
                      <a:pt x="224" y="464"/>
                    </a:lnTo>
                    <a:lnTo>
                      <a:pt x="224" y="417"/>
                    </a:lnTo>
                    <a:lnTo>
                      <a:pt x="248" y="435"/>
                    </a:lnTo>
                    <a:lnTo>
                      <a:pt x="269" y="452"/>
                    </a:lnTo>
                    <a:lnTo>
                      <a:pt x="293" y="470"/>
                    </a:lnTo>
                    <a:lnTo>
                      <a:pt x="316" y="487"/>
                    </a:lnTo>
                    <a:lnTo>
                      <a:pt x="337" y="505"/>
                    </a:lnTo>
                    <a:lnTo>
                      <a:pt x="361" y="523"/>
                    </a:lnTo>
                    <a:lnTo>
                      <a:pt x="382" y="540"/>
                    </a:lnTo>
                    <a:lnTo>
                      <a:pt x="406" y="558"/>
                    </a:lnTo>
                    <a:lnTo>
                      <a:pt x="394" y="501"/>
                    </a:lnTo>
                    <a:lnTo>
                      <a:pt x="382" y="443"/>
                    </a:lnTo>
                    <a:lnTo>
                      <a:pt x="373" y="384"/>
                    </a:lnTo>
                    <a:lnTo>
                      <a:pt x="363" y="328"/>
                    </a:lnTo>
                    <a:close/>
                  </a:path>
                </a:pathLst>
              </a:custGeom>
              <a:solidFill>
                <a:srgbClr val="759e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2036880" y="3513960"/>
                <a:ext cx="2039040" cy="1845720"/>
              </a:xfrm>
              <a:custGeom>
                <a:avLst/>
                <a:gdLst/>
                <a:ahLst/>
                <a:rect l="l" t="t" r="r" b="b"/>
                <a:pathLst>
                  <a:path w="1950" h="1647">
                    <a:moveTo>
                      <a:pt x="350" y="319"/>
                    </a:moveTo>
                    <a:lnTo>
                      <a:pt x="339" y="288"/>
                    </a:lnTo>
                    <a:lnTo>
                      <a:pt x="329" y="259"/>
                    </a:lnTo>
                    <a:lnTo>
                      <a:pt x="317" y="228"/>
                    </a:lnTo>
                    <a:lnTo>
                      <a:pt x="306" y="197"/>
                    </a:lnTo>
                    <a:lnTo>
                      <a:pt x="296" y="167"/>
                    </a:lnTo>
                    <a:lnTo>
                      <a:pt x="284" y="136"/>
                    </a:lnTo>
                    <a:lnTo>
                      <a:pt x="272" y="107"/>
                    </a:lnTo>
                    <a:lnTo>
                      <a:pt x="261" y="76"/>
                    </a:lnTo>
                    <a:lnTo>
                      <a:pt x="286" y="93"/>
                    </a:lnTo>
                    <a:lnTo>
                      <a:pt x="311" y="109"/>
                    </a:lnTo>
                    <a:lnTo>
                      <a:pt x="337" y="127"/>
                    </a:lnTo>
                    <a:lnTo>
                      <a:pt x="362" y="142"/>
                    </a:lnTo>
                    <a:lnTo>
                      <a:pt x="387" y="160"/>
                    </a:lnTo>
                    <a:lnTo>
                      <a:pt x="411" y="175"/>
                    </a:lnTo>
                    <a:lnTo>
                      <a:pt x="436" y="193"/>
                    </a:lnTo>
                    <a:lnTo>
                      <a:pt x="461" y="210"/>
                    </a:lnTo>
                    <a:lnTo>
                      <a:pt x="467" y="183"/>
                    </a:lnTo>
                    <a:lnTo>
                      <a:pt x="473" y="154"/>
                    </a:lnTo>
                    <a:lnTo>
                      <a:pt x="479" y="125"/>
                    </a:lnTo>
                    <a:lnTo>
                      <a:pt x="483" y="97"/>
                    </a:lnTo>
                    <a:lnTo>
                      <a:pt x="500" y="111"/>
                    </a:lnTo>
                    <a:lnTo>
                      <a:pt x="516" y="125"/>
                    </a:lnTo>
                    <a:lnTo>
                      <a:pt x="534" y="140"/>
                    </a:lnTo>
                    <a:lnTo>
                      <a:pt x="551" y="154"/>
                    </a:lnTo>
                    <a:lnTo>
                      <a:pt x="567" y="167"/>
                    </a:lnTo>
                    <a:lnTo>
                      <a:pt x="584" y="183"/>
                    </a:lnTo>
                    <a:lnTo>
                      <a:pt x="600" y="197"/>
                    </a:lnTo>
                    <a:lnTo>
                      <a:pt x="617" y="210"/>
                    </a:lnTo>
                    <a:lnTo>
                      <a:pt x="633" y="183"/>
                    </a:lnTo>
                    <a:lnTo>
                      <a:pt x="649" y="158"/>
                    </a:lnTo>
                    <a:lnTo>
                      <a:pt x="664" y="130"/>
                    </a:lnTo>
                    <a:lnTo>
                      <a:pt x="678" y="105"/>
                    </a:lnTo>
                    <a:lnTo>
                      <a:pt x="693" y="78"/>
                    </a:lnTo>
                    <a:lnTo>
                      <a:pt x="709" y="52"/>
                    </a:lnTo>
                    <a:lnTo>
                      <a:pt x="723" y="25"/>
                    </a:lnTo>
                    <a:lnTo>
                      <a:pt x="738" y="0"/>
                    </a:lnTo>
                    <a:lnTo>
                      <a:pt x="754" y="8"/>
                    </a:lnTo>
                    <a:lnTo>
                      <a:pt x="767" y="13"/>
                    </a:lnTo>
                    <a:lnTo>
                      <a:pt x="783" y="21"/>
                    </a:lnTo>
                    <a:lnTo>
                      <a:pt x="799" y="29"/>
                    </a:lnTo>
                    <a:lnTo>
                      <a:pt x="812" y="37"/>
                    </a:lnTo>
                    <a:lnTo>
                      <a:pt x="828" y="43"/>
                    </a:lnTo>
                    <a:lnTo>
                      <a:pt x="841" y="51"/>
                    </a:lnTo>
                    <a:lnTo>
                      <a:pt x="857" y="58"/>
                    </a:lnTo>
                    <a:lnTo>
                      <a:pt x="865" y="66"/>
                    </a:lnTo>
                    <a:lnTo>
                      <a:pt x="873" y="72"/>
                    </a:lnTo>
                    <a:lnTo>
                      <a:pt x="880" y="80"/>
                    </a:lnTo>
                    <a:lnTo>
                      <a:pt x="888" y="88"/>
                    </a:lnTo>
                    <a:lnTo>
                      <a:pt x="896" y="95"/>
                    </a:lnTo>
                    <a:lnTo>
                      <a:pt x="904" y="103"/>
                    </a:lnTo>
                    <a:lnTo>
                      <a:pt x="912" y="111"/>
                    </a:lnTo>
                    <a:lnTo>
                      <a:pt x="919" y="119"/>
                    </a:lnTo>
                    <a:lnTo>
                      <a:pt x="937" y="127"/>
                    </a:lnTo>
                    <a:lnTo>
                      <a:pt x="956" y="136"/>
                    </a:lnTo>
                    <a:lnTo>
                      <a:pt x="974" y="144"/>
                    </a:lnTo>
                    <a:lnTo>
                      <a:pt x="993" y="154"/>
                    </a:lnTo>
                    <a:lnTo>
                      <a:pt x="1011" y="162"/>
                    </a:lnTo>
                    <a:lnTo>
                      <a:pt x="1031" y="171"/>
                    </a:lnTo>
                    <a:lnTo>
                      <a:pt x="1048" y="179"/>
                    </a:lnTo>
                    <a:lnTo>
                      <a:pt x="1068" y="189"/>
                    </a:lnTo>
                    <a:lnTo>
                      <a:pt x="1085" y="195"/>
                    </a:lnTo>
                    <a:lnTo>
                      <a:pt x="1101" y="203"/>
                    </a:lnTo>
                    <a:lnTo>
                      <a:pt x="1118" y="208"/>
                    </a:lnTo>
                    <a:lnTo>
                      <a:pt x="1136" y="216"/>
                    </a:lnTo>
                    <a:lnTo>
                      <a:pt x="1153" y="222"/>
                    </a:lnTo>
                    <a:lnTo>
                      <a:pt x="1171" y="230"/>
                    </a:lnTo>
                    <a:lnTo>
                      <a:pt x="1186" y="236"/>
                    </a:lnTo>
                    <a:lnTo>
                      <a:pt x="1204" y="242"/>
                    </a:lnTo>
                    <a:lnTo>
                      <a:pt x="1225" y="240"/>
                    </a:lnTo>
                    <a:lnTo>
                      <a:pt x="1247" y="240"/>
                    </a:lnTo>
                    <a:lnTo>
                      <a:pt x="1268" y="238"/>
                    </a:lnTo>
                    <a:lnTo>
                      <a:pt x="1290" y="238"/>
                    </a:lnTo>
                    <a:lnTo>
                      <a:pt x="1311" y="236"/>
                    </a:lnTo>
                    <a:lnTo>
                      <a:pt x="1333" y="234"/>
                    </a:lnTo>
                    <a:lnTo>
                      <a:pt x="1354" y="234"/>
                    </a:lnTo>
                    <a:lnTo>
                      <a:pt x="1375" y="232"/>
                    </a:lnTo>
                    <a:lnTo>
                      <a:pt x="1397" y="230"/>
                    </a:lnTo>
                    <a:lnTo>
                      <a:pt x="1418" y="228"/>
                    </a:lnTo>
                    <a:lnTo>
                      <a:pt x="1440" y="228"/>
                    </a:lnTo>
                    <a:lnTo>
                      <a:pt x="1461" y="226"/>
                    </a:lnTo>
                    <a:lnTo>
                      <a:pt x="1483" y="224"/>
                    </a:lnTo>
                    <a:lnTo>
                      <a:pt x="1504" y="222"/>
                    </a:lnTo>
                    <a:lnTo>
                      <a:pt x="1525" y="222"/>
                    </a:lnTo>
                    <a:lnTo>
                      <a:pt x="1547" y="220"/>
                    </a:lnTo>
                    <a:lnTo>
                      <a:pt x="1555" y="226"/>
                    </a:lnTo>
                    <a:lnTo>
                      <a:pt x="1563" y="234"/>
                    </a:lnTo>
                    <a:lnTo>
                      <a:pt x="1570" y="242"/>
                    </a:lnTo>
                    <a:lnTo>
                      <a:pt x="1580" y="249"/>
                    </a:lnTo>
                    <a:lnTo>
                      <a:pt x="1588" y="255"/>
                    </a:lnTo>
                    <a:lnTo>
                      <a:pt x="1596" y="263"/>
                    </a:lnTo>
                    <a:lnTo>
                      <a:pt x="1603" y="271"/>
                    </a:lnTo>
                    <a:lnTo>
                      <a:pt x="1611" y="279"/>
                    </a:lnTo>
                    <a:lnTo>
                      <a:pt x="1623" y="279"/>
                    </a:lnTo>
                    <a:lnTo>
                      <a:pt x="1635" y="281"/>
                    </a:lnTo>
                    <a:lnTo>
                      <a:pt x="1646" y="281"/>
                    </a:lnTo>
                    <a:lnTo>
                      <a:pt x="1660" y="281"/>
                    </a:lnTo>
                    <a:lnTo>
                      <a:pt x="1672" y="281"/>
                    </a:lnTo>
                    <a:lnTo>
                      <a:pt x="1683" y="281"/>
                    </a:lnTo>
                    <a:lnTo>
                      <a:pt x="1697" y="282"/>
                    </a:lnTo>
                    <a:lnTo>
                      <a:pt x="1709" y="282"/>
                    </a:lnTo>
                    <a:lnTo>
                      <a:pt x="1734" y="281"/>
                    </a:lnTo>
                    <a:lnTo>
                      <a:pt x="1759" y="281"/>
                    </a:lnTo>
                    <a:lnTo>
                      <a:pt x="1785" y="279"/>
                    </a:lnTo>
                    <a:lnTo>
                      <a:pt x="1810" y="279"/>
                    </a:lnTo>
                    <a:lnTo>
                      <a:pt x="1835" y="277"/>
                    </a:lnTo>
                    <a:lnTo>
                      <a:pt x="1861" y="277"/>
                    </a:lnTo>
                    <a:lnTo>
                      <a:pt x="1886" y="275"/>
                    </a:lnTo>
                    <a:lnTo>
                      <a:pt x="1911" y="275"/>
                    </a:lnTo>
                    <a:lnTo>
                      <a:pt x="1902" y="288"/>
                    </a:lnTo>
                    <a:lnTo>
                      <a:pt x="1894" y="304"/>
                    </a:lnTo>
                    <a:lnTo>
                      <a:pt x="1884" y="318"/>
                    </a:lnTo>
                    <a:lnTo>
                      <a:pt x="1876" y="331"/>
                    </a:lnTo>
                    <a:lnTo>
                      <a:pt x="1867" y="347"/>
                    </a:lnTo>
                    <a:lnTo>
                      <a:pt x="1857" y="360"/>
                    </a:lnTo>
                    <a:lnTo>
                      <a:pt x="1849" y="376"/>
                    </a:lnTo>
                    <a:lnTo>
                      <a:pt x="1839" y="390"/>
                    </a:lnTo>
                    <a:lnTo>
                      <a:pt x="1828" y="434"/>
                    </a:lnTo>
                    <a:lnTo>
                      <a:pt x="1818" y="479"/>
                    </a:lnTo>
                    <a:lnTo>
                      <a:pt x="1806" y="524"/>
                    </a:lnTo>
                    <a:lnTo>
                      <a:pt x="1794" y="569"/>
                    </a:lnTo>
                    <a:lnTo>
                      <a:pt x="1814" y="569"/>
                    </a:lnTo>
                    <a:lnTo>
                      <a:pt x="1833" y="569"/>
                    </a:lnTo>
                    <a:lnTo>
                      <a:pt x="1853" y="569"/>
                    </a:lnTo>
                    <a:lnTo>
                      <a:pt x="1872" y="569"/>
                    </a:lnTo>
                    <a:lnTo>
                      <a:pt x="1892" y="569"/>
                    </a:lnTo>
                    <a:lnTo>
                      <a:pt x="1911" y="569"/>
                    </a:lnTo>
                    <a:lnTo>
                      <a:pt x="1931" y="569"/>
                    </a:lnTo>
                    <a:lnTo>
                      <a:pt x="1950" y="569"/>
                    </a:lnTo>
                    <a:lnTo>
                      <a:pt x="1937" y="592"/>
                    </a:lnTo>
                    <a:lnTo>
                      <a:pt x="1923" y="614"/>
                    </a:lnTo>
                    <a:lnTo>
                      <a:pt x="1909" y="637"/>
                    </a:lnTo>
                    <a:lnTo>
                      <a:pt x="1896" y="659"/>
                    </a:lnTo>
                    <a:lnTo>
                      <a:pt x="1882" y="680"/>
                    </a:lnTo>
                    <a:lnTo>
                      <a:pt x="1868" y="703"/>
                    </a:lnTo>
                    <a:lnTo>
                      <a:pt x="1853" y="725"/>
                    </a:lnTo>
                    <a:lnTo>
                      <a:pt x="1839" y="748"/>
                    </a:lnTo>
                    <a:lnTo>
                      <a:pt x="1831" y="778"/>
                    </a:lnTo>
                    <a:lnTo>
                      <a:pt x="1822" y="805"/>
                    </a:lnTo>
                    <a:lnTo>
                      <a:pt x="1814" y="834"/>
                    </a:lnTo>
                    <a:lnTo>
                      <a:pt x="1806" y="861"/>
                    </a:lnTo>
                    <a:lnTo>
                      <a:pt x="1796" y="889"/>
                    </a:lnTo>
                    <a:lnTo>
                      <a:pt x="1789" y="916"/>
                    </a:lnTo>
                    <a:lnTo>
                      <a:pt x="1781" y="945"/>
                    </a:lnTo>
                    <a:lnTo>
                      <a:pt x="1773" y="972"/>
                    </a:lnTo>
                    <a:lnTo>
                      <a:pt x="1759" y="1002"/>
                    </a:lnTo>
                    <a:lnTo>
                      <a:pt x="1746" y="1029"/>
                    </a:lnTo>
                    <a:lnTo>
                      <a:pt x="1732" y="1058"/>
                    </a:lnTo>
                    <a:lnTo>
                      <a:pt x="1718" y="1086"/>
                    </a:lnTo>
                    <a:lnTo>
                      <a:pt x="1703" y="1113"/>
                    </a:lnTo>
                    <a:lnTo>
                      <a:pt x="1689" y="1142"/>
                    </a:lnTo>
                    <a:lnTo>
                      <a:pt x="1676" y="1169"/>
                    </a:lnTo>
                    <a:lnTo>
                      <a:pt x="1662" y="1199"/>
                    </a:lnTo>
                    <a:lnTo>
                      <a:pt x="1687" y="1226"/>
                    </a:lnTo>
                    <a:lnTo>
                      <a:pt x="1713" y="1255"/>
                    </a:lnTo>
                    <a:lnTo>
                      <a:pt x="1736" y="1282"/>
                    </a:lnTo>
                    <a:lnTo>
                      <a:pt x="1761" y="1310"/>
                    </a:lnTo>
                    <a:lnTo>
                      <a:pt x="1787" y="1337"/>
                    </a:lnTo>
                    <a:lnTo>
                      <a:pt x="1812" y="1366"/>
                    </a:lnTo>
                    <a:lnTo>
                      <a:pt x="1835" y="1394"/>
                    </a:lnTo>
                    <a:lnTo>
                      <a:pt x="1861" y="1423"/>
                    </a:lnTo>
                    <a:lnTo>
                      <a:pt x="1833" y="1415"/>
                    </a:lnTo>
                    <a:lnTo>
                      <a:pt x="1806" y="1405"/>
                    </a:lnTo>
                    <a:lnTo>
                      <a:pt x="1777" y="1397"/>
                    </a:lnTo>
                    <a:lnTo>
                      <a:pt x="1750" y="1388"/>
                    </a:lnTo>
                    <a:lnTo>
                      <a:pt x="1722" y="1380"/>
                    </a:lnTo>
                    <a:lnTo>
                      <a:pt x="1695" y="1372"/>
                    </a:lnTo>
                    <a:lnTo>
                      <a:pt x="1666" y="1362"/>
                    </a:lnTo>
                    <a:lnTo>
                      <a:pt x="1639" y="1355"/>
                    </a:lnTo>
                    <a:lnTo>
                      <a:pt x="1639" y="1405"/>
                    </a:lnTo>
                    <a:lnTo>
                      <a:pt x="1639" y="1456"/>
                    </a:lnTo>
                    <a:lnTo>
                      <a:pt x="1639" y="1507"/>
                    </a:lnTo>
                    <a:lnTo>
                      <a:pt x="1639" y="1557"/>
                    </a:lnTo>
                    <a:lnTo>
                      <a:pt x="1607" y="1557"/>
                    </a:lnTo>
                    <a:lnTo>
                      <a:pt x="1578" y="1557"/>
                    </a:lnTo>
                    <a:lnTo>
                      <a:pt x="1547" y="1557"/>
                    </a:lnTo>
                    <a:lnTo>
                      <a:pt x="1518" y="1557"/>
                    </a:lnTo>
                    <a:lnTo>
                      <a:pt x="1487" y="1557"/>
                    </a:lnTo>
                    <a:lnTo>
                      <a:pt x="1455" y="1557"/>
                    </a:lnTo>
                    <a:lnTo>
                      <a:pt x="1426" y="1557"/>
                    </a:lnTo>
                    <a:lnTo>
                      <a:pt x="1395" y="1557"/>
                    </a:lnTo>
                    <a:lnTo>
                      <a:pt x="1381" y="1540"/>
                    </a:lnTo>
                    <a:lnTo>
                      <a:pt x="1368" y="1524"/>
                    </a:lnTo>
                    <a:lnTo>
                      <a:pt x="1354" y="1507"/>
                    </a:lnTo>
                    <a:lnTo>
                      <a:pt x="1340" y="1489"/>
                    </a:lnTo>
                    <a:lnTo>
                      <a:pt x="1325" y="1473"/>
                    </a:lnTo>
                    <a:lnTo>
                      <a:pt x="1311" y="1456"/>
                    </a:lnTo>
                    <a:lnTo>
                      <a:pt x="1297" y="1440"/>
                    </a:lnTo>
                    <a:lnTo>
                      <a:pt x="1284" y="1423"/>
                    </a:lnTo>
                    <a:lnTo>
                      <a:pt x="1257" y="1444"/>
                    </a:lnTo>
                    <a:lnTo>
                      <a:pt x="1229" y="1468"/>
                    </a:lnTo>
                    <a:lnTo>
                      <a:pt x="1200" y="1489"/>
                    </a:lnTo>
                    <a:lnTo>
                      <a:pt x="1173" y="1512"/>
                    </a:lnTo>
                    <a:lnTo>
                      <a:pt x="1145" y="1534"/>
                    </a:lnTo>
                    <a:lnTo>
                      <a:pt x="1118" y="1557"/>
                    </a:lnTo>
                    <a:lnTo>
                      <a:pt x="1089" y="1579"/>
                    </a:lnTo>
                    <a:lnTo>
                      <a:pt x="1062" y="1602"/>
                    </a:lnTo>
                    <a:lnTo>
                      <a:pt x="1056" y="1557"/>
                    </a:lnTo>
                    <a:lnTo>
                      <a:pt x="1050" y="1512"/>
                    </a:lnTo>
                    <a:lnTo>
                      <a:pt x="1044" y="1468"/>
                    </a:lnTo>
                    <a:lnTo>
                      <a:pt x="1038" y="1423"/>
                    </a:lnTo>
                    <a:lnTo>
                      <a:pt x="1009" y="1434"/>
                    </a:lnTo>
                    <a:lnTo>
                      <a:pt x="978" y="1444"/>
                    </a:lnTo>
                    <a:lnTo>
                      <a:pt x="949" y="1456"/>
                    </a:lnTo>
                    <a:lnTo>
                      <a:pt x="917" y="1468"/>
                    </a:lnTo>
                    <a:lnTo>
                      <a:pt x="886" y="1477"/>
                    </a:lnTo>
                    <a:lnTo>
                      <a:pt x="855" y="1489"/>
                    </a:lnTo>
                    <a:lnTo>
                      <a:pt x="826" y="1501"/>
                    </a:lnTo>
                    <a:lnTo>
                      <a:pt x="795" y="1512"/>
                    </a:lnTo>
                    <a:lnTo>
                      <a:pt x="767" y="1520"/>
                    </a:lnTo>
                    <a:lnTo>
                      <a:pt x="740" y="1530"/>
                    </a:lnTo>
                    <a:lnTo>
                      <a:pt x="711" y="1538"/>
                    </a:lnTo>
                    <a:lnTo>
                      <a:pt x="684" y="1546"/>
                    </a:lnTo>
                    <a:lnTo>
                      <a:pt x="656" y="1555"/>
                    </a:lnTo>
                    <a:lnTo>
                      <a:pt x="629" y="1563"/>
                    </a:lnTo>
                    <a:lnTo>
                      <a:pt x="602" y="1571"/>
                    </a:lnTo>
                    <a:lnTo>
                      <a:pt x="573" y="1579"/>
                    </a:lnTo>
                    <a:lnTo>
                      <a:pt x="545" y="1588"/>
                    </a:lnTo>
                    <a:lnTo>
                      <a:pt x="518" y="1596"/>
                    </a:lnTo>
                    <a:lnTo>
                      <a:pt x="491" y="1604"/>
                    </a:lnTo>
                    <a:lnTo>
                      <a:pt x="461" y="1614"/>
                    </a:lnTo>
                    <a:lnTo>
                      <a:pt x="434" y="1622"/>
                    </a:lnTo>
                    <a:lnTo>
                      <a:pt x="407" y="1629"/>
                    </a:lnTo>
                    <a:lnTo>
                      <a:pt x="378" y="1639"/>
                    </a:lnTo>
                    <a:lnTo>
                      <a:pt x="350" y="1647"/>
                    </a:lnTo>
                    <a:lnTo>
                      <a:pt x="370" y="1608"/>
                    </a:lnTo>
                    <a:lnTo>
                      <a:pt x="389" y="1569"/>
                    </a:lnTo>
                    <a:lnTo>
                      <a:pt x="409" y="1528"/>
                    </a:lnTo>
                    <a:lnTo>
                      <a:pt x="428" y="1489"/>
                    </a:lnTo>
                    <a:lnTo>
                      <a:pt x="448" y="1450"/>
                    </a:lnTo>
                    <a:lnTo>
                      <a:pt x="467" y="1411"/>
                    </a:lnTo>
                    <a:lnTo>
                      <a:pt x="487" y="1372"/>
                    </a:lnTo>
                    <a:lnTo>
                      <a:pt x="506" y="1333"/>
                    </a:lnTo>
                    <a:lnTo>
                      <a:pt x="481" y="1345"/>
                    </a:lnTo>
                    <a:lnTo>
                      <a:pt x="456" y="1355"/>
                    </a:lnTo>
                    <a:lnTo>
                      <a:pt x="430" y="1366"/>
                    </a:lnTo>
                    <a:lnTo>
                      <a:pt x="407" y="1378"/>
                    </a:lnTo>
                    <a:lnTo>
                      <a:pt x="382" y="1388"/>
                    </a:lnTo>
                    <a:lnTo>
                      <a:pt x="356" y="1399"/>
                    </a:lnTo>
                    <a:lnTo>
                      <a:pt x="331" y="1411"/>
                    </a:lnTo>
                    <a:lnTo>
                      <a:pt x="306" y="1423"/>
                    </a:lnTo>
                    <a:lnTo>
                      <a:pt x="313" y="1399"/>
                    </a:lnTo>
                    <a:lnTo>
                      <a:pt x="323" y="1378"/>
                    </a:lnTo>
                    <a:lnTo>
                      <a:pt x="331" y="1355"/>
                    </a:lnTo>
                    <a:lnTo>
                      <a:pt x="339" y="1333"/>
                    </a:lnTo>
                    <a:lnTo>
                      <a:pt x="348" y="1310"/>
                    </a:lnTo>
                    <a:lnTo>
                      <a:pt x="356" y="1288"/>
                    </a:lnTo>
                    <a:lnTo>
                      <a:pt x="364" y="1265"/>
                    </a:lnTo>
                    <a:lnTo>
                      <a:pt x="372" y="1243"/>
                    </a:lnTo>
                    <a:lnTo>
                      <a:pt x="356" y="1232"/>
                    </a:lnTo>
                    <a:lnTo>
                      <a:pt x="339" y="1220"/>
                    </a:lnTo>
                    <a:lnTo>
                      <a:pt x="323" y="1208"/>
                    </a:lnTo>
                    <a:lnTo>
                      <a:pt x="306" y="1199"/>
                    </a:lnTo>
                    <a:lnTo>
                      <a:pt x="290" y="1187"/>
                    </a:lnTo>
                    <a:lnTo>
                      <a:pt x="272" y="1175"/>
                    </a:lnTo>
                    <a:lnTo>
                      <a:pt x="257" y="1165"/>
                    </a:lnTo>
                    <a:lnTo>
                      <a:pt x="239" y="1154"/>
                    </a:lnTo>
                    <a:lnTo>
                      <a:pt x="257" y="1140"/>
                    </a:lnTo>
                    <a:lnTo>
                      <a:pt x="272" y="1125"/>
                    </a:lnTo>
                    <a:lnTo>
                      <a:pt x="290" y="1111"/>
                    </a:lnTo>
                    <a:lnTo>
                      <a:pt x="306" y="1097"/>
                    </a:lnTo>
                    <a:lnTo>
                      <a:pt x="323" y="1082"/>
                    </a:lnTo>
                    <a:lnTo>
                      <a:pt x="339" y="1068"/>
                    </a:lnTo>
                    <a:lnTo>
                      <a:pt x="356" y="1054"/>
                    </a:lnTo>
                    <a:lnTo>
                      <a:pt x="372" y="1041"/>
                    </a:lnTo>
                    <a:lnTo>
                      <a:pt x="333" y="998"/>
                    </a:lnTo>
                    <a:lnTo>
                      <a:pt x="296" y="957"/>
                    </a:lnTo>
                    <a:lnTo>
                      <a:pt x="257" y="914"/>
                    </a:lnTo>
                    <a:lnTo>
                      <a:pt x="220" y="871"/>
                    </a:lnTo>
                    <a:lnTo>
                      <a:pt x="181" y="830"/>
                    </a:lnTo>
                    <a:lnTo>
                      <a:pt x="142" y="787"/>
                    </a:lnTo>
                    <a:lnTo>
                      <a:pt x="105" y="746"/>
                    </a:lnTo>
                    <a:lnTo>
                      <a:pt x="66" y="703"/>
                    </a:lnTo>
                    <a:lnTo>
                      <a:pt x="58" y="678"/>
                    </a:lnTo>
                    <a:lnTo>
                      <a:pt x="48" y="653"/>
                    </a:lnTo>
                    <a:lnTo>
                      <a:pt x="41" y="627"/>
                    </a:lnTo>
                    <a:lnTo>
                      <a:pt x="33" y="602"/>
                    </a:lnTo>
                    <a:lnTo>
                      <a:pt x="23" y="577"/>
                    </a:lnTo>
                    <a:lnTo>
                      <a:pt x="15" y="551"/>
                    </a:lnTo>
                    <a:lnTo>
                      <a:pt x="7" y="526"/>
                    </a:lnTo>
                    <a:lnTo>
                      <a:pt x="0" y="501"/>
                    </a:lnTo>
                    <a:lnTo>
                      <a:pt x="27" y="512"/>
                    </a:lnTo>
                    <a:lnTo>
                      <a:pt x="54" y="524"/>
                    </a:lnTo>
                    <a:lnTo>
                      <a:pt x="83" y="536"/>
                    </a:lnTo>
                    <a:lnTo>
                      <a:pt x="111" y="546"/>
                    </a:lnTo>
                    <a:lnTo>
                      <a:pt x="138" y="557"/>
                    </a:lnTo>
                    <a:lnTo>
                      <a:pt x="165" y="569"/>
                    </a:lnTo>
                    <a:lnTo>
                      <a:pt x="191" y="581"/>
                    </a:lnTo>
                    <a:lnTo>
                      <a:pt x="218" y="592"/>
                    </a:lnTo>
                    <a:lnTo>
                      <a:pt x="218" y="548"/>
                    </a:lnTo>
                    <a:lnTo>
                      <a:pt x="218" y="501"/>
                    </a:lnTo>
                    <a:lnTo>
                      <a:pt x="218" y="456"/>
                    </a:lnTo>
                    <a:lnTo>
                      <a:pt x="218" y="409"/>
                    </a:lnTo>
                    <a:lnTo>
                      <a:pt x="239" y="427"/>
                    </a:lnTo>
                    <a:lnTo>
                      <a:pt x="263" y="444"/>
                    </a:lnTo>
                    <a:lnTo>
                      <a:pt x="284" y="462"/>
                    </a:lnTo>
                    <a:lnTo>
                      <a:pt x="308" y="477"/>
                    </a:lnTo>
                    <a:lnTo>
                      <a:pt x="329" y="495"/>
                    </a:lnTo>
                    <a:lnTo>
                      <a:pt x="350" y="512"/>
                    </a:lnTo>
                    <a:lnTo>
                      <a:pt x="374" y="530"/>
                    </a:lnTo>
                    <a:lnTo>
                      <a:pt x="395" y="548"/>
                    </a:lnTo>
                    <a:lnTo>
                      <a:pt x="384" y="491"/>
                    </a:lnTo>
                    <a:lnTo>
                      <a:pt x="374" y="434"/>
                    </a:lnTo>
                    <a:lnTo>
                      <a:pt x="362" y="378"/>
                    </a:lnTo>
                    <a:lnTo>
                      <a:pt x="350" y="319"/>
                    </a:lnTo>
                    <a:close/>
                  </a:path>
                </a:pathLst>
              </a:custGeom>
              <a:solidFill>
                <a:srgbClr val="84a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2058120" y="3531960"/>
                <a:ext cx="1992960" cy="1801080"/>
              </a:xfrm>
              <a:custGeom>
                <a:avLst/>
                <a:gdLst/>
                <a:ahLst/>
                <a:rect l="l" t="t" r="r" b="b"/>
                <a:pathLst>
                  <a:path w="1908" h="1609">
                    <a:moveTo>
                      <a:pt x="345" y="314"/>
                    </a:moveTo>
                    <a:lnTo>
                      <a:pt x="333" y="283"/>
                    </a:lnTo>
                    <a:lnTo>
                      <a:pt x="324" y="254"/>
                    </a:lnTo>
                    <a:lnTo>
                      <a:pt x="312" y="223"/>
                    </a:lnTo>
                    <a:lnTo>
                      <a:pt x="302" y="193"/>
                    </a:lnTo>
                    <a:lnTo>
                      <a:pt x="290" y="164"/>
                    </a:lnTo>
                    <a:lnTo>
                      <a:pt x="279" y="135"/>
                    </a:lnTo>
                    <a:lnTo>
                      <a:pt x="269" y="104"/>
                    </a:lnTo>
                    <a:lnTo>
                      <a:pt x="257" y="74"/>
                    </a:lnTo>
                    <a:lnTo>
                      <a:pt x="281" y="90"/>
                    </a:lnTo>
                    <a:lnTo>
                      <a:pt x="306" y="108"/>
                    </a:lnTo>
                    <a:lnTo>
                      <a:pt x="329" y="123"/>
                    </a:lnTo>
                    <a:lnTo>
                      <a:pt x="355" y="139"/>
                    </a:lnTo>
                    <a:lnTo>
                      <a:pt x="380" y="156"/>
                    </a:lnTo>
                    <a:lnTo>
                      <a:pt x="403" y="172"/>
                    </a:lnTo>
                    <a:lnTo>
                      <a:pt x="429" y="189"/>
                    </a:lnTo>
                    <a:lnTo>
                      <a:pt x="452" y="205"/>
                    </a:lnTo>
                    <a:lnTo>
                      <a:pt x="458" y="178"/>
                    </a:lnTo>
                    <a:lnTo>
                      <a:pt x="464" y="151"/>
                    </a:lnTo>
                    <a:lnTo>
                      <a:pt x="470" y="123"/>
                    </a:lnTo>
                    <a:lnTo>
                      <a:pt x="474" y="96"/>
                    </a:lnTo>
                    <a:lnTo>
                      <a:pt x="491" y="110"/>
                    </a:lnTo>
                    <a:lnTo>
                      <a:pt x="507" y="123"/>
                    </a:lnTo>
                    <a:lnTo>
                      <a:pt x="524" y="137"/>
                    </a:lnTo>
                    <a:lnTo>
                      <a:pt x="540" y="151"/>
                    </a:lnTo>
                    <a:lnTo>
                      <a:pt x="555" y="164"/>
                    </a:lnTo>
                    <a:lnTo>
                      <a:pt x="571" y="178"/>
                    </a:lnTo>
                    <a:lnTo>
                      <a:pt x="589" y="191"/>
                    </a:lnTo>
                    <a:lnTo>
                      <a:pt x="604" y="205"/>
                    </a:lnTo>
                    <a:lnTo>
                      <a:pt x="618" y="180"/>
                    </a:lnTo>
                    <a:lnTo>
                      <a:pt x="633" y="154"/>
                    </a:lnTo>
                    <a:lnTo>
                      <a:pt x="647" y="127"/>
                    </a:lnTo>
                    <a:lnTo>
                      <a:pt x="663" y="102"/>
                    </a:lnTo>
                    <a:lnTo>
                      <a:pt x="676" y="76"/>
                    </a:lnTo>
                    <a:lnTo>
                      <a:pt x="692" y="51"/>
                    </a:lnTo>
                    <a:lnTo>
                      <a:pt x="705" y="26"/>
                    </a:lnTo>
                    <a:lnTo>
                      <a:pt x="721" y="0"/>
                    </a:lnTo>
                    <a:lnTo>
                      <a:pt x="735" y="8"/>
                    </a:lnTo>
                    <a:lnTo>
                      <a:pt x="750" y="16"/>
                    </a:lnTo>
                    <a:lnTo>
                      <a:pt x="764" y="24"/>
                    </a:lnTo>
                    <a:lnTo>
                      <a:pt x="780" y="32"/>
                    </a:lnTo>
                    <a:lnTo>
                      <a:pt x="793" y="39"/>
                    </a:lnTo>
                    <a:lnTo>
                      <a:pt x="807" y="45"/>
                    </a:lnTo>
                    <a:lnTo>
                      <a:pt x="822" y="53"/>
                    </a:lnTo>
                    <a:lnTo>
                      <a:pt x="836" y="61"/>
                    </a:lnTo>
                    <a:lnTo>
                      <a:pt x="846" y="67"/>
                    </a:lnTo>
                    <a:lnTo>
                      <a:pt x="854" y="74"/>
                    </a:lnTo>
                    <a:lnTo>
                      <a:pt x="863" y="80"/>
                    </a:lnTo>
                    <a:lnTo>
                      <a:pt x="871" y="86"/>
                    </a:lnTo>
                    <a:lnTo>
                      <a:pt x="881" y="92"/>
                    </a:lnTo>
                    <a:lnTo>
                      <a:pt x="889" y="98"/>
                    </a:lnTo>
                    <a:lnTo>
                      <a:pt x="898" y="104"/>
                    </a:lnTo>
                    <a:lnTo>
                      <a:pt x="906" y="110"/>
                    </a:lnTo>
                    <a:lnTo>
                      <a:pt x="924" y="117"/>
                    </a:lnTo>
                    <a:lnTo>
                      <a:pt x="939" y="127"/>
                    </a:lnTo>
                    <a:lnTo>
                      <a:pt x="957" y="135"/>
                    </a:lnTo>
                    <a:lnTo>
                      <a:pt x="974" y="145"/>
                    </a:lnTo>
                    <a:lnTo>
                      <a:pt x="992" y="152"/>
                    </a:lnTo>
                    <a:lnTo>
                      <a:pt x="1009" y="162"/>
                    </a:lnTo>
                    <a:lnTo>
                      <a:pt x="1027" y="170"/>
                    </a:lnTo>
                    <a:lnTo>
                      <a:pt x="1045" y="180"/>
                    </a:lnTo>
                    <a:lnTo>
                      <a:pt x="1062" y="186"/>
                    </a:lnTo>
                    <a:lnTo>
                      <a:pt x="1082" y="193"/>
                    </a:lnTo>
                    <a:lnTo>
                      <a:pt x="1099" y="199"/>
                    </a:lnTo>
                    <a:lnTo>
                      <a:pt x="1119" y="205"/>
                    </a:lnTo>
                    <a:lnTo>
                      <a:pt x="1136" y="211"/>
                    </a:lnTo>
                    <a:lnTo>
                      <a:pt x="1154" y="217"/>
                    </a:lnTo>
                    <a:lnTo>
                      <a:pt x="1173" y="223"/>
                    </a:lnTo>
                    <a:lnTo>
                      <a:pt x="1191" y="228"/>
                    </a:lnTo>
                    <a:lnTo>
                      <a:pt x="1212" y="227"/>
                    </a:lnTo>
                    <a:lnTo>
                      <a:pt x="1232" y="227"/>
                    </a:lnTo>
                    <a:lnTo>
                      <a:pt x="1253" y="225"/>
                    </a:lnTo>
                    <a:lnTo>
                      <a:pt x="1274" y="225"/>
                    </a:lnTo>
                    <a:lnTo>
                      <a:pt x="1294" y="223"/>
                    </a:lnTo>
                    <a:lnTo>
                      <a:pt x="1315" y="223"/>
                    </a:lnTo>
                    <a:lnTo>
                      <a:pt x="1335" y="221"/>
                    </a:lnTo>
                    <a:lnTo>
                      <a:pt x="1356" y="219"/>
                    </a:lnTo>
                    <a:lnTo>
                      <a:pt x="1376" y="219"/>
                    </a:lnTo>
                    <a:lnTo>
                      <a:pt x="1397" y="217"/>
                    </a:lnTo>
                    <a:lnTo>
                      <a:pt x="1417" y="215"/>
                    </a:lnTo>
                    <a:lnTo>
                      <a:pt x="1438" y="215"/>
                    </a:lnTo>
                    <a:lnTo>
                      <a:pt x="1458" y="213"/>
                    </a:lnTo>
                    <a:lnTo>
                      <a:pt x="1479" y="211"/>
                    </a:lnTo>
                    <a:lnTo>
                      <a:pt x="1499" y="211"/>
                    </a:lnTo>
                    <a:lnTo>
                      <a:pt x="1520" y="209"/>
                    </a:lnTo>
                    <a:lnTo>
                      <a:pt x="1528" y="215"/>
                    </a:lnTo>
                    <a:lnTo>
                      <a:pt x="1536" y="223"/>
                    </a:lnTo>
                    <a:lnTo>
                      <a:pt x="1543" y="228"/>
                    </a:lnTo>
                    <a:lnTo>
                      <a:pt x="1551" y="236"/>
                    </a:lnTo>
                    <a:lnTo>
                      <a:pt x="1559" y="244"/>
                    </a:lnTo>
                    <a:lnTo>
                      <a:pt x="1567" y="250"/>
                    </a:lnTo>
                    <a:lnTo>
                      <a:pt x="1575" y="258"/>
                    </a:lnTo>
                    <a:lnTo>
                      <a:pt x="1582" y="264"/>
                    </a:lnTo>
                    <a:lnTo>
                      <a:pt x="1594" y="264"/>
                    </a:lnTo>
                    <a:lnTo>
                      <a:pt x="1604" y="266"/>
                    </a:lnTo>
                    <a:lnTo>
                      <a:pt x="1616" y="266"/>
                    </a:lnTo>
                    <a:lnTo>
                      <a:pt x="1627" y="266"/>
                    </a:lnTo>
                    <a:lnTo>
                      <a:pt x="1639" y="267"/>
                    </a:lnTo>
                    <a:lnTo>
                      <a:pt x="1651" y="267"/>
                    </a:lnTo>
                    <a:lnTo>
                      <a:pt x="1660" y="267"/>
                    </a:lnTo>
                    <a:lnTo>
                      <a:pt x="1672" y="267"/>
                    </a:lnTo>
                    <a:lnTo>
                      <a:pt x="1697" y="267"/>
                    </a:lnTo>
                    <a:lnTo>
                      <a:pt x="1723" y="266"/>
                    </a:lnTo>
                    <a:lnTo>
                      <a:pt x="1748" y="266"/>
                    </a:lnTo>
                    <a:lnTo>
                      <a:pt x="1773" y="264"/>
                    </a:lnTo>
                    <a:lnTo>
                      <a:pt x="1799" y="264"/>
                    </a:lnTo>
                    <a:lnTo>
                      <a:pt x="1822" y="264"/>
                    </a:lnTo>
                    <a:lnTo>
                      <a:pt x="1847" y="262"/>
                    </a:lnTo>
                    <a:lnTo>
                      <a:pt x="1873" y="262"/>
                    </a:lnTo>
                    <a:lnTo>
                      <a:pt x="1863" y="277"/>
                    </a:lnTo>
                    <a:lnTo>
                      <a:pt x="1853" y="293"/>
                    </a:lnTo>
                    <a:lnTo>
                      <a:pt x="1845" y="306"/>
                    </a:lnTo>
                    <a:lnTo>
                      <a:pt x="1836" y="322"/>
                    </a:lnTo>
                    <a:lnTo>
                      <a:pt x="1826" y="336"/>
                    </a:lnTo>
                    <a:lnTo>
                      <a:pt x="1818" y="351"/>
                    </a:lnTo>
                    <a:lnTo>
                      <a:pt x="1808" y="365"/>
                    </a:lnTo>
                    <a:lnTo>
                      <a:pt x="1799" y="381"/>
                    </a:lnTo>
                    <a:lnTo>
                      <a:pt x="1787" y="423"/>
                    </a:lnTo>
                    <a:lnTo>
                      <a:pt x="1777" y="468"/>
                    </a:lnTo>
                    <a:lnTo>
                      <a:pt x="1766" y="511"/>
                    </a:lnTo>
                    <a:lnTo>
                      <a:pt x="1756" y="554"/>
                    </a:lnTo>
                    <a:lnTo>
                      <a:pt x="1775" y="554"/>
                    </a:lnTo>
                    <a:lnTo>
                      <a:pt x="1795" y="554"/>
                    </a:lnTo>
                    <a:lnTo>
                      <a:pt x="1812" y="554"/>
                    </a:lnTo>
                    <a:lnTo>
                      <a:pt x="1832" y="554"/>
                    </a:lnTo>
                    <a:lnTo>
                      <a:pt x="1851" y="554"/>
                    </a:lnTo>
                    <a:lnTo>
                      <a:pt x="1871" y="554"/>
                    </a:lnTo>
                    <a:lnTo>
                      <a:pt x="1888" y="554"/>
                    </a:lnTo>
                    <a:lnTo>
                      <a:pt x="1908" y="554"/>
                    </a:lnTo>
                    <a:lnTo>
                      <a:pt x="1894" y="577"/>
                    </a:lnTo>
                    <a:lnTo>
                      <a:pt x="1881" y="599"/>
                    </a:lnTo>
                    <a:lnTo>
                      <a:pt x="1867" y="622"/>
                    </a:lnTo>
                    <a:lnTo>
                      <a:pt x="1853" y="644"/>
                    </a:lnTo>
                    <a:lnTo>
                      <a:pt x="1840" y="665"/>
                    </a:lnTo>
                    <a:lnTo>
                      <a:pt x="1826" y="687"/>
                    </a:lnTo>
                    <a:lnTo>
                      <a:pt x="1812" y="710"/>
                    </a:lnTo>
                    <a:lnTo>
                      <a:pt x="1799" y="731"/>
                    </a:lnTo>
                    <a:lnTo>
                      <a:pt x="1791" y="759"/>
                    </a:lnTo>
                    <a:lnTo>
                      <a:pt x="1783" y="786"/>
                    </a:lnTo>
                    <a:lnTo>
                      <a:pt x="1775" y="813"/>
                    </a:lnTo>
                    <a:lnTo>
                      <a:pt x="1766" y="841"/>
                    </a:lnTo>
                    <a:lnTo>
                      <a:pt x="1758" y="870"/>
                    </a:lnTo>
                    <a:lnTo>
                      <a:pt x="1750" y="897"/>
                    </a:lnTo>
                    <a:lnTo>
                      <a:pt x="1740" y="924"/>
                    </a:lnTo>
                    <a:lnTo>
                      <a:pt x="1732" y="952"/>
                    </a:lnTo>
                    <a:lnTo>
                      <a:pt x="1719" y="979"/>
                    </a:lnTo>
                    <a:lnTo>
                      <a:pt x="1705" y="1006"/>
                    </a:lnTo>
                    <a:lnTo>
                      <a:pt x="1692" y="1034"/>
                    </a:lnTo>
                    <a:lnTo>
                      <a:pt x="1680" y="1061"/>
                    </a:lnTo>
                    <a:lnTo>
                      <a:pt x="1666" y="1088"/>
                    </a:lnTo>
                    <a:lnTo>
                      <a:pt x="1653" y="1115"/>
                    </a:lnTo>
                    <a:lnTo>
                      <a:pt x="1639" y="1143"/>
                    </a:lnTo>
                    <a:lnTo>
                      <a:pt x="1625" y="1170"/>
                    </a:lnTo>
                    <a:lnTo>
                      <a:pt x="1649" y="1197"/>
                    </a:lnTo>
                    <a:lnTo>
                      <a:pt x="1674" y="1225"/>
                    </a:lnTo>
                    <a:lnTo>
                      <a:pt x="1697" y="1252"/>
                    </a:lnTo>
                    <a:lnTo>
                      <a:pt x="1723" y="1279"/>
                    </a:lnTo>
                    <a:lnTo>
                      <a:pt x="1748" y="1308"/>
                    </a:lnTo>
                    <a:lnTo>
                      <a:pt x="1771" y="1336"/>
                    </a:lnTo>
                    <a:lnTo>
                      <a:pt x="1797" y="1363"/>
                    </a:lnTo>
                    <a:lnTo>
                      <a:pt x="1820" y="1390"/>
                    </a:lnTo>
                    <a:lnTo>
                      <a:pt x="1793" y="1382"/>
                    </a:lnTo>
                    <a:lnTo>
                      <a:pt x="1766" y="1375"/>
                    </a:lnTo>
                    <a:lnTo>
                      <a:pt x="1738" y="1365"/>
                    </a:lnTo>
                    <a:lnTo>
                      <a:pt x="1713" y="1357"/>
                    </a:lnTo>
                    <a:lnTo>
                      <a:pt x="1686" y="1349"/>
                    </a:lnTo>
                    <a:lnTo>
                      <a:pt x="1658" y="1340"/>
                    </a:lnTo>
                    <a:lnTo>
                      <a:pt x="1631" y="1332"/>
                    </a:lnTo>
                    <a:lnTo>
                      <a:pt x="1604" y="1324"/>
                    </a:lnTo>
                    <a:lnTo>
                      <a:pt x="1604" y="1373"/>
                    </a:lnTo>
                    <a:lnTo>
                      <a:pt x="1604" y="1423"/>
                    </a:lnTo>
                    <a:lnTo>
                      <a:pt x="1604" y="1472"/>
                    </a:lnTo>
                    <a:lnTo>
                      <a:pt x="1604" y="1521"/>
                    </a:lnTo>
                    <a:lnTo>
                      <a:pt x="1575" y="1521"/>
                    </a:lnTo>
                    <a:lnTo>
                      <a:pt x="1543" y="1521"/>
                    </a:lnTo>
                    <a:lnTo>
                      <a:pt x="1514" y="1521"/>
                    </a:lnTo>
                    <a:lnTo>
                      <a:pt x="1485" y="1521"/>
                    </a:lnTo>
                    <a:lnTo>
                      <a:pt x="1454" y="1521"/>
                    </a:lnTo>
                    <a:lnTo>
                      <a:pt x="1425" y="1521"/>
                    </a:lnTo>
                    <a:lnTo>
                      <a:pt x="1393" y="1521"/>
                    </a:lnTo>
                    <a:lnTo>
                      <a:pt x="1364" y="1521"/>
                    </a:lnTo>
                    <a:lnTo>
                      <a:pt x="1350" y="1505"/>
                    </a:lnTo>
                    <a:lnTo>
                      <a:pt x="1337" y="1488"/>
                    </a:lnTo>
                    <a:lnTo>
                      <a:pt x="1323" y="1472"/>
                    </a:lnTo>
                    <a:lnTo>
                      <a:pt x="1310" y="1455"/>
                    </a:lnTo>
                    <a:lnTo>
                      <a:pt x="1296" y="1439"/>
                    </a:lnTo>
                    <a:lnTo>
                      <a:pt x="1282" y="1423"/>
                    </a:lnTo>
                    <a:lnTo>
                      <a:pt x="1269" y="1406"/>
                    </a:lnTo>
                    <a:lnTo>
                      <a:pt x="1255" y="1390"/>
                    </a:lnTo>
                    <a:lnTo>
                      <a:pt x="1228" y="1412"/>
                    </a:lnTo>
                    <a:lnTo>
                      <a:pt x="1200" y="1433"/>
                    </a:lnTo>
                    <a:lnTo>
                      <a:pt x="1173" y="1456"/>
                    </a:lnTo>
                    <a:lnTo>
                      <a:pt x="1148" y="1478"/>
                    </a:lnTo>
                    <a:lnTo>
                      <a:pt x="1121" y="1499"/>
                    </a:lnTo>
                    <a:lnTo>
                      <a:pt x="1093" y="1521"/>
                    </a:lnTo>
                    <a:lnTo>
                      <a:pt x="1066" y="1544"/>
                    </a:lnTo>
                    <a:lnTo>
                      <a:pt x="1039" y="1566"/>
                    </a:lnTo>
                    <a:lnTo>
                      <a:pt x="1033" y="1521"/>
                    </a:lnTo>
                    <a:lnTo>
                      <a:pt x="1029" y="1478"/>
                    </a:lnTo>
                    <a:lnTo>
                      <a:pt x="1023" y="1433"/>
                    </a:lnTo>
                    <a:lnTo>
                      <a:pt x="1017" y="1390"/>
                    </a:lnTo>
                    <a:lnTo>
                      <a:pt x="988" y="1402"/>
                    </a:lnTo>
                    <a:lnTo>
                      <a:pt x="957" y="1412"/>
                    </a:lnTo>
                    <a:lnTo>
                      <a:pt x="928" y="1423"/>
                    </a:lnTo>
                    <a:lnTo>
                      <a:pt x="898" y="1433"/>
                    </a:lnTo>
                    <a:lnTo>
                      <a:pt x="867" y="1445"/>
                    </a:lnTo>
                    <a:lnTo>
                      <a:pt x="838" y="1456"/>
                    </a:lnTo>
                    <a:lnTo>
                      <a:pt x="807" y="1466"/>
                    </a:lnTo>
                    <a:lnTo>
                      <a:pt x="778" y="1478"/>
                    </a:lnTo>
                    <a:lnTo>
                      <a:pt x="750" y="1486"/>
                    </a:lnTo>
                    <a:lnTo>
                      <a:pt x="723" y="1494"/>
                    </a:lnTo>
                    <a:lnTo>
                      <a:pt x="696" y="1501"/>
                    </a:lnTo>
                    <a:lnTo>
                      <a:pt x="670" y="1511"/>
                    </a:lnTo>
                    <a:lnTo>
                      <a:pt x="643" y="1519"/>
                    </a:lnTo>
                    <a:lnTo>
                      <a:pt x="616" y="1527"/>
                    </a:lnTo>
                    <a:lnTo>
                      <a:pt x="589" y="1534"/>
                    </a:lnTo>
                    <a:lnTo>
                      <a:pt x="561" y="1542"/>
                    </a:lnTo>
                    <a:lnTo>
                      <a:pt x="534" y="1552"/>
                    </a:lnTo>
                    <a:lnTo>
                      <a:pt x="507" y="1560"/>
                    </a:lnTo>
                    <a:lnTo>
                      <a:pt x="479" y="1568"/>
                    </a:lnTo>
                    <a:lnTo>
                      <a:pt x="454" y="1575"/>
                    </a:lnTo>
                    <a:lnTo>
                      <a:pt x="427" y="1585"/>
                    </a:lnTo>
                    <a:lnTo>
                      <a:pt x="400" y="1593"/>
                    </a:lnTo>
                    <a:lnTo>
                      <a:pt x="372" y="1601"/>
                    </a:lnTo>
                    <a:lnTo>
                      <a:pt x="345" y="1609"/>
                    </a:lnTo>
                    <a:lnTo>
                      <a:pt x="364" y="1570"/>
                    </a:lnTo>
                    <a:lnTo>
                      <a:pt x="384" y="1533"/>
                    </a:lnTo>
                    <a:lnTo>
                      <a:pt x="401" y="1494"/>
                    </a:lnTo>
                    <a:lnTo>
                      <a:pt x="421" y="1455"/>
                    </a:lnTo>
                    <a:lnTo>
                      <a:pt x="440" y="1417"/>
                    </a:lnTo>
                    <a:lnTo>
                      <a:pt x="460" y="1379"/>
                    </a:lnTo>
                    <a:lnTo>
                      <a:pt x="477" y="1341"/>
                    </a:lnTo>
                    <a:lnTo>
                      <a:pt x="497" y="1302"/>
                    </a:lnTo>
                    <a:lnTo>
                      <a:pt x="472" y="1314"/>
                    </a:lnTo>
                    <a:lnTo>
                      <a:pt x="448" y="1324"/>
                    </a:lnTo>
                    <a:lnTo>
                      <a:pt x="423" y="1336"/>
                    </a:lnTo>
                    <a:lnTo>
                      <a:pt x="400" y="1345"/>
                    </a:lnTo>
                    <a:lnTo>
                      <a:pt x="374" y="1357"/>
                    </a:lnTo>
                    <a:lnTo>
                      <a:pt x="349" y="1369"/>
                    </a:lnTo>
                    <a:lnTo>
                      <a:pt x="325" y="1379"/>
                    </a:lnTo>
                    <a:lnTo>
                      <a:pt x="300" y="1390"/>
                    </a:lnTo>
                    <a:lnTo>
                      <a:pt x="308" y="1369"/>
                    </a:lnTo>
                    <a:lnTo>
                      <a:pt x="316" y="1345"/>
                    </a:lnTo>
                    <a:lnTo>
                      <a:pt x="325" y="1324"/>
                    </a:lnTo>
                    <a:lnTo>
                      <a:pt x="333" y="1302"/>
                    </a:lnTo>
                    <a:lnTo>
                      <a:pt x="341" y="1281"/>
                    </a:lnTo>
                    <a:lnTo>
                      <a:pt x="351" y="1258"/>
                    </a:lnTo>
                    <a:lnTo>
                      <a:pt x="359" y="1236"/>
                    </a:lnTo>
                    <a:lnTo>
                      <a:pt x="366" y="1215"/>
                    </a:lnTo>
                    <a:lnTo>
                      <a:pt x="349" y="1203"/>
                    </a:lnTo>
                    <a:lnTo>
                      <a:pt x="333" y="1193"/>
                    </a:lnTo>
                    <a:lnTo>
                      <a:pt x="316" y="1182"/>
                    </a:lnTo>
                    <a:lnTo>
                      <a:pt x="300" y="1170"/>
                    </a:lnTo>
                    <a:lnTo>
                      <a:pt x="285" y="1160"/>
                    </a:lnTo>
                    <a:lnTo>
                      <a:pt x="269" y="1149"/>
                    </a:lnTo>
                    <a:lnTo>
                      <a:pt x="251" y="1139"/>
                    </a:lnTo>
                    <a:lnTo>
                      <a:pt x="236" y="1127"/>
                    </a:lnTo>
                    <a:lnTo>
                      <a:pt x="251" y="1113"/>
                    </a:lnTo>
                    <a:lnTo>
                      <a:pt x="269" y="1100"/>
                    </a:lnTo>
                    <a:lnTo>
                      <a:pt x="285" y="1086"/>
                    </a:lnTo>
                    <a:lnTo>
                      <a:pt x="300" y="1072"/>
                    </a:lnTo>
                    <a:lnTo>
                      <a:pt x="316" y="1059"/>
                    </a:lnTo>
                    <a:lnTo>
                      <a:pt x="333" y="1045"/>
                    </a:lnTo>
                    <a:lnTo>
                      <a:pt x="349" y="1032"/>
                    </a:lnTo>
                    <a:lnTo>
                      <a:pt x="366" y="1018"/>
                    </a:lnTo>
                    <a:lnTo>
                      <a:pt x="329" y="977"/>
                    </a:lnTo>
                    <a:lnTo>
                      <a:pt x="290" y="934"/>
                    </a:lnTo>
                    <a:lnTo>
                      <a:pt x="253" y="893"/>
                    </a:lnTo>
                    <a:lnTo>
                      <a:pt x="214" y="852"/>
                    </a:lnTo>
                    <a:lnTo>
                      <a:pt x="177" y="811"/>
                    </a:lnTo>
                    <a:lnTo>
                      <a:pt x="140" y="770"/>
                    </a:lnTo>
                    <a:lnTo>
                      <a:pt x="103" y="729"/>
                    </a:lnTo>
                    <a:lnTo>
                      <a:pt x="66" y="688"/>
                    </a:lnTo>
                    <a:lnTo>
                      <a:pt x="58" y="663"/>
                    </a:lnTo>
                    <a:lnTo>
                      <a:pt x="51" y="638"/>
                    </a:lnTo>
                    <a:lnTo>
                      <a:pt x="43" y="612"/>
                    </a:lnTo>
                    <a:lnTo>
                      <a:pt x="33" y="589"/>
                    </a:lnTo>
                    <a:lnTo>
                      <a:pt x="25" y="564"/>
                    </a:lnTo>
                    <a:lnTo>
                      <a:pt x="18" y="538"/>
                    </a:lnTo>
                    <a:lnTo>
                      <a:pt x="8" y="513"/>
                    </a:lnTo>
                    <a:lnTo>
                      <a:pt x="0" y="490"/>
                    </a:lnTo>
                    <a:lnTo>
                      <a:pt x="27" y="501"/>
                    </a:lnTo>
                    <a:lnTo>
                      <a:pt x="55" y="511"/>
                    </a:lnTo>
                    <a:lnTo>
                      <a:pt x="82" y="523"/>
                    </a:lnTo>
                    <a:lnTo>
                      <a:pt x="109" y="533"/>
                    </a:lnTo>
                    <a:lnTo>
                      <a:pt x="136" y="544"/>
                    </a:lnTo>
                    <a:lnTo>
                      <a:pt x="162" y="556"/>
                    </a:lnTo>
                    <a:lnTo>
                      <a:pt x="189" y="566"/>
                    </a:lnTo>
                    <a:lnTo>
                      <a:pt x="214" y="577"/>
                    </a:lnTo>
                    <a:lnTo>
                      <a:pt x="214" y="533"/>
                    </a:lnTo>
                    <a:lnTo>
                      <a:pt x="214" y="490"/>
                    </a:lnTo>
                    <a:lnTo>
                      <a:pt x="214" y="445"/>
                    </a:lnTo>
                    <a:lnTo>
                      <a:pt x="214" y="402"/>
                    </a:lnTo>
                    <a:lnTo>
                      <a:pt x="236" y="419"/>
                    </a:lnTo>
                    <a:lnTo>
                      <a:pt x="257" y="435"/>
                    </a:lnTo>
                    <a:lnTo>
                      <a:pt x="279" y="453"/>
                    </a:lnTo>
                    <a:lnTo>
                      <a:pt x="302" y="468"/>
                    </a:lnTo>
                    <a:lnTo>
                      <a:pt x="324" y="484"/>
                    </a:lnTo>
                    <a:lnTo>
                      <a:pt x="345" y="501"/>
                    </a:lnTo>
                    <a:lnTo>
                      <a:pt x="366" y="517"/>
                    </a:lnTo>
                    <a:lnTo>
                      <a:pt x="388" y="535"/>
                    </a:lnTo>
                    <a:lnTo>
                      <a:pt x="376" y="480"/>
                    </a:lnTo>
                    <a:lnTo>
                      <a:pt x="366" y="423"/>
                    </a:lnTo>
                    <a:lnTo>
                      <a:pt x="355" y="369"/>
                    </a:lnTo>
                    <a:lnTo>
                      <a:pt x="345" y="314"/>
                    </a:lnTo>
                    <a:close/>
                  </a:path>
                </a:pathLst>
              </a:custGeom>
              <a:solidFill>
                <a:srgbClr val="93ad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2079000" y="3549960"/>
                <a:ext cx="1946880" cy="1760400"/>
              </a:xfrm>
              <a:custGeom>
                <a:avLst/>
                <a:gdLst/>
                <a:ahLst/>
                <a:rect l="l" t="t" r="r" b="b"/>
                <a:pathLst>
                  <a:path w="1861" h="1571">
                    <a:moveTo>
                      <a:pt x="336" y="308"/>
                    </a:moveTo>
                    <a:lnTo>
                      <a:pt x="326" y="279"/>
                    </a:lnTo>
                    <a:lnTo>
                      <a:pt x="314" y="248"/>
                    </a:lnTo>
                    <a:lnTo>
                      <a:pt x="304" y="218"/>
                    </a:lnTo>
                    <a:lnTo>
                      <a:pt x="295" y="189"/>
                    </a:lnTo>
                    <a:lnTo>
                      <a:pt x="283" y="160"/>
                    </a:lnTo>
                    <a:lnTo>
                      <a:pt x="273" y="131"/>
                    </a:lnTo>
                    <a:lnTo>
                      <a:pt x="261" y="101"/>
                    </a:lnTo>
                    <a:lnTo>
                      <a:pt x="252" y="72"/>
                    </a:lnTo>
                    <a:lnTo>
                      <a:pt x="275" y="88"/>
                    </a:lnTo>
                    <a:lnTo>
                      <a:pt x="299" y="103"/>
                    </a:lnTo>
                    <a:lnTo>
                      <a:pt x="322" y="121"/>
                    </a:lnTo>
                    <a:lnTo>
                      <a:pt x="347" y="136"/>
                    </a:lnTo>
                    <a:lnTo>
                      <a:pt x="371" y="152"/>
                    </a:lnTo>
                    <a:lnTo>
                      <a:pt x="394" y="168"/>
                    </a:lnTo>
                    <a:lnTo>
                      <a:pt x="417" y="185"/>
                    </a:lnTo>
                    <a:lnTo>
                      <a:pt x="441" y="201"/>
                    </a:lnTo>
                    <a:lnTo>
                      <a:pt x="447" y="173"/>
                    </a:lnTo>
                    <a:lnTo>
                      <a:pt x="452" y="146"/>
                    </a:lnTo>
                    <a:lnTo>
                      <a:pt x="458" y="121"/>
                    </a:lnTo>
                    <a:lnTo>
                      <a:pt x="462" y="94"/>
                    </a:lnTo>
                    <a:lnTo>
                      <a:pt x="478" y="107"/>
                    </a:lnTo>
                    <a:lnTo>
                      <a:pt x="495" y="121"/>
                    </a:lnTo>
                    <a:lnTo>
                      <a:pt x="511" y="133"/>
                    </a:lnTo>
                    <a:lnTo>
                      <a:pt x="527" y="146"/>
                    </a:lnTo>
                    <a:lnTo>
                      <a:pt x="542" y="160"/>
                    </a:lnTo>
                    <a:lnTo>
                      <a:pt x="560" y="173"/>
                    </a:lnTo>
                    <a:lnTo>
                      <a:pt x="575" y="187"/>
                    </a:lnTo>
                    <a:lnTo>
                      <a:pt x="591" y="201"/>
                    </a:lnTo>
                    <a:lnTo>
                      <a:pt x="604" y="175"/>
                    </a:lnTo>
                    <a:lnTo>
                      <a:pt x="618" y="150"/>
                    </a:lnTo>
                    <a:lnTo>
                      <a:pt x="630" y="125"/>
                    </a:lnTo>
                    <a:lnTo>
                      <a:pt x="643" y="99"/>
                    </a:lnTo>
                    <a:lnTo>
                      <a:pt x="657" y="74"/>
                    </a:lnTo>
                    <a:lnTo>
                      <a:pt x="671" y="51"/>
                    </a:lnTo>
                    <a:lnTo>
                      <a:pt x="684" y="25"/>
                    </a:lnTo>
                    <a:lnTo>
                      <a:pt x="698" y="0"/>
                    </a:lnTo>
                    <a:lnTo>
                      <a:pt x="714" y="8"/>
                    </a:lnTo>
                    <a:lnTo>
                      <a:pt x="727" y="16"/>
                    </a:lnTo>
                    <a:lnTo>
                      <a:pt x="743" y="23"/>
                    </a:lnTo>
                    <a:lnTo>
                      <a:pt x="756" y="31"/>
                    </a:lnTo>
                    <a:lnTo>
                      <a:pt x="772" y="41"/>
                    </a:lnTo>
                    <a:lnTo>
                      <a:pt x="786" y="49"/>
                    </a:lnTo>
                    <a:lnTo>
                      <a:pt x="801" y="57"/>
                    </a:lnTo>
                    <a:lnTo>
                      <a:pt x="815" y="64"/>
                    </a:lnTo>
                    <a:lnTo>
                      <a:pt x="825" y="68"/>
                    </a:lnTo>
                    <a:lnTo>
                      <a:pt x="834" y="74"/>
                    </a:lnTo>
                    <a:lnTo>
                      <a:pt x="844" y="78"/>
                    </a:lnTo>
                    <a:lnTo>
                      <a:pt x="852" y="82"/>
                    </a:lnTo>
                    <a:lnTo>
                      <a:pt x="862" y="86"/>
                    </a:lnTo>
                    <a:lnTo>
                      <a:pt x="871" y="92"/>
                    </a:lnTo>
                    <a:lnTo>
                      <a:pt x="879" y="96"/>
                    </a:lnTo>
                    <a:lnTo>
                      <a:pt x="889" y="101"/>
                    </a:lnTo>
                    <a:lnTo>
                      <a:pt x="907" y="109"/>
                    </a:lnTo>
                    <a:lnTo>
                      <a:pt x="922" y="119"/>
                    </a:lnTo>
                    <a:lnTo>
                      <a:pt x="940" y="127"/>
                    </a:lnTo>
                    <a:lnTo>
                      <a:pt x="955" y="135"/>
                    </a:lnTo>
                    <a:lnTo>
                      <a:pt x="973" y="144"/>
                    </a:lnTo>
                    <a:lnTo>
                      <a:pt x="988" y="152"/>
                    </a:lnTo>
                    <a:lnTo>
                      <a:pt x="1004" y="162"/>
                    </a:lnTo>
                    <a:lnTo>
                      <a:pt x="1020" y="170"/>
                    </a:lnTo>
                    <a:lnTo>
                      <a:pt x="1039" y="175"/>
                    </a:lnTo>
                    <a:lnTo>
                      <a:pt x="1059" y="181"/>
                    </a:lnTo>
                    <a:lnTo>
                      <a:pt x="1078" y="187"/>
                    </a:lnTo>
                    <a:lnTo>
                      <a:pt x="1097" y="193"/>
                    </a:lnTo>
                    <a:lnTo>
                      <a:pt x="1117" y="199"/>
                    </a:lnTo>
                    <a:lnTo>
                      <a:pt x="1136" y="205"/>
                    </a:lnTo>
                    <a:lnTo>
                      <a:pt x="1156" y="211"/>
                    </a:lnTo>
                    <a:lnTo>
                      <a:pt x="1175" y="216"/>
                    </a:lnTo>
                    <a:lnTo>
                      <a:pt x="1195" y="214"/>
                    </a:lnTo>
                    <a:lnTo>
                      <a:pt x="1214" y="214"/>
                    </a:lnTo>
                    <a:lnTo>
                      <a:pt x="1234" y="212"/>
                    </a:lnTo>
                    <a:lnTo>
                      <a:pt x="1255" y="212"/>
                    </a:lnTo>
                    <a:lnTo>
                      <a:pt x="1275" y="211"/>
                    </a:lnTo>
                    <a:lnTo>
                      <a:pt x="1294" y="211"/>
                    </a:lnTo>
                    <a:lnTo>
                      <a:pt x="1314" y="209"/>
                    </a:lnTo>
                    <a:lnTo>
                      <a:pt x="1333" y="207"/>
                    </a:lnTo>
                    <a:lnTo>
                      <a:pt x="1353" y="207"/>
                    </a:lnTo>
                    <a:lnTo>
                      <a:pt x="1372" y="205"/>
                    </a:lnTo>
                    <a:lnTo>
                      <a:pt x="1392" y="205"/>
                    </a:lnTo>
                    <a:lnTo>
                      <a:pt x="1413" y="203"/>
                    </a:lnTo>
                    <a:lnTo>
                      <a:pt x="1433" y="203"/>
                    </a:lnTo>
                    <a:lnTo>
                      <a:pt x="1452" y="201"/>
                    </a:lnTo>
                    <a:lnTo>
                      <a:pt x="1472" y="201"/>
                    </a:lnTo>
                    <a:lnTo>
                      <a:pt x="1491" y="199"/>
                    </a:lnTo>
                    <a:lnTo>
                      <a:pt x="1499" y="205"/>
                    </a:lnTo>
                    <a:lnTo>
                      <a:pt x="1507" y="211"/>
                    </a:lnTo>
                    <a:lnTo>
                      <a:pt x="1513" y="216"/>
                    </a:lnTo>
                    <a:lnTo>
                      <a:pt x="1520" y="222"/>
                    </a:lnTo>
                    <a:lnTo>
                      <a:pt x="1528" y="228"/>
                    </a:lnTo>
                    <a:lnTo>
                      <a:pt x="1536" y="234"/>
                    </a:lnTo>
                    <a:lnTo>
                      <a:pt x="1544" y="242"/>
                    </a:lnTo>
                    <a:lnTo>
                      <a:pt x="1552" y="248"/>
                    </a:lnTo>
                    <a:lnTo>
                      <a:pt x="1561" y="248"/>
                    </a:lnTo>
                    <a:lnTo>
                      <a:pt x="1573" y="250"/>
                    </a:lnTo>
                    <a:lnTo>
                      <a:pt x="1583" y="250"/>
                    </a:lnTo>
                    <a:lnTo>
                      <a:pt x="1594" y="250"/>
                    </a:lnTo>
                    <a:lnTo>
                      <a:pt x="1604" y="251"/>
                    </a:lnTo>
                    <a:lnTo>
                      <a:pt x="1614" y="251"/>
                    </a:lnTo>
                    <a:lnTo>
                      <a:pt x="1626" y="253"/>
                    </a:lnTo>
                    <a:lnTo>
                      <a:pt x="1635" y="253"/>
                    </a:lnTo>
                    <a:lnTo>
                      <a:pt x="1661" y="253"/>
                    </a:lnTo>
                    <a:lnTo>
                      <a:pt x="1684" y="251"/>
                    </a:lnTo>
                    <a:lnTo>
                      <a:pt x="1709" y="251"/>
                    </a:lnTo>
                    <a:lnTo>
                      <a:pt x="1735" y="251"/>
                    </a:lnTo>
                    <a:lnTo>
                      <a:pt x="1758" y="251"/>
                    </a:lnTo>
                    <a:lnTo>
                      <a:pt x="1783" y="251"/>
                    </a:lnTo>
                    <a:lnTo>
                      <a:pt x="1807" y="250"/>
                    </a:lnTo>
                    <a:lnTo>
                      <a:pt x="1832" y="250"/>
                    </a:lnTo>
                    <a:lnTo>
                      <a:pt x="1822" y="265"/>
                    </a:lnTo>
                    <a:lnTo>
                      <a:pt x="1813" y="279"/>
                    </a:lnTo>
                    <a:lnTo>
                      <a:pt x="1803" y="294"/>
                    </a:lnTo>
                    <a:lnTo>
                      <a:pt x="1795" y="310"/>
                    </a:lnTo>
                    <a:lnTo>
                      <a:pt x="1785" y="326"/>
                    </a:lnTo>
                    <a:lnTo>
                      <a:pt x="1776" y="341"/>
                    </a:lnTo>
                    <a:lnTo>
                      <a:pt x="1766" y="357"/>
                    </a:lnTo>
                    <a:lnTo>
                      <a:pt x="1756" y="372"/>
                    </a:lnTo>
                    <a:lnTo>
                      <a:pt x="1746" y="415"/>
                    </a:lnTo>
                    <a:lnTo>
                      <a:pt x="1735" y="456"/>
                    </a:lnTo>
                    <a:lnTo>
                      <a:pt x="1723" y="499"/>
                    </a:lnTo>
                    <a:lnTo>
                      <a:pt x="1713" y="542"/>
                    </a:lnTo>
                    <a:lnTo>
                      <a:pt x="1731" y="542"/>
                    </a:lnTo>
                    <a:lnTo>
                      <a:pt x="1750" y="542"/>
                    </a:lnTo>
                    <a:lnTo>
                      <a:pt x="1768" y="542"/>
                    </a:lnTo>
                    <a:lnTo>
                      <a:pt x="1787" y="542"/>
                    </a:lnTo>
                    <a:lnTo>
                      <a:pt x="1807" y="542"/>
                    </a:lnTo>
                    <a:lnTo>
                      <a:pt x="1824" y="542"/>
                    </a:lnTo>
                    <a:lnTo>
                      <a:pt x="1844" y="542"/>
                    </a:lnTo>
                    <a:lnTo>
                      <a:pt x="1861" y="542"/>
                    </a:lnTo>
                    <a:lnTo>
                      <a:pt x="1848" y="563"/>
                    </a:lnTo>
                    <a:lnTo>
                      <a:pt x="1836" y="585"/>
                    </a:lnTo>
                    <a:lnTo>
                      <a:pt x="1822" y="606"/>
                    </a:lnTo>
                    <a:lnTo>
                      <a:pt x="1809" y="628"/>
                    </a:lnTo>
                    <a:lnTo>
                      <a:pt x="1795" y="649"/>
                    </a:lnTo>
                    <a:lnTo>
                      <a:pt x="1783" y="671"/>
                    </a:lnTo>
                    <a:lnTo>
                      <a:pt x="1770" y="692"/>
                    </a:lnTo>
                    <a:lnTo>
                      <a:pt x="1756" y="713"/>
                    </a:lnTo>
                    <a:lnTo>
                      <a:pt x="1748" y="741"/>
                    </a:lnTo>
                    <a:lnTo>
                      <a:pt x="1741" y="768"/>
                    </a:lnTo>
                    <a:lnTo>
                      <a:pt x="1733" y="795"/>
                    </a:lnTo>
                    <a:lnTo>
                      <a:pt x="1725" y="821"/>
                    </a:lnTo>
                    <a:lnTo>
                      <a:pt x="1715" y="848"/>
                    </a:lnTo>
                    <a:lnTo>
                      <a:pt x="1707" y="875"/>
                    </a:lnTo>
                    <a:lnTo>
                      <a:pt x="1700" y="901"/>
                    </a:lnTo>
                    <a:lnTo>
                      <a:pt x="1692" y="928"/>
                    </a:lnTo>
                    <a:lnTo>
                      <a:pt x="1678" y="955"/>
                    </a:lnTo>
                    <a:lnTo>
                      <a:pt x="1667" y="982"/>
                    </a:lnTo>
                    <a:lnTo>
                      <a:pt x="1653" y="1008"/>
                    </a:lnTo>
                    <a:lnTo>
                      <a:pt x="1639" y="1035"/>
                    </a:lnTo>
                    <a:lnTo>
                      <a:pt x="1626" y="1062"/>
                    </a:lnTo>
                    <a:lnTo>
                      <a:pt x="1614" y="1088"/>
                    </a:lnTo>
                    <a:lnTo>
                      <a:pt x="1600" y="1115"/>
                    </a:lnTo>
                    <a:lnTo>
                      <a:pt x="1587" y="1142"/>
                    </a:lnTo>
                    <a:lnTo>
                      <a:pt x="1610" y="1170"/>
                    </a:lnTo>
                    <a:lnTo>
                      <a:pt x="1633" y="1197"/>
                    </a:lnTo>
                    <a:lnTo>
                      <a:pt x="1657" y="1222"/>
                    </a:lnTo>
                    <a:lnTo>
                      <a:pt x="1682" y="1249"/>
                    </a:lnTo>
                    <a:lnTo>
                      <a:pt x="1705" y="1277"/>
                    </a:lnTo>
                    <a:lnTo>
                      <a:pt x="1729" y="1302"/>
                    </a:lnTo>
                    <a:lnTo>
                      <a:pt x="1754" y="1329"/>
                    </a:lnTo>
                    <a:lnTo>
                      <a:pt x="1778" y="1357"/>
                    </a:lnTo>
                    <a:lnTo>
                      <a:pt x="1750" y="1349"/>
                    </a:lnTo>
                    <a:lnTo>
                      <a:pt x="1723" y="1341"/>
                    </a:lnTo>
                    <a:lnTo>
                      <a:pt x="1698" y="1333"/>
                    </a:lnTo>
                    <a:lnTo>
                      <a:pt x="1670" y="1324"/>
                    </a:lnTo>
                    <a:lnTo>
                      <a:pt x="1645" y="1316"/>
                    </a:lnTo>
                    <a:lnTo>
                      <a:pt x="1618" y="1308"/>
                    </a:lnTo>
                    <a:lnTo>
                      <a:pt x="1592" y="1300"/>
                    </a:lnTo>
                    <a:lnTo>
                      <a:pt x="1565" y="1292"/>
                    </a:lnTo>
                    <a:lnTo>
                      <a:pt x="1565" y="1341"/>
                    </a:lnTo>
                    <a:lnTo>
                      <a:pt x="1565" y="1388"/>
                    </a:lnTo>
                    <a:lnTo>
                      <a:pt x="1565" y="1437"/>
                    </a:lnTo>
                    <a:lnTo>
                      <a:pt x="1565" y="1485"/>
                    </a:lnTo>
                    <a:lnTo>
                      <a:pt x="1536" y="1485"/>
                    </a:lnTo>
                    <a:lnTo>
                      <a:pt x="1507" y="1485"/>
                    </a:lnTo>
                    <a:lnTo>
                      <a:pt x="1477" y="1485"/>
                    </a:lnTo>
                    <a:lnTo>
                      <a:pt x="1448" y="1485"/>
                    </a:lnTo>
                    <a:lnTo>
                      <a:pt x="1419" y="1485"/>
                    </a:lnTo>
                    <a:lnTo>
                      <a:pt x="1390" y="1485"/>
                    </a:lnTo>
                    <a:lnTo>
                      <a:pt x="1361" y="1485"/>
                    </a:lnTo>
                    <a:lnTo>
                      <a:pt x="1331" y="1485"/>
                    </a:lnTo>
                    <a:lnTo>
                      <a:pt x="1318" y="1470"/>
                    </a:lnTo>
                    <a:lnTo>
                      <a:pt x="1306" y="1452"/>
                    </a:lnTo>
                    <a:lnTo>
                      <a:pt x="1292" y="1437"/>
                    </a:lnTo>
                    <a:lnTo>
                      <a:pt x="1279" y="1421"/>
                    </a:lnTo>
                    <a:lnTo>
                      <a:pt x="1267" y="1405"/>
                    </a:lnTo>
                    <a:lnTo>
                      <a:pt x="1253" y="1388"/>
                    </a:lnTo>
                    <a:lnTo>
                      <a:pt x="1240" y="1372"/>
                    </a:lnTo>
                    <a:lnTo>
                      <a:pt x="1226" y="1357"/>
                    </a:lnTo>
                    <a:lnTo>
                      <a:pt x="1199" y="1378"/>
                    </a:lnTo>
                    <a:lnTo>
                      <a:pt x="1173" y="1400"/>
                    </a:lnTo>
                    <a:lnTo>
                      <a:pt x="1146" y="1421"/>
                    </a:lnTo>
                    <a:lnTo>
                      <a:pt x="1121" y="1442"/>
                    </a:lnTo>
                    <a:lnTo>
                      <a:pt x="1094" y="1464"/>
                    </a:lnTo>
                    <a:lnTo>
                      <a:pt x="1066" y="1485"/>
                    </a:lnTo>
                    <a:lnTo>
                      <a:pt x="1041" y="1507"/>
                    </a:lnTo>
                    <a:lnTo>
                      <a:pt x="1014" y="1528"/>
                    </a:lnTo>
                    <a:lnTo>
                      <a:pt x="1008" y="1485"/>
                    </a:lnTo>
                    <a:lnTo>
                      <a:pt x="1004" y="1442"/>
                    </a:lnTo>
                    <a:lnTo>
                      <a:pt x="998" y="1400"/>
                    </a:lnTo>
                    <a:lnTo>
                      <a:pt x="992" y="1357"/>
                    </a:lnTo>
                    <a:lnTo>
                      <a:pt x="963" y="1368"/>
                    </a:lnTo>
                    <a:lnTo>
                      <a:pt x="934" y="1378"/>
                    </a:lnTo>
                    <a:lnTo>
                      <a:pt x="905" y="1390"/>
                    </a:lnTo>
                    <a:lnTo>
                      <a:pt x="875" y="1400"/>
                    </a:lnTo>
                    <a:lnTo>
                      <a:pt x="846" y="1409"/>
                    </a:lnTo>
                    <a:lnTo>
                      <a:pt x="817" y="1421"/>
                    </a:lnTo>
                    <a:lnTo>
                      <a:pt x="790" y="1431"/>
                    </a:lnTo>
                    <a:lnTo>
                      <a:pt x="760" y="1442"/>
                    </a:lnTo>
                    <a:lnTo>
                      <a:pt x="733" y="1450"/>
                    </a:lnTo>
                    <a:lnTo>
                      <a:pt x="708" y="1458"/>
                    </a:lnTo>
                    <a:lnTo>
                      <a:pt x="680" y="1466"/>
                    </a:lnTo>
                    <a:lnTo>
                      <a:pt x="653" y="1474"/>
                    </a:lnTo>
                    <a:lnTo>
                      <a:pt x="628" y="1483"/>
                    </a:lnTo>
                    <a:lnTo>
                      <a:pt x="601" y="1491"/>
                    </a:lnTo>
                    <a:lnTo>
                      <a:pt x="575" y="1499"/>
                    </a:lnTo>
                    <a:lnTo>
                      <a:pt x="548" y="1507"/>
                    </a:lnTo>
                    <a:lnTo>
                      <a:pt x="521" y="1515"/>
                    </a:lnTo>
                    <a:lnTo>
                      <a:pt x="495" y="1522"/>
                    </a:lnTo>
                    <a:lnTo>
                      <a:pt x="468" y="1530"/>
                    </a:lnTo>
                    <a:lnTo>
                      <a:pt x="443" y="1538"/>
                    </a:lnTo>
                    <a:lnTo>
                      <a:pt x="415" y="1548"/>
                    </a:lnTo>
                    <a:lnTo>
                      <a:pt x="388" y="1555"/>
                    </a:lnTo>
                    <a:lnTo>
                      <a:pt x="363" y="1563"/>
                    </a:lnTo>
                    <a:lnTo>
                      <a:pt x="336" y="1571"/>
                    </a:lnTo>
                    <a:lnTo>
                      <a:pt x="353" y="1534"/>
                    </a:lnTo>
                    <a:lnTo>
                      <a:pt x="373" y="1497"/>
                    </a:lnTo>
                    <a:lnTo>
                      <a:pt x="390" y="1458"/>
                    </a:lnTo>
                    <a:lnTo>
                      <a:pt x="410" y="1421"/>
                    </a:lnTo>
                    <a:lnTo>
                      <a:pt x="429" y="1384"/>
                    </a:lnTo>
                    <a:lnTo>
                      <a:pt x="447" y="1345"/>
                    </a:lnTo>
                    <a:lnTo>
                      <a:pt x="466" y="1308"/>
                    </a:lnTo>
                    <a:lnTo>
                      <a:pt x="484" y="1271"/>
                    </a:lnTo>
                    <a:lnTo>
                      <a:pt x="460" y="1283"/>
                    </a:lnTo>
                    <a:lnTo>
                      <a:pt x="437" y="1292"/>
                    </a:lnTo>
                    <a:lnTo>
                      <a:pt x="413" y="1304"/>
                    </a:lnTo>
                    <a:lnTo>
                      <a:pt x="388" y="1314"/>
                    </a:lnTo>
                    <a:lnTo>
                      <a:pt x="365" y="1324"/>
                    </a:lnTo>
                    <a:lnTo>
                      <a:pt x="341" y="1335"/>
                    </a:lnTo>
                    <a:lnTo>
                      <a:pt x="316" y="1345"/>
                    </a:lnTo>
                    <a:lnTo>
                      <a:pt x="293" y="1357"/>
                    </a:lnTo>
                    <a:lnTo>
                      <a:pt x="300" y="1335"/>
                    </a:lnTo>
                    <a:lnTo>
                      <a:pt x="308" y="1314"/>
                    </a:lnTo>
                    <a:lnTo>
                      <a:pt x="316" y="1292"/>
                    </a:lnTo>
                    <a:lnTo>
                      <a:pt x="326" y="1271"/>
                    </a:lnTo>
                    <a:lnTo>
                      <a:pt x="334" y="1249"/>
                    </a:lnTo>
                    <a:lnTo>
                      <a:pt x="341" y="1228"/>
                    </a:lnTo>
                    <a:lnTo>
                      <a:pt x="349" y="1207"/>
                    </a:lnTo>
                    <a:lnTo>
                      <a:pt x="357" y="1185"/>
                    </a:lnTo>
                    <a:lnTo>
                      <a:pt x="341" y="1173"/>
                    </a:lnTo>
                    <a:lnTo>
                      <a:pt x="326" y="1164"/>
                    </a:lnTo>
                    <a:lnTo>
                      <a:pt x="308" y="1152"/>
                    </a:lnTo>
                    <a:lnTo>
                      <a:pt x="293" y="1142"/>
                    </a:lnTo>
                    <a:lnTo>
                      <a:pt x="277" y="1133"/>
                    </a:lnTo>
                    <a:lnTo>
                      <a:pt x="261" y="1121"/>
                    </a:lnTo>
                    <a:lnTo>
                      <a:pt x="246" y="1111"/>
                    </a:lnTo>
                    <a:lnTo>
                      <a:pt x="230" y="1099"/>
                    </a:lnTo>
                    <a:lnTo>
                      <a:pt x="246" y="1086"/>
                    </a:lnTo>
                    <a:lnTo>
                      <a:pt x="261" y="1072"/>
                    </a:lnTo>
                    <a:lnTo>
                      <a:pt x="277" y="1060"/>
                    </a:lnTo>
                    <a:lnTo>
                      <a:pt x="293" y="1047"/>
                    </a:lnTo>
                    <a:lnTo>
                      <a:pt x="308" y="1033"/>
                    </a:lnTo>
                    <a:lnTo>
                      <a:pt x="326" y="1019"/>
                    </a:lnTo>
                    <a:lnTo>
                      <a:pt x="341" y="1006"/>
                    </a:lnTo>
                    <a:lnTo>
                      <a:pt x="357" y="992"/>
                    </a:lnTo>
                    <a:lnTo>
                      <a:pt x="320" y="951"/>
                    </a:lnTo>
                    <a:lnTo>
                      <a:pt x="283" y="912"/>
                    </a:lnTo>
                    <a:lnTo>
                      <a:pt x="246" y="871"/>
                    </a:lnTo>
                    <a:lnTo>
                      <a:pt x="209" y="830"/>
                    </a:lnTo>
                    <a:lnTo>
                      <a:pt x="172" y="791"/>
                    </a:lnTo>
                    <a:lnTo>
                      <a:pt x="137" y="750"/>
                    </a:lnTo>
                    <a:lnTo>
                      <a:pt x="100" y="711"/>
                    </a:lnTo>
                    <a:lnTo>
                      <a:pt x="65" y="671"/>
                    </a:lnTo>
                    <a:lnTo>
                      <a:pt x="57" y="647"/>
                    </a:lnTo>
                    <a:lnTo>
                      <a:pt x="49" y="622"/>
                    </a:lnTo>
                    <a:lnTo>
                      <a:pt x="41" y="598"/>
                    </a:lnTo>
                    <a:lnTo>
                      <a:pt x="33" y="573"/>
                    </a:lnTo>
                    <a:lnTo>
                      <a:pt x="24" y="550"/>
                    </a:lnTo>
                    <a:lnTo>
                      <a:pt x="16" y="526"/>
                    </a:lnTo>
                    <a:lnTo>
                      <a:pt x="8" y="501"/>
                    </a:lnTo>
                    <a:lnTo>
                      <a:pt x="0" y="478"/>
                    </a:lnTo>
                    <a:lnTo>
                      <a:pt x="26" y="489"/>
                    </a:lnTo>
                    <a:lnTo>
                      <a:pt x="53" y="499"/>
                    </a:lnTo>
                    <a:lnTo>
                      <a:pt x="78" y="511"/>
                    </a:lnTo>
                    <a:lnTo>
                      <a:pt x="106" y="520"/>
                    </a:lnTo>
                    <a:lnTo>
                      <a:pt x="131" y="532"/>
                    </a:lnTo>
                    <a:lnTo>
                      <a:pt x="156" y="542"/>
                    </a:lnTo>
                    <a:lnTo>
                      <a:pt x="184" y="554"/>
                    </a:lnTo>
                    <a:lnTo>
                      <a:pt x="209" y="563"/>
                    </a:lnTo>
                    <a:lnTo>
                      <a:pt x="209" y="520"/>
                    </a:lnTo>
                    <a:lnTo>
                      <a:pt x="209" y="478"/>
                    </a:lnTo>
                    <a:lnTo>
                      <a:pt x="209" y="435"/>
                    </a:lnTo>
                    <a:lnTo>
                      <a:pt x="209" y="392"/>
                    </a:lnTo>
                    <a:lnTo>
                      <a:pt x="230" y="407"/>
                    </a:lnTo>
                    <a:lnTo>
                      <a:pt x="252" y="423"/>
                    </a:lnTo>
                    <a:lnTo>
                      <a:pt x="273" y="441"/>
                    </a:lnTo>
                    <a:lnTo>
                      <a:pt x="295" y="456"/>
                    </a:lnTo>
                    <a:lnTo>
                      <a:pt x="314" y="472"/>
                    </a:lnTo>
                    <a:lnTo>
                      <a:pt x="336" y="487"/>
                    </a:lnTo>
                    <a:lnTo>
                      <a:pt x="357" y="505"/>
                    </a:lnTo>
                    <a:lnTo>
                      <a:pt x="378" y="520"/>
                    </a:lnTo>
                    <a:lnTo>
                      <a:pt x="369" y="468"/>
                    </a:lnTo>
                    <a:lnTo>
                      <a:pt x="357" y="413"/>
                    </a:lnTo>
                    <a:lnTo>
                      <a:pt x="345" y="361"/>
                    </a:lnTo>
                    <a:lnTo>
                      <a:pt x="336" y="308"/>
                    </a:lnTo>
                    <a:close/>
                  </a:path>
                </a:pathLst>
              </a:custGeom>
              <a:solidFill>
                <a:srgbClr val="a3b7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100240" y="3565440"/>
                <a:ext cx="1898640" cy="1718280"/>
              </a:xfrm>
              <a:custGeom>
                <a:avLst/>
                <a:gdLst/>
                <a:ahLst/>
                <a:rect l="l" t="t" r="r" b="b"/>
                <a:pathLst>
                  <a:path w="1816" h="1534">
                    <a:moveTo>
                      <a:pt x="327" y="302"/>
                    </a:moveTo>
                    <a:lnTo>
                      <a:pt x="315" y="273"/>
                    </a:lnTo>
                    <a:lnTo>
                      <a:pt x="306" y="243"/>
                    </a:lnTo>
                    <a:lnTo>
                      <a:pt x="294" y="214"/>
                    </a:lnTo>
                    <a:lnTo>
                      <a:pt x="284" y="187"/>
                    </a:lnTo>
                    <a:lnTo>
                      <a:pt x="274" y="158"/>
                    </a:lnTo>
                    <a:lnTo>
                      <a:pt x="265" y="128"/>
                    </a:lnTo>
                    <a:lnTo>
                      <a:pt x="253" y="101"/>
                    </a:lnTo>
                    <a:lnTo>
                      <a:pt x="243" y="72"/>
                    </a:lnTo>
                    <a:lnTo>
                      <a:pt x="267" y="87"/>
                    </a:lnTo>
                    <a:lnTo>
                      <a:pt x="290" y="103"/>
                    </a:lnTo>
                    <a:lnTo>
                      <a:pt x="313" y="119"/>
                    </a:lnTo>
                    <a:lnTo>
                      <a:pt x="337" y="134"/>
                    </a:lnTo>
                    <a:lnTo>
                      <a:pt x="360" y="150"/>
                    </a:lnTo>
                    <a:lnTo>
                      <a:pt x="384" y="165"/>
                    </a:lnTo>
                    <a:lnTo>
                      <a:pt x="407" y="181"/>
                    </a:lnTo>
                    <a:lnTo>
                      <a:pt x="430" y="197"/>
                    </a:lnTo>
                    <a:lnTo>
                      <a:pt x="434" y="169"/>
                    </a:lnTo>
                    <a:lnTo>
                      <a:pt x="440" y="144"/>
                    </a:lnTo>
                    <a:lnTo>
                      <a:pt x="446" y="117"/>
                    </a:lnTo>
                    <a:lnTo>
                      <a:pt x="450" y="91"/>
                    </a:lnTo>
                    <a:lnTo>
                      <a:pt x="465" y="105"/>
                    </a:lnTo>
                    <a:lnTo>
                      <a:pt x="481" y="117"/>
                    </a:lnTo>
                    <a:lnTo>
                      <a:pt x="497" y="130"/>
                    </a:lnTo>
                    <a:lnTo>
                      <a:pt x="512" y="144"/>
                    </a:lnTo>
                    <a:lnTo>
                      <a:pt x="528" y="158"/>
                    </a:lnTo>
                    <a:lnTo>
                      <a:pt x="543" y="169"/>
                    </a:lnTo>
                    <a:lnTo>
                      <a:pt x="559" y="183"/>
                    </a:lnTo>
                    <a:lnTo>
                      <a:pt x="575" y="197"/>
                    </a:lnTo>
                    <a:lnTo>
                      <a:pt x="586" y="171"/>
                    </a:lnTo>
                    <a:lnTo>
                      <a:pt x="600" y="148"/>
                    </a:lnTo>
                    <a:lnTo>
                      <a:pt x="612" y="122"/>
                    </a:lnTo>
                    <a:lnTo>
                      <a:pt x="625" y="97"/>
                    </a:lnTo>
                    <a:lnTo>
                      <a:pt x="637" y="74"/>
                    </a:lnTo>
                    <a:lnTo>
                      <a:pt x="651" y="48"/>
                    </a:lnTo>
                    <a:lnTo>
                      <a:pt x="662" y="25"/>
                    </a:lnTo>
                    <a:lnTo>
                      <a:pt x="676" y="0"/>
                    </a:lnTo>
                    <a:lnTo>
                      <a:pt x="691" y="7"/>
                    </a:lnTo>
                    <a:lnTo>
                      <a:pt x="705" y="17"/>
                    </a:lnTo>
                    <a:lnTo>
                      <a:pt x="721" y="25"/>
                    </a:lnTo>
                    <a:lnTo>
                      <a:pt x="734" y="33"/>
                    </a:lnTo>
                    <a:lnTo>
                      <a:pt x="750" y="43"/>
                    </a:lnTo>
                    <a:lnTo>
                      <a:pt x="764" y="50"/>
                    </a:lnTo>
                    <a:lnTo>
                      <a:pt x="779" y="60"/>
                    </a:lnTo>
                    <a:lnTo>
                      <a:pt x="793" y="68"/>
                    </a:lnTo>
                    <a:lnTo>
                      <a:pt x="803" y="72"/>
                    </a:lnTo>
                    <a:lnTo>
                      <a:pt x="812" y="74"/>
                    </a:lnTo>
                    <a:lnTo>
                      <a:pt x="822" y="78"/>
                    </a:lnTo>
                    <a:lnTo>
                      <a:pt x="832" y="82"/>
                    </a:lnTo>
                    <a:lnTo>
                      <a:pt x="842" y="83"/>
                    </a:lnTo>
                    <a:lnTo>
                      <a:pt x="853" y="87"/>
                    </a:lnTo>
                    <a:lnTo>
                      <a:pt x="863" y="91"/>
                    </a:lnTo>
                    <a:lnTo>
                      <a:pt x="873" y="95"/>
                    </a:lnTo>
                    <a:lnTo>
                      <a:pt x="888" y="103"/>
                    </a:lnTo>
                    <a:lnTo>
                      <a:pt x="904" y="111"/>
                    </a:lnTo>
                    <a:lnTo>
                      <a:pt x="919" y="119"/>
                    </a:lnTo>
                    <a:lnTo>
                      <a:pt x="935" y="128"/>
                    </a:lnTo>
                    <a:lnTo>
                      <a:pt x="949" y="136"/>
                    </a:lnTo>
                    <a:lnTo>
                      <a:pt x="964" y="144"/>
                    </a:lnTo>
                    <a:lnTo>
                      <a:pt x="980" y="154"/>
                    </a:lnTo>
                    <a:lnTo>
                      <a:pt x="995" y="161"/>
                    </a:lnTo>
                    <a:lnTo>
                      <a:pt x="1017" y="167"/>
                    </a:lnTo>
                    <a:lnTo>
                      <a:pt x="1036" y="173"/>
                    </a:lnTo>
                    <a:lnTo>
                      <a:pt x="1058" y="179"/>
                    </a:lnTo>
                    <a:lnTo>
                      <a:pt x="1077" y="185"/>
                    </a:lnTo>
                    <a:lnTo>
                      <a:pt x="1099" y="191"/>
                    </a:lnTo>
                    <a:lnTo>
                      <a:pt x="1118" y="195"/>
                    </a:lnTo>
                    <a:lnTo>
                      <a:pt x="1140" y="200"/>
                    </a:lnTo>
                    <a:lnTo>
                      <a:pt x="1159" y="204"/>
                    </a:lnTo>
                    <a:lnTo>
                      <a:pt x="1196" y="202"/>
                    </a:lnTo>
                    <a:lnTo>
                      <a:pt x="1235" y="200"/>
                    </a:lnTo>
                    <a:lnTo>
                      <a:pt x="1272" y="198"/>
                    </a:lnTo>
                    <a:lnTo>
                      <a:pt x="1311" y="197"/>
                    </a:lnTo>
                    <a:lnTo>
                      <a:pt x="1348" y="195"/>
                    </a:lnTo>
                    <a:lnTo>
                      <a:pt x="1385" y="193"/>
                    </a:lnTo>
                    <a:lnTo>
                      <a:pt x="1424" y="191"/>
                    </a:lnTo>
                    <a:lnTo>
                      <a:pt x="1461" y="191"/>
                    </a:lnTo>
                    <a:lnTo>
                      <a:pt x="1469" y="195"/>
                    </a:lnTo>
                    <a:lnTo>
                      <a:pt x="1477" y="200"/>
                    </a:lnTo>
                    <a:lnTo>
                      <a:pt x="1483" y="204"/>
                    </a:lnTo>
                    <a:lnTo>
                      <a:pt x="1490" y="210"/>
                    </a:lnTo>
                    <a:lnTo>
                      <a:pt x="1498" y="216"/>
                    </a:lnTo>
                    <a:lnTo>
                      <a:pt x="1506" y="222"/>
                    </a:lnTo>
                    <a:lnTo>
                      <a:pt x="1512" y="228"/>
                    </a:lnTo>
                    <a:lnTo>
                      <a:pt x="1520" y="234"/>
                    </a:lnTo>
                    <a:lnTo>
                      <a:pt x="1529" y="234"/>
                    </a:lnTo>
                    <a:lnTo>
                      <a:pt x="1539" y="236"/>
                    </a:lnTo>
                    <a:lnTo>
                      <a:pt x="1549" y="236"/>
                    </a:lnTo>
                    <a:lnTo>
                      <a:pt x="1559" y="237"/>
                    </a:lnTo>
                    <a:lnTo>
                      <a:pt x="1566" y="239"/>
                    </a:lnTo>
                    <a:lnTo>
                      <a:pt x="1576" y="239"/>
                    </a:lnTo>
                    <a:lnTo>
                      <a:pt x="1586" y="241"/>
                    </a:lnTo>
                    <a:lnTo>
                      <a:pt x="1596" y="241"/>
                    </a:lnTo>
                    <a:lnTo>
                      <a:pt x="1621" y="241"/>
                    </a:lnTo>
                    <a:lnTo>
                      <a:pt x="1644" y="239"/>
                    </a:lnTo>
                    <a:lnTo>
                      <a:pt x="1670" y="239"/>
                    </a:lnTo>
                    <a:lnTo>
                      <a:pt x="1693" y="239"/>
                    </a:lnTo>
                    <a:lnTo>
                      <a:pt x="1718" y="239"/>
                    </a:lnTo>
                    <a:lnTo>
                      <a:pt x="1742" y="239"/>
                    </a:lnTo>
                    <a:lnTo>
                      <a:pt x="1767" y="237"/>
                    </a:lnTo>
                    <a:lnTo>
                      <a:pt x="1791" y="237"/>
                    </a:lnTo>
                    <a:lnTo>
                      <a:pt x="1781" y="253"/>
                    </a:lnTo>
                    <a:lnTo>
                      <a:pt x="1771" y="269"/>
                    </a:lnTo>
                    <a:lnTo>
                      <a:pt x="1761" y="284"/>
                    </a:lnTo>
                    <a:lnTo>
                      <a:pt x="1752" y="300"/>
                    </a:lnTo>
                    <a:lnTo>
                      <a:pt x="1742" y="315"/>
                    </a:lnTo>
                    <a:lnTo>
                      <a:pt x="1732" y="331"/>
                    </a:lnTo>
                    <a:lnTo>
                      <a:pt x="1722" y="347"/>
                    </a:lnTo>
                    <a:lnTo>
                      <a:pt x="1713" y="362"/>
                    </a:lnTo>
                    <a:lnTo>
                      <a:pt x="1703" y="405"/>
                    </a:lnTo>
                    <a:lnTo>
                      <a:pt x="1691" y="446"/>
                    </a:lnTo>
                    <a:lnTo>
                      <a:pt x="1681" y="489"/>
                    </a:lnTo>
                    <a:lnTo>
                      <a:pt x="1670" y="532"/>
                    </a:lnTo>
                    <a:lnTo>
                      <a:pt x="1687" y="532"/>
                    </a:lnTo>
                    <a:lnTo>
                      <a:pt x="1707" y="532"/>
                    </a:lnTo>
                    <a:lnTo>
                      <a:pt x="1724" y="532"/>
                    </a:lnTo>
                    <a:lnTo>
                      <a:pt x="1744" y="532"/>
                    </a:lnTo>
                    <a:lnTo>
                      <a:pt x="1761" y="532"/>
                    </a:lnTo>
                    <a:lnTo>
                      <a:pt x="1779" y="532"/>
                    </a:lnTo>
                    <a:lnTo>
                      <a:pt x="1798" y="532"/>
                    </a:lnTo>
                    <a:lnTo>
                      <a:pt x="1816" y="532"/>
                    </a:lnTo>
                    <a:lnTo>
                      <a:pt x="1802" y="553"/>
                    </a:lnTo>
                    <a:lnTo>
                      <a:pt x="1791" y="573"/>
                    </a:lnTo>
                    <a:lnTo>
                      <a:pt x="1777" y="594"/>
                    </a:lnTo>
                    <a:lnTo>
                      <a:pt x="1763" y="614"/>
                    </a:lnTo>
                    <a:lnTo>
                      <a:pt x="1750" y="635"/>
                    </a:lnTo>
                    <a:lnTo>
                      <a:pt x="1738" y="657"/>
                    </a:lnTo>
                    <a:lnTo>
                      <a:pt x="1724" y="676"/>
                    </a:lnTo>
                    <a:lnTo>
                      <a:pt x="1713" y="697"/>
                    </a:lnTo>
                    <a:lnTo>
                      <a:pt x="1705" y="723"/>
                    </a:lnTo>
                    <a:lnTo>
                      <a:pt x="1697" y="750"/>
                    </a:lnTo>
                    <a:lnTo>
                      <a:pt x="1689" y="775"/>
                    </a:lnTo>
                    <a:lnTo>
                      <a:pt x="1681" y="803"/>
                    </a:lnTo>
                    <a:lnTo>
                      <a:pt x="1674" y="828"/>
                    </a:lnTo>
                    <a:lnTo>
                      <a:pt x="1666" y="855"/>
                    </a:lnTo>
                    <a:lnTo>
                      <a:pt x="1658" y="881"/>
                    </a:lnTo>
                    <a:lnTo>
                      <a:pt x="1650" y="908"/>
                    </a:lnTo>
                    <a:lnTo>
                      <a:pt x="1637" y="933"/>
                    </a:lnTo>
                    <a:lnTo>
                      <a:pt x="1625" y="959"/>
                    </a:lnTo>
                    <a:lnTo>
                      <a:pt x="1611" y="986"/>
                    </a:lnTo>
                    <a:lnTo>
                      <a:pt x="1600" y="1011"/>
                    </a:lnTo>
                    <a:lnTo>
                      <a:pt x="1586" y="1039"/>
                    </a:lnTo>
                    <a:lnTo>
                      <a:pt x="1572" y="1064"/>
                    </a:lnTo>
                    <a:lnTo>
                      <a:pt x="1561" y="1091"/>
                    </a:lnTo>
                    <a:lnTo>
                      <a:pt x="1547" y="1117"/>
                    </a:lnTo>
                    <a:lnTo>
                      <a:pt x="1570" y="1142"/>
                    </a:lnTo>
                    <a:lnTo>
                      <a:pt x="1594" y="1169"/>
                    </a:lnTo>
                    <a:lnTo>
                      <a:pt x="1617" y="1195"/>
                    </a:lnTo>
                    <a:lnTo>
                      <a:pt x="1641" y="1220"/>
                    </a:lnTo>
                    <a:lnTo>
                      <a:pt x="1662" y="1247"/>
                    </a:lnTo>
                    <a:lnTo>
                      <a:pt x="1685" y="1272"/>
                    </a:lnTo>
                    <a:lnTo>
                      <a:pt x="1709" y="1300"/>
                    </a:lnTo>
                    <a:lnTo>
                      <a:pt x="1732" y="1325"/>
                    </a:lnTo>
                    <a:lnTo>
                      <a:pt x="1707" y="1317"/>
                    </a:lnTo>
                    <a:lnTo>
                      <a:pt x="1681" y="1310"/>
                    </a:lnTo>
                    <a:lnTo>
                      <a:pt x="1656" y="1302"/>
                    </a:lnTo>
                    <a:lnTo>
                      <a:pt x="1629" y="1294"/>
                    </a:lnTo>
                    <a:lnTo>
                      <a:pt x="1603" y="1286"/>
                    </a:lnTo>
                    <a:lnTo>
                      <a:pt x="1578" y="1278"/>
                    </a:lnTo>
                    <a:lnTo>
                      <a:pt x="1551" y="1271"/>
                    </a:lnTo>
                    <a:lnTo>
                      <a:pt x="1526" y="1263"/>
                    </a:lnTo>
                    <a:lnTo>
                      <a:pt x="1526" y="1310"/>
                    </a:lnTo>
                    <a:lnTo>
                      <a:pt x="1526" y="1356"/>
                    </a:lnTo>
                    <a:lnTo>
                      <a:pt x="1526" y="1403"/>
                    </a:lnTo>
                    <a:lnTo>
                      <a:pt x="1526" y="1450"/>
                    </a:lnTo>
                    <a:lnTo>
                      <a:pt x="1496" y="1450"/>
                    </a:lnTo>
                    <a:lnTo>
                      <a:pt x="1469" y="1450"/>
                    </a:lnTo>
                    <a:lnTo>
                      <a:pt x="1440" y="1450"/>
                    </a:lnTo>
                    <a:lnTo>
                      <a:pt x="1413" y="1450"/>
                    </a:lnTo>
                    <a:lnTo>
                      <a:pt x="1383" y="1450"/>
                    </a:lnTo>
                    <a:lnTo>
                      <a:pt x="1354" y="1450"/>
                    </a:lnTo>
                    <a:lnTo>
                      <a:pt x="1327" y="1450"/>
                    </a:lnTo>
                    <a:lnTo>
                      <a:pt x="1298" y="1450"/>
                    </a:lnTo>
                    <a:lnTo>
                      <a:pt x="1286" y="1434"/>
                    </a:lnTo>
                    <a:lnTo>
                      <a:pt x="1272" y="1419"/>
                    </a:lnTo>
                    <a:lnTo>
                      <a:pt x="1261" y="1403"/>
                    </a:lnTo>
                    <a:lnTo>
                      <a:pt x="1247" y="1387"/>
                    </a:lnTo>
                    <a:lnTo>
                      <a:pt x="1233" y="1372"/>
                    </a:lnTo>
                    <a:lnTo>
                      <a:pt x="1222" y="1356"/>
                    </a:lnTo>
                    <a:lnTo>
                      <a:pt x="1208" y="1341"/>
                    </a:lnTo>
                    <a:lnTo>
                      <a:pt x="1196" y="1325"/>
                    </a:lnTo>
                    <a:lnTo>
                      <a:pt x="1171" y="1347"/>
                    </a:lnTo>
                    <a:lnTo>
                      <a:pt x="1144" y="1368"/>
                    </a:lnTo>
                    <a:lnTo>
                      <a:pt x="1118" y="1387"/>
                    </a:lnTo>
                    <a:lnTo>
                      <a:pt x="1093" y="1409"/>
                    </a:lnTo>
                    <a:lnTo>
                      <a:pt x="1066" y="1430"/>
                    </a:lnTo>
                    <a:lnTo>
                      <a:pt x="1040" y="1450"/>
                    </a:lnTo>
                    <a:lnTo>
                      <a:pt x="1013" y="1471"/>
                    </a:lnTo>
                    <a:lnTo>
                      <a:pt x="988" y="1493"/>
                    </a:lnTo>
                    <a:lnTo>
                      <a:pt x="984" y="1450"/>
                    </a:lnTo>
                    <a:lnTo>
                      <a:pt x="978" y="1409"/>
                    </a:lnTo>
                    <a:lnTo>
                      <a:pt x="972" y="1368"/>
                    </a:lnTo>
                    <a:lnTo>
                      <a:pt x="968" y="1325"/>
                    </a:lnTo>
                    <a:lnTo>
                      <a:pt x="939" y="1335"/>
                    </a:lnTo>
                    <a:lnTo>
                      <a:pt x="912" y="1347"/>
                    </a:lnTo>
                    <a:lnTo>
                      <a:pt x="882" y="1356"/>
                    </a:lnTo>
                    <a:lnTo>
                      <a:pt x="855" y="1366"/>
                    </a:lnTo>
                    <a:lnTo>
                      <a:pt x="826" y="1378"/>
                    </a:lnTo>
                    <a:lnTo>
                      <a:pt x="797" y="1387"/>
                    </a:lnTo>
                    <a:lnTo>
                      <a:pt x="769" y="1399"/>
                    </a:lnTo>
                    <a:lnTo>
                      <a:pt x="740" y="1409"/>
                    </a:lnTo>
                    <a:lnTo>
                      <a:pt x="715" y="1417"/>
                    </a:lnTo>
                    <a:lnTo>
                      <a:pt x="688" y="1425"/>
                    </a:lnTo>
                    <a:lnTo>
                      <a:pt x="662" y="1432"/>
                    </a:lnTo>
                    <a:lnTo>
                      <a:pt x="637" y="1440"/>
                    </a:lnTo>
                    <a:lnTo>
                      <a:pt x="612" y="1448"/>
                    </a:lnTo>
                    <a:lnTo>
                      <a:pt x="584" y="1456"/>
                    </a:lnTo>
                    <a:lnTo>
                      <a:pt x="559" y="1464"/>
                    </a:lnTo>
                    <a:lnTo>
                      <a:pt x="534" y="1471"/>
                    </a:lnTo>
                    <a:lnTo>
                      <a:pt x="508" y="1479"/>
                    </a:lnTo>
                    <a:lnTo>
                      <a:pt x="483" y="1487"/>
                    </a:lnTo>
                    <a:lnTo>
                      <a:pt x="456" y="1495"/>
                    </a:lnTo>
                    <a:lnTo>
                      <a:pt x="430" y="1503"/>
                    </a:lnTo>
                    <a:lnTo>
                      <a:pt x="405" y="1510"/>
                    </a:lnTo>
                    <a:lnTo>
                      <a:pt x="380" y="1518"/>
                    </a:lnTo>
                    <a:lnTo>
                      <a:pt x="352" y="1526"/>
                    </a:lnTo>
                    <a:lnTo>
                      <a:pt x="327" y="1534"/>
                    </a:lnTo>
                    <a:lnTo>
                      <a:pt x="345" y="1497"/>
                    </a:lnTo>
                    <a:lnTo>
                      <a:pt x="362" y="1460"/>
                    </a:lnTo>
                    <a:lnTo>
                      <a:pt x="380" y="1425"/>
                    </a:lnTo>
                    <a:lnTo>
                      <a:pt x="399" y="1387"/>
                    </a:lnTo>
                    <a:lnTo>
                      <a:pt x="417" y="1350"/>
                    </a:lnTo>
                    <a:lnTo>
                      <a:pt x="434" y="1313"/>
                    </a:lnTo>
                    <a:lnTo>
                      <a:pt x="454" y="1278"/>
                    </a:lnTo>
                    <a:lnTo>
                      <a:pt x="471" y="1241"/>
                    </a:lnTo>
                    <a:lnTo>
                      <a:pt x="448" y="1253"/>
                    </a:lnTo>
                    <a:lnTo>
                      <a:pt x="425" y="1263"/>
                    </a:lnTo>
                    <a:lnTo>
                      <a:pt x="401" y="1274"/>
                    </a:lnTo>
                    <a:lnTo>
                      <a:pt x="378" y="1284"/>
                    </a:lnTo>
                    <a:lnTo>
                      <a:pt x="354" y="1294"/>
                    </a:lnTo>
                    <a:lnTo>
                      <a:pt x="331" y="1304"/>
                    </a:lnTo>
                    <a:lnTo>
                      <a:pt x="308" y="1315"/>
                    </a:lnTo>
                    <a:lnTo>
                      <a:pt x="284" y="1325"/>
                    </a:lnTo>
                    <a:lnTo>
                      <a:pt x="292" y="1304"/>
                    </a:lnTo>
                    <a:lnTo>
                      <a:pt x="300" y="1284"/>
                    </a:lnTo>
                    <a:lnTo>
                      <a:pt x="308" y="1263"/>
                    </a:lnTo>
                    <a:lnTo>
                      <a:pt x="315" y="1241"/>
                    </a:lnTo>
                    <a:lnTo>
                      <a:pt x="323" y="1222"/>
                    </a:lnTo>
                    <a:lnTo>
                      <a:pt x="331" y="1200"/>
                    </a:lnTo>
                    <a:lnTo>
                      <a:pt x="339" y="1179"/>
                    </a:lnTo>
                    <a:lnTo>
                      <a:pt x="347" y="1157"/>
                    </a:lnTo>
                    <a:lnTo>
                      <a:pt x="331" y="1148"/>
                    </a:lnTo>
                    <a:lnTo>
                      <a:pt x="315" y="1136"/>
                    </a:lnTo>
                    <a:lnTo>
                      <a:pt x="300" y="1126"/>
                    </a:lnTo>
                    <a:lnTo>
                      <a:pt x="286" y="1117"/>
                    </a:lnTo>
                    <a:lnTo>
                      <a:pt x="271" y="1107"/>
                    </a:lnTo>
                    <a:lnTo>
                      <a:pt x="255" y="1095"/>
                    </a:lnTo>
                    <a:lnTo>
                      <a:pt x="239" y="1085"/>
                    </a:lnTo>
                    <a:lnTo>
                      <a:pt x="224" y="1074"/>
                    </a:lnTo>
                    <a:lnTo>
                      <a:pt x="239" y="1062"/>
                    </a:lnTo>
                    <a:lnTo>
                      <a:pt x="255" y="1048"/>
                    </a:lnTo>
                    <a:lnTo>
                      <a:pt x="271" y="1037"/>
                    </a:lnTo>
                    <a:lnTo>
                      <a:pt x="286" y="1023"/>
                    </a:lnTo>
                    <a:lnTo>
                      <a:pt x="300" y="1009"/>
                    </a:lnTo>
                    <a:lnTo>
                      <a:pt x="315" y="996"/>
                    </a:lnTo>
                    <a:lnTo>
                      <a:pt x="331" y="984"/>
                    </a:lnTo>
                    <a:lnTo>
                      <a:pt x="347" y="970"/>
                    </a:lnTo>
                    <a:lnTo>
                      <a:pt x="311" y="931"/>
                    </a:lnTo>
                    <a:lnTo>
                      <a:pt x="274" y="892"/>
                    </a:lnTo>
                    <a:lnTo>
                      <a:pt x="239" y="853"/>
                    </a:lnTo>
                    <a:lnTo>
                      <a:pt x="202" y="812"/>
                    </a:lnTo>
                    <a:lnTo>
                      <a:pt x="167" y="773"/>
                    </a:lnTo>
                    <a:lnTo>
                      <a:pt x="132" y="735"/>
                    </a:lnTo>
                    <a:lnTo>
                      <a:pt x="97" y="696"/>
                    </a:lnTo>
                    <a:lnTo>
                      <a:pt x="62" y="657"/>
                    </a:lnTo>
                    <a:lnTo>
                      <a:pt x="54" y="633"/>
                    </a:lnTo>
                    <a:lnTo>
                      <a:pt x="46" y="610"/>
                    </a:lnTo>
                    <a:lnTo>
                      <a:pt x="39" y="586"/>
                    </a:lnTo>
                    <a:lnTo>
                      <a:pt x="31" y="563"/>
                    </a:lnTo>
                    <a:lnTo>
                      <a:pt x="23" y="540"/>
                    </a:lnTo>
                    <a:lnTo>
                      <a:pt x="15" y="516"/>
                    </a:lnTo>
                    <a:lnTo>
                      <a:pt x="7" y="491"/>
                    </a:lnTo>
                    <a:lnTo>
                      <a:pt x="0" y="467"/>
                    </a:lnTo>
                    <a:lnTo>
                      <a:pt x="25" y="479"/>
                    </a:lnTo>
                    <a:lnTo>
                      <a:pt x="50" y="489"/>
                    </a:lnTo>
                    <a:lnTo>
                      <a:pt x="76" y="501"/>
                    </a:lnTo>
                    <a:lnTo>
                      <a:pt x="101" y="510"/>
                    </a:lnTo>
                    <a:lnTo>
                      <a:pt x="126" y="520"/>
                    </a:lnTo>
                    <a:lnTo>
                      <a:pt x="152" y="530"/>
                    </a:lnTo>
                    <a:lnTo>
                      <a:pt x="177" y="542"/>
                    </a:lnTo>
                    <a:lnTo>
                      <a:pt x="202" y="551"/>
                    </a:lnTo>
                    <a:lnTo>
                      <a:pt x="202" y="510"/>
                    </a:lnTo>
                    <a:lnTo>
                      <a:pt x="202" y="467"/>
                    </a:lnTo>
                    <a:lnTo>
                      <a:pt x="202" y="427"/>
                    </a:lnTo>
                    <a:lnTo>
                      <a:pt x="202" y="386"/>
                    </a:lnTo>
                    <a:lnTo>
                      <a:pt x="224" y="401"/>
                    </a:lnTo>
                    <a:lnTo>
                      <a:pt x="243" y="417"/>
                    </a:lnTo>
                    <a:lnTo>
                      <a:pt x="265" y="432"/>
                    </a:lnTo>
                    <a:lnTo>
                      <a:pt x="286" y="448"/>
                    </a:lnTo>
                    <a:lnTo>
                      <a:pt x="306" y="464"/>
                    </a:lnTo>
                    <a:lnTo>
                      <a:pt x="327" y="479"/>
                    </a:lnTo>
                    <a:lnTo>
                      <a:pt x="347" y="495"/>
                    </a:lnTo>
                    <a:lnTo>
                      <a:pt x="368" y="510"/>
                    </a:lnTo>
                    <a:lnTo>
                      <a:pt x="358" y="458"/>
                    </a:lnTo>
                    <a:lnTo>
                      <a:pt x="349" y="405"/>
                    </a:lnTo>
                    <a:lnTo>
                      <a:pt x="339" y="352"/>
                    </a:lnTo>
                    <a:lnTo>
                      <a:pt x="327" y="302"/>
                    </a:lnTo>
                    <a:close/>
                  </a:path>
                </a:pathLst>
              </a:custGeom>
              <a:solidFill>
                <a:srgbClr val="b2c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2122560" y="3580920"/>
                <a:ext cx="1850760" cy="1677600"/>
              </a:xfrm>
              <a:custGeom>
                <a:avLst/>
                <a:gdLst/>
                <a:ahLst/>
                <a:rect l="l" t="t" r="r" b="b"/>
                <a:pathLst>
                  <a:path w="1771" h="1499">
                    <a:moveTo>
                      <a:pt x="320" y="297"/>
                    </a:moveTo>
                    <a:lnTo>
                      <a:pt x="310" y="267"/>
                    </a:lnTo>
                    <a:lnTo>
                      <a:pt x="300" y="240"/>
                    </a:lnTo>
                    <a:lnTo>
                      <a:pt x="288" y="211"/>
                    </a:lnTo>
                    <a:lnTo>
                      <a:pt x="279" y="184"/>
                    </a:lnTo>
                    <a:lnTo>
                      <a:pt x="269" y="156"/>
                    </a:lnTo>
                    <a:lnTo>
                      <a:pt x="259" y="129"/>
                    </a:lnTo>
                    <a:lnTo>
                      <a:pt x="250" y="100"/>
                    </a:lnTo>
                    <a:lnTo>
                      <a:pt x="240" y="72"/>
                    </a:lnTo>
                    <a:lnTo>
                      <a:pt x="263" y="88"/>
                    </a:lnTo>
                    <a:lnTo>
                      <a:pt x="285" y="104"/>
                    </a:lnTo>
                    <a:lnTo>
                      <a:pt x="308" y="119"/>
                    </a:lnTo>
                    <a:lnTo>
                      <a:pt x="331" y="133"/>
                    </a:lnTo>
                    <a:lnTo>
                      <a:pt x="355" y="148"/>
                    </a:lnTo>
                    <a:lnTo>
                      <a:pt x="376" y="162"/>
                    </a:lnTo>
                    <a:lnTo>
                      <a:pt x="400" y="178"/>
                    </a:lnTo>
                    <a:lnTo>
                      <a:pt x="421" y="191"/>
                    </a:lnTo>
                    <a:lnTo>
                      <a:pt x="425" y="168"/>
                    </a:lnTo>
                    <a:lnTo>
                      <a:pt x="431" y="143"/>
                    </a:lnTo>
                    <a:lnTo>
                      <a:pt x="437" y="117"/>
                    </a:lnTo>
                    <a:lnTo>
                      <a:pt x="442" y="92"/>
                    </a:lnTo>
                    <a:lnTo>
                      <a:pt x="458" y="106"/>
                    </a:lnTo>
                    <a:lnTo>
                      <a:pt x="474" y="117"/>
                    </a:lnTo>
                    <a:lnTo>
                      <a:pt x="487" y="131"/>
                    </a:lnTo>
                    <a:lnTo>
                      <a:pt x="503" y="143"/>
                    </a:lnTo>
                    <a:lnTo>
                      <a:pt x="518" y="156"/>
                    </a:lnTo>
                    <a:lnTo>
                      <a:pt x="532" y="168"/>
                    </a:lnTo>
                    <a:lnTo>
                      <a:pt x="548" y="180"/>
                    </a:lnTo>
                    <a:lnTo>
                      <a:pt x="563" y="191"/>
                    </a:lnTo>
                    <a:lnTo>
                      <a:pt x="575" y="168"/>
                    </a:lnTo>
                    <a:lnTo>
                      <a:pt x="585" y="145"/>
                    </a:lnTo>
                    <a:lnTo>
                      <a:pt x="596" y="121"/>
                    </a:lnTo>
                    <a:lnTo>
                      <a:pt x="608" y="96"/>
                    </a:lnTo>
                    <a:lnTo>
                      <a:pt x="620" y="72"/>
                    </a:lnTo>
                    <a:lnTo>
                      <a:pt x="631" y="49"/>
                    </a:lnTo>
                    <a:lnTo>
                      <a:pt x="645" y="24"/>
                    </a:lnTo>
                    <a:lnTo>
                      <a:pt x="657" y="0"/>
                    </a:lnTo>
                    <a:lnTo>
                      <a:pt x="670" y="10"/>
                    </a:lnTo>
                    <a:lnTo>
                      <a:pt x="684" y="18"/>
                    </a:lnTo>
                    <a:lnTo>
                      <a:pt x="700" y="28"/>
                    </a:lnTo>
                    <a:lnTo>
                      <a:pt x="713" y="35"/>
                    </a:lnTo>
                    <a:lnTo>
                      <a:pt x="729" y="45"/>
                    </a:lnTo>
                    <a:lnTo>
                      <a:pt x="743" y="55"/>
                    </a:lnTo>
                    <a:lnTo>
                      <a:pt x="758" y="63"/>
                    </a:lnTo>
                    <a:lnTo>
                      <a:pt x="772" y="72"/>
                    </a:lnTo>
                    <a:lnTo>
                      <a:pt x="783" y="74"/>
                    </a:lnTo>
                    <a:lnTo>
                      <a:pt x="793" y="76"/>
                    </a:lnTo>
                    <a:lnTo>
                      <a:pt x="805" y="78"/>
                    </a:lnTo>
                    <a:lnTo>
                      <a:pt x="817" y="80"/>
                    </a:lnTo>
                    <a:lnTo>
                      <a:pt x="826" y="82"/>
                    </a:lnTo>
                    <a:lnTo>
                      <a:pt x="838" y="84"/>
                    </a:lnTo>
                    <a:lnTo>
                      <a:pt x="848" y="86"/>
                    </a:lnTo>
                    <a:lnTo>
                      <a:pt x="859" y="88"/>
                    </a:lnTo>
                    <a:lnTo>
                      <a:pt x="873" y="96"/>
                    </a:lnTo>
                    <a:lnTo>
                      <a:pt x="887" y="106"/>
                    </a:lnTo>
                    <a:lnTo>
                      <a:pt x="902" y="113"/>
                    </a:lnTo>
                    <a:lnTo>
                      <a:pt x="916" y="121"/>
                    </a:lnTo>
                    <a:lnTo>
                      <a:pt x="930" y="131"/>
                    </a:lnTo>
                    <a:lnTo>
                      <a:pt x="945" y="139"/>
                    </a:lnTo>
                    <a:lnTo>
                      <a:pt x="959" y="148"/>
                    </a:lnTo>
                    <a:lnTo>
                      <a:pt x="972" y="156"/>
                    </a:lnTo>
                    <a:lnTo>
                      <a:pt x="994" y="162"/>
                    </a:lnTo>
                    <a:lnTo>
                      <a:pt x="1015" y="166"/>
                    </a:lnTo>
                    <a:lnTo>
                      <a:pt x="1037" y="172"/>
                    </a:lnTo>
                    <a:lnTo>
                      <a:pt x="1060" y="176"/>
                    </a:lnTo>
                    <a:lnTo>
                      <a:pt x="1082" y="182"/>
                    </a:lnTo>
                    <a:lnTo>
                      <a:pt x="1103" y="187"/>
                    </a:lnTo>
                    <a:lnTo>
                      <a:pt x="1124" y="191"/>
                    </a:lnTo>
                    <a:lnTo>
                      <a:pt x="1146" y="197"/>
                    </a:lnTo>
                    <a:lnTo>
                      <a:pt x="1181" y="195"/>
                    </a:lnTo>
                    <a:lnTo>
                      <a:pt x="1218" y="191"/>
                    </a:lnTo>
                    <a:lnTo>
                      <a:pt x="1253" y="189"/>
                    </a:lnTo>
                    <a:lnTo>
                      <a:pt x="1290" y="187"/>
                    </a:lnTo>
                    <a:lnTo>
                      <a:pt x="1325" y="185"/>
                    </a:lnTo>
                    <a:lnTo>
                      <a:pt x="1362" y="184"/>
                    </a:lnTo>
                    <a:lnTo>
                      <a:pt x="1397" y="182"/>
                    </a:lnTo>
                    <a:lnTo>
                      <a:pt x="1434" y="180"/>
                    </a:lnTo>
                    <a:lnTo>
                      <a:pt x="1448" y="191"/>
                    </a:lnTo>
                    <a:lnTo>
                      <a:pt x="1462" y="201"/>
                    </a:lnTo>
                    <a:lnTo>
                      <a:pt x="1477" y="209"/>
                    </a:lnTo>
                    <a:lnTo>
                      <a:pt x="1491" y="219"/>
                    </a:lnTo>
                    <a:lnTo>
                      <a:pt x="1501" y="221"/>
                    </a:lnTo>
                    <a:lnTo>
                      <a:pt x="1508" y="221"/>
                    </a:lnTo>
                    <a:lnTo>
                      <a:pt x="1518" y="223"/>
                    </a:lnTo>
                    <a:lnTo>
                      <a:pt x="1526" y="224"/>
                    </a:lnTo>
                    <a:lnTo>
                      <a:pt x="1536" y="226"/>
                    </a:lnTo>
                    <a:lnTo>
                      <a:pt x="1543" y="226"/>
                    </a:lnTo>
                    <a:lnTo>
                      <a:pt x="1553" y="228"/>
                    </a:lnTo>
                    <a:lnTo>
                      <a:pt x="1561" y="230"/>
                    </a:lnTo>
                    <a:lnTo>
                      <a:pt x="1584" y="230"/>
                    </a:lnTo>
                    <a:lnTo>
                      <a:pt x="1610" y="228"/>
                    </a:lnTo>
                    <a:lnTo>
                      <a:pt x="1633" y="228"/>
                    </a:lnTo>
                    <a:lnTo>
                      <a:pt x="1656" y="228"/>
                    </a:lnTo>
                    <a:lnTo>
                      <a:pt x="1682" y="228"/>
                    </a:lnTo>
                    <a:lnTo>
                      <a:pt x="1705" y="228"/>
                    </a:lnTo>
                    <a:lnTo>
                      <a:pt x="1729" y="226"/>
                    </a:lnTo>
                    <a:lnTo>
                      <a:pt x="1752" y="226"/>
                    </a:lnTo>
                    <a:lnTo>
                      <a:pt x="1742" y="244"/>
                    </a:lnTo>
                    <a:lnTo>
                      <a:pt x="1732" y="260"/>
                    </a:lnTo>
                    <a:lnTo>
                      <a:pt x="1723" y="277"/>
                    </a:lnTo>
                    <a:lnTo>
                      <a:pt x="1713" y="293"/>
                    </a:lnTo>
                    <a:lnTo>
                      <a:pt x="1703" y="308"/>
                    </a:lnTo>
                    <a:lnTo>
                      <a:pt x="1692" y="324"/>
                    </a:lnTo>
                    <a:lnTo>
                      <a:pt x="1682" y="341"/>
                    </a:lnTo>
                    <a:lnTo>
                      <a:pt x="1672" y="357"/>
                    </a:lnTo>
                    <a:lnTo>
                      <a:pt x="1662" y="398"/>
                    </a:lnTo>
                    <a:lnTo>
                      <a:pt x="1653" y="439"/>
                    </a:lnTo>
                    <a:lnTo>
                      <a:pt x="1641" y="480"/>
                    </a:lnTo>
                    <a:lnTo>
                      <a:pt x="1631" y="521"/>
                    </a:lnTo>
                    <a:lnTo>
                      <a:pt x="1649" y="521"/>
                    </a:lnTo>
                    <a:lnTo>
                      <a:pt x="1666" y="521"/>
                    </a:lnTo>
                    <a:lnTo>
                      <a:pt x="1684" y="521"/>
                    </a:lnTo>
                    <a:lnTo>
                      <a:pt x="1701" y="521"/>
                    </a:lnTo>
                    <a:lnTo>
                      <a:pt x="1719" y="521"/>
                    </a:lnTo>
                    <a:lnTo>
                      <a:pt x="1736" y="521"/>
                    </a:lnTo>
                    <a:lnTo>
                      <a:pt x="1754" y="521"/>
                    </a:lnTo>
                    <a:lnTo>
                      <a:pt x="1771" y="521"/>
                    </a:lnTo>
                    <a:lnTo>
                      <a:pt x="1760" y="540"/>
                    </a:lnTo>
                    <a:lnTo>
                      <a:pt x="1746" y="562"/>
                    </a:lnTo>
                    <a:lnTo>
                      <a:pt x="1734" y="581"/>
                    </a:lnTo>
                    <a:lnTo>
                      <a:pt x="1723" y="603"/>
                    </a:lnTo>
                    <a:lnTo>
                      <a:pt x="1709" y="622"/>
                    </a:lnTo>
                    <a:lnTo>
                      <a:pt x="1697" y="644"/>
                    </a:lnTo>
                    <a:lnTo>
                      <a:pt x="1684" y="663"/>
                    </a:lnTo>
                    <a:lnTo>
                      <a:pt x="1672" y="683"/>
                    </a:lnTo>
                    <a:lnTo>
                      <a:pt x="1664" y="708"/>
                    </a:lnTo>
                    <a:lnTo>
                      <a:pt x="1656" y="733"/>
                    </a:lnTo>
                    <a:lnTo>
                      <a:pt x="1649" y="759"/>
                    </a:lnTo>
                    <a:lnTo>
                      <a:pt x="1641" y="784"/>
                    </a:lnTo>
                    <a:lnTo>
                      <a:pt x="1633" y="811"/>
                    </a:lnTo>
                    <a:lnTo>
                      <a:pt x="1627" y="837"/>
                    </a:lnTo>
                    <a:lnTo>
                      <a:pt x="1619" y="862"/>
                    </a:lnTo>
                    <a:lnTo>
                      <a:pt x="1612" y="887"/>
                    </a:lnTo>
                    <a:lnTo>
                      <a:pt x="1598" y="913"/>
                    </a:lnTo>
                    <a:lnTo>
                      <a:pt x="1586" y="938"/>
                    </a:lnTo>
                    <a:lnTo>
                      <a:pt x="1573" y="963"/>
                    </a:lnTo>
                    <a:lnTo>
                      <a:pt x="1561" y="989"/>
                    </a:lnTo>
                    <a:lnTo>
                      <a:pt x="1547" y="1016"/>
                    </a:lnTo>
                    <a:lnTo>
                      <a:pt x="1536" y="1041"/>
                    </a:lnTo>
                    <a:lnTo>
                      <a:pt x="1522" y="1067"/>
                    </a:lnTo>
                    <a:lnTo>
                      <a:pt x="1510" y="1092"/>
                    </a:lnTo>
                    <a:lnTo>
                      <a:pt x="1534" y="1117"/>
                    </a:lnTo>
                    <a:lnTo>
                      <a:pt x="1555" y="1143"/>
                    </a:lnTo>
                    <a:lnTo>
                      <a:pt x="1579" y="1168"/>
                    </a:lnTo>
                    <a:lnTo>
                      <a:pt x="1602" y="1193"/>
                    </a:lnTo>
                    <a:lnTo>
                      <a:pt x="1623" y="1219"/>
                    </a:lnTo>
                    <a:lnTo>
                      <a:pt x="1647" y="1244"/>
                    </a:lnTo>
                    <a:lnTo>
                      <a:pt x="1668" y="1269"/>
                    </a:lnTo>
                    <a:lnTo>
                      <a:pt x="1692" y="1295"/>
                    </a:lnTo>
                    <a:lnTo>
                      <a:pt x="1666" y="1287"/>
                    </a:lnTo>
                    <a:lnTo>
                      <a:pt x="1641" y="1279"/>
                    </a:lnTo>
                    <a:lnTo>
                      <a:pt x="1616" y="1271"/>
                    </a:lnTo>
                    <a:lnTo>
                      <a:pt x="1592" y="1263"/>
                    </a:lnTo>
                    <a:lnTo>
                      <a:pt x="1567" y="1258"/>
                    </a:lnTo>
                    <a:lnTo>
                      <a:pt x="1542" y="1250"/>
                    </a:lnTo>
                    <a:lnTo>
                      <a:pt x="1516" y="1242"/>
                    </a:lnTo>
                    <a:lnTo>
                      <a:pt x="1491" y="1234"/>
                    </a:lnTo>
                    <a:lnTo>
                      <a:pt x="1491" y="1279"/>
                    </a:lnTo>
                    <a:lnTo>
                      <a:pt x="1491" y="1326"/>
                    </a:lnTo>
                    <a:lnTo>
                      <a:pt x="1491" y="1373"/>
                    </a:lnTo>
                    <a:lnTo>
                      <a:pt x="1491" y="1417"/>
                    </a:lnTo>
                    <a:lnTo>
                      <a:pt x="1464" y="1417"/>
                    </a:lnTo>
                    <a:lnTo>
                      <a:pt x="1436" y="1417"/>
                    </a:lnTo>
                    <a:lnTo>
                      <a:pt x="1407" y="1417"/>
                    </a:lnTo>
                    <a:lnTo>
                      <a:pt x="1380" y="1417"/>
                    </a:lnTo>
                    <a:lnTo>
                      <a:pt x="1352" y="1417"/>
                    </a:lnTo>
                    <a:lnTo>
                      <a:pt x="1325" y="1417"/>
                    </a:lnTo>
                    <a:lnTo>
                      <a:pt x="1296" y="1417"/>
                    </a:lnTo>
                    <a:lnTo>
                      <a:pt x="1269" y="1417"/>
                    </a:lnTo>
                    <a:lnTo>
                      <a:pt x="1255" y="1402"/>
                    </a:lnTo>
                    <a:lnTo>
                      <a:pt x="1243" y="1386"/>
                    </a:lnTo>
                    <a:lnTo>
                      <a:pt x="1230" y="1371"/>
                    </a:lnTo>
                    <a:lnTo>
                      <a:pt x="1218" y="1355"/>
                    </a:lnTo>
                    <a:lnTo>
                      <a:pt x="1204" y="1341"/>
                    </a:lnTo>
                    <a:lnTo>
                      <a:pt x="1193" y="1326"/>
                    </a:lnTo>
                    <a:lnTo>
                      <a:pt x="1179" y="1310"/>
                    </a:lnTo>
                    <a:lnTo>
                      <a:pt x="1167" y="1295"/>
                    </a:lnTo>
                    <a:lnTo>
                      <a:pt x="1142" y="1314"/>
                    </a:lnTo>
                    <a:lnTo>
                      <a:pt x="1117" y="1336"/>
                    </a:lnTo>
                    <a:lnTo>
                      <a:pt x="1091" y="1355"/>
                    </a:lnTo>
                    <a:lnTo>
                      <a:pt x="1066" y="1376"/>
                    </a:lnTo>
                    <a:lnTo>
                      <a:pt x="1041" y="1396"/>
                    </a:lnTo>
                    <a:lnTo>
                      <a:pt x="1015" y="1417"/>
                    </a:lnTo>
                    <a:lnTo>
                      <a:pt x="990" y="1437"/>
                    </a:lnTo>
                    <a:lnTo>
                      <a:pt x="965" y="1458"/>
                    </a:lnTo>
                    <a:lnTo>
                      <a:pt x="961" y="1417"/>
                    </a:lnTo>
                    <a:lnTo>
                      <a:pt x="955" y="1376"/>
                    </a:lnTo>
                    <a:lnTo>
                      <a:pt x="949" y="1336"/>
                    </a:lnTo>
                    <a:lnTo>
                      <a:pt x="945" y="1295"/>
                    </a:lnTo>
                    <a:lnTo>
                      <a:pt x="918" y="1304"/>
                    </a:lnTo>
                    <a:lnTo>
                      <a:pt x="891" y="1314"/>
                    </a:lnTo>
                    <a:lnTo>
                      <a:pt x="861" y="1326"/>
                    </a:lnTo>
                    <a:lnTo>
                      <a:pt x="834" y="1336"/>
                    </a:lnTo>
                    <a:lnTo>
                      <a:pt x="807" y="1345"/>
                    </a:lnTo>
                    <a:lnTo>
                      <a:pt x="780" y="1355"/>
                    </a:lnTo>
                    <a:lnTo>
                      <a:pt x="750" y="1367"/>
                    </a:lnTo>
                    <a:lnTo>
                      <a:pt x="723" y="1376"/>
                    </a:lnTo>
                    <a:lnTo>
                      <a:pt x="698" y="1384"/>
                    </a:lnTo>
                    <a:lnTo>
                      <a:pt x="672" y="1392"/>
                    </a:lnTo>
                    <a:lnTo>
                      <a:pt x="647" y="1400"/>
                    </a:lnTo>
                    <a:lnTo>
                      <a:pt x="622" y="1408"/>
                    </a:lnTo>
                    <a:lnTo>
                      <a:pt x="596" y="1415"/>
                    </a:lnTo>
                    <a:lnTo>
                      <a:pt x="571" y="1423"/>
                    </a:lnTo>
                    <a:lnTo>
                      <a:pt x="546" y="1431"/>
                    </a:lnTo>
                    <a:lnTo>
                      <a:pt x="522" y="1437"/>
                    </a:lnTo>
                    <a:lnTo>
                      <a:pt x="497" y="1445"/>
                    </a:lnTo>
                    <a:lnTo>
                      <a:pt x="472" y="1452"/>
                    </a:lnTo>
                    <a:lnTo>
                      <a:pt x="446" y="1460"/>
                    </a:lnTo>
                    <a:lnTo>
                      <a:pt x="421" y="1468"/>
                    </a:lnTo>
                    <a:lnTo>
                      <a:pt x="396" y="1476"/>
                    </a:lnTo>
                    <a:lnTo>
                      <a:pt x="370" y="1484"/>
                    </a:lnTo>
                    <a:lnTo>
                      <a:pt x="345" y="1491"/>
                    </a:lnTo>
                    <a:lnTo>
                      <a:pt x="320" y="1499"/>
                    </a:lnTo>
                    <a:lnTo>
                      <a:pt x="337" y="1464"/>
                    </a:lnTo>
                    <a:lnTo>
                      <a:pt x="355" y="1427"/>
                    </a:lnTo>
                    <a:lnTo>
                      <a:pt x="372" y="1392"/>
                    </a:lnTo>
                    <a:lnTo>
                      <a:pt x="390" y="1355"/>
                    </a:lnTo>
                    <a:lnTo>
                      <a:pt x="407" y="1320"/>
                    </a:lnTo>
                    <a:lnTo>
                      <a:pt x="425" y="1285"/>
                    </a:lnTo>
                    <a:lnTo>
                      <a:pt x="444" y="1248"/>
                    </a:lnTo>
                    <a:lnTo>
                      <a:pt x="462" y="1213"/>
                    </a:lnTo>
                    <a:lnTo>
                      <a:pt x="439" y="1222"/>
                    </a:lnTo>
                    <a:lnTo>
                      <a:pt x="415" y="1232"/>
                    </a:lnTo>
                    <a:lnTo>
                      <a:pt x="392" y="1244"/>
                    </a:lnTo>
                    <a:lnTo>
                      <a:pt x="370" y="1254"/>
                    </a:lnTo>
                    <a:lnTo>
                      <a:pt x="347" y="1263"/>
                    </a:lnTo>
                    <a:lnTo>
                      <a:pt x="324" y="1273"/>
                    </a:lnTo>
                    <a:lnTo>
                      <a:pt x="302" y="1285"/>
                    </a:lnTo>
                    <a:lnTo>
                      <a:pt x="279" y="1295"/>
                    </a:lnTo>
                    <a:lnTo>
                      <a:pt x="287" y="1275"/>
                    </a:lnTo>
                    <a:lnTo>
                      <a:pt x="294" y="1254"/>
                    </a:lnTo>
                    <a:lnTo>
                      <a:pt x="302" y="1234"/>
                    </a:lnTo>
                    <a:lnTo>
                      <a:pt x="310" y="1213"/>
                    </a:lnTo>
                    <a:lnTo>
                      <a:pt x="318" y="1193"/>
                    </a:lnTo>
                    <a:lnTo>
                      <a:pt x="324" y="1172"/>
                    </a:lnTo>
                    <a:lnTo>
                      <a:pt x="331" y="1152"/>
                    </a:lnTo>
                    <a:lnTo>
                      <a:pt x="339" y="1133"/>
                    </a:lnTo>
                    <a:lnTo>
                      <a:pt x="324" y="1123"/>
                    </a:lnTo>
                    <a:lnTo>
                      <a:pt x="310" y="1111"/>
                    </a:lnTo>
                    <a:lnTo>
                      <a:pt x="294" y="1102"/>
                    </a:lnTo>
                    <a:lnTo>
                      <a:pt x="279" y="1092"/>
                    </a:lnTo>
                    <a:lnTo>
                      <a:pt x="265" y="1082"/>
                    </a:lnTo>
                    <a:lnTo>
                      <a:pt x="250" y="1070"/>
                    </a:lnTo>
                    <a:lnTo>
                      <a:pt x="234" y="1061"/>
                    </a:lnTo>
                    <a:lnTo>
                      <a:pt x="218" y="1051"/>
                    </a:lnTo>
                    <a:lnTo>
                      <a:pt x="234" y="1037"/>
                    </a:lnTo>
                    <a:lnTo>
                      <a:pt x="250" y="1026"/>
                    </a:lnTo>
                    <a:lnTo>
                      <a:pt x="265" y="1012"/>
                    </a:lnTo>
                    <a:lnTo>
                      <a:pt x="279" y="998"/>
                    </a:lnTo>
                    <a:lnTo>
                      <a:pt x="294" y="987"/>
                    </a:lnTo>
                    <a:lnTo>
                      <a:pt x="310" y="973"/>
                    </a:lnTo>
                    <a:lnTo>
                      <a:pt x="324" y="961"/>
                    </a:lnTo>
                    <a:lnTo>
                      <a:pt x="339" y="948"/>
                    </a:lnTo>
                    <a:lnTo>
                      <a:pt x="304" y="909"/>
                    </a:lnTo>
                    <a:lnTo>
                      <a:pt x="269" y="872"/>
                    </a:lnTo>
                    <a:lnTo>
                      <a:pt x="234" y="833"/>
                    </a:lnTo>
                    <a:lnTo>
                      <a:pt x="199" y="796"/>
                    </a:lnTo>
                    <a:lnTo>
                      <a:pt x="164" y="757"/>
                    </a:lnTo>
                    <a:lnTo>
                      <a:pt x="129" y="720"/>
                    </a:lnTo>
                    <a:lnTo>
                      <a:pt x="96" y="681"/>
                    </a:lnTo>
                    <a:lnTo>
                      <a:pt x="60" y="644"/>
                    </a:lnTo>
                    <a:lnTo>
                      <a:pt x="53" y="620"/>
                    </a:lnTo>
                    <a:lnTo>
                      <a:pt x="45" y="597"/>
                    </a:lnTo>
                    <a:lnTo>
                      <a:pt x="39" y="573"/>
                    </a:lnTo>
                    <a:lnTo>
                      <a:pt x="31" y="550"/>
                    </a:lnTo>
                    <a:lnTo>
                      <a:pt x="23" y="529"/>
                    </a:lnTo>
                    <a:lnTo>
                      <a:pt x="16" y="505"/>
                    </a:lnTo>
                    <a:lnTo>
                      <a:pt x="8" y="482"/>
                    </a:lnTo>
                    <a:lnTo>
                      <a:pt x="0" y="458"/>
                    </a:lnTo>
                    <a:lnTo>
                      <a:pt x="25" y="468"/>
                    </a:lnTo>
                    <a:lnTo>
                      <a:pt x="51" y="478"/>
                    </a:lnTo>
                    <a:lnTo>
                      <a:pt x="74" y="488"/>
                    </a:lnTo>
                    <a:lnTo>
                      <a:pt x="99" y="499"/>
                    </a:lnTo>
                    <a:lnTo>
                      <a:pt x="125" y="509"/>
                    </a:lnTo>
                    <a:lnTo>
                      <a:pt x="150" y="519"/>
                    </a:lnTo>
                    <a:lnTo>
                      <a:pt x="175" y="529"/>
                    </a:lnTo>
                    <a:lnTo>
                      <a:pt x="201" y="540"/>
                    </a:lnTo>
                    <a:lnTo>
                      <a:pt x="201" y="499"/>
                    </a:lnTo>
                    <a:lnTo>
                      <a:pt x="201" y="458"/>
                    </a:lnTo>
                    <a:lnTo>
                      <a:pt x="201" y="417"/>
                    </a:lnTo>
                    <a:lnTo>
                      <a:pt x="201" y="378"/>
                    </a:lnTo>
                    <a:lnTo>
                      <a:pt x="220" y="394"/>
                    </a:lnTo>
                    <a:lnTo>
                      <a:pt x="240" y="410"/>
                    </a:lnTo>
                    <a:lnTo>
                      <a:pt x="259" y="423"/>
                    </a:lnTo>
                    <a:lnTo>
                      <a:pt x="281" y="439"/>
                    </a:lnTo>
                    <a:lnTo>
                      <a:pt x="300" y="454"/>
                    </a:lnTo>
                    <a:lnTo>
                      <a:pt x="322" y="468"/>
                    </a:lnTo>
                    <a:lnTo>
                      <a:pt x="341" y="484"/>
                    </a:lnTo>
                    <a:lnTo>
                      <a:pt x="363" y="499"/>
                    </a:lnTo>
                    <a:lnTo>
                      <a:pt x="351" y="447"/>
                    </a:lnTo>
                    <a:lnTo>
                      <a:pt x="341" y="398"/>
                    </a:lnTo>
                    <a:lnTo>
                      <a:pt x="329" y="347"/>
                    </a:lnTo>
                    <a:lnTo>
                      <a:pt x="320" y="297"/>
                    </a:lnTo>
                    <a:close/>
                  </a:path>
                </a:pathLst>
              </a:custGeom>
              <a:solidFill>
                <a:srgbClr val="c1cc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2143440" y="3596760"/>
                <a:ext cx="1804680" cy="1634760"/>
              </a:xfrm>
              <a:custGeom>
                <a:avLst/>
                <a:gdLst/>
                <a:ahLst/>
                <a:rect l="l" t="t" r="r" b="b"/>
                <a:pathLst>
                  <a:path w="1727" h="1460">
                    <a:moveTo>
                      <a:pt x="312" y="288"/>
                    </a:moveTo>
                    <a:lnTo>
                      <a:pt x="302" y="261"/>
                    </a:lnTo>
                    <a:lnTo>
                      <a:pt x="293" y="234"/>
                    </a:lnTo>
                    <a:lnTo>
                      <a:pt x="283" y="207"/>
                    </a:lnTo>
                    <a:lnTo>
                      <a:pt x="273" y="179"/>
                    </a:lnTo>
                    <a:lnTo>
                      <a:pt x="262" y="152"/>
                    </a:lnTo>
                    <a:lnTo>
                      <a:pt x="252" y="125"/>
                    </a:lnTo>
                    <a:lnTo>
                      <a:pt x="242" y="97"/>
                    </a:lnTo>
                    <a:lnTo>
                      <a:pt x="232" y="70"/>
                    </a:lnTo>
                    <a:lnTo>
                      <a:pt x="254" y="86"/>
                    </a:lnTo>
                    <a:lnTo>
                      <a:pt x="277" y="99"/>
                    </a:lnTo>
                    <a:lnTo>
                      <a:pt x="299" y="115"/>
                    </a:lnTo>
                    <a:lnTo>
                      <a:pt x="322" y="129"/>
                    </a:lnTo>
                    <a:lnTo>
                      <a:pt x="343" y="144"/>
                    </a:lnTo>
                    <a:lnTo>
                      <a:pt x="365" y="158"/>
                    </a:lnTo>
                    <a:lnTo>
                      <a:pt x="388" y="173"/>
                    </a:lnTo>
                    <a:lnTo>
                      <a:pt x="410" y="189"/>
                    </a:lnTo>
                    <a:lnTo>
                      <a:pt x="415" y="164"/>
                    </a:lnTo>
                    <a:lnTo>
                      <a:pt x="419" y="138"/>
                    </a:lnTo>
                    <a:lnTo>
                      <a:pt x="425" y="115"/>
                    </a:lnTo>
                    <a:lnTo>
                      <a:pt x="429" y="90"/>
                    </a:lnTo>
                    <a:lnTo>
                      <a:pt x="445" y="101"/>
                    </a:lnTo>
                    <a:lnTo>
                      <a:pt x="458" y="115"/>
                    </a:lnTo>
                    <a:lnTo>
                      <a:pt x="474" y="127"/>
                    </a:lnTo>
                    <a:lnTo>
                      <a:pt x="488" y="138"/>
                    </a:lnTo>
                    <a:lnTo>
                      <a:pt x="503" y="152"/>
                    </a:lnTo>
                    <a:lnTo>
                      <a:pt x="517" y="164"/>
                    </a:lnTo>
                    <a:lnTo>
                      <a:pt x="532" y="177"/>
                    </a:lnTo>
                    <a:lnTo>
                      <a:pt x="548" y="189"/>
                    </a:lnTo>
                    <a:lnTo>
                      <a:pt x="560" y="166"/>
                    </a:lnTo>
                    <a:lnTo>
                      <a:pt x="569" y="142"/>
                    </a:lnTo>
                    <a:lnTo>
                      <a:pt x="581" y="119"/>
                    </a:lnTo>
                    <a:lnTo>
                      <a:pt x="591" y="93"/>
                    </a:lnTo>
                    <a:lnTo>
                      <a:pt x="601" y="70"/>
                    </a:lnTo>
                    <a:lnTo>
                      <a:pt x="612" y="47"/>
                    </a:lnTo>
                    <a:lnTo>
                      <a:pt x="622" y="23"/>
                    </a:lnTo>
                    <a:lnTo>
                      <a:pt x="634" y="0"/>
                    </a:lnTo>
                    <a:lnTo>
                      <a:pt x="649" y="10"/>
                    </a:lnTo>
                    <a:lnTo>
                      <a:pt x="663" y="19"/>
                    </a:lnTo>
                    <a:lnTo>
                      <a:pt x="679" y="27"/>
                    </a:lnTo>
                    <a:lnTo>
                      <a:pt x="692" y="37"/>
                    </a:lnTo>
                    <a:lnTo>
                      <a:pt x="708" y="47"/>
                    </a:lnTo>
                    <a:lnTo>
                      <a:pt x="721" y="54"/>
                    </a:lnTo>
                    <a:lnTo>
                      <a:pt x="737" y="64"/>
                    </a:lnTo>
                    <a:lnTo>
                      <a:pt x="751" y="74"/>
                    </a:lnTo>
                    <a:lnTo>
                      <a:pt x="762" y="74"/>
                    </a:lnTo>
                    <a:lnTo>
                      <a:pt x="774" y="76"/>
                    </a:lnTo>
                    <a:lnTo>
                      <a:pt x="786" y="76"/>
                    </a:lnTo>
                    <a:lnTo>
                      <a:pt x="797" y="76"/>
                    </a:lnTo>
                    <a:lnTo>
                      <a:pt x="807" y="78"/>
                    </a:lnTo>
                    <a:lnTo>
                      <a:pt x="819" y="78"/>
                    </a:lnTo>
                    <a:lnTo>
                      <a:pt x="831" y="80"/>
                    </a:lnTo>
                    <a:lnTo>
                      <a:pt x="842" y="80"/>
                    </a:lnTo>
                    <a:lnTo>
                      <a:pt x="856" y="88"/>
                    </a:lnTo>
                    <a:lnTo>
                      <a:pt x="870" y="95"/>
                    </a:lnTo>
                    <a:lnTo>
                      <a:pt x="881" y="105"/>
                    </a:lnTo>
                    <a:lnTo>
                      <a:pt x="895" y="113"/>
                    </a:lnTo>
                    <a:lnTo>
                      <a:pt x="909" y="121"/>
                    </a:lnTo>
                    <a:lnTo>
                      <a:pt x="922" y="130"/>
                    </a:lnTo>
                    <a:lnTo>
                      <a:pt x="934" y="138"/>
                    </a:lnTo>
                    <a:lnTo>
                      <a:pt x="947" y="146"/>
                    </a:lnTo>
                    <a:lnTo>
                      <a:pt x="971" y="150"/>
                    </a:lnTo>
                    <a:lnTo>
                      <a:pt x="992" y="156"/>
                    </a:lnTo>
                    <a:lnTo>
                      <a:pt x="1016" y="160"/>
                    </a:lnTo>
                    <a:lnTo>
                      <a:pt x="1039" y="164"/>
                    </a:lnTo>
                    <a:lnTo>
                      <a:pt x="1061" y="168"/>
                    </a:lnTo>
                    <a:lnTo>
                      <a:pt x="1084" y="173"/>
                    </a:lnTo>
                    <a:lnTo>
                      <a:pt x="1105" y="177"/>
                    </a:lnTo>
                    <a:lnTo>
                      <a:pt x="1129" y="183"/>
                    </a:lnTo>
                    <a:lnTo>
                      <a:pt x="1164" y="181"/>
                    </a:lnTo>
                    <a:lnTo>
                      <a:pt x="1197" y="179"/>
                    </a:lnTo>
                    <a:lnTo>
                      <a:pt x="1232" y="177"/>
                    </a:lnTo>
                    <a:lnTo>
                      <a:pt x="1267" y="175"/>
                    </a:lnTo>
                    <a:lnTo>
                      <a:pt x="1300" y="175"/>
                    </a:lnTo>
                    <a:lnTo>
                      <a:pt x="1335" y="173"/>
                    </a:lnTo>
                    <a:lnTo>
                      <a:pt x="1368" y="171"/>
                    </a:lnTo>
                    <a:lnTo>
                      <a:pt x="1403" y="169"/>
                    </a:lnTo>
                    <a:lnTo>
                      <a:pt x="1417" y="177"/>
                    </a:lnTo>
                    <a:lnTo>
                      <a:pt x="1433" y="187"/>
                    </a:lnTo>
                    <a:lnTo>
                      <a:pt x="1446" y="195"/>
                    </a:lnTo>
                    <a:lnTo>
                      <a:pt x="1460" y="203"/>
                    </a:lnTo>
                    <a:lnTo>
                      <a:pt x="1468" y="205"/>
                    </a:lnTo>
                    <a:lnTo>
                      <a:pt x="1476" y="207"/>
                    </a:lnTo>
                    <a:lnTo>
                      <a:pt x="1483" y="208"/>
                    </a:lnTo>
                    <a:lnTo>
                      <a:pt x="1491" y="208"/>
                    </a:lnTo>
                    <a:lnTo>
                      <a:pt x="1499" y="210"/>
                    </a:lnTo>
                    <a:lnTo>
                      <a:pt x="1507" y="212"/>
                    </a:lnTo>
                    <a:lnTo>
                      <a:pt x="1515" y="214"/>
                    </a:lnTo>
                    <a:lnTo>
                      <a:pt x="1522" y="216"/>
                    </a:lnTo>
                    <a:lnTo>
                      <a:pt x="1546" y="216"/>
                    </a:lnTo>
                    <a:lnTo>
                      <a:pt x="1571" y="214"/>
                    </a:lnTo>
                    <a:lnTo>
                      <a:pt x="1594" y="214"/>
                    </a:lnTo>
                    <a:lnTo>
                      <a:pt x="1618" y="214"/>
                    </a:lnTo>
                    <a:lnTo>
                      <a:pt x="1641" y="214"/>
                    </a:lnTo>
                    <a:lnTo>
                      <a:pt x="1665" y="214"/>
                    </a:lnTo>
                    <a:lnTo>
                      <a:pt x="1690" y="212"/>
                    </a:lnTo>
                    <a:lnTo>
                      <a:pt x="1713" y="212"/>
                    </a:lnTo>
                    <a:lnTo>
                      <a:pt x="1702" y="230"/>
                    </a:lnTo>
                    <a:lnTo>
                      <a:pt x="1692" y="245"/>
                    </a:lnTo>
                    <a:lnTo>
                      <a:pt x="1680" y="263"/>
                    </a:lnTo>
                    <a:lnTo>
                      <a:pt x="1670" y="279"/>
                    </a:lnTo>
                    <a:lnTo>
                      <a:pt x="1661" y="296"/>
                    </a:lnTo>
                    <a:lnTo>
                      <a:pt x="1651" y="314"/>
                    </a:lnTo>
                    <a:lnTo>
                      <a:pt x="1639" y="329"/>
                    </a:lnTo>
                    <a:lnTo>
                      <a:pt x="1630" y="347"/>
                    </a:lnTo>
                    <a:lnTo>
                      <a:pt x="1620" y="388"/>
                    </a:lnTo>
                    <a:lnTo>
                      <a:pt x="1610" y="427"/>
                    </a:lnTo>
                    <a:lnTo>
                      <a:pt x="1598" y="468"/>
                    </a:lnTo>
                    <a:lnTo>
                      <a:pt x="1589" y="507"/>
                    </a:lnTo>
                    <a:lnTo>
                      <a:pt x="1606" y="507"/>
                    </a:lnTo>
                    <a:lnTo>
                      <a:pt x="1624" y="507"/>
                    </a:lnTo>
                    <a:lnTo>
                      <a:pt x="1641" y="507"/>
                    </a:lnTo>
                    <a:lnTo>
                      <a:pt x="1659" y="507"/>
                    </a:lnTo>
                    <a:lnTo>
                      <a:pt x="1676" y="507"/>
                    </a:lnTo>
                    <a:lnTo>
                      <a:pt x="1694" y="507"/>
                    </a:lnTo>
                    <a:lnTo>
                      <a:pt x="1709" y="507"/>
                    </a:lnTo>
                    <a:lnTo>
                      <a:pt x="1727" y="507"/>
                    </a:lnTo>
                    <a:lnTo>
                      <a:pt x="1715" y="526"/>
                    </a:lnTo>
                    <a:lnTo>
                      <a:pt x="1702" y="546"/>
                    </a:lnTo>
                    <a:lnTo>
                      <a:pt x="1690" y="565"/>
                    </a:lnTo>
                    <a:lnTo>
                      <a:pt x="1678" y="587"/>
                    </a:lnTo>
                    <a:lnTo>
                      <a:pt x="1665" y="606"/>
                    </a:lnTo>
                    <a:lnTo>
                      <a:pt x="1653" y="626"/>
                    </a:lnTo>
                    <a:lnTo>
                      <a:pt x="1641" y="647"/>
                    </a:lnTo>
                    <a:lnTo>
                      <a:pt x="1630" y="667"/>
                    </a:lnTo>
                    <a:lnTo>
                      <a:pt x="1622" y="692"/>
                    </a:lnTo>
                    <a:lnTo>
                      <a:pt x="1614" y="715"/>
                    </a:lnTo>
                    <a:lnTo>
                      <a:pt x="1606" y="741"/>
                    </a:lnTo>
                    <a:lnTo>
                      <a:pt x="1600" y="766"/>
                    </a:lnTo>
                    <a:lnTo>
                      <a:pt x="1593" y="791"/>
                    </a:lnTo>
                    <a:lnTo>
                      <a:pt x="1585" y="815"/>
                    </a:lnTo>
                    <a:lnTo>
                      <a:pt x="1577" y="840"/>
                    </a:lnTo>
                    <a:lnTo>
                      <a:pt x="1569" y="865"/>
                    </a:lnTo>
                    <a:lnTo>
                      <a:pt x="1557" y="891"/>
                    </a:lnTo>
                    <a:lnTo>
                      <a:pt x="1546" y="914"/>
                    </a:lnTo>
                    <a:lnTo>
                      <a:pt x="1534" y="939"/>
                    </a:lnTo>
                    <a:lnTo>
                      <a:pt x="1520" y="963"/>
                    </a:lnTo>
                    <a:lnTo>
                      <a:pt x="1509" y="988"/>
                    </a:lnTo>
                    <a:lnTo>
                      <a:pt x="1497" y="1013"/>
                    </a:lnTo>
                    <a:lnTo>
                      <a:pt x="1483" y="1037"/>
                    </a:lnTo>
                    <a:lnTo>
                      <a:pt x="1472" y="1062"/>
                    </a:lnTo>
                    <a:lnTo>
                      <a:pt x="1493" y="1088"/>
                    </a:lnTo>
                    <a:lnTo>
                      <a:pt x="1517" y="1111"/>
                    </a:lnTo>
                    <a:lnTo>
                      <a:pt x="1538" y="1136"/>
                    </a:lnTo>
                    <a:lnTo>
                      <a:pt x="1559" y="1162"/>
                    </a:lnTo>
                    <a:lnTo>
                      <a:pt x="1581" y="1187"/>
                    </a:lnTo>
                    <a:lnTo>
                      <a:pt x="1604" y="1210"/>
                    </a:lnTo>
                    <a:lnTo>
                      <a:pt x="1626" y="1236"/>
                    </a:lnTo>
                    <a:lnTo>
                      <a:pt x="1649" y="1261"/>
                    </a:lnTo>
                    <a:lnTo>
                      <a:pt x="1624" y="1253"/>
                    </a:lnTo>
                    <a:lnTo>
                      <a:pt x="1600" y="1245"/>
                    </a:lnTo>
                    <a:lnTo>
                      <a:pt x="1575" y="1240"/>
                    </a:lnTo>
                    <a:lnTo>
                      <a:pt x="1550" y="1232"/>
                    </a:lnTo>
                    <a:lnTo>
                      <a:pt x="1524" y="1224"/>
                    </a:lnTo>
                    <a:lnTo>
                      <a:pt x="1501" y="1216"/>
                    </a:lnTo>
                    <a:lnTo>
                      <a:pt x="1476" y="1210"/>
                    </a:lnTo>
                    <a:lnTo>
                      <a:pt x="1452" y="1203"/>
                    </a:lnTo>
                    <a:lnTo>
                      <a:pt x="1452" y="1247"/>
                    </a:lnTo>
                    <a:lnTo>
                      <a:pt x="1452" y="1292"/>
                    </a:lnTo>
                    <a:lnTo>
                      <a:pt x="1452" y="1337"/>
                    </a:lnTo>
                    <a:lnTo>
                      <a:pt x="1452" y="1382"/>
                    </a:lnTo>
                    <a:lnTo>
                      <a:pt x="1425" y="1382"/>
                    </a:lnTo>
                    <a:lnTo>
                      <a:pt x="1398" y="1382"/>
                    </a:lnTo>
                    <a:lnTo>
                      <a:pt x="1370" y="1382"/>
                    </a:lnTo>
                    <a:lnTo>
                      <a:pt x="1345" y="1382"/>
                    </a:lnTo>
                    <a:lnTo>
                      <a:pt x="1318" y="1382"/>
                    </a:lnTo>
                    <a:lnTo>
                      <a:pt x="1290" y="1382"/>
                    </a:lnTo>
                    <a:lnTo>
                      <a:pt x="1263" y="1382"/>
                    </a:lnTo>
                    <a:lnTo>
                      <a:pt x="1236" y="1382"/>
                    </a:lnTo>
                    <a:lnTo>
                      <a:pt x="1224" y="1366"/>
                    </a:lnTo>
                    <a:lnTo>
                      <a:pt x="1211" y="1351"/>
                    </a:lnTo>
                    <a:lnTo>
                      <a:pt x="1199" y="1337"/>
                    </a:lnTo>
                    <a:lnTo>
                      <a:pt x="1187" y="1321"/>
                    </a:lnTo>
                    <a:lnTo>
                      <a:pt x="1174" y="1306"/>
                    </a:lnTo>
                    <a:lnTo>
                      <a:pt x="1162" y="1292"/>
                    </a:lnTo>
                    <a:lnTo>
                      <a:pt x="1148" y="1277"/>
                    </a:lnTo>
                    <a:lnTo>
                      <a:pt x="1137" y="1261"/>
                    </a:lnTo>
                    <a:lnTo>
                      <a:pt x="1113" y="1281"/>
                    </a:lnTo>
                    <a:lnTo>
                      <a:pt x="1088" y="1302"/>
                    </a:lnTo>
                    <a:lnTo>
                      <a:pt x="1064" y="1321"/>
                    </a:lnTo>
                    <a:lnTo>
                      <a:pt x="1039" y="1341"/>
                    </a:lnTo>
                    <a:lnTo>
                      <a:pt x="1014" y="1362"/>
                    </a:lnTo>
                    <a:lnTo>
                      <a:pt x="988" y="1382"/>
                    </a:lnTo>
                    <a:lnTo>
                      <a:pt x="965" y="1401"/>
                    </a:lnTo>
                    <a:lnTo>
                      <a:pt x="940" y="1421"/>
                    </a:lnTo>
                    <a:lnTo>
                      <a:pt x="936" y="1382"/>
                    </a:lnTo>
                    <a:lnTo>
                      <a:pt x="930" y="1341"/>
                    </a:lnTo>
                    <a:lnTo>
                      <a:pt x="926" y="1302"/>
                    </a:lnTo>
                    <a:lnTo>
                      <a:pt x="920" y="1261"/>
                    </a:lnTo>
                    <a:lnTo>
                      <a:pt x="893" y="1271"/>
                    </a:lnTo>
                    <a:lnTo>
                      <a:pt x="866" y="1281"/>
                    </a:lnTo>
                    <a:lnTo>
                      <a:pt x="838" y="1292"/>
                    </a:lnTo>
                    <a:lnTo>
                      <a:pt x="813" y="1302"/>
                    </a:lnTo>
                    <a:lnTo>
                      <a:pt x="786" y="1312"/>
                    </a:lnTo>
                    <a:lnTo>
                      <a:pt x="758" y="1321"/>
                    </a:lnTo>
                    <a:lnTo>
                      <a:pt x="731" y="1331"/>
                    </a:lnTo>
                    <a:lnTo>
                      <a:pt x="704" y="1341"/>
                    </a:lnTo>
                    <a:lnTo>
                      <a:pt x="679" y="1349"/>
                    </a:lnTo>
                    <a:lnTo>
                      <a:pt x="655" y="1357"/>
                    </a:lnTo>
                    <a:lnTo>
                      <a:pt x="630" y="1364"/>
                    </a:lnTo>
                    <a:lnTo>
                      <a:pt x="606" y="1372"/>
                    </a:lnTo>
                    <a:lnTo>
                      <a:pt x="581" y="1378"/>
                    </a:lnTo>
                    <a:lnTo>
                      <a:pt x="558" y="1386"/>
                    </a:lnTo>
                    <a:lnTo>
                      <a:pt x="532" y="1394"/>
                    </a:lnTo>
                    <a:lnTo>
                      <a:pt x="509" y="1401"/>
                    </a:lnTo>
                    <a:lnTo>
                      <a:pt x="484" y="1409"/>
                    </a:lnTo>
                    <a:lnTo>
                      <a:pt x="458" y="1415"/>
                    </a:lnTo>
                    <a:lnTo>
                      <a:pt x="435" y="1423"/>
                    </a:lnTo>
                    <a:lnTo>
                      <a:pt x="410" y="1431"/>
                    </a:lnTo>
                    <a:lnTo>
                      <a:pt x="386" y="1438"/>
                    </a:lnTo>
                    <a:lnTo>
                      <a:pt x="361" y="1444"/>
                    </a:lnTo>
                    <a:lnTo>
                      <a:pt x="338" y="1452"/>
                    </a:lnTo>
                    <a:lnTo>
                      <a:pt x="312" y="1460"/>
                    </a:lnTo>
                    <a:lnTo>
                      <a:pt x="330" y="1425"/>
                    </a:lnTo>
                    <a:lnTo>
                      <a:pt x="345" y="1392"/>
                    </a:lnTo>
                    <a:lnTo>
                      <a:pt x="363" y="1357"/>
                    </a:lnTo>
                    <a:lnTo>
                      <a:pt x="380" y="1321"/>
                    </a:lnTo>
                    <a:lnTo>
                      <a:pt x="398" y="1286"/>
                    </a:lnTo>
                    <a:lnTo>
                      <a:pt x="415" y="1251"/>
                    </a:lnTo>
                    <a:lnTo>
                      <a:pt x="431" y="1218"/>
                    </a:lnTo>
                    <a:lnTo>
                      <a:pt x="449" y="1183"/>
                    </a:lnTo>
                    <a:lnTo>
                      <a:pt x="427" y="1193"/>
                    </a:lnTo>
                    <a:lnTo>
                      <a:pt x="404" y="1203"/>
                    </a:lnTo>
                    <a:lnTo>
                      <a:pt x="382" y="1212"/>
                    </a:lnTo>
                    <a:lnTo>
                      <a:pt x="361" y="1222"/>
                    </a:lnTo>
                    <a:lnTo>
                      <a:pt x="339" y="1232"/>
                    </a:lnTo>
                    <a:lnTo>
                      <a:pt x="316" y="1242"/>
                    </a:lnTo>
                    <a:lnTo>
                      <a:pt x="295" y="1251"/>
                    </a:lnTo>
                    <a:lnTo>
                      <a:pt x="271" y="1261"/>
                    </a:lnTo>
                    <a:lnTo>
                      <a:pt x="279" y="1242"/>
                    </a:lnTo>
                    <a:lnTo>
                      <a:pt x="287" y="1222"/>
                    </a:lnTo>
                    <a:lnTo>
                      <a:pt x="295" y="1203"/>
                    </a:lnTo>
                    <a:lnTo>
                      <a:pt x="302" y="1181"/>
                    </a:lnTo>
                    <a:lnTo>
                      <a:pt x="308" y="1162"/>
                    </a:lnTo>
                    <a:lnTo>
                      <a:pt x="316" y="1142"/>
                    </a:lnTo>
                    <a:lnTo>
                      <a:pt x="324" y="1123"/>
                    </a:lnTo>
                    <a:lnTo>
                      <a:pt x="332" y="1103"/>
                    </a:lnTo>
                    <a:lnTo>
                      <a:pt x="316" y="1093"/>
                    </a:lnTo>
                    <a:lnTo>
                      <a:pt x="301" y="1084"/>
                    </a:lnTo>
                    <a:lnTo>
                      <a:pt x="287" y="1074"/>
                    </a:lnTo>
                    <a:lnTo>
                      <a:pt x="271" y="1062"/>
                    </a:lnTo>
                    <a:lnTo>
                      <a:pt x="258" y="1052"/>
                    </a:lnTo>
                    <a:lnTo>
                      <a:pt x="242" y="1043"/>
                    </a:lnTo>
                    <a:lnTo>
                      <a:pt x="228" y="1033"/>
                    </a:lnTo>
                    <a:lnTo>
                      <a:pt x="215" y="1023"/>
                    </a:lnTo>
                    <a:lnTo>
                      <a:pt x="228" y="1012"/>
                    </a:lnTo>
                    <a:lnTo>
                      <a:pt x="242" y="998"/>
                    </a:lnTo>
                    <a:lnTo>
                      <a:pt x="258" y="986"/>
                    </a:lnTo>
                    <a:lnTo>
                      <a:pt x="271" y="973"/>
                    </a:lnTo>
                    <a:lnTo>
                      <a:pt x="287" y="961"/>
                    </a:lnTo>
                    <a:lnTo>
                      <a:pt x="301" y="949"/>
                    </a:lnTo>
                    <a:lnTo>
                      <a:pt x="316" y="936"/>
                    </a:lnTo>
                    <a:lnTo>
                      <a:pt x="332" y="924"/>
                    </a:lnTo>
                    <a:lnTo>
                      <a:pt x="297" y="887"/>
                    </a:lnTo>
                    <a:lnTo>
                      <a:pt x="263" y="850"/>
                    </a:lnTo>
                    <a:lnTo>
                      <a:pt x="228" y="813"/>
                    </a:lnTo>
                    <a:lnTo>
                      <a:pt x="193" y="774"/>
                    </a:lnTo>
                    <a:lnTo>
                      <a:pt x="158" y="737"/>
                    </a:lnTo>
                    <a:lnTo>
                      <a:pt x="123" y="700"/>
                    </a:lnTo>
                    <a:lnTo>
                      <a:pt x="90" y="663"/>
                    </a:lnTo>
                    <a:lnTo>
                      <a:pt x="55" y="626"/>
                    </a:lnTo>
                    <a:lnTo>
                      <a:pt x="43" y="581"/>
                    </a:lnTo>
                    <a:lnTo>
                      <a:pt x="30" y="536"/>
                    </a:lnTo>
                    <a:lnTo>
                      <a:pt x="14" y="491"/>
                    </a:lnTo>
                    <a:lnTo>
                      <a:pt x="0" y="446"/>
                    </a:lnTo>
                    <a:lnTo>
                      <a:pt x="24" y="456"/>
                    </a:lnTo>
                    <a:lnTo>
                      <a:pt x="47" y="466"/>
                    </a:lnTo>
                    <a:lnTo>
                      <a:pt x="71" y="477"/>
                    </a:lnTo>
                    <a:lnTo>
                      <a:pt x="96" y="487"/>
                    </a:lnTo>
                    <a:lnTo>
                      <a:pt x="119" y="497"/>
                    </a:lnTo>
                    <a:lnTo>
                      <a:pt x="145" y="507"/>
                    </a:lnTo>
                    <a:lnTo>
                      <a:pt x="168" y="516"/>
                    </a:lnTo>
                    <a:lnTo>
                      <a:pt x="193" y="526"/>
                    </a:lnTo>
                    <a:lnTo>
                      <a:pt x="193" y="487"/>
                    </a:lnTo>
                    <a:lnTo>
                      <a:pt x="193" y="446"/>
                    </a:lnTo>
                    <a:lnTo>
                      <a:pt x="193" y="407"/>
                    </a:lnTo>
                    <a:lnTo>
                      <a:pt x="193" y="368"/>
                    </a:lnTo>
                    <a:lnTo>
                      <a:pt x="213" y="384"/>
                    </a:lnTo>
                    <a:lnTo>
                      <a:pt x="232" y="398"/>
                    </a:lnTo>
                    <a:lnTo>
                      <a:pt x="252" y="413"/>
                    </a:lnTo>
                    <a:lnTo>
                      <a:pt x="273" y="427"/>
                    </a:lnTo>
                    <a:lnTo>
                      <a:pt x="293" y="442"/>
                    </a:lnTo>
                    <a:lnTo>
                      <a:pt x="312" y="456"/>
                    </a:lnTo>
                    <a:lnTo>
                      <a:pt x="332" y="472"/>
                    </a:lnTo>
                    <a:lnTo>
                      <a:pt x="351" y="487"/>
                    </a:lnTo>
                    <a:lnTo>
                      <a:pt x="341" y="437"/>
                    </a:lnTo>
                    <a:lnTo>
                      <a:pt x="332" y="388"/>
                    </a:lnTo>
                    <a:lnTo>
                      <a:pt x="322" y="337"/>
                    </a:lnTo>
                    <a:lnTo>
                      <a:pt x="312" y="288"/>
                    </a:lnTo>
                    <a:close/>
                  </a:path>
                </a:pathLst>
              </a:custGeom>
              <a:solidFill>
                <a:srgbClr val="d1d3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162880" y="3612600"/>
                <a:ext cx="1758240" cy="1596600"/>
              </a:xfrm>
              <a:custGeom>
                <a:avLst/>
                <a:gdLst/>
                <a:ahLst/>
                <a:rect l="l" t="t" r="r" b="b"/>
                <a:pathLst>
                  <a:path w="1681" h="1424">
                    <a:moveTo>
                      <a:pt x="302" y="282"/>
                    </a:moveTo>
                    <a:lnTo>
                      <a:pt x="292" y="255"/>
                    </a:lnTo>
                    <a:lnTo>
                      <a:pt x="282" y="230"/>
                    </a:lnTo>
                    <a:lnTo>
                      <a:pt x="273" y="202"/>
                    </a:lnTo>
                    <a:lnTo>
                      <a:pt x="265" y="175"/>
                    </a:lnTo>
                    <a:lnTo>
                      <a:pt x="255" y="150"/>
                    </a:lnTo>
                    <a:lnTo>
                      <a:pt x="245" y="122"/>
                    </a:lnTo>
                    <a:lnTo>
                      <a:pt x="236" y="97"/>
                    </a:lnTo>
                    <a:lnTo>
                      <a:pt x="226" y="70"/>
                    </a:lnTo>
                    <a:lnTo>
                      <a:pt x="247" y="83"/>
                    </a:lnTo>
                    <a:lnTo>
                      <a:pt x="269" y="99"/>
                    </a:lnTo>
                    <a:lnTo>
                      <a:pt x="290" y="113"/>
                    </a:lnTo>
                    <a:lnTo>
                      <a:pt x="312" y="126"/>
                    </a:lnTo>
                    <a:lnTo>
                      <a:pt x="333" y="142"/>
                    </a:lnTo>
                    <a:lnTo>
                      <a:pt x="354" y="155"/>
                    </a:lnTo>
                    <a:lnTo>
                      <a:pt x="376" y="171"/>
                    </a:lnTo>
                    <a:lnTo>
                      <a:pt x="397" y="185"/>
                    </a:lnTo>
                    <a:lnTo>
                      <a:pt x="401" y="161"/>
                    </a:lnTo>
                    <a:lnTo>
                      <a:pt x="407" y="136"/>
                    </a:lnTo>
                    <a:lnTo>
                      <a:pt x="413" y="113"/>
                    </a:lnTo>
                    <a:lnTo>
                      <a:pt x="417" y="89"/>
                    </a:lnTo>
                    <a:lnTo>
                      <a:pt x="430" y="101"/>
                    </a:lnTo>
                    <a:lnTo>
                      <a:pt x="446" y="113"/>
                    </a:lnTo>
                    <a:lnTo>
                      <a:pt x="460" y="124"/>
                    </a:lnTo>
                    <a:lnTo>
                      <a:pt x="475" y="136"/>
                    </a:lnTo>
                    <a:lnTo>
                      <a:pt x="489" y="150"/>
                    </a:lnTo>
                    <a:lnTo>
                      <a:pt x="503" y="161"/>
                    </a:lnTo>
                    <a:lnTo>
                      <a:pt x="518" y="173"/>
                    </a:lnTo>
                    <a:lnTo>
                      <a:pt x="532" y="185"/>
                    </a:lnTo>
                    <a:lnTo>
                      <a:pt x="541" y="161"/>
                    </a:lnTo>
                    <a:lnTo>
                      <a:pt x="551" y="140"/>
                    </a:lnTo>
                    <a:lnTo>
                      <a:pt x="563" y="116"/>
                    </a:lnTo>
                    <a:lnTo>
                      <a:pt x="573" y="93"/>
                    </a:lnTo>
                    <a:lnTo>
                      <a:pt x="582" y="70"/>
                    </a:lnTo>
                    <a:lnTo>
                      <a:pt x="592" y="46"/>
                    </a:lnTo>
                    <a:lnTo>
                      <a:pt x="602" y="23"/>
                    </a:lnTo>
                    <a:lnTo>
                      <a:pt x="612" y="0"/>
                    </a:lnTo>
                    <a:lnTo>
                      <a:pt x="627" y="9"/>
                    </a:lnTo>
                    <a:lnTo>
                      <a:pt x="641" y="19"/>
                    </a:lnTo>
                    <a:lnTo>
                      <a:pt x="656" y="29"/>
                    </a:lnTo>
                    <a:lnTo>
                      <a:pt x="670" y="39"/>
                    </a:lnTo>
                    <a:lnTo>
                      <a:pt x="686" y="48"/>
                    </a:lnTo>
                    <a:lnTo>
                      <a:pt x="699" y="58"/>
                    </a:lnTo>
                    <a:lnTo>
                      <a:pt x="715" y="68"/>
                    </a:lnTo>
                    <a:lnTo>
                      <a:pt x="729" y="78"/>
                    </a:lnTo>
                    <a:lnTo>
                      <a:pt x="740" y="78"/>
                    </a:lnTo>
                    <a:lnTo>
                      <a:pt x="752" y="76"/>
                    </a:lnTo>
                    <a:lnTo>
                      <a:pt x="764" y="76"/>
                    </a:lnTo>
                    <a:lnTo>
                      <a:pt x="777" y="74"/>
                    </a:lnTo>
                    <a:lnTo>
                      <a:pt x="789" y="74"/>
                    </a:lnTo>
                    <a:lnTo>
                      <a:pt x="801" y="72"/>
                    </a:lnTo>
                    <a:lnTo>
                      <a:pt x="814" y="72"/>
                    </a:lnTo>
                    <a:lnTo>
                      <a:pt x="826" y="72"/>
                    </a:lnTo>
                    <a:lnTo>
                      <a:pt x="838" y="79"/>
                    </a:lnTo>
                    <a:lnTo>
                      <a:pt x="851" y="89"/>
                    </a:lnTo>
                    <a:lnTo>
                      <a:pt x="863" y="97"/>
                    </a:lnTo>
                    <a:lnTo>
                      <a:pt x="875" y="105"/>
                    </a:lnTo>
                    <a:lnTo>
                      <a:pt x="886" y="115"/>
                    </a:lnTo>
                    <a:lnTo>
                      <a:pt x="898" y="122"/>
                    </a:lnTo>
                    <a:lnTo>
                      <a:pt x="912" y="130"/>
                    </a:lnTo>
                    <a:lnTo>
                      <a:pt x="923" y="138"/>
                    </a:lnTo>
                    <a:lnTo>
                      <a:pt x="947" y="142"/>
                    </a:lnTo>
                    <a:lnTo>
                      <a:pt x="970" y="146"/>
                    </a:lnTo>
                    <a:lnTo>
                      <a:pt x="994" y="150"/>
                    </a:lnTo>
                    <a:lnTo>
                      <a:pt x="1019" y="155"/>
                    </a:lnTo>
                    <a:lnTo>
                      <a:pt x="1042" y="159"/>
                    </a:lnTo>
                    <a:lnTo>
                      <a:pt x="1066" y="163"/>
                    </a:lnTo>
                    <a:lnTo>
                      <a:pt x="1089" y="167"/>
                    </a:lnTo>
                    <a:lnTo>
                      <a:pt x="1112" y="173"/>
                    </a:lnTo>
                    <a:lnTo>
                      <a:pt x="1146" y="171"/>
                    </a:lnTo>
                    <a:lnTo>
                      <a:pt x="1179" y="169"/>
                    </a:lnTo>
                    <a:lnTo>
                      <a:pt x="1212" y="169"/>
                    </a:lnTo>
                    <a:lnTo>
                      <a:pt x="1243" y="167"/>
                    </a:lnTo>
                    <a:lnTo>
                      <a:pt x="1276" y="165"/>
                    </a:lnTo>
                    <a:lnTo>
                      <a:pt x="1309" y="163"/>
                    </a:lnTo>
                    <a:lnTo>
                      <a:pt x="1340" y="161"/>
                    </a:lnTo>
                    <a:lnTo>
                      <a:pt x="1374" y="159"/>
                    </a:lnTo>
                    <a:lnTo>
                      <a:pt x="1387" y="167"/>
                    </a:lnTo>
                    <a:lnTo>
                      <a:pt x="1401" y="175"/>
                    </a:lnTo>
                    <a:lnTo>
                      <a:pt x="1415" y="181"/>
                    </a:lnTo>
                    <a:lnTo>
                      <a:pt x="1428" y="189"/>
                    </a:lnTo>
                    <a:lnTo>
                      <a:pt x="1436" y="191"/>
                    </a:lnTo>
                    <a:lnTo>
                      <a:pt x="1442" y="193"/>
                    </a:lnTo>
                    <a:lnTo>
                      <a:pt x="1450" y="194"/>
                    </a:lnTo>
                    <a:lnTo>
                      <a:pt x="1457" y="196"/>
                    </a:lnTo>
                    <a:lnTo>
                      <a:pt x="1463" y="198"/>
                    </a:lnTo>
                    <a:lnTo>
                      <a:pt x="1471" y="200"/>
                    </a:lnTo>
                    <a:lnTo>
                      <a:pt x="1479" y="202"/>
                    </a:lnTo>
                    <a:lnTo>
                      <a:pt x="1487" y="204"/>
                    </a:lnTo>
                    <a:lnTo>
                      <a:pt x="1510" y="204"/>
                    </a:lnTo>
                    <a:lnTo>
                      <a:pt x="1531" y="202"/>
                    </a:lnTo>
                    <a:lnTo>
                      <a:pt x="1555" y="202"/>
                    </a:lnTo>
                    <a:lnTo>
                      <a:pt x="1578" y="202"/>
                    </a:lnTo>
                    <a:lnTo>
                      <a:pt x="1602" y="202"/>
                    </a:lnTo>
                    <a:lnTo>
                      <a:pt x="1625" y="202"/>
                    </a:lnTo>
                    <a:lnTo>
                      <a:pt x="1648" y="202"/>
                    </a:lnTo>
                    <a:lnTo>
                      <a:pt x="1672" y="202"/>
                    </a:lnTo>
                    <a:lnTo>
                      <a:pt x="1660" y="220"/>
                    </a:lnTo>
                    <a:lnTo>
                      <a:pt x="1650" y="235"/>
                    </a:lnTo>
                    <a:lnTo>
                      <a:pt x="1639" y="253"/>
                    </a:lnTo>
                    <a:lnTo>
                      <a:pt x="1629" y="270"/>
                    </a:lnTo>
                    <a:lnTo>
                      <a:pt x="1617" y="288"/>
                    </a:lnTo>
                    <a:lnTo>
                      <a:pt x="1607" y="306"/>
                    </a:lnTo>
                    <a:lnTo>
                      <a:pt x="1596" y="323"/>
                    </a:lnTo>
                    <a:lnTo>
                      <a:pt x="1586" y="341"/>
                    </a:lnTo>
                    <a:lnTo>
                      <a:pt x="1576" y="380"/>
                    </a:lnTo>
                    <a:lnTo>
                      <a:pt x="1567" y="417"/>
                    </a:lnTo>
                    <a:lnTo>
                      <a:pt x="1557" y="456"/>
                    </a:lnTo>
                    <a:lnTo>
                      <a:pt x="1547" y="495"/>
                    </a:lnTo>
                    <a:lnTo>
                      <a:pt x="1565" y="495"/>
                    </a:lnTo>
                    <a:lnTo>
                      <a:pt x="1580" y="495"/>
                    </a:lnTo>
                    <a:lnTo>
                      <a:pt x="1598" y="495"/>
                    </a:lnTo>
                    <a:lnTo>
                      <a:pt x="1615" y="495"/>
                    </a:lnTo>
                    <a:lnTo>
                      <a:pt x="1631" y="495"/>
                    </a:lnTo>
                    <a:lnTo>
                      <a:pt x="1648" y="495"/>
                    </a:lnTo>
                    <a:lnTo>
                      <a:pt x="1664" y="495"/>
                    </a:lnTo>
                    <a:lnTo>
                      <a:pt x="1681" y="495"/>
                    </a:lnTo>
                    <a:lnTo>
                      <a:pt x="1670" y="514"/>
                    </a:lnTo>
                    <a:lnTo>
                      <a:pt x="1656" y="534"/>
                    </a:lnTo>
                    <a:lnTo>
                      <a:pt x="1644" y="553"/>
                    </a:lnTo>
                    <a:lnTo>
                      <a:pt x="1633" y="573"/>
                    </a:lnTo>
                    <a:lnTo>
                      <a:pt x="1621" y="592"/>
                    </a:lnTo>
                    <a:lnTo>
                      <a:pt x="1609" y="610"/>
                    </a:lnTo>
                    <a:lnTo>
                      <a:pt x="1598" y="629"/>
                    </a:lnTo>
                    <a:lnTo>
                      <a:pt x="1586" y="649"/>
                    </a:lnTo>
                    <a:lnTo>
                      <a:pt x="1578" y="674"/>
                    </a:lnTo>
                    <a:lnTo>
                      <a:pt x="1572" y="697"/>
                    </a:lnTo>
                    <a:lnTo>
                      <a:pt x="1565" y="723"/>
                    </a:lnTo>
                    <a:lnTo>
                      <a:pt x="1557" y="746"/>
                    </a:lnTo>
                    <a:lnTo>
                      <a:pt x="1549" y="771"/>
                    </a:lnTo>
                    <a:lnTo>
                      <a:pt x="1543" y="795"/>
                    </a:lnTo>
                    <a:lnTo>
                      <a:pt x="1535" y="820"/>
                    </a:lnTo>
                    <a:lnTo>
                      <a:pt x="1528" y="844"/>
                    </a:lnTo>
                    <a:lnTo>
                      <a:pt x="1516" y="867"/>
                    </a:lnTo>
                    <a:lnTo>
                      <a:pt x="1504" y="892"/>
                    </a:lnTo>
                    <a:lnTo>
                      <a:pt x="1492" y="916"/>
                    </a:lnTo>
                    <a:lnTo>
                      <a:pt x="1481" y="939"/>
                    </a:lnTo>
                    <a:lnTo>
                      <a:pt x="1467" y="964"/>
                    </a:lnTo>
                    <a:lnTo>
                      <a:pt x="1455" y="988"/>
                    </a:lnTo>
                    <a:lnTo>
                      <a:pt x="1444" y="1013"/>
                    </a:lnTo>
                    <a:lnTo>
                      <a:pt x="1432" y="1037"/>
                    </a:lnTo>
                    <a:lnTo>
                      <a:pt x="1453" y="1060"/>
                    </a:lnTo>
                    <a:lnTo>
                      <a:pt x="1475" y="1085"/>
                    </a:lnTo>
                    <a:lnTo>
                      <a:pt x="1496" y="1109"/>
                    </a:lnTo>
                    <a:lnTo>
                      <a:pt x="1518" y="1134"/>
                    </a:lnTo>
                    <a:lnTo>
                      <a:pt x="1539" y="1157"/>
                    </a:lnTo>
                    <a:lnTo>
                      <a:pt x="1561" y="1183"/>
                    </a:lnTo>
                    <a:lnTo>
                      <a:pt x="1582" y="1206"/>
                    </a:lnTo>
                    <a:lnTo>
                      <a:pt x="1604" y="1231"/>
                    </a:lnTo>
                    <a:lnTo>
                      <a:pt x="1580" y="1224"/>
                    </a:lnTo>
                    <a:lnTo>
                      <a:pt x="1557" y="1216"/>
                    </a:lnTo>
                    <a:lnTo>
                      <a:pt x="1533" y="1210"/>
                    </a:lnTo>
                    <a:lnTo>
                      <a:pt x="1508" y="1202"/>
                    </a:lnTo>
                    <a:lnTo>
                      <a:pt x="1485" y="1194"/>
                    </a:lnTo>
                    <a:lnTo>
                      <a:pt x="1461" y="1187"/>
                    </a:lnTo>
                    <a:lnTo>
                      <a:pt x="1436" y="1181"/>
                    </a:lnTo>
                    <a:lnTo>
                      <a:pt x="1413" y="1173"/>
                    </a:lnTo>
                    <a:lnTo>
                      <a:pt x="1413" y="1216"/>
                    </a:lnTo>
                    <a:lnTo>
                      <a:pt x="1413" y="1259"/>
                    </a:lnTo>
                    <a:lnTo>
                      <a:pt x="1413" y="1304"/>
                    </a:lnTo>
                    <a:lnTo>
                      <a:pt x="1413" y="1346"/>
                    </a:lnTo>
                    <a:lnTo>
                      <a:pt x="1387" y="1346"/>
                    </a:lnTo>
                    <a:lnTo>
                      <a:pt x="1360" y="1346"/>
                    </a:lnTo>
                    <a:lnTo>
                      <a:pt x="1335" y="1346"/>
                    </a:lnTo>
                    <a:lnTo>
                      <a:pt x="1307" y="1346"/>
                    </a:lnTo>
                    <a:lnTo>
                      <a:pt x="1282" y="1346"/>
                    </a:lnTo>
                    <a:lnTo>
                      <a:pt x="1255" y="1346"/>
                    </a:lnTo>
                    <a:lnTo>
                      <a:pt x="1229" y="1346"/>
                    </a:lnTo>
                    <a:lnTo>
                      <a:pt x="1202" y="1346"/>
                    </a:lnTo>
                    <a:lnTo>
                      <a:pt x="1190" y="1333"/>
                    </a:lnTo>
                    <a:lnTo>
                      <a:pt x="1179" y="1317"/>
                    </a:lnTo>
                    <a:lnTo>
                      <a:pt x="1167" y="1304"/>
                    </a:lnTo>
                    <a:lnTo>
                      <a:pt x="1155" y="1288"/>
                    </a:lnTo>
                    <a:lnTo>
                      <a:pt x="1142" y="1274"/>
                    </a:lnTo>
                    <a:lnTo>
                      <a:pt x="1130" y="1259"/>
                    </a:lnTo>
                    <a:lnTo>
                      <a:pt x="1118" y="1245"/>
                    </a:lnTo>
                    <a:lnTo>
                      <a:pt x="1107" y="1231"/>
                    </a:lnTo>
                    <a:lnTo>
                      <a:pt x="1083" y="1251"/>
                    </a:lnTo>
                    <a:lnTo>
                      <a:pt x="1058" y="1270"/>
                    </a:lnTo>
                    <a:lnTo>
                      <a:pt x="1035" y="1290"/>
                    </a:lnTo>
                    <a:lnTo>
                      <a:pt x="1011" y="1307"/>
                    </a:lnTo>
                    <a:lnTo>
                      <a:pt x="986" y="1327"/>
                    </a:lnTo>
                    <a:lnTo>
                      <a:pt x="962" y="1346"/>
                    </a:lnTo>
                    <a:lnTo>
                      <a:pt x="939" y="1366"/>
                    </a:lnTo>
                    <a:lnTo>
                      <a:pt x="916" y="1385"/>
                    </a:lnTo>
                    <a:lnTo>
                      <a:pt x="910" y="1346"/>
                    </a:lnTo>
                    <a:lnTo>
                      <a:pt x="906" y="1307"/>
                    </a:lnTo>
                    <a:lnTo>
                      <a:pt x="900" y="1270"/>
                    </a:lnTo>
                    <a:lnTo>
                      <a:pt x="896" y="1231"/>
                    </a:lnTo>
                    <a:lnTo>
                      <a:pt x="871" y="1241"/>
                    </a:lnTo>
                    <a:lnTo>
                      <a:pt x="844" y="1251"/>
                    </a:lnTo>
                    <a:lnTo>
                      <a:pt x="818" y="1261"/>
                    </a:lnTo>
                    <a:lnTo>
                      <a:pt x="791" y="1268"/>
                    </a:lnTo>
                    <a:lnTo>
                      <a:pt x="766" y="1278"/>
                    </a:lnTo>
                    <a:lnTo>
                      <a:pt x="738" y="1288"/>
                    </a:lnTo>
                    <a:lnTo>
                      <a:pt x="713" y="1298"/>
                    </a:lnTo>
                    <a:lnTo>
                      <a:pt x="686" y="1307"/>
                    </a:lnTo>
                    <a:lnTo>
                      <a:pt x="662" y="1315"/>
                    </a:lnTo>
                    <a:lnTo>
                      <a:pt x="637" y="1321"/>
                    </a:lnTo>
                    <a:lnTo>
                      <a:pt x="614" y="1329"/>
                    </a:lnTo>
                    <a:lnTo>
                      <a:pt x="590" y="1337"/>
                    </a:lnTo>
                    <a:lnTo>
                      <a:pt x="567" y="1344"/>
                    </a:lnTo>
                    <a:lnTo>
                      <a:pt x="541" y="1350"/>
                    </a:lnTo>
                    <a:lnTo>
                      <a:pt x="518" y="1358"/>
                    </a:lnTo>
                    <a:lnTo>
                      <a:pt x="495" y="1366"/>
                    </a:lnTo>
                    <a:lnTo>
                      <a:pt x="471" y="1374"/>
                    </a:lnTo>
                    <a:lnTo>
                      <a:pt x="446" y="1380"/>
                    </a:lnTo>
                    <a:lnTo>
                      <a:pt x="423" y="1387"/>
                    </a:lnTo>
                    <a:lnTo>
                      <a:pt x="399" y="1395"/>
                    </a:lnTo>
                    <a:lnTo>
                      <a:pt x="374" y="1403"/>
                    </a:lnTo>
                    <a:lnTo>
                      <a:pt x="351" y="1409"/>
                    </a:lnTo>
                    <a:lnTo>
                      <a:pt x="327" y="1417"/>
                    </a:lnTo>
                    <a:lnTo>
                      <a:pt x="302" y="1424"/>
                    </a:lnTo>
                    <a:lnTo>
                      <a:pt x="319" y="1391"/>
                    </a:lnTo>
                    <a:lnTo>
                      <a:pt x="335" y="1356"/>
                    </a:lnTo>
                    <a:lnTo>
                      <a:pt x="352" y="1323"/>
                    </a:lnTo>
                    <a:lnTo>
                      <a:pt x="370" y="1288"/>
                    </a:lnTo>
                    <a:lnTo>
                      <a:pt x="388" y="1255"/>
                    </a:lnTo>
                    <a:lnTo>
                      <a:pt x="403" y="1222"/>
                    </a:lnTo>
                    <a:lnTo>
                      <a:pt x="421" y="1187"/>
                    </a:lnTo>
                    <a:lnTo>
                      <a:pt x="436" y="1153"/>
                    </a:lnTo>
                    <a:lnTo>
                      <a:pt x="415" y="1163"/>
                    </a:lnTo>
                    <a:lnTo>
                      <a:pt x="393" y="1173"/>
                    </a:lnTo>
                    <a:lnTo>
                      <a:pt x="372" y="1183"/>
                    </a:lnTo>
                    <a:lnTo>
                      <a:pt x="351" y="1192"/>
                    </a:lnTo>
                    <a:lnTo>
                      <a:pt x="327" y="1202"/>
                    </a:lnTo>
                    <a:lnTo>
                      <a:pt x="306" y="1212"/>
                    </a:lnTo>
                    <a:lnTo>
                      <a:pt x="284" y="1222"/>
                    </a:lnTo>
                    <a:lnTo>
                      <a:pt x="263" y="1231"/>
                    </a:lnTo>
                    <a:lnTo>
                      <a:pt x="271" y="1212"/>
                    </a:lnTo>
                    <a:lnTo>
                      <a:pt x="278" y="1192"/>
                    </a:lnTo>
                    <a:lnTo>
                      <a:pt x="284" y="1173"/>
                    </a:lnTo>
                    <a:lnTo>
                      <a:pt x="292" y="1153"/>
                    </a:lnTo>
                    <a:lnTo>
                      <a:pt x="300" y="1134"/>
                    </a:lnTo>
                    <a:lnTo>
                      <a:pt x="308" y="1114"/>
                    </a:lnTo>
                    <a:lnTo>
                      <a:pt x="313" y="1095"/>
                    </a:lnTo>
                    <a:lnTo>
                      <a:pt x="321" y="1076"/>
                    </a:lnTo>
                    <a:lnTo>
                      <a:pt x="308" y="1066"/>
                    </a:lnTo>
                    <a:lnTo>
                      <a:pt x="292" y="1056"/>
                    </a:lnTo>
                    <a:lnTo>
                      <a:pt x="278" y="1046"/>
                    </a:lnTo>
                    <a:lnTo>
                      <a:pt x="265" y="1037"/>
                    </a:lnTo>
                    <a:lnTo>
                      <a:pt x="249" y="1027"/>
                    </a:lnTo>
                    <a:lnTo>
                      <a:pt x="236" y="1017"/>
                    </a:lnTo>
                    <a:lnTo>
                      <a:pt x="220" y="1007"/>
                    </a:lnTo>
                    <a:lnTo>
                      <a:pt x="206" y="998"/>
                    </a:lnTo>
                    <a:lnTo>
                      <a:pt x="220" y="986"/>
                    </a:lnTo>
                    <a:lnTo>
                      <a:pt x="236" y="974"/>
                    </a:lnTo>
                    <a:lnTo>
                      <a:pt x="249" y="962"/>
                    </a:lnTo>
                    <a:lnTo>
                      <a:pt x="265" y="949"/>
                    </a:lnTo>
                    <a:lnTo>
                      <a:pt x="278" y="937"/>
                    </a:lnTo>
                    <a:lnTo>
                      <a:pt x="292" y="925"/>
                    </a:lnTo>
                    <a:lnTo>
                      <a:pt x="308" y="914"/>
                    </a:lnTo>
                    <a:lnTo>
                      <a:pt x="321" y="902"/>
                    </a:lnTo>
                    <a:lnTo>
                      <a:pt x="288" y="865"/>
                    </a:lnTo>
                    <a:lnTo>
                      <a:pt x="255" y="830"/>
                    </a:lnTo>
                    <a:lnTo>
                      <a:pt x="220" y="793"/>
                    </a:lnTo>
                    <a:lnTo>
                      <a:pt x="187" y="756"/>
                    </a:lnTo>
                    <a:lnTo>
                      <a:pt x="154" y="719"/>
                    </a:lnTo>
                    <a:lnTo>
                      <a:pt x="121" y="684"/>
                    </a:lnTo>
                    <a:lnTo>
                      <a:pt x="85" y="647"/>
                    </a:lnTo>
                    <a:lnTo>
                      <a:pt x="52" y="612"/>
                    </a:lnTo>
                    <a:lnTo>
                      <a:pt x="39" y="567"/>
                    </a:lnTo>
                    <a:lnTo>
                      <a:pt x="27" y="524"/>
                    </a:lnTo>
                    <a:lnTo>
                      <a:pt x="13" y="479"/>
                    </a:lnTo>
                    <a:lnTo>
                      <a:pt x="0" y="436"/>
                    </a:lnTo>
                    <a:lnTo>
                      <a:pt x="23" y="446"/>
                    </a:lnTo>
                    <a:lnTo>
                      <a:pt x="45" y="456"/>
                    </a:lnTo>
                    <a:lnTo>
                      <a:pt x="68" y="465"/>
                    </a:lnTo>
                    <a:lnTo>
                      <a:pt x="91" y="475"/>
                    </a:lnTo>
                    <a:lnTo>
                      <a:pt x="117" y="485"/>
                    </a:lnTo>
                    <a:lnTo>
                      <a:pt x="140" y="495"/>
                    </a:lnTo>
                    <a:lnTo>
                      <a:pt x="163" y="504"/>
                    </a:lnTo>
                    <a:lnTo>
                      <a:pt x="189" y="514"/>
                    </a:lnTo>
                    <a:lnTo>
                      <a:pt x="189" y="475"/>
                    </a:lnTo>
                    <a:lnTo>
                      <a:pt x="189" y="436"/>
                    </a:lnTo>
                    <a:lnTo>
                      <a:pt x="189" y="399"/>
                    </a:lnTo>
                    <a:lnTo>
                      <a:pt x="189" y="360"/>
                    </a:lnTo>
                    <a:lnTo>
                      <a:pt x="206" y="374"/>
                    </a:lnTo>
                    <a:lnTo>
                      <a:pt x="226" y="387"/>
                    </a:lnTo>
                    <a:lnTo>
                      <a:pt x="245" y="403"/>
                    </a:lnTo>
                    <a:lnTo>
                      <a:pt x="265" y="417"/>
                    </a:lnTo>
                    <a:lnTo>
                      <a:pt x="282" y="432"/>
                    </a:lnTo>
                    <a:lnTo>
                      <a:pt x="302" y="446"/>
                    </a:lnTo>
                    <a:lnTo>
                      <a:pt x="321" y="462"/>
                    </a:lnTo>
                    <a:lnTo>
                      <a:pt x="341" y="475"/>
                    </a:lnTo>
                    <a:lnTo>
                      <a:pt x="331" y="426"/>
                    </a:lnTo>
                    <a:lnTo>
                      <a:pt x="321" y="378"/>
                    </a:lnTo>
                    <a:lnTo>
                      <a:pt x="312" y="331"/>
                    </a:lnTo>
                    <a:lnTo>
                      <a:pt x="302" y="282"/>
                    </a:lnTo>
                    <a:close/>
                  </a:path>
                </a:pathLst>
              </a:custGeom>
              <a:solidFill>
                <a:srgbClr val="e0d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796120" y="3854160"/>
                <a:ext cx="66600" cy="64800"/>
              </a:xfrm>
              <a:custGeom>
                <a:avLst/>
                <a:gdLst/>
                <a:ahLst/>
                <a:rect l="l" t="t" r="r" b="b"/>
                <a:pathLst>
                  <a:path w="64" h="56">
                    <a:moveTo>
                      <a:pt x="2" y="0"/>
                    </a:moveTo>
                    <a:lnTo>
                      <a:pt x="12" y="2"/>
                    </a:lnTo>
                    <a:lnTo>
                      <a:pt x="25" y="6"/>
                    </a:lnTo>
                    <a:lnTo>
                      <a:pt x="39" y="10"/>
                    </a:lnTo>
                    <a:lnTo>
                      <a:pt x="51" y="14"/>
                    </a:lnTo>
                    <a:lnTo>
                      <a:pt x="61" y="19"/>
                    </a:lnTo>
                    <a:lnTo>
                      <a:pt x="64" y="25"/>
                    </a:lnTo>
                    <a:lnTo>
                      <a:pt x="62" y="35"/>
                    </a:lnTo>
                    <a:lnTo>
                      <a:pt x="53" y="45"/>
                    </a:lnTo>
                    <a:lnTo>
                      <a:pt x="33" y="51"/>
                    </a:lnTo>
                    <a:lnTo>
                      <a:pt x="0" y="56"/>
                    </a:lnTo>
                    <a:lnTo>
                      <a:pt x="37" y="41"/>
                    </a:lnTo>
                    <a:lnTo>
                      <a:pt x="43" y="25"/>
                    </a:lnTo>
                    <a:lnTo>
                      <a:pt x="35" y="14"/>
                    </a:lnTo>
                    <a:lnTo>
                      <a:pt x="22" y="8"/>
                    </a:lnTo>
                    <a:lnTo>
                      <a:pt x="2" y="0"/>
                    </a:lnTo>
                    <a:close/>
                  </a:path>
                </a:pathLst>
              </a:custGeom>
              <a:solidFill>
                <a:srgbClr val="ffef3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6" name=""/>
              <p:cNvSpPr/>
              <p:nvPr/>
            </p:nvSpPr>
            <p:spPr>
              <a:xfrm flipH="1">
                <a:off x="2568240" y="3910680"/>
                <a:ext cx="73440" cy="62280"/>
              </a:xfrm>
              <a:custGeom>
                <a:avLst/>
                <a:gdLst/>
                <a:ahLst/>
                <a:rect l="l" t="t" r="r" b="b"/>
                <a:pathLst>
                  <a:path w="70" h="56">
                    <a:moveTo>
                      <a:pt x="19" y="0"/>
                    </a:moveTo>
                    <a:lnTo>
                      <a:pt x="29" y="5"/>
                    </a:lnTo>
                    <a:lnTo>
                      <a:pt x="39" y="11"/>
                    </a:lnTo>
                    <a:lnTo>
                      <a:pt x="50" y="19"/>
                    </a:lnTo>
                    <a:lnTo>
                      <a:pt x="62" y="27"/>
                    </a:lnTo>
                    <a:lnTo>
                      <a:pt x="68" y="37"/>
                    </a:lnTo>
                    <a:lnTo>
                      <a:pt x="70" y="43"/>
                    </a:lnTo>
                    <a:lnTo>
                      <a:pt x="66" y="50"/>
                    </a:lnTo>
                    <a:lnTo>
                      <a:pt x="52" y="56"/>
                    </a:lnTo>
                    <a:lnTo>
                      <a:pt x="31" y="54"/>
                    </a:lnTo>
                    <a:lnTo>
                      <a:pt x="0" y="50"/>
                    </a:lnTo>
                    <a:lnTo>
                      <a:pt x="39" y="50"/>
                    </a:lnTo>
                    <a:lnTo>
                      <a:pt x="48" y="37"/>
                    </a:lnTo>
                    <a:lnTo>
                      <a:pt x="44" y="23"/>
                    </a:lnTo>
                    <a:lnTo>
                      <a:pt x="33" y="11"/>
                    </a:lnTo>
                    <a:lnTo>
                      <a:pt x="19" y="0"/>
                    </a:lnTo>
                    <a:close/>
                  </a:path>
                </a:pathLst>
              </a:custGeom>
              <a:solidFill>
                <a:srgbClr val="ffef3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pic>
          <p:nvPicPr>
            <p:cNvPr id="107" name="" descr=""/>
            <p:cNvPicPr/>
            <p:nvPr/>
          </p:nvPicPr>
          <p:blipFill>
            <a:blip r:embed="rId2"/>
            <a:stretch/>
          </p:blipFill>
          <p:spPr>
            <a:xfrm>
              <a:off x="519120" y="3394080"/>
              <a:ext cx="3708360" cy="2165400"/>
            </a:xfrm>
            <a:prstGeom prst="rect">
              <a:avLst/>
            </a:prstGeom>
            <a:ln w="0">
              <a:noFill/>
            </a:ln>
          </p:spPr>
        </p:pic>
      </p:grpSp>
      <p:sp>
        <p:nvSpPr>
          <p:cNvPr id="108" name="PlaceHolder 1"/>
          <p:cNvSpPr>
            <a:spLocks noGrp="1"/>
          </p:cNvSpPr>
          <p:nvPr>
            <p:ph/>
          </p:nvPr>
        </p:nvSpPr>
        <p:spPr>
          <a:xfrm>
            <a:off x="4606560" y="200196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ce fell from the sky into the forest where Red Arrow and Black Beak found him.</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as it so odd to see a rainbow in a dense fores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a rainbow?</a:t>
            </a:r>
            <a:endParaRPr b="0" lang="en-US" sz="2800" spc="-1" strike="noStrike">
              <a:solidFill>
                <a:srgbClr val="000000"/>
              </a:solidFill>
              <a:latin typeface="Times New Roman"/>
            </a:endParaRPr>
          </a:p>
        </p:txBody>
      </p:sp>
      <p:sp>
        <p:nvSpPr>
          <p:cNvPr id="109" name="PlaceHolder 2"/>
          <p:cNvSpPr>
            <a:spLocks noGrp="1"/>
          </p:cNvSpPr>
          <p:nvPr>
            <p:ph type="title"/>
          </p:nvPr>
        </p:nvSpPr>
        <p:spPr>
          <a:xfrm>
            <a:off x="68580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ory’s Mysterious Rainbow</a:t>
            </a:r>
            <a:endParaRPr b="0" lang="en-US" sz="4400" spc="-1" strike="noStrike">
              <a:solidFill>
                <a:srgbClr val="000000"/>
              </a:solidFill>
              <a:latin typeface="Times New Roman"/>
            </a:endParaRPr>
          </a:p>
        </p:txBody>
      </p:sp>
      <p:sp>
        <p:nvSpPr>
          <p:cNvPr id="11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1" name=""/>
          <p:cNvGrpSpPr/>
          <p:nvPr/>
        </p:nvGrpSpPr>
        <p:grpSpPr>
          <a:xfrm>
            <a:off x="380880" y="2179800"/>
            <a:ext cx="4449600" cy="2539440"/>
            <a:chOff x="380880" y="2179800"/>
            <a:chExt cx="4449600" cy="2539440"/>
          </a:xfrm>
        </p:grpSpPr>
        <p:pic>
          <p:nvPicPr>
            <p:cNvPr id="112" name="" descr="">
              <a:hlinkClick r:id="rId2"/>
            </p:cNvPr>
            <p:cNvPicPr/>
            <p:nvPr/>
          </p:nvPicPr>
          <p:blipFill>
            <a:blip r:embed="rId3"/>
            <a:stretch/>
          </p:blipFill>
          <p:spPr>
            <a:xfrm>
              <a:off x="461880" y="2179800"/>
              <a:ext cx="4368600" cy="2534400"/>
            </a:xfrm>
            <a:prstGeom prst="rect">
              <a:avLst/>
            </a:prstGeom>
            <a:ln w="88920">
              <a:solidFill>
                <a:srgbClr val="545068"/>
              </a:solidFill>
              <a:miter/>
            </a:ln>
          </p:spPr>
        </p:pic>
        <p:sp>
          <p:nvSpPr>
            <p:cNvPr id="113" name=""/>
            <p:cNvSpPr/>
            <p:nvPr/>
          </p:nvSpPr>
          <p:spPr>
            <a:xfrm>
              <a:off x="380880" y="4442760"/>
              <a:ext cx="2993400" cy="276480"/>
            </a:xfrm>
            <a:prstGeom prst="rect">
              <a:avLst/>
            </a:prstGeom>
            <a:noFill/>
            <a:ln w="9360">
              <a:solidFill>
                <a:srgbClr val="545068"/>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gov</a:t>
              </a:r>
              <a:endParaRPr b="0" lang="en-US" sz="1200" spc="-1" strike="noStrike">
                <a:solidFill>
                  <a:srgbClr val="000000"/>
                </a:solidFill>
                <a:latin typeface="Arial"/>
              </a:endParaRPr>
            </a:p>
          </p:txBody>
        </p:sp>
      </p:grpSp>
      <p:sp>
        <p:nvSpPr>
          <p:cNvPr id="114" name="PlaceHolder 1"/>
          <p:cNvSpPr>
            <a:spLocks noGrp="1"/>
          </p:cNvSpPr>
          <p:nvPr>
            <p:ph/>
          </p:nvPr>
        </p:nvSpPr>
        <p:spPr>
          <a:xfrm>
            <a:off x="4876560" y="1527120"/>
            <a:ext cx="3886200" cy="50752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Put the white sheet of paper on your desk or on the wall.  Shine a light through the prism toward the sheet of paper.  Move the light around until a rainbow appears on the paper.</a:t>
            </a:r>
            <a:endParaRPr b="0" lang="en-US" sz="2800" spc="-1" strike="noStrike">
              <a:solidFill>
                <a:srgbClr val="000000"/>
              </a:solidFill>
              <a:latin typeface="Times New Roman"/>
            </a:endParaRPr>
          </a:p>
        </p:txBody>
      </p:sp>
      <p:sp>
        <p:nvSpPr>
          <p:cNvPr id="115"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Figure It Out!</a:t>
            </a:r>
            <a:endParaRPr b="0" lang="en-US" sz="4400" spc="-1" strike="noStrike">
              <a:solidFill>
                <a:srgbClr val="000000"/>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0.0</a:t>
            </a:r>
            <a:endParaRPr b="0" lang="en-US" sz="1000" spc="-1" strike="noStrike">
              <a:solidFill>
                <a:srgbClr val="000000"/>
              </a:solidFill>
              <a:latin typeface="Arial"/>
            </a:endParaRPr>
          </a:p>
        </p:txBody>
      </p:sp>
      <p:grpSp>
        <p:nvGrpSpPr>
          <p:cNvPr id="117" name=""/>
          <p:cNvGrpSpPr/>
          <p:nvPr/>
        </p:nvGrpSpPr>
        <p:grpSpPr>
          <a:xfrm>
            <a:off x="7664400" y="5425920"/>
            <a:ext cx="1203120" cy="1203480"/>
            <a:chOff x="7664400" y="5425920"/>
            <a:chExt cx="1203120" cy="1203480"/>
          </a:xfrm>
        </p:grpSpPr>
        <p:sp>
          <p:nvSpPr>
            <p:cNvPr id="118" name=""/>
            <p:cNvSpPr/>
            <p:nvPr/>
          </p:nvSpPr>
          <p:spPr>
            <a:xfrm>
              <a:off x="7664400" y="5425920"/>
              <a:ext cx="1203120" cy="1203480"/>
            </a:xfrm>
            <a:prstGeom prst="octagon">
              <a:avLst>
                <a:gd name="adj" fmla="val 2928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7700760" y="5457960"/>
              <a:ext cx="1135080" cy="1135080"/>
            </a:xfrm>
            <a:prstGeom prst="octagon">
              <a:avLst>
                <a:gd name="adj" fmla="val 2928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P</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Figure It Out!</a:t>
            </a:r>
            <a:endParaRPr b="0" lang="en-US" sz="4400" spc="-1" strike="noStrike">
              <a:solidFill>
                <a:srgbClr val="000000"/>
              </a:solidFill>
              <a:latin typeface="Times New Roman"/>
            </a:endParaRPr>
          </a:p>
        </p:txBody>
      </p:sp>
      <p:sp>
        <p:nvSpPr>
          <p:cNvPr id="121" name="PlaceHolder 2"/>
          <p:cNvSpPr>
            <a:spLocks noGrp="1"/>
          </p:cNvSpPr>
          <p:nvPr>
            <p:ph/>
          </p:nvPr>
        </p:nvSpPr>
        <p:spPr>
          <a:xfrm>
            <a:off x="456840" y="1980720"/>
            <a:ext cx="3762360" cy="40561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order of the colors from the prism the same as the order on the rainbow to the right?</a:t>
            </a:r>
            <a:endParaRPr b="0" lang="en-US" sz="3200" spc="-1" strike="noStrike">
              <a:solidFill>
                <a:srgbClr val="000000"/>
              </a:solidFill>
              <a:latin typeface="Times New Roman"/>
            </a:endParaRPr>
          </a:p>
        </p:txBody>
      </p:sp>
      <p:sp>
        <p:nvSpPr>
          <p:cNvPr id="122" name=""/>
          <p:cNvSpPr/>
          <p:nvPr/>
        </p:nvSpPr>
        <p:spPr>
          <a:xfrm>
            <a:off x="4064040" y="6095880"/>
            <a:ext cx="403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llowstone National Park</a:t>
            </a:r>
            <a:endParaRPr b="0" lang="en-US" sz="1800" spc="-1" strike="noStrike">
              <a:solidFill>
                <a:srgbClr val="000000"/>
              </a:solidFill>
              <a:latin typeface="Arial"/>
            </a:endParaRPr>
          </a:p>
        </p:txBody>
      </p:sp>
      <p:pic>
        <p:nvPicPr>
          <p:cNvPr id="123" name="" descr=""/>
          <p:cNvPicPr/>
          <p:nvPr/>
        </p:nvPicPr>
        <p:blipFill>
          <a:blip r:embed="rId2"/>
          <a:stretch/>
        </p:blipFill>
        <p:spPr>
          <a:xfrm>
            <a:off x="4246560" y="2009880"/>
            <a:ext cx="4151160" cy="3894120"/>
          </a:xfrm>
          <a:prstGeom prst="rect">
            <a:avLst/>
          </a:prstGeom>
          <a:ln w="0">
            <a:noFill/>
          </a:ln>
        </p:spPr>
      </p:pic>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68264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es the white light appear as colors on the paper?</a:t>
            </a:r>
            <a:endParaRPr b="0" lang="en-US" sz="2800" spc="-1" strike="noStrike">
              <a:solidFill>
                <a:srgbClr val="000000"/>
              </a:solidFill>
              <a:latin typeface="Times New Roman"/>
            </a:endParaRPr>
          </a:p>
          <a:p>
            <a:pPr marL="329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n’t the colors show up when you shine the light directly on the paper without the prism?</a:t>
            </a:r>
            <a:endParaRPr b="0" lang="en-US" sz="2800" spc="-1" strike="noStrike">
              <a:solidFill>
                <a:srgbClr val="000000"/>
              </a:solidFill>
              <a:latin typeface="Times New Roman"/>
            </a:endParaRPr>
          </a:p>
          <a:p>
            <a:pPr marL="329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s the light just plain white without the prism, but appears as colors with a prism?  What is light made of?</a:t>
            </a:r>
            <a:endParaRPr b="0" lang="en-US" sz="2800" spc="-1" strike="noStrike">
              <a:solidFill>
                <a:srgbClr val="000000"/>
              </a:solidFill>
              <a:latin typeface="Times New Roman"/>
            </a:endParaRPr>
          </a:p>
        </p:txBody>
      </p:sp>
      <p:sp>
        <p:nvSpPr>
          <p:cNvPr id="126" name="PlaceHolder 2"/>
          <p:cNvSpPr>
            <a:spLocks noGrp="1"/>
          </p:cNvSpPr>
          <p:nvPr>
            <p:ph type="title"/>
          </p:nvPr>
        </p:nvSpPr>
        <p:spPr>
          <a:xfrm>
            <a:off x="68580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you think is happening?</a:t>
            </a:r>
            <a:endParaRPr b="0" lang="en-US" sz="44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80880" y="1600200"/>
            <a:ext cx="4191120" cy="4876920"/>
          </a:xfrm>
          <a:prstGeom prst="rect">
            <a:avLst/>
          </a:prstGeom>
          <a:solidFill>
            <a:srgbClr val="ffffff"/>
          </a:solidFill>
          <a:ln w="88920">
            <a:solidFill>
              <a:srgbClr val="5450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425520" y="5043600"/>
            <a:ext cx="4103640" cy="1030320"/>
          </a:xfrm>
          <a:prstGeom prst="rect">
            <a:avLst/>
          </a:prstGeom>
          <a:ln w="0">
            <a:noFill/>
          </a:ln>
        </p:spPr>
      </p:pic>
      <p:pic>
        <p:nvPicPr>
          <p:cNvPr id="130" name="" descr=""/>
          <p:cNvPicPr/>
          <p:nvPr/>
        </p:nvPicPr>
        <p:blipFill>
          <a:blip r:embed="rId3"/>
          <a:stretch/>
        </p:blipFill>
        <p:spPr>
          <a:xfrm>
            <a:off x="425520" y="1905120"/>
            <a:ext cx="4103640" cy="644400"/>
          </a:xfrm>
          <a:prstGeom prst="rect">
            <a:avLst/>
          </a:prstGeom>
          <a:ln w="0">
            <a:noFill/>
          </a:ln>
        </p:spPr>
      </p:pic>
      <p:pic>
        <p:nvPicPr>
          <p:cNvPr id="131" name="" descr=""/>
          <p:cNvPicPr/>
          <p:nvPr/>
        </p:nvPicPr>
        <p:blipFill>
          <a:blip r:embed="rId4"/>
          <a:stretch/>
        </p:blipFill>
        <p:spPr>
          <a:xfrm>
            <a:off x="423720" y="3429000"/>
            <a:ext cx="4104000" cy="739800"/>
          </a:xfrm>
          <a:prstGeom prst="rect">
            <a:avLst/>
          </a:prstGeom>
          <a:ln w="0">
            <a:noFill/>
          </a:ln>
        </p:spPr>
      </p:pic>
      <p:sp>
        <p:nvSpPr>
          <p:cNvPr id="132" name=""/>
          <p:cNvSpPr/>
          <p:nvPr/>
        </p:nvSpPr>
        <p:spPr>
          <a:xfrm>
            <a:off x="2362320" y="4267080"/>
            <a:ext cx="482400" cy="685800"/>
          </a:xfrm>
          <a:prstGeom prst="downArrow">
            <a:avLst>
              <a:gd name="adj1" fmla="val 50000"/>
              <a:gd name="adj2" fmla="val 3554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209680" y="2743200"/>
            <a:ext cx="685800" cy="533520"/>
          </a:xfrm>
          <a:prstGeom prst="plus">
            <a:avLst>
              <a:gd name="adj" fmla="val 3422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839880" y="201924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gnetic Energy Wave</a:t>
            </a:r>
            <a:endParaRPr b="0" lang="en-US" sz="2400" spc="-1" strike="noStrike">
              <a:solidFill>
                <a:srgbClr val="000000"/>
              </a:solidFill>
              <a:latin typeface="Arial"/>
            </a:endParaRPr>
          </a:p>
        </p:txBody>
      </p:sp>
      <p:sp>
        <p:nvSpPr>
          <p:cNvPr id="135" name=""/>
          <p:cNvSpPr/>
          <p:nvPr/>
        </p:nvSpPr>
        <p:spPr>
          <a:xfrm>
            <a:off x="838080" y="35812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 Energy Wave</a:t>
            </a:r>
            <a:endParaRPr b="0" lang="en-US" sz="2400" spc="-1" strike="noStrike">
              <a:solidFill>
                <a:srgbClr val="000000"/>
              </a:solidFill>
              <a:latin typeface="Arial"/>
            </a:endParaRPr>
          </a:p>
        </p:txBody>
      </p:sp>
      <p:sp>
        <p:nvSpPr>
          <p:cNvPr id="136" name=""/>
          <p:cNvSpPr/>
          <p:nvPr/>
        </p:nvSpPr>
        <p:spPr>
          <a:xfrm>
            <a:off x="838080" y="601992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Wave</a:t>
            </a:r>
            <a:endParaRPr b="0" lang="en-US" sz="2400" spc="-1" strike="noStrike">
              <a:solidFill>
                <a:srgbClr val="000000"/>
              </a:solidFill>
              <a:latin typeface="Arial"/>
            </a:endParaRPr>
          </a:p>
        </p:txBody>
      </p:sp>
      <p:sp>
        <p:nvSpPr>
          <p:cNvPr id="137"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ight? </a:t>
            </a:r>
            <a:endParaRPr b="0" lang="en-US" sz="4400" spc="-1" strike="noStrike">
              <a:solidFill>
                <a:srgbClr val="000000"/>
              </a:solidFill>
              <a:latin typeface="Times New Roman"/>
            </a:endParaRPr>
          </a:p>
        </p:txBody>
      </p:sp>
      <p:sp>
        <p:nvSpPr>
          <p:cNvPr id="138" name="PlaceHolder 2"/>
          <p:cNvSpPr>
            <a:spLocks noGrp="1"/>
          </p:cNvSpPr>
          <p:nvPr>
            <p:ph/>
          </p:nvPr>
        </p:nvSpPr>
        <p:spPr>
          <a:xfrm>
            <a:off x="4643280" y="1558440"/>
            <a:ext cx="4122720" cy="468468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can be thought of as a wave of electric and magnetic energy. Hence, it is called an electromagnetic wave.</a:t>
            </a:r>
            <a:endParaRPr b="0" lang="en-US" sz="2800" spc="-1" strike="noStrike">
              <a:solidFill>
                <a:srgbClr val="000000"/>
              </a:solidFill>
              <a:latin typeface="Times New Roman"/>
            </a:endParaRPr>
          </a:p>
          <a:p>
            <a:pPr marL="343080" indent="-34308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forms of energy flow perpendicular to each other.</a:t>
            </a:r>
            <a:endParaRPr b="0" lang="en-US" sz="2800" spc="-1" strike="noStrike">
              <a:solidFill>
                <a:srgbClr val="000000"/>
              </a:solidFill>
              <a:latin typeface="Times New Roman"/>
            </a:endParaRPr>
          </a:p>
          <a:p>
            <a:pPr marL="343080" indent="-343080">
              <a:lnSpc>
                <a:spcPct val="8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waves are waves of energy that can vary in size and shape.</a:t>
            </a:r>
            <a:endParaRPr b="0" lang="en-US" sz="28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380880" y="1905120"/>
            <a:ext cx="4343400" cy="4038480"/>
          </a:xfrm>
          <a:prstGeom prst="rect">
            <a:avLst/>
          </a:prstGeom>
          <a:solidFill>
            <a:srgbClr val="ffffff"/>
          </a:solidFill>
          <a:ln w="88920">
            <a:solidFill>
              <a:srgbClr val="5450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04920" y="52578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a:t>
            </a:r>
            <a:endParaRPr b="0" lang="en-US" sz="2400" spc="-1" strike="noStrike">
              <a:solidFill>
                <a:srgbClr val="000000"/>
              </a:solidFill>
              <a:latin typeface="Arial"/>
            </a:endParaRPr>
          </a:p>
        </p:txBody>
      </p:sp>
      <p:sp>
        <p:nvSpPr>
          <p:cNvPr id="142" name=""/>
          <p:cNvSpPr/>
          <p:nvPr/>
        </p:nvSpPr>
        <p:spPr>
          <a:xfrm>
            <a:off x="1600200" y="52578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ible</a:t>
            </a:r>
            <a:endParaRPr b="0" lang="en-US" sz="2400" spc="-1" strike="noStrike">
              <a:solidFill>
                <a:srgbClr val="000000"/>
              </a:solidFill>
              <a:latin typeface="Arial"/>
            </a:endParaRPr>
          </a:p>
        </p:txBody>
      </p:sp>
      <p:sp>
        <p:nvSpPr>
          <p:cNvPr id="143" name=""/>
          <p:cNvSpPr/>
          <p:nvPr/>
        </p:nvSpPr>
        <p:spPr>
          <a:xfrm>
            <a:off x="2743200" y="525780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Violet</a:t>
            </a:r>
            <a:endParaRPr b="0" lang="en-US" sz="2400" spc="-1" strike="noStrike">
              <a:solidFill>
                <a:srgbClr val="000000"/>
              </a:solidFill>
              <a:latin typeface="Arial"/>
            </a:endParaRPr>
          </a:p>
        </p:txBody>
      </p:sp>
      <p:sp>
        <p:nvSpPr>
          <p:cNvPr id="144" name=""/>
          <p:cNvSpPr/>
          <p:nvPr/>
        </p:nvSpPr>
        <p:spPr>
          <a:xfrm>
            <a:off x="1676520" y="52578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19520" y="52578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533160" y="3962520"/>
            <a:ext cx="114300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2819520" y="3886200"/>
            <a:ext cx="1371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7200" y="2079720"/>
            <a:ext cx="10666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0</a:t>
            </a:r>
            <a:r>
              <a:rPr b="0" lang="en-US" sz="1600" spc="-1" strike="noStrike">
                <a:solidFill>
                  <a:srgbClr val="000000"/>
                </a:solidFill>
                <a:latin typeface="Times New Roman"/>
              </a:rPr>
              <a:t>E</a:t>
            </a:r>
            <a:r>
              <a:rPr b="0" lang="en-US" sz="2000" spc="-1" strike="noStrike">
                <a:solidFill>
                  <a:srgbClr val="000000"/>
                </a:solidFill>
                <a:latin typeface="Times New Roman"/>
              </a:rPr>
              <a:t>12</a:t>
            </a:r>
            <a:br>
              <a:rPr sz="2000"/>
            </a:br>
            <a:r>
              <a:rPr b="0" lang="en-US" sz="1400" spc="-1" strike="noStrike">
                <a:solidFill>
                  <a:srgbClr val="000000"/>
                </a:solidFill>
                <a:latin typeface="Times New Roman"/>
              </a:rPr>
              <a:t>Low Energy</a:t>
            </a:r>
            <a:endParaRPr b="0" lang="en-US" sz="1400" spc="-1" strike="noStrike">
              <a:solidFill>
                <a:srgbClr val="000000"/>
              </a:solidFill>
              <a:latin typeface="Arial"/>
            </a:endParaRPr>
          </a:p>
        </p:txBody>
      </p:sp>
      <p:sp>
        <p:nvSpPr>
          <p:cNvPr id="149" name=""/>
          <p:cNvSpPr/>
          <p:nvPr/>
        </p:nvSpPr>
        <p:spPr>
          <a:xfrm>
            <a:off x="3429000" y="2073240"/>
            <a:ext cx="121932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0</a:t>
            </a:r>
            <a:r>
              <a:rPr b="0" lang="en-US" sz="1600" spc="-1" strike="noStrike">
                <a:solidFill>
                  <a:srgbClr val="000000"/>
                </a:solidFill>
                <a:latin typeface="Times New Roman"/>
              </a:rPr>
              <a:t>E</a:t>
            </a:r>
            <a:r>
              <a:rPr b="0" lang="en-US" sz="2000" spc="-1" strike="noStrike">
                <a:solidFill>
                  <a:srgbClr val="000000"/>
                </a:solidFill>
                <a:latin typeface="Times New Roman"/>
              </a:rPr>
              <a:t>12</a:t>
            </a:r>
            <a:br>
              <a:rPr sz="2000"/>
            </a:br>
            <a:r>
              <a:rPr b="0" lang="en-US" sz="1400" spc="-1" strike="noStrike">
                <a:solidFill>
                  <a:srgbClr val="000000"/>
                </a:solidFill>
                <a:latin typeface="Times New Roman"/>
              </a:rPr>
              <a:t>High Energy</a:t>
            </a:r>
            <a:endParaRPr b="0" lang="en-US" sz="1400" spc="-1" strike="noStrike">
              <a:solidFill>
                <a:srgbClr val="000000"/>
              </a:solidFill>
              <a:latin typeface="Arial"/>
            </a:endParaRPr>
          </a:p>
        </p:txBody>
      </p:sp>
      <p:grpSp>
        <p:nvGrpSpPr>
          <p:cNvPr id="150" name=""/>
          <p:cNvGrpSpPr/>
          <p:nvPr/>
        </p:nvGrpSpPr>
        <p:grpSpPr>
          <a:xfrm>
            <a:off x="568440" y="2746440"/>
            <a:ext cx="3577680" cy="1367640"/>
            <a:chOff x="568440" y="2746440"/>
            <a:chExt cx="3577680" cy="1367640"/>
          </a:xfrm>
        </p:grpSpPr>
        <p:sp>
          <p:nvSpPr>
            <p:cNvPr id="151" name=""/>
            <p:cNvSpPr/>
            <p:nvPr/>
          </p:nvSpPr>
          <p:spPr>
            <a:xfrm>
              <a:off x="695160" y="2746440"/>
              <a:ext cx="463680" cy="884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68440" y="365436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Arial"/>
              </a:endParaRPr>
            </a:p>
          </p:txBody>
        </p:sp>
        <p:sp>
          <p:nvSpPr>
            <p:cNvPr id="153" name=""/>
            <p:cNvSpPr/>
            <p:nvPr/>
          </p:nvSpPr>
          <p:spPr>
            <a:xfrm>
              <a:off x="1158840" y="2746440"/>
              <a:ext cx="463680" cy="8841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622520" y="2746440"/>
              <a:ext cx="463680" cy="884160"/>
            </a:xfrm>
            <a:prstGeom prst="rect">
              <a:avLst/>
            </a:prstGeom>
            <a:solidFill>
              <a:srgbClr val="f9f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50240" y="2746440"/>
              <a:ext cx="463680" cy="8841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014280" y="2746440"/>
              <a:ext cx="463680" cy="884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477960" y="2746440"/>
              <a:ext cx="463680" cy="88416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086560" y="2746440"/>
              <a:ext cx="463680" cy="8841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1713240" y="3654360"/>
              <a:ext cx="1215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um</a:t>
              </a:r>
              <a:endParaRPr b="0" lang="en-US" sz="2400" spc="-1" strike="noStrike">
                <a:solidFill>
                  <a:srgbClr val="000000"/>
                </a:solidFill>
                <a:latin typeface="Arial"/>
              </a:endParaRPr>
            </a:p>
          </p:txBody>
        </p:sp>
        <p:sp>
          <p:nvSpPr>
            <p:cNvPr id="160" name=""/>
            <p:cNvSpPr/>
            <p:nvPr/>
          </p:nvSpPr>
          <p:spPr>
            <a:xfrm>
              <a:off x="3355920" y="365436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Arial"/>
              </a:endParaRPr>
            </a:p>
          </p:txBody>
        </p:sp>
      </p:grpSp>
      <p:sp>
        <p:nvSpPr>
          <p:cNvPr id="161" name="PlaceHolder 1"/>
          <p:cNvSpPr>
            <a:spLocks noGrp="1"/>
          </p:cNvSpPr>
          <p:nvPr>
            <p:ph/>
          </p:nvPr>
        </p:nvSpPr>
        <p:spPr>
          <a:xfrm>
            <a:off x="5046840" y="2050920"/>
            <a:ext cx="3598560" cy="37404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quency of a wave is the number of waves that pass a given point per time period. (Units: Hertz)</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requency of light that we can see is between 430 and 750 trillion Hertz.</a:t>
            </a:r>
            <a:endParaRPr b="0" lang="en-US" sz="2800" spc="-1" strike="noStrike">
              <a:solidFill>
                <a:srgbClr val="000000"/>
              </a:solidFill>
              <a:latin typeface="Times New Roman"/>
            </a:endParaRPr>
          </a:p>
        </p:txBody>
      </p:sp>
      <p:sp>
        <p:nvSpPr>
          <p:cNvPr id="162"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 Types of Light Waves</a:t>
            </a:r>
            <a:endParaRPr b="0" lang="en-US" sz="4400" spc="-1" strike="noStrike">
              <a:solidFill>
                <a:srgbClr val="000000"/>
              </a:solidFill>
              <a:latin typeface="Times New Roman"/>
            </a:endParaRPr>
          </a:p>
        </p:txBody>
      </p:sp>
      <p:sp>
        <p:nvSpPr>
          <p:cNvPr id="1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quency</a:t>
            </a:r>
            <a:endParaRPr b="0" lang="en-US" sz="4400" spc="-1" strike="noStrike">
              <a:solidFill>
                <a:srgbClr val="000000"/>
              </a:solidFill>
              <a:latin typeface="Times New Roman"/>
            </a:endParaRPr>
          </a:p>
        </p:txBody>
      </p:sp>
      <p:grpSp>
        <p:nvGrpSpPr>
          <p:cNvPr id="165" name=""/>
          <p:cNvGrpSpPr/>
          <p:nvPr/>
        </p:nvGrpSpPr>
        <p:grpSpPr>
          <a:xfrm>
            <a:off x="419040" y="3732120"/>
            <a:ext cx="4560480" cy="974520"/>
            <a:chOff x="419040" y="3732120"/>
            <a:chExt cx="4560480" cy="974520"/>
          </a:xfrm>
        </p:grpSpPr>
        <p:sp>
          <p:nvSpPr>
            <p:cNvPr id="166" name=""/>
            <p:cNvSpPr/>
            <p:nvPr/>
          </p:nvSpPr>
          <p:spPr>
            <a:xfrm>
              <a:off x="419040" y="4143240"/>
              <a:ext cx="397080" cy="524160"/>
            </a:xfrm>
            <a:custGeom>
              <a:avLst/>
              <a:gdLst/>
              <a:ahLst/>
              <a:rect l="l" t="t" r="r" b="b"/>
              <a:pathLst>
                <a:path w="250" h="330">
                  <a:moveTo>
                    <a:pt x="250" y="0"/>
                  </a:moveTo>
                  <a:cubicBezTo>
                    <a:pt x="208" y="55"/>
                    <a:pt x="52" y="261"/>
                    <a:pt x="0" y="33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16040" y="3732120"/>
              <a:ext cx="1146240" cy="55404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10800000">
              <a:off x="1763640" y="4132440"/>
              <a:ext cx="1146240" cy="55224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779920" y="3754440"/>
              <a:ext cx="1145880" cy="55404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rot="10800000">
              <a:off x="3833640" y="4154040"/>
              <a:ext cx="1145880" cy="55260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482760" y="1952640"/>
            <a:ext cx="4425480" cy="1320480"/>
            <a:chOff x="482760" y="1952640"/>
            <a:chExt cx="4425480" cy="1320480"/>
          </a:xfrm>
        </p:grpSpPr>
        <p:sp>
          <p:nvSpPr>
            <p:cNvPr id="172" name=""/>
            <p:cNvSpPr/>
            <p:nvPr/>
          </p:nvSpPr>
          <p:spPr>
            <a:xfrm>
              <a:off x="482760" y="1952640"/>
              <a:ext cx="2482920" cy="1241280"/>
            </a:xfrm>
            <a:custGeom>
              <a:avLst/>
              <a:gdLst/>
              <a:ahLst/>
              <a:rect l="l" t="t" r="r" b="b"/>
              <a:pathLst>
                <a:path w="1564" h="782">
                  <a:moveTo>
                    <a:pt x="0" y="782"/>
                  </a:moveTo>
                  <a:cubicBezTo>
                    <a:pt x="152" y="661"/>
                    <a:pt x="651" y="100"/>
                    <a:pt x="912" y="50"/>
                  </a:cubicBezTo>
                  <a:cubicBezTo>
                    <a:pt x="1173" y="0"/>
                    <a:pt x="1457" y="412"/>
                    <a:pt x="1564" y="484"/>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rot="10800000">
              <a:off x="2796840" y="2549160"/>
              <a:ext cx="2111400" cy="7239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5479920" y="2629080"/>
            <a:ext cx="285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Frequency</a:t>
            </a:r>
            <a:endParaRPr b="0" lang="en-US" sz="2800" spc="-1" strike="noStrike">
              <a:solidFill>
                <a:srgbClr val="000000"/>
              </a:solidFill>
              <a:latin typeface="Arial"/>
            </a:endParaRPr>
          </a:p>
        </p:txBody>
      </p:sp>
      <p:sp>
        <p:nvSpPr>
          <p:cNvPr id="175" name=""/>
          <p:cNvSpPr/>
          <p:nvPr/>
        </p:nvSpPr>
        <p:spPr>
          <a:xfrm>
            <a:off x="5500800" y="4148280"/>
            <a:ext cx="3171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um Frequenc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76" name=""/>
          <p:cNvGrpSpPr/>
          <p:nvPr/>
        </p:nvGrpSpPr>
        <p:grpSpPr>
          <a:xfrm>
            <a:off x="365040" y="5407200"/>
            <a:ext cx="4576320" cy="996480"/>
            <a:chOff x="365040" y="5407200"/>
            <a:chExt cx="4576320" cy="996480"/>
          </a:xfrm>
        </p:grpSpPr>
        <p:sp>
          <p:nvSpPr>
            <p:cNvPr id="177" name=""/>
            <p:cNvSpPr/>
            <p:nvPr/>
          </p:nvSpPr>
          <p:spPr>
            <a:xfrm>
              <a:off x="365040" y="5407200"/>
              <a:ext cx="622080" cy="55872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rot="10800000">
              <a:off x="937800" y="5810040"/>
              <a:ext cx="620640" cy="560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487160" y="5429160"/>
              <a:ext cx="622080" cy="5583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rot="10800000">
              <a:off x="2058480" y="5832360"/>
              <a:ext cx="621720" cy="560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628720" y="5418000"/>
              <a:ext cx="620280" cy="560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rot="10800000">
              <a:off x="3196800" y="5822640"/>
              <a:ext cx="620640" cy="5583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747960" y="5440320"/>
              <a:ext cx="620280" cy="56016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rot="10800000">
              <a:off x="4319280" y="5844960"/>
              <a:ext cx="622080" cy="558720"/>
            </a:xfrm>
            <a:custGeom>
              <a:avLst/>
              <a:gdLst/>
              <a:ahLst/>
              <a:rect l="l" t="t" r="r" b="b"/>
              <a:pathLst>
                <a:path w="1436" h="856">
                  <a:moveTo>
                    <a:pt x="0" y="856"/>
                  </a:moveTo>
                  <a:cubicBezTo>
                    <a:pt x="246" y="434"/>
                    <a:pt x="493" y="12"/>
                    <a:pt x="732" y="6"/>
                  </a:cubicBezTo>
                  <a:cubicBezTo>
                    <a:pt x="971" y="0"/>
                    <a:pt x="1320" y="686"/>
                    <a:pt x="1436" y="820"/>
                  </a:cubicBezTo>
                </a:path>
              </a:pathLst>
            </a:custGeom>
            <a:noFill/>
            <a:ln w="7632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a:off x="5477040" y="5599080"/>
            <a:ext cx="2727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Frequenc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
          <p:cNvSpPr/>
          <p:nvPr/>
        </p:nvSpPr>
        <p:spPr>
          <a:xfrm>
            <a:off x="1295280" y="3733920"/>
            <a:ext cx="20764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590840" y="3191040"/>
            <a:ext cx="148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length</a:t>
            </a:r>
            <a:endParaRPr b="0" lang="en-US" sz="1800" spc="-1" strike="noStrike">
              <a:solidFill>
                <a:srgbClr val="000000"/>
              </a:solidFill>
              <a:latin typeface="Arial"/>
            </a:endParaRPr>
          </a:p>
        </p:txBody>
      </p:sp>
      <p:sp>
        <p:nvSpPr>
          <p:cNvPr id="188" name=""/>
          <p:cNvSpPr/>
          <p:nvPr/>
        </p:nvSpPr>
        <p:spPr>
          <a:xfrm>
            <a:off x="3371760" y="3733920"/>
            <a:ext cx="0" cy="990360"/>
          </a:xfrm>
          <a:prstGeom prst="line">
            <a:avLst/>
          </a:prstGeom>
          <a:ln w="25560">
            <a:solidFill>
              <a:srgbClr val="000000"/>
            </a:solidFill>
            <a:miter/>
            <a:headEnd len="med" type="triangle"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448080" y="4791240"/>
            <a:ext cx="12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tude</a:t>
            </a:r>
            <a:endParaRPr b="0" lang="en-US" sz="1800" spc="-1" strike="noStrike">
              <a:solidFill>
                <a:srgbClr val="000000"/>
              </a:solidFill>
              <a:latin typeface="Arial"/>
            </a:endParaRPr>
          </a:p>
        </p:txBody>
      </p:sp>
      <p:sp>
        <p:nvSpPr>
          <p:cNvPr id="1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4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1"/>
                                        </p:tgtEl>
                                        <p:attrNameLst>
                                          <p:attrName>style.visibility</p:attrName>
                                        </p:attrNameLst>
                                      </p:cBhvr>
                                      <p:to>
                                        <p:strVal val="visible"/>
                                      </p:to>
                                    </p:set>
                                    <p:animEffect filter="wipe(left)" transition="in">
                                      <p:cBhvr additive="repl">
                                        <p:cTn id="7" dur="2000"/>
                                        <p:tgtEl>
                                          <p:spTgt spid="171"/>
                                        </p:tgtEl>
                                      </p:cBhvr>
                                    </p:animEffect>
                                  </p:childTnLst>
                                </p:cTn>
                              </p:par>
                              <p:par>
                                <p:cTn id="8" nodeType="withEffect" fill="hold" presetClass="entr" presetID="10">
                                  <p:stCondLst>
                                    <p:cond delay="0"/>
                                  </p:stCondLst>
                                  <p:childTnLst>
                                    <p:set>
                                      <p:cBhvr>
                                        <p:cTn id="9" dur="1" fill="hold">
                                          <p:stCondLst>
                                            <p:cond delay="0"/>
                                          </p:stCondLst>
                                        </p:cTn>
                                        <p:tgtEl>
                                          <p:spTgt spid="174"/>
                                        </p:tgtEl>
                                        <p:attrNameLst>
                                          <p:attrName>style.visibility</p:attrName>
                                        </p:attrNameLst>
                                      </p:cBhvr>
                                      <p:to>
                                        <p:strVal val="visible"/>
                                      </p:to>
                                    </p:set>
                                    <p:animEffect filter="fade" transition="in">
                                      <p:cBhvr additive="repl">
                                        <p:cTn id="10" dur="1000"/>
                                        <p:tgtEl>
                                          <p:spTgt spid="17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65"/>
                                        </p:tgtEl>
                                        <p:attrNameLst>
                                          <p:attrName>style.visibility</p:attrName>
                                        </p:attrNameLst>
                                      </p:cBhvr>
                                      <p:to>
                                        <p:strVal val="visible"/>
                                      </p:to>
                                    </p:set>
                                    <p:animEffect filter="wipe(left)" transition="in">
                                      <p:cBhvr additive="repl">
                                        <p:cTn id="15" dur="2000"/>
                                        <p:tgtEl>
                                          <p:spTgt spid="165"/>
                                        </p:tgtEl>
                                      </p:cBhvr>
                                    </p:animEffect>
                                  </p:childTnLst>
                                </p:cTn>
                              </p:par>
                              <p:par>
                                <p:cTn id="16" nodeType="withEffect" fill="hold" presetClass="entr" presetID="10">
                                  <p:stCondLst>
                                    <p:cond delay="0"/>
                                  </p:stCondLst>
                                  <p:childTnLst>
                                    <p:set>
                                      <p:cBhvr>
                                        <p:cTn id="17" dur="1" fill="hold">
                                          <p:stCondLst>
                                            <p:cond delay="0"/>
                                          </p:stCondLst>
                                        </p:cTn>
                                        <p:tgtEl>
                                          <p:spTgt spid="175"/>
                                        </p:tgtEl>
                                        <p:attrNameLst>
                                          <p:attrName>style.visibility</p:attrName>
                                        </p:attrNameLst>
                                      </p:cBhvr>
                                      <p:to>
                                        <p:strVal val="visible"/>
                                      </p:to>
                                    </p:set>
                                    <p:animEffect filter="fade" transition="in">
                                      <p:cBhvr additive="repl">
                                        <p:cTn id="18" dur="1000"/>
                                        <p:tgtEl>
                                          <p:spTgt spid="17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76"/>
                                        </p:tgtEl>
                                        <p:attrNameLst>
                                          <p:attrName>style.visibility</p:attrName>
                                        </p:attrNameLst>
                                      </p:cBhvr>
                                      <p:to>
                                        <p:strVal val="visible"/>
                                      </p:to>
                                    </p:set>
                                    <p:animEffect filter="wipe(left)" transition="in">
                                      <p:cBhvr additive="repl">
                                        <p:cTn id="23" dur="2000"/>
                                        <p:tgtEl>
                                          <p:spTgt spid="176"/>
                                        </p:tgtEl>
                                      </p:cBhvr>
                                    </p:animEffect>
                                  </p:childTnLst>
                                </p:cTn>
                              </p:par>
                              <p:par>
                                <p:cTn id="24" nodeType="withEffect" fill="hold" presetClass="entr" presetID="10">
                                  <p:stCondLst>
                                    <p:cond delay="0"/>
                                  </p:stCondLst>
                                  <p:childTnLst>
                                    <p:set>
                                      <p:cBhvr>
                                        <p:cTn id="25" dur="1" fill="hold">
                                          <p:stCondLst>
                                            <p:cond delay="0"/>
                                          </p:stCondLst>
                                        </p:cTn>
                                        <p:tgtEl>
                                          <p:spTgt spid="185"/>
                                        </p:tgtEl>
                                        <p:attrNameLst>
                                          <p:attrName>style.visibility</p:attrName>
                                        </p:attrNameLst>
                                      </p:cBhvr>
                                      <p:to>
                                        <p:strVal val="visible"/>
                                      </p:to>
                                    </p:set>
                                    <p:animEffect filter="fade" transition="in">
                                      <p:cBhvr additive="repl">
                                        <p:cTn id="26" dur="1000"/>
                                        <p:tgtEl>
                                          <p:spTgt spid="18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8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8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Texas A&amp;M Veterinary Medicine</cp:lastModifiedBy>
  <dcterms:modified xsi:type="dcterms:W3CDTF">2007-10-02T21:28:33Z</dcterms:modified>
  <cp:revision>16</cp:revision>
  <dc:subject/>
  <dc:title>Slide 1</dc:title>
</cp:coreProperties>
</file>