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04C31-3EC7-41E2-A27E-A066180869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50E1-D715-463C-8135-B9F5AFF63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76FD-3328-4221-B7B1-12E28ECEA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E748-E7C2-4787-B548-F65FD48A1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A708-CA3B-42E7-A4EA-003FC5E23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568E-9BF3-437B-A61E-1A50950AB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04D8-079D-48DF-887F-0E635FFAF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F21E-95D4-448E-8021-8AF403665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FACB-9115-457E-8388-9F60D8069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9852-6339-45C8-95C5-474CA1958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6DED-46A2-4228-A50E-FFD27D1C3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3A09-D4B1-4D22-A3D4-B31C09A0C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548D-BD3D-48F0-9E07-14048D2F8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67CAD-8671-4601-B38B-4B0E2DD8C9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1519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ength Convers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ches per Centime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centimeter = 0.394 inch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eet per Me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meter = 3.28 feet = 1.09 yard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iles per kilome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mile = 1.6 kilomete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28:42Z</dcterms:created>
  <dc:creator>ITWorkstation</dc:creator>
  <dc:description/>
  <dc:language>en-US</dc:language>
  <cp:lastModifiedBy>Texas A&amp;M Veterinary Medicine</cp:lastModifiedBy>
  <dcterms:modified xsi:type="dcterms:W3CDTF">2004-10-28T19:23:48Z</dcterms:modified>
  <cp:revision>8</cp:revision>
  <dc:subject/>
  <dc:title>Length Conversions</dc:title>
</cp:coreProperties>
</file>