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20.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4.wmf" ContentType="image/x-wmf"/>
  <Override PartName="/ppt/media/image10.png" ContentType="image/png"/>
  <Override PartName="/ppt/media/image2.png" ContentType="image/png"/>
  <Override PartName="/ppt/media/image9.jpeg" ContentType="image/jpeg"/>
  <Override PartName="/ppt/media/image15.jpeg" ContentType="image/jpeg"/>
  <Override PartName="/ppt/media/image3.wmf" ContentType="image/x-wmf"/>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9D16-081C-4D11-BA5E-E4519C860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9BB3-30BD-4D11-8733-45B639255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387D-469A-4C27-9BEA-F1DA6476F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can be used to hint at the possible problem with the air.  Star Weaver complained that the English were burning dead bodies north of the village. The wind blew the smoke from the funeral pyres into the village. Fire itself did not cause sickness, because Indians used campfires long before the English came and the Indians did not get sick until after the English came. Thus, the sickness came from an infectious microbe. If the heat of the fire did not destroy the microbe that caused the fatal disease, then it could possibly be carried in the air to the village.  However, remember that no one in the village was sick before Dark Cloud came.  Star Weaver did not indicate whether she saw the dead being burned, either before or after Dark Cloud came, but that is not important.  If the smoke for the funeral pyres was the disease transmitter, then the people in the village would have become sick before Dark Cloud did.  Also, Dark Cloud would not have been the only man out of the powwow to become sick.  The next slide also gives another support against the air as being the possible cau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he disease could have traveled in the air is through respiratory droplets from the sick Englishman who gave Dark Cloud the blankets.  Dark Cloud did not indicate that the man coughed or sneezed on/near him, but Star Weaver did remember him saying that the Englishman looked sick.  With this support, air could be the source of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ing dead bodies village smoke funeral pyres Indians campfires infectious microbe fatal disease air disease transmitt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FB0A-BF13-453E-998B-37CEF2BBA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ape tribe headed south.  If the smoke, blowing from North to South, were the problem, then these people would have also contracted the disease.  The story did not mention anything about the people at the Delaware getting sick.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 dead forest village Lenape tri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163C-940C-4D12-A9AB-54E9A3F2D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mentioned that Dark Cloud had said he thought the Englishman who gave him the blankets looked sick.  If the disease-causing microbes were not killed in the burning, then the disease could have spread through the smok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to tell the students to help them figure it all ou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iruses, except prion agents, are inactivated if burned at or above 249</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bacteria can survive large variations in temperature.  For example, the Anthrax bacterium can live through extreme temperatur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olest fire burns at 350°F, but usually, fires burn at a much higher temperature. </a:t>
            </a:r>
            <a:r>
              <a:rPr b="0" lang="en-US" sz="1200" spc="-1" strike="noStrike">
                <a:solidFill>
                  <a:srgbClr val="000000"/>
                </a:solidFill>
                <a:latin typeface="Arial"/>
              </a:rPr>
              <a:t>If the microbe was a virus, it would most likely be killed from burning.  Some bacteria, however, can even outlive a good fi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man disease-causing microbes investig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4FBC-2397-4E32-8853-1948CA095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mentioned that Dark Cloud had received blankets from an Englishman who he thought was sick.  Dark Cloud was the first person in the story to get sick.  The sickness then spread throughout the tribe.  The story does not mention anything about anyone in the powwow group getting sick.  Dark Cloud could have possibly shaken hands with the Englishman as a sign of peace.  Also, the microbe could have contaminated the blankets.  Contamination of the blankets would be a quick way for the microbe to infect a large number of peop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eases skin contact blankets Englishman sickness tribe microbe contamination infect formulate hypothes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3A99-021E-4D5C-AB55-23BBEE09F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othesi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hypothesis, try to get the students to form an educated guess about how the disease spread.  Was it via the air, water, food, blankets, sick Englishman, or more than one of these?  For the second hypothesis, try to get the students to form an educated guess about what type of disease caused the sickness.  For example, whether it is a relative of one of the diseases talked about, bacteria or virus, or maybe get them to reiterate the symptoms that the microbe must cause during its infectious lifecyc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the hypothesis, the students need more information.  They need to test the water, air, food, blankets, and/or the sick Englishman.  They could test Star Weaver or Little Turtle for possible viruses or bacteria found in the pocks on their skin.  They also need to research the symptoms of the disease and find out which bacteria or virons cause those symptoms.  With this information, they could rule out lots of diseases based upon what was described in the story.  This might be a good exercise to do in the cla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y: Under adult supervision, have students log onto the Internet, go to a search engine like Google.com, enter the symptoms and see what diseases pop up.  The students can also go to medlineplus.gov and enter in their search terms in the box at the top of the page.  Important search terms include: fever, malaise, scabs, pocks, and rash.  More than one search term should be used simultaneously, separated by a spa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disease experimental design water air food blanket Englishman viruses bacteria pocks sk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0852-596F-423F-BB99-2C1DDFF8F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ossibilities and are not limited by what is listed below: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those who were si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 their hands frequently and after touching another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cloth over their nose and mouth to prevent inhalation of respiratory droplets from an infected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contact with the infected person’s things and burn them if necessar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wary of the English and not accept items from sick peop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prevention quarantine respirato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67D3-6AF3-4CFB-8634-F2A91B8D5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63EE-A8FF-4B96-8508-581EE8458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troduces the problem to be solved. The problem is not to guess what the disease is, but rather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e the symptoms to similar diseases that the students may already know abou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why the disease seems to be more of a problem Native American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duce how the disease is being spr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 and Jace first saw Star Weaver, Red Arrow’s mother.  She had pock-marked skin from blisters on her face that had healed.  Little Turtle looked fine except she had one scab on her cheek that was almost healed.  When Star Weaver explained the chain of events, she described Dark Cloud as being “too tired to travel.”  He also contracted a fever and an ugly red rash.  He later died from the sickness.  When Jace approached the longhouse, he could smell a “putrid o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Little Turtle, and Dark Cloud were all sick, but not to the same degree.  The story also mentioned that Dark Cloud thought the man who handed him the blankets was sick.  In addition, Star Weaver talks about the English carrying their dead into the woods to be b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of the sickness include: malaise, fever, a red rash that covered Dark Cloud’s body but only barely touched Little Turtle, and scars from where the rash was on those who lived through the disease.  Notice too, that when Star Weaver had healed, there were no scabs left on her, just sc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ildren today get diseases that have a rash.  You might want to talk to the children about measles and chicken pox and how those diseases are different from what is in the story.  The big difference is that smallpox kills people – lot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th problems symptoms native American India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98A8-04BE-48BE-86CD-39AA3E59E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lace to confirm that we are probably dealing with some kind of infection. Answers to the questions in the slide involve differential immunity.  Most of the Englishmen were immune, because they had been exposed back in their home country and the survivors, now in America, were able to throw off the infection. Indians, however, had never been exposed to the infection, and had no chance to develop any immunity.  Thus, their entire population was highly vuln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the biology of immunity, see our Web-site instruction, at http://peer.tamu.edu/curriculum_modules/OrganSystems/Module_1/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 immunity Englishmen American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49F1-0953-4687-861C-AEAB60229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auses of the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water in the Monongahel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food, such as deer me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air--The English were burning their dead in the forest north of the village and the wind blew to the south.</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could have contracted it from the sick Englishman who gave him the blanket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lankets could have been contaminated.</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hypothesis sickness Lenape tribe native Americans scientific method c</a:t>
            </a:r>
            <a:r>
              <a:rPr b="0" lang="en-US" sz="1200" spc="-1" strike="noStrike">
                <a:solidFill>
                  <a:srgbClr val="000000"/>
                </a:solidFill>
                <a:latin typeface="Arial"/>
              </a:rPr>
              <a:t>ontaminated water contaminated food contaminated ai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E0D2-ED92-4A66-9AD8-BF2C777EE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ickness kills a lot of people, but some live through the disease and some are barely affected by i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e general symptoms from the previous slide.</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the English and the Lenape tribe are suffering from a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took two weeks from the time Dark Cloud was given the blankets to when he died.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first became tired, then contracted a fever that lasted two days, and then a rash formed all over his bod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Don’t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sickness i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t was transmitt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t is the same sickness as the one that the English ha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e Ne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brains and the story</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forms of disease transmission and different types of disease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disease transmission investigations Lenape tribe rash English fever experimental desig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07F2-A2B4-4AE8-B049-C89A7A770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the students to think logically about the possibility that the water was contaminated.  If the water was contaminated then the other people of the Lenape tribe who went on the mission would have also become sick, since they would most likely have consumed water from the same source.  Also, the river flows from North to South.  The powwow would have been south of the Lenape village, closer to Fort Pitt, since the tribal chiefs were to meet with Ecuyer.  Therefore, the Lenape people, whose only water source is the Monongahela, would have most likely contracted the sickness first or at the same time as the English and Dark Cloud.  However, we know that the sickness moved with Dark Cloud from the south to the nor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nongahela River</a:t>
            </a:r>
            <a:r>
              <a:rPr b="1" lang="en-US" sz="1200" spc="-1" strike="noStrike">
                <a:solidFill>
                  <a:srgbClr val="000000"/>
                </a:solidFill>
                <a:latin typeface="Arial"/>
              </a:rPr>
              <a:t> </a:t>
            </a:r>
            <a:r>
              <a:rPr b="0" lang="en-US" sz="1200" spc="-1" strike="noStrike">
                <a:solidFill>
                  <a:srgbClr val="000000"/>
                </a:solidFill>
                <a:latin typeface="Arial"/>
              </a:rPr>
              <a:t>Allegheny River Ohio River Lenape tribe disease transmission water contamination Lenape village Fort Pitt tribal chiefs Ecuyer Englis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A721-49D0-4067-B461-106C1BBAC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cally contaminated water is the leading cause of diarrhea.  All types of infectious agents, from the smallest virus to a large parasite, can contaminate water sources.  There are many water-borne pathogens that cause illness with varying symptoms, however, most have diarrhea or abdominal discomfort as a symptom.  None of the sick people in the story complained of these symptoms.  This adds to the evidence against contaminated water as the possible disease sour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ecal contaminated water diarrhea abdominal discomfort symptoms microbe sewage system water treatment plants purify drinking wat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658B-8737-4DFF-B692-AF0CF2C27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barely mentioned in the story, but many illnesses can come from contaminated foods.  There are some diseases, known as zoonotic diseases, that can be transferred from an animal to a human.  The only food the story mentioned is deer meat.  There is no indication that the sickness came from the tribe’s food 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ibe’s food source was the problem, then the people of the tribe would have become sick before Dark Cloud did.  If the powwow party’s food source was the problem, then Dark Cloud would not have been the only one who became sick.  The story indicates that Dark Cloud would not have been the oldest or the most immunocompromised out of the powwow group.  Even if he were the only one to catch the disease, it would not have spread to a large number of people in the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enape tribe diet food source sickness contaminated foods zoonotic disease deer meat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41F4C-D63C-4A75-B94D-07DAF0168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E92C-C457-4D8E-B613-392525E5D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2765E-C4AC-4E11-B8E1-D6AB04FC7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18F70-13DE-405D-9DB2-3F52239B5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EC5A-F1BB-48D9-8707-C82AA6D3C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0A89F-45D0-45C9-9A37-A31F14AB3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3A39-D2B5-43BF-9216-09C7424A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B4CB-3BC9-40AF-941D-6BF78C780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5D8B7-ED67-4528-A6F1-27AF97DD2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CDA7-3520-444F-A50A-A108D9E2C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BF7F2-8689-41FE-B474-B5A236E56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9B61-5F0B-4CBB-AD5E-7450AE0D1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5B54-FCFF-4EEF-99AF-43024576B4FC}"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Appendices/Science.ppt"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oleObject" Target="../embeddings/oleObject1.bin"/><Relationship Id="rId7" Type="http://schemas.openxmlformats.org/officeDocument/2006/relationships/image" Target="../media/image20.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air"/>
          <p:cNvPicPr/>
          <p:nvPr/>
        </p:nvPicPr>
        <p:blipFill>
          <a:blip r:embed="rId1"/>
          <a:stretch/>
        </p:blipFill>
        <p:spPr>
          <a:xfrm>
            <a:off x="685800" y="2286000"/>
            <a:ext cx="3286080" cy="2924280"/>
          </a:xfrm>
          <a:prstGeom prst="rect">
            <a:avLst/>
          </a:prstGeom>
          <a:ln w="0">
            <a:noFill/>
          </a:ln>
        </p:spPr>
      </p:pic>
      <p:sp>
        <p:nvSpPr>
          <p:cNvPr id="96"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97" name="PlaceHolder 2"/>
          <p:cNvSpPr>
            <a:spLocks noGrp="1"/>
          </p:cNvSpPr>
          <p:nvPr>
            <p:ph/>
          </p:nvPr>
        </p:nvSpPr>
        <p:spPr>
          <a:xfrm>
            <a:off x="4460400" y="1785960"/>
            <a:ext cx="3930840" cy="374184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and toxins can be spread through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talk about anything that entered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is be a possible source of the sickness?  Why or why not?</a:t>
            </a:r>
            <a:endParaRPr b="0" lang="en-US" sz="2800" spc="-1" strike="noStrike">
              <a:solidFill>
                <a:srgbClr val="000000"/>
              </a:solidFill>
              <a:latin typeface="Times New Roman"/>
            </a:endParaRPr>
          </a:p>
        </p:txBody>
      </p:sp>
      <p:sp>
        <p:nvSpPr>
          <p:cNvPr id="9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the air?</a:t>
            </a:r>
            <a:endParaRPr b="0" lang="en-US" sz="4400" spc="-1" strike="noStrike">
              <a:solidFill>
                <a:srgbClr val="000000"/>
              </a:solidFill>
              <a:latin typeface="Times New Roman"/>
            </a:endParaRPr>
          </a:p>
        </p:txBody>
      </p:sp>
      <p:pic>
        <p:nvPicPr>
          <p:cNvPr id="100" name="Picture 3" descr="Sioux Mountain Gathering"/>
          <p:cNvPicPr/>
          <p:nvPr/>
        </p:nvPicPr>
        <p:blipFill>
          <a:blip r:embed="rId1"/>
          <a:stretch/>
        </p:blipFill>
        <p:spPr>
          <a:xfrm>
            <a:off x="509760" y="1633680"/>
            <a:ext cx="3429000" cy="3008160"/>
          </a:xfrm>
          <a:prstGeom prst="rect">
            <a:avLst/>
          </a:prstGeom>
          <a:ln w="76320">
            <a:solidFill>
              <a:srgbClr val="545068"/>
            </a:solidFill>
            <a:miter/>
          </a:ln>
        </p:spPr>
      </p:pic>
      <p:sp>
        <p:nvSpPr>
          <p:cNvPr id="101" name="PlaceHolder 2"/>
          <p:cNvSpPr>
            <a:spLocks noGrp="1"/>
          </p:cNvSpPr>
          <p:nvPr>
            <p:ph/>
          </p:nvPr>
        </p:nvSpPr>
        <p:spPr>
          <a:xfrm>
            <a:off x="4311720" y="1509840"/>
            <a:ext cx="4378320" cy="449568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s mother said that the English burn their dead in the forest and the south winds blow the smoke into the villag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ck of the tribe stayed at the village but the rest of the tribe lef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id the Lenape tribe go?  Did the story talk about anyone getting sick there?</a:t>
            </a:r>
            <a:endParaRPr b="0" lang="en-US" sz="2800" spc="-1" strike="noStrike">
              <a:solidFill>
                <a:srgbClr val="000000"/>
              </a:solidFill>
              <a:latin typeface="Times New Roman"/>
            </a:endParaRPr>
          </a:p>
        </p:txBody>
      </p:sp>
      <p:sp>
        <p:nvSpPr>
          <p:cNvPr id="10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15600" y="1765440"/>
            <a:ext cx="794844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lish custom was to bury those who died.  However, when there was an epidemic or a very sick person, they would burn the dead bodies to prevent the disease from spreading.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any sickness among the English soldi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dies of any sick people were burned, then could the disease spread through the smoke?</a:t>
            </a:r>
            <a:endParaRPr b="0" lang="en-US" sz="2800" spc="-1" strike="noStrike">
              <a:solidFill>
                <a:srgbClr val="000000"/>
              </a:solidFill>
              <a:latin typeface="Times New Roman"/>
            </a:endParaRPr>
          </a:p>
        </p:txBody>
      </p:sp>
      <p:sp>
        <p:nvSpPr>
          <p:cNvPr id="104" name="PlaceHolder 2"/>
          <p:cNvSpPr>
            <a:spLocks noGrp="1"/>
          </p:cNvSpPr>
          <p:nvPr>
            <p:ph type="title"/>
          </p:nvPr>
        </p:nvSpPr>
        <p:spPr>
          <a:xfrm>
            <a:off x="200160" y="352080"/>
            <a:ext cx="87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English burn their dead?</a:t>
            </a:r>
            <a:endParaRPr b="0" lang="en-US" sz="4400" spc="-1" strike="noStrike">
              <a:solidFill>
                <a:srgbClr val="000000"/>
              </a:solidFill>
              <a:latin typeface="Times New Roman"/>
            </a:endParaRPr>
          </a:p>
        </p:txBody>
      </p:sp>
      <p:sp>
        <p:nvSpPr>
          <p:cNvPr id="105"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587480" y="2227680"/>
            <a:ext cx="3791520" cy="3241800"/>
            <a:chOff x="4587480" y="2227680"/>
            <a:chExt cx="3791520" cy="3241800"/>
          </a:xfrm>
        </p:grpSpPr>
        <p:sp>
          <p:nvSpPr>
            <p:cNvPr id="107" name="Freeform 3"/>
            <p:cNvSpPr/>
            <p:nvPr/>
          </p:nvSpPr>
          <p:spPr>
            <a:xfrm rot="700200">
              <a:off x="4820040" y="2531520"/>
              <a:ext cx="3276720" cy="263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
            <p:cNvSpPr/>
            <p:nvPr/>
          </p:nvSpPr>
          <p:spPr>
            <a:xfrm rot="700200">
              <a:off x="6058080" y="3046320"/>
              <a:ext cx="1350000" cy="83160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
            <p:cNvSpPr/>
            <p:nvPr/>
          </p:nvSpPr>
          <p:spPr>
            <a:xfrm rot="700200">
              <a:off x="5935320" y="3254760"/>
              <a:ext cx="1340280" cy="117936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
            <p:cNvSpPr/>
            <p:nvPr/>
          </p:nvSpPr>
          <p:spPr>
            <a:xfrm rot="700200">
              <a:off x="4807800" y="2826360"/>
              <a:ext cx="1066680" cy="2142000"/>
            </a:xfrm>
            <a:prstGeom prst="pie">
              <a:avLst/>
            </a:prstGeom>
            <a:solidFill>
              <a:srgbClr val="b2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7"/>
            <p:cNvSpPr/>
            <p:nvPr/>
          </p:nvSpPr>
          <p:spPr>
            <a:xfrm rot="700200">
              <a:off x="4733640" y="3555360"/>
              <a:ext cx="1066680" cy="1405800"/>
            </a:xfrm>
            <a:prstGeom prst="pie">
              <a:avLst/>
            </a:prstGeom>
            <a:solidFill>
              <a:srgbClr val="80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8"/>
            <p:cNvSpPr/>
            <p:nvPr/>
          </p:nvSpPr>
          <p:spPr>
            <a:xfrm rot="700200">
              <a:off x="5828400" y="4083840"/>
              <a:ext cx="120960" cy="200160"/>
            </a:xfrm>
            <a:prstGeom prst="pie">
              <a:avLst/>
            </a:prstGeom>
            <a:solidFill>
              <a:srgbClr val="4caf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9"/>
            <p:cNvSpPr/>
            <p:nvPr/>
          </p:nvSpPr>
          <p:spPr>
            <a:xfrm rot="700200">
              <a:off x="5817960" y="3283920"/>
              <a:ext cx="230400" cy="82728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0"/>
            <p:cNvSpPr/>
            <p:nvPr/>
          </p:nvSpPr>
          <p:spPr>
            <a:xfrm rot="700200">
              <a:off x="5337000" y="2993040"/>
              <a:ext cx="435240" cy="2365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
            <p:cNvSpPr/>
            <p:nvPr/>
          </p:nvSpPr>
          <p:spPr>
            <a:xfrm rot="700200">
              <a:off x="5116680" y="3476880"/>
              <a:ext cx="496080" cy="2667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2"/>
            <p:cNvSpPr/>
            <p:nvPr/>
          </p:nvSpPr>
          <p:spPr>
            <a:xfrm rot="700200">
              <a:off x="5103360" y="4051800"/>
              <a:ext cx="367200" cy="2768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3"/>
            <p:cNvSpPr/>
            <p:nvPr/>
          </p:nvSpPr>
          <p:spPr>
            <a:xfrm rot="700200">
              <a:off x="5408640" y="4407840"/>
              <a:ext cx="191160" cy="41652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4"/>
            <p:cNvSpPr/>
            <p:nvPr/>
          </p:nvSpPr>
          <p:spPr>
            <a:xfrm rot="700200">
              <a:off x="5698080" y="3168360"/>
              <a:ext cx="267480" cy="12373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5"/>
            <p:cNvSpPr/>
            <p:nvPr/>
          </p:nvSpPr>
          <p:spPr>
            <a:xfrm rot="700200">
              <a:off x="5448960" y="4179600"/>
              <a:ext cx="187200" cy="20628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6"/>
            <p:cNvSpPr/>
            <p:nvPr/>
          </p:nvSpPr>
          <p:spPr>
            <a:xfrm rot="700200">
              <a:off x="5486760" y="3313800"/>
              <a:ext cx="169920" cy="2001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7"/>
            <p:cNvSpPr/>
            <p:nvPr/>
          </p:nvSpPr>
          <p:spPr>
            <a:xfrm rot="700200">
              <a:off x="5397480" y="3802680"/>
              <a:ext cx="201600" cy="20628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8"/>
            <p:cNvSpPr/>
            <p:nvPr/>
          </p:nvSpPr>
          <p:spPr>
            <a:xfrm rot="700200">
              <a:off x="7215480" y="3926520"/>
              <a:ext cx="119160" cy="216360"/>
            </a:xfrm>
            <a:prstGeom prst="pie">
              <a:avLst/>
            </a:prstGeom>
            <a:solidFill>
              <a:srgbClr val="665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9"/>
            <p:cNvSpPr/>
            <p:nvPr/>
          </p:nvSpPr>
          <p:spPr>
            <a:xfrm rot="700200">
              <a:off x="7167960" y="2821320"/>
              <a:ext cx="975240" cy="1933200"/>
            </a:xfrm>
            <a:prstGeom prst="pie">
              <a:avLst/>
            </a:prstGeom>
            <a:solidFill>
              <a:srgbClr val="e0d4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0"/>
            <p:cNvSpPr/>
            <p:nvPr/>
          </p:nvSpPr>
          <p:spPr>
            <a:xfrm rot="700200">
              <a:off x="7390080" y="2875320"/>
              <a:ext cx="482400" cy="32328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1"/>
            <p:cNvSpPr/>
            <p:nvPr/>
          </p:nvSpPr>
          <p:spPr>
            <a:xfrm rot="700200">
              <a:off x="7509600" y="3324960"/>
              <a:ext cx="457200" cy="28692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2"/>
            <p:cNvSpPr/>
            <p:nvPr/>
          </p:nvSpPr>
          <p:spPr>
            <a:xfrm rot="700200">
              <a:off x="7608600" y="3712680"/>
              <a:ext cx="367200" cy="3621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23"/>
            <p:cNvSpPr/>
            <p:nvPr/>
          </p:nvSpPr>
          <p:spPr>
            <a:xfrm rot="700200">
              <a:off x="7506000" y="4165920"/>
              <a:ext cx="232560" cy="47340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4"/>
            <p:cNvSpPr/>
            <p:nvPr/>
          </p:nvSpPr>
          <p:spPr>
            <a:xfrm rot="700200">
              <a:off x="7073640" y="3073320"/>
              <a:ext cx="488520" cy="11163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rot="700200">
              <a:off x="5116680" y="3562920"/>
              <a:ext cx="461160" cy="16956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rot="700200">
              <a:off x="5382000" y="3799080"/>
              <a:ext cx="193320" cy="2102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rot="700200">
              <a:off x="6043680" y="3261960"/>
              <a:ext cx="109440" cy="18144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8"/>
            <p:cNvSpPr/>
            <p:nvPr/>
          </p:nvSpPr>
          <p:spPr>
            <a:xfrm rot="700200">
              <a:off x="5972760" y="3511800"/>
              <a:ext cx="115200" cy="1393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9"/>
            <p:cNvSpPr/>
            <p:nvPr/>
          </p:nvSpPr>
          <p:spPr>
            <a:xfrm rot="700200">
              <a:off x="5895720" y="3726360"/>
              <a:ext cx="288720" cy="3214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0"/>
            <p:cNvSpPr/>
            <p:nvPr/>
          </p:nvSpPr>
          <p:spPr>
            <a:xfrm rot="700200">
              <a:off x="6204600" y="3162240"/>
              <a:ext cx="474840" cy="4852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31"/>
            <p:cNvSpPr/>
            <p:nvPr/>
          </p:nvSpPr>
          <p:spPr>
            <a:xfrm rot="700200">
              <a:off x="6116400" y="3809160"/>
              <a:ext cx="1078200" cy="6469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32"/>
            <p:cNvSpPr/>
            <p:nvPr/>
          </p:nvSpPr>
          <p:spPr>
            <a:xfrm rot="700200">
              <a:off x="6746400" y="3116520"/>
              <a:ext cx="659880" cy="7426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33"/>
            <p:cNvSpPr/>
            <p:nvPr/>
          </p:nvSpPr>
          <p:spPr>
            <a:xfrm rot="700200">
              <a:off x="6627960" y="3486960"/>
              <a:ext cx="214560" cy="26676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34"/>
            <p:cNvSpPr/>
            <p:nvPr/>
          </p:nvSpPr>
          <p:spPr>
            <a:xfrm rot="700200">
              <a:off x="6159240" y="3781080"/>
              <a:ext cx="1443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35"/>
            <p:cNvSpPr/>
            <p:nvPr/>
          </p:nvSpPr>
          <p:spPr>
            <a:xfrm rot="700200">
              <a:off x="6513480" y="3880440"/>
              <a:ext cx="1407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6"/>
            <p:cNvSpPr/>
            <p:nvPr/>
          </p:nvSpPr>
          <p:spPr>
            <a:xfrm rot="700200">
              <a:off x="6206760" y="3218760"/>
              <a:ext cx="124920" cy="19800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7"/>
            <p:cNvSpPr/>
            <p:nvPr/>
          </p:nvSpPr>
          <p:spPr>
            <a:xfrm rot="700200">
              <a:off x="5971680" y="3902760"/>
              <a:ext cx="451440" cy="46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8"/>
            <p:cNvSpPr/>
            <p:nvPr/>
          </p:nvSpPr>
          <p:spPr>
            <a:xfrm rot="700200">
              <a:off x="5064840" y="2820240"/>
              <a:ext cx="978480" cy="68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9"/>
            <p:cNvSpPr/>
            <p:nvPr/>
          </p:nvSpPr>
          <p:spPr>
            <a:xfrm rot="700200">
              <a:off x="4811040" y="3224160"/>
              <a:ext cx="853560" cy="75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40"/>
            <p:cNvSpPr/>
            <p:nvPr/>
          </p:nvSpPr>
          <p:spPr>
            <a:xfrm rot="700200">
              <a:off x="4861800" y="3719160"/>
              <a:ext cx="808920" cy="89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41"/>
            <p:cNvSpPr/>
            <p:nvPr/>
          </p:nvSpPr>
          <p:spPr>
            <a:xfrm rot="700200">
              <a:off x="5388120" y="3144600"/>
              <a:ext cx="586080" cy="194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42"/>
            <p:cNvSpPr/>
            <p:nvPr/>
          </p:nvSpPr>
          <p:spPr>
            <a:xfrm rot="700200">
              <a:off x="5886000" y="3169800"/>
              <a:ext cx="21312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43"/>
            <p:cNvSpPr/>
            <p:nvPr/>
          </p:nvSpPr>
          <p:spPr>
            <a:xfrm rot="700200">
              <a:off x="6183720" y="2967840"/>
              <a:ext cx="897120" cy="649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4"/>
            <p:cNvSpPr/>
            <p:nvPr/>
          </p:nvSpPr>
          <p:spPr>
            <a:xfrm rot="700200">
              <a:off x="6150960" y="2957040"/>
              <a:ext cx="3884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45"/>
            <p:cNvSpPr/>
            <p:nvPr/>
          </p:nvSpPr>
          <p:spPr>
            <a:xfrm rot="700200">
              <a:off x="6589440" y="3323160"/>
              <a:ext cx="718920" cy="92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46"/>
            <p:cNvSpPr/>
            <p:nvPr/>
          </p:nvSpPr>
          <p:spPr>
            <a:xfrm rot="700200">
              <a:off x="6442200" y="3815640"/>
              <a:ext cx="500040" cy="55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47"/>
            <p:cNvSpPr/>
            <p:nvPr/>
          </p:nvSpPr>
          <p:spPr>
            <a:xfrm rot="700200">
              <a:off x="6078960" y="3726000"/>
              <a:ext cx="568440" cy="60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48"/>
            <p:cNvSpPr/>
            <p:nvPr/>
          </p:nvSpPr>
          <p:spPr>
            <a:xfrm rot="700200">
              <a:off x="6952680" y="3512160"/>
              <a:ext cx="22032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49"/>
            <p:cNvSpPr/>
            <p:nvPr/>
          </p:nvSpPr>
          <p:spPr>
            <a:xfrm rot="700200">
              <a:off x="6918120" y="2710440"/>
              <a:ext cx="1263960" cy="207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50"/>
            <p:cNvSpPr/>
            <p:nvPr/>
          </p:nvSpPr>
          <p:spPr>
            <a:xfrm rot="700200">
              <a:off x="7051680" y="3127320"/>
              <a:ext cx="384480" cy="103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1"/>
            <p:cNvSpPr/>
            <p:nvPr/>
          </p:nvSpPr>
          <p:spPr>
            <a:xfrm rot="700200">
              <a:off x="7394760" y="2845440"/>
              <a:ext cx="54144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52"/>
            <p:cNvSpPr/>
            <p:nvPr/>
          </p:nvSpPr>
          <p:spPr>
            <a:xfrm rot="700200">
              <a:off x="7619400" y="3332520"/>
              <a:ext cx="41184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53"/>
            <p:cNvSpPr/>
            <p:nvPr/>
          </p:nvSpPr>
          <p:spPr>
            <a:xfrm rot="700200">
              <a:off x="7620840" y="3720600"/>
              <a:ext cx="410040" cy="42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54"/>
            <p:cNvSpPr/>
            <p:nvPr/>
          </p:nvSpPr>
          <p:spPr>
            <a:xfrm rot="700200">
              <a:off x="5027400" y="4020480"/>
              <a:ext cx="407880" cy="36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55"/>
            <p:cNvSpPr/>
            <p:nvPr/>
          </p:nvSpPr>
          <p:spPr>
            <a:xfrm rot="700200">
              <a:off x="5034960" y="3421440"/>
              <a:ext cx="51372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6"/>
            <p:cNvSpPr/>
            <p:nvPr/>
          </p:nvSpPr>
          <p:spPr>
            <a:xfrm rot="700200">
              <a:off x="5268600" y="2944080"/>
              <a:ext cx="4921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57"/>
            <p:cNvSpPr/>
            <p:nvPr/>
          </p:nvSpPr>
          <p:spPr>
            <a:xfrm rot="700200">
              <a:off x="5370840" y="4399560"/>
              <a:ext cx="179640" cy="48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8"/>
            <p:cNvSpPr/>
            <p:nvPr/>
          </p:nvSpPr>
          <p:spPr>
            <a:xfrm rot="700200">
              <a:off x="7492680" y="4149360"/>
              <a:ext cx="289080" cy="54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59"/>
            <p:cNvSpPr/>
            <p:nvPr/>
          </p:nvSpPr>
          <p:spPr>
            <a:xfrm rot="700200">
              <a:off x="7129440" y="3081600"/>
              <a:ext cx="461160" cy="111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60"/>
            <p:cNvSpPr/>
            <p:nvPr/>
          </p:nvSpPr>
          <p:spPr>
            <a:xfrm rot="700200">
              <a:off x="5681160" y="3191760"/>
              <a:ext cx="255960" cy="118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1"/>
            <p:cNvSpPr/>
            <p:nvPr/>
          </p:nvSpPr>
          <p:spPr>
            <a:xfrm rot="700200">
              <a:off x="6647040" y="3487320"/>
              <a:ext cx="177480" cy="27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62"/>
            <p:cNvSpPr/>
            <p:nvPr/>
          </p:nvSpPr>
          <p:spPr>
            <a:xfrm rot="700200">
              <a:off x="7392600" y="2992680"/>
              <a:ext cx="16380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63"/>
            <p:cNvSpPr/>
            <p:nvPr/>
          </p:nvSpPr>
          <p:spPr>
            <a:xfrm rot="700200">
              <a:off x="7523280" y="3354480"/>
              <a:ext cx="162000" cy="24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64"/>
            <p:cNvSpPr/>
            <p:nvPr/>
          </p:nvSpPr>
          <p:spPr>
            <a:xfrm rot="700200">
              <a:off x="7583400" y="3678840"/>
              <a:ext cx="972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65"/>
            <p:cNvSpPr/>
            <p:nvPr/>
          </p:nvSpPr>
          <p:spPr>
            <a:xfrm rot="700200">
              <a:off x="7457760" y="4146840"/>
              <a:ext cx="979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PlaceHolder 1"/>
          <p:cNvSpPr>
            <a:spLocks noGrp="1"/>
          </p:cNvSpPr>
          <p:nvPr>
            <p:ph/>
          </p:nvPr>
        </p:nvSpPr>
        <p:spPr>
          <a:xfrm>
            <a:off x="819000" y="2077920"/>
            <a:ext cx="40341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can be spread by touching an infected person or ite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what the sick people touch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first?  And when?</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172" name="Text Box 6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Untitled-5"/>
          <p:cNvPicPr/>
          <p:nvPr/>
        </p:nvPicPr>
        <p:blipFill>
          <a:blip r:embed="rId1"/>
          <a:srcRect l="0" t="8276" r="0" b="14479"/>
          <a:stretch/>
        </p:blipFill>
        <p:spPr>
          <a:xfrm>
            <a:off x="822240" y="1843200"/>
            <a:ext cx="2819520" cy="2698560"/>
          </a:xfrm>
          <a:prstGeom prst="rect">
            <a:avLst/>
          </a:prstGeom>
          <a:ln w="0">
            <a:noFill/>
          </a:ln>
        </p:spPr>
      </p:pic>
      <p:sp>
        <p:nvSpPr>
          <p:cNvPr id="174"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your hypothesis?</a:t>
            </a:r>
            <a:endParaRPr b="0" lang="en-US" sz="4400" spc="-1" strike="noStrike">
              <a:solidFill>
                <a:srgbClr val="000000"/>
              </a:solidFill>
              <a:latin typeface="Times New Roman"/>
            </a:endParaRPr>
          </a:p>
        </p:txBody>
      </p:sp>
      <p:sp>
        <p:nvSpPr>
          <p:cNvPr id="175" name="PlaceHolder 2"/>
          <p:cNvSpPr>
            <a:spLocks noGrp="1"/>
          </p:cNvSpPr>
          <p:nvPr>
            <p:ph/>
          </p:nvPr>
        </p:nvSpPr>
        <p:spPr>
          <a:xfrm>
            <a:off x="4429080" y="1795320"/>
            <a:ext cx="401472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hypothesis of how the disease was being spread.  Form another hypothesis of what type of disease this might b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test your hypotheses?</a:t>
            </a:r>
            <a:endParaRPr b="0" lang="en-US" sz="2800" spc="-1" strike="noStrike">
              <a:solidFill>
                <a:srgbClr val="000000"/>
              </a:solidFill>
              <a:latin typeface="Times New Roman"/>
            </a:endParaRPr>
          </a:p>
        </p:txBody>
      </p:sp>
      <p:sp>
        <p:nvSpPr>
          <p:cNvPr id="176" name="Text Box 6"/>
          <p:cNvSpPr/>
          <p:nvPr/>
        </p:nvSpPr>
        <p:spPr>
          <a:xfrm>
            <a:off x="4822920" y="6207120"/>
            <a:ext cx="39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elp on the </a:t>
            </a:r>
            <a:r>
              <a:rPr b="0" lang="en-US" sz="2000" spc="-1" strike="noStrike" u="sng">
                <a:solidFill>
                  <a:srgbClr val="134173"/>
                </a:solidFill>
                <a:uFillTx/>
                <a:latin typeface="Times New Roman"/>
                <a:hlinkClick r:id="rId2"/>
              </a:rPr>
              <a:t>Scientific Method</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7"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j0129118"/>
          <p:cNvPicPr/>
          <p:nvPr/>
        </p:nvPicPr>
        <p:blipFill>
          <a:blip r:embed="rId1"/>
          <a:srcRect l="4501" t="3601" r="4501" b="2350"/>
          <a:stretch/>
        </p:blipFill>
        <p:spPr>
          <a:xfrm>
            <a:off x="5183280" y="2058840"/>
            <a:ext cx="3125520" cy="4035600"/>
          </a:xfrm>
          <a:prstGeom prst="rect">
            <a:avLst/>
          </a:prstGeom>
          <a:ln w="88920">
            <a:solidFill>
              <a:srgbClr val="545068"/>
            </a:solidFill>
            <a:miter/>
          </a:ln>
        </p:spPr>
      </p:pic>
      <p:sp>
        <p:nvSpPr>
          <p:cNvPr id="179" name="PlaceHolder 1"/>
          <p:cNvSpPr>
            <a:spLocks noGrp="1"/>
          </p:cNvSpPr>
          <p:nvPr>
            <p:ph/>
          </p:nvPr>
        </p:nvSpPr>
        <p:spPr>
          <a:xfrm>
            <a:off x="685440" y="2209320"/>
            <a:ext cx="4033800" cy="3429000"/>
          </a:xfrm>
          <a:prstGeom prst="rect">
            <a:avLst/>
          </a:prstGeom>
          <a:noFill/>
          <a:ln w="0">
            <a:noFill/>
          </a:ln>
        </p:spPr>
        <p:txBody>
          <a:bodyPr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sed upon the information in the story and what you now know, what could the Lenape people do to prevent or control the sickness?</a:t>
            </a:r>
            <a:endParaRPr b="0" lang="en-US" sz="2800" spc="-1" strike="noStrike">
              <a:solidFill>
                <a:srgbClr val="000000"/>
              </a:solidFill>
              <a:latin typeface="Times New Roman"/>
            </a:endParaRPr>
          </a:p>
        </p:txBody>
      </p:sp>
      <p:sp>
        <p:nvSpPr>
          <p:cNvPr id="180"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What You Know</a:t>
            </a:r>
            <a:endParaRPr b="0" lang="en-US" sz="4400" spc="-1" strike="noStrike">
              <a:solidFill>
                <a:srgbClr val="000000"/>
              </a:solidFill>
              <a:latin typeface="Times New Roman"/>
            </a:endParaRPr>
          </a:p>
        </p:txBody>
      </p:sp>
      <p:sp>
        <p:nvSpPr>
          <p:cNvPr id="181"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NIEHS"/>
          <p:cNvPicPr/>
          <p:nvPr/>
        </p:nvPicPr>
        <p:blipFill>
          <a:blip r:embed="rId1"/>
          <a:stretch/>
        </p:blipFill>
        <p:spPr>
          <a:xfrm>
            <a:off x="380880" y="1909800"/>
            <a:ext cx="1371600" cy="1371600"/>
          </a:xfrm>
          <a:prstGeom prst="rect">
            <a:avLst/>
          </a:prstGeom>
          <a:ln w="0">
            <a:noFill/>
          </a:ln>
        </p:spPr>
      </p:pic>
      <p:pic>
        <p:nvPicPr>
          <p:cNvPr id="183" name="Picture 3" descr="Peer"/>
          <p:cNvPicPr/>
          <p:nvPr/>
        </p:nvPicPr>
        <p:blipFill>
          <a:blip r:embed="rId2"/>
          <a:stretch/>
        </p:blipFill>
        <p:spPr>
          <a:xfrm>
            <a:off x="380880" y="3433680"/>
            <a:ext cx="1371600" cy="1382760"/>
          </a:xfrm>
          <a:prstGeom prst="rect">
            <a:avLst/>
          </a:prstGeom>
          <a:ln w="0">
            <a:noFill/>
          </a:ln>
        </p:spPr>
      </p:pic>
      <p:pic>
        <p:nvPicPr>
          <p:cNvPr id="184" name="Picture 4" descr="CollegeofEdu"/>
          <p:cNvPicPr/>
          <p:nvPr/>
        </p:nvPicPr>
        <p:blipFill>
          <a:blip r:embed="rId3"/>
          <a:stretch/>
        </p:blipFill>
        <p:spPr>
          <a:xfrm>
            <a:off x="380880" y="4957920"/>
            <a:ext cx="1359000" cy="1371600"/>
          </a:xfrm>
          <a:prstGeom prst="rect">
            <a:avLst/>
          </a:prstGeom>
          <a:ln w="0">
            <a:noFill/>
          </a:ln>
        </p:spPr>
      </p:pic>
      <p:sp>
        <p:nvSpPr>
          <p:cNvPr id="185"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6"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7" name="Picture 7" descr="CERH"/>
          <p:cNvPicPr/>
          <p:nvPr/>
        </p:nvPicPr>
        <p:blipFill>
          <a:blip r:embed="rId4"/>
          <a:stretch/>
        </p:blipFill>
        <p:spPr>
          <a:xfrm>
            <a:off x="4724280" y="3451320"/>
            <a:ext cx="1371600" cy="1382760"/>
          </a:xfrm>
          <a:prstGeom prst="rect">
            <a:avLst/>
          </a:prstGeom>
          <a:ln w="0">
            <a:noFill/>
          </a:ln>
        </p:spPr>
      </p:pic>
      <p:pic>
        <p:nvPicPr>
          <p:cNvPr id="188" name="Picture 8" descr="New CVM logo_ any color"/>
          <p:cNvPicPr/>
          <p:nvPr/>
        </p:nvPicPr>
        <p:blipFill>
          <a:blip r:embed="rId5"/>
          <a:stretch/>
        </p:blipFill>
        <p:spPr>
          <a:xfrm>
            <a:off x="4724280" y="4970520"/>
            <a:ext cx="1371600" cy="1371600"/>
          </a:xfrm>
          <a:prstGeom prst="rect">
            <a:avLst/>
          </a:prstGeom>
          <a:ln w="0">
            <a:noFill/>
          </a:ln>
        </p:spPr>
      </p:pic>
      <p:sp>
        <p:nvSpPr>
          <p:cNvPr id="189"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0" name="Group 10"/>
          <p:cNvGrpSpPr/>
          <p:nvPr/>
        </p:nvGrpSpPr>
        <p:grpSpPr>
          <a:xfrm>
            <a:off x="4643280" y="1928880"/>
            <a:ext cx="1546560" cy="1371600"/>
            <a:chOff x="4643280" y="1928880"/>
            <a:chExt cx="1546560" cy="1371600"/>
          </a:xfrm>
        </p:grpSpPr>
        <p:sp>
          <p:nvSpPr>
            <p:cNvPr id="191"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12"/>
            <p:cNvGraphicFramePr/>
            <p:nvPr/>
          </p:nvGraphicFramePr>
          <p:xfrm>
            <a:off x="4643280" y="2117880"/>
            <a:ext cx="1546560" cy="1012680"/>
          </p:xfrm>
          <a:graphic>
            <a:graphicData uri="http://schemas.openxmlformats.org/presentationml/2006/ole">
              <p:oleObj r:id="rId6" spid="">
                <p:embed/>
                <p:pic>
                  <p:nvPicPr>
                    <p:cNvPr id="193"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94"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3664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modes of disease transmission.</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environmental health hazard chart and clues from the story to determine the most likely cause of the illn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information to evaluate a previously formed hypothesi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diseases can be transmitted from person to person and ultimately how an infectious agent can be spread through a pop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pic>
        <p:nvPicPr>
          <p:cNvPr id="65" name="Picture 3" descr="Native Women in Blankets"/>
          <p:cNvPicPr/>
          <p:nvPr/>
        </p:nvPicPr>
        <p:blipFill>
          <a:blip r:embed="rId1"/>
          <a:stretch/>
        </p:blipFill>
        <p:spPr>
          <a:xfrm>
            <a:off x="4876920" y="1805040"/>
            <a:ext cx="3803400" cy="2614680"/>
          </a:xfrm>
          <a:prstGeom prst="rect">
            <a:avLst/>
          </a:prstGeom>
          <a:ln w="57240">
            <a:solidFill>
              <a:srgbClr val="545068"/>
            </a:solidFill>
            <a:miter/>
          </a:ln>
        </p:spPr>
      </p:pic>
      <p:sp>
        <p:nvSpPr>
          <p:cNvPr id="66" name="Text Box 4"/>
          <p:cNvSpPr/>
          <p:nvPr/>
        </p:nvSpPr>
        <p:spPr>
          <a:xfrm>
            <a:off x="457200" y="3809880"/>
            <a:ext cx="7848720" cy="313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of the </a:t>
            </a:r>
            <a:br>
              <a:rPr sz="2800"/>
            </a:br>
            <a:r>
              <a:rPr b="0" lang="en-US" sz="2800" spc="-1" strike="noStrike">
                <a:solidFill>
                  <a:srgbClr val="000000"/>
                </a:solidFill>
                <a:latin typeface="Times New Roman"/>
              </a:rPr>
              <a:t>symptoms of those who </a:t>
            </a:r>
            <a:br>
              <a:rPr sz="2800"/>
            </a:br>
            <a:r>
              <a:rPr b="0" lang="en-US" sz="2800" spc="-1" strike="noStrike">
                <a:solidFill>
                  <a:srgbClr val="000000"/>
                </a:solidFill>
                <a:latin typeface="Times New Roman"/>
              </a:rPr>
              <a:t>were sick?  Does this sound like a disease that you might have had when you were littl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is disease being spread to the Native American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95000" y="1787040"/>
            <a:ext cx="3670200" cy="20782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that Red Arrow and Jace saw and heard about at the village?</a:t>
            </a:r>
            <a:endParaRPr b="0" lang="en-US" sz="2800" spc="-1" strike="noStrike">
              <a:solidFill>
                <a:srgbClr val="000000"/>
              </a:solidFill>
              <a:latin typeface="Times New Roman"/>
            </a:endParaRPr>
          </a:p>
        </p:txBody>
      </p:sp>
      <p:sp>
        <p:nvSpPr>
          <p:cNvPr id="68"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5760" y="35208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Peoples, Different Effec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affected only a few Englishme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many thousands of Indians died from this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he difference?  Why did Englishmen seem more resistant to whatever was causing this sickness?</a:t>
            </a:r>
            <a:endParaRPr b="0" lang="en-US" sz="2800" spc="-1" strike="noStrike">
              <a:solidFill>
                <a:srgbClr val="000000"/>
              </a:solidFill>
              <a:latin typeface="Times New Roman"/>
            </a:endParaRPr>
          </a:p>
        </p:txBody>
      </p:sp>
      <p:sp>
        <p:nvSpPr>
          <p:cNvPr id="71"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Question-Mark"/>
          <p:cNvPicPr/>
          <p:nvPr/>
        </p:nvPicPr>
        <p:blipFill>
          <a:blip r:embed="rId1"/>
          <a:stretch/>
        </p:blipFill>
        <p:spPr>
          <a:xfrm>
            <a:off x="3525840" y="3579840"/>
            <a:ext cx="2090880" cy="1714320"/>
          </a:xfrm>
          <a:prstGeom prst="rect">
            <a:avLst/>
          </a:prstGeom>
          <a:ln w="0">
            <a:noFill/>
          </a:ln>
        </p:spPr>
      </p:pic>
      <p:sp>
        <p:nvSpPr>
          <p:cNvPr id="7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 of the Sickness?</a:t>
            </a:r>
            <a:endParaRPr b="0" lang="en-US" sz="4400" spc="-1" strike="noStrike">
              <a:solidFill>
                <a:srgbClr val="000000"/>
              </a:solidFill>
              <a:latin typeface="Times New Roman"/>
            </a:endParaRPr>
          </a:p>
        </p:txBody>
      </p:sp>
      <p:sp>
        <p:nvSpPr>
          <p:cNvPr id="74" name="PlaceHolder 2"/>
          <p:cNvSpPr>
            <a:spLocks noGrp="1"/>
          </p:cNvSpPr>
          <p:nvPr>
            <p:ph/>
          </p:nvPr>
        </p:nvSpPr>
        <p:spPr>
          <a:xfrm>
            <a:off x="899640" y="2312640"/>
            <a:ext cx="7628040" cy="1143000"/>
          </a:xfrm>
          <a:prstGeom prst="rect">
            <a:avLst/>
          </a:prstGeom>
          <a:noFill/>
          <a:ln w="0">
            <a:noFill/>
          </a:ln>
        </p:spPr>
        <p:txBody>
          <a:bodyPr anchor="t">
            <a:normAutofit/>
          </a:bodyPr>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ings from the story could have caused the sickness in the Lenape tribe?</a:t>
            </a:r>
            <a:endParaRPr b="0" lang="en-US" sz="3200" spc="-1" strike="noStrike">
              <a:solidFill>
                <a:srgbClr val="000000"/>
              </a:solidFill>
              <a:latin typeface="Times New Roman"/>
            </a:endParaRPr>
          </a:p>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an-Reading-Script"/>
          <p:cNvPicPr/>
          <p:nvPr/>
        </p:nvPicPr>
        <p:blipFill>
          <a:blip r:embed="rId1"/>
          <a:stretch/>
        </p:blipFill>
        <p:spPr>
          <a:xfrm>
            <a:off x="990720" y="2133720"/>
            <a:ext cx="2855880" cy="3429000"/>
          </a:xfrm>
          <a:prstGeom prst="rect">
            <a:avLst/>
          </a:prstGeom>
          <a:ln w="0">
            <a:noFill/>
          </a:ln>
        </p:spPr>
      </p:pic>
      <p:sp>
        <p:nvSpPr>
          <p:cNvPr id="77"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78" name="PlaceHolder 2"/>
          <p:cNvSpPr>
            <a:spLocks noGrp="1"/>
          </p:cNvSpPr>
          <p:nvPr>
            <p:ph/>
          </p:nvPr>
        </p:nvSpPr>
        <p:spPr>
          <a:xfrm>
            <a:off x="4625640" y="1760400"/>
            <a:ext cx="380988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n’t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we find ou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do we need to use to figure out the cause of the sickness and its spread?</a:t>
            </a:r>
            <a:endParaRPr b="0" lang="en-US" sz="2800" spc="-1" strike="noStrike">
              <a:solidFill>
                <a:srgbClr val="000000"/>
              </a:solidFill>
              <a:latin typeface="Times New Roman"/>
            </a:endParaRPr>
          </a:p>
        </p:txBody>
      </p:sp>
      <p:sp>
        <p:nvSpPr>
          <p:cNvPr id="79"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Ohio%20River%20sunset%208-02"/>
          <p:cNvPicPr/>
          <p:nvPr/>
        </p:nvPicPr>
        <p:blipFill>
          <a:blip r:embed="rId1"/>
          <a:stretch/>
        </p:blipFill>
        <p:spPr>
          <a:xfrm>
            <a:off x="4915080" y="1373040"/>
            <a:ext cx="3789360" cy="2843280"/>
          </a:xfrm>
          <a:prstGeom prst="rect">
            <a:avLst/>
          </a:prstGeom>
          <a:ln w="76320">
            <a:solidFill>
              <a:srgbClr val="545068"/>
            </a:solidFill>
            <a:miter/>
          </a:ln>
        </p:spPr>
      </p:pic>
      <p:sp>
        <p:nvSpPr>
          <p:cNvPr id="81" name="Rectangle 3"/>
          <p:cNvSpPr/>
          <p:nvPr/>
        </p:nvSpPr>
        <p:spPr>
          <a:xfrm>
            <a:off x="4834080" y="4362480"/>
            <a:ext cx="3889080" cy="2495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everyone who drank the water from the Monongahela sick? What about those who drank from the Ohio Riv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2" name="PlaceHolder 1"/>
          <p:cNvSpPr>
            <a:spLocks noGrp="1"/>
          </p:cNvSpPr>
          <p:nvPr>
            <p:ph/>
          </p:nvPr>
        </p:nvSpPr>
        <p:spPr>
          <a:xfrm>
            <a:off x="294840" y="1204560"/>
            <a:ext cx="4334040" cy="3971880"/>
          </a:xfrm>
          <a:prstGeom prst="rect">
            <a:avLst/>
          </a:prstGeom>
          <a:noFill/>
          <a:ln w="0">
            <a:noFill/>
          </a:ln>
        </p:spPr>
        <p:txBody>
          <a:bodyPr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River</a:t>
            </a:r>
            <a:r>
              <a:rPr b="1" lang="en-US" sz="2800" spc="-1" strike="noStrike">
                <a:solidFill>
                  <a:srgbClr val="000000"/>
                </a:solidFill>
                <a:latin typeface="Times New Roman"/>
              </a:rPr>
              <a:t> </a:t>
            </a:r>
            <a:r>
              <a:rPr b="0" lang="en-US" sz="2800" spc="-1" strike="noStrike">
                <a:solidFill>
                  <a:srgbClr val="000000"/>
                </a:solidFill>
                <a:latin typeface="Times New Roman"/>
              </a:rPr>
              <a:t>flows downstream and meets the Allegheny River to form the Ohio Riv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ape tribe lived beside the river, using it as a source of water, food, and transport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likely that the sickness came from something in the water?</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762120" y="317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x012"/>
          <p:cNvPicPr/>
          <p:nvPr/>
        </p:nvPicPr>
        <p:blipFill>
          <a:blip r:embed="rId1"/>
          <a:stretch/>
        </p:blipFill>
        <p:spPr>
          <a:xfrm>
            <a:off x="4876920" y="2057400"/>
            <a:ext cx="3733560" cy="2546280"/>
          </a:xfrm>
          <a:prstGeom prst="rect">
            <a:avLst/>
          </a:prstGeom>
          <a:ln w="76320">
            <a:solidFill>
              <a:srgbClr val="545068"/>
            </a:solidFill>
            <a:miter/>
          </a:ln>
        </p:spPr>
      </p:pic>
      <p:sp>
        <p:nvSpPr>
          <p:cNvPr id="86" name="Text Box 3"/>
          <p:cNvSpPr/>
          <p:nvPr/>
        </p:nvSpPr>
        <p:spPr>
          <a:xfrm>
            <a:off x="6019920" y="46483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nps.gov</a:t>
            </a:r>
            <a:endParaRPr b="0" lang="en-US" sz="1200" spc="-1" strike="noStrike">
              <a:solidFill>
                <a:srgbClr val="000000"/>
              </a:solidFill>
              <a:latin typeface="Arial"/>
            </a:endParaRPr>
          </a:p>
        </p:txBody>
      </p:sp>
      <p:sp>
        <p:nvSpPr>
          <p:cNvPr id="87" name="Text Box 4"/>
          <p:cNvSpPr/>
          <p:nvPr/>
        </p:nvSpPr>
        <p:spPr>
          <a:xfrm>
            <a:off x="347760" y="5376960"/>
            <a:ext cx="84200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mmon diseases from contaminated water cause diarrhea and abdominal discomfort. Were these the symptoms of the sick people in the story?</a:t>
            </a:r>
            <a:endParaRPr b="0" lang="en-US" sz="2800" spc="-1" strike="noStrike">
              <a:solidFill>
                <a:srgbClr val="000000"/>
              </a:solidFill>
              <a:latin typeface="Arial"/>
            </a:endParaRPr>
          </a:p>
        </p:txBody>
      </p:sp>
      <p:sp>
        <p:nvSpPr>
          <p:cNvPr id="88" name="PlaceHolder 1"/>
          <p:cNvSpPr>
            <a:spLocks noGrp="1"/>
          </p:cNvSpPr>
          <p:nvPr>
            <p:ph/>
          </p:nvPr>
        </p:nvSpPr>
        <p:spPr>
          <a:xfrm>
            <a:off x="366480" y="1298520"/>
            <a:ext cx="41907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pecies of microbes can live in water in large numbers and will cause disease when consume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s did not have sewage systems and water treatment plants to purify their drinking water.  </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571320" y="342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other water be the source?</a:t>
            </a:r>
            <a:endParaRPr b="0" lang="en-US" sz="4400" spc="-1" strike="noStrike">
              <a:solidFill>
                <a:srgbClr val="000000"/>
              </a:solidFill>
              <a:latin typeface="Times New Roman"/>
            </a:endParaRPr>
          </a:p>
        </p:txBody>
      </p:sp>
      <p:sp>
        <p:nvSpPr>
          <p:cNvPr id="90"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er1"/>
          <p:cNvPicPr/>
          <p:nvPr/>
        </p:nvPicPr>
        <p:blipFill>
          <a:blip r:embed="rId1"/>
          <a:stretch/>
        </p:blipFill>
        <p:spPr>
          <a:xfrm>
            <a:off x="838080" y="2187720"/>
            <a:ext cx="3048120" cy="3200400"/>
          </a:xfrm>
          <a:prstGeom prst="rect">
            <a:avLst/>
          </a:prstGeom>
          <a:ln w="88920">
            <a:solidFill>
              <a:srgbClr val="545068"/>
            </a:solidFill>
            <a:miter/>
          </a:ln>
        </p:spPr>
      </p:pic>
      <p:sp>
        <p:nvSpPr>
          <p:cNvPr id="92"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93" name="PlaceHolder 2"/>
          <p:cNvSpPr>
            <a:spLocks noGrp="1"/>
          </p:cNvSpPr>
          <p:nvPr>
            <p:ph/>
          </p:nvPr>
        </p:nvSpPr>
        <p:spPr>
          <a:xfrm>
            <a:off x="4647960" y="1535040"/>
            <a:ext cx="38098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story, what kind of food did the Lenape tribe e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indication from the story that the sickness came from the tribe’s fo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sickness came from the food?  Why or why not?</a:t>
            </a:r>
            <a:endParaRPr b="0" lang="en-US" sz="2800" spc="-1" strike="noStrike">
              <a:solidFill>
                <a:srgbClr val="000000"/>
              </a:solidFill>
              <a:latin typeface="Times New Roman"/>
            </a:endParaRPr>
          </a:p>
        </p:txBody>
      </p:sp>
      <p:sp>
        <p:nvSpPr>
          <p:cNvPr id="94"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1:29Z</dcterms:modified>
  <cp:revision>19</cp:revision>
  <dc:subject/>
  <dc:title>Slide 1</dc:title>
</cp:coreProperties>
</file>