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(C) Describe Relationship Between Radius, Diameter, Circum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55E52-55D2-4B4F-8239-49A58A24E6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4F25-053A-4A60-AC70-1F74A30205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659C-4633-48BE-9EC5-C2A4ECBB9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1E95-7B12-4B94-A3E6-D455315EA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95D0-3F2A-4009-842A-6A842A240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A1454-D925-440E-8157-FEC222719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84105-5634-4385-B0FF-E0578A2E1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E62D9-8FF7-4DC3-B46B-2FB0E5489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7756-4BCA-4AE1-86D9-B7E71181AF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8A429-A953-436C-9700-9ABF1AE0B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8C19-5A5D-4406-BC58-E07D9B7692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ACDC7-1B6C-40A7-98B4-1801BCF39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9D4F-5209-44CD-A323-DC15BF8BC79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0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circumference (C) of a circle is the distance around a circ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2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r                           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 = </a:t>
            </a:r>
            <a:r>
              <a:rPr b="0" lang="en-US" sz="3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r = radiu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diamete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 = r + r = 2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Symbol"/>
                <a:ea typeface="Symbol"/>
              </a:rPr>
              <a:t>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ircumferenc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410080" y="3124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409720" y="41911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41940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CA18-3ECB-47E3-BC3A-C7320A7ED786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50Z</dcterms:modified>
  <cp:revision>208</cp:revision>
  <dc:subject/>
  <dc:title>VTPP 423 - PHYSIOLOGY</dc:title>
</cp:coreProperties>
</file>