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4D92-6C75-48BA-A79D-CC70564DD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F632-C7A8-4D8B-BBD5-F8994D871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1B2D-DA8E-4628-8B45-D2461B59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17CA-A6D1-43AD-8C8D-6FF17C217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B9F8-360F-4015-8D7A-87AC6DB5A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5E8F-D2EE-4E47-8DD6-4FBCE9A1B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4FC7-63E9-43FA-BCA0-B2581C5C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7E54-71D7-4C23-9FFC-F61309F1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6615-9E69-475C-A295-3A331F1B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30D8-E0FD-4EEF-A41A-E3DCC59C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997A-2A14-422A-80FC-75C525CD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E535-37D1-41F3-AA62-60FBE880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BFB2-F105-4D8B-90A8-BB059F0E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78C6-76E5-4B7A-BA67-76226A4D30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ngth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ches per Centi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centimeter = 0.394 inch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eet per 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eter = 3.28 feet = 1.09 yar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iles per kilome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mile = 1.6 kilome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8:42Z</dcterms:created>
  <dc:creator>ITWorkstation</dc:creator>
  <dc:description/>
  <dc:language>en-US</dc:language>
  <cp:lastModifiedBy>Texas A&amp;M Veterinary Medicine</cp:lastModifiedBy>
  <dcterms:modified xsi:type="dcterms:W3CDTF">2004-10-28T19:23:48Z</dcterms:modified>
  <cp:revision>8</cp:revision>
  <dc:subject/>
  <dc:title>Length Conversions</dc:title>
</cp:coreProperties>
</file>