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DBBC-8350-409F-B8EB-EEBAE06E3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9C4A-6389-47E3-9A63-EB1A682BF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60ED-4A35-419F-A2AC-D4CB76159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Math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, 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) Estimation and Rou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B), 8.2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32B6-2606-4D79-9A14-3F6B4656D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79704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5840-E837-4C0A-BCA4-BC4E5F3FD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91116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A) Model Fractions in Addition/Subtraction as Pictures, Words,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1 (A) Identify/Apply Mathematics to Everyday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1 (B), 7.2 (A)(B)(D), 7.13 (A), 8.1 (A)(B), 8.2 (A), 8.14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0756-12A3-42A9-BAB4-12C227F7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55D7-0360-4D57-AE3C-5EDFE568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A898-9737-4D2E-8966-835C159AF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20D4-46A4-4F00-8C52-0C515F3DA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6A35-AC40-4E5F-A8F5-7895078B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61BD-F8B6-415E-B527-C861B3D2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FA99-917C-4981-93BF-A52AB9BA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EDD-5472-4A5E-B20E-B11B3537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B9B0-1412-48C5-81BD-F9946426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7EE5-8BFD-407E-A103-121E00A8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6C7-0AD6-4E4A-BFA5-52E9C9CB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F7D-8CC1-4102-B8CE-106D8785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1F49-CF9B-4004-9C77-FBCAD2E6B12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848720" cy="55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Remember that a decimal is a fractional number: it is a part of something whol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=0.44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      1000th place. (e.g. .4, .44, .444)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4444 (part in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DecToPer2" descr=""/>
          <p:cNvPicPr/>
          <p:nvPr/>
        </p:nvPicPr>
        <p:blipFill>
          <a:blip r:embed="rId2"/>
          <a:stretch/>
        </p:blipFill>
        <p:spPr>
          <a:xfrm>
            <a:off x="3124080" y="5315040"/>
            <a:ext cx="29829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724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Decimal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523520"/>
            <a:ext cx="8151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emember that a decimal is a fractional number.  When it is written as a percent, the decimal number is the part and 100 is always the whol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 the following steps to convert a decimal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: Convert 0.83 to a percent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) Multiply the decimal by 100 (e.g., 0.83 x 100 = 83)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) Add a percent sign after the answer (e.g., 83%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1.00 or 100% 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.83 or 83% (part in 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( whole in blue)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 green)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3" name="DecToPer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451320" cy="14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0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14068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  Decimal  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    Percent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(6/8 =         6 ÷ 8 =         .75 =      .75 * 100=     75%)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2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2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        75 part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76440" y="26542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29480" y="26542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49160" y="4254480"/>
            <a:ext cx="7238880" cy="2133720"/>
            <a:chOff x="749160" y="4254480"/>
            <a:chExt cx="7238880" cy="2133720"/>
          </a:xfrm>
        </p:grpSpPr>
        <p:sp>
          <p:nvSpPr>
            <p:cNvPr id="59" name=""/>
            <p:cNvSpPr/>
            <p:nvPr/>
          </p:nvSpPr>
          <p:spPr>
            <a:xfrm>
              <a:off x="1892160" y="516888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06360" y="4483080"/>
              <a:ext cx="106668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397120" y="4559400"/>
              <a:ext cx="106704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06960" y="5092920"/>
              <a:ext cx="457200" cy="0"/>
            </a:xfrm>
            <a:prstGeom prst="line">
              <a:avLst/>
            </a:prstGeom>
            <a:ln w="12600">
              <a:solidFill>
                <a:srgbClr val="99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425320" y="4254480"/>
              <a:ext cx="121932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25320" y="4864320"/>
              <a:ext cx="1219320" cy="5331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30040" y="6007320"/>
              <a:ext cx="152388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44840" y="6007320"/>
              <a:ext cx="1828800" cy="380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16440" y="4254480"/>
              <a:ext cx="1371600" cy="533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6440" y="4864320"/>
              <a:ext cx="1371600" cy="457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Cutout25%25" descr=""/>
            <p:cNvPicPr/>
            <p:nvPr/>
          </p:nvPicPr>
          <p:blipFill>
            <a:blip r:embed="rId2"/>
            <a:stretch/>
          </p:blipFill>
          <p:spPr>
            <a:xfrm>
              <a:off x="749160" y="4399200"/>
              <a:ext cx="1211040" cy="116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Cutout25%25" descr=""/>
            <p:cNvPicPr/>
            <p:nvPr/>
          </p:nvPicPr>
          <p:blipFill>
            <a:blip r:embed="rId3"/>
            <a:stretch/>
          </p:blipFill>
          <p:spPr>
            <a:xfrm>
              <a:off x="4863960" y="4483080"/>
              <a:ext cx="1211040" cy="11653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Percentage Per$pective!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at else has a whole = 100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ow about 100 pennies in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is 25% of one 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25/100  = .25  = a quarter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percentage of one dollar is a dime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en cents = .10 = .10 x 100 = 10%  of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e dollar!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Example: What coins would you use to represent 17% of a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ollar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7/100 = .17 = .10 + .05 + .02   (a dime, nickel and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nnies!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e how you can always cash in on percentages!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73" name="MoneyGraph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422440" cy="183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7:01:10Z</dcterms:created>
  <dc:creator>Charles C. Farnsworth, Ph.D. - Instructional Design</dc:creator>
  <dc:description/>
  <dc:language>en-US</dc:language>
  <cp:lastModifiedBy>ljlab</cp:lastModifiedBy>
  <dcterms:modified xsi:type="dcterms:W3CDTF">2003-09-11T17:19:20Z</dcterms:modified>
  <cp:revision>32</cp:revision>
  <dc:subject/>
  <dc:title>Fractions to Decimals</dc:title>
</cp:coreProperties>
</file>