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4C1A-675A-45E2-902F-4DD7BF55B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357-B3D1-404F-876D-0BAB36DC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43EE-ED31-47A0-B3DB-ED5521FC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EF2-3ED9-4AD6-BB78-D8049984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D302-9DA2-4908-B12F-94F271BB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D3D8-C133-4C6A-AB30-30037B3C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2ABC-0A3F-4F2B-BBAC-C302AD7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563-2B27-4796-8277-25BC1776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16B-7852-4005-A7B9-4F62FAC4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AAD2-D608-4B01-B66D-B4359AC1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DEF6-DFAC-46E7-A19C-CFDFA0AA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F31-FD10-4CFF-900C-DB0BA8E2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7FF3-1010-4BEA-9B1D-BD567637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48788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13040" indent="-2124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21E3-B5E7-4E45-A741-73A3CD8E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is true of the illness suffered by the India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trongest young warriors usually surviv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llne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ildren of the village died fastest if the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me i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ed patients felt sick but showed n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ternal signs of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individuals were not affected equally b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43000" y="583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1143000" y="3970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1143000" y="4921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did Red Arrow threaten Jace with a knif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refused to provide medicine for the sick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r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angry because his pet cr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s lost when they were transported to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lla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nted to force Jace into taking him t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t Pi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14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loodthirsty and did not like whit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143000" y="5850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143000" y="2644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1143000" y="35942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143000" y="4911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171960" y="279576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075200" y="4516560"/>
            <a:ext cx="9619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main characters in the story “Three Rivers, Three Nations” a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jay and J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man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Red Ar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 Cloud and Dej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8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143000" y="474804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143000" y="2967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14300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143000" y="4152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racter, Dejay, is best characterized in the story by which one of the following adjectiv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r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a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143000" y="474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143000" y="2965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143000" y="3562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1143000" y="415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.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ainbow Rider acquired this name for which one of the following reason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utiful rainbow appeared on the horiz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ever he wa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clothes were multi-colored, like a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s backpack had a distinctive rainbow logo 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i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arrived on the scene in a multi-color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inbow clou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143000" y="56307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143000" y="3068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1143000" y="3932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1143000" y="46450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relationship between Pontiac’s Rebellion and the events in this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dates and geographical location of bo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approximately the sa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 is the name of a runaway Indian wh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 was looking for his lost crow,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ntiac, when he found Jace in the fores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24160" indent="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in the story was at wa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th a Pontiac Indian village located nearb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143000" y="5673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3000" y="2978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1143000" y="3889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1143000" y="4788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was the Indian village in the story so quiet and still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was late in the afternoon and everyone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ing a nap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in the tribe were sick or had di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men and older boys were out hun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58720" indent="0">
              <a:lnSpc>
                <a:spcPct val="90000"/>
              </a:lnSpc>
              <a:spcBef>
                <a:spcPts val="876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village was always quiet because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idents disliked loud noi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541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143000" y="3106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143000" y="4032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143000" y="4664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the significance of the Ohio, Allegheny and Monogahela Rivers in the sto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ach marked a boundary of the state of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nnsylvan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shing in the Monogahela River was strictl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bidden to the India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enape village was located at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section of these three rive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06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minated water from the Ohio River wa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ing the soldiers si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143000" y="5878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143000" y="3025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143000" y="3994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143000" y="49402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ch of the following best describes the dwellings in the Indian vill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epees decorated with colorful de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quare adobe struct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unded huts woven from prairie gr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rk-covered longhou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143000" y="4626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143000" y="29354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143000" y="3489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1143000" y="4049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 Arrow’s response to seeing his mother and hearing her story is best characterized as which one of the following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f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7636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Verdana"/>
              </a:rPr>
              <a:t>TR-9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143000" y="4968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143000" y="3321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1143000" y="38750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1143000" y="44211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9:50:03Z</dcterms:created>
  <dc:creator>David Marcovitz</dc:creator>
  <dc:description/>
  <dc:language>en-US</dc:language>
  <cp:lastModifiedBy>Ljlab</cp:lastModifiedBy>
  <dcterms:modified xsi:type="dcterms:W3CDTF">2007-06-26T14:22:12Z</dcterms:modified>
  <cp:revision>59</cp:revision>
  <dc:subject/>
  <dc:title>PowerPoint Presentation</dc:title>
</cp:coreProperties>
</file>