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D4B-C10C-46CB-9780-9ED23385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CC3-F83E-473B-A09D-6FD31BD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958-D2FE-4E65-80BD-01D5446F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E70-1357-47E2-B3B3-41C9F883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37D-4067-49D6-9B5F-21F508CE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765-338F-4D0D-B723-D2CDD17A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9BD-DF08-4EDE-8285-39BD7D5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2C0-9D9B-4C5B-AC83-73A1554E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BEA-287A-4972-A901-2D579C85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6C5-D527-44F8-A6E2-28DE630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C8A-29A9-44D2-97E8-7D875D6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FD8-479F-41F3-A73F-CA79BB20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283-8613-4E4B-B4F7-9D79C8F3B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381240"/>
            <a:ext cx="7619760" cy="5997240"/>
            <a:chOff x="685800" y="381240"/>
            <a:chExt cx="7619760" cy="5997240"/>
          </a:xfrm>
        </p:grpSpPr>
        <p:sp>
          <p:nvSpPr>
            <p:cNvPr id="42" name=""/>
            <p:cNvSpPr/>
            <p:nvPr/>
          </p:nvSpPr>
          <p:spPr>
            <a:xfrm rot="16200000">
              <a:off x="6144480" y="707760"/>
              <a:ext cx="514800" cy="2995920"/>
            </a:xfrm>
            <a:custGeom>
              <a:avLst/>
              <a:gdLst/>
              <a:ahLst/>
              <a:rect l="l" t="t" r="r" b="b"/>
              <a:pathLst>
                <a:path w="231" h="1300">
                  <a:moveTo>
                    <a:pt x="79" y="0"/>
                  </a:moveTo>
                  <a:cubicBezTo>
                    <a:pt x="78" y="29"/>
                    <a:pt x="88" y="41"/>
                    <a:pt x="84" y="70"/>
                  </a:cubicBezTo>
                  <a:cubicBezTo>
                    <a:pt x="77" y="89"/>
                    <a:pt x="52" y="97"/>
                    <a:pt x="39" y="115"/>
                  </a:cubicBezTo>
                  <a:cubicBezTo>
                    <a:pt x="34" y="130"/>
                    <a:pt x="6" y="151"/>
                    <a:pt x="5" y="181"/>
                  </a:cubicBezTo>
                  <a:cubicBezTo>
                    <a:pt x="0" y="209"/>
                    <a:pt x="3" y="254"/>
                    <a:pt x="10" y="282"/>
                  </a:cubicBezTo>
                  <a:cubicBezTo>
                    <a:pt x="17" y="310"/>
                    <a:pt x="37" y="328"/>
                    <a:pt x="49" y="348"/>
                  </a:cubicBezTo>
                  <a:cubicBezTo>
                    <a:pt x="64" y="367"/>
                    <a:pt x="77" y="385"/>
                    <a:pt x="85" y="403"/>
                  </a:cubicBezTo>
                  <a:cubicBezTo>
                    <a:pt x="88" y="421"/>
                    <a:pt x="103" y="435"/>
                    <a:pt x="111" y="451"/>
                  </a:cubicBezTo>
                  <a:cubicBezTo>
                    <a:pt x="117" y="464"/>
                    <a:pt x="127" y="489"/>
                    <a:pt x="140" y="498"/>
                  </a:cubicBezTo>
                  <a:cubicBezTo>
                    <a:pt x="168" y="516"/>
                    <a:pt x="189" y="537"/>
                    <a:pt x="220" y="547"/>
                  </a:cubicBezTo>
                  <a:cubicBezTo>
                    <a:pt x="231" y="581"/>
                    <a:pt x="215" y="613"/>
                    <a:pt x="212" y="676"/>
                  </a:cubicBezTo>
                  <a:lnTo>
                    <a:pt x="182" y="930"/>
                  </a:lnTo>
                  <a:lnTo>
                    <a:pt x="155" y="993"/>
                  </a:lnTo>
                  <a:lnTo>
                    <a:pt x="136" y="1120"/>
                  </a:lnTo>
                  <a:lnTo>
                    <a:pt x="155" y="1134"/>
                  </a:lnTo>
                  <a:lnTo>
                    <a:pt x="176" y="1089"/>
                  </a:lnTo>
                  <a:lnTo>
                    <a:pt x="172" y="1170"/>
                  </a:lnTo>
                  <a:lnTo>
                    <a:pt x="132" y="1198"/>
                  </a:lnTo>
                  <a:cubicBezTo>
                    <a:pt x="129" y="1200"/>
                    <a:pt x="117" y="1205"/>
                    <a:pt x="120" y="1213"/>
                  </a:cubicBezTo>
                  <a:cubicBezTo>
                    <a:pt x="118" y="1219"/>
                    <a:pt x="136" y="1232"/>
                    <a:pt x="137" y="1240"/>
                  </a:cubicBezTo>
                  <a:cubicBezTo>
                    <a:pt x="138" y="1254"/>
                    <a:pt x="129" y="1289"/>
                    <a:pt x="127" y="13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6200000">
              <a:off x="4860720" y="-304200"/>
              <a:ext cx="2759040" cy="4130280"/>
            </a:xfrm>
            <a:custGeom>
              <a:avLst/>
              <a:gdLst/>
              <a:ahLst/>
              <a:rect l="l" t="t" r="r" b="b"/>
              <a:pathLst>
                <a:path w="1238" h="1792">
                  <a:moveTo>
                    <a:pt x="435" y="1615"/>
                  </a:moveTo>
                  <a:cubicBezTo>
                    <a:pt x="433" y="1640"/>
                    <a:pt x="444" y="1672"/>
                    <a:pt x="432" y="1690"/>
                  </a:cubicBezTo>
                  <a:cubicBezTo>
                    <a:pt x="436" y="1711"/>
                    <a:pt x="445" y="1728"/>
                    <a:pt x="456" y="1739"/>
                  </a:cubicBezTo>
                  <a:cubicBezTo>
                    <a:pt x="474" y="1751"/>
                    <a:pt x="477" y="1753"/>
                    <a:pt x="498" y="1757"/>
                  </a:cubicBezTo>
                  <a:cubicBezTo>
                    <a:pt x="506" y="1780"/>
                    <a:pt x="544" y="1791"/>
                    <a:pt x="564" y="1792"/>
                  </a:cubicBezTo>
                  <a:cubicBezTo>
                    <a:pt x="586" y="1791"/>
                    <a:pt x="602" y="1773"/>
                    <a:pt x="624" y="1769"/>
                  </a:cubicBezTo>
                  <a:cubicBezTo>
                    <a:pt x="633" y="1767"/>
                    <a:pt x="630" y="1749"/>
                    <a:pt x="624" y="1742"/>
                  </a:cubicBezTo>
                  <a:cubicBezTo>
                    <a:pt x="618" y="1735"/>
                    <a:pt x="593" y="1731"/>
                    <a:pt x="579" y="1712"/>
                  </a:cubicBezTo>
                  <a:cubicBezTo>
                    <a:pt x="573" y="1695"/>
                    <a:pt x="575" y="1678"/>
                    <a:pt x="570" y="1661"/>
                  </a:cubicBezTo>
                  <a:cubicBezTo>
                    <a:pt x="572" y="1648"/>
                    <a:pt x="589" y="1643"/>
                    <a:pt x="594" y="1631"/>
                  </a:cubicBezTo>
                  <a:cubicBezTo>
                    <a:pt x="604" y="1617"/>
                    <a:pt x="628" y="1588"/>
                    <a:pt x="633" y="1574"/>
                  </a:cubicBezTo>
                  <a:cubicBezTo>
                    <a:pt x="638" y="1560"/>
                    <a:pt x="636" y="1552"/>
                    <a:pt x="624" y="1544"/>
                  </a:cubicBezTo>
                  <a:cubicBezTo>
                    <a:pt x="617" y="1534"/>
                    <a:pt x="610" y="1527"/>
                    <a:pt x="600" y="1520"/>
                  </a:cubicBezTo>
                  <a:cubicBezTo>
                    <a:pt x="579" y="1488"/>
                    <a:pt x="618" y="1490"/>
                    <a:pt x="636" y="1478"/>
                  </a:cubicBezTo>
                  <a:cubicBezTo>
                    <a:pt x="638" y="1475"/>
                    <a:pt x="641" y="1473"/>
                    <a:pt x="642" y="1469"/>
                  </a:cubicBezTo>
                  <a:cubicBezTo>
                    <a:pt x="644" y="1459"/>
                    <a:pt x="640" y="1448"/>
                    <a:pt x="645" y="1439"/>
                  </a:cubicBezTo>
                  <a:cubicBezTo>
                    <a:pt x="648" y="1434"/>
                    <a:pt x="663" y="1433"/>
                    <a:pt x="663" y="1433"/>
                  </a:cubicBezTo>
                  <a:cubicBezTo>
                    <a:pt x="668" y="1419"/>
                    <a:pt x="662" y="1416"/>
                    <a:pt x="651" y="1409"/>
                  </a:cubicBezTo>
                  <a:cubicBezTo>
                    <a:pt x="637" y="1388"/>
                    <a:pt x="665" y="1384"/>
                    <a:pt x="681" y="1382"/>
                  </a:cubicBezTo>
                  <a:cubicBezTo>
                    <a:pt x="706" y="1306"/>
                    <a:pt x="663" y="1326"/>
                    <a:pt x="789" y="1322"/>
                  </a:cubicBezTo>
                  <a:cubicBezTo>
                    <a:pt x="795" y="1318"/>
                    <a:pt x="801" y="1314"/>
                    <a:pt x="807" y="1310"/>
                  </a:cubicBezTo>
                  <a:cubicBezTo>
                    <a:pt x="810" y="1308"/>
                    <a:pt x="816" y="1304"/>
                    <a:pt x="816" y="1304"/>
                  </a:cubicBezTo>
                  <a:cubicBezTo>
                    <a:pt x="825" y="1290"/>
                    <a:pt x="824" y="1280"/>
                    <a:pt x="810" y="1271"/>
                  </a:cubicBezTo>
                  <a:cubicBezTo>
                    <a:pt x="784" y="1232"/>
                    <a:pt x="846" y="1246"/>
                    <a:pt x="878" y="1244"/>
                  </a:cubicBezTo>
                  <a:cubicBezTo>
                    <a:pt x="887" y="1218"/>
                    <a:pt x="908" y="1202"/>
                    <a:pt x="923" y="1166"/>
                  </a:cubicBezTo>
                  <a:cubicBezTo>
                    <a:pt x="932" y="1139"/>
                    <a:pt x="967" y="1106"/>
                    <a:pt x="983" y="1082"/>
                  </a:cubicBezTo>
                  <a:cubicBezTo>
                    <a:pt x="987" y="1053"/>
                    <a:pt x="990" y="1011"/>
                    <a:pt x="1022" y="1000"/>
                  </a:cubicBezTo>
                  <a:cubicBezTo>
                    <a:pt x="1037" y="982"/>
                    <a:pt x="1055" y="983"/>
                    <a:pt x="1071" y="971"/>
                  </a:cubicBezTo>
                  <a:cubicBezTo>
                    <a:pt x="1072" y="971"/>
                    <a:pt x="1111" y="935"/>
                    <a:pt x="1119" y="929"/>
                  </a:cubicBezTo>
                  <a:cubicBezTo>
                    <a:pt x="1125" y="910"/>
                    <a:pt x="1134" y="895"/>
                    <a:pt x="1137" y="875"/>
                  </a:cubicBezTo>
                  <a:cubicBezTo>
                    <a:pt x="1138" y="857"/>
                    <a:pt x="1138" y="839"/>
                    <a:pt x="1140" y="821"/>
                  </a:cubicBezTo>
                  <a:cubicBezTo>
                    <a:pt x="1141" y="810"/>
                    <a:pt x="1149" y="788"/>
                    <a:pt x="1149" y="788"/>
                  </a:cubicBezTo>
                  <a:cubicBezTo>
                    <a:pt x="1150" y="774"/>
                    <a:pt x="1149" y="760"/>
                    <a:pt x="1152" y="746"/>
                  </a:cubicBezTo>
                  <a:cubicBezTo>
                    <a:pt x="1154" y="736"/>
                    <a:pt x="1179" y="734"/>
                    <a:pt x="1179" y="734"/>
                  </a:cubicBezTo>
                  <a:cubicBezTo>
                    <a:pt x="1182" y="718"/>
                    <a:pt x="1184" y="713"/>
                    <a:pt x="1197" y="704"/>
                  </a:cubicBezTo>
                  <a:cubicBezTo>
                    <a:pt x="1204" y="694"/>
                    <a:pt x="1211" y="687"/>
                    <a:pt x="1221" y="680"/>
                  </a:cubicBezTo>
                  <a:cubicBezTo>
                    <a:pt x="1225" y="669"/>
                    <a:pt x="1230" y="661"/>
                    <a:pt x="1233" y="650"/>
                  </a:cubicBezTo>
                  <a:cubicBezTo>
                    <a:pt x="1238" y="602"/>
                    <a:pt x="1232" y="613"/>
                    <a:pt x="1215" y="578"/>
                  </a:cubicBezTo>
                  <a:lnTo>
                    <a:pt x="927" y="443"/>
                  </a:lnTo>
                  <a:cubicBezTo>
                    <a:pt x="929" y="433"/>
                    <a:pt x="932" y="423"/>
                    <a:pt x="933" y="413"/>
                  </a:cubicBezTo>
                  <a:cubicBezTo>
                    <a:pt x="936" y="362"/>
                    <a:pt x="900" y="356"/>
                    <a:pt x="858" y="353"/>
                  </a:cubicBezTo>
                  <a:cubicBezTo>
                    <a:pt x="835" y="345"/>
                    <a:pt x="812" y="338"/>
                    <a:pt x="789" y="332"/>
                  </a:cubicBezTo>
                  <a:cubicBezTo>
                    <a:pt x="779" y="322"/>
                    <a:pt x="769" y="315"/>
                    <a:pt x="759" y="305"/>
                  </a:cubicBezTo>
                  <a:cubicBezTo>
                    <a:pt x="730" y="217"/>
                    <a:pt x="657" y="238"/>
                    <a:pt x="573" y="236"/>
                  </a:cubicBezTo>
                  <a:cubicBezTo>
                    <a:pt x="563" y="233"/>
                    <a:pt x="556" y="227"/>
                    <a:pt x="546" y="224"/>
                  </a:cubicBezTo>
                  <a:cubicBezTo>
                    <a:pt x="538" y="216"/>
                    <a:pt x="519" y="203"/>
                    <a:pt x="519" y="203"/>
                  </a:cubicBezTo>
                  <a:cubicBezTo>
                    <a:pt x="449" y="206"/>
                    <a:pt x="473" y="194"/>
                    <a:pt x="438" y="218"/>
                  </a:cubicBezTo>
                  <a:cubicBezTo>
                    <a:pt x="420" y="226"/>
                    <a:pt x="413" y="242"/>
                    <a:pt x="408" y="251"/>
                  </a:cubicBezTo>
                  <a:cubicBezTo>
                    <a:pt x="399" y="257"/>
                    <a:pt x="423" y="281"/>
                    <a:pt x="402" y="281"/>
                  </a:cubicBezTo>
                  <a:cubicBezTo>
                    <a:pt x="381" y="281"/>
                    <a:pt x="303" y="268"/>
                    <a:pt x="282" y="251"/>
                  </a:cubicBezTo>
                  <a:cubicBezTo>
                    <a:pt x="266" y="235"/>
                    <a:pt x="274" y="199"/>
                    <a:pt x="276" y="178"/>
                  </a:cubicBezTo>
                  <a:cubicBezTo>
                    <a:pt x="278" y="157"/>
                    <a:pt x="313" y="134"/>
                    <a:pt x="297" y="125"/>
                  </a:cubicBezTo>
                  <a:cubicBezTo>
                    <a:pt x="281" y="116"/>
                    <a:pt x="198" y="140"/>
                    <a:pt x="180" y="125"/>
                  </a:cubicBezTo>
                  <a:cubicBezTo>
                    <a:pt x="162" y="110"/>
                    <a:pt x="193" y="55"/>
                    <a:pt x="189" y="35"/>
                  </a:cubicBezTo>
                  <a:cubicBezTo>
                    <a:pt x="185" y="2"/>
                    <a:pt x="188" y="7"/>
                    <a:pt x="159" y="2"/>
                  </a:cubicBezTo>
                  <a:cubicBezTo>
                    <a:pt x="123" y="5"/>
                    <a:pt x="127" y="0"/>
                    <a:pt x="114" y="26"/>
                  </a:cubicBezTo>
                  <a:cubicBezTo>
                    <a:pt x="109" y="79"/>
                    <a:pt x="95" y="59"/>
                    <a:pt x="33" y="56"/>
                  </a:cubicBezTo>
                  <a:cubicBezTo>
                    <a:pt x="24" y="43"/>
                    <a:pt x="5" y="29"/>
                    <a:pt x="0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2395800" y="2208600"/>
              <a:ext cx="2426760" cy="2579400"/>
            </a:xfrm>
            <a:custGeom>
              <a:avLst/>
              <a:gdLst/>
              <a:ahLst/>
              <a:rect l="l" t="t" r="r" b="b"/>
              <a:pathLst>
                <a:path w="1089" h="1119">
                  <a:moveTo>
                    <a:pt x="1089" y="1119"/>
                  </a:moveTo>
                  <a:cubicBezTo>
                    <a:pt x="1072" y="1111"/>
                    <a:pt x="1056" y="1101"/>
                    <a:pt x="1038" y="1095"/>
                  </a:cubicBezTo>
                  <a:cubicBezTo>
                    <a:pt x="1032" y="1095"/>
                    <a:pt x="977" y="1102"/>
                    <a:pt x="960" y="1095"/>
                  </a:cubicBezTo>
                  <a:cubicBezTo>
                    <a:pt x="945" y="1089"/>
                    <a:pt x="932" y="1057"/>
                    <a:pt x="912" y="1050"/>
                  </a:cubicBezTo>
                  <a:cubicBezTo>
                    <a:pt x="871" y="1009"/>
                    <a:pt x="930" y="1070"/>
                    <a:pt x="897" y="1032"/>
                  </a:cubicBezTo>
                  <a:cubicBezTo>
                    <a:pt x="866" y="997"/>
                    <a:pt x="865" y="1002"/>
                    <a:pt x="813" y="999"/>
                  </a:cubicBezTo>
                  <a:cubicBezTo>
                    <a:pt x="790" y="990"/>
                    <a:pt x="822" y="976"/>
                    <a:pt x="804" y="968"/>
                  </a:cubicBezTo>
                  <a:cubicBezTo>
                    <a:pt x="793" y="957"/>
                    <a:pt x="761" y="939"/>
                    <a:pt x="747" y="935"/>
                  </a:cubicBezTo>
                  <a:cubicBezTo>
                    <a:pt x="733" y="931"/>
                    <a:pt x="756" y="956"/>
                    <a:pt x="720" y="944"/>
                  </a:cubicBezTo>
                  <a:cubicBezTo>
                    <a:pt x="684" y="932"/>
                    <a:pt x="566" y="895"/>
                    <a:pt x="528" y="864"/>
                  </a:cubicBezTo>
                  <a:lnTo>
                    <a:pt x="491" y="758"/>
                  </a:lnTo>
                  <a:lnTo>
                    <a:pt x="354" y="579"/>
                  </a:lnTo>
                  <a:cubicBezTo>
                    <a:pt x="349" y="581"/>
                    <a:pt x="351" y="611"/>
                    <a:pt x="354" y="618"/>
                  </a:cubicBezTo>
                  <a:cubicBezTo>
                    <a:pt x="358" y="627"/>
                    <a:pt x="376" y="634"/>
                    <a:pt x="381" y="645"/>
                  </a:cubicBezTo>
                  <a:cubicBezTo>
                    <a:pt x="387" y="659"/>
                    <a:pt x="450" y="774"/>
                    <a:pt x="450" y="788"/>
                  </a:cubicBezTo>
                  <a:cubicBezTo>
                    <a:pt x="450" y="802"/>
                    <a:pt x="410" y="766"/>
                    <a:pt x="384" y="731"/>
                  </a:cubicBezTo>
                  <a:cubicBezTo>
                    <a:pt x="363" y="702"/>
                    <a:pt x="320" y="608"/>
                    <a:pt x="296" y="576"/>
                  </a:cubicBezTo>
                  <a:cubicBezTo>
                    <a:pt x="272" y="544"/>
                    <a:pt x="255" y="552"/>
                    <a:pt x="240" y="537"/>
                  </a:cubicBezTo>
                  <a:cubicBezTo>
                    <a:pt x="230" y="523"/>
                    <a:pt x="209" y="502"/>
                    <a:pt x="204" y="486"/>
                  </a:cubicBezTo>
                  <a:cubicBezTo>
                    <a:pt x="201" y="476"/>
                    <a:pt x="189" y="459"/>
                    <a:pt x="189" y="459"/>
                  </a:cubicBezTo>
                  <a:cubicBezTo>
                    <a:pt x="187" y="452"/>
                    <a:pt x="183" y="438"/>
                    <a:pt x="183" y="438"/>
                  </a:cubicBezTo>
                  <a:lnTo>
                    <a:pt x="144" y="384"/>
                  </a:lnTo>
                  <a:lnTo>
                    <a:pt x="144" y="240"/>
                  </a:lnTo>
                  <a:lnTo>
                    <a:pt x="144" y="192"/>
                  </a:lnTo>
                  <a:lnTo>
                    <a:pt x="95" y="120"/>
                  </a:lnTo>
                  <a:cubicBezTo>
                    <a:pt x="80" y="96"/>
                    <a:pt x="70" y="71"/>
                    <a:pt x="54" y="51"/>
                  </a:cubicBez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6200000">
              <a:off x="-856440" y="2697120"/>
              <a:ext cx="5223960" cy="2138760"/>
            </a:xfrm>
            <a:custGeom>
              <a:avLst/>
              <a:gdLst/>
              <a:ahLst/>
              <a:rect l="l" t="t" r="r" b="b"/>
              <a:pathLst>
                <a:path w="2344" h="928">
                  <a:moveTo>
                    <a:pt x="748" y="715"/>
                  </a:moveTo>
                  <a:cubicBezTo>
                    <a:pt x="758" y="755"/>
                    <a:pt x="751" y="740"/>
                    <a:pt x="763" y="763"/>
                  </a:cubicBezTo>
                  <a:cubicBezTo>
                    <a:pt x="768" y="778"/>
                    <a:pt x="780" y="786"/>
                    <a:pt x="786" y="795"/>
                  </a:cubicBezTo>
                  <a:cubicBezTo>
                    <a:pt x="792" y="799"/>
                    <a:pt x="796" y="817"/>
                    <a:pt x="796" y="817"/>
                  </a:cubicBezTo>
                  <a:cubicBezTo>
                    <a:pt x="797" y="820"/>
                    <a:pt x="802" y="826"/>
                    <a:pt x="799" y="826"/>
                  </a:cubicBezTo>
                  <a:cubicBezTo>
                    <a:pt x="793" y="826"/>
                    <a:pt x="764" y="801"/>
                    <a:pt x="757" y="796"/>
                  </a:cubicBezTo>
                  <a:cubicBezTo>
                    <a:pt x="749" y="784"/>
                    <a:pt x="739" y="779"/>
                    <a:pt x="730" y="769"/>
                  </a:cubicBezTo>
                  <a:cubicBezTo>
                    <a:pt x="705" y="740"/>
                    <a:pt x="730" y="759"/>
                    <a:pt x="709" y="745"/>
                  </a:cubicBezTo>
                  <a:cubicBezTo>
                    <a:pt x="703" y="730"/>
                    <a:pt x="701" y="697"/>
                    <a:pt x="693" y="676"/>
                  </a:cubicBezTo>
                  <a:cubicBezTo>
                    <a:pt x="686" y="663"/>
                    <a:pt x="674" y="631"/>
                    <a:pt x="663" y="621"/>
                  </a:cubicBezTo>
                  <a:cubicBezTo>
                    <a:pt x="658" y="616"/>
                    <a:pt x="631" y="574"/>
                    <a:pt x="631" y="574"/>
                  </a:cubicBezTo>
                  <a:cubicBezTo>
                    <a:pt x="612" y="564"/>
                    <a:pt x="566" y="554"/>
                    <a:pt x="535" y="546"/>
                  </a:cubicBezTo>
                  <a:cubicBezTo>
                    <a:pt x="504" y="538"/>
                    <a:pt x="465" y="533"/>
                    <a:pt x="445" y="523"/>
                  </a:cubicBezTo>
                  <a:cubicBezTo>
                    <a:pt x="436" y="511"/>
                    <a:pt x="425" y="497"/>
                    <a:pt x="415" y="487"/>
                  </a:cubicBezTo>
                  <a:cubicBezTo>
                    <a:pt x="405" y="486"/>
                    <a:pt x="437" y="527"/>
                    <a:pt x="427" y="538"/>
                  </a:cubicBezTo>
                  <a:cubicBezTo>
                    <a:pt x="417" y="549"/>
                    <a:pt x="374" y="558"/>
                    <a:pt x="357" y="556"/>
                  </a:cubicBezTo>
                  <a:cubicBezTo>
                    <a:pt x="340" y="554"/>
                    <a:pt x="334" y="532"/>
                    <a:pt x="325" y="526"/>
                  </a:cubicBezTo>
                  <a:cubicBezTo>
                    <a:pt x="320" y="512"/>
                    <a:pt x="316" y="512"/>
                    <a:pt x="304" y="520"/>
                  </a:cubicBezTo>
                  <a:cubicBezTo>
                    <a:pt x="288" y="544"/>
                    <a:pt x="292" y="557"/>
                    <a:pt x="298" y="586"/>
                  </a:cubicBezTo>
                  <a:cubicBezTo>
                    <a:pt x="292" y="605"/>
                    <a:pt x="272" y="594"/>
                    <a:pt x="256" y="604"/>
                  </a:cubicBezTo>
                  <a:cubicBezTo>
                    <a:pt x="246" y="619"/>
                    <a:pt x="228" y="649"/>
                    <a:pt x="211" y="651"/>
                  </a:cubicBezTo>
                  <a:cubicBezTo>
                    <a:pt x="191" y="657"/>
                    <a:pt x="157" y="664"/>
                    <a:pt x="141" y="669"/>
                  </a:cubicBezTo>
                  <a:cubicBezTo>
                    <a:pt x="126" y="670"/>
                    <a:pt x="126" y="680"/>
                    <a:pt x="118" y="679"/>
                  </a:cubicBezTo>
                  <a:cubicBezTo>
                    <a:pt x="110" y="678"/>
                    <a:pt x="87" y="669"/>
                    <a:pt x="91" y="661"/>
                  </a:cubicBezTo>
                  <a:cubicBezTo>
                    <a:pt x="97" y="643"/>
                    <a:pt x="128" y="634"/>
                    <a:pt x="145" y="628"/>
                  </a:cubicBezTo>
                  <a:cubicBezTo>
                    <a:pt x="152" y="626"/>
                    <a:pt x="163" y="616"/>
                    <a:pt x="163" y="616"/>
                  </a:cubicBezTo>
                  <a:cubicBezTo>
                    <a:pt x="168" y="610"/>
                    <a:pt x="212" y="596"/>
                    <a:pt x="216" y="589"/>
                  </a:cubicBezTo>
                  <a:cubicBezTo>
                    <a:pt x="220" y="582"/>
                    <a:pt x="202" y="572"/>
                    <a:pt x="190" y="571"/>
                  </a:cubicBezTo>
                  <a:cubicBezTo>
                    <a:pt x="180" y="566"/>
                    <a:pt x="154" y="585"/>
                    <a:pt x="142" y="582"/>
                  </a:cubicBezTo>
                  <a:cubicBezTo>
                    <a:pt x="130" y="579"/>
                    <a:pt x="124" y="560"/>
                    <a:pt x="118" y="553"/>
                  </a:cubicBezTo>
                  <a:cubicBezTo>
                    <a:pt x="111" y="552"/>
                    <a:pt x="109" y="541"/>
                    <a:pt x="103" y="538"/>
                  </a:cubicBezTo>
                  <a:cubicBezTo>
                    <a:pt x="96" y="535"/>
                    <a:pt x="86" y="547"/>
                    <a:pt x="76" y="546"/>
                  </a:cubicBezTo>
                  <a:cubicBezTo>
                    <a:pt x="66" y="545"/>
                    <a:pt x="46" y="537"/>
                    <a:pt x="43" y="532"/>
                  </a:cubicBezTo>
                  <a:cubicBezTo>
                    <a:pt x="37" y="525"/>
                    <a:pt x="53" y="529"/>
                    <a:pt x="60" y="513"/>
                  </a:cubicBezTo>
                  <a:cubicBezTo>
                    <a:pt x="60" y="503"/>
                    <a:pt x="39" y="485"/>
                    <a:pt x="43" y="472"/>
                  </a:cubicBezTo>
                  <a:cubicBezTo>
                    <a:pt x="47" y="459"/>
                    <a:pt x="73" y="443"/>
                    <a:pt x="85" y="433"/>
                  </a:cubicBezTo>
                  <a:cubicBezTo>
                    <a:pt x="94" y="425"/>
                    <a:pt x="107" y="417"/>
                    <a:pt x="118" y="412"/>
                  </a:cubicBezTo>
                  <a:cubicBezTo>
                    <a:pt x="124" y="409"/>
                    <a:pt x="136" y="406"/>
                    <a:pt x="136" y="406"/>
                  </a:cubicBezTo>
                  <a:cubicBezTo>
                    <a:pt x="157" y="375"/>
                    <a:pt x="89" y="386"/>
                    <a:pt x="52" y="385"/>
                  </a:cubicBezTo>
                  <a:cubicBezTo>
                    <a:pt x="37" y="380"/>
                    <a:pt x="32" y="367"/>
                    <a:pt x="19" y="358"/>
                  </a:cubicBezTo>
                  <a:cubicBezTo>
                    <a:pt x="0" y="301"/>
                    <a:pt x="85" y="313"/>
                    <a:pt x="118" y="310"/>
                  </a:cubicBezTo>
                  <a:cubicBezTo>
                    <a:pt x="114" y="298"/>
                    <a:pt x="106" y="295"/>
                    <a:pt x="97" y="286"/>
                  </a:cubicBezTo>
                  <a:cubicBezTo>
                    <a:pt x="94" y="277"/>
                    <a:pt x="76" y="265"/>
                    <a:pt x="76" y="265"/>
                  </a:cubicBezTo>
                  <a:cubicBezTo>
                    <a:pt x="58" y="238"/>
                    <a:pt x="78" y="219"/>
                    <a:pt x="97" y="202"/>
                  </a:cubicBezTo>
                  <a:cubicBezTo>
                    <a:pt x="107" y="194"/>
                    <a:pt x="112" y="179"/>
                    <a:pt x="124" y="175"/>
                  </a:cubicBezTo>
                  <a:cubicBezTo>
                    <a:pt x="155" y="165"/>
                    <a:pt x="186" y="158"/>
                    <a:pt x="217" y="148"/>
                  </a:cubicBezTo>
                  <a:cubicBezTo>
                    <a:pt x="267" y="151"/>
                    <a:pt x="317" y="154"/>
                    <a:pt x="367" y="157"/>
                  </a:cubicBezTo>
                  <a:cubicBezTo>
                    <a:pt x="410" y="164"/>
                    <a:pt x="413" y="164"/>
                    <a:pt x="475" y="166"/>
                  </a:cubicBezTo>
                  <a:cubicBezTo>
                    <a:pt x="496" y="170"/>
                    <a:pt x="516" y="173"/>
                    <a:pt x="538" y="175"/>
                  </a:cubicBezTo>
                  <a:cubicBezTo>
                    <a:pt x="560" y="180"/>
                    <a:pt x="604" y="184"/>
                    <a:pt x="604" y="184"/>
                  </a:cubicBezTo>
                  <a:cubicBezTo>
                    <a:pt x="611" y="188"/>
                    <a:pt x="618" y="193"/>
                    <a:pt x="625" y="196"/>
                  </a:cubicBezTo>
                  <a:cubicBezTo>
                    <a:pt x="631" y="199"/>
                    <a:pt x="643" y="202"/>
                    <a:pt x="643" y="202"/>
                  </a:cubicBezTo>
                  <a:cubicBezTo>
                    <a:pt x="673" y="199"/>
                    <a:pt x="674" y="196"/>
                    <a:pt x="697" y="190"/>
                  </a:cubicBezTo>
                  <a:cubicBezTo>
                    <a:pt x="727" y="170"/>
                    <a:pt x="764" y="176"/>
                    <a:pt x="799" y="175"/>
                  </a:cubicBezTo>
                  <a:cubicBezTo>
                    <a:pt x="818" y="163"/>
                    <a:pt x="809" y="154"/>
                    <a:pt x="832" y="169"/>
                  </a:cubicBezTo>
                  <a:cubicBezTo>
                    <a:pt x="850" y="224"/>
                    <a:pt x="830" y="172"/>
                    <a:pt x="979" y="181"/>
                  </a:cubicBezTo>
                  <a:cubicBezTo>
                    <a:pt x="988" y="182"/>
                    <a:pt x="1000" y="193"/>
                    <a:pt x="1009" y="196"/>
                  </a:cubicBezTo>
                  <a:cubicBezTo>
                    <a:pt x="1024" y="211"/>
                    <a:pt x="1043" y="214"/>
                    <a:pt x="1063" y="217"/>
                  </a:cubicBezTo>
                  <a:cubicBezTo>
                    <a:pt x="1068" y="201"/>
                    <a:pt x="1069" y="210"/>
                    <a:pt x="1048" y="196"/>
                  </a:cubicBezTo>
                  <a:cubicBezTo>
                    <a:pt x="1045" y="194"/>
                    <a:pt x="1039" y="190"/>
                    <a:pt x="1039" y="190"/>
                  </a:cubicBezTo>
                  <a:cubicBezTo>
                    <a:pt x="1054" y="187"/>
                    <a:pt x="1065" y="178"/>
                    <a:pt x="1078" y="169"/>
                  </a:cubicBezTo>
                  <a:cubicBezTo>
                    <a:pt x="1041" y="160"/>
                    <a:pt x="1011" y="173"/>
                    <a:pt x="988" y="139"/>
                  </a:cubicBezTo>
                  <a:cubicBezTo>
                    <a:pt x="968" y="133"/>
                    <a:pt x="966" y="131"/>
                    <a:pt x="958" y="133"/>
                  </a:cubicBezTo>
                  <a:cubicBezTo>
                    <a:pt x="951" y="136"/>
                    <a:pt x="947" y="145"/>
                    <a:pt x="940" y="148"/>
                  </a:cubicBezTo>
                  <a:cubicBezTo>
                    <a:pt x="933" y="152"/>
                    <a:pt x="924" y="151"/>
                    <a:pt x="916" y="154"/>
                  </a:cubicBezTo>
                  <a:cubicBezTo>
                    <a:pt x="885" y="150"/>
                    <a:pt x="856" y="135"/>
                    <a:pt x="841" y="106"/>
                  </a:cubicBezTo>
                  <a:cubicBezTo>
                    <a:pt x="844" y="81"/>
                    <a:pt x="851" y="79"/>
                    <a:pt x="858" y="58"/>
                  </a:cubicBezTo>
                  <a:cubicBezTo>
                    <a:pt x="861" y="47"/>
                    <a:pt x="873" y="49"/>
                    <a:pt x="877" y="40"/>
                  </a:cubicBezTo>
                  <a:cubicBezTo>
                    <a:pt x="881" y="31"/>
                    <a:pt x="857" y="6"/>
                    <a:pt x="883" y="1"/>
                  </a:cubicBezTo>
                  <a:cubicBezTo>
                    <a:pt x="933" y="4"/>
                    <a:pt x="984" y="0"/>
                    <a:pt x="1033" y="10"/>
                  </a:cubicBezTo>
                  <a:cubicBezTo>
                    <a:pt x="1051" y="22"/>
                    <a:pt x="1072" y="35"/>
                    <a:pt x="1093" y="43"/>
                  </a:cubicBezTo>
                  <a:cubicBezTo>
                    <a:pt x="1102" y="47"/>
                    <a:pt x="1112" y="47"/>
                    <a:pt x="1120" y="52"/>
                  </a:cubicBezTo>
                  <a:cubicBezTo>
                    <a:pt x="1126" y="56"/>
                    <a:pt x="1140" y="66"/>
                    <a:pt x="1147" y="67"/>
                  </a:cubicBezTo>
                  <a:cubicBezTo>
                    <a:pt x="1159" y="69"/>
                    <a:pt x="1171" y="69"/>
                    <a:pt x="1183" y="70"/>
                  </a:cubicBezTo>
                  <a:cubicBezTo>
                    <a:pt x="1194" y="70"/>
                    <a:pt x="1207" y="103"/>
                    <a:pt x="1216" y="102"/>
                  </a:cubicBezTo>
                  <a:cubicBezTo>
                    <a:pt x="1221" y="99"/>
                    <a:pt x="1208" y="62"/>
                    <a:pt x="1215" y="49"/>
                  </a:cubicBezTo>
                  <a:cubicBezTo>
                    <a:pt x="1221" y="37"/>
                    <a:pt x="1249" y="28"/>
                    <a:pt x="1260" y="24"/>
                  </a:cubicBezTo>
                  <a:cubicBezTo>
                    <a:pt x="1276" y="27"/>
                    <a:pt x="1291" y="41"/>
                    <a:pt x="1300" y="55"/>
                  </a:cubicBezTo>
                  <a:cubicBezTo>
                    <a:pt x="1296" y="70"/>
                    <a:pt x="1301" y="76"/>
                    <a:pt x="1288" y="85"/>
                  </a:cubicBezTo>
                  <a:cubicBezTo>
                    <a:pt x="1290" y="97"/>
                    <a:pt x="1286" y="127"/>
                    <a:pt x="1302" y="150"/>
                  </a:cubicBezTo>
                  <a:cubicBezTo>
                    <a:pt x="1316" y="167"/>
                    <a:pt x="1365" y="171"/>
                    <a:pt x="1374" y="187"/>
                  </a:cubicBezTo>
                  <a:cubicBezTo>
                    <a:pt x="1383" y="203"/>
                    <a:pt x="1351" y="239"/>
                    <a:pt x="1356" y="249"/>
                  </a:cubicBezTo>
                  <a:cubicBezTo>
                    <a:pt x="1361" y="259"/>
                    <a:pt x="1394" y="256"/>
                    <a:pt x="1402" y="249"/>
                  </a:cubicBezTo>
                  <a:cubicBezTo>
                    <a:pt x="1410" y="242"/>
                    <a:pt x="1400" y="220"/>
                    <a:pt x="1405" y="207"/>
                  </a:cubicBezTo>
                  <a:cubicBezTo>
                    <a:pt x="1410" y="194"/>
                    <a:pt x="1426" y="188"/>
                    <a:pt x="1435" y="172"/>
                  </a:cubicBezTo>
                  <a:cubicBezTo>
                    <a:pt x="1439" y="147"/>
                    <a:pt x="1448" y="130"/>
                    <a:pt x="1462" y="109"/>
                  </a:cubicBezTo>
                  <a:cubicBezTo>
                    <a:pt x="1464" y="52"/>
                    <a:pt x="1457" y="16"/>
                    <a:pt x="1516" y="4"/>
                  </a:cubicBezTo>
                  <a:cubicBezTo>
                    <a:pt x="1534" y="5"/>
                    <a:pt x="1552" y="3"/>
                    <a:pt x="1570" y="7"/>
                  </a:cubicBezTo>
                  <a:cubicBezTo>
                    <a:pt x="1588" y="11"/>
                    <a:pt x="1567" y="49"/>
                    <a:pt x="1558" y="55"/>
                  </a:cubicBezTo>
                  <a:cubicBezTo>
                    <a:pt x="1554" y="66"/>
                    <a:pt x="1544" y="79"/>
                    <a:pt x="1534" y="85"/>
                  </a:cubicBezTo>
                  <a:cubicBezTo>
                    <a:pt x="1528" y="95"/>
                    <a:pt x="1514" y="110"/>
                    <a:pt x="1515" y="120"/>
                  </a:cubicBezTo>
                  <a:cubicBezTo>
                    <a:pt x="1516" y="130"/>
                    <a:pt x="1534" y="140"/>
                    <a:pt x="1540" y="148"/>
                  </a:cubicBezTo>
                  <a:cubicBezTo>
                    <a:pt x="1543" y="162"/>
                    <a:pt x="1543" y="161"/>
                    <a:pt x="1552" y="169"/>
                  </a:cubicBezTo>
                  <a:cubicBezTo>
                    <a:pt x="1564" y="200"/>
                    <a:pt x="1550" y="203"/>
                    <a:pt x="1594" y="207"/>
                  </a:cubicBezTo>
                  <a:cubicBezTo>
                    <a:pt x="1603" y="220"/>
                    <a:pt x="1614" y="220"/>
                    <a:pt x="1618" y="235"/>
                  </a:cubicBezTo>
                  <a:cubicBezTo>
                    <a:pt x="1621" y="245"/>
                    <a:pt x="1627" y="265"/>
                    <a:pt x="1627" y="265"/>
                  </a:cubicBezTo>
                  <a:cubicBezTo>
                    <a:pt x="1639" y="261"/>
                    <a:pt x="1644" y="252"/>
                    <a:pt x="1654" y="244"/>
                  </a:cubicBezTo>
                  <a:cubicBezTo>
                    <a:pt x="1659" y="224"/>
                    <a:pt x="1669" y="201"/>
                    <a:pt x="1648" y="187"/>
                  </a:cubicBezTo>
                  <a:cubicBezTo>
                    <a:pt x="1639" y="174"/>
                    <a:pt x="1626" y="164"/>
                    <a:pt x="1612" y="157"/>
                  </a:cubicBezTo>
                  <a:cubicBezTo>
                    <a:pt x="1606" y="148"/>
                    <a:pt x="1588" y="136"/>
                    <a:pt x="1588" y="136"/>
                  </a:cubicBezTo>
                  <a:cubicBezTo>
                    <a:pt x="1567" y="104"/>
                    <a:pt x="1577" y="93"/>
                    <a:pt x="1600" y="67"/>
                  </a:cubicBezTo>
                  <a:cubicBezTo>
                    <a:pt x="1609" y="57"/>
                    <a:pt x="1615" y="46"/>
                    <a:pt x="1627" y="40"/>
                  </a:cubicBezTo>
                  <a:cubicBezTo>
                    <a:pt x="1643" y="32"/>
                    <a:pt x="1664" y="29"/>
                    <a:pt x="1681" y="25"/>
                  </a:cubicBezTo>
                  <a:cubicBezTo>
                    <a:pt x="1685" y="24"/>
                    <a:pt x="1693" y="22"/>
                    <a:pt x="1693" y="22"/>
                  </a:cubicBezTo>
                  <a:cubicBezTo>
                    <a:pt x="1739" y="23"/>
                    <a:pt x="1776" y="38"/>
                    <a:pt x="1822" y="40"/>
                  </a:cubicBezTo>
                  <a:cubicBezTo>
                    <a:pt x="1840" y="41"/>
                    <a:pt x="1860" y="75"/>
                    <a:pt x="1873" y="84"/>
                  </a:cubicBezTo>
                  <a:cubicBezTo>
                    <a:pt x="1888" y="95"/>
                    <a:pt x="1909" y="107"/>
                    <a:pt x="1927" y="112"/>
                  </a:cubicBezTo>
                  <a:cubicBezTo>
                    <a:pt x="1954" y="130"/>
                    <a:pt x="1958" y="130"/>
                    <a:pt x="1993" y="139"/>
                  </a:cubicBezTo>
                  <a:cubicBezTo>
                    <a:pt x="2011" y="148"/>
                    <a:pt x="2022" y="159"/>
                    <a:pt x="2035" y="169"/>
                  </a:cubicBezTo>
                  <a:cubicBezTo>
                    <a:pt x="2044" y="183"/>
                    <a:pt x="2044" y="189"/>
                    <a:pt x="2056" y="201"/>
                  </a:cubicBezTo>
                  <a:cubicBezTo>
                    <a:pt x="2062" y="211"/>
                    <a:pt x="2027" y="225"/>
                    <a:pt x="2049" y="238"/>
                  </a:cubicBezTo>
                  <a:cubicBezTo>
                    <a:pt x="2068" y="254"/>
                    <a:pt x="2160" y="278"/>
                    <a:pt x="2170" y="298"/>
                  </a:cubicBezTo>
                  <a:lnTo>
                    <a:pt x="2109" y="358"/>
                  </a:lnTo>
                  <a:cubicBezTo>
                    <a:pt x="2098" y="372"/>
                    <a:pt x="2042" y="315"/>
                    <a:pt x="2040" y="330"/>
                  </a:cubicBezTo>
                  <a:cubicBezTo>
                    <a:pt x="2040" y="342"/>
                    <a:pt x="2116" y="411"/>
                    <a:pt x="2112" y="430"/>
                  </a:cubicBezTo>
                  <a:cubicBezTo>
                    <a:pt x="2095" y="464"/>
                    <a:pt x="2093" y="454"/>
                    <a:pt x="2016" y="447"/>
                  </a:cubicBezTo>
                  <a:cubicBezTo>
                    <a:pt x="1993" y="445"/>
                    <a:pt x="1953" y="420"/>
                    <a:pt x="1935" y="408"/>
                  </a:cubicBezTo>
                  <a:cubicBezTo>
                    <a:pt x="1911" y="392"/>
                    <a:pt x="1890" y="394"/>
                    <a:pt x="1861" y="391"/>
                  </a:cubicBezTo>
                  <a:cubicBezTo>
                    <a:pt x="1840" y="384"/>
                    <a:pt x="1841" y="393"/>
                    <a:pt x="1831" y="379"/>
                  </a:cubicBezTo>
                  <a:cubicBezTo>
                    <a:pt x="1826" y="369"/>
                    <a:pt x="1839" y="350"/>
                    <a:pt x="1849" y="343"/>
                  </a:cubicBezTo>
                  <a:cubicBezTo>
                    <a:pt x="1859" y="336"/>
                    <a:pt x="1878" y="345"/>
                    <a:pt x="1891" y="334"/>
                  </a:cubicBezTo>
                  <a:cubicBezTo>
                    <a:pt x="1899" y="327"/>
                    <a:pt x="1926" y="287"/>
                    <a:pt x="1926" y="276"/>
                  </a:cubicBezTo>
                  <a:cubicBezTo>
                    <a:pt x="1926" y="265"/>
                    <a:pt x="1902" y="264"/>
                    <a:pt x="1891" y="268"/>
                  </a:cubicBezTo>
                  <a:cubicBezTo>
                    <a:pt x="1870" y="273"/>
                    <a:pt x="1877" y="291"/>
                    <a:pt x="1857" y="298"/>
                  </a:cubicBezTo>
                  <a:cubicBezTo>
                    <a:pt x="1851" y="292"/>
                    <a:pt x="1836" y="278"/>
                    <a:pt x="1834" y="270"/>
                  </a:cubicBezTo>
                  <a:cubicBezTo>
                    <a:pt x="1830" y="248"/>
                    <a:pt x="1848" y="258"/>
                    <a:pt x="1854" y="240"/>
                  </a:cubicBezTo>
                  <a:cubicBezTo>
                    <a:pt x="1849" y="224"/>
                    <a:pt x="1810" y="201"/>
                    <a:pt x="1795" y="196"/>
                  </a:cubicBezTo>
                  <a:cubicBezTo>
                    <a:pt x="1778" y="198"/>
                    <a:pt x="1765" y="194"/>
                    <a:pt x="1759" y="211"/>
                  </a:cubicBezTo>
                  <a:cubicBezTo>
                    <a:pt x="1746" y="222"/>
                    <a:pt x="1771" y="286"/>
                    <a:pt x="1758" y="303"/>
                  </a:cubicBezTo>
                  <a:cubicBezTo>
                    <a:pt x="1745" y="320"/>
                    <a:pt x="1687" y="307"/>
                    <a:pt x="1678" y="316"/>
                  </a:cubicBezTo>
                  <a:cubicBezTo>
                    <a:pt x="1668" y="331"/>
                    <a:pt x="1688" y="355"/>
                    <a:pt x="1702" y="360"/>
                  </a:cubicBezTo>
                  <a:cubicBezTo>
                    <a:pt x="1723" y="357"/>
                    <a:pt x="1735" y="350"/>
                    <a:pt x="1752" y="361"/>
                  </a:cubicBezTo>
                  <a:cubicBezTo>
                    <a:pt x="1761" y="368"/>
                    <a:pt x="1800" y="411"/>
                    <a:pt x="1771" y="418"/>
                  </a:cubicBezTo>
                  <a:cubicBezTo>
                    <a:pt x="1744" y="427"/>
                    <a:pt x="1622" y="409"/>
                    <a:pt x="1588" y="415"/>
                  </a:cubicBezTo>
                  <a:cubicBezTo>
                    <a:pt x="1574" y="424"/>
                    <a:pt x="1575" y="434"/>
                    <a:pt x="1569" y="451"/>
                  </a:cubicBezTo>
                  <a:cubicBezTo>
                    <a:pt x="1564" y="466"/>
                    <a:pt x="1534" y="463"/>
                    <a:pt x="1525" y="475"/>
                  </a:cubicBezTo>
                  <a:cubicBezTo>
                    <a:pt x="1525" y="475"/>
                    <a:pt x="1510" y="497"/>
                    <a:pt x="1507" y="502"/>
                  </a:cubicBezTo>
                  <a:cubicBezTo>
                    <a:pt x="1505" y="505"/>
                    <a:pt x="1501" y="511"/>
                    <a:pt x="1501" y="511"/>
                  </a:cubicBezTo>
                  <a:cubicBezTo>
                    <a:pt x="1504" y="568"/>
                    <a:pt x="1496" y="573"/>
                    <a:pt x="1546" y="565"/>
                  </a:cubicBezTo>
                  <a:cubicBezTo>
                    <a:pt x="1551" y="566"/>
                    <a:pt x="1558" y="564"/>
                    <a:pt x="1561" y="568"/>
                  </a:cubicBezTo>
                  <a:cubicBezTo>
                    <a:pt x="1568" y="576"/>
                    <a:pt x="1562" y="589"/>
                    <a:pt x="1567" y="598"/>
                  </a:cubicBezTo>
                  <a:cubicBezTo>
                    <a:pt x="1572" y="609"/>
                    <a:pt x="1581" y="618"/>
                    <a:pt x="1588" y="628"/>
                  </a:cubicBezTo>
                  <a:cubicBezTo>
                    <a:pt x="1591" y="632"/>
                    <a:pt x="1610" y="637"/>
                    <a:pt x="1615" y="640"/>
                  </a:cubicBezTo>
                  <a:cubicBezTo>
                    <a:pt x="1658" y="661"/>
                    <a:pt x="1701" y="661"/>
                    <a:pt x="1735" y="684"/>
                  </a:cubicBezTo>
                  <a:cubicBezTo>
                    <a:pt x="1750" y="706"/>
                    <a:pt x="1743" y="703"/>
                    <a:pt x="1756" y="721"/>
                  </a:cubicBezTo>
                  <a:cubicBezTo>
                    <a:pt x="1765" y="749"/>
                    <a:pt x="1754" y="791"/>
                    <a:pt x="1792" y="781"/>
                  </a:cubicBezTo>
                  <a:cubicBezTo>
                    <a:pt x="1804" y="763"/>
                    <a:pt x="1821" y="762"/>
                    <a:pt x="1815" y="739"/>
                  </a:cubicBezTo>
                  <a:cubicBezTo>
                    <a:pt x="1820" y="724"/>
                    <a:pt x="1797" y="679"/>
                    <a:pt x="1801" y="667"/>
                  </a:cubicBezTo>
                  <a:cubicBezTo>
                    <a:pt x="1805" y="655"/>
                    <a:pt x="1830" y="667"/>
                    <a:pt x="1840" y="664"/>
                  </a:cubicBezTo>
                  <a:cubicBezTo>
                    <a:pt x="1845" y="657"/>
                    <a:pt x="1856" y="654"/>
                    <a:pt x="1858" y="646"/>
                  </a:cubicBezTo>
                  <a:cubicBezTo>
                    <a:pt x="1866" y="606"/>
                    <a:pt x="1849" y="593"/>
                    <a:pt x="1824" y="568"/>
                  </a:cubicBezTo>
                  <a:cubicBezTo>
                    <a:pt x="1819" y="538"/>
                    <a:pt x="1815" y="487"/>
                    <a:pt x="1825" y="466"/>
                  </a:cubicBezTo>
                  <a:cubicBezTo>
                    <a:pt x="1830" y="425"/>
                    <a:pt x="1839" y="436"/>
                    <a:pt x="1882" y="442"/>
                  </a:cubicBezTo>
                  <a:cubicBezTo>
                    <a:pt x="1905" y="450"/>
                    <a:pt x="1966" y="488"/>
                    <a:pt x="1990" y="490"/>
                  </a:cubicBezTo>
                  <a:cubicBezTo>
                    <a:pt x="2012" y="509"/>
                    <a:pt x="2006" y="566"/>
                    <a:pt x="2026" y="583"/>
                  </a:cubicBezTo>
                  <a:cubicBezTo>
                    <a:pt x="2043" y="588"/>
                    <a:pt x="2049" y="555"/>
                    <a:pt x="2067" y="556"/>
                  </a:cubicBezTo>
                  <a:cubicBezTo>
                    <a:pt x="2080" y="551"/>
                    <a:pt x="2080" y="517"/>
                    <a:pt x="2097" y="523"/>
                  </a:cubicBezTo>
                  <a:cubicBezTo>
                    <a:pt x="2114" y="529"/>
                    <a:pt x="2156" y="573"/>
                    <a:pt x="2170" y="595"/>
                  </a:cubicBezTo>
                  <a:cubicBezTo>
                    <a:pt x="2171" y="611"/>
                    <a:pt x="2164" y="640"/>
                    <a:pt x="2179" y="655"/>
                  </a:cubicBezTo>
                  <a:cubicBezTo>
                    <a:pt x="2187" y="663"/>
                    <a:pt x="2197" y="668"/>
                    <a:pt x="2206" y="673"/>
                  </a:cubicBezTo>
                  <a:cubicBezTo>
                    <a:pt x="2212" y="677"/>
                    <a:pt x="2224" y="685"/>
                    <a:pt x="2224" y="685"/>
                  </a:cubicBezTo>
                  <a:cubicBezTo>
                    <a:pt x="2230" y="703"/>
                    <a:pt x="2236" y="715"/>
                    <a:pt x="2254" y="721"/>
                  </a:cubicBezTo>
                  <a:cubicBezTo>
                    <a:pt x="2267" y="741"/>
                    <a:pt x="2264" y="750"/>
                    <a:pt x="2266" y="778"/>
                  </a:cubicBezTo>
                  <a:cubicBezTo>
                    <a:pt x="2266" y="782"/>
                    <a:pt x="2276" y="816"/>
                    <a:pt x="2284" y="820"/>
                  </a:cubicBezTo>
                  <a:cubicBezTo>
                    <a:pt x="2299" y="828"/>
                    <a:pt x="2297" y="840"/>
                    <a:pt x="2314" y="841"/>
                  </a:cubicBezTo>
                  <a:cubicBezTo>
                    <a:pt x="2322" y="853"/>
                    <a:pt x="2332" y="860"/>
                    <a:pt x="2338" y="874"/>
                  </a:cubicBezTo>
                  <a:cubicBezTo>
                    <a:pt x="2341" y="880"/>
                    <a:pt x="2344" y="892"/>
                    <a:pt x="2344" y="892"/>
                  </a:cubicBezTo>
                  <a:cubicBezTo>
                    <a:pt x="2340" y="928"/>
                    <a:pt x="2341" y="926"/>
                    <a:pt x="2305" y="922"/>
                  </a:cubicBezTo>
                  <a:cubicBezTo>
                    <a:pt x="2287" y="916"/>
                    <a:pt x="2218" y="896"/>
                    <a:pt x="2208" y="879"/>
                  </a:cubicBezTo>
                  <a:cubicBezTo>
                    <a:pt x="2213" y="865"/>
                    <a:pt x="2242" y="833"/>
                    <a:pt x="2245" y="817"/>
                  </a:cubicBezTo>
                  <a:cubicBezTo>
                    <a:pt x="2244" y="812"/>
                    <a:pt x="2246" y="806"/>
                    <a:pt x="2242" y="802"/>
                  </a:cubicBezTo>
                  <a:cubicBezTo>
                    <a:pt x="2238" y="798"/>
                    <a:pt x="2224" y="796"/>
                    <a:pt x="2224" y="796"/>
                  </a:cubicBezTo>
                  <a:cubicBezTo>
                    <a:pt x="2212" y="808"/>
                    <a:pt x="2166" y="802"/>
                    <a:pt x="2154" y="814"/>
                  </a:cubicBezTo>
                  <a:cubicBezTo>
                    <a:pt x="2130" y="818"/>
                    <a:pt x="2090" y="817"/>
                    <a:pt x="2077" y="823"/>
                  </a:cubicBezTo>
                  <a:cubicBezTo>
                    <a:pt x="2052" y="828"/>
                    <a:pt x="2053" y="843"/>
                    <a:pt x="2074" y="853"/>
                  </a:cubicBezTo>
                  <a:cubicBezTo>
                    <a:pt x="2081" y="857"/>
                    <a:pt x="2094" y="858"/>
                    <a:pt x="2101" y="859"/>
                  </a:cubicBezTo>
                  <a:cubicBezTo>
                    <a:pt x="2112" y="869"/>
                    <a:pt x="2092" y="904"/>
                    <a:pt x="2100" y="910"/>
                  </a:cubicBezTo>
                  <a:cubicBezTo>
                    <a:pt x="2106" y="906"/>
                    <a:pt x="2187" y="909"/>
                    <a:pt x="2191" y="9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2648160" y="1596600"/>
              <a:ext cx="1684800" cy="1483920"/>
            </a:xfrm>
            <a:custGeom>
              <a:avLst/>
              <a:gdLst/>
              <a:ahLst/>
              <a:rect l="l" t="t" r="r" b="b"/>
              <a:pathLst>
                <a:path w="756" h="644">
                  <a:moveTo>
                    <a:pt x="756" y="0"/>
                  </a:moveTo>
                  <a:cubicBezTo>
                    <a:pt x="751" y="13"/>
                    <a:pt x="741" y="60"/>
                    <a:pt x="726" y="78"/>
                  </a:cubicBezTo>
                  <a:cubicBezTo>
                    <a:pt x="706" y="88"/>
                    <a:pt x="664" y="108"/>
                    <a:pt x="642" y="113"/>
                  </a:cubicBezTo>
                  <a:cubicBezTo>
                    <a:pt x="624" y="111"/>
                    <a:pt x="629" y="69"/>
                    <a:pt x="615" y="66"/>
                  </a:cubicBezTo>
                  <a:cubicBezTo>
                    <a:pt x="597" y="69"/>
                    <a:pt x="573" y="91"/>
                    <a:pt x="563" y="107"/>
                  </a:cubicBezTo>
                  <a:cubicBezTo>
                    <a:pt x="560" y="139"/>
                    <a:pt x="571" y="144"/>
                    <a:pt x="546" y="165"/>
                  </a:cubicBezTo>
                  <a:cubicBezTo>
                    <a:pt x="543" y="168"/>
                    <a:pt x="533" y="179"/>
                    <a:pt x="528" y="180"/>
                  </a:cubicBezTo>
                  <a:cubicBezTo>
                    <a:pt x="516" y="189"/>
                    <a:pt x="485" y="204"/>
                    <a:pt x="471" y="219"/>
                  </a:cubicBezTo>
                  <a:cubicBezTo>
                    <a:pt x="457" y="234"/>
                    <a:pt x="457" y="247"/>
                    <a:pt x="444" y="267"/>
                  </a:cubicBezTo>
                  <a:cubicBezTo>
                    <a:pt x="444" y="328"/>
                    <a:pt x="442" y="327"/>
                    <a:pt x="393" y="339"/>
                  </a:cubicBezTo>
                  <a:cubicBezTo>
                    <a:pt x="379" y="348"/>
                    <a:pt x="363" y="356"/>
                    <a:pt x="348" y="363"/>
                  </a:cubicBezTo>
                  <a:cubicBezTo>
                    <a:pt x="340" y="374"/>
                    <a:pt x="326" y="376"/>
                    <a:pt x="326" y="392"/>
                  </a:cubicBezTo>
                  <a:cubicBezTo>
                    <a:pt x="326" y="408"/>
                    <a:pt x="338" y="442"/>
                    <a:pt x="345" y="462"/>
                  </a:cubicBezTo>
                  <a:cubicBezTo>
                    <a:pt x="351" y="480"/>
                    <a:pt x="366" y="496"/>
                    <a:pt x="368" y="515"/>
                  </a:cubicBezTo>
                  <a:cubicBezTo>
                    <a:pt x="359" y="577"/>
                    <a:pt x="354" y="558"/>
                    <a:pt x="326" y="549"/>
                  </a:cubicBezTo>
                  <a:cubicBezTo>
                    <a:pt x="315" y="538"/>
                    <a:pt x="308" y="521"/>
                    <a:pt x="297" y="510"/>
                  </a:cubicBezTo>
                  <a:cubicBezTo>
                    <a:pt x="288" y="499"/>
                    <a:pt x="299" y="465"/>
                    <a:pt x="287" y="453"/>
                  </a:cubicBezTo>
                  <a:cubicBezTo>
                    <a:pt x="275" y="441"/>
                    <a:pt x="242" y="442"/>
                    <a:pt x="225" y="438"/>
                  </a:cubicBezTo>
                  <a:cubicBezTo>
                    <a:pt x="208" y="436"/>
                    <a:pt x="196" y="424"/>
                    <a:pt x="186" y="426"/>
                  </a:cubicBezTo>
                  <a:cubicBezTo>
                    <a:pt x="176" y="428"/>
                    <a:pt x="172" y="444"/>
                    <a:pt x="162" y="450"/>
                  </a:cubicBezTo>
                  <a:cubicBezTo>
                    <a:pt x="146" y="466"/>
                    <a:pt x="156" y="459"/>
                    <a:pt x="123" y="462"/>
                  </a:cubicBezTo>
                  <a:cubicBezTo>
                    <a:pt x="110" y="464"/>
                    <a:pt x="100" y="440"/>
                    <a:pt x="86" y="441"/>
                  </a:cubicBezTo>
                  <a:cubicBezTo>
                    <a:pt x="72" y="442"/>
                    <a:pt x="47" y="459"/>
                    <a:pt x="36" y="468"/>
                  </a:cubicBezTo>
                  <a:cubicBezTo>
                    <a:pt x="19" y="474"/>
                    <a:pt x="29" y="481"/>
                    <a:pt x="20" y="494"/>
                  </a:cubicBezTo>
                  <a:cubicBezTo>
                    <a:pt x="15" y="504"/>
                    <a:pt x="24" y="511"/>
                    <a:pt x="21" y="528"/>
                  </a:cubicBezTo>
                  <a:cubicBezTo>
                    <a:pt x="18" y="545"/>
                    <a:pt x="0" y="575"/>
                    <a:pt x="0" y="594"/>
                  </a:cubicBezTo>
                  <a:cubicBezTo>
                    <a:pt x="1" y="611"/>
                    <a:pt x="12" y="630"/>
                    <a:pt x="21" y="6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47920" y="2286000"/>
            <a:ext cx="5866920" cy="3575160"/>
            <a:chOff x="1447920" y="2286000"/>
            <a:chExt cx="5866920" cy="3575160"/>
          </a:xfrm>
        </p:grpSpPr>
        <p:grpSp>
          <p:nvGrpSpPr>
            <p:cNvPr id="49" name=""/>
            <p:cNvGrpSpPr/>
            <p:nvPr/>
          </p:nvGrpSpPr>
          <p:grpSpPr>
            <a:xfrm>
              <a:off x="1447920" y="2286000"/>
              <a:ext cx="5866920" cy="3575160"/>
              <a:chOff x="1447920" y="2286000"/>
              <a:chExt cx="5866920" cy="3575160"/>
            </a:xfrm>
          </p:grpSpPr>
          <p:sp>
            <p:nvSpPr>
              <p:cNvPr id="50" name=""/>
              <p:cNvSpPr/>
              <p:nvPr/>
            </p:nvSpPr>
            <p:spPr>
              <a:xfrm>
                <a:off x="1713600" y="2286000"/>
                <a:ext cx="5601240" cy="3575160"/>
              </a:xfrm>
              <a:custGeom>
                <a:avLst/>
                <a:gdLst/>
                <a:ahLst/>
                <a:rect l="l" t="t" r="r" b="b"/>
                <a:pathLst>
                  <a:path w="3583" h="2252">
                    <a:moveTo>
                      <a:pt x="3583" y="0"/>
                    </a:moveTo>
                    <a:cubicBezTo>
                      <a:pt x="3574" y="13"/>
                      <a:pt x="3530" y="39"/>
                      <a:pt x="3517" y="54"/>
                    </a:cubicBezTo>
                    <a:cubicBezTo>
                      <a:pt x="3514" y="62"/>
                      <a:pt x="3502" y="105"/>
                      <a:pt x="3493" y="106"/>
                    </a:cubicBezTo>
                    <a:cubicBezTo>
                      <a:pt x="3480" y="115"/>
                      <a:pt x="3471" y="87"/>
                      <a:pt x="3453" y="88"/>
                    </a:cubicBezTo>
                    <a:cubicBezTo>
                      <a:pt x="3435" y="89"/>
                      <a:pt x="3405" y="101"/>
                      <a:pt x="3385" y="112"/>
                    </a:cubicBezTo>
                    <a:cubicBezTo>
                      <a:pt x="3368" y="122"/>
                      <a:pt x="3336" y="130"/>
                      <a:pt x="3335" y="152"/>
                    </a:cubicBezTo>
                    <a:cubicBezTo>
                      <a:pt x="3334" y="174"/>
                      <a:pt x="3385" y="231"/>
                      <a:pt x="3379" y="244"/>
                    </a:cubicBezTo>
                    <a:cubicBezTo>
                      <a:pt x="3375" y="251"/>
                      <a:pt x="3329" y="234"/>
                      <a:pt x="3299" y="228"/>
                    </a:cubicBezTo>
                    <a:cubicBezTo>
                      <a:pt x="3278" y="218"/>
                      <a:pt x="3270" y="189"/>
                      <a:pt x="3253" y="186"/>
                    </a:cubicBezTo>
                    <a:cubicBezTo>
                      <a:pt x="3236" y="183"/>
                      <a:pt x="3212" y="195"/>
                      <a:pt x="3199" y="208"/>
                    </a:cubicBezTo>
                    <a:cubicBezTo>
                      <a:pt x="3186" y="216"/>
                      <a:pt x="3183" y="263"/>
                      <a:pt x="3175" y="266"/>
                    </a:cubicBezTo>
                    <a:cubicBezTo>
                      <a:pt x="3167" y="269"/>
                      <a:pt x="3151" y="239"/>
                      <a:pt x="3151" y="226"/>
                    </a:cubicBezTo>
                    <a:cubicBezTo>
                      <a:pt x="3147" y="214"/>
                      <a:pt x="3176" y="196"/>
                      <a:pt x="3175" y="186"/>
                    </a:cubicBezTo>
                    <a:cubicBezTo>
                      <a:pt x="3174" y="176"/>
                      <a:pt x="3158" y="168"/>
                      <a:pt x="3145" y="166"/>
                    </a:cubicBezTo>
                    <a:cubicBezTo>
                      <a:pt x="3134" y="155"/>
                      <a:pt x="3104" y="157"/>
                      <a:pt x="3097" y="172"/>
                    </a:cubicBezTo>
                    <a:cubicBezTo>
                      <a:pt x="3088" y="180"/>
                      <a:pt x="3108" y="202"/>
                      <a:pt x="3107" y="220"/>
                    </a:cubicBezTo>
                    <a:cubicBezTo>
                      <a:pt x="3106" y="238"/>
                      <a:pt x="3100" y="266"/>
                      <a:pt x="3091" y="280"/>
                    </a:cubicBezTo>
                    <a:cubicBezTo>
                      <a:pt x="3087" y="294"/>
                      <a:pt x="3055" y="304"/>
                      <a:pt x="3055" y="304"/>
                    </a:cubicBezTo>
                    <a:cubicBezTo>
                      <a:pt x="3003" y="269"/>
                      <a:pt x="3086" y="192"/>
                      <a:pt x="3007" y="166"/>
                    </a:cubicBezTo>
                    <a:cubicBezTo>
                      <a:pt x="2978" y="137"/>
                      <a:pt x="2970" y="131"/>
                      <a:pt x="2935" y="154"/>
                    </a:cubicBezTo>
                    <a:cubicBezTo>
                      <a:pt x="2920" y="161"/>
                      <a:pt x="2899" y="172"/>
                      <a:pt x="2889" y="190"/>
                    </a:cubicBezTo>
                    <a:cubicBezTo>
                      <a:pt x="2879" y="208"/>
                      <a:pt x="2887" y="243"/>
                      <a:pt x="2875" y="262"/>
                    </a:cubicBezTo>
                    <a:cubicBezTo>
                      <a:pt x="2872" y="285"/>
                      <a:pt x="2817" y="279"/>
                      <a:pt x="2819" y="306"/>
                    </a:cubicBezTo>
                    <a:cubicBezTo>
                      <a:pt x="2812" y="332"/>
                      <a:pt x="2824" y="400"/>
                      <a:pt x="2835" y="420"/>
                    </a:cubicBezTo>
                    <a:cubicBezTo>
                      <a:pt x="2846" y="440"/>
                      <a:pt x="2876" y="414"/>
                      <a:pt x="2887" y="424"/>
                    </a:cubicBezTo>
                    <a:cubicBezTo>
                      <a:pt x="2894" y="434"/>
                      <a:pt x="2905" y="484"/>
                      <a:pt x="2905" y="484"/>
                    </a:cubicBezTo>
                    <a:cubicBezTo>
                      <a:pt x="2855" y="517"/>
                      <a:pt x="2765" y="449"/>
                      <a:pt x="2727" y="418"/>
                    </a:cubicBezTo>
                    <a:cubicBezTo>
                      <a:pt x="2677" y="401"/>
                      <a:pt x="2629" y="392"/>
                      <a:pt x="2603" y="398"/>
                    </a:cubicBezTo>
                    <a:cubicBezTo>
                      <a:pt x="2589" y="401"/>
                      <a:pt x="2616" y="447"/>
                      <a:pt x="2569" y="454"/>
                    </a:cubicBezTo>
                    <a:cubicBezTo>
                      <a:pt x="2537" y="459"/>
                      <a:pt x="2505" y="458"/>
                      <a:pt x="2473" y="460"/>
                    </a:cubicBezTo>
                    <a:cubicBezTo>
                      <a:pt x="2439" y="465"/>
                      <a:pt x="2391" y="502"/>
                      <a:pt x="2371" y="500"/>
                    </a:cubicBezTo>
                    <a:cubicBezTo>
                      <a:pt x="2353" y="502"/>
                      <a:pt x="2394" y="463"/>
                      <a:pt x="2391" y="454"/>
                    </a:cubicBezTo>
                    <a:cubicBezTo>
                      <a:pt x="2388" y="445"/>
                      <a:pt x="2371" y="448"/>
                      <a:pt x="2353" y="448"/>
                    </a:cubicBezTo>
                    <a:cubicBezTo>
                      <a:pt x="2330" y="440"/>
                      <a:pt x="2305" y="452"/>
                      <a:pt x="2281" y="454"/>
                    </a:cubicBezTo>
                    <a:cubicBezTo>
                      <a:pt x="2242" y="469"/>
                      <a:pt x="2147" y="512"/>
                      <a:pt x="2119" y="538"/>
                    </a:cubicBezTo>
                    <a:cubicBezTo>
                      <a:pt x="2117" y="562"/>
                      <a:pt x="2126" y="590"/>
                      <a:pt x="2113" y="610"/>
                    </a:cubicBezTo>
                    <a:cubicBezTo>
                      <a:pt x="2100" y="631"/>
                      <a:pt x="2055" y="579"/>
                      <a:pt x="2041" y="574"/>
                    </a:cubicBezTo>
                    <a:cubicBezTo>
                      <a:pt x="2020" y="543"/>
                      <a:pt x="2036" y="548"/>
                      <a:pt x="2065" y="538"/>
                    </a:cubicBezTo>
                    <a:cubicBezTo>
                      <a:pt x="2070" y="528"/>
                      <a:pt x="2093" y="530"/>
                      <a:pt x="2087" y="518"/>
                    </a:cubicBezTo>
                    <a:cubicBezTo>
                      <a:pt x="2081" y="506"/>
                      <a:pt x="2048" y="467"/>
                      <a:pt x="2029" y="466"/>
                    </a:cubicBezTo>
                    <a:cubicBezTo>
                      <a:pt x="1976" y="472"/>
                      <a:pt x="1990" y="468"/>
                      <a:pt x="1975" y="512"/>
                    </a:cubicBezTo>
                    <a:cubicBezTo>
                      <a:pt x="1961" y="529"/>
                      <a:pt x="2003" y="585"/>
                      <a:pt x="1981" y="610"/>
                    </a:cubicBezTo>
                    <a:cubicBezTo>
                      <a:pt x="1959" y="635"/>
                      <a:pt x="1869" y="654"/>
                      <a:pt x="1843" y="664"/>
                    </a:cubicBezTo>
                    <a:cubicBezTo>
                      <a:pt x="1818" y="687"/>
                      <a:pt x="1845" y="738"/>
                      <a:pt x="1833" y="746"/>
                    </a:cubicBezTo>
                    <a:cubicBezTo>
                      <a:pt x="1821" y="754"/>
                      <a:pt x="1798" y="713"/>
                      <a:pt x="1771" y="712"/>
                    </a:cubicBezTo>
                    <a:cubicBezTo>
                      <a:pt x="1746" y="704"/>
                      <a:pt x="1693" y="749"/>
                      <a:pt x="1669" y="742"/>
                    </a:cubicBezTo>
                    <a:cubicBezTo>
                      <a:pt x="1645" y="735"/>
                      <a:pt x="1635" y="690"/>
                      <a:pt x="1627" y="670"/>
                    </a:cubicBezTo>
                    <a:cubicBezTo>
                      <a:pt x="1613" y="646"/>
                      <a:pt x="1580" y="605"/>
                      <a:pt x="1585" y="598"/>
                    </a:cubicBezTo>
                    <a:cubicBezTo>
                      <a:pt x="1605" y="591"/>
                      <a:pt x="1639" y="620"/>
                      <a:pt x="1657" y="628"/>
                    </a:cubicBezTo>
                    <a:cubicBezTo>
                      <a:pt x="1678" y="636"/>
                      <a:pt x="1692" y="644"/>
                      <a:pt x="1711" y="646"/>
                    </a:cubicBezTo>
                    <a:cubicBezTo>
                      <a:pt x="1731" y="644"/>
                      <a:pt x="1751" y="644"/>
                      <a:pt x="1771" y="640"/>
                    </a:cubicBezTo>
                    <a:cubicBezTo>
                      <a:pt x="1790" y="636"/>
                      <a:pt x="1814" y="631"/>
                      <a:pt x="1825" y="622"/>
                    </a:cubicBezTo>
                    <a:cubicBezTo>
                      <a:pt x="1829" y="610"/>
                      <a:pt x="1863" y="600"/>
                      <a:pt x="1867" y="588"/>
                    </a:cubicBezTo>
                    <a:cubicBezTo>
                      <a:pt x="1866" y="577"/>
                      <a:pt x="1914" y="533"/>
                      <a:pt x="1851" y="500"/>
                    </a:cubicBezTo>
                    <a:cubicBezTo>
                      <a:pt x="1825" y="474"/>
                      <a:pt x="1752" y="444"/>
                      <a:pt x="1709" y="430"/>
                    </a:cubicBezTo>
                    <a:cubicBezTo>
                      <a:pt x="1666" y="416"/>
                      <a:pt x="1624" y="423"/>
                      <a:pt x="1591" y="418"/>
                    </a:cubicBezTo>
                    <a:cubicBezTo>
                      <a:pt x="1558" y="413"/>
                      <a:pt x="1529" y="418"/>
                      <a:pt x="1513" y="402"/>
                    </a:cubicBezTo>
                    <a:cubicBezTo>
                      <a:pt x="1497" y="386"/>
                      <a:pt x="1509" y="336"/>
                      <a:pt x="1495" y="322"/>
                    </a:cubicBezTo>
                    <a:cubicBezTo>
                      <a:pt x="1478" y="311"/>
                      <a:pt x="1463" y="316"/>
                      <a:pt x="1429" y="316"/>
                    </a:cubicBezTo>
                    <a:cubicBezTo>
                      <a:pt x="1383" y="318"/>
                      <a:pt x="1393" y="272"/>
                      <a:pt x="1347" y="274"/>
                    </a:cubicBezTo>
                    <a:cubicBezTo>
                      <a:pt x="1316" y="273"/>
                      <a:pt x="1255" y="281"/>
                      <a:pt x="1219" y="294"/>
                    </a:cubicBezTo>
                    <a:cubicBezTo>
                      <a:pt x="1183" y="307"/>
                      <a:pt x="1159" y="343"/>
                      <a:pt x="1133" y="354"/>
                    </a:cubicBezTo>
                    <a:cubicBezTo>
                      <a:pt x="1106" y="369"/>
                      <a:pt x="1086" y="351"/>
                      <a:pt x="1061" y="360"/>
                    </a:cubicBezTo>
                    <a:cubicBezTo>
                      <a:pt x="1036" y="369"/>
                      <a:pt x="1009" y="392"/>
                      <a:pt x="983" y="406"/>
                    </a:cubicBezTo>
                    <a:cubicBezTo>
                      <a:pt x="957" y="417"/>
                      <a:pt x="917" y="420"/>
                      <a:pt x="901" y="442"/>
                    </a:cubicBezTo>
                    <a:cubicBezTo>
                      <a:pt x="870" y="462"/>
                      <a:pt x="809" y="509"/>
                      <a:pt x="795" y="526"/>
                    </a:cubicBezTo>
                    <a:cubicBezTo>
                      <a:pt x="781" y="543"/>
                      <a:pt x="801" y="545"/>
                      <a:pt x="815" y="542"/>
                    </a:cubicBezTo>
                    <a:cubicBezTo>
                      <a:pt x="829" y="539"/>
                      <a:pt x="869" y="509"/>
                      <a:pt x="881" y="508"/>
                    </a:cubicBezTo>
                    <a:cubicBezTo>
                      <a:pt x="893" y="507"/>
                      <a:pt x="896" y="526"/>
                      <a:pt x="889" y="538"/>
                    </a:cubicBezTo>
                    <a:cubicBezTo>
                      <a:pt x="877" y="556"/>
                      <a:pt x="841" y="580"/>
                      <a:pt x="841" y="580"/>
                    </a:cubicBezTo>
                    <a:cubicBezTo>
                      <a:pt x="823" y="607"/>
                      <a:pt x="827" y="633"/>
                      <a:pt x="799" y="652"/>
                    </a:cubicBezTo>
                    <a:cubicBezTo>
                      <a:pt x="784" y="681"/>
                      <a:pt x="750" y="703"/>
                      <a:pt x="741" y="734"/>
                    </a:cubicBezTo>
                    <a:cubicBezTo>
                      <a:pt x="737" y="748"/>
                      <a:pt x="702" y="767"/>
                      <a:pt x="691" y="776"/>
                    </a:cubicBezTo>
                    <a:cubicBezTo>
                      <a:pt x="674" y="791"/>
                      <a:pt x="673" y="801"/>
                      <a:pt x="661" y="802"/>
                    </a:cubicBezTo>
                    <a:cubicBezTo>
                      <a:pt x="637" y="808"/>
                      <a:pt x="618" y="829"/>
                      <a:pt x="593" y="834"/>
                    </a:cubicBezTo>
                    <a:cubicBezTo>
                      <a:pt x="570" y="849"/>
                      <a:pt x="557" y="862"/>
                      <a:pt x="537" y="882"/>
                    </a:cubicBezTo>
                    <a:cubicBezTo>
                      <a:pt x="509" y="965"/>
                      <a:pt x="513" y="890"/>
                      <a:pt x="523" y="1048"/>
                    </a:cubicBezTo>
                    <a:cubicBezTo>
                      <a:pt x="525" y="1074"/>
                      <a:pt x="565" y="1114"/>
                      <a:pt x="565" y="1114"/>
                    </a:cubicBezTo>
                    <a:cubicBezTo>
                      <a:pt x="580" y="1124"/>
                      <a:pt x="602" y="1150"/>
                      <a:pt x="625" y="1146"/>
                    </a:cubicBezTo>
                    <a:cubicBezTo>
                      <a:pt x="644" y="1145"/>
                      <a:pt x="659" y="1118"/>
                      <a:pt x="679" y="1110"/>
                    </a:cubicBezTo>
                    <a:cubicBezTo>
                      <a:pt x="693" y="1112"/>
                      <a:pt x="734" y="1088"/>
                      <a:pt x="745" y="1096"/>
                    </a:cubicBezTo>
                    <a:cubicBezTo>
                      <a:pt x="758" y="1106"/>
                      <a:pt x="770" y="1133"/>
                      <a:pt x="781" y="1150"/>
                    </a:cubicBezTo>
                    <a:cubicBezTo>
                      <a:pt x="784" y="1159"/>
                      <a:pt x="814" y="1188"/>
                      <a:pt x="811" y="1200"/>
                    </a:cubicBezTo>
                    <a:cubicBezTo>
                      <a:pt x="808" y="1212"/>
                      <a:pt x="780" y="1227"/>
                      <a:pt x="763" y="1222"/>
                    </a:cubicBezTo>
                    <a:cubicBezTo>
                      <a:pt x="746" y="1217"/>
                      <a:pt x="727" y="1177"/>
                      <a:pt x="711" y="1170"/>
                    </a:cubicBezTo>
                    <a:cubicBezTo>
                      <a:pt x="691" y="1172"/>
                      <a:pt x="688" y="1172"/>
                      <a:pt x="669" y="1178"/>
                    </a:cubicBezTo>
                    <a:cubicBezTo>
                      <a:pt x="650" y="1184"/>
                      <a:pt x="639" y="1210"/>
                      <a:pt x="639" y="1210"/>
                    </a:cubicBezTo>
                    <a:cubicBezTo>
                      <a:pt x="641" y="1236"/>
                      <a:pt x="644" y="1249"/>
                      <a:pt x="651" y="1274"/>
                    </a:cubicBezTo>
                    <a:cubicBezTo>
                      <a:pt x="662" y="1318"/>
                      <a:pt x="674" y="1315"/>
                      <a:pt x="709" y="1324"/>
                    </a:cubicBezTo>
                    <a:cubicBezTo>
                      <a:pt x="751" y="1322"/>
                      <a:pt x="794" y="1325"/>
                      <a:pt x="835" y="1318"/>
                    </a:cubicBezTo>
                    <a:cubicBezTo>
                      <a:pt x="847" y="1316"/>
                      <a:pt x="818" y="1290"/>
                      <a:pt x="823" y="1284"/>
                    </a:cubicBezTo>
                    <a:cubicBezTo>
                      <a:pt x="836" y="1269"/>
                      <a:pt x="918" y="1278"/>
                      <a:pt x="951" y="1244"/>
                    </a:cubicBezTo>
                    <a:cubicBezTo>
                      <a:pt x="984" y="1210"/>
                      <a:pt x="1003" y="1114"/>
                      <a:pt x="1021" y="1078"/>
                    </a:cubicBezTo>
                    <a:cubicBezTo>
                      <a:pt x="1035" y="1044"/>
                      <a:pt x="1060" y="1050"/>
                      <a:pt x="1061" y="1030"/>
                    </a:cubicBezTo>
                    <a:cubicBezTo>
                      <a:pt x="1056" y="1003"/>
                      <a:pt x="980" y="954"/>
                      <a:pt x="991" y="914"/>
                    </a:cubicBezTo>
                    <a:cubicBezTo>
                      <a:pt x="996" y="852"/>
                      <a:pt x="1053" y="816"/>
                      <a:pt x="1125" y="792"/>
                    </a:cubicBezTo>
                    <a:cubicBezTo>
                      <a:pt x="1138" y="772"/>
                      <a:pt x="1175" y="710"/>
                      <a:pt x="1175" y="710"/>
                    </a:cubicBezTo>
                    <a:cubicBezTo>
                      <a:pt x="1196" y="695"/>
                      <a:pt x="1244" y="693"/>
                      <a:pt x="1249" y="700"/>
                    </a:cubicBezTo>
                    <a:cubicBezTo>
                      <a:pt x="1280" y="727"/>
                      <a:pt x="1218" y="750"/>
                      <a:pt x="1207" y="754"/>
                    </a:cubicBezTo>
                    <a:cubicBezTo>
                      <a:pt x="1189" y="772"/>
                      <a:pt x="1179" y="784"/>
                      <a:pt x="1171" y="808"/>
                    </a:cubicBezTo>
                    <a:cubicBezTo>
                      <a:pt x="1165" y="835"/>
                      <a:pt x="1142" y="886"/>
                      <a:pt x="1143" y="916"/>
                    </a:cubicBezTo>
                    <a:cubicBezTo>
                      <a:pt x="1142" y="950"/>
                      <a:pt x="1153" y="992"/>
                      <a:pt x="1167" y="1010"/>
                    </a:cubicBezTo>
                    <a:cubicBezTo>
                      <a:pt x="1169" y="1026"/>
                      <a:pt x="1213" y="1023"/>
                      <a:pt x="1229" y="1024"/>
                    </a:cubicBezTo>
                    <a:cubicBezTo>
                      <a:pt x="1232" y="1033"/>
                      <a:pt x="1186" y="1051"/>
                      <a:pt x="1183" y="1066"/>
                    </a:cubicBezTo>
                    <a:cubicBezTo>
                      <a:pt x="1171" y="1082"/>
                      <a:pt x="1154" y="1110"/>
                      <a:pt x="1159" y="1118"/>
                    </a:cubicBezTo>
                    <a:cubicBezTo>
                      <a:pt x="1164" y="1126"/>
                      <a:pt x="1200" y="1110"/>
                      <a:pt x="1213" y="1114"/>
                    </a:cubicBezTo>
                    <a:cubicBezTo>
                      <a:pt x="1222" y="1114"/>
                      <a:pt x="1238" y="1137"/>
                      <a:pt x="1237" y="1142"/>
                    </a:cubicBezTo>
                    <a:cubicBezTo>
                      <a:pt x="1240" y="1154"/>
                      <a:pt x="1243" y="1183"/>
                      <a:pt x="1231" y="1186"/>
                    </a:cubicBezTo>
                    <a:cubicBezTo>
                      <a:pt x="1221" y="1202"/>
                      <a:pt x="1186" y="1142"/>
                      <a:pt x="1165" y="1158"/>
                    </a:cubicBezTo>
                    <a:cubicBezTo>
                      <a:pt x="1144" y="1163"/>
                      <a:pt x="1115" y="1197"/>
                      <a:pt x="1105" y="1218"/>
                    </a:cubicBezTo>
                    <a:cubicBezTo>
                      <a:pt x="1095" y="1239"/>
                      <a:pt x="1117" y="1270"/>
                      <a:pt x="1105" y="1284"/>
                    </a:cubicBezTo>
                    <a:cubicBezTo>
                      <a:pt x="1093" y="1298"/>
                      <a:pt x="1067" y="1293"/>
                      <a:pt x="1033" y="1304"/>
                    </a:cubicBezTo>
                    <a:cubicBezTo>
                      <a:pt x="999" y="1315"/>
                      <a:pt x="938" y="1342"/>
                      <a:pt x="901" y="1348"/>
                    </a:cubicBezTo>
                    <a:cubicBezTo>
                      <a:pt x="871" y="1346"/>
                      <a:pt x="841" y="1346"/>
                      <a:pt x="811" y="1342"/>
                    </a:cubicBezTo>
                    <a:cubicBezTo>
                      <a:pt x="798" y="1340"/>
                      <a:pt x="775" y="1330"/>
                      <a:pt x="775" y="1330"/>
                    </a:cubicBezTo>
                    <a:cubicBezTo>
                      <a:pt x="747" y="1329"/>
                      <a:pt x="688" y="1366"/>
                      <a:pt x="641" y="1376"/>
                    </a:cubicBezTo>
                    <a:cubicBezTo>
                      <a:pt x="597" y="1390"/>
                      <a:pt x="542" y="1399"/>
                      <a:pt x="513" y="1414"/>
                    </a:cubicBezTo>
                    <a:cubicBezTo>
                      <a:pt x="497" y="1438"/>
                      <a:pt x="483" y="1440"/>
                      <a:pt x="467" y="1464"/>
                    </a:cubicBezTo>
                    <a:cubicBezTo>
                      <a:pt x="460" y="1475"/>
                      <a:pt x="433" y="1498"/>
                      <a:pt x="433" y="1498"/>
                    </a:cubicBezTo>
                    <a:cubicBezTo>
                      <a:pt x="419" y="1507"/>
                      <a:pt x="406" y="1503"/>
                      <a:pt x="383" y="1516"/>
                    </a:cubicBezTo>
                    <a:cubicBezTo>
                      <a:pt x="395" y="1521"/>
                      <a:pt x="308" y="1575"/>
                      <a:pt x="295" y="1576"/>
                    </a:cubicBezTo>
                    <a:cubicBezTo>
                      <a:pt x="261" y="1589"/>
                      <a:pt x="282" y="1607"/>
                      <a:pt x="257" y="1612"/>
                    </a:cubicBezTo>
                    <a:cubicBezTo>
                      <a:pt x="240" y="1621"/>
                      <a:pt x="184" y="1607"/>
                      <a:pt x="177" y="1614"/>
                    </a:cubicBezTo>
                    <a:cubicBezTo>
                      <a:pt x="185" y="1622"/>
                      <a:pt x="164" y="1651"/>
                      <a:pt x="165" y="1662"/>
                    </a:cubicBezTo>
                    <a:cubicBezTo>
                      <a:pt x="170" y="1673"/>
                      <a:pt x="156" y="1686"/>
                      <a:pt x="171" y="1692"/>
                    </a:cubicBezTo>
                    <a:cubicBezTo>
                      <a:pt x="186" y="1698"/>
                      <a:pt x="237" y="1686"/>
                      <a:pt x="257" y="1700"/>
                    </a:cubicBezTo>
                    <a:cubicBezTo>
                      <a:pt x="277" y="1714"/>
                      <a:pt x="291" y="1746"/>
                      <a:pt x="289" y="1774"/>
                    </a:cubicBezTo>
                    <a:cubicBezTo>
                      <a:pt x="282" y="1794"/>
                      <a:pt x="269" y="1862"/>
                      <a:pt x="247" y="1870"/>
                    </a:cubicBezTo>
                    <a:cubicBezTo>
                      <a:pt x="226" y="1888"/>
                      <a:pt x="184" y="1878"/>
                      <a:pt x="161" y="1880"/>
                    </a:cubicBezTo>
                    <a:cubicBezTo>
                      <a:pt x="124" y="1884"/>
                      <a:pt x="49" y="1869"/>
                      <a:pt x="25" y="1894"/>
                    </a:cubicBezTo>
                    <a:cubicBezTo>
                      <a:pt x="23" y="1940"/>
                      <a:pt x="18" y="1986"/>
                      <a:pt x="19" y="2032"/>
                    </a:cubicBezTo>
                    <a:cubicBezTo>
                      <a:pt x="20" y="2066"/>
                      <a:pt x="0" y="2119"/>
                      <a:pt x="3" y="2138"/>
                    </a:cubicBezTo>
                    <a:cubicBezTo>
                      <a:pt x="7" y="2166"/>
                      <a:pt x="24" y="2188"/>
                      <a:pt x="45" y="2200"/>
                    </a:cubicBezTo>
                    <a:lnTo>
                      <a:pt x="127" y="2212"/>
                    </a:lnTo>
                    <a:lnTo>
                      <a:pt x="261" y="2200"/>
                    </a:lnTo>
                    <a:lnTo>
                      <a:pt x="319" y="2164"/>
                    </a:lnTo>
                    <a:lnTo>
                      <a:pt x="367" y="2116"/>
                    </a:lnTo>
                    <a:lnTo>
                      <a:pt x="359" y="2028"/>
                    </a:lnTo>
                    <a:lnTo>
                      <a:pt x="415" y="2020"/>
                    </a:lnTo>
                    <a:lnTo>
                      <a:pt x="463" y="1972"/>
                    </a:lnTo>
                    <a:lnTo>
                      <a:pt x="487" y="1886"/>
                    </a:lnTo>
                    <a:lnTo>
                      <a:pt x="575" y="1926"/>
                    </a:lnTo>
                    <a:lnTo>
                      <a:pt x="649" y="1904"/>
                    </a:lnTo>
                    <a:lnTo>
                      <a:pt x="703" y="1876"/>
                    </a:lnTo>
                    <a:lnTo>
                      <a:pt x="759" y="1970"/>
                    </a:lnTo>
                    <a:lnTo>
                      <a:pt x="847" y="2020"/>
                    </a:lnTo>
                    <a:lnTo>
                      <a:pt x="895" y="2020"/>
                    </a:lnTo>
                    <a:lnTo>
                      <a:pt x="943" y="2068"/>
                    </a:lnTo>
                    <a:lnTo>
                      <a:pt x="915" y="2122"/>
                    </a:lnTo>
                    <a:lnTo>
                      <a:pt x="853" y="2112"/>
                    </a:lnTo>
                    <a:lnTo>
                      <a:pt x="793" y="2144"/>
                    </a:lnTo>
                    <a:lnTo>
                      <a:pt x="915" y="2222"/>
                    </a:lnTo>
                    <a:lnTo>
                      <a:pt x="941" y="2148"/>
                    </a:lnTo>
                    <a:lnTo>
                      <a:pt x="985" y="2142"/>
                    </a:lnTo>
                    <a:lnTo>
                      <a:pt x="991" y="2068"/>
                    </a:lnTo>
                    <a:lnTo>
                      <a:pt x="1047" y="2072"/>
                    </a:lnTo>
                    <a:lnTo>
                      <a:pt x="1039" y="2020"/>
                    </a:lnTo>
                    <a:lnTo>
                      <a:pt x="975" y="1990"/>
                    </a:lnTo>
                    <a:lnTo>
                      <a:pt x="915" y="1950"/>
                    </a:lnTo>
                    <a:lnTo>
                      <a:pt x="875" y="1886"/>
                    </a:lnTo>
                    <a:lnTo>
                      <a:pt x="799" y="1828"/>
                    </a:lnTo>
                    <a:lnTo>
                      <a:pt x="849" y="1800"/>
                    </a:lnTo>
                    <a:lnTo>
                      <a:pt x="895" y="1828"/>
                    </a:lnTo>
                    <a:lnTo>
                      <a:pt x="953" y="1894"/>
                    </a:lnTo>
                    <a:lnTo>
                      <a:pt x="1003" y="1924"/>
                    </a:lnTo>
                    <a:lnTo>
                      <a:pt x="1055" y="1956"/>
                    </a:lnTo>
                    <a:lnTo>
                      <a:pt x="1063" y="2026"/>
                    </a:lnTo>
                    <a:lnTo>
                      <a:pt x="1087" y="2068"/>
                    </a:lnTo>
                    <a:lnTo>
                      <a:pt x="1081" y="2152"/>
                    </a:lnTo>
                    <a:lnTo>
                      <a:pt x="1195" y="2230"/>
                    </a:lnTo>
                    <a:lnTo>
                      <a:pt x="1223" y="2170"/>
                    </a:lnTo>
                    <a:lnTo>
                      <a:pt x="1279" y="2164"/>
                    </a:lnTo>
                    <a:lnTo>
                      <a:pt x="1241" y="2076"/>
                    </a:lnTo>
                    <a:lnTo>
                      <a:pt x="1279" y="2020"/>
                    </a:lnTo>
                    <a:lnTo>
                      <a:pt x="1327" y="2020"/>
                    </a:lnTo>
                    <a:lnTo>
                      <a:pt x="1305" y="2100"/>
                    </a:lnTo>
                    <a:lnTo>
                      <a:pt x="1327" y="2164"/>
                    </a:lnTo>
                    <a:lnTo>
                      <a:pt x="1365" y="2236"/>
                    </a:lnTo>
                    <a:lnTo>
                      <a:pt x="1423" y="2212"/>
                    </a:lnTo>
                    <a:lnTo>
                      <a:pt x="1471" y="2242"/>
                    </a:lnTo>
                    <a:lnTo>
                      <a:pt x="1519" y="2212"/>
                    </a:lnTo>
                    <a:lnTo>
                      <a:pt x="1561" y="2252"/>
                    </a:lnTo>
                    <a:lnTo>
                      <a:pt x="1663" y="22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47920" y="4270320"/>
                <a:ext cx="415800" cy="378000"/>
              </a:xfrm>
              <a:custGeom>
                <a:avLst/>
                <a:gdLst/>
                <a:ahLst/>
                <a:rect l="l" t="t" r="r" b="b"/>
                <a:pathLst>
                  <a:path w="266" h="238">
                    <a:moveTo>
                      <a:pt x="172" y="2"/>
                    </a:moveTo>
                    <a:cubicBezTo>
                      <a:pt x="161" y="44"/>
                      <a:pt x="162" y="57"/>
                      <a:pt x="114" y="64"/>
                    </a:cubicBezTo>
                    <a:cubicBezTo>
                      <a:pt x="85" y="74"/>
                      <a:pt x="56" y="82"/>
                      <a:pt x="26" y="90"/>
                    </a:cubicBezTo>
                    <a:cubicBezTo>
                      <a:pt x="11" y="100"/>
                      <a:pt x="17" y="94"/>
                      <a:pt x="8" y="106"/>
                    </a:cubicBezTo>
                    <a:cubicBezTo>
                      <a:pt x="7" y="108"/>
                      <a:pt x="0" y="125"/>
                      <a:pt x="6" y="128"/>
                    </a:cubicBezTo>
                    <a:cubicBezTo>
                      <a:pt x="31" y="141"/>
                      <a:pt x="62" y="133"/>
                      <a:pt x="90" y="134"/>
                    </a:cubicBezTo>
                    <a:cubicBezTo>
                      <a:pt x="96" y="158"/>
                      <a:pt x="78" y="204"/>
                      <a:pt x="102" y="220"/>
                    </a:cubicBezTo>
                    <a:cubicBezTo>
                      <a:pt x="108" y="238"/>
                      <a:pt x="137" y="227"/>
                      <a:pt x="150" y="226"/>
                    </a:cubicBezTo>
                    <a:cubicBezTo>
                      <a:pt x="170" y="213"/>
                      <a:pt x="192" y="201"/>
                      <a:pt x="210" y="186"/>
                    </a:cubicBezTo>
                    <a:cubicBezTo>
                      <a:pt x="215" y="181"/>
                      <a:pt x="218" y="182"/>
                      <a:pt x="224" y="178"/>
                    </a:cubicBezTo>
                    <a:cubicBezTo>
                      <a:pt x="228" y="176"/>
                      <a:pt x="236" y="170"/>
                      <a:pt x="236" y="170"/>
                    </a:cubicBezTo>
                    <a:cubicBezTo>
                      <a:pt x="245" y="156"/>
                      <a:pt x="240" y="161"/>
                      <a:pt x="250" y="154"/>
                    </a:cubicBezTo>
                    <a:cubicBezTo>
                      <a:pt x="258" y="143"/>
                      <a:pt x="263" y="130"/>
                      <a:pt x="266" y="116"/>
                    </a:cubicBezTo>
                    <a:cubicBezTo>
                      <a:pt x="263" y="70"/>
                      <a:pt x="255" y="9"/>
                      <a:pt x="200" y="0"/>
                    </a:cubicBezTo>
                    <a:cubicBezTo>
                      <a:pt x="175" y="2"/>
                      <a:pt x="184" y="2"/>
                      <a:pt x="172" y="2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88920" y="4006800"/>
                <a:ext cx="451440" cy="770040"/>
              </a:xfrm>
              <a:custGeom>
                <a:avLst/>
                <a:gdLst/>
                <a:ahLst/>
                <a:rect l="l" t="t" r="r" b="b"/>
                <a:pathLst>
                  <a:path w="289" h="485">
                    <a:moveTo>
                      <a:pt x="232" y="424"/>
                    </a:moveTo>
                    <a:cubicBezTo>
                      <a:pt x="225" y="428"/>
                      <a:pt x="183" y="434"/>
                      <a:pt x="176" y="438"/>
                    </a:cubicBezTo>
                    <a:cubicBezTo>
                      <a:pt x="164" y="448"/>
                      <a:pt x="141" y="445"/>
                      <a:pt x="116" y="452"/>
                    </a:cubicBezTo>
                    <a:cubicBezTo>
                      <a:pt x="91" y="459"/>
                      <a:pt x="41" y="479"/>
                      <a:pt x="24" y="478"/>
                    </a:cubicBezTo>
                    <a:cubicBezTo>
                      <a:pt x="10" y="485"/>
                      <a:pt x="8" y="453"/>
                      <a:pt x="14" y="446"/>
                    </a:cubicBezTo>
                    <a:cubicBezTo>
                      <a:pt x="20" y="439"/>
                      <a:pt x="54" y="444"/>
                      <a:pt x="60" y="436"/>
                    </a:cubicBezTo>
                    <a:cubicBezTo>
                      <a:pt x="64" y="423"/>
                      <a:pt x="50" y="415"/>
                      <a:pt x="50" y="398"/>
                    </a:cubicBezTo>
                    <a:cubicBezTo>
                      <a:pt x="60" y="392"/>
                      <a:pt x="35" y="340"/>
                      <a:pt x="16" y="334"/>
                    </a:cubicBezTo>
                    <a:cubicBezTo>
                      <a:pt x="20" y="314"/>
                      <a:pt x="35" y="306"/>
                      <a:pt x="50" y="294"/>
                    </a:cubicBezTo>
                    <a:cubicBezTo>
                      <a:pt x="59" y="288"/>
                      <a:pt x="94" y="263"/>
                      <a:pt x="104" y="260"/>
                    </a:cubicBezTo>
                    <a:cubicBezTo>
                      <a:pt x="106" y="256"/>
                      <a:pt x="67" y="248"/>
                      <a:pt x="52" y="240"/>
                    </a:cubicBezTo>
                    <a:cubicBezTo>
                      <a:pt x="37" y="232"/>
                      <a:pt x="24" y="220"/>
                      <a:pt x="16" y="212"/>
                    </a:cubicBezTo>
                    <a:cubicBezTo>
                      <a:pt x="12" y="205"/>
                      <a:pt x="6" y="199"/>
                      <a:pt x="2" y="192"/>
                    </a:cubicBezTo>
                    <a:cubicBezTo>
                      <a:pt x="0" y="176"/>
                      <a:pt x="2" y="139"/>
                      <a:pt x="6" y="114"/>
                    </a:cubicBezTo>
                    <a:cubicBezTo>
                      <a:pt x="11" y="96"/>
                      <a:pt x="18" y="58"/>
                      <a:pt x="28" y="44"/>
                    </a:cubicBezTo>
                    <a:cubicBezTo>
                      <a:pt x="38" y="40"/>
                      <a:pt x="44" y="35"/>
                      <a:pt x="54" y="28"/>
                    </a:cubicBezTo>
                    <a:cubicBezTo>
                      <a:pt x="64" y="21"/>
                      <a:pt x="73" y="0"/>
                      <a:pt x="90" y="4"/>
                    </a:cubicBezTo>
                    <a:cubicBezTo>
                      <a:pt x="103" y="44"/>
                      <a:pt x="115" y="47"/>
                      <a:pt x="154" y="52"/>
                    </a:cubicBezTo>
                    <a:cubicBezTo>
                      <a:pt x="158" y="69"/>
                      <a:pt x="152" y="57"/>
                      <a:pt x="156" y="74"/>
                    </a:cubicBezTo>
                    <a:cubicBezTo>
                      <a:pt x="158" y="81"/>
                      <a:pt x="168" y="108"/>
                      <a:pt x="168" y="108"/>
                    </a:cubicBezTo>
                    <a:cubicBezTo>
                      <a:pt x="173" y="121"/>
                      <a:pt x="166" y="145"/>
                      <a:pt x="170" y="164"/>
                    </a:cubicBezTo>
                    <a:cubicBezTo>
                      <a:pt x="173" y="180"/>
                      <a:pt x="215" y="174"/>
                      <a:pt x="222" y="186"/>
                    </a:cubicBezTo>
                    <a:cubicBezTo>
                      <a:pt x="229" y="198"/>
                      <a:pt x="209" y="223"/>
                      <a:pt x="212" y="236"/>
                    </a:cubicBezTo>
                    <a:cubicBezTo>
                      <a:pt x="223" y="245"/>
                      <a:pt x="230" y="256"/>
                      <a:pt x="240" y="266"/>
                    </a:cubicBezTo>
                    <a:cubicBezTo>
                      <a:pt x="244" y="279"/>
                      <a:pt x="247" y="282"/>
                      <a:pt x="258" y="290"/>
                    </a:cubicBezTo>
                    <a:cubicBezTo>
                      <a:pt x="264" y="308"/>
                      <a:pt x="276" y="319"/>
                      <a:pt x="286" y="334"/>
                    </a:cubicBezTo>
                    <a:cubicBezTo>
                      <a:pt x="289" y="351"/>
                      <a:pt x="287" y="375"/>
                      <a:pt x="278" y="390"/>
                    </a:cubicBezTo>
                    <a:cubicBezTo>
                      <a:pt x="267" y="399"/>
                      <a:pt x="249" y="416"/>
                      <a:pt x="232" y="424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7301160" y="2286000"/>
              <a:ext cx="0" cy="350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99480" y="5791320"/>
              <a:ext cx="300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14400" y="1143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6:04:47Z</dcterms:created>
  <dc:creator>Texas A&amp;M Veterinary Medicine</dc:creator>
  <dc:description/>
  <dc:language>en-US</dc:language>
  <cp:lastModifiedBy>Ljlab</cp:lastModifiedBy>
  <dcterms:modified xsi:type="dcterms:W3CDTF">2006-04-11T19:49:52Z</dcterms:modified>
  <cp:revision>4</cp:revision>
  <dc:subject/>
  <dc:title>Slide 1</dc:title>
</cp:coreProperties>
</file>