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DF4-23E4-4023-A374-193930B6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ade Science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E) Connect science concepts with the history of science and scien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C9F-D8BD-4227-A4EB-CDC2A275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EBD-93DE-4077-A12F-60BA17BA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3A8-0015-47A0-BA38-4725887A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EC2-57EC-4212-98AF-75C6644A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973-D245-46CB-A709-0EBFA82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995-D448-4EEB-ABFE-43E9D88D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799-0B84-4375-87F0-E4E8E6AB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E6B-18DB-40FF-A318-445F8958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058-6A31-425F-9F38-B2D89523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39E-EBAB-4774-AFA3-B57253EC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3F1-66EF-42EC-9FF9-EF4E5631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26E-9076-4DE2-998C-D0D6D46A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8E99-199F-4AF4-A352-EFE978E379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hyperlink" Target="http://peer.tamu.edu/" TargetMode="External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7840" y="1069920"/>
            <a:ext cx="8229240" cy="2197080"/>
            <a:chOff x="177840" y="1069920"/>
            <a:chExt cx="8229240" cy="21970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998640" y="1069920"/>
              <a:ext cx="6573960" cy="210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77840" y="1511280"/>
              <a:ext cx="8229240" cy="1755720"/>
              <a:chOff x="177840" y="1511280"/>
              <a:chExt cx="8229240" cy="17557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6991200" y="2069640"/>
                <a:ext cx="1265040" cy="1197360"/>
                <a:chOff x="6991200" y="2069640"/>
                <a:chExt cx="1265040" cy="119736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3">
                  <a:biLevel thresh="50000"/>
                </a:blip>
                <a:srcRect l="9945" t="0" r="0" b="15887"/>
                <a:stretch/>
              </p:blipFill>
              <p:spPr>
                <a:xfrm rot="10569600">
                  <a:off x="7019640" y="2098800"/>
                  <a:ext cx="906480" cy="88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" descr=""/>
                <p:cNvPicPr/>
                <p:nvPr/>
              </p:nvPicPr>
              <p:blipFill>
                <a:blip r:embed="rId4">
                  <a:biLevel thresh="50000"/>
                </a:blip>
                <a:srcRect l="6223" t="0" r="0" b="10762"/>
                <a:stretch/>
              </p:blipFill>
              <p:spPr>
                <a:xfrm rot="9054000">
                  <a:off x="7240680" y="2256120"/>
                  <a:ext cx="861840" cy="8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" name=""/>
              <p:cNvGrpSpPr/>
              <p:nvPr/>
            </p:nvGrpSpPr>
            <p:grpSpPr>
              <a:xfrm>
                <a:off x="177840" y="1511280"/>
                <a:ext cx="8229240" cy="1143000"/>
                <a:chOff x="177840" y="1511280"/>
                <a:chExt cx="8229240" cy="11430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77840" y="1511280"/>
                  <a:ext cx="8229240" cy="1143000"/>
                  <a:chOff x="177840" y="1511280"/>
                  <a:chExt cx="8229240" cy="11430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77840" y="1511280"/>
                    <a:ext cx="78454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940680" y="2044800"/>
                    <a:ext cx="7466400" cy="227520"/>
                    <a:chOff x="940680" y="2044800"/>
                    <a:chExt cx="7466400" cy="22752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 flipH="1">
                      <a:off x="940680" y="2096280"/>
                      <a:ext cx="6786720" cy="90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 flipH="1">
                      <a:off x="7685640" y="2044800"/>
                      <a:ext cx="72144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7" h="81">
                          <a:moveTo>
                            <a:pt x="372" y="25"/>
                          </a:moveTo>
                          <a:lnTo>
                            <a:pt x="279" y="0"/>
                          </a:lnTo>
                          <a:lnTo>
                            <a:pt x="0" y="43"/>
                          </a:lnTo>
                          <a:lnTo>
                            <a:pt x="293" y="81"/>
                          </a:lnTo>
                          <a:lnTo>
                            <a:pt x="377" y="51"/>
                          </a:lnTo>
                          <a:lnTo>
                            <a:pt x="372" y="25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" name=""/>
                <p:cNvSpPr/>
                <p:nvPr/>
              </p:nvSpPr>
              <p:spPr>
                <a:xfrm rot="5659200">
                  <a:off x="7620120" y="2066400"/>
                  <a:ext cx="228600" cy="182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" name=""/>
          <p:cNvSpPr/>
          <p:nvPr/>
        </p:nvSpPr>
        <p:spPr>
          <a:xfrm>
            <a:off x="609480" y="382104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– Scienc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how a population becomes resistant to dis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why Europeans and Native Americans responded differently to disease outbreaks in the New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4120" y="2170080"/>
            <a:ext cx="3343320" cy="2517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400" y="1581120"/>
            <a:ext cx="82296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urope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ers and settl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 to the America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brought m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with them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smallpox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 pox, meas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f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these diseas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to travel with the sett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3059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Europeans had built up some resistance to these diseases over time, Native Americans had almost no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you think Europeans had built up resistance to these disea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anto Domingo, for example, the native population shrank from one million people to 500 people in less than 50 years because of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were Europe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s so dead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the nativ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67160" y="3471840"/>
            <a:ext cx="4532400" cy="2549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pox and other diseases killed great numbers of Aztecs and Incas, which helped the Spanish Conquistadors win many battles agains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34080" y="1728720"/>
            <a:ext cx="3809880" cy="2190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97960" y="157428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se epidemics, so ma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ere sick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at th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not care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ther. 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m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urvived di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starvation becau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no on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 or care for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10120" y="2284560"/>
            <a:ext cx="3571920" cy="2590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5022360" y="493884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www.worldtre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320" y="1889280"/>
            <a:ext cx="81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, there have been fears that terrorists might use biological weapons and deliberately spread dangerous dis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seases might terrorists try to spr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Warfare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6720" y="1468440"/>
            <a:ext cx="77184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the U.S. Government is taking steps to prevent an outbreak of disease if terrorists should try to use biological weap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 is one biological weapon that has been used.  It can be sent through the mail and, if untreated, can be dea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xperts have also suggested that smallpox could be used as a weapon by terror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think?  How much of a threat is biological warfar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3:50:17Z</dcterms:created>
  <dc:creator>Vince Hardy</dc:creator>
  <dc:description/>
  <dc:language>en-US</dc:language>
  <cp:lastModifiedBy>Texas A&amp;M Veterinary Medicine</cp:lastModifiedBy>
  <dcterms:modified xsi:type="dcterms:W3CDTF">2007-10-02T21:02:44Z</dcterms:modified>
  <cp:revision>10</cp:revision>
  <dc:subject/>
  <dc:title>Slide 1</dc:title>
</cp:coreProperties>
</file>