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E82D-E57A-4B88-94BE-271344B1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rian would want factua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historians can never be completely certain about what happened in the past because they were no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ans reach conclusions by gathering information/evidence, reviewing the information/evidence, and using reason to form logical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mherst led the successful attack on Louisbourg, an important victory for the British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Pittsburg, 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would try to infect the Indians with a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it is a primary source because it was produced by a participant in the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it is clear that he wants to attempt to spread a harmful disease to the 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AA8-08BC-4630-A560-A7B7E977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0EE-1092-4FBE-9433-3808F16C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A69-9B09-4E70-943E-82A9A58A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6CB-FE64-49B9-A578-9BF1F0E9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0FB-D160-4B25-BF80-C32DE7BF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18E-DA15-4FA3-B539-63E2005C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C07-E939-4EBF-AF7A-A8AAEA11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1D7-B97A-444D-88CD-C7144A31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2ED-3AB5-4BBA-9C4B-178F5396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31D-AEF0-449A-A10D-26E276D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946-1BFC-48C0-92FB-A79EB8FA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CD8-E56B-4B0B-909D-597371F3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622F-C80A-4F66-BF66-1A55316C8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hyperlink" Target="http://peer.tamu.edu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7840" y="1069920"/>
            <a:ext cx="8229240" cy="2197080"/>
            <a:chOff x="177840" y="1069920"/>
            <a:chExt cx="8229240" cy="21970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998640" y="1069920"/>
              <a:ext cx="6573960" cy="21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77840" y="1511280"/>
              <a:ext cx="8229240" cy="1755720"/>
              <a:chOff x="177840" y="1511280"/>
              <a:chExt cx="8229240" cy="1755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6991200" y="2069640"/>
                <a:ext cx="1265040" cy="1197360"/>
                <a:chOff x="6991200" y="2069640"/>
                <a:chExt cx="1265040" cy="119736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3">
                  <a:biLevel thresh="50000"/>
                </a:blip>
                <a:srcRect l="9945" t="0" r="0" b="15887"/>
                <a:stretch/>
              </p:blipFill>
              <p:spPr>
                <a:xfrm rot="10569600">
                  <a:off x="7019640" y="2098800"/>
                  <a:ext cx="906480" cy="88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" descr=""/>
                <p:cNvPicPr/>
                <p:nvPr/>
              </p:nvPicPr>
              <p:blipFill>
                <a:blip r:embed="rId4">
                  <a:biLevel thresh="50000"/>
                </a:blip>
                <a:srcRect l="6223" t="0" r="0" b="10762"/>
                <a:stretch/>
              </p:blipFill>
              <p:spPr>
                <a:xfrm rot="9054000">
                  <a:off x="7240680" y="2256120"/>
                  <a:ext cx="861840" cy="8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" name=""/>
              <p:cNvGrpSpPr/>
              <p:nvPr/>
            </p:nvGrpSpPr>
            <p:grpSpPr>
              <a:xfrm>
                <a:off x="177840" y="1511280"/>
                <a:ext cx="8229240" cy="1143000"/>
                <a:chOff x="177840" y="1511280"/>
                <a:chExt cx="8229240" cy="11430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77840" y="1511280"/>
                  <a:ext cx="8229240" cy="1143000"/>
                  <a:chOff x="177840" y="1511280"/>
                  <a:chExt cx="8229240" cy="1143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77840" y="1511280"/>
                    <a:ext cx="78454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940680" y="2044800"/>
                    <a:ext cx="7466400" cy="227520"/>
                    <a:chOff x="940680" y="2044800"/>
                    <a:chExt cx="7466400" cy="22752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flipH="1">
                      <a:off x="940680" y="2096280"/>
                      <a:ext cx="6786720" cy="90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flipH="1">
                      <a:off x="7685640" y="2044800"/>
                      <a:ext cx="7214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81">
                          <a:moveTo>
                            <a:pt x="372" y="25"/>
                          </a:moveTo>
                          <a:lnTo>
                            <a:pt x="279" y="0"/>
                          </a:lnTo>
                          <a:lnTo>
                            <a:pt x="0" y="43"/>
                          </a:lnTo>
                          <a:lnTo>
                            <a:pt x="293" y="81"/>
                          </a:lnTo>
                          <a:lnTo>
                            <a:pt x="377" y="51"/>
                          </a:lnTo>
                          <a:lnTo>
                            <a:pt x="372" y="25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" name=""/>
                <p:cNvSpPr/>
                <p:nvPr/>
              </p:nvSpPr>
              <p:spPr>
                <a:xfrm rot="5659200">
                  <a:off x="7620120" y="2066400"/>
                  <a:ext cx="228600" cy="182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"/>
          <p:cNvSpPr/>
          <p:nvPr/>
        </p:nvSpPr>
        <p:spPr>
          <a:xfrm>
            <a:off x="609480" y="382104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mhers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6640" y="160020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ter from General Jeffrey Amherst to Colonel Henry Bouquet, dated July 16, 1763 re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S. You will do well to try to inoculate the Indians by means of blankets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mhers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69760" y="1523880"/>
            <a:ext cx="75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you learn from General Amherst’s l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clear that the British were trying to infect the Indians with smallp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clear that the British actually used infected blankets to give smallpox to the American Indi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 way that historians can actually know what happe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8040" y="1523880"/>
            <a:ext cx="7913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hard evidence that proves Amherst and his officers were successful in infecting the Indians with smallp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Captain Simeon Ecuyer, an officer at Ft. Pitt, gave one Indian chief two blankets and a handkerchief from the smallpox hospital in his f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ld have easily spread the dis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0280" y="1447920"/>
            <a:ext cx="762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ime later, the American Indians in the area were struck by a smallpox epidem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pidemic greatly weakened American Indian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ld be coincidence, but some historians have concluded that it was a deliberate attack by the Brit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istorians disagree and say there is not enough evidence to reach this concl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134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a historian studying this event, what types of evidence would you w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istorians ever know for sure what happened in the p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historians reac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bout pa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59440" y="3313080"/>
            <a:ext cx="2281320" cy="317196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1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tudies 4 -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523880"/>
            <a:ext cx="7162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he difference between primary and secondary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past causes and implications of biological warf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18680" y="1397160"/>
            <a:ext cx="5108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idence suggests that American and British soldiers deliberately gave smallpox to Native Americans after the end of the French and Indian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s of evidence would historians use to reach this conclu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think it would be easy or difficult for historians to support this conclu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1752480"/>
            <a:ext cx="914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of old document on parchment. Should not be able to rea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1625760"/>
            <a:ext cx="2736720" cy="441936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814440" y="604980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www.archives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 in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660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ummer of 1763, the British in North America were fighting against the Indians led by Chief Pontiac in a war called Pontiac’s Rebe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Pontiac’s Rebellion before or after the French and Indian W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5840" y="4243320"/>
            <a:ext cx="28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rait of Ponti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35520" y="1654200"/>
            <a:ext cx="2401920" cy="26478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Jeffrey Amherst was the commander-in-chief of British forces in America at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herst was respected for his role in the French and Indian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d Amherst accomplished during the w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73720" y="537048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www.blupet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6982" t="5363" r="6638" b="5638"/>
          <a:stretch/>
        </p:blipFill>
        <p:spPr>
          <a:xfrm>
            <a:off x="5308560" y="1851120"/>
            <a:ext cx="2514600" cy="33750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330200"/>
            <a:ext cx="81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mherst s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nel Bouquet to Ft. Pitt                                        to put down an uprising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ef Ponti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tiac had sided with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during the Fren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ndian War and w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et with the British vic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ritain’s poli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was Ft. Pitt locat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large American city is found today at the location of Ft. Pit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16765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showing location of Ft. P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27600" y="1616040"/>
            <a:ext cx="2880000" cy="3514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08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nd Colonel Henry Bouquet wrote to each other about infecting the Native Americans with smallpox by giving them infected blan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historical evidence we have are letters between Amherst and his offic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nel Bouque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4040" y="16002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ter from Colonel Henry Bouquet to General Jeffrey Amherst, dated July 13, 1763, rea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S. I will try to inoculate the Indians by means of blankets that may fall in their hands, taking care however not to get the disease myself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nel Bouque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2800" y="1600200"/>
            <a:ext cx="764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 Colonel Bouquet meant when he wrote that he would “try to inoculate” the Indi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isease do you think Colonel Bouquet wanted to avoid get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olonel Bouquet’s letter a primary sour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clear from the letter exactly what Colonel Bouquet was intending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0:48:10Z</dcterms:created>
  <dc:creator>Ljlab</dc:creator>
  <dc:description/>
  <dc:language>en-US</dc:language>
  <cp:lastModifiedBy>Texas A&amp;M Veterinary Medicine</cp:lastModifiedBy>
  <dcterms:modified xsi:type="dcterms:W3CDTF">2007-10-03T18:05:08Z</dcterms:modified>
  <cp:revision>19</cp:revision>
  <dc:subject/>
  <dc:title>Slide 1</dc:title>
</cp:coreProperties>
</file>