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DA99-EEC5-460B-85CB-FB2ACE016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0AD-5B27-4740-AD26-CFBFEBEB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0EF-B216-484D-8E2F-DAB4895E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8C4-2D29-4D98-B3B3-EE51123C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9D9-0FEB-4D86-B0BA-0D448BE4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F8B-BA5E-472D-95D5-25B42C6A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6FB-BFD9-4407-8E1C-67AE29DD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1E4-583D-4027-9D3A-A242FF67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1FF-BB8D-451E-AFBB-88952B9F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7FF-0590-4A3C-9118-5097837F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E740-39F7-466F-9630-BBF31A37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831-F2FD-45DA-B79B-A0E89891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A78-33D9-4B19-99D8-F6834A03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2FCC-D980-42F3-BEC3-8FCCD37AD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Ljlab</cp:lastModifiedBy>
  <dcterms:modified xsi:type="dcterms:W3CDTF">2007-06-26T14:22:12Z</dcterms:modified>
  <cp:revision>59</cp:revision>
  <dc:subject/>
  <dc:title>PowerPoint Presentation</dc:title>
</cp:coreProperties>
</file>