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2FB6E-56F0-47B8-83C5-6F1DA90994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6112-3343-4E11-8107-02EA86666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A5AF-EBFD-4F1B-9707-1E3FB6DA2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A4E3-DECD-4700-B5BE-99D07DBAD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9F57-9341-42D1-8F00-738625C31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5F61-1E77-4286-B96C-AF40AF345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1FF1-3B9C-4DDF-9A03-BD06C59A8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BA18-E83B-4225-8A35-AD3850FB6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C4D7-FD8F-406C-9C3D-8F87BA584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F13D-5332-4198-BFC9-5EA8C89A9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48F0-DC4C-412A-BE3D-771EE7F60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1E97-073E-47DC-AC51-C984324B0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57E7-79D4-45BA-B91D-00032ABD8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41DF2-B2F0-4791-8D9D-0B42FA6669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1519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lume &amp; Weight Convers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366920"/>
            <a:ext cx="7770960" cy="47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Volum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allons per Li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Liter = .264 gall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Weight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ounds per Kilogram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kilogram = 2.20 lb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858000" y="1219320"/>
            <a:ext cx="1782720" cy="16682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6858000" y="3733920"/>
            <a:ext cx="1793880" cy="1439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29:54Z</dcterms:created>
  <dc:creator>ITWorkstation</dc:creator>
  <dc:description/>
  <dc:language>en-US</dc:language>
  <cp:lastModifiedBy>Vince Hardy</cp:lastModifiedBy>
  <dcterms:modified xsi:type="dcterms:W3CDTF">2007-05-08T18:40:12Z</dcterms:modified>
  <cp:revision>11</cp:revision>
  <dc:subject/>
  <dc:title>Volume &amp; Weight Conversions</dc:title>
</cp:coreProperties>
</file>