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B4BE-00F9-4A5B-B551-841E711CC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storian would want factual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historians can never be completely certain about what happened in the past because they were no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ans reach conclusions by gathering information/evidence, reviewing the information/evidence, and using reason to form logical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mherst led the successful attack on Louisbourg, an important victory for the British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Pittsburg, 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would try to infect the Indians with a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it is a primary source because it was produced by a participant in the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it is clear that he wants to attempt to spread a harmful disease to the 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2FE-70C6-4102-84D7-68166A0F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842-738B-4956-8758-0C75D8BC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BC9-A8F5-48A6-BFDA-566180BC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6B3-9831-4308-BE9F-F3AC66C9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3EA-F218-48A4-A178-BEA28D5E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4D7-EF57-4B98-BB86-1A6E9AFF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412-940A-4BD8-94FF-F8B35173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027-F692-46D0-B419-9DB28B96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370-6D3C-4FC1-A1BB-836665C4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199-A89E-4383-A1C8-ABBF01DE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9AB-30F5-447D-97F7-AA68AEF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4D4-FBC1-4BB7-887D-50D29919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2F05-FB28-46DD-9FA1-FDFBF523D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hyperlink" Target="http://peer.tamu.edu/" TargetMode="External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7840" y="1069920"/>
            <a:ext cx="8229240" cy="2197080"/>
            <a:chOff x="177840" y="1069920"/>
            <a:chExt cx="8229240" cy="21970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998640" y="1069920"/>
              <a:ext cx="6573960" cy="210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77840" y="1511280"/>
              <a:ext cx="8229240" cy="1755720"/>
              <a:chOff x="177840" y="1511280"/>
              <a:chExt cx="8229240" cy="17557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6991200" y="2069640"/>
                <a:ext cx="1265040" cy="1197360"/>
                <a:chOff x="6991200" y="2069640"/>
                <a:chExt cx="1265040" cy="1197360"/>
              </a:xfrm>
            </p:grpSpPr>
            <p:pic>
              <p:nvPicPr>
                <p:cNvPr id="52" name="" descr=""/>
                <p:cNvPicPr/>
                <p:nvPr/>
              </p:nvPicPr>
              <p:blipFill>
                <a:blip r:embed="rId3">
                  <a:biLevel thresh="50000"/>
                </a:blip>
                <a:srcRect l="9945" t="0" r="0" b="15887"/>
                <a:stretch/>
              </p:blipFill>
              <p:spPr>
                <a:xfrm rot="10569600">
                  <a:off x="7019640" y="2098800"/>
                  <a:ext cx="906480" cy="88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" descr=""/>
                <p:cNvPicPr/>
                <p:nvPr/>
              </p:nvPicPr>
              <p:blipFill>
                <a:blip r:embed="rId4">
                  <a:biLevel thresh="50000"/>
                </a:blip>
                <a:srcRect l="6223" t="0" r="0" b="10762"/>
                <a:stretch/>
              </p:blipFill>
              <p:spPr>
                <a:xfrm rot="9054000">
                  <a:off x="7240680" y="2256120"/>
                  <a:ext cx="861840" cy="8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" name=""/>
              <p:cNvGrpSpPr/>
              <p:nvPr/>
            </p:nvGrpSpPr>
            <p:grpSpPr>
              <a:xfrm>
                <a:off x="177840" y="1511280"/>
                <a:ext cx="8229240" cy="1143000"/>
                <a:chOff x="177840" y="1511280"/>
                <a:chExt cx="8229240" cy="11430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77840" y="1511280"/>
                  <a:ext cx="8229240" cy="1143000"/>
                  <a:chOff x="177840" y="1511280"/>
                  <a:chExt cx="8229240" cy="11430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77840" y="1511280"/>
                    <a:ext cx="784548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940680" y="2044800"/>
                    <a:ext cx="7466400" cy="227520"/>
                    <a:chOff x="940680" y="2044800"/>
                    <a:chExt cx="7466400" cy="227520"/>
                  </a:xfrm>
                </p:grpSpPr>
                <p:sp>
                  <p:nvSpPr>
                    <p:cNvPr id="58" name=""/>
                    <p:cNvSpPr/>
                    <p:nvPr/>
                  </p:nvSpPr>
                  <p:spPr>
                    <a:xfrm flipH="1">
                      <a:off x="940680" y="2096280"/>
                      <a:ext cx="6786720" cy="90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 flipH="1">
                      <a:off x="7685640" y="2044800"/>
                      <a:ext cx="72144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7" h="81">
                          <a:moveTo>
                            <a:pt x="372" y="25"/>
                          </a:moveTo>
                          <a:lnTo>
                            <a:pt x="279" y="0"/>
                          </a:lnTo>
                          <a:lnTo>
                            <a:pt x="0" y="43"/>
                          </a:lnTo>
                          <a:lnTo>
                            <a:pt x="293" y="81"/>
                          </a:lnTo>
                          <a:lnTo>
                            <a:pt x="377" y="51"/>
                          </a:lnTo>
                          <a:lnTo>
                            <a:pt x="372" y="25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" name=""/>
                <p:cNvSpPr/>
                <p:nvPr/>
              </p:nvSpPr>
              <p:spPr>
                <a:xfrm rot="5659200">
                  <a:off x="7620120" y="2066400"/>
                  <a:ext cx="228600" cy="182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" name=""/>
          <p:cNvSpPr/>
          <p:nvPr/>
        </p:nvSpPr>
        <p:spPr>
          <a:xfrm>
            <a:off x="609480" y="382104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mherst’s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6640" y="1600200"/>
            <a:ext cx="749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ter from General Jeffrey Amherst to Colonel Henry Bouquet, dated July 16, 1763 re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S. You will do well to try to inoculate the Indians by means of blankets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mherst’s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69760" y="1523880"/>
            <a:ext cx="75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you learn from General Amherst’s l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clear that the British were trying to infect the Indians with smallp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clear that the British actually used infected blankets to give smallpox to the American Indi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 way that historians can actually know what happe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8040" y="1523880"/>
            <a:ext cx="7913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hard evidence that proves Amherst and his officers were successful in infecting the Indians with smallp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Captain Simeon Ecuyer, an officer at Ft. Pitt, gave one Indian chief two blankets and a handkerchief from the smallpox hospital in his fo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uld have easily spread the dis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0280" y="1447920"/>
            <a:ext cx="762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ime later, the American Indians in the area were struck by a smallpox epidem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pidemic greatly weakened American Indian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uld be coincidence, but some historians have concluded that it was a deliberate attack by the Brit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istorians disagree and say there is not enough evidence to reach this concl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134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a historian studying this event, what types of evidence would you w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istorians ever know for sure what happened in the p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historians reac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bout pa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59440" y="3313080"/>
            <a:ext cx="2281320" cy="317196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1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Studies 4 -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523880"/>
            <a:ext cx="7162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he difference between primary and secondary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past causes and implications of biological warf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18680" y="1397160"/>
            <a:ext cx="5108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vidence suggests that American and British soldiers deliberately gave smallpox to Native Americans after the end of the French and Indian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s of evidence would historians use to reach this conclu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think it would be easy or difficult for historians to support this conclu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1752480"/>
            <a:ext cx="914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of old document on parchment. Should not be able to rea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1625760"/>
            <a:ext cx="2736720" cy="441936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814440" y="6049800"/>
            <a:ext cx="18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www.archives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Warfare in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660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ummer of 1763, the British in North America were fighting against the Indians led by Chief Pontiac in a war called Pontiac’s Rebell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Pontiac’s Rebellion before or after the French and Indian W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5840" y="4243320"/>
            <a:ext cx="28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rait of Ponti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35520" y="1654200"/>
            <a:ext cx="2401920" cy="26478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Jeffrey Amherst was the commander-in-chief of British forces in America at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herst was respected for his role in the French and Indian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d Amherst accomplished during the w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73720" y="5370480"/>
            <a:ext cx="18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www.blupet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6982" t="5363" r="6638" b="5638"/>
          <a:stretch/>
        </p:blipFill>
        <p:spPr>
          <a:xfrm>
            <a:off x="5308560" y="1851120"/>
            <a:ext cx="2514600" cy="33750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330200"/>
            <a:ext cx="81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mherst s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nel Bouquet to Ft. Pitt                                        to put down an uprising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ef Ponti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tiac had sided with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ch during the Fren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ndian War and w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et with the British vic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ritain’s poli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was Ft. Pitt locat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large American city is found today at the location of Ft. Pit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16765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showing location of Ft. P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27600" y="1616040"/>
            <a:ext cx="2880000" cy="3514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08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nd Colonel Henry Bouquet wrote to each other about infecting the Native Americans with smallpox by giving them infected blan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historical evidence we have are letters between Amherst and his offic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nel Bouquet’s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4040" y="16002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ter from Colonel Henry Bouquet to General Jeffrey Amherst, dated July 13, 1763, rea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S. I will try to inoculate the Indians by means of blankets that may fall in their hands, taking care however not to get the disease myself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nel Bouquet’s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2800" y="1600200"/>
            <a:ext cx="764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think Colonel Bouquet meant when he wrote that he would “try to inoculate” the Indi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isease do you think Colonel Bouquet wanted to avoid get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olonel Bouquet’s letter a primary sour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clear from the letter exactly what Colonel Bouquet was intending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0:48:10Z</dcterms:created>
  <dc:creator>Ljlab</dc:creator>
  <dc:description/>
  <dc:language>en-US</dc:language>
  <cp:lastModifiedBy>Texas A&amp;M Veterinary Medicine</cp:lastModifiedBy>
  <dcterms:modified xsi:type="dcterms:W3CDTF">2007-10-03T18:05:08Z</dcterms:modified>
  <cp:revision>19</cp:revision>
  <dc:subject/>
  <dc:title>Slide 1</dc:title>
</cp:coreProperties>
</file>